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35C-CD0C-41CE-BFD9-A57BDFBF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4ED-E903-4DD1-AEDA-DEFD0173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4680-0C43-47F6-B71F-E1B5E3B0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E68-5A9B-4B94-9AD0-839E242A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7F5-F8CD-401E-BC54-7EB30BD9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40E-26E7-40FF-AFC2-21CE6CD6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B6E-7137-4BC1-ABD8-A28C26D6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151-4250-4986-9FA8-84D285A5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273-C0E7-4066-B622-0B0CF31D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808-7024-4582-BA75-091C19CF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E06-DFCC-47C0-B479-8AB10D77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AC8-69A4-4E1C-B2B7-F7EBFBFA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994B-EA61-4FDA-B63A-3D4CEF0D0C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edlibforum.at.ua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ibrary.gov.ua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s://www.facebook.com/NNMBU" TargetMode="External"/><Relationship Id="rId2" Type="http://schemas.openxmlformats.org/officeDocument/2006/relationships/hyperlink" Target="https://plus.google.com/115545652306733816078/posts" TargetMode="External"/><Relationship Id="rId3" Type="http://schemas.openxmlformats.org/officeDocument/2006/relationships/hyperlink" Target="https://twitter.com/MedLib_Ukraine" TargetMode="External"/><Relationship Id="rId4" Type="http://schemas.openxmlformats.org/officeDocument/2006/relationships/hyperlink" Target="https://www.linkedin.com/company/national-medical-library-of-ukraine" TargetMode="External"/><Relationship Id="rId5" Type="http://schemas.openxmlformats.org/officeDocument/2006/relationships/hyperlink" Target="https://www.flickr.com/photos/109719424@N05/" TargetMode="External"/><Relationship Id="rId6" Type="http://schemas.openxmlformats.org/officeDocument/2006/relationships/hyperlink" Target="https://www.youtube.com/channel/UC1xnYTVD-IV8FoW0dVcugCQ" TargetMode="External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707920"/>
            <a:ext cx="8929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9194d"/>
                </a:solidFill>
                <a:latin typeface="Arial"/>
              </a:rPr>
              <a:t>Інформаційні технології в Національній науковій медичній бібліотеці Украї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4286160" y="5786280"/>
            <a:ext cx="485784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2060"/>
                </a:solidFill>
                <a:latin typeface="Arial"/>
              </a:rPr>
              <a:t>Оксана Б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2060"/>
                </a:solidFill>
                <a:latin typeface="Arial"/>
              </a:rPr>
              <a:t>Харків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Бездротовий інтернет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WiF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Форум працівників медичних бібліотек України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edlibforum.at.u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сада </a:t>
            </a: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заступника генерального директора з науково-інформаційних технолог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Нові послуги для користувач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Скану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Др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Електронна доставка докум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8" descr="images (6)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Сучасність та перспектива – основні напр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Мережева інфра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1285920"/>
            <a:ext cx="755496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Профільна система доступу до локальної мереж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дозволяє працювати будь-якому працівнику бібліотеки на будь-якому комп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ютері, встановленому в бібліотеці, зі своїми персональними налаштуваннями та докум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Мережева інфра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285920"/>
            <a:ext cx="40006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Ефективна внутрішня комунік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Дисковий простір на сервері з спільним доступом до нього усіх працівників бібліотеки для обміну докум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Програма миттєвого обміну повідомленнями між працівниками бібл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іотеки в реальному час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276880" y="1285920"/>
            <a:ext cx="3867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Мережева інфра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285920"/>
            <a:ext cx="755496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2015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Прокладення оптоволоконного кан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Розширення інтернет-каналу до 20 М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Електронна пош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928800"/>
            <a:ext cx="755496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Окремий поштовий серв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Загальна електронна пошта бібліот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Окремі електронні скрині для всіх структурних підрозділів, окремих сервісів і напрямів роботи (електронна доставка документів, щорічна конференці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Персональні поштові скрині для працівників, які відповідають за важливі ділянки роб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Mozilla Thunderb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214880" y="3787920"/>
            <a:ext cx="492912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АБІ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928800"/>
            <a:ext cx="755496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2002-2013 рр. 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- Ірбіс-3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2013 р.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 – перехід на Ірбіс-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Комплектування (частко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Каталогізаці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Індексування –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ME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WEB-OPAC – 24/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Відмова від внутрішнього модулю “Читач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643280" y="4210200"/>
            <a:ext cx="45007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р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Arial"/>
              </a:rPr>
              <a:t>Сучасність та перспектива – основні напр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Мережева інфра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Електронна пош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АБІ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Веб-сай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Електронний бібліотечний фон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Соціальні меді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АБІ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928800"/>
            <a:ext cx="755496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201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.</a:t>
            </a: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Штрихкодування фон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Пластиковий читацький кви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2017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Електронне замов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Книгови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Зміна програмного забезпеч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Гр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Державна прог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еб-сайт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brary.gov.ua/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214200" y="1525680"/>
            <a:ext cx="892980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еб-сай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928800"/>
            <a:ext cx="755496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2013-2014 рр. – оновлення веб-сай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Система керування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Joom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изайн та розробка –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rvanTek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Украї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овий сайт відкрито – 1 липня 2014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Переможець Всеукраїнського конкурсу бібліотечних інтернет-сайтів УБА – 2014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4" descr="5.bmp"/>
          <p:cNvPicPr/>
          <p:nvPr/>
        </p:nvPicPr>
        <p:blipFill>
          <a:blip r:embed="rId1"/>
          <a:stretch/>
        </p:blipFill>
        <p:spPr>
          <a:xfrm>
            <a:off x="6929280" y="3909960"/>
            <a:ext cx="2214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еб-сай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285920"/>
            <a:ext cx="755496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Ефективний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канал зовнішньої комунікації між ННМБУ та дійсними і потенційними користувачами, партнерами та благодійниками біблі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Створення позитивного іміджу ННМБУ як сучасної бібліот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Надання достовірної та актуальної інформації про бібліотеку, її ресурси та послу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Надання доступу до основних ресурсів бібліотеки: друкованих – через е-каталог, електронних – через відповідні сторінки на сай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Організація онлайнових сервісів: онлайнова довідка, он-лайнові форми замовлення, зворотній зв’язок та 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Залучення нових користувачів до бібліот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Залучення нових благодійник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еб-сайт - особлив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928800"/>
            <a:ext cx="755496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6356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24/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Двомовний інтерфей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Доступ до кінцевої інформації в два клі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Максимальна візуаліз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Інтерактив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Актуаль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Опція збільшення шриф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Опції поширення інформації в соціальних мережах, е-пошт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еб-сайт - особлив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213920"/>
            <a:ext cx="75549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360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Найпотрібніше для користувача доступно у будь-який мо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Контакти, режим роботи бібліот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Нов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Гарячі лін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Часті запит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ПОШУК В ЕЛЕКТРОННОМУ КАТАЛОЗ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857840" y="4097160"/>
            <a:ext cx="4286160" cy="2760840"/>
          </a:xfrm>
          <a:prstGeom prst="rect">
            <a:avLst/>
          </a:prstGeom>
          <a:ln w="0">
            <a:noFill/>
          </a:ln>
        </p:spPr>
      </p:pic>
      <p:cxnSp>
        <p:nvCxnSpPr>
          <p:cNvPr id="123" name="Прямая со стрелкой 7"/>
          <p:cNvCxnSpPr/>
          <p:nvPr/>
        </p:nvCxnSpPr>
        <p:spPr>
          <a:xfrm>
            <a:off x="3786120" y="4071960"/>
            <a:ext cx="1286640" cy="19296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еб-сайт – нові сервіс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000080"/>
            <a:ext cx="755496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Онлайлова довід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в режимі реального часу –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JivoS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143680" y="2732040"/>
            <a:ext cx="3833640" cy="4125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714240" y="2701800"/>
            <a:ext cx="3357720" cy="4156200"/>
          </a:xfrm>
          <a:prstGeom prst="rect">
            <a:avLst/>
          </a:prstGeom>
          <a:ln w="0">
            <a:noFill/>
          </a:ln>
        </p:spPr>
      </p:pic>
      <p:cxnSp>
        <p:nvCxnSpPr>
          <p:cNvPr id="129" name="Прямая со стрелкой 7"/>
          <p:cNvCxnSpPr/>
          <p:nvPr/>
        </p:nvCxnSpPr>
        <p:spPr>
          <a:xfrm flipH="1">
            <a:off x="4071240" y="2071800"/>
            <a:ext cx="500760" cy="2286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0" name="Прямая со стрелкой 10"/>
          <p:cNvCxnSpPr/>
          <p:nvPr/>
        </p:nvCxnSpPr>
        <p:spPr>
          <a:xfrm>
            <a:off x="4642200" y="2000160"/>
            <a:ext cx="1072440" cy="2286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еб-сайт – нові сервіс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000080"/>
            <a:ext cx="755496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Онлайлові форми замовлення по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7"/>
          <p:cNvCxnSpPr/>
          <p:nvPr/>
        </p:nvCxnSpPr>
        <p:spPr>
          <a:xfrm>
            <a:off x="3143160" y="1714320"/>
            <a:ext cx="1286640" cy="1215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066760" y="2928960"/>
            <a:ext cx="70772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еб-сайт – нові сервіс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000080"/>
            <a:ext cx="755496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Форма зворотного зв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яз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7"/>
          <p:cNvCxnSpPr/>
          <p:nvPr/>
        </p:nvCxnSpPr>
        <p:spPr>
          <a:xfrm>
            <a:off x="2571840" y="1857240"/>
            <a:ext cx="714960" cy="357264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357720" y="2060640"/>
            <a:ext cx="57862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еб-сайт – стат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000080"/>
            <a:ext cx="755496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2015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8440" y="1714680"/>
            <a:ext cx="91155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images (6).jpg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Електронний бібліотечний фон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000080"/>
            <a:ext cx="755496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500040" y="955800"/>
            <a:ext cx="864396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іддалені електронні ресур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000080"/>
            <a:ext cx="350028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1 січня 2015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58 бібліографічних та повнотекстових баз да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120 тис. наукових електронних ресурсів з медицини та суміжних на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5143680" y="1071720"/>
            <a:ext cx="350028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Передплач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6360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EB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-36360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H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Збільшення кількості ресурсів відкритого досту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2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Доступ через веб-сайт, перелік А-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357200" y="380376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іддалені електронні ресур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000080"/>
            <a:ext cx="742968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Перспект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Система управління зовнішніми е-ресур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Arial"/>
              </a:rPr>
              <a:t>Програмне забезпечення -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CU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639880" y="2328840"/>
            <a:ext cx="65106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ласні електронні ресур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2640" y="1000080"/>
            <a:ext cx="350028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Наші вид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alibri"/>
                <a:ea typeface="Calibri"/>
              </a:rPr>
              <a:t>Хронологічно-алфавітний перелі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alibri"/>
                <a:ea typeface="Calibri"/>
              </a:rPr>
              <a:t>Обклад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alibri"/>
                <a:ea typeface="Calibri"/>
              </a:rPr>
              <a:t>Бібліографічний оп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alibri"/>
                <a:ea typeface="Calibri"/>
              </a:rPr>
              <a:t>Посилання на повний текст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5214960" y="1071720"/>
            <a:ext cx="350028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Наші публік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alibri"/>
                <a:ea typeface="Calibri"/>
              </a:rPr>
              <a:t>Хронологічно-алфавітний перелі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alibri"/>
                <a:ea typeface="Calibri"/>
              </a:rPr>
              <a:t>Бібліографічний оп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Calibri"/>
                <a:ea typeface="Calibri"/>
              </a:rPr>
              <a:t>Посилання на повний текст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ласні електронні ресур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1000080"/>
            <a:ext cx="757224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MedLibIR </a:t>
            </a:r>
            <a:r>
              <a:rPr b="0" lang="uk-UA" sz="2800" spc="-1" strike="noStrike">
                <a:solidFill>
                  <a:srgbClr val="c00000"/>
                </a:solidFill>
                <a:latin typeface="Calibri"/>
                <a:ea typeface="Calibri"/>
              </a:rPr>
              <a:t>– пілотний п</a:t>
            </a: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роект – 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Відкритий електронний архів Національної наукової медичної бібліотеки Украї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1928880" y="2387520"/>
            <a:ext cx="72151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Власні електронні ресур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000080"/>
            <a:ext cx="757224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8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MedLibIR </a:t>
            </a:r>
            <a:r>
              <a:rPr b="0" lang="uk-UA" sz="2800" spc="-1" strike="noStrike">
                <a:solidFill>
                  <a:srgbClr val="c00000"/>
                </a:solidFill>
                <a:latin typeface="Calibri"/>
                <a:ea typeface="Calibri"/>
              </a:rPr>
              <a:t>– пілотний п</a:t>
            </a: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роект – 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Відкритий електронний архів Національної наукової медичної бібліотеки Украї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alibri"/>
                <a:ea typeface="Calibri"/>
              </a:rPr>
              <a:t>Що зроб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Встановлен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о</a:t>
            </a: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 ПЗ –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  <a:ea typeface="Calibri"/>
              </a:rPr>
              <a:t>D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Проведено тестування та налагодження процесу внесення матеріал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Розроблено та затверджено положення про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  <a:ea typeface="Calibri"/>
              </a:rPr>
              <a:t>MedLib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alibri"/>
                <a:ea typeface="Calibri"/>
              </a:rPr>
              <a:t>Що треба зроб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Локаліз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Диза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Навчання праців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alibri"/>
                <a:ea typeface="Calibri"/>
              </a:rPr>
              <a:t>Наповн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Соціальні меді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88920" y="1071720"/>
            <a:ext cx="90550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Соціальні меді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1000080"/>
            <a:ext cx="77868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Calibri"/>
              </a:rPr>
              <a:t>2012 </a:t>
            </a:r>
            <a:r>
              <a:rPr b="0" lang="uk-UA" sz="2800" spc="-1" strike="noStrike">
                <a:solidFill>
                  <a:srgbClr val="c00000"/>
                </a:solidFill>
                <a:latin typeface="Arial"/>
                <a:ea typeface="Calibri"/>
              </a:rPr>
              <a:t>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Calibri"/>
              </a:rPr>
              <a:t>Facebook 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  <a:ea typeface="Calibri"/>
              </a:rPr>
              <a:t>-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Calibri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Calibri"/>
                <a:hlinkClick r:id="rId1"/>
              </a:rPr>
              <a:t>https://www.facebook.com/NNMBU</a:t>
            </a:r>
            <a:r>
              <a:rPr b="0" lang="uk-UA" sz="1800" spc="-1" strike="noStrike">
                <a:solidFill>
                  <a:srgbClr val="00206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  <a:ea typeface="Calibri"/>
              </a:rPr>
              <a:t>2013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Google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+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plus.google.com/115545652306733816078/post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Twitter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twitter.com/MedLib_Ukraine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LinkedIn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linkedin.com/company/national-medical-library-of-ukraine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Flicker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s://www.flickr.com/photos/109719424@N05/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YouTube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s://www.youtube.com/channel/UC1xnYTVD-IV8FoW0dVcugCQ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7"/>
          <a:stretch/>
        </p:blipFill>
        <p:spPr>
          <a:xfrm>
            <a:off x="1571760" y="5035680"/>
            <a:ext cx="721512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2" descr="images (7)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85880" y="1000080"/>
            <a:ext cx="814392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ІНФОРМАЦІЙНІ ТЕХНОЛОГІЇ - ДЛЯ БІБЛІОТЕ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А НЕ БІБЛІОТЕКИ ДЛЯ ІНФОРМАЦІЙНИХ ТЕХНОЛОГ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ksana.Bruy@gmail.com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Технічне завдання на створення Автоматизованої інформаційної системи бібліоте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Науково-дослідний інститут системних досліджень та інформаційних технологій Академії наук національного прогресу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Початок створення електронного катало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199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FoxPro – </a:t>
            </a: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програмне забезпеч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ідділ автоматизації та комп’ютеризації бібліотечних процес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19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Для проведення комп’ютеризації, освоєння та впровадження Автоматизованої інформаційної системи біблі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Підключення до мережі і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19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Бази даних наукових ресурсів для користувач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Веб-сайт біблі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Спільний проект з “Ротарі Інтернешнл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локальна комп’ютерна мер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інформаційно-комп’ютерний центр для доступу користувачів до і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початок впровадження АБІС “Ірбіс-3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новні проекти 1992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9720" y="1285920"/>
            <a:ext cx="7697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оект </a:t>
            </a: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корпоративної каталогізації медичних бібліотек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"/>
              </a:rPr>
              <a:t>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Arial"/>
              </a:rPr>
              <a:t>Зведений електронний  каталог  медичної період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8215200" y="6643800"/>
            <a:ext cx="928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ruy_o</cp:lastModifiedBy>
  <dcterms:modified xsi:type="dcterms:W3CDTF">2015-09-28T11:06:48Z</dcterms:modified>
  <cp:revision>786</cp:revision>
  <dc:subject/>
  <dc:title>Diapositiva 1</dc:title>
</cp:coreProperties>
</file>