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2.xml.rels" ContentType="application/vnd.openxmlformats-package.relationships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19.jpeg" ContentType="image/jpeg"/>
  <Override PartName="/ppt/media/image2.gif" ContentType="image/gif"/>
  <Override PartName="/ppt/media/image17.jpeg" ContentType="image/jpeg"/>
  <Override PartName="/ppt/media/image45.wmf" ContentType="image/x-wmf"/>
  <Override PartName="/ppt/media/image16.jpeg" ContentType="image/jpeg"/>
  <Override PartName="/ppt/media/image9.gif" ContentType="image/gif"/>
  <Override PartName="/ppt/media/image22.jpeg" ContentType="image/jpeg"/>
  <Override PartName="/ppt/media/image1.jpeg" ContentType="image/jpeg"/>
  <Override PartName="/ppt/media/image35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3.jpeg" ContentType="image/jpeg"/>
  <Override PartName="/ppt/media/image12.jpeg" ContentType="image/jpeg"/>
  <Override PartName="/ppt/media/image10.gif" ContentType="image/gif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4.jpeg" ContentType="image/jpeg"/>
  <Override PartName="/ppt/media/image40.png" ContentType="image/png"/>
  <Override PartName="/ppt/media/image41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43.jpeg" ContentType="image/jpeg"/>
  <Override PartName="/ppt/media/image44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11.gif" ContentType="image/gif"/>
  <Override PartName="/ppt/media/image14.png" ContentType="image/pn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D1EC-D04A-41CF-9BBD-51918243C0F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98B8-9820-4DE2-B140-B4B28B03522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DFE7-3410-49CE-B961-4CDFA26E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70A2-0317-4808-B8C3-081D4FC3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4D9D-A684-4F7B-BD96-E4577887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E849-EB7C-4388-8F84-F57DC5C9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D468-3B2A-43EA-8EBF-5FE3654F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FA67-28A9-4163-A554-744CB97F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FEE1-1118-491E-9F42-C2179D16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D40E-1CAB-4D50-8EDD-D3488E92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E4F4-77C3-4264-8C0B-161E09FD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302C-FF61-4ACC-9BF1-895A1A42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39FF-0307-4A97-BE8A-7B4F3A07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BA84-3A3C-45A7-BE3E-43237D5F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6D5F-B51B-48D9-8954-D84D4C99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0D67-298F-4D1D-851A-8989D3AE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82C5-634D-435F-81D1-9790647A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37A7-358A-4614-A9D9-5509463D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6B30-A295-4DD5-AE2A-DE8A64CF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6157-3863-4431-AD0A-EE3EB321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4AE-81A3-4AE3-A650-C32B71C1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7C5D-FF99-4E8B-8EFF-1B6F0B8A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A11A-C270-4B00-817A-86D829D1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228A-B2C7-47A3-9F8B-58FBCA4C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15C4-7E95-40F8-AB08-994C11EC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4323-BD8F-4732-80C1-90AA21CF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B219-7070-41EE-863C-04660D86109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17E1-7665-4D4E-974C-99EA83638F7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560" y="114300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стрый аппендици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федра хирургии №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Н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ЭТИОЛОГИЯ И ПАТОГЕНЕЗ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*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чины возникновения острого аппендицита до настоящего времени изучены далеко не полностью. Для объяснения механизмов развития воспаления в червеобразном отростке предложено множество теор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теор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нфекционна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йрососудистая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ствующие фактор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бтурация (камень, глисты и др.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болевания ЖК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ЭТИОЛОГИЯ И ПАТОГЕНЕЗ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фекционная теор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оронники инфекционной теории считают основной причиной острого воспаления червеобразного отростка полимикробную инфекцию, обитающую в здоровом кишечнике (кишечная палочка, стафилококк, стрептококк). При этом значительное место отводится предрасполагающим моментам, из которых бесспорными являются травмы слизистой оболочки отростка инородными телами, каловыми камнями, кусочками твердой пищи, кишечными паразитами, а также атония кишечника, изменение реактивности организма и др. Все это, бесспорно, приводит к нарушениям барьерной функции эпителия слизистой оболочки червеобразного отростка и проникновению в него микроорганизм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ЭТИОЛОГИЯ И ПАТОГЕНЕЗ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йрососудист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ор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оронники нейрососудистой теории считают, что вначале наступит рефлекторное нарушения регионарного   кровотока в отростке (спазм сосудов, ишемия), а затем тромбоз питающих сосудов, приводящие к трофическим расстройствам в стенке отростка, вплоть до некроз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которые исследователи придают важное значение   аллергическому фактору. В пользу этой теории свидетельствует значительное количество   слизи   и кристаллов Шарко - Лейдена в просвете червеобразного отрост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ЭТИОЛОГИЯ И ПАТОГЕНЕЗ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ременные представле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цесс начинается с функциональных расстройств со стороны илеоцекального угла (баугиноспазм), слепой кишки и червеобразного отростка. К возникновению спастических явлений ведут нарушения пищеварения (усиление гнилостных процессов в кишечнике, атония и др.), в результате чего плохо опорожняется толстая кишка и червеобразный отросток. Провоцировать спазм могут находящиеся в отростке инородные тела, каловые камни, глисты. Спазм гладкой мускулатуры отростка приводит также к регионарному сосудистому спазму и локальному нарушению трофики слизистой оболочки (первичный аффект Ашоффа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ЭТИОЛОГИЯ И ПАТОГЕНЕЗ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ременные представле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рушение эвакуации, застой кишечного содержимого способствуют повышению вирулентности кишечной микрофлоры, которая при наличии первичного аффекта легко проникает в стенку отростка и вызывает в нем типичный воспалительный процесс. Вначале наступает лейкоцитарное пропитывание только слизистой оболочки и подслизистого слоя, а затем всех слоев червеобразного отростка. Инфильтрация сопровождается также перестройкой лимфоидной ткани (гиперплазия). Возникновение зон ишемии и некроза способствует образованию патологических ферментов (цитокиназы, калликреина и др.), обладающих высокой протеолитической активностью, что приводит к дальнейшей деструкции стенки отростка, вплоть до ее перфорации и развития гнойного перитони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Классификация (В.И.Колесов, 1972)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*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ыделяют следующие формы острого аппендицит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слабо выраженный (аппендикулярная колика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простой (поверхностный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деструктивный: а) флегмонозный, б) гангренозный, в) перфоративны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осложненный: а) аппендикулярный инфильтрат (хорошо отграниченный, прогрессирующий),  б) аппендикулярный абсцесс, в) гнойный перитонит, г) прочие   осложнения острого аппендицита (сепсис, пилефлебит и др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Патология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трый простой аппендици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трый флегмоноз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трый гангреноз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форатив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стрый простой аппендици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1" name="Picture 1028" descr="appA3020"/>
          <p:cNvPicPr/>
          <p:nvPr/>
        </p:nvPicPr>
        <p:blipFill>
          <a:blip r:embed="rId1"/>
          <a:stretch/>
        </p:blipFill>
        <p:spPr>
          <a:xfrm>
            <a:off x="990720" y="198108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стрый флегмонозный аппендици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3" name="Picture 9" descr="appA3021"/>
          <p:cNvPicPr/>
          <p:nvPr/>
        </p:nvPicPr>
        <p:blipFill>
          <a:blip r:embed="rId1"/>
          <a:stretch/>
        </p:blipFill>
        <p:spPr>
          <a:xfrm>
            <a:off x="990720" y="1828800"/>
            <a:ext cx="7543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стрый гангренозны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5" name="Picture 1028" descr="appA3022"/>
          <p:cNvPicPr/>
          <p:nvPr/>
        </p:nvPicPr>
        <p:blipFill>
          <a:blip r:embed="rId1"/>
          <a:stretch/>
        </p:blipFill>
        <p:spPr>
          <a:xfrm>
            <a:off x="228600" y="1905120"/>
            <a:ext cx="4495680" cy="4572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Gang_Acit"/>
          <p:cNvPicPr/>
          <p:nvPr/>
        </p:nvPicPr>
        <p:blipFill>
          <a:blip r:embed="rId2"/>
          <a:stretch/>
        </p:blipFill>
        <p:spPr>
          <a:xfrm>
            <a:off x="4800600" y="1828800"/>
            <a:ext cx="4178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Определение и распространенност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трый аппендицит - воспаление червеобразного отростка слепой кишки, одно из самых распространенных хирургических заболеваний. Заболеваемость острым аппендицитом составляет 4-5 человек на 1000 населения. Наиболее часто острый аппендицит встречается в возрасте от 20 до 40 лет, женщины болеют в 2 раза чаще, чем мужчины. Летальность составляет 0,1-0,3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%,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операционные осложнения - 5-9 %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ерфоративны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8" name="Picture 5" descr="Perf_Apx"/>
          <p:cNvPicPr/>
          <p:nvPr/>
        </p:nvPicPr>
        <p:blipFill>
          <a:blip r:embed="rId1"/>
          <a:stretch/>
        </p:blipFill>
        <p:spPr>
          <a:xfrm>
            <a:off x="1219320" y="2209680"/>
            <a:ext cx="7086600" cy="4267440"/>
          </a:xfrm>
          <a:prstGeom prst="rect">
            <a:avLst/>
          </a:prstGeom>
          <a:ln w="0">
            <a:noFill/>
          </a:ln>
        </p:spPr>
      </p:pic>
      <p:cxnSp>
        <p:nvCxnSpPr>
          <p:cNvPr id="179" name="Прямая со стрелкой 6"/>
          <p:cNvCxnSpPr/>
          <p:nvPr/>
        </p:nvCxnSpPr>
        <p:spPr>
          <a:xfrm>
            <a:off x="4495680" y="1981080"/>
            <a:ext cx="153360" cy="1982160"/>
          </a:xfrm>
          <a:prstGeom prst="straightConnector1">
            <a:avLst/>
          </a:prstGeom>
          <a:ln w="38160">
            <a:solidFill>
              <a:srgbClr val="b8e2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КЛИНИ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трый аппендицит характеризуется определенным симптомокомплексом, который зависит от целого ряда причин: времени, прошедшего от момента заболевания, локализации отростка, характера патоморфологических изменений как в самом отростке, так и в брюшной полости, возраста больного, наличия сопутствующей патологии и физиологического состояния организ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КЛИНИКА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*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болевание начинается внезапно, среди полного благополучия, без продромального периода. Наиболее постоянный симптом — боль в животе, которая, как правило, носит постоянный   характер. Локализация боли в начале заболевания непостоянна. Чаще всего она появляется сразу в правой подвздошной области, но может возникнуть в эпигастрии (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имптом Кохер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 или в околопупочной области (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имптом Кюммеля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только спустя несколько часов   переместиться в правую подвздошную область. В отдельных случаях клиническая   картина острого аппендицита развивается очень бурно, боль при этом не локализуется, а возникает сразу по всему живот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КЛИНИ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ругой   важный симптом — рвота. Она наблюдается примерно у 40 % больных и носит в начальных стадиях заболевания рефлекторный характер. Рвота чаще однократная. Тошнота, как правило, возникает после боли и носит волнообразный характер. Иногда наблюдается задержка стула, снижение аппетита, но может быть однократный понос, который учащается при ретроцекальном или тазовом расположении воспаленного отростка и может служить патогномоничным симптомом атипичных форм   заболевания. Нарушения мочеиспускания наблюдаются редко и могут быть связаны с необычной   локализацией отростка (прилежит к почке, мочеточнику, мочевому пузырю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мпературная реакция зависит от формы заболевания и наличия осложнений (от субфебрильной, фебрильной, редко - гектической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КЛИНИКА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*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симптом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имптом Раздольског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при поверхностной пальпации удается выявить зону гиперестезии в правой подвздошной обл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имптом Ровзинга 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следующий врач левой рукой надавливает на брюшную стенку в левой подвздошной   области соответственно расположению нисходящего отдела ободочной кишки; не отнимая левой руки, правой производит короткий толчок на переднюю брюшную стенку на вышележащий участок толстой кишки. При положительном   симптоме больной ощущает боль в правой подвздошной обла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КЛИНИКА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*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симптом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имптом Воскресенског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- врач, располагаясь справа от больного, левой рукой натягивает его рубашку, а правой производит по ней скольжение кончиками пальцев от подложечной области по направлению к правой подвздошной. В конце скольжения больной ощущает резкую боль (симптом считается положительным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имптом Ситковског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ьного укладывают на левый бок. Усиление или возникновение боли в правой подвздошной области характерно для острого аппендици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КЛИНИКА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*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ные симптом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имптом Бартомье - Михельсон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- усиление болезненности при пальпации правой подвздошной области при положении больного на левом бок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имптом Крымова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болезненность при исследовании брюшины кончиком пальца через наружное отверстие правого пахового кольц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КЛИНИКА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*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ные симптом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имптом Думбадзе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явление болезненности при исследовании брюшины кончиком пальца через пупо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имптом Яуре-Розанов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рименяется для диагностики аппендицита при ретроцекальном расположении отростка: при надавливании пальцем в области поясничного треугольника Пти появляется болезнен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ЛИНИ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ые симптом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имптом Коупа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расположении аппендикса вблизи внутренней запирательной мышцы появление боли в илеоцекальной области при разгибании правого бедра в тазобедренном сустав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имптом Коуп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rcRect l="0" t="0" r="5260" b="0"/>
          <a:stretch/>
        </p:blipFill>
        <p:spPr>
          <a:xfrm>
            <a:off x="380880" y="2057400"/>
            <a:ext cx="4114800" cy="4572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2"/>
          <a:srcRect l="0" t="0" r="3852" b="0"/>
          <a:stretch/>
        </p:blipFill>
        <p:spPr>
          <a:xfrm>
            <a:off x="4687920" y="2057400"/>
            <a:ext cx="3846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стор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Picture 7" descr="http://clendening.kumc.edu/dc/pc/fitz.jpg"/>
          <p:cNvPicPr/>
          <p:nvPr/>
        </p:nvPicPr>
        <p:blipFill>
          <a:blip r:embed="rId1"/>
          <a:stretch/>
        </p:blipFill>
        <p:spPr>
          <a:xfrm>
            <a:off x="990720" y="1828800"/>
            <a:ext cx="3809880" cy="46483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4952880" y="1905120"/>
            <a:ext cx="373392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886 году </a:t>
            </a:r>
            <a:r>
              <a:rPr b="1" i="1" lang="es-ES" sz="4400" spc="-1" strike="noStrike">
                <a:solidFill>
                  <a:srgbClr val="ffffff"/>
                </a:solidFill>
                <a:latin typeface="Calibri"/>
              </a:rPr>
              <a:t>Reginald Fitz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первые описал и дал название ОА как «воспаление червеобразного отростк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Psoas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- симптом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0" name="Picture 6" descr="2027_f1a"/>
          <p:cNvPicPr/>
          <p:nvPr/>
        </p:nvPicPr>
        <p:blipFill>
          <a:blip r:embed="rId1"/>
          <a:srcRect l="0" t="0" r="5498" b="0"/>
          <a:stretch/>
        </p:blipFill>
        <p:spPr>
          <a:xfrm>
            <a:off x="304920" y="2514600"/>
            <a:ext cx="4438440" cy="3675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2027_f1b"/>
          <p:cNvPicPr/>
          <p:nvPr/>
        </p:nvPicPr>
        <p:blipFill>
          <a:blip r:embed="rId2"/>
          <a:srcRect l="0" t="0" r="6550" b="0"/>
          <a:stretch/>
        </p:blipFill>
        <p:spPr>
          <a:xfrm>
            <a:off x="5049720" y="1981080"/>
            <a:ext cx="3865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КЛИНИКА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*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симптом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жное значение в распознавании острого аппендицита имеют ректальное (у мужчин) или вагинальное (у женщин) исследование. Они должны производиться всем больным и преследуют цель определить чувствительность тазовой брюшины (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рик «Дугласа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 и состояние других органов малого таза, особенно у женщи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имптом Щеткина - Блюмберг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ызывается медленным надавливанием пальцами на брюшную стенку и быстрым одергиванием руки. В момент отнятия руки появляется острая локализованная боль вследствие раздражения воспаленной брюш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Особенности клинического течения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*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деляют следующие категории больных, у которых наблюдаются особенности клинического тече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льные пожилого и старческого возра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ременн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Особенности течения острого аппендицита у детей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*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2286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трый аппендицит у детей встречается в любом возрасте, а его особенности течения обусловлены пониженной устойчивостью брюшины к инфекции, небольшими размерами сальника, а также повышенной реактивностью детского организма. В связи с этим острый аппендицит у детей протекает тяжело, болезнь развивается быстрее, чем у взрослых, с большим процентом деструктивных и перфоративных фор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Особенности течения острого аппендицита у детей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*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14400" y="2286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урное начало заболе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окая температура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38-40° 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хваткообразные боли в живот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ократная рвота, понос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астота пульса нередко не соответствует температуре;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строе развитии деструктивных изменений в червеобразном отростк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раженные симптомы интоксика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астое развитие разлитого перитони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Особенности течения острого аппендицита у лиц пожилого и старческого возраста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*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22856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ртое течение заболевания вследствие ареактивности организма и сопутствующих заболева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мпература чаще нормальная, подъем ее до 38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 и выше наблюдается у небольшого числа больн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и в животе выражены незначительн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щитное напряжение мышц отсутствует или выражено слаб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строе развитие деструктивных, изменений в червеобразной отростке (вследствие склероза сосудов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значительное повышение количества лейкоцитов крови, умеренный сдвиг лейкоцитарной формулы влево даже при деструктивных форм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Особенности течения острого аппендицита у беременных</a:t>
            </a:r>
            <a:r>
              <a:rPr b="1" lang="ru-RU" sz="4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*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первой половине беременности проявления острого аппендицита не отличаются от обычных его проявлени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74674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Особенности течения острого аппендицита у беременных</a:t>
            </a:r>
            <a:r>
              <a:rPr b="1" lang="ru-RU" sz="4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*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6840" y="22856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 второй половине беременности изменяется локализация болей и болезненности (смещение слепой кишки и червеобразного отростка увеличенной маткой). Заболевание часто начинается внезапно с появления острых болей в животе, носящих постоянный характер, тошноты рвоты. В связи с изменением локализации аппендикса боли в животе могут определяться не только в правой подвздошной области, но и правом боковом фланке живота, правом подреберье и даже в эпигастральной области. Мышечное напряжение удается обнаружить не всегда, особенно в последнюю треть беременности, из-за выраженного перерастяжения передней брюшной стенки. Из болевых приемов наибольшую диагностическую ценность представляют симптомы Щеткина-Блюмберга, Воскресенского, Роздольского. Лейкоцитоз при остром аппендиците у беременных в большинстве случаев 8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ru-RU" sz="2000" spc="-1" strike="noStrike" baseline="30000">
                <a:solidFill>
                  <a:srgbClr val="ffffff"/>
                </a:solidFill>
                <a:latin typeface="Tahoma"/>
              </a:rPr>
              <a:t>9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ru-RU" sz="2000" spc="-1" strike="noStrike" baseline="30000">
                <a:solidFill>
                  <a:srgbClr val="ffffff"/>
                </a:solidFill>
                <a:latin typeface="Tahoma"/>
              </a:rPr>
              <a:t>9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/ л, часто со сдвигом влево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ДИАГНОСТИКА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*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щательный сбор, детализация жалоб больного и анамнеза заболева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ление характерных для острого аппендицита симптомов (пальпация, перкуссия живота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ктальное и вагинальное исследова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абораторные исследо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ключение заболеваний, симулирующих острую патологию в брюшной пол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Лабораторные исследования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*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 минимальным лабораторным исследованиям, позволяющим установить диагноз острого аппендицита, относят: общий анализ крови, мочи, определение коэффициента нейтрофилы—лейкоциты (н/л), лейкоцитарный индекс интоксикации Кальф-Калиф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Анатом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5257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рвеобразный отросток — непосредственное продолжение слепой кишки. Он располагается   у места слияния трех продольных лент (тений). Длина его колеблется в очень широких пределах. В среднем она составляет 7-10 см, но может варьировать от 0,5 до 30 см и более. В большинстве случаев аппендикс имеет брыжеечку — дупликатуру брюшины. Периваскулярно по ходу артерии червеобразного отростка в него проникают нервы — производные верхнего мезентериального сплет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12" descr="appA3019"/>
          <p:cNvPicPr/>
          <p:nvPr/>
        </p:nvPicPr>
        <p:blipFill>
          <a:blip r:embed="rId1"/>
          <a:stretch/>
        </p:blipFill>
        <p:spPr>
          <a:xfrm>
            <a:off x="5562720" y="1219320"/>
            <a:ext cx="3429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Лабораторные исследования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йкоцитоз характерен для всех форм   острого аппендицита и не имеет патогномоничного значения, поскольку наблюдается и при других воспалительных заболеваний. Рассматривать и интерпретировать его следует только вместе с клиническими проявлениями болезн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ее весомое диагностическое значение имеет оценка лейкоцитарной формулы  (наличие нейтрофильного сдвига — появление юных форм, увеличение коэффициента н/л более 4 свидетельствует о деструктивном процессе). При развитии деструктивного процесса может наблюдаться (иногда очень значительное) снижение числа лейкоцитов по сравнению с нормой при преобладании палочкоядерных нейтрофилов и других молодых форм, Это свидетельствует о выраженном напряжении работы   кроветворной системы. Данный феномен получил название «лейкоцитоз потребления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Ректальное исследова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24" name="Picture 7" descr="610_R7"/>
          <p:cNvPicPr/>
          <p:nvPr/>
        </p:nvPicPr>
        <p:blipFill>
          <a:blip r:embed="rId1"/>
          <a:stretch/>
        </p:blipFill>
        <p:spPr>
          <a:xfrm>
            <a:off x="1143000" y="1905120"/>
            <a:ext cx="7010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Инструментальные исследова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нтгенография ОБ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З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апароскоп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и методы используются в сомнительных случаях, в том числе – для дифференциальной диагностики и исключения других заболеваний, симулирующих острый аппендици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нструментальная диагности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962160" cy="35496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4"/>
          <p:cNvSpPr/>
          <p:nvPr/>
        </p:nvSpPr>
        <p:spPr>
          <a:xfrm>
            <a:off x="1143000" y="556272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нтгенография ОБП дает возможность в некоторых случаях диагностировать ОА и исключить другие острые хирургическое заболев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4" descr="acute appy abd film nonsp"/>
          <p:cNvPicPr/>
          <p:nvPr/>
        </p:nvPicPr>
        <p:blipFill>
          <a:blip r:embed="rId2"/>
          <a:srcRect l="3051" t="2629" r="0" b="9212"/>
          <a:stretch/>
        </p:blipFill>
        <p:spPr>
          <a:xfrm>
            <a:off x="4648320" y="1828800"/>
            <a:ext cx="4006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УЗ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32" name="Picture 5" descr="eco"/>
          <p:cNvPicPr/>
          <p:nvPr/>
        </p:nvPicPr>
        <p:blipFill>
          <a:blip r:embed="rId1"/>
          <a:stretch/>
        </p:blipFill>
        <p:spPr>
          <a:xfrm>
            <a:off x="1219320" y="1517760"/>
            <a:ext cx="670536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34" name="Picture 7" descr="tac2"/>
          <p:cNvPicPr/>
          <p:nvPr/>
        </p:nvPicPr>
        <p:blipFill>
          <a:blip r:embed="rId1"/>
          <a:srcRect l="0" t="0" r="3642" b="0"/>
          <a:stretch/>
        </p:blipFill>
        <p:spPr>
          <a:xfrm>
            <a:off x="228600" y="1905120"/>
            <a:ext cx="4419720" cy="4267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tac3jpg"/>
          <p:cNvPicPr/>
          <p:nvPr/>
        </p:nvPicPr>
        <p:blipFill>
          <a:blip r:embed="rId2"/>
          <a:srcRect l="0" t="0" r="4122" b="0"/>
          <a:stretch/>
        </p:blipFill>
        <p:spPr>
          <a:xfrm>
            <a:off x="4724280" y="1905120"/>
            <a:ext cx="4114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ДИФФЕРЕНЦИАЛЬНЫЙ ДИАГНОЗ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трый аппендицит необходимо дифференцировать с острыми заболеваниями органов брюшной полости и забрюшинного простран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вызнано значительной вариабельностью расположения червеобразного отростка в полости брюшины нередко отсутствием типичной клинической картины заболевания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ДИФФЕРЕНЦИАЛЬНЫЙ ДИАГНОЗ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*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трый панкреати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трый холецисти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форативная язва желудка или 12-перстой кишк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трая кишечная непроходимо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рушенная внематочная беременно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крученная киста или разрыв яичник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трый аднекси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езнь Кро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форция дивертикула Меккеля или дивертикуллит Меккел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авосторонняя почечная кол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ищевая токсикоинфек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трый мезентериальный лимфадени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трая плевропневмо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фаркт миокарда (абдоминальная форм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ХИРУРГИЧЕСКОЕ ЛЕЧЕНИЕ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 больные с установленным диагнозом острого аппендицита независимо от времени, прошедшего от начала заболевания, подлежат хирургическому лечению. Принцип ранней операции должен быть незыблем. Значительное   промедление с операцией, даже при относительно легком течении заболевания, создает опасность тяжелых и даже смертельных осложн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ХИРУРГИЧЕСКОЕ ЛЕЧЕНИЕ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еративное лечение не показано двум категориям больных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хорошо отграниченным сформировавшимся аппендикулярным инфильтратом, не имеющим тенденции к абсцедированию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 слабо выраженным аппендицитом, тек называемой «аппендикулярной коликой». В таком случае при наличии нормальной температуры тела, нормального содержания лейкоцитов в крови показано наблюдение за больным в течение 4-6 часов с проведением необходимых методов исследование (лабораторной, рентгенологический, инструментальный и др.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Физиолог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ьшинство исследователей считает его своеобразной миндалиной желудочно-кишечного тракта, поскольку он содержит в слизистой оболочке большое количество лимфоидной ткани. Лимфоидная ткань наиболее развита в детском возрасте, особенно в 12-16 лет. Начиная с 30 лет количество фолликулов значительно уменьшается, а к 60 годам они полностью исчезаю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ХИРУРГИЧЕСКОЕ ЛЕЧЕНИЕ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ступ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сой переменный разрез в правой подвздошной области (по Мак-Бурнею, по Волковичу-Дьяконову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медианный по Леннандер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апароскопиче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рединно-срединная лапаротом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512640" y="1389600"/>
            <a:ext cx="811908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ться над указанной линией и 2/3 - ниже нее (рис. 5. 1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24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728640" y="1649520"/>
            <a:ext cx="3352680" cy="38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512640" y="1389600"/>
            <a:ext cx="811908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ться над указанной линией и 2/3 - ниже нее (рис. 5. 1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24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728640" y="1649520"/>
            <a:ext cx="3352680" cy="38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512640" y="1389600"/>
            <a:ext cx="811908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ться над указанной линией и 2/3 - ниже нее (рис. 5. 1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24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728640" y="1649520"/>
            <a:ext cx="3352680" cy="38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ХИРУРГИЧЕСКОЕ ЛЕЧЕНИЕ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особы вмешательст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ипичная аппендэктом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троградная аппендэктом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1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213780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хника ретроградной аппендэктоми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295280" y="1905120"/>
            <a:ext cx="32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4" descr="Изображение “http://www.uroweb.ru/catalog/med_lib/oper_atl/img/430.jpg” не может быть показано, так как содержит ошибки."/>
          <p:cNvPicPr/>
          <p:nvPr/>
        </p:nvPicPr>
        <p:blipFill>
          <a:blip r:embed="rId1"/>
          <a:stretch/>
        </p:blipFill>
        <p:spPr>
          <a:xfrm>
            <a:off x="1295280" y="2057400"/>
            <a:ext cx="3657600" cy="4267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Изображение “http://www.uroweb.ru/catalog/med_lib/oper_atl/img/431.jpg” не может быть показано, так как содержит ошибки."/>
          <p:cNvPicPr/>
          <p:nvPr/>
        </p:nvPicPr>
        <p:blipFill>
          <a:blip r:embed="rId2"/>
          <a:stretch/>
        </p:blipFill>
        <p:spPr>
          <a:xfrm>
            <a:off x="5181480" y="2057400"/>
            <a:ext cx="3733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хника ретроградной аппендэктоми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60" name="Picture 3" descr="Изображение “http://www.uroweb.ru/catalog/med_lib/oper_atl/img/432.jpg” не может быть показано, так как содержит ошибки."/>
          <p:cNvPicPr/>
          <p:nvPr/>
        </p:nvPicPr>
        <p:blipFill>
          <a:blip r:embed="rId1"/>
          <a:stretch/>
        </p:blipFill>
        <p:spPr>
          <a:xfrm>
            <a:off x="1143000" y="2057400"/>
            <a:ext cx="3276720" cy="41148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Изображение “http://www.uroweb.ru/catalog/med_lib/oper_atl/img/433.jpg” не может быть показано, так как содержит ошибки."/>
          <p:cNvPicPr/>
          <p:nvPr/>
        </p:nvPicPr>
        <p:blipFill>
          <a:blip r:embed="rId2"/>
          <a:stretch/>
        </p:blipFill>
        <p:spPr>
          <a:xfrm>
            <a:off x="5410080" y="2057400"/>
            <a:ext cx="3353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хника ретроградной аппендэктоми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63" name="Picture 3" descr="Изображение “http://www.uroweb.ru/catalog/med_lib/oper_atl/img/434.jpg” не может быть показано, так как содержит ошибки."/>
          <p:cNvPicPr/>
          <p:nvPr/>
        </p:nvPicPr>
        <p:blipFill>
          <a:blip r:embed="rId1"/>
          <a:stretch/>
        </p:blipFill>
        <p:spPr>
          <a:xfrm>
            <a:off x="1295280" y="2133720"/>
            <a:ext cx="3505320" cy="41907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Изображение “http://www.uroweb.ru/catalog/med_lib/oper_atl/img/435.jpg” не может быть показано, так как содержит ошибки."/>
          <p:cNvPicPr/>
          <p:nvPr/>
        </p:nvPicPr>
        <p:blipFill>
          <a:blip r:embed="rId2"/>
          <a:stretch/>
        </p:blipFill>
        <p:spPr>
          <a:xfrm>
            <a:off x="5562720" y="2133720"/>
            <a:ext cx="3200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хника ретроградной аппендэктоми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66" name="Picture 3" descr="Изображение “http://www.uroweb.ru/catalog/med_lib/oper_atl/img/429.jpg” не может быть показано, так как содержит ошибки."/>
          <p:cNvPicPr/>
          <p:nvPr/>
        </p:nvPicPr>
        <p:blipFill>
          <a:blip r:embed="rId1"/>
          <a:stretch/>
        </p:blipFill>
        <p:spPr>
          <a:xfrm>
            <a:off x="2514600" y="1905120"/>
            <a:ext cx="40384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Лапароскопическая аппендэктом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1752480" y="2666880"/>
            <a:ext cx="221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0" name="Picture 7" descr="Изображение “http://www.laparoscopy.net/images/ap1.jpg” не может быть показано, так как содержит ошибки."/>
          <p:cNvPicPr/>
          <p:nvPr/>
        </p:nvPicPr>
        <p:blipFill>
          <a:blip r:embed="rId1"/>
          <a:stretch/>
        </p:blipFill>
        <p:spPr>
          <a:xfrm>
            <a:off x="1143000" y="2057400"/>
            <a:ext cx="7467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Лапароскопическая аппендэктом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752480" y="2666880"/>
            <a:ext cx="221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1828800" y="2057400"/>
            <a:ext cx="647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Picture 8" descr="Изображение “http://www.laparoscopy.net/images/ap2.jpg” не может быть показано, так как содержит ошибки."/>
          <p:cNvPicPr/>
          <p:nvPr/>
        </p:nvPicPr>
        <p:blipFill>
          <a:blip r:embed="rId1"/>
          <a:stretch/>
        </p:blipFill>
        <p:spPr>
          <a:xfrm>
            <a:off x="1143000" y="1981080"/>
            <a:ext cx="73915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Лапароскопическая аппендэктом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1752480" y="2666880"/>
            <a:ext cx="221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828800" y="2057400"/>
            <a:ext cx="647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2590920" y="274320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1" name="Picture 9" descr="Изображение “http://www.laparoscopy.net/images/ap3.jpg” не может быть показано, так как содержит ошибки."/>
          <p:cNvPicPr/>
          <p:nvPr/>
        </p:nvPicPr>
        <p:blipFill>
          <a:blip r:embed="rId1"/>
          <a:stretch/>
        </p:blipFill>
        <p:spPr>
          <a:xfrm>
            <a:off x="1066680" y="19810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Варианты располож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аще всего червеобразный отросток расположен   внутри брюшины и верхушкой направлен вниз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ако встречаются различные варианты его расположения как по отношению к слепой кишке, так и в зависимости от местоположения самой киш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Лапароскопическая аппендэктом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752480" y="2666880"/>
            <a:ext cx="221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828800" y="2057400"/>
            <a:ext cx="647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2590920" y="274320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7" name="Picture 9" descr="Изображение “http://www.laparoscopy.net/images/ap4.jpg” не может быть показано, так как содержит ошибки."/>
          <p:cNvPicPr/>
          <p:nvPr/>
        </p:nvPicPr>
        <p:blipFill>
          <a:blip r:embed="rId1"/>
          <a:stretch/>
        </p:blipFill>
        <p:spPr>
          <a:xfrm>
            <a:off x="1066680" y="2057400"/>
            <a:ext cx="7467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762120" y="15228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TES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–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Natural Orifice Translumenal Endoscopic Surge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430640" y="2133720"/>
            <a:ext cx="71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Эндоскопическая транслюминальная хирург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ерез естественные отверст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5877360" y="3833640"/>
            <a:ext cx="25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Трансгастраль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1"/>
          <a:stretch/>
        </p:blipFill>
        <p:spPr>
          <a:xfrm>
            <a:off x="557280" y="2933640"/>
            <a:ext cx="1584360" cy="1409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292" name="Picture 6" descr="anubis_evol"/>
          <p:cNvPicPr/>
          <p:nvPr/>
        </p:nvPicPr>
        <p:blipFill>
          <a:blip r:embed="rId2"/>
          <a:srcRect l="59542" t="0" r="1932" b="6027"/>
          <a:stretch/>
        </p:blipFill>
        <p:spPr>
          <a:xfrm>
            <a:off x="2313000" y="3473280"/>
            <a:ext cx="1584360" cy="237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93" name="Picture 7" descr=""/>
          <p:cNvPicPr/>
          <p:nvPr/>
        </p:nvPicPr>
        <p:blipFill>
          <a:blip r:embed="rId3"/>
          <a:stretch/>
        </p:blipFill>
        <p:spPr>
          <a:xfrm>
            <a:off x="4067280" y="4238640"/>
            <a:ext cx="1584360" cy="226692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294" name="Text Box 8"/>
          <p:cNvSpPr/>
          <p:nvPr/>
        </p:nvSpPr>
        <p:spPr>
          <a:xfrm>
            <a:off x="5869440" y="325764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Трансвагиналь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875560" y="4338720"/>
            <a:ext cx="23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Трансректаль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5879880" y="4915080"/>
            <a:ext cx="25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Чрезмочепузыр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5844960" y="541800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Комбинирован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Хирургическая система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a Vinc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3124440" cy="22381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"/>
          <p:cNvPicPr/>
          <p:nvPr/>
        </p:nvPicPr>
        <p:blipFill>
          <a:blip r:embed="rId2"/>
          <a:stretch/>
        </p:blipFill>
        <p:spPr>
          <a:xfrm>
            <a:off x="6172200" y="35053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"/>
          <p:cNvPicPr/>
          <p:nvPr/>
        </p:nvPicPr>
        <p:blipFill>
          <a:blip r:embed="rId3"/>
          <a:srcRect l="2392" t="12554" r="18806" b="9026"/>
          <a:stretch/>
        </p:blipFill>
        <p:spPr>
          <a:xfrm>
            <a:off x="6172200" y="1523880"/>
            <a:ext cx="2590920" cy="19051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"/>
          <p:cNvPicPr/>
          <p:nvPr/>
        </p:nvPicPr>
        <p:blipFill>
          <a:blip r:embed="rId4"/>
          <a:stretch/>
        </p:blipFill>
        <p:spPr>
          <a:xfrm>
            <a:off x="3657600" y="1523880"/>
            <a:ext cx="233352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ОСЛОЖНЕНИЯ ОСТРОГО АППЕНДИЦИТА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80880" y="25146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ппендикулярный инфильтрат: с инволюцией инфильтрата через 4-6 нед. и  с абсцедирова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пространенный гнойный перитон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утрибрюшные абсцессы (тазовый, межкишечные, поддиафрагмальны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илефлебит (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птический тромбофлебит воротной вены и её притоков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бсцессы пече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пс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Аппендикулярный инфильтрат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ппендикулярный инфильтрат образуется обычно к 3-5 дню от начала заболевания. Это конгломерат, состоящий из воспалительно-измененных петель кишок, сальника, отграничивающих от свободной брюшной полости воспаленного червеобразного отростка и скопившегося вокруг него экссудат. Клинический признак инфильтрата — обнаружение при пальпации болезненной воспалительной опухоли в правой подвздошной области. Общее состояние больного к этому времени улучшается, снижается   температура тела, уменьшаются   боли. Больной отмечает тупую боль в правой подвздошной области, усилива­ющуюся при ходьбе. Признаки раздражения брюшины отсутствуют. Аппендикулярный инфильтрат может рассосаться или абсцедирова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Аппендикулярный инфильтрат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первом случае нормализуется температура, происходит уменьшение размеров инфильтрата, исчезает болезненность   в правой подвздошной области, нормализуются показатели крови после проведения консервативного лечения, включающее постельный режим, антибиотикотерапию и физиотерапевтичекие процедуры. Всем больным, у которых консервативная терапия оказалась эффективной, рекомендуется аппендэктомия через 1,5-2 мес. после выписки из стациона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Абсцедирование аппендикулярного инфильтрата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втором варианте происходит абсцедирование аппендикулярного инфильрат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ппендикулярный абсцесс вскрывают под эндотрахеальным   наркозом с применением мышечных релаксантов через обычный операционный разрез Волковича-Дьяконова или внебрюшинным доступом ближе к гребешку подвздошнй кости, чтобы предупредить   попадание гноя в свободную брюшную полость.   После удаления  гноя производят осторожную ревизию илеоцекальной области и при обнаружении гангренозного отростка удаляют его. Полость гнойника дренируют. Таким образом, при абсцедирующем аппендикулярном инфильтрате показано вскрытие абсцесса, при сформировавшемся  же плотном инфильтрате все манипуляции, кроме тампонады, противопоказа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ппендикулярный абсцесс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12" name="Picture 4" descr="Apx_OmentumJPG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953240"/>
          </a:xfrm>
          <a:prstGeom prst="rect">
            <a:avLst/>
          </a:prstGeom>
          <a:ln w="0">
            <a:noFill/>
          </a:ln>
        </p:spPr>
      </p:pic>
      <p:cxnSp>
        <p:nvCxnSpPr>
          <p:cNvPr id="313" name="Прямая со стрелкой 5"/>
          <p:cNvCxnSpPr/>
          <p:nvPr/>
        </p:nvCxnSpPr>
        <p:spPr>
          <a:xfrm flipV="1">
            <a:off x="-360" y="3428640"/>
            <a:ext cx="2515320" cy="381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Распространенный гнойный перитони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при вскрытии брюшной полости обнаруживается разлитой гнойный перитонит, операцию через локальный доступ в правой подвздошной области прекращают и выполняют срединную лапаротомию. В дальнейшем тактика хирургического вмешательства не отличается от принципов лечения распространенного перитони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ПОСЛЕОПЕРАЦИОННЫЕ ОСЛОЖНЕ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380880" y="25146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ложнения со стороны операционной раны (инфильтрат, нагноение, лигатурные свищи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ложнения со стороны органов брюшной полости : гнойно-септические (распространенный перитонит, внутрибрюшные абсцессы), а также внутрибрюшное кровотечение, острая кишечная непроходимость, кишечные свищ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ложнения со стороны других органов и систе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Варианты расположения аппендикса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*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личают  (по Аллену 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371600" y="2819520"/>
            <a:ext cx="228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066680" y="2895480"/>
            <a:ext cx="1752840" cy="2514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3276720" y="2819520"/>
            <a:ext cx="167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1752480" cy="24386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4952880" y="28954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3"/>
          <a:stretch/>
        </p:blipFill>
        <p:spPr>
          <a:xfrm>
            <a:off x="5181480" y="2895480"/>
            <a:ext cx="1676520" cy="2438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0"/>
          <p:cNvSpPr/>
          <p:nvPr/>
        </p:nvSpPr>
        <p:spPr>
          <a:xfrm>
            <a:off x="6934320" y="2819520"/>
            <a:ext cx="167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11" descr=""/>
          <p:cNvPicPr/>
          <p:nvPr/>
        </p:nvPicPr>
        <p:blipFill>
          <a:blip r:embed="rId4"/>
          <a:stretch/>
        </p:blipFill>
        <p:spPr>
          <a:xfrm>
            <a:off x="7086600" y="2895480"/>
            <a:ext cx="1600200" cy="24386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2"/>
          <p:cNvSpPr/>
          <p:nvPr/>
        </p:nvSpPr>
        <p:spPr>
          <a:xfrm>
            <a:off x="1143000" y="5562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зово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3124080" y="55627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правой подвздошной ямк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525780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диально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7010280" y="56386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троцекально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Осложнения со стороны органов брюшной полости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 этой группе осложнений следует отнести послеоперационный перитонит, образование перикультевых инфильтратов, абсцессов (межпетлевых, тазовых и поддиафрагмальных гнойников), кровотечение в брюшную полость, острую кишечную непроходимость, кишечные свищ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Осложнения со стороны органов брюшной полости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леоперационный перитонит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носится к сравнительно редким, но опасным осложнениям. Причиной перитонита являются несостоятельность швов культи его, а также перфорация некротизиро-вавшихся участков слепой кишки или же нагноение гематом. Лечение – релапаротомия и лечение перитонита по всем правилам этого осложн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Осложнения со стороны органов брюшной полости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ильтраты и абсцессы брюшной полости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гут быть связаны с допущенными погрешностями при выполнении оперативного вмешательства, сквозными проколами стенки слепой кишки при наложении кисетного шва. Инфильтраты в правой подвздошной области могут возникать и вследствие других причин, часто не зависящих от хирурга, а скорее всего обусловленных особенностями патологии (перифокальное воспаление, оставление при аппендэктомии участков воспаленной серозной оболочки червеобразного отростка, отрыв при грубом выделении его верхушки, выпадение в брюшную полость каловых камней и др.) Таким больным производят релапаротомию и вскрытие абсцесса и его дренирова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Осложнения со стороны органов брюшной полости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нутрибрюшное кровотечение обычно возникает при соскальзывании лигатуры с брыжейки червеобразного отростка или же неполной перевязки сосудов во время опера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трая кишечная непроходимость после операции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поводу острого аппендицита встречается редко. Причиной острой кишечной непроходимости, развивающейся после операции, является спаечный процесс либо образование воспалительного инфильтра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Осложнения со стороны органов брюшной полости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ишечные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ищи возникают после операции по поводу острого аппендицита чаще всего вследствие воспалительной деструкции слепой и тонкой кишок, развившейся при переходе деструктивного процесса с червеобразного отростка на прилегающую к нему стенку кишки, или же воспалительно-гнойных осложнений, в частности перитонита, абсцессов, флегмоны. Нередко кишечные свищи развиваются на фоне эвентрации, возникшей вследствие расхождения швов. Играют роль и технические погрешности при аппендэктомии допускаемые при наложении кисетного шв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Осложнения со стороны других органов и систем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прежде всего послеоперационные пневмонии и тромбозы при которых показано соответствующее консервативное леч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ложнения со стороны сердечно-сосудистой системы могут возникнуть у пациентов пожилого и старческого возраста при наличии у них сопутствующих заболеван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м является профилактика этих осложнений на всех этапах лечения боль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360" y="76176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eaeaea"/>
                </a:solidFill>
                <a:latin typeface="Adorable"/>
              </a:rPr>
              <a:t>The end</a:t>
            </a:r>
            <a:endParaRPr b="1" lang="en-US" sz="9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31" name="Object 2" descr=""/>
          <p:cNvPicPr/>
          <p:nvPr/>
        </p:nvPicPr>
        <p:blipFill>
          <a:blip r:embed="rId1"/>
          <a:stretch/>
        </p:blipFill>
        <p:spPr>
          <a:xfrm>
            <a:off x="2571840" y="3200400"/>
            <a:ext cx="4000320" cy="31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Варианты расположения аппендикса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*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личают  (по Аллену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066680" y="27432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2590920" cy="28954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4724280" y="2895480"/>
            <a:ext cx="243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9" descr=""/>
          <p:cNvPicPr/>
          <p:nvPr/>
        </p:nvPicPr>
        <p:blipFill>
          <a:blip r:embed="rId2"/>
          <a:stretch/>
        </p:blipFill>
        <p:spPr>
          <a:xfrm>
            <a:off x="5410080" y="2819520"/>
            <a:ext cx="2514600" cy="28954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0"/>
          <p:cNvSpPr/>
          <p:nvPr/>
        </p:nvSpPr>
        <p:spPr>
          <a:xfrm>
            <a:off x="1066680" y="594360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 терминальны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езком подвздошной киш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5562720" y="6019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атерально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Варианты расположения аппендикса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*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оме того, различаю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печеночное (наиболее часто у беременных в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триместре, но также встречается у другой категории больных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Левосторонне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itu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viscerum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inversu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066680" y="27432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724280" y="2895480"/>
            <a:ext cx="243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riv</cp:lastModifiedBy>
  <dcterms:modified xsi:type="dcterms:W3CDTF">2011-11-02T06:47:09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