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A9202-59D3-4AD4-8523-669B9953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B9F3F-9593-4268-972A-90A006DB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5374D-8CAF-477E-BA98-14679E3A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8F2FD-BF49-4DCA-832D-50F4230D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B6FA-2F64-464D-B11A-26799A1B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0C9F-38AC-464F-8F3B-AC9858D4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7CD7-59AD-4ED0-B904-F1D7DBCE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257A-82D8-4DF7-A5FD-C6064573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B073-3C2C-4F61-B958-EB024DDC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9E42-B60A-47B3-815B-2F76618C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C755-EB8E-46CB-9256-30D98904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A8264-861E-49E9-A1AC-350DFE3D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E968-68C4-4D66-9852-64E03A5C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19C3-B048-460A-8C06-B726D145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7F9C-B193-43BD-9430-18D7C56E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7A9F-FB1E-4B84-BF12-102CCDA6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32D8-3129-45A9-AB2D-8C4B56D5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7949E-62BA-455D-A6AF-D3BE59FF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F05C5-6380-4492-8508-77ADB51E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B3238-DFB5-417D-A986-BBF1111F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EBE70-3CE0-44D5-A472-A492E196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744BE-FDCE-4AFD-8958-E5B3F0EE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91B31-0246-4B9D-905D-8F7045FB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E8077-9AB9-4EB0-87EE-2A311077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9078-E2AC-40AB-AE2C-FE97309EE0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BE70-EDE3-4808-9735-4D8239DAAC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736640"/>
            <a:ext cx="91440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ОСТРАЯ АБДОМИНАЛЬНАЯ БОЛЬ ПРИ ХИРУРГИЧЕСКИХ ЗАБОЛЕВАНИЯХ ОРГАНОВ БРЮШНОЙ ПОЛОСТИ: ДИАГНОЗ, АЛГОРИТМ МЕДИЦИНСКОЙ ПОМОЩИ НА ДОГОСПИТАЛЬНОМ ЭТАПЕ.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Особенности основных вариантов рво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Рвота центрального происхожден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Характерны внезапность появления (часто без предшествующей тошноты), продолжительность и частые рецидивы, а также отсутствие облегчения после рвот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Гематогенно-токсическая рво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Характерны предшествующая тошнота, рецидивы рвоты; иногда возможна и нeyкpoтимaя pвoтa: вначале рвота может быть обильной, затем лишь с небольшим количеством жидкости, окрашенной желч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Желудочная рво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вота обычно возникает после предшествующей тошноты, нередко и болей в животе. Эта рвота возникает чаще в разгар пищеварения (через 30 мин — 1,5 ч после еды), приносит облегчение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тенотическая рвот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никает периодически 1 раз в 2—3 дня, иногда и каждый день. Рвотные массы имеют характерный неприятный бродильный или гнилостный запах, нередко содержат остатки пищи. Больной обычно чувствует значительное облегчение: уменьшение или исчезновение тошноты и боле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Каловая (фекалоидная) рвот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собенность рвоты — вначале отмечается рвота пищей, затем желчью, а позднее и калом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ищеводная рвота, содержимое которой — разбухшая, но непереваренная пища, не содержащая соляной кислоты и ферментов. Обычно тошнота не предшествует появлению пищеводной рво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Особенности основных вариантов рво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Цели фармакотерапии острой рво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ррекция метаболических нарушений и водно-солевого обмена,  которую необходимо начинать на догоспитальном этапе (см. соответствующие разделы руководства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устранения тошноты и рвоты до установления диагноза и проведения этиологического лечения часто требуется назначение симптоматической терап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9"/>
          <p:cNvSpPr/>
          <p:nvPr/>
        </p:nvSpPr>
        <p:spPr>
          <a:xfrm>
            <a:off x="755640" y="0"/>
            <a:ext cx="7843680" cy="7192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Острая тошнота и рво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Rectangle 30"/>
          <p:cNvSpPr/>
          <p:nvPr/>
        </p:nvSpPr>
        <p:spPr>
          <a:xfrm>
            <a:off x="826920" y="692280"/>
            <a:ext cx="280836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Легкое тече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Rectangle 31"/>
          <p:cNvSpPr/>
          <p:nvPr/>
        </p:nvSpPr>
        <p:spPr>
          <a:xfrm>
            <a:off x="5724360" y="692280"/>
            <a:ext cx="280836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Тяжелое тече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Rectangle 32"/>
          <p:cNvSpPr/>
          <p:nvPr/>
        </p:nvSpPr>
        <p:spPr>
          <a:xfrm>
            <a:off x="0" y="1557360"/>
            <a:ext cx="302436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Симптоматическ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терапия: церукал, мотилиум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хлорпромазин, ондансетро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Rectangle 33"/>
          <p:cNvSpPr/>
          <p:nvPr/>
        </p:nvSpPr>
        <p:spPr>
          <a:xfrm>
            <a:off x="0" y="2565360"/>
            <a:ext cx="2124000" cy="11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тсутствие эффект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ил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трицательн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динамик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Rectangle 34"/>
          <p:cNvSpPr/>
          <p:nvPr/>
        </p:nvSpPr>
        <p:spPr>
          <a:xfrm>
            <a:off x="6875640" y="1628640"/>
            <a:ext cx="2268360" cy="13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Коррекция системных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метаболических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нарушени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растворы солей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и глюкозы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Rectangle 35"/>
          <p:cNvSpPr/>
          <p:nvPr/>
        </p:nvSpPr>
        <p:spPr>
          <a:xfrm>
            <a:off x="2411280" y="2492280"/>
            <a:ext cx="432144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Госпитализац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(терапия после верификации диагноза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0" y="3933720"/>
            <a:ext cx="2700360" cy="13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Инфекционны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стационар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вирусный гепатит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эпидемические заболевания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ищевая токсикоинфекци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Rectangle 38"/>
          <p:cNvSpPr/>
          <p:nvPr/>
        </p:nvSpPr>
        <p:spPr>
          <a:xfrm>
            <a:off x="539640" y="5516640"/>
            <a:ext cx="2448000" cy="1341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Токсикологическ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cтационар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лекарственные и други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экзоген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интоксика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Rectangle 39"/>
          <p:cNvSpPr/>
          <p:nvPr/>
        </p:nvSpPr>
        <p:spPr>
          <a:xfrm>
            <a:off x="3203640" y="3429000"/>
            <a:ext cx="2448000" cy="3168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Терапевтическ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стационар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заболевания желудк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лучевая болезнь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метаболические р-в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и интоксикация пр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внутренних болезнях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кетоацидоз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очечная недостаточность,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застойная НК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инфаркт миокард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. пневмони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Rectangle 40"/>
          <p:cNvSpPr/>
          <p:nvPr/>
        </p:nvSpPr>
        <p:spPr>
          <a:xfrm>
            <a:off x="5796000" y="5229360"/>
            <a:ext cx="2449440" cy="1366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Нейротравматология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страя черепно-мозгов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травма, инфаркт мозг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Rectangle 41"/>
          <p:cNvSpPr/>
          <p:nvPr/>
        </p:nvSpPr>
        <p:spPr>
          <a:xfrm>
            <a:off x="6227640" y="3716280"/>
            <a:ext cx="2916360" cy="13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Хирургический стационар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стрый живот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эметогенные травматическ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сложне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Line 42"/>
          <p:cNvSpPr/>
          <p:nvPr/>
        </p:nvSpPr>
        <p:spPr>
          <a:xfrm>
            <a:off x="1763640" y="134136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Line 43"/>
          <p:cNvSpPr/>
          <p:nvPr/>
        </p:nvSpPr>
        <p:spPr>
          <a:xfrm>
            <a:off x="6012000" y="1341360"/>
            <a:ext cx="79200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Line 44"/>
          <p:cNvSpPr/>
          <p:nvPr/>
        </p:nvSpPr>
        <p:spPr>
          <a:xfrm flipH="1">
            <a:off x="5292720" y="1341360"/>
            <a:ext cx="719280" cy="1150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Line 45"/>
          <p:cNvSpPr/>
          <p:nvPr/>
        </p:nvSpPr>
        <p:spPr>
          <a:xfrm flipH="1">
            <a:off x="2987280" y="1341360"/>
            <a:ext cx="302436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Line 46"/>
          <p:cNvSpPr/>
          <p:nvPr/>
        </p:nvSpPr>
        <p:spPr>
          <a:xfrm>
            <a:off x="2124000" y="278136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Line 47"/>
          <p:cNvSpPr/>
          <p:nvPr/>
        </p:nvSpPr>
        <p:spPr>
          <a:xfrm>
            <a:off x="971640" y="234936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Line 48"/>
          <p:cNvSpPr/>
          <p:nvPr/>
        </p:nvSpPr>
        <p:spPr>
          <a:xfrm flipH="1">
            <a:off x="6732720" y="2781360"/>
            <a:ext cx="71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Line 51"/>
          <p:cNvSpPr/>
          <p:nvPr/>
        </p:nvSpPr>
        <p:spPr>
          <a:xfrm>
            <a:off x="6300720" y="3068640"/>
            <a:ext cx="7192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Line 52"/>
          <p:cNvSpPr/>
          <p:nvPr/>
        </p:nvSpPr>
        <p:spPr>
          <a:xfrm>
            <a:off x="4572000" y="306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Line 53"/>
          <p:cNvSpPr/>
          <p:nvPr/>
        </p:nvSpPr>
        <p:spPr>
          <a:xfrm>
            <a:off x="5867280" y="3068640"/>
            <a:ext cx="144720" cy="216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Line 54"/>
          <p:cNvSpPr/>
          <p:nvPr/>
        </p:nvSpPr>
        <p:spPr>
          <a:xfrm flipH="1">
            <a:off x="2339640" y="3068640"/>
            <a:ext cx="360360" cy="865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Line 55"/>
          <p:cNvSpPr/>
          <p:nvPr/>
        </p:nvSpPr>
        <p:spPr>
          <a:xfrm flipH="1">
            <a:off x="2771280" y="3068640"/>
            <a:ext cx="287640" cy="24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сновные причины острой диаре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Инфекционные заболевания желудочно-кишечного тракт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вирусной этиоло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бактериальной этиоло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протозойной этиоло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диарея путешественник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Неспецифические воспалительные заболевания кишечник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болезнь Крон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неспецифический язвенный коли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Ишемический колит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тромбоз артерий толстой кишк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облитерирующий атеросклероз артерий толстой киш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Лекарственная терапия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лекарственная интоксикация при приеме различного рода фармпрепарат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передозировка слабительных средств различного механизма действи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псевдомембранозный колит при антибактериальной терап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2700360" y="404640"/>
            <a:ext cx="3529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Возбудители О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2276640"/>
            <a:ext cx="3527280" cy="21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БАКТЕРИИ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Сальмонеллы, Шигеллы, Иерсинии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Лептоспиры, Микобактерии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Гонококки,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Стафилококки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Кишечная палочка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Клостридии, Кампилобакте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5688000" y="2276640"/>
            <a:ext cx="3456000" cy="20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ВИРУСЫ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Ротавирусы, Аденовирусы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Астровирусы, Калицивирусы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вирусы Норфолк и Бред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ростого герпес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Цитомегаловиру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вирус гепатита 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059280" y="4797360"/>
            <a:ext cx="280800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РОСТЕЙШИЕ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Дизентерийная амеб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Лямбл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Криптоспоридия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Изоспорид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2843280" y="1341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AutoShape 9"/>
          <p:cNvSpPr/>
          <p:nvPr/>
        </p:nvSpPr>
        <p:spPr>
          <a:xfrm>
            <a:off x="4067280" y="1268280"/>
            <a:ext cx="485640" cy="3529080"/>
          </a:xfrm>
          <a:prstGeom prst="downArrow">
            <a:avLst>
              <a:gd name="adj1" fmla="val 50000"/>
              <a:gd name="adj2" fmla="val 18167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AutoShape 10"/>
          <p:cNvSpPr/>
          <p:nvPr/>
        </p:nvSpPr>
        <p:spPr>
          <a:xfrm>
            <a:off x="5796000" y="1268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ипичные клинические проявления ОК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рофузная диаре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Обезвожи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Интоксик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Боль в живот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Лихорад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Примесь крови в испражнения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одянистая ОД без клинически значимой дегидратаци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86" name="Object 4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6"/>
          <p:cNvSpPr/>
          <p:nvPr/>
        </p:nvSpPr>
        <p:spPr>
          <a:xfrm>
            <a:off x="0" y="1916280"/>
            <a:ext cx="2268360" cy="25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ibrio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arahemoliticu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Aeromonas sp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Salmonella sp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E.col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Shigella sonnei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Shigella boydi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Yersinia spp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2268360" y="2781360"/>
            <a:ext cx="1079640" cy="576360"/>
          </a:xfrm>
          <a:prstGeom prst="rightArrow">
            <a:avLst>
              <a:gd name="adj1" fmla="val 50000"/>
              <a:gd name="adj2" fmla="val 4683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ровавая ОД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93" name="Object 4"/>
          <p:cNvGraphicFramePr/>
          <p:nvPr/>
        </p:nvGraphicFramePr>
        <p:xfrm>
          <a:off x="0" y="1413000"/>
          <a:ext cx="9144000" cy="55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5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6"/>
          <p:cNvSpPr/>
          <p:nvPr/>
        </p:nvSpPr>
        <p:spPr>
          <a:xfrm>
            <a:off x="0" y="1413000"/>
            <a:ext cx="2124000" cy="4752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lmonell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nteritid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Campilobact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ejun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Yersini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nterocolitic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Clostridium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ifficil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Salmonella sp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E.coli (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нтеро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моррагическая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higell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ysenteriaei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Shigell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lexner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ntamoeb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ystolitic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2124000" y="2852640"/>
            <a:ext cx="1079640" cy="576360"/>
          </a:xfrm>
          <a:prstGeom prst="rightArrow">
            <a:avLst>
              <a:gd name="adj1" fmla="val 50000"/>
              <a:gd name="adj2" fmla="val 4683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одянистая ОД с клинически значимой дегидратаци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99" name="Object 4"/>
          <p:cNvGraphicFramePr/>
          <p:nvPr/>
        </p:nvGraphicFramePr>
        <p:xfrm>
          <a:off x="0" y="1295280"/>
          <a:ext cx="9144000" cy="55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Rectangle 6"/>
          <p:cNvSpPr/>
          <p:nvPr/>
        </p:nvSpPr>
        <p:spPr>
          <a:xfrm>
            <a:off x="0" y="1700280"/>
            <a:ext cx="2411280" cy="2736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ibrio cholera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Vibrio O13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E.col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Aeromonas sp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ibrio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arahemoliticu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Salmonella sp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Yersinia spp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2411280" y="285264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руктура ОХЗ органов брюшной поло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7034040"/>
                <a:gridCol w="11955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SimSun"/>
                        </a:rPr>
                        <a:t>Нозологическая фор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SimSu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Аппендиц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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8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Холецист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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9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Панкреат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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8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Ущемленная гры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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57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Желудочно-кишечное кровоте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только язвенной этиологи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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7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Клинические симптомы и лечение ОД, протекающей с выраженной тошнотой и рвотой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134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06" name="Object 4"/>
          <p:cNvGraphicFramePr/>
          <p:nvPr/>
        </p:nvGraphicFramePr>
        <p:xfrm>
          <a:off x="0" y="1413000"/>
          <a:ext cx="9144000" cy="54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6"/>
          <p:cNvSpPr/>
          <p:nvPr/>
        </p:nvSpPr>
        <p:spPr>
          <a:xfrm>
            <a:off x="250920" y="1557360"/>
            <a:ext cx="3816360" cy="1942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ВИРУСНЫЙ ГАСТРОЕНТЕР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вирус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Norwal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астровирус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ротавирус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энтеровирус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4572000" y="1628640"/>
            <a:ext cx="4248000" cy="187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ОТРАВЛЕНИЕ БАКТЕРИАЛЬНЫМ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ТОКСИН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S</a:t>
            </a: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.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aureu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B. cereu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Clostridium perfringen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оказания к госпиьализации при ОД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КРОВАВАЯ ДИАРЕ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ЫРАЖЕННАЯ И НЕКУПИРУЮЩАЯСЯ ДЕГИДРАТАЦ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ТЯЖЕЛОЕ СОСТОЯНИЕ БОЛЬНОГ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ОД У ЛИЦ КРИТИЧЕСКОГО ВОЗРАС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ОД У ЛИЦ С ТЯЖЕЛЫМИ ФОНОВЫМИ ЗАБОЛЕВАНИЯ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ПОДОЗРЕНИЕ НА ОХ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ПОДОЗРЕНИЕ НА ОД НЕИНФЕКЦИОННОГО ГЕНЕ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ЭПИДЕМИОЛОГИЧЕСКАЯ ОПАС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линические проявления обезвоживания при ОК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0" y="1125360"/>
          <a:ext cx="9144000" cy="5504040"/>
        </p:xfrm>
        <a:graphic>
          <a:graphicData uri="http://schemas.openxmlformats.org/drawingml/2006/table">
            <a:tbl>
              <a:tblPr/>
              <a:tblGrid>
                <a:gridCol w="3070080"/>
                <a:gridCol w="6073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тепень дегидрат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Клинические 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теря 1-3% от массы тела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щественных физиологическ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рушений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теря 4-6% массы тела: жажда, мышечная слабость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ратковременные судороги икроножных мышц, осипл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олоса. Температура тела - нормальная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теря 7-9% массы тела: сухость кожи и слизистых оболочек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острение черт лица, афония, артериальная гипотензия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ахикардия, тонические судороги отдельных групп мышц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спространенный цианоз, олигурия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теря 10% и более массы тела в течение 24 часов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ыраженная артериальная гипотензия, анурия, развит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иповолемического шока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0" y="0"/>
          <a:ext cx="9144000" cy="6541920"/>
        </p:xfrm>
        <a:graphic>
          <a:graphicData uri="http://schemas.openxmlformats.org/drawingml/2006/table">
            <a:tbl>
              <a:tblPr/>
              <a:tblGrid>
                <a:gridCol w="2411280"/>
                <a:gridCol w="2318040"/>
                <a:gridCol w="2290680"/>
                <a:gridCol w="2124000"/>
              </a:tblGrid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 степени (легка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 степени (средней тяжест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 степени (тяжело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бщее состоя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довлетворительн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редней тяже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яжелое, ш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ЧСС лежа (мин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gt; 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А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(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м.рт.ст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gt; 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gt; 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стуральная гипотензия и тахикард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ыраж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ыраж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В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(см.вод.ст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5 - 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1 -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рушение созн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ревога, испу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озбуждение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еориентация, ко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иуре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(мл/сутк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gt; 15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ЦК потеря от нормы 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gt; 3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редполагаемая потеря в м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gt; 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e5ff"/>
                </a:solidFill>
                <a:latin typeface="Garamond"/>
              </a:rPr>
              <a:t>К числу значимых факторов риска рецидива ВК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ирроз пече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давнее хирургическое вмешательств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зистентную к лечению гипотони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воту с примесью кро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знаки неустойчивого гемостаза по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мер язвы и ее локализаци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Вариант комбинированного (антихеликобактерного лечения язвенной болезни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755640" y="2060640"/>
            <a:ext cx="7704000" cy="2089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АНТИСЕКРЕТОРНЫЕ ПРЕПАРАТЫ: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 ингибиторы протонной помпы (предпочтительно)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антагонисты Н2-рецепторов к гистамину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Целесообразна инфузионная терапия на старт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755640" y="4149720"/>
            <a:ext cx="7704000" cy="20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АНТИБАКТЕРИАЛЬНЫЕ ПРЕПАРАТЫ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аритромицин 1 г/сут в течение 7 дней перораль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- амоксициллин 1 г/сут в течение 7 дней перорально</a:t>
            </a: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Garamond"/>
              </a:rPr>
              <a:t>Основными точками приложения фармакотерапии при ВК являются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абилизации состояния пациента, восстановления ОЦК и коррекция нарушений гемостаза до экстренной эндоскопи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тиворецидивная терапия, после выявления источника кровотечения и успешного гемостаз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тио-патогенетическая терапия перед отсроченной операцией у больных с неконтролируемым ВК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илактика ВК из стрессовых язв у больных, госпитализированных в остром периоде критического заболевания и  находящихся на ИВЛ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илактика эрозивно-язвенных повреждений гастродуоденальной слизистой у госпитализированных больных, получающих терапию стероидами или НПВП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Оказание медицинской помощи при ОХЗ на догоспитальном этапе заключается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ценке симптомов заболевания и квалификации пациента как больного с ОХЗ органов брюшной поло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выявлении и оценке угрожающих жизни клинических синдром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ессиональном поддержании жизнедеятельности организма больного в течение всего времени, необходимого для транспортировки пациента в стационар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 можно более спешной и целенаправленной транспортировке пациента в стациона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Основные синдромы, характерные для ОХЗ органов брюшной полости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трая боль в брюшной полост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ошнота и рвот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иаре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елтух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овотечени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щие синдромы: коллапс, интоксикация, дегидратация, лихорад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3165480" y="1455840"/>
            <a:ext cx="2989080" cy="877680"/>
          </a:xfrm>
          <a:prstGeom prst="rect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Воспаление париетальной брюшин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148360" y="189000"/>
            <a:ext cx="3456000" cy="131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бактериальное заражение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перфорация аппендикс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воспаление органов таз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перфорация толстой   киш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39640" y="189000"/>
            <a:ext cx="3164040" cy="131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химическое раздражение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прободная яз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панкреонекроз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перфорация тонкой киш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27040" y="2565360"/>
            <a:ext cx="2638440" cy="938160"/>
          </a:xfrm>
          <a:prstGeom prst="rect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бструкция полости внутреннего органа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3357720"/>
            <a:ext cx="2843280" cy="1439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обструкция тонкой или толстой кишки, желчевыводящих путей, мочеточника, мочевого пузыр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5978520" y="2771640"/>
            <a:ext cx="2813040" cy="774720"/>
          </a:xfrm>
          <a:prstGeom prst="rect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Сосудистые нарушен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6330960" y="3357720"/>
            <a:ext cx="2813040" cy="1390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эмболия, разрыв сосуд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ишемия при сдавливании/перекруте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серповидно-клеточная анем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3341520" y="3063960"/>
            <a:ext cx="2460960" cy="146376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Боль, возникающая в брюшно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1476360" y="5157720"/>
            <a:ext cx="2813040" cy="1317600"/>
          </a:xfrm>
          <a:prstGeom prst="rect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Заболевание передней брюшной стенки</a:t>
            </a:r>
            <a:r>
              <a:rPr b="0" lang="he-IL" sz="1600" spc="-1" strike="noStrike">
                <a:solidFill>
                  <a:srgbClr val="003399"/>
                </a:solidFill>
                <a:latin typeface="Times New Roman"/>
                <a:cs typeface="Times New Roman"/>
              </a:rPr>
              <a:t>׃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еформация корня брыжейки, патология мышц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4924440" y="5113440"/>
            <a:ext cx="3247920" cy="1214280"/>
          </a:xfrm>
          <a:prstGeom prst="rect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Garamond"/>
              </a:rPr>
              <a:t>Растяжение капсулы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Garamond"/>
              </a:rPr>
              <a:t>внутреннего органа: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Garamond"/>
              </a:rPr>
              <a:t>печени, селезенки,  почек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Line 15"/>
          <p:cNvSpPr/>
          <p:nvPr/>
        </p:nvSpPr>
        <p:spPr>
          <a:xfrm flipV="1">
            <a:off x="4572000" y="2479320"/>
            <a:ext cx="0" cy="438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Line 16"/>
          <p:cNvSpPr/>
          <p:nvPr/>
        </p:nvSpPr>
        <p:spPr>
          <a:xfrm flipV="1">
            <a:off x="5451480" y="2917440"/>
            <a:ext cx="351000" cy="291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17"/>
          <p:cNvSpPr/>
          <p:nvPr/>
        </p:nvSpPr>
        <p:spPr>
          <a:xfrm flipH="1" flipV="1">
            <a:off x="3341160" y="2917440"/>
            <a:ext cx="351000" cy="244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18"/>
          <p:cNvSpPr/>
          <p:nvPr/>
        </p:nvSpPr>
        <p:spPr>
          <a:xfrm flipH="1">
            <a:off x="3516480" y="4525920"/>
            <a:ext cx="352080" cy="439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5099040" y="4525920"/>
            <a:ext cx="352440" cy="392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-749160" y="6490440"/>
            <a:ext cx="103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болевания органов живота, являющиеся причиной острой абдоминальной бол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Начало острой абдоминальной бо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9640" y="907920"/>
          <a:ext cx="8229600" cy="5592960"/>
        </p:xfrm>
        <a:graphic>
          <a:graphicData uri="http://schemas.openxmlformats.org/drawingml/2006/table">
            <a:tbl>
              <a:tblPr/>
              <a:tblGrid>
                <a:gridCol w="2819520"/>
                <a:gridCol w="541008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езапное появ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рфорации внутреннего органа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зрыва аневризмы аорты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рекрута яичник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понтанного пневмоторакс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струкции межпозвонкового дис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тепенное нача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трого холецистит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ппендицит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ивертикулит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проходимости тонкой кишки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трой мезентериальной ишемии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трой задержки моч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дленное нача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локачественных новообразований, например,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 развитии кишечной непроходимости пр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турирующей опухоли толстой кишки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3"/>
          <p:cNvSpPr/>
          <p:nvPr/>
        </p:nvSpPr>
        <p:spPr>
          <a:xfrm>
            <a:off x="6310440" y="260280"/>
            <a:ext cx="2833560" cy="2303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начало аппендици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тонкокишечная обструкц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стрый гастроэнтер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мезентериальный тромбоз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упочная грыж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аневризма брюшной аорт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дивертикул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лимфаден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250920" y="260280"/>
            <a:ext cx="2808360" cy="352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ептическая яз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холецистит, холанг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анкреатит, гастростаз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тонкокишечная обструкц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оддиафрагмальный абсцес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гепатит, абсцесс печен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леврит, пневмоторак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нижнедолевая пневмо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инфаркт миокарда и легког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ерикардит, почечная коли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травма селезен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начало аппендици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0" y="4365720"/>
            <a:ext cx="3276720" cy="249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толстокишечная обструкц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аппендиц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дивертикул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гнойный пельвиоперитон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цистит, сальпингит, эндометриоз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внематочная беременнос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аховые грыж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очечная коли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ерекрут кисты яични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3132000" y="836640"/>
            <a:ext cx="1081080" cy="1225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0" name="Group 18"/>
          <p:cNvGrpSpPr/>
          <p:nvPr/>
        </p:nvGrpSpPr>
        <p:grpSpPr>
          <a:xfrm>
            <a:off x="3708360" y="1628640"/>
            <a:ext cx="2643120" cy="3431880"/>
            <a:chOff x="3708360" y="1628640"/>
            <a:chExt cx="2643120" cy="3431880"/>
          </a:xfrm>
        </p:grpSpPr>
        <p:sp>
          <p:nvSpPr>
            <p:cNvPr id="131" name="AutoShape 17"/>
            <p:cNvSpPr/>
            <p:nvPr/>
          </p:nvSpPr>
          <p:spPr>
            <a:xfrm>
              <a:off x="3708360" y="1628640"/>
              <a:ext cx="2643120" cy="34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2" name="Freeform 19"/>
            <p:cNvSpPr/>
            <p:nvPr/>
          </p:nvSpPr>
          <p:spPr>
            <a:xfrm>
              <a:off x="3781440" y="1660320"/>
              <a:ext cx="2443320" cy="3351240"/>
            </a:xfrm>
            <a:prstGeom prst="pie">
              <a:avLst/>
            </a:prstGeom>
            <a:solidFill>
              <a:srgbClr val="d2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Freeform 20"/>
            <p:cNvSpPr/>
            <p:nvPr/>
          </p:nvSpPr>
          <p:spPr>
            <a:xfrm>
              <a:off x="4206960" y="2946240"/>
              <a:ext cx="1649160" cy="1842840"/>
            </a:xfrm>
            <a:prstGeom prst="pie">
              <a:avLst/>
            </a:prstGeom>
            <a:solidFill>
              <a:srgbClr val="ffe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Freeform 21"/>
            <p:cNvSpPr/>
            <p:nvPr/>
          </p:nvSpPr>
          <p:spPr>
            <a:xfrm>
              <a:off x="5880240" y="2544480"/>
              <a:ext cx="222120" cy="476280"/>
            </a:xfrm>
            <a:prstGeom prst="pie">
              <a:avLst/>
            </a:prstGeom>
            <a:solidFill>
              <a:srgbClr val="ad9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Freeform 22"/>
            <p:cNvSpPr/>
            <p:nvPr/>
          </p:nvSpPr>
          <p:spPr>
            <a:xfrm>
              <a:off x="4478400" y="3027240"/>
              <a:ext cx="181080" cy="149040"/>
            </a:xfrm>
            <a:prstGeom prst="pie">
              <a:avLst/>
            </a:prstGeom>
            <a:solidFill>
              <a:srgbClr val="cef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Freeform 23"/>
            <p:cNvSpPr/>
            <p:nvPr/>
          </p:nvSpPr>
          <p:spPr>
            <a:xfrm>
              <a:off x="4468680" y="3076200"/>
              <a:ext cx="133560" cy="100080"/>
            </a:xfrm>
            <a:prstGeom prst="pie">
              <a:avLst/>
            </a:prstGeom>
            <a:solidFill>
              <a:srgbClr val="98b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Freeform 24"/>
            <p:cNvSpPr/>
            <p:nvPr/>
          </p:nvSpPr>
          <p:spPr>
            <a:xfrm>
              <a:off x="4673520" y="3044520"/>
              <a:ext cx="403200" cy="334800"/>
            </a:xfrm>
            <a:prstGeom prst="pie">
              <a:avLst/>
            </a:prstGeom>
            <a:solidFill>
              <a:srgbClr val="a2a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Freeform 25"/>
            <p:cNvSpPr/>
            <p:nvPr/>
          </p:nvSpPr>
          <p:spPr>
            <a:xfrm>
              <a:off x="4797360" y="4552560"/>
              <a:ext cx="417600" cy="466920"/>
            </a:xfrm>
            <a:prstGeom prst="pie">
              <a:avLst/>
            </a:prstGeom>
            <a:solidFill>
              <a:srgbClr val="ff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Freeform 26"/>
            <p:cNvSpPr/>
            <p:nvPr/>
          </p:nvSpPr>
          <p:spPr>
            <a:xfrm>
              <a:off x="4411800" y="4463640"/>
              <a:ext cx="66600" cy="276480"/>
            </a:xfrm>
            <a:prstGeom prst="pie">
              <a:avLst/>
            </a:prstGeom>
            <a:solidFill>
              <a:srgbClr val="ff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Freeform 27"/>
            <p:cNvSpPr/>
            <p:nvPr/>
          </p:nvSpPr>
          <p:spPr>
            <a:xfrm>
              <a:off x="3960720" y="3053880"/>
              <a:ext cx="2116080" cy="1562400"/>
            </a:xfrm>
            <a:prstGeom prst="pie">
              <a:avLst/>
            </a:prstGeom>
            <a:solidFill>
              <a:srgbClr val="ff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Freeform 28"/>
            <p:cNvSpPr/>
            <p:nvPr/>
          </p:nvSpPr>
          <p:spPr>
            <a:xfrm>
              <a:off x="4722840" y="1674360"/>
              <a:ext cx="1263600" cy="1632240"/>
            </a:xfrm>
            <a:prstGeom prst="pie">
              <a:avLst/>
            </a:prstGeom>
            <a:solidFill>
              <a:srgbClr val="ffe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Freeform 29"/>
            <p:cNvSpPr/>
            <p:nvPr/>
          </p:nvSpPr>
          <p:spPr>
            <a:xfrm>
              <a:off x="5280120" y="2626920"/>
              <a:ext cx="237960" cy="29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Freeform 30"/>
            <p:cNvSpPr/>
            <p:nvPr/>
          </p:nvSpPr>
          <p:spPr>
            <a:xfrm>
              <a:off x="3919680" y="2192040"/>
              <a:ext cx="1820880" cy="1123920"/>
            </a:xfrm>
            <a:prstGeom prst="pie">
              <a:avLst/>
            </a:prstGeom>
            <a:solidFill>
              <a:srgbClr val="ad9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" name="Freeform 31"/>
            <p:cNvSpPr/>
            <p:nvPr/>
          </p:nvSpPr>
          <p:spPr>
            <a:xfrm>
              <a:off x="4230720" y="2463480"/>
              <a:ext cx="344520" cy="498600"/>
            </a:xfrm>
            <a:prstGeom prst="pie">
              <a:avLst/>
            </a:prstGeom>
            <a:solidFill>
              <a:srgbClr val="ffe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Freeform 32"/>
            <p:cNvSpPr/>
            <p:nvPr/>
          </p:nvSpPr>
          <p:spPr>
            <a:xfrm>
              <a:off x="5110200" y="2307960"/>
              <a:ext cx="147600" cy="204840"/>
            </a:xfrm>
            <a:prstGeom prst="pie">
              <a:avLst/>
            </a:prstGeom>
            <a:solidFill>
              <a:srgbClr val="ffe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Freeform 33"/>
            <p:cNvSpPr/>
            <p:nvPr/>
          </p:nvSpPr>
          <p:spPr>
            <a:xfrm>
              <a:off x="4057560" y="3627000"/>
              <a:ext cx="4932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Freeform 34"/>
            <p:cNvSpPr/>
            <p:nvPr/>
          </p:nvSpPr>
          <p:spPr>
            <a:xfrm>
              <a:off x="4025880" y="3816000"/>
              <a:ext cx="3168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Freeform 35"/>
            <p:cNvSpPr/>
            <p:nvPr/>
          </p:nvSpPr>
          <p:spPr>
            <a:xfrm>
              <a:off x="4008600" y="3979440"/>
              <a:ext cx="66600" cy="8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Freeform 36"/>
            <p:cNvSpPr/>
            <p:nvPr/>
          </p:nvSpPr>
          <p:spPr>
            <a:xfrm>
              <a:off x="4040280" y="4176360"/>
              <a:ext cx="6660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Freeform 37"/>
            <p:cNvSpPr/>
            <p:nvPr/>
          </p:nvSpPr>
          <p:spPr>
            <a:xfrm>
              <a:off x="4148280" y="4339800"/>
              <a:ext cx="10764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Freeform 38"/>
            <p:cNvSpPr/>
            <p:nvPr/>
          </p:nvSpPr>
          <p:spPr>
            <a:xfrm>
              <a:off x="4330800" y="4365360"/>
              <a:ext cx="7128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Freeform 39"/>
            <p:cNvSpPr/>
            <p:nvPr/>
          </p:nvSpPr>
          <p:spPr>
            <a:xfrm>
              <a:off x="5838840" y="3676320"/>
              <a:ext cx="4932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Freeform 40"/>
            <p:cNvSpPr/>
            <p:nvPr/>
          </p:nvSpPr>
          <p:spPr>
            <a:xfrm>
              <a:off x="5864400" y="3784320"/>
              <a:ext cx="4896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Freeform 41"/>
            <p:cNvSpPr/>
            <p:nvPr/>
          </p:nvSpPr>
          <p:spPr>
            <a:xfrm>
              <a:off x="5864400" y="3912840"/>
              <a:ext cx="5688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Freeform 42"/>
            <p:cNvSpPr/>
            <p:nvPr/>
          </p:nvSpPr>
          <p:spPr>
            <a:xfrm>
              <a:off x="5848200" y="4043160"/>
              <a:ext cx="828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Freeform 43"/>
            <p:cNvSpPr/>
            <p:nvPr/>
          </p:nvSpPr>
          <p:spPr>
            <a:xfrm>
              <a:off x="5848200" y="4143240"/>
              <a:ext cx="7308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Freeform 44"/>
            <p:cNvSpPr/>
            <p:nvPr/>
          </p:nvSpPr>
          <p:spPr>
            <a:xfrm>
              <a:off x="5816520" y="4225680"/>
              <a:ext cx="9684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Freeform 45"/>
            <p:cNvSpPr/>
            <p:nvPr/>
          </p:nvSpPr>
          <p:spPr>
            <a:xfrm>
              <a:off x="5781600" y="4339800"/>
              <a:ext cx="9864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Freeform 46"/>
            <p:cNvSpPr/>
            <p:nvPr/>
          </p:nvSpPr>
          <p:spPr>
            <a:xfrm>
              <a:off x="4987800" y="1677600"/>
              <a:ext cx="74880" cy="5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Freeform 47"/>
            <p:cNvSpPr/>
            <p:nvPr/>
          </p:nvSpPr>
          <p:spPr>
            <a:xfrm>
              <a:off x="5121360" y="1685520"/>
              <a:ext cx="17280" cy="56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Freeform 48"/>
            <p:cNvSpPr/>
            <p:nvPr/>
          </p:nvSpPr>
          <p:spPr>
            <a:xfrm>
              <a:off x="3938760" y="2214360"/>
              <a:ext cx="1012680" cy="10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Freeform 49"/>
            <p:cNvSpPr/>
            <p:nvPr/>
          </p:nvSpPr>
          <p:spPr>
            <a:xfrm>
              <a:off x="5011560" y="2341440"/>
              <a:ext cx="669960" cy="41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Freeform 50"/>
            <p:cNvSpPr/>
            <p:nvPr/>
          </p:nvSpPr>
          <p:spPr>
            <a:xfrm>
              <a:off x="4421160" y="2441160"/>
              <a:ext cx="681120" cy="77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Freeform 51"/>
            <p:cNvSpPr/>
            <p:nvPr/>
          </p:nvSpPr>
          <p:spPr>
            <a:xfrm>
              <a:off x="5002200" y="2715840"/>
              <a:ext cx="270000" cy="19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Freeform 52"/>
            <p:cNvSpPr/>
            <p:nvPr/>
          </p:nvSpPr>
          <p:spPr>
            <a:xfrm>
              <a:off x="3903840" y="2195280"/>
              <a:ext cx="1091880" cy="11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Freeform 53"/>
            <p:cNvSpPr/>
            <p:nvPr/>
          </p:nvSpPr>
          <p:spPr>
            <a:xfrm>
              <a:off x="4800600" y="2247480"/>
              <a:ext cx="1200240" cy="10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Freeform 54"/>
            <p:cNvSpPr/>
            <p:nvPr/>
          </p:nvSpPr>
          <p:spPr>
            <a:xfrm>
              <a:off x="4800600" y="2406240"/>
              <a:ext cx="1092240" cy="84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Freeform 55"/>
            <p:cNvSpPr/>
            <p:nvPr/>
          </p:nvSpPr>
          <p:spPr>
            <a:xfrm>
              <a:off x="4729320" y="2984040"/>
              <a:ext cx="8244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Freeform 56"/>
            <p:cNvSpPr/>
            <p:nvPr/>
          </p:nvSpPr>
          <p:spPr>
            <a:xfrm>
              <a:off x="4646520" y="3044520"/>
              <a:ext cx="171720" cy="23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Freeform 57"/>
            <p:cNvSpPr/>
            <p:nvPr/>
          </p:nvSpPr>
          <p:spPr>
            <a:xfrm>
              <a:off x="4951440" y="3306600"/>
              <a:ext cx="306360" cy="10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Freeform 58"/>
            <p:cNvSpPr/>
            <p:nvPr/>
          </p:nvSpPr>
          <p:spPr>
            <a:xfrm>
              <a:off x="4460760" y="3155760"/>
              <a:ext cx="1285920" cy="32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Freeform 59"/>
            <p:cNvSpPr/>
            <p:nvPr/>
          </p:nvSpPr>
          <p:spPr>
            <a:xfrm>
              <a:off x="4508640" y="3011040"/>
              <a:ext cx="1695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Freeform 60"/>
            <p:cNvSpPr/>
            <p:nvPr/>
          </p:nvSpPr>
          <p:spPr>
            <a:xfrm>
              <a:off x="4235400" y="2955600"/>
              <a:ext cx="1824120" cy="70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Freeform 61"/>
            <p:cNvSpPr/>
            <p:nvPr/>
          </p:nvSpPr>
          <p:spPr>
            <a:xfrm>
              <a:off x="4498920" y="3288960"/>
              <a:ext cx="1224000" cy="23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Freeform 62"/>
            <p:cNvSpPr/>
            <p:nvPr/>
          </p:nvSpPr>
          <p:spPr>
            <a:xfrm>
              <a:off x="5942160" y="2504880"/>
              <a:ext cx="185760" cy="48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Freeform 63"/>
            <p:cNvSpPr/>
            <p:nvPr/>
          </p:nvSpPr>
          <p:spPr>
            <a:xfrm>
              <a:off x="4853160" y="3239640"/>
              <a:ext cx="296640" cy="13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Freeform 64"/>
            <p:cNvSpPr/>
            <p:nvPr/>
          </p:nvSpPr>
          <p:spPr>
            <a:xfrm>
              <a:off x="3946680" y="3311280"/>
              <a:ext cx="566640" cy="12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8" name="Freeform 65"/>
            <p:cNvSpPr/>
            <p:nvPr/>
          </p:nvSpPr>
          <p:spPr>
            <a:xfrm>
              <a:off x="4170240" y="3390480"/>
              <a:ext cx="25740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9" name="Freeform 66"/>
            <p:cNvSpPr/>
            <p:nvPr/>
          </p:nvSpPr>
          <p:spPr>
            <a:xfrm>
              <a:off x="4054320" y="3609720"/>
              <a:ext cx="246240" cy="70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0" name="Freeform 67"/>
            <p:cNvSpPr/>
            <p:nvPr/>
          </p:nvSpPr>
          <p:spPr>
            <a:xfrm>
              <a:off x="4386240" y="4149360"/>
              <a:ext cx="1236600" cy="53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1" name="Freeform 68"/>
            <p:cNvSpPr/>
            <p:nvPr/>
          </p:nvSpPr>
          <p:spPr>
            <a:xfrm>
              <a:off x="4503600" y="4235040"/>
              <a:ext cx="1285920" cy="55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2" name="Freeform 69"/>
            <p:cNvSpPr/>
            <p:nvPr/>
          </p:nvSpPr>
          <p:spPr>
            <a:xfrm>
              <a:off x="4467240" y="4398840"/>
              <a:ext cx="54000" cy="10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3" name="Freeform 70"/>
            <p:cNvSpPr/>
            <p:nvPr/>
          </p:nvSpPr>
          <p:spPr>
            <a:xfrm>
              <a:off x="4406760" y="4463640"/>
              <a:ext cx="76320" cy="28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Freeform 71"/>
            <p:cNvSpPr/>
            <p:nvPr/>
          </p:nvSpPr>
          <p:spPr>
            <a:xfrm>
              <a:off x="4818240" y="4563720"/>
              <a:ext cx="158400" cy="39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Freeform 72"/>
            <p:cNvSpPr/>
            <p:nvPr/>
          </p:nvSpPr>
          <p:spPr>
            <a:xfrm>
              <a:off x="5137200" y="4684320"/>
              <a:ext cx="81000" cy="20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6" name="Freeform 73"/>
            <p:cNvSpPr/>
            <p:nvPr/>
          </p:nvSpPr>
          <p:spPr>
            <a:xfrm>
              <a:off x="4384800" y="3776400"/>
              <a:ext cx="306360" cy="41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7" name="Freeform 74"/>
            <p:cNvSpPr/>
            <p:nvPr/>
          </p:nvSpPr>
          <p:spPr>
            <a:xfrm>
              <a:off x="4373640" y="3877920"/>
              <a:ext cx="102960" cy="28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8" name="Freeform 75"/>
            <p:cNvSpPr/>
            <p:nvPr/>
          </p:nvSpPr>
          <p:spPr>
            <a:xfrm>
              <a:off x="4670280" y="4338360"/>
              <a:ext cx="13680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9" name="Freeform 76"/>
            <p:cNvSpPr/>
            <p:nvPr/>
          </p:nvSpPr>
          <p:spPr>
            <a:xfrm>
              <a:off x="4691160" y="4511520"/>
              <a:ext cx="5076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0" name="Freeform 77"/>
            <p:cNvSpPr/>
            <p:nvPr/>
          </p:nvSpPr>
          <p:spPr>
            <a:xfrm>
              <a:off x="4645080" y="3973320"/>
              <a:ext cx="731880" cy="46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1" name="Freeform 78"/>
            <p:cNvSpPr/>
            <p:nvPr/>
          </p:nvSpPr>
          <p:spPr>
            <a:xfrm>
              <a:off x="5257800" y="4420800"/>
              <a:ext cx="11124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2" name="Freeform 79"/>
            <p:cNvSpPr/>
            <p:nvPr/>
          </p:nvSpPr>
          <p:spPr>
            <a:xfrm>
              <a:off x="4381560" y="3568320"/>
              <a:ext cx="101520" cy="21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Freeform 80"/>
            <p:cNvSpPr/>
            <p:nvPr/>
          </p:nvSpPr>
          <p:spPr>
            <a:xfrm>
              <a:off x="4568760" y="3477960"/>
              <a:ext cx="149400" cy="30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4" name="Freeform 81"/>
            <p:cNvSpPr/>
            <p:nvPr/>
          </p:nvSpPr>
          <p:spPr>
            <a:xfrm>
              <a:off x="4602240" y="3816000"/>
              <a:ext cx="696960" cy="48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5" name="Freeform 82"/>
            <p:cNvSpPr/>
            <p:nvPr/>
          </p:nvSpPr>
          <p:spPr>
            <a:xfrm>
              <a:off x="4789440" y="3634920"/>
              <a:ext cx="682560" cy="4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Freeform 83"/>
            <p:cNvSpPr/>
            <p:nvPr/>
          </p:nvSpPr>
          <p:spPr>
            <a:xfrm>
              <a:off x="4910040" y="3601800"/>
              <a:ext cx="243000" cy="38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Freeform 84"/>
            <p:cNvSpPr/>
            <p:nvPr/>
          </p:nvSpPr>
          <p:spPr>
            <a:xfrm>
              <a:off x="5164200" y="3862080"/>
              <a:ext cx="303120" cy="54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Freeform 85"/>
            <p:cNvSpPr/>
            <p:nvPr/>
          </p:nvSpPr>
          <p:spPr>
            <a:xfrm>
              <a:off x="5302080" y="3628800"/>
              <a:ext cx="468360" cy="11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9" name="Freeform 86"/>
            <p:cNvSpPr/>
            <p:nvPr/>
          </p:nvSpPr>
          <p:spPr>
            <a:xfrm>
              <a:off x="5457960" y="3512880"/>
              <a:ext cx="363240" cy="79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0" name="Freeform 87"/>
            <p:cNvSpPr/>
            <p:nvPr/>
          </p:nvSpPr>
          <p:spPr>
            <a:xfrm>
              <a:off x="5477040" y="3706560"/>
              <a:ext cx="263520" cy="52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1" name="Freeform 88"/>
            <p:cNvSpPr/>
            <p:nvPr/>
          </p:nvSpPr>
          <p:spPr>
            <a:xfrm>
              <a:off x="5789520" y="3422520"/>
              <a:ext cx="297000" cy="117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2" name="Freeform 89"/>
            <p:cNvSpPr/>
            <p:nvPr/>
          </p:nvSpPr>
          <p:spPr>
            <a:xfrm>
              <a:off x="5796000" y="3606480"/>
              <a:ext cx="9828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3" name="Freeform 90"/>
            <p:cNvSpPr/>
            <p:nvPr/>
          </p:nvSpPr>
          <p:spPr>
            <a:xfrm>
              <a:off x="5751360" y="3733560"/>
              <a:ext cx="12888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4" name="Freeform 91"/>
            <p:cNvSpPr/>
            <p:nvPr/>
          </p:nvSpPr>
          <p:spPr>
            <a:xfrm>
              <a:off x="5807160" y="3846240"/>
              <a:ext cx="10152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5" name="Freeform 92"/>
            <p:cNvSpPr/>
            <p:nvPr/>
          </p:nvSpPr>
          <p:spPr>
            <a:xfrm>
              <a:off x="5780160" y="3963600"/>
              <a:ext cx="11412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6" name="Freeform 93"/>
            <p:cNvSpPr/>
            <p:nvPr/>
          </p:nvSpPr>
          <p:spPr>
            <a:xfrm>
              <a:off x="5791320" y="4070160"/>
              <a:ext cx="8712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7" name="Freeform 94"/>
            <p:cNvSpPr/>
            <p:nvPr/>
          </p:nvSpPr>
          <p:spPr>
            <a:xfrm>
              <a:off x="5780160" y="4157280"/>
              <a:ext cx="8712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8" name="Freeform 95"/>
            <p:cNvSpPr/>
            <p:nvPr/>
          </p:nvSpPr>
          <p:spPr>
            <a:xfrm>
              <a:off x="5743440" y="4241520"/>
              <a:ext cx="13500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9" name="Freeform 96"/>
            <p:cNvSpPr/>
            <p:nvPr/>
          </p:nvSpPr>
          <p:spPr>
            <a:xfrm>
              <a:off x="3738600" y="1649160"/>
              <a:ext cx="2583000" cy="338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0" name="Freeform 97"/>
            <p:cNvSpPr/>
            <p:nvPr/>
          </p:nvSpPr>
          <p:spPr>
            <a:xfrm>
              <a:off x="3868560" y="2860200"/>
              <a:ext cx="1314720" cy="216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1" name="Freeform 98"/>
            <p:cNvSpPr/>
            <p:nvPr/>
          </p:nvSpPr>
          <p:spPr>
            <a:xfrm>
              <a:off x="3795840" y="1692000"/>
              <a:ext cx="1147680" cy="10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2" name="Freeform 99"/>
            <p:cNvSpPr/>
            <p:nvPr/>
          </p:nvSpPr>
          <p:spPr>
            <a:xfrm>
              <a:off x="5175360" y="1684080"/>
              <a:ext cx="1039680" cy="10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13" name="Oval 101"/>
          <p:cNvSpPr/>
          <p:nvPr/>
        </p:nvSpPr>
        <p:spPr>
          <a:xfrm>
            <a:off x="4122720" y="1989000"/>
            <a:ext cx="1486080" cy="5716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AutoShape 102"/>
          <p:cNvSpPr/>
          <p:nvPr/>
        </p:nvSpPr>
        <p:spPr>
          <a:xfrm>
            <a:off x="4351320" y="2903400"/>
            <a:ext cx="1143000" cy="800280"/>
          </a:xfrm>
          <a:prstGeom prst="pi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AutoShape 103"/>
          <p:cNvSpPr/>
          <p:nvPr/>
        </p:nvSpPr>
        <p:spPr>
          <a:xfrm flipV="1">
            <a:off x="4237200" y="3704400"/>
            <a:ext cx="1371600" cy="685800"/>
          </a:xfrm>
          <a:prstGeom prst="pi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Line 105"/>
          <p:cNvSpPr/>
          <p:nvPr/>
        </p:nvSpPr>
        <p:spPr>
          <a:xfrm flipH="1">
            <a:off x="5265360" y="3112920"/>
            <a:ext cx="685800" cy="133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Line 106"/>
          <p:cNvSpPr/>
          <p:nvPr/>
        </p:nvSpPr>
        <p:spPr>
          <a:xfrm flipV="1">
            <a:off x="3276720" y="4292640"/>
            <a:ext cx="1150920" cy="151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Line 107"/>
          <p:cNvSpPr/>
          <p:nvPr/>
        </p:nvSpPr>
        <p:spPr>
          <a:xfrm flipH="1">
            <a:off x="5219280" y="2565360"/>
            <a:ext cx="158436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Rectangle 108"/>
          <p:cNvSpPr/>
          <p:nvPr/>
        </p:nvSpPr>
        <p:spPr>
          <a:xfrm>
            <a:off x="3164400" y="5659560"/>
            <a:ext cx="65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ипичная локализация абдоминально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оли при острых заболевания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059280" y="1268280"/>
            <a:ext cx="2808000" cy="4316400"/>
          </a:xfrm>
          <a:prstGeom prst="rect">
            <a:avLst/>
          </a:prstGeom>
          <a:ln w="0">
            <a:noFill/>
          </a:ln>
        </p:spPr>
      </p:pic>
      <p:sp>
        <p:nvSpPr>
          <p:cNvPr id="221" name="Freeform 7"/>
          <p:cNvSpPr/>
          <p:nvPr/>
        </p:nvSpPr>
        <p:spPr>
          <a:xfrm>
            <a:off x="3924360" y="1916280"/>
            <a:ext cx="457200" cy="574560"/>
          </a:xfrm>
          <a:prstGeom prst="pi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Freeform 8"/>
          <p:cNvSpPr/>
          <p:nvPr/>
        </p:nvSpPr>
        <p:spPr>
          <a:xfrm>
            <a:off x="4140360" y="3645000"/>
            <a:ext cx="228600" cy="614160"/>
          </a:xfrm>
          <a:prstGeom prst="pi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AutoShape 9"/>
          <p:cNvSpPr/>
          <p:nvPr/>
        </p:nvSpPr>
        <p:spPr>
          <a:xfrm>
            <a:off x="4211640" y="3500280"/>
            <a:ext cx="457200" cy="228600"/>
          </a:xfrm>
          <a:prstGeom prst="pentagon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4140360" y="3141720"/>
            <a:ext cx="6858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AutoShape 11"/>
          <p:cNvSpPr/>
          <p:nvPr/>
        </p:nvSpPr>
        <p:spPr>
          <a:xfrm>
            <a:off x="4643280" y="2852640"/>
            <a:ext cx="114480" cy="114480"/>
          </a:xfrm>
          <a:prstGeom prst="plus">
            <a:avLst>
              <a:gd name="adj" fmla="val 25000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Freeform 14"/>
          <p:cNvSpPr/>
          <p:nvPr/>
        </p:nvSpPr>
        <p:spPr>
          <a:xfrm>
            <a:off x="4572000" y="2133720"/>
            <a:ext cx="431640" cy="323640"/>
          </a:xfrm>
          <a:prstGeom prst="pi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250920" y="692280"/>
            <a:ext cx="3024000" cy="1800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форация пептической язв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авосторонний плеврит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ддиафрагмальный абсцес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вреждение селезенк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250920" y="2997360"/>
            <a:ext cx="2448000" cy="1008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ппендиц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трый панкреат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чечная коли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920" y="4797360"/>
            <a:ext cx="2808360" cy="165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чевая коли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трый пиелонефр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ппендиц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аболевания половых орган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аховая и бедренная грыж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6156360" y="2205000"/>
            <a:ext cx="2052720" cy="1295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аболевани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желчевыводящих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утей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анкреат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Rectangle 19"/>
          <p:cNvSpPr/>
          <p:nvPr/>
        </p:nvSpPr>
        <p:spPr>
          <a:xfrm>
            <a:off x="6012000" y="4221000"/>
            <a:ext cx="1871640" cy="1368720"/>
          </a:xfrm>
          <a:prstGeom prst="rect">
            <a:avLst/>
          </a:prstGeom>
          <a:solidFill>
            <a:srgbClr val="0099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аболевани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ямой киш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половых орган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Rectangle 20"/>
          <p:cNvSpPr/>
          <p:nvPr/>
        </p:nvSpPr>
        <p:spPr>
          <a:xfrm>
            <a:off x="5867280" y="476280"/>
            <a:ext cx="3024360" cy="1297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трый панкреатит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евосторонний плеврит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форация пептической язв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вреждение селезен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3276720" y="1413000"/>
            <a:ext cx="71892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Line 22"/>
          <p:cNvSpPr/>
          <p:nvPr/>
        </p:nvSpPr>
        <p:spPr>
          <a:xfrm flipH="1">
            <a:off x="5003280" y="1413000"/>
            <a:ext cx="86364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Line 23"/>
          <p:cNvSpPr/>
          <p:nvPr/>
        </p:nvSpPr>
        <p:spPr>
          <a:xfrm flipV="1">
            <a:off x="2700360" y="3284280"/>
            <a:ext cx="1366920" cy="14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Line 24"/>
          <p:cNvSpPr/>
          <p:nvPr/>
        </p:nvSpPr>
        <p:spPr>
          <a:xfrm flipH="1">
            <a:off x="4787640" y="2637000"/>
            <a:ext cx="136836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Line 25"/>
          <p:cNvSpPr/>
          <p:nvPr/>
        </p:nvSpPr>
        <p:spPr>
          <a:xfrm flipV="1">
            <a:off x="3059280" y="4149360"/>
            <a:ext cx="1152360" cy="165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Line 26"/>
          <p:cNvSpPr/>
          <p:nvPr/>
        </p:nvSpPr>
        <p:spPr>
          <a:xfrm flipH="1" flipV="1">
            <a:off x="4572000" y="3715920"/>
            <a:ext cx="1440000" cy="1513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Rectangle 30"/>
          <p:cNvSpPr/>
          <p:nvPr/>
        </p:nvSpPr>
        <p:spPr>
          <a:xfrm>
            <a:off x="2577960" y="5668920"/>
            <a:ext cx="729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ипичная иррадиация  абдоминальной бол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ОХЗ органов брюшной пол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вид спереди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рминолог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ошнота означает ощущение надвигающегося желания выполнить рвотный акт, которое обычно ощущается в горле или эпигастральной области. Иногда тошнота рассматривается как неприятное ощущение (давление, тяжесть) в подложечной обла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вота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непроизвольное выбрасывание изо рта содержимого желудка или тонкой кишки, сопровождающееся повышенным слюноотделением и выраженными сокращениями грудных и брюшных мышц, нарушающими ритм дыхания. Чрезвычайно сильная рвота, возникающая при повышении внутричерепного давления, называется “фонтанирующей”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17:37:10Z</dcterms:created>
  <dc:creator>Антон</dc:creator>
  <dc:description/>
  <dc:language>en-US</dc:language>
  <cp:lastModifiedBy>kriv</cp:lastModifiedBy>
  <dcterms:modified xsi:type="dcterms:W3CDTF">2011-11-02T06:46:28Z</dcterms:modified>
  <cp:revision>9</cp:revision>
  <dc:subject/>
  <dc:title>ОСТРАЯ АБДОМИНАЛЬНАЯ БОЛЬ ПРИ ХИРУРГИЧЕСКИХ ЗАБОЛЕВАНИЯХ ОРГАНОВ БРЮШНОЙ ПОЛОСТИ: ДИАГНОЗ, АЛГОРИТМ МЕДИЦИНСКОЙ ПОМОЩИ НА ДОГОСПИТАЛЬНОМ ЭТАПЕ.</dc:title>
</cp:coreProperties>
</file>