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E4231-66BF-461C-B886-6AA414411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06DD1-974F-4CA5-80D4-B595AD811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A9882-F43B-4096-92B9-961F97611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93282-8C21-478F-9233-4B791B46D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3C7B8-1D1B-40F5-8A78-BFF4EA17B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350D3-ED82-4D32-AA6F-68A942C7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729D4-FECB-4C1E-AE16-06D4E5FD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0EE91-CDB8-492C-A1AE-2A6A5097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6302C-A880-4492-AC32-85D61C5B1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337D9-26B6-4375-91B9-DB66B3A3A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15287-9DE8-48B6-BF76-34986C1A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A64E3-F44B-4C59-8095-A63BDE1CC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D4AF8-E385-4EE2-9ABF-0094B115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B83D7-F31A-4981-8530-7DEF5F52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C4E2E-C9DA-4994-8593-4C452932D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65383-C4B5-4962-9EDE-B9A72FC3C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849B0-AF2D-48B0-A8F9-C90E741AA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EB033-5E05-48E6-A13A-62363D7D3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1E974-4107-46F2-812D-3844FF0E8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57D95-6022-4732-861C-33B41A63F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1418C-9A5A-46A9-8173-FEEA58687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C7780-C238-4D44-81FD-0955B7C9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060FC-D3DF-44E3-9F73-A8861B82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79E30-BC29-450B-9FA5-3AF584C8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9B8DA-3F1A-42A7-B878-895A77839E2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EDF7F-F226-46FE-82AC-46BF64471C3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736640"/>
            <a:ext cx="91440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Garamond"/>
              </a:rPr>
              <a:t>ОСТРАЯ АБДОМИНАЛЬНАЯ БОЛЬ ПРИ ХИРУРГИЧЕСКИХ ЗАБОЛЕВАНИЯХ ОРГАНОВ БРЮШНОЙ ПОЛОСТИ: ДИАГНОЗ, АЛГОРИТМ МЕДИЦИНСКОЙ ПОМОЩИ НА ДОГОСПИТАЛЬНОМ ЭТАПЕ.</a:t>
            </a: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Garamond"/>
              </a:rPr>
              <a:t>Особенности основных вариантов рвот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Рвота центрального происхождения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Характерны внезапность появления (часто без предшествующей тошноты), продолжительность и частые рецидивы, а также отсутствие облегчения после рвоты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Гематогенно-токсическая рвот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Характерны предшествующая тошнота, рецидивы рвоты; иногда возможна и нeyкpoтимaя pвoтa: вначале рвота может быть обильной, затем лишь с небольшим количеством жидкости, окрашенной желчью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Желудочная рвот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вота обычно возникает после предшествующей тошноты, нередко и болей в животе. Эта рвота возникает чаще в разгар пищеварения (через 30 мин — 1,5 ч после еды), приносит облегчение</a:t>
            </a:r>
            <a:br>
              <a:rPr sz="24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Стенотическая рвота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озникает периодически 1 раз в 2—3 дня, иногда и каждый день. Рвотные массы имеют характерный неприятный бродильный или гнилостный запах, нередко содержат остатки пищи. Больной обычно чувствует значительное облегчение: уменьшение или исчезновение тошноты и болей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Каловая (фекалоидная) рвота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собенность рвоты — вначале отмечается рвота пищей, затем желчью, а позднее и калом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ищеводная рвота, содержимое которой — разбухшая, но непереваренная пища, не содержащая соляной кислоты и ферментов. Обычно тошнота не предшествует появлению пищеводной рвот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Garamond"/>
              </a:rPr>
              <a:t>Особенности основных вариантов рвот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Цели фармакотерапии острой рвот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оррекция метаболических нарушений и водно-солевого обмена,  которую необходимо начинать на догоспитальном этапе (см. соответствующие разделы руководства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6040" indent="-536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ля устранения тошноты и рвоты до установления диагноза и проведения этиологического лечения часто требуется назначение симптоматической терапи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9"/>
          <p:cNvSpPr/>
          <p:nvPr/>
        </p:nvSpPr>
        <p:spPr>
          <a:xfrm>
            <a:off x="755640" y="0"/>
            <a:ext cx="7843680" cy="71928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Острая тошнота и рво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Rectangle 30"/>
          <p:cNvSpPr/>
          <p:nvPr/>
        </p:nvSpPr>
        <p:spPr>
          <a:xfrm>
            <a:off x="826920" y="692280"/>
            <a:ext cx="280836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Легкое течени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Rectangle 31"/>
          <p:cNvSpPr/>
          <p:nvPr/>
        </p:nvSpPr>
        <p:spPr>
          <a:xfrm>
            <a:off x="5724360" y="692280"/>
            <a:ext cx="280836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Тяжелое течени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Rectangle 32"/>
          <p:cNvSpPr/>
          <p:nvPr/>
        </p:nvSpPr>
        <p:spPr>
          <a:xfrm>
            <a:off x="0" y="1557360"/>
            <a:ext cx="3024360" cy="792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Симптоматическа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терапия: церукал, мотилиум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хлорпромазин, ондансетрон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Rectangle 33"/>
          <p:cNvSpPr/>
          <p:nvPr/>
        </p:nvSpPr>
        <p:spPr>
          <a:xfrm>
            <a:off x="0" y="2565360"/>
            <a:ext cx="2124000" cy="1152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Отсутствие эффекта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или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отрицательна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динамика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" name="Rectangle 34"/>
          <p:cNvSpPr/>
          <p:nvPr/>
        </p:nvSpPr>
        <p:spPr>
          <a:xfrm>
            <a:off x="6875640" y="1628640"/>
            <a:ext cx="2268360" cy="1366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Коррекция системных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метаболических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нарушений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растворы солей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и глюкозы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Rectangle 35"/>
          <p:cNvSpPr/>
          <p:nvPr/>
        </p:nvSpPr>
        <p:spPr>
          <a:xfrm>
            <a:off x="2411280" y="2492280"/>
            <a:ext cx="432144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Госпитализаци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(терапия после верификации диагноза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Rectangle 37"/>
          <p:cNvSpPr/>
          <p:nvPr/>
        </p:nvSpPr>
        <p:spPr>
          <a:xfrm>
            <a:off x="0" y="3933720"/>
            <a:ext cx="2700360" cy="1366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Garamond"/>
              </a:rPr>
              <a:t>Инфекционный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Garamond"/>
              </a:rPr>
              <a:t>стационар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вирусный гепатит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эпидемические заболевания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пищевая токсикоинфекция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" name="Rectangle 38"/>
          <p:cNvSpPr/>
          <p:nvPr/>
        </p:nvSpPr>
        <p:spPr>
          <a:xfrm>
            <a:off x="539640" y="5516640"/>
            <a:ext cx="2448000" cy="1341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Garamond"/>
              </a:rPr>
              <a:t>Токсикологический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Garamond"/>
              </a:rPr>
              <a:t>cтационар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лекарственные и другие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экзогенные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Garamond"/>
              </a:rPr>
              <a:t>интоксикаци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7" name="Rectangle 39"/>
          <p:cNvSpPr/>
          <p:nvPr/>
        </p:nvSpPr>
        <p:spPr>
          <a:xfrm>
            <a:off x="3203640" y="3429000"/>
            <a:ext cx="2448000" cy="3168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Garamond"/>
              </a:rPr>
              <a:t>Терапевтический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Garamond"/>
              </a:rPr>
              <a:t>стационар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заболевания желудка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лучевая болезнь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метаболические р-ва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и интоксикация при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внутренних болезнях: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кетоацидоз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почечная недостаточность,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застойная НК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инфаркт миокарда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о. пневмония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Rectangle 40"/>
          <p:cNvSpPr/>
          <p:nvPr/>
        </p:nvSpPr>
        <p:spPr>
          <a:xfrm>
            <a:off x="5796000" y="5229360"/>
            <a:ext cx="2449440" cy="1366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Garamond"/>
              </a:rPr>
              <a:t>Нейротравматология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острая черепно-мозгова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травма, инфаркт мозг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Rectangle 41"/>
          <p:cNvSpPr/>
          <p:nvPr/>
        </p:nvSpPr>
        <p:spPr>
          <a:xfrm>
            <a:off x="6227640" y="3716280"/>
            <a:ext cx="2916360" cy="1366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Garamond"/>
              </a:rPr>
              <a:t>Хирургический стационар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острый живот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эметогенные травматически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осложнени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0" name="Line 42"/>
          <p:cNvSpPr/>
          <p:nvPr/>
        </p:nvSpPr>
        <p:spPr>
          <a:xfrm>
            <a:off x="1763640" y="1341360"/>
            <a:ext cx="0" cy="21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Line 43"/>
          <p:cNvSpPr/>
          <p:nvPr/>
        </p:nvSpPr>
        <p:spPr>
          <a:xfrm>
            <a:off x="6012000" y="1341360"/>
            <a:ext cx="792000" cy="64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Line 44"/>
          <p:cNvSpPr/>
          <p:nvPr/>
        </p:nvSpPr>
        <p:spPr>
          <a:xfrm flipH="1">
            <a:off x="5292720" y="1341360"/>
            <a:ext cx="719280" cy="1150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Line 45"/>
          <p:cNvSpPr/>
          <p:nvPr/>
        </p:nvSpPr>
        <p:spPr>
          <a:xfrm flipH="1">
            <a:off x="2987280" y="1341360"/>
            <a:ext cx="3024360" cy="64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Line 46"/>
          <p:cNvSpPr/>
          <p:nvPr/>
        </p:nvSpPr>
        <p:spPr>
          <a:xfrm>
            <a:off x="2124000" y="2781360"/>
            <a:ext cx="287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Line 47"/>
          <p:cNvSpPr/>
          <p:nvPr/>
        </p:nvSpPr>
        <p:spPr>
          <a:xfrm>
            <a:off x="971640" y="2349360"/>
            <a:ext cx="0" cy="21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Line 48"/>
          <p:cNvSpPr/>
          <p:nvPr/>
        </p:nvSpPr>
        <p:spPr>
          <a:xfrm flipH="1">
            <a:off x="6732720" y="2781360"/>
            <a:ext cx="71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Line 51"/>
          <p:cNvSpPr/>
          <p:nvPr/>
        </p:nvSpPr>
        <p:spPr>
          <a:xfrm>
            <a:off x="6300720" y="3068640"/>
            <a:ext cx="719280" cy="64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8" name="Line 52"/>
          <p:cNvSpPr/>
          <p:nvPr/>
        </p:nvSpPr>
        <p:spPr>
          <a:xfrm>
            <a:off x="4572000" y="306864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Line 53"/>
          <p:cNvSpPr/>
          <p:nvPr/>
        </p:nvSpPr>
        <p:spPr>
          <a:xfrm>
            <a:off x="5867280" y="3068640"/>
            <a:ext cx="144720" cy="2160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Line 54"/>
          <p:cNvSpPr/>
          <p:nvPr/>
        </p:nvSpPr>
        <p:spPr>
          <a:xfrm flipH="1">
            <a:off x="2339640" y="3068640"/>
            <a:ext cx="360360" cy="865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1" name="Line 55"/>
          <p:cNvSpPr/>
          <p:nvPr/>
        </p:nvSpPr>
        <p:spPr>
          <a:xfrm flipH="1">
            <a:off x="2771280" y="3068640"/>
            <a:ext cx="287640" cy="2448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Основные причины острой диаре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Инфекционные заболевания желудочно-кишечного тракта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вирусной этиологи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бактериальной этиологи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протозойной этиологи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диарея путешественник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Неспецифические воспалительные заболевания кишечника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болезнь Крона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неспецифический язвенный колит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Ишемический колит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тромбоз артерий толстой кишк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облитерирующий атеросклероз артерий толстой кишк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Лекарственная терапия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лекарственная интоксикация при приеме различного рода фармпрепаратов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передозировка слабительных средств различного механизма действия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псевдомембранозный колит при антибактериальной терапи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4"/>
          <p:cNvSpPr/>
          <p:nvPr/>
        </p:nvSpPr>
        <p:spPr>
          <a:xfrm>
            <a:off x="2700360" y="404640"/>
            <a:ext cx="3529080" cy="86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Возбудители ОК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0" y="2276640"/>
            <a:ext cx="3527280" cy="21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БАКТЕРИИ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Сальмонеллы, Шигеллы, Иерсинии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Лептоспиры, Микобактерии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Гонококки,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Стафилококки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Кишечная палочка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Garamond"/>
              </a:rPr>
              <a:t>Клостридии, Кампилобактер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Rectangle 6"/>
          <p:cNvSpPr/>
          <p:nvPr/>
        </p:nvSpPr>
        <p:spPr>
          <a:xfrm>
            <a:off x="5688000" y="2276640"/>
            <a:ext cx="3456000" cy="2087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ВИРУСЫ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Ротавирусы, Аденовирусы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Астровирусы, Калицивирусы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вирусы Норфолк и Бреда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простого герпеса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Цитомегаловирус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вирус гепатита 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3059280" y="4797360"/>
            <a:ext cx="2808000" cy="1800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ПРОСТЕЙШИЕ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Дизентерийная амеба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Лямбли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Криптоспоридия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Изоспориди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AutoShape 8"/>
          <p:cNvSpPr/>
          <p:nvPr/>
        </p:nvSpPr>
        <p:spPr>
          <a:xfrm>
            <a:off x="2843280" y="134136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AutoShape 9"/>
          <p:cNvSpPr/>
          <p:nvPr/>
        </p:nvSpPr>
        <p:spPr>
          <a:xfrm>
            <a:off x="4067280" y="1268280"/>
            <a:ext cx="485640" cy="3529080"/>
          </a:xfrm>
          <a:prstGeom prst="downArrow">
            <a:avLst>
              <a:gd name="adj1" fmla="val 50000"/>
              <a:gd name="adj2" fmla="val 18167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AutoShape 10"/>
          <p:cNvSpPr/>
          <p:nvPr/>
        </p:nvSpPr>
        <p:spPr>
          <a:xfrm>
            <a:off x="5796000" y="12682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Типичные клинические проявления ОКИ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рофузная диаре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Обезвожива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Интоксикац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Боль в живот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Лихорад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Примесь крови в испражнения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Водянистая ОД без клинически значимой дегидратации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86" name="Object 4"/>
          <p:cNvGraphicFramePr/>
          <p:nvPr/>
        </p:nvGraphicFramePr>
        <p:xfrm>
          <a:off x="0" y="1413000"/>
          <a:ext cx="9144000" cy="544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13000"/>
                    <a:ext cx="9144000" cy="54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Rectangle 6"/>
          <p:cNvSpPr/>
          <p:nvPr/>
        </p:nvSpPr>
        <p:spPr>
          <a:xfrm>
            <a:off x="0" y="1916280"/>
            <a:ext cx="2268360" cy="2520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ibrio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parahemoliticu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- Aeromonas spp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- Salmonella spp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- E.coli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-Shigella sonnei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-Shigella boydii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-Yersinia spp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AutoShape 7"/>
          <p:cNvSpPr/>
          <p:nvPr/>
        </p:nvSpPr>
        <p:spPr>
          <a:xfrm>
            <a:off x="2268360" y="2781360"/>
            <a:ext cx="1079640" cy="576360"/>
          </a:xfrm>
          <a:prstGeom prst="rightArrow">
            <a:avLst>
              <a:gd name="adj1" fmla="val 50000"/>
              <a:gd name="adj2" fmla="val 46830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Кровавая ОД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93" name="Object 4"/>
          <p:cNvGraphicFramePr/>
          <p:nvPr/>
        </p:nvGraphicFramePr>
        <p:xfrm>
          <a:off x="0" y="1413000"/>
          <a:ext cx="9144000" cy="551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13000"/>
                    <a:ext cx="9144000" cy="55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Rectangle 6"/>
          <p:cNvSpPr/>
          <p:nvPr/>
        </p:nvSpPr>
        <p:spPr>
          <a:xfrm>
            <a:off x="0" y="1413000"/>
            <a:ext cx="2124000" cy="4752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almonell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enteritidi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- Campilobacte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jejuni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- Yersinia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enterocolitica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-Clostridium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difficil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-Salmonella spp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-E.coli (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энтеро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-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еморрагическая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higella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dysenteriaei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Shigella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flexneri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Entamoeba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hystolitic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AutoShape 7"/>
          <p:cNvSpPr/>
          <p:nvPr/>
        </p:nvSpPr>
        <p:spPr>
          <a:xfrm>
            <a:off x="2124000" y="2852640"/>
            <a:ext cx="1079640" cy="576360"/>
          </a:xfrm>
          <a:prstGeom prst="rightArrow">
            <a:avLst>
              <a:gd name="adj1" fmla="val 50000"/>
              <a:gd name="adj2" fmla="val 46830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Водянистая ОД с клинически значимой дегидратацией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99" name="Object 4"/>
          <p:cNvGraphicFramePr/>
          <p:nvPr/>
        </p:nvGraphicFramePr>
        <p:xfrm>
          <a:off x="0" y="1295280"/>
          <a:ext cx="9144000" cy="552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9144000" cy="55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Rectangle 6"/>
          <p:cNvSpPr/>
          <p:nvPr/>
        </p:nvSpPr>
        <p:spPr>
          <a:xfrm>
            <a:off x="0" y="1700280"/>
            <a:ext cx="2411280" cy="2736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ibrio cholera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O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- Vibrio O139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- E.coli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- Aeromonas spp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ibrio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parahemoliticu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- Salmonella spp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Yersinia spp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2" name="AutoShape 7"/>
          <p:cNvSpPr/>
          <p:nvPr/>
        </p:nvSpPr>
        <p:spPr>
          <a:xfrm>
            <a:off x="2411280" y="2852640"/>
            <a:ext cx="792360" cy="576360"/>
          </a:xfrm>
          <a:prstGeom prst="rightArrow">
            <a:avLst>
              <a:gd name="adj1" fmla="val 50000"/>
              <a:gd name="adj2" fmla="val 34369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труктура ОХЗ органов брюшной полост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57200" y="1600200"/>
          <a:ext cx="8229600" cy="4205160"/>
        </p:xfrm>
        <a:graphic>
          <a:graphicData uri="http://schemas.openxmlformats.org/drawingml/2006/table">
            <a:tbl>
              <a:tblPr/>
              <a:tblGrid>
                <a:gridCol w="7034040"/>
                <a:gridCol w="11955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SimSun"/>
                        </a:rPr>
                        <a:t>Нозологическая фор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SimSun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000080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Аппендици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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28,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Холецисти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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29,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Панкреати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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18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Ущемленная грыж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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6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1573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Желудочно-кишечное кровотеч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(только язвенной этиологии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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7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Клинические симптомы и лечение ОД, протекающей с выраженной тошнотой и рвотой.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0" y="134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306" name="Object 4"/>
          <p:cNvGraphicFramePr/>
          <p:nvPr/>
        </p:nvGraphicFramePr>
        <p:xfrm>
          <a:off x="0" y="1413000"/>
          <a:ext cx="9144000" cy="541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13000"/>
                    <a:ext cx="9144000" cy="54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Rectangle 6"/>
          <p:cNvSpPr/>
          <p:nvPr/>
        </p:nvSpPr>
        <p:spPr>
          <a:xfrm>
            <a:off x="250920" y="1557360"/>
            <a:ext cx="3816360" cy="19429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Garamond"/>
              </a:rPr>
              <a:t>ВИРУСНЫЙ ГАСТРОЕНТЕРИТ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Garamond"/>
              </a:rPr>
              <a:t>вирус </a:t>
            </a: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Norwal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Garamond"/>
              </a:rPr>
              <a:t>астровирусы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Garamond"/>
              </a:rPr>
              <a:t>ротавирусы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Garamond"/>
              </a:rPr>
              <a:t>энтеровирусы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9" name="Rectangle 7"/>
          <p:cNvSpPr/>
          <p:nvPr/>
        </p:nvSpPr>
        <p:spPr>
          <a:xfrm>
            <a:off x="4572000" y="1628640"/>
            <a:ext cx="4248000" cy="187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Garamond"/>
              </a:rPr>
              <a:t>ОТРАВЛЕНИЕ БАКТЕРИАЛЬНЫМ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Garamond"/>
              </a:rPr>
              <a:t>ТОКСИНОМ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S</a:t>
            </a:r>
            <a:r>
              <a:rPr b="0" lang="ru-RU" sz="1800" spc="-1" strike="noStrike">
                <a:solidFill>
                  <a:srgbClr val="ffff00"/>
                </a:solidFill>
                <a:latin typeface="Garamond"/>
              </a:rPr>
              <a:t>. </a:t>
            </a: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aureu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B. cereu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Clostridium perfringen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оказания к госпиьализации при ОД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КРОВАВАЯ ДИАРЕ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ВЫРАЖЕННАЯ И НЕКУПИРУЮЩАЯСЯ ДЕГИДРАТАЦ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ТЯЖЕЛОЕ СОСТОЯНИЕ БОЛЬНОГО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ОД У ЛИЦ КРИТИЧЕСКОГО ВОЗРАСТ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ОД У ЛИЦ С ТЯЖЕЛЫМИ ФОНОВЫМИ ЗАБОЛЕВАНИЯМ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ПОДОЗРЕНИЕ НА ОХЗ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ПОДОЗРЕНИЕ НА ОД НЕИНФЕКЦИОННОГО ГЕНЕЗ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ЭПИДЕМИОЛОГИЧЕСКАЯ ОПАСНОСТ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Клинические проявления обезвоживания при ОКИ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0" y="1125360"/>
          <a:ext cx="9144000" cy="5504040"/>
        </p:xfrm>
        <a:graphic>
          <a:graphicData uri="http://schemas.openxmlformats.org/drawingml/2006/table">
            <a:tbl>
              <a:tblPr/>
              <a:tblGrid>
                <a:gridCol w="3070080"/>
                <a:gridCol w="6073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Степень дегидрат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Arial Black"/>
                          <a:ea typeface="Times New Roman"/>
                        </a:rPr>
                        <a:t>Клинические прояв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теря 1-3% от массы тела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щественных физиологически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арушений.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теря 4-6% массы тела: жажда, мышечная слабость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ратковременные судороги икроножных мышц, осипл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голоса. Температура тела - нормальная.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I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теря 7-9% массы тела: сухость кожи и слизистых оболочек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заострение черт лица, афония, артериальная гипотензия,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ахикардия, тонические судороги отдельных групп мышц,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распространенный цианоз, олигурия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I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теря 10% и более массы тела в течение 24 часов: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ыраженная артериальная гипотензия, анурия, развити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гиповолемического шока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4" name=""/>
          <p:cNvGraphicFramePr/>
          <p:nvPr/>
        </p:nvGraphicFramePr>
        <p:xfrm>
          <a:off x="0" y="0"/>
          <a:ext cx="9144000" cy="6541920"/>
        </p:xfrm>
        <a:graphic>
          <a:graphicData uri="http://schemas.openxmlformats.org/drawingml/2006/table">
            <a:tbl>
              <a:tblPr/>
              <a:tblGrid>
                <a:gridCol w="2411280"/>
                <a:gridCol w="2318040"/>
                <a:gridCol w="2290680"/>
                <a:gridCol w="2124000"/>
              </a:tblGrid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 степени (легкая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 степени (средней тяжести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 степени (тяжелое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Общее состоя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удовлетворительно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Средней тяже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Тяжелое, шо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ЧСС лежа (мин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&lt; 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&lt; 1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&gt; 1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СА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(</a:t>
                      </a: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мм.рт.ст</a:t>
                      </a: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&gt; 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&gt; 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&lt; 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остуральная гипотензия и тахикард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выраже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выраже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ЦВ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(см.вод.ст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5 - 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1 - 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&lt; 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арушение созн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Тревога, испу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Возбуждение,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деориентация, ко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Диурез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(мл/сутки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&gt; 15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&lt; 1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&lt; 3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ОЦК потеря от нормы (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&lt; 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&lt; 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&gt; 3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редполагаемая потеря в м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5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1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&gt; 1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5e5ff"/>
                </a:solidFill>
                <a:latin typeface="Garamond"/>
              </a:rPr>
              <a:t>К числу значимых факторов риска рецидива ВК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цирроз печен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едавнее хирургическое вмешательств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езистентную к лечению гипотонию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воту с примесью кров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изнаки неустойчивого гемостаза по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re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змер язвы и ее локализацию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Вариант комбинированного (антихеликобактерного лечения язвенной болезни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8" name="Rectangle 4"/>
          <p:cNvSpPr/>
          <p:nvPr/>
        </p:nvSpPr>
        <p:spPr>
          <a:xfrm>
            <a:off x="755640" y="2060640"/>
            <a:ext cx="7704000" cy="2089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АНТИСЕКРЕТОРНЫЕ ПРЕПАРАТЫ: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 ингибиторы протонной помпы (предпочтительно)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антагонисты Н2-рецепторов к гистамину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Целесообразна инфузионная терапия на старте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755640" y="4149720"/>
            <a:ext cx="7704000" cy="20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Garamond"/>
              </a:rPr>
              <a:t>АНТИБАКТЕРИАЛЬНЫЕ ПРЕПАРАТЫ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00"/>
                </a:solidFill>
                <a:latin typeface="Garamond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ларитромицин 1 г/сут в течение 7 дней пероральн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- амоксициллин 1 г/сут в течение 7 дней перорально</a:t>
            </a:r>
            <a:r>
              <a:rPr b="0" lang="ru-RU" sz="24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Garamond"/>
              </a:rPr>
              <a:t>Основными точками приложения фармакотерапии при ВК являются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табилизации состояния пациента, восстановления ОЦК и коррекция нарушений гемостаза до экстренной эндоскопии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отиворецидивная терапия, после выявления источника кровотечения и успешного гемостаза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этио-патогенетическая терапия перед отсроченной операцией у больных с неконтролируемым ВК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офилактика ВК из стрессовых язв у больных, госпитализированных в остром периоде критического заболевания и  находящихся на ИВЛ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офилактика эрозивно-язвенных повреждений гастродуоденальной слизистой у госпитализированных больных, получающих терапию стероидами или НПВП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Garamond"/>
              </a:rPr>
              <a:t>Оказание медицинской помощи при ОХЗ на догоспитальном этапе заключается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ценке симптомов заболевания и квалификации пациента как больного с ОХЗ органов брюшной полости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выявлении и оценке угрожающих жизни клинических синдромов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офессиональном поддержании жизнедеятельности организма больного в течение всего времени, необходимого для транспортировки пациента в стационар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ак можно более спешной и целенаправленной транспортировке пациента в стационар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Garamond"/>
              </a:rPr>
              <a:t>Основные синдромы, характерные для ОХЗ органов брюшной полости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страя боль в брюшной полост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ошнота и рвота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иарея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желтуха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ровотечение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щие синдромы: коллапс, интоксикация, дегидратация, лихорадк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3165480" y="1455840"/>
            <a:ext cx="2989080" cy="877680"/>
          </a:xfrm>
          <a:prstGeom prst="rect">
            <a:avLst/>
          </a:prstGeom>
          <a:solidFill>
            <a:srgbClr val="ffff00">
              <a:alpha val="50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imes New Roman"/>
              </a:rPr>
              <a:t>Воспаление париетальной брюшины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5148360" y="189000"/>
            <a:ext cx="3456000" cy="1317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бактериальное заражение: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- перфорация аппендикс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- воспаление органов таз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- перфорация толстой   кишк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539640" y="189000"/>
            <a:ext cx="3164040" cy="1317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химическое раздражение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- прободная язв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- панкреонекроз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- перфорация тонкой кишк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527040" y="2565360"/>
            <a:ext cx="2638440" cy="938160"/>
          </a:xfrm>
          <a:prstGeom prst="rect">
            <a:avLst/>
          </a:prstGeom>
          <a:solidFill>
            <a:srgbClr val="ffff00">
              <a:alpha val="50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Обструкция полости внутреннего органа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0" y="3357720"/>
            <a:ext cx="2843280" cy="1439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Garamond"/>
              </a:rPr>
              <a:t>обструкция тонкой или толстой кишки, желчевыводящих путей, мочеточника, мочевого пузыр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5978520" y="2771640"/>
            <a:ext cx="2813040" cy="774720"/>
          </a:xfrm>
          <a:prstGeom prst="rect">
            <a:avLst/>
          </a:prstGeom>
          <a:solidFill>
            <a:srgbClr val="ffff00">
              <a:alpha val="50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Сосудистые нарушения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Rectangle 11"/>
          <p:cNvSpPr/>
          <p:nvPr/>
        </p:nvSpPr>
        <p:spPr>
          <a:xfrm>
            <a:off x="6330960" y="3357720"/>
            <a:ext cx="2813040" cy="1390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- эмболия, разрыв сосуд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- ишемия при сдавливании/перекруте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- серповидно-клеточная анеми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Oval 12"/>
          <p:cNvSpPr/>
          <p:nvPr/>
        </p:nvSpPr>
        <p:spPr>
          <a:xfrm>
            <a:off x="3341520" y="3063960"/>
            <a:ext cx="2460960" cy="1463760"/>
          </a:xfrm>
          <a:prstGeom prst="ellipse">
            <a:avLst/>
          </a:pr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Боль, возникающая в брюшной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13"/>
          <p:cNvSpPr/>
          <p:nvPr/>
        </p:nvSpPr>
        <p:spPr>
          <a:xfrm>
            <a:off x="1476360" y="5157720"/>
            <a:ext cx="2813040" cy="1317600"/>
          </a:xfrm>
          <a:prstGeom prst="rect">
            <a:avLst/>
          </a:prstGeom>
          <a:solidFill>
            <a:srgbClr val="ffff00">
              <a:alpha val="50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Заболевание передней брюшной стенки</a:t>
            </a:r>
            <a:r>
              <a:rPr b="0" lang="he-IL" sz="1600" spc="-1" strike="noStrike">
                <a:solidFill>
                  <a:srgbClr val="003399"/>
                </a:solidFill>
                <a:latin typeface="Times New Roman"/>
                <a:cs typeface="Times New Roman"/>
              </a:rPr>
              <a:t>׃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деформация корня брыжейки, патология мышц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Rectangle 14"/>
          <p:cNvSpPr/>
          <p:nvPr/>
        </p:nvSpPr>
        <p:spPr>
          <a:xfrm>
            <a:off x="4924440" y="5113440"/>
            <a:ext cx="3247920" cy="1214280"/>
          </a:xfrm>
          <a:prstGeom prst="rect">
            <a:avLst/>
          </a:prstGeom>
          <a:solidFill>
            <a:srgbClr val="ffff00">
              <a:alpha val="50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Garamond"/>
              </a:rPr>
              <a:t>Растяжение капсулы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Garamond"/>
              </a:rPr>
              <a:t>внутреннего органа: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Garamond"/>
              </a:rPr>
              <a:t>печени, селезенки,  почек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Line 15"/>
          <p:cNvSpPr/>
          <p:nvPr/>
        </p:nvSpPr>
        <p:spPr>
          <a:xfrm flipV="1">
            <a:off x="4572000" y="2479320"/>
            <a:ext cx="0" cy="4381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Line 16"/>
          <p:cNvSpPr/>
          <p:nvPr/>
        </p:nvSpPr>
        <p:spPr>
          <a:xfrm flipV="1">
            <a:off x="5451480" y="2917440"/>
            <a:ext cx="351000" cy="2919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Line 17"/>
          <p:cNvSpPr/>
          <p:nvPr/>
        </p:nvSpPr>
        <p:spPr>
          <a:xfrm flipH="1" flipV="1">
            <a:off x="3341160" y="2917440"/>
            <a:ext cx="351000" cy="2444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Line 18"/>
          <p:cNvSpPr/>
          <p:nvPr/>
        </p:nvSpPr>
        <p:spPr>
          <a:xfrm flipH="1">
            <a:off x="3516480" y="4525920"/>
            <a:ext cx="352080" cy="439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5099040" y="4525920"/>
            <a:ext cx="352440" cy="3920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Rectangle 20"/>
          <p:cNvSpPr/>
          <p:nvPr/>
        </p:nvSpPr>
        <p:spPr>
          <a:xfrm>
            <a:off x="-749160" y="6490440"/>
            <a:ext cx="103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аболевания органов живота, являющиеся причиной острой абдоминальной бол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920" y="-243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Garamond"/>
              </a:rPr>
              <a:t>Начало острой абдоминальной бол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39640" y="907920"/>
          <a:ext cx="8229600" cy="5592960"/>
        </p:xfrm>
        <a:graphic>
          <a:graphicData uri="http://schemas.openxmlformats.org/drawingml/2006/table">
            <a:tbl>
              <a:tblPr/>
              <a:tblGrid>
                <a:gridCol w="2819520"/>
                <a:gridCol w="5410080"/>
              </a:tblGrid>
              <a:tr h="18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незапное появл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ерфорации внутреннего органа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разрыва аневризмы аорты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ерекрута яичника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понтанного пневмоторакса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еструкции межпозвонкового диск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4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степенное начал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строго холецистита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аппендицита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ивертикулита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епроходимости тонкой кишки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строй мезентериальной ишемии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строй задержки моч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едленное начал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злокачественных новообразований, например,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и развитии кишечной непроходимости пр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бтурирующей опухоли толстой кишки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3"/>
          <p:cNvSpPr/>
          <p:nvPr/>
        </p:nvSpPr>
        <p:spPr>
          <a:xfrm>
            <a:off x="6310440" y="260280"/>
            <a:ext cx="2833560" cy="23036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начало аппендицит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тонкокишечная обструкци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острый гастроэнтерит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мезентериальный тромбоз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пупочная грыж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аневризма брюшной аорты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дивертикулит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лимфаденит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Rectangle 14"/>
          <p:cNvSpPr/>
          <p:nvPr/>
        </p:nvSpPr>
        <p:spPr>
          <a:xfrm>
            <a:off x="250920" y="260280"/>
            <a:ext cx="2808360" cy="35290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пептическая язв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холецистит, холангит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панкреатит, гастростаз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тонкокишечная обструкци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поддиафрагмальный абсцесс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гепатит, абсцесс печен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плеврит, пневмоторакс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нижнедолевая пневмони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инфаркт миокарда и легкого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перикардит, почечная колик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травма селезенк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начало аппендицит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Rectangle 15"/>
          <p:cNvSpPr/>
          <p:nvPr/>
        </p:nvSpPr>
        <p:spPr>
          <a:xfrm>
            <a:off x="0" y="4365720"/>
            <a:ext cx="3276720" cy="2492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толстокишечная обструкци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аппендицит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дивертикулит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гнойный пельвиоперитонит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цистит, сальпингит, эндометриоз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внематочная беременность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паховые грыж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почечная колик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перекрут кисты яичник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Line 16"/>
          <p:cNvSpPr/>
          <p:nvPr/>
        </p:nvSpPr>
        <p:spPr>
          <a:xfrm>
            <a:off x="3132000" y="836640"/>
            <a:ext cx="1081080" cy="1225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0" name="Group 18"/>
          <p:cNvGrpSpPr/>
          <p:nvPr/>
        </p:nvGrpSpPr>
        <p:grpSpPr>
          <a:xfrm>
            <a:off x="3708360" y="1628640"/>
            <a:ext cx="2643120" cy="3431880"/>
            <a:chOff x="3708360" y="1628640"/>
            <a:chExt cx="2643120" cy="3431880"/>
          </a:xfrm>
        </p:grpSpPr>
        <p:sp>
          <p:nvSpPr>
            <p:cNvPr id="131" name="AutoShape 17"/>
            <p:cNvSpPr/>
            <p:nvPr/>
          </p:nvSpPr>
          <p:spPr>
            <a:xfrm>
              <a:off x="3708360" y="1628640"/>
              <a:ext cx="2643120" cy="34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2" name="Freeform 19"/>
            <p:cNvSpPr/>
            <p:nvPr/>
          </p:nvSpPr>
          <p:spPr>
            <a:xfrm>
              <a:off x="3781440" y="1660320"/>
              <a:ext cx="2443320" cy="3351240"/>
            </a:xfrm>
            <a:prstGeom prst="pie">
              <a:avLst/>
            </a:prstGeom>
            <a:solidFill>
              <a:srgbClr val="d2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3" name="Freeform 20"/>
            <p:cNvSpPr/>
            <p:nvPr/>
          </p:nvSpPr>
          <p:spPr>
            <a:xfrm>
              <a:off x="4206960" y="2946240"/>
              <a:ext cx="1649160" cy="1842840"/>
            </a:xfrm>
            <a:prstGeom prst="pie">
              <a:avLst/>
            </a:prstGeom>
            <a:solidFill>
              <a:srgbClr val="ffe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4" name="Freeform 21"/>
            <p:cNvSpPr/>
            <p:nvPr/>
          </p:nvSpPr>
          <p:spPr>
            <a:xfrm>
              <a:off x="5880240" y="2544480"/>
              <a:ext cx="222120" cy="476280"/>
            </a:xfrm>
            <a:prstGeom prst="pie">
              <a:avLst/>
            </a:prstGeom>
            <a:solidFill>
              <a:srgbClr val="ad9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5" name="Freeform 22"/>
            <p:cNvSpPr/>
            <p:nvPr/>
          </p:nvSpPr>
          <p:spPr>
            <a:xfrm>
              <a:off x="4478400" y="3027240"/>
              <a:ext cx="181080" cy="149040"/>
            </a:xfrm>
            <a:prstGeom prst="pie">
              <a:avLst/>
            </a:prstGeom>
            <a:solidFill>
              <a:srgbClr val="cef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6" name="Freeform 23"/>
            <p:cNvSpPr/>
            <p:nvPr/>
          </p:nvSpPr>
          <p:spPr>
            <a:xfrm>
              <a:off x="4468680" y="3076200"/>
              <a:ext cx="133560" cy="100080"/>
            </a:xfrm>
            <a:prstGeom prst="pie">
              <a:avLst/>
            </a:prstGeom>
            <a:solidFill>
              <a:srgbClr val="98b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7" name="Freeform 24"/>
            <p:cNvSpPr/>
            <p:nvPr/>
          </p:nvSpPr>
          <p:spPr>
            <a:xfrm>
              <a:off x="4673520" y="3044520"/>
              <a:ext cx="403200" cy="334800"/>
            </a:xfrm>
            <a:prstGeom prst="pie">
              <a:avLst/>
            </a:prstGeom>
            <a:solidFill>
              <a:srgbClr val="a2a2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8" name="Freeform 25"/>
            <p:cNvSpPr/>
            <p:nvPr/>
          </p:nvSpPr>
          <p:spPr>
            <a:xfrm>
              <a:off x="4797360" y="4552560"/>
              <a:ext cx="417600" cy="466920"/>
            </a:xfrm>
            <a:prstGeom prst="pie">
              <a:avLst/>
            </a:prstGeom>
            <a:solidFill>
              <a:srgbClr val="ff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9" name="Freeform 26"/>
            <p:cNvSpPr/>
            <p:nvPr/>
          </p:nvSpPr>
          <p:spPr>
            <a:xfrm>
              <a:off x="4411800" y="4463640"/>
              <a:ext cx="66600" cy="276480"/>
            </a:xfrm>
            <a:prstGeom prst="pie">
              <a:avLst/>
            </a:prstGeom>
            <a:solidFill>
              <a:srgbClr val="ff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0" name="Freeform 27"/>
            <p:cNvSpPr/>
            <p:nvPr/>
          </p:nvSpPr>
          <p:spPr>
            <a:xfrm>
              <a:off x="3960720" y="3053880"/>
              <a:ext cx="2116080" cy="1562400"/>
            </a:xfrm>
            <a:prstGeom prst="pie">
              <a:avLst/>
            </a:prstGeom>
            <a:solidFill>
              <a:srgbClr val="ff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1" name="Freeform 28"/>
            <p:cNvSpPr/>
            <p:nvPr/>
          </p:nvSpPr>
          <p:spPr>
            <a:xfrm>
              <a:off x="4722840" y="1674360"/>
              <a:ext cx="1263600" cy="1632240"/>
            </a:xfrm>
            <a:prstGeom prst="pie">
              <a:avLst/>
            </a:prstGeom>
            <a:solidFill>
              <a:srgbClr val="ffe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2" name="Freeform 29"/>
            <p:cNvSpPr/>
            <p:nvPr/>
          </p:nvSpPr>
          <p:spPr>
            <a:xfrm>
              <a:off x="5280120" y="2626920"/>
              <a:ext cx="237960" cy="29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3" name="Freeform 30"/>
            <p:cNvSpPr/>
            <p:nvPr/>
          </p:nvSpPr>
          <p:spPr>
            <a:xfrm>
              <a:off x="3919680" y="2192040"/>
              <a:ext cx="1820880" cy="1123920"/>
            </a:xfrm>
            <a:prstGeom prst="pie">
              <a:avLst/>
            </a:prstGeom>
            <a:solidFill>
              <a:srgbClr val="ad9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4" name="Freeform 31"/>
            <p:cNvSpPr/>
            <p:nvPr/>
          </p:nvSpPr>
          <p:spPr>
            <a:xfrm>
              <a:off x="4230720" y="2463480"/>
              <a:ext cx="344520" cy="498600"/>
            </a:xfrm>
            <a:prstGeom prst="pie">
              <a:avLst/>
            </a:prstGeom>
            <a:solidFill>
              <a:srgbClr val="ffe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5" name="Freeform 32"/>
            <p:cNvSpPr/>
            <p:nvPr/>
          </p:nvSpPr>
          <p:spPr>
            <a:xfrm>
              <a:off x="5110200" y="2307960"/>
              <a:ext cx="147600" cy="204840"/>
            </a:xfrm>
            <a:prstGeom prst="pie">
              <a:avLst/>
            </a:prstGeom>
            <a:solidFill>
              <a:srgbClr val="ffe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6" name="Freeform 33"/>
            <p:cNvSpPr/>
            <p:nvPr/>
          </p:nvSpPr>
          <p:spPr>
            <a:xfrm>
              <a:off x="4057560" y="3627000"/>
              <a:ext cx="49320" cy="65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7" name="Freeform 34"/>
            <p:cNvSpPr/>
            <p:nvPr/>
          </p:nvSpPr>
          <p:spPr>
            <a:xfrm>
              <a:off x="4025880" y="3816000"/>
              <a:ext cx="31680" cy="5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8" name="Freeform 35"/>
            <p:cNvSpPr/>
            <p:nvPr/>
          </p:nvSpPr>
          <p:spPr>
            <a:xfrm>
              <a:off x="4008600" y="3979440"/>
              <a:ext cx="66600" cy="82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9" name="Freeform 36"/>
            <p:cNvSpPr/>
            <p:nvPr/>
          </p:nvSpPr>
          <p:spPr>
            <a:xfrm>
              <a:off x="4040280" y="4176360"/>
              <a:ext cx="66600" cy="8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0" name="Freeform 37"/>
            <p:cNvSpPr/>
            <p:nvPr/>
          </p:nvSpPr>
          <p:spPr>
            <a:xfrm>
              <a:off x="4148280" y="4339800"/>
              <a:ext cx="107640" cy="6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1" name="Freeform 38"/>
            <p:cNvSpPr/>
            <p:nvPr/>
          </p:nvSpPr>
          <p:spPr>
            <a:xfrm>
              <a:off x="4330800" y="4365360"/>
              <a:ext cx="71280" cy="6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2" name="Freeform 39"/>
            <p:cNvSpPr/>
            <p:nvPr/>
          </p:nvSpPr>
          <p:spPr>
            <a:xfrm>
              <a:off x="5838840" y="3676320"/>
              <a:ext cx="49320" cy="55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3" name="Freeform 40"/>
            <p:cNvSpPr/>
            <p:nvPr/>
          </p:nvSpPr>
          <p:spPr>
            <a:xfrm>
              <a:off x="5864400" y="3784320"/>
              <a:ext cx="48960" cy="46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4" name="Freeform 41"/>
            <p:cNvSpPr/>
            <p:nvPr/>
          </p:nvSpPr>
          <p:spPr>
            <a:xfrm>
              <a:off x="5864400" y="3912840"/>
              <a:ext cx="56880" cy="5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5" name="Freeform 42"/>
            <p:cNvSpPr/>
            <p:nvPr/>
          </p:nvSpPr>
          <p:spPr>
            <a:xfrm>
              <a:off x="5848200" y="4043160"/>
              <a:ext cx="8280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6" name="Freeform 43"/>
            <p:cNvSpPr/>
            <p:nvPr/>
          </p:nvSpPr>
          <p:spPr>
            <a:xfrm>
              <a:off x="5848200" y="4143240"/>
              <a:ext cx="73080" cy="56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7" name="Freeform 44"/>
            <p:cNvSpPr/>
            <p:nvPr/>
          </p:nvSpPr>
          <p:spPr>
            <a:xfrm>
              <a:off x="5816520" y="4225680"/>
              <a:ext cx="96840" cy="6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8" name="Freeform 45"/>
            <p:cNvSpPr/>
            <p:nvPr/>
          </p:nvSpPr>
          <p:spPr>
            <a:xfrm>
              <a:off x="5781600" y="4339800"/>
              <a:ext cx="98640" cy="8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9" name="Freeform 46"/>
            <p:cNvSpPr/>
            <p:nvPr/>
          </p:nvSpPr>
          <p:spPr>
            <a:xfrm>
              <a:off x="4987800" y="1677600"/>
              <a:ext cx="74880" cy="57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0" name="Freeform 47"/>
            <p:cNvSpPr/>
            <p:nvPr/>
          </p:nvSpPr>
          <p:spPr>
            <a:xfrm>
              <a:off x="5121360" y="1685520"/>
              <a:ext cx="17280" cy="569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1" name="Freeform 48"/>
            <p:cNvSpPr/>
            <p:nvPr/>
          </p:nvSpPr>
          <p:spPr>
            <a:xfrm>
              <a:off x="3938760" y="2214360"/>
              <a:ext cx="1012680" cy="109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2" name="Freeform 49"/>
            <p:cNvSpPr/>
            <p:nvPr/>
          </p:nvSpPr>
          <p:spPr>
            <a:xfrm>
              <a:off x="5011560" y="2341440"/>
              <a:ext cx="669960" cy="41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3" name="Freeform 50"/>
            <p:cNvSpPr/>
            <p:nvPr/>
          </p:nvSpPr>
          <p:spPr>
            <a:xfrm>
              <a:off x="4421160" y="2441160"/>
              <a:ext cx="681120" cy="776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4" name="Freeform 51"/>
            <p:cNvSpPr/>
            <p:nvPr/>
          </p:nvSpPr>
          <p:spPr>
            <a:xfrm>
              <a:off x="5002200" y="2715840"/>
              <a:ext cx="270000" cy="190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5" name="Freeform 52"/>
            <p:cNvSpPr/>
            <p:nvPr/>
          </p:nvSpPr>
          <p:spPr>
            <a:xfrm>
              <a:off x="3903840" y="2195280"/>
              <a:ext cx="1091880" cy="113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6" name="Freeform 53"/>
            <p:cNvSpPr/>
            <p:nvPr/>
          </p:nvSpPr>
          <p:spPr>
            <a:xfrm>
              <a:off x="4800600" y="2247480"/>
              <a:ext cx="1200240" cy="1073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7" name="Freeform 54"/>
            <p:cNvSpPr/>
            <p:nvPr/>
          </p:nvSpPr>
          <p:spPr>
            <a:xfrm>
              <a:off x="4800600" y="2406240"/>
              <a:ext cx="1092240" cy="847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8" name="Freeform 55"/>
            <p:cNvSpPr/>
            <p:nvPr/>
          </p:nvSpPr>
          <p:spPr>
            <a:xfrm>
              <a:off x="4729320" y="2984040"/>
              <a:ext cx="82440" cy="84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9" name="Freeform 56"/>
            <p:cNvSpPr/>
            <p:nvPr/>
          </p:nvSpPr>
          <p:spPr>
            <a:xfrm>
              <a:off x="4646520" y="3044520"/>
              <a:ext cx="171720" cy="231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0" name="Freeform 57"/>
            <p:cNvSpPr/>
            <p:nvPr/>
          </p:nvSpPr>
          <p:spPr>
            <a:xfrm>
              <a:off x="4951440" y="3306600"/>
              <a:ext cx="306360" cy="10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1" name="Freeform 58"/>
            <p:cNvSpPr/>
            <p:nvPr/>
          </p:nvSpPr>
          <p:spPr>
            <a:xfrm>
              <a:off x="4460760" y="3155760"/>
              <a:ext cx="1285920" cy="325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2" name="Freeform 59"/>
            <p:cNvSpPr/>
            <p:nvPr/>
          </p:nvSpPr>
          <p:spPr>
            <a:xfrm>
              <a:off x="4508640" y="3011040"/>
              <a:ext cx="169560" cy="1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3" name="Freeform 60"/>
            <p:cNvSpPr/>
            <p:nvPr/>
          </p:nvSpPr>
          <p:spPr>
            <a:xfrm>
              <a:off x="4235400" y="2955600"/>
              <a:ext cx="1824120" cy="704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4" name="Freeform 61"/>
            <p:cNvSpPr/>
            <p:nvPr/>
          </p:nvSpPr>
          <p:spPr>
            <a:xfrm>
              <a:off x="4498920" y="3288960"/>
              <a:ext cx="1224000" cy="238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5" name="Freeform 62"/>
            <p:cNvSpPr/>
            <p:nvPr/>
          </p:nvSpPr>
          <p:spPr>
            <a:xfrm>
              <a:off x="5942160" y="2504880"/>
              <a:ext cx="185760" cy="484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6" name="Freeform 63"/>
            <p:cNvSpPr/>
            <p:nvPr/>
          </p:nvSpPr>
          <p:spPr>
            <a:xfrm>
              <a:off x="4853160" y="3239640"/>
              <a:ext cx="296640" cy="133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7" name="Freeform 64"/>
            <p:cNvSpPr/>
            <p:nvPr/>
          </p:nvSpPr>
          <p:spPr>
            <a:xfrm>
              <a:off x="3946680" y="3311280"/>
              <a:ext cx="566640" cy="122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8" name="Freeform 65"/>
            <p:cNvSpPr/>
            <p:nvPr/>
          </p:nvSpPr>
          <p:spPr>
            <a:xfrm>
              <a:off x="4170240" y="3390480"/>
              <a:ext cx="257400" cy="31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9" name="Freeform 66"/>
            <p:cNvSpPr/>
            <p:nvPr/>
          </p:nvSpPr>
          <p:spPr>
            <a:xfrm>
              <a:off x="4054320" y="3609720"/>
              <a:ext cx="246240" cy="708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0" name="Freeform 67"/>
            <p:cNvSpPr/>
            <p:nvPr/>
          </p:nvSpPr>
          <p:spPr>
            <a:xfrm>
              <a:off x="4386240" y="4149360"/>
              <a:ext cx="1236600" cy="534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1" name="Freeform 68"/>
            <p:cNvSpPr/>
            <p:nvPr/>
          </p:nvSpPr>
          <p:spPr>
            <a:xfrm>
              <a:off x="4503600" y="4235040"/>
              <a:ext cx="1285920" cy="559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2" name="Freeform 69"/>
            <p:cNvSpPr/>
            <p:nvPr/>
          </p:nvSpPr>
          <p:spPr>
            <a:xfrm>
              <a:off x="4467240" y="4398840"/>
              <a:ext cx="54000" cy="107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3" name="Freeform 70"/>
            <p:cNvSpPr/>
            <p:nvPr/>
          </p:nvSpPr>
          <p:spPr>
            <a:xfrm>
              <a:off x="4406760" y="4463640"/>
              <a:ext cx="76320" cy="284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4" name="Freeform 71"/>
            <p:cNvSpPr/>
            <p:nvPr/>
          </p:nvSpPr>
          <p:spPr>
            <a:xfrm>
              <a:off x="4818240" y="4563720"/>
              <a:ext cx="158400" cy="397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5" name="Freeform 72"/>
            <p:cNvSpPr/>
            <p:nvPr/>
          </p:nvSpPr>
          <p:spPr>
            <a:xfrm>
              <a:off x="5137200" y="4684320"/>
              <a:ext cx="81000" cy="208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6" name="Freeform 73"/>
            <p:cNvSpPr/>
            <p:nvPr/>
          </p:nvSpPr>
          <p:spPr>
            <a:xfrm>
              <a:off x="4384800" y="3776400"/>
              <a:ext cx="306360" cy="417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7" name="Freeform 74"/>
            <p:cNvSpPr/>
            <p:nvPr/>
          </p:nvSpPr>
          <p:spPr>
            <a:xfrm>
              <a:off x="4373640" y="3877920"/>
              <a:ext cx="102960" cy="28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8" name="Freeform 75"/>
            <p:cNvSpPr/>
            <p:nvPr/>
          </p:nvSpPr>
          <p:spPr>
            <a:xfrm>
              <a:off x="4670280" y="4338360"/>
              <a:ext cx="136800" cy="60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9" name="Freeform 76"/>
            <p:cNvSpPr/>
            <p:nvPr/>
          </p:nvSpPr>
          <p:spPr>
            <a:xfrm>
              <a:off x="4691160" y="4511520"/>
              <a:ext cx="50760" cy="1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0" name="Freeform 77"/>
            <p:cNvSpPr/>
            <p:nvPr/>
          </p:nvSpPr>
          <p:spPr>
            <a:xfrm>
              <a:off x="4645080" y="3973320"/>
              <a:ext cx="731880" cy="46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1" name="Freeform 78"/>
            <p:cNvSpPr/>
            <p:nvPr/>
          </p:nvSpPr>
          <p:spPr>
            <a:xfrm>
              <a:off x="5257800" y="4420800"/>
              <a:ext cx="111240" cy="84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2" name="Freeform 79"/>
            <p:cNvSpPr/>
            <p:nvPr/>
          </p:nvSpPr>
          <p:spPr>
            <a:xfrm>
              <a:off x="4381560" y="3568320"/>
              <a:ext cx="101520" cy="219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3" name="Freeform 80"/>
            <p:cNvSpPr/>
            <p:nvPr/>
          </p:nvSpPr>
          <p:spPr>
            <a:xfrm>
              <a:off x="4568760" y="3477960"/>
              <a:ext cx="149400" cy="30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4" name="Freeform 81"/>
            <p:cNvSpPr/>
            <p:nvPr/>
          </p:nvSpPr>
          <p:spPr>
            <a:xfrm>
              <a:off x="4602240" y="3816000"/>
              <a:ext cx="696960" cy="484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5" name="Freeform 82"/>
            <p:cNvSpPr/>
            <p:nvPr/>
          </p:nvSpPr>
          <p:spPr>
            <a:xfrm>
              <a:off x="4789440" y="3634920"/>
              <a:ext cx="682560" cy="45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6" name="Freeform 83"/>
            <p:cNvSpPr/>
            <p:nvPr/>
          </p:nvSpPr>
          <p:spPr>
            <a:xfrm>
              <a:off x="4910040" y="3601800"/>
              <a:ext cx="243000" cy="382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7" name="Freeform 84"/>
            <p:cNvSpPr/>
            <p:nvPr/>
          </p:nvSpPr>
          <p:spPr>
            <a:xfrm>
              <a:off x="5164200" y="3862080"/>
              <a:ext cx="303120" cy="54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8" name="Freeform 85"/>
            <p:cNvSpPr/>
            <p:nvPr/>
          </p:nvSpPr>
          <p:spPr>
            <a:xfrm>
              <a:off x="5302080" y="3628800"/>
              <a:ext cx="468360" cy="110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9" name="Freeform 86"/>
            <p:cNvSpPr/>
            <p:nvPr/>
          </p:nvSpPr>
          <p:spPr>
            <a:xfrm>
              <a:off x="5457960" y="3512880"/>
              <a:ext cx="363240" cy="798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0" name="Freeform 87"/>
            <p:cNvSpPr/>
            <p:nvPr/>
          </p:nvSpPr>
          <p:spPr>
            <a:xfrm>
              <a:off x="5477040" y="3706560"/>
              <a:ext cx="263520" cy="525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1" name="Freeform 88"/>
            <p:cNvSpPr/>
            <p:nvPr/>
          </p:nvSpPr>
          <p:spPr>
            <a:xfrm>
              <a:off x="5789520" y="3422520"/>
              <a:ext cx="297000" cy="117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2" name="Freeform 89"/>
            <p:cNvSpPr/>
            <p:nvPr/>
          </p:nvSpPr>
          <p:spPr>
            <a:xfrm>
              <a:off x="5796000" y="3606480"/>
              <a:ext cx="98280" cy="4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3" name="Freeform 90"/>
            <p:cNvSpPr/>
            <p:nvPr/>
          </p:nvSpPr>
          <p:spPr>
            <a:xfrm>
              <a:off x="5751360" y="3733560"/>
              <a:ext cx="128880" cy="30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4" name="Freeform 91"/>
            <p:cNvSpPr/>
            <p:nvPr/>
          </p:nvSpPr>
          <p:spPr>
            <a:xfrm>
              <a:off x="5807160" y="3846240"/>
              <a:ext cx="101520" cy="4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5" name="Freeform 92"/>
            <p:cNvSpPr/>
            <p:nvPr/>
          </p:nvSpPr>
          <p:spPr>
            <a:xfrm>
              <a:off x="5780160" y="3963600"/>
              <a:ext cx="114120" cy="55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6" name="Freeform 93"/>
            <p:cNvSpPr/>
            <p:nvPr/>
          </p:nvSpPr>
          <p:spPr>
            <a:xfrm>
              <a:off x="5791320" y="4070160"/>
              <a:ext cx="87120" cy="46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7" name="Freeform 94"/>
            <p:cNvSpPr/>
            <p:nvPr/>
          </p:nvSpPr>
          <p:spPr>
            <a:xfrm>
              <a:off x="5780160" y="4157280"/>
              <a:ext cx="87120" cy="42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8" name="Freeform 95"/>
            <p:cNvSpPr/>
            <p:nvPr/>
          </p:nvSpPr>
          <p:spPr>
            <a:xfrm>
              <a:off x="5743440" y="4241520"/>
              <a:ext cx="135000" cy="77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9" name="Freeform 96"/>
            <p:cNvSpPr/>
            <p:nvPr/>
          </p:nvSpPr>
          <p:spPr>
            <a:xfrm>
              <a:off x="3738600" y="1649160"/>
              <a:ext cx="2583000" cy="338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0" name="Freeform 97"/>
            <p:cNvSpPr/>
            <p:nvPr/>
          </p:nvSpPr>
          <p:spPr>
            <a:xfrm>
              <a:off x="3868560" y="2860200"/>
              <a:ext cx="1314720" cy="2160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1" name="Freeform 98"/>
            <p:cNvSpPr/>
            <p:nvPr/>
          </p:nvSpPr>
          <p:spPr>
            <a:xfrm>
              <a:off x="3795840" y="1692000"/>
              <a:ext cx="1147680" cy="1023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2" name="Freeform 99"/>
            <p:cNvSpPr/>
            <p:nvPr/>
          </p:nvSpPr>
          <p:spPr>
            <a:xfrm>
              <a:off x="5175360" y="1684080"/>
              <a:ext cx="1039680" cy="1073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13" name="Oval 101"/>
          <p:cNvSpPr/>
          <p:nvPr/>
        </p:nvSpPr>
        <p:spPr>
          <a:xfrm>
            <a:off x="4122720" y="1989000"/>
            <a:ext cx="1486080" cy="57168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AutoShape 102"/>
          <p:cNvSpPr/>
          <p:nvPr/>
        </p:nvSpPr>
        <p:spPr>
          <a:xfrm>
            <a:off x="4351320" y="2903400"/>
            <a:ext cx="1143000" cy="800280"/>
          </a:xfrm>
          <a:prstGeom prst="pi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AutoShape 103"/>
          <p:cNvSpPr/>
          <p:nvPr/>
        </p:nvSpPr>
        <p:spPr>
          <a:xfrm flipV="1">
            <a:off x="4237200" y="3704400"/>
            <a:ext cx="1371600" cy="685800"/>
          </a:xfrm>
          <a:prstGeom prst="pi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Line 105"/>
          <p:cNvSpPr/>
          <p:nvPr/>
        </p:nvSpPr>
        <p:spPr>
          <a:xfrm flipH="1">
            <a:off x="5265360" y="3112920"/>
            <a:ext cx="685800" cy="1335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Line 106"/>
          <p:cNvSpPr/>
          <p:nvPr/>
        </p:nvSpPr>
        <p:spPr>
          <a:xfrm flipV="1">
            <a:off x="3276720" y="4292640"/>
            <a:ext cx="1150920" cy="1512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Line 107"/>
          <p:cNvSpPr/>
          <p:nvPr/>
        </p:nvSpPr>
        <p:spPr>
          <a:xfrm flipH="1">
            <a:off x="5219280" y="2565360"/>
            <a:ext cx="1584360" cy="719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Rectangle 108"/>
          <p:cNvSpPr/>
          <p:nvPr/>
        </p:nvSpPr>
        <p:spPr>
          <a:xfrm>
            <a:off x="3164400" y="5659560"/>
            <a:ext cx="651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Типичная локализация абдоминальной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боли при острых заболеваниях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3059280" y="1268280"/>
            <a:ext cx="2808000" cy="4316400"/>
          </a:xfrm>
          <a:prstGeom prst="rect">
            <a:avLst/>
          </a:prstGeom>
          <a:ln w="0">
            <a:noFill/>
          </a:ln>
        </p:spPr>
      </p:pic>
      <p:sp>
        <p:nvSpPr>
          <p:cNvPr id="221" name="Freeform 7"/>
          <p:cNvSpPr/>
          <p:nvPr/>
        </p:nvSpPr>
        <p:spPr>
          <a:xfrm>
            <a:off x="3924360" y="1916280"/>
            <a:ext cx="457200" cy="574560"/>
          </a:xfrm>
          <a:prstGeom prst="pi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Freeform 8"/>
          <p:cNvSpPr/>
          <p:nvPr/>
        </p:nvSpPr>
        <p:spPr>
          <a:xfrm>
            <a:off x="4140360" y="3645000"/>
            <a:ext cx="228600" cy="614160"/>
          </a:xfrm>
          <a:prstGeom prst="pi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AutoShape 9"/>
          <p:cNvSpPr/>
          <p:nvPr/>
        </p:nvSpPr>
        <p:spPr>
          <a:xfrm>
            <a:off x="4211640" y="3500280"/>
            <a:ext cx="457200" cy="228600"/>
          </a:xfrm>
          <a:prstGeom prst="pentagon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Oval 10"/>
          <p:cNvSpPr/>
          <p:nvPr/>
        </p:nvSpPr>
        <p:spPr>
          <a:xfrm>
            <a:off x="4140360" y="3141720"/>
            <a:ext cx="685800" cy="2286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AutoShape 11"/>
          <p:cNvSpPr/>
          <p:nvPr/>
        </p:nvSpPr>
        <p:spPr>
          <a:xfrm>
            <a:off x="4643280" y="2852640"/>
            <a:ext cx="114480" cy="114480"/>
          </a:xfrm>
          <a:prstGeom prst="plus">
            <a:avLst>
              <a:gd name="adj" fmla="val 25000"/>
            </a:avLst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Freeform 14"/>
          <p:cNvSpPr/>
          <p:nvPr/>
        </p:nvSpPr>
        <p:spPr>
          <a:xfrm>
            <a:off x="4572000" y="2133720"/>
            <a:ext cx="431640" cy="323640"/>
          </a:xfrm>
          <a:prstGeom prst="pi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Rectangle 15"/>
          <p:cNvSpPr/>
          <p:nvPr/>
        </p:nvSpPr>
        <p:spPr>
          <a:xfrm>
            <a:off x="250920" y="692280"/>
            <a:ext cx="3024000" cy="1800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ерфорация пептической язвы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авосторонний плеврит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оддиафрагмальный абсцесс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овреждение селезенки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Rectangle 16"/>
          <p:cNvSpPr/>
          <p:nvPr/>
        </p:nvSpPr>
        <p:spPr>
          <a:xfrm>
            <a:off x="250920" y="2997360"/>
            <a:ext cx="2448000" cy="1008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аппендицит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острый панкреатит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очечная колик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Rectangle 17"/>
          <p:cNvSpPr/>
          <p:nvPr/>
        </p:nvSpPr>
        <p:spPr>
          <a:xfrm>
            <a:off x="250920" y="4797360"/>
            <a:ext cx="2808360" cy="1656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мочевая колик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острый пиелонефрит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аппендицит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заболевания половых органов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аховая и бедренная грыж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Rectangle 18"/>
          <p:cNvSpPr/>
          <p:nvPr/>
        </p:nvSpPr>
        <p:spPr>
          <a:xfrm>
            <a:off x="6156360" y="2205000"/>
            <a:ext cx="2052720" cy="1295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заболевания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желчевыводящих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утей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анкреатит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Rectangle 19"/>
          <p:cNvSpPr/>
          <p:nvPr/>
        </p:nvSpPr>
        <p:spPr>
          <a:xfrm>
            <a:off x="6012000" y="4221000"/>
            <a:ext cx="1871640" cy="1368720"/>
          </a:xfrm>
          <a:prstGeom prst="rect">
            <a:avLst/>
          </a:prstGeom>
          <a:solidFill>
            <a:srgbClr val="0099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заболевания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ямой кишк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и половых органов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Rectangle 20"/>
          <p:cNvSpPr/>
          <p:nvPr/>
        </p:nvSpPr>
        <p:spPr>
          <a:xfrm>
            <a:off x="5867280" y="476280"/>
            <a:ext cx="3024360" cy="1297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острый панкреатит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левосторонний плеврит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ерфорация пептической язвы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овреждение селезенк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Line 21"/>
          <p:cNvSpPr/>
          <p:nvPr/>
        </p:nvSpPr>
        <p:spPr>
          <a:xfrm>
            <a:off x="3276720" y="1413000"/>
            <a:ext cx="718920" cy="720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Line 22"/>
          <p:cNvSpPr/>
          <p:nvPr/>
        </p:nvSpPr>
        <p:spPr>
          <a:xfrm flipH="1">
            <a:off x="5003280" y="1413000"/>
            <a:ext cx="863640" cy="863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Line 23"/>
          <p:cNvSpPr/>
          <p:nvPr/>
        </p:nvSpPr>
        <p:spPr>
          <a:xfrm flipV="1">
            <a:off x="2700360" y="3284280"/>
            <a:ext cx="1366920" cy="144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Line 24"/>
          <p:cNvSpPr/>
          <p:nvPr/>
        </p:nvSpPr>
        <p:spPr>
          <a:xfrm flipH="1">
            <a:off x="4787640" y="2637000"/>
            <a:ext cx="1368360" cy="287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Line 25"/>
          <p:cNvSpPr/>
          <p:nvPr/>
        </p:nvSpPr>
        <p:spPr>
          <a:xfrm flipV="1">
            <a:off x="3059280" y="4149360"/>
            <a:ext cx="1152360" cy="1655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Line 26"/>
          <p:cNvSpPr/>
          <p:nvPr/>
        </p:nvSpPr>
        <p:spPr>
          <a:xfrm flipH="1" flipV="1">
            <a:off x="4572000" y="3715920"/>
            <a:ext cx="1440000" cy="1513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Rectangle 30"/>
          <p:cNvSpPr/>
          <p:nvPr/>
        </p:nvSpPr>
        <p:spPr>
          <a:xfrm>
            <a:off x="2577960" y="5668920"/>
            <a:ext cx="729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Типичная иррадиация  абдоминальной бол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и ОХЗ органов брюшной полост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(вид спереди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Терминолог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Тошнота означает ощущение надвигающегося желания выполнить рвотный акт, которое обычно ощущается в горле или эпигастральной области. Иногда тошнота рассматривается как неприятное ощущение (давление, тяжесть) в подложечной област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вота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непроизвольное выбрасывание изо рта содержимого желудка или тонкой кишки, сопровождающееся повышенным слюноотделением и выраженными сокращениями грудных и брюшных мышц, нарушающими ритм дыхания. Чрезвычайно сильная рвота, возникающая при повышении внутричерепного давления, называется “фонтанирующей”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7T17:37:10Z</dcterms:created>
  <dc:creator>Антон</dc:creator>
  <dc:description/>
  <dc:language>en-US</dc:language>
  <cp:lastModifiedBy>kriv</cp:lastModifiedBy>
  <dcterms:modified xsi:type="dcterms:W3CDTF">2011-11-02T06:46:28Z</dcterms:modified>
  <cp:revision>9</cp:revision>
  <dc:subject/>
  <dc:title>ОСТРАЯ АБДОМИНАЛЬНАЯ БОЛЬ ПРИ ХИРУРГИЧЕСКИХ ЗАБОЛЕВАНИЯХ ОРГАНОВ БРЮШНОЙ ПОЛОСТИ: ДИАГНОЗ, АЛГОРИТМ МЕДИЦИНСКОЙ ПОМОЩИ НА ДОГОСПИТАЛЬНОМ ЭТАПЕ.</dc:title>
</cp:coreProperties>
</file>