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A2A-ED13-4961-9EB7-EE094BDD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FB0-EEC2-4425-8CA3-7117C548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769-2FE2-477A-A39E-913B232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0E6-62FF-4AF7-918A-05916975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49EB-25FC-4369-B2AF-341E8F5F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FC8-8349-49EC-8C3E-9E60E34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87DF-74FA-429E-8843-1FD6C31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21F-F990-4437-B46C-887BC76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060-8A87-44D1-AF83-140C28D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6CD-537B-4268-8D5B-135ECAB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58FF-2AD4-4231-896E-7BE3E57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632-218D-4D48-912B-381AAB49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A191-8F69-4751-BA52-A29ABF4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BC7-BAF0-461E-8421-CC24648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AE2-A9C4-4938-B180-43E8590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E81-588D-4EE5-BC61-385EAF76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CBB-E412-4824-82A9-D6490731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A64-2A97-4525-A162-5BCEE4E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AEA-DB8A-46DD-B43B-34861D7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FC5-F94A-4CDC-95E4-E9DD8882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D64-63F7-4392-B82F-84210D5A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F62-AC7F-4599-8FAA-BAC28FA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641-A402-460B-AE5A-C537CA94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CEF-2145-4BFA-968A-87A3E69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CDA-775F-4833-B33D-3D66DC2DDB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9BBD-FB70-4FAD-BDD6-491CC126BB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стрый перитони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федра хирургии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Н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3657600"/>
            <a:ext cx="5029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generation of surgeons is brought up in fear before the God and a peritonit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b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аспространенности патологического процесса выделя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стный перитон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локализуется в пределах одной анатомической области и вблизи источника воспаления. Он может быть (1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т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полностью отграничиваться спайками в брюшной полости (инфильтрат, абсцесс) и (2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такой процесс может в дальнейшем прогрессирова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пространенный перитон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патологический процесс занимает более 2-х анатомических обла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т факт имеет простое объяснен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ный перитонит определяет тактику локальной санации гнойного оча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енный перитонит требует иной лечебной тактики: (1) предоперационной подготовки; (2) широкой срединной лапаротомии с целью адекватной санации брюшной полости после устранения источника перитонита, проведение мепроприятий, направленных на борьбу с послеоперационным парезом желудочно-кишечного тракта и адекватного дренирования брюшной полости. В то же время обозначения «диффузный», «общий» или «тотальный» не содержат в себе четких указаний на хирургическую тактику, отличную от указанных альтернативных вари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степени тяжести клинических проявл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 3 стад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. С. Симонян, 1971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ктивн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до 24 час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ксическ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24-72 ча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рминальной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свыше 72 час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характеру экссуд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о-фибрин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ибринозно-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илостный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ение с классификацией распространенного перитонита по тяжести значительным образом изменилось и стало обретать конкретную ясность после введения в клиническую практику понятия об абдоминальном сепсисе. Индуцирующим фактом для формирования обновленного подхода к идентификации клинической тяжести перитонита послужило распространение в ведущих клиниках мира клинической классификации сепсиса, принятой на Согласительной конференции в Чикаго в 1991 г. по предложени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соавт. Конференция утвердила 4 согласованных признака системной воспалительной реакци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Наличие двух из четырех признак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установленном диагнозе инфекционно-деструктивного процесса предлагалось расценивать как комплексный признак сепсиса. Дополнение этого признака синдромом полиорганной недостаточности определялось как тяжелый сепсис, а проявление неуправляемой артериальной гипотонии ниже 90 мм рт.ст. оценивалось как признак терминальной фазы сепсиса, выражающейся в септическом ш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итерии диагностики сепсиса и септического шо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95280"/>
          <a:ext cx="9144000" cy="558180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ения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инико-лабораторные признаки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 системного воспалительного ответа 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зуется двумя или более из следующих признаков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мпература тела &gt;38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С или &lt;36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СС &gt;9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Д &gt;2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ейкоциты крови &gt;1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&lt;4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незрелых форм &gt;1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сис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истемный воспалительный ответ на инвазию микроорганизм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ичие очага инфекта и двух или более признаков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желый сепси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епсис, ассоциирующийся с органной дисфункцией, нарушением тканевой перфуз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тический ш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яжелый сепсис с тканевой и органной гипоперфузией, артериальной гипотонией, не устраняемой инфузионной терапие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 образом, взамен градации распространенного перитонита по тяжести в зависимости от фазы его патогенеза (реактивной, токсической или терминальной) в последние годы утверждается иная града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азам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ит с отсутствием признаков сепси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еальный (абдоминальный) сепси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яжелый перитонеальный сепси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ептический 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106668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ерв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.coli (40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. pneumoniae (7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seudomonas species (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 (3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 species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(&lt;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oli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,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lebsiella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 fragi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th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ubacter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lostrid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; Pseudomona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g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andida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1295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современным представлениям распространенный перитонит характеризуется как системная воспалительная реакция организм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в ответ на развитие гнойно-некротического процесса в органах брюшной полости, клинически проявляющаяся явлениями эндотоксикоза и множественной дисфункцией органов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пустимо условное выделение в изложении патогенеза перитонита четырех аспектов, которые тесно взаимосвяза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анизмы отграничения патологического процесса в полости брюши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муногенез при перитони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генез нарушения висцеральных функц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дотоксикоз при перитон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нические признаки перитонита определяются, во-первых, локализацией первичного источника процесса, а, во-вторых, местными и общими признаками непосредственно воспалительного процесса в брюши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иническая картина острого вторичного распространенного перитонита складывается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левого синдро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изикальных признаков распространенного воспаления брюши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имптомов ее раздражения, свободной жидкости в брюшной пол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астающего пареза кишечн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а такж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з признаков обезвоживания тка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ухости языка и видимых слизистых, снижение эластичности кожных покровов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грессирующего эндотоксико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тахикардии, лихорадки, нейтрофильного лейкоцитоза со сдвигом влево, токсической энцефалопат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мотре обращается внимание на вынужденное положение больного - на боку, с приведенными к животу коленями. В запущенных случаях отмечается 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es Hyppocratic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». При осмотре живота может выявляться асимметрия, в акте дыхания живот не участвует. При пальпации живот напряжен, болезненный. Симптомы Щеткина-Блюмберга, Воскресенкого, Раздольского полож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стемные нарушения при перитоните определяются быстро прогрессирующей дегидратацией, эндотоксикозом. В зависимости от степени выраженности последнего, это могут быть классические признаки системной воспалительной реакции, полиорганной недостаточности, в том числе и септического шока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2"/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вертикулез  толстой  кишки  с  перфор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95720" cy="361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5760" cy="3581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2286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ый газ под правым куполом  диафр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4952880" y="54864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жественные  горизонтальные тонкокишечные  жид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редоперационная подготовк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щепризнано, что 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го большинства пациентов сроки подготовки к операции не должны превышать полутора-двух часов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с учетом некоторых индивидуальных различий в зависимости от возраста больных, массы тела (которая определяется ориентировочно), наличия сопутствующих заболеваний общая схема предоперационной подготовки должна включ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йное (при наличии сердечно-легочной недостаточности - капельное) внутривенное введение низкоконцентрированных полионных кристаллоидных растворов в количестве до 1000-1500 мл, желательно под контролем ЦВ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400-500 мл коллоидных растворов для восполнения объема циркулирующей жидк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венное применение антибиотиков широкого спектра действия за 30-40 минут до начала опер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ю центральной и периферической гемодинам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Задачи оперативного вмешатель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еративное вмешательство при распространенном (разлитом) перитоните предусматривает выполнение следующих основны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ранение источника перитони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раоперационную санацию и рациональное дренирование брюшной пол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пролонгированной санации полости брюшины в послеоперационном перио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нирование кишечника, находящегося в состоянии парез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воздействия на основные пути резорбции и транспорта токсинов (по специальным показания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циональный доступ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спространенном перитоните - срединная лапаротомия, обеспечивающая возможность полноценной ре­визии и санации всех отделов брюшной по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вскрытия брюшины по возможности пол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даляется патологическое содержим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гной, кровь, желчь, каловые массы и т.д. Наиболее полноценно и менее травматично это можно выполнить с помощью электрического отсоса, снабженного специальным наконечником, предотвращающим присасывание петель кишечника и большого сальника. Особое внимание обращается на места скопления экссудата - поддиафрагмальные пространства, боковые каналы, полость малого т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4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/3 смертей при хирургических заболеваниях ОБП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трые заболевания ОБП в 80-85% наблюдений сопровождаются перитонит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етальность – 20-30%, при распространенных гнойных перитонитах достигает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80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%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-образных швов с последующим дозированным их сведением для профилактики развития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16000" y="2205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ris_5"/>
          <p:cNvPicPr/>
          <p:nvPr/>
        </p:nvPicPr>
        <p:blipFill>
          <a:blip r:embed="rId1"/>
          <a:stretch/>
        </p:blipFill>
        <p:spPr>
          <a:xfrm>
            <a:off x="395280" y="2438280"/>
            <a:ext cx="4343400" cy="3916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003640" y="1989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ris_5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акуумная повязка – вид сверху (A) и в поперечной плоскости (B). Это сэндвич из 3 слоев. Внутренние органы покрыты слоем полиэтилена, средний слой впитывающее хирургическое полотенце, и внешний слой представленный клеющейся пленкой. Дренажи располжены в среднем слое.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2" descr="http://www.surginet.info/modules/icontent/inPages/2/6/images/image002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02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именение вакуумного устройства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Picture 2" descr="http://www.surginet.info/modules/icontent/inPages/2/6/images/image003.jpg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5105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конструкция контаминированного абдоминального дефекта биологическим протезом (acellular dermal matrix) подшитым к фасции.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2" descr="http://www.surginet.info/modules/icontent/inPages/2/6/images/image004.jpg"/>
          <p:cNvPicPr/>
          <p:nvPr/>
        </p:nvPicPr>
        <p:blipFill>
          <a:blip r:embed="rId1"/>
          <a:stretch/>
        </p:blipFill>
        <p:spPr>
          <a:xfrm>
            <a:off x="533520" y="68580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urginet.info/modules/icontent/inPages/2/6/images/image005.jpg"/>
          <p:cNvPicPr/>
          <p:nvPr/>
        </p:nvPicPr>
        <p:blipFill>
          <a:blip r:embed="rId2"/>
          <a:stretch/>
        </p:blipFill>
        <p:spPr>
          <a:xfrm>
            <a:off x="4952880" y="685800"/>
            <a:ext cx="4010040" cy="434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5105520" y="5181480"/>
            <a:ext cx="373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рануляционная ткань прорастает сквозь биологический протез соединяя его с 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аной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87280" y="69228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Травма ОБП: тампонада источника кровотечения, выведение боковой колостомы и быстрое закрытие лапаротомной раны с помощью цапок при нестабильности пострадавш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6920" y="177336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Image005"/>
          <p:cNvPicPr/>
          <p:nvPr/>
        </p:nvPicPr>
        <p:blipFill>
          <a:blip r:embed="rId1"/>
          <a:stretch/>
        </p:blipFill>
        <p:spPr>
          <a:xfrm>
            <a:off x="5508720" y="2708280"/>
            <a:ext cx="3240000" cy="3768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684360" y="1844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P1090124"/>
          <p:cNvPicPr/>
          <p:nvPr/>
        </p:nvPicPr>
        <p:blipFill>
          <a:blip r:embed="rId2"/>
          <a:stretch/>
        </p:blipFill>
        <p:spPr>
          <a:xfrm>
            <a:off x="684360" y="2637000"/>
            <a:ext cx="4317840" cy="388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0" y="19810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PICT0049"/>
          <p:cNvPicPr/>
          <p:nvPr/>
        </p:nvPicPr>
        <p:blipFill>
          <a:blip r:embed="rId1"/>
          <a:stretch/>
        </p:blipFill>
        <p:spPr>
          <a:xfrm>
            <a:off x="4952880" y="1066680"/>
            <a:ext cx="3962520" cy="556272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192" name="Text Box 4"/>
          <p:cNvSpPr/>
          <p:nvPr/>
        </p:nvSpPr>
        <p:spPr>
          <a:xfrm>
            <a:off x="380880" y="22860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ослеоперационные ослож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57200" y="1066680"/>
            <a:ext cx="4343400" cy="5625720"/>
          </a:xfrm>
          <a:prstGeom prst="rect">
            <a:avLst/>
          </a:prstGeom>
          <a:solidFill>
            <a:srgbClr val="000000"/>
          </a:solid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ентерация (расхождение срединной ра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операционная полиорганная недостато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шечные сви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систирующий абдоминальный сеп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ковая ретракция с образованием обширного деф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34340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юшина представляет собой серозную оболочку, полностью или частично покрывающую органы брюшной полости, состоящую из соединительной ткани и покрытую однослойными плоскими клетками (мезотелием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состоит из париетального и висцерального листков, представляющих собой единую непрерывную оболочку. Висцеральный листок покрывает органы, париетальный выстилает стенки полости живота и таза, образуя у мужчин замкнутый мешок. У женщин он сообщается посредством маточных труб с полостью матки и наружными половыми орган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в брюшине имеются участк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анссудирующ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тонкой кишки и широких связок матки),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сасывающ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диафрагмы и слепой кишки) 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диффере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желудка и передней стенки живота)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рюшина состоит из 6 слоев. Брюшине присуща высокая способность всасывания. Она имеет характер полупроницаемой оболочки с обильным кровоснабжением и за сутки она может всосать до 70 л жидкости, которая поступает в систему воротной ве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брюшины примерно равна или несколько больше поверхности кожного покрова и составляет приблизительно 22000 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 является огромным полем интерорецепторов, в котором богато представлены нервные сплетения, концевые аппараты и ганглиозные клетки, и в случае развития воспалительного процесса она становится источником мощной патологической импульсации, что играет важную роль в развитии патогенетических реакций при перитони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ервация висцеральной брюшины осуществляется мейснеровским и ауэрбаховским сплетениями. Париетальный листок брюшины иннервируется от нервных сплетений брюшной полости (солнечное, печеночное, селезеночное и т.д.) и межреберных нер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762120" y="3049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и перитон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ки создать стройные научно-обоснованные и удобные в практическом отношении классификации перитонита имеют длительную историю. И все же общепринятой классификации перитонитов до настоящего времени не существует, хотя их было предложено много (по этиологическому признаку, по патологоанатомическим признакам, по степени распространенности процесса и так дал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уясь на утвердившиеся в литературе подходы, можно выделить главные направления классификации перитони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эт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распростран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характеру патологического содержимого в пол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микроб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тяжести общих клинических проявл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ологическая 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hens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 соавт., 1998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спонтанный бактериальный перитонит» — редкая форма перитонита гематогенного происхождения или транссудацией специфической моноинфекц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других орга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инфицированием брюшины. К таким формам относят спонтанный перитонит у детей, асцит-перитонит при циррозе печени, туберкулезный перитонит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дители, как правило, представлены в виде моноинфекции, наиболее часто упоминае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trept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neumoni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имеются литературные данные о преобладании других микроорганизмов, что свидетельствует о неоднородности сравниваемой популяции больных. У женщин, живущих половой жизнью, основными возбудителями являю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eisseriae gonorrhoe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lamydi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rachomati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ных, которым проводится перитонеальный диализ, развитие перитонита связано с инфицированием грамположительными микроорганизмами или (в 3-4 %)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seudomonas aeruginos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понтанный» перитонит у детей возникает в неонатальном периоде или в возрасте 4-5 лет. В последнем случае предрасполагающим фактором может служить наличие системных заболеваний (красная волчанка) или нефротического синдром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нтанный перитонит взрослых возникает нередко после дренирова­ния асцита, обусловленного циррозом печени, а также при использовании длительного перитонеального диал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— наиболее частая форма осложненной интраабдоминальной инфекции, являющаяся основной причиной абдоминального сепсиса у хирургических больных. В 80% случаев причиной вторичного перитонита являются деструктивные поражения органов брюшной полости; в 20% — различные абдоминальные хирургические операции (послеоперационный перитонит) и посттравматический перитонит (при закрытой травме или проникающих ранениях живота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т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перитонит без манифестирующего источника инфекции»,— это рецидивирующая и персистирующая форма перитонита, которая развивается при критическом состоянии пациентов на фоне угнетенных механизмов местной и системной противоинфекционной защиты. Само обозначение «третичный перитонит» индуцировано тем, что в его этио­логии у больных и раненых на первый план выступает микрофлора, пережившая как первичный цикл антибиотикотерапии (как правило, - эмпирической, направленной на вероятную структуру микробного загрязнения), так и вторичный (ориентированный на данные антибактериальных посевов и чувствительность к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биотикам). Эта «третичная микрофлора» обычно бывает представлена мультирезистентными штам­мами коагулазонегативных стафилококков, энтеробактерий, псевдомонад или грибам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andid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pp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характерно для нозокомиальной инфе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v</cp:lastModifiedBy>
  <dcterms:modified xsi:type="dcterms:W3CDTF">2011-11-07T09:56:3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