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EC0-B5DA-483B-8CF1-84CA157F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2D1-02B9-4628-8A89-B2D433CF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152-079F-4B6B-A060-DAAED568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848-6F9F-4334-9718-3F05128F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4E41-5C7B-4025-A03B-3C97975A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D39E-2E85-4281-AB0F-1D2336C3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9783-7DE5-4C08-9E13-26B2150B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92C-FB7C-4D5F-991A-0B75CF1D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1332-F400-4CA6-A86F-410D1A64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5145-934C-43FC-AC2A-8DBDAB4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391-2FC4-49E6-8E0B-29BAFDB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711-5CA6-4210-8F3B-49CD4FA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1580-987E-4765-9D21-A32C1A4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389-175D-451A-9C63-7BA82C9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77BE-ABB6-4F0D-936E-E3214D17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083-2517-4B42-8EED-E23954CB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CE3-A465-4159-90B6-AB903C87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747-B8CE-4EF9-A4BC-3497151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349-A82C-4FCF-B07E-9E90D7ED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D87-E195-48D4-9AF9-5FFE0836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962-B70D-4DA9-8FDF-B97DC4D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FDA-40FE-4F23-82AC-D8766E4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620-5FE3-4F7B-B5A3-6F0A537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6CA-4C51-440A-9886-D2744EB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24F6-6A62-4DC7-8D77-606A54134B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A4A-8CF3-46C3-A0EC-2CBEA36623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Острый перитони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федра хирургии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Н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3657600"/>
            <a:ext cx="50292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generation of surgeons is brought up in fear before the God and a peritoniti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b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аспространенности патологического процесса выделя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стный перитон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локализуется в пределах одной анатомической области и вблизи источника воспаления. Он может быть (1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т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полностью отграничиваться спайками в брюшной полости (инфильтрат, абсцесс) и (2)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граниченны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то есть такой процесс может в дальнейшем прогрессирова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пространенный перитон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патологический процесс занимает более 2-х анатомических обла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763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от факт имеет простое объяснен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ный перитонит определяет тактику локальной санации гнойного оча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остраненный перитонит требует иной лечебной тактики: (1) предоперационной подготовки; (2) широкой срединной лапаротомии с целью адекватной санации брюшной полости после устранения источника перитонита, проведение мепроприятий, направленных на борьбу с послеоперационным парезом желудочно-кишечного тракта и адекватного дренирования брюшной полости. В то же время обозначения «диффузный», «общий» или «тотальный» не содержат в себе четких указаний на хирургическую тактику, отличную от указанных альтернативных вари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степени тяжести клинических проявл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 3 стад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. С. Симонян, 1971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активн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до 24 час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оксическа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24-72 ча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рминальной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свыше 72 час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характеру экссуда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деляю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розно-фибриноз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ибринозно-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ой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нилостный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жение с классификацией распространенного перитонита по тяжести значительным образом изменилось и стало обретать конкретную ясность после введения в клиническую практику понятия об абдоминальном сепсисе. Индуцирующим фактом для формирования обновленного подхода к идентификации клинической тяжести перитонита послужило распространение в ведущих клиниках мира клинической классификации сепсиса, принятой на Согласительной конференции в Чикаго в 1991 г. по предложению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соавт. Конференция утвердила 4 согласованных признака системной воспалительной реакции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Наличие двух из четырех признако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 установленном диагнозе инфекционно-деструктивного процесса предлагалось расценивать как комплексный признак сепсиса. Дополнение этого признака синдромом полиорганной недостаточности определялось как тяжелый сепсис, а проявление неуправляемой артериальной гипотонии ниже 90 мм рт.ст. оценивалось как признак терминальной фазы сепсиса, выражающейся в септическом ш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итерии диагностики сепсиса и септического шок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95280"/>
          <a:ext cx="9144000" cy="558180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пределения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линико-лабораторные признаки</a:t>
                      </a: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 системного воспалительного ответа (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зуется двумя или более из следующих признаков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мпература тела &gt;38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С или &lt;36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СС &gt;9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ЧД &gt;20/ми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ейкоциты крови &gt;1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&lt;4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 или незрелых форм &gt;10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сис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истемный воспалительный ответ на инвазию микроорганизм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личие очага инфекта и двух или более признаков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RS</a:t>
                      </a: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яжелый сепси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епсис, ассоциирующийся с органной дисфункцией, нарушением тканевой перфуз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птический шо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яжелый сепсис с тканевой и органной гипоперфузией, артериальной гипотонией, не устраняемой инфузионной терапие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 образом, взамен градации распространенного перитонита по тяжести в зависимости от фазы его патогенеза (реактивной, токсической или терминальной) в последние годы утверждается иная градац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азам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ит с отсутствием признаков сепси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итонеальный (абдоминальный) сепсис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яжелый перитонеальный сепси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ептический 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106668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8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ерв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.coli (40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. pneumoniae (7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seudomonas species (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 (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 (3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 species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(&lt;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.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oli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, </a:t>
                      </a: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lebsiella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rote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Втор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 fragi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ther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cteroide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ubacter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lostridium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aerob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reptococcus 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Этиолог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перитон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-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nterobacter species; Pseudomona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ram</a:t>
                      </a: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aphylococcus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Третич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g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andida 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12952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современным представлениям распространенный перитонит характеризуется как системная воспалительная реакция организм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R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в ответ на развитие гнойно-некротического процесса в органах брюшной полости, клинически проявляющаяся явлениями эндотоксикоза и множественной дисфункцией органов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пустимо условное выделение в изложении патогенеза перитонита четырех аспектов, которые тесно взаимосвяза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анизмы отграничения патологического процесса в полости брюшин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муногенез при перитони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генез нарушения висцеральных функци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дотоксикоз при перитони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нические признаки перитонита определяются, во-первых, локализацией первичного источника процесса, а, во-вторых, местными и общими признаками непосредственно воспалительного процесса в брюши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иническая картина острого вторичного распространенного перитонита складывается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левого синдро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изикальных признаков распространенного воспаления брюши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имптомов ее раздражения, свободной жидкости в брюшной пол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растающего пареза кишечн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, а такж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з признаков обезвоживания тка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ухости языка и видимых слизистых, снижение эластичности кожных покровов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грессирующего эндотоксико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тахикардии, лихорадки, нейтрофильного лейкоцитоза со сдвигом влево, токсической энцефалопат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линика и диагностика перитонит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мотре обращается внимание на вынужденное положение больного - на боку, с приведенными к животу коленями. В запущенных случаях отмечается 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es Hyppocratic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». При осмотре живота может выявляться асимметрия, в акте дыхания живот не участвует. При пальпации живот напряжен, болезненный. Симптомы Щеткина-Блюмберга, Воскресенкого, Раздольского положитель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стемные нарушения при перитоните определяются быстро прогрессирующей дегидратацией, эндотоксикозом. В зависимости от степени выраженности последнего, это могут быть классические признаки системной воспалительной реакции, полиорганной недостаточности, в том числе и септического шока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2"/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вертикулез  толстой  кишки  с  перфорац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иагностик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95720" cy="361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5760" cy="35812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2286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ый газ под правым куполом  диафраг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4952880" y="54864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жественные  горизонтальные тонкокишечные  жидк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редоперационная подготовк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бщепризнано, что 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бсолютного большинства пациентов сроки подготовки к операции не должны превышать полутора-двух часов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с учетом некоторых индивидуальных различий в зависимости от возраста больных, массы тела (которая определяется ориентировочно), наличия сопутствующих заболеваний общая схема предоперационной подготовки должна включ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йное (при наличии сердечно-легочной недостаточности - капельное) внутривенное введение низкоконцентрированных полионных кристаллоидных растворов в количестве до 1000-1500 мл, желательно под контролем ЦВ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400-500 мл коллоидных растворов для восполнения объема циркулирующей жидк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венное применение антибиотиков широкого спектра действия за 30-40 минут до начала опер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рекцию центральной и периферической гемодинам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Задачи оперативного вмешательств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еративное вмешательство при распространенном (разлитом) перитоните предусматривает выполнение следующих основны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ранение источника перитони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раоперационную санацию и рациональное дренирование брюшной пол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пролонгированной санации полости брюшины в послеоперационном перио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нирование кишечника, находящегося в состоянии парез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воздействия на основные пути резорбции и транспорта токсинов (по специальным показания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циональный доступ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спространенном перитоните - срединная лапаротомия, обеспечивающая возможность полноценной ре­визии и санации всех отделов брюшной по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вскрытия брюшины по возможности полно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даляется патологическое содержим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гной, кровь, желчь, каловые массы и т.д. Наиболее полноценно и менее травматично это можно выполнить с помощью электрического отсоса, снабженного специальным наконечником, предотвращающим присасывание петель кишечника и большого сальника. Особое внимание обращается на места скопления экссудата - поддиафрагмальные пространства, боковые каналы, полость малого т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4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/3 смертей при хирургических заболеваниях ОБП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трые заболевания ОБП в 80-85% наблюдений сопровождаются перитонит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етальность – 20-30%, при распространенных гнойных перитонитах достигает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80-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%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-образных швов с последующим дозированным их сведением для профилактики развития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116000" y="2205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ris_5"/>
          <p:cNvPicPr/>
          <p:nvPr/>
        </p:nvPicPr>
        <p:blipFill>
          <a:blip r:embed="rId1"/>
          <a:stretch/>
        </p:blipFill>
        <p:spPr>
          <a:xfrm>
            <a:off x="395280" y="2438280"/>
            <a:ext cx="4343400" cy="3916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5003640" y="19890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ris_5"/>
          <p:cNvPicPr/>
          <p:nvPr/>
        </p:nvPicPr>
        <p:blipFill>
          <a:blip r:embed="rId2"/>
          <a:stretch/>
        </p:blipFill>
        <p:spPr>
          <a:xfrm>
            <a:off x="4800600" y="2438280"/>
            <a:ext cx="4343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акуумная повязка – вид сверху (A) и в поперечной плоскости (B). Это сэндвич из 3 слоев. Внутренние органы покрыты слоем полиэтилена, средний слой впитывающее хирургическое полотенце, и внешний слой представленный клеющейся пленкой. Дренажи располжены в среднем слое. 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7" name="Picture 2" descr="http://www.surginet.info/modules/icontent/inPages/2/6/images/image002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02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pture03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55640" y="177336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apture17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5640" y="4114800"/>
            <a:ext cx="3352680" cy="233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apture08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5148360" y="1844640"/>
            <a:ext cx="3352680" cy="2311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pture21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5148360" y="4114800"/>
            <a:ext cx="3352680" cy="2338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252720" y="260280"/>
            <a:ext cx="9396360" cy="14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ослеоперационный перитонит: санация ОБП, временное закрытие лапаротомной раны с помощью пленки из ПВХ (методика «сэндвич») при развитии синдрома абдоминального компартмент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именение вакуумного устройства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Picture 2" descr="http://www.surginet.info/modules/icontent/inPages/2/6/images/image003.jpg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5105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конструкция контаминированного абдоминального дефекта биологическим протезом (acellular dermal matrix) подшитым к фасции. 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2" descr="http://www.surginet.info/modules/icontent/inPages/2/6/images/image004.jpg"/>
          <p:cNvPicPr/>
          <p:nvPr/>
        </p:nvPicPr>
        <p:blipFill>
          <a:blip r:embed="rId1"/>
          <a:stretch/>
        </p:blipFill>
        <p:spPr>
          <a:xfrm>
            <a:off x="533520" y="68580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urginet.info/modules/icontent/inPages/2/6/images/image005.jpg"/>
          <p:cNvPicPr/>
          <p:nvPr/>
        </p:nvPicPr>
        <p:blipFill>
          <a:blip r:embed="rId2"/>
          <a:stretch/>
        </p:blipFill>
        <p:spPr>
          <a:xfrm>
            <a:off x="4952880" y="685800"/>
            <a:ext cx="4010040" cy="4343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5105520" y="5181480"/>
            <a:ext cx="373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Грануляционная ткань прорастает сквозь биологический протез соединяя его с </a:t>
            </a:r>
            <a:br>
              <a:rPr sz="1800"/>
            </a:b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раной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87280" y="69228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26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Times New Roman"/>
              </a:rPr>
              <a:t>Травма ОБП: тампонада источника кровотечения, выведение боковой колостомы и быстрое закрытие лапаротомной раны с помощью цапок при нестабильности пострадавш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6920" y="177336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Image005"/>
          <p:cNvPicPr/>
          <p:nvPr/>
        </p:nvPicPr>
        <p:blipFill>
          <a:blip r:embed="rId1"/>
          <a:stretch/>
        </p:blipFill>
        <p:spPr>
          <a:xfrm>
            <a:off x="5508720" y="2708280"/>
            <a:ext cx="3240000" cy="3768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684360" y="1844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P1090124"/>
          <p:cNvPicPr/>
          <p:nvPr/>
        </p:nvPicPr>
        <p:blipFill>
          <a:blip r:embed="rId2"/>
          <a:stretch/>
        </p:blipFill>
        <p:spPr>
          <a:xfrm>
            <a:off x="684360" y="2637000"/>
            <a:ext cx="4317840" cy="388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0" y="19810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PICT0049"/>
          <p:cNvPicPr/>
          <p:nvPr/>
        </p:nvPicPr>
        <p:blipFill>
          <a:blip r:embed="rId1"/>
          <a:stretch/>
        </p:blipFill>
        <p:spPr>
          <a:xfrm>
            <a:off x="4952880" y="1066680"/>
            <a:ext cx="3962520" cy="556272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192" name="Text Box 4"/>
          <p:cNvSpPr/>
          <p:nvPr/>
        </p:nvSpPr>
        <p:spPr>
          <a:xfrm>
            <a:off x="380880" y="228600"/>
            <a:ext cx="876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ослеоперационные ослож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57200" y="1066680"/>
            <a:ext cx="4343400" cy="5625720"/>
          </a:xfrm>
          <a:prstGeom prst="rect">
            <a:avLst/>
          </a:prstGeom>
          <a:solidFill>
            <a:srgbClr val="000000"/>
          </a:solid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ентерация (расхождение срединной ра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операционная полиорганная недостато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шечные сви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систирующий абдоминальный сепс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ковая ретракция с образованием обширного деф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34340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юшина представляет собой серозную оболочку, полностью или частично покрывающую органы брюшной полости, состоящую из соединительной ткани и покрытую однослойными плоскими клетками (мезотелием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состоит из париетального и висцерального листков, представляющих собой единую непрерывную оболочку. Висцеральный листок покрывает органы, париетальный выстилает стенки полости живота и таза, образуя у мужчин замкнутый мешок. У женщин он сообщается посредством маточных труб с полостью матки и наружными половыми орган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в брюшине имеются участк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анссудирующи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тонкой кишки и широких связок матки),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сасывающие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диафрагмы и слепой кишки) и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ндифферентны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рюшина желудка и передней стенки живота)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Брюшина состоит из 6 слоев. Брюшине присуща высокая способность всасывания. Она имеет характер полупроницаемой оболочки с обильным кровоснабжением и за сутки она может всосать до 70 л жидкости, которая поступает в систему воротной ве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83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АТОМИЧЕСКИЕ И ФИЗИОЛОГИЧЕСКИЕ ОСОБЕННОСТИ БРЮШИН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брюшины примерно равна или несколько больше поверхности кожного покрова и составляет приблизительно 22000 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а  является огромным полем интерорецепторов, в котором богато представлены нервные сплетения, концевые аппараты и ганглиозные клетки, и в случае развития воспалительного процесса она становится источником мощной патологической импульсации, что играет важную роль в развитии патогенетических реакций при перитони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нервация висцеральной брюшины осуществляется мейснеровским и ауэрбаховским сплетениями. Париетальный листок брюшины иннервируется от нервных сплетений брюшной полости (солнечное, печеночное, селезеночное и т.д.) и межреберных нер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762120" y="3049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учаи перитон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ытки создать стройные научно-обоснованные и удобные в практическом отношении классификации перитонита имеют длительную историю. И все же общепринятой классификации перитонитов до настоящего времени не существует, хотя их было предложено много (по этиологическому признаку, по патологоанатомическим признакам, по степени распространенности процесса и так дал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уясь на утвердившиеся в литературе подходы, можно выделить главные направления классификации перитони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эт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распростран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характеру патологического содержимого в пол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рюш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микробиологическому факто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 тяжести общих клинических проявл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ПЕРИТОНИТ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ологическая 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hens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 соавт., 1998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спонтанный бактериальный перитонит» — редкая форма перитонита гематогенного происхождения или транссудацией специфической моноинфекц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других орган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инфицированием брюшины. К таким формам относят спонтанный перитонит у детей, асцит-перитонит при циррозе печени, туберкулезный перитонит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дители, как правило, представлены в виде моноинфекции, наиболее часто упоминае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trept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neumoni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имеются литературные данные о преобладании других микроорганизмов, что свидетельствует о неоднородности сравниваемой популяции больных. У женщин, живущих половой жизнью, основными возбудителями являются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eisseriae gonorrhoeae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lamydi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rachomatis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 больных, которым проводится перитонеальный диализ, развитие перитонита связано с инфицированием грамположительными микроорганизмами или (в 3-4 %)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seudomonas aeruginosa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понтанный» перитонит у детей возникает в неонатальном периоде или в возрасте 4-5 лет. В последнем случае предрасполагающим фактором может служить наличие системных заболеваний (красная волчанка) или нефротического синдром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нтанный перитонит взрослых возникает нередко после дренирова­ния асцита, обусловленного циррозом печени, а также при использовании длительного перитонеального диал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— наиболее частая форма осложненной интраабдоминальной инфекции, являющаяся основной причиной абдоминального сепсиса у хирургических больных. В 80% случаев причиной вторичного перитонита являются деструктивные поражения органов брюшной полости; в 20% — различные абдоминальные хирургические операции (послеоперационный перитонит) и посттравматический перитонит (при закрытой травме или проникающих ранениях живота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тичный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перитони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или «перитонит без манифестирующего источника инфекции»,— это рецидивирующая и персистирующая форма перитонита, которая развивается при критическом состоянии пациентов на фоне угнетенных механизмов местной и системной противоинфекционной защиты. Само обозначение «третичный перитонит» индуцировано тем, что в его этио­логии у больных и раненых на первый план выступает микрофлора, пережившая как первичный цикл антибиотикотерапии (как правило, - эмпирической, направленной на вероятную структуру микробного загрязнения), так и вторичный (ориентированный на данные антибактериальных посевов и чувствительность к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биотикам). Эта «третичная микрофлора» обычно бывает представлена мультирезистентными штам­мами коагулазонегативных стафилококков, энтеробактерий, псевдомонад или грибами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andid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pp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.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характерно для нозокомиальной инфе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v</cp:lastModifiedBy>
  <dcterms:modified xsi:type="dcterms:W3CDTF">2011-11-07T09:56:3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