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568-55CF-458C-BEE3-0CE9D67C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398-7AA7-4CFE-AE51-BB954D45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12D-0926-4A29-B203-3A93D907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3F4-3797-4D44-85CD-720B9E86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01CA-5A68-4A99-8C58-1EF8F77C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7976-9E87-4D10-A034-7AE1A041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6312-ED15-47B4-ACDE-D0409C0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AF5A-0477-4215-83D9-6243366D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AF4F-2643-44D5-9210-0EF0EAC2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372C-35C4-4561-82FB-72351B48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C0AC-D754-48C4-9CFE-4FC276C7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85E-C590-4F5D-9B9D-1251CD0A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9972-5FF5-432A-8913-59190370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09E3-A2EF-40DF-B375-2A83AA9B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A904-F677-428C-AB77-1D439FFF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C7D9-882B-43F9-9BCE-C9A713E7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CADA-2983-4742-A6BA-12477AA4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8DD-6573-4AC6-A95B-C721D43B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000-FCFC-42AF-BF89-69B655BB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3FE-1FFF-4D35-8C39-52D08762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47B-2058-442A-AE68-51633CBE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6A3-D854-4E8C-9423-07A3E13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70C-6456-4B80-AE81-9467414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BF2-580B-44F7-9D37-FCDF5FEA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B934-CD22-4824-AE50-3F1FEED18D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BB5C-4E53-4F64-9ACB-369C1922E4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Харьковский национальный медицинский университет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Кафедра хирургии № 2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9280" y="3049560"/>
            <a:ext cx="655812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иника и диагностика хронического панкреат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льтразвуковые признаки ХП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620640"/>
          <a:ext cx="8955000" cy="6069240"/>
        </p:xfrm>
        <a:graphic>
          <a:graphicData uri="http://schemas.openxmlformats.org/drawingml/2006/table">
            <a:tbl>
              <a:tblPr/>
              <a:tblGrid>
                <a:gridCol w="1116000"/>
                <a:gridCol w="78390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ня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генное диффузное повышение эхогенности паренхимы, сохранение рисунк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ина "булыжной мостовой", которую дают эхосигналы средней интенсивнос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и плотный эхосигналы, неравномерно распределенные на нормальном фоне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дня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омогенное распределение эхосигналов с чередованием плотных и кистозных участк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вычайная вариабельность амплитуды и протяженности эхосигнал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размера органа. Иногда лишь частичное увеличение (переднезадние размеры: головка - более 3 см, тело - 2,5 см, хвост более 3 см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ьцификация тканей железы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менты в панкреатическом проток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ты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ие панкреатического протока (более 2,5 мм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ормация органа (изменение внешнего контура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плотности ткани ПЖ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54450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хограмма хронического панкреатита с преимущественным поражением головки поджелудочной железы: а) кальцинаты в головке ПЖ; б) нерасширенный Вирсунгов проток; в) псевдокиста ПЖ; г) увеличеннная головка ПЖ; д) селезеночная ве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4572000" cy="38862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90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4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22300" spc="-1" strike="noStrike">
                          <a:solidFill>
                            <a:srgbClr val="00408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408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5" descr="Image"/>
          <p:cNvPicPr/>
          <p:nvPr/>
        </p:nvPicPr>
        <p:blipFill>
          <a:blip r:embed="rId1"/>
          <a:stretch/>
        </p:blipFill>
        <p:spPr>
          <a:xfrm>
            <a:off x="1835280" y="907920"/>
            <a:ext cx="55432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5589360"/>
            <a:ext cx="713448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хограмма хронического кальцифицирующего панкреатита: а) вирсунголитиаз; б) расширенный Вирсунгианов проток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5" descr="Image"/>
          <p:cNvPicPr/>
          <p:nvPr/>
        </p:nvPicPr>
        <p:blipFill>
          <a:blip r:embed="rId1"/>
          <a:stretch/>
        </p:blipFill>
        <p:spPr>
          <a:xfrm>
            <a:off x="826920" y="836640"/>
            <a:ext cx="69836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Компьютерная томограф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ет возможность поставить диагноз, прежде всего на стадии осложнения панкреатита: при обнаружении кальцификации, формировании псевдокист, повреждении соседних органов или атрофии паренхимы П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, единственно достоверным признаком неосложненного ХП, который позволяет выявить этот метод, я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крупных протоков желе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илятация или стенозирова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074-13"/>
          <p:cNvPicPr/>
          <p:nvPr/>
        </p:nvPicPr>
        <p:blipFill>
          <a:blip r:embed="rId1"/>
          <a:srcRect l="0" t="51316" r="0" b="0"/>
          <a:stretch/>
        </p:blipFill>
        <p:spPr>
          <a:xfrm>
            <a:off x="1187280" y="1341360"/>
            <a:ext cx="640908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900000" y="5589720"/>
            <a:ext cx="71344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ьютерная томограмма: Хронический кальцифицирующий панкреатит. Множественные кальцинать в П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Эндоскопическая ретроградная холангиопанкреатограф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Золотой стандарт» в диагностике хронического панкреат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воляет выявить стеноз протока и определить локализацию обструкции, обнаружить структурные изменения мелких протоков, внутрипротоковые кальцинаты и белковые проб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0408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основании результатов исследования                    диагностирую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роятный ХП (изменены 1-2 мелких протока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ий ХП (изменено более трех мелких протоков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еренный ХП (поражение главного протока и ответвлений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женный (изменение главного протока и ответвлений, внутрипротоковые дефекты или камни, обструкция протока, стриктуры или значительная неравномерность поражения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развития серьезных осложнений (острого панкреатита, холангита, аллергических реакций и др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тота от 0,8% до 30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тальность составляет около 1% случа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229360"/>
            <a:ext cx="8362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хронического панкреатита: расширение панкреатического протока и ветвей 2-3-го порядка, неровность контуров протока и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at13_3_big"/>
          <p:cNvPicPr/>
          <p:nvPr/>
        </p:nvPicPr>
        <p:blipFill>
          <a:blip r:embed="rId1"/>
          <a:stretch/>
        </p:blipFill>
        <p:spPr>
          <a:xfrm>
            <a:off x="2050920" y="907920"/>
            <a:ext cx="4680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Магнитно-резонансная холангиопанкреатография (МРХПГ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ямое изображение желчных протоков и протоков ПЖ без инвазивного вмешательства и введения контрастных вещест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ds_01_01_b"/>
          <p:cNvPicPr/>
          <p:nvPr/>
        </p:nvPicPr>
        <p:blipFill>
          <a:blip r:embed="rId1"/>
          <a:stretch/>
        </p:blipFill>
        <p:spPr>
          <a:xfrm>
            <a:off x="4788000" y="2133720"/>
            <a:ext cx="3800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иническая картина хронического панкреати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вой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птический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дром билиарной гипертен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дром инкреторной недостато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750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Эндоскопическое исслед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уществлять эндоскопический осмотр панкреатического прото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ять селективный забор панкреатического сока для ферментного и морфологического исследова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иагностировать патологию большого дуоденального сосочк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вить заболевания желудка и двенадцатиперстной кишки, являющиеся возможной причиной развития Х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5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66"/>
                </a:solidFill>
                <a:latin typeface="Arial"/>
              </a:rPr>
              <a:t>Редко используемые методы инструментальной диагностики хронического панкреатита</a:t>
            </a: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зорная рентгенография: чаще всего позволяет определить только крупные кальцинаты в проекции ПЖ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рескожная чреспеченочная холангиография: высокая степень инвазивности и возможность развития осложнений, по диагностической значимости уступает ЭРХПГ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цинтиграфическое исследовани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еатосцинтиграфия: (используется внутривенное введение метионина, меченного 75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еатоангиосцинтиграфия: (используется селективное введение макроагрегата альбумина, меченного,99mTc в артерии ПЖ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нгиография: используется только при дифференциальной диагностике с опухолями, подозрении на сосудистый генез ХП, при подозрении на аномалию поджелудочной желез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Arial"/>
              </a:rPr>
              <a:t>Лабораторная диагностика хронических панкреатитов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содержания (активности) ферментов ПЖ в крови, моч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довые методы изучения экзокринной функции ПЖ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зондовые методы выявления внешнесекреторной недостаточности П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Исследование содержания ферментов поджелудочной железы в крови и моче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87854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уровня амилазы в крови и моч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панкреатическ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ила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активности трипсина в сыворотке кров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активности липазы в сыворотке кров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сфолипаза А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естеролэтер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астаза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Зондовые методы изучения экзокринной функции поджелудочной желез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1719000"/>
            <a:ext cx="81471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ямые метод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андартный секретин-панкреозиминовый тес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рямые метод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ст Лун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 Лунда: 300 мл смеси (5% протеин, 6%   растительное масло, 15% углеводы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Беззондовые методы диагностики внешнесекреторной недостаточности поджелудочной желез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719360"/>
            <a:ext cx="8713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 на активность панкреатических ферментов, при которых в моче или выдыхаемом воздухе определяют продукты гидролиза разных субстра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 на недорасщепленные и не всосавшиеся компоненты пищи в кале (копрограмма содержания жира в ка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содержания панкреатических ферментов (эластазы, липазы, химотрипсина) в кал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66"/>
                </a:solidFill>
                <a:latin typeface="Arial"/>
              </a:rPr>
              <a:t>Тесты на активность панкреатических ферментов, при которых определяют продукты гидролиза разных субстратов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719360"/>
            <a:ext cx="8713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ы на пероральном введении специфических для ферментов ПЖ субстратов. После взаимодействия последних с ферментами ПЖ в моче и/или в сыворотке крови определяются продукты расщепления, по количеству которых судят о внешнесекреторной функции П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NBT-РАВА тес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нкреато-лауриловый тес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Йодолиполовый тес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ыхательные тесты с использованием 14С-триолеина или 13С-триоктано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Исследование кал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фекалия определяется в тех случаях, когда вес кала превышает 400 г/с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театореи: в норме после приема 100 г жира с пищей за сутки выделяется до 7 г нейтрального жира и жирных кис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фекалия и стеаторея не относятся к ранним проявлениям внешнесекреторной недостаточностиПЖ. Явные признаки недостаточности продукции липазы свидетельствует о поражении 70-90% паренхиматозных элементов П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ценка содержания панкреатических ферментов в кал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химотрипсина в кал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фекальной эластазы-1 – «золотой стандарт»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0066"/>
                </a:solidFill>
                <a:latin typeface="Arial"/>
              </a:rPr>
              <a:t>Болевой синдром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изуеися в эпигастрии, правом и левом подреберье, вокруг пупка, опоясы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радиируют в поясницу, спину, левую лопатку, плечо, область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ые, изнуря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иваются в положении лежа на спине, ослабевают в положении сидя при небольшом наклоне впе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цируются погрешностями в диете:приемом алкоголя, жирной, обильной, горячей или холодной пи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Диспептический синдром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осы (от3 до 6р в сутки): кал кашицеобразный, зловонный, с жирным блеск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ху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ращение к жирной пище, тяжесть после еды, чувство вздутия и распирания, особенно после нарушения диеты и приема алкого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ыжка, тошнота, рвота не приносящая облег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Синдром билиарной гипертензи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ханическая желтуха, обусловленная отеком головки ПЖ, закупоркой общего желчного протока камнем или сопутствующим холанги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Синдром инкреторной недостаточно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тройства углеводного обмена встречаются у 2\3 боль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половины из них – клинические признаки сахарного диаб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лонность к гипогликемии , потребность в низких дозах инсулина, редкое развитие ослож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Периоды течения хронического панкреатит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чальный период (чаще - до 10 лет), характеризующийся чередованием периодов обострения и ремиссии. Основным проявлением обострения являются боли разной интенсивности и локализации. Диспептический симптомокомплекс если и бывает, то носит явно сопутствующий характер и купируется при лечении перв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торой период - стадия внешнесекреторной недостаточности ПЖ (чаще - после 10 лет течения заболевания). Боли уступают свое место диспептическому симптомокомплексу. Болевой абдоминальный синдром становится менее выразительным, или его может не быть. Вследствие развившегося синдрома мальабсорбции прогрессирует похудани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ложненный вариант течения ХП (возможно развитие в любом периоде). Происходит изменение "привычного" варианта клинической картины: изменяется интенсивность болей,их характе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ы диагностики хронического панкреати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струментальные методы диагнос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абораторная диагности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Arial"/>
              </a:rPr>
              <a:t>Инструментальные методы диагности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З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ьютерная том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РХП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РХП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доскопическое исслед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4:58:00Z</dcterms:created>
  <dc:creator>Viktor</dc:creator>
  <dc:description/>
  <dc:language>en-US</dc:language>
  <cp:lastModifiedBy>kriv</cp:lastModifiedBy>
  <dcterms:modified xsi:type="dcterms:W3CDTF">2011-11-02T06:45:12Z</dcterms:modified>
  <cp:revision>22</cp:revision>
  <dc:subject/>
  <dc:title>Методы диагностики хронического панкреатита</dc:title>
</cp:coreProperties>
</file>