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6269-6253-4E66-A29B-F9D2509BE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0842-268B-478E-B9FA-E2AFDF2955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365B-A7CA-4D3A-AD36-5F26C27102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E09F-A1A6-4287-8198-E7CA2ACB54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8A45-18CA-44AF-93F8-0CD537B8A0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6C35-52A2-4716-B7DD-365ED9757A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2EA4-5463-44C2-98C8-DC1CC36E39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6964-73CD-437C-89A6-675425223F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E4A4-16B9-472C-A4ED-E333933F0A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C954-B60D-44E1-9446-D5D8E63684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B51-0F6B-4166-9E28-3683AFC219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077C-E8A4-47B7-B90A-0DB19D975C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A51B-3B11-44AD-ABF8-B6E1A086C3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931F-18E7-4E46-A2A4-0CB0FD1511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36BF-F8DF-4396-A10A-D72F306A6A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44DF-DE46-480E-AF32-E1D16925BA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3704-7C4C-4319-87D8-C0C88C45E0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B9C7-1341-4356-9027-EFEA825475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271C-01DF-422F-AF95-57D2B999E2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8942-B9FF-4B95-9093-0818F813EB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568C-E116-4755-AD53-559DDEBBF3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82DC-20B1-4879-885E-238BB25023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CC7E-79E6-482C-86DC-619E62E633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40AA-D0B5-4311-9B62-2F4087825C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B21E-0788-4C0D-B03A-E1CAB2E80D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08F5-5D75-45D7-8EBA-B5E3ADACB6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1169-2709-416B-879B-ECFFC472E8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0DED-A767-484B-824F-E3CC3625D5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E903-AFC1-445A-923F-ACBBA19805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2BD6-9CDF-45F1-8DA9-1FA56D0013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F543-DBE9-4B92-88CB-21A95DA85D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E3FA-D45F-49B4-96E2-3DB51EDE67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B587-7A65-4578-9224-6067A645CE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85B5-AF30-46EA-9193-D3BB735D54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600E-213E-4A5D-9B58-EE1FDF2FEA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FAD8-5EA3-4E90-B4A4-09186A9F43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DB37-E853-4341-88C2-6DF6493639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7C6B-BFA9-4746-BB6B-484FE2ED83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EC9B-62B1-4D3B-8669-458D3EA626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5F8A-F9FF-44C8-9B5C-7F25E4CE3D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A8A9-1513-4E50-A088-EA90D2EC64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3D80-EC04-493C-86FA-42DAA8F613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B70C-2E4E-4B59-8AAE-F45313D7CA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8938-561D-49C2-B306-B879077DCC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1C7-2D10-45E2-96B1-57A4D45A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FFC-2D66-4327-BC21-DFAD755F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35F-6D9D-4C7C-A9E2-A01AD566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38B-88CD-4ABC-951C-C6001DBE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6C3-789E-45A5-ACDE-F7B7DD82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6FE-3822-48D5-BAB8-81D6B2F4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F0C-B735-438A-BC1B-2AFDA6FC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BE1-A6CA-4B46-969B-5F6A88B8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5BD-2167-4D55-B21D-8D19F433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E7F-8435-432A-B1DC-518D69A2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108-5926-4153-85B1-DA63C86C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0E4-2898-44EE-B47F-0A33600B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011D-03CF-4D14-B109-249BF4241E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кафедры факультетской хирургии ХНМУ. Методы обследования хирургических больных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ор Криворучко И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руководством В.Ф.Грубе его ученики М.И.Кузнецов и Ю.Р.Пенский разработали новый метод шва печени, быстро получивший признание у нас и за рубежом, открывший путь к резекции печени и сохраняющий некоторое значение и в наши д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бщественная деятельнос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е через 2 года по приезду в Харьков по его инициативе в 1861 г. организуется Харьковское медицинское общество. В течение 22 лет кряду (1869-1890) В.Ф.Грубе избирался его председателем, почетным членом и почетным председателем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893 г. В.Ф.Грубе заразился при операции септического ребенка и заболел тяжелым сепсисом. Хотя ученого удалось спасти, но его здоровье и силы оказались сильно подорванными: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28 апреля 1898 г. он скончался в Харько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П.Тринклер родился в Петербурге в 1859 г. Закончив гимназию в Симферополе с золотой медалью, поступил на медицинский факультет Харьковского университ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89 г. Н.П. Тринклер защитил докторскую диссертацию «К хирургии поперечного перелома надколенника», работал приват-доцентом, профессором, заведующим кафедрой хирургической патологии,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 с 1912 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о 1926 г. заведовал кафедрой факультетской хиру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излюбленными областями в хирургической и научной деятельности были абдоминальная хирургия, хирургия опорно-двигательного аппарата, черепно-мозговая хирургия; лечение хирургических инфекций и ран, онколог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ласти абдоминальной хирургии Н.П.Тринклер, впервые в отечественной и мировой литературе, изучил висцеральный сифилис и его проявления в форме хирургических заболева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Его монографическое исследование «Солитарный эхинококк селезенки, его диагностика и лечение» носит клинико-патоморфологический характер и по ряду моментов сохраняет свое значение до сих по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е внимание в своих исследованиях Н.П.Тринклер уделял также перекруту неполых органов (сальник, селезенка) с илеусоподобным течением, туберкулезному сужению тонкой киш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тельную работу провел Н.П.Тринклер по оптимизации оперативных методик, техники и хирургических доступов к тем или иным брюшным орга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енцом его разработки абдоминальной хирургии явилась произведенная в 1910 г. вторая в нашей стране гастрэктомия (первую провел С.П.Федоров). Этот неполный перечень достижений свидетель-ствует, что Н.П.Тринклер внес ценный вклад в становление и развитие абдоминальной хиру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большое место в кругу его научных и практических интересов занимали и многообразные поражения опорно-двигательного аппарата: повреждения, острые и хронические специфические (туберкулез, сифилис) воспалительные заболевания, новообраз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П.Тринклер блестяще владел черепно-мозговой хирургией. С величайшей деликатностью, почти бескровно он успешно оперировал на головном мозге по поводу его повреждений, абсцессов, опух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й из его излюбленных областей была хирургическая инфекция, ее профилактика (в том числе асептика) и лечение. Результатом его 40-летнего изучения хирургической инфекции по весьма многочисленным личным наблюдениям мирного и военного времени (первая мировая, гражданская войны) явилась его замечательная монография «Основы современного лечения ран», изданная в 1926 году после смерти Н.П.Тринкле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ступл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рургическая клиника Харьковского университета начала формироваться в 1814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 время кафедра по уставу 1835 года называлась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Хирургия операционная, глазные болезни и хирургическая клини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наиболее излюбленной областью Н.П.Тринклера была онкология. Он глубоко изучал ее теоретические основы, вопросы патогенеза малигнизации и предраковых состояний, связи злокачественных новообразований с предшествовавшим хроническим воспалением, связи между дизэмбриогенезом и малигнизацией между эмбриональной и раковой клет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учи убежденным сторонником радикального хирургического лечения злокачественных опухолей в ранние сроки, он всегда стремился сочетать это с местной или общей химиотерапией (осмиевой кислотой, растворами тяжелых металлов с холином, коллоидными металлами) или же с лучевой терапией. Наряду с этим Н.П.Тринклер уделял большое внимание совершенствованию методики и техники радикальных операций при злокачественных опухол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бщественная деятельнос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ственная деятельность Н.П.Тринклера была обширной и многогранной. Он являлся одним из организаторов Общества российских хирургов и участником всех его съезд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кончался Н.П.Тринклер 10 августа 1925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Н.Шамов в 1901 г. поступил в Военно-медицинскую академ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 1913 г. защитил диссертацию «О значении физических методов для хирургии злокачественных новообразований» и был удостоен ученой степени доктора медиц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создания В.Н.Шамовым и его аспирантом Н.Н.Еланским стандартных сывороток для определения у людей групп крови гемотрансфузия в нашей стране стала на прочную научную и практическую основу. Проблема переливания крови с тех пор на протяжении всей дальнейшей жизни В.Н.Шамова стала одним из основных направлений его научно-исследовательской и практической деятельности, от которого он никогда не отходи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ьковский период деятельности В.Н.Шамова (1923-1939) оказался весьма плодотворным и стал периодом расцвета его многогранного научного творчества, сочетавшегося с большим размахом его хирургической, общественной и организаторской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Н.Шамов организовал первое в Украине и третье в СССР нейрохирургическое отделение, экспериментальную лабораторию и, несколько позже, урологическое отде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.Н.Шамов научно изучает и организационно разрабатывает вопросы о донорстве, об «универсальном доноре», о консервации крови, переливании консервированной крови и ее компонентов, об осложнениях при переливании крови и их предупреждении и прочие вопро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райне вынужденной, безвыходной ситуации выдающийся хирург профессор С.С.Юдин в Москве, опираясь на блестящие убедительные экспериментальные данные В.Н.Шамова, произвел переливание крови от свежего трупа человека больному, погибавшему от острого массивного кровотечения, и быстро спас его этим. Об этом и о последующих шести успешных переливаниях трупной (фибринолизной) крови больным в аналогичной ситуаций С.С.Юдин доложил на IV Всеукраинском съезде хирургов в 1930 г., а в 1932 г. – на ХХII Всесоюзном съезде хирургов этот вопрос стал одним из программ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ец 20-х и особенно 30-е годы ознаменовались рядом важных исследований клиники В.Н.Шамова по гомотрансплантации тканей и органов от трупа. Так, такую пересадку костного мозга и консервирующие его среды успешно изучил Г.Г.Караванов эндокринных желез - Г.М.Рудицкий, кожи - В.М.Ситенко, несколько позже соединительно-тканных элементов - И.С.Коган. А В.Б.Вороному удалось в 1932 г. впервые в мире успешно пересадить на шею собаки, лишенной обеих почек, почку свежего трупа другой собаки посредством сосудистом шва. В 1934 г. по предложению В.Н.Шамова он пересадил женщине, погибавшей от отравления сулемой (уремия), почку от свежего трупа человека. Хотя в первые сутки от операции пересаженная почка функционировала, однако спасти больную не удалось: она погибла через сутки от опер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временно с этим его интерес к переливанию крови продолжает развиваться. По его инициативе в 1930 г. в Харькове организуется второй в СССР Институт переливания крови и неотложной хирургии (в настоящее время – Институт общей и неотложной хирургии АМНУ), научным руководителем которого он станови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Ф.Грубе закончи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1850 г. с отличием Дерптский университет и ему была присвоена ученая степень доктора медицины после защиты диссертации о доброкачественных опухолях н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яду с этим, В.Н.Шамов энергично развивает научную и хирургическую разработку сложнейших разделов черепно-мозговой хирургии; симпатической нервной системы; эндокринологии; урологии; хирургии печени и желчных путей; перитони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939 г. возвратился в Ленинградскую военно-медицинскую академию в качестве единогласно избранного руководителя кафедры, сменившего своего скончавшегося выдающегося учителя С.П.Федоро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.Н.Шамов скончался в Ленинграде в 1962 г.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.З.Цейтлин родился 30 (18) мая 1894 г. в Ростове-на-Дону. Закончил медицинский факультет Варшавского университета в Ростове-на-Дону в 1917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21 июля 1941 г, (накануне Великой Отечественной войны) защитил докторскую диссертацию «Сосудистый шов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6 августа 1941 г. избран по конкурсу заведующим кафедрой факультетской хирургии того же медицинского института, которой руководил до июня 1970 г. в течение 29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 довоенный пери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сновными направлениями деятельности А.З.Цейтлина  бы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Изучение роли нарушений реакций иммунитета - аллергии в патогенезе гнойно-инфекционных заболеван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вместе с сотрудниками учения о «биологической антисептике», изучения влияния лизоцима на раневой процесс в инфицированной ране и его возможного значения в гнойной хирургии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роме того, в этот период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основными направлениями деятельности А.З.Цейтлина  бы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ирургия опухолей гипофиз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Дисциркуляторные расстройства головного мозга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йротравматиз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 военный период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ходясь в г. Чкалове (Оренбург) вместе с Харьковским медицинским институтом, профессор А.З.Цейтлин занимался интенсивной подготовкой врачей для фронта, одновременно с этим был главным хирургом отдела эвакогоспиталей Чкаловского облздравот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т период А.З.Цейтлином активно разрабатываются вопросы по лечению ран; огнестрельных переломов бедра; контрактур суставов; огнестрельных абсцессов; восстановительной и реконструктивной хирургии костно-суставного и сухожильно-мышечного аппарата; свободной пересадки кож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м 1944 г. ХМИ был реэвакуирован в Харьков. В этот период и в послевоенные годы Александром Захаровичем были обобщены работы по военным ранениям и их последствиям; был расширен и углублен круг вопросов по восстановительной и реконструктивной хирургии; подведению физиологической основы под клиническую хирургию; изучению действия антибиотиков при гнойной инфекции; нейрохирургии и хирургии эндокринной системы; абдоминальной хирургии; в последующем - по хирургии желчных путей и поджелудочной железы; урологии и нефрологии; анестезиологи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ван Григорьевич Митасов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1919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2006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л кафедрой с 1970 по 1991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Основные направления научной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рургия щитовидной железы, разработка и усовершенствование хирургических вмешательств при неотложных заболеваниях органов брюшной полости, усовершенствование методов хирургического лечения брюшных грыж, хирургическое лечение желчнокаменной болезни и хронического панкреатита, усовершенствование и разработка методик хирургического лечения язвенной болезни желудка и двенадцатиперстной кишки и друг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анислав Иванович Шевченко (1937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л кафедрой с 1991 по 2004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Основные направления научной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 и хирургическое лечение заболеваний щитовидной железы, поджелудочной железы при остром панкреатите и осложнениях его деструктивных форм, функциональных и органических заболеваний желудка и 12-перстной кишки, заболеваний желчевыводящей системы, гнойно-септических осложнений после оперативных вмешательств, заболеваний сосудов и сердца, проктологических заболе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859 г. В.Ф.Грубе, представивший на конкурс список в почти 10 тысяч лично им проведенных операций, был единогласно избран профессором, заведующим кафедрой факультетской хирургии Харьковского университе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ние субъективного состояния. Жалобы боль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мнез настоящего заболе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мнез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ивное исследование состояния больног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ужный осмотр: общее состояние, сознание, положение больного, кожа и слизистые оболочки, подкожная клетчатка, лимфатические узлы, молочные железы, костно-мышечная систе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кровообра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дых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пищеварения и селезен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мочеполовой си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исследование нервной системы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) исследование эндокринной систем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)  костно-мышечная сист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кализация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ый диагноз з указанием и обоснованием необходимости дополнительных исследований (лабораторных, биохимических, инструментальных, рентгенологических и др.) и консультаций других специалистов. Оценка произведенных дополнительных исследований и консульт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 обследова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инический диагноз (основное заболевание, осложнения, сопутствующие заболеван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чение больного. Обоснование необходимости оперативного вмешательства. Предоперационная подготовка и профилактика возможных послеоперационных осложнений. Выбор метода операции, обезболивания. Сочетание патогенетической терапии с другими видами лечения (диета, ЛФК, заместительная терапия, физметоды, симптоматическое, санаторно-курортное лечение и др., дневник с отражением динамики заболевания и лечебных мероприятий за дни курации больного, подпись куратор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пикри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ноз заболевания в отношении жизни больного, его реабилитации (выздоровления и трудоспособ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исок использованной литературы при написании истории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ласти наркоз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Ф.Грубе одним из первых в России стал изучать клиническое применение закиси азота (1871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 сравнительную клиническую оценку хлороформного и эфирного наркоза на основе большого опыта своей клиники, отдав большое предпочтение хлороформному наркозу, как сопровождающемуся в опытных руках небольшой летальностью (три смерти от наркоза на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тысяч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ций) и значительно меньшим количеством и тяжестью осложнений, чем эфирный наркоз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антисеп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был одним из первых в России, кто вместе со своим учеником И. К. Зарубиным уже с 1867 г. стал вводить в своей клинике антисептику (необходимость мыть руки перед операцией с мылом), через кратчайший срок от первой публикации Листера в 1867 г. об этом; причем он внес некоторые модификации в «Листеровскую» повязку, а именно – использование йодофор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ласти асеп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 со своими учениками Н.П.Тринклером, М.М.Кузнецовым и Н.Н.Филипповым В.Ф.Грубе одним из первых в России в 1890 г. ввел в свою клинику асептику, коренным образом реорганизовав для этого всю структуру и работу клиники и организовав в ней, в частности во вновь выстроенном для этой клиники отдельном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ву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ажном здании (1896), специальную бактериологическую лабораторию, способствовавшую дальнейшему совершенствованию асептики и ее научной разработ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хиру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Ф.Грубе следует считать одним из основоположников в России учения о грыжах и их оперативном лечен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одним из первых в России произвел успешную овариотомию в 1864 г., а в асептическую эру – спленэктомию, холецистэктомию, нефрэктомию, струмэктомию, производил операции на печени и поджелудочной желез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ал ряд новых оперативных методов при заболеваниях уха, горла и но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На основе своих военно-полевых наблюдений во франко-прусскую (1870-1871) и русско-турецкую (1877-1878) войны, в которых он участвовал в качестве хирурга, В.Ф.Грубе первым в литературе разработал за несколько лет до Фридриха метод первичной обработки огнестрельных ран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1-11-30T10:52:5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