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8FCE-CF98-4B45-8BD0-A6A1FC13C1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4D17-C479-4FEA-9A62-9C1DE1E28DE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6CDF-AFB6-4334-8AA3-052318573D7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F1CF-4329-4935-9540-2993E61AEF9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4EF1-29DF-414A-AAE2-68A6CDE42A0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F835-8E36-410F-A79E-5A716FCF4D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CB19-3F9E-4D56-8772-0A0BCA3E4B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3453-7DA9-4D0F-A882-ABD324757C4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79F8-7202-437A-847A-8DC2DBA1EA8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6530-FFA9-42DF-9FBA-0A2C0E7E2FA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A535-20FB-48B6-BA49-1705148E7DE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FDC0-7385-4174-BD15-E4ECEF33961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E790-1FEE-4596-A430-C9D93B35112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0D16-AC2C-42FA-B412-936CA01132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6553-E048-43F5-8345-9A5C5A68179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D86F-0476-40BB-A71D-0943F6D784B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B867-D8BB-4FC9-B626-A11A59ACDE7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E986-AA51-44C3-9302-AB9FA71BED7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DA73-3974-4098-B706-FDB58C285E0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B132-21DD-4BF9-B257-DF61A67E441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17F4-BF0B-4F4A-A769-96C8AE7AC5D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DE4E-67F0-4949-8B1D-B28CB94B98C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2114-BC72-4EBB-BF1D-CB923EF0663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2CE8-A8C2-4102-8676-A8CA5916963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CE60-D8B5-42F6-9F3A-D4E3CE3B778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EDA2-6503-426D-A84C-30A5236F99A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9217-5E94-49E0-AA1A-E3FF1235EB2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59DE-8009-4DA9-8CE1-2A4E245C657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8343-643B-4BC5-9C19-446E7D3912C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493E-9C2C-4A19-854C-8000E823441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A267-01B5-4320-88AD-AD0C0FBB5B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EDE2-1774-4050-A0BF-B09CF20E32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EA93-0929-4465-A6E8-7EAFAC1FE28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E27F-1A15-4791-839C-8F37B172A01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7929-CA9B-4CF5-871C-7A4D645E28F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1FD3-BCFB-41DB-ACFF-0E9B6445C15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4935-470E-48B2-93A5-D351A02249E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4853-058C-486C-9AA1-0A15470AD7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7409-9358-4B87-826E-B6B10971520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F993-6804-4FD6-AB45-0CF875F7197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A6F7-13FE-4875-A987-AE4E37B72D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89F7-35A2-4107-909F-0E1343BC78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E629-35B5-4DF5-BCD3-6B5F78FCA18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01DC-C3B1-4E8E-8753-284CC3847CE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A0D5-31E2-4649-91F8-2D3AC121C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A012-1EF6-477D-BEEB-9F981831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8CFD-7013-4395-91B2-DAFDFEF83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D9D8-DD8A-4DC7-A0D2-4C7549B54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BCBA-65A4-479B-AAED-D9BA633A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BFB5-FD3C-47F2-8B2A-07BBEEB3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F8DA-3D78-44E1-9FBB-1CC64D1F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D2EF-E491-4062-BAC4-E6E6D47B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4D4A-1DBD-4E84-AA96-11A4DDB4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6015-76B6-4AFC-8ACF-D4B670B6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FE61-6D96-46E9-91ED-AF061982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6EE9-8EF9-4C7F-921F-EA4F9E91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9AC3-98D8-4045-BEEF-B1C352D046D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кафедры факультетской хирургии ХНМУ. Методы обследования хирургических больных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фессор Криворучко И.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ильгельм Федорович Грубе (1827-1898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Достиже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руководством В.Ф.Грубе его ученики М.И.Кузнецов и Ю.Р.Пенский разработали новый метод шва печени, быстро получивший признание у нас и за рубежом, открывший путь к резекции печени и сохраняющий некоторое значение и в наши д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ильгельм Федорович Грубе (1827-1898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Общественная деятельност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же через 2 года по приезду в Харьков по его инициативе в 1861 г. организуется Харьковское медицинское общество. В течение 22 лет кряду (1869-1890) В.Ф.Грубе избирался его председателем, почетным членом и почетным председателем.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ильгельм Федорович Грубе (1827-1898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893 г. В.Ф.Грубе заразился при операции септического ребенка и заболел тяжелым сепсисом. Хотя ученого удалось спасти, но его здоровье и силы оказались сильно подорванными: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28 апреля 1898 г. он скончался в Харьков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иколай Петрович Тринклер (1859-1925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.П.Тринклер родился в Петербурге в 1859 г. Закончив гимназию в Симферополе с золотой медалью, поступил на медицинский факультет Харьковского университет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889 г. Н.П. Тринклер защитил докторскую диссертацию «К хирургии поперечного перелома надколенника», работал приват-доцентом, профессором, заведующим кафедрой хирургической патологии,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а с 1912 </a:t>
            </a:r>
            <a:r>
              <a:rPr b="0" lang="uk-UA" sz="2800" spc="-1" strike="noStrike">
                <a:solidFill>
                  <a:srgbClr val="ffcc00"/>
                </a:solidFill>
                <a:latin typeface="Arial"/>
              </a:rPr>
              <a:t>д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о 1926 г. заведовал кафедрой факультетской хирург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иколай Петрович Тринклер (1859-1925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Достиже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го излюбленными областями в хирургической и научной деятельности были абдоминальная хирургия, хирургия опорно-двигательного аппарата, черепно-мозговая хирургия; лечение хирургических инфекций и ран, онколог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иколай Петрович Тринклер (1859-1925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Достиж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области абдоминальной хирургии Н.П.Тринклер, впервые в отечественной и мировой литературе, изучил висцеральный сифилис и его проявления в форме хирургических заболеван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Его монографическое исследование «Солитарный эхинококк селезенки, его диагностика и лечение» носит клинико-патоморфологический характер и по ряду моментов сохраняет свое значение до сих пор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ьшое внимание в своих исследованиях Н.П.Тринклер уделял также перекруту неполых органов (сальник, селезенка) с илеусоподобным течением, туберкулезному сужению тонкой киш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иколай Петрович Тринклер (1859-1925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Достиж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чительную работу провел Н.П.Тринклер по оптимизации оперативных методик, техники и хирургических доступов к тем или иным брюшным орган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Венцом его разработки абдоминальной хирургии явилась произведенная в 1910 г. вторая в нашей стране гастрэктомия (первую провел С.П.Федоров). Этот неполный перечень достижений свидетель-ствует, что Н.П.Тринклер внес ценный вклад в становление и развитие абдоминальной хирург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иколай Петрович Тринклер (1859-1925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Достиже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чень большое место в кругу его научных и практических интересов занимали и многообразные поражения опорно-двигательного аппарата: повреждения, острые и хронические специфические (туберкулез, сифилис) воспалительные заболевания, новообразова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иколай Петрович Тринклер (1859-1925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Достиже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.П.Тринклер блестяще владел черепно-мозговой хирургией. С величайшей деликатностью, почти бескровно он успешно оперировал на головном мозге по поводу его повреждений, абсцессов, опухол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иколай Петрович Тринклер (1859-1925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Достиж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ой из его излюбленных областей была хирургическая инфекция, ее профилактика (в том числе асептика) и лечение. Результатом его 40-летнего изучения хирургической инфекции по весьма многочисленным личным наблюдениям мирного и военного времени (первая мировая, гражданская войны) явилась его замечательная монография «Основы современного лечения ран», изданная в 1926 году после смерти Н.П.Тринклер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ступле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ирургическая клиника Харьковского университета начала формироваться в 1814 го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то время кафедра по уставу 1835 года называлась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«Хирургия операционная, глазные болезни и хирургическая клиник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иколай Петрович Тринклер (1859-1925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Достиж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 наиболее излюбленной областью Н.П.Тринклера была онкология. Он глубоко изучал ее теоретические основы, вопросы патогенеза малигнизации и предраковых состояний, связи злокачественных новообразований с предшествовавшим хроническим воспалением, связи между дизэмбриогенезом и малигнизацией между эмбриональной и раковой клетк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иколай Петрович Тринклер (1859-1925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Достиж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удучи убежденным сторонником радикального хирургического лечения злокачественных опухолей в ранние сроки, он всегда стремился сочетать это с местной или общей химиотерапией (осмиевой кислотой, растворами тяжелых металлов с холином, коллоидными металлами) или же с лучевой терапией. Наряду с этим Н.П.Тринклер уделял большое внимание совершенствованию методики и техники радикальных операций при злокачественных опухоля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иколай Петрович Тринклер (1859-1925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Общественная деятельност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щественная деятельность Н.П.Тринклера была обширной и многогранной. Он являлся одним из организаторов Общества российских хирургов и участником всех его съезд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Скончался Н.П.Тринклер 10 августа 1925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ладимир Николаевич Шамов (1882-1962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.Н.Шамов в 1901 г. поступил в Военно-медицинскую академию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В 1913 г. защитил диссертацию «О значении физических методов для хирургии злокачественных новообразований» и был удостоен ученой степени доктора медици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ладимир Николаевич Шамов (1882-1962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ле создания В.Н.Шамовым и его аспирантом Н.Н.Еланским стандартных сывороток для определения у людей групп крови гемотрансфузия в нашей стране стала на прочную научную и практическую основу. Проблема переливания крови с тех пор на протяжении всей дальнейшей жизни В.Н.Шамова стала одним из основных направлений его научно-исследовательской и практической деятельности, от которого он никогда не отходи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ладимир Николаевич Шамов (1882-1962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арьковский период деятельности В.Н.Шамова (1923-1939) оказался весьма плодотворным и стал периодом расцвета его многогранного научного творчества, сочетавшегося с большим размахом его хирургической, общественной и организаторской деятельно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ладимир Николаевич Шамов (1882-1962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.Н.Шамов организовал первое в Украине и третье в СССР нейрохирургическое отделение, экспериментальную лабораторию и, несколько позже, урологическое отдел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В.Н.Шамов научно изучает и организационно разрабатывает вопросы о донорстве, об «универсальном доноре», о консервации крови, переливании консервированной крови и ее компонентов, об осложнениях при переливании крови и их предупреждении и прочие вопрос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ладимир Николаевич Шамов (1882-1962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райне вынужденной, безвыходной ситуации выдающийся хирург профессор С.С.Юдин в Москве, опираясь на блестящие убедительные экспериментальные данные В.Н.Шамова, произвел переливание крови от свежего трупа человека больному, погибавшему от острого массивного кровотечения, и быстро спас его этим. Об этом и о последующих шести успешных переливаниях трупной (фибринолизной) крови больным в аналогичной ситуаций С.С.Юдин доложил на IV Всеукраинском съезде хирургов в 1930 г., а в 1932 г. – на ХХII Всесоюзном съезде хирургов этот вопрос стал одним из программны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ладимир Николаевич Шамов (1882-1962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ец 20-х и особенно 30-е годы ознаменовались рядом важных исследований клиники В.Н.Шамова по гомотрансплантации тканей и органов от трупа. Так, такую пересадку костного мозга и консервирующие его среды успешно изучил Г.Г.Караванов эндокринных желез - Г.М.Рудицкий, кожи - В.М.Ситенко, несколько позже соединительно-тканных элементов - И.С.Коган. А В.Б.Вороному удалось в 1932 г. впервые в мире успешно пересадить на шею собаки, лишенной обеих почек, почку свежего трупа другой собаки посредством сосудистом шва. В 1934 г. по предложению В.Н.Шамова он пересадил женщине, погибавшей от отравления сулемой (уремия), почку от свежего трупа человека. Хотя в первые сутки от операции пересаженная почка функционировала, однако спасти больную не удалось: она погибла через сутки от операц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ладимир Николаевич Шамов (1882-1962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овременно с этим его интерес к переливанию крови продолжает развиваться. По его инициативе в 1930 г. в Харькове организуется второй в СССР Институт переливания крови и неотложной хирургии (в настоящее время – Институт общей и неотложной хирургии АМНУ), научным руководителем которого он становит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ильгельм Федорович Грубе (1827-1898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.Ф.Грубе закончил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 1850 г. с отличием Дерптский университет и ему была присвоена ученая степень доктора медицины после защиты диссертации о доброкачественных опухолях нос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ладимир Николаевич Шамов (1882-1962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ряду с этим, В.Н.Шамов энергично развивает научную и хирургическую разработку сложнейших разделов черепно-мозговой хирургии; симпатической нервной системы; эндокринологии; урологии; хирургии печени и желчных путей; перитонит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ладимир Николаевич Шамов (1882-1962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939 г. возвратился в Ленинградскую военно-медицинскую академию в качестве единогласно избранного руководителя кафедры, сменившего своего скончавшегося выдающегося учителя С.П.Федоров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В.Н.Шамов скончался в Ленинграде в 1962 г.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лександр Захарович Цейтлин (1894-1985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.З.Цейтлин родился 30 (18) мая 1894 г. в Ростове-на-Дону. Закончил медицинский факультет Варшавского университета в Ростове-на-Дону в 1917 г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21 июля 1941 г, (накануне Великой Отечественной войны) защитил докторскую диссертацию «Сосудистый шов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6 августа 1941 г. избран по конкурсу заведующим кафедрой факультетской хирургии того же медицинского института, которой руководил до июня 1970 г. в течение 29 л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лександр Захарович Цейтлин (1894-1985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В довоенный период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сновными направлениями деятельности А.З.Цейтлина  был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Изучение роли нарушений реакций иммунитета - аллергии в патогенезе гнойно-инфекционных заболевани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аботка вместе с сотрудниками учения о «биологической антисептике», изучения влияния лизоцима на раневой процесс в инфицированной ране и его возможного значения в гнойной хирургии.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лександр Захарович Цейтлин (1894-1985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Кроме того, в этот период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основными направлениями деятельности А.З.Цейтлина  был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Хирургия опухолей гипофиз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Дисциркуляторные расстройства головного мозга.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ейротравматизм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лександр Захарович Цейтлин (1894-1985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В военный период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ходясь в г. Чкалове (Оренбург) вместе с Харьковским медицинским институтом, профессор А.З.Цейтлин занимался интенсивной подготовкой врачей для фронта, одновременно с этим был главным хирургом отдела эвакогоспиталей Чкаловского облздравотде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лександр Захарович Цейтлин (1894-1985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этот период А.З.Цейтлином активно разрабатываются вопросы по лечению ран; огнестрельных переломов бедра; контрактур суставов; огнестрельных абсцессов; восстановительной и реконструктивной хирургии костно-суставного и сухожильно-мышечного аппарата; свободной пересадки кожи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лександр Захарович Цейтлин (1894-1985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том 1944 г. ХМИ был реэвакуирован в Харьков. В этот период и в послевоенные годы Александром Захаровичем были обобщены работы по военным ранениям и их последствиям; был расширен и углублен круг вопросов по восстановительной и реконструктивной хирургии; подведению физиологической основы под клиническую хирургию; изучению действия антибиотиков при гнойной инфекции; нейрохирургии и хирургии эндокринной системы; абдоминальной хирургии; в последующем - по хирургии желчных путей и поджелудочной железы; урологии и нефрологии; анестезиологии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ван Григорьевич Митасов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(1919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2006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ководил кафедрой с 1970 по 1991г.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Основные направления научной деятельности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ирургия щитовидной железы, разработка и усовершенствование хирургических вмешательств при неотложных заболеваниях органов брюшной полости, усовершенствование методов хирургического лечения брюшных грыж, хирургическое лечение желчнокаменной болезни и хронического панкреатита, усовершенствование и разработка методик хирургического лечения язвенной болезни желудка и двенадцатиперстной кишки и друг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танислав Иванович Шевченко (1937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ководил кафедрой с 1991 по 2004 г.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Основные направления научной деятельности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агностика и хирургическое лечение заболеваний щитовидной железы, поджелудочной железы при остром панкреатите и осложнениях его деструктивных форм, функциональных и органических заболеваний желудка и 12-перстной кишки, заболеваний желчевыводящей системы, гнойно-септических осложнений после оперативных вмешательств, заболеваний сосудов и сердца, проктологических заболева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ильгельм Федорович Грубе (1827-1898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859 г. В.Ф.Грубе, представивший на конкурс список в почти 10 тысяч лично им проведенных операций, был единогласно избран профессором, заведующим кафедрой факультетской хирургии Харьковского университет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етоды обследования хирургических больных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941c"/>
                </a:solidFill>
                <a:latin typeface="Arial"/>
              </a:rPr>
              <a:t>Схема истории болез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следование субъективного состояния. Жалобы больног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мнез настоящего заболе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мнез жизн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етоды обследования хирургических больных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941c"/>
                </a:solidFill>
                <a:latin typeface="Arial"/>
              </a:rPr>
              <a:t>Схема истории болез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ективное исследование состояния больного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ружный осмотр: общее состояние, сознание, положение больного, кожа и слизистые оболочки, подкожная клетчатка, лимфатические узлы, молочные железы, костно-мышечная систем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следование органов кровообращ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следование органов дых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следование органов пищеварения и селезен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следование органов мочеполовой систе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) исследование нервной системы;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) исследование эндокринной системы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)  костно-мышечная систе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етоды обследования хирургических больных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941c"/>
                </a:solidFill>
                <a:latin typeface="Arial"/>
              </a:rPr>
              <a:t>Схема истории болез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окализация заболе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варительный диагноз з указанием и обоснованием необходимости дополнительных исследований (лабораторных, биохимических, инструментальных, рентгенологических и др.) и консультаций других специалистов. Оценка произведенных дополнительных исследований и консультац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ан обследования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линический диагноз (основное заболевание, осложнения, сопутствующие заболевания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етоды обследования хирургических больных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941c"/>
                </a:solidFill>
                <a:latin typeface="Arial"/>
              </a:rPr>
              <a:t>Схема истории боле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ечение больного. Обоснование необходимости оперативного вмешательства. Предоперационная подготовка и профилактика возможных послеоперационных осложнений. Выбор метода операции, обезболивания. Сочетание патогенетической терапии с другими видами лечения (диета, ЛФК, заместительная терапия, физметоды, симптоматическое, санаторно-курортное лечение и др., дневник с отражением динамики заболевания и лечебных мероприятий за дни курации больного, подпись куратор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пикриз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гноз заболевания в отношении жизни больного, его реабилитации (выздоровления и трудоспособност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исок использованной литературы при написании истории болез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ильгельм Федорович Грубе (1827-1898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Достиж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области наркоз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.Ф.Грубе одним из первых в России стал изучать клиническое применение закиси азота (1871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л сравнительную клиническую оценку хлороформного и эфирного наркоза на основе большого опыта своей клиники, отдав большое предпочтение хлороформному наркозу, как сопровождающемуся в опытных руках небольшой летальностью (три смерти от наркоза на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ого тысяч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»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ераций) и значительно меньшим количеством и тяжестью осложнений, чем эфирный наркоз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ильгельм Федорович Грубе (1827-1898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8423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Достиж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области антисепт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 был одним из первых в России, кто вместе со своим учеником И. К. Зарубиным уже с 1867 г. стал вводить в своей клинике антисептику (необходимость мыть руки перед операцией с мылом), через кратчайший срок от первой публикации Листера в 1867 г. об этом; причем он внес некоторые модификации в «Листеровскую» повязку, а именно – использование йодофор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ильгельм Федорович Грубе (1827-1898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Достиж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области асепт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месте со своими учениками Н.П.Тринклером, М.М.Кузнецовым и Н.Н.Филипповым В.Ф.Грубе одним из первых в России в 1890 г. ввел в свою клинику асептику, коренным образом реорганизовав для этого всю структуру и работу клиники и организовав в ней, в частности во вновь выстроенном для этой клиники отдельном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дву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ажном здании (1896), специальную бактериологическую лабораторию, способствовавшую дальнейшему совершенствованию асептики и ее научной разработк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ильгельм Федорович Грубе (1827-1898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Достиж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области хирург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.Ф.Грубе следует считать одним из основоположников в России учения о грыжах и их оперативном лечен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 одним из первых в России произвел успешную овариотомию в 1864 г., а в асептическую эру – спленэктомию, холецистэктомию, нефрэктомию, струмэктомию, производил операции на печени и поджелудочной желез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ильгельм Федорович Грубе (1827-1898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Достиж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аботал ряд новых оперативных методов при заболеваниях уха, горла и но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На основе своих военно-полевых наблюдений во франко-прусскую (1870-1871) и русско-турецкую (1877-1878) войны, в которых он участвовал в качестве хирурга, В.Ф.Грубе первым в литературе разработал за несколько лет до Фридриха метод первичной обработки огнестрельных ран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</cp:lastModifiedBy>
  <dcterms:modified xsi:type="dcterms:W3CDTF">2011-11-30T10:52:54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