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5D80-DDF4-42BE-A4EB-38E1CDDC3E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E125-FF2B-40D6-B7F9-624AB417AF1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80D0-2B27-4293-A58D-6A0C6AC197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6C88-709F-46A7-B08A-2E226E4676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1BAF-6103-4A86-9962-BA6335E527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1991-4DBB-4578-A9B5-4E0CE03535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FCCA-D3C9-4254-8969-A55F792CF5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5E40-77D2-4913-AF3C-1680AB4BA21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8731-8840-4392-8328-CACDBEE4DC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8569-F04B-4642-A841-743D00AE90D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5316-EA97-42B9-9153-0DCA56C95A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2D40-87EC-47B0-93AA-29A8AA1B6BD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BF08-7950-409F-88D7-C3DC499BF8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19CE-2D91-48E3-AD92-71C499956E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D799-CA8E-4B89-9CAA-F0AFE7F0CC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19DE-CC73-4ED2-B049-00E94D3A32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577C-9A07-4B76-91E7-7E073596B8E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36F4-AB04-4595-8E3A-6CE2C72D56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2B82-F2E1-45FC-9D01-1DFDAF3FBF1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6034-9FD9-4E12-B256-4F423C1789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ABE5-AF7F-44F5-929A-8220723D09E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749D-15D6-49F2-B2B7-FDB3D7D136B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927A-4A32-4046-9538-6D5BE5F0E9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73BC-25ED-47BC-8813-9524C26267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995A-4C76-47BC-8F97-9BE08BA417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6379-3AB2-4896-9751-4105507B1B0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CF1A-3181-436E-9A07-00B1484C194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D0E0-95F2-4534-B439-A9E2CFB756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8214-34C6-4A64-9A76-109D08F4FC7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BFB0-61CE-4F3A-9FA4-F208816711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EFDD-4456-46C1-B818-F247ED9BF4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9193-0E7B-4020-A2DA-2E70FF0BA4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FCAF-D46E-4A58-8DBF-9762627E07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352C-6E5A-482D-A0DA-2F360B5945E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EA51-C900-4487-AA66-557484B131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8B45-60C1-4F47-B918-219216C7FD8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DBC5-7BC9-4BE0-9AC2-982DB85460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9B3A-16B3-47E6-A116-6366225EDE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073E-6FEA-48AD-A281-BE34D26116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BAB1-6E71-440E-9E2C-BED706073C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02A1-8370-42C6-8BB9-14E8F9A88C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B0F9-AC78-49B9-9B9C-AA9C312DDE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63B8-E798-4928-AC6C-6D347417F0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0833-6B38-4725-B4BB-4267E3FB15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0F1E-B811-4DD2-9EB6-334255643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3233-7DCB-41CE-9D7A-995B6F8E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DA27-2949-412C-B724-8204D741D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9145-5923-48D2-A9B8-76C1E6710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3F58-4713-42FC-A44C-13EF1DF9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F994-3A9D-4144-979D-C130E461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5E75-DF0B-4A8B-9D43-17B40390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6C61-ACBE-4F8E-9FF0-F9EC1841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36D5-B94B-4867-9BAB-51F2C5C7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4D4E-B47B-47D9-B9CD-0015112E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81B8-FABE-4A2E-9E9B-DA47887B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BB38-1534-462F-9223-1999B48A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BB4C-31C4-439C-9C14-0EADE273742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кафедры факультетской хирургии ХНМУ. Методы обследования хирургических больных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фессор Криворучко И.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льгельм Федорович Грубе (1827-1898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Достиж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руководством В.Ф.Грубе его ученики М.И.Кузнецов и Ю.Р.Пенский разработали новый метод шва печени, быстро получивший признание у нас и за рубежом, открывший путь к резекции печени и сохраняющий некоторое значение и в наши д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льгельм Федорович Грубе (1827-1898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бщественная деятельнос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же через 2 года по приезду в Харьков по его инициативе в 1861 г. организуется Харьковское медицинское общество. В течение 22 лет кряду (1869-1890) В.Ф.Грубе избирался его председателем, почетным членом и почетным председателем.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льгельм Федорович Грубе (1827-1898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893 г. В.Ф.Грубе заразился при операции септического ребенка и заболел тяжелым сепсисом. Хотя ученого удалось спасти, но его здоровье и силы оказались сильно подорванными: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28 апреля 1898 г. он скончался в Харьков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колай Петрович Тринклер (1859-192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.П.Тринклер родился в Петербурге в 1859 г. Закончив гимназию в Симферополе с золотой медалью, поступил на медицинский факультет Харьковского университет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889 г. Н.П. Тринклер защитил докторскую диссертацию «К хирургии поперечного перелома надколенника», работал приват-доцентом, профессором, заведующим кафедрой хирургической патологии,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а с 1912 </a:t>
            </a:r>
            <a:r>
              <a:rPr b="0" lang="uk-UA" sz="2800" spc="-1" strike="noStrike">
                <a:solidFill>
                  <a:srgbClr val="ffcc00"/>
                </a:solidFill>
                <a:latin typeface="Arial"/>
              </a:rPr>
              <a:t>д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о 1926 г. заведовал кафедрой факультетской хирург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колай Петрович Тринклер (1859-192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Достиж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го излюбленными областями в хирургической и научной деятельности были абдоминальная хирургия, хирургия опорно-двигательного аппарата, черепно-мозговая хирургия; лечение хирургических инфекций и ран, онколог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колай Петрович Тринклер (1859-192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Достиж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области абдоминальной хирургии Н.П.Тринклер, впервые в отечественной и мировой литературе, изучил висцеральный сифилис и его проявления в форме хирургических заболева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Его монографическое исследование «Солитарный эхинококк селезенки, его диагностика и лечение» носит клинико-патоморфологический характер и по ряду моментов сохраняет свое значение до сих пор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ьшое внимание в своих исследованиях Н.П.Тринклер уделял также перекруту неполых органов (сальник, селезенка) с илеусоподобным течением, туберкулезному сужению тонкой киш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колай Петрович Тринклер (1859-192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Достиж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чительную работу провел Н.П.Тринклер по оптимизации оперативных методик, техники и хирургических доступов к тем или иным брюшным орган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Венцом его разработки абдоминальной хирургии явилась произведенная в 1910 г. вторая в нашей стране гастрэктомия (первую провел С.П.Федоров). Этот неполный перечень достижений свидетель-ствует, что Н.П.Тринклер внес ценный вклад в становление и развитие абдоминальной хирург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колай Петрович Тринклер (1859-192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Достиж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чень большое место в кругу его научных и практических интересов занимали и многообразные поражения опорно-двигательного аппарата: повреждения, острые и хронические специфические (туберкулез, сифилис) воспалительные заболевания, новообразова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колай Петрович Тринклер (1859-192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Достиж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.П.Тринклер блестяще владел черепно-мозговой хирургией. С величайшей деликатностью, почти бескровно он успешно оперировал на головном мозге по поводу его повреждений, абсцессов, опухол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колай Петрович Тринклер (1859-192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Достиж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ой из его излюбленных областей была хирургическая инфекция, ее профилактика (в том числе асептика) и лечение. Результатом его 40-летнего изучения хирургической инфекции по весьма многочисленным личным наблюдениям мирного и военного времени (первая мировая, гражданская войны) явилась его замечательная монография «Основы современного лечения ран», изданная в 1926 году после смерти Н.П.Тринклер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ступле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ирургическая клиника Харьковского университета начала формироваться в 1814 го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то время кафедра по уставу 1835 года называлась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«Хирургия операционная, глазные болезни и хирургическая клиник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колай Петрович Тринклер (1859-192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Достиж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 наиболее излюбленной областью Н.П.Тринклера была онкология. Он глубоко изучал ее теоретические основы, вопросы патогенеза малигнизации и предраковых состояний, связи злокачественных новообразований с предшествовавшим хроническим воспалением, связи между дизэмбриогенезом и малигнизацией между эмбриональной и раковой клетк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колай Петрович Тринклер (1859-192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Достиж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удучи убежденным сторонником радикального хирургического лечения злокачественных опухолей в ранние сроки, он всегда стремился сочетать это с местной или общей химиотерапией (осмиевой кислотой, растворами тяжелых металлов с холином, коллоидными металлами) или же с лучевой терапией. Наряду с этим Н.П.Тринклер уделял большое внимание совершенствованию методики и техники радикальных операций при злокачественных опухоля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иколай Петрович Тринклер (1859-192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бщественная деятельнос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щественная деятельность Н.П.Тринклера была обширной и многогранной. Он являлся одним из организаторов Общества российских хирургов и участником всех его съезд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кончался Н.П.Тринклер 10 августа 1925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ладимир Николаевич Шамов (1882-1962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.Н.Шамов в 1901 г. поступил в Военно-медицинскую академи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В 1913 г. защитил диссертацию «О значении физических методов для хирургии злокачественных новообразований» и был удостоен ученой степени доктора медици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ладимир Николаевич Шамов (1882-1962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ле создания В.Н.Шамовым и его аспирантом Н.Н.Еланским стандартных сывороток для определения у людей групп крови гемотрансфузия в нашей стране стала на прочную научную и практическую основу. Проблема переливания крови с тех пор на протяжении всей дальнейшей жизни В.Н.Шамова стала одним из основных направлений его научно-исследовательской и практической деятельности, от которого он никогда не отходи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ладимир Николаевич Шамов (1882-1962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арьковский период деятельности В.Н.Шамова (1923-1939) оказался весьма плодотворным и стал периодом расцвета его многогранного научного творчества, сочетавшегося с большим размахом его хирургической, общественной и организаторской деятельн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ладимир Николаевич Шамов (1882-1962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.Н.Шамов организовал первое в Украине и третье в СССР нейрохирургическое отделение, экспериментальную лабораторию и, несколько позже, урологическое отдел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В.Н.Шамов научно изучает и организационно разрабатывает вопросы о донорстве, об «универсальном доноре», о консервации крови, переливании консервированной крови и ее компонентов, об осложнениях при переливании крови и их предупреждении и прочие вопрос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ладимир Николаевич Шамов (1882-1962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райне вынужденной, безвыходной ситуации выдающийся хирург профессор С.С.Юдин в Москве, опираясь на блестящие убедительные экспериментальные данные В.Н.Шамова, произвел переливание крови от свежего трупа человека больному, погибавшему от острого массивного кровотечения, и быстро спас его этим. Об этом и о последующих шести успешных переливаниях трупной (фибринолизной) крови больным в аналогичной ситуаций С.С.Юдин доложил на IV Всеукраинском съезде хирургов в 1930 г., а в 1932 г. – на ХХII Всесоюзном съезде хирургов этот вопрос стал одним из программны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ладимир Николаевич Шамов (1882-1962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ец 20-х и особенно 30-е годы ознаменовались рядом важных исследований клиники В.Н.Шамова по гомотрансплантации тканей и органов от трупа. Так, такую пересадку костного мозга и консервирующие его среды успешно изучил Г.Г.Караванов эндокринных желез - Г.М.Рудицкий, кожи - В.М.Ситенко, несколько позже соединительно-тканных элементов - И.С.Коган. А В.Б.Вороному удалось в 1932 г. впервые в мире успешно пересадить на шею собаки, лишенной обеих почек, почку свежего трупа другой собаки посредством сосудистом шва. В 1934 г. по предложению В.Н.Шамова он пересадил женщине, погибавшей от отравления сулемой (уремия), почку от свежего трупа человека. Хотя в первые сутки от операции пересаженная почка функционировала, однако спасти больную не удалось: она погибла через сутки от операц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ладимир Николаевич Шамов (1882-1962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овременно с этим его интерес к переливанию крови продолжает развиваться. По его инициативе в 1930 г. в Харькове организуется второй в СССР Институт переливания крови и неотложной хирургии (в настоящее время – Институт общей и неотложной хирургии АМНУ), научным руководителем которого он станови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льгельм Федорович Грубе (1827-1898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Ф.Грубе закончи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 1850 г. с отличием Дерптский университет и ему была присвоена ученая степень доктора медицины после защиты диссертации о доброкачественных опухолях нос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ладимир Николаевич Шамов (1882-1962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ряду с этим, В.Н.Шамов энергично развивает научную и хирургическую разработку сложнейших разделов черепно-мозговой хирургии; симпатической нервной системы; эндокринологии; урологии; хирургии печени и желчных путей; перитонит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ладимир Николаевич Шамов (1882-1962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939 г. возвратился в Ленинградскую военно-медицинскую академию в качестве единогласно избранного руководителя кафедры, сменившего своего скончавшегося выдающегося учителя С.П.Федоров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В.Н.Шамов скончался в Ленинграде в 1962 г.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лександр Захарович Цейтлин (1894-198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.З.Цейтлин родился 30 (18) мая 1894 г. в Ростове-на-Дону. Закончил медицинский факультет Варшавского университета в Ростове-на-Дону в 1917 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21 июля 1941 г, (накануне Великой Отечественной войны) защитил докторскую диссертацию «Сосудистый шов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6 августа 1941 г. избран по конкурсу заведующим кафедрой факультетской хирургии того же медицинского института, которой руководил до июня 1970 г. в течение 29 л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лександр Захарович Цейтлин (1894-198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В довоенный период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сновными направлениями деятельности А.З.Цейтлина  бы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Изучение роли нарушений реакций иммунитета - аллергии в патогенезе гнойно-инфекционных заболевани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аботка вместе с сотрудниками учения о «биологической антисептике», изучения влияния лизоцима на раневой процесс в инфицированной ране и его возможного значения в гнойной хирургии.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лександр Захарович Цейтлин (1894-198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Кроме того, в этот период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основными направлениями деятельности А.З.Цейтлина  был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ирургия опухолей гипофиз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Дисциркуляторные расстройства головного мозга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ейротравматизм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лександр Захарович Цейтлин (1894-198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В военный период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ходясь в г. Чкалове (Оренбург) вместе с Харьковским медицинским институтом, профессор А.З.Цейтлин занимался интенсивной подготовкой врачей для фронта, одновременно с этим был главным хирургом отдела эвакогоспиталей Чкаловского облздравотде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лександр Захарович Цейтлин (1894-198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этот период А.З.Цейтлином активно разрабатываются вопросы по лечению ран; огнестрельных переломов бедра; контрактур суставов; огнестрельных абсцессов; восстановительной и реконструктивной хирургии костно-суставного и сухожильно-мышечного аппарата; свободной пересадки кожи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лександр Захарович Цейтлин (1894-1985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том 1944 г. ХМИ был реэвакуирован в Харьков. В этот период и в послевоенные годы Александром Захаровичем были обобщены работы по военным ранениям и их последствиям; был расширен и углублен круг вопросов по восстановительной и реконструктивной хирургии; подведению физиологической основы под клиническую хирургию; изучению действия антибиотиков при гнойной инфекции; нейрохирургии и хирургии эндокринной системы; абдоминальной хирургии; в последующем - по хирургии желчных путей и поджелудочной железы; урологии и нефрологии; анестезиологии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ван Григорьевич Митасов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1919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2006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ководил кафедрой с 1970 по 1991г.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Основные направления научной деятельности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ирургия щитовидной железы, разработка и усовершенствование хирургических вмешательств при неотложных заболеваниях органов брюшной полости, усовершенствование методов хирургического лечения брюшных грыж, хирургическое лечение желчнокаменной болезни и хронического панкреатита, усовершенствование и разработка методик хирургического лечения язвенной болезни желудка и двенадцатиперстной кишки и друг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танислав Иванович Шевченко (1937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ководил кафедрой с 1991 по 2004 г.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Основные направления научной деятельности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агностика и хирургическое лечение заболеваний щитовидной железы, поджелудочной железы при остром панкреатите и осложнениях его деструктивных форм, функциональных и органических заболеваний желудка и 12-перстной кишки, заболеваний желчевыводящей системы, гнойно-септических осложнений после оперативных вмешательств, заболеваний сосудов и сердца, проктологических заболева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льгельм Федорович Грубе (1827-1898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859 г. В.Ф.Грубе, представивший на конкурс список в почти 10 тысяч лично им проведенных операций, был единогласно избран профессором, заведующим кафедрой факультетской хирургии Харьковского университет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тоды обследования хирургических больных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941c"/>
                </a:solidFill>
                <a:latin typeface="Arial"/>
              </a:rPr>
              <a:t>Схема истории боле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следование субъективного состояния. Жалобы больно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мнез настоящего заболе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мнез жизн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тоды обследования хирургических больных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941c"/>
                </a:solidFill>
                <a:latin typeface="Arial"/>
              </a:rPr>
              <a:t>Схема истории болез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ективное исследование состояния больного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ружный осмотр: общее состояние, сознание, положение больного, кожа и слизистые оболочки, подкожная клетчатка, лимфатические узлы, молочные железы, костно-мышечная систем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следование органов кровообращ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следование органов дых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следование органов пищеварения и селезен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следование органов мочеполовой систе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) исследование нервной системы;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) исследование эндокринной системы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)  костно-мышечная систе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тоды обследования хирургических больных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e941c"/>
                </a:solidFill>
                <a:latin typeface="Arial"/>
              </a:rPr>
              <a:t>Схема истории болез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окализация заболе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варительный диагноз з указанием и обоснованием необходимости дополнительных исследований (лабораторных, биохимических, инструментальных, рентгенологических и др.) и консультаций других специалистов. Оценка произведенных дополнительных исследований и консультац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ан обследования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линический диагноз (основное заболевание, осложнения, сопутствующие заболевания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тоды обследования хирургических больных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941c"/>
                </a:solidFill>
                <a:latin typeface="Arial"/>
              </a:rPr>
              <a:t>Схема истории боле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ечение больного. Обоснование необходимости оперативного вмешательства. Предоперационная подготовка и профилактика возможных послеоперационных осложнений. Выбор метода операции, обезболивания. Сочетание патогенетической терапии с другими видами лечения (диета, ЛФК, заместительная терапия, физметоды, симптоматическое, санаторно-курортное лечение и др., дневник с отражением динамики заболевания и лечебных мероприятий за дни курации больного, подпись куратор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пикри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гноз заболевания в отношении жизни больного, его реабилитации (выздоровления и трудоспособност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исок использованной литературы при написании истории боле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льгельм Федорович Грубе (1827-1898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Достиж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области наркоз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.Ф.Грубе одним из первых в России стал изучать клиническое применение закиси азота (1871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л сравнительную клиническую оценку хлороформного и эфирного наркоза на основе большого опыта своей клиники, отдав большое предпочтение хлороформному наркозу, как сопровождающемуся в опытных руках небольшой летальностью (три смерти от наркоза на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ого тысяч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»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ераций) и значительно меньшим количеством и тяжестью осложнений, чем эфирный наркоз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льгельм Федорович Грубе (1827-1898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8423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Достиж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области антисепт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 был одним из первых в России, кто вместе со своим учеником И. К. Зарубиным уже с 1867 г. стал вводить в своей клинике антисептику (необходимость мыть руки перед операцией с мылом), через кратчайший срок от первой публикации Листера в 1867 г. об этом; причем он внес некоторые модификации в «Листеровскую» повязку, а именно – использование йодофор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льгельм Федорович Грубе (1827-1898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Достиж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области асепт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месте со своими учениками Н.П.Тринклером, М.М.Кузнецовым и Н.Н.Филипповым В.Ф.Грубе одним из первых в России в 1890 г. ввел в свою клинику асептику, коренным образом реорганизовав для этого всю структуру и работу клиники и организовав в ней, в частности во вновь выстроенном для этой клиники отдельном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ву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ажном здании (1896), специальную бактериологическую лабораторию, способствовавшую дальнейшему совершенствованию асептики и ее научной разработк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льгельм Федорович Грубе (1827-1898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Достиж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области хирург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.Ф.Грубе следует считать одним из основоположников в России учения о грыжах и их оперативном лечен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 одним из первых в России произвел успешную овариотомию в 1864 г., а в асептическую эру – спленэктомию, холецистэктомию, нефрэктомию, струмэктомию, производил операции на печени и поджелудочной желез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льгельм Федорович Грубе (1827-1898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Достиж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аботал ряд новых оперативных методов при заболеваниях уха, горла и но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На основе своих военно-полевых наблюдений во франко-прусскую (1870-1871) и русско-турецкую (1877-1878) войны, в которых он участвовал в качестве хирурга, В.Ф.Грубе первым в литературе разработал за несколько лет до Фридриха метод первичной обработки огнестрельных ран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11-11-30T10:52:54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