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2D2-555E-4034-BC80-A6C07E07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4C0-6430-4239-A1C1-4F65628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2B5-5EDB-4EA5-B257-BEF491D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22D-A1E9-4888-877C-56FE2684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7B27-DEC6-4D3E-835E-848FA0A5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4A2F-BF11-4D3B-8038-7384925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1746-F954-45D3-BEAC-D41E3D8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550-9D5E-46BD-BCBB-134EB235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7493-9BD0-4400-BC6B-F7990F5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89FD-4B78-43BE-AADE-96EC3BA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D294-DEE5-4995-BC0F-2B20B66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397-D894-47AF-BA5E-9E7F4E64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564-DE6E-4BE5-8D84-D863312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CBB-DE2E-4D7C-94BC-98AA25B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FB0-C97A-4B25-97F9-F4395F8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096-FA82-47BE-9A28-5EDFA5DE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1B83-4A1D-411F-AE9F-B71003A9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452-814A-4B6B-B606-D5FD116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FA3-D5A4-4CFE-A3DB-F34D0FF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30F-BDC2-4FA3-912A-B64D9F3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0A6-289B-4755-87FB-117A72EC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A24-38A3-46CF-96F3-C41AE35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94C-E38B-4643-8DBC-6C35AE0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84E-B957-45A7-93A5-3360CE1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1DC-8856-4E21-B0AB-794A2A1F0B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E6C7-6D87-4976-A421-E10D069AE6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907920"/>
            <a:ext cx="6213600" cy="273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d7ffd"/>
                </a:solidFill>
                <a:latin typeface="Tahoma"/>
              </a:rPr>
              <a:t>КРОВЬ  ЛИМФА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азмеры эритроцито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рмоциты (75%)– 7-8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икроциты (12,5%) – меньше 7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акроциты (12,5%) -  больше 8 м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менение размеров эритроцитов называется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анизоцит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верхности эритроцитов имеется резус-фактор (8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Гемоглоб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 содержат сложный белок – гемоглоб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взрослых преобладает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A (98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новорожденных детей  -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F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(80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Образуются эритроцит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красном костном моз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Продолжительность жизн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составляет 120 су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Разруше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 происходит с помощью макрофагов в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селезёнке, печени и костном мозг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При этом гемоглобин распадается на гемосидерин (используется для построения новых эритроцитов) и билирубин (входит в состав желч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02"/>
          <p:cNvPicPr/>
          <p:nvPr/>
        </p:nvPicPr>
        <p:blipFill>
          <a:blip r:embed="rId2"/>
          <a:stretch/>
        </p:blipFill>
        <p:spPr>
          <a:xfrm>
            <a:off x="1619280" y="333360"/>
            <a:ext cx="597204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3040" y="614376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льная форма:  двояко-вогнутый ди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3"/>
          <p:cNvPicPr/>
          <p:nvPr/>
        </p:nvPicPr>
        <p:blipFill>
          <a:blip r:embed="rId2"/>
          <a:stretch/>
        </p:blipFill>
        <p:spPr>
          <a:xfrm>
            <a:off x="1187280" y="189000"/>
            <a:ext cx="67723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446840" y="602784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тологическая форма – серпообраз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ерповидноклеточной ане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4a"/>
          <p:cNvPicPr/>
          <p:nvPr/>
        </p:nvPicPr>
        <p:blipFill>
          <a:blip r:embed="rId2"/>
          <a:stretch/>
        </p:blipFill>
        <p:spPr>
          <a:xfrm>
            <a:off x="900000" y="260280"/>
            <a:ext cx="7201080" cy="5542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03160" y="594828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хиноц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Ретикул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071720" y="1643040"/>
            <a:ext cx="688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лассификация лейкоци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йтр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озин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з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А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мф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щее количество лейкоцитов составляет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4-9х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ru-RU" sz="32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9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/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20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 (65-7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Формируются в ККМ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ое кровеносное русло (несколько часов) → соединительная ткань (5-9 сут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Диа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достигает в мазке 12 м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По степени зрелости различают нейтрофилы с различной формой яд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ю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- 0,5% (ядро бобовидной форм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палочк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1-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сегмент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47-72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ипы гранул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первичные азурофильные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ют собой видоизменённые лизосо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вторичные – специфическ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держат бактериостатические и бактерицидные вещест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изоц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актоф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щелочную фосфата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ровь (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sanguis, haima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) -это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ткань внутренней сред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88360" cy="424944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точник образования крови в эмбриогенезе – </a:t>
            </a:r>
            <a:r>
              <a:rPr b="1" lang="ru-RU" sz="3600" spc="-1" strike="noStrike">
                <a:solidFill>
                  <a:srgbClr val="fcf726"/>
                </a:solidFill>
                <a:latin typeface="Tahoma"/>
              </a:rPr>
              <a:t>мезенхи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асса крови составляет 4-9% массы тел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ём – 5-5,5 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Функция нейтрофилов -фагоцитоз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1280" y="1773360"/>
            <a:ext cx="807552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агоцитирующие клетки составляют 69-99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о так называемая </a:t>
            </a: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ая активность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ый индекс –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о частиц, поглощённых одной клетк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PMNs-J-196-W"/>
          <p:cNvPicPr/>
          <p:nvPr/>
        </p:nvPicPr>
        <p:blipFill>
          <a:blip r:embed="rId2"/>
          <a:stretch/>
        </p:blipFill>
        <p:spPr>
          <a:xfrm>
            <a:off x="571680" y="1500120"/>
            <a:ext cx="7686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3773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йтрофилы женской крови имеют сателлит ядра – тельце Барра, которое содержит Х хромос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ельце Бар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770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ая кровь (3-8 час.) → ткани (до 9 суток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Диаметр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в мазке = 12-14 мк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Ядро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– сегментирован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реди гранул различают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перв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и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втор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специфическую) зернистос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кристаллоид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главный основной белок, гидролитические ферменты, пероксидаза и пр.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способствуют снижению содержания гистамина в тканях при аллергических реакц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пецифическа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функция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ов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 –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нтипаразитарна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2 -  иммунорегуляторн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убивают личинки паразитов, поступившие в кровь или орга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величение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личества эозинофилов носит название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– эозинофилия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меньшение – эозинопения.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--------------------------------------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мечаетс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уточный ритм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содержания эозинофилов в крови с максимумом в ночные и утренние часы и минимумом -  в вечер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eosinophil6x9"/>
          <p:cNvPicPr/>
          <p:nvPr/>
        </p:nvPicPr>
        <p:blipFill>
          <a:blip r:embed="rId2"/>
          <a:stretch/>
        </p:blipFill>
        <p:spPr>
          <a:xfrm>
            <a:off x="571680" y="1285920"/>
            <a:ext cx="7929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ая кровь (около12 час.)→ ткани (неск. сут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Функции базофил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гомеостат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защитная (секретируют медиаторы воспалени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свертываемость кро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Проницаемость сосу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Размер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в мазке составляют 9-12 мк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Яд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клеток - доль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итоплазме находятся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рвичны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зурофильные) гранулы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торич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специфические) грану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обладают свойством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метахрома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--------------------------------------------Метахромазия –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войство окрашиваться в цвет отличный от цвета красит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Состав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лазма (55-60%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форменные элементы (40-45%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ейк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стам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расширяет сосуды и увеличивает их проницаемость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епар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антикоагулянт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ерото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кровь (36-104 часа) → тка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В тканях они превращаются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акрофа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оноциты в совокупности с макрофагами образуют единую систему мононуклеарных макрофаг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428840" y="1279440"/>
            <a:ext cx="6072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Функции мон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специфическая защита против вирусов, микробов и заражённых вирусами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стие в специфических иммунных реакц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хват и переваривание стареющих и погибших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креция монок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азмеры моноцитов – до 20 м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дра – крупные, бобовидной, подковообразной фор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итоплазма -  слабобазофиль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Picture 4" descr="Mono-J-188-W"/>
          <p:cNvPicPr/>
          <p:nvPr/>
        </p:nvPicPr>
        <p:blipFill>
          <a:blip r:embed="rId2"/>
          <a:srcRect l="0" t="6230" r="0" b="7602"/>
          <a:stretch/>
        </p:blipFill>
        <p:spPr>
          <a:xfrm>
            <a:off x="285840" y="1571760"/>
            <a:ext cx="8643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величине диаметра ядра 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4,5-6 мкм) составляют до 90% от всех лимфоци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7-10 мк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ольш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(свыше 10 мк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еди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х лимфоци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различают: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ветлые и тём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к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4" descr="LymSm-J-186-W"/>
          <p:cNvPicPr/>
          <p:nvPr/>
        </p:nvPicPr>
        <p:blipFill>
          <a:blip r:embed="rId2"/>
          <a:srcRect l="0" t="0" r="0" b="14574"/>
          <a:stretch/>
        </p:blipFill>
        <p:spPr>
          <a:xfrm>
            <a:off x="500040" y="1500120"/>
            <a:ext cx="8167680" cy="478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019600" y="63342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ы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017080" y="63342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LymLg-J-187-W"/>
          <p:cNvPicPr/>
          <p:nvPr/>
        </p:nvPicPr>
        <p:blipFill>
          <a:blip r:embed="rId2"/>
          <a:srcRect l="0" t="5279" r="0" b="6151"/>
          <a:stretch/>
        </p:blipFill>
        <p:spPr>
          <a:xfrm>
            <a:off x="500040" y="1428840"/>
            <a:ext cx="8072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Функциональные классы лимфоцит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789200"/>
            <a:ext cx="82296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 -лимфоциты (тимусзависимые)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-----------------------------------------------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образуются из СК костного мозга, а созревают в тиму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- лимфоциты обеспечивают реакци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леточного иммунит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гуляцию гуморального иммунит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 – лимфоциты обеспечивают выработку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лимфокинов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ые регулируют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ятельность В –лимфоци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омеостат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оддержание постоянства внутренней среды организм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анспортна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еренос гормонов, биологически активных веществ, лекарственных препарат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18440" cy="5904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килл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хелп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супресс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клетки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лимфоциты относятся к долгоживущим клеткам, продолжительность жизни составляет месяцы и 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Нулевые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имеют поверхностных маркеров на плазмолемме, характерных для Т- и В-лимфоц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ни представляют собой резервную популяцию недифференцированных лимфоци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 -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шественники В-клеток у птиц развиваются в зрелые лимфоциты в фабрициевой сумке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rs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. У человека – в К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-лимфоциты обладают способностью синтезировать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ммуноглобулины (антитела)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релые В-лимфоциты в периферических органах иммунной системы под влиянием антигенов специализируются в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лазматические клетки и В-клетки памя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бесцветные тельца размером 2-4 мкм, которые могут агглютинировать в груп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лич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р составляет 180-32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/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является светлая часть –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иаломе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и темная часть -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ранулом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38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Picture 7" descr="platelet"/>
          <p:cNvPicPr/>
          <p:nvPr/>
        </p:nvPicPr>
        <p:blipFill>
          <a:blip r:embed="rId2"/>
          <a:stretch/>
        </p:blipFill>
        <p:spPr>
          <a:xfrm>
            <a:off x="571680" y="2143080"/>
            <a:ext cx="8232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популяции тромбоцитов различа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ю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зрел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стар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дегенератив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гигантск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дшественником тромбоцитов служит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гакариоц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Образование тромбоци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642960" y="1360440"/>
            <a:ext cx="73296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5435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ыха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кислород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оф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питательных веществ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щит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агоцитоз, гуморальный и клеточный иммунитет, свертывание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дели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удаление   и транспортировка продуктов обме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ая функция кровяных пластинок – участие в процессе свёртывания кро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тромбоцитах содержится более 12 факторов, участвующих в этом проце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повреждении сосуда пластинки агрегируют и прилипают к нитям фибрина, в результате чего образуется тромб, закрывающий р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643040" y="285840"/>
            <a:ext cx="5643720" cy="5325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3134160" y="5934240"/>
            <a:ext cx="23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омб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озрастные изменения кров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Э у новорожденных составляет 6-7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14 сут. оно равно показателям взросл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3-6 мес. наблюдается физиологическая анем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--------------------------------------------------------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лейкоцитов у новорожденных достигает 10-3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ечение 2-х недель после рождения их число падает до 9,0-15,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сут. количество нейтрофилов снижается, а лимфоцитов – возрастает (первы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году жизни вновь процентное соотношение этих клеток выравнивается (второ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а (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ympha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ет желтоватую жидкость, протекающую в лимфатических со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имфа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плазм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форменные элементы (лимфоциты – 98%, моноциты, незначительное количество гранулоцит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мфоплазме содержатся бел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льбумины, глобулины), ферменты (диастаза, липаза, гликолитические ферменты), нейтральные жиры, сахара, соли и п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 периферическую, промежуточную и центральную лимф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Плазма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плазмы составляет 7,3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азма содержи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ду (90-93%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лки (альбумины, глобулины, фибриноген), 6,6-8,5%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ические и минеральные вещества (1,5-3,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7143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75640" cy="5400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о постклеточные структуры, которые не содержат яд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ыхательная (перенос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анспортная (аминокислоты, токсины, антитела, лекарственные вещест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Количество эритр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ужч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9-5,5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Женщ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7-4,9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форма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искоци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атологические формы - эхиноциты, планоциты, сфероциты, стоматоци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лодые формы эритроцитов составляют 5% и называются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етикулоцитами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2T09:19:23Z</dcterms:modified>
  <cp:revision>62</cp:revision>
  <dc:subject/>
  <dc:title>PowerPoint Presentation</dc:title>
</cp:coreProperties>
</file>