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2D1-BD1F-4DD6-952D-47E4F373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A16-2F51-44AA-A6F4-41CCCB4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488-B32C-41C9-A8E5-53EBB275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E05-F164-4191-B468-1AF20A8B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070B-F68C-43A4-8098-B5168B13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85E9-9664-4EED-8E93-6693BD75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0D9E-B7EB-4BB0-9EA5-9D21D7B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88E-BBB9-40A0-BF2E-8828404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6F34-5648-4969-B7C2-A236A02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7D1-B550-47FF-A6CB-66B67BF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071-E32F-47F9-B015-09B1E34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E9F-9158-4634-A541-046C2B1B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5C4-4387-405C-977A-571F6A8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47D5-2213-4716-9DCE-130E20E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17B0-E415-427C-82E9-CA0B9973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2194-E24B-413F-B085-D64363C2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6D6A-1D26-4039-A78D-44E7EF0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4C7-2D8C-4965-BAEF-CA7274B6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85F-7A44-4A41-919B-2588EB1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D99-36D1-404C-A1F3-67E4BEA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BC7-9C59-473E-ACE7-A7EB6840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07E-D7FB-4B10-8FCB-ADE2555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C18-9BEE-495A-962D-83EC6CD9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FC7-07FA-407A-8570-A3E7AEA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AAEA-E661-456A-8286-3E7346ACBE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0E5C-B24C-4B0A-B6FC-EAC97978D5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907920"/>
            <a:ext cx="6213600" cy="273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d7ffd"/>
                </a:solidFill>
                <a:latin typeface="Tahoma"/>
              </a:rPr>
              <a:t>КРОВЬ  ЛИМФА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азмеры эритроцито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cf726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рмоциты (75%)– 7-8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икроциты (12,5%) – меньше 7 мк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макроциты (12,5%) -  больше 8 м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зменение размеров эритроцитов называется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анизоцит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 поверхности эритроцитов имеется резус-фактор (8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Гемоглоби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 содержат сложный белок – гемоглоб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взрослых преобладает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A (98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 новорожденных детей  -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bF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(80%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21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Образуются эритроцит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красном костном моз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Продолжительность жизн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составляет 120 су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Разруше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 происходит с помощью макрофагов в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селезёнке, печени и костном мозг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При этом гемоглобин распадается на гемосидерин (используется для построения новых эритроцитов) и билирубин (входит в состав желч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02"/>
          <p:cNvPicPr/>
          <p:nvPr/>
        </p:nvPicPr>
        <p:blipFill>
          <a:blip r:embed="rId2"/>
          <a:stretch/>
        </p:blipFill>
        <p:spPr>
          <a:xfrm>
            <a:off x="1619280" y="333360"/>
            <a:ext cx="597204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3040" y="614376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рмальная форма:  двояко-вогнутый ди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3"/>
          <p:cNvPicPr/>
          <p:nvPr/>
        </p:nvPicPr>
        <p:blipFill>
          <a:blip r:embed="rId2"/>
          <a:stretch/>
        </p:blipFill>
        <p:spPr>
          <a:xfrm>
            <a:off x="1187280" y="189000"/>
            <a:ext cx="67723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446840" y="602784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тологическая форма – серпообраз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серповидноклеточной ане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4a"/>
          <p:cNvPicPr/>
          <p:nvPr/>
        </p:nvPicPr>
        <p:blipFill>
          <a:blip r:embed="rId2"/>
          <a:stretch/>
        </p:blipFill>
        <p:spPr>
          <a:xfrm>
            <a:off x="900000" y="260280"/>
            <a:ext cx="7201080" cy="5542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03160" y="594828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хиноц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Ретикул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071720" y="1643040"/>
            <a:ext cx="688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лассификация лейкоци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йтр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озин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зофи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Агранулоци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мф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f72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щее количество лейкоцитов составляет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4-9х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ru-RU" sz="32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9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/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320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 (65-7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Формируются в ККМ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ое кровеносное русло (несколько часов) → соединительная ткань (5-9 сут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Диа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достигает в мазке 12 мк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По степени зрелости различают нейтрофилы с различной формой ядр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ю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- 0,5% (ядро бобовидной форм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палочк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1-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1" lang="ru-RU" sz="2800" spc="-1" strike="noStrike">
                <a:solidFill>
                  <a:srgbClr val="fcf726"/>
                </a:solidFill>
                <a:latin typeface="Tahoma"/>
                <a:ea typeface="Arial"/>
              </a:rPr>
              <a:t>сегментоядер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47-72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ипы гранул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первичные азурофильные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ют собой видоизменённые лизосо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          </a:t>
            </a: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- вторичные – специфически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держат бактериостатические и бактерицидные вещест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изоц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лактоф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щелочную фосфата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Кровь (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sanguis, haima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) -это</a:t>
            </a:r>
            <a:r>
              <a:rPr b="1" lang="en-US" sz="4000" spc="-1" strike="noStrike">
                <a:solidFill>
                  <a:srgbClr val="fcf72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ткань внутренней сред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88360" cy="424944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точник образования крови в эмбриогенезе – </a:t>
            </a:r>
            <a:r>
              <a:rPr b="1" lang="ru-RU" sz="3600" spc="-1" strike="noStrike">
                <a:solidFill>
                  <a:srgbClr val="fcf726"/>
                </a:solidFill>
                <a:latin typeface="Tahoma"/>
              </a:rPr>
              <a:t>мезенхи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Масса крови составляет 4-9% массы тел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ём – 5-5,5 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Функция нейтрофилов -фагоцитоз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1280" y="1773360"/>
            <a:ext cx="807552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Фагоцитирующие клетки составляют 69-99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о так называемая </a:t>
            </a: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ая активность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ahoma"/>
              </a:rPr>
              <a:t>Фагоцитарный индекс –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о частиц, поглощённых одной клетк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Нейтрофил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PMNs-J-196-W"/>
          <p:cNvPicPr/>
          <p:nvPr/>
        </p:nvPicPr>
        <p:blipFill>
          <a:blip r:embed="rId2"/>
          <a:stretch/>
        </p:blipFill>
        <p:spPr>
          <a:xfrm>
            <a:off x="571680" y="1500120"/>
            <a:ext cx="7686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3773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йтрофилы женской крови имеют сателлит ядра – тельце Барра, которое содержит Х хромосо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ельце Бар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770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кая кровь (3-8 час.) → ткани (до 9 суток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Диаметр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в мазке = 12-14 мк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Ядро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– сегментированно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реди гранул различают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перв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и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вторичную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специфическую) зернистость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   </a:t>
            </a: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кристаллоид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(главный основной белок, гидролитические ферменты, пероксидаза и пр.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способствуют снижению содержания гистамина в тканях при аллергических реакц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пецифическа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функция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ов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 –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нтипаразитарна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2 -  иммунорегуляторна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озинофилы убивают личинки паразитов, поступившие в кровь или орга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величение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оличества эозинофилов носит название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– эозинофилия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Уменьшение – эозинопения.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--------------------------------------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мечается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уточный ритм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содержания эозинофилов в крови с максимумом в ночные и утренние часы и минимумом -  в вечерни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озинофилы (1-5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6" descr="eosinophil6x9"/>
          <p:cNvPicPr/>
          <p:nvPr/>
        </p:nvPicPr>
        <p:blipFill>
          <a:blip r:embed="rId2"/>
          <a:stretch/>
        </p:blipFill>
        <p:spPr>
          <a:xfrm>
            <a:off x="571680" y="1285920"/>
            <a:ext cx="7929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периферичесая кровь (около12 час.)→ ткани (неск. сут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Функции базофил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гомеостатическ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защитная (секретируют медиаторы воспалени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свертываемость кро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Проницаемость сосу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Размер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в мазке составляют 9-12 мк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Arial"/>
              </a:rPr>
              <a:t>Ядр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клеток - доль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итоплазме находятся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ервичные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зурофильные) гранулы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торич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специфические) грану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обладают свойством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метахрома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--------------------------------------------Метахромазия –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войство окрашиваться в цвет отличный от цвета красит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Состав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лазма (55-60%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форменные элементы (40-45%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ритр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лейкоцит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ецифические гранулы содержа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стам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расширяет сосуды и увеличивает их проницаемость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епарин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антикоагулянт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ерото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3628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разуются в ККМ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→ кровь (36-104 часа) → тка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В тканях они превращаются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акрофаг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  <a:ea typeface="Arial"/>
              </a:rPr>
              <a:t>Моноциты в совокупности с макрофагами образуют единую систему мононуклеарных макрофаг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Базофилы (до 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1428840" y="1279440"/>
            <a:ext cx="6072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Функции мон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специфическая защита против вирусов, микробов и заражённых вирусами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стие в специфических иммунных реакц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хват и переваривание стареющих и погибших кл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креция моноки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Размеры моноцитов – до 20 мк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дра – крупные, бобовидной, подковообразной фор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итоплазма -  слабобазофильн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Моноциты (3-11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Picture 4" descr="Mono-J-188-W"/>
          <p:cNvPicPr/>
          <p:nvPr/>
        </p:nvPicPr>
        <p:blipFill>
          <a:blip r:embed="rId2"/>
          <a:srcRect l="0" t="6230" r="0" b="7602"/>
          <a:stretch/>
        </p:blipFill>
        <p:spPr>
          <a:xfrm>
            <a:off x="285840" y="1571760"/>
            <a:ext cx="8643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величине диаметра ядра 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4,5-6 мкм) составляют до 90% от всех лимфоци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н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7-10 мк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ольши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(свыше 10 мк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еди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алых лимфоци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различают: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ветлые и тёмны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к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4" descr="LymSm-J-186-W"/>
          <p:cNvPicPr/>
          <p:nvPr/>
        </p:nvPicPr>
        <p:blipFill>
          <a:blip r:embed="rId2"/>
          <a:srcRect l="0" t="0" r="0" b="14574"/>
          <a:stretch/>
        </p:blipFill>
        <p:spPr>
          <a:xfrm>
            <a:off x="500040" y="1500120"/>
            <a:ext cx="8167680" cy="478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2019600" y="63342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лы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Лимфоциты (19-37%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017080" y="63342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й лимфоц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LymLg-J-187-W"/>
          <p:cNvPicPr/>
          <p:nvPr/>
        </p:nvPicPr>
        <p:blipFill>
          <a:blip r:embed="rId2"/>
          <a:srcRect l="0" t="5279" r="0" b="6151"/>
          <a:stretch/>
        </p:blipFill>
        <p:spPr>
          <a:xfrm>
            <a:off x="500040" y="1428840"/>
            <a:ext cx="8072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Функциональные классы лимфоцит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789200"/>
            <a:ext cx="8229600" cy="5068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 -лимфоциты (тимусзависимые)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-----------------------------------------------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образуются из СК костного мозга, а созревают в тиму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- лимфоциты обеспечивают реакцию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леточного иммуните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регуляцию гуморального иммуните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 – лимфоциты обеспечивают выработку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лимфокинов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ые регулируют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ятельность В –лимфоци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омеостат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оддержание постоянства внутренней среды организм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анспортна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еренос гормонов, биологически активных веществ, лекарственных препарат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218440" cy="59040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килл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хелп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-  супрессо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клетки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 – лимфоциты относятся к долгоживущим клеткам, продолжительность жизни составляет месяцы и 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Нулевые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 имеют поверхностных маркеров на плазмолемме, характерных для Т- и В-лимфоци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ни представляют собой резервную популяцию недифференцированных лимфоци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В - лимф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шественники В-клеток у птиц развиваются в зрелые лимфоциты в фабрициевой сумке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rsa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. У человека – в КК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-лимфоциты обладают способностью синтезировать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ммуноглобулины (антитела)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релые В-лимфоциты в периферических органах иммунной системы под влиянием антигенов специализируются в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лазматические клетки и В-клетки памя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бесцветные тельца размером 2-4 мкм, которые могут агглютинировать в груп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лич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р составляет 180-32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/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ыявляется светлая часть –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иаломе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и темная часть -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гранулом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38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Picture 7" descr="platelet"/>
          <p:cNvPicPr/>
          <p:nvPr/>
        </p:nvPicPr>
        <p:blipFill>
          <a:blip r:embed="rId2"/>
          <a:stretch/>
        </p:blipFill>
        <p:spPr>
          <a:xfrm>
            <a:off x="571680" y="2143080"/>
            <a:ext cx="82324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 популяции тромбоцитов различаю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ю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зрел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стар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дегенератив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 гигантск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дшественником тромбоцитов служит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гакариоци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Образование тромбоци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642960" y="1360440"/>
            <a:ext cx="73296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Функции кров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5435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ыха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кислорода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офическ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перенос питательных веществ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щит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агоцитоз, гуморальный и клеточный иммунитет, свертывание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f72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делительн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удаление   и транспортировка продуктов обме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ая функция кровяных пластинок – участие в процессе свёртывания кров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тромбоцитах содержится более 12 факторов, участвующих в этом проце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повреждении сосуда пластинки агрегируют и прилипают к нитям фибрина, в результате чего образуется тромб, закрывающий р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643040" y="285840"/>
            <a:ext cx="5643720" cy="5325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3134160" y="5934240"/>
            <a:ext cx="236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ромб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озрастные изменения кров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Э у новорожденных составляет 6-7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1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14 сут. оно равно показателям взросл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3-6 мес. наблюдается физиологическая анем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--------------------------------------------------------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лейкоцитов у новорожденных достигает 10-3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ечение 2-х недель после рождения их число падает до 9,0-15,0 х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9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/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сут. количество нейтрофилов снижается, а лимфоцитов – возрастает (первы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4 году жизни вновь процентное соотношение этих клеток выравнивается (второй физиологический перекрес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Лимфа (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ympha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ставляет желтоватую жидкость, протекающую в лимфатических со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имфа: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плазм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 форменные элементы (лимфоциты – 98%, моноциты, незначительное количество гранулоцит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мфоплазме содержатся бел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альбумины, глобулины), ферменты (диастаза, липаза, гликолитические ферменты), нейтральные жиры, сахара, соли и п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азличают периферическую, промежуточную и центральную лимф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Плазма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плазмы составляет 7,3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азма содержи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ду (90-93%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лки (альбумины, глобулины, фибриноген), 6,6-8,5%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b07fb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ические и минеральные вещества (1,5-3,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980720"/>
            <a:ext cx="4038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106520"/>
            <a:ext cx="403848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1000080" y="1571760"/>
            <a:ext cx="71438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675640" cy="5400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то постклеточные структуры, которые не содержат яд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726"/>
                </a:solidFill>
                <a:latin typeface="Tahoma"/>
              </a:rPr>
              <a:t>Функци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ритроци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ыхательная (перенос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анспортная (аминокислоты, токсины, антитела, лекарственные веществ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f726"/>
                </a:solidFill>
                <a:latin typeface="Tahoma"/>
              </a:rPr>
              <a:t>Количество эритроцитов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51664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Мужч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9-5,5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Женщин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3,7-4,9 х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4400" spc="-1" strike="noStrike" baseline="30000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/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форма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искоци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Патологические формы - эхиноциты, планоциты, сфероциты, стоматоци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олодые формы эритроцитов составляют 5% и называются </a:t>
            </a:r>
            <a:r>
              <a:rPr b="1" lang="ru-RU" sz="4000" spc="-1" strike="noStrike">
                <a:solidFill>
                  <a:srgbClr val="fcf726"/>
                </a:solidFill>
                <a:latin typeface="Tahoma"/>
              </a:rPr>
              <a:t>ретикулоцитами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2T09:19:23Z</dcterms:modified>
  <cp:revision>62</cp:revision>
  <dc:subject/>
  <dc:title>PowerPoint Presentation</dc:title>
</cp:coreProperties>
</file>