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E6B-3B7F-4942-94C7-B5C931FE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A51-502A-49CC-BD97-D2579F2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AC6-A79D-4FC0-A728-53904A2F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43E-A1D2-4D4F-9314-07D74C5A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EE1-B1BA-4588-975C-34C87193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89E9-2829-4973-AF98-1FA1C139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3A40-2109-49DB-B471-2D6A36E4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D823-C698-4C02-AD97-292C504C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E22-7A80-4268-A800-0DCFE00A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7037-DE28-4B1A-9F07-5EEAC8E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72AC-7D8F-42D5-B947-17C16A5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3CD-7769-4747-9542-A1B112E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0652-326D-4F9C-A732-B3E2E75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AE67-5796-423C-B61F-D8B1BD82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1C63-3A11-41E5-BC63-3CC3DAD8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6F07-F901-4E8D-9AF1-EC5FED2E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9EE-4FCE-4F1C-8E3A-AD9C5D30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326-5BD6-440F-A339-EA327BE5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53D-113A-484B-97C0-9E74CB7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CE9-A406-49E7-8EC9-16C68A5E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DED-CF96-4B73-89E5-1A02B81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826-2FA1-482B-BA48-8E2CC4E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59E-DEF9-4D98-AE74-F52242D6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D8B-CF7F-42F3-8FC1-DBEFFAC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870F-32C5-4995-A9E5-582C23AFA4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5C67-7218-4ECD-AD2E-3E79AE6D50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907920"/>
            <a:ext cx="6213600" cy="273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d7ffd"/>
                </a:solidFill>
                <a:latin typeface="Tahoma"/>
              </a:rPr>
              <a:t>КРОВЬ  ЛИМФА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Размеры эритроцито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72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cf726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рмоциты (75%)– 7-8 мк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микроциты (12,5%) – меньше 7 мк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макроциты (12,5%) -  больше 8 м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менение размеров эритроцитов называется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 анизоцит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оверхности эритроцитов имеется резус-фактор (8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Гемоглоб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ритроциты содержат сложный белок – гемоглоб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 взрослых преобладает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bA (98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 новорожденных детей  -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bF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(80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2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Образуются эритроцит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красном костном моз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Продолжительность жизн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составляет 120 су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Разрушен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ритроцитов происходит с помощью макрофагов в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селезёнке, печени и костном мозг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При этом гемоглобин распадается на гемосидерин (используется для построения новых эритроцитов) и билирубин (входит в состав желч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02"/>
          <p:cNvPicPr/>
          <p:nvPr/>
        </p:nvPicPr>
        <p:blipFill>
          <a:blip r:embed="rId2"/>
          <a:stretch/>
        </p:blipFill>
        <p:spPr>
          <a:xfrm>
            <a:off x="1619280" y="333360"/>
            <a:ext cx="597204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3040" y="614376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рмальная форма:  двояко-вогнутый ди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3"/>
          <p:cNvPicPr/>
          <p:nvPr/>
        </p:nvPicPr>
        <p:blipFill>
          <a:blip r:embed="rId2"/>
          <a:stretch/>
        </p:blipFill>
        <p:spPr>
          <a:xfrm>
            <a:off x="1187280" y="189000"/>
            <a:ext cx="67723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446840" y="6027840"/>
            <a:ext cx="63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тологическая форма – серпообраз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ерповидноклеточной ане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4a"/>
          <p:cNvPicPr/>
          <p:nvPr/>
        </p:nvPicPr>
        <p:blipFill>
          <a:blip r:embed="rId2"/>
          <a:stretch/>
        </p:blipFill>
        <p:spPr>
          <a:xfrm>
            <a:off x="900000" y="260280"/>
            <a:ext cx="7201080" cy="5542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503160" y="594828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хиноц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Ретикул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071720" y="1643040"/>
            <a:ext cx="688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Классификация лейкоци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Гранулоци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йтр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озин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аз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Агранулоци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мф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щее количество лейкоцитов составляет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4-9х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ru-RU" sz="32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9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/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320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Нейтрофилы (65-7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Формируются в ККМ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кое кровеносное русло (несколько часов) → соединительная ткань (5-9 сут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Диаме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достигает в мазке 12 мк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По степени зрелости различают нейтрофилы с различной формой ядр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ю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- 0,5% (ядро бобовидной форм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палочкоядер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1-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сегментоядер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47-72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ипы гранул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- первичные азурофильные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ют собой видоизменённые лизосо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- вторичные – специфически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держат бактериостатические и бактерицидные вещест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лизоц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лактофе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щелочную фосфатаз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Кровь (</a:t>
            </a:r>
            <a:r>
              <a:rPr b="1" lang="en-US" sz="4000" spc="-1" strike="noStrike">
                <a:solidFill>
                  <a:srgbClr val="fcf726"/>
                </a:solidFill>
                <a:latin typeface="Tahoma"/>
              </a:rPr>
              <a:t>sanguis, haima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) -это</a:t>
            </a:r>
            <a:r>
              <a:rPr b="1" lang="en-US" sz="4000" spc="-1" strike="noStrike">
                <a:solidFill>
                  <a:srgbClr val="fcf72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ткань внутренней сред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488360" cy="424944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точник образования крови в эмбриогенезе – </a:t>
            </a:r>
            <a:r>
              <a:rPr b="1" lang="ru-RU" sz="3600" spc="-1" strike="noStrike">
                <a:solidFill>
                  <a:srgbClr val="fcf726"/>
                </a:solidFill>
                <a:latin typeface="Tahoma"/>
              </a:rPr>
              <a:t>мезенхи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асса крови составляет 4-9% массы тел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ём – 5-5,5 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Функция нейтрофилов -фагоцитоз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1280" y="1773360"/>
            <a:ext cx="807552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агоцитирующие клетки составляют 69-99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о так называемая </a:t>
            </a: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фагоцитарная активность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Фагоцитарный индекс –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сло частиц, поглощённых одной клетк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Нейтрофил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PMNs-J-196-W"/>
          <p:cNvPicPr/>
          <p:nvPr/>
        </p:nvPicPr>
        <p:blipFill>
          <a:blip r:embed="rId2"/>
          <a:stretch/>
        </p:blipFill>
        <p:spPr>
          <a:xfrm>
            <a:off x="571680" y="1500120"/>
            <a:ext cx="7686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3773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йтрофилы женской крови имеют сателлит ядра – тельце Барра, которое содержит Х хромос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ельце Бар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770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озинофилы (1-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кая кровь (3-8 час.) → ткани (до 9 суток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Диаметр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в мазке = 12-14 мк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Ядро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– сегментирован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реди гранул различают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первичную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и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вторичную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(специфическую) зернистост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пецифические гранулы содержат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кристаллоид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(главный основной белок, гидролитические ферменты, пероксидаза и пр.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ы способствуют снижению содержания гистамина в тканях при аллергических реакц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пецифическая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функция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ов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 –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нтипаразитарна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2 -  иммунорегуляторна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ы убивают личинки паразитов, поступившие в кровь или орга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Увеличение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личества эозинофилов носит название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– эозинофилия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Уменьшение – эозинопения.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--------------------------------------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мечается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уточный ритм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содержания эозинофилов в крови с максимумом в ночные и утренние часы и минимумом -  в вечерни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озинофилы (1-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eosinophil6x9"/>
          <p:cNvPicPr/>
          <p:nvPr/>
        </p:nvPicPr>
        <p:blipFill>
          <a:blip r:embed="rId2"/>
          <a:stretch/>
        </p:blipFill>
        <p:spPr>
          <a:xfrm>
            <a:off x="571680" y="1285920"/>
            <a:ext cx="7929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ая кровь (около12 час.)→ ткани (неск. сут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Функции базофил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гомеостатическ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защитная (секретируют медиаторы воспалени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свертываемость кров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Проницаемость сосу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Базофилы (до 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Размер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в мазке составляют 9-12 мк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Ядр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клеток - дольча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итоплазме находятся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рвичны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азурофильные) гранулы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торичн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специфические) грану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ецифические гранулы обладают свойством </a:t>
            </a: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метахрома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--------------------------------------------Метахромазия –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войство окрашиваться в цвет отличный от цвета красит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Состав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лазма (55-60%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форменные элементы (40-45%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ритроцит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ейкоцит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ецифические гранулы содержа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истами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расширяет сосуды и увеличивает их проницаемость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епари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антикоагулянт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ерото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→ кровь (36-104 часа) → тка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В тканях они превращаются 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Arial"/>
              </a:rPr>
              <a:t>макрофаг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Arial"/>
              </a:rPr>
              <a:t>Моноциты в совокупности с макрофагами образуют единую систему мононуклеарных макрофаг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оноциты (3-1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Базофилы (до 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428840" y="1279440"/>
            <a:ext cx="6072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Функции моноци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специфическая защита против вирусов, микробов и заражённых вирусами кл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астие в специфических иммунных реакц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хват и переваривание стареющих и погибших кл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креция моноки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азмеры моноцитов – до 20 мк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Ядра – крупные, бобовидной, подковообразной форм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итоплазма -  слабобазофильн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Моноциты (3-1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Picture 4" descr="Mono-J-188-W"/>
          <p:cNvPicPr/>
          <p:nvPr/>
        </p:nvPicPr>
        <p:blipFill>
          <a:blip r:embed="rId2"/>
          <a:srcRect l="0" t="6230" r="0" b="7602"/>
          <a:stretch/>
        </p:blipFill>
        <p:spPr>
          <a:xfrm>
            <a:off x="285840" y="1571760"/>
            <a:ext cx="8643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величине диаметра ядра различ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ал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4,5-6 мкм) составляют до 90% от всех лимфоци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н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7-10 мк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больш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(свыше 10 мк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еди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алых лимфоцит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различают: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ветлые и тёмн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к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Picture 4" descr="LymSm-J-186-W"/>
          <p:cNvPicPr/>
          <p:nvPr/>
        </p:nvPicPr>
        <p:blipFill>
          <a:blip r:embed="rId2"/>
          <a:srcRect l="0" t="0" r="0" b="14574"/>
          <a:stretch/>
        </p:blipFill>
        <p:spPr>
          <a:xfrm>
            <a:off x="500040" y="1500120"/>
            <a:ext cx="8167680" cy="478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019600" y="63342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лый лимфоц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017080" y="63342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ьшой лимфоц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LymLg-J-187-W"/>
          <p:cNvPicPr/>
          <p:nvPr/>
        </p:nvPicPr>
        <p:blipFill>
          <a:blip r:embed="rId2"/>
          <a:srcRect l="0" t="5279" r="0" b="6151"/>
          <a:stretch/>
        </p:blipFill>
        <p:spPr>
          <a:xfrm>
            <a:off x="500040" y="1428840"/>
            <a:ext cx="8072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Функциональные классы лимфоцит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789200"/>
            <a:ext cx="8229600" cy="5068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 -лимфоциты (тимусзависимые)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-----------------------------------------------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образуются из СК костного мозга, а созревают в тиму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- лимфоциты обеспечивают реакци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леточного иммуните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егуляцию гуморального иммунит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 – лимфоциты обеспечивают выработку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лимфокинов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рые регулируют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ятельность В –лимфоци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Функции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омеостатическ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оддержание постоянства внутренней среды организм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анспортна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перенос гормонов, биологически активных веществ, лекарственных препарат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18440" cy="5904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ич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-  килл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хелп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-  супресс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клетки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лимфоциты относятся к долгоживущим клеткам, продолжительность жизни составляет месяцы и 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Нулевые лимф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 имеют поверхностных маркеров на плазмолемме, характерных для Т- и В-лимфоци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ни представляют собой резервную популяцию недифференцированных лимфоцит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 - лимф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шественники В-клеток у птиц развиваются в зрелые лимфоциты в фабрициевой сумке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rs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. У человека – в К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-лимфоциты обладают способностью синтезировать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ммуноглобулины (антитела)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релые В-лимфоциты в периферических органах иммунной системы под влиянием антигенов специализируются в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лазматические клетки и В-клетки памя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бесцветные тельца размером 2-4 мкм, которые могут агглютинировать в групп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лич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р составляет 180-32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/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является светлая часть –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гиаломе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и темная часть -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гранулом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38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Picture 7" descr="platelet"/>
          <p:cNvPicPr/>
          <p:nvPr/>
        </p:nvPicPr>
        <p:blipFill>
          <a:blip r:embed="rId2"/>
          <a:stretch/>
        </p:blipFill>
        <p:spPr>
          <a:xfrm>
            <a:off x="571680" y="2143080"/>
            <a:ext cx="82324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популяции тромбоцитов различа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юн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зрел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стар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дегенеративн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гигантск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дшественником тромбоцитов служит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гакариоц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Образование тромбоцит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642960" y="1360440"/>
            <a:ext cx="73296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Функции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5435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ыхатель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еренос кислород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офическ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еренос питательных веществ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щит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фагоцитоз, гуморальный и клеточный иммунитет, свертывание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делитель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удаление   и транспортировка продуктов обмен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ая функция кровяных пластинок – участие в процессе свёртывания кров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тромбоцитах содержится более 12 факторов, участвующих в этом процесс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повреждении сосуда пластинки агрегируют и прилипают к нитям фибрина, в результате чего образуется тромб, закрывающий ра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643040" y="285840"/>
            <a:ext cx="5643720" cy="5325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3134160" y="5934240"/>
            <a:ext cx="23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ромб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озрастные изменения кров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Э у новорожденных составляет 6-7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1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14 сут. оно равно показателям взросл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3-6 мес. наблюдается физиологическая анем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---------------------------------------------------------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лейкоцитов у новорожденных достигает 10-30 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ечение 2-х недель после рождения их число падает до 9,0-15,0 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4 сут. количество нейтрофилов снижается, а лимфоцитов – возрастает (первый физиологический перекрес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4 году жизни вновь процентное соотношение этих клеток выравнивается (второй физиологический перекрес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имфа (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ympha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ет желтоватую жидкость, протекающую в лимфатических со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Лимфа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плазм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форменные элементы (лимфоциты – 98%, моноциты, незначительное количество гранулоцит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мфоплазме содержатся бел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альбумины, глобулины), ферменты (диастаза, липаза, гликолитические ферменты), нейтральные жиры, сахара, соли и п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ичают периферическую, промежуточную и центральную лимф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Плазма кро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плазмы составляет 7,3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лазма содержи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ду (90-93%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лки (альбумины, глобулины, фибриноген), 6,6-8,5%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ические и минеральные вещества (1,5-3,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7143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75640" cy="5400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о постклеточные структуры, которые не содержат яд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-----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ритроци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ыхательная (перенос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анспортная (аминокислоты, токсины, антитела, лекарственные веществ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Количество эритроци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516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ужчин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3,9-5,5 х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/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Женщин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3,7-4,9 х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/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форма –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искоци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Патологические формы - эхиноциты, планоциты, сфероциты, стоматоци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лодые формы эритроцитов составляют 5% и называются 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ретикулоцитами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02T09:19:23Z</dcterms:modified>
  <cp:revision>62</cp:revision>
  <dc:subject/>
  <dc:title>PowerPoint Presentation</dc:title>
</cp:coreProperties>
</file>