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43CC-27B3-48DA-B7A9-D4B8742F6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B5F2-B751-486B-B1C5-F62CA66B9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5C4E-0BE1-4FBC-922A-86F2EAFEA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B560-3655-41B7-AEBB-96CAB7256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3FA21-9CFF-49AC-AB20-ADDD91225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C28E0-1F61-439A-8DB1-207DF6C70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DA0CE-1069-4E4D-BBB2-C4160A05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88B00-00F8-4837-8317-EA6A5CC36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1F2A5-C10E-412F-8947-5E41A81DD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49552-4516-40FA-9E15-9A44EF5AE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99DEC-922A-4F43-97EA-F057E24B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F771-D36E-4C91-89FD-4497B8ED1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1885B-4C81-46D3-ABD1-39C3FA7F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17E9B-4D82-4830-9A23-3915979E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97476-6336-4D1F-9EC9-162EAAD3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3D1B9-6079-468D-BF7E-70EC23000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6F822-343F-4310-A6B7-6301D1F59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1EEB-92F9-45C2-B51E-7F93F75DE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0280-58C0-45C3-8B64-D14D9E7AF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3DFC-F2A1-4B31-AA78-8ADEB3F33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1059-790A-4704-ACEB-9928B4590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BD8D-B7B6-46E6-80A5-5FE96AF4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186C-3812-4FF1-BA4F-54AC6A19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C6F1-89E1-417D-B6E6-BB66E1B5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FCA7D-48EB-49CA-BE89-199E3EC007D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578DF-5B75-4ADD-80D8-83508AED7B9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765000"/>
            <a:ext cx="5756040" cy="144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100" spc="-1" strike="noStrike">
                <a:solidFill>
                  <a:srgbClr val="336666"/>
                </a:solidFill>
                <a:latin typeface="Arial Black"/>
              </a:rPr>
              <a:t>Синдром Эдвардса</a:t>
            </a:r>
            <a:endParaRPr b="0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780000" y="3645000"/>
            <a:ext cx="39240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дготовила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тудентка 5 курса, </a:t>
            </a: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ІІІ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медицинского факультета,4й групп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тихенская К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2737080" cy="25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Прогноз</a:t>
            </a:r>
            <a:br>
              <a:rPr sz="3300"/>
            </a:b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03640" y="259920"/>
            <a:ext cx="384336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Продолжительность жизни детей с синдромом Эдвардса невелика: 60 % детей умирают в возрасте до 3 мес, до года доживает лишь 5-10 %. Основной причиной смерти служат остановка дыхания и нарушения работы сердца. Оставшиеся в живых — глубокие олигофрены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SDC10885"/>
          <p:cNvPicPr/>
          <p:nvPr/>
        </p:nvPicPr>
        <p:blipFill>
          <a:blip r:embed="rId1"/>
          <a:stretch/>
        </p:blipFill>
        <p:spPr>
          <a:xfrm>
            <a:off x="0" y="1197000"/>
            <a:ext cx="52308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2873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336666"/>
                </a:solidFill>
                <a:latin typeface="Arial Black"/>
              </a:rPr>
              <a:t>Вариации</a:t>
            </a:r>
            <a:br>
              <a:rPr sz="2900"/>
            </a:b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347640" y="189000"/>
            <a:ext cx="5427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5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Кроме трисомии 18, присутствующей во всех клетках организма, а также мозаичной трисомии 18, возможна и частичная трисомия. При этом часть хромосомы 18 присоединяется к другой хромосоме. Такой эффект называется транслокация, и он может произойти как при созревании гамет, так и после оплодотворения в клетках зародыша. В клетках организма при этом оказываются две гомологичные хромосомы 18 и, дополнительно, часть хромосомы 18, прикрепленная к другой хромосоме. У людей, страдающих частичной трисомией 18, аномалии проявляются слабее, нежели при типичном синдроме Эдвардс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728_2029207537"/>
          <p:cNvPicPr/>
          <p:nvPr/>
        </p:nvPicPr>
        <p:blipFill>
          <a:blip r:embed="rId1"/>
          <a:stretch/>
        </p:blipFill>
        <p:spPr>
          <a:xfrm>
            <a:off x="684360" y="1125360"/>
            <a:ext cx="2600280" cy="54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D:\лейкозы\Edwards-Syndrome-Photographs.jpg"/>
          <p:cNvPicPr/>
          <p:nvPr/>
        </p:nvPicPr>
        <p:blipFill>
          <a:blip r:embed="rId1"/>
          <a:stretch/>
        </p:blipFill>
        <p:spPr>
          <a:xfrm>
            <a:off x="12600" y="-15840"/>
            <a:ext cx="3962520" cy="3963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D:\лейкозы\Edwards-Syndrome-Photos.jpg"/>
          <p:cNvPicPr/>
          <p:nvPr/>
        </p:nvPicPr>
        <p:blipFill>
          <a:blip r:embed="rId2"/>
          <a:stretch/>
        </p:blipFill>
        <p:spPr>
          <a:xfrm>
            <a:off x="5238720" y="-31680"/>
            <a:ext cx="3905280" cy="3905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D:\лейкозы\Picture-Of-Edwards-Syndrome.jpg"/>
          <p:cNvPicPr/>
          <p:nvPr/>
        </p:nvPicPr>
        <p:blipFill>
          <a:blip r:embed="rId3"/>
          <a:stretch/>
        </p:blipFill>
        <p:spPr>
          <a:xfrm>
            <a:off x="1974960" y="3429000"/>
            <a:ext cx="453708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Диагностика. Лечение.  Профилактика.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920" y="1668240"/>
            <a:ext cx="8675640" cy="51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иболее значимыми в диагностике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индрома Эдвардс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являются изменения мозгового черепа и лица, опорно-двигательного аппарата, пороки развития сердечно-сосудистой системы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пособа исправить хромосомные нарушения нет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едотвратить рождение ребенка с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индромом Эдвардс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можно, проведя пренатальную диагностику во время беременности или предимплантационную диагностику до наступления беременност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Синдром Эдвардса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21" name="Picture 4" descr="adw"/>
          <p:cNvPicPr/>
          <p:nvPr/>
        </p:nvPicPr>
        <p:blipFill>
          <a:blip r:embed="rId1"/>
          <a:stretch/>
        </p:blipFill>
        <p:spPr>
          <a:xfrm>
            <a:off x="179280" y="1197000"/>
            <a:ext cx="4233960" cy="4952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edwards-fig2"/>
          <p:cNvPicPr/>
          <p:nvPr/>
        </p:nvPicPr>
        <p:blipFill>
          <a:blip r:embed="rId2"/>
          <a:stretch/>
        </p:blipFill>
        <p:spPr>
          <a:xfrm>
            <a:off x="4427640" y="2060640"/>
            <a:ext cx="445752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49484504_Jonathan_Edwards"/>
          <p:cNvPicPr/>
          <p:nvPr/>
        </p:nvPicPr>
        <p:blipFill>
          <a:blip r:embed="rId1"/>
          <a:stretch/>
        </p:blipFill>
        <p:spPr>
          <a:xfrm>
            <a:off x="324000" y="907920"/>
            <a:ext cx="4325760" cy="5016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8"/>
          <p:cNvSpPr/>
          <p:nvPr/>
        </p:nvSpPr>
        <p:spPr>
          <a:xfrm>
            <a:off x="4896000" y="1054440"/>
            <a:ext cx="4068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индром Э́двард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синдром трисомии 18) — второе по частоте после болезни Дауна хромосомное заболевание, характеризуется комплексом множественных пороков развития и трисомией 18 хромосомы. Описан в 1960 году Джоном Эдвардсом (John H. Edwards). Популяционная частота примерно 1:7000. Дети с трисомией 18 чаще рождаются у пожилых матерей, взаимосвязь с возрастом матери менее выражена, чем в случаях трисомии хромосомы 21 и 13. Для женщин старше 45 лет риск родить больного ребенка составляет 0,7 %. Девочки с синдромом Эдвардса рождаются в три раза чаще мальчик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Причины заболевания</a:t>
            </a:r>
            <a:br>
              <a:rPr sz="3300"/>
            </a:b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9280" y="1125360"/>
            <a:ext cx="8604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чиной заболевания является наличие дополнительной 18-й хромосомы (трех вместо двух в норме для диплоидного набора) в кариотипе зиг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шняя хромосома обычно появляется до оплодотворения. У человека нормальные половые клетки — гаметы — содержат по 23 хромосомы (гаплоидный набор) и, сливаясь, они дают кариотип зиготы — 46 хромосом. К появлению лишней хромосомы у гамет обычно приводит нерасхождение хромосом при мейотическом делении, вследствие чего в половой клетке оказывается 24 хромосомы. В случае, если такая клетка встретит при оплодотворении гамету от противоположного пола, они образуют зиготу с трисоми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дном случае из десяти наблюдается мозаицизм в явлении трисомии 18: лишнюю хромосому несут не все клетки организма. Это говорит о том, что нерасхождение произошло на ранней стадии развития зародыша, а все клетки с трисомией — потомки неправильно поделившейся клетки зародыш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194"/>
          <p:cNvPicPr/>
          <p:nvPr/>
        </p:nvPicPr>
        <p:blipFill>
          <a:blip r:embed="rId1"/>
          <a:stretch/>
        </p:blipFill>
        <p:spPr>
          <a:xfrm>
            <a:off x="324000" y="549360"/>
            <a:ext cx="8532720" cy="526572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8"/>
          <p:cNvSpPr/>
          <p:nvPr/>
        </p:nvSpPr>
        <p:spPr>
          <a:xfrm>
            <a:off x="1479600" y="6490440"/>
            <a:ext cx="63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индром Эдвардса или трисомия по 18-й хромосом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98" name="Picture 2" descr="D:\лейкозы\0020-020-Sindrom-Edvardsa.jpg"/>
          <p:cNvPicPr/>
          <p:nvPr/>
        </p:nvPicPr>
        <p:blipFill>
          <a:blip r:embed="rId1"/>
          <a:stretch/>
        </p:blipFill>
        <p:spPr>
          <a:xfrm>
            <a:off x="12600" y="0"/>
            <a:ext cx="895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69608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Симптомы трисомии 18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0560" y="1314000"/>
            <a:ext cx="8785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енотипические проявления синдрома Эдвардса довольно характер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§   Долихоцефальный череп, сдавленный с боков, с низким лбом и широким выступающим затылк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§   Глазные щели узкие; эпикан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§   Нижняя челюсть маленькая, скошена назад (микроретрогнатия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§   Рот маленький, треугольной формы с короткой верхней губ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§   Шея короткая, с крыловидной склад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62120" y="1699920"/>
            <a:ext cx="7696080" cy="42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омалии опорно-двигательного аппара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исти и пальцы короткие, пятые пальцы искривлены, пальцы сжаты в кулак, второй и пятый пальцы расположены сверху и прикрывают прижатые к ладони второй и четвертый пальц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ый палец стопы короткий и широкий, синдактилия второго и третьего пальце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а стопы в виде «качалк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ти 95% больных имеют пороки сердца, крупных сосудов, мочеполовой системы, аномалии органов пищевар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image018"/>
          <p:cNvPicPr/>
          <p:nvPr/>
        </p:nvPicPr>
        <p:blipFill>
          <a:blip r:embed="rId1"/>
          <a:stretch/>
        </p:blipFill>
        <p:spPr>
          <a:xfrm>
            <a:off x="0" y="23760"/>
            <a:ext cx="3780000" cy="568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D:\лейкозы\056.jpg"/>
          <p:cNvPicPr/>
          <p:nvPr/>
        </p:nvPicPr>
        <p:blipFill>
          <a:blip r:embed="rId2"/>
          <a:stretch/>
        </p:blipFill>
        <p:spPr>
          <a:xfrm>
            <a:off x="3780000" y="3429000"/>
            <a:ext cx="504000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4" descr="small_first_thumbs_trisomy18_12"/>
          <p:cNvPicPr/>
          <p:nvPr/>
        </p:nvPicPr>
        <p:blipFill>
          <a:blip r:embed="rId1"/>
          <a:stretch/>
        </p:blipFill>
        <p:spPr>
          <a:xfrm>
            <a:off x="0" y="0"/>
            <a:ext cx="4525920" cy="4653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5" descr="trisomy_18_face_profile_20w_06_1"/>
          <p:cNvPicPr/>
          <p:nvPr/>
        </p:nvPicPr>
        <p:blipFill>
          <a:blip r:embed="rId2"/>
          <a:stretch/>
        </p:blipFill>
        <p:spPr>
          <a:xfrm>
            <a:off x="2556000" y="3198960"/>
            <a:ext cx="6588000" cy="36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</dc:creator>
  <dc:description/>
  <dc:language>en-US</dc:language>
  <cp:lastModifiedBy>Андрей</cp:lastModifiedBy>
  <dcterms:modified xsi:type="dcterms:W3CDTF">2013-03-14T13:33:14Z</dcterms:modified>
  <cp:revision>9</cp:revision>
  <dc:subject/>
  <dc:title>PowerPoint Presentation</dc:title>
</cp:coreProperties>
</file>