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56A-1EE6-4D61-8C12-A176DBD7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521-F9DC-4E9D-8495-7DA33F78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A95-108E-4AC7-A320-A06B1CCB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564-ED35-4C31-83D1-80E32BBA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A1D-B416-4B84-9314-38D667CD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C73-C32C-4D1B-9218-E5C89BF0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FD8-4BD5-45C7-B3DE-C06B0120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C2B-2038-48AE-A18C-23E84914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3E2-B843-4A6C-8E44-CB722A6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FFD-0552-44F4-A660-2FB6167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426-4BD0-4ABB-AA94-1173A968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48D-C7A8-450A-9257-118C38AE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5C96-898A-46C6-8F23-65510AF2A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241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ма л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1484280"/>
            <a:ext cx="755964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КОРНАВИРУСЫ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НТЕРОВИРУСЫ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вирусы полиомиелита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ксаки, ЕСНО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ы и серотипы род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ero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Ы                               СЕРОТИПЫ                                             Количество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отип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овирус человек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овирус 1, полиовирус 2, полиовирус 3                3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oviru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теровирус А чел-ка  Вирусы Коксаки А человека (А2-А8,А10,А12           1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uman enterovirus A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14,А16), энтеровирус 71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теровирус В чел-ка  Вирусы Коксаки В человека (В1-В6), коксаки-          36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uman enteroviru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ирус А9, ЕСНО-вирусы человека (1-7, 9,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ипрнкеаппичми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-21,24-27,29-33),энтеровирус 69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теровирус С чел-ка   Вирусы Коксаки А человека (А1,А11,А13,                1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uman enteroviru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15,А17-22,А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теровиру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л-ка   Энтеровирус 68 человека, энтеровирус 70                  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uman enterovirus D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1125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1125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русы полиомиели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лиомиели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строе инфекционное заболевание, вызываемое полиовирусами, для которых характерно преимущественное поражение серого вещества (от греч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o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ерый) спинного мозга и ствола головного мозга, с последующим развитием вялых параличей и парезов мышц ног, туловища, ру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25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рус полиомиели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-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nm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икосаэдрический тип симметрии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7724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53989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иовирус был впервые выделен в 1909 году Карлом Ландштейнером (на фото) и Эрвином Попперо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ом полиовируса был полностью расшифрован только в 1981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24400" y="333360"/>
            <a:ext cx="38196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1412640"/>
            <a:ext cx="75582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Антигенные свойств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различают три серотипа: 1,2,3, не вызывающие перекрестного иммунитета.</a:t>
            </a:r>
            <a:br>
              <a:rPr sz="2300"/>
            </a:b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Эпидемиология: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источник – больной человек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мечается в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ысокая восприимчивость человека к полиовирусам, причем, в более 90% случаев инфекцию вызывает полиовирус 1-го типа, чаще у детей от 6 мес до 5 лет). Вирус полиомиелита патогенен только для приматов, главным образом из-за того, что только у них есть соответствующие рецептор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14172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ой путь пере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фекально-оральны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казано А.Сэбиным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ирус выделяется с испражнениями с конца инкубационного периода до 40-го дня боле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кубационный пери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7-14 д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зо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одъем заболеваемости в летние месяцы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русы устойчивы к действию кислой среды, в том числе желудочного сока, а также обычных дезинфицирующих средств (этанола, моющих средств) и сохраняют жизнеспособность при комнатной температуре несколько дне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 во внешней среде (в воде сохраняется до 100 суток, в испражнениях — до 6 мес), хорошо переносит замораживание, высушивание. Не разрушается пищеварительными соками и антибиотиками. Культивируется на клеточных культурах, обладает цитопатогенным действием. Погибает при кипячении, под воздействием ультрафиолетового облучения и дезинфицирующи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Энтеровирусы распространены повсеместно. Более 90 % инфекций, вызванных вирусом полиомиелита, и более 50 % остальных энтеровирусных инфекций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протекают стерто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Если симптомы появляются, то они чаще неспецифичны — лихорадка, воспаление верхних дыхательных путей. Характерная клиническая картина развивается лишь в небольшой части случаев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АТОГЕНЕЗ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НФЕ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ными воротами инфекции является слизистая оболочка носоглотки или кише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 время инкубационного периода (7-14 сут.) вирус размножается в лимфоидных образованиях глотки и кишечника, затем проникает в кровь и достигает нервных клеток (особенно двигательных клеток передних рогов спинного мозга и ядер черепно-мозговых нерв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бщая характеристика и классификация пикорнавиру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Энтеровирусы. Биологические свойства возбудителей полиомиелита. Патогенез и клинические проя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Лабораторная диагностика и методы профилакт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Вирусы Коксаки А и В, вирусы ЕС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РФОЛОГИЧЕСКИЕ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ее выраженные морфологические изменения обнаруживаются в нервных клетках передних рогов спинного моз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вные клетки подвергаются дистрофически-некротическим изменениям, распадаются и гибнут. С меньшим постоянством подобным же, но менее выраженным изменениям подвергаются клетки мозгового ствола, подкорковых ядер мозжечка и ещё в меньшей степени — клетки двигательных областей коры головного мозга и задних рогов спинного мозга. Часто отмечается гиперемия и клеточная инфильтрация мягкой мозговой оболочки. Гибель 1/4—1/3 нервных клеток в утолщениях спинного мозга ведет к развитию пареза. Полные параличи возникают при гибели не менее 1/4 клеточного соста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 е ч е н и 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большинстве случаев полиомиелит протекает бессимптомно и инфекцию можно обнаружить лишь с помощью лабораторных исследований. В других случаях после инкубационного периода (3-35, чаще 9-11 сутки) появляются признаки заболев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ЩИЕ ЗАКОНОМЕРНОСТИ ПАТОГЕНЕЗА  ЭНТЕРОВИРУСНЫХ ЗАБОЛЕ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766800"/>
            <a:ext cx="22860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жение вирус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1600"/>
            <a:ext cx="4229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через слизистую оболочку гл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1341360"/>
            <a:ext cx="48006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через слизистую оболочку тонкой ки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981080"/>
            <a:ext cx="28576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далины, регионарные л/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1981080"/>
            <a:ext cx="4114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еровы бляшки и солитарные фолликулы, мезентериальные л/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4880" y="2023920"/>
            <a:ext cx="13716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нож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2938320"/>
            <a:ext cx="28576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(малая) вирусем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581280"/>
            <a:ext cx="4724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семинация вируса (печень, селезенка, костный мозг, легкие).  Размножение и накоп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572000"/>
            <a:ext cx="20574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ая (большая) вирусем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72480" y="4572000"/>
            <a:ext cx="21715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токсические проя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410080"/>
            <a:ext cx="4114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икновение в различные органы с учетом тропности вируса. Размнож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6286680"/>
            <a:ext cx="411480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ные нарушения. Развернутая клиническая картина болез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997360"/>
            <a:ext cx="38163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ция местных защитных реакций (макрофаги, иммуноглобулин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114800"/>
            <a:ext cx="3521160" cy="8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ция клеточного и гуморального иммунитета, активности макрофа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257800"/>
            <a:ext cx="352116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е исчезновение возбудителя из крови, гибель в очагах размножения, выздоро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515280"/>
            <a:ext cx="37720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йкий типоспецифический иммунит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110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110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7480" y="16812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16812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857320" y="2367000"/>
            <a:ext cx="11430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00680" y="2367000"/>
            <a:ext cx="12571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-360" y="321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20" y="3213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73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43200" y="3281400"/>
            <a:ext cx="24004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43680" y="3281400"/>
            <a:ext cx="4572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809520" y="4195800"/>
            <a:ext cx="1791000" cy="2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4195800"/>
            <a:ext cx="34308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29480" y="51102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634920" y="4868640"/>
            <a:ext cx="784440" cy="6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29480" y="60246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33560" y="457164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7480" y="465300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457200" y="-19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457200" y="-193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6483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839080" y="5181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534520" y="6629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 С Л О Ж Н Е Н И 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78469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ле окончания острых явлений погибшие клетки замещаются глиозной тканью с исходом в рубцевание. Размеры спинного мозга (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 передних рогов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 уменьшаются: при одностороннем поражении отмечается асимметрия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мышцах, иннервация которых пострадала, развивается атрофия. Изменения внутренних органов незначительные — в первую неделю отмечается картина интерстициального миокарди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линические проявления и особенности иммуните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лин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выделяют три клинические формы – паралитическую, менингеальную (без параличей) и абортивную (легкую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ммуни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тойкий пожизненный типоспецифический, обусловленный наличием вируснейтрализующих антител, среди которых важная роль принадлежит местным секреторным антителам слизистой глотки и кишечника. Пассивный естественный иммунитет сохраняется в течение 3-5 недель после рождения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биологическа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агностика полиомиели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ирусологический мето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 для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ражнения, смывы с носоглотки от больных и вирусоносителей; секционный материал–головной и спинной мозг, содержимое кишеч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ражение культуры клет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наличие ЦПД (бляшкообразование) →типовая идентификация в РН, РИФ, ИФ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рологический метод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 для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ыворотка кро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явление с помощью РН, РСК специфически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4-кратного нарастания титра антител в парных сыворотках (в остром периоде и периоде реконвалесценци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5780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ецифическая профилактика полиомиели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53г. – разработана и внедрена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активирован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акцина (Д.Солк, СШ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56г. – разработан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ивая вакц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з аттенуированных штаммов трех типов вируса полиомиелита (А.Сэбин, СШ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58г. – М.П.Чумаков и А.А.Смородинцев разработали первую живую пероральную вакцину из трех штаммов Сэби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жонас Солк          Альберт Себ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403880" cy="518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292720" y="1384200"/>
            <a:ext cx="35528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русы Коксаки (англ. Coxsackieviru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колько видов РНК-содержащих энтеровирусов которые хорошо размножаются в желудочно-кишечном тракте. До 30 видов вирусов Коксаки относят к трем группам энтеровирусов человека А, В и С. Вирусы Коксаки являются одной из основных причин возникновения асептического менинги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корнавирус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семейств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cornavirida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икорнавирус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т итал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ccol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малый, + англ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n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рибонуклеиновая кислот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семейство безоболочечных вирусов, содержащих однонитевую положительно заряженную РН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256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русы Коксаки были описаны в 1948-49 гг. Гилбертом Даллдорфом, исследователем из New York State Department of Health (Нью-Йор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мышиной модели Даллдорф пытался выявить инфекционный агент из стула больных полиомиелитом, дающий защиту от полиомиели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екции, которые вызывали  обнаруженными вирусами,  часто имели слабые симптомы полиомиели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му семейству вирусов было дано название Коксаки, по имени небольшого городка в штате Нью-Йорк, где Даллдорф из фекалий выделил первые штам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2007 году случилась вспышка инфекции вирусами Коксаки в Восточном Китае. Погибли 22 ребенка, были заражены более 800 человек, 200 детей госпитализиров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русы Коксаки 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136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русы Коксаки А вызывают у человека ангину, пузырчатку в полости рта и конечностей, полиомиелитоподобные заболевания, диарею у детей; возможна сыпь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русы Коксаки типа A обычно инфицируют кожу и слизистые оболочки, вызывают острый геморрагический конъюнктивит, энтеровирусный везикулярный стоматит с экзантемой, заболевания верхних дыхательных путей и асептический менингит, а также заболевания горла (герпангина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322360"/>
            <a:ext cx="939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3860280"/>
            <a:ext cx="820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26028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ирусы Коксаки 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ызывают у человека    полиомиелитоподобные заболевания, энцефалит, миокардит, плевродинию (эпидемическая миалгия или болезнь Борнхольма) начинается внезапно с сильнейшей приступообразной боли в мышцах живота или нижних отделах грудной клетки. Сопровождается ознобом, повышением температуры до 39-40°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ирусы Коксаки типа 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фицируют сердце, плевру, печень и поджелудочную железу, вызывают миокардит, перикардит и гепатит (воспаление печени, не связанное с гепатотропными вирусами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фекция сердца может вызывать перикардиальную эффузи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русы Кокса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800" y="1484280"/>
            <a:ext cx="7772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82" name=""/>
          <p:cNvSpPr/>
          <p:nvPr/>
        </p:nvSpPr>
        <p:spPr>
          <a:xfrm>
            <a:off x="5651640" y="333360"/>
            <a:ext cx="34923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нисто-папулезная сыпь на лице (вирус Коксаки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нфекциях, вызванных вирусами Коксаки, главным образом А-9. А-16. А-10, А-5. В-3 и В-5. встречается пятнисто-папулезная, петехиальная и везикулярная сыпь. Другие серотипы вызывают сыпь в единичных случая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евочки (см. фото): на фоне лихорадочного состояния, вызванного вирусом Коксаки, на лице появилась пятнисто-папулезная сып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биологическая диагностика Коксаки-инфе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русологический мет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териал для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ражнения, смывы с носогло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аражение культуры клеток или мышей-сосунков→наличие ЦПД или характер патологических изменений у зараженных мышей → идентификация в РН, РТГА, РСК, ИФ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рологический мет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териал для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ыворотка кр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явление нарастания титра антител в РТГА, РСК, РН, ИФ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РУСЫ ЕС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ывают ОРВИ, асептический менингит, полиомиелитоподобные заболевания; возможна сып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766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кробиологическая диагнос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русолог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териал для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МЖ, испражнения, отделяемое носогл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аражение культуры клеток почек обезьян→наличие ЦПД→ идентификация в РН, РТГА, РСК, ИФ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ологический мет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териал для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ыворотка кр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явление нарастания титра антител в РТГА, РСК, РН, ИФ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" descr=""/>
          <p:cNvPicPr/>
          <p:nvPr/>
        </p:nvPicPr>
        <p:blipFill>
          <a:blip r:embed="rId1"/>
          <a:stretch/>
        </p:blipFill>
        <p:spPr>
          <a:xfrm>
            <a:off x="588960" y="0"/>
            <a:ext cx="2227320" cy="1442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89" name=""/>
          <p:cNvSpPr/>
          <p:nvPr/>
        </p:nvSpPr>
        <p:spPr>
          <a:xfrm>
            <a:off x="5364000" y="907920"/>
            <a:ext cx="378000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пь на туловище (вирус ЕСНО-19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ыпания могут быть пятнисто-папулезными, везикулярными, петехиальными или полиморф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" descr=""/>
          <p:cNvPicPr/>
          <p:nvPr/>
        </p:nvPicPr>
        <p:blipFill>
          <a:blip r:embed="rId2"/>
          <a:stretch/>
        </p:blipFill>
        <p:spPr>
          <a:xfrm>
            <a:off x="468360" y="0"/>
            <a:ext cx="489564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92" name=""/>
          <p:cNvSpPr/>
          <p:nvPr/>
        </p:nvSpPr>
        <p:spPr>
          <a:xfrm>
            <a:off x="5796000" y="7650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нисто-папулезная сыпь на лице (вирус ЕСНО-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                              ПРЕДСТАВИТЕЛИ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ovirus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Вирусы: полиомиелита типа 1,2,3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ксаки группы А и 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НО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теровирусы  68-71 тип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inovirus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новирусы человека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тип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htovirus            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отип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ovirus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о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ovirus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ротип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co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bovir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названия новых 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bu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2060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5373720"/>
            <a:ext cx="71640" cy="934920"/>
          </a:xfrm>
          <a:custGeom>
            <a:avLst/>
            <a:gdLst>
              <a:gd name="textAreaLeft" fmla="*/ 0 w 71640"/>
              <a:gd name="textAreaRight" fmla="*/ 2592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33360"/>
            <a:ext cx="59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представителей семейст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ornavir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икорнавирусы (электронограмм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79480" y="1700280"/>
            <a:ext cx="59612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и РЕПРОДУКЦИЯ ПИКОРНАВИРУ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4436640"/>
            <a:ext cx="380988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ном вируса проникает в клетку путем  эндоцитоза или путем инъекции РНК через ЦПМ клетки (1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продукция (2-5) и сборка (6) вирионов происходит в цитоплазме и сопровождается ЦПД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выход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осредством лизиса клет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" descr=""/>
          <p:cNvPicPr/>
          <p:nvPr/>
        </p:nvPicPr>
        <p:blipFill>
          <a:blip r:embed="rId1"/>
          <a:srcRect l="5878" t="4087" r="1946" b="2025"/>
          <a:stretch/>
        </p:blipFill>
        <p:spPr>
          <a:xfrm>
            <a:off x="179280" y="1125360"/>
            <a:ext cx="3745080" cy="331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5" name=""/>
          <p:cNvSpPr/>
          <p:nvPr/>
        </p:nvSpPr>
        <p:spPr>
          <a:xfrm>
            <a:off x="179280" y="4508640"/>
            <a:ext cx="3745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лкие, просто организованные вирусы (средни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-30нм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рион состоит из икосаэдри-ческого капсида, содержащего однонитевую плюс-РНК с протеин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49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ХЕМА строения пикорнавир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4608360" cy="3384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8" name=""/>
          <p:cNvSpPr/>
          <p:nvPr/>
        </p:nvSpPr>
        <p:spPr>
          <a:xfrm>
            <a:off x="4427640" y="549360"/>
            <a:ext cx="47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ХЕМА репродукции пикорнавир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1700280"/>
            <a:ext cx="8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пс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 Н Т Е Р О В И Р У С 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р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erovirus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мейств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icornavirida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нтеровирус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(от греч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on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кишка) – группа РНК-содержащих вирусов, обитающих преимущественно в кишечнике человека и вызывающих разнообразные по клиническим проявлениям болезни челове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нтеровирусы (лат. Enteroviru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включают 67 патогенных для человека серотип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типа вирусов полиомиелит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3 типа вирусов Коксаки 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 типов вирусов Коксаки 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 тип эховирусо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ще 4 типа энтеровирусов 68-7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энтеровирусов связано с их репродукцией в ЖКТ, однако энтерит они вызывают редк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10-01T15:04:59Z</dcterms:modified>
  <cp:revision>88</cp:revision>
  <dc:subject/>
  <dc:title>PowerPoint Presentation</dc:title>
</cp:coreProperties>
</file>