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6.jpeg" ContentType="image/jpeg"/>
  <Override PartName="/ppt/media/image42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46.jpeg" ContentType="image/jpeg"/>
  <Override PartName="/ppt/media/image49.jpeg" ContentType="image/jpeg"/>
  <Override PartName="/ppt/media/image12.png" ContentType="image/png"/>
  <Override PartName="/ppt/media/image20.jpeg" ContentType="image/jpeg"/>
  <Override PartName="/ppt/media/image45.jpeg" ContentType="image/jpeg"/>
  <Override PartName="/ppt/media/image55.png" ContentType="image/pn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8.jpeg" ContentType="image/jpeg"/>
  <Override PartName="/ppt/media/image53.png" ContentType="image/png"/>
  <Override PartName="/ppt/media/image56.png" ContentType="image/png"/>
  <Override PartName="/ppt/media/image44.png" ContentType="image/png"/>
  <Override PartName="/ppt/media/image40.jpeg" ContentType="image/jpeg"/>
  <Override PartName="/ppt/media/image38.jpeg" ContentType="image/jpeg"/>
  <Override PartName="/ppt/media/image57.jpeg" ContentType="image/jpeg"/>
  <Override PartName="/ppt/media/image58.png" ContentType="image/png"/>
  <Override PartName="/ppt/media/image33.jpeg" ContentType="image/jpeg"/>
  <Override PartName="/ppt/media/image31.jpeg" ContentType="image/jpeg"/>
  <Override PartName="/ppt/media/image54.jpeg" ContentType="image/jpeg"/>
  <Override PartName="/ppt/media/image13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8BD-AFB9-4AFD-9C5F-549AA5B8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52D-4D62-426A-9485-C49F4FD0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59AC-88C5-4922-BF8A-CBFB80E9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1D46-30F0-49DD-A816-4968D7BF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CE60-4399-4B42-8445-F37C4704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B214-9159-4073-A1E8-EEA39631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367A-C0F2-4AE9-B84B-861A54FC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F257-95D2-4238-B11F-D8B829FC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420-C2A6-42DF-93CA-DDCC117A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31B-0467-4BC9-92AE-E7022206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041-EBC8-4FDF-9461-72463033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A37-23D4-4454-BD50-22F150B7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DCA2-DCD6-48C9-9527-D4713268B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765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ма ле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42926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"/>
              </a:rPr>
              <a:t>ОНКОГЕННЫЕ ВИРУСЫ. ОСОБЕННОСТИ ПРОТИВООПУХОЛЕВОГО ИММУНИТЕТА. ГЕРПЕСВИРУСЫ.</a:t>
            </a: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30560" y="0"/>
            <a:ext cx="51134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нкомаркер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специфические вещества, которые обнаруживаются в крови и/или моче больных рако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и, решаемые при использовании онкомаркер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Ранняя дифференциальная диагностика опухо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Обнаружение метастазов за 6 месяцев до их клинической манифестации (например возрастание маркера СА-15-3 при как бы вылеченном раке молочной железы говорит о будущем рецидиве/метастазе через 6-10 месяце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Оценка эффективности терап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Какие вещества могут служить маркерами опухолевого рост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Ассоциированные с опухолью антиге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Гормо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Продукты обме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Белки, ферменты и белковые же продукты распада опухо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иболее часто определяемые онкомаркер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507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А 125 — маркер рака яич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ФП — альфа-фетопротеин — маркер гепатоцеллюлярного рака печ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ЭА — раковоэмбриональный антиген — онкомаркер рака прямой киш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СА — простатоспецефический антиген — онкомаркер рака прост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ля злокачественных новообразований, в частности опухолей, характерны два основных призна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есконтрольн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о есть не регулируемая внешними сигналами) пролиферация клеток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их способность проникать в окружающие ткани и отдаленные органы (то ес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вазивный рост и метастазирование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Онкогенные ДНК-содержащие вирусы человека, вызывающие развитие опухо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92000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нкогенные вирусы человека, вызывающие развитие опухолей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НК-содержащие виру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532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нкогенные вир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Rockwell Extra Bold"/>
              </a:rPr>
              <a:t>ДНК-вир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ирус гепатита B (HB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ирусы папилломы человека (HPV) (в особенности, HPV-16 и HPV-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ерпесвирус человека типа 8 (HHV-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ирус Эпштейна — Барр (EB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ирус полиомы из клеток Меркеля (MC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томегаловирус человека (CMV or HHV-5) связанный с мукоэпидермоидной карциномой и, возможно, другими злокачественными новообразова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Rockwell Extra Bold"/>
              </a:rPr>
              <a:t>РНК-вир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-лимфотропный вирус человека (HTLV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рус гепатита C (HC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549360"/>
          <a:ext cx="8229600" cy="6135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3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р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ветствующие типы ра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русы гепатита, в том числе вирус гепатита B и вирус гепатита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пато-целлюлярная карцинома (рак печени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-лимфотропный вирус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опический спастический парапарез и T-клеточный лейкоз взросл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русы папилломы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к шейки матки, кожи, ануса и пениса, рак рта, глотки и, возможно, рак лёгки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песвирус человека типа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ркома Капоши и лимфома брюшной пол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рус Эпштейна — Бар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мфома Беркитта, лимфогранулематоз, посттрансплантационная лимфопролиферативная болезнь и назофарингеальная карцино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можные механизмы индукции онкогенеза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рус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848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лек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Краткий исторический очер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Понятие об опухолях. Маркеры опухолевого ро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Онкогенные вирусы и их классифик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Вирусо-генетическая теория возникновения опухо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Классификация вирусов герп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 Биологические свойства вирусов герпеса. Клиническая картина. Диагностика, лечение и профилак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рус гепатита 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Карцинома печ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Вирусная частица гепатита В. Нуклеокапсид и поверхностный (австралийский) антиген"/>
          <p:cNvPicPr/>
          <p:nvPr/>
        </p:nvPicPr>
        <p:blipFill>
          <a:blip r:embed="rId1"/>
          <a:stretch/>
        </p:blipFill>
        <p:spPr>
          <a:xfrm>
            <a:off x="395280" y="1413000"/>
            <a:ext cx="4127400" cy="497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78520" y="1413000"/>
            <a:ext cx="3332160" cy="50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обенности противоопухолевого иммуни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6828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леточное зве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Мононуклеарные фагоци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туральные килл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Цититоксические Т-лимфоци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1268280"/>
            <a:ext cx="43164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уморальное зве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1. Специфические анти-тела к антигенам опухоле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2. Преимущественно классов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gM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g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3. Антитела не разруша-ют опухоль, а адсорби-руясь на её поверхности усиливают действие эффекторов и усиливают цитолиз опухоле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попто́з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греч. απόπτωσις — опадание листье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раммируемая клеточная смерть, регулируемый процесс самоликвидации на клеточном уровне, в результате которого клетка фрагментируется на отдельные апоптотические тельца, ограниченные плазматической мембран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гменты погибшей клетки обычно очень быстро фагоцитируются макрофагами минуя развитие воспалительной реакции (продолжается 1—3 час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й из основных функций апоптоза является уничтожение дефектных (повреждённых, мутантных, инфицированных) клеток для поддержания клеточного гомеост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поптоз человеческого лейкоцита. </a:t>
            </a: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Микрофотография, сделанная с помощью сканирующего электронного микроскоп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4803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ычные клетки, если они повреждены, подвергаются апоптозу (А). Раковые клетки же апоптозу не подвергаются и продолжают дел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43280" y="1413000"/>
            <a:ext cx="30290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311280" cy="3035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476360" y="0"/>
            <a:ext cx="653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пилломавирус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Инфекцио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ода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дил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Папилл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12000" y="620640"/>
            <a:ext cx="2232000" cy="2710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643280" y="3573360"/>
            <a:ext cx="4140360" cy="2756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352908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к молочной желе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90560" y="1600200"/>
            <a:ext cx="5761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рпесвирусы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лат. Herpesvirida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ольшое семейство ДНК-содержащих вирусов, вызывающее разнообразные болезни не только у человека и других млекопитающих, но и у птиц, рептилий, амфибий, ры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рпесвирусами заражено большинство населения нашей план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о около 200 видов герпесвирусов, у человека вызывают заболевания 8 тип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ичительным признаком вирусов этого семейства является нахождение вируса в клетках латентно, персистируя, бесконечно длительное время, без клинических проя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систенция (вирусов)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лат. persistere — оставаться, упорствова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бозначает длительное сохранение вируса в организме хозяина или в клеточной куль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рмин в 1923 году предложили французский бактериолог, иммунолог и вирусолог Константин Левадити и румынский вирусолог Штефан Никола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СНОВНЫЕ ЭТАПЫ ИЗУЧЕНИЯ ОНКОГЕН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рытие вируса саркомы Рауса (RSV)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ркомы Людвига Гросса  (лейкоз мыше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0-е г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едрение вируса активирует онкоге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19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ечная мутация активирует опухоль мочевого пузыря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коген кодирует фактор роста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когены коопереруют при опухолевой трансформации клет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онирование белка - первого супрессора опухол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19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когены связаны с контролем разви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19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НК опухолеродные вирусы функционируют, действуя на бел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коген bcl-2 кодирует ингибир апоптоз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следственный рак толстой кишки вызывается мутацией в гене репарации ДН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онирован ген предрасположенности к раку молочной желез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звание семейства происходит от греческого herpein через латинское herро — ползать, ползущ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нфекционные болезни, вызванные вирусами этого семейства, протекают остро, переходят в латентную стадию, не проявляют себя до определённого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 основу классификации герпесвирусов положены критер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уктура генома вир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лковый со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 репликации вир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носи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опизма к ткан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остранение вируса в куль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тельности репродуктивного цик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 этим признаком различают подсеме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α-герпесвирусы (аlphaherpesvirinae, VC 31.1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β-герпесвирусы (betaherpesvirinae, VC 31.2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γ-герпесвирусы (gammaherpesvirinae, VC 31.3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емейство неклассифицируемых виру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учная классифик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ен:                                                                     Виру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:                                                                      Herpesvi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:                                                              Герпесвирусы (Herpesvirid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Ы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дсемейство Alphaherpesvirin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Simplex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Varicello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Mard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Ilto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дсемейство Betaherpesvirin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ytomegalovirus — Цитомегалови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Muromegalo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Roseolo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Probosc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дсемейство Gammaherpesvirin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Lymphocryptovirus — Лимфокриптови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Rhadino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Maca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Perca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Классификация вирусов герпес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620640"/>
          <a:ext cx="8964720" cy="5767560"/>
        </p:xfrm>
        <a:graphic>
          <a:graphicData uri="http://schemas.openxmlformats.org/drawingml/2006/table">
            <a:tbl>
              <a:tblPr/>
              <a:tblGrid>
                <a:gridCol w="3197160"/>
                <a:gridCol w="57675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семейств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 - заболев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herpesvirida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Г 1 тип – оральный, генитальный, губной 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Г 2 тип – оральный, вагинальный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Г 3 тип (виру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aricella-zos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– ветряная оспа, опоясывающий лиша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maherpesvirida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 герпеса 4 тип (вирус Эпстайна-Барр) инфекционный мононуклеоз, лимфому Беркитта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 герпеса 8 тип (ассоциированный с саркомой Капоши) - первичную лимфому серозных пол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herpesvirida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Г 5 тип (цитомегаловирус): инфекционный мононуклеоз, ретинит, гепати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Г 6 тип (лимфотропный вирус, розеоловирусы): детская розеола или экзанте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Г 7 тип: Синдром хронической устал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рфология герпесвир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рионы имеют сферическую форму диаметром от 120 до 300 нм. Внутри зрелой вирусной частицы содержится 35—45 различных белковых молеку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центре вириона расположено ядро, размером 75 нм, содержащее ДНК. Ядро окружено икосаэдрическим капси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капсида составляет 100—110 нм. Капсид построен из множества одинаковых, геометрически правильных, белковых структур — капсомер, в образовании которых принимают участия протомеры. Капсомеры точно подобраны и подогнаны друг к другу, образуя икосаэдр. В образовании капсида участвуют шестиугольные и пятиугольные капсоме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клеокапсид содержит 162 капсомеры: 150 шестиугольных (гексамеры) и 12 пятиугольных (пентамеры) капсо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круг капсида имеется аморфный белковый тегумент и всё это заключено в оболочку с гликопротеиновыми шип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6588000" cy="42433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21" name=""/>
          <p:cNvSpPr/>
          <p:nvPr/>
        </p:nvSpPr>
        <p:spPr>
          <a:xfrm>
            <a:off x="2700360" y="39337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ликопротеиновые ши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" descr=""/>
          <p:cNvPicPr/>
          <p:nvPr/>
        </p:nvPicPr>
        <p:blipFill>
          <a:blip r:embed="rId2"/>
          <a:stretch/>
        </p:blipFill>
        <p:spPr>
          <a:xfrm>
            <a:off x="250920" y="4365720"/>
            <a:ext cx="2808360" cy="2492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23" name=""/>
          <p:cNvSpPr/>
          <p:nvPr/>
        </p:nvSpPr>
        <p:spPr>
          <a:xfrm>
            <a:off x="3276720" y="4581360"/>
            <a:ext cx="568800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ктронограмма ультратонкого среза ВП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с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гуме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оение вируса герп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912960"/>
            <a:ext cx="8569080" cy="586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еном герпесвиру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русный геном представляет собой линейную двухцепочечную молекулу ДНК размером 152261 пара нуклеотидов у герпесвируса человека 1-го тип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цент ГЦ пар составляет 68 %, и содержит 77 генов, все из которых кодируют бе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еном герпесвируса человека 2-го типа представляет собой линейную молекулу ДНК размером 154746 пар нуклеотидов, процент ГЦ пар составляет 70 %, и несёт 77 ге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820000" cy="6048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963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пликация вирусов герп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652320"/>
            <a:ext cx="8893080" cy="620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ИБОЛЕЕ ЧАСТЫЕ ФОРМЫ Р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гкого -                               1,3 мл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удка -                             1,0 мл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хнего пищеварите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кта (пищевода) -             0,9 мл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чени -                                0,7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шечника -                          0,6 мл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очной железы -              0,4 мл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статы -                            0,3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ейки матки -                      0,3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желудочной железы -   0,2 мл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чевого пузыря -               0,2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61080" cy="5761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724360" y="1052640"/>
            <a:ext cx="34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русные частицы, покидающие ядро инфицированной клетки (электронная микроскопия х 4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ПД вирусов простого герп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0" r="-1805" b="19586"/>
          <a:stretch/>
        </p:blipFill>
        <p:spPr>
          <a:xfrm>
            <a:off x="179280" y="907920"/>
            <a:ext cx="4365720" cy="2621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rcRect l="0" t="4650" r="275" b="17262"/>
          <a:stretch/>
        </p:blipFill>
        <p:spPr>
          <a:xfrm>
            <a:off x="4537080" y="907920"/>
            <a:ext cx="4606920" cy="2741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50920" y="50133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цитий: многоядерные клетки с увеличенной цитоплазмой и внутриядерными включениями Каудри, (окраска по Романовскому-Гим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ПД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ella-zoster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3811" t="0" r="0" b="31319"/>
          <a:stretch/>
        </p:blipFill>
        <p:spPr>
          <a:xfrm>
            <a:off x="0" y="1268280"/>
            <a:ext cx="5614920" cy="3046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rcRect l="1768" t="12500" r="0" b="26614"/>
          <a:stretch/>
        </p:blipFill>
        <p:spPr>
          <a:xfrm>
            <a:off x="3924360" y="4398840"/>
            <a:ext cx="5219640" cy="2459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759280" y="1916280"/>
            <a:ext cx="33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ние синцития и внутриядерных включений (тельца Липшют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3573360"/>
            <a:ext cx="2520720" cy="216000"/>
          </a:xfrm>
          <a:prstGeom prst="leftArrow">
            <a:avLst>
              <a:gd name="adj1" fmla="val 50000"/>
              <a:gd name="adj2" fmla="val 291750"/>
            </a:avLst>
          </a:prstGeom>
          <a:solidFill>
            <a:srgbClr val="e80c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8360" y="3933720"/>
            <a:ext cx="216000" cy="1656000"/>
          </a:xfrm>
          <a:prstGeom prst="downArrow">
            <a:avLst>
              <a:gd name="adj1" fmla="val 50000"/>
              <a:gd name="adj2" fmla="val 191667"/>
            </a:avLst>
          </a:prstGeom>
          <a:solidFill>
            <a:srgbClr val="e80c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" descr=""/>
          <p:cNvPicPr/>
          <p:nvPr/>
        </p:nvPicPr>
        <p:blipFill>
          <a:blip r:embed="rId1"/>
          <a:srcRect l="1258" t="0" r="1231" b="6363"/>
          <a:stretch/>
        </p:blipFill>
        <p:spPr>
          <a:xfrm>
            <a:off x="468360" y="189000"/>
            <a:ext cx="5688000" cy="424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44" name=""/>
          <p:cNvSpPr/>
          <p:nvPr/>
        </p:nvSpPr>
        <p:spPr>
          <a:xfrm>
            <a:off x="755640" y="508464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утриядерные включения ЦМВ, отделенные от ядерной оболочкой светлой зоной «Совиный гла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мфома Беркит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4464000" cy="38815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48000" y="2060640"/>
            <a:ext cx="38163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типичные лимфоциты с деформированным ядром и темным ободком в цитоплаз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ханизмы инфиц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песвирусами заражаются человек и животные. Образование новых вирусных частиц идет под управлением вирусного генома. При попадании в организм носителя, герпесвирусы адсорбируются на клетках-мишенях и освобождаются от капсида и дополнительной оболочки-конве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ющим этапом происходит внедрение вирусной ДНК в ядро клетки. Затем, на ядерной мембране, идет образование и созревание новых вирионов и последующее их отпочковы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болочки вируса, его капсида и ДНК, используются аминокислоты, белки, липопротеиды, нуклеозиды клетки-хозяина. По мере истощения внутриклеточных резервов, эти молекулы поступают в инфицированную клетку из межтканевых простран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694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Патогенез ВПГ инфекции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-1440" y="836640"/>
            <a:ext cx="9145440" cy="54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нические проявл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рпетической инф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" descr=""/>
          <p:cNvPicPr/>
          <p:nvPr/>
        </p:nvPicPr>
        <p:blipFill>
          <a:blip r:embed="rId1"/>
          <a:stretch/>
        </p:blipFill>
        <p:spPr>
          <a:xfrm>
            <a:off x="0" y="333360"/>
            <a:ext cx="4319640" cy="352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55" name="picture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4572000" cy="3457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56" name=""/>
          <p:cNvSpPr/>
          <p:nvPr/>
        </p:nvSpPr>
        <p:spPr>
          <a:xfrm>
            <a:off x="4502160" y="429264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петическое поражение язы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росл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9120" y="4292640"/>
            <a:ext cx="38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ичный герпетический стомати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росл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3429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59" name="picture" descr=""/>
          <p:cNvPicPr/>
          <p:nvPr/>
        </p:nvPicPr>
        <p:blipFill>
          <a:blip r:embed="rId2"/>
          <a:stretch/>
        </p:blipFill>
        <p:spPr>
          <a:xfrm>
            <a:off x="0" y="3467160"/>
            <a:ext cx="5472000" cy="33908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60" name=""/>
          <p:cNvSpPr/>
          <p:nvPr/>
        </p:nvSpPr>
        <p:spPr>
          <a:xfrm>
            <a:off x="5219640" y="98100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рпетическ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матит 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ражением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62560" y="4221000"/>
            <a:ext cx="37814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ичный герпетический стоматит у взросл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сны воспалены и отечны. Одиночные везикулы сливаются, а затем вскрываются с образованием язв, склонных к периферическому распростра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68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тата 1940 г.: «Самое интересное, гражданин комиссар, — продолжал я, — заключается в том, что вирус только начинает болезнь, он превращает нормальную клетку в опухолевую, а дальше опухоль растет без его участия. Больше того, в опухолевых клетках создаются неблагоприятные условия для существования вируса, и он исчезает из них. Трагедия ученых, которые искали вирусы в опухолях, заключается в том, что они искали их тогда, когда в большинстве случаев их в опухолях уже не был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2376720" cy="2033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35280" y="189000"/>
            <a:ext cx="51847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в Александрович Зильбер — автор научного открытия «Новые свойства патогенности опухолеродных вирусов» (1957 Г.) В 1967 году за открытие патогенности вируса куриной саркомы Рауса для других классов животных Л. А. Зильберу посмертно присуждена Государственная премия ССС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фтозный стома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19280" y="1933560"/>
            <a:ext cx="60498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7396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зикулы. Сгруппированные прозрачные пузырьки, наполненные серозной жидкостью, на эритематозном осно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55640" y="1662120"/>
            <a:ext cx="7777080" cy="51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697440" cy="5040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67" name=""/>
          <p:cNvSpPr/>
          <p:nvPr/>
        </p:nvSpPr>
        <p:spPr>
          <a:xfrm>
            <a:off x="611280" y="551664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петическое поражение гл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ход инфекции на роговицу вызывает ее крупнопятнистое помут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устулы на эритематозно-отечной к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1116000"/>
            <a:ext cx="8280360" cy="54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445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ерпетические высыпания на 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11280" y="1244520"/>
            <a:ext cx="7993080" cy="52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6996240" cy="3429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73" name="picture" descr=""/>
          <p:cNvPicPr/>
          <p:nvPr/>
        </p:nvPicPr>
        <p:blipFill>
          <a:blip r:embed="rId2"/>
          <a:stretch/>
        </p:blipFill>
        <p:spPr>
          <a:xfrm>
            <a:off x="3708360" y="3429000"/>
            <a:ext cx="5435640" cy="3429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74" name=""/>
          <p:cNvSpPr/>
          <p:nvPr/>
        </p:nvSpPr>
        <p:spPr>
          <a:xfrm>
            <a:off x="0" y="4365720"/>
            <a:ext cx="34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петическая экзема Капоши на туловищ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ТОГЕНЕЗ ИНФЕКЦИЙ, ВЫЗВАННЫХ ВИРУСО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CELLA–ZO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990720"/>
            <a:ext cx="2743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езн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ряная оспа   Сыпь         Пневмонит Энцефалит (редк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38862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оясывающий герп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129528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роникнов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Вы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2590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Распрост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40384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Латентная инфекция          (в гангли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514600" y="914400"/>
          <a:ext cx="37004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914400"/>
                    <a:ext cx="37004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209680" y="1905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19051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2133720"/>
            <a:ext cx="914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441972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419360" y="1600200"/>
            <a:ext cx="1904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4495680" y="190476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885840" y="2133720"/>
            <a:ext cx="2438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333760" y="28195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8320" y="42670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8066160" cy="4321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94" name=""/>
          <p:cNvSpPr/>
          <p:nvPr/>
        </p:nvSpPr>
        <p:spPr>
          <a:xfrm>
            <a:off x="2771640" y="486900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ыпания на коже ребенка при ветряной ос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оясывающий герп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87280" y="1674720"/>
            <a:ext cx="6553440" cy="43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213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98" name="picture" descr=""/>
          <p:cNvPicPr/>
          <p:nvPr/>
        </p:nvPicPr>
        <p:blipFill>
          <a:blip r:embed="rId2"/>
          <a:stretch/>
        </p:blipFill>
        <p:spPr>
          <a:xfrm>
            <a:off x="2050920" y="3645000"/>
            <a:ext cx="5113440" cy="2952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99" name="picture" descr=""/>
          <p:cNvPicPr/>
          <p:nvPr/>
        </p:nvPicPr>
        <p:blipFill>
          <a:blip r:embed="rId3"/>
          <a:stretch/>
        </p:blipFill>
        <p:spPr>
          <a:xfrm>
            <a:off x="0" y="0"/>
            <a:ext cx="4897440" cy="3024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.Темин     Д.Балтимор    Р.Дульбеко –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белевская премия 1974 г «за открытия, касающиеся взаимодействия между онкогенными вирусами и генетическим материалом клет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3051000" cy="3641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Фотография Дейвид  Балтимор"/>
          <p:cNvPicPr/>
          <p:nvPr/>
        </p:nvPicPr>
        <p:blipFill>
          <a:blip r:embed="rId2"/>
          <a:stretch/>
        </p:blipFill>
        <p:spPr>
          <a:xfrm>
            <a:off x="3203640" y="2637000"/>
            <a:ext cx="2550960" cy="3644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796000" y="2637000"/>
            <a:ext cx="31100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" descr=""/>
          <p:cNvPicPr/>
          <p:nvPr/>
        </p:nvPicPr>
        <p:blipFill>
          <a:blip r:embed="rId1"/>
          <a:stretch/>
        </p:blipFill>
        <p:spPr>
          <a:xfrm>
            <a:off x="0" y="3500280"/>
            <a:ext cx="5580000" cy="3357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01" name="picture" descr=""/>
          <p:cNvPicPr/>
          <p:nvPr/>
        </p:nvPicPr>
        <p:blipFill>
          <a:blip r:embed="rId2"/>
          <a:stretch/>
        </p:blipFill>
        <p:spPr>
          <a:xfrm>
            <a:off x="0" y="0"/>
            <a:ext cx="5580000" cy="3429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02" name=""/>
          <p:cNvSpPr/>
          <p:nvPr/>
        </p:nvSpPr>
        <p:spPr>
          <a:xfrm>
            <a:off x="5508720" y="105264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ыпь при поражении шейных сег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24360" y="3479760"/>
            <a:ext cx="34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ыпь при поражении грудных сег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ыпь охватывает туловище на подобие пояса (слово «zoster» по-гречески означает поя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ТОГЕНЕЗ ЦИТОМЕГАЛОВИРУСНОЙ ИНФЕК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43000"/>
            <a:ext cx="28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наталь-    ная болезнь: Мононуклеоз Различные проявления у больных с им-мунодефици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9402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б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рожденная болезнь: гепатосплено-мегалия поражения Ц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838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а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роникновени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а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Вы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2438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Распрост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585324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б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роникнов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б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Вы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3962520" cy="6400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6300720" cy="3213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12" name="picture" descr=""/>
          <p:cNvPicPr/>
          <p:nvPr/>
        </p:nvPicPr>
        <p:blipFill>
          <a:blip r:embed="rId2"/>
          <a:stretch/>
        </p:blipFill>
        <p:spPr>
          <a:xfrm>
            <a:off x="0" y="3429000"/>
            <a:ext cx="6227640" cy="3429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13" name=""/>
          <p:cNvSpPr/>
          <p:nvPr/>
        </p:nvSpPr>
        <p:spPr>
          <a:xfrm>
            <a:off x="6300720" y="4292640"/>
            <a:ext cx="26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гина при инфекционном мононуклеозе: обструкция дыхательных пу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43640" y="148428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гина при инфекционном мононуклеозе: поздняя стад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ы опухолей, которые ассоциированы с вирусом Эпстайна-Бар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5694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мфома Беркитт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B-клеточная лимфом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фарингеа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цин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мфома Ходжкин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795320"/>
            <a:ext cx="4932360" cy="3337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40658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аркома Капош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вирусы герпеса 8 ти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003640" y="955800"/>
            <a:ext cx="3816360" cy="2692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340000" y="3789360"/>
            <a:ext cx="4537080" cy="2971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40212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ркома Капо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чение герпесвирусных инфе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ПГ-1 и ВПГ-2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Ациклови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Фамциклови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Валациклови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Аденозин арабинози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Йододеоксиурид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Трифлурид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Цитомегаловирус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Ганциклови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Фоскарн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ирус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aricella-zoster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Ациклови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Фамциклови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Валациклови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zella-zoster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муноглобул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oster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мунная плаз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живая вакц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нкогенные вирусы. Особенности противоопухолевого иммунитет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нкогенными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onko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объемная масс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ирусами называют вирусы, которые вызывают появление опухоли у своих природных хозяев или экспериментальных животных либо индуцируют трансформацию нормальных клеток в культуре в опухолевые клет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8598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Rockwell Extra Bold"/>
              </a:rPr>
              <a:t>Опухоль, новообразование, бластома</a:t>
            </a:r>
            <a:r>
              <a:rPr b="0" lang="ru-RU" sz="40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от греч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asto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росток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атологический процесс, характеризующийся безудержным бесконтрольным размножением (ростом) клеток; при этом нарушения роста и дифференцировки клеток обусловлены изменениями их генетического аппарат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5T08:25:57Z</dcterms:created>
  <dc:creator>В</dc:creator>
  <dc:description/>
  <dc:language>en-US</dc:language>
  <cp:lastModifiedBy>Customer</cp:lastModifiedBy>
  <dcterms:modified xsi:type="dcterms:W3CDTF">2012-12-03T06:50:18Z</dcterms:modified>
  <cp:revision>215</cp:revision>
  <dc:subject/>
  <dc:title>Слайд 1</dc:title>
</cp:coreProperties>
</file>