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B97-E3D1-40D6-B551-254F8AD7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EC28-565C-413D-B502-381CEBC9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A768-310D-4200-9B54-3BAEA342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D8E-1FA5-4722-BC26-596B8C34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B2A0-9182-4ED4-A228-82301FD4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7E88-14ED-45AA-B950-E1A21D45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2E97-C5EE-48AD-B346-E6A34B91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0E13-AAA8-4F03-8C48-14541B79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E887-FDF5-4A6C-A0DB-885F4281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B605-E3BF-4C7A-84D4-8CA8B9A6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A608-B4A2-4673-84BA-96EFCAB8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9451-F7B5-42E4-83E2-1128F5C6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DCE8-F7AF-40AF-BE72-3112F2CE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5E9C-7A72-4178-A7CB-F81C1211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BF9D-1797-4ADD-9F46-29E99671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C293-400B-417D-BA38-4E91C978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6ADE-EA5C-4363-AF26-C7889E8B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233-D8A1-40E7-B7C9-CE8ED284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4FA-CF29-4447-8466-D30126BF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7F85-B535-4578-BB79-F3D0DD96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CBAA-77CE-4530-9518-2AEAFB4E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0F38-4BB9-45A8-841F-A30957A9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E19-10D3-4803-8D5C-869690B9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3631-1C7E-47DB-9428-2DEF1FBF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A140-0E5B-493B-B495-B2080542D5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DE5F-57E5-46F1-AE7A-D1A8F4F934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851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ема лек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611280" y="1268280"/>
            <a:ext cx="835344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ирусы гепатит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Гепати́т 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11280" y="220464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острая энтеровирусная инфекция с фекально-оральным механизмом передачи.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иологические свойства и таксономия ВГА - Hepatitis A vir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арство                        - виру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ство                   - Picornavirida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                               -  Hepatoviru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ип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мметрии                 – икосаэдрически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ешняя оболочка     - отсутствует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еры                     – 27-30 н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вириона         – сферическ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alibri"/>
              </a:rPr>
              <a:t>Геном ВГ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ставлен линейной одноцепочечной РНК, состоящей из  7500 нуклеотидных оснований, с общей молекулярной массой порядка 2,2 M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меет 1 серотип (прототипный штам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13"/>
          <p:cNvGraphicFramePr/>
          <p:nvPr/>
        </p:nvGraphicFramePr>
        <p:xfrm>
          <a:off x="0" y="15840"/>
          <a:ext cx="5651640" cy="39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840"/>
                    <a:ext cx="565164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Picture 7" descr="HAV3"/>
          <p:cNvPicPr/>
          <p:nvPr/>
        </p:nvPicPr>
        <p:blipFill>
          <a:blip r:embed="rId3"/>
          <a:stretch/>
        </p:blipFill>
        <p:spPr>
          <a:xfrm>
            <a:off x="3672000" y="3141720"/>
            <a:ext cx="5472000" cy="3495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0"/>
          <p:cNvSpPr/>
          <p:nvPr/>
        </p:nvSpPr>
        <p:spPr>
          <a:xfrm>
            <a:off x="6084720" y="115920"/>
            <a:ext cx="29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ГА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еет типичное для пикорнавирусов стро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рус гепатита А 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 электронном микроскоп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ВИРУС ГЕПАТИТА С 2009"/>
          <p:cNvPicPr/>
          <p:nvPr/>
        </p:nvPicPr>
        <p:blipFill>
          <a:blip r:embed="rId1"/>
          <a:stretch/>
        </p:blipFill>
        <p:spPr>
          <a:xfrm>
            <a:off x="1508040" y="1990800"/>
            <a:ext cx="64803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льтивирование В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культура перевиваемых клеток почек эмбриона макак-резус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ультура перевиваемых клеток почек зеленой мартышк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FRhK 4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клетки гепатономы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C/PRF-5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рус устойчив во внешней сред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условиях сухой среды -сохраняется до 7 су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условиях влажной – 3-10 ме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стойчивость ВГА к дезинфицирующим агент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олная активация при воздействии хлорной извести, перманганата калия, хлорамина Т, формал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ри температуре 60 град.С сохраняется 12 ча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ри кипячении погибает через 5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При температурах – 20 до – 70 град. С. – сохраняется год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тенсивность циркуляци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ГА в ми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ГЕПАТИТ-02"/>
          <p:cNvPicPr/>
          <p:nvPr/>
        </p:nvPicPr>
        <p:blipFill>
          <a:blip r:embed="rId1"/>
          <a:stretch/>
        </p:blipFill>
        <p:spPr>
          <a:xfrm>
            <a:off x="1116000" y="1989000"/>
            <a:ext cx="6769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 Е Р И О Д Ы  У ЭНТЕРАЛЬНЫХ ГЕПАТИТОВ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епатит 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ромальный  - от 5 до 7 дне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кубационный - от 7 дней до 7 недел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епатит E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ромальный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1 до 10 дней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кубационный – от 14 до 50 дн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лек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Краткий исторический очер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лассификация вирусных гепати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Биологические свойства ВГ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Биологические свойства ВГ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Биологические свойства ВГ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Биологически свойства ВГС и других возбудителей вирусных гепати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Методы лабораторной диагности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офилакти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тогенез В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 инфекции –больной челове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й путь передачи инфекции – фекально-оральн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начальная репродукция – эпителий слизистой оболочки кишечника и регионарные лимфоуз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мишень 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епатоцит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зникают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алитель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некробиотичес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зменениями в печёночной тка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етс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токсикац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увеличением печени и селезенки, наруше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функции печени, в ряде случаев желту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МАТЕРИАЛ ДЛЯ ИССЛЕДОВАНИЯ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фекалии и сыворотка кров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Иммуноэлектронная микроскоп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.Твердофазный радиоиммунный и иммуноферментный анализ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 Инфекционная активность ВГА может определяться титрованием на восприимчивых обезьяна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Для вариантов, адаптированных к культуре ткани, титрованием в соответствующей культуре по методу конечных разведении или методом бляшек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5. ДНК-гибридизация и амфипликация РНК в полимеразной цепной реакц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М М У Н И Т Е 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мунная система заболевшего вырабатывает антитела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gG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 дающи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жизненный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мунитет от последующих заболева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а также вакцинация, предотвращающая возможность заболевания на период до 10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кц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Живая аттенуированная вакц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ультуральная концентрированная инактивированная  для взрослых и детей (моновакцина и ассоциированная ВГА и ВГ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рус гепатита 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рыт в 1983 г.М.С.Балаян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структурное сходство с вирусами семейства Caliciviridae и Picornaviridae, но пока не отнесен к какому-либо из 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НК-содержащий, капсид имеет икосаэдрический  тип симметрии, не имеет суперкапсида, сферической формы, диаметр 27-28 н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2 структурных белка – капсидный и иммунореактив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стойчивость во внешней среде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В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актически сразу погибает при температуре выше 0 град. 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выдерживает заморажив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олго сохраняется при температуре – 20 г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. 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Хлорсодержащие дезинфектанты быстро разрушают виру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пидеми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делено 4 генотип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ГЕ,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зывающих инфекции в различных регионах мир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-й – Центральная и Средняя Аз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-й – Мексика и Афр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-й – Европа, Австралия, Южная Амер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-й – южные районы Кита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611280" y="-125280"/>
            <a:ext cx="79930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патит 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страя вирусная инфекция, которая самостоятельно разрешается, не оставляя каких-либо последств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бенностью острой инфекции являются высокие показатели летальности у беременных, особенно в III триместре, которая колеблется от 5 до 25%. Механизмы разрушающего действия вирус гепатита Е на гепатоциты не яс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выздоровления развивается стойкий иммунит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и́рус гепати́та B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Hepatitis B virus, HBV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арство     – вирус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ейство - Hepadnavirid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гепаднавирус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:              Orthohepadnavi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ортогепаднавиру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д:              Hepatitis B vir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ирус гепатита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яют 8 генотипов вируса: A, B, C, D, E,  G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TV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A и D распространены повсеместно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́рус гепати́та 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крыт в 1970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.Дейном и называет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«частицы Дейн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ом – кольцевая молекула ДН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 симметрии     – икосаэдрически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перкапсид  - липидная  мембрана с гликопротеидами (HBsAg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меры                    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а вириона         – сферическ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ирусные гепатиты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лат. Hepatitis viruse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уппа вирусных инфекционных заболеваний, которые характеризуются  воспалением ткани печени,общетоксическими проявлениями,желтухой, гепатоспленомегалией и рядом внепеченочных пораж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Семейство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Hepadnaviridae. 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Вирус гепатита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D:\Мои документы\КОВАЛЕНКО\MICROB-ENGLISH\VIROLOGY\hepatitis.files\fig70_3.jpg"/>
          <p:cNvPicPr/>
          <p:nvPr/>
        </p:nvPicPr>
        <p:blipFill>
          <a:blip r:embed="rId1"/>
          <a:srcRect l="6586" t="5403" r="0" b="5755"/>
          <a:stretch/>
        </p:blipFill>
        <p:spPr>
          <a:xfrm>
            <a:off x="4572000" y="4459320"/>
            <a:ext cx="2664000" cy="22431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-46836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527400"/>
            <a:ext cx="5940360" cy="54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рион сферической формы, сложный,42-45нм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центре 2 нитчатая циркулярно-замкнутая ДН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ть полная, +нить дефектна на 15-60% по длин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псид кубической симмет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- HB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интезируется в большом количестве, часть циркулирует в крови в виде полых образований d – 22 нм, а длина 22 – 700 нм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- HB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ходится в составе вириона в ядрах гепатоцитов и в кровь не поступает, но при прохождении через мембрану клетки от него отде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и обнаруживается в кров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- HB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трансактиватор вирусной транскрипции, участвует в вирусном канцерогенез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435640" y="335772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7308720" y="3500280"/>
            <a:ext cx="1622520" cy="1589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gepatit3"/>
          <p:cNvPicPr/>
          <p:nvPr/>
        </p:nvPicPr>
        <p:blipFill>
          <a:blip r:embed="rId3"/>
          <a:srcRect l="7275" t="3926" r="9522" b="2076"/>
          <a:stretch/>
        </p:blipFill>
        <p:spPr>
          <a:xfrm>
            <a:off x="5867280" y="692280"/>
            <a:ext cx="3276720" cy="2759040"/>
          </a:xfrm>
          <a:prstGeom prst="rect">
            <a:avLst/>
          </a:prstGeom>
          <a:ln w="0">
            <a:noFill/>
          </a:ln>
        </p:spPr>
      </p:pic>
      <p:sp>
        <p:nvSpPr>
          <p:cNvPr id="149" name="Line 9"/>
          <p:cNvSpPr/>
          <p:nvPr/>
        </p:nvSpPr>
        <p:spPr>
          <a:xfrm>
            <a:off x="5435640" y="3068640"/>
            <a:ext cx="187308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5508720" y="3068640"/>
            <a:ext cx="71892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HBV structure"/>
          <p:cNvPicPr/>
          <p:nvPr/>
        </p:nvPicPr>
        <p:blipFill>
          <a:blip r:embed="rId1"/>
          <a:stretch/>
        </p:blipFill>
        <p:spPr>
          <a:xfrm>
            <a:off x="179280" y="4510080"/>
            <a:ext cx="3851280" cy="2347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HBV"/>
          <p:cNvPicPr/>
          <p:nvPr/>
        </p:nvPicPr>
        <p:blipFill>
          <a:blip r:embed="rId2"/>
          <a:stretch/>
        </p:blipFill>
        <p:spPr>
          <a:xfrm>
            <a:off x="1258920" y="476280"/>
            <a:ext cx="6516720" cy="3916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" descr="HBV1"/>
          <p:cNvPicPr/>
          <p:nvPr/>
        </p:nvPicPr>
        <p:blipFill>
          <a:blip r:embed="rId3"/>
          <a:stretch/>
        </p:blipFill>
        <p:spPr>
          <a:xfrm>
            <a:off x="5234040" y="4600440"/>
            <a:ext cx="2638440" cy="1009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0"/>
          <p:cNvSpPr/>
          <p:nvPr/>
        </p:nvSpPr>
        <p:spPr>
          <a:xfrm>
            <a:off x="3995640" y="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Г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лектронограмма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Bs-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тигена ВГ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НБС АНТИГЕН ГЕПАТИТА 2009"/>
          <p:cNvPicPr/>
          <p:nvPr/>
        </p:nvPicPr>
        <p:blipFill>
          <a:blip r:embed="rId1"/>
          <a:stretch/>
        </p:blipFill>
        <p:spPr>
          <a:xfrm>
            <a:off x="2411280" y="1484280"/>
            <a:ext cx="41054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еном ВГ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унитчатая кольцевая ДНК, состоящая из 3200 пар нуклеотид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лекулярная масса – до 2 млн. 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ется вирусный фермент – ДНК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исимая ДНК-полимера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тигенная структура ВГ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BsA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австралийский антиген)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ет содержаться в цитоплазме гепатоцитов и в свободном состоянии в сыворотке крови больного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ет постинфекционный и поствакцинальный иммунит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дцевинный, обнаружи-вается только в биоптатах печ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связан с частицей Дейна, функция неизвест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ствует злокачественной трансформации печ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HBs A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по антигенному строению неоднород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ет одну общую группоспецифическую  антигенную детерминанту «а», которая обладает  протективными свойствами и несколько субтиповых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, y, w, r, k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др.), которые образуют 9 субтипов виру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льтивирование ВГ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 размножается только в организме человекообразных обезъя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КУЛЬТИВИРУЕТСЯ – в куриных эмбрионах, культуре клеток, организме лабораторных живот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3"/>
          <p:cNvGraphicFramePr/>
          <p:nvPr/>
        </p:nvGraphicFramePr>
        <p:xfrm>
          <a:off x="378000" y="1341360"/>
          <a:ext cx="601020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341360"/>
                    <a:ext cx="60102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Rectangle 1024"/>
          <p:cNvSpPr/>
          <p:nvPr/>
        </p:nvSpPr>
        <p:spPr>
          <a:xfrm>
            <a:off x="0" y="189000"/>
            <a:ext cx="8459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продукция ВГ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епликация геномной ДНК происходит через промежуточное звено – иРНК, т.е. с механизмом обратной транскрипци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25"/>
          <p:cNvSpPr/>
          <p:nvPr/>
        </p:nvSpPr>
        <p:spPr>
          <a:xfrm>
            <a:off x="5327640" y="3429000"/>
            <a:ext cx="3816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никновение в клетку посредством эндоцитоза (ямка → пузырек  → лизосом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026"/>
          <p:cNvSpPr/>
          <p:nvPr/>
        </p:nvSpPr>
        <p:spPr>
          <a:xfrm>
            <a:off x="5435640" y="1557360"/>
            <a:ext cx="18352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сорбция на клет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028"/>
          <p:cNvSpPr/>
          <p:nvPr/>
        </p:nvSpPr>
        <p:spPr>
          <a:xfrm>
            <a:off x="5435640" y="5445000"/>
            <a:ext cx="3240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полной двунитевой кольцевой ДН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4"/>
          <p:cNvGraphicFramePr/>
          <p:nvPr/>
        </p:nvGraphicFramePr>
        <p:xfrm>
          <a:off x="428760" y="2689200"/>
          <a:ext cx="4038480" cy="28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689200"/>
                    <a:ext cx="4038480" cy="28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0"/>
          <p:cNvGraphicFramePr/>
          <p:nvPr/>
        </p:nvGraphicFramePr>
        <p:xfrm>
          <a:off x="0" y="0"/>
          <a:ext cx="2986200" cy="22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98620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6"/>
          <p:cNvSpPr/>
          <p:nvPr/>
        </p:nvSpPr>
        <p:spPr>
          <a:xfrm>
            <a:off x="1187280" y="4005360"/>
            <a:ext cx="2376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никновение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НК в ядр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187280" y="5661000"/>
            <a:ext cx="2808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анскрипция ДНК   на и-РНК и м-РН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4932360" y="4149720"/>
            <a:ext cx="2808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ход иРНК в цитоплазм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6804000" y="3429000"/>
            <a:ext cx="2340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нтез вирусны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148360" y="1628640"/>
            <a:ext cx="3995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ки сердцевины собираются вокруг иРНК (прегено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492360" y="2133720"/>
            <a:ext cx="151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интез минус-ДН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1547640" y="2924280"/>
            <a:ext cx="1800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интез плюс-ДН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4"/>
          <p:cNvSpPr/>
          <p:nvPr/>
        </p:nvSpPr>
        <p:spPr>
          <a:xfrm rot="18289200">
            <a:off x="1727640" y="2024640"/>
            <a:ext cx="431640" cy="649080"/>
          </a:xfrm>
          <a:prstGeom prst="upArrow">
            <a:avLst>
              <a:gd name="adj1" fmla="val 50000"/>
              <a:gd name="adj2" fmla="val 37594"/>
            </a:avLst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2771640" y="907920"/>
            <a:ext cx="2303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Формирование оболочки с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Bs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3203640" y="476280"/>
            <a:ext cx="1584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2484360" y="333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ход вириона из клет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ИСТЕНТ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перату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20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выдерживает до 10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температур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– погибает через 5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истентность вируса повышается в присутствии белков сыворотки кров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увствителен к действию формалина, эфира, хлорам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История вопро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888 – гипотеза проф. С.П.Боткина об инфекционной природе гепатита (вирусный гепатит 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937 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ж. Финдлей и Ф. Мак Коллюм (США) доказали вирусную этиологию В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70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рытие вируса гепатита В (ВГВ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66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рытие вирус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епати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73 – С.Фейнстон - открытие вируса гепатита А (ВГ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тенсивность циркуляци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ГВ в ми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ГЕПАТИТ-03"/>
          <p:cNvPicPr/>
          <p:nvPr/>
        </p:nvPicPr>
        <p:blipFill>
          <a:blip r:embed="rId1"/>
          <a:stretch/>
        </p:blipFill>
        <p:spPr>
          <a:xfrm>
            <a:off x="826920" y="1844640"/>
            <a:ext cx="7274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ханизм передачи инфекции 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воконтактный. Заражение происходит естественным (половой, вертикальный, бытовой) и искусственным (парентеральным) путя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 присутствует в крови и различных биологических жидкостях — слюне, моче, сперме, влагалищном секрете, менструальной крови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ТОГЕНЕЗ ГЕПАТИТА 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кубационный период -1,5-6 ме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попадания вирусов в печень через кровь идет скрытая фаза размножения и накопления вирусных частиц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кани печени развиваются аутоиммунные реакции, ведущие к некротическим процесс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гда протекает в легкой безжелтушной форме — проявляется только недомоганием и снижением работоспособн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46920" cy="591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симтомное течение, безжелтушная форма и "желтушный" гепатит составляют равные по количеству пораженных лиц группы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62064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данным других исследователей на один "желтушный" случай острого гепатита В приходится от 5 до 10 случаев заболеваний, которые как правило не попадают в поле зрения врачей. Между тем представители всех трех групп потенциально заразны для окружающ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picture"/>
          <p:cNvPicPr/>
          <p:nvPr/>
        </p:nvPicPr>
        <p:blipFill>
          <a:blip r:embed="rId1"/>
          <a:stretch/>
        </p:blipFill>
        <p:spPr>
          <a:xfrm>
            <a:off x="179280" y="0"/>
            <a:ext cx="3851280" cy="4869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97" name="Picture 7" descr="picture"/>
          <p:cNvPicPr/>
          <p:nvPr/>
        </p:nvPicPr>
        <p:blipFill>
          <a:blip r:embed="rId2"/>
          <a:stretch/>
        </p:blipFill>
        <p:spPr>
          <a:xfrm>
            <a:off x="5076720" y="0"/>
            <a:ext cx="3780000" cy="5013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98" name="Text Box 10"/>
          <p:cNvSpPr/>
          <p:nvPr/>
        </p:nvSpPr>
        <p:spPr>
          <a:xfrm>
            <a:off x="179280" y="4937040"/>
            <a:ext cx="410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  Желтушность кожи. На представленном снимке виден четкий контраст между нормальной кожей и желтушной кожей при остром гепати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788000" y="5157720"/>
            <a:ext cx="4103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 Сыпь при вирусном гепатите. В представленном случае видна пятнистая сыпь на гол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3419640" cy="4869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01" name="Picture 3" descr="picture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4653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02" name="Text Box 4"/>
          <p:cNvSpPr/>
          <p:nvPr/>
        </p:nvSpPr>
        <p:spPr>
          <a:xfrm>
            <a:off x="0" y="4797360"/>
            <a:ext cx="442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ча при гепатите. Моча с примесью желчных пигментов имеет зеленоватый или буровато-желтый цвет. При взбалтывании на ее поверхности образуется стойкая пена. Моча приобретает оранжевый цв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572000" y="4724280"/>
            <a:ext cx="4788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 Желтушность  склер. Билирубин обладает особым сродством к эластическим волокнам, поэтому структуры с высоким их содержанием (кожа, склеры, сосуды) легко приобретают желтушную окрас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BV INFECTION"/>
          <p:cNvPicPr/>
          <p:nvPr/>
        </p:nvPicPr>
        <p:blipFill>
          <a:blip r:embed="rId1"/>
          <a:stretch/>
        </p:blipFill>
        <p:spPr>
          <a:xfrm>
            <a:off x="0" y="1125360"/>
            <a:ext cx="5148360" cy="3464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Khmer woman who died of hepatoma"/>
          <p:cNvPicPr/>
          <p:nvPr/>
        </p:nvPicPr>
        <p:blipFill>
          <a:blip r:embed="rId2"/>
          <a:stretch/>
        </p:blipFill>
        <p:spPr>
          <a:xfrm>
            <a:off x="5184720" y="765000"/>
            <a:ext cx="3544920" cy="53308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2916360" y="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Г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Иммуните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еспечивается антителами  к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HBsAg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торые появляются в сыворотке крови больного в остром период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6080040"/>
            <a:ext cx="296244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341000"/>
            <a:ext cx="44956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наружение специфических антигенов в крови или их маркеров (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BsAg,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ти-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B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ти-НВс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M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титела и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bc Ag 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пунктатах печени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 помощи ИФА или ПЦР методи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Лечение: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комплексное (режим, диета, медикаментозная терапия) в зависимости от периода болезни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Противовирусные препараты: видарабин, ацикловир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пецифическая профилактика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льновирионные (из ослабленных или инактивированных формалином вирусов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убвирионные (из расщепленных вирионов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имическ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енно-инженерны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77 - М. Ризетто обнаружил вирус гепатита D в ядрах гепатоцитов во время необычно тяжёлой вспышки сывороточного гепатита в Южной Евро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8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открытие вируса гепатита Е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.С.Балая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88 - открытие вируса гепатита С (ВГС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АКЦИНЫ ПРОТИ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ЕПАТИТА B </a:t>
            </a:r>
            <a:br>
              <a:rPr sz="36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3-х кратное введение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КЦИНА ПРОТИВ ГЕПАТИТА B РЕКОМБИНАНТНАЯ (H-B-VAX II) MERCK SHARP &amp; DOHME B.V., Нидерланд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кцина против гепатита B ДНК рекомбинантная (Vaccinum hepatitidies B DNA recombinant) Вектор-Фарм, Росс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НДЖЕРИКС-B (ENGERIX-B) SMITHKLINE BEECHAM Biologicals, Великобритания-СШ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рус гепатита 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фектный РНК-содержащий вирус рода Deltavirus семейства Togaviridae. Его выделяют только от пациентов, инфицированных вирусом гепатита 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фектность вируса гепатита 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проявляется в полной зависимости от  наличия вируса гепатита В. Соответственно, моноинфекция вирусом гепатита D абсолютно невозмож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ионы вируса гепатита D имеют сферическую форму, 35-37 нм в диаметре. Геном вируса образует однонитевая кольцевая молекула РНК, что сближает вирус гепатита D с вироидами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перкапсид В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ключает значительное количеств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BsAg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Г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ноти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ирус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патита D (дель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I геноти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традиционно считается европейской, так как чаще встречается у больных стран южной, центральной и северной Европ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II геноти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выявлен у больных из Японии, Тайваня (явился причиной болезни у коренного населения Якутии, РФ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III геноти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обнаружен у больных с острой коинфекцией в бассейне реки Амазонка, экваториальной Африки и тропической Аз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763128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ирус гепатита D встречается исключительно в виде суперинфекции или коинфекции с вирусом гепатита B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Коинфекция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гепатита D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дновременное заражение вирусами гепатитов В и 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уперинфекция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епатита 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ражение вирусом гепатита D человека, инфицированного вирусом гепатита 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Резервуар возбудител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— инфицированный человек; вирус передаётся парентеральным путём. Возможна вертикальная передача вируса гепатита D от матери к плод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Инкубационный и преджелтушны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периоды короткие (по 3-5 дней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763128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ны выраженная желтуха, развитие отёчно-асцитического синдрома, выраженная гепатоспленомегал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чение гепатита D относительно доброкачественное, но восстановительный период протекает длительное вре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 развитие злокачественной (фульминантной) формы заболевания с летальным исхо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линические проявления острого гепатита 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2349360"/>
            <a:ext cx="77724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ном зависят от интенсивности иммунного ответа и от особенностей инфекционного процесса: заражение произошло «поверх» существовавшего ранее гепатита B (суперинфекция) или эти два вируса попали в организм вместе (ко-инфекц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иагностик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основном базируется на лабораторных исследованиях периферической кров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ироко применяется серологический мет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Лечение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нтерферонотерап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 Е П А Т И Т   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ВГ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Hepatitis С virus, HС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Классификация виру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836640"/>
          <a:ext cx="8921880" cy="6003720"/>
        </p:xfrm>
        <a:graphic>
          <a:graphicData uri="http://schemas.openxmlformats.org/drawingml/2006/table">
            <a:tbl>
              <a:tblPr/>
              <a:tblGrid>
                <a:gridCol w="1800360"/>
                <a:gridCol w="2819520"/>
                <a:gridCol w="2522520"/>
                <a:gridCol w="1779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р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ей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уклеиновая кисл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ло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</a:t>
                      </a:r>
                      <a:r>
                        <a:rPr b="1" lang="ru-RU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corna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</a:t>
                      </a:r>
                      <a:r>
                        <a:rPr b="1" lang="ru-RU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padna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олная кольцева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</a:t>
                      </a:r>
                      <a:r>
                        <a:rPr b="1" lang="ru-RU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avi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</a:t>
                      </a: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классифициров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</a:t>
                      </a: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pe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</a:t>
                      </a: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avi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</a:t>
                      </a:r>
                      <a:r>
                        <a:rPr b="1" lang="ru-RU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T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us Anellovi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 </a:t>
                      </a: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us Anellovi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ропонозное вирусное заболевание с парентеральным механизмом заражения, наиболее часто протекающее в виде посттрансфузионного гепатита с преобладанием безжелтушных и легких форм и склонное к хро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Гепати́т 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Гепатит С вызывается РНК-содержащим вирусом с размером вириона 30-60 нм, относящимся к семейству Flavivirida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699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русные частиц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Г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меют оболочку, содержатся в крови в следовых количествах и ассоциированы с липопротеинами низкой плотности и антителами к белка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Г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русы, выделенные из комплексов с липопротеинами и анти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Г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нтителами, имеют диаметр 60-70 нм. При электронно-микроскопическом изучении на поверхности вириона выявлены хорошо выраженные выступы высотой 6-8 н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HCV STRUCTURE"/>
          <p:cNvPicPr/>
          <p:nvPr/>
        </p:nvPicPr>
        <p:blipFill>
          <a:blip r:embed="rId1"/>
          <a:stretch/>
        </p:blipFill>
        <p:spPr>
          <a:xfrm>
            <a:off x="0" y="260280"/>
            <a:ext cx="5184720" cy="4176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hepatitis Delta agent"/>
          <p:cNvPicPr/>
          <p:nvPr/>
        </p:nvPicPr>
        <p:blipFill>
          <a:blip r:embed="rId2"/>
          <a:stretch/>
        </p:blipFill>
        <p:spPr>
          <a:xfrm>
            <a:off x="5688000" y="2349360"/>
            <a:ext cx="3241800" cy="42624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6516720" y="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Г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Источник инфекц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инфицированный человек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ные гепатитом С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тентные носители вирус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ути передач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ереливании инфицированной крови и её компонен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ользование общими шприцами;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вой и вертикальный пути передачи имеют второстепенное зна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ути передачи ВГ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 переливании инфицированной крови и её компонент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шприцевой» — при пользовании общими шприц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Инкубационный пери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 момента заражения до клинических проявлений проходит от 2-х до 26-и нед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КЛИНИЧЕСКИЕ ПРОЯВЛ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484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лучае острого начала болезни начальный период длится 2-3 недели, и как при гепатите В, сопровождается суставными болями, слабостью, расстройством пищевар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 отличие от гепатита 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одъём температуры отмечается редк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Желтуха так же малохарактерна для гепатита 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сихическая депрессия является единственным проявлением хронических вирусных гепатитов ещё до постановки диагноза и одним из внепечёночных проявлений ВГС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О С Л О Ж Н Е Н И Я 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ибольшую опасность представляет собой хроническая форма болезни, которая нередко переходит в цирроз и рак печен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роническое течение развивается примерно у 70-80 % больных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бнаружение РНК возбудителя при помощи ПЦР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бнаружение вирусспецифических  антител классов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gM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gG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Е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9640" y="1483920"/>
            <a:ext cx="79185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Этиотропное лечение при помощи рекомбинантного интерферона в комбинации с рибавирином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Гепатит может быть </a:t>
            </a:r>
            <a:br>
              <a:rPr sz="36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ызван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ами желтой лихорадк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ами герпесвирусам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ами краснух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ами Коксак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ами лихорадки Лас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ы лихорадок Марбург-Эбола и некоторыми другими вирус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ММУНИТ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озможны повторные заболевания и реинфекция (наркоманы, больные гемофилией или находящиеся на гемодиализе)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рус гепатита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сономическое положение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руса гепатита G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остаётся невыясненным. Его условно относят к семейству Flavivirida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ном образован несегментированной молекулой +РНК. Нуклеокапсид организован по типу кубической симметр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ет суперкапси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бую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уппу риска гепатита G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составляют наркоманы (среди лиц, вводящих наркотики внутривенно, частота выявления РНК вируса гепатита G достигает 33-35%)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казана возможность вертикального пути передачи вируса гепатита G от инфицированной матери к пл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патит G в большинстве случаев протекает как микст-инфекция с вирусным гепатитом 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специфическая профилактика парентеральных гепати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правленна на прерывание путей передачи (коррекция поведения человека, использование разового инструментария, ограничение переливаний биологических жидкостей, применение эффективных дезинфектантов, защищенный секс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лассификация вирусных гепатитов по типу возбудител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патит 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Болезнь Ботки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патит B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ывороточный гепатит)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боле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340 млн. че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патит C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олеет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170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млн. ч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патит D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дельта-инфекция, гепатит 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патит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патит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патит TTV 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N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а также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ие не идентифицированные вирус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Классификация ВГ по способу зара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НТЕРАЛЬНЫЕ ГЕПАТИТЫ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меют только острую форму заболевания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 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 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РЭНТЕРАЛЬНЫЕ ГЕПАТИТЫ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меют острую и хроническую формы заболевания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 B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ывороточный гепатит) – болеет 350 млн. че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 C 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т 170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.че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 D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льта-инфекция, гепатит δ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 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TV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ие не идентифицированные вирус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2T04:53:17Z</dcterms:modified>
  <cp:revision>208</cp:revision>
  <dc:subject/>
  <dc:title>PowerPoint Presentation</dc:title>
</cp:coreProperties>
</file>