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0796-CEF2-47B7-8D12-CE2228324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65D1-D8EF-4EBB-B1A8-AA7FB57FD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C3B8-2805-4BB0-A8AE-3B590A147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236C-1DD0-4A24-82CD-595214FA8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C4F8D-D6C4-4230-BDB4-4E4DB3354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536FA-1A46-49AB-86AD-2A87D9FAA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AD98D-C8AD-4BF5-81A2-3782D0532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97B2D-2344-439C-AB15-AB706790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E55DD-48CA-468C-9594-BB44DA6B9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96B78-7DE0-4E45-9319-BAAE5316B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86061-060B-454E-BAC8-8DB8F775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73EC-BABE-40A4-BFA2-510A06CEF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1DD3E-1103-4117-AA95-EA891926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34359-A4A6-429D-89E3-2364AE16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7C0AD-BFDD-4799-A295-23B127AA0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B7DD4-DFC3-4A6D-9DF5-9AFCE461A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B30D5-C1E5-49E4-89A2-6DCC42D47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22F1-2A8B-4B52-AE81-60E45528C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9422-C2AD-4044-8B73-B10732223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CE9A-B39F-417C-9CE1-84EC49D1B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74F1-27BE-405A-AE2B-0AAB24E9C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BC81-2202-4CF2-A827-935D6909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C87D-1F14-47F2-B571-8DBF9D1B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E614-CC9F-495B-8238-4236CDDB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C43CC-9225-4FFC-9856-608CAA2964C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497A9-E5B7-41F9-9D6C-5D5CBD888C7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8512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Тема лекци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WordArt 3"/>
          <p:cNvSpPr txBox="1"/>
          <p:nvPr/>
        </p:nvSpPr>
        <p:spPr>
          <a:xfrm>
            <a:off x="611280" y="1268280"/>
            <a:ext cx="8353440" cy="460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Вирусы гепатитов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0000"/>
                </a:solidFill>
                <a:uFillTx/>
                <a:latin typeface="Calibri"/>
              </a:rPr>
              <a:t>Гепати́т 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11280" y="2204640"/>
            <a:ext cx="7772400" cy="25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острая энтеровирусная инфекция с фекально-оральным механизмом передачи. 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иологические свойства и таксономия ВГА - Hepatitis A viru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арство                        - вирус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емейство                   - Picornavirida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д                               -  Hepatoviru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ип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мметрии                 – икосаэдрический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нешняя оболочка     - отсутствует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меры                     – 27-30 н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рма вириона         – сферическа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Calibri"/>
              </a:rPr>
              <a:t>Геном ВГА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едставлен линейной одноцепочечной РНК, состоящей из  7500 нуклеотидных оснований, с общей молекулярной массой порядка 2,2 Mд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меет 1 серотип (прототипный штам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Object 13"/>
          <p:cNvGraphicFramePr/>
          <p:nvPr/>
        </p:nvGraphicFramePr>
        <p:xfrm>
          <a:off x="0" y="15840"/>
          <a:ext cx="5651640" cy="390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840"/>
                    <a:ext cx="5651640" cy="39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8" name="Picture 7" descr="HAV3"/>
          <p:cNvPicPr/>
          <p:nvPr/>
        </p:nvPicPr>
        <p:blipFill>
          <a:blip r:embed="rId3"/>
          <a:stretch/>
        </p:blipFill>
        <p:spPr>
          <a:xfrm>
            <a:off x="3672000" y="3141720"/>
            <a:ext cx="5472000" cy="34956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0"/>
          <p:cNvSpPr/>
          <p:nvPr/>
        </p:nvSpPr>
        <p:spPr>
          <a:xfrm>
            <a:off x="6084720" y="115920"/>
            <a:ext cx="2951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ГА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меет типичное для пикорнавирусов строени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ирус гепатита А </a:t>
            </a:r>
            <a:br>
              <a:rPr sz="4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в электронном микроскоп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4" descr="ВИРУС ГЕПАТИТА С 2009"/>
          <p:cNvPicPr/>
          <p:nvPr/>
        </p:nvPicPr>
        <p:blipFill>
          <a:blip r:embed="rId1"/>
          <a:stretch/>
        </p:blipFill>
        <p:spPr>
          <a:xfrm>
            <a:off x="1508040" y="1990800"/>
            <a:ext cx="648036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ультивирование ВГ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культура перевиваемых клеток почек эмбриона макак-резус;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ультура перевиваемых клеток почек зеленой мартышки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FRhK 4)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клетки гепатономы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LC/PRF-5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62028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ирус устойчив во внешней сред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 условиях сухой среды -сохраняется до 7 сут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 условиях влажной – 3-10 мес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стойчивость ВГА к дезинфицирующим агента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5800" y="1844280"/>
            <a:ext cx="77724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Полная активация при воздействии хлорной извести, перманганата калия, хлорамина Т, формали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При температуре 60 град.С сохраняется 12 час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При кипячении погибает через 5 ми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При температурах – 20 до – 70 град. С. – сохраняется год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нтенсивность циркуляции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ГА в мир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4" descr="ГЕПАТИТ-02"/>
          <p:cNvPicPr/>
          <p:nvPr/>
        </p:nvPicPr>
        <p:blipFill>
          <a:blip r:embed="rId1"/>
          <a:stretch/>
        </p:blipFill>
        <p:spPr>
          <a:xfrm>
            <a:off x="1116000" y="1989000"/>
            <a:ext cx="676908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 Е Р И О Д Ы  У ЭНТЕРАЛЬНЫХ ГЕПАТИТОВ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Гепатит А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дромальный  - от 5 до 7 дне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кубационный - от 7 дней до 7 недель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Гепатит E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дромальный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 1 до 10 дней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кубационный – от 14 до 50 дн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лан лекци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Краткий исторический очер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Классификация вирусных гепатит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Биологические свойства ВГ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Биологические свойства ВГ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Биологические свойства ВГ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. Биологически свойства ВГС и других возбудителей вирусных гепатит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7. Методы лабораторной диагности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профилактик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тогенез В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чник инфекции –больной человек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ой путь передачи инфекции – фекально-оральны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оначальная репродукция – эпителий слизистой оболочки кишечника и регионарные лимфоузл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ая мишень 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гепатоциты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озникают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спалительн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некробиотическ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зменениями в печёночной ткан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вается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токсикац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увеличением печени и селезенки, нарушен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функции печени, в ряде случаев желту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иагност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МАТЕРИАЛ ДЛЯ ИССЛЕДОВАНИЯ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– фекалии и сыворотка кров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1.Иммуноэлектронная микроскоп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2.Твердофазный радиоиммунный и иммуноферментный анализы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3. Инфекционная активность ВГА может определяться титрованием на восприимчивых обезьянах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4. Для вариантов, адаптированных к культуре ткани, титрованием в соответствующей культуре по методу конечных разведении или методом бляшек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5. ДНК-гибридизация и амфипликация РНК в полимеразной цепной реакци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 М М У Н И Т Е 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ммунная система заболевшего вырабатывает антитела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gG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, дающие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жизненный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ммунитет от последующих заболевани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можна также вакцинация, предотвращающая возможность заболевания на период до 10 л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акци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Живая аттенуированная вакци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Культуральная концентрированная инактивированная  для взрослых и детей (моновакцина и ассоциированная ВГА и ВГ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ирус гепатита 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крыт в 1983 г.М.С.Балаян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меет структурное сходство с вирусами семейства Caliciviridae и Picornaviridae, но пока не отнесен к какому-либо из них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НК-содержащий, капсид имеет икосаэдрический  тип симметрии, не имеет суперкапсида, сферической формы, диаметр 27-28 н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меет 2 структурных белка – капсидный и иммунореактивны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Устойчивость во внешней среде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ВГ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актически сразу погибает при температуре выше 0 град. С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е выдерживает заморажива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олго сохраняется при температуре – 20 гр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. С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Хлорсодержащие дезинфектанты быстро разрушают вирус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пидемиолог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ыделено 4 генотип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ВГЕ,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ызывающих инфекции в различных регионах мир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-й – Центральная и Средняя Аз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-й – Мексика и Африк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-й – Европа, Австралия, Южная Америк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4-й – южные районы Кита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1"/>
          <p:cNvSpPr/>
          <p:nvPr/>
        </p:nvSpPr>
        <p:spPr>
          <a:xfrm>
            <a:off x="611280" y="-125280"/>
            <a:ext cx="799308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епатит 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острая вирусная инфекция, которая самостоятельно разрешается, не оставляя каких-либо последств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собенностью острой инфекции являются высокие показатели летальности у беременных, особенно в III триместре, которая колеблется от 5 до 25%. Механизмы разрушающего действия вирус гепатита Е на гепатоциты не ясн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ле выздоровления развивается стойкий иммунитет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и́рус гепати́та B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(Hepatitis B virus, HBV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арство     – вирус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емейство - Hepadnavirida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гепаднавирусы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д:              Orthohepadnavir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ортогепаднавирус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ид:              Hepatitis B viru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Вирус гепатита B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деляют 8 генотипов вируса: A, B, C, D, E,  G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TV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A и D распространены повсеместно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и́рус гепати́та B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1052280"/>
            <a:ext cx="77724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крыт в 1970 г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Д.Дейном и называетс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«частицы Дейна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ом – кольцевая молекула ДН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ип симметрии     – икосаэдрический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уперкапсид  - липидная  мембрана с гликопротеидами (HBsAg)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меры                    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н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а вириона         – сферическа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Вирусные гепатиты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(лат. Hepatitis viruses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руппа вирусных инфекционных заболеваний, которые характеризуются  воспалением ткани печени,общетоксическими проявлениями,желтухой, гепатоспленомегалией и рядом внепеченочных поражен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Calibri"/>
              </a:rPr>
              <a:t>Семейство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 Hepadnaviridae. </a:t>
            </a:r>
            <a:r>
              <a:rPr b="1" lang="ru-RU" sz="2800" spc="-1" strike="noStrike">
                <a:solidFill>
                  <a:srgbClr val="c0504d"/>
                </a:solidFill>
                <a:latin typeface="Calibri"/>
              </a:rPr>
              <a:t>Вирус гепатита 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3" descr="D:\Мои документы\КОВАЛЕНКО\MICROB-ENGLISH\VIROLOGY\hepatitis.files\fig70_3.jpg"/>
          <p:cNvPicPr/>
          <p:nvPr/>
        </p:nvPicPr>
        <p:blipFill>
          <a:blip r:embed="rId1"/>
          <a:srcRect l="6586" t="5403" r="0" b="5755"/>
          <a:stretch/>
        </p:blipFill>
        <p:spPr>
          <a:xfrm>
            <a:off x="4572000" y="4459320"/>
            <a:ext cx="2664000" cy="224316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4"/>
          <p:cNvSpPr/>
          <p:nvPr/>
        </p:nvSpPr>
        <p:spPr>
          <a:xfrm>
            <a:off x="-468360" y="256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0" y="527400"/>
            <a:ext cx="5940360" cy="54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рион сферической формы, сложный,42-45нм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центре 2 нитчатая циркулярно-замкнутая ДНК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ть полная, +нить дефектна на 15-60% по длине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псид кубической симметр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Г- HB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синтезируется в большом количестве, часть циркулирует в крови в виде полых образований d – 22 нм, а длина 22 – 700 нм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Г- HB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аходится в составе вириона в ядрах гепатоцитов и в кровь не поступает, но при прохождении через мембрану клетки от него отделяет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HB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оторый и обнаруживается в крови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Г- HB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трансактиватор вирусной транскрипции, участвует в вирусном канцерогенез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5435640" y="3357720"/>
            <a:ext cx="37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7" descr=""/>
          <p:cNvPicPr/>
          <p:nvPr/>
        </p:nvPicPr>
        <p:blipFill>
          <a:blip r:embed="rId2"/>
          <a:stretch/>
        </p:blipFill>
        <p:spPr>
          <a:xfrm>
            <a:off x="7308720" y="3500280"/>
            <a:ext cx="1622520" cy="15894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gepatit3"/>
          <p:cNvPicPr/>
          <p:nvPr/>
        </p:nvPicPr>
        <p:blipFill>
          <a:blip r:embed="rId3"/>
          <a:srcRect l="7275" t="3926" r="9522" b="2076"/>
          <a:stretch/>
        </p:blipFill>
        <p:spPr>
          <a:xfrm>
            <a:off x="5867280" y="692280"/>
            <a:ext cx="3276720" cy="2759040"/>
          </a:xfrm>
          <a:prstGeom prst="rect">
            <a:avLst/>
          </a:prstGeom>
          <a:ln w="0">
            <a:noFill/>
          </a:ln>
        </p:spPr>
      </p:pic>
      <p:sp>
        <p:nvSpPr>
          <p:cNvPr id="149" name="Line 9"/>
          <p:cNvSpPr/>
          <p:nvPr/>
        </p:nvSpPr>
        <p:spPr>
          <a:xfrm>
            <a:off x="5435640" y="3068640"/>
            <a:ext cx="1873080" cy="79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10"/>
          <p:cNvSpPr/>
          <p:nvPr/>
        </p:nvSpPr>
        <p:spPr>
          <a:xfrm>
            <a:off x="5508720" y="3068640"/>
            <a:ext cx="718920" cy="172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HBV structure"/>
          <p:cNvPicPr/>
          <p:nvPr/>
        </p:nvPicPr>
        <p:blipFill>
          <a:blip r:embed="rId1"/>
          <a:stretch/>
        </p:blipFill>
        <p:spPr>
          <a:xfrm>
            <a:off x="179280" y="4510080"/>
            <a:ext cx="3851280" cy="2347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HBV"/>
          <p:cNvPicPr/>
          <p:nvPr/>
        </p:nvPicPr>
        <p:blipFill>
          <a:blip r:embed="rId2"/>
          <a:stretch/>
        </p:blipFill>
        <p:spPr>
          <a:xfrm>
            <a:off x="1258920" y="476280"/>
            <a:ext cx="6516720" cy="3916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" descr="HBV1"/>
          <p:cNvPicPr/>
          <p:nvPr/>
        </p:nvPicPr>
        <p:blipFill>
          <a:blip r:embed="rId3"/>
          <a:stretch/>
        </p:blipFill>
        <p:spPr>
          <a:xfrm>
            <a:off x="5234040" y="4600440"/>
            <a:ext cx="2638440" cy="10098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0"/>
          <p:cNvSpPr/>
          <p:nvPr/>
        </p:nvSpPr>
        <p:spPr>
          <a:xfrm>
            <a:off x="3995640" y="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Г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Электронограмма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Bs-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нтигена ВГ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4" descr="НБС АНТИГЕН ГЕПАТИТА 2009"/>
          <p:cNvPicPr/>
          <p:nvPr/>
        </p:nvPicPr>
        <p:blipFill>
          <a:blip r:embed="rId1"/>
          <a:stretch/>
        </p:blipFill>
        <p:spPr>
          <a:xfrm>
            <a:off x="2411280" y="1484280"/>
            <a:ext cx="410544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Геном ВГ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5800" y="1267920"/>
            <a:ext cx="77724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вунитчатая кольцевая ДНК, состоящая из 3200 пар нуклеотидов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лекулярная масса – до 2 млн. 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меется вирусный фермент – ДНК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висимая ДНК-полимераз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нтигенная структура ВГ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BsAg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австралийский антиген)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жет содержаться в цитоплазме гепатоцитов и в свободном состоянии в сыворотке крови больного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еспечивает постинфекционный и поствакцинальный иммуните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g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рдцевинный, обнаружи-вается только в биоптатах пече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g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е связан с частицей Дейна, функция неизвест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g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собствует злокачественной трансформации пече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HBs A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 по антигенному строению неоднороде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меет одну общую группоспецифическую  антигенную детерминанту «а», которая обладает  протективными свойствами и несколько субтиповых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, y, w, r, k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др.), которые образуют 9 субтипов вирус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ультивирование ВГ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ирус размножается только в организме человекообразных обезъя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КУЛЬТИВИРУЕТСЯ – в куриных эмбрионах, культуре клеток, организме лабораторных животны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Object 3"/>
          <p:cNvGraphicFramePr/>
          <p:nvPr/>
        </p:nvGraphicFramePr>
        <p:xfrm>
          <a:off x="378000" y="1341360"/>
          <a:ext cx="6010200" cy="455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" y="1341360"/>
                    <a:ext cx="6010200" cy="45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Rectangle 1024"/>
          <p:cNvSpPr/>
          <p:nvPr/>
        </p:nvSpPr>
        <p:spPr>
          <a:xfrm>
            <a:off x="0" y="189000"/>
            <a:ext cx="8459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продукция ВГ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Репликация геномной ДНК происходит через промежуточное звено – иРНК, т.е. с механизмом обратной транскрипции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025"/>
          <p:cNvSpPr/>
          <p:nvPr/>
        </p:nvSpPr>
        <p:spPr>
          <a:xfrm>
            <a:off x="5327640" y="3429000"/>
            <a:ext cx="38163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оникновение в клетку посредством эндоцитоза (ямка → пузырек  → лизосома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026"/>
          <p:cNvSpPr/>
          <p:nvPr/>
        </p:nvSpPr>
        <p:spPr>
          <a:xfrm>
            <a:off x="5435640" y="1557360"/>
            <a:ext cx="183528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дсорбция на клетк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028"/>
          <p:cNvSpPr/>
          <p:nvPr/>
        </p:nvSpPr>
        <p:spPr>
          <a:xfrm>
            <a:off x="5435640" y="5445000"/>
            <a:ext cx="3240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ирование полной двунитевой кольцевой ДН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Object 4"/>
          <p:cNvGraphicFramePr/>
          <p:nvPr/>
        </p:nvGraphicFramePr>
        <p:xfrm>
          <a:off x="428760" y="2689200"/>
          <a:ext cx="4038480" cy="289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689200"/>
                    <a:ext cx="4038480" cy="28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0"/>
          <p:cNvGraphicFramePr/>
          <p:nvPr/>
        </p:nvGraphicFramePr>
        <p:xfrm>
          <a:off x="0" y="0"/>
          <a:ext cx="2986200" cy="22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Object 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2986200" cy="22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Text Box 6"/>
          <p:cNvSpPr/>
          <p:nvPr/>
        </p:nvSpPr>
        <p:spPr>
          <a:xfrm>
            <a:off x="1187280" y="4005360"/>
            <a:ext cx="2376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никновение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НК в ядр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1187280" y="5661000"/>
            <a:ext cx="28083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ранскрипция ДНК   на и-РНК и м-РН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4932360" y="4149720"/>
            <a:ext cx="28083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ход иРНК в цитоплазм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6804000" y="3429000"/>
            <a:ext cx="2340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интез вирусных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лк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5148360" y="1628640"/>
            <a:ext cx="3995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лки сердцевины собираются вокруг иРНК (прегеном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3492360" y="2133720"/>
            <a:ext cx="15112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интез минус-ДНК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2"/>
          <p:cNvSpPr/>
          <p:nvPr/>
        </p:nvSpPr>
        <p:spPr>
          <a:xfrm>
            <a:off x="1547640" y="2924280"/>
            <a:ext cx="18003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интез плюс-ДН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14"/>
          <p:cNvSpPr/>
          <p:nvPr/>
        </p:nvSpPr>
        <p:spPr>
          <a:xfrm rot="18289200">
            <a:off x="1727640" y="2024640"/>
            <a:ext cx="431640" cy="649080"/>
          </a:xfrm>
          <a:prstGeom prst="upArrow">
            <a:avLst>
              <a:gd name="adj1" fmla="val 50000"/>
              <a:gd name="adj2" fmla="val 37594"/>
            </a:avLst>
          </a:prstGeom>
          <a:solidFill>
            <a:srgbClr val="66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5"/>
          <p:cNvSpPr/>
          <p:nvPr/>
        </p:nvSpPr>
        <p:spPr>
          <a:xfrm>
            <a:off x="2771640" y="907920"/>
            <a:ext cx="2303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Формирование оболочки с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Bs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6"/>
          <p:cNvSpPr/>
          <p:nvPr/>
        </p:nvSpPr>
        <p:spPr>
          <a:xfrm>
            <a:off x="3203640" y="476280"/>
            <a:ext cx="1584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7"/>
          <p:cNvSpPr/>
          <p:nvPr/>
        </p:nvSpPr>
        <p:spPr>
          <a:xfrm>
            <a:off x="2484360" y="33336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ход вириона из клет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ЗИСТЕНТ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мператур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20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выдерживает до 10 л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температур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– погибает через 5 ми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зистентность вируса повышается в присутствии белков сыворотки кров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увствителен к действию формалина, эфира, хлорами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7724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История вопрос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836280"/>
            <a:ext cx="77724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1888 – гипотеза проф. С.П.Боткина об инфекционной природе гепатита (вирусный гепатит А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1937 -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ж. Финдлей и Ф. Мак Коллюм (США) доказали вирусную этиологию ВГ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970 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крытие вируса гепатита В (ВГВ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966 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крытие вирус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гепатит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973 – С.Фейнстон - открытие вируса гепатита А (ВГА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нтенсивность циркуляции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ГВ в мир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4" descr="ГЕПАТИТ-03"/>
          <p:cNvPicPr/>
          <p:nvPr/>
        </p:nvPicPr>
        <p:blipFill>
          <a:blip r:embed="rId1"/>
          <a:stretch/>
        </p:blipFill>
        <p:spPr>
          <a:xfrm>
            <a:off x="826920" y="1844640"/>
            <a:ext cx="72741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еханизм передачи инфекции —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овоконтактный. Заражение происходит естественным (половой, вертикальный, бытовой) и искусственным (парентеральным) путям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ирус присутствует в крови и различных биологических жидкостях — слюне, моче, сперме, влагалищном секрете, менструальной крови и д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АТОГЕНЕЗ ГЕПАТИТА 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1700280"/>
            <a:ext cx="77724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кубационный период -1,5-6 ме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ле попадания вирусов в печень через кровь идет скрытая фаза размножения и накопления вирусных частиц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ткани печени развиваются аутоиммунные реакции, ведущие к некротическим процесса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огда протекает в легкой безжелтушной форме — проявляется только недомоганием и снижением работоспособност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846920" cy="591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ссимтомное течение, безжелтушная форма и "желтушный" гепатит составляют равные по количеству пораженных лиц группы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620640"/>
            <a:ext cx="77724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данным других исследователей на один "желтушный" случай острого гепатита В приходится от 5 до 10 случаев заболеваний, которые как правило не попадают в поле зрения врачей. Между тем представители всех трех групп потенциально заразны для окружающи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picture"/>
          <p:cNvPicPr/>
          <p:nvPr/>
        </p:nvPicPr>
        <p:blipFill>
          <a:blip r:embed="rId1"/>
          <a:stretch/>
        </p:blipFill>
        <p:spPr>
          <a:xfrm>
            <a:off x="179280" y="0"/>
            <a:ext cx="3851280" cy="4869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97" name="Picture 7" descr="picture"/>
          <p:cNvPicPr/>
          <p:nvPr/>
        </p:nvPicPr>
        <p:blipFill>
          <a:blip r:embed="rId2"/>
          <a:stretch/>
        </p:blipFill>
        <p:spPr>
          <a:xfrm>
            <a:off x="5076720" y="0"/>
            <a:ext cx="3780000" cy="50133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198" name="Text Box 10"/>
          <p:cNvSpPr/>
          <p:nvPr/>
        </p:nvSpPr>
        <p:spPr>
          <a:xfrm>
            <a:off x="179280" y="4937040"/>
            <a:ext cx="4105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  Желтушность кожи. На представленном снимке виден четкий контраст между нормальной кожей и желтушной кожей при остром гепатит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4788000" y="5157720"/>
            <a:ext cx="41036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 Сыпь при вирусном гепатите. В представленном случае видна пятнистая сыпь на голен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3419640" cy="4869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201" name="Picture 3" descr="picture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4653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202" name="Text Box 4"/>
          <p:cNvSpPr/>
          <p:nvPr/>
        </p:nvSpPr>
        <p:spPr>
          <a:xfrm>
            <a:off x="0" y="4797360"/>
            <a:ext cx="4427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 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ча при гепатите. Моча с примесью желчных пигментов имеет зеленоватый или буровато-желтый цвет. При взбалтывании на ее поверхности образуется стойкая пена. Моча приобретает оранжевый цве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4572000" y="4724280"/>
            <a:ext cx="4788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 Желтушность  склер. Билирубин обладает особым сродством к эластическим волокнам, поэтому структуры с высоким их содержанием (кожа, склеры, сосуды) легко приобретают желтушную окраск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HBV INFECTION"/>
          <p:cNvPicPr/>
          <p:nvPr/>
        </p:nvPicPr>
        <p:blipFill>
          <a:blip r:embed="rId1"/>
          <a:stretch/>
        </p:blipFill>
        <p:spPr>
          <a:xfrm>
            <a:off x="0" y="1125360"/>
            <a:ext cx="5148360" cy="34642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Khmer woman who died of hepatoma"/>
          <p:cNvPicPr/>
          <p:nvPr/>
        </p:nvPicPr>
        <p:blipFill>
          <a:blip r:embed="rId2"/>
          <a:stretch/>
        </p:blipFill>
        <p:spPr>
          <a:xfrm>
            <a:off x="5184720" y="765000"/>
            <a:ext cx="3544920" cy="533088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3"/>
          <p:cNvSpPr/>
          <p:nvPr/>
        </p:nvSpPr>
        <p:spPr>
          <a:xfrm>
            <a:off x="2916360" y="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Г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437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Иммунитет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еспечивается антителами  к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HBsAg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,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торые появляются в сыворотке крови больного в остром периоде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6840" y="6080040"/>
            <a:ext cx="296244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648320" y="1341000"/>
            <a:ext cx="44956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ИАГНОС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наружение специфических антигенов в крови или их маркеров (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BsAg,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нти-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B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нти-НВс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gM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нтитела и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bc Ag –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 пунктатах печени)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 помощи ИФА или ПЦР методик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Лечение: 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комплексное (режим, диета, медикаментозная терапия) в зависимости от периода болезни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Противовирусные препараты: видарабин, ацикловир.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Специфическая профилактика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Цельновирионные (из ослабленных или инактивированных формалином вирусов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убвирионные (из расщепленных вирионов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Химически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Генно-инженерны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977 - М. Ризетто обнаружил вирус гепатита D в ядрах гепатоцитов во время необычно тяжёлой вспышки сывороточного гепатита в Южной Европ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983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открытие вируса гепатита Е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.С.Балаян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988 - открытие вируса гепатита С (ВГС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АКЦИНЫ ПРОТИВ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ГЕПАТИТА B </a:t>
            </a:r>
            <a:br>
              <a:rPr sz="36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(3-х кратное введение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АКЦИНА ПРОТИВ ГЕПАТИТА B РЕКОМБИНАНТНАЯ (H-B-VAX II) MERCK SHARP &amp; DOHME B.V., Нидерланды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акцина против гепатита B ДНК рекомбинантная (Vaccinum hepatitidies B DNA recombinant) Вектор-Фарм, Росс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НДЖЕРИКС-B (ENGERIX-B) SMITHKLINE BEECHAM Biologicals, Великобритания-СШ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ирус гепатита 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фектный РНК-содержащий вирус рода Deltavirus семейства Togaviridae. Его выделяют только от пациентов, инфицированных вирусом гепатита 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ефектность вируса гепатита D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проявляется в полной зависимости от  наличия вируса гепатита В. Соответственно, моноинфекция вирусом гепатита D абсолютно невозможн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ирионы вируса гепатита D имеют сферическую форму, 35-37 нм в диаметре. Геном вируса образует однонитевая кольцевая молекула РНК, что сближает вирус гепатита D с вироидами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перкапсид ВГ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ключает значительное количеств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BsAg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Г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нотип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ируса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епатита D (дельт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85800" y="1700280"/>
            <a:ext cx="77724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I генотип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- традиционно считается европейской, так как чаще встречается у больных стран южной, центральной и северной Европы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II генотип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- выявлен у больных из Японии, Тайваня (явился причиной болезни у коренного населения Якутии, РФ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III генотип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- обнаружен у больных с острой коинфекцией в бассейне реки Амазонка, экваториальной Африки и тропической Аз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16000" y="620640"/>
            <a:ext cx="763128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40428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ирус гепатита D встречается исключительно в виде суперинфекции или коинфекции с вирусом гепатита B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Коинфекция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гепатита D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дновременное заражение вирусами гепатитов В и D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Суперинфекция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гепатита D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аражение вирусом гепатита D человека, инфицированного вирусом гепатита В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Резервуар возбудителя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— инфицированный человек; вирус передаётся парентеральным путём. Возможна вертикальная передача вируса гепатита D от матери к плод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Инкубационный и преджелтушный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периоды короткие (по 3-5 дней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16000" y="620640"/>
            <a:ext cx="763128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85800" y="549000"/>
            <a:ext cx="77724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арактерны выраженная желтуха, развитие отёчно-асцитического синдрома, выраженная гепатоспленомегали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чение гепатита D относительно доброкачественное, но восстановительный период протекает длительное врем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можно развитие злокачественной (фульминантной) формы заболевания с летальным исход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линические проявления острого гепатита 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85800" y="2349360"/>
            <a:ext cx="77724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основном зависят от интенсивности иммунного ответа и от особенностей инфекционного процесса: заражение произошло «поверх» существовавшего ранее гепатита B (суперинфекция) или эти два вируса попали в организм вместе (ко-инфекция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40428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Диагностика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 основном базируется на лабораторных исследованиях периферической кров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Широко применяется серологический мето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Лечение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нтерферонотерап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Г Е П А Т И Т   С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ВГС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Hepatitis С virus, HС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Calibri"/>
              </a:rPr>
              <a:t>Классификация вирус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79280" y="836640"/>
          <a:ext cx="8921880" cy="6003720"/>
        </p:xfrm>
        <a:graphic>
          <a:graphicData uri="http://schemas.openxmlformats.org/drawingml/2006/table">
            <a:tbl>
              <a:tblPr/>
              <a:tblGrid>
                <a:gridCol w="1800360"/>
                <a:gridCol w="2819520"/>
                <a:gridCol w="2522520"/>
                <a:gridCol w="17794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ру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мей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уклеиновая кисло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олоч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Г</a:t>
                      </a:r>
                      <a:r>
                        <a:rPr b="1" lang="ru-RU" sz="2000" spc="-1" strike="noStrike">
                          <a:solidFill>
                            <a:srgbClr val="c0504d"/>
                          </a:solidFill>
                          <a:latin typeface="Calibri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cornavirida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Г</a:t>
                      </a:r>
                      <a:r>
                        <a:rPr b="1" lang="ru-RU" sz="2000" spc="-1" strike="noStrike">
                          <a:solidFill>
                            <a:srgbClr val="c0504d"/>
                          </a:solidFill>
                          <a:latin typeface="Calibri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padnavirida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полная кольцева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–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Г</a:t>
                      </a:r>
                      <a:r>
                        <a:rPr b="1" lang="ru-RU" sz="2000" spc="-1" strike="noStrike">
                          <a:solidFill>
                            <a:srgbClr val="c0504d"/>
                          </a:solidFill>
                          <a:latin typeface="Calibri"/>
                        </a:rPr>
                        <a:t>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avivirida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Г</a:t>
                      </a:r>
                      <a:r>
                        <a:rPr b="1" lang="en-US" sz="2000" spc="-1" strike="noStrike">
                          <a:solidFill>
                            <a:srgbClr val="c0504d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классифициров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Г</a:t>
                      </a:r>
                      <a:r>
                        <a:rPr b="1" lang="en-US" sz="2000" spc="-1" strike="noStrike">
                          <a:solidFill>
                            <a:srgbClr val="c0504d"/>
                          </a:solidFill>
                          <a:latin typeface="Calibri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pevirida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Г</a:t>
                      </a:r>
                      <a:r>
                        <a:rPr b="1" lang="en-US" sz="2000" spc="-1" strike="noStrike">
                          <a:solidFill>
                            <a:srgbClr val="c0504d"/>
                          </a:solidFill>
                          <a:latin typeface="Calibri"/>
                        </a:rPr>
                        <a:t>G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avivirida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Г</a:t>
                      </a:r>
                      <a:r>
                        <a:rPr b="1" lang="ru-RU" sz="2000" spc="-1" strike="noStrike">
                          <a:solidFill>
                            <a:srgbClr val="c0504d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c0504d"/>
                          </a:solidFill>
                          <a:latin typeface="Calibri"/>
                        </a:rPr>
                        <a:t>TT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us Anellovir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Г </a:t>
                      </a:r>
                      <a:r>
                        <a:rPr b="1" lang="en-US" sz="2000" spc="-1" strike="noStrike">
                          <a:solidFill>
                            <a:srgbClr val="c0504d"/>
                          </a:solidFill>
                          <a:latin typeface="Calibri"/>
                        </a:rPr>
                        <a:t>S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us Anellovir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нтропонозное вирусное заболевание с парентеральным механизмом заражения, наиболее часто протекающее в виде посттрансфузионного гепатита с преобладанием безжелтушных и легких форм и склонное к хро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Гепати́т 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Гепатит С вызывается РНК-содержащим вирусом с размером вириона 30-60 нм, относящимся к семейству Flaviviridae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169992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ирусные частицы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ГС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меют оболочку, содержатся в крови в следовых количествах и ассоциированы с липопротеинами низкой плотности и антителами к белкам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ГС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ирусы, выделенные из комплексов с липопротеинами и анти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ГС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антителами, имеют диаметр 60-70 нм. При электронно-микроскопическом изучении на поверхности вириона выявлены хорошо выраженные выступы высотой 6-8 н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HCV STRUCTURE"/>
          <p:cNvPicPr/>
          <p:nvPr/>
        </p:nvPicPr>
        <p:blipFill>
          <a:blip r:embed="rId1"/>
          <a:stretch/>
        </p:blipFill>
        <p:spPr>
          <a:xfrm>
            <a:off x="0" y="260280"/>
            <a:ext cx="5184720" cy="41767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hepatitis Delta agent"/>
          <p:cNvPicPr/>
          <p:nvPr/>
        </p:nvPicPr>
        <p:blipFill>
          <a:blip r:embed="rId2"/>
          <a:stretch/>
        </p:blipFill>
        <p:spPr>
          <a:xfrm>
            <a:off x="5688000" y="2349360"/>
            <a:ext cx="3241800" cy="42624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3"/>
          <p:cNvSpPr/>
          <p:nvPr/>
        </p:nvSpPr>
        <p:spPr>
          <a:xfrm>
            <a:off x="6516720" y="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Г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Источник инфекци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– инфицированный человек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ольные гепатитом С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атентные носители вирус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ути передач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переливании инфицированной крови и её компонент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пользование общими шприцами;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овой и вертикальный пути передачи имеют второстепенное знач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Пути передачи ВГ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и переливании инфицированной крови и её компонентов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шприцевой» — при пользовании общими шприцам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Инкубационный период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 момента заражения до клинических проявлений проходит от 2-х до 26-и недель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КЛИНИЧЕСКИЕ ПРОЯВЛЕНИЯ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85800" y="148428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случае острого начала болезни начальный период длится 2-3 недели, и как при гепатите В, сопровождается суставными болями, слабостью, расстройством пищеварен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В отличие от гепатита В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подъём температуры отмечается редко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Желтуха так же малохарактерна для гепатита С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сихическая депрессия является единственным проявлением хронических вирусных гепатитов ещё до постановки диагноза и одним из внепечёночных проявлений ВГС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Calibri"/>
              </a:rPr>
              <a:t>О С Л О Ж Н Е Н И Я :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ибольшую опасность представляет собой хроническая форма болезни, которая нередко переходит в цирроз и рак печени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роническое течение развивается примерно у 70-80 % больных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ИАГНОС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Обнаружение РНК возбудителя при помощи ПЦР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Обнаружение вирусспецифических  антител классов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IgM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IgG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7240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ЛЕ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39640" y="1483920"/>
            <a:ext cx="79185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Этиотропное лечение при помощи рекомбинантного интерферона в комбинации с рибавирином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Гепатит может быть </a:t>
            </a:r>
            <a:br>
              <a:rPr sz="3600"/>
            </a:b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вызван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ирусами желтой лихорадки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ирусами герпесвирусами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ирусами краснух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ирусами Коксаки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ирусами лихорадки Ласса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ирусы лихорадок Марбург-Эбола и некоторыми другими вирусам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ММУНИТ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Возможны повторные заболевания и реинфекция (наркоманы, больные гемофилией или находящиеся на гемодиализе)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ирус гепатита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ксономическое положение 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ируса гепатита G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остаётся невыясненным. Его условно относят к семейству Flavivirida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еном образован несегментированной молекулой +РНК. Нуклеокапсид организован по типу кубической симметр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меет суперкапси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обую 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руппу риска гепатита G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составляют наркоманы (среди лиц, вводящих наркотики внутривенно, частота выявления РНК вируса гепатита G достигает 33-35%)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казана возможность вертикального пути передачи вируса гепатита G от инфицированной матери к плод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епатит G в большинстве случаев протекает как микст-инфекция с вирусным гепатитом 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еспецифическая профилактика парентеральных гепатит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правленна на прерывание путей передачи (коррекция поведения человека, использование разового инструментария, ограничение переливаний биологических жидкостей, применение эффективных дезинфектантов, защищенный секс)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лассификация вирусных гепатитов по типу возбудител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981080"/>
            <a:ext cx="77724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епатит 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Болезнь Боткин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епатит B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сывороточный гепатит) –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более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340 млн. че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епатит C –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болеет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170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млн. че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епатит D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дельта-инфекция, гепатит δ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епатит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епатит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епатит TTV и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N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а также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ругие не идентифицированные вирус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Классификация ВГ по способу зараж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ЭНТЕРАЛЬНЫЕ ГЕПАТИТЫ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меют только острую форму заболевания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патит А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патит 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АРЭНТЕРАЛЬНЫЕ ГЕПАТИТЫ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меют острую и хроническую формы заболевания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патит B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ывороточный гепатит) – болеет 350 млн. чел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патит C –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ет 170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н.чел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патит D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ельта-инфекция, гепатит δ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патит 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патит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TV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ругие не идентифицированные вирусы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1-02T04:53:17Z</dcterms:modified>
  <cp:revision>208</cp:revision>
  <dc:subject/>
  <dc:title>PowerPoint Presentation</dc:title>
</cp:coreProperties>
</file>