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606-6E26-407A-9693-C2014A37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5BA-912C-4899-B2F1-776EC67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27B-C539-4C7D-8536-5AE7E87E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35E-75C1-43B3-8D6F-5C28DF7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D8EC-9105-421B-8CC8-237BC6D1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1FF-DEFA-4910-BF1A-BC03C744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006B-1A1D-4260-A33C-2824A12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DCED-B1C1-4CCD-B301-0C3C406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645-16BD-44AA-A29A-5BD332B7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F84A-FCEB-4C12-A205-ABA8E1C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146B-572E-46AA-8E2A-76BC509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248-CE6C-4CE2-9C3C-D20F8C02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56DF-41F4-4909-B05E-8D34E3E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0DC-50AE-40EB-A7BA-67F275C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F29-C708-4513-B3C9-FD1BDD06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A97-23B8-45FE-92B5-E5363BCF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14FC-DCFA-42E0-A231-04C56C26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44DE-BB22-43E2-BE8E-FC1837E4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B965-F966-48B7-A75B-CF856C8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A725-67B0-4926-BD2A-FE10E6B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48CC-B6D6-4C55-ACFB-BE6DA51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02E4-CE2D-4C21-83C0-BC4DE94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D00-2B5A-4B5E-A46C-4CB3B8EA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629DA-CD4D-401E-B030-AE19AFC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29E8-CD87-4E7A-8611-AD131C1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043D-4B3D-4018-B47B-6C56160D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5257-070D-441C-97DD-C38A8D9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C68B-D388-481E-90FE-41EC45A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4AE2-9A3B-4AE3-8CCF-29C4FCFF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4284-715A-470A-A782-B53960B5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3E32-FA30-42FF-AEC5-FC71A3C7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E927-ABBB-4E11-8128-652315E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4328-633B-4C49-AF8E-A285AB5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C6F-FB5C-4ADB-8529-5EEE14B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B24E-06F4-489B-8A1E-71F63EC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0312-F5B4-4908-ADA2-B72A641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9790-4FD9-4EB3-BF76-05052D58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3332-D661-4047-95DC-600AE19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6548-83CA-4618-B1F7-FE4DB71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8549-DDED-42CF-8604-9EE5AC0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278D-C14A-44F5-B364-FAD61FD8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B1DA-2DF1-4941-BB0F-A0162C51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8799-6D23-462A-AEC6-B81A56D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E33E2-26B0-4D39-BD8D-48F741A5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B28-60CF-4C1D-AD9F-6E39C65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51FE3-A514-4CB7-8447-236891A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28BB-3074-46D9-B441-DF894B75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84C0B-8AC1-4EB0-92E9-5177DE9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1F68-84B6-4259-9EAD-7B1E7A4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78F84-E2D2-4F20-9920-510A287F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B3BC-9B83-4E0A-9AAF-7B110A4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11C26-2DCB-49CD-BB67-EA7C19D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399B-86B2-4B85-812C-33FA36E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04EF-BF73-4108-B4BC-D755E884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5AA1-F13B-48AF-9F57-9D5848D8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200-E18B-4C92-B3C9-6DE1D66B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2040-E4BD-41EF-8291-6D8B9118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7858-7B4E-4C47-B42F-5FFEE35E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0181-B8A4-4D71-BBC1-4389EE0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E9AB-7385-4D8C-AEA9-763A6947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653A-E1FB-4893-813A-68AE51D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725ED-E983-48D8-9C77-94ED0EE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B02E7-9C23-410E-BE4E-5981F4DC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16D2-B0B7-4DFF-A66B-F050E5D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9F48-0150-4FBB-BE39-A6CC2F3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8A083-BA10-4F4F-B89D-B7EEC951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3C5-DEB7-4CD6-843C-71474D1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EA96A-0672-4B56-A0A0-E9E2704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57A8-D735-402C-BE59-440023F3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95F7-E6BD-466C-8896-AEB44B1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FB6EB-6D4D-48B1-8CC7-305EE57D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1F47-776F-478B-892D-9544251E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A4B0-2770-4801-9DC2-B7C74BB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FA01-A18D-46D2-B744-AAB2A4F8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EBD6-0715-4EA1-98D0-47E42C3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106A5-7663-4752-A5DA-EA0F43AD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7CFE-91F4-4537-9877-3EDEE5C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18A-5AE5-41B4-A2BF-E5F868CA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1470-7A1E-4E68-9972-E45557E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C96E-093F-461F-93AF-D6DBBD86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1E914-AA51-467C-A862-DAA4CF77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F80A-13A4-44AE-AF68-BDF011A9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209E5-C6F6-4051-B4C7-0AB1B90E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68EE-C1CF-44EC-91CC-1152090C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DB73-BC6F-4D0F-ABFA-8701427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3AD52-DBDB-4F2C-83A8-E49885E1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CEBB3-9BD7-48F8-9F1D-7F6FEDBF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1576-19C9-4ABB-9364-9B5F478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B54-D6B4-421D-AE95-9238068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0493-5BFA-44B1-BF26-71CBBC47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4430C-D1C4-4D09-A096-410F5ED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6504-8484-4128-BFFB-F6B33F82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6344-9CED-4B73-ABB6-693BFDE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A6E9A-DC38-4E5D-9DC9-786918F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CE11-BA3A-4735-A7B1-6CA3D9DA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CF6D-E55D-4DAA-832A-69EA0F7F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6D0-992B-424A-965A-8DB59CD55B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C0D-8F24-4B59-9499-6AD2E0145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A2A-C6C6-4F59-8007-FC09720DD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CA1-55F7-4E50-8589-A96BB2B3B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25E7-E05F-4830-A3BE-C87BEA55B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0DD-8F61-45AE-BB1A-F559360D85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DBD-ACBA-48A4-93A7-54E4627C80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AE7C-43C0-418C-85BC-77610973D3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600360" cy="3079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9"/>
          <p:cNvSpPr/>
          <p:nvPr/>
        </p:nvSpPr>
        <p:spPr>
          <a:xfrm>
            <a:off x="395280" y="1197000"/>
            <a:ext cx="85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АДІАЦІЙН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І УРАЖЕННЯ ЛЮДИНИ. ГОСТРА ТА ХРОНІЧНА ПРОМЕНЕВА ХВОРОБА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4880" y="3191040"/>
            <a:ext cx="443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Доцент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кафедри радіологі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та радіаційної медицин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ХНМ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Астап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єва О.М.,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020 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79440" y="2332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da1f28"/>
                </a:solidFill>
                <a:latin typeface="Times New Roman"/>
                <a:ea typeface="Arial"/>
              </a:rPr>
              <a:t>Л Е К Ц І Я 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1484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Мінімальна  летальна доза для людини – 1,5 Г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зовнішнього загального фотонного опромінення: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400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263700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оказник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3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т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50/60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-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, що призводять до смерті 50%  осіб в опроміненій групі протягом 30 чи 60 діб, відповідно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400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1640" y="4581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D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50/60  лежить у діапазоні 3,2 – 3,6 Г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Абсолютна  летальна  доза – 5,5 Г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1125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844640"/>
            <a:ext cx="8569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ковий (первинної реакції) 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швидкість проявів обратно залежить від дози  опромінення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уявного благополуччя (латентний) -  чим більшою бул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   опромінення, тим  він  коротший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розпалу хвороби – чим вищою була доза опромінення,т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аженіші синдроми та більша їх тривалість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ання (відновлення) -   чим  вищою була доза опромінення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триваліше цей періо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віддалених  наслідків – чим  вищою була доза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–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им  вираженіші  наслідк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9640" y="1125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СИНДРОМИ ГПХ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844640"/>
            <a:ext cx="6049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ий (ГС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лунково-кишковий (ШК-синдром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йроциркуляторний (НЦС).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32000" y="38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429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4437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1-6 Гр спостер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игнічення кістковомозков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етворення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 поступовим розвитк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анцитопен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87280" y="836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С (продовження)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349360"/>
            <a:ext cx="82818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ритропоез (продукція еритроцитів) – еритроідний ряд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єлопоез (продукція лейкоцитів) – мієлоїдний ряд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гакаріоцитопоез (продукці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омб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тромбоцитарний ряд.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989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000" y="422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овбурові клітини кісткового мозку мають найвищ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очутливість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1268280"/>
            <a:ext cx="48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НІЇ ГЕМОПОЕЗ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Єдина поліпотентна стовбурова клітин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35280" y="2060640"/>
            <a:ext cx="216000" cy="288720"/>
          </a:xfrm>
          <a:prstGeom prst="downArrow">
            <a:avLst>
              <a:gd name="adj1" fmla="val 50000"/>
              <a:gd name="adj2" fmla="val 334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0920" y="4724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4869000"/>
            <a:ext cx="7705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в дозі 2,5 Гр і вище частина  стовбурових клітин кожної  лінії виживає, зберігаючи здатність до відтвор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инають прискорений поділ </a:t>
            </a:r>
            <a:r>
              <a:rPr b="0" lang="uk-UA" sz="24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повнюють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ул власної    лінії попередників інших ліні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8000" y="981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німальний рівень кількості стовбурових клітин кісткового мозк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76360" y="26384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177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яжкість та тривалість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внота відновлення визначаютьс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" y="292428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ино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2997360"/>
            <a:ext cx="2232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ивідуальним генетично визначеним рівнем толерантності  кісткового мозку  постраждалог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40360" y="263844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0360" y="2997360"/>
            <a:ext cx="237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декватність призначе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48360" y="2638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79280" y="414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РОМБ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1989000"/>
            <a:ext cx="828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вміст падає водночас і паралельно зі зниженням кількості гранулоцит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ни зникають із периферичної крові, повністю, або, майже повністю без наступного відновлення після дії ІВ у дози 5 Гр та вищ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+ імунологічна  недостатніст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79640" y="37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ЕРИТРОЦИ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508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дії ІВ їх значного зниження вмісту в периферічній крові еритроцитів зазвичай не відбув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35280" y="112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9280" y="1844640"/>
            <a:ext cx="85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и понад 2 Гр викликають  парадоксальне  початкове протягом кількох годин чи днів підвищення вмісту в периферичній крові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після чого  настає його різке зменшення (хибна інтерпретація ознак  інфекційного процесу)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800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9280" y="335772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 опромінення в дозах 2-5 Гр виникає друга абортивна хвиля підйому вмісту лейкоцитів в крові,  зумовлена викидом із кісткового мозку  кінцевих продуктів диференціювання,  поліморфноядерних  лейкоцитів, які далі не діляться (приблизно 1 тижд.)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вень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гранулоцитів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ується до 50-70% від норми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494172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522936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подальшому кількість клітин знову падає до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адір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на 25-35-й день після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Шлунково-кишковий синдром (ШК-СИНДРОМ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092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26920" y="472428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 інтервалі від 30 хвилин до 2 годин після опромінен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анорексія,  нудота, блювання, водянисті  випорожнення із судомами м</a:t>
            </a: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язів  живота,  кволість, сонливість, швидка втомлюваність, слабка гіпотонія і тахікарді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16320" y="1484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ТОГЕНЕТИЧНІ ОСНО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1916280"/>
            <a:ext cx="7920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наження епітеліальних клітин, що вистилають просві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вного тракт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льний доступ кишкових бактерій всередину організму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вотечі крізь оголені ділянки слизово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функції всмоктування +  потенційн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і   ураження клітин, леге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9760" y="393372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РОМАЛЬ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ШК-СИНДРОМ - продов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22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1800" y="14842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86680" y="24210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МАНІФЕСТАЦІЇ (РОЗПАЛУ  ЗАХВОРЮВА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2200" y="184464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ходить без проявів, тривалість  - від кількох годин  до кількох ро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299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а діарея, блювання, лихоманка, кишкова кровотеча з розвитком шоку і летального кінц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за відсутності активної медичної допомо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8360" y="3933720"/>
            <a:ext cx="79200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е проникнення умовно патогенних бактерій у кровотік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єднання інфекц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всмоктування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діння живленн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літична кишкова непрохідність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рушення водно-електролітного  балансу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егідратаці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стра ниркова недостатність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→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цево-судинний колапс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→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псис та  септичний шок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32000" y="981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ЕЙРОЦИРКУЛЯТОРНИЙ СИНДРОМ (НЦС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32480" y="170028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гострих доз понад 30 Гр    -   летальний кінець в перші 72 год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2852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17440" y="2349360"/>
            <a:ext cx="41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я  на структурні   молекули клітин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378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299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ндукують надмірне утворення вільних радикалів у клітина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базальних мембранах судин мікроциркуляторного рус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3880" y="393372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ивний вихід у плазми крові й електролітів  у  позасудинний простір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4000" y="4797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динний колапс, набря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ишньочерепного  тис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 аноксія  головного мозк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32000" y="233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. Досвід радіаційних уражень людей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1341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. Бомбардування  Хіросіми ( 6 серпня  1945 р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Нагасакі (8 серпня 1945 р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2637000"/>
            <a:ext cx="2376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езпосередньо загинуло 70-80 тис. і 60-8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465300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слідки в  другому та третьому покоління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9236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2637000"/>
            <a:ext cx="237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ягом 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ти  перших років кількість загиблих від  наслідків опромінення (комбіновані опіки, ХП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пластичний  стан кровотворення, лейкози, рак) становить  понад 100  та 60 тис. насел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повід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8360" y="21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27640" y="2205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637000"/>
            <a:ext cx="23767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менева хвороба,  досягла піку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-4 тиж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ибухів і почала знижуватись тільки чере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-8 тижн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164360" y="2205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ЦС – продов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85840" y="1484280"/>
            <a:ext cx="26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дромаль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1916280"/>
            <a:ext cx="82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нше ніж через 1 час, інколи – через кілька хвилин післ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ромінення – почуття опіку по всьому тілі  - невгамонне блювання; діарея (кривава), набряк і почервоніння шкіри,  артеріальна гіпотензія,  висока температура тіла;   порушення орієнтації і координації рухів,  прострація; судоми (24 години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280" y="3429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1080" y="3933720"/>
            <a:ext cx="73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е поліпшення (тривалість від кількох годин до кількох днів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00000" y="5300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вивається комплекс грубих порушень діяльності ЦН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мерть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528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68640" y="3500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атентний період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26600" y="4724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пал захвор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ЧНІ ФОРМИ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1916280"/>
            <a:ext cx="73454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-мозкова *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-10 Гр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* 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(типово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упінь тяжкості   від легкого до дуже тяжког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кова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(10-3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16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оксемічна (судинна)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30-80 Гр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до 8-ї д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Церебральна (смерть під променем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летальний кінець 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(понад 80 Гр)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о 3-ї доб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32000" y="9079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ІСТЬ ПЕРЕБІГУ ГПХ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стратегія надання медичної допомог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280" y="1844640"/>
            <a:ext cx="7345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- легкий (1-2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ІІ  ступінь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середньої тяжкості  (2-4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– тяжкий (4-6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ІІ ступінь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-  надзвичайно  тяжкий  (6-10 Гр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43280" y="4724280"/>
            <a:ext cx="59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утність  фізичної дозиметрії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становлення  значення чинників  опромінення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стань від джерела ІВ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32000" y="9079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РІЄНТОВАНЕ ВИЗНАЧЕННЯ ДОЗИ  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1280" y="1484280"/>
            <a:ext cx="83534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ба кров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за кількістю і характером крові  хромосомних аберацій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ологічна доза);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атологічні і клінічні да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Швидкість та ступінь зниження клітинних елементів в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феричній крові  залежить від доз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повторюють не рідше 1 раз на день потягом  2 тижнів).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8360" y="4437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76360" y="4581360"/>
            <a:ext cx="741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АВИЛО: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кщо вміст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мфоцитів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знизився  на 50 % від вихідного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новить менше 1*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л  протягом 24-48 год, це означає, щ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раждали  отримали щонайменше дозу опромінення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4 Г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А І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, що розпочалося протягом 1-ї години після опромінення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ливо в супроводі раптової діареї, означає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тальне опромін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чаток блювання через 2 години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ий ступінь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ГІПЕРТЕРМ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летальному опроміненні температура тіла різко підвищу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же протягом перших годин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арячка й озноб  протягом 1-го дня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дуже тяжкий ступінь опромінен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5280" y="47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9280" y="501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ЕРИТЕМ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понад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Г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тягом 1-ї доби (плямиста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03280" y="90792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ЧНІ ДАНІ ОРІЄНТОВАНОГО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СТАНОВЛЕННЯ ДОЗИ ОПРОМІНЕННЯ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8360" y="1628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8360" y="1916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ГІПОТОНІ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відчить про загальне опромінення в летальний доз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                                 –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ганий прогноз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9640" y="3429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НЕВРОЛОГІЧНІ РОЗЛАД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ураження ЦНС протягом 1-ї години після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- летальне ураження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4869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лутаність свідомості, судома;  ком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мерть   протягом перших 48 год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4000" y="2492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14842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ІШЕННЯ ПР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обхідність  госпіталізації залежить від наявност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анніх клінічних ознак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2637000"/>
            <a:ext cx="82090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відсутнє – амбулаторне спостере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-3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 опромінення 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 в    лікарню  загального профілю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о  амбулаторне спостереження    протягом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 тижнів з наступною госпіталізаціє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-2 годин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гематологічне    відділ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лювання менш ніж через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 годину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ісля опромінення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ація в спеціалізовану клін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1280" y="134136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. Нудота та б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мимети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іпертонічні  розчи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лазмозаміщувачі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асептичні умов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бокс, УФ-стерилізація повітря, бактерицидні   розчин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3284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. Інфекційні ускладн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біотики  широкого спектра  д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тигрибков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імунні препарат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400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4653000"/>
            <a:ext cx="835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. Некротична  ентеропат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вний  голод (1-1,5 тиж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арантеральне  год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полоскання слизової ро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 стерилізація  кишок антисепт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5280" y="3141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58920" y="9079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ГОСПІТАЛІЗОВАНИХ  ХВОРИ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1280" y="1484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4. Гематологічний синдро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тромбоцитів і лейкоцитів від  одного дон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трансфузія еритроцитів (Нв нижче 83 г/л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ересадка  імуносумісного кісткового моз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640" y="2852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5. Ураження  слизових оболонок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анація бактерицидними, муколітичними і протизапальним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обам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септики в аерозолях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6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2000" y="4292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6. Незагойні  рани і  виразк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хірургічне лікува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836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836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2000" y="5300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7. Метаболічні  та  водно-електролітні порушенн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за правилами інтенсивної тера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87640" y="9079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1268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8360" y="1557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ІОД ОДУЖ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І-ІІ  ступеня – повне відновленн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хвороби з тяжким  перебігом астенія зберігається довго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зик розвитку катаракти    крововиливу на очному дні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вищення внутрішньоочного тиску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імовірність повної втрати зор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імунної системи може бути повни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0920" y="4581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звиток пізнього усклад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        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апластична анемія, лейкоз та інше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1700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34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Радіаційні аварії на комбінаті “Маяк” (19 червня 1948 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1844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 перегрівання кілька уранових блоків атомного реактор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озплавилися,  опромінився весь чоловічий персонал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42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Із 1946 по 1958 роки в Тихому Океані проводили випроб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ої зброї – 23 особи захворіли на променеву хворобу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59500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522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иштимська трагедія – 29 вересня 1957 р на хімкомбінаті “Маяк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ся вибух на сховищі радіоактивних відходів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27600" y="609300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ейкози і солідні злоякісні пухлини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933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2781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березні 1949 р на “Маяку”  внаслідок 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ву в річку Т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еч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оактивних рідких відходів зазнали опромінення майже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24  тис.   осіб із 41 селищ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565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8360" y="10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зультат тривалого (місяці, роки) систематичного зовнішнього, внутрішнього чи  поєднаного опромінення, у відносно  невеликих дозах, але істотно вищих (у 10-15 разів) за  встановлені лімі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5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32000" y="2637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ЕБІГ ХВОРОБИ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56000" y="3068640"/>
            <a:ext cx="215640" cy="289080"/>
          </a:xfrm>
          <a:prstGeom prst="downArrow">
            <a:avLst>
              <a:gd name="adj1" fmla="val 50000"/>
              <a:gd name="adj2" fmla="val 335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76360" y="3429000"/>
            <a:ext cx="237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ісиндромн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3357720"/>
            <a:ext cx="33116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валю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мін  у нервовій  і кровотворній система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00720" y="3068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280" y="299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4360" y="4724280"/>
            <a:ext cx="806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НИНІ ІМОВІРНІСТЬ НА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нехтування вимогами радіологічної безпеки при роботі з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ми ІВ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в побутових умовах  у разі  втрати контролю над джерел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промінювання промислового призначення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8360" y="1052640"/>
            <a:ext cx="80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ОСНОВА РАДІАЦІЙНОГО ВРАЖЕННЯ ТКАНИН ПРИ ХПХ  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ПРОДУКТИВНА ЗАГИБЕЛЬ МАЛОДИФЕРЕНЦІЙОВАНИХ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ІТОТИЧНО АКТИВ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ине не опромінена клітина, а її  потомств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аступному чи більш пізньому поколінні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8360" y="278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4000" y="3284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АСИФІКАЦІЯ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) Спричинена  зовнішним фотонни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гамма- та ікс випромінення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) Внутрішнім опроміненням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інкорпоровані радіонукліди)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) Поєднаним зовнішнім і внутрішнім  опроміненням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ТУПЕНІ  ТЯЖКОСТІ 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280" y="3284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ЕРІОДИ ПЕРЕБІГУ  ХПХ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ування  (поступовий розвиток  і тривалий  хвилеподібний перебіг) залежить  від тривалої дії та дози опромін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ення  - час припинення надлишкового  опромінення -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лежить від ступеня важкості  наслід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пластичні і бластомогенні процеси, прискорення інволюції  та розвиток  пухлин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1280" y="1484280"/>
            <a:ext cx="8353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егка  (І ступінь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Середньої тяжкості (ІІ ступінь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яжка (ІІІ ступінь)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68360" y="1052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ГО СТУПЕНЯ ТЯЖКОСТІ (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8360" y="306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8360" y="1484280"/>
            <a:ext cx="8496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ідвищення втомлюваності, зниженн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ацездатності, інверсія  сну, зниження апетиту, диспептич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пори, змарніння, зниження лібідо (або тільки зміни показник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феричної крові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8360" y="3284640"/>
            <a:ext cx="8567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ОРГАНІВ ТА СИСТЕМ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ушення  нервової регуляції:  дистальний гіпергидроз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іподинамія,      тремор пальців рук, зниження шкірних рефлексів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гментація, ламкість і випадіння волосся,  артеріальна    гіпотонія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секреторної і кислотоутворюваної функції шлун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8360" y="5157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62920" y="55897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ВНЕ ОДУЖ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 ТЯЖКОСТІ (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234936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8360" y="1341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ловний</a:t>
            </a:r>
            <a:r>
              <a:rPr b="1" lang="uk-UA" sz="1800" spc="-1" strike="noStrike">
                <a:solidFill>
                  <a:srgbClr val="da1f28"/>
                </a:solidFill>
                <a:latin typeface="Arial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біль, послаблення короткочасної па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яті,  сон уривчастий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обудження з відчуттям розбитості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2492280"/>
            <a:ext cx="85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ЛІНІЧНІ ОЗНАКИ АСТЕНІЇ І СУДИННІ ДИСТОНІЇ  ГІПОТОНІЧНОГО ТИПУ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млюваність, нездужання,  виснаженість,  запаморочення 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удотою; значне зниження апетиту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іль в ділянці серця і в животі; парестезії,  занеміння кінцівок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лісність у 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зах дистальних відділів кінцівок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5280" y="422100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ЕНЦЕФАЛЬНІ РОЗЛАДИ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ксизмальна  тахікардія, субфебрільна температура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ливання АТ.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5640" y="5229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8360" y="544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НІЧЕННЯ УСІХ ЛАНОК КОВЕТВОРЕНН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анемія,  лейкопенія, тромбопенія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360" y="98100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СТУПЕНЯ ТЯЖКОСТІ (ІІІ СТУПЕНЯ)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9640" y="2708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1484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КАРГ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акі ж, як і при ХПХ ІІ ступеня, але тяжчі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ЕРЕВАЖАЮТЬ  деструктивні процеси у кроветворній  системі, викликають  атрофічні і дистрофічні мікростуктурні  зміни в органах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9640" y="3141720"/>
            <a:ext cx="81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АЖЕННЯ ЦНС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оксичний енцефаліт, зниження сухожилкових рефлексів, ністагм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піко-вестибулярні розлади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8360" y="4292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РЦЕВО-СУДИННА 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дистрофічні зміни міокарда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11280" y="4076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5280" y="5157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ЛУБОКЕ І СТІЙКЕ ПРИГНІЧЕННЯ ФУНКЦІЇ ШЛУНКА, ПЕЧІНКИ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ІДШЛУНКОВОЇ ЗАЛОЗ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1280" y="27813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КЛІНІКА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5013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8360" y="981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4000" y="350028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8360" y="1484280"/>
            <a:ext cx="84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ЕГКОЇ ФОРМ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руховий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кувальні фізичні вправ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балансована дієт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даптогени: препарати женьшеню, елеутерококу, стріхнину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олівітаміни, гемостимулятори,  малі транквілізатор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фізіотерапія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8360" y="36450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ЗАХВОРЮВАННІ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СЕРЕДНЬ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ліжковий  режим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калорійна їжа з високим вмістом  вітамінів і антиоксиданті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емостимуля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стимулятори лейкопоез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антигеморагічні засоб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епарати  кальцію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Гормон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17640" y="6021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1280" y="11253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ЛІКУВАННЯ ХПХ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довження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8360" y="1773360"/>
            <a:ext cx="84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ХВОРЮВАННЯ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ТЯЖКОГО СТУПЕНЯ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ліжковий  режи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трансфузії,   природні гемостимулятор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фузії гемопоетичних клітин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симптоматична терапія: відновлення функції печінки,  підшлунков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залози, шлунка, кишо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антибактеріаль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гемостатич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замісна терап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(спазмалітики, холеретики,  послаблювальні засоби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-  санаторно-курортне лікува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5880" y="233280"/>
            <a:ext cx="66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І. Хронічна променева хвороба (Х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8000" y="1052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РОГНО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640" y="155736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9640" y="51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68360" y="191628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В БІЛЬШОСТІ ВИПАДКІВ -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ХПХ не становить загрози життю хворих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те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дужання з повним відновленням якості житт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спостерігаєтьс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84360" y="4076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РО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4000" y="465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92720" y="4816440"/>
            <a:ext cx="35701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ЕМОБЛАСТОЗИ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ОЛІДН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ЛОЯКІСНІ ПУХЛИН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87280" y="4869000"/>
            <a:ext cx="3570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АРАКТА,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НГІОПАТІ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ІТТІВК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2643480" y="2349360"/>
            <a:ext cx="34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Arial"/>
                <a:ea typeface="Arial"/>
              </a:rPr>
              <a:t>Дякую за увагу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6" descr="E:\2.jpg"/>
          <p:cNvPicPr/>
          <p:nvPr/>
        </p:nvPicPr>
        <p:blipFill>
          <a:blip r:embed="rId1"/>
          <a:srcRect l="0" t="20941" r="0" b="16789"/>
          <a:stretch/>
        </p:blipFill>
        <p:spPr>
          <a:xfrm>
            <a:off x="2527200" y="3071880"/>
            <a:ext cx="4402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90520" y="83664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РАДІАЦІЙНІ АВАРІ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2060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. Аварія  в Великій Британії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0 жовтня 1957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р на атомному реактор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Вінскайлі,  який  виробляв плутоній для атомної збро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450864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342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на заводі “Крас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  Сормово”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8 січня 1970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епередбачений   запуск реактора – забруднення цеху, робочих  відпустили  без  дезактиваці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558972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472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da1f28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 березня 1979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 сталося часткове розплавлення активної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ни  ядерного реактора  ядерного реактора 1 ра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59280" y="57340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инули 5-мільну  зону вагітні і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іти дошкільного вік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3213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205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я  реактора на підводному човні  К-19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3 липня 1961 р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померло 8 членів екіпажу)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на аварія 24 лютого 1974 р (28 осіб загинуло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125360"/>
            <a:ext cx="7705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0. Чорнобильська катастрофа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26 квітня 1986 р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– вибух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кто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-го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енергоблоку спричинив радіаційне забруд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еличезних територі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220500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242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спіталізовано 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287 постраждали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134 – ГПХ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з них 28 померло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386064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22100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ВІД В ДІАГНОСТИЦІ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ИВЧЕННЯ ПАТОГЕНЕЗУ І ПЕРЕБІГУ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ИХ УРАЖЕНЬ ЛЮДЕ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ОШУКУ ЗАСОБІВ  ЇХ ЛІКУВАНН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 ПРОФІЛАКТИК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18520" y="335772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Комбінована    радіаційна травм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4080" y="98100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ДЖЕРЕЛА РАДІАЦІЙНИХ УРАЖЕНЬ ЛЮДИН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1628640"/>
            <a:ext cx="705672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статкування  для промислової  дефектоскопії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ерційні  променеві установк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жерела в  технологічних промислових лінія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оізотопні  закриті джерела  спецпризнач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ористичні  акт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ядерного палива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дерні реактори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чне терапевтич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37400" y="233280"/>
            <a:ext cx="67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Arial"/>
                <a:ea typeface="Arial"/>
              </a:rPr>
              <a:t>І. Досвід радіаційних уражень люд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30360" y="233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197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ГПХ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це сукупність специфічних  клінічних  синдромів, як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являють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послідовно після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загального  рівномірного зовнішнього опромін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 міру накопичення змін у тканинах,  органах і системах  організму  постраждалого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2924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93760" y="314172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Обставини виникнення  ГП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00000" y="3716280"/>
            <a:ext cx="7777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овнішнє фотонне опромінення всього чи майже всього ті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сно рівномірне опроміненн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за </a:t>
            </a:r>
            <a:r>
              <a:rPr b="1" lang="uk-UA" sz="1800" spc="-1" strike="noStrike">
                <a:solidFill>
                  <a:srgbClr val="da1f28"/>
                </a:solidFill>
                <a:latin typeface="Times New Roman"/>
                <a:ea typeface="Arial"/>
              </a:rPr>
              <a:t>понад 1 Гр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a1f28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роткий час  опромінення (від кількох хвилин до 1-3 діб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1197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ПХ  виникає під час  перебування  людини в зоні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адіаційного пол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2060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після випадіння  радіоактивних осадів ядерного вибуху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варії потужних джерел ІВ 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астосування  тотального опромінення тіла з лікувальною метою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4221000"/>
            <a:ext cx="8226360" cy="3204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465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опроміненні  у  високих дозах обмежених ділянок тіла виникають </a:t>
            </a:r>
            <a:r>
              <a:rPr b="1" lang="uk-UA" sz="2000" spc="-1" strike="noStrike">
                <a:solidFill>
                  <a:srgbClr val="da1f28"/>
                </a:solidFill>
                <a:latin typeface="Times New Roman"/>
                <a:ea typeface="Arial"/>
              </a:rPr>
              <a:t>локальні променеві ураження,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а не ГПХ 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4b9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115920"/>
            <a:ext cx="438120" cy="474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30000" y="233280"/>
            <a:ext cx="61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ІІ. Гостра  променева хвороба (ГПХ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9640" y="1197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ісля впливу менших рівнів гострого опромінення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280" y="1916280"/>
            <a:ext cx="8226360" cy="31680"/>
          </a:xfrm>
          <a:prstGeom prst="rect">
            <a:avLst/>
          </a:prstGeom>
          <a:solidFill>
            <a:srgbClr val="99ccff"/>
          </a:solidFill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2276640"/>
            <a:ext cx="8496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нижче 0,1 Гр стан не  змінюється, будь-які лабораторн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знаки відсутні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 0,1-0,2 Гр підвищується  частота хромосомних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берацій, клінічні ознаки відсутні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12 Гр кількість  сперматозоїдів знижується до  мініму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близно на 45-й день, після чого сперматозоїд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ідновлюються;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дозі 0,5-1 Гр помітно пригнічується кроветворення 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істковому мозку з  розвитком лімфопенії без інших ознак ураження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13:43:35Z</dcterms:created>
  <dc:creator>Alex</dc:creator>
  <dc:description/>
  <dc:language>en-US</dc:language>
  <cp:lastModifiedBy>IMR</cp:lastModifiedBy>
  <dcterms:modified xsi:type="dcterms:W3CDTF">2020-03-04T12:42:27Z</dcterms:modified>
  <cp:revision>619</cp:revision>
  <dc:subject/>
  <dc:title>Сердечная недостаточность у детей с врожденными пороками сердца</dc:title>
</cp:coreProperties>
</file>