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C55-45D7-472C-BA09-31068010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DA1-3CBE-4BD9-ABB5-96EB72D4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409-4D34-4DDB-85DB-339128A9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BEF-86A3-4467-A3DC-27C254C5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7D5-8EA0-4E11-B22C-47BDA234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0AB-29FA-4730-9C70-C5CC95F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905-BD56-49CC-B0A7-F4A29B47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1730-3DE4-4E0C-8991-2439DA3C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198-BDFD-4B71-B3E0-3D5BA86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5D69-4877-42D5-800D-40AB55EE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6953-E516-45C7-BC56-16DA02D5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F58-7E59-4E26-A91E-49EAD35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560-79AA-4D15-BFE3-6CDDEFAA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E7A-A789-4C9E-83F1-63F9823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A9BA-489C-4D4F-9CA1-AFEC459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536E-2F85-45BB-8695-351D02B8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74F-7AAF-4EE0-B6CD-BE46DC8B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B96E-611F-49CB-9129-8EFF04CC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A3A1-5711-412E-8BA8-F2C62DF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CA91-C866-47A4-B2FA-C7AFF8E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CE6E-3194-46D9-AAC9-AADEA7AF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5B99-9884-41F1-AEA9-F84BA32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DF3-42F6-401E-999E-B2136E74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C426-78C4-44BA-BA51-683CECE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89A7-C079-4B21-8DD3-2B70DA8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B701-8E87-4423-AC9F-E4265D4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48B5-DD54-4637-AD42-006611B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221C-C35E-4BFC-B5BD-4A0E635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5BBC-9CF5-46EF-BC20-B8A129D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E50B-225B-4E5B-84EA-2193BFA5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A168-1365-4F31-8761-A6F8D7C9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D6AD-1E66-4876-A547-DD85509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A703-1B21-4206-B359-F73551B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70E-4403-4BDF-8475-8C626BE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D005-4638-41ED-BF0E-3FA9714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C287-63A9-4DE2-9E8C-CB69943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8F700-0114-4519-9B21-E67E1DA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4AAA-BB7E-478F-A894-2AC582F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2ED0-756D-4C15-B2FE-28D3A2A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1AD7-C8AB-46DE-AACB-6BCC162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A7E1-042A-4C18-9F44-27DBB4B8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2B91-C3C0-41E4-ACCE-2B281159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3C29-BA48-4BEB-A472-C3AB5A5D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9372-D6D2-43EE-AD4B-5846CB82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72C-81BA-41F9-82D0-D4A5F22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CD2C-38C8-42F9-ABBC-92AF490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0BBC-EE1C-4895-B79B-5674EBB8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F1BC-E44B-4E45-998D-977AB863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1DD8F-5864-4B85-81F2-EFA9AFB7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FCCF-0623-40CC-A817-4DA4F486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D3CB-206F-407F-A693-64E70676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B792-F8EB-4EE3-B1B7-81EC1DD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211E-0E3F-42AE-B7BA-9955077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221B-2A87-4CBB-81B2-CFC59FB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3E70-111C-49A6-BA7C-B25178C6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6BB-7A06-4357-877F-82418464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A905-DF62-40C5-854B-45EEAC44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1FD1-7A63-4330-AAD3-ABA5D027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76195-F30C-4A14-8228-C3D8C18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C35E-5DCC-4D86-B7BC-261533D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4CF81-A832-4EFF-BE0B-174CD56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4A08-3D4D-4D97-B44C-C339D99C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5995-E685-4075-9554-AB781A6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A9E0-10CE-457F-8243-8E093EA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223E-D164-46FD-9264-CDA8A8E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7A8C-01E7-4399-91C7-45B4FD1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0C6-DB5B-495B-8EB1-14EEC32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1E41-0E22-46A1-AB85-EAFD1EC9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DB790-F421-4109-AD41-1D3A3890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50350-685D-4A94-9C76-F0531ECA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30A7-98E7-4EC2-A676-8E48DFD9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C904A-D409-4689-A466-7FFD5D08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6108-D347-4E05-A495-40A417B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E726-E2E8-42C3-8625-FA8D5AA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B6306-FDC2-4FFC-B963-250AC9B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1CCC-F5E0-4D91-867D-B9061626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463B8-6E07-4865-9934-E35FE9E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173-A6AF-41D6-B525-9C8025D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1420-DCD5-439B-991C-B632066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9FB9-EF41-4008-B430-9F8C269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29EF2-4E1E-4F26-9CBA-9A4ED44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C6C05-D64B-475B-A9E9-FB959EED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47F0C-904B-46E6-9D24-B12D68DD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BA4F-6BDC-4A17-AFF8-F654F7E0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9D23-864F-4CF6-97A1-50ED931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5709B-7333-414A-A4B9-99C31CC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61C6-A456-47C5-837A-59A15C3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BD8B-D744-469B-8BCC-4F2C951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0CF-EDBF-4DA4-9C49-1A5617B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5D6A-3C4B-4BEA-9983-9048306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DC233-DBA4-4AC3-9B59-4226751E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33F93-DE25-4AB3-8E79-BE9A0DA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69D7-341A-4C64-8EC8-5540FEA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2A8A-D909-4D7A-9865-671B6201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F5CA-F382-47F1-BBBC-384FB36B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8B12-BB0B-46F2-BC22-0EC87862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E59F-6B02-4824-97FA-869487CC5F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2D92-DEA0-4291-AA1B-BFA8A84072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83C-7AB5-4652-9D22-7FE1719EBB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F37-32DC-4D1B-8C05-4C55BBC491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6F3-C95E-4DF2-B51C-1FCD42FD28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073-81BC-43A1-8083-F6FF244B82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DC05-0B33-4C1C-9244-95CB96854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A79-BEB4-46B8-ABF5-CA6DB0EC8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600360" cy="3079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395280" y="119700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АДІАЦІЙН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І УРАЖЕННЯ ЛЮДИНИ. ГОСТРА ТА ХРОНІЧНА ПРОМЕНЕВА ХВОРОБА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4880" y="3191040"/>
            <a:ext cx="443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Доцент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кафедри радіолог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та радіаційної медицин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ХНМ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Астап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єва О.М.,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020 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9440" y="233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a1f28"/>
                </a:solidFill>
                <a:latin typeface="Times New Roman"/>
                <a:ea typeface="Arial"/>
              </a:rPr>
              <a:t>Л Е К Ц І Я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1484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Мінімальна  летальна доза для людини – 1,5 Г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зовнішнього загального фотонного опромінення: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400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26370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оказник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3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т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6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, що призводять до смерті 50%  осіб в опроміненій групі протягом 30 чи 60 діб, відповідно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400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1640" y="4581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50/60  лежить у діапазоні 3,2 – 3,6 Г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Абсолютна  летальна  доза – 5,5 Г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1125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844640"/>
            <a:ext cx="8569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ковий (первинної реакції) 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швидкість проявів обратно залежить від дози  опромінення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уявного благополуччя (латентний) -  чим більшою бул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   опромінення, тим  він  коротший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розпалу хвороби – чим вищою була доза опромінення,т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аженіші синдроми та більша їх тривалість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ання (відновлення) -   чим  вищою була доза опромінення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триваліше цей періо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віддалених  наслідків – чим  вищою була доза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 вираженіші  наслідк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9640" y="1125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СИНДРОМИ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844640"/>
            <a:ext cx="6049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ий (ГС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лунково-кишковий (ШК-синдром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йроциркуляторний (НЦС).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32000" y="38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429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4437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1-6 Гр спостер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игнічення кістковомозков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етворення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 поступовим розвитк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анцитопен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87280" y="836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С (продовження)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8281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ритропоез (продукція еритроцитів) – еритроідний ряд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єлопоез (продукція лейкоцитів) – мієлоїдний ря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гакаріоцитопоез (продукці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тромбоцитарний ряд.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989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422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овбурові клітини кісткового мозку мають найвищ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очутливість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1268280"/>
            <a:ext cx="48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НІЇ ГЕМОПОЕЗ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Єдина поліпотентна стовбурова клітин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2060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0920" y="4724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4869000"/>
            <a:ext cx="7705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в дозі 2,5 Гр і вище частина  стовбурових клітин кожної  лінії виживає, зберігаючи здатність до відтвор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инають прискорений поділ </a:t>
            </a:r>
            <a:r>
              <a:rPr b="0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повнюють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ул власної    лінії попередників інших ліні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8000" y="981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німальний рівень кількості стовбурових клітин кісткового мозк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76360" y="26384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177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яжкість та тривалість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внота відновлення визначаютьс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" y="292428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ино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2997360"/>
            <a:ext cx="2232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ивідуальним генетично визначеним рівнем толерантності  кісткового мозку  постраждал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0360" y="263844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0360" y="2997360"/>
            <a:ext cx="237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декватність призначе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48360" y="2638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9280" y="414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РОМБ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1989000"/>
            <a:ext cx="828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вміст падає водночас і паралельно зі зниженням кількості гранулоцит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ни зникають із периферичної крові, повністю, або, майже повністю без наступного відновлення після дії ІВ у дози 5 Гр та вищ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+ імунологічна  недостатні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7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ЕРИТР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50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значного зниження вмісту в периферічній крові еритроцитів зазвичай не відбув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9280" y="184464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понад 2 Гр викликають  парадоксальне  початкове протягом кількох годин чи днів підвищення вмісту в периферичній крові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після чого  настає його різке зменшення (хибна інтерпретація ознак  інфекційного процесу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9280" y="3357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 опромінення в дозах 2-5 Гр виникає друга абортивна хвиля підйому вмісту лейкоцитів в крові,  зумовлена викидом із кісткового мозку  кінцевих продуктів диференціювання,  поліморфноядерних  лейкоцитів, які далі не діляться (приблизно 1 тижд.)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вень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ується до 50-70% від норм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494172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522936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подальшому кількість клітин знову падає до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на 25-35-й день після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Шлунково-кишковий синдром (ШК-СИНДРОМ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6920" y="472428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 інтервалі від 30 хвилин до 2 годин після опромінен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анорексія,  нудота, блювання, водянисті  випорожнення із судомами м</a:t>
            </a: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язів  живота,  кволість, сонливість, швидка втомлюваність, слабка гіпотонія і тахікарді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16320" y="1484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ТОГЕНЕТИЧНІ ОСНО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1916280"/>
            <a:ext cx="7920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наження епітеліальних клітин, що вистилають просві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вного тракт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льний доступ кишкових бактерій всередину організм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отечі крізь оголені ділянки слизово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функції всмоктування +  потенційн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і   ураження клітин, леге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9760" y="393372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РОМАЛЬ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К-СИНДРОМ - продов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22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1800" y="1484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86680" y="2421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МАНІФЕСТАЦІЇ (РОЗПАЛУ  ЗАХВОРЮВА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2200" y="184464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ходить без проявів, тривалість  - від кількох годин  до кількох ро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299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а діарея, блювання, лихоманка, кишкова кровотеча з розвитком шоку і летального кінц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за відсутності активної медичної допомо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3933720"/>
            <a:ext cx="7920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е проникнення умовно патогенних бактерій у кровотік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єднання інфекц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всмоктування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діння живленн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літична кишкова непрохідність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рушення водно-електролітного  балансу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гідратаці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стра ниркова недостатність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цево-судинний колапс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псис та  септичний шок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ЕЙРОЦИРКУЛЯТОРНИЙ СИНДРОМ (НЦС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32480" y="170028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гострих доз понад 30 Гр    -   летальний кінець в перші 72 год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285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17440" y="234936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я  на структурні   молекули клітин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378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299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укують надмірне утворення вільних радикалів у клітина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базальних мембранах судин мікроциркуляторного рус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3880" y="393372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ий вихід у плазми крові й електролітів  у  позасудинний простір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4000" y="4797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динний колапс, набря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ишньочерепного  тис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 аноксія  головного моз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32000" y="233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. Досвід радіаційних уражень люде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341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 Бомбардування  Хіросіми ( 6 серпня  1945 р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Нагасакі (8 серпня 1945 р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2637000"/>
            <a:ext cx="2376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посередньо загинуло 70-80 тис. і 60-8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465300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слідки в  другому та третьому покоління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92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2637000"/>
            <a:ext cx="237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ягом 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ти  перших років кількість загиблих від  наслідків опромінення (комбіновані опіки, ХП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пластичний  стан кровотворення, лейкози, рак) становить  понад 100  та 6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8360" y="21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27640" y="2205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637000"/>
            <a:ext cx="2376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менева хвороба,  досягла піку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-4 тиж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ибухів і почала знижуватись тільки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-8 тижн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ЦС – продов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85840" y="148428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дромаль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1916280"/>
            <a:ext cx="82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нше ніж через 1 час, інколи – через кілька хвилин післ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ромінення – почуття опіку по всьому тілі  - невгамонне блювання; діарея (кривава), набряк і почервоніння шкіри,  артеріальна гіпотензія,  висока температура тіла;   порушення орієнтації і координації рухів,  прострація; судоми (24 години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280" y="3429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1080" y="393372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е поліпшення (тривалість від кількох годин до кількох днів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530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вивається комплекс грубих порушень діяльності ЦН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мерть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528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68640" y="3500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6600" y="4724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пал захвор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ФОРМИ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1916280"/>
            <a:ext cx="7345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-мозкова *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-10 Гр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* 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(типово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упінь тяжкості   від легкого до дуже тяжког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кова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0-3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16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оксемічна (судинна)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30-80 Гр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8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Церебральна (смерть під променем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понад 80 Гр)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о 3-ї доб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32000" y="907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ІСТЬ ПЕРЕБІГУ ГП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ратегія надання медичної допомог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280" y="1844640"/>
            <a:ext cx="734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- легкий (1-2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І 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середньої тяжкості  (2-4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– тяжкий (4-6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-  надзвичайно  тяжкий  (6-1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43280" y="4724280"/>
            <a:ext cx="59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утність  фізичної дозиметр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становлення  значення чинників  опромінення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тань від джерела 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РІЄНТОВАНЕ ВИЗНАЧЕННЯ ДОЗИ  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1484280"/>
            <a:ext cx="83534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ба кров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за кількістю і характером крові  хромосомних аберацій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ологічна доза)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і і клінічні да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та ступінь зниження клітинних елементів в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феричній крові  залежить від 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повторюють не рідше 1 раз на день потягом  2 тижнів).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76360" y="4581360"/>
            <a:ext cx="741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АВИЛО: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вміст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мф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знизився  на 50 % від вихідного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новить менше 1*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л  протягом 24-48 год, це означає, щ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раждали  отримали щонайменше дозу опромінення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4 Г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А І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, що розпочалося протягом 1-ї години після опроміненн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ливо в супроводі раптової діареї, означає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е опромін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ок блювання через 2 години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ий ступінь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ГІПЕРТЕРМ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летальному опроміненні температура тіла різко підвищу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же протягом перших годин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арячка й озноб  протягом 1-го д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дуже тяжкий ступінь опромінен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47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9280" y="501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ЕРИТЕМ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понад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Г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тягом 1-ї доби (плямиста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ГІПОТОН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відчить про загальне опромінення в летальний доз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                                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ганий прогноз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НЕВРОЛОГІЧНІ РОЗЛАД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ураження ЦНС протягом 1-ї години після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- летальне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4869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лутаність свідомості, судома;  ком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рть   протягом перших 48 год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4000" y="2492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14842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ШЕННЯ ПР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обхідність  госпіталізації залежить від наявност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нніх клінічних ознак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2637000"/>
            <a:ext cx="8209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відсутнє – амбулаторне спостере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3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 опромінення 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 в    лікарню  загального профіл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о  амбулаторне спостереження    протяг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 тижнів з наступною госпіталізаціє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-2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гематологічне    відділ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менш ніж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 годину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опромінення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спеціалізовану клін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1280" y="134136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. Нудота та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мимети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іпертонічні  розчи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лазмозаміщувач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асептичні умов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бокс, УФ-стерилізація повітря, бактерицидні   розчин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3284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. Інфекційні ускладн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біотики  широкого спектра  д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тигрибков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імунні препара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400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4653000"/>
            <a:ext cx="835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. Некротична  ентеропат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вний  голод (1-1,5 тиж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арантеральне  год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полоскання слизової ро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стерилізація  кишок антисепт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528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1280" y="1484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4. Гематологічний синдро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тромбоцитів і лейкоцитів від  одного дон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еритроцитів (Нв нижче 83 г/л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ересадка  імуносумісного кісткового моз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640" y="2852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5. Ураження  слизових оболонок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анація бактерицидними, муколітичними і протизапальним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обам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септики в аерозолях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6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2000" y="4292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6. Незагойні  рани і  виразк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хірургічне лікува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2000" y="5300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7. Метаболічні  та  водно-електролітні поруш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за правилами інтенсив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87640" y="9079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8360" y="1557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І-ІІ  ступеня – повне відновл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з тяжким  перебігом астенія зберігається довго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зик розвитку катаракти    крововиливу на очному дні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ішньоочного тиску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мовірність повної втрати зор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імунної системи може бути повни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виток пізнього усклад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апластична анемія, лейкоз та інше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1700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34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Радіаційні аварії на комбінаті “Маяк” (19 червня 1948 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1844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 перегрівання кілька уранових блоків атомного реакт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лавилися,  опромінився весь чоловічий персона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42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Із 1946 по 1958 роки в Тихому Океані проводили випроб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ої зброї – 23 особи захворіли на променеву хвороб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9500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522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тимська трагедія – 29 вересня 1957 р на хімкомбінаті “Маяк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ся вибух на сховищі радіоактивних відход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7600" y="6093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ейкози і солідні злоякісні пухлин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9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2781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березні 1949 р на “Маяку”  внаслідок 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ву в річку Т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еч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оактивних рідких відходів зазнали опромінення майже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24  тис.   осіб із 41 селищ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8360" y="10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зультат тривалого (місяці, роки) систематичного зовнішнього, внутрішнього чи  поєднаного опромінення, у відносно  невеликих дозах, але істотно вищих (у 10-15 разів) за  встановлені лімі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5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32000" y="26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ХВОРОБИ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5600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76360" y="3429000"/>
            <a:ext cx="237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ісиндромн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3357720"/>
            <a:ext cx="3311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ва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мін  у нервовій  і кровотворній систем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00720" y="3068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280" y="29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724280"/>
            <a:ext cx="80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ИНІ ІМОВІРНІСТЬ НА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нехтування вимогами радіологічної безпеки при роботі 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ми ІВ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в побутових умовах  у разі  втрати контролю над джерел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промінювання промислового призначення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1052640"/>
            <a:ext cx="80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СНОВА РАДІАЦІЙНОГО ВРАЖЕННЯ ТКАНИН ПРИ ХПХ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ПРОДУКТИВНА ЗАГИБЕЛЬ МАЛОДИФЕРЕНЦІЙОВАНИ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ТОТИЧНО АКТИВ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ине не опромінена клітина, а її  потомств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аступному чи більш пізньому поколінні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8360" y="278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4000" y="3284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АСИФІКАЦІЯ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) Спричинена  зовнішним фотонни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амма- та ікс випромінення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) Внутрішні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інкорпоровані радіонукліди)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) Поєднаним зовнішнім і внутрішнім  опроміненням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ТУПЕНІ  ТЯЖКОСТІ 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280" y="3284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ІОДИ ПЕРЕБІГУ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ування  (поступовий розвиток  і тривалий  хвилеподібний перебіг) залежить  від тривалої дії та дози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 - час припинення надлишкового  опромінення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лежить від ступеня важкості  наслід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пластичні і бластомогенні процеси, прискорення інволюції  та розвиток  пухлин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1280" y="1484280"/>
            <a:ext cx="8353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егка  (І ступінь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едньої тяжкості (ІІ ступінь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яжка (ІІІ ступінь)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ГО СТУПЕНЯ ТЯЖКОСТІ (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360" y="1484280"/>
            <a:ext cx="8496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ідвищення втомлюваності, зни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ацездатності, інверсія  сну, зниження апетиту, диспептич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пори, змарніння, зниження лібідо (або тільки зміни показни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феричної крові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8360" y="3284640"/>
            <a:ext cx="8567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ОРГАНІВ ТА СИСТЕМ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нервової регуляції:  дистальний гіпергидроз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динамія,      тремор пальців рук, зниження шкірних рефлексів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гментація, ламкість і випадіння волосся,  артеріальна    гіпотоні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секреторної і кислотоутворюваної функції шлу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8360" y="5157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62920" y="55897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ВНЕ ОДУЖ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 ТЯЖКОСТІ (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8360" y="1341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ослаблення короткочасної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яті,  сон уривчастий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обудження з відчуттям розбитості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249228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І ОЗНАКИ АСТЕНІЇ І СУДИННІ ДИСТОНІЇ  ГІПОТОНІЧНОГО ТИПУ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млюваність, нездужання,  виснаженість,  запаморочення 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ою; значне зниження апетит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ль в ділянці серця і в животі; парестезії,  занеміння кінцівок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лісність у 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зах дистальних відділів кінцівок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5280" y="422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ЕНЦЕФАЛЬНІ РОЗЛАД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ксизмальна  тахікардія, субфебрільна температура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ливання АТ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640" y="522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8360" y="54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УСІХ ЛАНОК КОВЕТВОРЕНН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анемія,  лейкопенія, тромбопенія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СТУПЕНЯ ТЯЖКОСТІ (І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964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1484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акі ж, як і при ХПХ ІІ ступеня, але тяжчі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ВАЖАЮТЬ  деструктивні процеси у кроветворній  системі, викликають  атрофічні і дистрофічні мікростуктурні  зміни в органах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9640" y="3141720"/>
            <a:ext cx="81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АЖЕННЯ ЦНС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оксичний енцефаліт, зниження сухожилкових рефлексів, ністагм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іко-вестибулярні розлади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360" y="4292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РЦЕВО-СУДИННА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истрофічні зміни міокарда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5280" y="5157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ЛУБОКЕ І СТІЙКЕ ПРИГНІЧЕННЯ ФУНКЦІЇ ШЛУНКА, ПЕЧІНКИ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ШЛУНКОВОЇ ЗАЛОЗ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1280" y="2781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К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8360" y="981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4000" y="3500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8360" y="1484280"/>
            <a:ext cx="84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Ї ФОРМ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руховий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кувальні фізичні впра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балансована діє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даптогени: препарати женьшеню, елеутерококу, стріхнину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лівітаміни, гемостимулятори,  малі транквілізатор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фізіотерап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8360" y="36450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іжковий  режим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калорійна їжа з високим вмістом  вітамінів і антиоксидант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емостимуля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тимулятори лейкопоез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геморагічн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епарати  кальці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ормо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17640" y="602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1280" y="112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8360" y="1773360"/>
            <a:ext cx="84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ХВОРЮВАННЯ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жковий 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трансфузії,   природні гемостимулятор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фузії гемопоетич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симптоматична терапія: відновлення функції печінки,  підшлунков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лози, шлунка, кишо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нтибактеріаль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статич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аміс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спазмалітики, холеретики,  послаблювальні зас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 санаторно-курортне лік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8000" y="1052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191628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 БІЛЬШОСТІ ВИПАДКІВ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ХПХ не становить загрози життю хвори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е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дужання з повним відновленням якості житт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спостері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84360" y="4076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400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92720" y="4816440"/>
            <a:ext cx="3570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ОБЛАСТОЗ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ЛІД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ЛОЯКІСНІ ПУХЛ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87280" y="4869000"/>
            <a:ext cx="3570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АРАКТА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НГІОПАТ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ІТТІВ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643480" y="234936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  <a:ea typeface="Arial"/>
              </a:rPr>
              <a:t>Дякую за увагу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6" descr="E:\2.jpg"/>
          <p:cNvPicPr/>
          <p:nvPr/>
        </p:nvPicPr>
        <p:blipFill>
          <a:blip r:embed="rId1"/>
          <a:srcRect l="0" t="20941" r="0" b="16789"/>
          <a:stretch/>
        </p:blipFill>
        <p:spPr>
          <a:xfrm>
            <a:off x="2527200" y="3071880"/>
            <a:ext cx="4402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2060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. Аварія  в Великій Британії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жовтня 1957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р на атомному реактор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Вінскайлі,  який  виробляв плутоній для атомної збр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342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на заводі “Крас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  Сормово”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8 січня 1970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передбачений   запуск реактора – забруднення цеху, робочих  відпустили  без  дезактиваці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558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47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da1f28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 березня 197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сталося часткове розплавлення активно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ни  ядерного реактора  ядерного реактора 1 ра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59280" y="57340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инули 5-мільну  зону вагітні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ти дошкільного в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205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 реактора на підводному човні  К-19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 липня 1961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омерло 8 членів екіпажу)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на аварія 24 лютого 1974 р (28 осіб загинул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125360"/>
            <a:ext cx="770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0. Чорнобильська катастрофа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26 квітня 1986 р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 вибух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кто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-го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нергоблоку спричинив радіаційне забруд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езних територі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242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овано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7 постраждали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34 – ГП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з них 28 померл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3860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22100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ВІД В ДІАГНОСТИЦІ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ВЧЕННЯ ПАТОГЕНЕЗУ І ПЕРЕБІГУ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ИХ УРАЖЕНЬ ЛЮДЕ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ШУКУ ЗАСОБІВ  ЇХ ЛІКУВАНН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РОФІЛАКТИ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18520" y="335772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мбінована    радіаційна травм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4080" y="98100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ДЖЕРЕЛА РАДІАЦІЙНИХ УРАЖЕНЬ ЛЮДИН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1628640"/>
            <a:ext cx="705672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статкування  для промислової  дефектоско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ерційні  променеві установ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 в  технологічних промислових лінія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оізотопні  закриті джерела  спецпризнач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ористичні  ак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ядерного палив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і реак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чне терапевтич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30360" y="233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197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П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це сукупність специфічних  клінічних  синдромів, як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вляють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послідовно після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загального  рівномірного зовнішнього опромін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міру накопичення змін у тканинах,  органах і системах  організму  постраждалого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2924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93760" y="314172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Обставини виникнення  ГП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3716280"/>
            <a:ext cx="7777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внішнє фотонне опромінення всього чи майже всього ті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сно рівномір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над 1 Гр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роткий час  опромінення (від кількох хвилин до 1-3 діб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1197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ПХ  виникає під час  перебування  людини в зоні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ого пол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2060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ісля випадіння  радіоактивних осадів ядерного вибуху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ї потужних джерел ІВ 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тосування  тотального опромінення тіла з лікувальною метою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4221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465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у  високих дозах обмежених ділянок тіла виникають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локальні променеві ураження,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а не ГПХ 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пливу менших рівнів гострого опромінення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1916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2276640"/>
            <a:ext cx="849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нижче 0,1 Гр стан не  змінюється, будь-які лаборатор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відсутні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 0,1-0,2 Гр підвищується  частота хромосомн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ерацій, клінічні ознаки відсутні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12 Гр кількість  сперматозоїдів знижується до  мініму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близно на 45-й день, після чого сперматозоїд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юються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5-1 Гр помітно пригнічується кроветворення 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му мозку з  розвитком лімфопенії без інших ознак ураження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43:35Z</dcterms:created>
  <dc:creator>Alex</dc:creator>
  <dc:description/>
  <dc:language>en-US</dc:language>
  <cp:lastModifiedBy>IMR</cp:lastModifiedBy>
  <dcterms:modified xsi:type="dcterms:W3CDTF">2020-03-04T12:42:27Z</dcterms:modified>
  <cp:revision>619</cp:revision>
  <dc:subject/>
  <dc:title>Сердечная недостаточность у детей с врожденными пороками сердца</dc:title>
</cp:coreProperties>
</file>