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0B8-2B62-4AA9-B37A-92D2A8A1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ACF-3F59-4EEF-8347-6EF7E1D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01E-4B68-4B5B-851B-2E2BD359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39E-3F5A-4A7B-8820-A8EA8D82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E7A2-EDC3-4AA1-94BB-CA1CEA7D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2D80-3640-4DFE-AF0E-3AB65F9F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DC5B-1988-4DB6-9D5A-8563E0E8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6F97-09C4-4665-A67F-B0D7871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9ED0-84A8-42EB-9A23-CDB20B6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46C3-9A49-4EB7-9C57-DAABA73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EABC-6564-4B2A-9906-D9EE5C4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F9C-5CDD-4D1B-831A-7E0CF85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C052-14D4-4C5B-A78F-9A53363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2E9C-5F06-4863-B7D0-C7AE466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3CC2-4FB3-479B-AC0C-F5DEB06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1DCC-11D8-4D52-9C51-08DB8EE9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DCA8-7FB0-4D00-A017-DB8BB8B9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5122-D171-49AC-BF27-5BE19D9C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9341-05CC-46D2-BBB6-EF005BCA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869F-FEC3-4F3B-B42E-C4B6C4E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50B7-0FE2-436F-B717-0EF7A5F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B235-0CF2-45D3-94C7-46A03DF2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BD9-82B6-4EBD-8E60-63D9DB2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3E66-8AFE-43FA-91E7-B47345E1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9892-B841-4246-8F7E-3E62704A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2D1D-03BA-499A-B299-3BCDC3E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AF99-A980-4042-8BF5-398121B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B741-F612-4A80-88A7-190A92AF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8D26-8D8E-4BE9-8E80-611F8A99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4244-10B6-427F-AE3F-13533A32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661C-E993-40C9-907B-24A3AED4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F1EA-E347-4612-904A-07289831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3E8B-5414-4942-8EC3-F18F8F54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B2C-B0B9-4019-925D-AB7AEA13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713CB-D578-4E53-9C58-6D20C26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379D2-BB10-4A22-81F9-FE4CDAF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AF90-DA25-4924-8C52-7C6C229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61C9-74AD-430F-ACEC-707A728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9C11-B7AE-43E7-8FBE-15641BC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6590-F407-4174-923F-F5E1107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76B4-D820-4B42-8D3C-2CE9D2B6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BF06-5BFC-4366-BB95-90609440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50330-9E04-4715-8E81-EE62FF86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3E08-D9C0-4669-BA62-0A2F2ED9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A3F-5FAB-4D5E-813E-7C1EC805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3E5B-AEEA-43F6-B36D-873EF3DC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A27B-54F6-4E3B-8DFD-9582C4B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840E-5C1E-42FC-9B1F-3FC04A63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A2B9-4DFE-4BA5-B014-45709787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3DAEE-F834-496D-8A39-2BD9814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A7598-7AD4-481E-9501-1E5B8EA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C9DE-A498-47C0-A4E8-B8DD7016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0A22-7258-4B19-A45D-654D5C3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1D76-732F-4E7B-8319-3A157851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95CFD-1295-4B1E-B99D-A51E51C8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E7B-5110-42F3-A80B-C16C391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98F6-E363-462E-B636-B5A7E6D7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05A6-DA34-40AB-8528-31E8226A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A9207-6EE5-4B33-88CB-67A5B181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C261-0FB2-46D9-B4D3-8358C55C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4D665-BFA1-401F-870B-5BBDB46A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698E1-F325-41CF-A174-351B08D1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5DCC-E5BA-4E28-A6A0-641C6666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7F886-B3A0-4AFF-A784-84408D8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F4581-45F1-48D5-9CA3-B7EB200D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2ACE0-F7B6-4EB8-B800-DA307FC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A26-8940-4481-A034-26A051F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19863-82AF-4490-A4A0-6307E6B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81539-1B32-4A51-9445-D07B26A6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23CE-11DB-431E-AF6C-8D36C44C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3759-4F71-4370-8908-9927EBAD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D9F5-0CD2-487B-8575-6C81383B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E9EE8-5913-484B-8598-634E62D8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E0E0-7CA5-4F09-974C-F8E4CD91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ACE42-3B97-47D2-818C-560B6603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03AE9-C4F7-4140-AFCE-8F0A0F97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4DFF-D963-4129-92E2-0745005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129-FE43-4DF9-9162-1A872C8F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6B72F-8386-4AEB-8882-07509F8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19544-87CE-48A0-9140-F56E92C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94BBD-8139-4681-8E01-B4D7AB6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07D61-E998-46E4-AA89-79157B2B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3685C-2FA2-4D12-A55C-0EF52DEC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94E2-7E59-493C-98B9-38B11024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ED61-10FB-46DC-B07B-120CEC1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ECD3-6ABE-4C35-A78F-8EFC23F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AD63-138D-4F73-BFAB-4EE4BE2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6156-523E-49AC-AFF4-10F17DD1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F9D-CDCD-4694-AF89-4992C1D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BCD26-57EE-47DC-B27B-47A00942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02AD9-AEBE-4D46-9BA6-46F5D1CB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2B67A-FE6E-4DE8-A390-5FD5737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C2407-EBF0-4FCE-A7EB-F69BBF7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6436-616B-4DB4-97C9-733457E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4B5C4-F1AF-4EB5-BD3A-EEC83CF1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76A5F-8942-4988-837F-207C9C4E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1E5C-0942-4937-A829-4326E44C30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1129-B408-4538-A679-7477B0F3F7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9BB8-1EA6-4739-A164-9AA62B791E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3712-DC84-4F4A-8449-7D7B9681E1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CE58-1814-44AA-A643-D494ED7DBB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D48F-58C3-4DD9-BC84-D38C4673FB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D0D4-9462-4841-B247-695C721337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971E-A4B6-4B20-AD4C-EE5436B0D9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3600360" cy="30794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9"/>
          <p:cNvSpPr/>
          <p:nvPr/>
        </p:nvSpPr>
        <p:spPr>
          <a:xfrm>
            <a:off x="395280" y="1197000"/>
            <a:ext cx="85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АДІАЦІЙН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І УРАЖЕННЯ ЛЮДИНИ. ГОСТРА ТА ХРОНІЧНА ПРОМЕНЕВА ХВОРОБА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4880" y="3191040"/>
            <a:ext cx="443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Доцент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кафедри радіолог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та радіаційної медицин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ХНМ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Астап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єва О.М.,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020 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79440" y="2332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a1f28"/>
                </a:solidFill>
                <a:latin typeface="Times New Roman"/>
                <a:ea typeface="Arial"/>
              </a:rPr>
              <a:t>Л Е К Ц І Я 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1484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Мінімальна  летальна доза для людини – 1,5 Г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- зовнішнього загального фотонного опромінення: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400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263700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Показник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50/30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т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50/60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, що призводять до смерті 50%  осіб в опроміненій групі протягом 30 чи 60 діб, відповідно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400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1640" y="4581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50/60  лежить у діапазоні 3,2 – 3,6 Гр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Абсолютна  летальна  доза – 5,5 Г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a1f2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9640" y="1125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ЕБІГ  ГП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4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1844640"/>
            <a:ext cx="8569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атковий (первинної реакції) 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швидкість проявів обратно залежить від дози  опромінення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уявного благополуччя (латентний) -  чим більшою бул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а    опромінення, тим  він  коротший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розпалу хвороби – чим вищою була доза опромінення,т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аженіші синдроми та більша їх тривалість;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одужання (відновлення) -   чим  вищою була доза опромінення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им триваліше цей період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віддалених  наслідків – чим  вищою була доза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–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им  вираженіші  наслідк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9640" y="1125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ЧНІ СИНДРОМИ ГП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844640"/>
            <a:ext cx="6049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атологічний (ГС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Шлунково-кишковий (ШК-синдром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йроциркуляторний (НЦС).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32000" y="386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Г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4292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4437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1-6 Гр спостерг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игнічення кістковомозковог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ветворення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 поступовим розвитком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анцитопен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87280" y="836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С (продовження)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349360"/>
            <a:ext cx="8281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ритропоез (продукція еритроцитів) – еритроідний ряд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єлопоез (продукція лейкоцитів) – мієлоїдний ряд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гакаріоцитопоез (продукці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ромб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тромбоцитарний ряд.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198900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4221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овбурові клітини кісткового мозку мають найвищу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очутливість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58920" y="1268280"/>
            <a:ext cx="48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НІЇ ГЕМОПОЕЗ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Єдина поліпотентна стовбурова клітин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35280" y="206064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0920" y="4724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4869000"/>
            <a:ext cx="7705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опроміненні  в дозі 2,5 Гр і вище частина  стовбурових клітин кожної  лінії виживає, зберігаючи здатність до відтвор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инають прискорений поділ </a:t>
            </a:r>
            <a:r>
              <a:rPr b="0" lang="uk-UA" sz="24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повнюють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ул власної    лінії попередників інших ліні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6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8000" y="9810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німальний рівень кількості стовбурових клітин кісткового мозк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76360" y="26384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5640" y="177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яжкість та тривалість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овнота відновлення визначаютьс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1280" y="292428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еличино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32000" y="2997360"/>
            <a:ext cx="2232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ндивідуальним генетично визначеним рівнем толерантності  кісткового мозку  постраждалог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40360" y="263844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0360" y="2997360"/>
            <a:ext cx="2376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декватність призначеної тера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48360" y="26384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9280" y="4149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35280" y="112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РОМБОЦИ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1989000"/>
            <a:ext cx="828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дії ІВ їх вміст падає водночас і паралельно зі зниженням кількості гранулоциті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ни зникають із периферичної крові, повністю, або, майже повністю без наступного відновлення після дії ІВ у дози 5 Гр та вищ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+ імунологічна  недостатні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8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79640" y="37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ЕРИТРОЦИ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50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дії ІВ їх значного зниження вмісту в периферічній крові еритроцитів зазвичай не відбув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35280" y="112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9280" y="1844640"/>
            <a:ext cx="85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 понад 2 Гр викликають  парадоксальне  початкове протягом кількох годин чи днів підвищення вмісту в периферичній крові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після чого  настає його різке зменшення (хибна інтерпретація ознак  інфекційного процесу)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9280" y="33577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 опромінення в дозах 2-5 Гр виникає друга абортивна хвиля підйому вмісту лейкоцитів в крові,  зумовлена викидом із кісткового мозку  кінцевих продуктів диференціювання,  поліморфноядерних  лейкоцитів, які далі не діляться (приблизно 1 тижд.)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івень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ів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ується до 50-70% від норм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141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494172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03280" y="5229360"/>
            <a:ext cx="69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подальшому кількість клітин знову падає до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на 25-35-й день після опромі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Шлунково-кишковий синдром (ШК-СИНДРОМ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6920" y="4724280"/>
            <a:ext cx="69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 інтервалі від 30 хвилин до 2 годин після опромінення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анорексія,  нудота, блювання, водянисті  випорожнення із судомами м</a:t>
            </a: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язів  живота,  кволість, сонливість, швидка втомлюваність, слабка гіпотонія і тахікарді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16320" y="1484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ТОГЕНЕТИЧНІ ОСНОВ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1280" y="1916280"/>
            <a:ext cx="7920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наження епітеліальних клітин, що вистилають просві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вного тракту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льний доступ кишкових бактерій всередину організму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вотечі крізь оголені ділянки слизово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функції всмоктування +  потенційн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тальні   ураження клітин, леге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69760" y="393372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РОМАЛЬНИЙ ПЕРІ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ШК-СИНДРОМ - продовж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22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1800" y="14842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АТЕНТНИЙ ПЕРІ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86680" y="24210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МАНІФЕСТАЦІЇ (РОЗПАЛУ  ЗАХВОРЮВАН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2200" y="184464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ходить без проявів, тривалість  - від кількох годин  до кількох ро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299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а діарея, блювання, лихоманка, кишкова кровотеча з розвитком шоку і летального кінц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за відсутності активної медичної допомо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3933720"/>
            <a:ext cx="7920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ивне проникнення умовно патогенних бактерій у кровотік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єднання інфекці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 всмоктування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діння живленн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літична кишкова непрохідність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рушення водно-електролітного  балансу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гідратаці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стра ниркова недостатність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рцево-судинний колапс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псис та  септичний шок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ЕЙРОЦИРКУЛЯТОРНИЙ СИНДРОМ (НЦС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836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8360" y="2205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32480" y="170028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гострих доз понад 30 Гр    -   летальний кінець в перші 72 годин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2852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17440" y="234936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я  на структурні   молекули клітин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3789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299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ндукують надмірне утворення вільних радикалів у клітинах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базальних мембранах судин мікроциркуляторного рус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3880" y="393372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ивний вихід у плазми крові й електролітів  у  позасудинний простір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4000" y="4797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удинний колапс, набряк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ення внутришньочерепного  тиск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 аноксія  головного мозк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465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32000" y="233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. Досвід радіаційних уражень люде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1341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. Бомбардування  Хіросіми ( 6 серпня  1945 р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Нагасакі (8 серпня 1945 р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2637000"/>
            <a:ext cx="2376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посередньо загинуло 70-80 тис. і 60-80 тис. насел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повідн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465300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слідки в  другому та третьому покоління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9236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48000" y="2637000"/>
            <a:ext cx="2376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тягом 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ти  перших років кількість загиблих від  наслідків опромінення (комбіновані опіки, ХПХ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пластичний  стан кровотворення, лейкози, рак) становить  понад 100  та 60 тис. насел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повідн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8360" y="2133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27640" y="2205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2637000"/>
            <a:ext cx="23767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менева хвороба,  досягла піку чере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-4 тиж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вибухів і почала знижуватись тільки чере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-8 тижн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6436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ЦС – продов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85840" y="148428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дромальний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1916280"/>
            <a:ext cx="82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нше ніж через 1 час, інколи – через кілька хвилин післ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ромінення – почуття опіку по всьому тілі  - невгамонне блювання; діарея (кривава), набряк і почервоніння шкіри,  артеріальна гіпотензія,  висока температура тіла;   порушення орієнтації і координації рухів,  прострація; судоми (24 години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5280" y="3429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11080" y="393372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лінічне поліпшення (тривалість від кількох годин до кількох днів)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00000" y="530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вивається комплекс грубих порушень діяльності ЦН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мерть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528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68640" y="3500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атентний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6600" y="4724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зпал захвор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ЧНІ ФОРМИ Г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42920" y="1916280"/>
            <a:ext cx="7345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істково-мозкова *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(1-10 Гр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* </a:t>
            </a:r>
            <a:r>
              <a:rPr b="1" lang="uk-UA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(типово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ступінь тяжкості   від легкого до дуже тяжкого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шкова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(10-30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до 16-ї д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оксемічна (судинна)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(30-80 Гр)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до 8-ї д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Церебральна (смерть під променем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(понад 80 Гр)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о 3-ї доб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32000" y="9079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ІСТЬ ПЕРЕБІГУ ГПХ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стратегія надання медичної допомог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1280" y="1844640"/>
            <a:ext cx="734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І ступі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- легкий (1-2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ІІ  ступі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– середньої тяжкості  (2-4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ІІІ ступін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– тяжкий (4-6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ІІ ступін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-  надзвичайно  тяжкий  (6-10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836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43280" y="4724280"/>
            <a:ext cx="59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сутність  фізичної дозиметрі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становлення  значення чинників  опромінення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стань від джерела І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ОРІЄНТОВАНЕ ВИЗНАЧЕННЯ ДОЗИ  ІВ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964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1280" y="1484280"/>
            <a:ext cx="83534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ба крові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за кількістю і характером крові  хромосомних аберацій  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іологічна доза)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атологічні і клінічні да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та ступінь зниження клітинних елементів в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феричній крові  залежить від доз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повторюють не рідше 1 раз на день потягом  2 тижнів).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836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76360" y="4581360"/>
            <a:ext cx="741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АВИЛО: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вміст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мф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знизився  на 50 % від вихідного 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новить менше 1*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/л  протягом 24-48 год, це означає, щ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раждали  отримали щонайменше дозу опромінення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-4 Г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0328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ЧНІ ДАНІ ОРІЄНТОВАНОГ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СТАНОВЛЕННЯ ДОЗИ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836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1916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УДОТА І Б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, що розпочалося протягом 1-ї години після опроміненн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ливо в супроводі раптової діареї, означає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тальне опроміненн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аток блювання через 2 години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ий ступінь ураження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9640" y="3429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ГІПЕРТЕРМІ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летальному опроміненні температура тіла різко підвищу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же протягом перших годин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арячка й озноб  протягом 1-го дня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дуже тяжкий ступінь опромінен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5280" y="479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9280" y="501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ЕРИТЕМ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понад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0 Г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ротягом 1-ї доби (плямиста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0328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ЧНІ ДАНІ ОРІЄНТОВАНОГ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СТАНОВЛЕННЯ ДОЗИ ОПРОМІНЕННЯ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836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8360" y="1916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ГІПОТОНІ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відчить про загальне опромінення в летальний доз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                                                                                            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ганий прогноз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3429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НЕВРОЛОГІЧНІ РОЗЛАД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знаки ураження ЦНС протягом 1-ї години після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- летальне ураження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9640" y="4869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лутаність свідомості, судома;  ком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рть   протягом перших 48 год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4000" y="2492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148428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ІШЕННЯ ПР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обхідність  госпіталізації залежить від наявност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анніх клінічних ознак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9640" y="2637000"/>
            <a:ext cx="82090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відсутнє – амбулаторне спостере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-3 годин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ісля  опромінення 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 в    лікарню  загального профілю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бо  амбулаторне спостереження    протягом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 тижнів з наступною госпіталізаціє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-2 годин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в гематологічне    відділ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менш ніж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 годину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ісля опромінення 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в спеціалізовану кліні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ОСПІТАЛІЗОВАНИХ  ХВОРИ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11280" y="134136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. Нудота та б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мимети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іпертонічні  розчин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лазмозаміщувачі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асептичні умов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бокс, УФ-стерилізація повітря, бактерицидні   розчин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9640" y="3284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. Інфекційні ускладненн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біотики  широкого спектра  д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тигрибкові засоб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імунні препарат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400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9640" y="4653000"/>
            <a:ext cx="835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3. Некротична  ентеропаті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овний  голод (1-1,5 тиж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арантеральне  год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полоскання слизової ро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стерилізація  кишок антисепт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5280" y="3141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ОСПІТАЛІЗОВАНИХ  ХВОРИ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1280" y="1484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4. Гематологічний синдро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трансфузія тромбоцитів і лейкоцитів від  одного доно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трансфузія еритроцитів (Нв нижче 83 г/л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ересадка  імуносумісного кісткового моз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640" y="2852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5. Ураження  слизових оболонок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анація бактерицидними, муколітичними і протизапальним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собам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септики в аерозолях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36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2000" y="4292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6. Незагойні  рани і  виразк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хірургічне лікува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8360" y="2708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836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2000" y="5300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7. Метаболічні  та  водно-електролітні порушенн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за правилами інтенсивної тера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87640" y="9079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ГНО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68360" y="155736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ОДУ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хвороби І-ІІ  ступеня – повне відновленн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хвороби з тяжким  перебігом астенія зберігається довго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изик розвитку катаракти    крововиливу на очному дні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ення внутрішньоочного тиску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мовірність повної втрати зору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ення імунної системи може бути повни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звиток пізнього усклад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   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апластична анемія, лейкоз та інше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1700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34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Радіаційні аварії на комбінаті “Маяк” (19 червня 1948 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184464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 перегрівання кілька уранових блоків атомного реакто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плавилися,  опромінився весь чоловічий персонал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42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Із 1946 по 1958 роки в Тихому Океані проводили випроб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дерної зброї – 23 особи захворіли на променеву хвороб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59500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522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штимська трагедія – 29 вересня 1957 р на хімкомбінаті “Маяк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ся вибух на сховищі радіоактивних відходів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7600" y="609300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Лейкози і солідні злоякісні пухлин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3933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2781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березні 1949 р на “Маяку”  внаслідок 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ву в річку Т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еч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оактивних рідких відходів зазнали опромінення майже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24  тис.   осіб із 41 селищ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256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8360" y="1052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зультат тривалого (місяці, роки) систематичного зовнішнього, внутрішнього чи  поєднаного опромінення, у відносно  невеликих дозах, але істотно вищих (у 10-15 разів) за  встановлені лімі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528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32000" y="2637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ЕБІГ ХВОРОБИ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5600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76360" y="3429000"/>
            <a:ext cx="237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ісиндромн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3357720"/>
            <a:ext cx="3311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ва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мін  у нервовій  і кровотворній система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00720" y="30686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1280" y="299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1280" y="450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724280"/>
            <a:ext cx="806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ИНІ ІМОВІРНІСТЬ НА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нехтування вимогами радіологічної безпеки при роботі 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жерелами ІВ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в побутових умовах  у разі  втрати контролю над джерел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промінювання промислового призначення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8360" y="1052640"/>
            <a:ext cx="80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ОСНОВА РАДІАЦІЙНОГО ВРАЖЕННЯ ТКАНИН ПРИ ХПХ  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ПРОДУКТИВНА ЗАГИБЕЛЬ МАЛОДИФЕРЕНЦІЙОВАНИ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ТОТИЧНО АКТИВНИХ КЛІТИ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гине не опромінена клітина, а її  потомств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наступному чи більш пізньому поколінні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8360" y="278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4000" y="3284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АСИФІКАЦІЯ 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) Спричинена  зовнішним фотонним опромінення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гамма- та ікс випромінення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) Внутрішнім опромінення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інкорпоровані радіонукліди)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) Поєднаним зовнішнім і внутрішнім  опроміненням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8360" y="105264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ТУПЕНІ  ТЯЖКОСТІ 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8360" y="306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280" y="3284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ІОДИ ПЕРЕБІГУ 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ування  (поступовий розвиток  і тривалий  хвилеподібний перебіг) залежить  від тривалої дії та дози опромі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ення  - час припинення надлишкового  опромінення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лежить від ступеня важкості  наслід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іпопластичні і бластомогенні процеси, прискорення інволюції  та розвиток  пухлин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1280" y="1484280"/>
            <a:ext cx="8353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егка  (І ступінь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редньої тяжкості (ІІ ступінь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яжка (ІІІ ступінь)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8360" y="105264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ГКОГО СТУПЕНЯ ТЯЖКОСТІ (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8360" y="306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8360" y="1484280"/>
            <a:ext cx="8496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ий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біль, підвищення втомлюваності, зниж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ацездатності, інверсія  сну, зниження апетиту, диспептичн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пори, змарніння, зниження лібідо (або тільки зміни показни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феричної крові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8360" y="3284640"/>
            <a:ext cx="8567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ОРГАНІВ ТА СИСТЕМ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 нервової регуляції:  дистальний гіпергидроз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іподинамія,      тремор пальців рук, зниження шкірних рефлексів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гментація, ламкість і випадіння волосся,  артеріальна    гіпотоні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гнічення секреторної і кислотоутворюваної функції шлун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8360" y="5157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62920" y="55897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ВНЕ ОДУЖ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981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ЕРЕДНЬОГО СТУПЕНЯ ТЯЖКОСТІ (І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8360" y="134136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ий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біль, послаблення короткочасної п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яті,  сон уривчастий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обудження з відчуттям розбитості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249228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ЛІНІЧНІ ОЗНАКИ АСТЕНІЇ І СУДИННІ ДИСТОНІЇ  ГІПОТОНІЧНОГО ТИПУ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млюваність, нездужання,  виснаженість,  запаморочення 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удотою; значне зниження апетиту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іль в ділянці серця і в животі; парестезії,  занеміння кінцівок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олісність у 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зах дистальних відділів кінцівок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95280" y="422100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ЕНЦЕФАЛЬНІ РОЗЛАД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ксизмальна  тахікардія, субфебрільна температура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оливання АТ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1128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5640" y="5229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8360" y="54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ГНІЧЕННЯ УСІХ ЛАНОК КОВЕТВОРЕНН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анемія,  лейкопенія, тромбопенія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360" y="981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ОГ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СТУПЕНЯ ТЯЖКОСТІ (ІІ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9640" y="2708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14842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акі ж, як і при ХПХ ІІ ступеня, але тяжчі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ЕВАЖАЮТЬ  деструктивні процеси у кроветворній  системі, викликають  атрофічні і дистрофічні мікростуктурні  зміни в органах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9640" y="3141720"/>
            <a:ext cx="81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РАЖЕННЯ ЦНС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оксичний енцефаліт, зниження сухожилкових рефлексів, ністагм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іко-вестибулярні розлади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360" y="4292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РЦЕВО-СУДИННА 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истрофічні зміни міокарда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128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5280" y="51577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ЛУБОКЕ І СТІЙКЕ ПРИГНІЧЕННЯ ФУНКЦІЇ ШЛУНКА, ПЕЧІНКИ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ШЛУНКОВОЇ ЗАЛОЗ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1280" y="2781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К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8360" y="981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4000" y="3500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8360" y="1484280"/>
            <a:ext cx="84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ЗАХВОРЮВАННІ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ГКОЇ ФОРМ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руховий реж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лікувальні фізичні вправ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збалансована діє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адаптогени: препарати женьшеню, елеутерококу, стріхнину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лівітаміни, гемостимулятори,  малі транквілізатор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фізіотерапі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8360" y="364500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ЗАХВОРЮВАННІ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ЕРЕДНЬОГО СТУПЕ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ліжковий  режим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калорійна їжа з високим вмістом  вітамінів і антиоксидант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емостимулято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тимулятори лейкопоез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геморагічні засоб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епарати  кальці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ормон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17640" y="602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1280" y="1125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964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68360" y="1773360"/>
            <a:ext cx="849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ХВОРЮВАННЯ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ОГО СТУПЕ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ліжковий  реж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гемотрансфузії,   природні гемостимулятори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фузії гемопоетичних кліти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симптоматична терапія: відновлення функції печінки,  підшлунково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лози, шлунка, кишо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антибактеріаль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гемостатич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заміс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спазмалітики, холеретики,  послаблювальні зас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 санаторно-курортне лік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08000" y="1052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ГНО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64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8360" y="191628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 БІЛЬШОСТІ ВИПАДКІВ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ХПХ не становить загрози життю хворих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те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дужання з повним відновленням якості житт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спостеріг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84360" y="4076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4000" y="465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92720" y="4816440"/>
            <a:ext cx="3570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ОБЛАСТОЗИ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ОЛІД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ЛОЯКІСНІ ПУХЛИН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87280" y="4869000"/>
            <a:ext cx="3570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АРАКТА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НГІОПАТ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ІТТІВ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"/>
          <p:cNvSpPr/>
          <p:nvPr/>
        </p:nvSpPr>
        <p:spPr>
          <a:xfrm>
            <a:off x="2643480" y="234936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  <a:ea typeface="Arial"/>
              </a:rPr>
              <a:t>Дякую за увагу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6" descr="E:\2.jpg"/>
          <p:cNvPicPr/>
          <p:nvPr/>
        </p:nvPicPr>
        <p:blipFill>
          <a:blip r:embed="rId1"/>
          <a:srcRect l="0" t="20941" r="0" b="16789"/>
          <a:stretch/>
        </p:blipFill>
        <p:spPr>
          <a:xfrm>
            <a:off x="2527200" y="3071880"/>
            <a:ext cx="4402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2060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6. Аварія  в Великій Британії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0 жовтня 1957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р на атомному реактор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Вінскайлі,  який  виробляв плутоній для атомної збро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450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342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я на заводі “Крас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  Сормово”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8 січня 1970 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передбачений   запуск реактора – забруднення цеху, робочих  відпустили  без  дезактивації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5589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472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da1f28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8 березня 1979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сталося часткове розплавлення активної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они  ядерного реактора  ядерного реактора 1 ра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59280" y="57340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инули 5-мільну  зону вагітні 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ти дошкільного ві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2205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я  реактора на підводному човні  К-19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3 липня 1961 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омерло 8 членів екіпажу)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на аварія 24 лютого 1974 р (28 осіб загинуло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1125360"/>
            <a:ext cx="7705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0. Чорнобильська катастрофа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26 квітня 1986 р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 вибух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кто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-го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нергоблоку спричинив радіаційне забруд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еличезних територі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2205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2421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овано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87 постраждали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34 – ГП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з них 28 померл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3860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422100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ВІД В ДІАГНОСТИЦІ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ИВЧЕННЯ ПАТОГЕНЕЗУ І ПЕРЕБІГУ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АЦІЙНИХ УРАЖЕНЬ ЛЮДЕ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ОШУКУ ЗАСОБІВ  ЇХ ЛІКУВАНН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РОФІЛАКТИ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18520" y="335772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омбінована    радіаційна травм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4080" y="981000"/>
            <a:ext cx="61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ДЖЕРЕЛА РАДІАЦІЙНИХ УРАЖЕНЬ ЛЮДИН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1628640"/>
            <a:ext cx="705672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статкування  для промислової  дефектоско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ерційні  променеві установ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жерела в  технологічних промислових лінія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оізотопні  закриті джерела  спецпризнач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рористичні  ак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ядерного палив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дерні реакто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чне терапевтичне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30360" y="233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1197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ГП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це сукупність специфічних  клінічних  синдромів, як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вляють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послідовно після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загального  рівномірного зовнішнього опроміне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міру накопичення змін у тканинах,  органах і системах  організму  постраждалого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2924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93760" y="3141720"/>
            <a:ext cx="35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Обставини виникнення  ГП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00000" y="3716280"/>
            <a:ext cx="7777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овнішнє фотонне опромінення всього чи майже всього ті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сно рівномірне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а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над 1 Гр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a1f28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роткий час  опромінення (від кількох хвилин до 1-3 діб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1197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ПХ  виникає під час  перебування  людини в зоні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аційного пол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2060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ісля випадіння  радіоактивних осадів ядерного вибуху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ї потужних джерел ІВ 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стосування  тотального опромінення тіла з лікувальною метою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422100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465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опроміненні  у  високих дозах обмежених ділянок тіла виникають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локальні променеві ураження,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а не ГПХ 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9640" y="1197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впливу менших рівнів гострого опромінення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1916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2276640"/>
            <a:ext cx="8496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нижче 0,1 Гр стан не  змінюється, будь-які лабораторн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знаки відсутні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 0,1-0,2 Гр підвищується  частота хромосомни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берацій, клінічні ознаки відсутні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0,12 Гр кількість  сперматозоїдів знижується до  мінімум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близно на 45-й день, після чого сперматозоїд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юються;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0,5-1 Гр помітно пригнічується кроветворення 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істковому мозку з  розвитком лімфопенії без інших ознак ураження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3:43:35Z</dcterms:created>
  <dc:creator>Alex</dc:creator>
  <dc:description/>
  <dc:language>en-US</dc:language>
  <cp:lastModifiedBy>IMR</cp:lastModifiedBy>
  <dcterms:modified xsi:type="dcterms:W3CDTF">2020-03-04T12:42:27Z</dcterms:modified>
  <cp:revision>619</cp:revision>
  <dc:subject/>
  <dc:title>Сердечная недостаточность у детей с врожденными пороками сердца</dc:title>
</cp:coreProperties>
</file>