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E3A-BEDA-4ED8-B9F2-5CD19144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E66-C31E-4CDF-A1BC-456B2D5C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D3B-13EF-4ED4-B430-47098EC9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54F-DB11-4978-A743-98126DD6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C7E-D25C-4BC2-9C39-B54FA97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8AF-3794-4BD0-B3B0-9A82681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4B5-29FE-4A86-85B0-D4DBB27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40B-1A20-4F2E-B8E1-7DCA47B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6CF-01E5-405E-8017-46DCA115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532-4DAE-441B-A288-0B9A74A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7C3-974E-45B0-98FC-047A6BA0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3B6-B04F-4BF0-8EDF-6C10536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4D6-9A20-43F4-AB05-170DF1CB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РАДІАЦІЙНА  МЕДИЦ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600360" cy="307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2637000"/>
            <a:ext cx="50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Доцент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кафедри радіоло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та радіаційної медици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ХН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Астап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єва О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557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типів взаємодії фотонів з атомами речов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11280" y="2565360"/>
            <a:ext cx="8064360" cy="360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герентне (томпсонівське), класичене розсі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птонівське розсі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електричний еф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творення п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дезінтеграц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141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2349360"/>
            <a:ext cx="3529080" cy="215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стоіонізуваль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Частинки з  більшою мас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зарядом маю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шанси частіше взаємоді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атомами на одиниц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вжини пробігу в середови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27640" y="2349360"/>
            <a:ext cx="4176720" cy="215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лабоіонізуваль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промінення з малим заря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малою мас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ичиняють іонізацію  середови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зької гус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619280" y="1341360"/>
            <a:ext cx="496872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інійне передавання енер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050920" y="2060640"/>
            <a:ext cx="216000" cy="288720"/>
          </a:xfrm>
          <a:prstGeom prst="downArrow">
            <a:avLst>
              <a:gd name="adj1" fmla="val 50000"/>
              <a:gd name="adj2" fmla="val 6683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5651640" y="2060640"/>
            <a:ext cx="215640" cy="288720"/>
          </a:xfrm>
          <a:prstGeom prst="downArrow">
            <a:avLst>
              <a:gd name="adj1" fmla="val 50000"/>
              <a:gd name="adj2" fmla="val 669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797360"/>
            <a:ext cx="2737080" cy="172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т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Ней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льфа-час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більше заря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4797360"/>
            <a:ext cx="2808360" cy="1654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лек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Пози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-випромін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кс-випромін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менше заря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141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1125360"/>
            <a:ext cx="8280360" cy="1151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зиметрія – галузь фізики з проблем ви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ількості  та розподілу поглинутого ІВ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445000"/>
            <a:ext cx="216072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Лока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445000"/>
            <a:ext cx="237636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от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6920" y="2781360"/>
            <a:ext cx="7417080" cy="1150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ергія,  що передається одиниці ма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човини струменем випромі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1979640" y="508464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227640" y="508464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63640" y="4365720"/>
            <a:ext cx="496908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ологічний е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981000"/>
            <a:ext cx="547236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ЗИМЕТ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060640"/>
            <a:ext cx="144180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Газ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2060640"/>
            <a:ext cx="151128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ідин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268360" y="2924280"/>
            <a:ext cx="4105440" cy="718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 дозимет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835280" y="1700280"/>
            <a:ext cx="215640" cy="361800"/>
          </a:xfrm>
          <a:prstGeom prst="downArrow">
            <a:avLst>
              <a:gd name="adj1" fmla="val 50000"/>
              <a:gd name="adj2" fmla="val 8389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6227640" y="170028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1700280"/>
            <a:ext cx="216000" cy="361800"/>
          </a:xfrm>
          <a:prstGeom prst="down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2060640"/>
            <a:ext cx="165564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Твердо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005360"/>
            <a:ext cx="4968720" cy="22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сцинтиляційні  (монокристал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рмолюмінісцентні (таблетка з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F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лівк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пл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іонізаційні (іонізаційна каме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хімічн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76360" y="836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4842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ПОЗИЦІНА ДОЗА (Р; К/к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вимірюється у повітр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  Р/с;  Р/хв;  Р/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ПОГЛИНУТА  (АБСОРБОВАНА) ДОЗА  (РАД; Г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кількість енергії випромінення, поглинута   в одиниці  маси речов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3357720"/>
            <a:ext cx="1728720" cy="502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= Е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789360"/>
            <a:ext cx="36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поглинута доз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 –  поглинута кількість енерг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 – маса  опроміненої речови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486900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530064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Ф-факт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експозиційна  д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093000"/>
            <a:ext cx="82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-фактор  залежить від енергії  випромінення та щільності  опромінюваного  середовища (кістки поглинають дозу більшу, ніж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з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476360" y="836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55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ВІВАЛЕНТНА ДОЗА (міра очікуваного ефекту внаслідок різної ЛПЕ у  різних видів випромінення (біологічні риз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242100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* Q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7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852640"/>
            <a:ext cx="3600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поглинута доз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фактор якості випромін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5229360"/>
            <a:ext cx="237636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=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  <a:ea typeface="Arial"/>
              </a:rPr>
              <a:t>∑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 * Wt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595008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експериментальна величи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78936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ількісна  характеристика кожного типу випромінення зі густотою іон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ФЕКТИВНА ДОЗА  - це сума добутків еквівалентних до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 окремих органах і тканинах  помножена на  тканинні зважувальні фактори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476360" y="1052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4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А ЕФЕКТИВНА ДОЗА  - сума всіх ефективних доз, одержаних опроміненими особами в популяції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270828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р = 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  <a:ea typeface="Arial"/>
              </a:rPr>
              <a:t>∑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43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ЕКСПОЗИЦІЙНОЇ ДОЗИ  -  Кулон  на кілограм (К/кг) і  рентген (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ПОГЛИНУТОЇ ДОЗИ -  рад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 і Грей (Г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ЕФЕКТИВНОЇ ДОЗИ – зіверт (З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КОЛЕКТИВНОЇ ДОЗИ -  людино-зіверт (люд/З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9500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ВВІДНОШЕННЯ:  1 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1 р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58920" y="357336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І ВИМІРЮВАННЯ ДО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34136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оактивність – здібність атомів повільно розпадатися з випроміненням  енергії   та  перетворюватись  в атоми  інших хімічних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187280" y="2349360"/>
            <a:ext cx="5472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ИПИ РАДІОАКТИВНОГО РОЗПА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3213000"/>
            <a:ext cx="7345440" cy="309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альфа-розпад – ядро випромінює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час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бета-розпад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- електронний  (-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 позитронний  (+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к-захват – поглинання  - 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к-оболонки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утворюється нейрон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ромінення  кванта енергії – фотона ікс-пром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134136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оактивність – здібність атомів повільно розподілятися з використанням енергії   та  перетворюватись  в атоми  інших хімічних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492280"/>
            <a:ext cx="196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ПРИР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близько 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2565360"/>
            <a:ext cx="196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ШТУЧ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близько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00000" y="3573360"/>
            <a:ext cx="2016360" cy="307656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3960720"/>
            <a:ext cx="25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род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діаційний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47640" y="981000"/>
            <a:ext cx="547236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ДІОНУКЛІ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2133720"/>
            <a:ext cx="230508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дкоротковіч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835280" y="1700280"/>
            <a:ext cx="215640" cy="361800"/>
          </a:xfrm>
          <a:prstGeom prst="downArrow">
            <a:avLst>
              <a:gd name="adj1" fmla="val 50000"/>
              <a:gd name="adj2" fmla="val 8389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43640" y="170028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211640" y="1700280"/>
            <a:ext cx="216000" cy="361800"/>
          </a:xfrm>
          <a:prstGeom prst="down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133720"/>
            <a:ext cx="172872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Короткові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2133720"/>
            <a:ext cx="165600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Довгові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00000" y="328464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; 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;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;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71640" y="4724280"/>
            <a:ext cx="611964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3280" y="3933720"/>
            <a:ext cx="25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7080" y="544500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діотерап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82692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РАДІАЦІЙНА  МЕДИЦ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293200"/>
            <a:ext cx="80647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 —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ука, що вивчає особливості дії іонізуючого випромінення на 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організм людини,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нципи лікування променевих ушкоджень та профілакт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8000" y="2602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МЕТР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971640" y="1052640"/>
            <a:ext cx="691200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ИНИЦЯ АКТИВНОСТІ є Беккерель та Кю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87280" y="263700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юрі – 3,7 *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дер за 1 с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87280" y="191628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беккерель – 1 ядро за 1 с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050920" y="3573360"/>
            <a:ext cx="410544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4581360"/>
            <a:ext cx="4105440" cy="165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Радіоме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Лічильники  випромін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Сцинтиляцій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5840" y="26028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ПРИРОДНІЙ РАДІАЦІЙНИЙ 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1197000"/>
            <a:ext cx="7272360" cy="936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Космічні проме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 Випромінення земної кори і природних радіонукліді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187280" y="2637000"/>
            <a:ext cx="7056720" cy="119124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н-235, уран-238; торій-23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кти їх розпаду – 2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; 224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радій; 87-рубіді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(в середньому 0,5 мзв/рі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87280" y="4149720"/>
            <a:ext cx="7056720" cy="1557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бетоні; цеглі; пісок; цемент; щебінь -  радіоактивність підвищ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1/2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 доб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інгаляційне  випромін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6200" y="26028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ПРИРОДНИЙ РАДІАЦІЙНИЙ 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42920" y="1341360"/>
            <a:ext cx="6624720" cy="4824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Космічні промен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4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Гамма-випромінення зем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ї ко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5 мЗв/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Інгаляційне (переважно рад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2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Внутрішнє опромі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3 мЗв/рік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,4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5840" y="47628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ШТУЧНІ ДЖЕРЕЛА ІВ. ФАКТОРИ, МЕТОДИ  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ЗАСОБИ РАДІОЛОГІЧНОГО ЗАХ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403280" y="1413000"/>
            <a:ext cx="5472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ЖЕРЕЛА 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1920" y="2276640"/>
            <a:ext cx="46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дичні рентгенівські а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ведення флюороскоп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ведення рентгенограф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 проведення ікс-терап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160" y="371628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Немедичні  ікс і гамма-апаратирентгенівські а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дефектоскопія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4797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Мегавольтні установки різного призначення  і з  певними конструктивними особлив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47628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ШТУЧНІ ДЖЕРЕЛА ІВ. ФАКТОРИ, МЕТОДИ  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ЗАСОБИ РАДІОЛОГІЧНОГО ЗАХ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332000" y="141300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ЖЕРЕЛА 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2080" y="2276640"/>
            <a:ext cx="66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Відкриті  радіоактивні 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радіонукліди для  діагностичних дослід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рапевтичні радіонуклід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5520" y="3716280"/>
            <a:ext cx="52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Закриті  радіоактивні 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-терапевтичні  установк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79736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МОГИ ЩОДО ЛІЦЕНЗУВАННЯ КОЖНОГО ДЖЕР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К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МАГ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МК Р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РОЗДІЛ 2.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Основи радіобіології. Принципи контролю радіаційної безпеки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1840" y="9079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А ДІЯ 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1484280"/>
            <a:ext cx="4537080" cy="165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Радіочутлив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адіорезистентн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0560" y="32846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А ДІЯ 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789360"/>
            <a:ext cx="8497800" cy="201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Пря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адіоліз та утворення гіперперекису водн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Непря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дія на структурні елементи кліт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6165720"/>
            <a:ext cx="273708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поптоз кліт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2268360" y="580536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6084720" y="580536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1640" y="6165720"/>
            <a:ext cx="417528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ідновлення (повне або неповн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4360" y="90792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АРІАНТИ ЗАГІБЕЛІ  КЛІ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628640"/>
            <a:ext cx="5689440" cy="165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тадія  клітинного ци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досин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син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післясинтетичний 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-2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4720" y="350028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БЕРГОНЬЄ-ТРИБОНДО (1906 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4221000"/>
            <a:ext cx="7489800" cy="1800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- Чим більша репродуктивна активніс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клітин, тим  більше біологічний ефект 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0040" y="105264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І ЕФЕКТИ 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2920" y="1844640"/>
            <a:ext cx="6769080" cy="2952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- Репродуктивна загибель клі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вне пригнічення  міто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Хромосомні абера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нтерфазна заги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попто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1341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ТЕРМІНОВАНІ ЕФЕКТИ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або соматичні (нестохастичні) ефекти – мають   поріг виникнення,  а ступінь їхньої тяжкості зростає з дозою  (після дії високих доз опромінення, що  перевищують толерантну дозу для опроміненої ткан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4005360"/>
            <a:ext cx="7704000" cy="1368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рогова доза -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це значення дози, за якої виникає  певний ефект, щ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айменше  у 1-5 %  опромін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989000"/>
            <a:ext cx="828972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Фізика іонізувальних випромінень. 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Радіаційні вимірювання. 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Джерела випромінення.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9080" y="112536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РОЗДІЛ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134136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ХАСТИЧНІ ЕФЕКТ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Це генні мутації, які у  статевих клітинах (яйцеклітинах чи  сперматозоїдах) проявляються тератогенним ефек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(синдром Дауна, Хорея Гентінгтона)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анцерогенний  ефект радіації; радіоіндукованої пухлини (саркоми, радіоіндукований рак щитоподібної  залози, лейко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341360"/>
            <a:ext cx="799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ЧАСНІ НОРМИ РАДІАЦІЙНОЇ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вимагають  не перевищення основної межі ефективної дози, яка  становить в середньому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 мЗв/рік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за будь як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років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поспіль, але не більше ніж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0 мЗв/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МАГАТЕ, МКРЗ;  НКДАР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A - As Low as Reasonably Achievable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Дози повинні бути настільки низькими, наскільки це розумно дося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НРБУ-97;  ОСПУ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7600" y="33336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. РЕГЛАМЕНТУВАННЯ ОПРОМІНЕННЯ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028" descr="C:\sten\Rtghome_V_1\Manual\INDEX\UTBILD\MAN50.GIF"/>
          <p:cNvPicPr/>
          <p:nvPr/>
        </p:nvPicPr>
        <p:blipFill>
          <a:blip r:embed="rId1"/>
          <a:stretch/>
        </p:blipFill>
        <p:spPr>
          <a:xfrm>
            <a:off x="7989840" y="571500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826920" y="1484280"/>
            <a:ext cx="7417080" cy="3745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АДІАЦІ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ЦЕ  ПЛАМІНЬ ЗІРОК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О Ж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АВИМОСЯ ДО НЕ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З БЛАГОГОВІННЯМ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ЩОБ ВОНА ГРІЛА ЛЮД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 НЕ СПОПЕ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WINDOWS\Profiles\sten\Skrivbord\Teacher 07.wmf"/>
          <p:cNvPicPr/>
          <p:nvPr/>
        </p:nvPicPr>
        <p:blipFill>
          <a:blip r:embed="rId1"/>
          <a:stretch/>
        </p:blipFill>
        <p:spPr>
          <a:xfrm>
            <a:off x="1828800" y="838080"/>
            <a:ext cx="5867280" cy="5499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1905120" y="1066680"/>
            <a:ext cx="42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ТАННЯ</a:t>
            </a:r>
            <a:r>
              <a:rPr b="1" lang="sv-SE" sz="4000" spc="-1" strike="noStrike">
                <a:solidFill>
                  <a:srgbClr val="000000"/>
                </a:solidFill>
                <a:latin typeface="Space Toaster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онізувальне  випромінення (ІВ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випромінення, яке  при взаємодії   з середов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причиняє іонізацію ато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нергія ІВ вимірюєть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лектрон-вольтах (еВ;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ev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68360" y="1341360"/>
            <a:ext cx="8353440" cy="792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ни – кванти електромагнітної енергі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мають маси покою та електричного за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1908000" y="2133720"/>
            <a:ext cx="289080" cy="503280"/>
          </a:xfrm>
          <a:prstGeom prst="downArrow">
            <a:avLst>
              <a:gd name="adj1" fmla="val 50000"/>
              <a:gd name="adj2" fmla="val 870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37000"/>
            <a:ext cx="3673440" cy="2592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кс-пром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виникають при взаємод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труменя електрон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 атом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будь-якої речовин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300720" y="2205000"/>
            <a:ext cx="287280" cy="432000"/>
          </a:xfrm>
          <a:prstGeom prst="downArrow">
            <a:avLst>
              <a:gd name="adj1" fmla="val 50000"/>
              <a:gd name="adj2" fmla="val 751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2637000"/>
            <a:ext cx="4103640" cy="2592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гамма-пром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фотони ядерного походженн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які виникають  у 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адіоактивного розпаду яд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естабіль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хімічних елементі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627280" y="263700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5075280" y="263700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50920" y="2997360"/>
            <a:ext cx="4176720" cy="504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онізування ат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067280" y="3573360"/>
            <a:ext cx="217440" cy="505080"/>
          </a:xfrm>
          <a:prstGeom prst="downArrow">
            <a:avLst>
              <a:gd name="adj1" fmla="val 50000"/>
              <a:gd name="adj2" fmla="val 11615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79640" y="4076640"/>
            <a:ext cx="4248000" cy="504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ластив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1052640"/>
            <a:ext cx="3167280" cy="1582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Електрон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озитро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тон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Нейтро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Альфа-частинка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941720"/>
            <a:ext cx="5905440" cy="1582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Викликати люмінесценцію деяких матеріал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Фотохімічна для ініціювання хімічних реак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Біологічна д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140360" y="4581360"/>
            <a:ext cx="215640" cy="360360"/>
          </a:xfrm>
          <a:prstGeom prst="downArrow">
            <a:avLst>
              <a:gd name="adj1" fmla="val 50000"/>
              <a:gd name="adj2" fmla="val 835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413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 струменя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дає пропорційно квадрату збільшення відстані від його джер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(закон обернених квадратів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997360"/>
            <a:ext cx="4032000" cy="865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2 =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*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  L2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292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– інтенсивність струменя  випромінення на відстані джере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– інтенсивність  струменя випромінення на відстані джере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чинник радіологічного захис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484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цес втрати енергії  в речовини –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експоненційний зак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2205000"/>
            <a:ext cx="7848360" cy="936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кожній одиниці товщини однорідної  речовини  поглинаєтьс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на  і та же частка випромін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284720" y="3213000"/>
            <a:ext cx="288720" cy="432000"/>
          </a:xfrm>
          <a:prstGeom prst="downArrow">
            <a:avLst>
              <a:gd name="adj1" fmla="val 50000"/>
              <a:gd name="adj2" fmla="val 7481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645000"/>
            <a:ext cx="712944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льшення щільності маси речов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4356000" y="4437000"/>
            <a:ext cx="289080" cy="432000"/>
          </a:xfrm>
          <a:prstGeom prst="downArrow">
            <a:avLst>
              <a:gd name="adj1" fmla="val 50000"/>
              <a:gd name="adj2" fmla="val 7472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55640" y="4797360"/>
            <a:ext cx="748836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льшує здатність ослаблювати струмінь випроміненн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лінійний коефіцієнт ослаб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шар  напівослабл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48428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інійний коефіцієнт ослаблення – показник ступеня відносного ослаблення  струменя випромінення  шаром даної речовини завтовшки 1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ар напівослаблення  - абсолютне значення товщини шару речовин, яка забезпечує ослаблення струменя вдві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инцовий еквівалент (у міліметрах товщини свинц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товщина шару свинця, що  ослаблює струмінь випромінення такою самою мірою, як і даний шар матері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1T07:45:02Z</dcterms:created>
  <dc:creator>IMR</dc:creator>
  <dc:description/>
  <dc:language>en-US</dc:language>
  <cp:lastModifiedBy>IMR</cp:lastModifiedBy>
  <dcterms:modified xsi:type="dcterms:W3CDTF">2020-02-27T08:08:01Z</dcterms:modified>
  <cp:revision>102</cp:revision>
  <dc:subject/>
  <dc:title>Слайд 1</dc:title>
</cp:coreProperties>
</file>