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D5C-7F71-494F-9782-6A32B43C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556-EF2C-48B0-A797-3586047F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83F-5C78-47AB-8B7C-24820BBF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A31-1819-4B9A-AB96-ADADC5E9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CD4-06C6-46F6-ACD1-DBBCCAC8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6B9-83C1-4F03-9CB2-1C0465B4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F8E-78F2-4583-81C4-4BB60284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D63-631A-43C0-AD8A-99624940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53B-96D9-49D6-BD09-FFBF8058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23D-DF23-4B27-848D-6F0DE9E4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2FB-E37B-4E27-B8C0-91AA22CB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2DF-CC83-434D-9D40-6EBC6A4C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648E-7C49-4BB4-9DA6-7A913C90F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826920" y="9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РАДІАЦІЙНА  МЕДИЦ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19640" y="3357720"/>
            <a:ext cx="3600360" cy="307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8000" y="2637000"/>
            <a:ext cx="50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Доцент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кафедри радіолог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та радіаційної медицин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ХН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Астап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єва О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1557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типів взаємодії фотонів з атомами речов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11280" y="2565360"/>
            <a:ext cx="8064360" cy="360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герентне (томпсонівське), класичене розсі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мптонівське розсію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тоелектричний ефе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творення па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тодезінтеграц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3320" y="160200"/>
            <a:ext cx="664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слаблення  і поглинання струменя 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Типи взаємодії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з матер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1413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95280" y="2349360"/>
            <a:ext cx="3529080" cy="215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устоіонізуваль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Частинки з  більшою масою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м зарядом маю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шанси частіше взаємодія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атомами на одиниц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вжини пробігу в середови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427640" y="2349360"/>
            <a:ext cx="4176720" cy="215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лабоіонізуваль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промінення з малим заряд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малою мас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ричиняють іонізацію  середовищ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изької густ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619280" y="1341360"/>
            <a:ext cx="496872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інійне передавання енерг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2050920" y="2060640"/>
            <a:ext cx="216000" cy="288720"/>
          </a:xfrm>
          <a:prstGeom prst="downArrow">
            <a:avLst>
              <a:gd name="adj1" fmla="val 50000"/>
              <a:gd name="adj2" fmla="val 6683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5651640" y="2060640"/>
            <a:ext cx="215640" cy="288720"/>
          </a:xfrm>
          <a:prstGeom prst="downArrow">
            <a:avLst>
              <a:gd name="adj1" fmla="val 50000"/>
              <a:gd name="adj2" fmla="val 6695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4797360"/>
            <a:ext cx="2737080" cy="1728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Прот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Нейтр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Альфа-част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(більше заря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4797360"/>
            <a:ext cx="2808360" cy="1654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Електр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Позитр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Гамма-випромін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Ікс-випромін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(менше заря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3320" y="160200"/>
            <a:ext cx="664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слаблення  і поглинання струменя 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Типи взаємодії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з матер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5120" y="2602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І. Дозиметр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1413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68360" y="1125360"/>
            <a:ext cx="8280360" cy="1151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зиметрія – галузь фізики з проблем визнач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ількості  та розподілу поглинутого ІВ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едовищ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5445000"/>
            <a:ext cx="2160720" cy="432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Локаль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5445000"/>
            <a:ext cx="2376360" cy="432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оталь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26920" y="2781360"/>
            <a:ext cx="7417080" cy="1150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О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нергія,  що передається одиниці ма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човини струменем випромін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1979640" y="5084640"/>
            <a:ext cx="216000" cy="362160"/>
          </a:xfrm>
          <a:prstGeom prst="downArrow">
            <a:avLst>
              <a:gd name="adj1" fmla="val 50000"/>
              <a:gd name="adj2" fmla="val 838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6227640" y="5084640"/>
            <a:ext cx="216000" cy="360360"/>
          </a:xfrm>
          <a:prstGeom prst="downArrow">
            <a:avLst>
              <a:gd name="adj1" fmla="val 50000"/>
              <a:gd name="adj2" fmla="val 834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63640" y="4365720"/>
            <a:ext cx="496908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іологічний еф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5120" y="2602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І. Дозиметр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981000"/>
            <a:ext cx="547236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ЗИМЕТ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2060640"/>
            <a:ext cx="1441800" cy="43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Газов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2060640"/>
            <a:ext cx="1511280" cy="43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Рідин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268360" y="2924280"/>
            <a:ext cx="4105440" cy="718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тоди дозиметр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835280" y="1700280"/>
            <a:ext cx="215640" cy="361800"/>
          </a:xfrm>
          <a:prstGeom prst="downArrow">
            <a:avLst>
              <a:gd name="adj1" fmla="val 50000"/>
              <a:gd name="adj2" fmla="val 8389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6227640" y="1700280"/>
            <a:ext cx="216000" cy="360360"/>
          </a:xfrm>
          <a:prstGeom prst="downArrow">
            <a:avLst>
              <a:gd name="adj1" fmla="val 50000"/>
              <a:gd name="adj2" fmla="val 834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995640" y="1700280"/>
            <a:ext cx="216000" cy="361800"/>
          </a:xfrm>
          <a:prstGeom prst="down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2060640"/>
            <a:ext cx="1655640" cy="43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Твердотіл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005360"/>
            <a:ext cx="4968720" cy="2233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сцинтиляційні  (монокристал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I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термолюмінісцентні (таблетка з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IF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плівк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тепл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іонізаційні (іонізаційна каме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хімічні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5120" y="2602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І. Дозиметр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476360" y="836640"/>
            <a:ext cx="5472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АДІАЦІЙНІ ДОЗ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148428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СПОЗИЦІНА ДОЗА (Р; К/к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вимірюється у повітрі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тужність  Р/с;  Р/хв;  Р/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ПОГЛИНУТА  (АБСОРБОВАНА) ДОЗА  (РАД; Г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кількість енергії випромінення, поглинута   в одиниці  маси речов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3357720"/>
            <a:ext cx="1728720" cy="5029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= Е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М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3789360"/>
            <a:ext cx="360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–  поглинута доз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 –  поглинута кількість енерг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 – маса  опроміненої речови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56000" y="4869000"/>
            <a:ext cx="1728720" cy="50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530064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–  Ф-фактор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– експозиційна  до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6093000"/>
            <a:ext cx="82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-фактор  залежить від енергії  випромінення та щільності  опромінюваного  середовища (кістки поглинають дозу більшу, ніж 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з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5120" y="2602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І. Дозиметр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476360" y="836640"/>
            <a:ext cx="5472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АДІАЦІЙНІ ДОЗ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557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ВІВАЛЕНТНА ДОЗА (міра очікуваного ефекту внаслідок різної ЛПЕ у  різних видів випромінення (біологічні ризи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2421000"/>
            <a:ext cx="1728720" cy="50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Н 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* Q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7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2852640"/>
            <a:ext cx="3600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–  поглинута доз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–  фактор якості випроміне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27280" y="5229360"/>
            <a:ext cx="2376360" cy="50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Е=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  <a:ea typeface="Arial"/>
              </a:rPr>
              <a:t>∑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 * Wt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595008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(експериментальна величин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378936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кількісна  характеристика кожного типу випромінення зі густотою іоніз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ФЕКТИВНА ДОЗА  - це сума добутків еквівалентних до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 окремих органах і тканинах  помножена на  тканинні зважувальні фактори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5120" y="2602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І. Дозиметрі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476360" y="1052640"/>
            <a:ext cx="5472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АДІАЦІЙНІ ДОЗ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84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ЕКТИВНА ЕФЕКТИВНА ДОЗА  - сума всіх ефективних доз, одержаних опроміненими особами в популяції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59280" y="2708280"/>
            <a:ext cx="1728720" cy="50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Ер = 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  <a:ea typeface="Arial"/>
              </a:rPr>
              <a:t>∑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Е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4437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ЕКСПОЗИЦІЙНОЇ ДОЗИ  -  Кулон  на кілограм (К/кг) і  рентген (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ПОГЛИНУТОЇ ДОЗИ -  рад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 і Грей (Г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ЕФЕКТИВНОЇ ДОЗИ – зіверт (З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КОЛЕКТИВНОЇ ДОЗИ -  людино-зіверт (люд/З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595008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ІВВІДНОШЕННЯ:  1 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1 ра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258920" y="3573360"/>
            <a:ext cx="5472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ИНИЦІ ВИМІРЮВАННЯ ДО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88360" y="26028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РАДІОАКТИВНІСТЬ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134136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адіоактивність – здібність атомів повільно розпадатися з випроміненням  енергії   та  перетворюватись  в атоми  інших хімічних елемен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187280" y="2349360"/>
            <a:ext cx="5472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ИПИ РАДІОАКТИВНОГО РОЗПА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71640" y="3213000"/>
            <a:ext cx="7345440" cy="3095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альфа-розпад – ядро випромінює 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част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бета-розпад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- електронний  (-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 позитронний  (+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к-захват – поглинання  -  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 к-оболонки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утворюється нейрон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промінення  кванта енергії – фотона ікс-проме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88360" y="26028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РАДІОАКТИВНІСТЬ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134136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адіоактивність – здібність атомів повільно розподілятися з використанням енергії   та  перетворюватись  в атоми  інших хімічних елемен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2492280"/>
            <a:ext cx="1963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ПРИРОД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близько 3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2565360"/>
            <a:ext cx="1963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ШТУЧ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близько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900000" y="3573360"/>
            <a:ext cx="2016360" cy="307656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3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2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5800" y="3960720"/>
            <a:ext cx="25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род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діаційний 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8360" y="260280"/>
            <a:ext cx="36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РАДІОАКТИВНІСТЬ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547640" y="981000"/>
            <a:ext cx="547236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ДІОНУКЛІ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2133720"/>
            <a:ext cx="2305080" cy="43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Надкоротковіч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1835280" y="1700280"/>
            <a:ext cx="215640" cy="361800"/>
          </a:xfrm>
          <a:prstGeom prst="downArrow">
            <a:avLst>
              <a:gd name="adj1" fmla="val 50000"/>
              <a:gd name="adj2" fmla="val 8389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6443640" y="1700280"/>
            <a:ext cx="216000" cy="360360"/>
          </a:xfrm>
          <a:prstGeom prst="downArrow">
            <a:avLst>
              <a:gd name="adj1" fmla="val 50000"/>
              <a:gd name="adj2" fmla="val 834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4211640" y="1700280"/>
            <a:ext cx="216000" cy="361800"/>
          </a:xfrm>
          <a:prstGeom prst="down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2133720"/>
            <a:ext cx="1728720" cy="43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Коротковіч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24360" y="2133720"/>
            <a:ext cx="1656000" cy="43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Довговіч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00000" y="3284640"/>
            <a:ext cx="6120000" cy="45972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13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;  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</a:rPr>
              <a:t>1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;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9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;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;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;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9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;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71640" y="4724280"/>
            <a:ext cx="6119640" cy="45972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;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9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43280" y="3933720"/>
            <a:ext cx="250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іагнос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17080" y="5445000"/>
            <a:ext cx="27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адіотерапі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826920" y="9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 Black"/>
              </a:rPr>
              <a:t>РАДІАЦІЙНА  МЕДИЦ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2293200"/>
            <a:ext cx="806472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 —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наука, що вивчає особливості дії іонізуючого випромінення на 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організм людини,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нципи лікування променевих ушкоджень та профілакти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8000" y="2602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РАДІОМЕТР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971640" y="1052640"/>
            <a:ext cx="691200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ДИНИЦЯ АКТИВНОСТІ є Беккерель та Кю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87280" y="2637000"/>
            <a:ext cx="6120000" cy="45972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кюрі – 3,7 *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дер за 1 с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187280" y="1916280"/>
            <a:ext cx="6120000" cy="45972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беккерель – 1 ядро за 1 с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050920" y="3573360"/>
            <a:ext cx="4105440" cy="7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4581360"/>
            <a:ext cx="4105440" cy="1656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Радіомет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Лічильники  випромін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Сцинтиляцій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85840" y="26028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V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ПРИРОДНІЙ РАДІАЦІЙНИЙ Ф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1197000"/>
            <a:ext cx="7272360" cy="936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Космічні проме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 Випромінення земної кори і природних радіонукліді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187280" y="2637000"/>
            <a:ext cx="7056720" cy="119124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н-235, уран-238; торій-23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кти їх розпаду – 2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; 224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радій; 87-рубіді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Times New Roman"/>
              </a:rPr>
              <a:t>(в середньому 0,5 мзв/рі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187280" y="4149720"/>
            <a:ext cx="7056720" cy="1557000"/>
          </a:xfrm>
          <a:prstGeom prst="rect">
            <a:avLst/>
          </a:prstGeom>
          <a:solidFill>
            <a:srgbClr val="ccec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 бетоні; цеглі; пісок; цемент; щебінь -  радіоактивність підвищ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uk-UA" sz="2400" spc="-1" strike="noStrike" baseline="30000">
                <a:solidFill>
                  <a:srgbClr val="000000"/>
                </a:solidFill>
                <a:latin typeface="Times New Roman"/>
              </a:rPr>
              <a:t>2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1/2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7 доб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Times New Roman"/>
              </a:rPr>
              <a:t>інгаляційне  випроміне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86200" y="26028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V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ПРИРОДНИЙ РАДІАЦІЙНИЙ Ф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42920" y="1341360"/>
            <a:ext cx="6624720" cy="4824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 Космічні промені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0,4 мЗв/рі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Гамма-випромінення земн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ї ко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0,5 мЗв/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Інгаляційне (переважно радо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,2 мЗв/рі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Внутрішнє опромін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0,3 мЗв/рік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Раз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,4 мЗв/рі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85840" y="47628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ШТУЧНІ ДЖЕРЕЛА ІВ. ФАКТОРИ, МЕТОДИ  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ЗАСОБИ РАДІОЛОГІЧНОГО ЗАХ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1403280" y="1413000"/>
            <a:ext cx="547236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ЖЕРЕЛА 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1920" y="2276640"/>
            <a:ext cx="468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дичні рентгенівські апа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проведення флюороскоп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проведення рентгенограф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 проведення ікс-терапії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5160" y="3716280"/>
            <a:ext cx="73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Немедичні  ікс і гамма-апаратирентгенівські апа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гаммадефектоскопія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4360" y="4797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Мегавольтні установки різного призначення  і з  певними конструктивними особливос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47628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ШТУЧНІ ДЖЕРЕЛА ІВ. ФАКТОРИ, МЕТОДИ   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99"/>
                </a:solidFill>
                <a:latin typeface="Arial"/>
              </a:rPr>
              <a:t>ЗАСОБИ РАДІОЛОГІЧНОГО ЗАХИ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332000" y="1413000"/>
            <a:ext cx="5472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ЖЕРЕЛА 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2080" y="2276640"/>
            <a:ext cx="666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Відкриті  радіоактивні джер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радіонукліди для  діагностичних дослідж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терапевтичні радіонуклід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5520" y="3716280"/>
            <a:ext cx="52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. Закриті  радіоактивні джер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гамма-терапевтичні  установк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4797360"/>
            <a:ext cx="72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МОГИ ЩОДО ЛІЦЕНЗУВАННЯ КОЖНОГО ДЖЕРЕ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НК 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МАГ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МК Р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1557360"/>
            <a:ext cx="8351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РОЗДІЛ 2.</a:t>
            </a:r>
            <a:br>
              <a:rPr sz="4800"/>
            </a:b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Основи радіобіології. Принципи контролю радіаційної безпеки</a:t>
            </a: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01840" y="90792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ІОЛОГІЧНА ДІЯ 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1484280"/>
            <a:ext cx="4537080" cy="1655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 Радіочутливі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Радіорезистентн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90560" y="328464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ІОЛОГІЧНА ДІЯ 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3789360"/>
            <a:ext cx="8497800" cy="2016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 Пря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радіоліз та утворення гіперперекису водн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Непря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дія на структурні елементи кліти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6920" y="6165720"/>
            <a:ext cx="2737080" cy="432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Апоптоз кліти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2268360" y="5805360"/>
            <a:ext cx="216000" cy="362160"/>
          </a:xfrm>
          <a:prstGeom prst="downArrow">
            <a:avLst>
              <a:gd name="adj1" fmla="val 50000"/>
              <a:gd name="adj2" fmla="val 838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6084720" y="5805360"/>
            <a:ext cx="216000" cy="362160"/>
          </a:xfrm>
          <a:prstGeom prst="downArrow">
            <a:avLst>
              <a:gd name="adj1" fmla="val 50000"/>
              <a:gd name="adj2" fmla="val 838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11640" y="6165720"/>
            <a:ext cx="4175280" cy="432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Відновлення (повне або неповн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04360" y="90792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АРІАНТИ ЗАГІБЕЛІ  КЛІТ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58920" y="1628640"/>
            <a:ext cx="5689440" cy="1656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Стадія  клітинного цик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 досинтетич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 синтетич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післясинтетичний  (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-2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04720" y="350028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ОН БЕРГОНЬЄ-ТРИБОНДО (1906 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42920" y="4221000"/>
            <a:ext cx="7489800" cy="1800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- Чим більша репродуктивна активніст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клітин, тим  більше біологічний ефект 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30200" y="2602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. ОСНОВИ РАДІОБІОЛОГІЇ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00040" y="105264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ІОЛОГІЧНІ ЕФЕКТИ   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2920" y="1844640"/>
            <a:ext cx="6769080" cy="2952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- Репродуктивна загибель клі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овне пригнічення  мітоз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Хромосомні абераці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Інтерфазна загиб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Апопто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30200" y="2602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. ОСНОВИ РАДІОБІОЛОГІЇ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4360" y="134136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ЕТЕРМІНОВАНІ ЕФЕКТИ  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або соматичні (нестохастичні) ефекти – мають   поріг виникнення,  а ступінь їхньої тяжкості зростає з дозою  (після дії високих доз опромінення, що  перевищують толерантну дозу для опроміненої ткани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4005360"/>
            <a:ext cx="7704000" cy="1368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рогова доза -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це значення дози, за якої виникає  певний ефект, щ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найменше  у 1-5 %  опроміне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0200" y="2602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. ОСНОВИ РАДІОБІОЛОГІЇ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1989000"/>
            <a:ext cx="828972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Фізика іонізувальних випромінень. </a:t>
            </a: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Радіаційні вимірювання. </a:t>
            </a: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Джерела випромінення.</a:t>
            </a:r>
            <a:br>
              <a:rPr sz="4800"/>
            </a:br>
            <a:br>
              <a:rPr sz="4800"/>
            </a:b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9080" y="1125360"/>
            <a:ext cx="21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РОЗДІЛ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134136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ХАСТИЧНІ ЕФЕКТИ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Це генні мутації, які у  статевих клітинах (яйцеклітинах чи  сперматозоїдах) проявляються тератогенним ефек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(синдром Дауна, Хорея Гентінгтона)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канцерогенний  ефект радіації; радіоіндукованої пухлини (саркоми, радіоіндукований рак щитоподібної  залози, лейкоз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30200" y="26028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. ОСНОВИ РАДІОБІОЛОГІЇ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1341360"/>
            <a:ext cx="799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ЧАСНІ НОРМИ РАДІАЦІЙНОЇ БЕЗП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вимагають  не перевищення основної межі ефективної дози, яка  становить в середньому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0 мЗв/рік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за будь як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років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поспіль, але не більше ніж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0 мЗв/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МАГАТЕ, МКРЗ;  НКДАР 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A - As Low as Reasonably Achievable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Дози повинні бути настільки низькими, наскільки це розумно дося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НРБУ-97;  ОСПУ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7600" y="333360"/>
            <a:ext cx="76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. РЕГЛАМЕНТУВАННЯ ОПРОМІНЕННЯ ЛЮ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028" descr="C:\sten\Rtghome_V_1\Manual\INDEX\UTBILD\MAN50.GIF"/>
          <p:cNvPicPr/>
          <p:nvPr/>
        </p:nvPicPr>
        <p:blipFill>
          <a:blip r:embed="rId1"/>
          <a:stretch/>
        </p:blipFill>
        <p:spPr>
          <a:xfrm>
            <a:off x="7989840" y="5715000"/>
            <a:ext cx="1154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826920" y="1484280"/>
            <a:ext cx="7417080" cy="3745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АДІАЦІ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ЦЕ  ПЛАМІНЬ ЗІРОК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ТО Ж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АВИМОСЯ ДО НЕЇ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З БЛАГОГОВІННЯМ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ЩОБ ВОНА ГРІЛА ЛЮД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А НЕ СПОПЕЛ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WINDOWS\Profiles\sten\Skrivbord\Teacher 07.wmf"/>
          <p:cNvPicPr/>
          <p:nvPr/>
        </p:nvPicPr>
        <p:blipFill>
          <a:blip r:embed="rId1"/>
          <a:stretch/>
        </p:blipFill>
        <p:spPr>
          <a:xfrm>
            <a:off x="1828800" y="838080"/>
            <a:ext cx="5867280" cy="54993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6"/>
          <p:cNvSpPr/>
          <p:nvPr/>
        </p:nvSpPr>
        <p:spPr>
          <a:xfrm>
            <a:off x="1905120" y="1066680"/>
            <a:ext cx="42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ИТАННЯ</a:t>
            </a:r>
            <a:r>
              <a:rPr b="1" lang="sv-SE" sz="4000" spc="-1" strike="noStrike">
                <a:solidFill>
                  <a:srgbClr val="000000"/>
                </a:solidFill>
                <a:latin typeface="Space Toaster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2600" y="26028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. Види  і властивості іонізувальних випромін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62864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Іонізувальне  випромінення (ІВ)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випромінення, яке  при взаємодії   з середови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причиняє іонізацію атомі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Молек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Енергія ІВ вимірюєтьс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електрон-вольтах (еВ;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ev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2600" y="26028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. Види  і властивості іонізувальних випромін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68360" y="1341360"/>
            <a:ext cx="8353440" cy="792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тони – кванти електромагнітної енергії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 мають маси покою та електричного заря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1908000" y="2133720"/>
            <a:ext cx="289080" cy="503280"/>
          </a:xfrm>
          <a:prstGeom prst="downArrow">
            <a:avLst>
              <a:gd name="adj1" fmla="val 50000"/>
              <a:gd name="adj2" fmla="val 8705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637000"/>
            <a:ext cx="3673440" cy="2592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ікс-проме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(виникають при взаємод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струменя електроні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з атом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будь-якої речовин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6300720" y="2205000"/>
            <a:ext cx="287280" cy="432000"/>
          </a:xfrm>
          <a:prstGeom prst="downArrow">
            <a:avLst>
              <a:gd name="adj1" fmla="val 50000"/>
              <a:gd name="adj2" fmla="val 751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27640" y="2637000"/>
            <a:ext cx="4103640" cy="2592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гамма-проме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(фотони ядерного походженн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які виникають  у наслід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радіоактивного розпаду ядер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нестабіль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хімічних елементі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2600" y="26028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. Види  і властивості іонізувальних випромін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2627280" y="2637000"/>
            <a:ext cx="216000" cy="360360"/>
          </a:xfrm>
          <a:prstGeom prst="downArrow">
            <a:avLst>
              <a:gd name="adj1" fmla="val 50000"/>
              <a:gd name="adj2" fmla="val 834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5075280" y="2637000"/>
            <a:ext cx="216000" cy="360360"/>
          </a:xfrm>
          <a:prstGeom prst="downArrow">
            <a:avLst>
              <a:gd name="adj1" fmla="val 50000"/>
              <a:gd name="adj2" fmla="val 834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050920" y="2997360"/>
            <a:ext cx="4176720" cy="504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онізування ато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067280" y="3573360"/>
            <a:ext cx="217440" cy="505080"/>
          </a:xfrm>
          <a:prstGeom prst="downArrow">
            <a:avLst>
              <a:gd name="adj1" fmla="val 50000"/>
              <a:gd name="adj2" fmla="val 11615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979640" y="4076640"/>
            <a:ext cx="4248000" cy="504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ластивос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1052640"/>
            <a:ext cx="3167280" cy="1582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Електрон (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Позитрон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Протон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Нейтрон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Альфа-частинка (</a:t>
            </a:r>
            <a:r>
              <a:rPr b="0" lang="el-GR" sz="2000" spc="-1" strike="noStrike">
                <a:solidFill>
                  <a:srgbClr val="333399"/>
                </a:solidFill>
                <a:latin typeface="Arial"/>
              </a:rPr>
              <a:t>α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4941720"/>
            <a:ext cx="5905440" cy="15829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- Викликати люмінесценцію деяких матеріалі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Фотохімічна для ініціювання хімічних реакц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Біологічна д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140360" y="4581360"/>
            <a:ext cx="215640" cy="360360"/>
          </a:xfrm>
          <a:prstGeom prst="downArrow">
            <a:avLst>
              <a:gd name="adj1" fmla="val 50000"/>
              <a:gd name="adj2" fmla="val 835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3320" y="160200"/>
            <a:ext cx="664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слаблення  і поглинання струменя 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Типи взаємодії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з матер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41300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тенсивність  струменя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адає пропорційно квадрату збільшення відстані від його джер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(закон обернених квадратів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2997360"/>
            <a:ext cx="4032000" cy="865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2 =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1 *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1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  L2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29264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 – інтенсивність струменя  випромінення на відстані джере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1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 – інтенсивність  струменя випромінення на відстані джере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чинник радіологічного захис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48428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цес втрати енергії  в речовини –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експоненційний зако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84360" y="2205000"/>
            <a:ext cx="7848360" cy="936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кожній одиниці товщини однорідної  речовини  поглинається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на  і та же частка випромін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284720" y="3213000"/>
            <a:ext cx="288720" cy="432000"/>
          </a:xfrm>
          <a:prstGeom prst="downArrow">
            <a:avLst>
              <a:gd name="adj1" fmla="val 50000"/>
              <a:gd name="adj2" fmla="val 7481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71640" y="3645000"/>
            <a:ext cx="712944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більшення щільності маси речови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4356000" y="4437000"/>
            <a:ext cx="289080" cy="432000"/>
          </a:xfrm>
          <a:prstGeom prst="downArrow">
            <a:avLst>
              <a:gd name="adj1" fmla="val 50000"/>
              <a:gd name="adj2" fmla="val 7472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55640" y="4797360"/>
            <a:ext cx="7488360" cy="11527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більшує здатність ослаблювати струмінь випромінення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лінійний коефіцієнт ослаб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 шар  напівослабл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3320" y="160200"/>
            <a:ext cx="664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слаблення  і поглинання струменя 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Типи взаємодії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з матер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8200" y="135000"/>
            <a:ext cx="438120" cy="474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48428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інійний коефіцієнт ослаблення – показник ступеня відносного ослаблення  струменя випромінення  шаром даної речовини завтовшки 1 с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Шар напівослаблення  - абсолютне значення товщини шару речовин, яка забезпечує ослаблення струменя вдвіч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винцовий еквівалент (у міліметрах товщини свинц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товщина шару свинця, що  ослаблює струмінь випромінення такою самою мірою, як і даний шар матеріа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3320" y="160200"/>
            <a:ext cx="664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ІІ.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слаблення  і поглинання струменя 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Типи взаємодії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з матер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1T07:45:02Z</dcterms:created>
  <dc:creator>IMR</dc:creator>
  <dc:description/>
  <dc:language>en-US</dc:language>
  <cp:lastModifiedBy>IMR</cp:lastModifiedBy>
  <dcterms:modified xsi:type="dcterms:W3CDTF">2020-02-27T08:08:01Z</dcterms:modified>
  <cp:revision>102</cp:revision>
  <dc:subject/>
  <dc:title>Слайд 1</dc:title>
</cp:coreProperties>
</file>