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7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Микола Пилипенко" initials="МП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9-09-25T22:44:38.016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EF78-FA7F-45BF-8905-2EE2FCD849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охастичні ефекти іонізивної радіаці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51D1-1A8E-405E-A8F4-FDC473833425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ісцеві ураження тканин виникають при локальному опроміненні в дозі, вищій толерантно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4C7D-24BE-47B3-9BE7-9F2C2940DDD7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жею між низькими і високими дозами прийнято значення дози у 200 мЗв. Висока потужність дози</a:t>
            </a:r>
            <a:r>
              <a:rPr b="0" i="1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значається</a:t>
            </a:r>
            <a:r>
              <a:rPr b="0" i="1" lang="uk-UA" sz="1200" spc="-1" strike="noStrike">
                <a:solidFill>
                  <a:srgbClr val="000000"/>
                </a:solidFill>
                <a:latin typeface="Calibri"/>
              </a:rPr>
              <a:t> «як потужність, за якої неможлива репарація радіаційних ушкоджень (приблизно 100 мЗв/год)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» (Публікація 116 НКРЗ США, 199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E275-E42E-49DC-83D4-59F888C65C45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D83F-32FF-44AF-9BC1-407EA93F3434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блема порога стохастичних ефект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B5F0-AC9A-4F4C-951B-EF6757ADEFF4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16FF-558E-42DF-88A6-11334EEFB58D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D3E1-24F2-4476-93A7-71E4CEA1F34E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F90B-BBC6-43A4-80AA-B6518EF17AAA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00 флюорографій/рі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оза середня   = 0,0052 Г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лективна доза  109200 Г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важувальний       фак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Жінки                 груди  0,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егені  0,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азом   0,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фективна доза     109200/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,27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742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юдино-З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ихід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лоя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пухлин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1474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,055 =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8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оловіки             Легені  0,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фективна доза  109200/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,12 = 6552 людино-З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хід злояк пухлин   6552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,055 =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3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Разом   810 </a:t>
            </a:r>
            <a:r>
              <a:rPr b="1" lang="uk-UA" sz="12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 360 = </a:t>
            </a:r>
            <a:r>
              <a:rPr b="1" lang="uk-UA" sz="1200" spc="-1" strike="noStrike" u="sng">
                <a:solidFill>
                  <a:srgbClr val="000000"/>
                </a:solidFill>
                <a:uFillTx/>
                <a:latin typeface="Calibri"/>
              </a:rPr>
              <a:t>1170 випадк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5B16-BCC4-41F8-AD49-D928ED866372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125D-1A33-40E4-9F05-4177E7D56D88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0F9E-119F-4ADC-B2E5-46ED5FDC25AB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інічна радіобіологі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01A6-2D0A-476E-9B05-6E63C090C40C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C438-7F58-4562-948A-4A24BF6DFA20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02A3-2B9B-4D7D-890A-8D21763ED78B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адіаційні ефек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49F2-C37C-4DA5-B904-20B2948526CD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, 2, 3 – індивідуальна чутливі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D764-F135-451B-98F0-A3D6B9CC5F3E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0849-19B8-4044-9348-14A51967FC22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иїв 2013 04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D998-9C96-449D-A553-61A9C5C8E414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ПХ виникає після короткочасного опромінення (від кількох хвилин 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–3 діб) всього тіла в дозі 1 Гр і вищ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ісля менших рівнів гострого опромінення всього тіла відмічаю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акі наслід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дозі нижче 0,1 Гр стан не змінюється, будь-які лабораторні о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ідсутні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дозі 0,1–0,2 Гр підвищується частота хромосомних аберацій, пр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інічні ознаки відсутні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дозі 0,12 Гр кількість сперматозоїдів знижується до мініму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лизно на 45-й день, після чого сперматогенез відновлюєть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дозі в діапазоні 0,5–1 Гр помітно пригнічується кровотворення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істковому мозку з розвитком лімфопенії без інших ознак уражен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8F5E-C38A-4243-A143-F907051AB4E4}" type="slidenum">
              <a:rPr b="0" lang="uk-U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AC85-B011-4713-AD56-1BC47F44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1304-75C4-4FBE-907B-D1C8A887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0F3E-D6AA-4276-BBC1-8BEDE89B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6202-C8E9-40B4-A94A-C4AA92BB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D85F-F39B-4A63-B363-E9CDEBA0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498E-024F-413E-959D-0F786A23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9E93-748B-4AD2-AF17-1FCA4865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75B5-93BC-458D-BD0C-F484FFFA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66FB-11B7-40DA-A1AB-A1489F18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9A12-835C-47B8-B330-C339BB12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A8FE-F15C-483B-8D2F-AAD874AD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8E3C-8304-405D-B413-BE2E03C8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2036-03A1-4836-A123-3A51FBA5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3BA9-F186-40A1-BBA2-92D766C2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BA3F-23CF-47BD-8C9F-F59AC4B0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253D-049B-4BCC-AB97-40A66C47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19D0-D026-4055-9D40-19BF5967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8E461-660E-43EC-8BCA-1F72BB92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A4A9C-F93C-47FC-8FA9-9CE4F85E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77E56-8D5E-4C6D-8A3D-4F85C672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BFA5F-C510-461F-A22E-AA28A47B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1D7FA-2D9D-41B4-959B-242D1170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B2B-92A7-4902-9DFC-CFC12554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80E7D-AA5D-4C6D-9152-0F051E65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D1698-ACEA-4F1B-AD61-819A81E2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AC556-775D-486A-8F04-7EC00F2B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5E548-33AE-4701-BE6B-ADB42402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42697-2861-4FED-97FE-3F691295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F1628-423F-464B-9E7D-9FF206D0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5F501-7A47-45BC-9B21-1C687E04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7D2B0-5C13-43C4-A5F5-A5DCFB0A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36FF4-03AA-485A-89B5-D7514F49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20EC8-586F-4AEA-BFE9-29E1CBC9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9609-BB32-4E80-BE13-77DB2267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8783C-7E76-480F-8F8D-806EF319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DC549-65F1-4CFF-B068-4A68C452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0F2D1-CCC1-49C4-99EB-7B4C6B90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321F3-2C98-41A7-92EA-59635C30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35443-541A-45C7-9219-2AA7E123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FC277-DF2C-442E-8A92-0458D1E3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24625-5A48-4273-9554-5C71227E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8CF22-D0CA-41EA-BD2C-143A4F06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C233B-18F6-42B5-8FDF-56FA1DD9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CA32AE-A0BD-4061-89B3-57E5D30376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3BB-9469-4678-ABAD-5FFAF416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350B83-866B-4B33-8EE7-44A9B32F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E6824-C79B-4A19-8290-E6685113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557F1-1B76-4002-B246-265E58A9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19A3F-24E0-4680-AA98-35BC155D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AF427C-874D-4C67-B4A3-39C6F0F4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2767C5-FB94-46A4-8C9D-F7DA05EE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5D0166-4369-45E4-A820-6A6A56FC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217EB7-C3D8-4B86-9E87-68C4387D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4E330-D903-461D-8244-4FEBECF0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05D2D-0BFD-4DD2-84ED-786D89E6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BAEF-D2F9-44CB-91D6-B0737ADC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4D0C36-F971-482F-9A0B-CA87EF59EB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7F1F-A54A-4C14-84B1-808D5855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C3E-D4FB-4E94-AE16-14FF9AD3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5F2-A98F-4750-B5D9-B26B29BA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A66C-5B50-4CB8-A573-21D72178059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D818-DADF-414F-B217-1B841A18423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0AFD-9C79-4206-95B9-477567D21CC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0C0F-A3D4-4264-8A6D-0D3B0203BB1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45c75"/>
                </a:solidFill>
                <a:latin typeface="Constantia"/>
              </a:rPr>
              <a:t>15.9.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D68F-D4E7-40D9-872B-C2A2897D7163}" type="slidenum">
              <a:rPr b="0" lang="uk-U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49.xml"/><Relationship Id="rId4" Type="http://schemas.openxmlformats.org/officeDocument/2006/relationships/comments" Target="../comments/comment19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6215040" y="6488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2" descr="Зображення, що містить будівля, надворі, дорога, місто&#10;&#10;Автоматично згенерований опис"/>
          <p:cNvPicPr/>
          <p:nvPr/>
        </p:nvPicPr>
        <p:blipFill>
          <a:blip r:embed="rId1"/>
          <a:stretch/>
        </p:blipFill>
        <p:spPr>
          <a:xfrm>
            <a:off x="339840" y="0"/>
            <a:ext cx="86137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4" descr=""/>
          <p:cNvPicPr/>
          <p:nvPr/>
        </p:nvPicPr>
        <p:blipFill>
          <a:blip r:embed="rId1"/>
          <a:stretch/>
        </p:blipFill>
        <p:spPr>
          <a:xfrm>
            <a:off x="822240" y="2212920"/>
            <a:ext cx="749952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2786040" y="1139760"/>
            <a:ext cx="3565440" cy="83520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3" descr=""/>
          <p:cNvPicPr/>
          <p:nvPr/>
        </p:nvPicPr>
        <p:blipFill>
          <a:blip r:embed="rId2"/>
          <a:stretch/>
        </p:blipFill>
        <p:spPr>
          <a:xfrm>
            <a:off x="426960" y="2341440"/>
            <a:ext cx="84250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" descr=""/>
          <p:cNvPicPr/>
          <p:nvPr/>
        </p:nvPicPr>
        <p:blipFill>
          <a:blip r:embed="rId1"/>
          <a:stretch/>
        </p:blipFill>
        <p:spPr>
          <a:xfrm>
            <a:off x="144360" y="287280"/>
            <a:ext cx="3184560" cy="61419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3857760" y="1000080"/>
            <a:ext cx="4786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Rectangle 5" descr=""/>
          <p:cNvPicPr/>
          <p:nvPr/>
        </p:nvPicPr>
        <p:blipFill>
          <a:blip r:embed="rId2"/>
          <a:stretch/>
        </p:blipFill>
        <p:spPr>
          <a:xfrm>
            <a:off x="3713040" y="785880"/>
            <a:ext cx="543096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1"/>
          <a:stretch/>
        </p:blipFill>
        <p:spPr>
          <a:xfrm>
            <a:off x="214200" y="1214280"/>
            <a:ext cx="4380120" cy="28022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285840" y="4071960"/>
            <a:ext cx="4921200" cy="2428920"/>
          </a:xfrm>
          <a:prstGeom prst="rect">
            <a:avLst/>
          </a:prstGeom>
          <a:ln w="0">
            <a:noFill/>
          </a:ln>
        </p:spPr>
      </p:pic>
      <p:pic>
        <p:nvPicPr>
          <p:cNvPr id="284" name="Rectangle 5" descr=""/>
          <p:cNvPicPr/>
          <p:nvPr/>
        </p:nvPicPr>
        <p:blipFill>
          <a:blip r:embed="rId3"/>
          <a:stretch/>
        </p:blipFill>
        <p:spPr>
          <a:xfrm>
            <a:off x="4645080" y="1212840"/>
            <a:ext cx="43164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1" descr=""/>
          <p:cNvPicPr/>
          <p:nvPr/>
        </p:nvPicPr>
        <p:blipFill>
          <a:blip r:embed="rId1"/>
          <a:stretch/>
        </p:blipFill>
        <p:spPr>
          <a:xfrm>
            <a:off x="426960" y="1139760"/>
            <a:ext cx="85042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1" descr=""/>
          <p:cNvPicPr/>
          <p:nvPr/>
        </p:nvPicPr>
        <p:blipFill>
          <a:blip r:embed="rId1"/>
          <a:stretch/>
        </p:blipFill>
        <p:spPr>
          <a:xfrm>
            <a:off x="628560" y="1158840"/>
            <a:ext cx="805824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1" descr=""/>
          <p:cNvPicPr/>
          <p:nvPr/>
        </p:nvPicPr>
        <p:blipFill>
          <a:blip r:embed="rId1"/>
          <a:stretch/>
        </p:blipFill>
        <p:spPr>
          <a:xfrm>
            <a:off x="347760" y="1158840"/>
            <a:ext cx="831528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1" descr=""/>
          <p:cNvPicPr/>
          <p:nvPr/>
        </p:nvPicPr>
        <p:blipFill>
          <a:blip r:embed="rId1"/>
          <a:stretch/>
        </p:blipFill>
        <p:spPr>
          <a:xfrm>
            <a:off x="212760" y="652320"/>
            <a:ext cx="864540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1" descr=""/>
          <p:cNvPicPr/>
          <p:nvPr/>
        </p:nvPicPr>
        <p:blipFill>
          <a:blip r:embed="rId1"/>
          <a:stretch/>
        </p:blipFill>
        <p:spPr>
          <a:xfrm>
            <a:off x="1000080" y="927000"/>
            <a:ext cx="7369200" cy="646200"/>
          </a:xfrm>
          <a:prstGeom prst="rect">
            <a:avLst/>
          </a:prstGeom>
          <a:ln w="0">
            <a:noFill/>
          </a:ln>
        </p:spPr>
      </p:pic>
      <p:pic>
        <p:nvPicPr>
          <p:cNvPr id="290" name="Rectangle 3" descr=""/>
          <p:cNvPicPr/>
          <p:nvPr/>
        </p:nvPicPr>
        <p:blipFill>
          <a:blip r:embed="rId2"/>
          <a:stretch/>
        </p:blipFill>
        <p:spPr>
          <a:xfrm>
            <a:off x="858960" y="1682640"/>
            <a:ext cx="807228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719680" cy="5791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2"/>
          <a:stretch/>
        </p:blipFill>
        <p:spPr>
          <a:xfrm>
            <a:off x="3378240" y="2514600"/>
            <a:ext cx="2184480" cy="17524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1928880" y="457200"/>
            <a:ext cx="50004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61f02"/>
                </a:solidFill>
                <a:latin typeface="Constantia"/>
                <a:ea typeface="Microsoft YaHei"/>
              </a:rPr>
              <a:t>ДЯКУЮ ЗА УВА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1" descr=""/>
          <p:cNvPicPr/>
          <p:nvPr/>
        </p:nvPicPr>
        <p:blipFill>
          <a:blip r:embed="rId1"/>
          <a:stretch/>
        </p:blipFill>
        <p:spPr>
          <a:xfrm>
            <a:off x="1785960" y="1859040"/>
            <a:ext cx="59198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2165400" y="714240"/>
            <a:ext cx="4384080" cy="1739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іаційний ф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Зв/р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Rectangle 1" descr=""/>
          <p:cNvPicPr/>
          <p:nvPr/>
        </p:nvPicPr>
        <p:blipFill>
          <a:blip r:embed="rId1"/>
          <a:stretch/>
        </p:blipFill>
        <p:spPr>
          <a:xfrm>
            <a:off x="457200" y="2425680"/>
            <a:ext cx="7900920" cy="25066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"/>
          <p:cNvSpPr/>
          <p:nvPr/>
        </p:nvSpPr>
        <p:spPr>
          <a:xfrm>
            <a:off x="2000160" y="492912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5 мЗв/рік 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шт. Кер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75 мЗв/рік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уарапа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1998720"/>
          </a:xfrm>
          <a:prstGeom prst="rect">
            <a:avLst/>
          </a:prstGeom>
          <a:ln w="0">
            <a:noFill/>
          </a:ln>
        </p:spPr>
      </p:pic>
      <p:pic>
        <p:nvPicPr>
          <p:cNvPr id="267" name="Rectangle 3" descr=""/>
          <p:cNvPicPr/>
          <p:nvPr/>
        </p:nvPicPr>
        <p:blipFill>
          <a:blip r:embed="rId2"/>
          <a:stretch/>
        </p:blipFill>
        <p:spPr>
          <a:xfrm>
            <a:off x="1139760" y="3144960"/>
            <a:ext cx="66452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44440" y="1573200"/>
            <a:ext cx="8613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1" descr=""/>
          <p:cNvPicPr/>
          <p:nvPr/>
        </p:nvPicPr>
        <p:blipFill>
          <a:blip r:embed="rId1"/>
          <a:stretch/>
        </p:blipFill>
        <p:spPr>
          <a:xfrm>
            <a:off x="3786120" y="781200"/>
            <a:ext cx="4997520" cy="4582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" descr=""/>
          <p:cNvPicPr/>
          <p:nvPr/>
        </p:nvPicPr>
        <p:blipFill>
          <a:blip r:embed="rId2"/>
          <a:stretch/>
        </p:blipFill>
        <p:spPr>
          <a:xfrm>
            <a:off x="142920" y="496800"/>
            <a:ext cx="3429000" cy="60040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3825720" y="6000840"/>
            <a:ext cx="48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1, 2, 3 – </a:t>
            </a:r>
            <a:r>
              <a:rPr b="1" lang="uk-UA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індивідуальна  радіочутлив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4 – </a:t>
            </a:r>
            <a:r>
              <a:rPr b="1" lang="uk-UA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іг ефек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1" descr=""/>
          <p:cNvPicPr/>
          <p:nvPr/>
        </p:nvPicPr>
        <p:blipFill>
          <a:blip r:embed="rId1"/>
          <a:stretch/>
        </p:blipFill>
        <p:spPr>
          <a:xfrm>
            <a:off x="500040" y="1036800"/>
            <a:ext cx="82836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573120" y="1182600"/>
            <a:ext cx="83818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3" descr=""/>
          <p:cNvPicPr/>
          <p:nvPr/>
        </p:nvPicPr>
        <p:blipFill>
          <a:blip r:embed="rId1"/>
          <a:stretch/>
        </p:blipFill>
        <p:spPr>
          <a:xfrm>
            <a:off x="712800" y="1000080"/>
            <a:ext cx="7718400" cy="1127160"/>
          </a:xfrm>
          <a:prstGeom prst="rect">
            <a:avLst/>
          </a:prstGeom>
          <a:ln w="0">
            <a:noFill/>
          </a:ln>
        </p:spPr>
      </p:pic>
      <p:pic>
        <p:nvPicPr>
          <p:cNvPr id="275" name="Rectangle 4" descr=""/>
          <p:cNvPicPr/>
          <p:nvPr/>
        </p:nvPicPr>
        <p:blipFill>
          <a:blip r:embed="rId2"/>
          <a:stretch/>
        </p:blipFill>
        <p:spPr>
          <a:xfrm>
            <a:off x="360360" y="2286000"/>
            <a:ext cx="8570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7:52:15Z</dcterms:created>
  <dc:creator>name</dc:creator>
  <dc:description/>
  <dc:language>en-US</dc:language>
  <cp:lastModifiedBy>Микола Пилипенко</cp:lastModifiedBy>
  <dcterms:modified xsi:type="dcterms:W3CDTF">2019-10-29T18:12:21Z</dcterms:modified>
  <cp:revision>31</cp:revision>
  <dc:subject/>
  <dc:title>Слайд 1</dc:title>
</cp:coreProperties>
</file>