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Микола Пилипенко" initials="М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9-09-25T22:44:38.016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D424-8834-4754-851E-CCECDCB621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охастичні ефекти іонізивної радіаці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637A-A50C-4BAD-B237-F20FCD332DA2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ісцеві ураження тканин виникають при локальному опроміненні в дозі, вищій толерантно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25B4-2F1D-4751-9BBE-9671937296FD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ею між низькими і високими дозами прийнято значення дози у 200 мЗв. Висока потужність дози</a:t>
            </a:r>
            <a:r>
              <a:rPr b="0" i="1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значається</a:t>
            </a:r>
            <a:r>
              <a:rPr b="0" i="1" lang="uk-UA" sz="1200" spc="-1" strike="noStrike">
                <a:solidFill>
                  <a:srgbClr val="000000"/>
                </a:solidFill>
                <a:latin typeface="Calibri"/>
              </a:rPr>
              <a:t> «як потужність, за якої неможлива репарація радіаційних ушкоджень (приблизно 100 мЗв/год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» (Публікація 116 НКРЗ США, 199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3E5B-EDAC-4F41-B8B1-530CE039EFEB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300-758B-4733-AAD8-A5E9E4561E38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блема порога стохастичних ефект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6FA-59F4-4C81-AC39-E2286CBFC6D6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8A35-BCAB-4C44-8B05-A662BAD6B201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385-4921-473E-B06B-940958AB5C4C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4570-DAFE-4F88-A40F-90273802B900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00 флюорографій/рі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за середня   = 0,0052 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лективна доза  109200 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важувальний       фак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інки                 груди  0,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гені  0,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азом   0,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фективна доза     109200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,27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742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юдино-З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ихід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лоя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ухлин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1474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055 =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8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оловіки             Легені  0,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фективна доза  109200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12 = 6552 людино-З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хід злояк пухлин   655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055 =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Разом   810 </a:t>
            </a:r>
            <a:r>
              <a:rPr b="1" lang="uk-UA" sz="1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 360 = </a:t>
            </a:r>
            <a:r>
              <a:rPr b="1" lang="uk-UA" sz="1200" spc="-1" strike="noStrike" u="sng">
                <a:solidFill>
                  <a:srgbClr val="000000"/>
                </a:solidFill>
                <a:uFillTx/>
                <a:latin typeface="Calibri"/>
              </a:rPr>
              <a:t>1170 випадк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E67-1A87-4A83-BD1D-6BFABB369039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C14C-6F52-4E6D-9E00-FCD8A61B95CC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7EBB-4353-4D7E-A0C5-B676E4E4BDA9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інічна радіобіологі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43D8-145E-42F9-B352-0FE10C9DC9CE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FBDE-899F-4654-A097-6B2D802ECA75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5E82-4F8E-45C1-8DCA-999DD76866C9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адіаційні ефек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1A6-FFC7-47A0-866C-933B673B7F33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, 2, 3 – індивідуальна чутливі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36A9-21DA-4C3D-844D-16BC32A39380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895A-66BB-4C0E-8D7C-2A9092ECDD0D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CB53-7488-4D09-AB3B-7E599E33AF2C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Х виникає після короткочасного опромінення (від кількох хвилин 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–3 діб) всього тіла в дозі 1 Гр і ви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ісля менших рівнів гострого опромінення всього тіла відмічаю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акі наслі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нижче 0,1 Гр стан не змінюється, будь-які лабораторні о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ідсутні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0,1–0,2 Гр підвищується частота хромосомних аберацій, пр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інічні ознаки відсутні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0,12 Гр кількість сперматозоїдів знижується до мініму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зно на 45-й день, після чого сперматогенез відновлюєть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в діапазоні 0,5–1 Гр помітно пригнічується кровотворенн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істковому мозку з розвитком лімфопенії без інших ознак ураже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62A-3151-44BE-9410-2EFC87FF6508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A83-FCB4-4408-A8FA-A76D2828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79C-5DF4-4A9F-8C36-B0A0F95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005-9741-470C-A5B6-0CEB3469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B9E-F243-4223-9F8F-9C7CB9CF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C3F2-5C60-4206-99F8-0BAB41FA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CB27-529A-4EB4-B0C0-271881F7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E394-0D56-494F-A5FA-9DEFCA16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62CB-C78C-4AEF-AA33-E5A9CE0F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D1EA-8DF0-46B3-BD51-07DF5C9F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6382-3426-4E8F-8633-B1928E8B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AD99-DF6E-4C75-BC26-16D59D3E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5E5-2EC5-44CF-95D2-8477150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877D-FF7C-4883-BF07-FD13DD1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FE53-4211-45D6-A04E-3111B850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1074-8FCC-46B2-B116-0A5E526B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9649-0833-4027-B728-D684F7A2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650-7A94-4138-AE57-0884AE1C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7BA9-D004-4C92-B0A1-111CFF1E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E3FE-F759-47EF-B26B-7C973ED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2F1C-DA9F-45E9-AA56-7FF2877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6CA9-D24D-4A5F-80BF-457F5A4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097A-377D-4C0D-ACD8-D57C9C93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B18-0820-4491-8A84-17978DA3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AE24-6398-4ED8-8083-B49247A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10AD-C193-4FB7-92A6-E73CCDE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A549-77E9-4E74-BF14-C428EC8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1886-75E0-4BAE-A98D-8788A0B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83E3-3B0F-4D14-9EAF-3A4832F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AF25-4134-42F9-A27E-7D2872C2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28B9-37D9-48D0-9593-4E58D11D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2BF4-AD11-4962-9E0D-5875A626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EB32-F467-4798-B799-2D38ACD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66FC-3305-4F08-87FD-DEB3D7D7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EF0-6E04-4993-B592-86D3B888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E91A-8AD7-44FC-B187-E9B473F1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ADC5-C73F-48A1-AB2A-3FAEA49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F7EF3-E5FD-4027-B0FD-553F9051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0C6D-762F-4214-8F4A-906AA18C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EC0E6-BEE9-49D0-A1E6-A557E88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ED54-815E-4178-9639-3342A72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2E80-EA26-40A1-B4A2-FC6D38FA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DB8D-97FD-4CB4-922A-CE9D5E92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4066-B881-4065-AAD0-5E5113D8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BC76B-D4E4-407E-BA8B-69CCC33761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6DD-A4C5-4CD5-9400-0569DFB8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A9379-0D3F-4937-A5D2-CECAC966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61229-CF36-40F3-89C7-1CCF7049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63F96-28B5-4C7C-9979-C5CCB870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BDFD8-529A-492F-90E8-6422638C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F3FD0-7BA4-410D-9902-883B88DE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4096E-8673-4EF6-903F-F56BDEA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9A98B-E5E7-480C-A691-AC2712C6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9C852-766E-4168-865E-D865A520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2CC90-2988-4F67-9FE9-C1C0FDC6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ED058-45B8-4A9A-B2FC-CA2EF3EC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47C-A344-4F9A-AE9F-D8E9F246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1A2CB-E223-4563-9E3C-789512539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5B9-7AB4-4D2C-91F4-63915A1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ABE-8EC2-41C8-B400-96E6CF2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2DE-7E14-4DFE-B299-0931B49C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D10A-E5CB-43CA-9522-1678F2EFED5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222D-9B70-4BC7-BF2E-67F24BA832A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F0A5-1A85-44E5-86AA-41DC05BC11B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BAA6-55BA-4B25-9533-D997782F7ED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Constantia"/>
              </a:rPr>
              <a:t>15.9.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EF0C-8D9F-4290-973A-11672FBF6EC8}" type="slidenum">
              <a:rPr b="0" lang="uk-U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19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6215040" y="648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Зображення, що містить будівля, надворі, дорога, місто&#10;&#10;Автоматично згенерований опис"/>
          <p:cNvPicPr/>
          <p:nvPr/>
        </p:nvPicPr>
        <p:blipFill>
          <a:blip r:embed="rId1"/>
          <a:stretch/>
        </p:blipFill>
        <p:spPr>
          <a:xfrm>
            <a:off x="339840" y="0"/>
            <a:ext cx="8613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4" descr=""/>
          <p:cNvPicPr/>
          <p:nvPr/>
        </p:nvPicPr>
        <p:blipFill>
          <a:blip r:embed="rId1"/>
          <a:stretch/>
        </p:blipFill>
        <p:spPr>
          <a:xfrm>
            <a:off x="822240" y="2212920"/>
            <a:ext cx="74995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786040" y="1139760"/>
            <a:ext cx="3565440" cy="8352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3" descr=""/>
          <p:cNvPicPr/>
          <p:nvPr/>
        </p:nvPicPr>
        <p:blipFill>
          <a:blip r:embed="rId2"/>
          <a:stretch/>
        </p:blipFill>
        <p:spPr>
          <a:xfrm>
            <a:off x="426960" y="2341440"/>
            <a:ext cx="8425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144360" y="287280"/>
            <a:ext cx="3184560" cy="61419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3857760" y="1000080"/>
            <a:ext cx="4786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Rectangle 5" descr=""/>
          <p:cNvPicPr/>
          <p:nvPr/>
        </p:nvPicPr>
        <p:blipFill>
          <a:blip r:embed="rId2"/>
          <a:stretch/>
        </p:blipFill>
        <p:spPr>
          <a:xfrm>
            <a:off x="3713040" y="785880"/>
            <a:ext cx="54309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4380120" cy="2802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85840" y="4071960"/>
            <a:ext cx="4921200" cy="242892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5" descr=""/>
          <p:cNvPicPr/>
          <p:nvPr/>
        </p:nvPicPr>
        <p:blipFill>
          <a:blip r:embed="rId3"/>
          <a:stretch/>
        </p:blipFill>
        <p:spPr>
          <a:xfrm>
            <a:off x="4645080" y="1212840"/>
            <a:ext cx="4316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1" descr=""/>
          <p:cNvPicPr/>
          <p:nvPr/>
        </p:nvPicPr>
        <p:blipFill>
          <a:blip r:embed="rId1"/>
          <a:stretch/>
        </p:blipFill>
        <p:spPr>
          <a:xfrm>
            <a:off x="426960" y="1139760"/>
            <a:ext cx="85042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1" descr=""/>
          <p:cNvPicPr/>
          <p:nvPr/>
        </p:nvPicPr>
        <p:blipFill>
          <a:blip r:embed="rId1"/>
          <a:stretch/>
        </p:blipFill>
        <p:spPr>
          <a:xfrm>
            <a:off x="628560" y="1158840"/>
            <a:ext cx="80582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1" descr=""/>
          <p:cNvPicPr/>
          <p:nvPr/>
        </p:nvPicPr>
        <p:blipFill>
          <a:blip r:embed="rId1"/>
          <a:stretch/>
        </p:blipFill>
        <p:spPr>
          <a:xfrm>
            <a:off x="347760" y="1158840"/>
            <a:ext cx="83152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" descr=""/>
          <p:cNvPicPr/>
          <p:nvPr/>
        </p:nvPicPr>
        <p:blipFill>
          <a:blip r:embed="rId1"/>
          <a:stretch/>
        </p:blipFill>
        <p:spPr>
          <a:xfrm>
            <a:off x="212760" y="652320"/>
            <a:ext cx="86454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1" descr=""/>
          <p:cNvPicPr/>
          <p:nvPr/>
        </p:nvPicPr>
        <p:blipFill>
          <a:blip r:embed="rId1"/>
          <a:stretch/>
        </p:blipFill>
        <p:spPr>
          <a:xfrm>
            <a:off x="1000080" y="927000"/>
            <a:ext cx="7369200" cy="646200"/>
          </a:xfrm>
          <a:prstGeom prst="rect">
            <a:avLst/>
          </a:prstGeom>
          <a:ln w="0">
            <a:noFill/>
          </a:ln>
        </p:spPr>
      </p:pic>
      <p:pic>
        <p:nvPicPr>
          <p:cNvPr id="290" name="Rectangle 3" descr=""/>
          <p:cNvPicPr/>
          <p:nvPr/>
        </p:nvPicPr>
        <p:blipFill>
          <a:blip r:embed="rId2"/>
          <a:stretch/>
        </p:blipFill>
        <p:spPr>
          <a:xfrm>
            <a:off x="858960" y="1682640"/>
            <a:ext cx="80722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719680" cy="5791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3378240" y="2514600"/>
            <a:ext cx="2184480" cy="17524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1928880" y="457200"/>
            <a:ext cx="5000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61f02"/>
                </a:solidFill>
                <a:latin typeface="Constantia"/>
                <a:ea typeface="Microsoft YaHei"/>
              </a:rPr>
              <a:t>ДЯКУЮ ЗА УВА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" descr=""/>
          <p:cNvPicPr/>
          <p:nvPr/>
        </p:nvPicPr>
        <p:blipFill>
          <a:blip r:embed="rId1"/>
          <a:stretch/>
        </p:blipFill>
        <p:spPr>
          <a:xfrm>
            <a:off x="1785960" y="1859040"/>
            <a:ext cx="5919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2165400" y="714240"/>
            <a:ext cx="4384080" cy="1739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іаційний 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Зв/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1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7900920" cy="25066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2000160" y="49291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 мЗв/рік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шт. Ке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5 мЗв/рік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уарап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1998720"/>
          </a:xfrm>
          <a:prstGeom prst="rect">
            <a:avLst/>
          </a:prstGeom>
          <a:ln w="0">
            <a:noFill/>
          </a:ln>
        </p:spPr>
      </p:pic>
      <p:pic>
        <p:nvPicPr>
          <p:cNvPr id="267" name="Rectangle 3" descr=""/>
          <p:cNvPicPr/>
          <p:nvPr/>
        </p:nvPicPr>
        <p:blipFill>
          <a:blip r:embed="rId2"/>
          <a:stretch/>
        </p:blipFill>
        <p:spPr>
          <a:xfrm>
            <a:off x="1139760" y="3144960"/>
            <a:ext cx="66452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44440" y="1573200"/>
            <a:ext cx="8613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1" descr=""/>
          <p:cNvPicPr/>
          <p:nvPr/>
        </p:nvPicPr>
        <p:blipFill>
          <a:blip r:embed="rId1"/>
          <a:stretch/>
        </p:blipFill>
        <p:spPr>
          <a:xfrm>
            <a:off x="3786120" y="781200"/>
            <a:ext cx="4997520" cy="458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2"/>
          <a:stretch/>
        </p:blipFill>
        <p:spPr>
          <a:xfrm>
            <a:off x="142920" y="496800"/>
            <a:ext cx="3429000" cy="6004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3825720" y="60008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1, 2, 3 – 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індивідуальна  радіочутлив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4 – 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іг ефе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1" descr=""/>
          <p:cNvPicPr/>
          <p:nvPr/>
        </p:nvPicPr>
        <p:blipFill>
          <a:blip r:embed="rId1"/>
          <a:stretch/>
        </p:blipFill>
        <p:spPr>
          <a:xfrm>
            <a:off x="500040" y="1036800"/>
            <a:ext cx="8283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573120" y="1182600"/>
            <a:ext cx="838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18400" cy="112716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4" descr=""/>
          <p:cNvPicPr/>
          <p:nvPr/>
        </p:nvPicPr>
        <p:blipFill>
          <a:blip r:embed="rId2"/>
          <a:stretch/>
        </p:blipFill>
        <p:spPr>
          <a:xfrm>
            <a:off x="360360" y="2286000"/>
            <a:ext cx="8570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7:52:15Z</dcterms:created>
  <dc:creator>name</dc:creator>
  <dc:description/>
  <dc:language>en-US</dc:language>
  <cp:lastModifiedBy>Микола Пилипенко</cp:lastModifiedBy>
  <dcterms:modified xsi:type="dcterms:W3CDTF">2019-10-29T18:12:21Z</dcterms:modified>
  <cp:revision>31</cp:revision>
  <dc:subject/>
  <dc:title>Слайд 1</dc:title>
</cp:coreProperties>
</file>