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Микола Пилипенко" initials="М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9-09-25T22:44:38.016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31FC-934F-4D27-8B16-2BE4F90360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охастичні ефекти іонізивної радіаці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F33A-1F56-4416-887C-D670E45D3EB6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ісцеві ураження тканин виникають при локальному опроміненні в дозі, вищій толерантно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604-4E20-4490-B58C-AA99030EE026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ею між низькими і високими дозами прийнято значення дози у 200 мЗв. Висока потужність дози</a:t>
            </a:r>
            <a:r>
              <a:rPr b="0" i="1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значається</a:t>
            </a:r>
            <a:r>
              <a:rPr b="0" i="1" lang="uk-UA" sz="1200" spc="-1" strike="noStrike">
                <a:solidFill>
                  <a:srgbClr val="000000"/>
                </a:solidFill>
                <a:latin typeface="Calibri"/>
              </a:rPr>
              <a:t> «як потужність, за якої неможлива репарація радіаційних ушкоджень (приблизно 100 мЗв/год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» (Публікація 116 НКРЗ США, 199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5236-1C16-4A3E-B7ED-215D4B2F3C28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FDE-8B23-4D7D-95D0-ED7D70F72E85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блема порога стохастичних ефект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0F2-B143-49EE-9F61-CFD74AB7C407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E73D-05E7-4E20-B38C-235214596703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87B1-2EC0-487C-B82E-1F02BD740207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CD03-488E-47D7-ABB4-5D6B7C2A608C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00 флюорографій/рі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за середня   = 0,0052 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лективна доза  109200 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важувальний       фак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інки                 груди  0,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гені  0,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азом   0,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фективна доза     109200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,27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742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юдино-З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ихід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лоя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ухлин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1474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055 =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8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оловіки             Легені  0,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фективна доза  109200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12 = 6552 людино-З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хід злояк пухлин   655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055 =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Разом   810 </a:t>
            </a:r>
            <a:r>
              <a:rPr b="1" lang="uk-UA" sz="1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 360 = </a:t>
            </a:r>
            <a:r>
              <a:rPr b="1" lang="uk-UA" sz="1200" spc="-1" strike="noStrike" u="sng">
                <a:solidFill>
                  <a:srgbClr val="000000"/>
                </a:solidFill>
                <a:uFillTx/>
                <a:latin typeface="Calibri"/>
              </a:rPr>
              <a:t>1170 випадк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9570-4677-405E-A167-97F93D32A1CA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8B46-5A75-4697-8BA1-E00860661D45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C294-8ECB-4C3F-BD8D-2EB62EB78F2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інічна радіобіологі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FAD9-9D4C-48CA-AC45-D48B54871E16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93D-40EA-496B-A27C-999A91382768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6068-9AC7-4D3B-9C1C-B9D7F7F88B3A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адіаційні ефек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C49A-C33F-465A-AA88-D196CB4EC86F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, 2, 3 – індивідуальна чутливі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E87-71F5-40B0-88B9-98068392D8A7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E9B-4370-46DE-B3DF-E0FE327A4867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41CE-17BA-4347-9706-5012FDA4DED3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Х виникає після короткочасного опромінення (від кількох хвилин 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–3 діб) всього тіла в дозі 1 Гр і ви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ісля менших рівнів гострого опромінення всього тіла відмічаю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акі наслі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нижче 0,1 Гр стан не змінюється, будь-які лабораторні о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ідсутні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0,1–0,2 Гр підвищується частота хромосомних аберацій, пр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інічні ознаки відсутні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0,12 Гр кількість сперматозоїдів знижується до мініму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зно на 45-й день, після чого сперматогенез відновлюєть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в діапазоні 0,5–1 Гр помітно пригнічується кровотворенн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істковому мозку з розвитком лімфопенії без інших ознак ураже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79C8-A8D6-46AB-99D4-23D9663CA297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E63-8BD6-4C2B-AAB4-025C5D28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9CB-602E-4769-B584-6CD72984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185-8F50-43C4-822E-6498943C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2D9-9AEC-4E49-8524-7206AA0E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6559-9C9F-4B8B-8B35-7BBFE934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8D66-60FA-482E-94BC-486CDCE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1BBF-A54D-42C2-ABB4-63F3A18C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C3BC-B20F-4C2C-AB2C-2E19AFF7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282F-224C-4168-B537-48D19AFF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158F-65B6-4C5E-B7A8-4B5743C9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0F6D-F176-4175-9278-0705B27B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3DF-8C00-4C73-BED6-E9F6EFA0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9DE2-EEFF-4911-ACE4-119F31E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AC4E-5EE8-447B-8A22-567B81E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0E5C-C89F-4A3C-BB24-9D68880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79F9-D213-4EA3-867D-F5A18C08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A3C1-2727-4821-9B9D-CECC6391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A052-0532-44C9-BAB9-FF636D42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DDB6-592E-4A99-A6E2-93EF3F5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964C-234A-4427-9096-62946515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9B66-F809-417E-91BC-E4CBEE5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02E0-FDA2-434E-86C1-60236843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1E0-640C-4E31-8A1C-E756B449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5921-87E0-4229-8A35-70BB717E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93A2-6134-4998-A105-6D9E9F1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5BF7-6A50-4B3A-8293-39C1CCA3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8887-ED35-42A9-8082-35B9823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5DEC-90E4-430D-B243-05BEA561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1CD3-6D57-488A-A43E-10FCE444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8D27-7904-4F71-AAB2-79FD51D1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E312-74DD-4CD7-B652-1E57E9C9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6A0B-6624-4B16-9CDB-1B6E18A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C26B-F4B8-4194-8DC0-FE932DC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C38-4748-4A36-A1D0-A4E28C7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CF57-3002-4BD7-9D1A-2A9B08EE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02A7-D6A3-44AA-9570-3D61D28A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FCE6-6C27-4C4C-895A-CCDFC21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83A6-663C-41D2-AF4B-921C0576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A49DB-5849-4004-9A25-80DDA6D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5AD6-0F6D-46F0-B2CA-AC98102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4322-158F-4DE8-9D38-4CCB161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18C17-8925-4575-B262-8CEA02D9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459EB-5036-47ED-84E4-F005F32C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C412B-F126-4D56-84DF-0AC047280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0EF-3555-4925-B9AB-BF532CBA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96122-65C9-4420-ABCD-54FDCB23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A5543-BB01-4E41-BA1A-71932BA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A3485-F3F4-4845-9DB8-22717AA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DEB4F-3D92-48BD-8A51-143CCC3B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36340-339F-4D98-9731-1F7FC2AB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9AA3B-9913-48A7-A7E8-95C5BD2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C654C-8C1B-4FBA-B059-A8EC6D2B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B779D-32E0-4D7F-B486-371F8129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A44EF-113A-471C-AF66-0895D4DE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987C0-44ED-4FFC-AB67-6C0DF26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627-CE60-4830-93D7-5D6BA5B7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58B56-554E-41AA-9CF3-C9FE5A88D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D50-4360-4303-8EF2-FA640E76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0EB-FE49-4B1B-8FA3-09533E6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632-655C-41F8-840B-E3100C5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218C-04E1-4BAF-8466-2331B363E0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B32D-1BDF-4E5F-8BA0-488D3F30DB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66B-6018-4E71-96A7-1728A94D2B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22AE-B2FF-448F-BAF6-547C1B5DEED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Constantia"/>
              </a:rPr>
              <a:t>15.9.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CDAE-A41B-4010-8FE6-CF5D9C8B8677}" type="slidenum">
              <a:rPr b="0" lang="uk-U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19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6215040" y="648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Зображення, що містить будівля, надворі, дорога, місто&#10;&#10;Автоматично згенерований опис"/>
          <p:cNvPicPr/>
          <p:nvPr/>
        </p:nvPicPr>
        <p:blipFill>
          <a:blip r:embed="rId1"/>
          <a:stretch/>
        </p:blipFill>
        <p:spPr>
          <a:xfrm>
            <a:off x="339840" y="0"/>
            <a:ext cx="8613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4" descr=""/>
          <p:cNvPicPr/>
          <p:nvPr/>
        </p:nvPicPr>
        <p:blipFill>
          <a:blip r:embed="rId1"/>
          <a:stretch/>
        </p:blipFill>
        <p:spPr>
          <a:xfrm>
            <a:off x="822240" y="2212920"/>
            <a:ext cx="74995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786040" y="1139760"/>
            <a:ext cx="3565440" cy="8352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3" descr=""/>
          <p:cNvPicPr/>
          <p:nvPr/>
        </p:nvPicPr>
        <p:blipFill>
          <a:blip r:embed="rId2"/>
          <a:stretch/>
        </p:blipFill>
        <p:spPr>
          <a:xfrm>
            <a:off x="426960" y="2341440"/>
            <a:ext cx="8425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144360" y="287280"/>
            <a:ext cx="3184560" cy="61419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3857760" y="1000080"/>
            <a:ext cx="4786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Rectangle 5" descr=""/>
          <p:cNvPicPr/>
          <p:nvPr/>
        </p:nvPicPr>
        <p:blipFill>
          <a:blip r:embed="rId2"/>
          <a:stretch/>
        </p:blipFill>
        <p:spPr>
          <a:xfrm>
            <a:off x="3713040" y="785880"/>
            <a:ext cx="54309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4380120" cy="2802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85840" y="4071960"/>
            <a:ext cx="4921200" cy="242892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5" descr=""/>
          <p:cNvPicPr/>
          <p:nvPr/>
        </p:nvPicPr>
        <p:blipFill>
          <a:blip r:embed="rId3"/>
          <a:stretch/>
        </p:blipFill>
        <p:spPr>
          <a:xfrm>
            <a:off x="4645080" y="1212840"/>
            <a:ext cx="4316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1" descr=""/>
          <p:cNvPicPr/>
          <p:nvPr/>
        </p:nvPicPr>
        <p:blipFill>
          <a:blip r:embed="rId1"/>
          <a:stretch/>
        </p:blipFill>
        <p:spPr>
          <a:xfrm>
            <a:off x="426960" y="1139760"/>
            <a:ext cx="85042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1" descr=""/>
          <p:cNvPicPr/>
          <p:nvPr/>
        </p:nvPicPr>
        <p:blipFill>
          <a:blip r:embed="rId1"/>
          <a:stretch/>
        </p:blipFill>
        <p:spPr>
          <a:xfrm>
            <a:off x="628560" y="1158840"/>
            <a:ext cx="80582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1" descr=""/>
          <p:cNvPicPr/>
          <p:nvPr/>
        </p:nvPicPr>
        <p:blipFill>
          <a:blip r:embed="rId1"/>
          <a:stretch/>
        </p:blipFill>
        <p:spPr>
          <a:xfrm>
            <a:off x="347760" y="1158840"/>
            <a:ext cx="83152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" descr=""/>
          <p:cNvPicPr/>
          <p:nvPr/>
        </p:nvPicPr>
        <p:blipFill>
          <a:blip r:embed="rId1"/>
          <a:stretch/>
        </p:blipFill>
        <p:spPr>
          <a:xfrm>
            <a:off x="212760" y="652320"/>
            <a:ext cx="86454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1" descr=""/>
          <p:cNvPicPr/>
          <p:nvPr/>
        </p:nvPicPr>
        <p:blipFill>
          <a:blip r:embed="rId1"/>
          <a:stretch/>
        </p:blipFill>
        <p:spPr>
          <a:xfrm>
            <a:off x="1000080" y="927000"/>
            <a:ext cx="7369200" cy="646200"/>
          </a:xfrm>
          <a:prstGeom prst="rect">
            <a:avLst/>
          </a:prstGeom>
          <a:ln w="0">
            <a:noFill/>
          </a:ln>
        </p:spPr>
      </p:pic>
      <p:pic>
        <p:nvPicPr>
          <p:cNvPr id="290" name="Rectangle 3" descr=""/>
          <p:cNvPicPr/>
          <p:nvPr/>
        </p:nvPicPr>
        <p:blipFill>
          <a:blip r:embed="rId2"/>
          <a:stretch/>
        </p:blipFill>
        <p:spPr>
          <a:xfrm>
            <a:off x="858960" y="1682640"/>
            <a:ext cx="80722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719680" cy="5791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3378240" y="2514600"/>
            <a:ext cx="2184480" cy="17524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1928880" y="457200"/>
            <a:ext cx="5000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61f02"/>
                </a:solidFill>
                <a:latin typeface="Constantia"/>
                <a:ea typeface="Microsoft YaHei"/>
              </a:rPr>
              <a:t>ДЯКУЮ ЗА УВА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" descr=""/>
          <p:cNvPicPr/>
          <p:nvPr/>
        </p:nvPicPr>
        <p:blipFill>
          <a:blip r:embed="rId1"/>
          <a:stretch/>
        </p:blipFill>
        <p:spPr>
          <a:xfrm>
            <a:off x="1785960" y="1859040"/>
            <a:ext cx="5919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2165400" y="714240"/>
            <a:ext cx="4384080" cy="1739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іаційний 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Зв/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1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7900920" cy="25066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2000160" y="49291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 мЗв/рік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шт. Ке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5 мЗв/рік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уарап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1998720"/>
          </a:xfrm>
          <a:prstGeom prst="rect">
            <a:avLst/>
          </a:prstGeom>
          <a:ln w="0">
            <a:noFill/>
          </a:ln>
        </p:spPr>
      </p:pic>
      <p:pic>
        <p:nvPicPr>
          <p:cNvPr id="267" name="Rectangle 3" descr=""/>
          <p:cNvPicPr/>
          <p:nvPr/>
        </p:nvPicPr>
        <p:blipFill>
          <a:blip r:embed="rId2"/>
          <a:stretch/>
        </p:blipFill>
        <p:spPr>
          <a:xfrm>
            <a:off x="1139760" y="3144960"/>
            <a:ext cx="66452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44440" y="1573200"/>
            <a:ext cx="8613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1" descr=""/>
          <p:cNvPicPr/>
          <p:nvPr/>
        </p:nvPicPr>
        <p:blipFill>
          <a:blip r:embed="rId1"/>
          <a:stretch/>
        </p:blipFill>
        <p:spPr>
          <a:xfrm>
            <a:off x="3786120" y="781200"/>
            <a:ext cx="4997520" cy="458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2"/>
          <a:stretch/>
        </p:blipFill>
        <p:spPr>
          <a:xfrm>
            <a:off x="142920" y="496800"/>
            <a:ext cx="3429000" cy="6004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3825720" y="60008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1, 2, 3 – 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індивідуальна  радіочутлив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4 – 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іг ефе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1" descr=""/>
          <p:cNvPicPr/>
          <p:nvPr/>
        </p:nvPicPr>
        <p:blipFill>
          <a:blip r:embed="rId1"/>
          <a:stretch/>
        </p:blipFill>
        <p:spPr>
          <a:xfrm>
            <a:off x="500040" y="1036800"/>
            <a:ext cx="8283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573120" y="1182600"/>
            <a:ext cx="838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18400" cy="112716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4" descr=""/>
          <p:cNvPicPr/>
          <p:nvPr/>
        </p:nvPicPr>
        <p:blipFill>
          <a:blip r:embed="rId2"/>
          <a:stretch/>
        </p:blipFill>
        <p:spPr>
          <a:xfrm>
            <a:off x="360360" y="2286000"/>
            <a:ext cx="8570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7:52:15Z</dcterms:created>
  <dc:creator>name</dc:creator>
  <dc:description/>
  <dc:language>en-US</dc:language>
  <cp:lastModifiedBy>Микола Пилипенко</cp:lastModifiedBy>
  <dcterms:modified xsi:type="dcterms:W3CDTF">2019-10-29T18:12:21Z</dcterms:modified>
  <cp:revision>31</cp:revision>
  <dc:subject/>
  <dc:title>Слайд 1</dc:title>
</cp:coreProperties>
</file>