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56.wmf" ContentType="image/x-wmf"/>
  <Override PartName="/ppt/media/image55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77.png" ContentType="image/png"/>
  <Override PartName="/ppt/media/image33.wmf" ContentType="image/x-wmf"/>
  <Override PartName="/ppt/media/image32.wmf" ContentType="image/x-wmf"/>
  <Override PartName="/ppt/media/image75.png" ContentType="image/png"/>
  <Override PartName="/ppt/media/image30.wmf" ContentType="image/x-wmf"/>
  <Override PartName="/ppt/media/image73.png" ContentType="image/png"/>
  <Override PartName="/ppt/media/image3.png" ContentType="image/png"/>
  <Override PartName="/ppt/media/image80.png" ContentType="image/png"/>
  <Override PartName="/ppt/media/image13.wmf" ContentType="image/x-wmf"/>
  <Override PartName="/ppt/media/image60.png" ContentType="image/png"/>
  <Override PartName="/ppt/media/image6.jpeg" ContentType="image/jpeg"/>
  <Override PartName="/ppt/media/image71.png" ContentType="image/png"/>
  <Override PartName="/ppt/media/image69.wmf" ContentType="image/x-wmf"/>
  <Override PartName="/ppt/media/image19.wmf" ContentType="image/x-wmf"/>
  <Override PartName="/ppt/media/image84.wmf" ContentType="image/x-wmf"/>
  <Override PartName="/ppt/media/image21.wmf" ContentType="image/x-wmf"/>
  <Override PartName="/ppt/media/image64.png" ContentType="image/png"/>
  <Override PartName="/ppt/media/image22.wmf" ContentType="image/x-wmf"/>
  <Override PartName="/ppt/media/image65.png" ContentType="image/png"/>
  <Override PartName="/ppt/media/image26.wmf" ContentType="image/x-wmf"/>
  <Override PartName="/ppt/media/image62.png" ContentType="image/png"/>
  <Override PartName="/ppt/media/image23.wmf" ContentType="image/x-wmf"/>
  <Override PartName="/ppt/media/image66.png" ContentType="image/png"/>
  <Override PartName="/ppt/media/image27.wmf" ContentType="image/x-wmf"/>
  <Override PartName="/ppt/media/image58.png" ContentType="image/png"/>
  <Override PartName="/ppt/media/image15.wmf" ContentType="image/x-wmf"/>
  <Override PartName="/ppt/media/image24.wmf" ContentType="image/x-wmf"/>
  <Override PartName="/ppt/media/image67.png" ContentType="image/png"/>
  <Override PartName="/ppt/media/image70.wmf" ContentType="image/x-wmf"/>
  <Override PartName="/ppt/media/image28.wmf" ContentType="image/x-wmf"/>
  <Override PartName="/ppt/media/image25.wmf" ContentType="image/x-wmf"/>
  <Override PartName="/ppt/media/image68.png" ContentType="image/png"/>
  <Override PartName="/ppt/media/image29.wmf" ContentType="image/x-wmf"/>
  <Override PartName="/ppt/media/image1.png" ContentType="image/png"/>
  <Override PartName="/ppt/media/image72.png" ContentType="image/png"/>
  <Override PartName="/ppt/media/image78.wmf" ContentType="image/x-wmf"/>
  <Override PartName="/ppt/media/image17.wmf" ContentType="image/x-wmf"/>
  <Override PartName="/ppt/media/image82.wmf" ContentType="image/x-wmf"/>
  <Override PartName="/ppt/media/image79.wmf" ContentType="image/x-wmf"/>
  <Override PartName="/ppt/media/image14.wmf" ContentType="image/x-wmf"/>
  <Override PartName="/ppt/media/image63.png" ContentType="image/png"/>
  <Override PartName="/ppt/media/image20.wmf" ContentType="image/x-wmf"/>
  <Override PartName="/ppt/media/image57.wmf" ContentType="image/x-wmf"/>
  <Override PartName="/ppt/media/image83.wmf" ContentType="image/x-wmf"/>
  <Override PartName="/ppt/media/image18.wmf" ContentType="image/x-wmf"/>
  <Override PartName="/ppt/media/image61.png" ContentType="image/png"/>
  <Override PartName="/ppt/media/image5.jpeg" ContentType="image/jpeg"/>
  <Override PartName="/ppt/media/image48.wmf" ContentType="image/x-wmf"/>
  <Override PartName="/ppt/media/image54.png" ContentType="image/png"/>
  <Override PartName="/ppt/media/image11.wmf" ContentType="image/x-wmf"/>
  <Override PartName="/ppt/media/image76.jpeg" ContentType="image/jpeg"/>
  <Override PartName="/ppt/media/image86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9.wmf" ContentType="image/x-wmf"/>
  <Override PartName="/ppt/media/image81.png" ContentType="image/png"/>
  <Override PartName="/ppt/media/image7.jpeg" ContentType="image/jpeg"/>
  <Override PartName="/ppt/media/image31.wmf" ContentType="image/x-wmf"/>
  <Override PartName="/ppt/media/image74.png" ContentType="image/png"/>
  <Override PartName="/ppt/media/image2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8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5AF7-0B34-4275-BFF9-24CA95946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AA8-7973-4840-9AEC-A6DF9A414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2BA2-1FE9-4855-8639-9A732E754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5204-4318-4936-BA9B-1C99384AC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DCA2-0433-4BE1-B9F3-0B094153F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97CB-89B9-4A96-ACBB-8B7F78C28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954E-64F1-4F07-86B2-50EDA7D9D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9EC2-0A92-4326-8813-B40DF8337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F624-BD1B-4616-A74A-D5B318077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A6B-3460-47C4-A962-E2DBEB26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C35-E9DF-46E4-BC38-3C330F45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5C3-3111-4872-AC3E-FD2A1B50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CB1-0FC1-4493-B8B4-FAB90360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0CD-03E8-4A21-9161-0F54E5BF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336-B719-4EF6-8022-52AA3F56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BBE-D7BB-4EC0-AA5F-E9B14ADB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A37-6795-4647-9899-D495BEC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1EF-76C3-4CAA-A59F-01C60E9B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99D-C991-4AAA-B46E-97AA9CB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4E9-4D66-42C9-9359-36D95EE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510-CF83-4FB7-B4F3-E77093C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990-3977-452C-9310-73F09C401AA1}" type="slidenum">
              <a:rPr b="0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0"/>
            <a:ext cx="8785440" cy="58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c0504d"/>
                </a:solidFill>
                <a:latin typeface="Arial"/>
              </a:rPr>
              <a:t>Харківський національний медичний університет</a:t>
            </a:r>
            <a:br>
              <a:rPr sz="2400"/>
            </a:b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Кафедра медичної та біоорганічної хімії</a:t>
            </a:r>
            <a:br>
              <a:rPr sz="2000"/>
            </a:br>
            <a:br>
              <a:rPr sz="2000"/>
            </a:br>
            <a:r>
              <a:rPr b="1" i="1" lang="uk-U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660033"/>
                </a:solidFill>
                <a:latin typeface="Arial"/>
              </a:rPr>
              <a:t>«Біологічна та біоорганічна хімія»</a:t>
            </a:r>
            <a:br>
              <a:rPr sz="2000"/>
            </a:br>
            <a:br>
              <a:rPr sz="2000"/>
            </a:b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Arial"/>
              </a:rPr>
              <a:t>Лекція № 3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Структура і властивості карбонових кислот.  Ліпіди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Лектор: ст.</a:t>
            </a:r>
            <a:r>
              <a:rPr b="1" i="1" lang="en-US" sz="2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викл. медичної та біоорганічної хімії,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к.</a:t>
            </a:r>
            <a:r>
              <a:rPr b="1" i="1" lang="en-US" sz="2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фарм.</a:t>
            </a:r>
            <a:r>
              <a:rPr b="1" i="1" lang="en-US" sz="2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н.  Завада О.О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304920"/>
            <a:ext cx="1700280" cy="1699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>
            <a:off x="7686720" y="304920"/>
            <a:ext cx="1457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ahoma"/>
                <a:ea typeface="Arial"/>
              </a:rPr>
              <a:t>Реакційні центри в молекулах карбонових кисл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Object 17"/>
          <p:cNvGraphicFramePr/>
          <p:nvPr/>
        </p:nvGraphicFramePr>
        <p:xfrm>
          <a:off x="2057400" y="1981080"/>
          <a:ext cx="50328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81080"/>
                    <a:ext cx="503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3"/>
          <p:cNvSpPr/>
          <p:nvPr/>
        </p:nvSpPr>
        <p:spPr>
          <a:xfrm>
            <a:off x="1991160" y="25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R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233856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698920" y="256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C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2914560" y="31399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914560" y="227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305748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419640" y="256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C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1" name="Line 10"/>
          <p:cNvSpPr/>
          <p:nvPr/>
        </p:nvSpPr>
        <p:spPr>
          <a:xfrm flipV="1">
            <a:off x="3849840" y="234756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2" name="Line 11"/>
          <p:cNvSpPr/>
          <p:nvPr/>
        </p:nvSpPr>
        <p:spPr>
          <a:xfrm flipV="1">
            <a:off x="3778200" y="227628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4140000" y="191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O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4065480" y="306864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O     H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3778200" y="3068640"/>
            <a:ext cx="28728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698560" y="350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H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2698560" y="170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H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279960" y="234936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+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4214160" y="1557360"/>
            <a:ext cx="46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δ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0" name="Line 20"/>
          <p:cNvSpPr/>
          <p:nvPr/>
        </p:nvSpPr>
        <p:spPr>
          <a:xfrm flipV="1">
            <a:off x="3564000" y="3068640"/>
            <a:ext cx="71280" cy="144144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3222720" y="4572000"/>
            <a:ext cx="295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електрофільний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центр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4428720" y="1844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: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3" name="Line 23"/>
          <p:cNvSpPr/>
          <p:nvPr/>
        </p:nvSpPr>
        <p:spPr>
          <a:xfrm flipH="1" flipV="1">
            <a:off x="4788000" y="2276280"/>
            <a:ext cx="576000" cy="21564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5543640" y="227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ahoma"/>
                <a:ea typeface="Arial"/>
              </a:rPr>
              <a:t>основний центр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305928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2201040" y="234936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δ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  <a:ea typeface="Arial"/>
              </a:rPr>
              <a:t>'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7" name="Line 27"/>
          <p:cNvSpPr/>
          <p:nvPr/>
        </p:nvSpPr>
        <p:spPr>
          <a:xfrm flipV="1">
            <a:off x="2916360" y="314136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8" name="Line 28"/>
          <p:cNvSpPr/>
          <p:nvPr/>
        </p:nvSpPr>
        <p:spPr>
          <a:xfrm flipV="1">
            <a:off x="1619280" y="3284280"/>
            <a:ext cx="1152360" cy="93492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189720" y="4221000"/>
            <a:ext cx="261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CH-кислотний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центр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0" name="Line 30"/>
          <p:cNvSpPr/>
          <p:nvPr/>
        </p:nvSpPr>
        <p:spPr>
          <a:xfrm>
            <a:off x="450072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142520" y="278136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..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02" name="Object 32"/>
          <p:cNvGraphicFramePr/>
          <p:nvPr/>
        </p:nvGraphicFramePr>
        <p:xfrm>
          <a:off x="3924360" y="2708280"/>
          <a:ext cx="208764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708280"/>
                    <a:ext cx="20876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Line 33"/>
          <p:cNvSpPr/>
          <p:nvPr/>
        </p:nvSpPr>
        <p:spPr>
          <a:xfrm flipH="1">
            <a:off x="4500360" y="33577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4072680" y="407664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33"/>
                </a:solidFill>
                <a:latin typeface="Tahoma"/>
                <a:ea typeface="Arial"/>
              </a:rPr>
              <a:t>OH-</a:t>
            </a:r>
            <a:r>
              <a:rPr b="0" i="1" lang="ru-RU" sz="2800" spc="-1" strike="noStrike">
                <a:solidFill>
                  <a:srgbClr val="660033"/>
                </a:solidFill>
                <a:latin typeface="Tahoma"/>
                <a:ea typeface="Arial"/>
              </a:rPr>
              <a:t>кислотний центр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6" name="Line 35"/>
          <p:cNvSpPr/>
          <p:nvPr/>
        </p:nvSpPr>
        <p:spPr>
          <a:xfrm flipH="1" flipV="1">
            <a:off x="4642920" y="3573360"/>
            <a:ext cx="576360" cy="50328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3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5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609480" y="1066680"/>
            <a:ext cx="774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  <a:ea typeface="Arial"/>
              </a:rPr>
              <a:t>Функціональні похідні карбонових кислот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9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17" name="Object 22"/>
          <p:cNvGraphicFramePr/>
          <p:nvPr/>
        </p:nvGraphicFramePr>
        <p:xfrm>
          <a:off x="755640" y="3467160"/>
          <a:ext cx="146700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467160"/>
                    <a:ext cx="14670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1"/>
          <p:cNvGraphicFramePr/>
          <p:nvPr/>
        </p:nvGraphicFramePr>
        <p:xfrm>
          <a:off x="2916360" y="3467160"/>
          <a:ext cx="160308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3467160"/>
                    <a:ext cx="16030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0"/>
          <p:cNvGraphicFramePr/>
          <p:nvPr/>
        </p:nvGraphicFramePr>
        <p:xfrm>
          <a:off x="5051520" y="3502080"/>
          <a:ext cx="1752480" cy="13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1520" y="3502080"/>
                    <a:ext cx="17524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9"/>
          <p:cNvGraphicFramePr/>
          <p:nvPr/>
        </p:nvGraphicFramePr>
        <p:xfrm>
          <a:off x="7369200" y="2997360"/>
          <a:ext cx="13795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69200" y="2997360"/>
                    <a:ext cx="13795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3"/>
          <p:cNvSpPr/>
          <p:nvPr/>
        </p:nvSpPr>
        <p:spPr>
          <a:xfrm>
            <a:off x="1352520" y="2519280"/>
            <a:ext cx="160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1352520" y="2519280"/>
            <a:ext cx="160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1352520" y="2519280"/>
            <a:ext cx="160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352520" y="2519280"/>
            <a:ext cx="160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483840" y="54450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хлорангідрид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2702520" y="5445000"/>
            <a:ext cx="2378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естер (складний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ефір)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1" name="Rectangle 54"/>
          <p:cNvSpPr/>
          <p:nvPr/>
        </p:nvSpPr>
        <p:spPr>
          <a:xfrm>
            <a:off x="5409720" y="54450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амід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2" name="Rectangle 55"/>
          <p:cNvSpPr/>
          <p:nvPr/>
        </p:nvSpPr>
        <p:spPr>
          <a:xfrm>
            <a:off x="7324560" y="54799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ангідрид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3" name="Прямоугольник 25"/>
          <p:cNvSpPr/>
          <p:nvPr/>
        </p:nvSpPr>
        <p:spPr>
          <a:xfrm>
            <a:off x="3505320" y="1752480"/>
            <a:ext cx="42670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0" y="0"/>
            <a:ext cx="914400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ahoma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  <a:ea typeface="Arial"/>
              </a:rPr>
              <a:t>Властивості карбонових кислот за функціональною групою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38" name="Object 9"/>
          <p:cNvGraphicFramePr/>
          <p:nvPr/>
        </p:nvGraphicFramePr>
        <p:xfrm>
          <a:off x="990720" y="2209680"/>
          <a:ext cx="7589880" cy="32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58988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Прямоугольник 6"/>
          <p:cNvSpPr/>
          <p:nvPr/>
        </p:nvSpPr>
        <p:spPr>
          <a:xfrm>
            <a:off x="380880" y="11430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ahoma"/>
                <a:ea typeface="Arial"/>
              </a:rPr>
              <a:t>	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  <a:ea typeface="Arial"/>
              </a:rPr>
              <a:t>1.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Реакції солеутворення. В біохімічних системах дикарбонові кислоти  утворюють два типа солей – кислі і середні:</a:t>
            </a:r>
            <a:r>
              <a:rPr b="1" lang="ru-RU" sz="2000" spc="-1" strike="noStrike">
                <a:solidFill>
                  <a:srgbClr val="660066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0"/>
            <a:ext cx="91440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Властивості карбонових кислот за функціональною групою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2. Реакції нуклеофільного заміщення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Нуклеофільне заміщення –ОН групи можливо, внаслідок впливу карбонільного оксигену і виникнення часткового позитивного заряду на атомі С карбоксилу.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Реакціями нуклеофільного заміщення (заміщення ОН-груп) є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-утворення складних ефірів (естерів) (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R-COO-R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);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-утворення галогенангідридів 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(R-COHal)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і ангидридів 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((R-CO)</a:t>
            </a:r>
            <a:r>
              <a:rPr b="1" lang="en-US" sz="20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O)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кислот;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-утворення амідів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 (R-CONH</a:t>
            </a:r>
            <a:r>
              <a:rPr b="1" lang="en-US" sz="20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)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609480" y="6379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ahoma"/>
                <a:ea typeface="Arial"/>
              </a:rPr>
              <a:t>Естери (складні ефіри)</a:t>
            </a:r>
            <a:r>
              <a:rPr b="1" i="1" lang="ru-RU" sz="2400" spc="-1" strike="noStrike">
                <a:solidFill>
                  <a:srgbClr val="990000"/>
                </a:solidFill>
                <a:latin typeface="Tahoma"/>
                <a:ea typeface="Arial"/>
              </a:rPr>
              <a:t> — це функціональні похідні карбонових кислот, в яких гідроксильна група замінена залишком спирту або фенолу —</a:t>
            </a: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Arial"/>
              </a:rPr>
              <a:t>OR</a:t>
            </a:r>
            <a:r>
              <a:rPr b="1" i="1" lang="ru-RU" sz="2400" spc="-1" strike="noStrike">
                <a:solidFill>
                  <a:srgbClr val="990000"/>
                </a:solidFill>
                <a:latin typeface="Tahoma"/>
                <a:ea typeface="Arial"/>
              </a:rPr>
              <a:t>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755640" y="2997360"/>
          <a:ext cx="353232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997360"/>
                    <a:ext cx="35323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19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59" name="Object 18"/>
          <p:cNvGraphicFramePr/>
          <p:nvPr/>
        </p:nvGraphicFramePr>
        <p:xfrm>
          <a:off x="5729400" y="2997360"/>
          <a:ext cx="3019320" cy="20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9400" y="2997360"/>
                    <a:ext cx="301932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21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62" name="Object 20"/>
          <p:cNvGraphicFramePr/>
          <p:nvPr/>
        </p:nvGraphicFramePr>
        <p:xfrm>
          <a:off x="2268360" y="4724280"/>
          <a:ext cx="3456000" cy="172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724280"/>
                    <a:ext cx="34560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0" y="0"/>
            <a:ext cx="9144000" cy="58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  <a:ea typeface="Arial"/>
              </a:rPr>
              <a:t>Утворення естерів: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Механізм реакції включає такі стадії: протонування кислоти, нуклеофільна атака катіона спиртом,відщеплення молекули води, депротонізація естера. Важливішою властивістю естетів є їх гідроліз у кислому або лужному середовищі. Гідроліз у лужному середовищі незворотний внаслідок утворення солей и  стійкого ацилат-іону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71" name="Object 18"/>
          <p:cNvGraphicFramePr/>
          <p:nvPr/>
        </p:nvGraphicFramePr>
        <p:xfrm>
          <a:off x="380880" y="3048120"/>
          <a:ext cx="826956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826956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21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4" name="Line 16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304920" y="304920"/>
            <a:ext cx="8839080" cy="62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Гідроліз у лужному середовищі  незворотний  внаслідок утворення солей та стійкого ацилат-іону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Тіоли (тіоестери карбонових кислот)– це сірковмісні аналоги складних ефірів 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Одним з тіоестерів є ацетилкофермент-А – тіоестер ацетатної кислоти і кофермента А.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Кофермент А активує карбонові кислоти, перетворюючи їх в реакційно-здатні естери тіолів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89" name="Object 22"/>
          <p:cNvGraphicFramePr/>
          <p:nvPr/>
        </p:nvGraphicFramePr>
        <p:xfrm>
          <a:off x="1371600" y="1143000"/>
          <a:ext cx="576252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576252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2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92" name="Object 24"/>
          <p:cNvGraphicFramePr/>
          <p:nvPr/>
        </p:nvGraphicFramePr>
        <p:xfrm>
          <a:off x="2133720" y="3429000"/>
          <a:ext cx="477180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429000"/>
                    <a:ext cx="47718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9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97" name="Object 30"/>
          <p:cNvGraphicFramePr/>
          <p:nvPr/>
        </p:nvGraphicFramePr>
        <p:xfrm>
          <a:off x="2209680" y="5715000"/>
          <a:ext cx="4619880" cy="67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715000"/>
                    <a:ext cx="4619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228600" y="3657600"/>
            <a:ext cx="868680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Кофермент А утворений трьома компонентами: </a:t>
            </a:r>
            <a:r>
              <a:rPr b="1" lang="ru-RU" sz="2000" spc="-1" strike="noStrike">
                <a:solidFill>
                  <a:srgbClr val="948a54"/>
                </a:solidFill>
                <a:latin typeface="Tahoma"/>
              </a:rPr>
              <a:t>аденозиндифосфатом (АДФ),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пантотеновою кислотою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(вітамін В</a:t>
            </a:r>
            <a:r>
              <a:rPr b="1" lang="ru-RU" sz="2000" spc="-1" strike="noStrike" baseline="-25000">
                <a:solidFill>
                  <a:srgbClr val="660033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) 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-аміноетантіолом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10" name="Object 31"/>
          <p:cNvGraphicFramePr/>
          <p:nvPr/>
        </p:nvGraphicFramePr>
        <p:xfrm>
          <a:off x="1905120" y="4952880"/>
          <a:ext cx="631980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952880"/>
                    <a:ext cx="631980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4" name="Rectangle 38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5" name="Прямоугольник 18"/>
          <p:cNvSpPr/>
          <p:nvPr/>
        </p:nvSpPr>
        <p:spPr>
          <a:xfrm>
            <a:off x="228600" y="457200"/>
            <a:ext cx="876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КОФЕРМЕНТ А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Arial"/>
              </a:rPr>
              <a:t>(коензим А, КоА, кофермент ацилювання) — один із найважливіших коферментів</a:t>
            </a:r>
            <a:r>
              <a:rPr b="0" i="1" lang="uk-UA" sz="16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Arial"/>
              </a:rPr>
              <a:t>У живих клітинах бере участь у реакціях окиснення, синтезу жирних кислот, ліпідів та ін. К.А бере участь у реакціях переносу ацильних груп. Молекула К.А складається із залишку аденілової кислоти, зв’язаної пірофосфатною групою із залишком пантотенової кислоти, яка, в свою чергу, з’єднана пептидним зв’язком із залишком β-меркаптоетаноламіну. З К.А пов’язане велике коло біохімічних реакцій, що лежать в основі окиснення і синтезу жирних кислот, біосинтезу ліпідів, окисних перетворень продуктів розпаду вуглеводів і т.д. У всіх випадках К.А діє як проміжна сполука, що зв’язує (акцептує) і переносить кислотні залишки на інші речовини.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762120" y="228600"/>
            <a:ext cx="754380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Ацильні похідні кофермента А мають велику реакційною здатністю до нуклеофільного заміщення,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з його участю здійснюється перетворення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холіна в ацетилхолін: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28" name="Object 33"/>
          <p:cNvGraphicFramePr/>
          <p:nvPr/>
        </p:nvGraphicFramePr>
        <p:xfrm>
          <a:off x="533520" y="2819520"/>
          <a:ext cx="7629480" cy="17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19520"/>
                    <a:ext cx="762948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1" name="Rectangle 38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380880" y="-533520"/>
            <a:ext cx="83059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Утворення галогенангідридів и ангідридів кислот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Галогенангідриди карбонових  кислот використовуються як ацилюючі засоби при одержанні амідів кислот, в тому числі лікарських препаратів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В біохімічних процесах велике значення має утворення змішаних ангідридів карбонових і мінеральних кислот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Ангідриди кислот – сильні  </a:t>
            </a:r>
            <a:r>
              <a:rPr b="1" lang="ru-RU" sz="1800" spc="-1" strike="noStrike">
                <a:solidFill>
                  <a:srgbClr val="ff9900"/>
                </a:solidFill>
                <a:latin typeface="Tahoma"/>
                <a:ea typeface="Arial"/>
              </a:rPr>
              <a:t>ацилюючі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агент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45" name="Object 35"/>
          <p:cNvGraphicFramePr/>
          <p:nvPr/>
        </p:nvGraphicFramePr>
        <p:xfrm>
          <a:off x="990720" y="4114800"/>
          <a:ext cx="765972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14800"/>
                    <a:ext cx="7659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38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8" name="Прямоугольник 17"/>
          <p:cNvSpPr/>
          <p:nvPr/>
        </p:nvSpPr>
        <p:spPr>
          <a:xfrm>
            <a:off x="3505320" y="5486400"/>
            <a:ext cx="45720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Хлорангідрид ацетатної кислоти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     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(хлористий ацетил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609480" y="1522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0" y="-19080"/>
            <a:ext cx="9144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Tahoma"/>
              </a:rPr>
              <a:t>ПЛАН ЛЕКЦІЇ</a:t>
            </a: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52280" y="1600200"/>
            <a:ext cx="89917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Карбонові кислоти: назви, класифікації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Властивості карбонових кислот за функціональною групою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гідроксикислот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оксокислот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Класифікація і біологічна роль ліпідів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0"/>
            <a:ext cx="8610480" cy="71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  <a:ea typeface="Arial"/>
              </a:rPr>
              <a:t>Утворення амідів: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Аміди утворюються в результаті заміщення ОН-групи карбоксилу на аміногрупу при взаїмодії таких похідних карбонових кислот, як </a:t>
            </a: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галогенангідриди, ангідриди, складні эфіри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 с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амоніаком або амінами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                         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                          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Хлорангідрид нікотинової             Амід нікотинової кислоти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кислоти                                      вітамін РР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Реакція утворення амідів в біохімічних системах – головна  при біосинтезе білків і пептидів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61" name="Object 17"/>
          <p:cNvGraphicFramePr/>
          <p:nvPr/>
        </p:nvGraphicFramePr>
        <p:xfrm>
          <a:off x="1523880" y="2438280"/>
          <a:ext cx="500724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38280"/>
                    <a:ext cx="500724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7" name="Text Box 17"/>
          <p:cNvSpPr/>
          <p:nvPr/>
        </p:nvSpPr>
        <p:spPr>
          <a:xfrm>
            <a:off x="0" y="0"/>
            <a:ext cx="9144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гідроксикислот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Гідрокислоти – гетерофункціональні сполуки,  що містять  гідроксиль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(-ОН) і  карбоксильні  (-СООН) групи.    В  залежності  від кількості  гідроксильних  і  карбоксильних  груп  розрізняють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 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моногідроксимонокарбонові: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гліколева  кислота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 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моногідроксидикарбонові: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   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яблучна  кислота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 дигідроксидикарбонові:            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вінна  кислота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моногідрокситрикарбонові:           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лімонна  кислота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79" name="Object 18"/>
          <p:cNvGraphicFramePr/>
          <p:nvPr/>
        </p:nvGraphicFramePr>
        <p:xfrm>
          <a:off x="3962520" y="2286000"/>
          <a:ext cx="10666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86000"/>
                    <a:ext cx="10666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82" name="Object 20"/>
          <p:cNvGraphicFramePr/>
          <p:nvPr/>
        </p:nvGraphicFramePr>
        <p:xfrm>
          <a:off x="3352680" y="3048120"/>
          <a:ext cx="22766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048120"/>
                    <a:ext cx="22766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85" name="Object 22"/>
          <p:cNvGraphicFramePr/>
          <p:nvPr/>
        </p:nvGraphicFramePr>
        <p:xfrm>
          <a:off x="3124080" y="3809880"/>
          <a:ext cx="22291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09880"/>
                    <a:ext cx="22291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88" name="Object 24"/>
          <p:cNvGraphicFramePr/>
          <p:nvPr/>
        </p:nvGraphicFramePr>
        <p:xfrm>
          <a:off x="3352680" y="4648320"/>
          <a:ext cx="2619360" cy="101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9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648320"/>
                    <a:ext cx="2619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1" name="Rectangle 2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2" name="Rectangle 31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33520" y="-457200"/>
            <a:ext cx="8229600" cy="77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 гідрокислот  обумовлені  наявністю  функціональних  груп,  що входять до їх  складу,  та їх взаємним впливом.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Наявність 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карбоксильної (-СООН)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групи   обумовлює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кислотні властивості,  декарбоксилювання,  здатність утворювати естери та  галогенангідриди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За 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гідроксильною (-ОН)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групою  гідрокислотам  характерні властивості   спиртів: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утворюють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  прості  та  складні  ефіри,  проявляють  кислотність,  взаємодіють з  галогенводневими сполуками,  окислюються  до  кетонно-альдегідних  кислот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НОМЕНКЛАТУ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За номенклатурою (</a:t>
            </a:r>
            <a:r>
              <a:rPr b="1" lang="en-US" sz="1900" spc="-1" strike="noStrike">
                <a:solidFill>
                  <a:srgbClr val="660033"/>
                </a:solidFill>
                <a:latin typeface="Tahoma"/>
                <a:ea typeface="Arial"/>
              </a:rPr>
              <a:t>IUPAC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) їх наз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в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и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 утворюють з назв 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в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дпов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дн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их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карбонов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их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кислот додаванням преф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кса г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дрокси-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. 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Нумерац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я головного ланцюга почина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є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ться з атома вуглецю карбоксильної групи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-Г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оксипропано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,3-Диг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оксибутанд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Якщо користуються тривіальною назвою кислоти, то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положення ОН-групи позначають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ся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буквами грецького алфав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ту </a:t>
            </a:r>
            <a:r>
              <a:rPr b="1" lang="en-GB" sz="1900" spc="-1" strike="noStrike">
                <a:solidFill>
                  <a:srgbClr val="660033"/>
                </a:solidFill>
                <a:latin typeface="Symbol"/>
                <a:ea typeface="Symbol"/>
              </a:rPr>
              <a:t>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, </a:t>
            </a:r>
            <a:r>
              <a:rPr b="1" lang="en-GB" sz="1900" spc="-1" strike="noStrike">
                <a:solidFill>
                  <a:srgbClr val="660033"/>
                </a:solidFill>
                <a:latin typeface="Symbol"/>
                <a:ea typeface="Symbol"/>
              </a:rPr>
              <a:t>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, </a:t>
            </a:r>
            <a:r>
              <a:rPr b="1" lang="en-GB" sz="19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- тощ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Г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роксипроп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натн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Г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роксибутират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Кр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м того, для г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дроксикислот часто застосовують трив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альні назви </a:t>
            </a:r>
            <a:r>
              <a:rPr b="1" lang="ru-RU" sz="1900" spc="-1" strike="noStrike">
                <a:solidFill>
                  <a:srgbClr val="ff0000"/>
                </a:solidFill>
                <a:latin typeface="Tahoma"/>
                <a:ea typeface="Arial"/>
              </a:rPr>
              <a:t>(гл</a:t>
            </a:r>
            <a:r>
              <a:rPr b="1" lang="en-GB" sz="1900" spc="-1" strike="noStrike">
                <a:solidFill>
                  <a:srgbClr val="ff0000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ff0000"/>
                </a:solidFill>
                <a:latin typeface="Tahoma"/>
                <a:ea typeface="Arial"/>
              </a:rPr>
              <a:t>колева, молочна, винна, яблучна тощо)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Object 2"/>
          <p:cNvGraphicFramePr/>
          <p:nvPr/>
        </p:nvGraphicFramePr>
        <p:xfrm>
          <a:off x="609480" y="4419720"/>
          <a:ext cx="17146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419720"/>
                    <a:ext cx="17146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3"/>
          <p:cNvGraphicFramePr/>
          <p:nvPr/>
        </p:nvGraphicFramePr>
        <p:xfrm>
          <a:off x="4952880" y="4572000"/>
          <a:ext cx="28576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572000"/>
                    <a:ext cx="28576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4"/>
          <p:cNvGraphicFramePr/>
          <p:nvPr/>
        </p:nvGraphicFramePr>
        <p:xfrm>
          <a:off x="762120" y="2209680"/>
          <a:ext cx="7468920" cy="10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09680"/>
                    <a:ext cx="746892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0" y="0"/>
            <a:ext cx="914400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гідроксикислот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В  залежності від  положення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гідроксигруп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α-гідроксикислоти:                </a:t>
            </a:r>
            <a:r>
              <a:rPr b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β-гідроксикислот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и:                  </a:t>
            </a:r>
            <a:r>
              <a:rPr b="1" lang="ru-RU" sz="16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гідроксикислоти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    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молочна  кислота               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β-гідроксимасляна</a:t>
            </a:r>
            <a:r>
              <a:rPr b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                </a:t>
            </a:r>
            <a:r>
              <a:rPr b="1" lang="ru-RU" sz="16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гідроксивалеріянова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31" name="Object 26"/>
          <p:cNvGraphicFramePr/>
          <p:nvPr/>
        </p:nvGraphicFramePr>
        <p:xfrm>
          <a:off x="457200" y="1981080"/>
          <a:ext cx="152388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15238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2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34" name="Object 28"/>
          <p:cNvGraphicFramePr/>
          <p:nvPr/>
        </p:nvGraphicFramePr>
        <p:xfrm>
          <a:off x="3124080" y="1905120"/>
          <a:ext cx="20196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905120"/>
                    <a:ext cx="20196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Rectangle 31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37" name="Object 30"/>
          <p:cNvGraphicFramePr/>
          <p:nvPr/>
        </p:nvGraphicFramePr>
        <p:xfrm>
          <a:off x="6095880" y="1905120"/>
          <a:ext cx="255276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905120"/>
                    <a:ext cx="25527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228600"/>
            <a:ext cx="91440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Специфічні  реакції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,  що обумовлені  взаємним розташуванням  функціональних  груп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α-гідрокислоти  при  нагріванні  утворюють  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лактіди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-  циклічні  складні  ефіри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1752480" y="1600200"/>
          <a:ext cx="586764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86764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Rectangle 2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533520" y="228600"/>
            <a:ext cx="815328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β-гідроксикислоти  при  нагріванні  внутрішньомолекулярно  відщеплюють  воду, при  цьому утворюються  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ненасичені карбонові  кислоти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-гідрокислоти  при нагріванні внутрішньомолекулярно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дегідратують з утворенням п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  <a:ea typeface="Arial"/>
              </a:rPr>
              <a:t>‘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ятичленного гетероцикла -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лактона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1" name="Rectangle 2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72" name="Object 21"/>
          <p:cNvGraphicFramePr/>
          <p:nvPr/>
        </p:nvGraphicFramePr>
        <p:xfrm>
          <a:off x="838080" y="1828800"/>
          <a:ext cx="73040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304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75" name="Object 23"/>
          <p:cNvGraphicFramePr/>
          <p:nvPr/>
        </p:nvGraphicFramePr>
        <p:xfrm>
          <a:off x="1523880" y="4419720"/>
          <a:ext cx="5745240" cy="20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419720"/>
                    <a:ext cx="574524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260280" y="685800"/>
            <a:ext cx="8610840" cy="55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Світло (електромагнітні хвилі) коливається перпендикулярно до напрямку поширення. Коли пропустити світло крізь призму, то промінь вийде поляризованим (в площині поляризації). Серед сполук, які існують у природі,  зустрічаються речовини, здатні обертати площину поляризації світла - оптичноактивні речовини.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Молочна кислота </a:t>
            </a:r>
            <a:r>
              <a:rPr b="0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H3 – CHOH – COOH </a:t>
            </a: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зустрічається в двох формах –одна обертає площину поляризації світла вправо (за годинниковою стрілкою –правообертаюча, виділена з м'язів тварин); друга – вліво (проти годинникової стрілки) – лівообертаюча молочна кислота. Виділяється бактеріями при ферментації сахарози. D– та L–молочні кислоти є енантіомарами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7" name="Rectangle 16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89" name="Object 17"/>
          <p:cNvGraphicFramePr/>
          <p:nvPr/>
        </p:nvGraphicFramePr>
        <p:xfrm>
          <a:off x="3114720" y="3809880"/>
          <a:ext cx="39243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4720" y="3809880"/>
                    <a:ext cx="3924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Прямоугольник 14"/>
          <p:cNvSpPr/>
          <p:nvPr/>
        </p:nvSpPr>
        <p:spPr>
          <a:xfrm>
            <a:off x="2798280" y="228600"/>
            <a:ext cx="370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СТЕРЕОIЗОМЕРIЯ ГIДРОКСИКИСЛОТ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ОКСОКИСЛО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13840" y="928440"/>
            <a:ext cx="892980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Оксокислотами називають гетерофункціональні сполуки, що містять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у молекулі одночасно карбоксильну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і карбонільну                  груп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Інша назва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карбонільної групи – оксогрупа, звідки стає зрозумілою назва цього класу сполук – оксокисло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Оксогрупа може бути кетонною, якщо вона сполучена з дво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радикалами, або входити до складу альдегідної груп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Оксокислоти поділяють на кетокислоти та альдегідокисло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За взаємним розташуванням карбоксильної та карбонільної груп вони поділяються на α, β, γ і так далі, за аналогією до гідроксикисл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2"/>
          <p:cNvGraphicFramePr/>
          <p:nvPr/>
        </p:nvGraphicFramePr>
        <p:xfrm>
          <a:off x="5181480" y="1371600"/>
          <a:ext cx="85752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371600"/>
                    <a:ext cx="857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3"/>
          <p:cNvGraphicFramePr/>
          <p:nvPr/>
        </p:nvGraphicFramePr>
        <p:xfrm>
          <a:off x="8077320" y="1447920"/>
          <a:ext cx="6141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1447920"/>
                    <a:ext cx="6141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4"/>
          <p:cNvGraphicFramePr/>
          <p:nvPr/>
        </p:nvGraphicFramePr>
        <p:xfrm>
          <a:off x="7467480" y="3809880"/>
          <a:ext cx="71460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3809880"/>
                    <a:ext cx="7146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0" y="0"/>
            <a:ext cx="9144000" cy="63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оксокислот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Оксокислоти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– сполуки, що містять одночасно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карбоксильну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(-СООН)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та оксо- (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альдегідну (-СОН) або кетонну (-СО-)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) груп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карбоксильна група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                   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оксо- група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Найбільш важливі кислоти у біохімічних процесах (приймають участь у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циклі Кребса, при переамінуванні з них утворюються амінокислоти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)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1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2" name="Rectangle 4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3" name="Line 45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4" name="Line 46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5" name="Line 47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6" name="Line 4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7" name="Line 49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8" name="Line 50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1" name="Line 5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2" name="Line 5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3" name="Line 5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5" name="Text Box 59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6" name="Line 60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7" name="Line 61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8" name="Line 62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9" name="Line 63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0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1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532" name="Object 35"/>
          <p:cNvGraphicFramePr/>
          <p:nvPr/>
        </p:nvGraphicFramePr>
        <p:xfrm>
          <a:off x="1905120" y="1676520"/>
          <a:ext cx="206208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20620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Стрелка углом 35"/>
          <p:cNvSpPr/>
          <p:nvPr/>
        </p:nvSpPr>
        <p:spPr>
          <a:xfrm rot="10800000">
            <a:off x="3962160" y="2133360"/>
            <a:ext cx="633240" cy="338040"/>
          </a:xfrm>
          <a:custGeom>
            <a:avLst/>
            <a:gdLst/>
            <a:ahLst/>
            <a:rect l="l" t="t" r="r" b="b"/>
            <a:pathLst>
              <a:path w="633413" h="338138">
                <a:moveTo>
                  <a:pt x="0" y="338138"/>
                </a:moveTo>
                <a:lnTo>
                  <a:pt x="0" y="190203"/>
                </a:lnTo>
                <a:cubicBezTo>
                  <a:pt x="0" y="108501"/>
                  <a:pt x="66233" y="42268"/>
                  <a:pt x="147935" y="42268"/>
                </a:cubicBezTo>
                <a:lnTo>
                  <a:pt x="548879" y="42267"/>
                </a:lnTo>
                <a:lnTo>
                  <a:pt x="548879" y="0"/>
                </a:lnTo>
                <a:lnTo>
                  <a:pt x="633413" y="84535"/>
                </a:lnTo>
                <a:lnTo>
                  <a:pt x="548879" y="169069"/>
                </a:lnTo>
                <a:lnTo>
                  <a:pt x="548879" y="126802"/>
                </a:lnTo>
                <a:lnTo>
                  <a:pt x="147935" y="126802"/>
                </a:lnTo>
                <a:cubicBezTo>
                  <a:pt x="112920" y="126802"/>
                  <a:pt x="84534" y="155188"/>
                  <a:pt x="84534" y="190203"/>
                </a:cubicBezTo>
                <a:cubicBezTo>
                  <a:pt x="84534" y="239515"/>
                  <a:pt x="84535" y="288826"/>
                  <a:pt x="84535" y="338138"/>
                </a:cubicBezTo>
                <a:lnTo>
                  <a:pt x="0" y="3381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5" name="Стрелка углом 36"/>
          <p:cNvSpPr/>
          <p:nvPr/>
        </p:nvSpPr>
        <p:spPr>
          <a:xfrm>
            <a:off x="2057400" y="2666880"/>
            <a:ext cx="380880" cy="30492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304800"/>
                </a:moveTo>
                <a:lnTo>
                  <a:pt x="0" y="171450"/>
                </a:lnTo>
                <a:cubicBezTo>
                  <a:pt x="0" y="97803"/>
                  <a:pt x="59703" y="38100"/>
                  <a:pt x="133350" y="38100"/>
                </a:cubicBezTo>
                <a:lnTo>
                  <a:pt x="304800" y="38100"/>
                </a:lnTo>
                <a:lnTo>
                  <a:pt x="304800" y="0"/>
                </a:lnTo>
                <a:lnTo>
                  <a:pt x="381000" y="76200"/>
                </a:lnTo>
                <a:lnTo>
                  <a:pt x="304800" y="152400"/>
                </a:lnTo>
                <a:lnTo>
                  <a:pt x="304800" y="114300"/>
                </a:lnTo>
                <a:lnTo>
                  <a:pt x="133350" y="114300"/>
                </a:lnTo>
                <a:cubicBezTo>
                  <a:pt x="101787" y="114300"/>
                  <a:pt x="76200" y="139887"/>
                  <a:pt x="76200" y="171450"/>
                </a:cubicBezTo>
                <a:lnTo>
                  <a:pt x="76200" y="304800"/>
                </a:lnTo>
                <a:lnTo>
                  <a:pt x="0" y="304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6e0238"/>
          </a:solidFill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АРБОНОВІ КИСЛО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0" y="98100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ahoma"/>
              </a:rPr>
              <a:t>Похідні вуглеводнів, які містять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одну або кілька </a:t>
            </a:r>
            <a:r>
              <a:rPr b="1" i="1" lang="uk-UA" sz="3200" spc="-1" strike="noStrike">
                <a:solidFill>
                  <a:srgbClr val="000066"/>
                </a:solidFill>
                <a:latin typeface="Tahoma"/>
              </a:rPr>
              <a:t> карбоксильних групп. 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6" name="Прямоугольник 32"/>
          <p:cNvSpPr/>
          <p:nvPr/>
        </p:nvSpPr>
        <p:spPr>
          <a:xfrm>
            <a:off x="4788000" y="33577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i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7" name="Прямоугольник 32"/>
          <p:cNvSpPr/>
          <p:nvPr/>
        </p:nvSpPr>
        <p:spPr>
          <a:xfrm>
            <a:off x="4716360" y="414972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  <a:ea typeface="Arial"/>
              </a:rPr>
              <a:t>ОН</a:t>
            </a:r>
            <a:endParaRPr b="0" i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" name="Прямая соединительная линия 45"/>
          <p:cNvSpPr/>
          <p:nvPr/>
        </p:nvSpPr>
        <p:spPr>
          <a:xfrm flipV="1">
            <a:off x="4702320" y="3860280"/>
            <a:ext cx="1425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" name="Прямая соединительная линия 46"/>
          <p:cNvSpPr/>
          <p:nvPr/>
        </p:nvSpPr>
        <p:spPr>
          <a:xfrm flipV="1">
            <a:off x="4772880" y="39319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" name="Прямая соединительная линия 47"/>
          <p:cNvSpPr/>
          <p:nvPr/>
        </p:nvSpPr>
        <p:spPr>
          <a:xfrm>
            <a:off x="4702320" y="4362480"/>
            <a:ext cx="156960" cy="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" name="Прямоугольник 32"/>
          <p:cNvSpPr/>
          <p:nvPr/>
        </p:nvSpPr>
        <p:spPr>
          <a:xfrm>
            <a:off x="3635280" y="380700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R-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  <a:ea typeface="Arial"/>
              </a:rPr>
              <a:t>С</a:t>
            </a:r>
            <a:endParaRPr b="0" i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2" name="Oval 21"/>
          <p:cNvSpPr/>
          <p:nvPr/>
        </p:nvSpPr>
        <p:spPr>
          <a:xfrm rot="2995200">
            <a:off x="4111560" y="3379680"/>
            <a:ext cx="1781280" cy="1774800"/>
          </a:xfrm>
          <a:prstGeom prst="ellipse">
            <a:avLst/>
          </a:prstGeom>
          <a:noFill/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" name="Line 22"/>
          <p:cNvSpPr/>
          <p:nvPr/>
        </p:nvSpPr>
        <p:spPr>
          <a:xfrm flipH="1" flipV="1">
            <a:off x="5866920" y="4581360"/>
            <a:ext cx="1009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5508720" y="5013360"/>
            <a:ext cx="32036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Tahoma"/>
              </a:rPr>
              <a:t>карбоксильна</a:t>
            </a:r>
            <a:endParaRPr b="0" i="1" lang="en-US" sz="3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Tahoma"/>
              </a:rPr>
              <a:t>група</a:t>
            </a:r>
            <a:endParaRPr b="0" i="1" lang="en-US" sz="3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684360" y="3716280"/>
            <a:ext cx="291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ahoma"/>
              </a:rPr>
              <a:t>ЗАГАЛЬНА ФОРМУЛА</a:t>
            </a:r>
            <a:endParaRPr b="0" i="1" lang="en-US" sz="3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304920" y="0"/>
            <a:ext cx="8381880" cy="69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екарбоксилювання кислот: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Tahoma"/>
              </a:rPr>
              <a:t>Реакція декарбоксилювання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(відщеплення СО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- одна з найбільш важливих  реакцій в біохімії карбонових кислот, особливо </a:t>
            </a:r>
            <a:r>
              <a:rPr b="1" lang="ru-RU" sz="1800" spc="-1" strike="noStrike">
                <a:solidFill>
                  <a:srgbClr val="0033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- і </a:t>
            </a:r>
            <a:r>
              <a:rPr b="1" lang="ru-RU" sz="1800" spc="-1" strike="noStrike">
                <a:solidFill>
                  <a:srgbClr val="003300"/>
                </a:solidFill>
                <a:latin typeface="Symbol"/>
                <a:ea typeface="Symbol"/>
              </a:rPr>
              <a:t>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-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оксокислот</a:t>
            </a:r>
            <a:r>
              <a:rPr b="1" lang="ru-RU" sz="1800" spc="-1" strike="noStrike" u="sng">
                <a:solidFill>
                  <a:srgbClr val="660033"/>
                </a:solidFill>
                <a:uFillTx/>
                <a:latin typeface="Tahoma"/>
              </a:rPr>
              <a:t>,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а також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Symbol"/>
                <a:ea typeface="Symbol"/>
              </a:rPr>
              <a:t>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-амінокислот</a:t>
            </a:r>
            <a:r>
              <a:rPr b="1" lang="ru-RU" sz="1800" spc="-1" strike="noStrike" u="sng">
                <a:solidFill>
                  <a:srgbClr val="660033"/>
                </a:solidFill>
                <a:uFillTx/>
                <a:latin typeface="Tahoma"/>
              </a:rPr>
              <a:t> </a:t>
            </a: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в організмі під дією фермента декарбоксилаз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Монокарбонові кислоти декарбоксилюються дуже важко, а при наявності електроноакцепторного замісника (-СО-) ця реакція протікає легше:</a:t>
            </a: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Наведений приклад – ілюстрація процесу, що протікає в організмі хворих на цукровий діабет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550" name="Object 21"/>
          <p:cNvGraphicFramePr/>
          <p:nvPr/>
        </p:nvGraphicFramePr>
        <p:xfrm>
          <a:off x="1295280" y="3733920"/>
          <a:ext cx="59785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733920"/>
                    <a:ext cx="5978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1"/>
          <p:cNvSpPr/>
          <p:nvPr/>
        </p:nvSpPr>
        <p:spPr>
          <a:xfrm>
            <a:off x="457200" y="304920"/>
            <a:ext cx="85345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ЦИКЛ ТРИКАРБОНОВИХ КИСЛОТ (цикл Кребса, цитратний цикл, ЦТК) — цикл перетворення ди- і трикарбонових кислот — кінцева стадія окиснювального катаболізму, в якому відбувається повне «згоряння» до СО</a:t>
            </a:r>
            <a:r>
              <a:rPr b="1" lang="uk-UA" sz="1800" spc="-1" strike="noStrike" baseline="-25000">
                <a:solidFill>
                  <a:srgbClr val="000099"/>
                </a:solidFill>
                <a:latin typeface="Tahoma"/>
                <a:ea typeface="Arial"/>
              </a:rPr>
              <a:t>2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 та Н</a:t>
            </a:r>
            <a:r>
              <a:rPr b="1" lang="uk-UA" sz="1800" spc="-1" strike="noStrike" baseline="-25000">
                <a:solidFill>
                  <a:srgbClr val="000099"/>
                </a:solidFill>
                <a:latin typeface="Tahoma"/>
                <a:ea typeface="Arial"/>
              </a:rPr>
              <a:t>2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О активної форми оцтової кислоти (ацетил-КоА), яка утворюється у вигляді проміжного продукту вуглеводного, ліпідного та білкового обміну.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ЦИКЛ ТРИКАРБОНОВИХ КИСЛ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rcRect l="0" t="4889" r="0" b="3609"/>
          <a:stretch/>
        </p:blipFill>
        <p:spPr>
          <a:xfrm>
            <a:off x="3594240" y="2590920"/>
            <a:ext cx="5499000" cy="3886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362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2"/>
          <p:cNvSpPr/>
          <p:nvPr/>
        </p:nvSpPr>
        <p:spPr>
          <a:xfrm>
            <a:off x="380880" y="228600"/>
            <a:ext cx="861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1.Утворення  лимонної  кислоти  (цитрату)  за  рахунок  конденсації  ацетил – КоА з щавлевооцтовою кислотою (оксалоацетатом):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7467840" cy="1342800"/>
          </a:xfrm>
          <a:prstGeom prst="rect">
            <a:avLst/>
          </a:prstGeom>
          <a:ln w="0">
            <a:noFill/>
          </a:ln>
        </p:spPr>
      </p:pic>
      <p:sp>
        <p:nvSpPr>
          <p:cNvPr id="558" name="Прямоугольник 4"/>
          <p:cNvSpPr/>
          <p:nvPr/>
        </p:nvSpPr>
        <p:spPr>
          <a:xfrm>
            <a:off x="304920" y="213372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2.Перетворення  (ізомеризація)  цитрату  на  ізоцитрат.  Реакція  каталізується ферментом аконітазою і складається з двох етапів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2.1. Дегідратація лимонної кислоти з  утворенням цис – аконітової  кислоти (цис – аконітату):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4410000" cy="1628640"/>
          </a:xfrm>
          <a:prstGeom prst="rect">
            <a:avLst/>
          </a:prstGeom>
          <a:ln w="0">
            <a:noFill/>
          </a:ln>
        </p:spPr>
      </p:pic>
      <p:sp>
        <p:nvSpPr>
          <p:cNvPr id="560" name="Прямоугольник 6"/>
          <p:cNvSpPr/>
          <p:nvPr/>
        </p:nvSpPr>
        <p:spPr>
          <a:xfrm>
            <a:off x="304920" y="4800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2.2. Приєднання до цис – аконітату молекули води. При приєднанні  до подвійного зв’язку в складі цис – аконітату Н+ та ОН – у транс –  положенні  результатом  реакції  є  утворення  ізолимонної  кислоти (ізоцитрату):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3"/>
          <a:stretch/>
        </p:blipFill>
        <p:spPr>
          <a:xfrm>
            <a:off x="5029200" y="5638680"/>
            <a:ext cx="31240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2"/>
          <p:cNvSpPr/>
          <p:nvPr/>
        </p:nvSpPr>
        <p:spPr>
          <a:xfrm>
            <a:off x="228600" y="304920"/>
            <a:ext cx="8381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3.  Дегідрування  та  декарбоксилювання  ізоцитрату.  Реакція каталізується  НАД  –  залежною  ізоцитратдегідрогеназою  і  призводить  до  утворення  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α  – 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глутарової  кислоти  (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α  –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глутарату)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Ізоцитратдегідрогеназа є  регуляторним  ферментом,  позитивний  модулятор якого — АДФ, негативний — НАДН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7162920" cy="1612800"/>
          </a:xfrm>
          <a:prstGeom prst="rect">
            <a:avLst/>
          </a:prstGeom>
          <a:ln w="0">
            <a:noFill/>
          </a:ln>
        </p:spPr>
      </p:pic>
      <p:sp>
        <p:nvSpPr>
          <p:cNvPr id="564" name="Прямоугольник 4"/>
          <p:cNvSpPr/>
          <p:nvPr/>
        </p:nvSpPr>
        <p:spPr>
          <a:xfrm>
            <a:off x="658440" y="3276720"/>
            <a:ext cx="48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4. Окислення α – кетоглутарату до сукцинату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65" name="Прямоугольник 5"/>
          <p:cNvSpPr/>
          <p:nvPr/>
        </p:nvSpPr>
        <p:spPr>
          <a:xfrm>
            <a:off x="228600" y="350532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4.1.  Окислювальне  декарбоксилювання  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α  – 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глутарату  з утворенням  сукциніл  –  КоА  —  стадія,  що  каталізується мультиензимним  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α  – 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глутарат  –  дегідрогеназним комплексом.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717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Прямоугольник 2"/>
          <p:cNvSpPr/>
          <p:nvPr/>
        </p:nvSpPr>
        <p:spPr>
          <a:xfrm>
            <a:off x="380880" y="15228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4.2.  Деацилювання  сукциніл  –  КоА  (перетворення  на  янтарну кислоту  (сукцинат)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6543720" cy="185760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4"/>
          <p:cNvSpPr/>
          <p:nvPr/>
        </p:nvSpPr>
        <p:spPr>
          <a:xfrm>
            <a:off x="457200" y="251460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5.  Окислення  янтарної  кислоти  до  фумарової  кислоти  (фумарату)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6077160" cy="130500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6"/>
          <p:cNvSpPr/>
          <p:nvPr/>
        </p:nvSpPr>
        <p:spPr>
          <a:xfrm>
            <a:off x="304920" y="4572000"/>
            <a:ext cx="8229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6.  Перетворення  фумарової  кислоти  на  яблучну  кислоту  (малат)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внаслідок приєднання до фумарату молекули води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3"/>
          <a:stretch/>
        </p:blipFill>
        <p:spPr>
          <a:xfrm>
            <a:off x="2819520" y="5257800"/>
            <a:ext cx="4343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Прямоугольник 2"/>
          <p:cNvSpPr/>
          <p:nvPr/>
        </p:nvSpPr>
        <p:spPr>
          <a:xfrm>
            <a:off x="1143000" y="1828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7. Окислення малату до оксалоацетату (щавлевооцтової кислоти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1324080" y="2819520"/>
            <a:ext cx="62578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Прямоугольник 4"/>
          <p:cNvSpPr/>
          <p:nvPr/>
        </p:nvSpPr>
        <p:spPr>
          <a:xfrm>
            <a:off x="533520" y="533520"/>
            <a:ext cx="8915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2060"/>
                </a:solidFill>
                <a:latin typeface="Tahoma"/>
                <a:ea typeface="Arial"/>
              </a:rPr>
              <a:t>Молекула  ацетооцтової  кислоти містить дві електроноакцепторні </a:t>
            </a: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1" lang="uk-UA" sz="1600" spc="-1" strike="noStrike">
                <a:solidFill>
                  <a:srgbClr val="002060"/>
                </a:solidFill>
                <a:latin typeface="Tahoma"/>
                <a:ea typeface="Arial"/>
              </a:rPr>
              <a:t>функціональні  групи  (карбоксильна і  кетогрупи). 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Arial"/>
              </a:rPr>
              <a:t>В  результаті  в α-положенні  з</a:t>
            </a:r>
            <a:r>
              <a:rPr b="1" lang="en-US" sz="1600" spc="-1" strike="noStrike">
                <a:solidFill>
                  <a:srgbClr val="002060"/>
                </a:solidFill>
                <a:latin typeface="Tahoma"/>
                <a:ea typeface="Arial"/>
              </a:rPr>
              <a:t>’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Arial"/>
              </a:rPr>
              <a:t>являється</a:t>
            </a:r>
            <a:r>
              <a:rPr b="1" lang="ru-RU" sz="1600" spc="-1" strike="noStrike">
                <a:solidFill>
                  <a:srgbClr val="eeece1"/>
                </a:solidFill>
                <a:latin typeface="Tahoma"/>
                <a:ea typeface="Arial"/>
              </a:rPr>
              <a:t>  </a:t>
            </a:r>
            <a:r>
              <a:rPr b="1" lang="ru-RU" sz="1600" spc="-1" strike="noStrike">
                <a:solidFill>
                  <a:srgbClr val="800000"/>
                </a:solidFill>
                <a:latin typeface="Tahoma"/>
                <a:ea typeface="Arial"/>
              </a:rPr>
              <a:t>СН-кислотний</a:t>
            </a:r>
            <a:r>
              <a:rPr b="1" lang="ru-RU" sz="1600" spc="-1" strike="noStrike">
                <a:solidFill>
                  <a:srgbClr val="eeece1"/>
                </a:solidFill>
                <a:latin typeface="Tahoma"/>
                <a:ea typeface="Arial"/>
              </a:rPr>
              <a:t>  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Arial"/>
              </a:rPr>
              <a:t>центр, що  призводить до 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єнольної  таутомерії</a:t>
            </a:r>
            <a:r>
              <a:rPr b="1" lang="ru-RU" sz="1400" spc="-1" strike="noStrike">
                <a:solidFill>
                  <a:srgbClr val="660033"/>
                </a:solidFill>
                <a:latin typeface="Tahoma"/>
                <a:ea typeface="Arial"/>
              </a:rPr>
              <a:t>:</a:t>
            </a:r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576" name="Object 49"/>
          <p:cNvGraphicFramePr/>
          <p:nvPr/>
        </p:nvGraphicFramePr>
        <p:xfrm>
          <a:off x="1106640" y="2209680"/>
          <a:ext cx="77691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2209680"/>
                    <a:ext cx="77691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Прямоугольник 1"/>
          <p:cNvSpPr/>
          <p:nvPr/>
        </p:nvSpPr>
        <p:spPr>
          <a:xfrm>
            <a:off x="6858000" y="297180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79" name="Прямоугольник 2"/>
          <p:cNvSpPr/>
          <p:nvPr/>
        </p:nvSpPr>
        <p:spPr>
          <a:xfrm>
            <a:off x="6819840" y="297180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533520" y="0"/>
            <a:ext cx="7924680" cy="51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Гідроксиформа</a:t>
            </a:r>
            <a:r>
              <a:rPr b="0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    </a:t>
            </a: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термодинамічно меньш стійка,  ніж  кетонна. Різница  в  енергії  компенсується  за рахунок супряження 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4724280" y="27208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2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3" name="Line 17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5" name="Line 19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6" name="Line 20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7" name="Line 21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8" name="Line 2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9" name="Line 2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0" name="Line 2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1" name="Line 2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2" name="Line 2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3" name="Rectangle 2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4" name="Text Box 28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5" name="Line 29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6" name="Line 3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7" name="Line 31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8" name="Line 32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1" name="Rectangle 39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2" name="Rectangle 4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4" name="Rectangle 4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6" name="Rectangle 50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7" name="Rectangle 5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618" name="Object 51"/>
          <p:cNvGraphicFramePr/>
          <p:nvPr/>
        </p:nvGraphicFramePr>
        <p:xfrm>
          <a:off x="228600" y="1981080"/>
          <a:ext cx="85694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5694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Заголовок 1"/>
          <p:cNvSpPr/>
          <p:nvPr/>
        </p:nvSpPr>
        <p:spPr>
          <a:xfrm>
            <a:off x="762120" y="2362320"/>
            <a:ext cx="777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Calibri"/>
              </a:rPr>
              <a:t>СТРУКТУРА І ФУНКЦІЇ ЛІПІДІВ</a:t>
            </a:r>
            <a:endParaRPr b="0" i="1" lang="en-US" sz="4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1"/>
          <p:cNvSpPr/>
          <p:nvPr/>
        </p:nvSpPr>
        <p:spPr>
          <a:xfrm>
            <a:off x="304920" y="4572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ahoma"/>
                <a:ea typeface="Arial"/>
              </a:rPr>
              <a:t>Ліпіди (lipos - жир, грецьк.) </a:t>
            </a:r>
            <a:r>
              <a:rPr b="1" i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- це велика група різноманітних за хімічною будовою органічних речовин нерозчинних у воді і розчинних у неполярних органічних розчинниках - ефірі, хлороформі, ацетоні, бензолі і т. ін.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3657600" cy="270036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04920" y="2286000"/>
            <a:ext cx="883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99"/>
                </a:solidFill>
                <a:latin typeface="Tahoma"/>
                <a:ea typeface="Arial"/>
              </a:rPr>
              <a:t>Біологічні функції ліпідів визначаються їхньою будовою і фізико-хімічними властивостями. Специфічною властивістю ліпідів є їхня здатність утворювати у водному середовищі емульсії різного ступеня дисперсності та стійкості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25" name="Прямоугольник 5"/>
          <p:cNvSpPr/>
          <p:nvPr/>
        </p:nvSpPr>
        <p:spPr>
          <a:xfrm>
            <a:off x="304920" y="3429000"/>
            <a:ext cx="51814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99"/>
                </a:solidFill>
                <a:latin typeface="Tahoma"/>
                <a:ea typeface="Arial"/>
              </a:rPr>
              <a:t>Ця властивість має суттєве біологічне значення. Так, від емульгування ліпідів у шлунково-кишковому тракті залежить їх розщеплення та всмоктування. У вигляді емульсії жир знаходиться в крові, лімфі і транспортується до різних органів і тканин, включаючись в обмінні процеси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26" name="Прямоугольник 6"/>
          <p:cNvSpPr/>
          <p:nvPr/>
        </p:nvSpPr>
        <p:spPr>
          <a:xfrm>
            <a:off x="5562720" y="5715000"/>
            <a:ext cx="9144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Класифікація карбонових кисло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848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-304920"/>
            <a:ext cx="728964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Головні функції ліпі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28600" y="7617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1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Енергетична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 - окислення 1 г жиру дає 39,1 кДж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2.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 Пластична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ліпіди у вигляді ліпопротеїнів і гліколіпідів складають основу мембранних структур кліт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3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Механічний захист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ліпіди утворюють жирові капсули деяких внутрішніх орган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4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Термоізолююча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підшкірний жир відіграє роль термоізолят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5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Електроізолююча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 – мієлінові оболонки нервових кліт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6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Джерело ендогенної води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окислення 100 г жиру дає 106-108г во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7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Регуляторна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 - ліпіди і їх похідні утворюють велику груп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регуляторів - статеві гормони, кортикостероїди, простагланд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8.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 Вітамінна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жири є розчинником і носієм вітамінів А,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D,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К і Е 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Q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Класифікація ліпіді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0" y="620640"/>
            <a:ext cx="2590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ahoma"/>
              </a:rPr>
              <a:t>1. За походженням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Тварин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 </a:t>
            </a: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Рослин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2438280" y="990720"/>
            <a:ext cx="375300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i="1" lang="uk-UA" sz="1800" spc="-1" strike="noStrike">
                <a:solidFill>
                  <a:srgbClr val="ff0000"/>
                </a:solidFill>
                <a:latin typeface="Tahoma"/>
              </a:rPr>
              <a:t>. За місцем знаходженням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Ліпіди мозку,крові, жирової тканини та ін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6191280" y="533520"/>
            <a:ext cx="295272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i="1" lang="uk-UA" sz="1800" spc="-1" strike="noStrike">
                <a:solidFill>
                  <a:srgbClr val="ff0000"/>
                </a:solidFill>
                <a:latin typeface="Tahoma"/>
              </a:rPr>
              <a:t>. За фізіологічним значенням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Конституційні (структурні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Резерв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5029200" y="22860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ahoma"/>
              </a:rPr>
              <a:t>5. За хімічними властивостями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Омилюючі (нейтральні жири, воски, стериди, фосфоліпіди, гліколіпіди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 </a:t>
            </a: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Неомилюючі (стерини, каротиноїди, жиророзчинні вітаміни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1258920" y="213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ahoma"/>
                <a:ea typeface="Arial"/>
              </a:rPr>
              <a:t>4. За будовою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179280" y="2781360"/>
            <a:ext cx="2232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10253f"/>
                </a:solidFill>
                <a:uFillTx/>
                <a:latin typeface="Tahoma"/>
              </a:rPr>
              <a:t>Прості </a:t>
            </a:r>
            <a:r>
              <a:rPr b="1" i="1" lang="uk-UA" sz="2000" spc="-1" strike="noStrike">
                <a:solidFill>
                  <a:srgbClr val="660033"/>
                </a:solidFill>
                <a:latin typeface="Times New Roman"/>
              </a:rPr>
              <a:t>(нейтральні жири, стериди, воски)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179280" y="4221000"/>
            <a:ext cx="194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фосфоліпіди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3015360" y="350028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10253f"/>
                </a:solidFill>
                <a:uFillTx/>
                <a:latin typeface="Tahoma"/>
              </a:rPr>
              <a:t>Склад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8" name="Rectangle 11"/>
          <p:cNvSpPr/>
          <p:nvPr/>
        </p:nvSpPr>
        <p:spPr>
          <a:xfrm>
            <a:off x="2411280" y="4221000"/>
            <a:ext cx="269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глікосфінголіпіди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9" name="Rectangle 12"/>
          <p:cNvSpPr/>
          <p:nvPr/>
        </p:nvSpPr>
        <p:spPr>
          <a:xfrm>
            <a:off x="611280" y="494172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гліцерофосфатиди (кардіоліпіни),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0" name="Rectangle 13"/>
          <p:cNvSpPr/>
          <p:nvPr/>
        </p:nvSpPr>
        <p:spPr>
          <a:xfrm>
            <a:off x="684360" y="5805360"/>
            <a:ext cx="25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сфінгофосфатиди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(цераміди);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4995000" y="486900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сульфоліпіди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5254560" y="5257800"/>
            <a:ext cx="388944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10253f"/>
                </a:solidFill>
                <a:uFillTx/>
                <a:latin typeface="Tahoma"/>
              </a:rPr>
              <a:t>Похідні ліпідів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imes New Roman"/>
              </a:rPr>
              <a:t>(стероїди, каротиноїди, жиророзчинні вітаміни, простагландини</a:t>
            </a: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3" name="Rectangle 16"/>
          <p:cNvSpPr/>
          <p:nvPr/>
        </p:nvSpPr>
        <p:spPr>
          <a:xfrm>
            <a:off x="3693600" y="5445000"/>
            <a:ext cx="1593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цереброзиди,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Гангліозиди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4" name="Line 17"/>
          <p:cNvSpPr/>
          <p:nvPr/>
        </p:nvSpPr>
        <p:spPr>
          <a:xfrm flipH="1">
            <a:off x="1219320" y="25146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2590920" y="2514600"/>
            <a:ext cx="612720" cy="9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6" name="Line 19"/>
          <p:cNvSpPr/>
          <p:nvPr/>
        </p:nvSpPr>
        <p:spPr>
          <a:xfrm>
            <a:off x="2666880" y="2514600"/>
            <a:ext cx="4856400" cy="26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7" name="Line 20"/>
          <p:cNvSpPr/>
          <p:nvPr/>
        </p:nvSpPr>
        <p:spPr>
          <a:xfrm flipH="1">
            <a:off x="1403280" y="3716280"/>
            <a:ext cx="165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3419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9" name="Line 22"/>
          <p:cNvSpPr/>
          <p:nvPr/>
        </p:nvSpPr>
        <p:spPr>
          <a:xfrm>
            <a:off x="468360" y="4581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0" name="Line 23"/>
          <p:cNvSpPr/>
          <p:nvPr/>
        </p:nvSpPr>
        <p:spPr>
          <a:xfrm>
            <a:off x="468360" y="530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46836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2" name="Rectangle 25"/>
          <p:cNvSpPr/>
          <p:nvPr/>
        </p:nvSpPr>
        <p:spPr>
          <a:xfrm>
            <a:off x="3263400" y="479736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сфінгомієліни</a:t>
            </a:r>
            <a:r>
              <a:rPr b="0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,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3" name="Line 26"/>
          <p:cNvSpPr/>
          <p:nvPr/>
        </p:nvSpPr>
        <p:spPr>
          <a:xfrm>
            <a:off x="3995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4" name="Line 27"/>
          <p:cNvSpPr/>
          <p:nvPr/>
        </p:nvSpPr>
        <p:spPr>
          <a:xfrm>
            <a:off x="4716360" y="4508640"/>
            <a:ext cx="576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5" name="Line 28"/>
          <p:cNvSpPr/>
          <p:nvPr/>
        </p:nvSpPr>
        <p:spPr>
          <a:xfrm>
            <a:off x="3419640" y="5157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6" name="Line 29"/>
          <p:cNvSpPr/>
          <p:nvPr/>
        </p:nvSpPr>
        <p:spPr>
          <a:xfrm>
            <a:off x="3419640" y="59500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7" name="Line 30"/>
          <p:cNvSpPr/>
          <p:nvPr/>
        </p:nvSpPr>
        <p:spPr>
          <a:xfrm>
            <a:off x="3419640" y="566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4920" y="5335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5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99"/>
                </a:solidFill>
                <a:latin typeface="Tahoma"/>
                <a:ea typeface="Arial"/>
              </a:rPr>
              <a:t>Характерним структурним компонентом більшості ліпідів є </a:t>
            </a:r>
            <a:r>
              <a:rPr b="1" i="1" lang="uk-UA" sz="1800" spc="-1" strike="noStrike">
                <a:solidFill>
                  <a:srgbClr val="ff0000"/>
                </a:solidFill>
                <a:latin typeface="Tahoma"/>
                <a:ea typeface="Arial"/>
              </a:rPr>
              <a:t>жирні кислоти</a:t>
            </a:r>
            <a:r>
              <a:rPr b="1" i="1" lang="uk-UA" sz="1600" spc="-1" strike="noStrike">
                <a:solidFill>
                  <a:srgbClr val="000099"/>
                </a:solidFill>
                <a:latin typeface="Tahoma"/>
                <a:ea typeface="Arial"/>
              </a:rPr>
              <a:t>, в яких акумулюються великі енергетичні запаси, які звільняються при окисленні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  <a:ea typeface="Arial"/>
              </a:rPr>
              <a:t>Жирні кислоти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– органічні кислоти з довгим вуглеводневим ланцюгом, який містить від 4 до 24 і більше атомів карбону, і однією карбоксильною  групою. Загальна формула жирних кислот -С</a:t>
            </a:r>
            <a:r>
              <a:rPr b="1" i="1" lang="en-US" sz="1600" spc="-1" strike="noStrike" baseline="-25000">
                <a:solidFill>
                  <a:srgbClr val="000099"/>
                </a:solidFill>
                <a:latin typeface="Tahoma"/>
                <a:ea typeface="Arial"/>
              </a:rPr>
              <a:t>n</a:t>
            </a:r>
            <a:r>
              <a:rPr b="1" i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H</a:t>
            </a:r>
            <a:r>
              <a:rPr b="1" i="1" lang="en-US" sz="1600" spc="-1" strike="noStrike" baseline="-25000">
                <a:solidFill>
                  <a:srgbClr val="000099"/>
                </a:solidFill>
                <a:latin typeface="Tahoma"/>
                <a:ea typeface="Arial"/>
              </a:rPr>
              <a:t>2n+1</a:t>
            </a:r>
            <a:r>
              <a:rPr b="1" i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-COO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990720" y="2982960"/>
            <a:ext cx="751032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52280" y="380880"/>
          <a:ext cx="8458200" cy="3932280"/>
        </p:xfrm>
        <a:graphic>
          <a:graphicData uri="http://schemas.openxmlformats.org/drawingml/2006/table">
            <a:tbl>
              <a:tblPr/>
              <a:tblGrid>
                <a:gridCol w="2944800"/>
                <a:gridCol w="5513400"/>
              </a:tblGrid>
              <a:tr h="411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Насичені кислоти                                                                                                                          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Лаури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 - 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Міристи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 - 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Пальміти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4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 - 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Стеари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6 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 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Ненасичені кислоти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Олеї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H=CH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Ерук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H=CH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1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Ліноле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H=CH-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H=CH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Ліноле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СН=СН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СН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СООН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Арахідо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СН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СН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СН-СН=СН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СН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СООН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"/>
          <p:cNvSpPr txBox="1"/>
          <p:nvPr/>
        </p:nvSpPr>
        <p:spPr>
          <a:xfrm>
            <a:off x="-360" y="3657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Насичені жирні кислоти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 містяться в коров'ячому маслі (масляна, капронова), тваринному жирі (пальмітинова, стеаринова, міристинова), риб’ячому жирі і земляних горіхах (арахінова), рапсовій олії (бегенов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Насичені жирні кислоти використовуються в основному як енергетичний матеріал. Вони є твердими за консистенцією за температури 18°С, мають високу температуру плавлення (44...75°С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Високий вміст тваринних жирів в раціоні є небажаним, оскільки за надлишку насичених жирних кислот порушується обмін ліпідів, підвищується рівень холестерину в крові, збільшується ризик розвитку атеросклерозу, ожиріння, жовчнокам'яної хвороби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28600" y="456840"/>
            <a:ext cx="87631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Ненасичені жирні кислоти,  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які мають більше одного подвійного зв'язку, в організмі не синтезуються і тому називаються незамінними (лінолева, ліноленова кислоти, що входять до складу вітаміну Р, та арахідонов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Прості </a:t>
            </a: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ненасичені жирні кислоти 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містяться в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Tahoma"/>
                <a:ea typeface="Arial"/>
              </a:rPr>
              <a:t>риб’ячому жирі (ерукова, гадолеїнова),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Tahoma"/>
                <a:ea typeface="Arial"/>
              </a:rPr>
              <a:t>олії, жирі, горіхах (олеїнова), 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а також в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Tahoma"/>
                <a:ea typeface="Arial"/>
              </a:rPr>
              <a:t>молочному жирі (пальмітолеїнова).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Поліненасичені жирні кислоти 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містяться в олії насіння, риб’ячому жирі (лінолева, ліноленова, арахідонова, клупонодонова). Поліненасичені жирні кислоти (ПНЖК): лінолева, ліноленова – відносяться до незамінних форм харчування, оскільки в організмі вони не синтезуються і тому повинні надходити з їжею. Ці кислоти за своїми біологічними властивостями відносяться до життєво необхідних речовин і називаються "Вітамін </a:t>
            </a:r>
            <a:r>
              <a:rPr b="1" i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F"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Лінолева кислота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 перетворюється в організмі в арахідонову, а ліноленова – ейкозапентаєновую. Недостатнє надходження з їжею лінолевої кислоти викликає в організмі порушення біосинтезу арахідонової кисло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Арахідонова кислота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 передує утворенню речовин, що беруть участь в регуляції багатьох процесів життєдіяльності тромбоцитів і інших елементів, але особливо простагландинів, які мають велике значення як речовинам найвищої біологічної активності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Прост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28240" y="761760"/>
            <a:ext cx="8534520" cy="27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Прості ліпіди 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- у хімічному відношенні є складними ефірами різних спиртів та жирних кислот. Залежно від спиртового компонента вони діляться на такі підгруп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1. </a:t>
            </a: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Нейтральні жири, або гліцериди (ацилгліцерини) 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- складні ефіри трьохатомного спирту гліцерину та вищих жирних карбонових кисло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Slide" descr=""/>
          <p:cNvPicPr/>
          <p:nvPr/>
        </p:nvPicPr>
        <p:blipFill>
          <a:blip r:embed="rId1"/>
          <a:srcRect l="319" t="53927" r="-315" b="12211"/>
          <a:stretch/>
        </p:blipFill>
        <p:spPr>
          <a:xfrm>
            <a:off x="311040" y="3494160"/>
            <a:ext cx="73598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Прост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4920" y="685800"/>
            <a:ext cx="8686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2. </a:t>
            </a: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Стерини і стериди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Стерини 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- одноатомні циклічні спирти – 3-гідроксипохідні стерану (циклопентанпергідрофенатрену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Стериди 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- складні ефіри стеринів і вищих жирних кислот. </a:t>
            </a:r>
            <a:br>
              <a:rPr sz="2000"/>
            </a:br>
            <a:r>
              <a:rPr b="1" i="1" lang="uk-UA" sz="2000" spc="-1" strike="noStrike">
                <a:solidFill>
                  <a:srgbClr val="10253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Slide" descr=""/>
          <p:cNvPicPr/>
          <p:nvPr/>
        </p:nvPicPr>
        <p:blipFill>
          <a:blip r:embed="rId1"/>
          <a:srcRect l="10954" t="66668" r="5079" b="2856"/>
          <a:stretch/>
        </p:blipFill>
        <p:spPr>
          <a:xfrm>
            <a:off x="3124080" y="2895480"/>
            <a:ext cx="5757840" cy="2090880"/>
          </a:xfrm>
          <a:prstGeom prst="rect">
            <a:avLst/>
          </a:prstGeom>
          <a:ln w="0">
            <a:noFill/>
          </a:ln>
        </p:spPr>
      </p:pic>
      <p:pic>
        <p:nvPicPr>
          <p:cNvPr id="672" name="Slide" descr=""/>
          <p:cNvPicPr/>
          <p:nvPr/>
        </p:nvPicPr>
        <p:blipFill>
          <a:blip r:embed="rId2"/>
          <a:srcRect l="5079" t="37463" r="57302" b="35453"/>
          <a:stretch/>
        </p:blipFill>
        <p:spPr>
          <a:xfrm>
            <a:off x="109440" y="4419720"/>
            <a:ext cx="3003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Прост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4560" y="685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3.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Arial"/>
              </a:rPr>
              <a:t>Воски 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- складні ефіри вищих одноатомних спиртні і вищих жирних кисл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Arial"/>
              </a:rPr>
              <a:t>Воски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 – складні ефіри жирних кислот і високомолекулярних одноатомних спиртів.  Розрізняють воски тваринного і рослинного походження. Наприклад, цетилпальмітат (складний ефір цетилового спирту СН</a:t>
            </a:r>
            <a:r>
              <a:rPr b="1" i="1" lang="ru-RU" sz="2000" spc="-1" strike="noStrike" baseline="-25000">
                <a:solidFill>
                  <a:srgbClr val="10253f"/>
                </a:solidFill>
                <a:latin typeface="Tahoma"/>
                <a:ea typeface="Arial"/>
              </a:rPr>
              <a:t>3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(СН</a:t>
            </a:r>
            <a:r>
              <a:rPr b="1" i="1" lang="ru-RU" sz="2000" spc="-1" strike="noStrike" baseline="-25000">
                <a:solidFill>
                  <a:srgbClr val="10253f"/>
                </a:solidFill>
                <a:latin typeface="Tahoma"/>
                <a:ea typeface="Arial"/>
              </a:rPr>
              <a:t>2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)</a:t>
            </a:r>
            <a:r>
              <a:rPr b="1" i="1" lang="ru-RU" sz="2000" spc="-1" strike="noStrike" baseline="-25000">
                <a:solidFill>
                  <a:srgbClr val="10253f"/>
                </a:solidFill>
                <a:latin typeface="Tahoma"/>
                <a:ea typeface="Arial"/>
              </a:rPr>
              <a:t>14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СН</a:t>
            </a:r>
            <a:r>
              <a:rPr b="1" i="1" lang="ru-RU" sz="2000" spc="-1" strike="noStrike" baseline="-25000">
                <a:solidFill>
                  <a:srgbClr val="10253f"/>
                </a:solidFill>
                <a:latin typeface="Tahoma"/>
                <a:ea typeface="Arial"/>
              </a:rPr>
              <a:t>2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ОН і пальмітинової кислоти (спермацетовий  воск)), що виділяється з кашало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3" descr=""/>
          <p:cNvPicPr/>
          <p:nvPr/>
        </p:nvPicPr>
        <p:blipFill>
          <a:blip r:embed="rId1"/>
          <a:stretch/>
        </p:blipFill>
        <p:spPr>
          <a:xfrm>
            <a:off x="2819520" y="4387680"/>
            <a:ext cx="39621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Складн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04920" y="3049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0000"/>
                </a:solidFill>
                <a:latin typeface="Tahoma"/>
                <a:ea typeface="Arial"/>
              </a:rPr>
              <a:t>Складні ліпіди </a:t>
            </a:r>
            <a:r>
              <a:rPr b="1" i="1" lang="uk-UA" sz="1600" spc="-1" strike="noStrike">
                <a:solidFill>
                  <a:srgbClr val="10253f"/>
                </a:solidFill>
                <a:latin typeface="Tahoma"/>
                <a:ea typeface="Arial"/>
              </a:rPr>
              <a:t>- це також ефіри вищих жирних кислот і спиртів, але </a:t>
            </a:r>
            <a:r>
              <a:rPr b="1" i="1" lang="uk-UA" sz="1600" spc="-1" strike="noStrike" u="sng">
                <a:solidFill>
                  <a:srgbClr val="10253f"/>
                </a:solidFill>
                <a:uFillTx/>
                <a:latin typeface="Tahoma"/>
                <a:ea typeface="Arial"/>
              </a:rPr>
              <a:t>мають у своїй структурі ще залишки вуглеводів, фосфорної кислоти, амінокислоти та інше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Рисунок 4" descr=""/>
          <p:cNvPicPr/>
          <p:nvPr/>
        </p:nvPicPr>
        <p:blipFill>
          <a:blip r:embed="rId1"/>
          <a:stretch/>
        </p:blipFill>
        <p:spPr>
          <a:xfrm>
            <a:off x="5789520" y="4191120"/>
            <a:ext cx="3354480" cy="2361960"/>
          </a:xfrm>
          <a:prstGeom prst="rect">
            <a:avLst/>
          </a:prstGeom>
          <a:ln w="0">
            <a:noFill/>
          </a:ln>
        </p:spPr>
      </p:pic>
      <p:sp>
        <p:nvSpPr>
          <p:cNvPr id="679" name="Прямоугольник 5"/>
          <p:cNvSpPr/>
          <p:nvPr/>
        </p:nvSpPr>
        <p:spPr>
          <a:xfrm>
            <a:off x="228600" y="1447920"/>
            <a:ext cx="876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</a:rPr>
              <a:t>Фосфоліпіди</a:t>
            </a:r>
            <a:r>
              <a:rPr b="1" i="1" lang="ru-RU" sz="1600" spc="-1" strike="noStrike">
                <a:solidFill>
                  <a:srgbClr val="10253f"/>
                </a:solidFill>
                <a:latin typeface="Tahoma"/>
              </a:rPr>
              <a:t> є основним компонентом біомембран клітинних структур, вони відіграють істотну роль в проникності клітинних оболонок і внутрішньоклітинному обміні. Найбільш важливими з фосфоліпідів є фосфатидилхолін, або лецитин, проявляє ліпотропну дію, перешкоджаючи ожирінню печінки і кращому засвоєнню жирів.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10253f"/>
                </a:solidFill>
                <a:latin typeface="Tahoma"/>
              </a:rPr>
              <a:t>Нестача фосфатидів в раціоні призводить до накопичення жиру в печінці, до її ожиріння, а потім і до цирозу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0" name="Прямоугольник 6"/>
          <p:cNvSpPr/>
          <p:nvPr/>
        </p:nvSpPr>
        <p:spPr>
          <a:xfrm>
            <a:off x="228600" y="3886200"/>
            <a:ext cx="5486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3300"/>
                </a:solidFill>
                <a:latin typeface="Tahoma"/>
                <a:ea typeface="Arial"/>
              </a:rPr>
              <a:t>Лецитин зустрічається в усіх тканинах рослинного і тваринного походження в насінні олійних рослин його кількість може досягати 1...1,5%, в деяких тканинах тваринного організму – 6...10%. Лецитином багаті яєчні жовтки, ікра, мозок, печінка. Джерелом лецитину є, також нерафіновані рослинні олії, у тому числі і жири обліпих, а також молочні. У жирах вершків і сметани лецитину більше, ніж у вершковому маслі. У яловичому, свинячому, баранячому жирах лецитину майже немає. Джерелом фосфатидів також можуть служити бобові(соя, горох), насіння соняшнику, горіхи, особливо кедрові.</a:t>
            </a:r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Складн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4920" y="6858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Фосфоліпіди поділяються на гліцерофосфоліпіди та сфінгофосфоліпід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Tahoma"/>
                <a:ea typeface="Arial"/>
              </a:rPr>
              <a:t>Гліцерофосфоліпіди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 (фосфогліцериди) - складні ефіри гліцеролу та вищих жирних кислот; є похідними фосфатидної кислоти, естерифікованої аміноспиртами: холіном (фосфатидилхоліни або лецитини), етаноламіном (фосфатидилетаноламіни, або кефаліни), серином, інозитол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Picture 4" descr=""/>
          <p:cNvPicPr/>
          <p:nvPr/>
        </p:nvPicPr>
        <p:blipFill>
          <a:blip r:embed="rId1"/>
          <a:stretch/>
        </p:blipFill>
        <p:spPr>
          <a:xfrm>
            <a:off x="1676520" y="4338720"/>
            <a:ext cx="65516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69600" y="228600"/>
            <a:ext cx="68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ahoma"/>
                <a:ea typeface="Arial"/>
              </a:rPr>
              <a:t>НОМЕНКЛАТУРА КАРБОНОВИХ КИСЛОТ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52280" y="13716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АЛКАН +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ОВ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+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КИСЛОТА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1" name="Picture 7" descr="карбоновые кислоты2"/>
          <p:cNvPicPr/>
          <p:nvPr/>
        </p:nvPicPr>
        <p:blipFill>
          <a:blip r:embed="rId1"/>
          <a:stretch/>
        </p:blipFill>
        <p:spPr>
          <a:xfrm>
            <a:off x="4724280" y="1828800"/>
            <a:ext cx="1498680" cy="934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3200" y="1905120"/>
            <a:ext cx="45165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Arial"/>
              </a:rPr>
              <a:t>МЕТАН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ОВ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60033"/>
                </a:solidFill>
                <a:latin typeface="Arial"/>
              </a:rPr>
              <a:t>КИСЛОТА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3300"/>
                </a:solidFill>
                <a:uFillTx/>
                <a:latin typeface="Tahoma"/>
              </a:rPr>
              <a:t>МУРАШИНА КИСЛОТА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3" name="Picture 9" descr="муравьи1"/>
          <p:cNvPicPr/>
          <p:nvPr/>
        </p:nvPicPr>
        <p:blipFill>
          <a:blip r:embed="rId2"/>
          <a:stretch/>
        </p:blipFill>
        <p:spPr>
          <a:xfrm>
            <a:off x="6324480" y="1219320"/>
            <a:ext cx="2665440" cy="1447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222120" y="3124080"/>
            <a:ext cx="45378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Arial"/>
              </a:rPr>
              <a:t>ЕТАН</a:t>
            </a: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ОВ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КИСЛОТА</a:t>
            </a: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3300"/>
                </a:solidFill>
                <a:uFillTx/>
                <a:latin typeface="Tahoma"/>
              </a:rPr>
              <a:t>ОЦТОВА КИСЛОТА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5" name="Picture 5" descr="уксус"/>
          <p:cNvPicPr/>
          <p:nvPr/>
        </p:nvPicPr>
        <p:blipFill>
          <a:blip r:embed="rId3"/>
          <a:stretch/>
        </p:blipFill>
        <p:spPr>
          <a:xfrm>
            <a:off x="7315200" y="2819520"/>
            <a:ext cx="1546200" cy="1546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4724280" y="3200400"/>
            <a:ext cx="244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СН</a:t>
            </a:r>
            <a:r>
              <a:rPr b="0" i="1" lang="ru-RU" sz="2800" spc="-1" strike="noStrike" baseline="-25000">
                <a:solidFill>
                  <a:srgbClr val="660033"/>
                </a:solidFill>
                <a:latin typeface="Arial"/>
              </a:rPr>
              <a:t>3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СООН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0" y="4419720"/>
            <a:ext cx="594360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ЕТАН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ДИ</a:t>
            </a: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ОВ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 КИСЛОТА</a:t>
            </a: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3300"/>
                </a:solidFill>
                <a:uFillTx/>
                <a:latin typeface="Tahoma"/>
              </a:rPr>
              <a:t>ЩЕВЛЕВА КИСЛОТА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5343480" y="45720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НООС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СООН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9" name="Picture 9" descr="щавель"/>
          <p:cNvPicPr/>
          <p:nvPr/>
        </p:nvPicPr>
        <p:blipFill>
          <a:blip r:embed="rId4"/>
          <a:stretch/>
        </p:blipFill>
        <p:spPr>
          <a:xfrm>
            <a:off x="6858000" y="5029200"/>
            <a:ext cx="1995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5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6" name="Line 14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8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9" name="Line 17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0" name="Line 18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1" name="Line 19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2" name="Line 2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3" name="Line 21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4" name="Line 22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5" name="Line 23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6" name="Line 24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7" name="Rectangle 2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8" name="Text Box 26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9" name="Line 27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0" name="Line 2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1" name="Line 29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2" name="Line 30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3" name="Rectangle 3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5" name="Rectangle 37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6" name="Rectangle 4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7" name="Rectangle 47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8" name="Rectangle 50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9" name="Rectangle 52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20" name="Text Box 53"/>
          <p:cNvSpPr/>
          <p:nvPr/>
        </p:nvSpPr>
        <p:spPr>
          <a:xfrm>
            <a:off x="152280" y="0"/>
            <a:ext cx="899172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Arial"/>
              </a:rPr>
              <a:t>Кефалін</a:t>
            </a: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Arial"/>
              </a:rPr>
              <a:t>Лецитин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21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22" name="Rectangle 57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723" name="Object 56"/>
          <p:cNvGraphicFramePr/>
          <p:nvPr/>
        </p:nvGraphicFramePr>
        <p:xfrm>
          <a:off x="1676520" y="457200"/>
          <a:ext cx="678312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67831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Rectangle 59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726" name="Object 58"/>
          <p:cNvGraphicFramePr/>
          <p:nvPr/>
        </p:nvGraphicFramePr>
        <p:xfrm>
          <a:off x="1752480" y="3352680"/>
          <a:ext cx="7010640" cy="33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7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352680"/>
                    <a:ext cx="701064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Заголовок 3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кладні ліпіди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0" y="105840"/>
            <a:ext cx="9175680" cy="67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ff0000"/>
                </a:solidFill>
                <a:latin typeface="Tahoma"/>
                <a:ea typeface="Arial"/>
              </a:rPr>
              <a:t>Сфінгофосфоліпіди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 - жирнокислотні ефіри багатоатомно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аміноспирту сфінгозину. </a:t>
            </a:r>
            <a:r>
              <a:rPr b="1" i="1" lang="en-US" sz="1900" spc="-1" strike="noStrike">
                <a:solidFill>
                  <a:srgbClr val="10253f"/>
                </a:solidFill>
                <a:latin typeface="Tahoma"/>
                <a:ea typeface="Arial"/>
              </a:rPr>
              <a:t>N-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ацильні похідні сфінгозину та жирних кислот мають назву церамід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Tahoma"/>
                <a:ea typeface="Arial"/>
              </a:rPr>
              <a:t>Сфінгофосфоліпіди -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 це фосфорні ефіри церамідів 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аміноспиртів - холіну, етаноламіну, серину. В нервовій тканині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людини та вищих тварин присутні сфінгомієліни:</a:t>
            </a:r>
            <a:br>
              <a:rPr sz="1900"/>
            </a:br>
            <a:r>
              <a:rPr b="1" i="1" lang="uk-UA" sz="1900" spc="-1" strike="noStrike">
                <a:solidFill>
                  <a:srgbClr val="10253f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Slide" descr=""/>
          <p:cNvPicPr/>
          <p:nvPr/>
        </p:nvPicPr>
        <p:blipFill>
          <a:blip r:embed="rId1"/>
          <a:srcRect l="10001" t="24449" r="21790" b="57749"/>
          <a:stretch/>
        </p:blipFill>
        <p:spPr>
          <a:xfrm>
            <a:off x="685800" y="1828800"/>
            <a:ext cx="6180120" cy="1612800"/>
          </a:xfrm>
          <a:prstGeom prst="rect">
            <a:avLst/>
          </a:prstGeom>
          <a:ln w="0">
            <a:noFill/>
          </a:ln>
        </p:spPr>
      </p:pic>
      <p:pic>
        <p:nvPicPr>
          <p:cNvPr id="731" name="Slide" descr=""/>
          <p:cNvPicPr/>
          <p:nvPr/>
        </p:nvPicPr>
        <p:blipFill>
          <a:blip r:embed="rId2"/>
          <a:srcRect l="9907" t="69976" r="14384" b="7418"/>
          <a:stretch/>
        </p:blipFill>
        <p:spPr>
          <a:xfrm>
            <a:off x="1447920" y="4800600"/>
            <a:ext cx="5672160" cy="177156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Складн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-360" y="837720"/>
            <a:ext cx="89154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ff0000"/>
                </a:solidFill>
                <a:latin typeface="Tahoma"/>
                <a:ea typeface="Arial"/>
              </a:rPr>
              <a:t>2. Гліколіпіди 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- складні ефіри вищих жирних кислот та гліцеролу (глікозилгліцероли) або сфінгозину (глікосфінголіпіди), що містять вуглеводний компонент (глюкозу, галактозу та їх похідні або олігосахаридну групу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Slide" descr=""/>
          <p:cNvPicPr/>
          <p:nvPr/>
        </p:nvPicPr>
        <p:blipFill>
          <a:blip r:embed="rId1"/>
          <a:srcRect l="24286" t="44944" r="24286" b="23735"/>
          <a:stretch/>
        </p:blipFill>
        <p:spPr>
          <a:xfrm>
            <a:off x="2362320" y="3917880"/>
            <a:ext cx="4827600" cy="294012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Складн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8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9" name="Line 17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0" name="Line 1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1" name="Line 19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2" name="Line 20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3" name="Line 21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4" name="Line 2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5" name="Line 2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6" name="Line 2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7" name="Line 2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8" name="Line 2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0" name="Text Box 28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1" name="Line 29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2" name="Line 3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3" name="Line 31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4" name="Line 32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5" name="Rectangle 3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8" name="Text Box 42"/>
          <p:cNvSpPr/>
          <p:nvPr/>
        </p:nvSpPr>
        <p:spPr>
          <a:xfrm>
            <a:off x="609480" y="0"/>
            <a:ext cx="800100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перетворення ліпідів 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Кислотний та лужний гідроліз. Лужний гідроліз (реакція омилення) незворотня: </a:t>
            </a: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продуктами гідролізу єгліцерол і солі жирних кислот − </a:t>
            </a:r>
            <a:r>
              <a:rPr b="1" i="1" lang="ru-RU" sz="2000" spc="-1" strike="noStrike">
                <a:solidFill>
                  <a:srgbClr val="003300"/>
                </a:solidFill>
                <a:latin typeface="Tahoma"/>
                <a:ea typeface="Arial"/>
              </a:rPr>
              <a:t>мила.</a:t>
            </a: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9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770" name="Object 43"/>
          <p:cNvGraphicFramePr/>
          <p:nvPr/>
        </p:nvGraphicFramePr>
        <p:xfrm>
          <a:off x="304920" y="2743200"/>
          <a:ext cx="83930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83930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4" name="Rectangle 1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6" name="Line 17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7" name="Line 1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8" name="Line 19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9" name="Line 20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0" name="Line 21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1" name="Line 2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2" name="Line 2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3" name="Line 2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4" name="Line 2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5" name="Line 2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6" name="Rectangle 2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7" name="Text Box 28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8" name="Line 29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9" name="Line 3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0" name="Line 31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1" name="Line 32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2" name="Rectangle 3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4" name="Rectangle 41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5" name="Text Box 42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Чис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ло омилення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– це кількість мілліграммів гідроксида калія, необхідна для омилення 1 г жиру.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Число омилення дозволяє визначити 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молекулярність 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висших карбонових кислот, що входять до складу жиру. Малі значення числа омилення вказує на присутність більш високомолекулярних кислот, великі − низькомолекулярних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β−окислення жирів в організме: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6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7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08" name="Object 45"/>
          <p:cNvGraphicFramePr/>
          <p:nvPr/>
        </p:nvGraphicFramePr>
        <p:xfrm>
          <a:off x="1271520" y="3124080"/>
          <a:ext cx="71154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3124080"/>
                    <a:ext cx="7115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4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5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6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1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2" name="Line 14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3" name="Line 15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4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5" name="Line 17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6" name="Line 18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7" name="Line 19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8" name="Line 2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9" name="Line 21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0" name="Line 22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1" name="Line 23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2" name="Line 24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3" name="Rectangle 2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4" name="Text Box 26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5" name="Line 27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6" name="Line 2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7" name="Line 29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8" name="Line 30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9" name="Rectangle 31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1" name="Rectangle 33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2" name="Rectangle 3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3" name="Rectangle 35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4" name="Rectangle 36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5" name="Rectangle 37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6" name="Text Box 38"/>
          <p:cNvSpPr/>
          <p:nvPr/>
        </p:nvSpPr>
        <p:spPr>
          <a:xfrm>
            <a:off x="228600" y="-201600"/>
            <a:ext cx="853452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Сфінголіпіди – структурні аналоги гліцерофосфоліпідів, де замість гліцерола використовується 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сфінгозин. </a:t>
            </a: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У сфінгомиелінах гідроксил у С-1  ацильований фосфорилхоліновою групіровкою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8" name="Rectangle 40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0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1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2" name="Rectangle 49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53" name="Object 48"/>
          <p:cNvGraphicFramePr/>
          <p:nvPr/>
        </p:nvGraphicFramePr>
        <p:xfrm>
          <a:off x="1066680" y="2133720"/>
          <a:ext cx="715500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4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550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6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7" name="Rectangle 55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58" name="Object 54"/>
          <p:cNvGraphicFramePr/>
          <p:nvPr/>
        </p:nvGraphicFramePr>
        <p:xfrm>
          <a:off x="1828800" y="3962520"/>
          <a:ext cx="5991120" cy="26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9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962520"/>
                    <a:ext cx="59911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1" name="Rectangle 1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2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3" name="Line 17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4" name="Line 1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5" name="Line 19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6" name="Line 20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7" name="Line 21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8" name="Line 2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9" name="Line 2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0" name="Line 2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1" name="Line 2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2" name="Line 2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3" name="Rectangle 2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4" name="Text Box 28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5" name="Line 29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6" name="Line 3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7" name="Line 31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8" name="Line 32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9" name="Text Box 40"/>
          <p:cNvSpPr/>
          <p:nvPr/>
        </p:nvSpPr>
        <p:spPr>
          <a:xfrm>
            <a:off x="228600" y="-380880"/>
            <a:ext cx="845820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Йодне число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–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міра ненасиченості (і, значить, консистентності)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триацилгліцеринів – це</a:t>
            </a:r>
            <a:r>
              <a:rPr b="1" i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 маса йоду (г),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  яка</a:t>
            </a:r>
            <a:r>
              <a:rPr b="1" i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 може  приєднуватись до  100 г речовини.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Серед насичених жирних кислот  в жирах людини превалює  пальмітинова кислота (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</a:t>
            </a:r>
            <a:r>
              <a:rPr b="1" i="1" lang="ru-RU" sz="1800" spc="-1" strike="noStrike" baseline="-25000">
                <a:solidFill>
                  <a:srgbClr val="660033"/>
                </a:solidFill>
                <a:latin typeface="Tahoma"/>
                <a:ea typeface="Arial"/>
              </a:rPr>
              <a:t>15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H</a:t>
            </a:r>
            <a:r>
              <a:rPr b="1" i="1" lang="ru-RU" sz="1800" spc="-1" strike="noStrike" baseline="-25000">
                <a:solidFill>
                  <a:srgbClr val="660033"/>
                </a:solidFill>
                <a:latin typeface="Tahoma"/>
                <a:ea typeface="Arial"/>
              </a:rPr>
              <a:t>31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OOH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),  серед ненасичених – олеїнова (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</a:t>
            </a:r>
            <a:r>
              <a:rPr b="1" i="1" lang="ru-RU" sz="1800" spc="-1" strike="noStrike" baseline="-25000">
                <a:solidFill>
                  <a:srgbClr val="660033"/>
                </a:solidFill>
                <a:latin typeface="Tahoma"/>
                <a:ea typeface="Arial"/>
              </a:rPr>
              <a:t>17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H</a:t>
            </a:r>
            <a:r>
              <a:rPr b="1" i="1" lang="ru-RU" sz="1800" spc="-1" strike="noStrike" baseline="-25000">
                <a:solidFill>
                  <a:srgbClr val="660033"/>
                </a:solidFill>
                <a:latin typeface="Tahoma"/>
                <a:ea typeface="Arial"/>
              </a:rPr>
              <a:t>33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OOH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). Ненасичені кислоти – лінолева</a:t>
            </a: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, 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ліноленова, є незамінними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9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91" name="Rectangle 44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92" name="Object 43"/>
          <p:cNvGraphicFramePr/>
          <p:nvPr/>
        </p:nvGraphicFramePr>
        <p:xfrm>
          <a:off x="1523880" y="3300480"/>
          <a:ext cx="662940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00480"/>
                    <a:ext cx="662940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50b3d"/>
                </a:solidFill>
                <a:latin typeface="Monotype Corsiva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2FA1-0323-4506-B0F2-9B91B3F9ACCE}" type="slidenum">
              <a:rPr b="0" i="1" lang="ru-RU" sz="1200" spc="-1" strike="noStrike">
                <a:solidFill>
                  <a:srgbClr val="898989"/>
                </a:solidFill>
                <a:latin typeface="Tahoma"/>
                <a:ea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539640" y="1484280"/>
            <a:ext cx="835344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17840" y="27936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  <a:ea typeface="Arial"/>
              </a:rPr>
              <a:t>Номенклатура 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586800" y="1607400"/>
            <a:ext cx="6953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ahoma"/>
                <a:ea typeface="Times New Roman"/>
              </a:rPr>
              <a:t>Систематичні і тривіальні назви монокарбонових кислот С</a:t>
            </a:r>
            <a:r>
              <a:rPr b="1" lang="ru-RU" sz="1600" spc="-1" strike="noStrike" baseline="-30000">
                <a:solidFill>
                  <a:srgbClr val="990000"/>
                </a:solidFill>
                <a:latin typeface="Tahoma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990000"/>
                </a:solidFill>
                <a:latin typeface="Tahoma"/>
                <a:ea typeface="Times New Roman"/>
              </a:rPr>
              <a:t>-С</a:t>
            </a:r>
            <a:r>
              <a:rPr b="1" lang="ru-RU" sz="1600" spc="-1" strike="noStrike" baseline="-30000">
                <a:solidFill>
                  <a:srgbClr val="990000"/>
                </a:solidFill>
                <a:latin typeface="Tahoma"/>
                <a:ea typeface="Times New Roman"/>
              </a:rPr>
              <a:t>10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11280" y="2060640"/>
          <a:ext cx="8064360" cy="4392720"/>
        </p:xfrm>
        <a:graphic>
          <a:graphicData uri="http://schemas.openxmlformats.org/drawingml/2006/table">
            <a:tbl>
              <a:tblPr/>
              <a:tblGrid>
                <a:gridCol w="2687400"/>
                <a:gridCol w="2689200"/>
                <a:gridCol w="2687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истематична наз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Тривіальна наз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е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урашин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 w="936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е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цт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п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піо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бу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слян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ен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алері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екс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апро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еп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енант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к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април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нон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еларго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ек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апри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3"/>
          <p:cNvSpPr/>
          <p:nvPr/>
        </p:nvSpPr>
        <p:spPr>
          <a:xfrm>
            <a:off x="7543800" y="3200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152280" y="152280"/>
            <a:ext cx="8839440" cy="66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ahoma"/>
              </a:rPr>
              <a:t>Электронна будова карбоксильної групи.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54061"/>
                </a:solidFill>
                <a:latin typeface="Tahoma"/>
              </a:rPr>
              <a:t>В карбоксильній групі має місце 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р,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Symbol"/>
                <a:ea typeface="Symbol"/>
              </a:rPr>
              <a:t>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-супряження</a:t>
            </a:r>
            <a:r>
              <a:rPr b="1" lang="uk-UA" sz="1800" spc="-1" strike="noStrike">
                <a:solidFill>
                  <a:srgbClr val="254061"/>
                </a:solidFill>
                <a:latin typeface="Tahoma"/>
              </a:rPr>
              <a:t>, внаслідок чого гідроген в значній мірі протонований, а карбоксилат-іон, який утворюється після відщеплення Н</a:t>
            </a:r>
            <a:r>
              <a:rPr b="1" lang="uk-UA" sz="1800" spc="-1" strike="noStrike" baseline="30000">
                <a:solidFill>
                  <a:srgbClr val="254061"/>
                </a:solidFill>
                <a:latin typeface="Tahoma"/>
              </a:rPr>
              <a:t>+</a:t>
            </a:r>
            <a:r>
              <a:rPr b="1" lang="uk-UA" sz="1800" spc="-1" strike="noStrike">
                <a:solidFill>
                  <a:srgbClr val="254061"/>
                </a:solidFill>
                <a:latin typeface="Tahoma"/>
              </a:rPr>
              <a:t>, являє собою термодинамічно стійку 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трьохцентрову супряжену систему: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452a"/>
                </a:solidFill>
                <a:latin typeface="Tahoma"/>
              </a:rPr>
              <a:t>Ступінь кислотности (сила кислоти) залежить від будови вуглеводневого радикалу і наявності замісників з </a:t>
            </a:r>
            <a:r>
              <a:rPr b="1" i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електронодонорними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Tahoma"/>
              </a:rPr>
              <a:t>(-R) </a:t>
            </a:r>
            <a:r>
              <a:rPr b="1" lang="uk-UA" sz="1800" spc="-1" strike="noStrike">
                <a:solidFill>
                  <a:srgbClr val="4a452a"/>
                </a:solidFill>
                <a:latin typeface="Tahoma"/>
              </a:rPr>
              <a:t>або 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е</a:t>
            </a:r>
            <a:r>
              <a:rPr b="1" i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лектроноакцепторними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 (-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Tahoma"/>
              </a:rPr>
              <a:t>Hal, -COOH, -COH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) </a:t>
            </a:r>
            <a:r>
              <a:rPr b="1" lang="uk-UA" sz="1800" spc="-1" strike="noStrike">
                <a:solidFill>
                  <a:srgbClr val="4a452a"/>
                </a:solidFill>
                <a:latin typeface="Tahoma"/>
              </a:rPr>
              <a:t>властивостями</a:t>
            </a:r>
            <a:r>
              <a:rPr b="1" lang="uk-UA" sz="1600" spc="-1" strike="noStrike">
                <a:solidFill>
                  <a:srgbClr val="4a452a"/>
                </a:solidFill>
                <a:latin typeface="Tahoma"/>
              </a:rPr>
              <a:t>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8" name="Object 22"/>
          <p:cNvGraphicFramePr/>
          <p:nvPr/>
        </p:nvGraphicFramePr>
        <p:xfrm>
          <a:off x="457200" y="1752480"/>
          <a:ext cx="140004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140004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5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91" name="Object 24"/>
          <p:cNvGraphicFramePr/>
          <p:nvPr/>
        </p:nvGraphicFramePr>
        <p:xfrm>
          <a:off x="2438280" y="2133720"/>
          <a:ext cx="3598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133720"/>
                    <a:ext cx="3598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2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94" name="Object 26"/>
          <p:cNvGraphicFramePr/>
          <p:nvPr/>
        </p:nvGraphicFramePr>
        <p:xfrm>
          <a:off x="6324480" y="2057400"/>
          <a:ext cx="247680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057400"/>
                    <a:ext cx="24768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29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97" name="Object 28"/>
          <p:cNvGraphicFramePr/>
          <p:nvPr/>
        </p:nvGraphicFramePr>
        <p:xfrm>
          <a:off x="533520" y="4343400"/>
          <a:ext cx="3933720" cy="16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343400"/>
                    <a:ext cx="39337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31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00" name="Object 30"/>
          <p:cNvGraphicFramePr/>
          <p:nvPr/>
        </p:nvGraphicFramePr>
        <p:xfrm>
          <a:off x="4952880" y="4114800"/>
          <a:ext cx="354492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4114800"/>
                    <a:ext cx="3544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Object 32"/>
              <p:cNvSpPr txBox="1"/>
              <p:nvPr/>
            </p:nvSpPr>
            <p:spPr>
              <a:xfrm>
                <a:off x="4514760" y="3130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0" y="9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800" y="2429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ahoma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660033"/>
                </a:solidFill>
                <a:latin typeface="Tahoma"/>
                <a:ea typeface="Times New Roman"/>
              </a:rPr>
              <a:t>	</a:t>
            </a:r>
            <a:endParaRPr b="0" i="1" lang="en-US" sz="1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2160" y="56646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9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669600" y="162792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Кислотні властисвості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16" name="Object 19"/>
          <p:cNvGraphicFramePr/>
          <p:nvPr/>
        </p:nvGraphicFramePr>
        <p:xfrm>
          <a:off x="914400" y="2293920"/>
          <a:ext cx="14968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93920"/>
                    <a:ext cx="1496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19" name="Object 21"/>
          <p:cNvGraphicFramePr/>
          <p:nvPr/>
        </p:nvGraphicFramePr>
        <p:xfrm>
          <a:off x="890640" y="3086280"/>
          <a:ext cx="2313000" cy="41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0640" y="3086280"/>
                    <a:ext cx="231300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3"/>
          <p:cNvGraphicFramePr/>
          <p:nvPr/>
        </p:nvGraphicFramePr>
        <p:xfrm>
          <a:off x="900000" y="3789360"/>
          <a:ext cx="2186280" cy="103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789360"/>
                    <a:ext cx="21862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26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900000" y="4921200"/>
          <a:ext cx="194328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4921200"/>
                    <a:ext cx="1943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7"/>
          <p:cNvSpPr/>
          <p:nvPr/>
        </p:nvSpPr>
        <p:spPr>
          <a:xfrm>
            <a:off x="3780000" y="229716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оцтов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4,76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4258440" y="3094200"/>
            <a:ext cx="33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монохлороцтов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2,85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3780000" y="371628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дихлороцтов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1,25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3780000" y="554184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трихлороцтов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0,66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7526880" y="17722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  <a:ea typeface="Arial"/>
              </a:rPr>
              <a:t>pKa</a:t>
            </a:r>
            <a:r>
              <a:rPr b="1" i="1" lang="ru-RU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644040" y="27936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  <a:ea typeface="Arial"/>
              </a:rPr>
              <a:t>Хімічні властивості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3" name="Стрелка влево 29"/>
          <p:cNvSpPr/>
          <p:nvPr/>
        </p:nvSpPr>
        <p:spPr>
          <a:xfrm rot="16200000">
            <a:off x="5562360" y="3047760"/>
            <a:ext cx="6019920" cy="68580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4" name="Text Box 23"/>
          <p:cNvSpPr/>
          <p:nvPr/>
        </p:nvSpPr>
        <p:spPr>
          <a:xfrm rot="5400000">
            <a:off x="6829200" y="3272040"/>
            <a:ext cx="42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99"/>
                </a:solidFill>
                <a:latin typeface="Tahoma"/>
                <a:ea typeface="Arial"/>
              </a:rPr>
              <a:t>Збільншення кислотност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9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800" y="2429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ahoma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660033"/>
                </a:solidFill>
                <a:latin typeface="Tahoma"/>
                <a:ea typeface="Times New Roman"/>
              </a:rPr>
              <a:t>	</a:t>
            </a:r>
            <a:endParaRPr b="0" i="1" lang="en-US" sz="1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2160" y="56646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9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64560" y="16279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Кислотні властивості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780000" y="229392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-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хлормасляна кислота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2,84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7526880" y="17722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  <a:ea typeface="Arial"/>
              </a:rPr>
              <a:t>pKa</a:t>
            </a:r>
            <a:r>
              <a:rPr b="1" i="1" lang="ru-RU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54" name="Object 30"/>
          <p:cNvGraphicFramePr/>
          <p:nvPr/>
        </p:nvGraphicFramePr>
        <p:xfrm>
          <a:off x="971640" y="2009880"/>
          <a:ext cx="244800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9880"/>
                    <a:ext cx="244800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33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57" name="Object 32"/>
          <p:cNvGraphicFramePr/>
          <p:nvPr/>
        </p:nvGraphicFramePr>
        <p:xfrm>
          <a:off x="971640" y="3070080"/>
          <a:ext cx="2448000" cy="14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070080"/>
                    <a:ext cx="244800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35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60" name="Object 34"/>
          <p:cNvGraphicFramePr/>
          <p:nvPr/>
        </p:nvGraphicFramePr>
        <p:xfrm>
          <a:off x="922320" y="4365720"/>
          <a:ext cx="2570040" cy="14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2320" y="4365720"/>
                    <a:ext cx="257004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6"/>
          <p:cNvGraphicFramePr/>
          <p:nvPr/>
        </p:nvGraphicFramePr>
        <p:xfrm>
          <a:off x="919080" y="5977080"/>
          <a:ext cx="257328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9080" y="5977080"/>
                    <a:ext cx="2573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8"/>
          <p:cNvSpPr/>
          <p:nvPr/>
        </p:nvSpPr>
        <p:spPr>
          <a:xfrm>
            <a:off x="3814920" y="3349800"/>
            <a:ext cx="44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-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хлормаслян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4,06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3780000" y="46530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-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хлормаслян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4,52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3860280" y="5880240"/>
            <a:ext cx="33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маслян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 4,82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7" name="Rectangle 42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644040" y="27936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  <a:ea typeface="Arial"/>
              </a:rPr>
              <a:t>Хімічні властивості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9" name="Стрелка влево 33"/>
          <p:cNvSpPr/>
          <p:nvPr/>
        </p:nvSpPr>
        <p:spPr>
          <a:xfrm rot="16200000">
            <a:off x="5562360" y="3047760"/>
            <a:ext cx="6019920" cy="68580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0" name="Text Box 23"/>
          <p:cNvSpPr/>
          <p:nvPr/>
        </p:nvSpPr>
        <p:spPr>
          <a:xfrm rot="5400000">
            <a:off x="6829200" y="3272040"/>
            <a:ext cx="42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99"/>
                </a:solidFill>
                <a:latin typeface="Tahoma"/>
                <a:ea typeface="Arial"/>
              </a:rPr>
              <a:t>Зменшення кислотност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5:01:37Z</dcterms:created>
  <dc:creator>пр</dc:creator>
  <dc:description/>
  <dc:language>en-US</dc:language>
  <cp:lastModifiedBy>Пользователь Windows</cp:lastModifiedBy>
  <dcterms:modified xsi:type="dcterms:W3CDTF">2019-03-25T07:43:51Z</dcterms:modified>
  <cp:revision>3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