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786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8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0"/>
            <a:ext cx="293868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89000"/>
            <a:ext cx="542448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58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75840"/>
            <a:ext cx="293868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9AE-E920-42F1-A393-D7FAA082CE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7880" y="4689000"/>
            <a:ext cx="542448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ст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0120" y="9375840"/>
            <a:ext cx="2938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602A-3877-4132-8186-60FFDE5C64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B0E-3438-470F-9C9C-FFF2DDEB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2E3-D8F9-4F1A-A269-65924DAB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FFC-C633-49B3-B621-8B211D3B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550-9ED5-4501-97CD-D5D4A54C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60F-CE71-48A1-A5DF-4BD3B97E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CAC-EAEB-4283-B5AA-45430D87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CAF-7854-4DF2-86D3-C58C4B35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99C-0597-4D95-99B6-44904516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357-1E79-4715-BC36-1284079A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5AB-69B6-4EB3-9BBA-92D399DD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B06-4C72-4F75-AC1C-13ABC4F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6E8-9566-43FF-86AB-2FEE5008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680-63D1-46B0-8E3C-FCFD1D5FC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9144000" cy="45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арк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ський національний медичний університет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федра медичної та біоорганічної хімії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«Медична хімія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екція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ікрогетерогенні дисперсні системи. Колоїдні розчини. Грубодисперсні сист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7686720" y="1557360"/>
            <a:ext cx="1457280" cy="1857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2"/>
          <a:stretch/>
        </p:blipFill>
        <p:spPr>
          <a:xfrm>
            <a:off x="9360" y="1557360"/>
            <a:ext cx="1914840" cy="19144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2475000" y="5761080"/>
            <a:ext cx="66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cc"/>
                </a:solidFill>
                <a:latin typeface="Arial"/>
              </a:rPr>
              <a:t>Лектор: зав.каф.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едичної та біоорганічної хімії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.фарм.н., проф. Сирова Г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52280" y="152280"/>
            <a:ext cx="8763120" cy="619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тримання  колоїдних розчинів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олоїдний розчин може бути отриманий якщ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1. Існує 2 фаз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дисперсна фаза практично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нерозчинна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дисперсному середовищ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дисперсна фаза має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розміри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инок:  10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-7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истемі присутний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стабілізатор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залежності від способу досягнення необхідного ступеня дисперсності розрізняют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исперсні та конденсаційні методи отриманн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колоїдних розчи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исперсні мето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еханічне</a:t>
            </a:r>
            <a:r>
              <a:rPr b="1" i="1" lang="ru-RU" sz="18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обління  (виробництво фарб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електричне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спергування за допомогою дугового розря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метод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ептизації,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що заключається у переході свіжеутвореного осаду у колоїдний розчин за рахунок виводу коагулюючих іонів та зменшення розміру частинок дисперсної фа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диспергування речовин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ультразвуко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здійснюється в дисперсному середовищі звуковими хвилями з частотой 10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ц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денсаційні методи: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жуть бути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фізичними</a:t>
            </a:r>
            <a:r>
              <a:rPr b="1" i="1" lang="ru-RU" sz="18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утворення туманів, хмар, дима) та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хімічни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утворення колоїдних частинок в результаті хімічної реакції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358920"/>
            <a:ext cx="8763120" cy="6464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Будова колоїдних части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іцел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структурна одиница колоїдного розчину (для іистинних розчинів --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олекул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. Міцели – ліофобні частинки,  що складають дисперсну фазу з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на складається з ядра, оточеного окруженног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війним електричним ша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дро має кристалічну буд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хема міцел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—ядр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2 — 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тенціалвизначальних іон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–адсорбційний шар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— дифузний шар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— шар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тиіоні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 — подвійний електричний 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мицелі на межі розподілу фаз формується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одвійний електричний шар (ПЭШ)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який складається з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дсорбційного і дифузійного шарі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Він утворюється  двома засобами: адсорбційним шляхом і шляхом поверхневої дисоци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3685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228600"/>
            <a:ext cx="8763120" cy="7475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априкла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gNO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aCl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AgCl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aNO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l →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              n        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улу міцели в цьому випадку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ідобразити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егативни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зо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що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табілізатор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є розчин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gNO</a:t>
            </a:r>
            <a:r>
              <a:rPr b="1" lang="ru-RU" sz="18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(знаходився в посудині,  а по краплям  додава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 то формула міцели бу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зитивний зо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ектроліт, один з іонів якого адсорбований на ядрі, називається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табілізаторо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звичайно це той електроліт, який був взятий у надлишку), він забезпечує стійкість колоїдним час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685800" y="1066680"/>
            <a:ext cx="2016000" cy="2838240"/>
            <a:chOff x="685800" y="1066680"/>
            <a:chExt cx="2016000" cy="2838240"/>
          </a:xfrm>
        </p:grpSpPr>
        <p:grpSp>
          <p:nvGrpSpPr>
            <p:cNvPr id="96" name="Group 5"/>
            <p:cNvGrpSpPr/>
            <p:nvPr/>
          </p:nvGrpSpPr>
          <p:grpSpPr>
            <a:xfrm>
              <a:off x="685800" y="1796760"/>
              <a:ext cx="1679040" cy="2108160"/>
              <a:chOff x="685800" y="1796760"/>
              <a:chExt cx="1679040" cy="2108160"/>
            </a:xfrm>
          </p:grpSpPr>
          <p:sp>
            <p:nvSpPr>
              <p:cNvPr id="97" name="Arc 6"/>
              <p:cNvSpPr/>
              <p:nvPr/>
            </p:nvSpPr>
            <p:spPr>
              <a:xfrm flipH="1" flipV="1">
                <a:off x="838440" y="2676960"/>
                <a:ext cx="686880" cy="818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rc 7"/>
              <p:cNvSpPr/>
              <p:nvPr/>
            </p:nvSpPr>
            <p:spPr>
              <a:xfrm flipV="1">
                <a:off x="1525320" y="2676960"/>
                <a:ext cx="686880" cy="818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8"/>
              <p:cNvSpPr/>
              <p:nvPr/>
            </p:nvSpPr>
            <p:spPr>
              <a:xfrm flipV="1">
                <a:off x="838440" y="2021400"/>
                <a:ext cx="0" cy="65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9"/>
              <p:cNvSpPr/>
              <p:nvPr/>
            </p:nvSpPr>
            <p:spPr>
              <a:xfrm flipV="1">
                <a:off x="2212200" y="2021400"/>
                <a:ext cx="0" cy="65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rc 10"/>
              <p:cNvSpPr/>
              <p:nvPr/>
            </p:nvSpPr>
            <p:spPr>
              <a:xfrm>
                <a:off x="685800" y="1816920"/>
                <a:ext cx="152640" cy="24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rc 11"/>
              <p:cNvSpPr/>
              <p:nvPr/>
            </p:nvSpPr>
            <p:spPr>
              <a:xfrm flipH="1">
                <a:off x="2212200" y="1796760"/>
                <a:ext cx="152640" cy="24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03" name="Object 12"/>
              <p:cNvGraphicFramePr/>
              <p:nvPr/>
            </p:nvGraphicFramePr>
            <p:xfrm>
              <a:off x="1200960" y="3089880"/>
              <a:ext cx="686880" cy="337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" name="Object 1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00960" y="3089880"/>
                        <a:ext cx="686880" cy="33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5" name="Line 13"/>
              <p:cNvSpPr/>
              <p:nvPr/>
            </p:nvSpPr>
            <p:spPr>
              <a:xfrm>
                <a:off x="1537920" y="3250080"/>
                <a:ext cx="0" cy="65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4"/>
              <p:cNvSpPr/>
              <p:nvPr/>
            </p:nvSpPr>
            <p:spPr>
              <a:xfrm>
                <a:off x="838440" y="2103480"/>
                <a:ext cx="1373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15"/>
              <p:cNvSpPr/>
              <p:nvPr/>
            </p:nvSpPr>
            <p:spPr>
              <a:xfrm>
                <a:off x="1041840" y="2554200"/>
                <a:ext cx="114480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Cl 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6"/>
            <p:cNvGrpSpPr/>
            <p:nvPr/>
          </p:nvGrpSpPr>
          <p:grpSpPr>
            <a:xfrm>
              <a:off x="1677960" y="1203120"/>
              <a:ext cx="381600" cy="572760"/>
              <a:chOff x="1677960" y="1203120"/>
              <a:chExt cx="381600" cy="572760"/>
            </a:xfrm>
          </p:grpSpPr>
          <p:sp>
            <p:nvSpPr>
              <p:cNvPr id="109" name="Arc 17"/>
              <p:cNvSpPr/>
              <p:nvPr/>
            </p:nvSpPr>
            <p:spPr>
              <a:xfrm flipH="1">
                <a:off x="1677960" y="1203120"/>
                <a:ext cx="381600" cy="318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8"/>
              <p:cNvSpPr/>
              <p:nvPr/>
            </p:nvSpPr>
            <p:spPr>
              <a:xfrm>
                <a:off x="1677960" y="1521360"/>
                <a:ext cx="0" cy="25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19"/>
            <p:cNvGrpSpPr/>
            <p:nvPr/>
          </p:nvGrpSpPr>
          <p:grpSpPr>
            <a:xfrm>
              <a:off x="1653480" y="1810440"/>
              <a:ext cx="69480" cy="160920"/>
              <a:chOff x="1653480" y="1810440"/>
              <a:chExt cx="69480" cy="160920"/>
            </a:xfrm>
          </p:grpSpPr>
          <p:sp>
            <p:nvSpPr>
              <p:cNvPr id="112" name="Arc 20"/>
              <p:cNvSpPr/>
              <p:nvPr/>
            </p:nvSpPr>
            <p:spPr>
              <a:xfrm flipH="1" flipV="1">
                <a:off x="1653120" y="1923840"/>
                <a:ext cx="34200" cy="47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21"/>
              <p:cNvSpPr/>
              <p:nvPr/>
            </p:nvSpPr>
            <p:spPr>
              <a:xfrm flipV="1">
                <a:off x="1688760" y="1922760"/>
                <a:ext cx="34200" cy="47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2"/>
              <p:cNvSpPr/>
              <p:nvPr/>
            </p:nvSpPr>
            <p:spPr>
              <a:xfrm>
                <a:off x="1653840" y="1810440"/>
                <a:ext cx="68400" cy="113400"/>
              </a:xfrm>
              <a:custGeom>
                <a:avLst/>
                <a:gdLst/>
                <a:ahLst/>
                <a:rect l="l" t="t" r="r" b="b"/>
                <a:pathLst>
                  <a:path w="864" h="1032">
                    <a:moveTo>
                      <a:pt x="0" y="1032"/>
                    </a:moveTo>
                    <a:lnTo>
                      <a:pt x="384" y="0"/>
                    </a:lnTo>
                    <a:lnTo>
                      <a:pt x="864" y="10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23"/>
            <p:cNvGrpSpPr/>
            <p:nvPr/>
          </p:nvGrpSpPr>
          <p:grpSpPr>
            <a:xfrm>
              <a:off x="1664640" y="2035440"/>
              <a:ext cx="69480" cy="160920"/>
              <a:chOff x="1664640" y="2035440"/>
              <a:chExt cx="69480" cy="160920"/>
            </a:xfrm>
          </p:grpSpPr>
          <p:sp>
            <p:nvSpPr>
              <p:cNvPr id="116" name="Arc 24"/>
              <p:cNvSpPr/>
              <p:nvPr/>
            </p:nvSpPr>
            <p:spPr>
              <a:xfrm flipH="1" flipV="1">
                <a:off x="1664280" y="2148840"/>
                <a:ext cx="34200" cy="47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rc 25"/>
              <p:cNvSpPr/>
              <p:nvPr/>
            </p:nvSpPr>
            <p:spPr>
              <a:xfrm flipV="1">
                <a:off x="1699920" y="2147760"/>
                <a:ext cx="34200" cy="47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26"/>
              <p:cNvSpPr/>
              <p:nvPr/>
            </p:nvSpPr>
            <p:spPr>
              <a:xfrm>
                <a:off x="1665000" y="2035440"/>
                <a:ext cx="68400" cy="113400"/>
              </a:xfrm>
              <a:custGeom>
                <a:avLst/>
                <a:gdLst/>
                <a:ahLst/>
                <a:rect l="l" t="t" r="r" b="b"/>
                <a:pathLst>
                  <a:path w="864" h="1032">
                    <a:moveTo>
                      <a:pt x="0" y="1032"/>
                    </a:moveTo>
                    <a:lnTo>
                      <a:pt x="384" y="0"/>
                    </a:lnTo>
                    <a:lnTo>
                      <a:pt x="864" y="10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27"/>
            <p:cNvSpPr/>
            <p:nvPr/>
          </p:nvSpPr>
          <p:spPr>
            <a:xfrm>
              <a:off x="2014920" y="1066680"/>
              <a:ext cx="686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N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8"/>
              <p:cNvSpPr txBox="1"/>
              <p:nvPr/>
            </p:nvSpPr>
            <p:spPr>
              <a:xfrm>
                <a:off x="3581280" y="3619440"/>
                <a:ext cx="3467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Cl</m:t>
                                </m:r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C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N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0"/>
              <p:cNvSpPr txBox="1"/>
              <p:nvPr/>
            </p:nvSpPr>
            <p:spPr>
              <a:xfrm>
                <a:off x="4329000" y="4952880"/>
                <a:ext cx="3533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Cl</m:t>
                                </m:r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g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</m:sup>
                    </m:s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N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4" name="TextBox 1"/>
          <p:cNvSpPr/>
          <p:nvPr/>
        </p:nvSpPr>
        <p:spPr>
          <a:xfrm>
            <a:off x="6257160" y="835200"/>
            <a:ext cx="22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aCl –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стабілізатор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знаходиться в зали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854440" y="1295280"/>
            <a:ext cx="628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гідно правилу Панета-Фаянса, на ядрі адсорбуються ті іони, які входять до складу кристалічної гратки ядра (або ізоморфні з нею). Це -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отенціалвизначальні іони: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l </a:t>
            </a:r>
            <a:r>
              <a:rPr b="1" i="1" lang="en-US" sz="1800" spc="-1" strike="noStrike" baseline="30000">
                <a:solidFill>
                  <a:srgbClr val="8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,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-x)Na</a:t>
            </a:r>
            <a:r>
              <a:rPr b="1" i="1" lang="en-US" sz="1800" spc="-1" strike="noStrike" baseline="30000">
                <a:solidFill>
                  <a:srgbClr val="800000"/>
                </a:solidFill>
                <a:latin typeface="Arial"/>
              </a:rPr>
              <a:t>+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- протиі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52280"/>
            <a:ext cx="8763120" cy="652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плазми крові та інших біологічних рідин можно записати будову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іцел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зчину карбоната Са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виходячи з реакції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бонатна кислота у плазмі крові існує у вигляді іонів: Н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а НСО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тоді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іцел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буде мати вигля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362320" y="1905120"/>
                <a:ext cx="4314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1905120" y="3581280"/>
                <a:ext cx="55306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C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C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280" y="152280"/>
            <a:ext cx="8763120" cy="670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етоди очищення колоїдних розчи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ішки електролітів можно відділити від колоїдних частинок шляхом: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діалізу, електродіалізу , ультрафільтраціїї, ультрацентрифугування та і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Діаліз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Т.Грэм, 1861 г.) заснований на використанні напівпроникних мембран, що затримують колоїдні частинки і пропускають іони і молекули низькомолекулярних речов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хема діалізат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- колоїдний роз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- вода (розчин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 - мемб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парат «Штучна нир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цює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цип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мпенсацій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іал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55116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28600" y="228600"/>
            <a:ext cx="8763120" cy="6433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хема електродіалізат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чищення золей від домі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лектролітів в ел.полі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парат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модіаліз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- вхід діаліз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- вихід діаліз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 - мемб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Ультрафільтраці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— відокремлення дисперсної фази від дисперсійного середовища крізь спеціально виготовлені ультрафільтри (плівки), непроникні для частинок дисперсної фази. Фільтрування звичайно проводять  під тиском або використовують вакуу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527720" cy="2022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593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28600" y="228600"/>
            <a:ext cx="8763120" cy="61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Властивості колоїдних розчи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- Молекулярно – кінетичн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унівський рух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фузія, осмотичний тиск, депресія і дифузійно – седиментаційна рівнова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характерна тільки для золів)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ловна відмінність від молекулярно-іонних систем – значення вказаних властивостей для колоїдних розчинів меньш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- Оптич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роходженні світла крізь дисперсну систему можливі явища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глинання,  відображення, розсію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Істинні розчи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оптично прозорі. Для них діє закон Бугера-Ламберта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меншення інтенсивності світла внаслідок його поглинання прямо пропорційно концентрації розчину і товщині шар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фотометричний і спектрофотометричний аналі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рубодисперсн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и відображають світло від частинок за законами геометричної о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лоїдні розчи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птично неоднорідні (впливають розмір, форма, структура частинок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здатні розсіювати світло (яви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фракці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ифракція – причи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алесцен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датні поглинати: ступінь поглинання залежить від ступеня дисперсності, яка визначає колі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228600"/>
            <a:ext cx="8763120" cy="588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Ефект Тіндал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оявляється у вигляді світлового конуса при бічному висвітленні колоїдного розчину (1868 г. Дж. Тіндаль) (конус Тіндаля)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– джерело сві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– істинний роз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– світловий ко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– колоїдний роз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ходження  світла крізь істинний і колоїдний розч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явищі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озсіюван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ітла колоїдними частинками засновані важливіші методи досліджень високодисперсних систем —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ефелометрія (визначення білка у сечі), ультрамікроскопія та електронна мікроскопі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які використовуються  для визначенння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нцентраці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колоїдних частинок та їх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озмір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гетерогених біологічних середовищ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8751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28600" y="228600"/>
            <a:ext cx="8763120" cy="61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Електрокінетичні властивості колоїдних розчи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19393b"/>
                </a:solidFill>
                <a:latin typeface="Arial"/>
              </a:rPr>
              <a:t>Електрокінетичними явищами називаються процеси, що виникають в гетерогенній системі при відносном переміщенні двох фаз з участю електричного тока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  (Ф. Ф. Рейсс, 180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а електрокінетичних явищ     є — співіснуванн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ЕШ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і  зміщення гранули відносно дифузійного ша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лектрофорез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— направлений рух заряджених частино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исперсної твердої фази відносн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ідкого дисперсійного середовищ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ід дією  зовнішнього електричного п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икористовують для розділення АК, білків, антител, ферментів та 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лектрофорегра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ові використовують для діагностики захворюв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а - схема досліду Рейса;  б – рух частинок при електрофоре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0640" y="4038480"/>
            <a:ext cx="563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28600" y="0"/>
            <a:ext cx="8763120" cy="654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лектроосмос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— рух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исперсійного  рідкого середовищ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ідносн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вердої дисперсної фаз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ід дією зовнішнього електричного п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а - дослід Рейса; б – рух рідини при електроосмо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2234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ЛЕ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і системи. Класифікац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ифікація колоїдних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ова колоїдних част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 очищення колоїдних розчин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фект Тінда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лектрофорез и електроосмос. Потенціал течії (перебігу) і седиментації (осід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оїдний зах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52280" y="0"/>
            <a:ext cx="8763120" cy="7286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Якщ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роштовхувати рідину під тиском крізь капілярну систему, на кінцях її виникає різнииця потенциалів, яка має назву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тенціал перебігу (течії) - ма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1859 р. Квінк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едиментації колоїдних частинок в рідкому середовищі також з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вляється різниця потенциалів між верхнім та нижнім шарами рідини. Це називаєтьс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тенциал седиментації (осідання) ма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б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1878 р. Г. Дор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тенціал перебіг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жно розглядати як явище, зворотн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лектроосмос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тенціал седиментації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лектрофорез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3310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228600"/>
            <a:ext cx="8763120" cy="625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Электрокінетичний потенці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тенціал, що виникає у подвійному електричному шарі (ПЕШ) на межі між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дсорбційним та и дифузним шарами 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міцелі називаєтьс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лектрокінетичним або 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- потенці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лектрокінетичний потенціал неможливо вимірюва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Його розраховують, використовуючи рівняння Гельмгольца – Смолуховського для визначення швидк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лектрофорез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зкість середовища (Н с/м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відстань між електродами, Н –електрофоретична рухливість м/с,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диелектрична проникність середовища (для води вона -- 9 ∙10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 Ф/м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різниця потенціалів,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має різні значення для різних клітин. Для еритроцитів крові людини вона дорівнює – 16,3 мВ і є величиною сталою (дослідження електрофореграм – як метод діагности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основі різної електрофоретичної рухливості компонентів проводять розділення нуклеїнових кислот, амінокислот, антибіотиків, ферментів, стеринів та 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505320" y="2286000"/>
                <a:ext cx="2133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η</m:t>
                        </m:r>
                        <m:r>
                          <m:rPr>
                            <m:lit/>
                            <m:nor/>
                          </m:rPr>
                          <m:t xml:space="preserve">LН</m:t>
                        </m:r>
                      </m:num>
                      <m:den>
                        <m:r>
                          <m:t xml:space="preserve">ε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7051680" y="2057400"/>
            <a:ext cx="16765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2280" y="0"/>
            <a:ext cx="8763120" cy="698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тійкість і  коагуляція дисперсних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різняють два вида стійкості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егативну і кінетич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інетична стійкіс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це здатність дисперсної фази перебувати у зваженому стані й не седиментув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грегативна стійкі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це здатність системи зберігати певний ступінь дисперсності. При її порушенні дисперсна фаза випадає в осад – процес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агуляції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факторів стійкості можно  відне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явність заряду у частинок дисперсної фази (заряд гранул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що  заряд адсорбційного шару міцели буде рівним заряду потенціалвизначальних іонів, заряд гранули буде рівним нулю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ізоэлектричний ста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ідсутність дифузійного     шар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цьому стані колоїдні розчини володіють найменьшою стійкост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актори стабільності колоїдн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датність до сольватації стабілізуючих іонів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ідратна (сольватна) оболонка протиіонів дифузійного шару і адсорбційного шару гранул, запобігає агрегації части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дсорбційно-структуруючі властивості систем. На добре розвинених поверхнях дисперсної фази можуть  адсорбуватися молекули ПАР та ВМС,  надаючи їм ліофільні властивості. Стійкість таких золей близька до стійкості ліофільних сист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0"/>
            <a:ext cx="8763120" cy="662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о факторів, викликаючих коагуляцію відносять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температу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більшення концентрації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механічну дію, опроміненн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додавання 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електролітів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агулююча дія електролітів підкоряється правилу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Шульце – Гард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Коагуляцію позитивно заряджених гранул колоїда викликають аніони, негативно заряджених – каті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Кожний електроліт характеризується порогом коагуляції -  найменьша концентрація електроліту, яка викликає коагуляці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эл-т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.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-----------------------------          ммоль/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з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порогова  концентрація, це величина, зворотня коагулюючій здатності - Р:        С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1 /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Коагулююча здатність іонів (Р ) залежить від величини їх заряду. Чим більше заряд іона, тим вище його коагулююча ді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.е. чим меньше заряд іона, тим при більшій концентрації електроліта буде протікати коагуляц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2057400" y="5410080"/>
                <a:ext cx="1800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4648320" y="5410080"/>
                <a:ext cx="1990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28600" y="228600"/>
            <a:ext cx="8763120" cy="588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Для іонів одного заряду Р залежить від радіуса сольватованого іона: чим більше радіус, тим меньше коагулююча ді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агулююча дія іонів електролітів по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зана зі зменшенням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потенціала колоїдних частинок за рахунок  адсорбції  іонів електроліта з зарядом, протилежним заряду гран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итичні значення </a:t>
            </a:r>
            <a:r>
              <a:rPr b="1" i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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- потенціал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при якому починається коагуляція -- 25 – 30 мВ. Швидкість коагуляції  збільшується до максимальної в ізоэлектричному стані, коли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потенціал рівний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коагуляциії золя сумішшю  електролітів можно спостеріга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вище адитивності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— сума коагулюючої дії іон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вище антагонізм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— ослаблення  коагулюючої дії одного іона у присутності інш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вище синергізм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— збільшення коагулюючої  дії одного іона у присутності інш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введенні в організм електроліта треба враховувати не тільки його концентрацію, но й заряд іо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рироді:  формування структуры почв – коагуляційні яв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685800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3"/>
              <p:cNvSpPr txBox="1"/>
              <p:nvPr/>
            </p:nvSpPr>
            <p:spPr>
              <a:xfrm>
                <a:off x="5410080" y="1219320"/>
                <a:ext cx="2227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NS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5"/>
              <p:cNvSpPr txBox="1"/>
              <p:nvPr/>
            </p:nvSpPr>
            <p:spPr>
              <a:xfrm>
                <a:off x="1447920" y="1219320"/>
                <a:ext cx="2741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b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228600"/>
            <a:ext cx="8763120" cy="509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олоидний зах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білізацію ліофобных дисперсних систем за допомогою високомолекулярних речовин  (ВМР) називають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олоїдний зах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ірою захисної дії високомолекулярних сполук є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захисне число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 мінімальна кількость міліграмів сухої високомолекулярної сполуки, яку необхідно додати до 10 мл  золя  для того, щоб попередити його коагуляцію  при введенні в систему 1 мл 10%-ного розчину хлорида натрі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хищений золь не підлягає правилу Шульце-Гарди і його коагуляцію може викликати кількість електроліту, що перевищує порогове значення, або той реактив, який осаджує захисний полі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30240"/>
            <a:ext cx="9144000" cy="673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З хімічної точки зору організм в цілому –  сукупність різних дисперсних систем (</a:t>
            </a:r>
            <a:r>
              <a:rPr b="1" i="1" lang="ru-RU" sz="1800" spc="-1" strike="noStrike">
                <a:solidFill>
                  <a:srgbClr val="19393b"/>
                </a:solidFill>
                <a:latin typeface="Arial"/>
              </a:rPr>
              <a:t>протоплазма клітини, кров, плазма, лімфа, спинномозкова рідина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 і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Дисперсна система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(dispersus –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розсіяний (лат.)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-  </a:t>
            </a:r>
            <a:r>
              <a:rPr b="1" i="1" lang="ru-RU" sz="2000" spc="-1" strike="noStrike">
                <a:solidFill>
                  <a:srgbClr val="19393b"/>
                </a:solidFill>
                <a:latin typeface="Arial"/>
              </a:rPr>
              <a:t>гетерогенна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истема, яка складається з двох або більше фаз з сильно розвиненою </a:t>
            </a:r>
            <a:r>
              <a:rPr b="1" i="1" lang="ru-RU" sz="2000" spc="-1" strike="noStrike">
                <a:solidFill>
                  <a:srgbClr val="19393b"/>
                </a:solidFill>
                <a:latin typeface="Arial"/>
              </a:rPr>
              <a:t>поверхн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9393b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9393b"/>
                </a:solidFill>
                <a:latin typeface="Arial"/>
              </a:rPr>
              <a:t>розді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Розчинена речо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зивається 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дисперсн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фазою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розчинни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дисперсним середовищ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тупенем дисперсності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розміром частинок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всі суміші  умовно поділяються на три груп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м                                10 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–   10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м                       10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м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убодисперсні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лоїдні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істин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зчини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&gt;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розчини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розч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Істинні розчин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- гомогенні сис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013360" y="1994040"/>
            <a:ext cx="4130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52280" y="0"/>
          <a:ext cx="8915400" cy="6481800"/>
        </p:xfrm>
        <a:graphic>
          <a:graphicData uri="http://schemas.openxmlformats.org/drawingml/2006/table">
            <a:tbl>
              <a:tblPr/>
              <a:tblGrid>
                <a:gridCol w="2519640"/>
                <a:gridCol w="3271680"/>
                <a:gridCol w="312408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рубодисперс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</a:t>
                      </a: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lang="uk-UA" sz="1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7</a:t>
                      </a: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м)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ої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</a:t>
                      </a: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10</a:t>
                      </a:r>
                      <a:r>
                        <a:rPr b="1" lang="uk-UA" sz="1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9</a:t>
                      </a: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10</a:t>
                      </a:r>
                      <a:r>
                        <a:rPr b="1" lang="uk-UA" sz="1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7</a:t>
                      </a: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м)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ІстиннІ розч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lang="uk-UA" sz="1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9 </a:t>
                      </a:r>
                      <a:r>
                        <a:rPr b="1" lang="uk-UA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)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М</a:t>
                      </a: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ікрогетероге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Ультрамікрогетероге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омоге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Утворені з нерозчинних речо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Утворені з нерозчинних речо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Утворені з розчинних речо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епрозо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розо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розо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інетично не стій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інетично стійкі, агрегативно малостій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інетично стій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е дифундую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овільно дифундую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Швидко дифундую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е проходять крізь паперовий філь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роходять крізь паперовий фільтр, не проходять крізь ультрафіль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роходять крізь паперовий фільтр і ультрафіль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е проходять крізь напівпроникні мембра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е проходять крізь напівпроникні мембра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роходять крізь напівпроникні мембра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идимі в оптичному мікроскоп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е видимі в оптичному мікроскопі, видимі в ультрамікро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е видимі ні в оптичний, ні в ультрамікро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ідображають світ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озсіюють світ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Оптично чи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7080" y="100080"/>
            <a:ext cx="9016920" cy="662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и зору термодинамі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3"/>
          <p:cNvGrpSpPr/>
          <p:nvPr/>
        </p:nvGrpSpPr>
        <p:grpSpPr>
          <a:xfrm>
            <a:off x="1066680" y="671400"/>
            <a:ext cx="6292440" cy="5497200"/>
            <a:chOff x="1066680" y="671400"/>
            <a:chExt cx="6292440" cy="5497200"/>
          </a:xfrm>
        </p:grpSpPr>
        <p:sp>
          <p:nvSpPr>
            <p:cNvPr id="61" name="Line 24"/>
            <p:cNvSpPr/>
            <p:nvPr/>
          </p:nvSpPr>
          <p:spPr>
            <a:xfrm>
              <a:off x="2367360" y="671400"/>
              <a:ext cx="0" cy="417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>
              <a:off x="2367360" y="4845600"/>
              <a:ext cx="4718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2367360" y="2743200"/>
              <a:ext cx="4444560" cy="2102040"/>
            </a:xfrm>
            <a:custGeom>
              <a:avLst/>
              <a:gdLst/>
              <a:ahLst/>
              <a:rect l="l" t="t" r="r" b="b"/>
              <a:pathLst>
                <a:path w="3120" h="1668">
                  <a:moveTo>
                    <a:pt x="0" y="84"/>
                  </a:moveTo>
                  <a:cubicBezTo>
                    <a:pt x="330" y="114"/>
                    <a:pt x="1460" y="0"/>
                    <a:pt x="1980" y="264"/>
                  </a:cubicBezTo>
                  <a:cubicBezTo>
                    <a:pt x="2500" y="528"/>
                    <a:pt x="2928" y="1338"/>
                    <a:pt x="3120" y="16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2367360" y="1757520"/>
              <a:ext cx="4461840" cy="3102840"/>
            </a:xfrm>
            <a:custGeom>
              <a:avLst/>
              <a:gdLst/>
              <a:ahLst/>
              <a:rect l="l" t="t" r="r" b="b"/>
              <a:pathLst>
                <a:path w="3132" h="2462">
                  <a:moveTo>
                    <a:pt x="0" y="2450"/>
                  </a:moveTo>
                  <a:cubicBezTo>
                    <a:pt x="248" y="2042"/>
                    <a:pt x="966" y="0"/>
                    <a:pt x="1488" y="2"/>
                  </a:cubicBezTo>
                  <a:cubicBezTo>
                    <a:pt x="2006" y="2"/>
                    <a:pt x="2790" y="1950"/>
                    <a:pt x="3132" y="24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3649320" y="2486160"/>
              <a:ext cx="0" cy="2359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5358960" y="2486160"/>
              <a:ext cx="0" cy="2359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0"/>
            <p:cNvSpPr/>
            <p:nvPr/>
          </p:nvSpPr>
          <p:spPr>
            <a:xfrm rot="16200000">
              <a:off x="2889360" y="4415760"/>
              <a:ext cx="271800" cy="1281960"/>
            </a:xfrm>
            <a:custGeom>
              <a:avLst/>
              <a:gdLst>
                <a:gd name="textAreaLeft" fmla="*/ 173880 w 271800"/>
                <a:gd name="textAreaRight" fmla="*/ 272160 w 271800"/>
                <a:gd name="textAreaTop" fmla="*/ 33120 h 1281960"/>
                <a:gd name="textAreaBottom" fmla="*/ 1248840 h 128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1"/>
            <p:cNvSpPr/>
            <p:nvPr/>
          </p:nvSpPr>
          <p:spPr>
            <a:xfrm rot="16200000">
              <a:off x="4392720" y="4274640"/>
              <a:ext cx="257040" cy="1640880"/>
            </a:xfrm>
            <a:custGeom>
              <a:avLst/>
              <a:gdLst>
                <a:gd name="textAreaLeft" fmla="*/ 164160 w 257040"/>
                <a:gd name="textAreaRight" fmla="*/ 257400 w 257040"/>
                <a:gd name="textAreaTop" fmla="*/ 42480 h 1640880"/>
                <a:gd name="textAreaBottom" fmla="*/ 1598400 h 164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2"/>
            <p:cNvSpPr/>
            <p:nvPr/>
          </p:nvSpPr>
          <p:spPr>
            <a:xfrm rot="16200000">
              <a:off x="5925600" y="4368960"/>
              <a:ext cx="302400" cy="1436040"/>
            </a:xfrm>
            <a:custGeom>
              <a:avLst/>
              <a:gdLst>
                <a:gd name="textAreaLeft" fmla="*/ 193320 w 302400"/>
                <a:gd name="textAreaRight" fmla="*/ 302760 w 302400"/>
                <a:gd name="textAreaTop" fmla="*/ 37440 h 1436040"/>
                <a:gd name="textAreaBottom" fmla="*/ 1398600 h 143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3"/>
            <p:cNvSpPr/>
            <p:nvPr/>
          </p:nvSpPr>
          <p:spPr>
            <a:xfrm>
              <a:off x="2350080" y="5193360"/>
              <a:ext cx="14360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грубодис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ерс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4"/>
            <p:cNvSpPr/>
            <p:nvPr/>
          </p:nvSpPr>
          <p:spPr>
            <a:xfrm>
              <a:off x="3768840" y="5253840"/>
              <a:ext cx="1572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лоїд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озчи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5"/>
            <p:cNvSpPr/>
            <p:nvPr/>
          </p:nvSpPr>
          <p:spPr>
            <a:xfrm>
              <a:off x="5375880" y="5284080"/>
              <a:ext cx="145296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істин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озчи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36"/>
            <p:cNvSpPr/>
            <p:nvPr/>
          </p:nvSpPr>
          <p:spPr>
            <a:xfrm>
              <a:off x="1066680" y="1397160"/>
              <a:ext cx="1266120" cy="11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верхнева енергия і межфазне натяжіння, </a:t>
              </a:r>
              <a:r>
                <a:rPr b="0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7"/>
            <p:cNvSpPr/>
            <p:nvPr/>
          </p:nvSpPr>
          <p:spPr>
            <a:xfrm>
              <a:off x="3153600" y="5805720"/>
              <a:ext cx="311148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тупінь дисперсності, </a:t>
              </a:r>
              <a:r>
                <a:rPr b="0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6111360" y="1760040"/>
              <a:ext cx="12135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 = f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9"/>
            <p:cNvSpPr/>
            <p:nvPr/>
          </p:nvSpPr>
          <p:spPr>
            <a:xfrm flipH="1">
              <a:off x="5444280" y="2108160"/>
              <a:ext cx="61524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0"/>
            <p:cNvSpPr/>
            <p:nvPr/>
          </p:nvSpPr>
          <p:spPr>
            <a:xfrm flipH="1">
              <a:off x="5649120" y="2833920"/>
              <a:ext cx="61524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1"/>
            <p:cNvSpPr/>
            <p:nvPr/>
          </p:nvSpPr>
          <p:spPr>
            <a:xfrm>
              <a:off x="6367680" y="2486160"/>
              <a:ext cx="9914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= f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304920"/>
            <a:ext cx="998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04920" y="228600"/>
            <a:ext cx="8762760" cy="399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ласифікація колоїдни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залежності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від агрегатного стан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сперсного середовища і дисперсної фази колоїдні системы класифікують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ерозол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ё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– повітря (греч.))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системи з газоподібним дисперсним середовищем : </a:t>
            </a:r>
            <a:r>
              <a:rPr b="1" i="1" lang="ru-RU" sz="1800" spc="-1" strike="noStrike">
                <a:solidFill>
                  <a:srgbClr val="19393b"/>
                </a:solidFill>
                <a:latin typeface="Arial"/>
              </a:rPr>
              <a:t>т/г – дими; - р/г – тум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ліозолі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lio – </a:t>
            </a:r>
            <a:r>
              <a:rPr b="1" i="1" lang="uk-UA" sz="1800" spc="-1" strike="noStrike">
                <a:solidFill>
                  <a:srgbClr val="800000"/>
                </a:solidFill>
                <a:latin typeface="Arial"/>
              </a:rPr>
              <a:t>роз чиняти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(греч.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системи з рідким  дисперсним середовищем:</a:t>
            </a:r>
            <a:r>
              <a:rPr b="1" i="1" lang="ru-RU" sz="1800" spc="-1" strike="noStrike">
                <a:solidFill>
                  <a:srgbClr val="19393b"/>
                </a:solidFill>
                <a:latin typeface="Arial"/>
              </a:rPr>
              <a:t>т/р – колоїдні  розчини, суспензії; р/р – моло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393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9393b"/>
                </a:solidFill>
                <a:latin typeface="Arial"/>
              </a:rPr>
              <a:t>емульсії ;  г/р – пін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оліозолі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solidus –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твердий (лат.)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 системи з твердим дисперсним середовищем:</a:t>
            </a:r>
            <a:r>
              <a:rPr b="1" i="1" lang="ru-RU" sz="1800" spc="-1" strike="noStrike">
                <a:solidFill>
                  <a:srgbClr val="19393b"/>
                </a:solidFill>
                <a:latin typeface="Arial"/>
              </a:rPr>
              <a:t>т/т – сплави;  каміння; р/т –капіл.сист., почв;г/т – піноп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532240" y="4162320"/>
            <a:ext cx="3431880" cy="2695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5964120" y="4162320"/>
            <a:ext cx="3179880" cy="269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-20520" y="4162320"/>
            <a:ext cx="25527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28600" y="782640"/>
            <a:ext cx="886608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Класификація колоїдни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залежності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ід величини міжфазної взаімодії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лоїдні системи поділяють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іофільні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зокрема, гідрофільні). В них міжмолекулярна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заімоді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статнь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ели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верхневий натяг мал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Такі системи термодинамічно достатньо стійкі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і Н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– гідрофільні речовин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іофобні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гідрофобні). Міжмолекулярна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заімодія мала, а поверхневий натяг великий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наслідок чого система має тенденцію до самоупорядковування  частинок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термодинамічно нестійк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ідрофобна  речовина, Н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– гідрофіль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606680" y="228600"/>
            <a:ext cx="6049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520" y="-36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99"/>
                </a:solidFill>
                <a:latin typeface="Arial"/>
              </a:rPr>
              <a:t>Класифікація дисперсних систем за агрегатним станом дисперсної фази і дисперсійного середов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609480"/>
          <a:ext cx="8610480" cy="6129360"/>
        </p:xfrm>
        <a:graphic>
          <a:graphicData uri="http://schemas.openxmlformats.org/drawingml/2006/table">
            <a:tbl>
              <a:tblPr/>
              <a:tblGrid>
                <a:gridCol w="1295280"/>
                <a:gridCol w="1600200"/>
                <a:gridCol w="1371600"/>
                <a:gridCol w="1828800"/>
                <a:gridCol w="251460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сперсна 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сперсійне середов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значення систе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сперс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сте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кл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/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тмосфера Земл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/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ерозоль рід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уман, хма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/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ерозоль тверд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им, пил, поро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/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іни, газові емульс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Мильна піна, піна на пи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/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Емульс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Молоко, майонез, креми наф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/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Суспензії, колоїдні розчини (ліозолі), розчини В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Суспензії в природных водах; золі металів, гідроксидів металів, солей, розчини біл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/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верді п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інопласти, сілікаг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/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верді емульс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ода у парафіні, опал,капіл. сист. Поч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/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вёрді золі (соліозол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ольорове скло, мінерал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рогоцінне камі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5:01:37Z</dcterms:created>
  <dc:creator>пр</dc:creator>
  <dc:description/>
  <dc:language>en-US</dc:language>
  <cp:lastModifiedBy>Пользователь Windows</cp:lastModifiedBy>
  <cp:lastPrinted>2017-09-22T11:36:19Z</cp:lastPrinted>
  <dcterms:modified xsi:type="dcterms:W3CDTF">2018-09-19T12:00:22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