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92B-5D86-4204-B8F7-A7FB49A5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621-9068-464A-A496-B6B2CDC2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26E-EE3C-4351-B2B2-0304A21D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10A-1341-4615-A8ED-F09B3F8E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8E5-3E72-44FE-8EAA-4C1C1D8A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89B-EB36-4A3A-B400-41FE563F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531-91BA-467D-8D48-114D145A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DDB-83A1-48A6-83C8-FEF478CE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045-53C3-4D8B-B633-6C1E676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709-036A-4AE6-81A3-FDBC6B5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980-6442-45EA-A015-35BEE00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326-0D38-4C3B-932A-63BC112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DAD-FE37-4F20-8F4A-48B1CC6D42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09480" y="1522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52280"/>
            <a:ext cx="9144000" cy="502020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ahoma"/>
              </a:rPr>
              <a:t>Харківський національний медичний університет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3300"/>
                </a:solidFill>
                <a:latin typeface="Tahoma"/>
              </a:rPr>
              <a:t>Кафедра медичної та біоорганічної хімії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Лекція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Розчини. Класифікація розчинів. Розчинність речовин</a:t>
            </a: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228600" y="61228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cc"/>
                </a:solidFill>
                <a:latin typeface="Tahoma"/>
              </a:rPr>
              <a:t>Лектор: доцент кафедри медичної та біоорганічної хімії Макаров В.О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55440" y="172440"/>
            <a:ext cx="914400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Одиницею хімічного еквівалента є моль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Молярна маса еквівалента розчиненої речовини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М(е)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 = 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М(х) ×f(x),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де 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f(x) — фактор еквівалентності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Фактор еквівалентності — число, що позначає яка частка реальної частини речовини х еквівалентна одному іону гідрогену в даній кислотно-основній реакції або одному електрону в даній окисно-відновній реакції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При нейтралізації (кислотно-основної реакції)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f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е(к-ти)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= 1/ n(H</a:t>
            </a:r>
            <a:r>
              <a:rPr b="0" lang="uk-UA" sz="1800" spc="-1" strike="noStrike" baseline="30000">
                <a:solidFill>
                  <a:srgbClr val="660033"/>
                </a:solidFill>
                <a:latin typeface="Arial"/>
                <a:ea typeface="Times New Roman"/>
              </a:rPr>
              <a:t>+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)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де 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n(H</a:t>
            </a:r>
            <a:r>
              <a:rPr b="0" lang="uk-UA" sz="1800" spc="-1" strike="noStrike" baseline="30000">
                <a:solidFill>
                  <a:srgbClr val="660033"/>
                </a:solidFill>
                <a:latin typeface="Arial"/>
                <a:ea typeface="Times New Roman"/>
              </a:rPr>
              <a:t>+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) — кількість іонів гідрогену в кислоті; 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— фактор еквівалентності кислот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Наприклад,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e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H</a:t>
            </a:r>
            <a:r>
              <a:rPr b="0" i="1" lang="ru-RU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SO</a:t>
            </a:r>
            <a:r>
              <a:rPr b="0" i="1" lang="ru-RU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4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) =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457200"/>
            <a:ext cx="76320" cy="295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833280" y="1244880"/>
            <a:ext cx="14774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i="1" lang="uk-UA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е(осн.)</a:t>
            </a:r>
            <a:r>
              <a:rPr b="0" i="1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= 1/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n(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uk-UA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410080" y="2870280"/>
            <a:ext cx="1247760" cy="6350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28600" y="469440"/>
            <a:ext cx="829296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де </a:t>
            </a:r>
            <a:r>
              <a:rPr b="0" i="1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f</a:t>
            </a:r>
            <a:r>
              <a:rPr b="0" i="1" lang="uk-UA" sz="16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е</a:t>
            </a:r>
            <a:r>
              <a:rPr b="0" lang="uk-UA" sz="16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 (осн)</a:t>
            </a:r>
            <a:r>
              <a:rPr b="0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 — фактор еквівалентності основи, </a:t>
            </a:r>
            <a:r>
              <a:rPr b="0" i="1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n(OH</a:t>
            </a:r>
            <a:r>
              <a:rPr b="0" lang="uk-UA" sz="1600" spc="-1" strike="noStrike" baseline="30000">
                <a:solidFill>
                  <a:srgbClr val="660033"/>
                </a:solidFill>
                <a:latin typeface="Arial"/>
                <a:ea typeface="Times New Roman"/>
              </a:rPr>
              <a:t>–</a:t>
            </a:r>
            <a:r>
              <a:rPr b="0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) — кількість гідроксильних груп основи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Наприклад,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f</a:t>
            </a:r>
            <a:r>
              <a:rPr b="0" i="1" lang="en-US" sz="16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e</a:t>
            </a:r>
            <a:r>
              <a:rPr b="0" i="1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(</a:t>
            </a:r>
            <a:r>
              <a:rPr b="0" i="1" lang="en-US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NaOH</a:t>
            </a:r>
            <a:r>
              <a:rPr b="0" i="1" lang="uk-UA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) = </a:t>
            </a:r>
            <a:r>
              <a:rPr b="0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1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778400"/>
            <a:ext cx="90676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f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е(солі.)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= 1/ В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Ме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</a:t>
            </a:r>
            <a:r>
              <a:rPr b="0" i="1" lang="uk-UA" sz="1800" spc="-1" strike="noStrike">
                <a:solidFill>
                  <a:srgbClr val="660033"/>
                </a:solidFill>
                <a:latin typeface="Symbol"/>
                <a:ea typeface="Symbol"/>
              </a:rPr>
              <a:t></a:t>
            </a:r>
            <a:r>
              <a:rPr b="0" lang="uk-UA" sz="1800" spc="-1" strike="noStrike">
                <a:solidFill>
                  <a:srgbClr val="660033"/>
                </a:solidFill>
                <a:latin typeface="Tahom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ат. Ме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,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е 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e</a:t>
            </a:r>
            <a:r>
              <a:rPr b="0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 (солі) </a:t>
            </a:r>
            <a:r>
              <a:rPr b="0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— фактор еквівалентності солі, 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B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Me</a:t>
            </a:r>
            <a:r>
              <a:rPr b="0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— валентність металу, 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ат. Me</a:t>
            </a:r>
            <a:r>
              <a:rPr b="0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— кількість атомів металу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приклад,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е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e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2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SO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)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Times New Roman"/>
                <a:ea typeface="Times New Roman"/>
              </a:rPr>
              <a:t>3</a:t>
            </a:r>
            <a:r>
              <a:rPr b="0" i="1" lang="uk-UA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) =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3617280"/>
            <a:ext cx="906768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Титр розчину </a:t>
            </a:r>
            <a:r>
              <a:rPr b="0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— маса розчиненої речовини в одному мілілітрі розчину, г/мл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)/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  <a:ea typeface="Times New Roman"/>
              </a:rPr>
              <a:t>1000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) =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С</a:t>
            </a:r>
            <a:r>
              <a:rPr b="0" i="1" lang="ru-RU" sz="20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е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(х)М</a:t>
            </a:r>
            <a:r>
              <a:rPr b="0" i="1" lang="ru-RU" sz="20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е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)/1000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3"/>
          <p:cNvSpPr/>
          <p:nvPr/>
        </p:nvSpPr>
        <p:spPr>
          <a:xfrm>
            <a:off x="754380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152280" y="152280"/>
            <a:ext cx="8839440" cy="565776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</a:rPr>
              <a:t>Класифікація розчинів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</a:rPr>
              <a:t> 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Розчини — однорідні (гомогенні) системи, що складаються із двох і більше компонентів й продуктів їхньої взаємодії. Ці системи можуть бути твердими, рідкими й газоподібними. Для медиків найбільше значення мають рідкі розчини, до яких выдноситься плазма крові, сеча, лімфа й інші біологічні рідини, які уявляють собою складні суміші біологічно активних речовин (білків, вуглеводів, солей і т.ін.). У розчинах речовини можуть перебувати в різних ступенях дисперсності. Величина частинок є дуже важливою ознакою, яка обумовлює багато фізико-хімічних властивостей розчинів. За величиною частинок розчини поділяють на: 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" name="Rectangle 25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2"/>
              <p:cNvSpPr txBox="1"/>
              <p:nvPr/>
            </p:nvSpPr>
            <p:spPr>
              <a:xfrm>
                <a:off x="4191120" y="2517840"/>
                <a:ext cx="761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37160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981080" y="401760"/>
            <a:ext cx="4124520" cy="1133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4680" y="153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іонізація                        гідратовані іони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им чином, розчинення — це сукупність двох процесів: сольватації (гідратації) і іонізації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0" y="2887560"/>
            <a:ext cx="9067680" cy="38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З погляду термодинаміки процес розчинення твердих речовин у воді може бути представлений рівнянням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ΔH</a:t>
            </a:r>
            <a:r>
              <a:rPr b="0" i="1" lang="uk-UA" sz="2400" spc="-1" strike="noStrike" baseline="-25000">
                <a:solidFill>
                  <a:srgbClr val="660033"/>
                </a:solidFill>
                <a:latin typeface="Tahoma"/>
              </a:rPr>
              <a:t>розч.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 = ΔU</a:t>
            </a:r>
            <a:r>
              <a:rPr b="0" i="1" lang="uk-UA" sz="2400" spc="-1" strike="noStrike" baseline="-25000">
                <a:solidFill>
                  <a:srgbClr val="660033"/>
                </a:solidFill>
                <a:latin typeface="Tahoma"/>
              </a:rPr>
              <a:t>кр.р.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  + ΔH</a:t>
            </a:r>
            <a:r>
              <a:rPr b="0" i="1" lang="uk-UA" sz="2400" spc="-1" strike="noStrike" baseline="-25000">
                <a:solidFill>
                  <a:srgbClr val="660033"/>
                </a:solidFill>
                <a:latin typeface="Tahoma"/>
              </a:rPr>
              <a:t>гідр.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 ,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 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де ΔH</a:t>
            </a:r>
            <a:r>
              <a:rPr b="0" i="1" lang="uk-UA" sz="2400" spc="-1" strike="noStrike" baseline="-25000">
                <a:solidFill>
                  <a:srgbClr val="660033"/>
                </a:solidFill>
                <a:latin typeface="Tahoma"/>
              </a:rPr>
              <a:t>розч.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 — молярна ентальпія розчинення;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ΔU</a:t>
            </a:r>
            <a:r>
              <a:rPr b="0" i="1" lang="uk-UA" sz="2400" spc="-1" strike="noStrike" baseline="-25000">
                <a:solidFill>
                  <a:srgbClr val="660033"/>
                </a:solidFill>
                <a:latin typeface="Tahoma"/>
              </a:rPr>
              <a:t>кр.р.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 — енергія кристалічної решітки; 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ΔH</a:t>
            </a:r>
            <a:r>
              <a:rPr b="0" i="1" lang="uk-UA" sz="2400" spc="-1" strike="noStrike" baseline="-25000">
                <a:solidFill>
                  <a:srgbClr val="660033"/>
                </a:solidFill>
                <a:latin typeface="Tahoma"/>
              </a:rPr>
              <a:t>гідр.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 — ентальпія гідратації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0"/>
            <a:ext cx="9144000" cy="60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0033"/>
                </a:solidFill>
                <a:latin typeface="Tahoma"/>
              </a:rPr>
              <a:t>Розчинність речовин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</a:rPr>
              <a:t> 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Розчинність — це 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мимовільний процес, що відбувається за рахунок дифузії молекул або іонів із області з більшою концентрацією в область із меншою концентрацією, у результаті чого речовина рівномірно розподіляється в повному обсязі розчину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Розчинність — двунаправлений процес: </a:t>
            </a: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тверда речовина переходить у розчин, а розчинена речовина — у тверду фазу. Отже, одночасно відбувається й розчинення, і кристалізація. Ці процеси із часом протікають із однаковими швидкостями — наступає динамічна рівновага. При цьому концентрація розчиненої речовини при незмінних умовах залишається постійною. Такий стан називається станом насичення, а розчин — насиченим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0" y="0"/>
            <a:ext cx="9144000" cy="64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Розчинність газів у рідині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Процес розчинення газу у воді, будучи мимовільним, завжди екзотермічний. Для зсуву рівноваги убік екзотермічного процесу відповідно до принципу Ле-Шательє температуру необхідно знизити. Отже, розчинність газу у воді зі зниженням температури збільшується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На розчинність газів у рідині впливає тиск, тому що утворення розчину супроводжується значним зменшенням об'єму системи. Відповідно до цього розчинність газів у рідинах помітно зростає по мірі збільшення тиску. Кількісна залежність встановлена </a:t>
            </a: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законом У. Генрі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Маса газу, що розчинився при постійній температурі в даному об'ємі рідини, прямо пропорційна його парціальному тиску над розчином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Tahoma"/>
              </a:rPr>
              <a:t>m = K</a:t>
            </a:r>
            <a:r>
              <a:rPr b="1" i="1" lang="uk-UA" sz="2800" spc="-1" strike="noStrike">
                <a:solidFill>
                  <a:srgbClr val="660033"/>
                </a:solidFill>
                <a:latin typeface="Symbol"/>
                <a:ea typeface="Symbol"/>
              </a:rPr>
              <a:t></a:t>
            </a:r>
            <a:r>
              <a:rPr b="1" i="1" lang="uk-UA" sz="2800" spc="-1" strike="noStrike">
                <a:solidFill>
                  <a:srgbClr val="660033"/>
                </a:solidFill>
                <a:latin typeface="Tahoma"/>
              </a:rPr>
              <a:t> p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0" y="301680"/>
            <a:ext cx="914400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Перехід диоксида карбону із венозної крові в газовий простір альвеол можливий завдяки тому, що його рівноважний парціальний тиск над венозною кров'ю (61 ГПа) вище, ніж парціальний тиск цього газу в альвеолярному повітрі (52,7 ГПа)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Закон Генрі дозволяє розкрити причини так званих декомпресійних захворювань, наприклад, (кесонної хвороби) у водолазів, льотчиків та інших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Кесонна хвороба — це патологія, яка пов'язана з порушенням вмісту розчинних газів у крові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60033"/>
                </a:solidFill>
                <a:latin typeface="Tahoma"/>
              </a:rPr>
              <a:t>На великих глибинах, де зовнішній тиск зростає, збільшується розчинність газів у крові. За умов швидкого підйому із глибини тиск різко падає й розчинність газів різко зменшується. Вони виділяються у вигляді пухирців і закупорюють судини. Особливо важкі наслідки спостерігаються при закупорці судин мозку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7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624040" y="439560"/>
            <a:ext cx="3540240" cy="8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971880" y="3533760"/>
            <a:ext cx="219240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2273400" y="5253120"/>
            <a:ext cx="3397320" cy="1292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4"/>
          <a:stretch/>
        </p:blipFill>
        <p:spPr>
          <a:xfrm>
            <a:off x="1400040" y="2384280"/>
            <a:ext cx="3870360" cy="897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13040" y="-31680"/>
            <a:ext cx="93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660033"/>
                </a:solidFill>
                <a:latin typeface="Arial"/>
                <a:ea typeface="Times New Roman"/>
              </a:rPr>
              <a:t>Мольна концентрація (моляльність)</a:t>
            </a:r>
            <a:r>
              <a:rPr b="0" lang="uk-UA" sz="1400" spc="-1" strike="noStrike">
                <a:solidFill>
                  <a:srgbClr val="660033"/>
                </a:solidFill>
                <a:latin typeface="Arial"/>
                <a:ea typeface="Times New Roman"/>
              </a:rPr>
              <a:t> — відношення молів розчиненої речовини до маси розчинника, моль/кг,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14480" y="1590120"/>
            <a:ext cx="90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,     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(р-ка)=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(р-ну) – 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x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) ,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Молярна частка 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— відношення кількості молів даного компоненту системи до загальної кількості молів всіх компонентів розчину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305600" y="970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33"/>
                </a:solidFill>
                <a:latin typeface="Arial"/>
                <a:ea typeface="Times New Roman"/>
              </a:rPr>
              <a:t>  </a:t>
            </a:r>
            <a:r>
              <a:rPr b="0" i="1" lang="ru-RU" sz="1400" spc="-1" strike="noStrike">
                <a:solidFill>
                  <a:srgbClr val="660033"/>
                </a:solidFill>
                <a:latin typeface="Arial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660033"/>
                </a:solidFill>
                <a:latin typeface="Arial"/>
                <a:ea typeface="Times New Roman"/>
              </a:rPr>
              <a:t>    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20600" y="3294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для двохкомпонентної системи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33920" y="4268880"/>
            <a:ext cx="52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де ν(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х)  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— кількість речовини х, моль;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ν(р–ка) — кількість речовини розчинника, моль</a:t>
            </a:r>
            <a:r>
              <a:rPr b="0" lang="ru-RU" sz="1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i="1" lang="en-US" sz="1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85840" y="19584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Молярна концентрація еквівалента </a:t>
            </a:r>
            <a:r>
              <a:rPr b="1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— </a:t>
            </a:r>
            <a:r>
              <a:rPr b="0" lang="uk-UA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кількість речовини еквівалента в одиниці об'єму розчину, моль/л,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373480" y="1247760"/>
            <a:ext cx="3902040" cy="961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76320" y="2450160"/>
            <a:ext cx="9067680" cy="21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де 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М(е)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 — молярна маса еквівалента розчиненої речовини, г/моль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Закон еквівалентів: маси реагуючих одн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а з однією речовин (m</a:t>
            </a:r>
            <a:r>
              <a:rPr b="0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1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, m</a:t>
            </a:r>
            <a:r>
              <a:rPr b="0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2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, . . .) пропорційні їхнім еквівалентам (екв</a:t>
            </a:r>
            <a:r>
              <a:rPr b="0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1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, екв</a:t>
            </a:r>
            <a:r>
              <a:rPr b="0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2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, . . .)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i="1" lang="ru-RU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/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i="1" lang="ru-RU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 = 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екв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1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/</a:t>
            </a: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екв</a:t>
            </a:r>
            <a:r>
              <a:rPr b="0" i="1" lang="uk-UA" sz="1800" spc="-1" strike="noStrike" baseline="-30000">
                <a:solidFill>
                  <a:srgbClr val="660033"/>
                </a:solidFill>
                <a:latin typeface="Arial"/>
                <a:ea typeface="Times New Roman"/>
              </a:rPr>
              <a:t>2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031840"/>
                <a:tab algn="r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Еквівалент </a:t>
            </a:r>
            <a:r>
              <a:rPr b="0" lang="uk-UA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— це якась реальна або умовна частка речовини, що у даній кислотно-основній реакції еквівалентна одному іону гідрогену або одному електрону в окисно-відновних реакціях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5:01:37Z</dcterms:created>
  <dc:creator>пр</dc:creator>
  <dc:description/>
  <dc:language>en-US</dc:language>
  <cp:lastModifiedBy>Пользователь Windows</cp:lastModifiedBy>
  <cp:lastPrinted>2018-03-12T12:13:32Z</cp:lastPrinted>
  <dcterms:modified xsi:type="dcterms:W3CDTF">2018-04-11T08:47:25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