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F66-0F96-42F0-9CE8-7051B3BE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713-1CEA-4EC1-875C-3F1D3228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213-8B2F-4DDB-8010-8BCB4B0E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050-4CA5-4CB6-91D8-A8FAE175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415A-96B4-4846-836C-62576621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EE85-82D9-4BB4-AB8F-A587AB4E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DF9C-68A2-4BA4-973E-F9D49D85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3C4F-E3F6-4BE9-99C7-3F11F67B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EAD8-E1F3-41D2-9FAE-5C485D27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2E35-B7BE-4FCD-B8F4-556ED544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8B23-B2DD-4E39-B967-099B88D2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716-0692-4AF2-AD8A-543DC337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E993-0416-462F-B57E-485C54A6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6FC3-D302-4416-814F-8F011C59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8ADD-6B43-41A7-B2C6-D53F2C36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B20A-40B5-4DF7-947C-96BA53DE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3027-3F26-451B-B30F-59340BD5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DA68B-C8AA-4771-877E-1607EF6E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BB1C2-B086-4AFE-9D77-AC87505C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5F174-1CA0-450D-A4D8-4CF571FF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DD161-6B7E-44E1-9FCF-DF5CC7B5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B1E7E-365D-4E11-A6B7-185F0069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6CE-A4D2-4B2D-AA05-4D2DD3C3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D5137-EF8E-4037-9B3C-2558DBD4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DFEE9-0BC7-4B20-B1D3-4BA43405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E6284-5990-4EBB-9B28-45A94DFA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26181-E4B4-41B0-A5F4-E883AE4A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6916B-9951-4D80-AE0D-B8912888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79DCC-CE64-42BF-8CF4-0DCAB353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7EF7B-47C3-4CFF-BB9D-3E121C6E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4AD19-F03D-4786-A10B-B85224AF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85D68-33C3-44B0-9E9D-BD4C72A6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1A26D-5AFB-4A4B-87EF-32DDD8AE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FBD-3FDF-41C9-8758-8F947839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A40DC-F4CB-4529-8B02-1AB7AB93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ED93-76FE-4A88-AEEF-8D5B3EF7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43352-B2E8-49D6-BAE5-C9CF14FE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BA163-2159-4035-A0F4-53646AC5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37297-3B78-469B-8105-94D1D7D3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39CB8-B40D-468F-B601-8D70A36C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E03DD-85EC-444E-B8D7-C05CD18D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DA488-ADF1-4931-942F-BC9BF28A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992F2-F3AF-4D48-9193-15E471E1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C43-8F2E-4CA1-817B-5661FA72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FF9-1E8F-4751-9E62-D6118670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19F-049B-47D8-B590-6124ED56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46A4-31CD-47E5-BE7C-58D48FCA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E9B-2210-4F4C-84E2-F3CCB707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D2A542-B371-4056-AECA-415E8FE9EDF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4DD5B2-B525-4001-A2DF-E54FA3029EB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AE6380-EC97-481A-8711-D8D2E10E8B4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1A8922-9067-4A98-A06A-A2FDEEC45A4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harkov Natio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dical Un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285920" y="43578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Depart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folHlink"/>
                </a:solidFill>
                <a:latin typeface="Calibri"/>
              </a:rPr>
              <a:t>Histology, cytology and embry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2245680" y="2786040"/>
            <a:ext cx="54662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ECTURE   for dentistry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pharyngeal pouches and aortic arches"/>
          <p:cNvPicPr/>
          <p:nvPr/>
        </p:nvPicPr>
        <p:blipFill>
          <a:blip r:embed="rId1"/>
          <a:stretch/>
        </p:blipFill>
        <p:spPr>
          <a:xfrm>
            <a:off x="0" y="0"/>
            <a:ext cx="9143640" cy="5790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209680" y="5867280"/>
            <a:ext cx="60195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chemeClr val="hlink"/>
                </a:solidFill>
                <a:latin typeface="Calibri"/>
              </a:rPr>
              <a:t>Pharyngeal Pou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69240" y="3554280"/>
            <a:ext cx="1075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ctod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5410080" y="457200"/>
            <a:ext cx="1980720" cy="6854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0" y="2057400"/>
            <a:ext cx="1218960" cy="106632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0" y="3276720"/>
            <a:ext cx="1676160" cy="13712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r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traight Arrow Connector 13"/>
          <p:cNvCxnSpPr/>
          <p:nvPr/>
        </p:nvCxnSpPr>
        <p:spPr>
          <a:xfrm flipV="1">
            <a:off x="1447560" y="3504960"/>
            <a:ext cx="762480" cy="3816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5" name="Straight Connector 11"/>
          <p:cNvCxnSpPr/>
          <p:nvPr/>
        </p:nvCxnSpPr>
        <p:spPr>
          <a:xfrm>
            <a:off x="1828800" y="838080"/>
            <a:ext cx="2972160" cy="180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cxnSp>
        <p:nvCxnSpPr>
          <p:cNvPr id="196" name="Straight Arrow Connector 14"/>
          <p:cNvCxnSpPr/>
          <p:nvPr/>
        </p:nvCxnSpPr>
        <p:spPr>
          <a:xfrm>
            <a:off x="3200400" y="838080"/>
            <a:ext cx="381240" cy="228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development of face1"/>
          <p:cNvPicPr/>
          <p:nvPr/>
        </p:nvPicPr>
        <p:blipFill>
          <a:blip r:embed="rId1"/>
          <a:stretch/>
        </p:blipFill>
        <p:spPr>
          <a:xfrm>
            <a:off x="0" y="0"/>
            <a:ext cx="9143640" cy="2209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development of face2"/>
          <p:cNvPicPr/>
          <p:nvPr/>
        </p:nvPicPr>
        <p:blipFill>
          <a:blip r:embed="rId2"/>
          <a:stretch/>
        </p:blipFill>
        <p:spPr>
          <a:xfrm>
            <a:off x="0" y="2286000"/>
            <a:ext cx="9143640" cy="2361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development of face3"/>
          <p:cNvPicPr/>
          <p:nvPr/>
        </p:nvPicPr>
        <p:blipFill>
          <a:blip r:embed="rId3"/>
          <a:stretch/>
        </p:blipFill>
        <p:spPr>
          <a:xfrm>
            <a:off x="0" y="4648320"/>
            <a:ext cx="9143640" cy="25142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438280" y="0"/>
            <a:ext cx="259056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al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43200" y="762120"/>
            <a:ext cx="167616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ll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743200" y="1523880"/>
            <a:ext cx="205704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dib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 flipH="1">
            <a:off x="1523880" y="380880"/>
            <a:ext cx="1371600" cy="76320"/>
          </a:xfrm>
          <a:prstGeom prst="line">
            <a:avLst/>
          </a:prstGeom>
          <a:ln w="571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9"/>
          <p:cNvSpPr/>
          <p:nvPr/>
        </p:nvSpPr>
        <p:spPr>
          <a:xfrm flipH="1" flipV="1">
            <a:off x="1828800" y="914400"/>
            <a:ext cx="990360" cy="75960"/>
          </a:xfrm>
          <a:prstGeom prst="line">
            <a:avLst/>
          </a:prstGeom>
          <a:ln w="571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10"/>
          <p:cNvSpPr/>
          <p:nvPr/>
        </p:nvSpPr>
        <p:spPr>
          <a:xfrm flipH="1" flipV="1">
            <a:off x="1752480" y="1371600"/>
            <a:ext cx="990720" cy="380880"/>
          </a:xfrm>
          <a:prstGeom prst="line">
            <a:avLst/>
          </a:prstGeom>
          <a:ln w="571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609480" y="324000"/>
            <a:ext cx="7543440" cy="6122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In the frontal process are formed olfactory pi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They divide f.p. on </a:t>
            </a:r>
            <a:r>
              <a:rPr b="0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medial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and </a:t>
            </a:r>
            <a:r>
              <a:rPr b="0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lateral nasal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–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ter fuse with maxillar and mandibular processes  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se and lips app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reeform 2"/>
          <p:cNvSpPr/>
          <p:nvPr/>
        </p:nvSpPr>
        <p:spPr>
          <a:xfrm>
            <a:off x="4500720" y="5257800"/>
            <a:ext cx="3174480" cy="1599840"/>
          </a:xfrm>
          <a:custGeom>
            <a:avLst/>
            <a:gdLst>
              <a:gd name="textAreaLeft" fmla="*/ 0 w 3174480"/>
              <a:gd name="textAreaRight" fmla="*/ 3174840 w 3174480"/>
              <a:gd name="textAreaTop" fmla="*/ 0 h 1599840"/>
              <a:gd name="textAreaBottom" fmla="*/ 1600200 h 1599840"/>
            </a:gdLst>
            <a:ahLst/>
            <a:rect l="textAreaLeft" t="textAreaTop" r="textAreaRight" b="textAreaBottom"/>
            <a:pathLst>
              <a:path w="2000" h="1008">
                <a:moveTo>
                  <a:pt x="93" y="1007"/>
                </a:moveTo>
                <a:lnTo>
                  <a:pt x="95" y="954"/>
                </a:lnTo>
                <a:lnTo>
                  <a:pt x="84" y="916"/>
                </a:lnTo>
                <a:lnTo>
                  <a:pt x="74" y="889"/>
                </a:lnTo>
                <a:lnTo>
                  <a:pt x="52" y="863"/>
                </a:lnTo>
                <a:lnTo>
                  <a:pt x="42" y="825"/>
                </a:lnTo>
                <a:lnTo>
                  <a:pt x="31" y="786"/>
                </a:lnTo>
                <a:lnTo>
                  <a:pt x="21" y="748"/>
                </a:lnTo>
                <a:lnTo>
                  <a:pt x="10" y="709"/>
                </a:lnTo>
                <a:lnTo>
                  <a:pt x="10" y="671"/>
                </a:lnTo>
                <a:lnTo>
                  <a:pt x="0" y="644"/>
                </a:lnTo>
                <a:lnTo>
                  <a:pt x="0" y="606"/>
                </a:lnTo>
                <a:lnTo>
                  <a:pt x="0" y="567"/>
                </a:lnTo>
                <a:lnTo>
                  <a:pt x="0" y="529"/>
                </a:lnTo>
                <a:lnTo>
                  <a:pt x="0" y="490"/>
                </a:lnTo>
                <a:lnTo>
                  <a:pt x="0" y="452"/>
                </a:lnTo>
                <a:lnTo>
                  <a:pt x="0" y="425"/>
                </a:lnTo>
                <a:lnTo>
                  <a:pt x="0" y="387"/>
                </a:lnTo>
                <a:lnTo>
                  <a:pt x="10" y="347"/>
                </a:lnTo>
                <a:lnTo>
                  <a:pt x="42" y="309"/>
                </a:lnTo>
                <a:lnTo>
                  <a:pt x="74" y="284"/>
                </a:lnTo>
                <a:lnTo>
                  <a:pt x="105" y="284"/>
                </a:lnTo>
                <a:lnTo>
                  <a:pt x="137" y="270"/>
                </a:lnTo>
                <a:lnTo>
                  <a:pt x="168" y="258"/>
                </a:lnTo>
                <a:lnTo>
                  <a:pt x="200" y="245"/>
                </a:lnTo>
                <a:lnTo>
                  <a:pt x="231" y="245"/>
                </a:lnTo>
                <a:lnTo>
                  <a:pt x="263" y="232"/>
                </a:lnTo>
                <a:lnTo>
                  <a:pt x="295" y="232"/>
                </a:lnTo>
                <a:lnTo>
                  <a:pt x="326" y="207"/>
                </a:lnTo>
                <a:lnTo>
                  <a:pt x="358" y="207"/>
                </a:lnTo>
                <a:lnTo>
                  <a:pt x="389" y="193"/>
                </a:lnTo>
                <a:lnTo>
                  <a:pt x="421" y="180"/>
                </a:lnTo>
                <a:lnTo>
                  <a:pt x="452" y="167"/>
                </a:lnTo>
                <a:lnTo>
                  <a:pt x="484" y="154"/>
                </a:lnTo>
                <a:lnTo>
                  <a:pt x="516" y="142"/>
                </a:lnTo>
                <a:lnTo>
                  <a:pt x="547" y="116"/>
                </a:lnTo>
                <a:lnTo>
                  <a:pt x="579" y="102"/>
                </a:lnTo>
                <a:lnTo>
                  <a:pt x="610" y="90"/>
                </a:lnTo>
                <a:lnTo>
                  <a:pt x="642" y="77"/>
                </a:lnTo>
                <a:lnTo>
                  <a:pt x="673" y="64"/>
                </a:lnTo>
                <a:lnTo>
                  <a:pt x="705" y="51"/>
                </a:lnTo>
                <a:lnTo>
                  <a:pt x="737" y="39"/>
                </a:lnTo>
                <a:lnTo>
                  <a:pt x="768" y="25"/>
                </a:lnTo>
                <a:lnTo>
                  <a:pt x="800" y="25"/>
                </a:lnTo>
                <a:lnTo>
                  <a:pt x="831" y="13"/>
                </a:lnTo>
                <a:lnTo>
                  <a:pt x="863" y="13"/>
                </a:lnTo>
                <a:lnTo>
                  <a:pt x="894" y="13"/>
                </a:lnTo>
                <a:lnTo>
                  <a:pt x="926" y="0"/>
                </a:lnTo>
                <a:lnTo>
                  <a:pt x="958" y="0"/>
                </a:lnTo>
                <a:lnTo>
                  <a:pt x="989" y="0"/>
                </a:lnTo>
                <a:lnTo>
                  <a:pt x="1021" y="0"/>
                </a:lnTo>
                <a:lnTo>
                  <a:pt x="1052" y="0"/>
                </a:lnTo>
                <a:lnTo>
                  <a:pt x="1084" y="0"/>
                </a:lnTo>
                <a:lnTo>
                  <a:pt x="1115" y="0"/>
                </a:lnTo>
                <a:lnTo>
                  <a:pt x="1147" y="0"/>
                </a:lnTo>
                <a:lnTo>
                  <a:pt x="1179" y="13"/>
                </a:lnTo>
                <a:lnTo>
                  <a:pt x="1210" y="25"/>
                </a:lnTo>
                <a:lnTo>
                  <a:pt x="1242" y="39"/>
                </a:lnTo>
                <a:lnTo>
                  <a:pt x="1273" y="51"/>
                </a:lnTo>
                <a:lnTo>
                  <a:pt x="1305" y="64"/>
                </a:lnTo>
                <a:lnTo>
                  <a:pt x="1336" y="64"/>
                </a:lnTo>
                <a:lnTo>
                  <a:pt x="1368" y="77"/>
                </a:lnTo>
                <a:lnTo>
                  <a:pt x="1400" y="90"/>
                </a:lnTo>
                <a:lnTo>
                  <a:pt x="1431" y="102"/>
                </a:lnTo>
                <a:lnTo>
                  <a:pt x="1463" y="116"/>
                </a:lnTo>
                <a:lnTo>
                  <a:pt x="1494" y="128"/>
                </a:lnTo>
                <a:lnTo>
                  <a:pt x="1526" y="128"/>
                </a:lnTo>
                <a:lnTo>
                  <a:pt x="1557" y="142"/>
                </a:lnTo>
                <a:lnTo>
                  <a:pt x="1589" y="154"/>
                </a:lnTo>
                <a:lnTo>
                  <a:pt x="1621" y="167"/>
                </a:lnTo>
                <a:lnTo>
                  <a:pt x="1652" y="180"/>
                </a:lnTo>
                <a:lnTo>
                  <a:pt x="1684" y="180"/>
                </a:lnTo>
                <a:lnTo>
                  <a:pt x="1715" y="193"/>
                </a:lnTo>
                <a:lnTo>
                  <a:pt x="1747" y="207"/>
                </a:lnTo>
                <a:lnTo>
                  <a:pt x="1778" y="207"/>
                </a:lnTo>
                <a:lnTo>
                  <a:pt x="1810" y="219"/>
                </a:lnTo>
                <a:lnTo>
                  <a:pt x="1842" y="245"/>
                </a:lnTo>
                <a:lnTo>
                  <a:pt x="1873" y="258"/>
                </a:lnTo>
                <a:lnTo>
                  <a:pt x="1905" y="284"/>
                </a:lnTo>
                <a:lnTo>
                  <a:pt x="1936" y="322"/>
                </a:lnTo>
                <a:lnTo>
                  <a:pt x="1957" y="361"/>
                </a:lnTo>
                <a:lnTo>
                  <a:pt x="1978" y="399"/>
                </a:lnTo>
                <a:lnTo>
                  <a:pt x="1989" y="438"/>
                </a:lnTo>
                <a:lnTo>
                  <a:pt x="1999" y="477"/>
                </a:lnTo>
                <a:lnTo>
                  <a:pt x="1999" y="515"/>
                </a:lnTo>
                <a:lnTo>
                  <a:pt x="1999" y="554"/>
                </a:lnTo>
                <a:lnTo>
                  <a:pt x="1999" y="592"/>
                </a:lnTo>
                <a:lnTo>
                  <a:pt x="1999" y="632"/>
                </a:lnTo>
                <a:lnTo>
                  <a:pt x="1999" y="671"/>
                </a:lnTo>
                <a:lnTo>
                  <a:pt x="1999" y="722"/>
                </a:lnTo>
                <a:lnTo>
                  <a:pt x="1989" y="760"/>
                </a:lnTo>
                <a:lnTo>
                  <a:pt x="1968" y="799"/>
                </a:lnTo>
                <a:lnTo>
                  <a:pt x="1957" y="837"/>
                </a:lnTo>
                <a:lnTo>
                  <a:pt x="1947" y="877"/>
                </a:lnTo>
                <a:lnTo>
                  <a:pt x="1926" y="916"/>
                </a:lnTo>
                <a:lnTo>
                  <a:pt x="1915" y="954"/>
                </a:lnTo>
                <a:lnTo>
                  <a:pt x="1905" y="993"/>
                </a:lnTo>
                <a:lnTo>
                  <a:pt x="1884" y="1007"/>
                </a:lnTo>
                <a:lnTo>
                  <a:pt x="1869" y="1007"/>
                </a:lnTo>
              </a:path>
            </a:pathLst>
          </a:custGeom>
          <a:noFill/>
          <a:ln cap="rnd" w="2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4800600" y="5638680"/>
            <a:ext cx="2439720" cy="1218960"/>
          </a:xfrm>
          <a:custGeom>
            <a:avLst/>
            <a:gdLst>
              <a:gd name="textAreaLeft" fmla="*/ 0 w 2439720"/>
              <a:gd name="textAreaRight" fmla="*/ 2440080 w 24397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1537" h="768">
                <a:moveTo>
                  <a:pt x="0" y="767"/>
                </a:moveTo>
                <a:lnTo>
                  <a:pt x="32" y="727"/>
                </a:lnTo>
                <a:lnTo>
                  <a:pt x="32" y="698"/>
                </a:lnTo>
                <a:lnTo>
                  <a:pt x="32" y="678"/>
                </a:lnTo>
                <a:lnTo>
                  <a:pt x="32" y="649"/>
                </a:lnTo>
                <a:lnTo>
                  <a:pt x="32" y="620"/>
                </a:lnTo>
                <a:lnTo>
                  <a:pt x="32" y="591"/>
                </a:lnTo>
                <a:lnTo>
                  <a:pt x="32" y="553"/>
                </a:lnTo>
                <a:lnTo>
                  <a:pt x="42" y="523"/>
                </a:lnTo>
                <a:lnTo>
                  <a:pt x="53" y="494"/>
                </a:lnTo>
                <a:lnTo>
                  <a:pt x="63" y="465"/>
                </a:lnTo>
                <a:lnTo>
                  <a:pt x="63" y="436"/>
                </a:lnTo>
                <a:lnTo>
                  <a:pt x="74" y="407"/>
                </a:lnTo>
                <a:lnTo>
                  <a:pt x="95" y="377"/>
                </a:lnTo>
                <a:lnTo>
                  <a:pt x="106" y="349"/>
                </a:lnTo>
                <a:lnTo>
                  <a:pt x="116" y="329"/>
                </a:lnTo>
                <a:lnTo>
                  <a:pt x="127" y="300"/>
                </a:lnTo>
                <a:lnTo>
                  <a:pt x="137" y="271"/>
                </a:lnTo>
                <a:lnTo>
                  <a:pt x="148" y="242"/>
                </a:lnTo>
                <a:lnTo>
                  <a:pt x="169" y="212"/>
                </a:lnTo>
                <a:lnTo>
                  <a:pt x="200" y="184"/>
                </a:lnTo>
                <a:lnTo>
                  <a:pt x="232" y="165"/>
                </a:lnTo>
                <a:lnTo>
                  <a:pt x="263" y="154"/>
                </a:lnTo>
                <a:lnTo>
                  <a:pt x="295" y="135"/>
                </a:lnTo>
                <a:lnTo>
                  <a:pt x="327" y="125"/>
                </a:lnTo>
                <a:lnTo>
                  <a:pt x="358" y="116"/>
                </a:lnTo>
                <a:lnTo>
                  <a:pt x="390" y="96"/>
                </a:lnTo>
                <a:lnTo>
                  <a:pt x="421" y="77"/>
                </a:lnTo>
                <a:lnTo>
                  <a:pt x="453" y="67"/>
                </a:lnTo>
                <a:lnTo>
                  <a:pt x="484" y="47"/>
                </a:lnTo>
                <a:lnTo>
                  <a:pt x="516" y="38"/>
                </a:lnTo>
                <a:lnTo>
                  <a:pt x="548" y="28"/>
                </a:lnTo>
                <a:lnTo>
                  <a:pt x="579" y="19"/>
                </a:lnTo>
                <a:lnTo>
                  <a:pt x="611" y="9"/>
                </a:lnTo>
                <a:lnTo>
                  <a:pt x="642" y="9"/>
                </a:lnTo>
                <a:lnTo>
                  <a:pt x="674" y="0"/>
                </a:lnTo>
                <a:lnTo>
                  <a:pt x="705" y="0"/>
                </a:lnTo>
                <a:lnTo>
                  <a:pt x="737" y="0"/>
                </a:lnTo>
                <a:lnTo>
                  <a:pt x="769" y="0"/>
                </a:lnTo>
                <a:lnTo>
                  <a:pt x="800" y="0"/>
                </a:lnTo>
                <a:lnTo>
                  <a:pt x="832" y="0"/>
                </a:lnTo>
                <a:lnTo>
                  <a:pt x="863" y="0"/>
                </a:lnTo>
                <a:lnTo>
                  <a:pt x="895" y="9"/>
                </a:lnTo>
                <a:lnTo>
                  <a:pt x="926" y="19"/>
                </a:lnTo>
                <a:lnTo>
                  <a:pt x="958" y="28"/>
                </a:lnTo>
                <a:lnTo>
                  <a:pt x="990" y="28"/>
                </a:lnTo>
                <a:lnTo>
                  <a:pt x="1021" y="28"/>
                </a:lnTo>
                <a:lnTo>
                  <a:pt x="1053" y="47"/>
                </a:lnTo>
                <a:lnTo>
                  <a:pt x="1084" y="47"/>
                </a:lnTo>
                <a:lnTo>
                  <a:pt x="1116" y="58"/>
                </a:lnTo>
                <a:lnTo>
                  <a:pt x="1147" y="67"/>
                </a:lnTo>
                <a:lnTo>
                  <a:pt x="1179" y="67"/>
                </a:lnTo>
                <a:lnTo>
                  <a:pt x="1211" y="77"/>
                </a:lnTo>
                <a:lnTo>
                  <a:pt x="1242" y="86"/>
                </a:lnTo>
                <a:lnTo>
                  <a:pt x="1274" y="106"/>
                </a:lnTo>
                <a:lnTo>
                  <a:pt x="1305" y="125"/>
                </a:lnTo>
                <a:lnTo>
                  <a:pt x="1337" y="144"/>
                </a:lnTo>
                <a:lnTo>
                  <a:pt x="1337" y="165"/>
                </a:lnTo>
                <a:lnTo>
                  <a:pt x="1368" y="184"/>
                </a:lnTo>
                <a:lnTo>
                  <a:pt x="1379" y="212"/>
                </a:lnTo>
                <a:lnTo>
                  <a:pt x="1400" y="242"/>
                </a:lnTo>
                <a:lnTo>
                  <a:pt x="1421" y="271"/>
                </a:lnTo>
                <a:lnTo>
                  <a:pt x="1432" y="300"/>
                </a:lnTo>
                <a:lnTo>
                  <a:pt x="1442" y="329"/>
                </a:lnTo>
                <a:lnTo>
                  <a:pt x="1453" y="349"/>
                </a:lnTo>
                <a:lnTo>
                  <a:pt x="1463" y="377"/>
                </a:lnTo>
                <a:lnTo>
                  <a:pt x="1463" y="407"/>
                </a:lnTo>
                <a:lnTo>
                  <a:pt x="1474" y="436"/>
                </a:lnTo>
                <a:lnTo>
                  <a:pt x="1484" y="465"/>
                </a:lnTo>
                <a:lnTo>
                  <a:pt x="1495" y="494"/>
                </a:lnTo>
                <a:lnTo>
                  <a:pt x="1495" y="514"/>
                </a:lnTo>
                <a:lnTo>
                  <a:pt x="1495" y="553"/>
                </a:lnTo>
                <a:lnTo>
                  <a:pt x="1505" y="581"/>
                </a:lnTo>
                <a:lnTo>
                  <a:pt x="1505" y="611"/>
                </a:lnTo>
                <a:lnTo>
                  <a:pt x="1505" y="639"/>
                </a:lnTo>
                <a:lnTo>
                  <a:pt x="1505" y="669"/>
                </a:lnTo>
                <a:lnTo>
                  <a:pt x="1505" y="698"/>
                </a:lnTo>
                <a:lnTo>
                  <a:pt x="1505" y="727"/>
                </a:lnTo>
                <a:lnTo>
                  <a:pt x="1505" y="756"/>
                </a:lnTo>
                <a:lnTo>
                  <a:pt x="1536" y="767"/>
                </a:lnTo>
              </a:path>
            </a:pathLst>
          </a:custGeom>
          <a:noFill/>
          <a:ln cap="rnd" w="50800">
            <a:solidFill>
              <a:srgbClr val="ff33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80880" y="0"/>
            <a:ext cx="1142640" cy="4536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22680" bIns="22680" anchor="t">
            <a:spAutoFit/>
          </a:bodyPr>
          <a:p>
            <a:pPr>
              <a:lnSpc>
                <a:spcPct val="100000"/>
              </a:lnSpc>
              <a:spcBef>
                <a:spcPts val="1451"/>
              </a:spcBef>
            </a:pPr>
            <a:endParaRPr b="1" lang="ru-RU" sz="2900" spc="-1" strike="noStrike">
              <a:solidFill>
                <a:schemeClr val="accent2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 flipH="1">
            <a:off x="151560" y="457200"/>
            <a:ext cx="4054680" cy="96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NASOMEDIAL 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solater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 flipH="1">
            <a:off x="380160" y="2133720"/>
            <a:ext cx="3733560" cy="74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558ed5"/>
                </a:solidFill>
                <a:latin typeface="Arial"/>
              </a:rPr>
              <a:t>MAXILLARY PROCESS</a:t>
            </a: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 flipH="1">
            <a:off x="380880" y="2438280"/>
            <a:ext cx="3352320" cy="156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558ed5"/>
                </a:solidFill>
                <a:latin typeface="Arial"/>
              </a:rPr>
              <a:t>grow to meet just off the midline, which is occupied by the fusing medial nas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32"/>
          <p:cNvGrpSpPr/>
          <p:nvPr/>
        </p:nvGrpSpPr>
        <p:grpSpPr>
          <a:xfrm>
            <a:off x="3733560" y="52560"/>
            <a:ext cx="4394160" cy="5814360"/>
            <a:chOff x="3733560" y="52560"/>
            <a:chExt cx="4394160" cy="5814360"/>
          </a:xfrm>
        </p:grpSpPr>
        <p:sp>
          <p:nvSpPr>
            <p:cNvPr id="214" name="Freeform 8"/>
            <p:cNvSpPr/>
            <p:nvPr/>
          </p:nvSpPr>
          <p:spPr>
            <a:xfrm>
              <a:off x="4132440" y="52560"/>
              <a:ext cx="3995280" cy="4030200"/>
            </a:xfrm>
            <a:custGeom>
              <a:avLst/>
              <a:gdLst>
                <a:gd name="textAreaLeft" fmla="*/ 0 w 3995280"/>
                <a:gd name="textAreaRight" fmla="*/ 3995640 w 3995280"/>
                <a:gd name="textAreaTop" fmla="*/ 0 h 4030200"/>
                <a:gd name="textAreaBottom" fmla="*/ 4030560 h 4030200"/>
              </a:gdLst>
              <a:ahLst/>
              <a:rect l="textAreaLeft" t="textAreaTop" r="textAreaRight" b="textAreaBottom"/>
              <a:pathLst>
                <a:path w="2517" h="2539">
                  <a:moveTo>
                    <a:pt x="229" y="2223"/>
                  </a:moveTo>
                  <a:lnTo>
                    <a:pt x="232" y="2180"/>
                  </a:lnTo>
                  <a:lnTo>
                    <a:pt x="211" y="2148"/>
                  </a:lnTo>
                  <a:lnTo>
                    <a:pt x="190" y="2116"/>
                  </a:lnTo>
                  <a:lnTo>
                    <a:pt x="190" y="2085"/>
                  </a:lnTo>
                  <a:lnTo>
                    <a:pt x="169" y="2053"/>
                  </a:lnTo>
                  <a:lnTo>
                    <a:pt x="158" y="2022"/>
                  </a:lnTo>
                  <a:lnTo>
                    <a:pt x="148" y="1990"/>
                  </a:lnTo>
                  <a:lnTo>
                    <a:pt x="137" y="1959"/>
                  </a:lnTo>
                  <a:lnTo>
                    <a:pt x="137" y="1937"/>
                  </a:lnTo>
                  <a:lnTo>
                    <a:pt x="116" y="1906"/>
                  </a:lnTo>
                  <a:lnTo>
                    <a:pt x="106" y="1874"/>
                  </a:lnTo>
                  <a:lnTo>
                    <a:pt x="106" y="1843"/>
                  </a:lnTo>
                  <a:lnTo>
                    <a:pt x="85" y="1811"/>
                  </a:lnTo>
                  <a:lnTo>
                    <a:pt x="74" y="1780"/>
                  </a:lnTo>
                  <a:lnTo>
                    <a:pt x="63" y="1748"/>
                  </a:lnTo>
                  <a:lnTo>
                    <a:pt x="63" y="1716"/>
                  </a:lnTo>
                  <a:lnTo>
                    <a:pt x="53" y="1685"/>
                  </a:lnTo>
                  <a:lnTo>
                    <a:pt x="53" y="1653"/>
                  </a:lnTo>
                  <a:lnTo>
                    <a:pt x="42" y="1622"/>
                  </a:lnTo>
                  <a:lnTo>
                    <a:pt x="32" y="1590"/>
                  </a:lnTo>
                  <a:lnTo>
                    <a:pt x="21" y="1558"/>
                  </a:lnTo>
                  <a:lnTo>
                    <a:pt x="21" y="1527"/>
                  </a:lnTo>
                  <a:lnTo>
                    <a:pt x="21" y="1485"/>
                  </a:lnTo>
                  <a:lnTo>
                    <a:pt x="21" y="1453"/>
                  </a:lnTo>
                  <a:lnTo>
                    <a:pt x="21" y="1422"/>
                  </a:lnTo>
                  <a:lnTo>
                    <a:pt x="21" y="1390"/>
                  </a:lnTo>
                  <a:lnTo>
                    <a:pt x="11" y="1348"/>
                  </a:lnTo>
                  <a:lnTo>
                    <a:pt x="11" y="1316"/>
                  </a:lnTo>
                  <a:lnTo>
                    <a:pt x="11" y="1285"/>
                  </a:lnTo>
                  <a:lnTo>
                    <a:pt x="11" y="1253"/>
                  </a:lnTo>
                  <a:lnTo>
                    <a:pt x="0" y="1222"/>
                  </a:lnTo>
                  <a:lnTo>
                    <a:pt x="0" y="1190"/>
                  </a:lnTo>
                  <a:lnTo>
                    <a:pt x="0" y="1158"/>
                  </a:lnTo>
                  <a:lnTo>
                    <a:pt x="0" y="1127"/>
                  </a:lnTo>
                  <a:lnTo>
                    <a:pt x="0" y="1095"/>
                  </a:lnTo>
                  <a:lnTo>
                    <a:pt x="0" y="1064"/>
                  </a:lnTo>
                  <a:lnTo>
                    <a:pt x="0" y="1032"/>
                  </a:lnTo>
                  <a:lnTo>
                    <a:pt x="0" y="1001"/>
                  </a:lnTo>
                  <a:lnTo>
                    <a:pt x="0" y="979"/>
                  </a:lnTo>
                  <a:lnTo>
                    <a:pt x="0" y="948"/>
                  </a:lnTo>
                  <a:lnTo>
                    <a:pt x="11" y="916"/>
                  </a:lnTo>
                  <a:lnTo>
                    <a:pt x="21" y="885"/>
                  </a:lnTo>
                  <a:lnTo>
                    <a:pt x="42" y="843"/>
                  </a:lnTo>
                  <a:lnTo>
                    <a:pt x="53" y="811"/>
                  </a:lnTo>
                  <a:lnTo>
                    <a:pt x="74" y="779"/>
                  </a:lnTo>
                  <a:lnTo>
                    <a:pt x="95" y="737"/>
                  </a:lnTo>
                  <a:lnTo>
                    <a:pt x="127" y="716"/>
                  </a:lnTo>
                  <a:lnTo>
                    <a:pt x="148" y="685"/>
                  </a:lnTo>
                  <a:lnTo>
                    <a:pt x="179" y="653"/>
                  </a:lnTo>
                  <a:lnTo>
                    <a:pt x="211" y="632"/>
                  </a:lnTo>
                  <a:lnTo>
                    <a:pt x="242" y="611"/>
                  </a:lnTo>
                  <a:lnTo>
                    <a:pt x="274" y="590"/>
                  </a:lnTo>
                  <a:lnTo>
                    <a:pt x="306" y="579"/>
                  </a:lnTo>
                  <a:lnTo>
                    <a:pt x="337" y="558"/>
                  </a:lnTo>
                  <a:lnTo>
                    <a:pt x="369" y="527"/>
                  </a:lnTo>
                  <a:lnTo>
                    <a:pt x="400" y="506"/>
                  </a:lnTo>
                  <a:lnTo>
                    <a:pt x="432" y="485"/>
                  </a:lnTo>
                  <a:lnTo>
                    <a:pt x="463" y="474"/>
                  </a:lnTo>
                  <a:lnTo>
                    <a:pt x="495" y="443"/>
                  </a:lnTo>
                  <a:lnTo>
                    <a:pt x="516" y="421"/>
                  </a:lnTo>
                  <a:lnTo>
                    <a:pt x="579" y="411"/>
                  </a:lnTo>
                  <a:lnTo>
                    <a:pt x="621" y="390"/>
                  </a:lnTo>
                  <a:lnTo>
                    <a:pt x="653" y="369"/>
                  </a:lnTo>
                  <a:lnTo>
                    <a:pt x="684" y="348"/>
                  </a:lnTo>
                  <a:lnTo>
                    <a:pt x="716" y="327"/>
                  </a:lnTo>
                  <a:lnTo>
                    <a:pt x="748" y="306"/>
                  </a:lnTo>
                  <a:lnTo>
                    <a:pt x="779" y="274"/>
                  </a:lnTo>
                  <a:lnTo>
                    <a:pt x="800" y="242"/>
                  </a:lnTo>
                  <a:lnTo>
                    <a:pt x="832" y="232"/>
                  </a:lnTo>
                  <a:lnTo>
                    <a:pt x="853" y="200"/>
                  </a:lnTo>
                  <a:lnTo>
                    <a:pt x="874" y="169"/>
                  </a:lnTo>
                  <a:lnTo>
                    <a:pt x="905" y="148"/>
                  </a:lnTo>
                  <a:lnTo>
                    <a:pt x="926" y="116"/>
                  </a:lnTo>
                  <a:lnTo>
                    <a:pt x="958" y="106"/>
                  </a:lnTo>
                  <a:lnTo>
                    <a:pt x="990" y="74"/>
                  </a:lnTo>
                  <a:lnTo>
                    <a:pt x="1021" y="53"/>
                  </a:lnTo>
                  <a:lnTo>
                    <a:pt x="1053" y="32"/>
                  </a:lnTo>
                  <a:lnTo>
                    <a:pt x="1084" y="21"/>
                  </a:lnTo>
                  <a:lnTo>
                    <a:pt x="1116" y="11"/>
                  </a:lnTo>
                  <a:lnTo>
                    <a:pt x="1147" y="11"/>
                  </a:lnTo>
                  <a:lnTo>
                    <a:pt x="1179" y="11"/>
                  </a:lnTo>
                  <a:lnTo>
                    <a:pt x="1211" y="11"/>
                  </a:lnTo>
                  <a:lnTo>
                    <a:pt x="1242" y="0"/>
                  </a:lnTo>
                  <a:lnTo>
                    <a:pt x="1274" y="0"/>
                  </a:lnTo>
                  <a:lnTo>
                    <a:pt x="1305" y="0"/>
                  </a:lnTo>
                  <a:lnTo>
                    <a:pt x="1347" y="0"/>
                  </a:lnTo>
                  <a:lnTo>
                    <a:pt x="1379" y="0"/>
                  </a:lnTo>
                  <a:lnTo>
                    <a:pt x="1411" y="11"/>
                  </a:lnTo>
                  <a:lnTo>
                    <a:pt x="1442" y="21"/>
                  </a:lnTo>
                  <a:lnTo>
                    <a:pt x="1474" y="21"/>
                  </a:lnTo>
                  <a:lnTo>
                    <a:pt x="1505" y="32"/>
                  </a:lnTo>
                  <a:lnTo>
                    <a:pt x="1537" y="53"/>
                  </a:lnTo>
                  <a:lnTo>
                    <a:pt x="1568" y="53"/>
                  </a:lnTo>
                  <a:lnTo>
                    <a:pt x="1600" y="64"/>
                  </a:lnTo>
                  <a:lnTo>
                    <a:pt x="1632" y="85"/>
                  </a:lnTo>
                  <a:lnTo>
                    <a:pt x="1663" y="106"/>
                  </a:lnTo>
                  <a:lnTo>
                    <a:pt x="1684" y="137"/>
                  </a:lnTo>
                  <a:lnTo>
                    <a:pt x="1716" y="158"/>
                  </a:lnTo>
                  <a:lnTo>
                    <a:pt x="1726" y="190"/>
                  </a:lnTo>
                  <a:lnTo>
                    <a:pt x="1737" y="221"/>
                  </a:lnTo>
                  <a:lnTo>
                    <a:pt x="1758" y="253"/>
                  </a:lnTo>
                  <a:lnTo>
                    <a:pt x="1768" y="285"/>
                  </a:lnTo>
                  <a:lnTo>
                    <a:pt x="1789" y="316"/>
                  </a:lnTo>
                  <a:lnTo>
                    <a:pt x="1810" y="348"/>
                  </a:lnTo>
                  <a:lnTo>
                    <a:pt x="1842" y="369"/>
                  </a:lnTo>
                  <a:lnTo>
                    <a:pt x="1874" y="400"/>
                  </a:lnTo>
                  <a:lnTo>
                    <a:pt x="1905" y="411"/>
                  </a:lnTo>
                  <a:lnTo>
                    <a:pt x="1937" y="432"/>
                  </a:lnTo>
                  <a:lnTo>
                    <a:pt x="1979" y="453"/>
                  </a:lnTo>
                  <a:lnTo>
                    <a:pt x="2010" y="474"/>
                  </a:lnTo>
                  <a:lnTo>
                    <a:pt x="2042" y="495"/>
                  </a:lnTo>
                  <a:lnTo>
                    <a:pt x="2074" y="516"/>
                  </a:lnTo>
                  <a:lnTo>
                    <a:pt x="2105" y="548"/>
                  </a:lnTo>
                  <a:lnTo>
                    <a:pt x="2137" y="569"/>
                  </a:lnTo>
                  <a:lnTo>
                    <a:pt x="2168" y="600"/>
                  </a:lnTo>
                  <a:lnTo>
                    <a:pt x="2200" y="621"/>
                  </a:lnTo>
                  <a:lnTo>
                    <a:pt x="2231" y="643"/>
                  </a:lnTo>
                  <a:lnTo>
                    <a:pt x="2263" y="664"/>
                  </a:lnTo>
                  <a:lnTo>
                    <a:pt x="2295" y="685"/>
                  </a:lnTo>
                  <a:lnTo>
                    <a:pt x="2326" y="716"/>
                  </a:lnTo>
                  <a:lnTo>
                    <a:pt x="2358" y="737"/>
                  </a:lnTo>
                  <a:lnTo>
                    <a:pt x="2389" y="758"/>
                  </a:lnTo>
                  <a:lnTo>
                    <a:pt x="2400" y="790"/>
                  </a:lnTo>
                  <a:lnTo>
                    <a:pt x="2421" y="822"/>
                  </a:lnTo>
                  <a:lnTo>
                    <a:pt x="2442" y="853"/>
                  </a:lnTo>
                  <a:lnTo>
                    <a:pt x="2452" y="885"/>
                  </a:lnTo>
                  <a:lnTo>
                    <a:pt x="2473" y="916"/>
                  </a:lnTo>
                  <a:lnTo>
                    <a:pt x="2484" y="948"/>
                  </a:lnTo>
                  <a:lnTo>
                    <a:pt x="2494" y="979"/>
                  </a:lnTo>
                  <a:lnTo>
                    <a:pt x="2505" y="1001"/>
                  </a:lnTo>
                  <a:lnTo>
                    <a:pt x="2505" y="1032"/>
                  </a:lnTo>
                  <a:lnTo>
                    <a:pt x="2516" y="1064"/>
                  </a:lnTo>
                  <a:lnTo>
                    <a:pt x="2516" y="1095"/>
                  </a:lnTo>
                  <a:lnTo>
                    <a:pt x="2516" y="1127"/>
                  </a:lnTo>
                  <a:lnTo>
                    <a:pt x="2516" y="1158"/>
                  </a:lnTo>
                  <a:lnTo>
                    <a:pt x="2516" y="1190"/>
                  </a:lnTo>
                  <a:lnTo>
                    <a:pt x="2516" y="1222"/>
                  </a:lnTo>
                  <a:lnTo>
                    <a:pt x="2516" y="1253"/>
                  </a:lnTo>
                  <a:lnTo>
                    <a:pt x="2516" y="1285"/>
                  </a:lnTo>
                  <a:lnTo>
                    <a:pt x="2516" y="1316"/>
                  </a:lnTo>
                  <a:lnTo>
                    <a:pt x="2516" y="1348"/>
                  </a:lnTo>
                  <a:lnTo>
                    <a:pt x="2505" y="1380"/>
                  </a:lnTo>
                  <a:lnTo>
                    <a:pt x="2494" y="1422"/>
                  </a:lnTo>
                  <a:lnTo>
                    <a:pt x="2484" y="1453"/>
                  </a:lnTo>
                  <a:lnTo>
                    <a:pt x="2473" y="1485"/>
                  </a:lnTo>
                  <a:lnTo>
                    <a:pt x="2463" y="1516"/>
                  </a:lnTo>
                  <a:lnTo>
                    <a:pt x="2452" y="1548"/>
                  </a:lnTo>
                  <a:lnTo>
                    <a:pt x="2452" y="1580"/>
                  </a:lnTo>
                  <a:lnTo>
                    <a:pt x="2442" y="1611"/>
                  </a:lnTo>
                  <a:lnTo>
                    <a:pt x="2431" y="1653"/>
                  </a:lnTo>
                  <a:lnTo>
                    <a:pt x="2410" y="1695"/>
                  </a:lnTo>
                  <a:lnTo>
                    <a:pt x="2400" y="1727"/>
                  </a:lnTo>
                  <a:lnTo>
                    <a:pt x="2389" y="1759"/>
                  </a:lnTo>
                  <a:lnTo>
                    <a:pt x="2379" y="1790"/>
                  </a:lnTo>
                  <a:lnTo>
                    <a:pt x="2368" y="1822"/>
                  </a:lnTo>
                  <a:lnTo>
                    <a:pt x="2368" y="1853"/>
                  </a:lnTo>
                  <a:lnTo>
                    <a:pt x="2347" y="1895"/>
                  </a:lnTo>
                  <a:lnTo>
                    <a:pt x="2337" y="1927"/>
                  </a:lnTo>
                  <a:lnTo>
                    <a:pt x="2326" y="1959"/>
                  </a:lnTo>
                  <a:lnTo>
                    <a:pt x="2326" y="1990"/>
                  </a:lnTo>
                  <a:lnTo>
                    <a:pt x="2316" y="2022"/>
                  </a:lnTo>
                  <a:lnTo>
                    <a:pt x="2305" y="2053"/>
                  </a:lnTo>
                  <a:lnTo>
                    <a:pt x="2295" y="2085"/>
                  </a:lnTo>
                  <a:lnTo>
                    <a:pt x="2284" y="2116"/>
                  </a:lnTo>
                  <a:lnTo>
                    <a:pt x="2273" y="2138"/>
                  </a:lnTo>
                  <a:lnTo>
                    <a:pt x="2263" y="2169"/>
                  </a:lnTo>
                  <a:lnTo>
                    <a:pt x="2252" y="2201"/>
                  </a:lnTo>
                  <a:lnTo>
                    <a:pt x="2242" y="2232"/>
                  </a:lnTo>
                  <a:lnTo>
                    <a:pt x="2210" y="2232"/>
                  </a:lnTo>
                  <a:lnTo>
                    <a:pt x="2179" y="2232"/>
                  </a:lnTo>
                  <a:lnTo>
                    <a:pt x="2147" y="2232"/>
                  </a:lnTo>
                  <a:lnTo>
                    <a:pt x="2116" y="2232"/>
                  </a:lnTo>
                  <a:lnTo>
                    <a:pt x="2084" y="2232"/>
                  </a:lnTo>
                  <a:lnTo>
                    <a:pt x="2052" y="2232"/>
                  </a:lnTo>
                  <a:lnTo>
                    <a:pt x="2021" y="2243"/>
                  </a:lnTo>
                  <a:lnTo>
                    <a:pt x="1989" y="2253"/>
                  </a:lnTo>
                  <a:lnTo>
                    <a:pt x="1958" y="2264"/>
                  </a:lnTo>
                  <a:lnTo>
                    <a:pt x="1926" y="2285"/>
                  </a:lnTo>
                  <a:lnTo>
                    <a:pt x="1895" y="2295"/>
                  </a:lnTo>
                  <a:lnTo>
                    <a:pt x="1863" y="2306"/>
                  </a:lnTo>
                  <a:lnTo>
                    <a:pt x="1831" y="2317"/>
                  </a:lnTo>
                  <a:lnTo>
                    <a:pt x="1800" y="2327"/>
                  </a:lnTo>
                  <a:lnTo>
                    <a:pt x="1768" y="2348"/>
                  </a:lnTo>
                  <a:lnTo>
                    <a:pt x="1737" y="2359"/>
                  </a:lnTo>
                  <a:lnTo>
                    <a:pt x="1705" y="2380"/>
                  </a:lnTo>
                  <a:lnTo>
                    <a:pt x="1674" y="2390"/>
                  </a:lnTo>
                  <a:lnTo>
                    <a:pt x="1642" y="2411"/>
                  </a:lnTo>
                  <a:lnTo>
                    <a:pt x="1610" y="2432"/>
                  </a:lnTo>
                  <a:lnTo>
                    <a:pt x="1579" y="2443"/>
                  </a:lnTo>
                  <a:lnTo>
                    <a:pt x="1547" y="2464"/>
                  </a:lnTo>
                  <a:lnTo>
                    <a:pt x="1516" y="2474"/>
                  </a:lnTo>
                  <a:lnTo>
                    <a:pt x="1484" y="2495"/>
                  </a:lnTo>
                  <a:lnTo>
                    <a:pt x="1442" y="2506"/>
                  </a:lnTo>
                  <a:lnTo>
                    <a:pt x="1411" y="2527"/>
                  </a:lnTo>
                  <a:lnTo>
                    <a:pt x="1389" y="2538"/>
                  </a:lnTo>
                  <a:lnTo>
                    <a:pt x="1358" y="2538"/>
                  </a:lnTo>
                  <a:lnTo>
                    <a:pt x="1326" y="2538"/>
                  </a:lnTo>
                  <a:lnTo>
                    <a:pt x="1295" y="2538"/>
                  </a:lnTo>
                  <a:lnTo>
                    <a:pt x="1263" y="2538"/>
                  </a:lnTo>
                  <a:lnTo>
                    <a:pt x="1232" y="2538"/>
                  </a:lnTo>
                  <a:lnTo>
                    <a:pt x="1200" y="2538"/>
                  </a:lnTo>
                  <a:lnTo>
                    <a:pt x="1168" y="2538"/>
                  </a:lnTo>
                  <a:lnTo>
                    <a:pt x="1137" y="2538"/>
                  </a:lnTo>
                  <a:lnTo>
                    <a:pt x="1105" y="2517"/>
                  </a:lnTo>
                  <a:lnTo>
                    <a:pt x="1063" y="2495"/>
                  </a:lnTo>
                  <a:lnTo>
                    <a:pt x="1032" y="2474"/>
                  </a:lnTo>
                  <a:lnTo>
                    <a:pt x="1000" y="2453"/>
                  </a:lnTo>
                  <a:lnTo>
                    <a:pt x="969" y="2443"/>
                  </a:lnTo>
                  <a:lnTo>
                    <a:pt x="947" y="2432"/>
                  </a:lnTo>
                  <a:lnTo>
                    <a:pt x="905" y="2411"/>
                  </a:lnTo>
                  <a:lnTo>
                    <a:pt x="874" y="2401"/>
                  </a:lnTo>
                  <a:lnTo>
                    <a:pt x="842" y="2380"/>
                  </a:lnTo>
                  <a:lnTo>
                    <a:pt x="811" y="2369"/>
                  </a:lnTo>
                  <a:lnTo>
                    <a:pt x="769" y="2359"/>
                  </a:lnTo>
                  <a:lnTo>
                    <a:pt x="695" y="2348"/>
                  </a:lnTo>
                  <a:lnTo>
                    <a:pt x="663" y="2338"/>
                  </a:lnTo>
                  <a:lnTo>
                    <a:pt x="590" y="2327"/>
                  </a:lnTo>
                  <a:lnTo>
                    <a:pt x="548" y="2317"/>
                  </a:lnTo>
                  <a:lnTo>
                    <a:pt x="516" y="2306"/>
                  </a:lnTo>
                  <a:lnTo>
                    <a:pt x="484" y="2295"/>
                  </a:lnTo>
                  <a:lnTo>
                    <a:pt x="453" y="2285"/>
                  </a:lnTo>
                  <a:lnTo>
                    <a:pt x="411" y="2264"/>
                  </a:lnTo>
                  <a:lnTo>
                    <a:pt x="379" y="2243"/>
                  </a:lnTo>
                  <a:lnTo>
                    <a:pt x="348" y="2232"/>
                  </a:lnTo>
                  <a:lnTo>
                    <a:pt x="316" y="2222"/>
                  </a:lnTo>
                  <a:lnTo>
                    <a:pt x="284" y="2222"/>
                  </a:lnTo>
                  <a:lnTo>
                    <a:pt x="229" y="2223"/>
                  </a:lnTo>
                  <a:lnTo>
                    <a:pt x="229" y="2223"/>
                  </a:lnTo>
                </a:path>
              </a:pathLst>
            </a:custGeom>
            <a:pattFill prst="openDmnd">
              <a:fgClr>
                <a:srgbClr val="eeece1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9"/>
            <p:cNvSpPr/>
            <p:nvPr/>
          </p:nvSpPr>
          <p:spPr>
            <a:xfrm>
              <a:off x="4268880" y="3886200"/>
              <a:ext cx="3639600" cy="1980720"/>
            </a:xfrm>
            <a:custGeom>
              <a:avLst/>
              <a:gdLst>
                <a:gd name="textAreaLeft" fmla="*/ 0 w 3639600"/>
                <a:gd name="textAreaRight" fmla="*/ 3639960 w 3639600"/>
                <a:gd name="textAreaTop" fmla="*/ 0 h 1980720"/>
                <a:gd name="textAreaBottom" fmla="*/ 1981080 h 1980720"/>
              </a:gdLst>
              <a:ahLst/>
              <a:rect l="textAreaLeft" t="textAreaTop" r="textAreaRight" b="textAreaBottom"/>
              <a:pathLst>
                <a:path w="2293" h="1248">
                  <a:moveTo>
                    <a:pt x="158" y="520"/>
                  </a:moveTo>
                  <a:lnTo>
                    <a:pt x="113" y="557"/>
                  </a:lnTo>
                  <a:lnTo>
                    <a:pt x="94" y="596"/>
                  </a:lnTo>
                  <a:lnTo>
                    <a:pt x="66" y="622"/>
                  </a:lnTo>
                  <a:lnTo>
                    <a:pt x="37" y="663"/>
                  </a:lnTo>
                  <a:lnTo>
                    <a:pt x="18" y="703"/>
                  </a:lnTo>
                  <a:lnTo>
                    <a:pt x="8" y="742"/>
                  </a:lnTo>
                  <a:lnTo>
                    <a:pt x="8" y="783"/>
                  </a:lnTo>
                  <a:lnTo>
                    <a:pt x="8" y="822"/>
                  </a:lnTo>
                  <a:lnTo>
                    <a:pt x="0" y="862"/>
                  </a:lnTo>
                  <a:lnTo>
                    <a:pt x="0" y="901"/>
                  </a:lnTo>
                  <a:lnTo>
                    <a:pt x="0" y="929"/>
                  </a:lnTo>
                  <a:lnTo>
                    <a:pt x="0" y="968"/>
                  </a:lnTo>
                  <a:lnTo>
                    <a:pt x="0" y="1008"/>
                  </a:lnTo>
                  <a:lnTo>
                    <a:pt x="8" y="1047"/>
                  </a:lnTo>
                  <a:lnTo>
                    <a:pt x="28" y="1074"/>
                  </a:lnTo>
                  <a:lnTo>
                    <a:pt x="37" y="1114"/>
                  </a:lnTo>
                  <a:lnTo>
                    <a:pt x="66" y="1153"/>
                  </a:lnTo>
                  <a:lnTo>
                    <a:pt x="85" y="1181"/>
                  </a:lnTo>
                  <a:lnTo>
                    <a:pt x="113" y="1207"/>
                  </a:lnTo>
                  <a:lnTo>
                    <a:pt x="142" y="1234"/>
                  </a:lnTo>
                  <a:lnTo>
                    <a:pt x="170" y="1234"/>
                  </a:lnTo>
                  <a:lnTo>
                    <a:pt x="198" y="1247"/>
                  </a:lnTo>
                  <a:lnTo>
                    <a:pt x="227" y="1247"/>
                  </a:lnTo>
                  <a:lnTo>
                    <a:pt x="255" y="1247"/>
                  </a:lnTo>
                  <a:lnTo>
                    <a:pt x="284" y="1247"/>
                  </a:lnTo>
                  <a:lnTo>
                    <a:pt x="312" y="1247"/>
                  </a:lnTo>
                  <a:lnTo>
                    <a:pt x="341" y="1247"/>
                  </a:lnTo>
                  <a:lnTo>
                    <a:pt x="368" y="1247"/>
                  </a:lnTo>
                  <a:lnTo>
                    <a:pt x="397" y="1247"/>
                  </a:lnTo>
                  <a:lnTo>
                    <a:pt x="426" y="1234"/>
                  </a:lnTo>
                  <a:lnTo>
                    <a:pt x="454" y="1220"/>
                  </a:lnTo>
                  <a:lnTo>
                    <a:pt x="492" y="1220"/>
                  </a:lnTo>
                  <a:lnTo>
                    <a:pt x="521" y="1194"/>
                  </a:lnTo>
                  <a:lnTo>
                    <a:pt x="548" y="1181"/>
                  </a:lnTo>
                  <a:lnTo>
                    <a:pt x="577" y="1167"/>
                  </a:lnTo>
                  <a:lnTo>
                    <a:pt x="605" y="1153"/>
                  </a:lnTo>
                  <a:lnTo>
                    <a:pt x="625" y="1141"/>
                  </a:lnTo>
                  <a:lnTo>
                    <a:pt x="653" y="1127"/>
                  </a:lnTo>
                  <a:lnTo>
                    <a:pt x="682" y="1100"/>
                  </a:lnTo>
                  <a:lnTo>
                    <a:pt x="710" y="1074"/>
                  </a:lnTo>
                  <a:lnTo>
                    <a:pt x="738" y="1061"/>
                  </a:lnTo>
                  <a:lnTo>
                    <a:pt x="766" y="1047"/>
                  </a:lnTo>
                  <a:lnTo>
                    <a:pt x="795" y="1035"/>
                  </a:lnTo>
                  <a:lnTo>
                    <a:pt x="824" y="1021"/>
                  </a:lnTo>
                  <a:lnTo>
                    <a:pt x="852" y="1008"/>
                  </a:lnTo>
                  <a:lnTo>
                    <a:pt x="880" y="994"/>
                  </a:lnTo>
                  <a:lnTo>
                    <a:pt x="908" y="968"/>
                  </a:lnTo>
                  <a:lnTo>
                    <a:pt x="937" y="955"/>
                  </a:lnTo>
                  <a:lnTo>
                    <a:pt x="965" y="955"/>
                  </a:lnTo>
                  <a:lnTo>
                    <a:pt x="994" y="955"/>
                  </a:lnTo>
                  <a:lnTo>
                    <a:pt x="1032" y="955"/>
                  </a:lnTo>
                  <a:lnTo>
                    <a:pt x="1060" y="955"/>
                  </a:lnTo>
                  <a:lnTo>
                    <a:pt x="1088" y="955"/>
                  </a:lnTo>
                  <a:lnTo>
                    <a:pt x="1117" y="955"/>
                  </a:lnTo>
                  <a:lnTo>
                    <a:pt x="1145" y="955"/>
                  </a:lnTo>
                  <a:lnTo>
                    <a:pt x="1174" y="955"/>
                  </a:lnTo>
                  <a:lnTo>
                    <a:pt x="1202" y="955"/>
                  </a:lnTo>
                  <a:lnTo>
                    <a:pt x="1222" y="968"/>
                  </a:lnTo>
                  <a:lnTo>
                    <a:pt x="1249" y="968"/>
                  </a:lnTo>
                  <a:lnTo>
                    <a:pt x="1278" y="982"/>
                  </a:lnTo>
                  <a:lnTo>
                    <a:pt x="1306" y="982"/>
                  </a:lnTo>
                  <a:lnTo>
                    <a:pt x="1335" y="994"/>
                  </a:lnTo>
                  <a:lnTo>
                    <a:pt x="1363" y="1008"/>
                  </a:lnTo>
                  <a:lnTo>
                    <a:pt x="1392" y="1021"/>
                  </a:lnTo>
                  <a:lnTo>
                    <a:pt x="1420" y="1021"/>
                  </a:lnTo>
                  <a:lnTo>
                    <a:pt x="1448" y="1035"/>
                  </a:lnTo>
                  <a:lnTo>
                    <a:pt x="1486" y="1047"/>
                  </a:lnTo>
                  <a:lnTo>
                    <a:pt x="1515" y="1061"/>
                  </a:lnTo>
                  <a:lnTo>
                    <a:pt x="1543" y="1074"/>
                  </a:lnTo>
                  <a:lnTo>
                    <a:pt x="1572" y="1088"/>
                  </a:lnTo>
                  <a:lnTo>
                    <a:pt x="1599" y="1100"/>
                  </a:lnTo>
                  <a:lnTo>
                    <a:pt x="1619" y="1114"/>
                  </a:lnTo>
                  <a:lnTo>
                    <a:pt x="1647" y="1127"/>
                  </a:lnTo>
                  <a:lnTo>
                    <a:pt x="1676" y="1127"/>
                  </a:lnTo>
                  <a:lnTo>
                    <a:pt x="1704" y="1153"/>
                  </a:lnTo>
                  <a:lnTo>
                    <a:pt x="1733" y="1153"/>
                  </a:lnTo>
                  <a:lnTo>
                    <a:pt x="1761" y="1167"/>
                  </a:lnTo>
                  <a:lnTo>
                    <a:pt x="1789" y="1181"/>
                  </a:lnTo>
                  <a:lnTo>
                    <a:pt x="1818" y="1194"/>
                  </a:lnTo>
                  <a:lnTo>
                    <a:pt x="1846" y="1207"/>
                  </a:lnTo>
                  <a:lnTo>
                    <a:pt x="1875" y="1207"/>
                  </a:lnTo>
                  <a:lnTo>
                    <a:pt x="1903" y="1220"/>
                  </a:lnTo>
                  <a:lnTo>
                    <a:pt x="1932" y="1220"/>
                  </a:lnTo>
                  <a:lnTo>
                    <a:pt x="1969" y="1220"/>
                  </a:lnTo>
                  <a:lnTo>
                    <a:pt x="2007" y="1234"/>
                  </a:lnTo>
                  <a:lnTo>
                    <a:pt x="2036" y="1234"/>
                  </a:lnTo>
                  <a:lnTo>
                    <a:pt x="2064" y="1234"/>
                  </a:lnTo>
                  <a:lnTo>
                    <a:pt x="2093" y="1234"/>
                  </a:lnTo>
                  <a:lnTo>
                    <a:pt x="2121" y="1234"/>
                  </a:lnTo>
                  <a:lnTo>
                    <a:pt x="2149" y="1234"/>
                  </a:lnTo>
                  <a:lnTo>
                    <a:pt x="2177" y="1234"/>
                  </a:lnTo>
                  <a:lnTo>
                    <a:pt x="2206" y="1207"/>
                  </a:lnTo>
                  <a:lnTo>
                    <a:pt x="2225" y="1167"/>
                  </a:lnTo>
                  <a:lnTo>
                    <a:pt x="2254" y="1141"/>
                  </a:lnTo>
                  <a:lnTo>
                    <a:pt x="2263" y="1100"/>
                  </a:lnTo>
                  <a:lnTo>
                    <a:pt x="2273" y="1061"/>
                  </a:lnTo>
                  <a:lnTo>
                    <a:pt x="2282" y="1021"/>
                  </a:lnTo>
                  <a:lnTo>
                    <a:pt x="2282" y="982"/>
                  </a:lnTo>
                  <a:lnTo>
                    <a:pt x="2292" y="929"/>
                  </a:lnTo>
                  <a:lnTo>
                    <a:pt x="2292" y="901"/>
                  </a:lnTo>
                  <a:lnTo>
                    <a:pt x="2292" y="862"/>
                  </a:lnTo>
                  <a:lnTo>
                    <a:pt x="2292" y="822"/>
                  </a:lnTo>
                  <a:lnTo>
                    <a:pt x="2292" y="783"/>
                  </a:lnTo>
                  <a:lnTo>
                    <a:pt x="2292" y="742"/>
                  </a:lnTo>
                  <a:lnTo>
                    <a:pt x="2292" y="703"/>
                  </a:lnTo>
                  <a:lnTo>
                    <a:pt x="2292" y="675"/>
                  </a:lnTo>
                  <a:lnTo>
                    <a:pt x="2292" y="636"/>
                  </a:lnTo>
                  <a:lnTo>
                    <a:pt x="2292" y="596"/>
                  </a:lnTo>
                  <a:lnTo>
                    <a:pt x="2282" y="557"/>
                  </a:lnTo>
                  <a:lnTo>
                    <a:pt x="2254" y="530"/>
                  </a:lnTo>
                  <a:lnTo>
                    <a:pt x="2225" y="504"/>
                  </a:lnTo>
                  <a:lnTo>
                    <a:pt x="2196" y="477"/>
                  </a:lnTo>
                  <a:lnTo>
                    <a:pt x="2168" y="477"/>
                  </a:lnTo>
                  <a:lnTo>
                    <a:pt x="2139" y="464"/>
                  </a:lnTo>
                  <a:lnTo>
                    <a:pt x="2112" y="464"/>
                  </a:lnTo>
                  <a:lnTo>
                    <a:pt x="2083" y="464"/>
                  </a:lnTo>
                  <a:lnTo>
                    <a:pt x="2055" y="464"/>
                  </a:lnTo>
                  <a:lnTo>
                    <a:pt x="2026" y="477"/>
                  </a:lnTo>
                  <a:lnTo>
                    <a:pt x="1997" y="490"/>
                  </a:lnTo>
                  <a:lnTo>
                    <a:pt x="1969" y="490"/>
                  </a:lnTo>
                  <a:lnTo>
                    <a:pt x="1941" y="490"/>
                  </a:lnTo>
                  <a:lnTo>
                    <a:pt x="1913" y="504"/>
                  </a:lnTo>
                  <a:lnTo>
                    <a:pt x="1884" y="504"/>
                  </a:lnTo>
                  <a:lnTo>
                    <a:pt x="1856" y="504"/>
                  </a:lnTo>
                  <a:lnTo>
                    <a:pt x="1827" y="504"/>
                  </a:lnTo>
                  <a:lnTo>
                    <a:pt x="1798" y="504"/>
                  </a:lnTo>
                  <a:lnTo>
                    <a:pt x="1770" y="504"/>
                  </a:lnTo>
                  <a:lnTo>
                    <a:pt x="1742" y="504"/>
                  </a:lnTo>
                  <a:lnTo>
                    <a:pt x="1714" y="477"/>
                  </a:lnTo>
                  <a:lnTo>
                    <a:pt x="1685" y="451"/>
                  </a:lnTo>
                  <a:lnTo>
                    <a:pt x="1657" y="437"/>
                  </a:lnTo>
                  <a:lnTo>
                    <a:pt x="1628" y="423"/>
                  </a:lnTo>
                  <a:lnTo>
                    <a:pt x="1599" y="411"/>
                  </a:lnTo>
                  <a:lnTo>
                    <a:pt x="1572" y="384"/>
                  </a:lnTo>
                  <a:lnTo>
                    <a:pt x="1543" y="370"/>
                  </a:lnTo>
                  <a:lnTo>
                    <a:pt x="1515" y="344"/>
                  </a:lnTo>
                  <a:lnTo>
                    <a:pt x="1486" y="331"/>
                  </a:lnTo>
                  <a:lnTo>
                    <a:pt x="1458" y="317"/>
                  </a:lnTo>
                  <a:lnTo>
                    <a:pt x="1429" y="291"/>
                  </a:lnTo>
                  <a:lnTo>
                    <a:pt x="1401" y="278"/>
                  </a:lnTo>
                  <a:lnTo>
                    <a:pt x="1373" y="264"/>
                  </a:lnTo>
                  <a:lnTo>
                    <a:pt x="1344" y="252"/>
                  </a:lnTo>
                  <a:lnTo>
                    <a:pt x="1316" y="238"/>
                  </a:lnTo>
                  <a:lnTo>
                    <a:pt x="1287" y="211"/>
                  </a:lnTo>
                  <a:lnTo>
                    <a:pt x="1259" y="197"/>
                  </a:lnTo>
                  <a:lnTo>
                    <a:pt x="1231" y="171"/>
                  </a:lnTo>
                  <a:lnTo>
                    <a:pt x="1202" y="145"/>
                  </a:lnTo>
                  <a:lnTo>
                    <a:pt x="1174" y="118"/>
                  </a:lnTo>
                  <a:lnTo>
                    <a:pt x="1145" y="92"/>
                  </a:lnTo>
                  <a:lnTo>
                    <a:pt x="1126" y="52"/>
                  </a:lnTo>
                  <a:lnTo>
                    <a:pt x="1098" y="26"/>
                  </a:lnTo>
                  <a:lnTo>
                    <a:pt x="1069" y="0"/>
                  </a:lnTo>
                  <a:lnTo>
                    <a:pt x="1042" y="0"/>
                  </a:lnTo>
                  <a:lnTo>
                    <a:pt x="1023" y="39"/>
                  </a:lnTo>
                  <a:lnTo>
                    <a:pt x="1003" y="52"/>
                  </a:lnTo>
                  <a:lnTo>
                    <a:pt x="975" y="65"/>
                  </a:lnTo>
                  <a:lnTo>
                    <a:pt x="956" y="105"/>
                  </a:lnTo>
                  <a:lnTo>
                    <a:pt x="927" y="118"/>
                  </a:lnTo>
                  <a:lnTo>
                    <a:pt x="899" y="145"/>
                  </a:lnTo>
                  <a:lnTo>
                    <a:pt x="871" y="185"/>
                  </a:lnTo>
                  <a:lnTo>
                    <a:pt x="843" y="197"/>
                  </a:lnTo>
                  <a:lnTo>
                    <a:pt x="824" y="225"/>
                  </a:lnTo>
                  <a:lnTo>
                    <a:pt x="804" y="225"/>
                  </a:lnTo>
                  <a:lnTo>
                    <a:pt x="776" y="252"/>
                  </a:lnTo>
                  <a:lnTo>
                    <a:pt x="747" y="252"/>
                  </a:lnTo>
                  <a:lnTo>
                    <a:pt x="719" y="278"/>
                  </a:lnTo>
                  <a:lnTo>
                    <a:pt x="691" y="278"/>
                  </a:lnTo>
                  <a:lnTo>
                    <a:pt x="663" y="305"/>
                  </a:lnTo>
                  <a:lnTo>
                    <a:pt x="634" y="317"/>
                  </a:lnTo>
                  <a:lnTo>
                    <a:pt x="605" y="331"/>
                  </a:lnTo>
                  <a:lnTo>
                    <a:pt x="577" y="344"/>
                  </a:lnTo>
                  <a:lnTo>
                    <a:pt x="548" y="370"/>
                  </a:lnTo>
                  <a:lnTo>
                    <a:pt x="521" y="384"/>
                  </a:lnTo>
                  <a:lnTo>
                    <a:pt x="483" y="411"/>
                  </a:lnTo>
                  <a:lnTo>
                    <a:pt x="454" y="423"/>
                  </a:lnTo>
                  <a:lnTo>
                    <a:pt x="445" y="451"/>
                  </a:lnTo>
                  <a:lnTo>
                    <a:pt x="416" y="451"/>
                  </a:lnTo>
                  <a:lnTo>
                    <a:pt x="387" y="464"/>
                  </a:lnTo>
                  <a:lnTo>
                    <a:pt x="359" y="464"/>
                  </a:lnTo>
                  <a:lnTo>
                    <a:pt x="331" y="477"/>
                  </a:lnTo>
                  <a:lnTo>
                    <a:pt x="303" y="477"/>
                  </a:lnTo>
                  <a:lnTo>
                    <a:pt x="274" y="477"/>
                  </a:lnTo>
                  <a:lnTo>
                    <a:pt x="246" y="490"/>
                  </a:lnTo>
                  <a:lnTo>
                    <a:pt x="217" y="490"/>
                  </a:lnTo>
                  <a:lnTo>
                    <a:pt x="158" y="520"/>
                  </a:lnTo>
                  <a:lnTo>
                    <a:pt x="158" y="520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0"/>
            <p:cNvSpPr/>
            <p:nvPr/>
          </p:nvSpPr>
          <p:spPr>
            <a:xfrm>
              <a:off x="5486400" y="2133720"/>
              <a:ext cx="1220400" cy="101232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1012320"/>
                <a:gd name="textAreaBottom" fmla="*/ 1012680 h 1012320"/>
              </a:gdLst>
              <a:ahLst/>
              <a:rect l="textAreaLeft" t="textAreaTop" r="textAreaRight" b="textAreaBottom"/>
              <a:pathLst>
                <a:path w="769" h="638">
                  <a:moveTo>
                    <a:pt x="0" y="0"/>
                  </a:moveTo>
                  <a:lnTo>
                    <a:pt x="46" y="5"/>
                  </a:lnTo>
                  <a:lnTo>
                    <a:pt x="80" y="5"/>
                  </a:lnTo>
                  <a:lnTo>
                    <a:pt x="116" y="5"/>
                  </a:lnTo>
                  <a:lnTo>
                    <a:pt x="151" y="5"/>
                  </a:lnTo>
                  <a:lnTo>
                    <a:pt x="185" y="5"/>
                  </a:lnTo>
                  <a:lnTo>
                    <a:pt x="221" y="5"/>
                  </a:lnTo>
                  <a:lnTo>
                    <a:pt x="255" y="5"/>
                  </a:lnTo>
                  <a:lnTo>
                    <a:pt x="291" y="5"/>
                  </a:lnTo>
                  <a:lnTo>
                    <a:pt x="325" y="5"/>
                  </a:lnTo>
                  <a:lnTo>
                    <a:pt x="360" y="5"/>
                  </a:lnTo>
                  <a:lnTo>
                    <a:pt x="396" y="5"/>
                  </a:lnTo>
                  <a:lnTo>
                    <a:pt x="430" y="5"/>
                  </a:lnTo>
                  <a:lnTo>
                    <a:pt x="465" y="5"/>
                  </a:lnTo>
                  <a:lnTo>
                    <a:pt x="500" y="5"/>
                  </a:lnTo>
                  <a:lnTo>
                    <a:pt x="535" y="5"/>
                  </a:lnTo>
                  <a:lnTo>
                    <a:pt x="569" y="5"/>
                  </a:lnTo>
                  <a:lnTo>
                    <a:pt x="605" y="5"/>
                  </a:lnTo>
                  <a:lnTo>
                    <a:pt x="640" y="5"/>
                  </a:lnTo>
                  <a:lnTo>
                    <a:pt x="675" y="5"/>
                  </a:lnTo>
                  <a:lnTo>
                    <a:pt x="710" y="5"/>
                  </a:lnTo>
                  <a:lnTo>
                    <a:pt x="744" y="5"/>
                  </a:lnTo>
                  <a:lnTo>
                    <a:pt x="768" y="37"/>
                  </a:lnTo>
                  <a:lnTo>
                    <a:pt x="768" y="69"/>
                  </a:lnTo>
                  <a:lnTo>
                    <a:pt x="768" y="100"/>
                  </a:lnTo>
                  <a:lnTo>
                    <a:pt x="756" y="132"/>
                  </a:lnTo>
                  <a:lnTo>
                    <a:pt x="744" y="163"/>
                  </a:lnTo>
                  <a:lnTo>
                    <a:pt x="721" y="195"/>
                  </a:lnTo>
                  <a:lnTo>
                    <a:pt x="710" y="226"/>
                  </a:lnTo>
                  <a:lnTo>
                    <a:pt x="710" y="258"/>
                  </a:lnTo>
                  <a:lnTo>
                    <a:pt x="698" y="290"/>
                  </a:lnTo>
                  <a:lnTo>
                    <a:pt x="698" y="321"/>
                  </a:lnTo>
                  <a:lnTo>
                    <a:pt x="698" y="353"/>
                  </a:lnTo>
                  <a:lnTo>
                    <a:pt x="698" y="384"/>
                  </a:lnTo>
                  <a:lnTo>
                    <a:pt x="698" y="416"/>
                  </a:lnTo>
                  <a:lnTo>
                    <a:pt x="698" y="448"/>
                  </a:lnTo>
                  <a:lnTo>
                    <a:pt x="698" y="479"/>
                  </a:lnTo>
                  <a:lnTo>
                    <a:pt x="698" y="511"/>
                  </a:lnTo>
                  <a:lnTo>
                    <a:pt x="721" y="542"/>
                  </a:lnTo>
                  <a:lnTo>
                    <a:pt x="744" y="574"/>
                  </a:lnTo>
                  <a:lnTo>
                    <a:pt x="756" y="605"/>
                  </a:lnTo>
                  <a:lnTo>
                    <a:pt x="744" y="637"/>
                  </a:lnTo>
                  <a:lnTo>
                    <a:pt x="710" y="637"/>
                  </a:lnTo>
                  <a:lnTo>
                    <a:pt x="675" y="637"/>
                  </a:lnTo>
                  <a:lnTo>
                    <a:pt x="640" y="637"/>
                  </a:lnTo>
                  <a:lnTo>
                    <a:pt x="605" y="637"/>
                  </a:lnTo>
                  <a:lnTo>
                    <a:pt x="569" y="637"/>
                  </a:lnTo>
                  <a:lnTo>
                    <a:pt x="535" y="637"/>
                  </a:lnTo>
                  <a:lnTo>
                    <a:pt x="500" y="637"/>
                  </a:lnTo>
                  <a:lnTo>
                    <a:pt x="465" y="637"/>
                  </a:lnTo>
                  <a:lnTo>
                    <a:pt x="430" y="626"/>
                  </a:lnTo>
                  <a:lnTo>
                    <a:pt x="396" y="626"/>
                  </a:lnTo>
                  <a:lnTo>
                    <a:pt x="360" y="616"/>
                  </a:lnTo>
                  <a:lnTo>
                    <a:pt x="325" y="616"/>
                  </a:lnTo>
                  <a:lnTo>
                    <a:pt x="291" y="616"/>
                  </a:lnTo>
                  <a:lnTo>
                    <a:pt x="255" y="616"/>
                  </a:lnTo>
                  <a:lnTo>
                    <a:pt x="221" y="616"/>
                  </a:lnTo>
                  <a:lnTo>
                    <a:pt x="185" y="616"/>
                  </a:lnTo>
                  <a:lnTo>
                    <a:pt x="151" y="616"/>
                  </a:lnTo>
                  <a:lnTo>
                    <a:pt x="116" y="616"/>
                  </a:lnTo>
                  <a:lnTo>
                    <a:pt x="80" y="616"/>
                  </a:lnTo>
                  <a:lnTo>
                    <a:pt x="46" y="616"/>
                  </a:lnTo>
                  <a:lnTo>
                    <a:pt x="23" y="584"/>
                  </a:lnTo>
                  <a:lnTo>
                    <a:pt x="23" y="553"/>
                  </a:lnTo>
                  <a:lnTo>
                    <a:pt x="34" y="521"/>
                  </a:lnTo>
                  <a:lnTo>
                    <a:pt x="57" y="490"/>
                  </a:lnTo>
                  <a:lnTo>
                    <a:pt x="80" y="458"/>
                  </a:lnTo>
                  <a:lnTo>
                    <a:pt x="92" y="426"/>
                  </a:lnTo>
                  <a:lnTo>
                    <a:pt x="92" y="395"/>
                  </a:lnTo>
                  <a:lnTo>
                    <a:pt x="92" y="363"/>
                  </a:lnTo>
                  <a:lnTo>
                    <a:pt x="92" y="332"/>
                  </a:lnTo>
                  <a:lnTo>
                    <a:pt x="92" y="300"/>
                  </a:lnTo>
                  <a:lnTo>
                    <a:pt x="92" y="269"/>
                  </a:lnTo>
                  <a:lnTo>
                    <a:pt x="92" y="247"/>
                  </a:lnTo>
                  <a:lnTo>
                    <a:pt x="92" y="216"/>
                  </a:lnTo>
                  <a:lnTo>
                    <a:pt x="92" y="184"/>
                  </a:lnTo>
                  <a:lnTo>
                    <a:pt x="92" y="153"/>
                  </a:lnTo>
                  <a:lnTo>
                    <a:pt x="80" y="121"/>
                  </a:lnTo>
                  <a:lnTo>
                    <a:pt x="57" y="90"/>
                  </a:lnTo>
                  <a:lnTo>
                    <a:pt x="46" y="58"/>
                  </a:lnTo>
                  <a:lnTo>
                    <a:pt x="46" y="26"/>
                  </a:lnTo>
                  <a:lnTo>
                    <a:pt x="53" y="0"/>
                  </a:lnTo>
                </a:path>
              </a:pathLst>
            </a:custGeom>
            <a:pattFill prst="openDmnd">
              <a:fgClr>
                <a:srgbClr val="eeece1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11"/>
            <p:cNvSpPr/>
            <p:nvPr/>
          </p:nvSpPr>
          <p:spPr>
            <a:xfrm rot="3720000">
              <a:off x="4479840" y="1890360"/>
              <a:ext cx="1306080" cy="1239480"/>
            </a:xfrm>
            <a:prstGeom prst="ellipse">
              <a:avLst/>
            </a:prstGeom>
            <a:pattFill prst="ltDnDiag">
              <a:fgClr>
                <a:srgbClr val="4f81bd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Oval 12"/>
            <p:cNvSpPr/>
            <p:nvPr/>
          </p:nvSpPr>
          <p:spPr>
            <a:xfrm flipH="1" rot="21240000">
              <a:off x="4131720" y="2423880"/>
              <a:ext cx="207720" cy="748800"/>
            </a:xfrm>
            <a:prstGeom prst="ellipse">
              <a:avLst/>
            </a:prstGeom>
            <a:solidFill>
              <a:srgbClr val="ff00cc"/>
            </a:solidFill>
            <a:ln w="127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3"/>
            <p:cNvSpPr/>
            <p:nvPr/>
          </p:nvSpPr>
          <p:spPr>
            <a:xfrm>
              <a:off x="4203720" y="2994120"/>
              <a:ext cx="869760" cy="66960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548" h="422">
                  <a:moveTo>
                    <a:pt x="40" y="130"/>
                  </a:moveTo>
                  <a:lnTo>
                    <a:pt x="73" y="84"/>
                  </a:lnTo>
                  <a:lnTo>
                    <a:pt x="84" y="53"/>
                  </a:lnTo>
                  <a:lnTo>
                    <a:pt x="105" y="21"/>
                  </a:lnTo>
                  <a:lnTo>
                    <a:pt x="137" y="0"/>
                  </a:lnTo>
                  <a:lnTo>
                    <a:pt x="168" y="0"/>
                  </a:lnTo>
                  <a:lnTo>
                    <a:pt x="200" y="0"/>
                  </a:lnTo>
                  <a:lnTo>
                    <a:pt x="231" y="0"/>
                  </a:lnTo>
                  <a:lnTo>
                    <a:pt x="263" y="21"/>
                  </a:lnTo>
                  <a:lnTo>
                    <a:pt x="294" y="32"/>
                  </a:lnTo>
                  <a:lnTo>
                    <a:pt x="315" y="63"/>
                  </a:lnTo>
                  <a:lnTo>
                    <a:pt x="337" y="74"/>
                  </a:lnTo>
                  <a:lnTo>
                    <a:pt x="368" y="84"/>
                  </a:lnTo>
                  <a:lnTo>
                    <a:pt x="389" y="106"/>
                  </a:lnTo>
                  <a:lnTo>
                    <a:pt x="421" y="106"/>
                  </a:lnTo>
                  <a:lnTo>
                    <a:pt x="452" y="116"/>
                  </a:lnTo>
                  <a:lnTo>
                    <a:pt x="494" y="127"/>
                  </a:lnTo>
                  <a:lnTo>
                    <a:pt x="526" y="137"/>
                  </a:lnTo>
                  <a:lnTo>
                    <a:pt x="547" y="169"/>
                  </a:lnTo>
                  <a:lnTo>
                    <a:pt x="547" y="200"/>
                  </a:lnTo>
                  <a:lnTo>
                    <a:pt x="547" y="232"/>
                  </a:lnTo>
                  <a:lnTo>
                    <a:pt x="515" y="253"/>
                  </a:lnTo>
                  <a:lnTo>
                    <a:pt x="484" y="253"/>
                  </a:lnTo>
                  <a:lnTo>
                    <a:pt x="452" y="253"/>
                  </a:lnTo>
                  <a:lnTo>
                    <a:pt x="421" y="253"/>
                  </a:lnTo>
                  <a:lnTo>
                    <a:pt x="389" y="253"/>
                  </a:lnTo>
                  <a:lnTo>
                    <a:pt x="358" y="274"/>
                  </a:lnTo>
                  <a:lnTo>
                    <a:pt x="326" y="295"/>
                  </a:lnTo>
                  <a:lnTo>
                    <a:pt x="294" y="306"/>
                  </a:lnTo>
                  <a:lnTo>
                    <a:pt x="263" y="316"/>
                  </a:lnTo>
                  <a:lnTo>
                    <a:pt x="231" y="327"/>
                  </a:lnTo>
                  <a:lnTo>
                    <a:pt x="200" y="337"/>
                  </a:lnTo>
                  <a:lnTo>
                    <a:pt x="179" y="369"/>
                  </a:lnTo>
                  <a:lnTo>
                    <a:pt x="147" y="379"/>
                  </a:lnTo>
                  <a:lnTo>
                    <a:pt x="126" y="411"/>
                  </a:lnTo>
                  <a:lnTo>
                    <a:pt x="94" y="421"/>
                  </a:lnTo>
                  <a:lnTo>
                    <a:pt x="63" y="421"/>
                  </a:lnTo>
                  <a:lnTo>
                    <a:pt x="31" y="421"/>
                  </a:lnTo>
                  <a:lnTo>
                    <a:pt x="10" y="390"/>
                  </a:lnTo>
                  <a:lnTo>
                    <a:pt x="0" y="358"/>
                  </a:lnTo>
                  <a:lnTo>
                    <a:pt x="0" y="327"/>
                  </a:lnTo>
                  <a:lnTo>
                    <a:pt x="0" y="295"/>
                  </a:lnTo>
                  <a:lnTo>
                    <a:pt x="0" y="263"/>
                  </a:lnTo>
                  <a:lnTo>
                    <a:pt x="0" y="232"/>
                  </a:lnTo>
                  <a:lnTo>
                    <a:pt x="0" y="200"/>
                  </a:lnTo>
                  <a:lnTo>
                    <a:pt x="40" y="130"/>
                  </a:lnTo>
                  <a:lnTo>
                    <a:pt x="52" y="84"/>
                  </a:lnTo>
                  <a:lnTo>
                    <a:pt x="40" y="82"/>
                  </a:lnTo>
                </a:path>
              </a:pathLst>
            </a:custGeom>
            <a:pattFill prst="wdUpDiag">
              <a:fgClr>
                <a:srgbClr val="ff5050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4"/>
            <p:cNvSpPr/>
            <p:nvPr/>
          </p:nvSpPr>
          <p:spPr>
            <a:xfrm>
              <a:off x="4721400" y="2343240"/>
              <a:ext cx="1404720" cy="1537920"/>
            </a:xfrm>
            <a:custGeom>
              <a:avLst/>
              <a:gdLst>
                <a:gd name="textAreaLeft" fmla="*/ 0 w 1404720"/>
                <a:gd name="textAreaRight" fmla="*/ 1405080 w 1404720"/>
                <a:gd name="textAreaTop" fmla="*/ 0 h 1537920"/>
                <a:gd name="textAreaBottom" fmla="*/ 1538280 h 1537920"/>
              </a:gdLst>
              <a:ahLst/>
              <a:rect l="textAreaLeft" t="textAreaTop" r="textAreaRight" b="textAreaBottom"/>
              <a:pathLst>
                <a:path w="885" h="969">
                  <a:moveTo>
                    <a:pt x="626" y="396"/>
                  </a:moveTo>
                  <a:lnTo>
                    <a:pt x="579" y="410"/>
                  </a:lnTo>
                  <a:lnTo>
                    <a:pt x="547" y="410"/>
                  </a:lnTo>
                  <a:lnTo>
                    <a:pt x="516" y="410"/>
                  </a:lnTo>
                  <a:lnTo>
                    <a:pt x="484" y="431"/>
                  </a:lnTo>
                  <a:lnTo>
                    <a:pt x="453" y="442"/>
                  </a:lnTo>
                  <a:lnTo>
                    <a:pt x="431" y="431"/>
                  </a:lnTo>
                  <a:lnTo>
                    <a:pt x="431" y="400"/>
                  </a:lnTo>
                  <a:lnTo>
                    <a:pt x="410" y="368"/>
                  </a:lnTo>
                  <a:lnTo>
                    <a:pt x="410" y="337"/>
                  </a:lnTo>
                  <a:lnTo>
                    <a:pt x="400" y="305"/>
                  </a:lnTo>
                  <a:lnTo>
                    <a:pt x="400" y="273"/>
                  </a:lnTo>
                  <a:lnTo>
                    <a:pt x="389" y="242"/>
                  </a:lnTo>
                  <a:lnTo>
                    <a:pt x="368" y="210"/>
                  </a:lnTo>
                  <a:lnTo>
                    <a:pt x="368" y="179"/>
                  </a:lnTo>
                  <a:lnTo>
                    <a:pt x="358" y="147"/>
                  </a:lnTo>
                  <a:lnTo>
                    <a:pt x="337" y="115"/>
                  </a:lnTo>
                  <a:lnTo>
                    <a:pt x="326" y="84"/>
                  </a:lnTo>
                  <a:lnTo>
                    <a:pt x="305" y="52"/>
                  </a:lnTo>
                  <a:lnTo>
                    <a:pt x="274" y="31"/>
                  </a:lnTo>
                  <a:lnTo>
                    <a:pt x="242" y="21"/>
                  </a:lnTo>
                  <a:lnTo>
                    <a:pt x="210" y="0"/>
                  </a:lnTo>
                  <a:lnTo>
                    <a:pt x="179" y="0"/>
                  </a:lnTo>
                  <a:lnTo>
                    <a:pt x="147" y="0"/>
                  </a:lnTo>
                  <a:lnTo>
                    <a:pt x="116" y="0"/>
                  </a:lnTo>
                  <a:lnTo>
                    <a:pt x="95" y="31"/>
                  </a:lnTo>
                  <a:lnTo>
                    <a:pt x="74" y="63"/>
                  </a:lnTo>
                  <a:lnTo>
                    <a:pt x="63" y="94"/>
                  </a:lnTo>
                  <a:lnTo>
                    <a:pt x="42" y="126"/>
                  </a:lnTo>
                  <a:lnTo>
                    <a:pt x="32" y="168"/>
                  </a:lnTo>
                  <a:lnTo>
                    <a:pt x="32" y="200"/>
                  </a:lnTo>
                  <a:lnTo>
                    <a:pt x="32" y="231"/>
                  </a:lnTo>
                  <a:lnTo>
                    <a:pt x="32" y="263"/>
                  </a:lnTo>
                  <a:lnTo>
                    <a:pt x="53" y="294"/>
                  </a:lnTo>
                  <a:lnTo>
                    <a:pt x="63" y="316"/>
                  </a:lnTo>
                  <a:lnTo>
                    <a:pt x="84" y="347"/>
                  </a:lnTo>
                  <a:lnTo>
                    <a:pt x="105" y="379"/>
                  </a:lnTo>
                  <a:lnTo>
                    <a:pt x="137" y="410"/>
                  </a:lnTo>
                  <a:lnTo>
                    <a:pt x="158" y="442"/>
                  </a:lnTo>
                  <a:lnTo>
                    <a:pt x="189" y="463"/>
                  </a:lnTo>
                  <a:lnTo>
                    <a:pt x="221" y="473"/>
                  </a:lnTo>
                  <a:lnTo>
                    <a:pt x="221" y="505"/>
                  </a:lnTo>
                  <a:lnTo>
                    <a:pt x="221" y="537"/>
                  </a:lnTo>
                  <a:lnTo>
                    <a:pt x="221" y="568"/>
                  </a:lnTo>
                  <a:lnTo>
                    <a:pt x="221" y="600"/>
                  </a:lnTo>
                  <a:lnTo>
                    <a:pt x="221" y="631"/>
                  </a:lnTo>
                  <a:lnTo>
                    <a:pt x="189" y="642"/>
                  </a:lnTo>
                  <a:lnTo>
                    <a:pt x="158" y="642"/>
                  </a:lnTo>
                  <a:lnTo>
                    <a:pt x="126" y="652"/>
                  </a:lnTo>
                  <a:lnTo>
                    <a:pt x="95" y="652"/>
                  </a:lnTo>
                  <a:lnTo>
                    <a:pt x="63" y="663"/>
                  </a:lnTo>
                  <a:lnTo>
                    <a:pt x="32" y="684"/>
                  </a:lnTo>
                  <a:lnTo>
                    <a:pt x="0" y="695"/>
                  </a:lnTo>
                  <a:lnTo>
                    <a:pt x="32" y="716"/>
                  </a:lnTo>
                  <a:lnTo>
                    <a:pt x="63" y="716"/>
                  </a:lnTo>
                  <a:lnTo>
                    <a:pt x="95" y="726"/>
                  </a:lnTo>
                  <a:lnTo>
                    <a:pt x="126" y="726"/>
                  </a:lnTo>
                  <a:lnTo>
                    <a:pt x="158" y="726"/>
                  </a:lnTo>
                  <a:lnTo>
                    <a:pt x="189" y="737"/>
                  </a:lnTo>
                  <a:lnTo>
                    <a:pt x="221" y="737"/>
                  </a:lnTo>
                  <a:lnTo>
                    <a:pt x="253" y="747"/>
                  </a:lnTo>
                  <a:lnTo>
                    <a:pt x="284" y="758"/>
                  </a:lnTo>
                  <a:lnTo>
                    <a:pt x="316" y="768"/>
                  </a:lnTo>
                  <a:lnTo>
                    <a:pt x="347" y="779"/>
                  </a:lnTo>
                  <a:lnTo>
                    <a:pt x="389" y="779"/>
                  </a:lnTo>
                  <a:lnTo>
                    <a:pt x="421" y="789"/>
                  </a:lnTo>
                  <a:lnTo>
                    <a:pt x="453" y="800"/>
                  </a:lnTo>
                  <a:lnTo>
                    <a:pt x="484" y="821"/>
                  </a:lnTo>
                  <a:lnTo>
                    <a:pt x="516" y="821"/>
                  </a:lnTo>
                  <a:lnTo>
                    <a:pt x="547" y="842"/>
                  </a:lnTo>
                  <a:lnTo>
                    <a:pt x="589" y="852"/>
                  </a:lnTo>
                  <a:lnTo>
                    <a:pt x="621" y="863"/>
                  </a:lnTo>
                  <a:lnTo>
                    <a:pt x="652" y="874"/>
                  </a:lnTo>
                  <a:lnTo>
                    <a:pt x="674" y="884"/>
                  </a:lnTo>
                  <a:lnTo>
                    <a:pt x="705" y="895"/>
                  </a:lnTo>
                  <a:lnTo>
                    <a:pt x="737" y="905"/>
                  </a:lnTo>
                  <a:lnTo>
                    <a:pt x="768" y="916"/>
                  </a:lnTo>
                  <a:lnTo>
                    <a:pt x="800" y="926"/>
                  </a:lnTo>
                  <a:lnTo>
                    <a:pt x="831" y="947"/>
                  </a:lnTo>
                  <a:lnTo>
                    <a:pt x="863" y="968"/>
                  </a:lnTo>
                  <a:lnTo>
                    <a:pt x="873" y="937"/>
                  </a:lnTo>
                  <a:lnTo>
                    <a:pt x="873" y="905"/>
                  </a:lnTo>
                  <a:lnTo>
                    <a:pt x="873" y="874"/>
                  </a:lnTo>
                  <a:lnTo>
                    <a:pt x="873" y="852"/>
                  </a:lnTo>
                  <a:lnTo>
                    <a:pt x="873" y="821"/>
                  </a:lnTo>
                  <a:lnTo>
                    <a:pt x="873" y="779"/>
                  </a:lnTo>
                  <a:lnTo>
                    <a:pt x="873" y="747"/>
                  </a:lnTo>
                  <a:lnTo>
                    <a:pt x="884" y="716"/>
                  </a:lnTo>
                  <a:lnTo>
                    <a:pt x="884" y="684"/>
                  </a:lnTo>
                  <a:lnTo>
                    <a:pt x="884" y="652"/>
                  </a:lnTo>
                  <a:lnTo>
                    <a:pt x="884" y="621"/>
                  </a:lnTo>
                  <a:lnTo>
                    <a:pt x="884" y="589"/>
                  </a:lnTo>
                  <a:lnTo>
                    <a:pt x="884" y="558"/>
                  </a:lnTo>
                  <a:lnTo>
                    <a:pt x="884" y="526"/>
                  </a:lnTo>
                  <a:lnTo>
                    <a:pt x="884" y="494"/>
                  </a:lnTo>
                  <a:lnTo>
                    <a:pt x="884" y="463"/>
                  </a:lnTo>
                  <a:lnTo>
                    <a:pt x="884" y="431"/>
                  </a:lnTo>
                  <a:lnTo>
                    <a:pt x="852" y="410"/>
                  </a:lnTo>
                  <a:lnTo>
                    <a:pt x="821" y="410"/>
                  </a:lnTo>
                  <a:lnTo>
                    <a:pt x="789" y="410"/>
                  </a:lnTo>
                  <a:lnTo>
                    <a:pt x="758" y="410"/>
                  </a:lnTo>
                  <a:lnTo>
                    <a:pt x="726" y="410"/>
                  </a:lnTo>
                  <a:lnTo>
                    <a:pt x="695" y="410"/>
                  </a:lnTo>
                  <a:lnTo>
                    <a:pt x="626" y="396"/>
                  </a:lnTo>
                  <a:lnTo>
                    <a:pt x="626" y="396"/>
                  </a:lnTo>
                </a:path>
              </a:pathLst>
            </a:custGeom>
            <a:solidFill>
              <a:srgbClr val="4d4d4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Oval 15"/>
            <p:cNvSpPr/>
            <p:nvPr/>
          </p:nvSpPr>
          <p:spPr>
            <a:xfrm flipH="1" rot="17880000">
              <a:off x="6492960" y="1998360"/>
              <a:ext cx="1306080" cy="1196640"/>
            </a:xfrm>
            <a:prstGeom prst="ellipse">
              <a:avLst/>
            </a:prstGeom>
            <a:pattFill prst="ltUpDiag">
              <a:fgClr>
                <a:srgbClr val="4f81bd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6"/>
            <p:cNvSpPr/>
            <p:nvPr/>
          </p:nvSpPr>
          <p:spPr>
            <a:xfrm>
              <a:off x="6024600" y="2359080"/>
              <a:ext cx="1522080" cy="1522080"/>
            </a:xfrm>
            <a:custGeom>
              <a:avLst/>
              <a:gdLst>
                <a:gd name="textAreaLeft" fmla="*/ 0 w 1522080"/>
                <a:gd name="textAreaRight" fmla="*/ 1522440 w 1522080"/>
                <a:gd name="textAreaTop" fmla="*/ 0 h 1522080"/>
                <a:gd name="textAreaBottom" fmla="*/ 1522440 h 1522080"/>
              </a:gdLst>
              <a:ahLst/>
              <a:rect l="textAreaLeft" t="textAreaTop" r="textAreaRight" b="textAreaBottom"/>
              <a:pathLst>
                <a:path w="959" h="959">
                  <a:moveTo>
                    <a:pt x="45" y="434"/>
                  </a:moveTo>
                  <a:lnTo>
                    <a:pt x="95" y="411"/>
                  </a:lnTo>
                  <a:lnTo>
                    <a:pt x="126" y="411"/>
                  </a:lnTo>
                  <a:lnTo>
                    <a:pt x="158" y="411"/>
                  </a:lnTo>
                  <a:lnTo>
                    <a:pt x="189" y="411"/>
                  </a:lnTo>
                  <a:lnTo>
                    <a:pt x="231" y="400"/>
                  </a:lnTo>
                  <a:lnTo>
                    <a:pt x="263" y="400"/>
                  </a:lnTo>
                  <a:lnTo>
                    <a:pt x="295" y="400"/>
                  </a:lnTo>
                  <a:lnTo>
                    <a:pt x="326" y="400"/>
                  </a:lnTo>
                  <a:lnTo>
                    <a:pt x="358" y="400"/>
                  </a:lnTo>
                  <a:lnTo>
                    <a:pt x="442" y="411"/>
                  </a:lnTo>
                  <a:lnTo>
                    <a:pt x="473" y="411"/>
                  </a:lnTo>
                  <a:lnTo>
                    <a:pt x="505" y="411"/>
                  </a:lnTo>
                  <a:lnTo>
                    <a:pt x="526" y="379"/>
                  </a:lnTo>
                  <a:lnTo>
                    <a:pt x="537" y="348"/>
                  </a:lnTo>
                  <a:lnTo>
                    <a:pt x="558" y="316"/>
                  </a:lnTo>
                  <a:lnTo>
                    <a:pt x="558" y="284"/>
                  </a:lnTo>
                  <a:lnTo>
                    <a:pt x="558" y="253"/>
                  </a:lnTo>
                  <a:lnTo>
                    <a:pt x="558" y="221"/>
                  </a:lnTo>
                  <a:lnTo>
                    <a:pt x="568" y="190"/>
                  </a:lnTo>
                  <a:lnTo>
                    <a:pt x="589" y="158"/>
                  </a:lnTo>
                  <a:lnTo>
                    <a:pt x="610" y="116"/>
                  </a:lnTo>
                  <a:lnTo>
                    <a:pt x="642" y="84"/>
                  </a:lnTo>
                  <a:lnTo>
                    <a:pt x="663" y="53"/>
                  </a:lnTo>
                  <a:lnTo>
                    <a:pt x="694" y="32"/>
                  </a:lnTo>
                  <a:lnTo>
                    <a:pt x="726" y="21"/>
                  </a:lnTo>
                  <a:lnTo>
                    <a:pt x="758" y="11"/>
                  </a:lnTo>
                  <a:lnTo>
                    <a:pt x="789" y="0"/>
                  </a:lnTo>
                  <a:lnTo>
                    <a:pt x="821" y="0"/>
                  </a:lnTo>
                  <a:lnTo>
                    <a:pt x="852" y="0"/>
                  </a:lnTo>
                  <a:lnTo>
                    <a:pt x="884" y="0"/>
                  </a:lnTo>
                  <a:lnTo>
                    <a:pt x="915" y="21"/>
                  </a:lnTo>
                  <a:lnTo>
                    <a:pt x="936" y="53"/>
                  </a:lnTo>
                  <a:lnTo>
                    <a:pt x="947" y="84"/>
                  </a:lnTo>
                  <a:lnTo>
                    <a:pt x="958" y="116"/>
                  </a:lnTo>
                  <a:lnTo>
                    <a:pt x="958" y="148"/>
                  </a:lnTo>
                  <a:lnTo>
                    <a:pt x="958" y="179"/>
                  </a:lnTo>
                  <a:lnTo>
                    <a:pt x="936" y="200"/>
                  </a:lnTo>
                  <a:lnTo>
                    <a:pt x="915" y="232"/>
                  </a:lnTo>
                  <a:lnTo>
                    <a:pt x="894" y="263"/>
                  </a:lnTo>
                  <a:lnTo>
                    <a:pt x="863" y="295"/>
                  </a:lnTo>
                  <a:lnTo>
                    <a:pt x="842" y="327"/>
                  </a:lnTo>
                  <a:lnTo>
                    <a:pt x="821" y="358"/>
                  </a:lnTo>
                  <a:lnTo>
                    <a:pt x="800" y="390"/>
                  </a:lnTo>
                  <a:lnTo>
                    <a:pt x="779" y="421"/>
                  </a:lnTo>
                  <a:lnTo>
                    <a:pt x="747" y="442"/>
                  </a:lnTo>
                  <a:lnTo>
                    <a:pt x="726" y="474"/>
                  </a:lnTo>
                  <a:lnTo>
                    <a:pt x="694" y="506"/>
                  </a:lnTo>
                  <a:lnTo>
                    <a:pt x="673" y="537"/>
                  </a:lnTo>
                  <a:lnTo>
                    <a:pt x="652" y="569"/>
                  </a:lnTo>
                  <a:lnTo>
                    <a:pt x="652" y="600"/>
                  </a:lnTo>
                  <a:lnTo>
                    <a:pt x="642" y="632"/>
                  </a:lnTo>
                  <a:lnTo>
                    <a:pt x="631" y="663"/>
                  </a:lnTo>
                  <a:lnTo>
                    <a:pt x="663" y="685"/>
                  </a:lnTo>
                  <a:lnTo>
                    <a:pt x="694" y="685"/>
                  </a:lnTo>
                  <a:lnTo>
                    <a:pt x="726" y="685"/>
                  </a:lnTo>
                  <a:lnTo>
                    <a:pt x="758" y="685"/>
                  </a:lnTo>
                  <a:lnTo>
                    <a:pt x="747" y="716"/>
                  </a:lnTo>
                  <a:lnTo>
                    <a:pt x="715" y="727"/>
                  </a:lnTo>
                  <a:lnTo>
                    <a:pt x="684" y="727"/>
                  </a:lnTo>
                  <a:lnTo>
                    <a:pt x="652" y="748"/>
                  </a:lnTo>
                  <a:lnTo>
                    <a:pt x="621" y="748"/>
                  </a:lnTo>
                  <a:lnTo>
                    <a:pt x="589" y="769"/>
                  </a:lnTo>
                  <a:lnTo>
                    <a:pt x="558" y="790"/>
                  </a:lnTo>
                  <a:lnTo>
                    <a:pt x="526" y="800"/>
                  </a:lnTo>
                  <a:lnTo>
                    <a:pt x="494" y="800"/>
                  </a:lnTo>
                  <a:lnTo>
                    <a:pt x="463" y="811"/>
                  </a:lnTo>
                  <a:lnTo>
                    <a:pt x="431" y="811"/>
                  </a:lnTo>
                  <a:lnTo>
                    <a:pt x="400" y="832"/>
                  </a:lnTo>
                  <a:lnTo>
                    <a:pt x="368" y="832"/>
                  </a:lnTo>
                  <a:lnTo>
                    <a:pt x="337" y="853"/>
                  </a:lnTo>
                  <a:lnTo>
                    <a:pt x="305" y="864"/>
                  </a:lnTo>
                  <a:lnTo>
                    <a:pt x="273" y="874"/>
                  </a:lnTo>
                  <a:lnTo>
                    <a:pt x="242" y="885"/>
                  </a:lnTo>
                  <a:lnTo>
                    <a:pt x="210" y="895"/>
                  </a:lnTo>
                  <a:lnTo>
                    <a:pt x="179" y="906"/>
                  </a:lnTo>
                  <a:lnTo>
                    <a:pt x="147" y="916"/>
                  </a:lnTo>
                  <a:lnTo>
                    <a:pt x="116" y="927"/>
                  </a:lnTo>
                  <a:lnTo>
                    <a:pt x="84" y="937"/>
                  </a:lnTo>
                  <a:lnTo>
                    <a:pt x="52" y="958"/>
                  </a:lnTo>
                  <a:lnTo>
                    <a:pt x="21" y="948"/>
                  </a:lnTo>
                  <a:lnTo>
                    <a:pt x="10" y="916"/>
                  </a:lnTo>
                  <a:lnTo>
                    <a:pt x="0" y="885"/>
                  </a:lnTo>
                  <a:lnTo>
                    <a:pt x="0" y="853"/>
                  </a:lnTo>
                  <a:lnTo>
                    <a:pt x="0" y="821"/>
                  </a:lnTo>
                  <a:lnTo>
                    <a:pt x="0" y="790"/>
                  </a:lnTo>
                  <a:lnTo>
                    <a:pt x="0" y="748"/>
                  </a:lnTo>
                  <a:lnTo>
                    <a:pt x="0" y="716"/>
                  </a:lnTo>
                  <a:lnTo>
                    <a:pt x="0" y="685"/>
                  </a:lnTo>
                  <a:lnTo>
                    <a:pt x="0" y="663"/>
                  </a:lnTo>
                  <a:lnTo>
                    <a:pt x="0" y="632"/>
                  </a:lnTo>
                  <a:lnTo>
                    <a:pt x="0" y="600"/>
                  </a:lnTo>
                  <a:lnTo>
                    <a:pt x="0" y="569"/>
                  </a:lnTo>
                  <a:lnTo>
                    <a:pt x="0" y="537"/>
                  </a:lnTo>
                  <a:lnTo>
                    <a:pt x="0" y="506"/>
                  </a:lnTo>
                  <a:lnTo>
                    <a:pt x="0" y="484"/>
                  </a:lnTo>
                  <a:lnTo>
                    <a:pt x="45" y="434"/>
                  </a:lnTo>
                  <a:lnTo>
                    <a:pt x="45" y="434"/>
                  </a:lnTo>
                </a:path>
              </a:pathLst>
            </a:custGeom>
            <a:solidFill>
              <a:srgbClr val="4d4d4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7"/>
            <p:cNvSpPr/>
            <p:nvPr/>
          </p:nvSpPr>
          <p:spPr>
            <a:xfrm>
              <a:off x="4237200" y="3479760"/>
              <a:ext cx="3742920" cy="1337760"/>
            </a:xfrm>
            <a:custGeom>
              <a:avLst/>
              <a:gdLst>
                <a:gd name="textAreaLeft" fmla="*/ 0 w 3742920"/>
                <a:gd name="textAreaRight" fmla="*/ 3743280 w 374292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2358" h="843">
                  <a:moveTo>
                    <a:pt x="115" y="112"/>
                  </a:moveTo>
                  <a:lnTo>
                    <a:pt x="73" y="115"/>
                  </a:lnTo>
                  <a:lnTo>
                    <a:pt x="63" y="147"/>
                  </a:lnTo>
                  <a:lnTo>
                    <a:pt x="42" y="179"/>
                  </a:lnTo>
                  <a:lnTo>
                    <a:pt x="31" y="210"/>
                  </a:lnTo>
                  <a:lnTo>
                    <a:pt x="21" y="242"/>
                  </a:lnTo>
                  <a:lnTo>
                    <a:pt x="0" y="273"/>
                  </a:lnTo>
                  <a:lnTo>
                    <a:pt x="0" y="305"/>
                  </a:lnTo>
                  <a:lnTo>
                    <a:pt x="0" y="336"/>
                  </a:lnTo>
                  <a:lnTo>
                    <a:pt x="0" y="358"/>
                  </a:lnTo>
                  <a:lnTo>
                    <a:pt x="0" y="400"/>
                  </a:lnTo>
                  <a:lnTo>
                    <a:pt x="0" y="431"/>
                  </a:lnTo>
                  <a:lnTo>
                    <a:pt x="0" y="463"/>
                  </a:lnTo>
                  <a:lnTo>
                    <a:pt x="0" y="494"/>
                  </a:lnTo>
                  <a:lnTo>
                    <a:pt x="0" y="526"/>
                  </a:lnTo>
                  <a:lnTo>
                    <a:pt x="0" y="558"/>
                  </a:lnTo>
                  <a:lnTo>
                    <a:pt x="0" y="589"/>
                  </a:lnTo>
                  <a:lnTo>
                    <a:pt x="0" y="621"/>
                  </a:lnTo>
                  <a:lnTo>
                    <a:pt x="0" y="652"/>
                  </a:lnTo>
                  <a:lnTo>
                    <a:pt x="0" y="684"/>
                  </a:lnTo>
                  <a:lnTo>
                    <a:pt x="10" y="715"/>
                  </a:lnTo>
                  <a:lnTo>
                    <a:pt x="21" y="737"/>
                  </a:lnTo>
                  <a:lnTo>
                    <a:pt x="31" y="768"/>
                  </a:lnTo>
                  <a:lnTo>
                    <a:pt x="31" y="800"/>
                  </a:lnTo>
                  <a:lnTo>
                    <a:pt x="52" y="831"/>
                  </a:lnTo>
                  <a:lnTo>
                    <a:pt x="84" y="842"/>
                  </a:lnTo>
                  <a:lnTo>
                    <a:pt x="116" y="842"/>
                  </a:lnTo>
                  <a:lnTo>
                    <a:pt x="147" y="842"/>
                  </a:lnTo>
                  <a:lnTo>
                    <a:pt x="179" y="842"/>
                  </a:lnTo>
                  <a:lnTo>
                    <a:pt x="210" y="842"/>
                  </a:lnTo>
                  <a:lnTo>
                    <a:pt x="242" y="831"/>
                  </a:lnTo>
                  <a:lnTo>
                    <a:pt x="273" y="821"/>
                  </a:lnTo>
                  <a:lnTo>
                    <a:pt x="305" y="800"/>
                  </a:lnTo>
                  <a:lnTo>
                    <a:pt x="337" y="789"/>
                  </a:lnTo>
                  <a:lnTo>
                    <a:pt x="368" y="779"/>
                  </a:lnTo>
                  <a:lnTo>
                    <a:pt x="400" y="768"/>
                  </a:lnTo>
                  <a:lnTo>
                    <a:pt x="431" y="758"/>
                  </a:lnTo>
                  <a:lnTo>
                    <a:pt x="473" y="758"/>
                  </a:lnTo>
                  <a:lnTo>
                    <a:pt x="505" y="747"/>
                  </a:lnTo>
                  <a:lnTo>
                    <a:pt x="537" y="737"/>
                  </a:lnTo>
                  <a:lnTo>
                    <a:pt x="568" y="726"/>
                  </a:lnTo>
                  <a:lnTo>
                    <a:pt x="600" y="726"/>
                  </a:lnTo>
                  <a:lnTo>
                    <a:pt x="631" y="715"/>
                  </a:lnTo>
                  <a:lnTo>
                    <a:pt x="663" y="705"/>
                  </a:lnTo>
                  <a:lnTo>
                    <a:pt x="694" y="684"/>
                  </a:lnTo>
                  <a:lnTo>
                    <a:pt x="726" y="673"/>
                  </a:lnTo>
                  <a:lnTo>
                    <a:pt x="758" y="663"/>
                  </a:lnTo>
                  <a:lnTo>
                    <a:pt x="789" y="642"/>
                  </a:lnTo>
                  <a:lnTo>
                    <a:pt x="831" y="631"/>
                  </a:lnTo>
                  <a:lnTo>
                    <a:pt x="863" y="621"/>
                  </a:lnTo>
                  <a:lnTo>
                    <a:pt x="894" y="600"/>
                  </a:lnTo>
                  <a:lnTo>
                    <a:pt x="926" y="600"/>
                  </a:lnTo>
                  <a:lnTo>
                    <a:pt x="957" y="589"/>
                  </a:lnTo>
                  <a:lnTo>
                    <a:pt x="979" y="579"/>
                  </a:lnTo>
                  <a:lnTo>
                    <a:pt x="1010" y="568"/>
                  </a:lnTo>
                  <a:lnTo>
                    <a:pt x="1042" y="558"/>
                  </a:lnTo>
                  <a:lnTo>
                    <a:pt x="1084" y="558"/>
                  </a:lnTo>
                  <a:lnTo>
                    <a:pt x="1115" y="547"/>
                  </a:lnTo>
                  <a:lnTo>
                    <a:pt x="1147" y="537"/>
                  </a:lnTo>
                  <a:lnTo>
                    <a:pt x="1168" y="515"/>
                  </a:lnTo>
                  <a:lnTo>
                    <a:pt x="1200" y="505"/>
                  </a:lnTo>
                  <a:lnTo>
                    <a:pt x="1231" y="526"/>
                  </a:lnTo>
                  <a:lnTo>
                    <a:pt x="1273" y="547"/>
                  </a:lnTo>
                  <a:lnTo>
                    <a:pt x="1315" y="579"/>
                  </a:lnTo>
                  <a:lnTo>
                    <a:pt x="1347" y="589"/>
                  </a:lnTo>
                  <a:lnTo>
                    <a:pt x="1378" y="589"/>
                  </a:lnTo>
                  <a:lnTo>
                    <a:pt x="1410" y="610"/>
                  </a:lnTo>
                  <a:lnTo>
                    <a:pt x="1442" y="621"/>
                  </a:lnTo>
                  <a:lnTo>
                    <a:pt x="1473" y="631"/>
                  </a:lnTo>
                  <a:lnTo>
                    <a:pt x="1505" y="642"/>
                  </a:lnTo>
                  <a:lnTo>
                    <a:pt x="1536" y="652"/>
                  </a:lnTo>
                  <a:lnTo>
                    <a:pt x="1578" y="673"/>
                  </a:lnTo>
                  <a:lnTo>
                    <a:pt x="1620" y="684"/>
                  </a:lnTo>
                  <a:lnTo>
                    <a:pt x="1642" y="694"/>
                  </a:lnTo>
                  <a:lnTo>
                    <a:pt x="1673" y="705"/>
                  </a:lnTo>
                  <a:lnTo>
                    <a:pt x="1705" y="715"/>
                  </a:lnTo>
                  <a:lnTo>
                    <a:pt x="1736" y="726"/>
                  </a:lnTo>
                  <a:lnTo>
                    <a:pt x="1768" y="737"/>
                  </a:lnTo>
                  <a:lnTo>
                    <a:pt x="1810" y="747"/>
                  </a:lnTo>
                  <a:lnTo>
                    <a:pt x="1841" y="758"/>
                  </a:lnTo>
                  <a:lnTo>
                    <a:pt x="1863" y="758"/>
                  </a:lnTo>
                  <a:lnTo>
                    <a:pt x="1947" y="768"/>
                  </a:lnTo>
                  <a:lnTo>
                    <a:pt x="1989" y="779"/>
                  </a:lnTo>
                  <a:lnTo>
                    <a:pt x="2020" y="779"/>
                  </a:lnTo>
                  <a:lnTo>
                    <a:pt x="2062" y="779"/>
                  </a:lnTo>
                  <a:lnTo>
                    <a:pt x="2094" y="789"/>
                  </a:lnTo>
                  <a:lnTo>
                    <a:pt x="2126" y="789"/>
                  </a:lnTo>
                  <a:lnTo>
                    <a:pt x="2157" y="800"/>
                  </a:lnTo>
                  <a:lnTo>
                    <a:pt x="2189" y="800"/>
                  </a:lnTo>
                  <a:lnTo>
                    <a:pt x="2220" y="800"/>
                  </a:lnTo>
                  <a:lnTo>
                    <a:pt x="2252" y="800"/>
                  </a:lnTo>
                  <a:lnTo>
                    <a:pt x="2283" y="800"/>
                  </a:lnTo>
                  <a:lnTo>
                    <a:pt x="2305" y="800"/>
                  </a:lnTo>
                  <a:lnTo>
                    <a:pt x="2326" y="768"/>
                  </a:lnTo>
                  <a:lnTo>
                    <a:pt x="2336" y="737"/>
                  </a:lnTo>
                  <a:lnTo>
                    <a:pt x="2336" y="715"/>
                  </a:lnTo>
                  <a:lnTo>
                    <a:pt x="2347" y="684"/>
                  </a:lnTo>
                  <a:lnTo>
                    <a:pt x="2347" y="652"/>
                  </a:lnTo>
                  <a:lnTo>
                    <a:pt x="2357" y="621"/>
                  </a:lnTo>
                  <a:lnTo>
                    <a:pt x="2357" y="589"/>
                  </a:lnTo>
                  <a:lnTo>
                    <a:pt x="2357" y="558"/>
                  </a:lnTo>
                  <a:lnTo>
                    <a:pt x="2357" y="526"/>
                  </a:lnTo>
                  <a:lnTo>
                    <a:pt x="2357" y="494"/>
                  </a:lnTo>
                  <a:lnTo>
                    <a:pt x="2357" y="463"/>
                  </a:lnTo>
                  <a:lnTo>
                    <a:pt x="2357" y="431"/>
                  </a:lnTo>
                  <a:lnTo>
                    <a:pt x="2357" y="400"/>
                  </a:lnTo>
                  <a:lnTo>
                    <a:pt x="2357" y="368"/>
                  </a:lnTo>
                  <a:lnTo>
                    <a:pt x="2347" y="336"/>
                  </a:lnTo>
                  <a:lnTo>
                    <a:pt x="2336" y="305"/>
                  </a:lnTo>
                  <a:lnTo>
                    <a:pt x="2326" y="273"/>
                  </a:lnTo>
                  <a:lnTo>
                    <a:pt x="2305" y="242"/>
                  </a:lnTo>
                  <a:lnTo>
                    <a:pt x="2283" y="221"/>
                  </a:lnTo>
                  <a:lnTo>
                    <a:pt x="2273" y="189"/>
                  </a:lnTo>
                  <a:lnTo>
                    <a:pt x="2262" y="158"/>
                  </a:lnTo>
                  <a:lnTo>
                    <a:pt x="2262" y="136"/>
                  </a:lnTo>
                  <a:lnTo>
                    <a:pt x="2252" y="105"/>
                  </a:lnTo>
                  <a:lnTo>
                    <a:pt x="2231" y="73"/>
                  </a:lnTo>
                  <a:lnTo>
                    <a:pt x="2199" y="63"/>
                  </a:lnTo>
                  <a:lnTo>
                    <a:pt x="2168" y="52"/>
                  </a:lnTo>
                  <a:lnTo>
                    <a:pt x="2136" y="42"/>
                  </a:lnTo>
                  <a:lnTo>
                    <a:pt x="2105" y="31"/>
                  </a:lnTo>
                  <a:lnTo>
                    <a:pt x="2073" y="31"/>
                  </a:lnTo>
                  <a:lnTo>
                    <a:pt x="2041" y="31"/>
                  </a:lnTo>
                  <a:lnTo>
                    <a:pt x="2010" y="31"/>
                  </a:lnTo>
                  <a:lnTo>
                    <a:pt x="1978" y="31"/>
                  </a:lnTo>
                  <a:lnTo>
                    <a:pt x="1947" y="31"/>
                  </a:lnTo>
                  <a:lnTo>
                    <a:pt x="1915" y="31"/>
                  </a:lnTo>
                  <a:lnTo>
                    <a:pt x="1884" y="21"/>
                  </a:lnTo>
                  <a:lnTo>
                    <a:pt x="1852" y="10"/>
                  </a:lnTo>
                  <a:lnTo>
                    <a:pt x="1820" y="10"/>
                  </a:lnTo>
                  <a:lnTo>
                    <a:pt x="1789" y="10"/>
                  </a:lnTo>
                  <a:lnTo>
                    <a:pt x="1757" y="21"/>
                  </a:lnTo>
                  <a:lnTo>
                    <a:pt x="1715" y="21"/>
                  </a:lnTo>
                  <a:lnTo>
                    <a:pt x="1684" y="31"/>
                  </a:lnTo>
                  <a:lnTo>
                    <a:pt x="1652" y="31"/>
                  </a:lnTo>
                  <a:lnTo>
                    <a:pt x="1610" y="31"/>
                  </a:lnTo>
                  <a:lnTo>
                    <a:pt x="1578" y="31"/>
                  </a:lnTo>
                  <a:lnTo>
                    <a:pt x="1547" y="31"/>
                  </a:lnTo>
                  <a:lnTo>
                    <a:pt x="1505" y="31"/>
                  </a:lnTo>
                  <a:lnTo>
                    <a:pt x="1473" y="31"/>
                  </a:lnTo>
                  <a:lnTo>
                    <a:pt x="1442" y="31"/>
                  </a:lnTo>
                  <a:lnTo>
                    <a:pt x="1410" y="31"/>
                  </a:lnTo>
                  <a:lnTo>
                    <a:pt x="1378" y="31"/>
                  </a:lnTo>
                  <a:lnTo>
                    <a:pt x="1347" y="31"/>
                  </a:lnTo>
                  <a:lnTo>
                    <a:pt x="1315" y="31"/>
                  </a:lnTo>
                  <a:lnTo>
                    <a:pt x="1284" y="31"/>
                  </a:lnTo>
                  <a:lnTo>
                    <a:pt x="1252" y="21"/>
                  </a:lnTo>
                  <a:lnTo>
                    <a:pt x="1221" y="21"/>
                  </a:lnTo>
                  <a:lnTo>
                    <a:pt x="1189" y="21"/>
                  </a:lnTo>
                  <a:lnTo>
                    <a:pt x="1157" y="21"/>
                  </a:lnTo>
                  <a:lnTo>
                    <a:pt x="1126" y="21"/>
                  </a:lnTo>
                  <a:lnTo>
                    <a:pt x="1094" y="21"/>
                  </a:lnTo>
                  <a:lnTo>
                    <a:pt x="1063" y="21"/>
                  </a:lnTo>
                  <a:lnTo>
                    <a:pt x="1031" y="21"/>
                  </a:lnTo>
                  <a:lnTo>
                    <a:pt x="1000" y="31"/>
                  </a:lnTo>
                  <a:lnTo>
                    <a:pt x="968" y="31"/>
                  </a:lnTo>
                  <a:lnTo>
                    <a:pt x="936" y="42"/>
                  </a:lnTo>
                  <a:lnTo>
                    <a:pt x="905" y="52"/>
                  </a:lnTo>
                  <a:lnTo>
                    <a:pt x="873" y="63"/>
                  </a:lnTo>
                  <a:lnTo>
                    <a:pt x="842" y="63"/>
                  </a:lnTo>
                  <a:lnTo>
                    <a:pt x="810" y="63"/>
                  </a:lnTo>
                  <a:lnTo>
                    <a:pt x="779" y="63"/>
                  </a:lnTo>
                  <a:lnTo>
                    <a:pt x="747" y="63"/>
                  </a:lnTo>
                  <a:lnTo>
                    <a:pt x="715" y="63"/>
                  </a:lnTo>
                  <a:lnTo>
                    <a:pt x="684" y="63"/>
                  </a:lnTo>
                  <a:lnTo>
                    <a:pt x="652" y="63"/>
                  </a:lnTo>
                  <a:lnTo>
                    <a:pt x="621" y="63"/>
                  </a:lnTo>
                  <a:lnTo>
                    <a:pt x="589" y="63"/>
                  </a:lnTo>
                  <a:lnTo>
                    <a:pt x="558" y="63"/>
                  </a:lnTo>
                  <a:lnTo>
                    <a:pt x="526" y="63"/>
                  </a:lnTo>
                  <a:lnTo>
                    <a:pt x="484" y="52"/>
                  </a:lnTo>
                  <a:lnTo>
                    <a:pt x="452" y="52"/>
                  </a:lnTo>
                  <a:lnTo>
                    <a:pt x="421" y="42"/>
                  </a:lnTo>
                  <a:lnTo>
                    <a:pt x="389" y="31"/>
                  </a:lnTo>
                  <a:lnTo>
                    <a:pt x="358" y="21"/>
                  </a:lnTo>
                  <a:lnTo>
                    <a:pt x="326" y="10"/>
                  </a:lnTo>
                  <a:lnTo>
                    <a:pt x="294" y="0"/>
                  </a:lnTo>
                  <a:lnTo>
                    <a:pt x="263" y="0"/>
                  </a:lnTo>
                  <a:lnTo>
                    <a:pt x="231" y="0"/>
                  </a:lnTo>
                  <a:lnTo>
                    <a:pt x="200" y="21"/>
                  </a:lnTo>
                  <a:lnTo>
                    <a:pt x="168" y="42"/>
                  </a:lnTo>
                  <a:lnTo>
                    <a:pt x="137" y="63"/>
                  </a:lnTo>
                  <a:lnTo>
                    <a:pt x="115" y="112"/>
                  </a:lnTo>
                  <a:lnTo>
                    <a:pt x="73" y="94"/>
                  </a:lnTo>
                  <a:lnTo>
                    <a:pt x="115" y="112"/>
                  </a:lnTo>
                </a:path>
              </a:pathLst>
            </a:custGeom>
            <a:pattFill prst="wdUpDiag">
              <a:fgClr>
                <a:srgbClr val="eeece1"/>
              </a:fgClr>
              <a:bgClr>
                <a:srgbClr val="0000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8"/>
            <p:cNvSpPr/>
            <p:nvPr/>
          </p:nvSpPr>
          <p:spPr>
            <a:xfrm>
              <a:off x="4495680" y="5334120"/>
              <a:ext cx="229680" cy="1537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45" h="97">
                  <a:moveTo>
                    <a:pt x="0" y="0"/>
                  </a:moveTo>
                  <a:lnTo>
                    <a:pt x="37" y="42"/>
                  </a:lnTo>
                  <a:lnTo>
                    <a:pt x="68" y="74"/>
                  </a:lnTo>
                  <a:lnTo>
                    <a:pt x="100" y="95"/>
                  </a:lnTo>
                  <a:lnTo>
                    <a:pt x="144" y="96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4724280" y="5257800"/>
              <a:ext cx="229680" cy="1774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45" h="112">
                  <a:moveTo>
                    <a:pt x="0" y="0"/>
                  </a:moveTo>
                  <a:lnTo>
                    <a:pt x="40" y="48"/>
                  </a:lnTo>
                  <a:lnTo>
                    <a:pt x="61" y="80"/>
                  </a:lnTo>
                  <a:lnTo>
                    <a:pt x="93" y="90"/>
                  </a:lnTo>
                  <a:lnTo>
                    <a:pt x="124" y="111"/>
                  </a:lnTo>
                  <a:lnTo>
                    <a:pt x="144" y="96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0"/>
            <p:cNvSpPr/>
            <p:nvPr/>
          </p:nvSpPr>
          <p:spPr>
            <a:xfrm>
              <a:off x="5029200" y="5167440"/>
              <a:ext cx="2166480" cy="185400"/>
            </a:xfrm>
            <a:custGeom>
              <a:avLst/>
              <a:gdLst>
                <a:gd name="textAreaLeft" fmla="*/ 0 w 2166480"/>
                <a:gd name="textAreaRight" fmla="*/ 2166840 w 21664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365" h="117">
                  <a:moveTo>
                    <a:pt x="0" y="9"/>
                  </a:moveTo>
                  <a:lnTo>
                    <a:pt x="16" y="53"/>
                  </a:lnTo>
                  <a:lnTo>
                    <a:pt x="38" y="74"/>
                  </a:lnTo>
                  <a:lnTo>
                    <a:pt x="69" y="95"/>
                  </a:lnTo>
                  <a:lnTo>
                    <a:pt x="101" y="116"/>
                  </a:lnTo>
                  <a:lnTo>
                    <a:pt x="132" y="116"/>
                  </a:lnTo>
                  <a:lnTo>
                    <a:pt x="164" y="105"/>
                  </a:lnTo>
                  <a:lnTo>
                    <a:pt x="195" y="84"/>
                  </a:lnTo>
                  <a:lnTo>
                    <a:pt x="227" y="63"/>
                  </a:lnTo>
                  <a:lnTo>
                    <a:pt x="259" y="53"/>
                  </a:lnTo>
                  <a:lnTo>
                    <a:pt x="290" y="53"/>
                  </a:lnTo>
                  <a:lnTo>
                    <a:pt x="322" y="31"/>
                  </a:lnTo>
                  <a:lnTo>
                    <a:pt x="353" y="21"/>
                  </a:lnTo>
                  <a:lnTo>
                    <a:pt x="385" y="21"/>
                  </a:lnTo>
                  <a:lnTo>
                    <a:pt x="416" y="10"/>
                  </a:lnTo>
                  <a:lnTo>
                    <a:pt x="448" y="10"/>
                  </a:lnTo>
                  <a:lnTo>
                    <a:pt x="480" y="10"/>
                  </a:lnTo>
                  <a:lnTo>
                    <a:pt x="511" y="10"/>
                  </a:lnTo>
                  <a:lnTo>
                    <a:pt x="553" y="10"/>
                  </a:lnTo>
                  <a:lnTo>
                    <a:pt x="595" y="0"/>
                  </a:lnTo>
                  <a:lnTo>
                    <a:pt x="627" y="0"/>
                  </a:lnTo>
                  <a:lnTo>
                    <a:pt x="669" y="0"/>
                  </a:lnTo>
                  <a:lnTo>
                    <a:pt x="711" y="0"/>
                  </a:lnTo>
                  <a:lnTo>
                    <a:pt x="753" y="0"/>
                  </a:lnTo>
                  <a:lnTo>
                    <a:pt x="785" y="0"/>
                  </a:lnTo>
                  <a:lnTo>
                    <a:pt x="827" y="10"/>
                  </a:lnTo>
                  <a:lnTo>
                    <a:pt x="858" y="21"/>
                  </a:lnTo>
                  <a:lnTo>
                    <a:pt x="890" y="31"/>
                  </a:lnTo>
                  <a:lnTo>
                    <a:pt x="922" y="42"/>
                  </a:lnTo>
                  <a:lnTo>
                    <a:pt x="953" y="53"/>
                  </a:lnTo>
                  <a:lnTo>
                    <a:pt x="985" y="84"/>
                  </a:lnTo>
                  <a:lnTo>
                    <a:pt x="1048" y="84"/>
                  </a:lnTo>
                  <a:lnTo>
                    <a:pt x="1079" y="95"/>
                  </a:lnTo>
                  <a:lnTo>
                    <a:pt x="1121" y="105"/>
                  </a:lnTo>
                  <a:lnTo>
                    <a:pt x="1143" y="116"/>
                  </a:lnTo>
                  <a:lnTo>
                    <a:pt x="1174" y="116"/>
                  </a:lnTo>
                  <a:lnTo>
                    <a:pt x="1206" y="116"/>
                  </a:lnTo>
                  <a:lnTo>
                    <a:pt x="1237" y="116"/>
                  </a:lnTo>
                  <a:lnTo>
                    <a:pt x="1269" y="116"/>
                  </a:lnTo>
                  <a:lnTo>
                    <a:pt x="1300" y="116"/>
                  </a:lnTo>
                  <a:lnTo>
                    <a:pt x="1332" y="95"/>
                  </a:lnTo>
                  <a:lnTo>
                    <a:pt x="1342" y="63"/>
                  </a:lnTo>
                  <a:lnTo>
                    <a:pt x="1364" y="53"/>
                  </a:lnTo>
                  <a:lnTo>
                    <a:pt x="1344" y="57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1"/>
            <p:cNvSpPr/>
            <p:nvPr/>
          </p:nvSpPr>
          <p:spPr>
            <a:xfrm>
              <a:off x="7238880" y="5334120"/>
              <a:ext cx="239400" cy="1537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51" h="97">
                  <a:moveTo>
                    <a:pt x="0" y="96"/>
                  </a:moveTo>
                  <a:lnTo>
                    <a:pt x="45" y="95"/>
                  </a:lnTo>
                  <a:lnTo>
                    <a:pt x="77" y="74"/>
                  </a:lnTo>
                  <a:lnTo>
                    <a:pt x="108" y="53"/>
                  </a:lnTo>
                  <a:lnTo>
                    <a:pt x="140" y="32"/>
                  </a:lnTo>
                  <a:lnTo>
                    <a:pt x="150" y="0"/>
                  </a:lnTo>
                  <a:lnTo>
                    <a:pt x="144" y="0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2"/>
            <p:cNvSpPr/>
            <p:nvPr/>
          </p:nvSpPr>
          <p:spPr>
            <a:xfrm>
              <a:off x="7543800" y="5486400"/>
              <a:ext cx="229680" cy="1537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45" h="97">
                  <a:moveTo>
                    <a:pt x="0" y="96"/>
                  </a:moveTo>
                  <a:lnTo>
                    <a:pt x="43" y="83"/>
                  </a:lnTo>
                  <a:lnTo>
                    <a:pt x="74" y="83"/>
                  </a:lnTo>
                  <a:lnTo>
                    <a:pt x="106" y="62"/>
                  </a:lnTo>
                  <a:lnTo>
                    <a:pt x="116" y="31"/>
                  </a:lnTo>
                  <a:lnTo>
                    <a:pt x="127" y="9"/>
                  </a:lnTo>
                  <a:lnTo>
                    <a:pt x="144" y="0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3"/>
            <p:cNvSpPr/>
            <p:nvPr/>
          </p:nvSpPr>
          <p:spPr>
            <a:xfrm>
              <a:off x="4170240" y="69840"/>
              <a:ext cx="1922040" cy="1455480"/>
            </a:xfrm>
            <a:custGeom>
              <a:avLst/>
              <a:gdLst>
                <a:gd name="textAreaLeft" fmla="*/ 0 w 1922040"/>
                <a:gd name="textAreaRight" fmla="*/ 1922400 w 1922040"/>
                <a:gd name="textAreaTop" fmla="*/ 0 h 1455480"/>
                <a:gd name="textAreaBottom" fmla="*/ 1455840 h 1455480"/>
              </a:gdLst>
              <a:ahLst/>
              <a:rect l="textAreaLeft" t="textAreaTop" r="textAreaRight" b="textAreaBottom"/>
              <a:pathLst>
                <a:path w="1211" h="917">
                  <a:moveTo>
                    <a:pt x="1069" y="4"/>
                  </a:moveTo>
                  <a:lnTo>
                    <a:pt x="1021" y="0"/>
                  </a:lnTo>
                  <a:lnTo>
                    <a:pt x="999" y="0"/>
                  </a:lnTo>
                  <a:lnTo>
                    <a:pt x="968" y="10"/>
                  </a:lnTo>
                  <a:lnTo>
                    <a:pt x="936" y="21"/>
                  </a:lnTo>
                  <a:lnTo>
                    <a:pt x="905" y="31"/>
                  </a:lnTo>
                  <a:lnTo>
                    <a:pt x="884" y="53"/>
                  </a:lnTo>
                  <a:lnTo>
                    <a:pt x="852" y="53"/>
                  </a:lnTo>
                  <a:lnTo>
                    <a:pt x="821" y="74"/>
                  </a:lnTo>
                  <a:lnTo>
                    <a:pt x="789" y="84"/>
                  </a:lnTo>
                  <a:lnTo>
                    <a:pt x="757" y="95"/>
                  </a:lnTo>
                  <a:lnTo>
                    <a:pt x="726" y="105"/>
                  </a:lnTo>
                  <a:lnTo>
                    <a:pt x="684" y="126"/>
                  </a:lnTo>
                  <a:lnTo>
                    <a:pt x="652" y="147"/>
                  </a:lnTo>
                  <a:lnTo>
                    <a:pt x="610" y="168"/>
                  </a:lnTo>
                  <a:lnTo>
                    <a:pt x="579" y="189"/>
                  </a:lnTo>
                  <a:lnTo>
                    <a:pt x="557" y="200"/>
                  </a:lnTo>
                  <a:lnTo>
                    <a:pt x="515" y="231"/>
                  </a:lnTo>
                  <a:lnTo>
                    <a:pt x="494" y="253"/>
                  </a:lnTo>
                  <a:lnTo>
                    <a:pt x="463" y="274"/>
                  </a:lnTo>
                  <a:lnTo>
                    <a:pt x="442" y="305"/>
                  </a:lnTo>
                  <a:lnTo>
                    <a:pt x="410" y="316"/>
                  </a:lnTo>
                  <a:lnTo>
                    <a:pt x="379" y="337"/>
                  </a:lnTo>
                  <a:lnTo>
                    <a:pt x="347" y="368"/>
                  </a:lnTo>
                  <a:lnTo>
                    <a:pt x="315" y="389"/>
                  </a:lnTo>
                  <a:lnTo>
                    <a:pt x="284" y="410"/>
                  </a:lnTo>
                  <a:lnTo>
                    <a:pt x="263" y="432"/>
                  </a:lnTo>
                  <a:lnTo>
                    <a:pt x="231" y="453"/>
                  </a:lnTo>
                  <a:lnTo>
                    <a:pt x="200" y="484"/>
                  </a:lnTo>
                  <a:lnTo>
                    <a:pt x="179" y="516"/>
                  </a:lnTo>
                  <a:lnTo>
                    <a:pt x="158" y="547"/>
                  </a:lnTo>
                  <a:lnTo>
                    <a:pt x="126" y="579"/>
                  </a:lnTo>
                  <a:lnTo>
                    <a:pt x="105" y="610"/>
                  </a:lnTo>
                  <a:lnTo>
                    <a:pt x="84" y="632"/>
                  </a:lnTo>
                  <a:lnTo>
                    <a:pt x="73" y="663"/>
                  </a:lnTo>
                  <a:lnTo>
                    <a:pt x="42" y="695"/>
                  </a:lnTo>
                  <a:lnTo>
                    <a:pt x="31" y="726"/>
                  </a:lnTo>
                  <a:lnTo>
                    <a:pt x="10" y="758"/>
                  </a:lnTo>
                  <a:lnTo>
                    <a:pt x="0" y="789"/>
                  </a:lnTo>
                  <a:lnTo>
                    <a:pt x="0" y="811"/>
                  </a:lnTo>
                  <a:lnTo>
                    <a:pt x="0" y="842"/>
                  </a:lnTo>
                  <a:lnTo>
                    <a:pt x="0" y="874"/>
                  </a:lnTo>
                  <a:lnTo>
                    <a:pt x="0" y="905"/>
                  </a:lnTo>
                  <a:lnTo>
                    <a:pt x="31" y="916"/>
                  </a:lnTo>
                  <a:lnTo>
                    <a:pt x="63" y="905"/>
                  </a:lnTo>
                  <a:lnTo>
                    <a:pt x="94" y="895"/>
                  </a:lnTo>
                  <a:lnTo>
                    <a:pt x="137" y="874"/>
                  </a:lnTo>
                  <a:lnTo>
                    <a:pt x="221" y="842"/>
                  </a:lnTo>
                  <a:lnTo>
                    <a:pt x="252" y="832"/>
                  </a:lnTo>
                  <a:lnTo>
                    <a:pt x="336" y="800"/>
                  </a:lnTo>
                  <a:lnTo>
                    <a:pt x="410" y="768"/>
                  </a:lnTo>
                  <a:lnTo>
                    <a:pt x="473" y="758"/>
                  </a:lnTo>
                  <a:lnTo>
                    <a:pt x="557" y="726"/>
                  </a:lnTo>
                  <a:lnTo>
                    <a:pt x="579" y="716"/>
                  </a:lnTo>
                  <a:lnTo>
                    <a:pt x="663" y="684"/>
                  </a:lnTo>
                  <a:lnTo>
                    <a:pt x="747" y="642"/>
                  </a:lnTo>
                  <a:lnTo>
                    <a:pt x="810" y="621"/>
                  </a:lnTo>
                  <a:lnTo>
                    <a:pt x="852" y="589"/>
                  </a:lnTo>
                  <a:lnTo>
                    <a:pt x="936" y="547"/>
                  </a:lnTo>
                  <a:lnTo>
                    <a:pt x="1010" y="463"/>
                  </a:lnTo>
                  <a:lnTo>
                    <a:pt x="1094" y="379"/>
                  </a:lnTo>
                  <a:lnTo>
                    <a:pt x="1126" y="337"/>
                  </a:lnTo>
                  <a:lnTo>
                    <a:pt x="1147" y="305"/>
                  </a:lnTo>
                  <a:lnTo>
                    <a:pt x="1168" y="263"/>
                  </a:lnTo>
                  <a:lnTo>
                    <a:pt x="1189" y="231"/>
                  </a:lnTo>
                  <a:lnTo>
                    <a:pt x="1199" y="189"/>
                  </a:lnTo>
                  <a:lnTo>
                    <a:pt x="1210" y="158"/>
                  </a:lnTo>
                  <a:lnTo>
                    <a:pt x="1210" y="126"/>
                  </a:lnTo>
                  <a:lnTo>
                    <a:pt x="1189" y="95"/>
                  </a:lnTo>
                  <a:lnTo>
                    <a:pt x="1157" y="74"/>
                  </a:lnTo>
                  <a:lnTo>
                    <a:pt x="1126" y="42"/>
                  </a:lnTo>
                  <a:lnTo>
                    <a:pt x="1069" y="4"/>
                  </a:lnTo>
                  <a:lnTo>
                    <a:pt x="1069" y="4"/>
                  </a:lnTo>
                </a:path>
              </a:pathLst>
            </a:custGeom>
            <a:pattFill prst="openDmnd">
              <a:fgClr>
                <a:srgbClr val="eeece1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4"/>
            <p:cNvSpPr/>
            <p:nvPr/>
          </p:nvSpPr>
          <p:spPr>
            <a:xfrm>
              <a:off x="6477120" y="76320"/>
              <a:ext cx="1620360" cy="161568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1615680"/>
                <a:gd name="textAreaBottom" fmla="*/ 1616040 h 1615680"/>
              </a:gdLst>
              <a:ahLst/>
              <a:rect l="textAreaLeft" t="textAreaTop" r="textAreaRight" b="textAreaBottom"/>
              <a:pathLst>
                <a:path w="1021" h="1018">
                  <a:moveTo>
                    <a:pt x="0" y="0"/>
                  </a:moveTo>
                  <a:lnTo>
                    <a:pt x="52" y="17"/>
                  </a:lnTo>
                  <a:lnTo>
                    <a:pt x="83" y="27"/>
                  </a:lnTo>
                  <a:lnTo>
                    <a:pt x="115" y="38"/>
                  </a:lnTo>
                  <a:lnTo>
                    <a:pt x="146" y="49"/>
                  </a:lnTo>
                  <a:lnTo>
                    <a:pt x="178" y="70"/>
                  </a:lnTo>
                  <a:lnTo>
                    <a:pt x="209" y="80"/>
                  </a:lnTo>
                  <a:lnTo>
                    <a:pt x="231" y="101"/>
                  </a:lnTo>
                  <a:lnTo>
                    <a:pt x="262" y="122"/>
                  </a:lnTo>
                  <a:lnTo>
                    <a:pt x="294" y="143"/>
                  </a:lnTo>
                  <a:lnTo>
                    <a:pt x="325" y="164"/>
                  </a:lnTo>
                  <a:lnTo>
                    <a:pt x="357" y="175"/>
                  </a:lnTo>
                  <a:lnTo>
                    <a:pt x="388" y="185"/>
                  </a:lnTo>
                  <a:lnTo>
                    <a:pt x="420" y="206"/>
                  </a:lnTo>
                  <a:lnTo>
                    <a:pt x="452" y="227"/>
                  </a:lnTo>
                  <a:lnTo>
                    <a:pt x="483" y="249"/>
                  </a:lnTo>
                  <a:lnTo>
                    <a:pt x="515" y="270"/>
                  </a:lnTo>
                  <a:lnTo>
                    <a:pt x="557" y="291"/>
                  </a:lnTo>
                  <a:lnTo>
                    <a:pt x="588" y="312"/>
                  </a:lnTo>
                  <a:lnTo>
                    <a:pt x="609" y="343"/>
                  </a:lnTo>
                  <a:lnTo>
                    <a:pt x="641" y="375"/>
                  </a:lnTo>
                  <a:lnTo>
                    <a:pt x="673" y="396"/>
                  </a:lnTo>
                  <a:lnTo>
                    <a:pt x="704" y="417"/>
                  </a:lnTo>
                  <a:lnTo>
                    <a:pt x="736" y="449"/>
                  </a:lnTo>
                  <a:lnTo>
                    <a:pt x="757" y="480"/>
                  </a:lnTo>
                  <a:lnTo>
                    <a:pt x="778" y="512"/>
                  </a:lnTo>
                  <a:lnTo>
                    <a:pt x="809" y="543"/>
                  </a:lnTo>
                  <a:lnTo>
                    <a:pt x="820" y="575"/>
                  </a:lnTo>
                  <a:lnTo>
                    <a:pt x="851" y="596"/>
                  </a:lnTo>
                  <a:lnTo>
                    <a:pt x="872" y="628"/>
                  </a:lnTo>
                  <a:lnTo>
                    <a:pt x="894" y="638"/>
                  </a:lnTo>
                  <a:lnTo>
                    <a:pt x="904" y="670"/>
                  </a:lnTo>
                  <a:lnTo>
                    <a:pt x="925" y="712"/>
                  </a:lnTo>
                  <a:lnTo>
                    <a:pt x="936" y="743"/>
                  </a:lnTo>
                  <a:lnTo>
                    <a:pt x="946" y="775"/>
                  </a:lnTo>
                  <a:lnTo>
                    <a:pt x="946" y="807"/>
                  </a:lnTo>
                  <a:lnTo>
                    <a:pt x="967" y="838"/>
                  </a:lnTo>
                  <a:lnTo>
                    <a:pt x="978" y="870"/>
                  </a:lnTo>
                  <a:lnTo>
                    <a:pt x="988" y="901"/>
                  </a:lnTo>
                  <a:lnTo>
                    <a:pt x="988" y="933"/>
                  </a:lnTo>
                  <a:lnTo>
                    <a:pt x="999" y="964"/>
                  </a:lnTo>
                  <a:lnTo>
                    <a:pt x="1009" y="986"/>
                  </a:lnTo>
                  <a:lnTo>
                    <a:pt x="1020" y="1017"/>
                  </a:lnTo>
                  <a:lnTo>
                    <a:pt x="988" y="1017"/>
                  </a:lnTo>
                  <a:lnTo>
                    <a:pt x="957" y="1017"/>
                  </a:lnTo>
                  <a:lnTo>
                    <a:pt x="936" y="986"/>
                  </a:lnTo>
                  <a:lnTo>
                    <a:pt x="904" y="964"/>
                  </a:lnTo>
                  <a:lnTo>
                    <a:pt x="894" y="901"/>
                  </a:lnTo>
                  <a:lnTo>
                    <a:pt x="872" y="880"/>
                  </a:lnTo>
                  <a:lnTo>
                    <a:pt x="830" y="838"/>
                  </a:lnTo>
                  <a:lnTo>
                    <a:pt x="788" y="807"/>
                  </a:lnTo>
                  <a:lnTo>
                    <a:pt x="778" y="785"/>
                  </a:lnTo>
                  <a:lnTo>
                    <a:pt x="746" y="775"/>
                  </a:lnTo>
                  <a:lnTo>
                    <a:pt x="715" y="743"/>
                  </a:lnTo>
                  <a:lnTo>
                    <a:pt x="673" y="722"/>
                  </a:lnTo>
                  <a:lnTo>
                    <a:pt x="651" y="701"/>
                  </a:lnTo>
                  <a:lnTo>
                    <a:pt x="567" y="628"/>
                  </a:lnTo>
                  <a:lnTo>
                    <a:pt x="504" y="606"/>
                  </a:lnTo>
                  <a:lnTo>
                    <a:pt x="462" y="575"/>
                  </a:lnTo>
                  <a:lnTo>
                    <a:pt x="441" y="512"/>
                  </a:lnTo>
                  <a:lnTo>
                    <a:pt x="357" y="480"/>
                  </a:lnTo>
                  <a:lnTo>
                    <a:pt x="336" y="438"/>
                  </a:lnTo>
                  <a:lnTo>
                    <a:pt x="304" y="396"/>
                  </a:lnTo>
                  <a:lnTo>
                    <a:pt x="273" y="354"/>
                  </a:lnTo>
                  <a:lnTo>
                    <a:pt x="252" y="322"/>
                  </a:lnTo>
                  <a:lnTo>
                    <a:pt x="231" y="291"/>
                  </a:lnTo>
                  <a:lnTo>
                    <a:pt x="209" y="259"/>
                  </a:lnTo>
                  <a:lnTo>
                    <a:pt x="178" y="227"/>
                  </a:lnTo>
                  <a:lnTo>
                    <a:pt x="146" y="196"/>
                  </a:lnTo>
                  <a:lnTo>
                    <a:pt x="115" y="164"/>
                  </a:lnTo>
                  <a:lnTo>
                    <a:pt x="83" y="133"/>
                  </a:lnTo>
                  <a:lnTo>
                    <a:pt x="62" y="101"/>
                  </a:lnTo>
                  <a:lnTo>
                    <a:pt x="52" y="7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pattFill prst="openDmnd">
              <a:fgClr>
                <a:srgbClr val="eeece1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5"/>
            <p:cNvSpPr/>
            <p:nvPr/>
          </p:nvSpPr>
          <p:spPr>
            <a:xfrm>
              <a:off x="6977160" y="2960640"/>
              <a:ext cx="1136160" cy="736200"/>
            </a:xfrm>
            <a:custGeom>
              <a:avLst/>
              <a:gdLst>
                <a:gd name="textAreaLeft" fmla="*/ 0 w 1136160"/>
                <a:gd name="textAreaRight" fmla="*/ 1136520 w 113616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716" h="464">
                  <a:moveTo>
                    <a:pt x="69" y="199"/>
                  </a:moveTo>
                  <a:lnTo>
                    <a:pt x="115" y="200"/>
                  </a:lnTo>
                  <a:lnTo>
                    <a:pt x="137" y="200"/>
                  </a:lnTo>
                  <a:lnTo>
                    <a:pt x="168" y="200"/>
                  </a:lnTo>
                  <a:lnTo>
                    <a:pt x="200" y="190"/>
                  </a:lnTo>
                  <a:lnTo>
                    <a:pt x="231" y="179"/>
                  </a:lnTo>
                  <a:lnTo>
                    <a:pt x="263" y="169"/>
                  </a:lnTo>
                  <a:lnTo>
                    <a:pt x="294" y="158"/>
                  </a:lnTo>
                  <a:lnTo>
                    <a:pt x="326" y="148"/>
                  </a:lnTo>
                  <a:lnTo>
                    <a:pt x="358" y="137"/>
                  </a:lnTo>
                  <a:lnTo>
                    <a:pt x="400" y="116"/>
                  </a:lnTo>
                  <a:lnTo>
                    <a:pt x="431" y="95"/>
                  </a:lnTo>
                  <a:lnTo>
                    <a:pt x="463" y="84"/>
                  </a:lnTo>
                  <a:lnTo>
                    <a:pt x="494" y="63"/>
                  </a:lnTo>
                  <a:lnTo>
                    <a:pt x="526" y="42"/>
                  </a:lnTo>
                  <a:lnTo>
                    <a:pt x="547" y="11"/>
                  </a:lnTo>
                  <a:lnTo>
                    <a:pt x="579" y="0"/>
                  </a:lnTo>
                  <a:lnTo>
                    <a:pt x="579" y="32"/>
                  </a:lnTo>
                  <a:lnTo>
                    <a:pt x="610" y="53"/>
                  </a:lnTo>
                  <a:lnTo>
                    <a:pt x="621" y="84"/>
                  </a:lnTo>
                  <a:lnTo>
                    <a:pt x="652" y="95"/>
                  </a:lnTo>
                  <a:lnTo>
                    <a:pt x="684" y="95"/>
                  </a:lnTo>
                  <a:lnTo>
                    <a:pt x="694" y="127"/>
                  </a:lnTo>
                  <a:lnTo>
                    <a:pt x="705" y="158"/>
                  </a:lnTo>
                  <a:lnTo>
                    <a:pt x="705" y="190"/>
                  </a:lnTo>
                  <a:lnTo>
                    <a:pt x="715" y="221"/>
                  </a:lnTo>
                  <a:lnTo>
                    <a:pt x="715" y="253"/>
                  </a:lnTo>
                  <a:lnTo>
                    <a:pt x="715" y="284"/>
                  </a:lnTo>
                  <a:lnTo>
                    <a:pt x="715" y="306"/>
                  </a:lnTo>
                  <a:lnTo>
                    <a:pt x="715" y="337"/>
                  </a:lnTo>
                  <a:lnTo>
                    <a:pt x="715" y="369"/>
                  </a:lnTo>
                  <a:lnTo>
                    <a:pt x="694" y="400"/>
                  </a:lnTo>
                  <a:lnTo>
                    <a:pt x="663" y="421"/>
                  </a:lnTo>
                  <a:lnTo>
                    <a:pt x="631" y="442"/>
                  </a:lnTo>
                  <a:lnTo>
                    <a:pt x="600" y="463"/>
                  </a:lnTo>
                  <a:lnTo>
                    <a:pt x="568" y="463"/>
                  </a:lnTo>
                  <a:lnTo>
                    <a:pt x="536" y="442"/>
                  </a:lnTo>
                  <a:lnTo>
                    <a:pt x="505" y="421"/>
                  </a:lnTo>
                  <a:lnTo>
                    <a:pt x="473" y="400"/>
                  </a:lnTo>
                  <a:lnTo>
                    <a:pt x="442" y="379"/>
                  </a:lnTo>
                  <a:lnTo>
                    <a:pt x="410" y="369"/>
                  </a:lnTo>
                  <a:lnTo>
                    <a:pt x="379" y="369"/>
                  </a:lnTo>
                  <a:lnTo>
                    <a:pt x="347" y="358"/>
                  </a:lnTo>
                  <a:lnTo>
                    <a:pt x="315" y="348"/>
                  </a:lnTo>
                  <a:lnTo>
                    <a:pt x="284" y="348"/>
                  </a:lnTo>
                  <a:lnTo>
                    <a:pt x="252" y="348"/>
                  </a:lnTo>
                  <a:lnTo>
                    <a:pt x="221" y="348"/>
                  </a:lnTo>
                  <a:lnTo>
                    <a:pt x="189" y="348"/>
                  </a:lnTo>
                  <a:lnTo>
                    <a:pt x="158" y="327"/>
                  </a:lnTo>
                  <a:lnTo>
                    <a:pt x="126" y="306"/>
                  </a:lnTo>
                  <a:lnTo>
                    <a:pt x="94" y="295"/>
                  </a:lnTo>
                  <a:lnTo>
                    <a:pt x="63" y="295"/>
                  </a:lnTo>
                  <a:lnTo>
                    <a:pt x="31" y="295"/>
                  </a:lnTo>
                  <a:lnTo>
                    <a:pt x="0" y="284"/>
                  </a:lnTo>
                  <a:lnTo>
                    <a:pt x="0" y="253"/>
                  </a:lnTo>
                  <a:lnTo>
                    <a:pt x="0" y="221"/>
                  </a:lnTo>
                  <a:lnTo>
                    <a:pt x="69" y="199"/>
                  </a:lnTo>
                  <a:lnTo>
                    <a:pt x="69" y="199"/>
                  </a:lnTo>
                </a:path>
              </a:pathLst>
            </a:custGeom>
            <a:pattFill prst="wdUpDiag">
              <a:fgClr>
                <a:srgbClr val="ff5050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3733560" y="1218960"/>
              <a:ext cx="1828800" cy="1295640"/>
            </a:xfrm>
            <a:prstGeom prst="line">
              <a:avLst/>
            </a:prstGeom>
            <a:ln w="12700">
              <a:solidFill>
                <a:srgbClr val="0099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>
              <a:off x="5486400" y="2895480"/>
              <a:ext cx="304560" cy="380880"/>
            </a:xfrm>
            <a:prstGeom prst="line">
              <a:avLst/>
            </a:prstGeom>
            <a:ln w="25400">
              <a:solidFill>
                <a:srgbClr val="ff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 flipH="1" rot="360000">
              <a:off x="7865640" y="2347920"/>
              <a:ext cx="207720" cy="748440"/>
            </a:xfrm>
            <a:prstGeom prst="ellipse">
              <a:avLst/>
            </a:prstGeom>
            <a:solidFill>
              <a:srgbClr val="ff00cc"/>
            </a:solidFill>
            <a:ln w="127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>
              <a:off x="5105160" y="3276360"/>
              <a:ext cx="533520" cy="360"/>
            </a:xfrm>
            <a:prstGeom prst="line">
              <a:avLst/>
            </a:prstGeom>
            <a:ln w="25400">
              <a:solidFill>
                <a:srgbClr val="ff505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 flipH="1">
              <a:off x="6400800" y="2895480"/>
              <a:ext cx="228600" cy="380880"/>
            </a:xfrm>
            <a:prstGeom prst="line">
              <a:avLst/>
            </a:prstGeom>
            <a:ln w="25400">
              <a:solidFill>
                <a:srgbClr val="ff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Line 31"/>
            <p:cNvSpPr/>
            <p:nvPr/>
          </p:nvSpPr>
          <p:spPr>
            <a:xfrm flipH="1">
              <a:off x="6400800" y="3352680"/>
              <a:ext cx="533160" cy="360"/>
            </a:xfrm>
            <a:prstGeom prst="line">
              <a:avLst/>
            </a:prstGeom>
            <a:ln w="25400">
              <a:solidFill>
                <a:srgbClr val="ff505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Rectangle 33"/>
          <p:cNvSpPr/>
          <p:nvPr/>
        </p:nvSpPr>
        <p:spPr>
          <a:xfrm flipH="1">
            <a:off x="380160" y="1642680"/>
            <a:ext cx="2666520" cy="50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558ed5"/>
                </a:solidFill>
                <a:latin typeface="Arial"/>
              </a:rPr>
              <a:t>Olfactory p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34"/>
          <p:cNvSpPr/>
          <p:nvPr/>
        </p:nvSpPr>
        <p:spPr>
          <a:xfrm>
            <a:off x="3429000" y="2819520"/>
            <a:ext cx="761760" cy="533160"/>
          </a:xfrm>
          <a:custGeom>
            <a:avLst/>
            <a:gdLst>
              <a:gd name="textAreaLeft" fmla="*/ 0 w 761760"/>
              <a:gd name="textAreaRight" fmla="*/ 762120 w 761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700">
            <a:solidFill>
              <a:srgbClr val="ff0066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 flipH="1">
            <a:off x="8379000" y="6532560"/>
            <a:ext cx="763200" cy="32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6"/>
          <p:cNvSpPr/>
          <p:nvPr/>
        </p:nvSpPr>
        <p:spPr>
          <a:xfrm flipH="1">
            <a:off x="380880" y="4797360"/>
            <a:ext cx="3962160" cy="99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FRONTONASAL REGION gets back by merging nasomedi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37"/>
          <p:cNvSpPr/>
          <p:nvPr/>
        </p:nvSpPr>
        <p:spPr>
          <a:xfrm>
            <a:off x="3581280" y="2666880"/>
            <a:ext cx="2666520" cy="2057040"/>
          </a:xfrm>
          <a:custGeom>
            <a:avLst/>
            <a:gdLst>
              <a:gd name="textAreaLeft" fmla="*/ 0 w 2666520"/>
              <a:gd name="textAreaRight" fmla="*/ 2666880 w 2666520"/>
              <a:gd name="textAreaTop" fmla="*/ 0 h 2057040"/>
              <a:gd name="textAreaBottom" fmla="*/ 2057400 h 2057040"/>
            </a:gdLst>
            <a:ahLst/>
            <a:rect l="textAreaLeft" t="textAreaTop" r="textAreaRight" b="textAreaBottom"/>
            <a:pathLst>
              <a:path fill="none" w="21600" h="24333">
                <a:moveTo>
                  <a:pt x="21426" y="-1"/>
                </a:moveTo>
                <a:cubicBezTo>
                  <a:pt x="21542" y="906"/>
                  <a:pt x="21600" y="1819"/>
                  <a:pt x="21600" y="2733"/>
                </a:cubicBezTo>
                <a:cubicBezTo>
                  <a:pt x="21600" y="14662"/>
                  <a:pt x="11929" y="24332"/>
                  <a:pt x="0" y="24333"/>
                </a:cubicBezTo>
              </a:path>
              <a:path stroke="0" w="21600" h="24333">
                <a:moveTo>
                  <a:pt x="21426" y="-1"/>
                </a:moveTo>
                <a:cubicBezTo>
                  <a:pt x="21542" y="906"/>
                  <a:pt x="21600" y="1819"/>
                  <a:pt x="21600" y="2733"/>
                </a:cubicBezTo>
                <a:cubicBezTo>
                  <a:pt x="21600" y="14662"/>
                  <a:pt x="11929" y="24332"/>
                  <a:pt x="0" y="24333"/>
                </a:cubicBezTo>
                <a:lnTo>
                  <a:pt x="0" y="2733"/>
                </a:lnTo>
                <a:close/>
              </a:path>
            </a:pathLst>
          </a:custGeom>
          <a:noFill/>
          <a:ln cap="rnd" w="12700">
            <a:solidFill>
              <a:srgbClr val="ff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3" name="Straight Arrow Connector 38"/>
          <p:cNvCxnSpPr/>
          <p:nvPr/>
        </p:nvCxnSpPr>
        <p:spPr>
          <a:xfrm>
            <a:off x="2895480" y="1676160"/>
            <a:ext cx="1676880" cy="8388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244" name="Straight Arrow Connector 41"/>
          <p:cNvCxnSpPr/>
          <p:nvPr/>
        </p:nvCxnSpPr>
        <p:spPr>
          <a:xfrm>
            <a:off x="2666880" y="2067480"/>
            <a:ext cx="2210040" cy="75204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152280" y="76320"/>
            <a:ext cx="3885840" cy="53640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>
              <a:lnSpc>
                <a:spcPct val="100000"/>
              </a:lnSpc>
              <a:spcBef>
                <a:spcPts val="1451"/>
              </a:spcBef>
            </a:pPr>
            <a:r>
              <a:rPr b="1" lang="ru-RU" sz="2900" spc="-1" strike="noStrike">
                <a:solidFill>
                  <a:schemeClr val="accent2"/>
                </a:solidFill>
                <a:latin typeface="Arial"/>
              </a:rPr>
              <a:t>7-w/19mm EMBRYO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4799160" y="4191120"/>
            <a:ext cx="3625560" cy="2266560"/>
          </a:xfrm>
          <a:custGeom>
            <a:avLst/>
            <a:gdLst>
              <a:gd name="textAreaLeft" fmla="*/ 0 w 3625560"/>
              <a:gd name="textAreaRight" fmla="*/ 3625920 w 3625560"/>
              <a:gd name="textAreaTop" fmla="*/ 0 h 2266560"/>
              <a:gd name="textAreaBottom" fmla="*/ 2266920 h 2266560"/>
            </a:gdLst>
            <a:ahLst/>
            <a:rect l="textAreaLeft" t="textAreaTop" r="textAreaRight" b="textAreaBottom"/>
            <a:pathLst>
              <a:path w="2284" h="1428">
                <a:moveTo>
                  <a:pt x="145" y="196"/>
                </a:moveTo>
                <a:lnTo>
                  <a:pt x="105" y="241"/>
                </a:lnTo>
                <a:lnTo>
                  <a:pt x="84" y="273"/>
                </a:lnTo>
                <a:lnTo>
                  <a:pt x="73" y="303"/>
                </a:lnTo>
                <a:lnTo>
                  <a:pt x="63" y="335"/>
                </a:lnTo>
                <a:lnTo>
                  <a:pt x="42" y="366"/>
                </a:lnTo>
                <a:lnTo>
                  <a:pt x="31" y="388"/>
                </a:lnTo>
                <a:lnTo>
                  <a:pt x="21" y="419"/>
                </a:lnTo>
                <a:lnTo>
                  <a:pt x="21" y="451"/>
                </a:lnTo>
                <a:lnTo>
                  <a:pt x="0" y="482"/>
                </a:lnTo>
                <a:lnTo>
                  <a:pt x="0" y="514"/>
                </a:lnTo>
                <a:lnTo>
                  <a:pt x="0" y="545"/>
                </a:lnTo>
                <a:lnTo>
                  <a:pt x="0" y="567"/>
                </a:lnTo>
                <a:lnTo>
                  <a:pt x="0" y="597"/>
                </a:lnTo>
                <a:lnTo>
                  <a:pt x="0" y="629"/>
                </a:lnTo>
                <a:lnTo>
                  <a:pt x="0" y="660"/>
                </a:lnTo>
                <a:lnTo>
                  <a:pt x="0" y="692"/>
                </a:lnTo>
                <a:lnTo>
                  <a:pt x="0" y="723"/>
                </a:lnTo>
                <a:lnTo>
                  <a:pt x="0" y="755"/>
                </a:lnTo>
                <a:lnTo>
                  <a:pt x="0" y="787"/>
                </a:lnTo>
                <a:lnTo>
                  <a:pt x="10" y="818"/>
                </a:lnTo>
                <a:lnTo>
                  <a:pt x="31" y="850"/>
                </a:lnTo>
                <a:lnTo>
                  <a:pt x="63" y="859"/>
                </a:lnTo>
                <a:lnTo>
                  <a:pt x="84" y="891"/>
                </a:lnTo>
                <a:lnTo>
                  <a:pt x="115" y="912"/>
                </a:lnTo>
                <a:lnTo>
                  <a:pt x="147" y="933"/>
                </a:lnTo>
                <a:lnTo>
                  <a:pt x="178" y="954"/>
                </a:lnTo>
                <a:lnTo>
                  <a:pt x="210" y="965"/>
                </a:lnTo>
                <a:lnTo>
                  <a:pt x="242" y="986"/>
                </a:lnTo>
                <a:lnTo>
                  <a:pt x="263" y="1017"/>
                </a:lnTo>
                <a:lnTo>
                  <a:pt x="294" y="1049"/>
                </a:lnTo>
                <a:lnTo>
                  <a:pt x="326" y="1091"/>
                </a:lnTo>
                <a:lnTo>
                  <a:pt x="347" y="1123"/>
                </a:lnTo>
                <a:lnTo>
                  <a:pt x="378" y="1153"/>
                </a:lnTo>
                <a:lnTo>
                  <a:pt x="399" y="1185"/>
                </a:lnTo>
                <a:lnTo>
                  <a:pt x="410" y="1216"/>
                </a:lnTo>
                <a:lnTo>
                  <a:pt x="410" y="1248"/>
                </a:lnTo>
                <a:lnTo>
                  <a:pt x="420" y="1279"/>
                </a:lnTo>
                <a:lnTo>
                  <a:pt x="420" y="1311"/>
                </a:lnTo>
                <a:lnTo>
                  <a:pt x="420" y="1343"/>
                </a:lnTo>
                <a:lnTo>
                  <a:pt x="420" y="1374"/>
                </a:lnTo>
                <a:lnTo>
                  <a:pt x="420" y="1406"/>
                </a:lnTo>
                <a:lnTo>
                  <a:pt x="442" y="1406"/>
                </a:lnTo>
                <a:lnTo>
                  <a:pt x="473" y="1406"/>
                </a:lnTo>
                <a:lnTo>
                  <a:pt x="515" y="1406"/>
                </a:lnTo>
                <a:lnTo>
                  <a:pt x="557" y="1406"/>
                </a:lnTo>
                <a:lnTo>
                  <a:pt x="599" y="1406"/>
                </a:lnTo>
                <a:lnTo>
                  <a:pt x="631" y="1406"/>
                </a:lnTo>
                <a:lnTo>
                  <a:pt x="663" y="1406"/>
                </a:lnTo>
                <a:lnTo>
                  <a:pt x="694" y="1406"/>
                </a:lnTo>
                <a:lnTo>
                  <a:pt x="726" y="1406"/>
                </a:lnTo>
                <a:lnTo>
                  <a:pt x="757" y="1406"/>
                </a:lnTo>
                <a:lnTo>
                  <a:pt x="789" y="1406"/>
                </a:lnTo>
                <a:lnTo>
                  <a:pt x="873" y="1406"/>
                </a:lnTo>
                <a:lnTo>
                  <a:pt x="957" y="1406"/>
                </a:lnTo>
                <a:lnTo>
                  <a:pt x="1020" y="1416"/>
                </a:lnTo>
                <a:lnTo>
                  <a:pt x="1052" y="1416"/>
                </a:lnTo>
                <a:lnTo>
                  <a:pt x="1083" y="1416"/>
                </a:lnTo>
                <a:lnTo>
                  <a:pt x="1105" y="1416"/>
                </a:lnTo>
                <a:lnTo>
                  <a:pt x="1136" y="1416"/>
                </a:lnTo>
                <a:lnTo>
                  <a:pt x="1178" y="1416"/>
                </a:lnTo>
                <a:lnTo>
                  <a:pt x="1220" y="1416"/>
                </a:lnTo>
                <a:lnTo>
                  <a:pt x="1304" y="1416"/>
                </a:lnTo>
                <a:lnTo>
                  <a:pt x="1326" y="1416"/>
                </a:lnTo>
                <a:lnTo>
                  <a:pt x="1357" y="1416"/>
                </a:lnTo>
                <a:lnTo>
                  <a:pt x="1389" y="1416"/>
                </a:lnTo>
                <a:lnTo>
                  <a:pt x="1431" y="1416"/>
                </a:lnTo>
                <a:lnTo>
                  <a:pt x="1473" y="1427"/>
                </a:lnTo>
                <a:lnTo>
                  <a:pt x="1504" y="1427"/>
                </a:lnTo>
                <a:lnTo>
                  <a:pt x="1536" y="1427"/>
                </a:lnTo>
                <a:lnTo>
                  <a:pt x="1568" y="1427"/>
                </a:lnTo>
                <a:lnTo>
                  <a:pt x="1599" y="1427"/>
                </a:lnTo>
                <a:lnTo>
                  <a:pt x="1631" y="1427"/>
                </a:lnTo>
                <a:lnTo>
                  <a:pt x="1662" y="1427"/>
                </a:lnTo>
                <a:lnTo>
                  <a:pt x="1694" y="1427"/>
                </a:lnTo>
                <a:lnTo>
                  <a:pt x="1725" y="1427"/>
                </a:lnTo>
                <a:lnTo>
                  <a:pt x="1757" y="1427"/>
                </a:lnTo>
                <a:lnTo>
                  <a:pt x="1789" y="1416"/>
                </a:lnTo>
                <a:lnTo>
                  <a:pt x="1820" y="1406"/>
                </a:lnTo>
                <a:lnTo>
                  <a:pt x="1852" y="1406"/>
                </a:lnTo>
                <a:lnTo>
                  <a:pt x="1873" y="1374"/>
                </a:lnTo>
                <a:lnTo>
                  <a:pt x="1873" y="1343"/>
                </a:lnTo>
                <a:lnTo>
                  <a:pt x="1873" y="1311"/>
                </a:lnTo>
                <a:lnTo>
                  <a:pt x="1873" y="1279"/>
                </a:lnTo>
                <a:lnTo>
                  <a:pt x="1873" y="1248"/>
                </a:lnTo>
                <a:lnTo>
                  <a:pt x="1873" y="1216"/>
                </a:lnTo>
                <a:lnTo>
                  <a:pt x="1883" y="1185"/>
                </a:lnTo>
                <a:lnTo>
                  <a:pt x="1894" y="1153"/>
                </a:lnTo>
                <a:lnTo>
                  <a:pt x="1904" y="1123"/>
                </a:lnTo>
                <a:lnTo>
                  <a:pt x="1936" y="1101"/>
                </a:lnTo>
                <a:lnTo>
                  <a:pt x="1967" y="1070"/>
                </a:lnTo>
                <a:lnTo>
                  <a:pt x="1989" y="1049"/>
                </a:lnTo>
                <a:lnTo>
                  <a:pt x="2020" y="1028"/>
                </a:lnTo>
                <a:lnTo>
                  <a:pt x="2062" y="1007"/>
                </a:lnTo>
                <a:lnTo>
                  <a:pt x="2094" y="986"/>
                </a:lnTo>
                <a:lnTo>
                  <a:pt x="2125" y="965"/>
                </a:lnTo>
                <a:lnTo>
                  <a:pt x="2157" y="944"/>
                </a:lnTo>
                <a:lnTo>
                  <a:pt x="2178" y="922"/>
                </a:lnTo>
                <a:lnTo>
                  <a:pt x="2210" y="891"/>
                </a:lnTo>
                <a:lnTo>
                  <a:pt x="2231" y="859"/>
                </a:lnTo>
                <a:lnTo>
                  <a:pt x="2262" y="829"/>
                </a:lnTo>
                <a:lnTo>
                  <a:pt x="2273" y="797"/>
                </a:lnTo>
                <a:lnTo>
                  <a:pt x="2273" y="766"/>
                </a:lnTo>
                <a:lnTo>
                  <a:pt x="2283" y="744"/>
                </a:lnTo>
                <a:lnTo>
                  <a:pt x="2283" y="713"/>
                </a:lnTo>
                <a:lnTo>
                  <a:pt x="2283" y="681"/>
                </a:lnTo>
                <a:lnTo>
                  <a:pt x="2283" y="650"/>
                </a:lnTo>
                <a:lnTo>
                  <a:pt x="2283" y="618"/>
                </a:lnTo>
                <a:lnTo>
                  <a:pt x="2283" y="587"/>
                </a:lnTo>
                <a:lnTo>
                  <a:pt x="2283" y="556"/>
                </a:lnTo>
                <a:lnTo>
                  <a:pt x="2283" y="524"/>
                </a:lnTo>
                <a:lnTo>
                  <a:pt x="2283" y="493"/>
                </a:lnTo>
                <a:lnTo>
                  <a:pt x="2252" y="461"/>
                </a:lnTo>
                <a:lnTo>
                  <a:pt x="2231" y="430"/>
                </a:lnTo>
                <a:lnTo>
                  <a:pt x="2231" y="398"/>
                </a:lnTo>
                <a:lnTo>
                  <a:pt x="2220" y="366"/>
                </a:lnTo>
                <a:lnTo>
                  <a:pt x="2210" y="324"/>
                </a:lnTo>
                <a:lnTo>
                  <a:pt x="2199" y="293"/>
                </a:lnTo>
                <a:lnTo>
                  <a:pt x="2167" y="262"/>
                </a:lnTo>
                <a:lnTo>
                  <a:pt x="2136" y="252"/>
                </a:lnTo>
                <a:lnTo>
                  <a:pt x="2104" y="231"/>
                </a:lnTo>
                <a:lnTo>
                  <a:pt x="2073" y="210"/>
                </a:lnTo>
                <a:lnTo>
                  <a:pt x="2041" y="199"/>
                </a:lnTo>
                <a:lnTo>
                  <a:pt x="1999" y="178"/>
                </a:lnTo>
                <a:lnTo>
                  <a:pt x="1967" y="157"/>
                </a:lnTo>
                <a:lnTo>
                  <a:pt x="1904" y="146"/>
                </a:lnTo>
                <a:lnTo>
                  <a:pt x="1873" y="125"/>
                </a:lnTo>
                <a:lnTo>
                  <a:pt x="1831" y="115"/>
                </a:lnTo>
                <a:lnTo>
                  <a:pt x="1789" y="94"/>
                </a:lnTo>
                <a:lnTo>
                  <a:pt x="1757" y="94"/>
                </a:lnTo>
                <a:lnTo>
                  <a:pt x="1715" y="73"/>
                </a:lnTo>
                <a:lnTo>
                  <a:pt x="1673" y="62"/>
                </a:lnTo>
                <a:lnTo>
                  <a:pt x="1589" y="52"/>
                </a:lnTo>
                <a:lnTo>
                  <a:pt x="1525" y="52"/>
                </a:lnTo>
                <a:lnTo>
                  <a:pt x="1494" y="41"/>
                </a:lnTo>
                <a:lnTo>
                  <a:pt x="1420" y="41"/>
                </a:lnTo>
                <a:lnTo>
                  <a:pt x="1378" y="31"/>
                </a:lnTo>
                <a:lnTo>
                  <a:pt x="1336" y="20"/>
                </a:lnTo>
                <a:lnTo>
                  <a:pt x="1304" y="20"/>
                </a:lnTo>
                <a:lnTo>
                  <a:pt x="1273" y="10"/>
                </a:lnTo>
                <a:lnTo>
                  <a:pt x="1241" y="10"/>
                </a:lnTo>
                <a:lnTo>
                  <a:pt x="1210" y="0"/>
                </a:lnTo>
                <a:lnTo>
                  <a:pt x="1178" y="0"/>
                </a:lnTo>
                <a:lnTo>
                  <a:pt x="1147" y="0"/>
                </a:lnTo>
                <a:lnTo>
                  <a:pt x="1083" y="0"/>
                </a:lnTo>
                <a:lnTo>
                  <a:pt x="999" y="0"/>
                </a:lnTo>
                <a:lnTo>
                  <a:pt x="936" y="0"/>
                </a:lnTo>
                <a:lnTo>
                  <a:pt x="894" y="0"/>
                </a:lnTo>
                <a:lnTo>
                  <a:pt x="810" y="0"/>
                </a:lnTo>
                <a:lnTo>
                  <a:pt x="747" y="0"/>
                </a:lnTo>
                <a:lnTo>
                  <a:pt x="715" y="0"/>
                </a:lnTo>
                <a:lnTo>
                  <a:pt x="631" y="0"/>
                </a:lnTo>
                <a:lnTo>
                  <a:pt x="557" y="10"/>
                </a:lnTo>
                <a:lnTo>
                  <a:pt x="526" y="20"/>
                </a:lnTo>
                <a:lnTo>
                  <a:pt x="484" y="41"/>
                </a:lnTo>
                <a:lnTo>
                  <a:pt x="442" y="52"/>
                </a:lnTo>
                <a:lnTo>
                  <a:pt x="420" y="62"/>
                </a:lnTo>
                <a:lnTo>
                  <a:pt x="389" y="73"/>
                </a:lnTo>
                <a:lnTo>
                  <a:pt x="315" y="94"/>
                </a:lnTo>
                <a:lnTo>
                  <a:pt x="242" y="115"/>
                </a:lnTo>
                <a:lnTo>
                  <a:pt x="210" y="136"/>
                </a:lnTo>
                <a:lnTo>
                  <a:pt x="178" y="146"/>
                </a:lnTo>
                <a:lnTo>
                  <a:pt x="145" y="196"/>
                </a:lnTo>
                <a:lnTo>
                  <a:pt x="94" y="189"/>
                </a:lnTo>
                <a:lnTo>
                  <a:pt x="97" y="196"/>
                </a:lnTo>
                <a:lnTo>
                  <a:pt x="145" y="196"/>
                </a:lnTo>
              </a:path>
            </a:pathLst>
          </a:custGeom>
          <a:pattFill prst="smCheck">
            <a:fgClr>
              <a:srgbClr val="4f81bd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4"/>
          <p:cNvSpPr/>
          <p:nvPr/>
        </p:nvSpPr>
        <p:spPr>
          <a:xfrm>
            <a:off x="4589640" y="154080"/>
            <a:ext cx="3995280" cy="4030200"/>
          </a:xfrm>
          <a:custGeom>
            <a:avLst/>
            <a:gdLst>
              <a:gd name="textAreaLeft" fmla="*/ 0 w 3995280"/>
              <a:gd name="textAreaRight" fmla="*/ 3995640 w 3995280"/>
              <a:gd name="textAreaTop" fmla="*/ 0 h 4030200"/>
              <a:gd name="textAreaBottom" fmla="*/ 4030560 h 4030200"/>
            </a:gdLst>
            <a:ahLst/>
            <a:rect l="textAreaLeft" t="textAreaTop" r="textAreaRight" b="textAreaBottom"/>
            <a:pathLst>
              <a:path w="2517" h="2539">
                <a:moveTo>
                  <a:pt x="229" y="2223"/>
                </a:moveTo>
                <a:lnTo>
                  <a:pt x="232" y="2180"/>
                </a:lnTo>
                <a:lnTo>
                  <a:pt x="211" y="2148"/>
                </a:lnTo>
                <a:lnTo>
                  <a:pt x="190" y="2116"/>
                </a:lnTo>
                <a:lnTo>
                  <a:pt x="190" y="2085"/>
                </a:lnTo>
                <a:lnTo>
                  <a:pt x="169" y="2053"/>
                </a:lnTo>
                <a:lnTo>
                  <a:pt x="158" y="2022"/>
                </a:lnTo>
                <a:lnTo>
                  <a:pt x="148" y="1990"/>
                </a:lnTo>
                <a:lnTo>
                  <a:pt x="137" y="1959"/>
                </a:lnTo>
                <a:lnTo>
                  <a:pt x="137" y="1937"/>
                </a:lnTo>
                <a:lnTo>
                  <a:pt x="116" y="1906"/>
                </a:lnTo>
                <a:lnTo>
                  <a:pt x="106" y="1874"/>
                </a:lnTo>
                <a:lnTo>
                  <a:pt x="106" y="1843"/>
                </a:lnTo>
                <a:lnTo>
                  <a:pt x="85" y="1811"/>
                </a:lnTo>
                <a:lnTo>
                  <a:pt x="74" y="1780"/>
                </a:lnTo>
                <a:lnTo>
                  <a:pt x="63" y="1748"/>
                </a:lnTo>
                <a:lnTo>
                  <a:pt x="63" y="1716"/>
                </a:lnTo>
                <a:lnTo>
                  <a:pt x="53" y="1685"/>
                </a:lnTo>
                <a:lnTo>
                  <a:pt x="53" y="1653"/>
                </a:lnTo>
                <a:lnTo>
                  <a:pt x="42" y="1622"/>
                </a:lnTo>
                <a:lnTo>
                  <a:pt x="32" y="1590"/>
                </a:lnTo>
                <a:lnTo>
                  <a:pt x="21" y="1558"/>
                </a:lnTo>
                <a:lnTo>
                  <a:pt x="21" y="1527"/>
                </a:lnTo>
                <a:lnTo>
                  <a:pt x="21" y="1485"/>
                </a:lnTo>
                <a:lnTo>
                  <a:pt x="21" y="1453"/>
                </a:lnTo>
                <a:lnTo>
                  <a:pt x="21" y="1422"/>
                </a:lnTo>
                <a:lnTo>
                  <a:pt x="21" y="1390"/>
                </a:lnTo>
                <a:lnTo>
                  <a:pt x="11" y="1348"/>
                </a:lnTo>
                <a:lnTo>
                  <a:pt x="11" y="1316"/>
                </a:lnTo>
                <a:lnTo>
                  <a:pt x="11" y="1285"/>
                </a:lnTo>
                <a:lnTo>
                  <a:pt x="11" y="1253"/>
                </a:lnTo>
                <a:lnTo>
                  <a:pt x="0" y="1222"/>
                </a:lnTo>
                <a:lnTo>
                  <a:pt x="0" y="1190"/>
                </a:lnTo>
                <a:lnTo>
                  <a:pt x="0" y="1158"/>
                </a:lnTo>
                <a:lnTo>
                  <a:pt x="0" y="1127"/>
                </a:lnTo>
                <a:lnTo>
                  <a:pt x="0" y="1095"/>
                </a:lnTo>
                <a:lnTo>
                  <a:pt x="0" y="1064"/>
                </a:lnTo>
                <a:lnTo>
                  <a:pt x="0" y="1032"/>
                </a:lnTo>
                <a:lnTo>
                  <a:pt x="0" y="1001"/>
                </a:lnTo>
                <a:lnTo>
                  <a:pt x="0" y="979"/>
                </a:lnTo>
                <a:lnTo>
                  <a:pt x="0" y="948"/>
                </a:lnTo>
                <a:lnTo>
                  <a:pt x="11" y="916"/>
                </a:lnTo>
                <a:lnTo>
                  <a:pt x="21" y="885"/>
                </a:lnTo>
                <a:lnTo>
                  <a:pt x="42" y="843"/>
                </a:lnTo>
                <a:lnTo>
                  <a:pt x="53" y="811"/>
                </a:lnTo>
                <a:lnTo>
                  <a:pt x="74" y="779"/>
                </a:lnTo>
                <a:lnTo>
                  <a:pt x="95" y="737"/>
                </a:lnTo>
                <a:lnTo>
                  <a:pt x="127" y="716"/>
                </a:lnTo>
                <a:lnTo>
                  <a:pt x="148" y="685"/>
                </a:lnTo>
                <a:lnTo>
                  <a:pt x="179" y="653"/>
                </a:lnTo>
                <a:lnTo>
                  <a:pt x="211" y="632"/>
                </a:lnTo>
                <a:lnTo>
                  <a:pt x="242" y="611"/>
                </a:lnTo>
                <a:lnTo>
                  <a:pt x="274" y="590"/>
                </a:lnTo>
                <a:lnTo>
                  <a:pt x="306" y="579"/>
                </a:lnTo>
                <a:lnTo>
                  <a:pt x="337" y="558"/>
                </a:lnTo>
                <a:lnTo>
                  <a:pt x="369" y="527"/>
                </a:lnTo>
                <a:lnTo>
                  <a:pt x="400" y="506"/>
                </a:lnTo>
                <a:lnTo>
                  <a:pt x="432" y="485"/>
                </a:lnTo>
                <a:lnTo>
                  <a:pt x="463" y="474"/>
                </a:lnTo>
                <a:lnTo>
                  <a:pt x="495" y="443"/>
                </a:lnTo>
                <a:lnTo>
                  <a:pt x="516" y="421"/>
                </a:lnTo>
                <a:lnTo>
                  <a:pt x="579" y="411"/>
                </a:lnTo>
                <a:lnTo>
                  <a:pt x="621" y="390"/>
                </a:lnTo>
                <a:lnTo>
                  <a:pt x="653" y="369"/>
                </a:lnTo>
                <a:lnTo>
                  <a:pt x="684" y="348"/>
                </a:lnTo>
                <a:lnTo>
                  <a:pt x="716" y="327"/>
                </a:lnTo>
                <a:lnTo>
                  <a:pt x="748" y="306"/>
                </a:lnTo>
                <a:lnTo>
                  <a:pt x="779" y="274"/>
                </a:lnTo>
                <a:lnTo>
                  <a:pt x="800" y="242"/>
                </a:lnTo>
                <a:lnTo>
                  <a:pt x="832" y="232"/>
                </a:lnTo>
                <a:lnTo>
                  <a:pt x="853" y="200"/>
                </a:lnTo>
                <a:lnTo>
                  <a:pt x="874" y="169"/>
                </a:lnTo>
                <a:lnTo>
                  <a:pt x="905" y="148"/>
                </a:lnTo>
                <a:lnTo>
                  <a:pt x="926" y="116"/>
                </a:lnTo>
                <a:lnTo>
                  <a:pt x="958" y="106"/>
                </a:lnTo>
                <a:lnTo>
                  <a:pt x="990" y="74"/>
                </a:lnTo>
                <a:lnTo>
                  <a:pt x="1021" y="53"/>
                </a:lnTo>
                <a:lnTo>
                  <a:pt x="1053" y="32"/>
                </a:lnTo>
                <a:lnTo>
                  <a:pt x="1084" y="21"/>
                </a:lnTo>
                <a:lnTo>
                  <a:pt x="1116" y="11"/>
                </a:lnTo>
                <a:lnTo>
                  <a:pt x="1147" y="11"/>
                </a:lnTo>
                <a:lnTo>
                  <a:pt x="1179" y="11"/>
                </a:lnTo>
                <a:lnTo>
                  <a:pt x="1211" y="11"/>
                </a:lnTo>
                <a:lnTo>
                  <a:pt x="1242" y="0"/>
                </a:lnTo>
                <a:lnTo>
                  <a:pt x="1274" y="0"/>
                </a:lnTo>
                <a:lnTo>
                  <a:pt x="1305" y="0"/>
                </a:lnTo>
                <a:lnTo>
                  <a:pt x="1347" y="0"/>
                </a:lnTo>
                <a:lnTo>
                  <a:pt x="1379" y="0"/>
                </a:lnTo>
                <a:lnTo>
                  <a:pt x="1411" y="11"/>
                </a:lnTo>
                <a:lnTo>
                  <a:pt x="1442" y="21"/>
                </a:lnTo>
                <a:lnTo>
                  <a:pt x="1474" y="21"/>
                </a:lnTo>
                <a:lnTo>
                  <a:pt x="1505" y="32"/>
                </a:lnTo>
                <a:lnTo>
                  <a:pt x="1537" y="53"/>
                </a:lnTo>
                <a:lnTo>
                  <a:pt x="1568" y="53"/>
                </a:lnTo>
                <a:lnTo>
                  <a:pt x="1600" y="64"/>
                </a:lnTo>
                <a:lnTo>
                  <a:pt x="1632" y="85"/>
                </a:lnTo>
                <a:lnTo>
                  <a:pt x="1663" y="106"/>
                </a:lnTo>
                <a:lnTo>
                  <a:pt x="1684" y="137"/>
                </a:lnTo>
                <a:lnTo>
                  <a:pt x="1716" y="158"/>
                </a:lnTo>
                <a:lnTo>
                  <a:pt x="1726" y="190"/>
                </a:lnTo>
                <a:lnTo>
                  <a:pt x="1737" y="221"/>
                </a:lnTo>
                <a:lnTo>
                  <a:pt x="1758" y="253"/>
                </a:lnTo>
                <a:lnTo>
                  <a:pt x="1768" y="285"/>
                </a:lnTo>
                <a:lnTo>
                  <a:pt x="1789" y="316"/>
                </a:lnTo>
                <a:lnTo>
                  <a:pt x="1810" y="348"/>
                </a:lnTo>
                <a:lnTo>
                  <a:pt x="1842" y="369"/>
                </a:lnTo>
                <a:lnTo>
                  <a:pt x="1874" y="400"/>
                </a:lnTo>
                <a:lnTo>
                  <a:pt x="1905" y="411"/>
                </a:lnTo>
                <a:lnTo>
                  <a:pt x="1937" y="432"/>
                </a:lnTo>
                <a:lnTo>
                  <a:pt x="1979" y="453"/>
                </a:lnTo>
                <a:lnTo>
                  <a:pt x="2010" y="474"/>
                </a:lnTo>
                <a:lnTo>
                  <a:pt x="2042" y="495"/>
                </a:lnTo>
                <a:lnTo>
                  <a:pt x="2074" y="516"/>
                </a:lnTo>
                <a:lnTo>
                  <a:pt x="2105" y="548"/>
                </a:lnTo>
                <a:lnTo>
                  <a:pt x="2137" y="569"/>
                </a:lnTo>
                <a:lnTo>
                  <a:pt x="2168" y="600"/>
                </a:lnTo>
                <a:lnTo>
                  <a:pt x="2200" y="621"/>
                </a:lnTo>
                <a:lnTo>
                  <a:pt x="2231" y="643"/>
                </a:lnTo>
                <a:lnTo>
                  <a:pt x="2263" y="664"/>
                </a:lnTo>
                <a:lnTo>
                  <a:pt x="2295" y="685"/>
                </a:lnTo>
                <a:lnTo>
                  <a:pt x="2326" y="716"/>
                </a:lnTo>
                <a:lnTo>
                  <a:pt x="2358" y="737"/>
                </a:lnTo>
                <a:lnTo>
                  <a:pt x="2389" y="758"/>
                </a:lnTo>
                <a:lnTo>
                  <a:pt x="2400" y="790"/>
                </a:lnTo>
                <a:lnTo>
                  <a:pt x="2421" y="822"/>
                </a:lnTo>
                <a:lnTo>
                  <a:pt x="2442" y="853"/>
                </a:lnTo>
                <a:lnTo>
                  <a:pt x="2452" y="885"/>
                </a:lnTo>
                <a:lnTo>
                  <a:pt x="2473" y="916"/>
                </a:lnTo>
                <a:lnTo>
                  <a:pt x="2484" y="948"/>
                </a:lnTo>
                <a:lnTo>
                  <a:pt x="2494" y="979"/>
                </a:lnTo>
                <a:lnTo>
                  <a:pt x="2505" y="1001"/>
                </a:lnTo>
                <a:lnTo>
                  <a:pt x="2505" y="1032"/>
                </a:lnTo>
                <a:lnTo>
                  <a:pt x="2516" y="1064"/>
                </a:lnTo>
                <a:lnTo>
                  <a:pt x="2516" y="1095"/>
                </a:lnTo>
                <a:lnTo>
                  <a:pt x="2516" y="1127"/>
                </a:lnTo>
                <a:lnTo>
                  <a:pt x="2516" y="1158"/>
                </a:lnTo>
                <a:lnTo>
                  <a:pt x="2516" y="1190"/>
                </a:lnTo>
                <a:lnTo>
                  <a:pt x="2516" y="1222"/>
                </a:lnTo>
                <a:lnTo>
                  <a:pt x="2516" y="1253"/>
                </a:lnTo>
                <a:lnTo>
                  <a:pt x="2516" y="1285"/>
                </a:lnTo>
                <a:lnTo>
                  <a:pt x="2516" y="1316"/>
                </a:lnTo>
                <a:lnTo>
                  <a:pt x="2516" y="1348"/>
                </a:lnTo>
                <a:lnTo>
                  <a:pt x="2505" y="1380"/>
                </a:lnTo>
                <a:lnTo>
                  <a:pt x="2494" y="1422"/>
                </a:lnTo>
                <a:lnTo>
                  <a:pt x="2484" y="1453"/>
                </a:lnTo>
                <a:lnTo>
                  <a:pt x="2473" y="1485"/>
                </a:lnTo>
                <a:lnTo>
                  <a:pt x="2463" y="1516"/>
                </a:lnTo>
                <a:lnTo>
                  <a:pt x="2452" y="1548"/>
                </a:lnTo>
                <a:lnTo>
                  <a:pt x="2452" y="1580"/>
                </a:lnTo>
                <a:lnTo>
                  <a:pt x="2442" y="1611"/>
                </a:lnTo>
                <a:lnTo>
                  <a:pt x="2431" y="1653"/>
                </a:lnTo>
                <a:lnTo>
                  <a:pt x="2410" y="1695"/>
                </a:lnTo>
                <a:lnTo>
                  <a:pt x="2400" y="1727"/>
                </a:lnTo>
                <a:lnTo>
                  <a:pt x="2389" y="1759"/>
                </a:lnTo>
                <a:lnTo>
                  <a:pt x="2379" y="1790"/>
                </a:lnTo>
                <a:lnTo>
                  <a:pt x="2368" y="1822"/>
                </a:lnTo>
                <a:lnTo>
                  <a:pt x="2368" y="1853"/>
                </a:lnTo>
                <a:lnTo>
                  <a:pt x="2347" y="1895"/>
                </a:lnTo>
                <a:lnTo>
                  <a:pt x="2337" y="1927"/>
                </a:lnTo>
                <a:lnTo>
                  <a:pt x="2326" y="1959"/>
                </a:lnTo>
                <a:lnTo>
                  <a:pt x="2326" y="1990"/>
                </a:lnTo>
                <a:lnTo>
                  <a:pt x="2316" y="2022"/>
                </a:lnTo>
                <a:lnTo>
                  <a:pt x="2305" y="2053"/>
                </a:lnTo>
                <a:lnTo>
                  <a:pt x="2295" y="2085"/>
                </a:lnTo>
                <a:lnTo>
                  <a:pt x="2284" y="2116"/>
                </a:lnTo>
                <a:lnTo>
                  <a:pt x="2273" y="2138"/>
                </a:lnTo>
                <a:lnTo>
                  <a:pt x="2263" y="2169"/>
                </a:lnTo>
                <a:lnTo>
                  <a:pt x="2252" y="2201"/>
                </a:lnTo>
                <a:lnTo>
                  <a:pt x="2242" y="2232"/>
                </a:lnTo>
                <a:lnTo>
                  <a:pt x="2210" y="2232"/>
                </a:lnTo>
                <a:lnTo>
                  <a:pt x="2179" y="2232"/>
                </a:lnTo>
                <a:lnTo>
                  <a:pt x="2147" y="2232"/>
                </a:lnTo>
                <a:lnTo>
                  <a:pt x="2116" y="2232"/>
                </a:lnTo>
                <a:lnTo>
                  <a:pt x="2084" y="2232"/>
                </a:lnTo>
                <a:lnTo>
                  <a:pt x="2052" y="2232"/>
                </a:lnTo>
                <a:lnTo>
                  <a:pt x="2021" y="2243"/>
                </a:lnTo>
                <a:lnTo>
                  <a:pt x="1989" y="2253"/>
                </a:lnTo>
                <a:lnTo>
                  <a:pt x="1958" y="2264"/>
                </a:lnTo>
                <a:lnTo>
                  <a:pt x="1926" y="2285"/>
                </a:lnTo>
                <a:lnTo>
                  <a:pt x="1895" y="2295"/>
                </a:lnTo>
                <a:lnTo>
                  <a:pt x="1863" y="2306"/>
                </a:lnTo>
                <a:lnTo>
                  <a:pt x="1831" y="2317"/>
                </a:lnTo>
                <a:lnTo>
                  <a:pt x="1800" y="2327"/>
                </a:lnTo>
                <a:lnTo>
                  <a:pt x="1768" y="2348"/>
                </a:lnTo>
                <a:lnTo>
                  <a:pt x="1737" y="2359"/>
                </a:lnTo>
                <a:lnTo>
                  <a:pt x="1705" y="2380"/>
                </a:lnTo>
                <a:lnTo>
                  <a:pt x="1674" y="2390"/>
                </a:lnTo>
                <a:lnTo>
                  <a:pt x="1642" y="2411"/>
                </a:lnTo>
                <a:lnTo>
                  <a:pt x="1610" y="2432"/>
                </a:lnTo>
                <a:lnTo>
                  <a:pt x="1579" y="2443"/>
                </a:lnTo>
                <a:lnTo>
                  <a:pt x="1547" y="2464"/>
                </a:lnTo>
                <a:lnTo>
                  <a:pt x="1516" y="2474"/>
                </a:lnTo>
                <a:lnTo>
                  <a:pt x="1484" y="2495"/>
                </a:lnTo>
                <a:lnTo>
                  <a:pt x="1442" y="2506"/>
                </a:lnTo>
                <a:lnTo>
                  <a:pt x="1411" y="2527"/>
                </a:lnTo>
                <a:lnTo>
                  <a:pt x="1389" y="2538"/>
                </a:lnTo>
                <a:lnTo>
                  <a:pt x="1358" y="2538"/>
                </a:lnTo>
                <a:lnTo>
                  <a:pt x="1326" y="2538"/>
                </a:lnTo>
                <a:lnTo>
                  <a:pt x="1295" y="2538"/>
                </a:lnTo>
                <a:lnTo>
                  <a:pt x="1263" y="2538"/>
                </a:lnTo>
                <a:lnTo>
                  <a:pt x="1232" y="2538"/>
                </a:lnTo>
                <a:lnTo>
                  <a:pt x="1200" y="2538"/>
                </a:lnTo>
                <a:lnTo>
                  <a:pt x="1168" y="2538"/>
                </a:lnTo>
                <a:lnTo>
                  <a:pt x="1137" y="2538"/>
                </a:lnTo>
                <a:lnTo>
                  <a:pt x="1105" y="2517"/>
                </a:lnTo>
                <a:lnTo>
                  <a:pt x="1063" y="2495"/>
                </a:lnTo>
                <a:lnTo>
                  <a:pt x="1032" y="2474"/>
                </a:lnTo>
                <a:lnTo>
                  <a:pt x="1000" y="2453"/>
                </a:lnTo>
                <a:lnTo>
                  <a:pt x="969" y="2443"/>
                </a:lnTo>
                <a:lnTo>
                  <a:pt x="947" y="2432"/>
                </a:lnTo>
                <a:lnTo>
                  <a:pt x="905" y="2411"/>
                </a:lnTo>
                <a:lnTo>
                  <a:pt x="874" y="2401"/>
                </a:lnTo>
                <a:lnTo>
                  <a:pt x="842" y="2380"/>
                </a:lnTo>
                <a:lnTo>
                  <a:pt x="811" y="2369"/>
                </a:lnTo>
                <a:lnTo>
                  <a:pt x="769" y="2359"/>
                </a:lnTo>
                <a:lnTo>
                  <a:pt x="695" y="2348"/>
                </a:lnTo>
                <a:lnTo>
                  <a:pt x="663" y="2338"/>
                </a:lnTo>
                <a:lnTo>
                  <a:pt x="590" y="2327"/>
                </a:lnTo>
                <a:lnTo>
                  <a:pt x="548" y="2317"/>
                </a:lnTo>
                <a:lnTo>
                  <a:pt x="516" y="2306"/>
                </a:lnTo>
                <a:lnTo>
                  <a:pt x="484" y="2295"/>
                </a:lnTo>
                <a:lnTo>
                  <a:pt x="453" y="2285"/>
                </a:lnTo>
                <a:lnTo>
                  <a:pt x="411" y="2264"/>
                </a:lnTo>
                <a:lnTo>
                  <a:pt x="379" y="2243"/>
                </a:lnTo>
                <a:lnTo>
                  <a:pt x="348" y="2232"/>
                </a:lnTo>
                <a:lnTo>
                  <a:pt x="316" y="2222"/>
                </a:lnTo>
                <a:lnTo>
                  <a:pt x="284" y="2222"/>
                </a:lnTo>
                <a:lnTo>
                  <a:pt x="229" y="2223"/>
                </a:lnTo>
                <a:lnTo>
                  <a:pt x="229" y="2223"/>
                </a:lnTo>
              </a:path>
            </a:pathLst>
          </a:custGeom>
          <a:pattFill prst="openDmnd">
            <a:fgClr>
              <a:srgbClr val="eeece1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reeform 5"/>
          <p:cNvSpPr/>
          <p:nvPr/>
        </p:nvSpPr>
        <p:spPr>
          <a:xfrm>
            <a:off x="4627440" y="171360"/>
            <a:ext cx="1922040" cy="1455480"/>
          </a:xfrm>
          <a:custGeom>
            <a:avLst/>
            <a:gdLst>
              <a:gd name="textAreaLeft" fmla="*/ 0 w 1922040"/>
              <a:gd name="textAreaRight" fmla="*/ 1922400 w 1922040"/>
              <a:gd name="textAreaTop" fmla="*/ 0 h 1455480"/>
              <a:gd name="textAreaBottom" fmla="*/ 1455840 h 1455480"/>
            </a:gdLst>
            <a:ahLst/>
            <a:rect l="textAreaLeft" t="textAreaTop" r="textAreaRight" b="textAreaBottom"/>
            <a:pathLst>
              <a:path w="1211" h="917">
                <a:moveTo>
                  <a:pt x="1069" y="4"/>
                </a:moveTo>
                <a:lnTo>
                  <a:pt x="1021" y="0"/>
                </a:lnTo>
                <a:lnTo>
                  <a:pt x="999" y="0"/>
                </a:lnTo>
                <a:lnTo>
                  <a:pt x="968" y="10"/>
                </a:lnTo>
                <a:lnTo>
                  <a:pt x="936" y="21"/>
                </a:lnTo>
                <a:lnTo>
                  <a:pt x="905" y="31"/>
                </a:lnTo>
                <a:lnTo>
                  <a:pt x="884" y="53"/>
                </a:lnTo>
                <a:lnTo>
                  <a:pt x="852" y="53"/>
                </a:lnTo>
                <a:lnTo>
                  <a:pt x="821" y="74"/>
                </a:lnTo>
                <a:lnTo>
                  <a:pt x="789" y="84"/>
                </a:lnTo>
                <a:lnTo>
                  <a:pt x="757" y="95"/>
                </a:lnTo>
                <a:lnTo>
                  <a:pt x="726" y="105"/>
                </a:lnTo>
                <a:lnTo>
                  <a:pt x="684" y="126"/>
                </a:lnTo>
                <a:lnTo>
                  <a:pt x="652" y="147"/>
                </a:lnTo>
                <a:lnTo>
                  <a:pt x="610" y="168"/>
                </a:lnTo>
                <a:lnTo>
                  <a:pt x="579" y="189"/>
                </a:lnTo>
                <a:lnTo>
                  <a:pt x="557" y="200"/>
                </a:lnTo>
                <a:lnTo>
                  <a:pt x="515" y="231"/>
                </a:lnTo>
                <a:lnTo>
                  <a:pt x="494" y="253"/>
                </a:lnTo>
                <a:lnTo>
                  <a:pt x="463" y="274"/>
                </a:lnTo>
                <a:lnTo>
                  <a:pt x="442" y="305"/>
                </a:lnTo>
                <a:lnTo>
                  <a:pt x="410" y="316"/>
                </a:lnTo>
                <a:lnTo>
                  <a:pt x="379" y="337"/>
                </a:lnTo>
                <a:lnTo>
                  <a:pt x="347" y="368"/>
                </a:lnTo>
                <a:lnTo>
                  <a:pt x="315" y="389"/>
                </a:lnTo>
                <a:lnTo>
                  <a:pt x="284" y="410"/>
                </a:lnTo>
                <a:lnTo>
                  <a:pt x="263" y="432"/>
                </a:lnTo>
                <a:lnTo>
                  <a:pt x="231" y="453"/>
                </a:lnTo>
                <a:lnTo>
                  <a:pt x="200" y="484"/>
                </a:lnTo>
                <a:lnTo>
                  <a:pt x="179" y="516"/>
                </a:lnTo>
                <a:lnTo>
                  <a:pt x="158" y="547"/>
                </a:lnTo>
                <a:lnTo>
                  <a:pt x="126" y="579"/>
                </a:lnTo>
                <a:lnTo>
                  <a:pt x="105" y="610"/>
                </a:lnTo>
                <a:lnTo>
                  <a:pt x="84" y="632"/>
                </a:lnTo>
                <a:lnTo>
                  <a:pt x="73" y="663"/>
                </a:lnTo>
                <a:lnTo>
                  <a:pt x="42" y="695"/>
                </a:lnTo>
                <a:lnTo>
                  <a:pt x="31" y="726"/>
                </a:lnTo>
                <a:lnTo>
                  <a:pt x="10" y="758"/>
                </a:lnTo>
                <a:lnTo>
                  <a:pt x="0" y="789"/>
                </a:lnTo>
                <a:lnTo>
                  <a:pt x="0" y="811"/>
                </a:lnTo>
                <a:lnTo>
                  <a:pt x="0" y="842"/>
                </a:lnTo>
                <a:lnTo>
                  <a:pt x="0" y="874"/>
                </a:lnTo>
                <a:lnTo>
                  <a:pt x="0" y="905"/>
                </a:lnTo>
                <a:lnTo>
                  <a:pt x="31" y="916"/>
                </a:lnTo>
                <a:lnTo>
                  <a:pt x="63" y="905"/>
                </a:lnTo>
                <a:lnTo>
                  <a:pt x="94" y="895"/>
                </a:lnTo>
                <a:lnTo>
                  <a:pt x="137" y="874"/>
                </a:lnTo>
                <a:lnTo>
                  <a:pt x="221" y="842"/>
                </a:lnTo>
                <a:lnTo>
                  <a:pt x="252" y="832"/>
                </a:lnTo>
                <a:lnTo>
                  <a:pt x="336" y="800"/>
                </a:lnTo>
                <a:lnTo>
                  <a:pt x="410" y="768"/>
                </a:lnTo>
                <a:lnTo>
                  <a:pt x="473" y="758"/>
                </a:lnTo>
                <a:lnTo>
                  <a:pt x="557" y="726"/>
                </a:lnTo>
                <a:lnTo>
                  <a:pt x="579" y="716"/>
                </a:lnTo>
                <a:lnTo>
                  <a:pt x="663" y="684"/>
                </a:lnTo>
                <a:lnTo>
                  <a:pt x="747" y="642"/>
                </a:lnTo>
                <a:lnTo>
                  <a:pt x="810" y="621"/>
                </a:lnTo>
                <a:lnTo>
                  <a:pt x="852" y="589"/>
                </a:lnTo>
                <a:lnTo>
                  <a:pt x="936" y="547"/>
                </a:lnTo>
                <a:lnTo>
                  <a:pt x="1010" y="463"/>
                </a:lnTo>
                <a:lnTo>
                  <a:pt x="1094" y="379"/>
                </a:lnTo>
                <a:lnTo>
                  <a:pt x="1126" y="337"/>
                </a:lnTo>
                <a:lnTo>
                  <a:pt x="1147" y="305"/>
                </a:lnTo>
                <a:lnTo>
                  <a:pt x="1168" y="263"/>
                </a:lnTo>
                <a:lnTo>
                  <a:pt x="1189" y="231"/>
                </a:lnTo>
                <a:lnTo>
                  <a:pt x="1199" y="189"/>
                </a:lnTo>
                <a:lnTo>
                  <a:pt x="1210" y="158"/>
                </a:lnTo>
                <a:lnTo>
                  <a:pt x="1210" y="126"/>
                </a:lnTo>
                <a:lnTo>
                  <a:pt x="1189" y="95"/>
                </a:lnTo>
                <a:lnTo>
                  <a:pt x="1157" y="74"/>
                </a:lnTo>
                <a:lnTo>
                  <a:pt x="1126" y="42"/>
                </a:lnTo>
                <a:lnTo>
                  <a:pt x="1069" y="4"/>
                </a:lnTo>
                <a:lnTo>
                  <a:pt x="1069" y="4"/>
                </a:lnTo>
              </a:path>
            </a:pathLst>
          </a:custGeom>
          <a:pattFill prst="openDmnd">
            <a:fgClr>
              <a:srgbClr val="eeece1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6"/>
          <p:cNvSpPr/>
          <p:nvPr/>
        </p:nvSpPr>
        <p:spPr>
          <a:xfrm>
            <a:off x="6934320" y="177840"/>
            <a:ext cx="1620360" cy="1615680"/>
          </a:xfrm>
          <a:custGeom>
            <a:avLst/>
            <a:gdLst>
              <a:gd name="textAreaLeft" fmla="*/ 0 w 1620360"/>
              <a:gd name="textAreaRight" fmla="*/ 1620720 w 1620360"/>
              <a:gd name="textAreaTop" fmla="*/ 0 h 1615680"/>
              <a:gd name="textAreaBottom" fmla="*/ 1616040 h 1615680"/>
            </a:gdLst>
            <a:ahLst/>
            <a:rect l="textAreaLeft" t="textAreaTop" r="textAreaRight" b="textAreaBottom"/>
            <a:pathLst>
              <a:path w="1021" h="1018">
                <a:moveTo>
                  <a:pt x="0" y="0"/>
                </a:moveTo>
                <a:lnTo>
                  <a:pt x="52" y="17"/>
                </a:lnTo>
                <a:lnTo>
                  <a:pt x="83" y="27"/>
                </a:lnTo>
                <a:lnTo>
                  <a:pt x="115" y="38"/>
                </a:lnTo>
                <a:lnTo>
                  <a:pt x="146" y="49"/>
                </a:lnTo>
                <a:lnTo>
                  <a:pt x="178" y="70"/>
                </a:lnTo>
                <a:lnTo>
                  <a:pt x="209" y="80"/>
                </a:lnTo>
                <a:lnTo>
                  <a:pt x="231" y="101"/>
                </a:lnTo>
                <a:lnTo>
                  <a:pt x="262" y="122"/>
                </a:lnTo>
                <a:lnTo>
                  <a:pt x="294" y="143"/>
                </a:lnTo>
                <a:lnTo>
                  <a:pt x="325" y="164"/>
                </a:lnTo>
                <a:lnTo>
                  <a:pt x="357" y="175"/>
                </a:lnTo>
                <a:lnTo>
                  <a:pt x="388" y="185"/>
                </a:lnTo>
                <a:lnTo>
                  <a:pt x="420" y="206"/>
                </a:lnTo>
                <a:lnTo>
                  <a:pt x="452" y="227"/>
                </a:lnTo>
                <a:lnTo>
                  <a:pt x="483" y="249"/>
                </a:lnTo>
                <a:lnTo>
                  <a:pt x="515" y="270"/>
                </a:lnTo>
                <a:lnTo>
                  <a:pt x="557" y="291"/>
                </a:lnTo>
                <a:lnTo>
                  <a:pt x="588" y="312"/>
                </a:lnTo>
                <a:lnTo>
                  <a:pt x="609" y="343"/>
                </a:lnTo>
                <a:lnTo>
                  <a:pt x="641" y="375"/>
                </a:lnTo>
                <a:lnTo>
                  <a:pt x="673" y="396"/>
                </a:lnTo>
                <a:lnTo>
                  <a:pt x="704" y="417"/>
                </a:lnTo>
                <a:lnTo>
                  <a:pt x="736" y="449"/>
                </a:lnTo>
                <a:lnTo>
                  <a:pt x="757" y="480"/>
                </a:lnTo>
                <a:lnTo>
                  <a:pt x="778" y="512"/>
                </a:lnTo>
                <a:lnTo>
                  <a:pt x="809" y="543"/>
                </a:lnTo>
                <a:lnTo>
                  <a:pt x="820" y="575"/>
                </a:lnTo>
                <a:lnTo>
                  <a:pt x="851" y="596"/>
                </a:lnTo>
                <a:lnTo>
                  <a:pt x="872" y="628"/>
                </a:lnTo>
                <a:lnTo>
                  <a:pt x="894" y="638"/>
                </a:lnTo>
                <a:lnTo>
                  <a:pt x="904" y="670"/>
                </a:lnTo>
                <a:lnTo>
                  <a:pt x="925" y="712"/>
                </a:lnTo>
                <a:lnTo>
                  <a:pt x="936" y="743"/>
                </a:lnTo>
                <a:lnTo>
                  <a:pt x="946" y="775"/>
                </a:lnTo>
                <a:lnTo>
                  <a:pt x="946" y="807"/>
                </a:lnTo>
                <a:lnTo>
                  <a:pt x="967" y="838"/>
                </a:lnTo>
                <a:lnTo>
                  <a:pt x="978" y="870"/>
                </a:lnTo>
                <a:lnTo>
                  <a:pt x="988" y="901"/>
                </a:lnTo>
                <a:lnTo>
                  <a:pt x="988" y="933"/>
                </a:lnTo>
                <a:lnTo>
                  <a:pt x="999" y="964"/>
                </a:lnTo>
                <a:lnTo>
                  <a:pt x="1009" y="986"/>
                </a:lnTo>
                <a:lnTo>
                  <a:pt x="1020" y="1017"/>
                </a:lnTo>
                <a:lnTo>
                  <a:pt x="988" y="1017"/>
                </a:lnTo>
                <a:lnTo>
                  <a:pt x="957" y="1017"/>
                </a:lnTo>
                <a:lnTo>
                  <a:pt x="936" y="986"/>
                </a:lnTo>
                <a:lnTo>
                  <a:pt x="904" y="964"/>
                </a:lnTo>
                <a:lnTo>
                  <a:pt x="894" y="901"/>
                </a:lnTo>
                <a:lnTo>
                  <a:pt x="872" y="880"/>
                </a:lnTo>
                <a:lnTo>
                  <a:pt x="830" y="838"/>
                </a:lnTo>
                <a:lnTo>
                  <a:pt x="788" y="807"/>
                </a:lnTo>
                <a:lnTo>
                  <a:pt x="778" y="785"/>
                </a:lnTo>
                <a:lnTo>
                  <a:pt x="746" y="775"/>
                </a:lnTo>
                <a:lnTo>
                  <a:pt x="715" y="743"/>
                </a:lnTo>
                <a:lnTo>
                  <a:pt x="673" y="722"/>
                </a:lnTo>
                <a:lnTo>
                  <a:pt x="651" y="701"/>
                </a:lnTo>
                <a:lnTo>
                  <a:pt x="567" y="628"/>
                </a:lnTo>
                <a:lnTo>
                  <a:pt x="504" y="606"/>
                </a:lnTo>
                <a:lnTo>
                  <a:pt x="462" y="575"/>
                </a:lnTo>
                <a:lnTo>
                  <a:pt x="441" y="512"/>
                </a:lnTo>
                <a:lnTo>
                  <a:pt x="357" y="480"/>
                </a:lnTo>
                <a:lnTo>
                  <a:pt x="336" y="438"/>
                </a:lnTo>
                <a:lnTo>
                  <a:pt x="304" y="396"/>
                </a:lnTo>
                <a:lnTo>
                  <a:pt x="273" y="354"/>
                </a:lnTo>
                <a:lnTo>
                  <a:pt x="252" y="322"/>
                </a:lnTo>
                <a:lnTo>
                  <a:pt x="231" y="291"/>
                </a:lnTo>
                <a:lnTo>
                  <a:pt x="209" y="259"/>
                </a:lnTo>
                <a:lnTo>
                  <a:pt x="178" y="227"/>
                </a:lnTo>
                <a:lnTo>
                  <a:pt x="146" y="196"/>
                </a:lnTo>
                <a:lnTo>
                  <a:pt x="115" y="164"/>
                </a:lnTo>
                <a:lnTo>
                  <a:pt x="83" y="133"/>
                </a:lnTo>
                <a:lnTo>
                  <a:pt x="62" y="101"/>
                </a:lnTo>
                <a:lnTo>
                  <a:pt x="52" y="7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pattFill prst="openDmnd">
            <a:fgClr>
              <a:srgbClr val="eeece1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 useBgFill="1">
        <p:nvSpPr>
          <p:cNvPr id="250" name="Oval 7"/>
          <p:cNvSpPr/>
          <p:nvPr/>
        </p:nvSpPr>
        <p:spPr>
          <a:xfrm>
            <a:off x="5867280" y="2743200"/>
            <a:ext cx="304560" cy="533160"/>
          </a:xfrm>
          <a:prstGeom prst="ellipse">
            <a:avLst/>
          </a:prstGeom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8"/>
          <p:cNvSpPr/>
          <p:nvPr/>
        </p:nvSpPr>
        <p:spPr>
          <a:xfrm>
            <a:off x="7974000" y="2438280"/>
            <a:ext cx="603000" cy="785520"/>
          </a:xfrm>
          <a:custGeom>
            <a:avLst/>
            <a:gdLst>
              <a:gd name="textAreaLeft" fmla="*/ 0 w 603000"/>
              <a:gd name="textAreaRight" fmla="*/ 603360 w 603000"/>
              <a:gd name="textAreaTop" fmla="*/ 0 h 785520"/>
              <a:gd name="textAreaBottom" fmla="*/ 785880 h 785520"/>
            </a:gdLst>
            <a:ahLst/>
            <a:rect l="textAreaLeft" t="textAreaTop" r="textAreaRight" b="textAreaBottom"/>
            <a:pathLst>
              <a:path w="380" h="495">
                <a:moveTo>
                  <a:pt x="299" y="0"/>
                </a:moveTo>
                <a:lnTo>
                  <a:pt x="252" y="10"/>
                </a:lnTo>
                <a:lnTo>
                  <a:pt x="221" y="31"/>
                </a:lnTo>
                <a:lnTo>
                  <a:pt x="189" y="52"/>
                </a:lnTo>
                <a:lnTo>
                  <a:pt x="158" y="73"/>
                </a:lnTo>
                <a:lnTo>
                  <a:pt x="126" y="84"/>
                </a:lnTo>
                <a:lnTo>
                  <a:pt x="95" y="105"/>
                </a:lnTo>
                <a:lnTo>
                  <a:pt x="74" y="136"/>
                </a:lnTo>
                <a:lnTo>
                  <a:pt x="53" y="168"/>
                </a:lnTo>
                <a:lnTo>
                  <a:pt x="31" y="178"/>
                </a:lnTo>
                <a:lnTo>
                  <a:pt x="21" y="210"/>
                </a:lnTo>
                <a:lnTo>
                  <a:pt x="0" y="242"/>
                </a:lnTo>
                <a:lnTo>
                  <a:pt x="10" y="273"/>
                </a:lnTo>
                <a:lnTo>
                  <a:pt x="42" y="294"/>
                </a:lnTo>
                <a:lnTo>
                  <a:pt x="74" y="315"/>
                </a:lnTo>
                <a:lnTo>
                  <a:pt x="105" y="336"/>
                </a:lnTo>
                <a:lnTo>
                  <a:pt x="137" y="357"/>
                </a:lnTo>
                <a:lnTo>
                  <a:pt x="168" y="400"/>
                </a:lnTo>
                <a:lnTo>
                  <a:pt x="189" y="431"/>
                </a:lnTo>
                <a:lnTo>
                  <a:pt x="221" y="463"/>
                </a:lnTo>
                <a:lnTo>
                  <a:pt x="242" y="494"/>
                </a:lnTo>
                <a:lnTo>
                  <a:pt x="221" y="463"/>
                </a:lnTo>
                <a:lnTo>
                  <a:pt x="252" y="463"/>
                </a:lnTo>
                <a:lnTo>
                  <a:pt x="274" y="463"/>
                </a:lnTo>
                <a:lnTo>
                  <a:pt x="305" y="431"/>
                </a:lnTo>
                <a:lnTo>
                  <a:pt x="326" y="400"/>
                </a:lnTo>
                <a:lnTo>
                  <a:pt x="347" y="378"/>
                </a:lnTo>
                <a:lnTo>
                  <a:pt x="358" y="347"/>
                </a:lnTo>
                <a:lnTo>
                  <a:pt x="368" y="315"/>
                </a:lnTo>
                <a:lnTo>
                  <a:pt x="379" y="284"/>
                </a:lnTo>
                <a:lnTo>
                  <a:pt x="379" y="252"/>
                </a:lnTo>
                <a:lnTo>
                  <a:pt x="379" y="221"/>
                </a:lnTo>
                <a:lnTo>
                  <a:pt x="379" y="199"/>
                </a:lnTo>
                <a:lnTo>
                  <a:pt x="379" y="168"/>
                </a:lnTo>
                <a:lnTo>
                  <a:pt x="379" y="136"/>
                </a:lnTo>
                <a:lnTo>
                  <a:pt x="379" y="105"/>
                </a:lnTo>
                <a:lnTo>
                  <a:pt x="379" y="73"/>
                </a:lnTo>
                <a:lnTo>
                  <a:pt x="379" y="42"/>
                </a:lnTo>
                <a:lnTo>
                  <a:pt x="358" y="10"/>
                </a:lnTo>
                <a:lnTo>
                  <a:pt x="299" y="0"/>
                </a:lnTo>
                <a:lnTo>
                  <a:pt x="299" y="0"/>
                </a:lnTo>
              </a:path>
            </a:pathLst>
          </a:custGeom>
          <a:solidFill>
            <a:srgbClr val="eaeaea"/>
          </a:solid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9"/>
          <p:cNvSpPr/>
          <p:nvPr/>
        </p:nvSpPr>
        <p:spPr>
          <a:xfrm rot="360000">
            <a:off x="8381520" y="2676600"/>
            <a:ext cx="220320" cy="374400"/>
          </a:xfrm>
          <a:prstGeom prst="ellipse">
            <a:avLst/>
          </a:prstGeom>
          <a:solidFill>
            <a:srgbClr val="ff00cc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10"/>
          <p:cNvSpPr/>
          <p:nvPr/>
        </p:nvSpPr>
        <p:spPr>
          <a:xfrm>
            <a:off x="5591160" y="2160720"/>
            <a:ext cx="920520" cy="1221840"/>
          </a:xfrm>
          <a:custGeom>
            <a:avLst/>
            <a:gdLst>
              <a:gd name="textAreaLeft" fmla="*/ 0 w 920520"/>
              <a:gd name="textAreaRight" fmla="*/ 920880 w 920520"/>
              <a:gd name="textAreaTop" fmla="*/ 0 h 1221840"/>
              <a:gd name="textAreaBottom" fmla="*/ 1222200 h 1221840"/>
            </a:gdLst>
            <a:ahLst/>
            <a:rect l="textAreaLeft" t="textAreaTop" r="textAreaRight" b="textAreaBottom"/>
            <a:pathLst>
              <a:path w="580" h="770">
                <a:moveTo>
                  <a:pt x="510" y="751"/>
                </a:moveTo>
                <a:lnTo>
                  <a:pt x="558" y="716"/>
                </a:lnTo>
                <a:lnTo>
                  <a:pt x="558" y="684"/>
                </a:lnTo>
                <a:lnTo>
                  <a:pt x="568" y="653"/>
                </a:lnTo>
                <a:lnTo>
                  <a:pt x="568" y="621"/>
                </a:lnTo>
                <a:lnTo>
                  <a:pt x="568" y="590"/>
                </a:lnTo>
                <a:lnTo>
                  <a:pt x="568" y="558"/>
                </a:lnTo>
                <a:lnTo>
                  <a:pt x="579" y="527"/>
                </a:lnTo>
                <a:lnTo>
                  <a:pt x="579" y="505"/>
                </a:lnTo>
                <a:lnTo>
                  <a:pt x="579" y="474"/>
                </a:lnTo>
                <a:lnTo>
                  <a:pt x="579" y="442"/>
                </a:lnTo>
                <a:lnTo>
                  <a:pt x="579" y="411"/>
                </a:lnTo>
                <a:lnTo>
                  <a:pt x="579" y="379"/>
                </a:lnTo>
                <a:lnTo>
                  <a:pt x="579" y="348"/>
                </a:lnTo>
                <a:lnTo>
                  <a:pt x="579" y="326"/>
                </a:lnTo>
                <a:lnTo>
                  <a:pt x="579" y="295"/>
                </a:lnTo>
                <a:lnTo>
                  <a:pt x="579" y="263"/>
                </a:lnTo>
                <a:lnTo>
                  <a:pt x="579" y="232"/>
                </a:lnTo>
                <a:lnTo>
                  <a:pt x="579" y="200"/>
                </a:lnTo>
                <a:lnTo>
                  <a:pt x="579" y="169"/>
                </a:lnTo>
                <a:lnTo>
                  <a:pt x="579" y="137"/>
                </a:lnTo>
                <a:lnTo>
                  <a:pt x="558" y="105"/>
                </a:lnTo>
                <a:lnTo>
                  <a:pt x="536" y="84"/>
                </a:lnTo>
                <a:lnTo>
                  <a:pt x="505" y="63"/>
                </a:lnTo>
                <a:lnTo>
                  <a:pt x="473" y="42"/>
                </a:lnTo>
                <a:lnTo>
                  <a:pt x="442" y="21"/>
                </a:lnTo>
                <a:lnTo>
                  <a:pt x="410" y="11"/>
                </a:lnTo>
                <a:lnTo>
                  <a:pt x="379" y="0"/>
                </a:lnTo>
                <a:lnTo>
                  <a:pt x="337" y="0"/>
                </a:lnTo>
                <a:lnTo>
                  <a:pt x="315" y="0"/>
                </a:lnTo>
                <a:lnTo>
                  <a:pt x="284" y="0"/>
                </a:lnTo>
                <a:lnTo>
                  <a:pt x="252" y="0"/>
                </a:lnTo>
                <a:lnTo>
                  <a:pt x="221" y="0"/>
                </a:lnTo>
                <a:lnTo>
                  <a:pt x="189" y="0"/>
                </a:lnTo>
                <a:lnTo>
                  <a:pt x="158" y="32"/>
                </a:lnTo>
                <a:lnTo>
                  <a:pt x="126" y="53"/>
                </a:lnTo>
                <a:lnTo>
                  <a:pt x="105" y="84"/>
                </a:lnTo>
                <a:lnTo>
                  <a:pt x="84" y="116"/>
                </a:lnTo>
                <a:lnTo>
                  <a:pt x="63" y="148"/>
                </a:lnTo>
                <a:lnTo>
                  <a:pt x="52" y="179"/>
                </a:lnTo>
                <a:lnTo>
                  <a:pt x="42" y="211"/>
                </a:lnTo>
                <a:lnTo>
                  <a:pt x="31" y="242"/>
                </a:lnTo>
                <a:lnTo>
                  <a:pt x="21" y="274"/>
                </a:lnTo>
                <a:lnTo>
                  <a:pt x="0" y="305"/>
                </a:lnTo>
                <a:lnTo>
                  <a:pt x="0" y="337"/>
                </a:lnTo>
                <a:lnTo>
                  <a:pt x="10" y="369"/>
                </a:lnTo>
                <a:lnTo>
                  <a:pt x="21" y="400"/>
                </a:lnTo>
                <a:lnTo>
                  <a:pt x="21" y="432"/>
                </a:lnTo>
                <a:lnTo>
                  <a:pt x="31" y="463"/>
                </a:lnTo>
                <a:lnTo>
                  <a:pt x="42" y="495"/>
                </a:lnTo>
                <a:lnTo>
                  <a:pt x="73" y="527"/>
                </a:lnTo>
                <a:lnTo>
                  <a:pt x="105" y="548"/>
                </a:lnTo>
                <a:lnTo>
                  <a:pt x="137" y="558"/>
                </a:lnTo>
                <a:lnTo>
                  <a:pt x="168" y="579"/>
                </a:lnTo>
                <a:lnTo>
                  <a:pt x="189" y="611"/>
                </a:lnTo>
                <a:lnTo>
                  <a:pt x="221" y="621"/>
                </a:lnTo>
                <a:lnTo>
                  <a:pt x="252" y="632"/>
                </a:lnTo>
                <a:lnTo>
                  <a:pt x="284" y="642"/>
                </a:lnTo>
                <a:lnTo>
                  <a:pt x="315" y="653"/>
                </a:lnTo>
                <a:lnTo>
                  <a:pt x="337" y="663"/>
                </a:lnTo>
                <a:lnTo>
                  <a:pt x="368" y="684"/>
                </a:lnTo>
                <a:lnTo>
                  <a:pt x="368" y="716"/>
                </a:lnTo>
                <a:lnTo>
                  <a:pt x="379" y="748"/>
                </a:lnTo>
                <a:lnTo>
                  <a:pt x="410" y="769"/>
                </a:lnTo>
                <a:lnTo>
                  <a:pt x="442" y="769"/>
                </a:lnTo>
                <a:lnTo>
                  <a:pt x="510" y="751"/>
                </a:lnTo>
                <a:lnTo>
                  <a:pt x="558" y="769"/>
                </a:lnTo>
                <a:lnTo>
                  <a:pt x="568" y="737"/>
                </a:lnTo>
                <a:lnTo>
                  <a:pt x="568" y="705"/>
                </a:lnTo>
                <a:lnTo>
                  <a:pt x="579" y="674"/>
                </a:lnTo>
                <a:lnTo>
                  <a:pt x="558" y="655"/>
                </a:lnTo>
              </a:path>
            </a:pathLst>
          </a:custGeom>
          <a:pattFill prst="ltDnDiag">
            <a:fgClr>
              <a:srgbClr val="4f81bd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6477120" y="2160720"/>
            <a:ext cx="1036440" cy="1238040"/>
          </a:xfrm>
          <a:custGeom>
            <a:avLst/>
            <a:gdLst>
              <a:gd name="textAreaLeft" fmla="*/ 0 w 1036440"/>
              <a:gd name="textAreaRight" fmla="*/ 1036800 w 1036440"/>
              <a:gd name="textAreaTop" fmla="*/ 0 h 1238040"/>
              <a:gd name="textAreaBottom" fmla="*/ 1238400 h 1238040"/>
            </a:gdLst>
            <a:ahLst/>
            <a:rect l="textAreaLeft" t="textAreaTop" r="textAreaRight" b="textAreaBottom"/>
            <a:pathLst>
              <a:path w="653" h="780">
                <a:moveTo>
                  <a:pt x="0" y="751"/>
                </a:moveTo>
                <a:lnTo>
                  <a:pt x="10" y="705"/>
                </a:lnTo>
                <a:lnTo>
                  <a:pt x="10" y="674"/>
                </a:lnTo>
                <a:lnTo>
                  <a:pt x="10" y="642"/>
                </a:lnTo>
                <a:lnTo>
                  <a:pt x="10" y="611"/>
                </a:lnTo>
                <a:lnTo>
                  <a:pt x="10" y="579"/>
                </a:lnTo>
                <a:lnTo>
                  <a:pt x="21" y="548"/>
                </a:lnTo>
                <a:lnTo>
                  <a:pt x="31" y="516"/>
                </a:lnTo>
                <a:lnTo>
                  <a:pt x="31" y="484"/>
                </a:lnTo>
                <a:lnTo>
                  <a:pt x="31" y="453"/>
                </a:lnTo>
                <a:lnTo>
                  <a:pt x="31" y="421"/>
                </a:lnTo>
                <a:lnTo>
                  <a:pt x="21" y="390"/>
                </a:lnTo>
                <a:lnTo>
                  <a:pt x="21" y="358"/>
                </a:lnTo>
                <a:lnTo>
                  <a:pt x="21" y="326"/>
                </a:lnTo>
                <a:lnTo>
                  <a:pt x="21" y="295"/>
                </a:lnTo>
                <a:lnTo>
                  <a:pt x="52" y="263"/>
                </a:lnTo>
                <a:lnTo>
                  <a:pt x="73" y="232"/>
                </a:lnTo>
                <a:lnTo>
                  <a:pt x="105" y="200"/>
                </a:lnTo>
                <a:lnTo>
                  <a:pt x="136" y="179"/>
                </a:lnTo>
                <a:lnTo>
                  <a:pt x="168" y="148"/>
                </a:lnTo>
                <a:lnTo>
                  <a:pt x="178" y="126"/>
                </a:lnTo>
                <a:lnTo>
                  <a:pt x="210" y="105"/>
                </a:lnTo>
                <a:lnTo>
                  <a:pt x="242" y="84"/>
                </a:lnTo>
                <a:lnTo>
                  <a:pt x="273" y="74"/>
                </a:lnTo>
                <a:lnTo>
                  <a:pt x="305" y="53"/>
                </a:lnTo>
                <a:lnTo>
                  <a:pt x="336" y="32"/>
                </a:lnTo>
                <a:lnTo>
                  <a:pt x="368" y="32"/>
                </a:lnTo>
                <a:lnTo>
                  <a:pt x="399" y="21"/>
                </a:lnTo>
                <a:lnTo>
                  <a:pt x="431" y="11"/>
                </a:lnTo>
                <a:lnTo>
                  <a:pt x="463" y="0"/>
                </a:lnTo>
                <a:lnTo>
                  <a:pt x="494" y="0"/>
                </a:lnTo>
                <a:lnTo>
                  <a:pt x="526" y="0"/>
                </a:lnTo>
                <a:lnTo>
                  <a:pt x="557" y="21"/>
                </a:lnTo>
                <a:lnTo>
                  <a:pt x="589" y="42"/>
                </a:lnTo>
                <a:lnTo>
                  <a:pt x="610" y="74"/>
                </a:lnTo>
                <a:lnTo>
                  <a:pt x="620" y="105"/>
                </a:lnTo>
                <a:lnTo>
                  <a:pt x="641" y="148"/>
                </a:lnTo>
                <a:lnTo>
                  <a:pt x="641" y="179"/>
                </a:lnTo>
                <a:lnTo>
                  <a:pt x="641" y="211"/>
                </a:lnTo>
                <a:lnTo>
                  <a:pt x="652" y="242"/>
                </a:lnTo>
                <a:lnTo>
                  <a:pt x="652" y="274"/>
                </a:lnTo>
                <a:lnTo>
                  <a:pt x="652" y="305"/>
                </a:lnTo>
                <a:lnTo>
                  <a:pt x="652" y="337"/>
                </a:lnTo>
                <a:lnTo>
                  <a:pt x="652" y="369"/>
                </a:lnTo>
                <a:lnTo>
                  <a:pt x="652" y="400"/>
                </a:lnTo>
                <a:lnTo>
                  <a:pt x="652" y="432"/>
                </a:lnTo>
                <a:lnTo>
                  <a:pt x="641" y="463"/>
                </a:lnTo>
                <a:lnTo>
                  <a:pt x="620" y="495"/>
                </a:lnTo>
                <a:lnTo>
                  <a:pt x="620" y="527"/>
                </a:lnTo>
                <a:lnTo>
                  <a:pt x="620" y="558"/>
                </a:lnTo>
                <a:lnTo>
                  <a:pt x="589" y="579"/>
                </a:lnTo>
                <a:lnTo>
                  <a:pt x="568" y="611"/>
                </a:lnTo>
                <a:lnTo>
                  <a:pt x="536" y="621"/>
                </a:lnTo>
                <a:lnTo>
                  <a:pt x="505" y="621"/>
                </a:lnTo>
                <a:lnTo>
                  <a:pt x="473" y="632"/>
                </a:lnTo>
                <a:lnTo>
                  <a:pt x="442" y="653"/>
                </a:lnTo>
                <a:lnTo>
                  <a:pt x="420" y="653"/>
                </a:lnTo>
                <a:lnTo>
                  <a:pt x="389" y="663"/>
                </a:lnTo>
                <a:lnTo>
                  <a:pt x="357" y="674"/>
                </a:lnTo>
                <a:lnTo>
                  <a:pt x="326" y="674"/>
                </a:lnTo>
                <a:lnTo>
                  <a:pt x="294" y="695"/>
                </a:lnTo>
                <a:lnTo>
                  <a:pt x="263" y="716"/>
                </a:lnTo>
                <a:lnTo>
                  <a:pt x="252" y="748"/>
                </a:lnTo>
                <a:lnTo>
                  <a:pt x="231" y="779"/>
                </a:lnTo>
                <a:lnTo>
                  <a:pt x="199" y="779"/>
                </a:lnTo>
                <a:lnTo>
                  <a:pt x="168" y="779"/>
                </a:lnTo>
                <a:lnTo>
                  <a:pt x="136" y="779"/>
                </a:lnTo>
                <a:lnTo>
                  <a:pt x="105" y="779"/>
                </a:lnTo>
                <a:lnTo>
                  <a:pt x="73" y="779"/>
                </a:lnTo>
                <a:lnTo>
                  <a:pt x="42" y="779"/>
                </a:lnTo>
                <a:lnTo>
                  <a:pt x="0" y="751"/>
                </a:lnTo>
                <a:lnTo>
                  <a:pt x="10" y="705"/>
                </a:lnTo>
                <a:lnTo>
                  <a:pt x="0" y="703"/>
                </a:lnTo>
              </a:path>
            </a:pathLst>
          </a:custGeom>
          <a:pattFill prst="ltUpDiag">
            <a:fgClr>
              <a:srgbClr val="4f81bd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12"/>
          <p:cNvSpPr/>
          <p:nvPr/>
        </p:nvSpPr>
        <p:spPr>
          <a:xfrm>
            <a:off x="6226200" y="2060640"/>
            <a:ext cx="636120" cy="531360"/>
          </a:xfrm>
          <a:custGeom>
            <a:avLst/>
            <a:gdLst>
              <a:gd name="textAreaLeft" fmla="*/ 0 w 636120"/>
              <a:gd name="textAreaRight" fmla="*/ 636480 w 636120"/>
              <a:gd name="textAreaTop" fmla="*/ 0 h 531360"/>
              <a:gd name="textAreaBottom" fmla="*/ 531720 h 531360"/>
            </a:gdLst>
            <a:ahLst/>
            <a:rect l="textAreaLeft" t="textAreaTop" r="textAreaRight" b="textAreaBottom"/>
            <a:pathLst>
              <a:path w="401" h="335">
                <a:moveTo>
                  <a:pt x="158" y="334"/>
                </a:moveTo>
                <a:lnTo>
                  <a:pt x="200" y="326"/>
                </a:lnTo>
                <a:lnTo>
                  <a:pt x="231" y="295"/>
                </a:lnTo>
                <a:lnTo>
                  <a:pt x="263" y="274"/>
                </a:lnTo>
                <a:lnTo>
                  <a:pt x="294" y="253"/>
                </a:lnTo>
                <a:lnTo>
                  <a:pt x="315" y="221"/>
                </a:lnTo>
                <a:lnTo>
                  <a:pt x="347" y="189"/>
                </a:lnTo>
                <a:lnTo>
                  <a:pt x="368" y="158"/>
                </a:lnTo>
                <a:lnTo>
                  <a:pt x="389" y="126"/>
                </a:lnTo>
                <a:lnTo>
                  <a:pt x="400" y="95"/>
                </a:lnTo>
                <a:lnTo>
                  <a:pt x="400" y="63"/>
                </a:lnTo>
                <a:lnTo>
                  <a:pt x="389" y="32"/>
                </a:lnTo>
                <a:lnTo>
                  <a:pt x="368" y="10"/>
                </a:lnTo>
                <a:lnTo>
                  <a:pt x="336" y="0"/>
                </a:lnTo>
                <a:lnTo>
                  <a:pt x="305" y="0"/>
                </a:lnTo>
                <a:lnTo>
                  <a:pt x="273" y="0"/>
                </a:lnTo>
                <a:lnTo>
                  <a:pt x="200" y="0"/>
                </a:lnTo>
                <a:lnTo>
                  <a:pt x="168" y="0"/>
                </a:lnTo>
                <a:lnTo>
                  <a:pt x="136" y="0"/>
                </a:lnTo>
                <a:lnTo>
                  <a:pt x="105" y="0"/>
                </a:lnTo>
                <a:lnTo>
                  <a:pt x="73" y="0"/>
                </a:lnTo>
                <a:lnTo>
                  <a:pt x="42" y="21"/>
                </a:lnTo>
                <a:lnTo>
                  <a:pt x="10" y="53"/>
                </a:lnTo>
                <a:lnTo>
                  <a:pt x="0" y="84"/>
                </a:lnTo>
                <a:lnTo>
                  <a:pt x="0" y="116"/>
                </a:lnTo>
                <a:lnTo>
                  <a:pt x="0" y="147"/>
                </a:lnTo>
                <a:lnTo>
                  <a:pt x="21" y="179"/>
                </a:lnTo>
                <a:lnTo>
                  <a:pt x="52" y="200"/>
                </a:lnTo>
                <a:lnTo>
                  <a:pt x="73" y="232"/>
                </a:lnTo>
                <a:lnTo>
                  <a:pt x="94" y="263"/>
                </a:lnTo>
                <a:lnTo>
                  <a:pt x="105" y="295"/>
                </a:lnTo>
                <a:lnTo>
                  <a:pt x="158" y="334"/>
                </a:lnTo>
                <a:lnTo>
                  <a:pt x="158" y="334"/>
                </a:lnTo>
              </a:path>
            </a:pathLst>
          </a:custGeom>
          <a:pattFill prst="openDmnd">
            <a:fgClr>
              <a:srgbClr val="eeece1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 useBgFill="1">
        <p:nvSpPr>
          <p:cNvPr id="256" name="Freeform 13"/>
          <p:cNvSpPr/>
          <p:nvPr/>
        </p:nvSpPr>
        <p:spPr>
          <a:xfrm>
            <a:off x="5867280" y="2644920"/>
            <a:ext cx="360000" cy="536040"/>
          </a:xfrm>
          <a:custGeom>
            <a:avLst/>
            <a:gdLst>
              <a:gd name="textAreaLeft" fmla="*/ 0 w 360000"/>
              <a:gd name="textAreaRight" fmla="*/ 360360 w 360000"/>
              <a:gd name="textAreaTop" fmla="*/ 0 h 536040"/>
              <a:gd name="textAreaBottom" fmla="*/ 536400 h 536040"/>
            </a:gdLst>
            <a:ahLst/>
            <a:rect l="textAreaLeft" t="textAreaTop" r="textAreaRight" b="textAreaBottom"/>
            <a:pathLst>
              <a:path w="227" h="338">
                <a:moveTo>
                  <a:pt x="0" y="254"/>
                </a:moveTo>
                <a:lnTo>
                  <a:pt x="36" y="211"/>
                </a:lnTo>
                <a:lnTo>
                  <a:pt x="36" y="179"/>
                </a:lnTo>
                <a:lnTo>
                  <a:pt x="36" y="148"/>
                </a:lnTo>
                <a:lnTo>
                  <a:pt x="36" y="116"/>
                </a:lnTo>
                <a:lnTo>
                  <a:pt x="47" y="85"/>
                </a:lnTo>
                <a:lnTo>
                  <a:pt x="68" y="53"/>
                </a:lnTo>
                <a:lnTo>
                  <a:pt x="89" y="21"/>
                </a:lnTo>
                <a:lnTo>
                  <a:pt x="120" y="0"/>
                </a:lnTo>
                <a:lnTo>
                  <a:pt x="152" y="0"/>
                </a:lnTo>
                <a:lnTo>
                  <a:pt x="184" y="0"/>
                </a:lnTo>
                <a:lnTo>
                  <a:pt x="215" y="21"/>
                </a:lnTo>
                <a:lnTo>
                  <a:pt x="215" y="43"/>
                </a:lnTo>
                <a:lnTo>
                  <a:pt x="226" y="74"/>
                </a:lnTo>
                <a:lnTo>
                  <a:pt x="226" y="106"/>
                </a:lnTo>
                <a:lnTo>
                  <a:pt x="226" y="137"/>
                </a:lnTo>
                <a:lnTo>
                  <a:pt x="226" y="169"/>
                </a:lnTo>
                <a:lnTo>
                  <a:pt x="226" y="200"/>
                </a:lnTo>
                <a:lnTo>
                  <a:pt x="226" y="222"/>
                </a:lnTo>
                <a:lnTo>
                  <a:pt x="215" y="253"/>
                </a:lnTo>
                <a:lnTo>
                  <a:pt x="194" y="285"/>
                </a:lnTo>
                <a:lnTo>
                  <a:pt x="184" y="316"/>
                </a:lnTo>
                <a:lnTo>
                  <a:pt x="152" y="337"/>
                </a:lnTo>
                <a:lnTo>
                  <a:pt x="120" y="337"/>
                </a:lnTo>
                <a:lnTo>
                  <a:pt x="89" y="337"/>
                </a:lnTo>
                <a:lnTo>
                  <a:pt x="57" y="337"/>
                </a:lnTo>
                <a:lnTo>
                  <a:pt x="26" y="337"/>
                </a:lnTo>
                <a:lnTo>
                  <a:pt x="26" y="306"/>
                </a:lnTo>
                <a:lnTo>
                  <a:pt x="0" y="254"/>
                </a:lnTo>
                <a:lnTo>
                  <a:pt x="0" y="254"/>
                </a:lnTo>
              </a:path>
            </a:pathLst>
          </a:custGeom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 useBgFill="1">
        <p:nvSpPr>
          <p:cNvPr id="257" name="Freeform 14"/>
          <p:cNvSpPr/>
          <p:nvPr/>
        </p:nvSpPr>
        <p:spPr>
          <a:xfrm>
            <a:off x="6927840" y="2662200"/>
            <a:ext cx="367920" cy="552240"/>
          </a:xfrm>
          <a:custGeom>
            <a:avLst/>
            <a:gdLst>
              <a:gd name="textAreaLeft" fmla="*/ 0 w 367920"/>
              <a:gd name="textAreaRight" fmla="*/ 368280 w 36792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w="232" h="348">
                <a:moveTo>
                  <a:pt x="52" y="339"/>
                </a:moveTo>
                <a:lnTo>
                  <a:pt x="21" y="295"/>
                </a:lnTo>
                <a:lnTo>
                  <a:pt x="0" y="263"/>
                </a:lnTo>
                <a:lnTo>
                  <a:pt x="0" y="232"/>
                </a:lnTo>
                <a:lnTo>
                  <a:pt x="0" y="200"/>
                </a:lnTo>
                <a:lnTo>
                  <a:pt x="0" y="168"/>
                </a:lnTo>
                <a:lnTo>
                  <a:pt x="0" y="137"/>
                </a:lnTo>
                <a:lnTo>
                  <a:pt x="0" y="105"/>
                </a:lnTo>
                <a:lnTo>
                  <a:pt x="10" y="74"/>
                </a:lnTo>
                <a:lnTo>
                  <a:pt x="31" y="42"/>
                </a:lnTo>
                <a:lnTo>
                  <a:pt x="63" y="21"/>
                </a:lnTo>
                <a:lnTo>
                  <a:pt x="94" y="0"/>
                </a:lnTo>
                <a:lnTo>
                  <a:pt x="126" y="0"/>
                </a:lnTo>
                <a:lnTo>
                  <a:pt x="158" y="0"/>
                </a:lnTo>
                <a:lnTo>
                  <a:pt x="189" y="21"/>
                </a:lnTo>
                <a:lnTo>
                  <a:pt x="200" y="53"/>
                </a:lnTo>
                <a:lnTo>
                  <a:pt x="210" y="84"/>
                </a:lnTo>
                <a:lnTo>
                  <a:pt x="210" y="116"/>
                </a:lnTo>
                <a:lnTo>
                  <a:pt x="210" y="147"/>
                </a:lnTo>
                <a:lnTo>
                  <a:pt x="210" y="179"/>
                </a:lnTo>
                <a:lnTo>
                  <a:pt x="221" y="211"/>
                </a:lnTo>
                <a:lnTo>
                  <a:pt x="221" y="242"/>
                </a:lnTo>
                <a:lnTo>
                  <a:pt x="231" y="274"/>
                </a:lnTo>
                <a:lnTo>
                  <a:pt x="231" y="305"/>
                </a:lnTo>
                <a:lnTo>
                  <a:pt x="200" y="326"/>
                </a:lnTo>
                <a:lnTo>
                  <a:pt x="168" y="337"/>
                </a:lnTo>
                <a:lnTo>
                  <a:pt x="136" y="337"/>
                </a:lnTo>
                <a:lnTo>
                  <a:pt x="105" y="347"/>
                </a:lnTo>
                <a:lnTo>
                  <a:pt x="52" y="339"/>
                </a:lnTo>
                <a:lnTo>
                  <a:pt x="52" y="339"/>
                </a:lnTo>
              </a:path>
            </a:pathLst>
          </a:custGeom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15"/>
          <p:cNvSpPr/>
          <p:nvPr/>
        </p:nvSpPr>
        <p:spPr>
          <a:xfrm>
            <a:off x="4694400" y="3581280"/>
            <a:ext cx="3742920" cy="1068120"/>
          </a:xfrm>
          <a:custGeom>
            <a:avLst/>
            <a:gdLst>
              <a:gd name="textAreaLeft" fmla="*/ 0 w 3742920"/>
              <a:gd name="textAreaRight" fmla="*/ 3743280 w 374292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2358" h="673">
                <a:moveTo>
                  <a:pt x="115" y="89"/>
                </a:moveTo>
                <a:lnTo>
                  <a:pt x="73" y="91"/>
                </a:lnTo>
                <a:lnTo>
                  <a:pt x="63" y="117"/>
                </a:lnTo>
                <a:lnTo>
                  <a:pt x="42" y="142"/>
                </a:lnTo>
                <a:lnTo>
                  <a:pt x="31" y="167"/>
                </a:lnTo>
                <a:lnTo>
                  <a:pt x="21" y="193"/>
                </a:lnTo>
                <a:lnTo>
                  <a:pt x="0" y="217"/>
                </a:lnTo>
                <a:lnTo>
                  <a:pt x="0" y="243"/>
                </a:lnTo>
                <a:lnTo>
                  <a:pt x="0" y="268"/>
                </a:lnTo>
                <a:lnTo>
                  <a:pt x="0" y="285"/>
                </a:lnTo>
                <a:lnTo>
                  <a:pt x="0" y="319"/>
                </a:lnTo>
                <a:lnTo>
                  <a:pt x="0" y="343"/>
                </a:lnTo>
                <a:lnTo>
                  <a:pt x="0" y="369"/>
                </a:lnTo>
                <a:lnTo>
                  <a:pt x="0" y="394"/>
                </a:lnTo>
                <a:lnTo>
                  <a:pt x="0" y="419"/>
                </a:lnTo>
                <a:lnTo>
                  <a:pt x="0" y="445"/>
                </a:lnTo>
                <a:lnTo>
                  <a:pt x="0" y="470"/>
                </a:lnTo>
                <a:lnTo>
                  <a:pt x="0" y="495"/>
                </a:lnTo>
                <a:lnTo>
                  <a:pt x="0" y="520"/>
                </a:lnTo>
                <a:lnTo>
                  <a:pt x="0" y="545"/>
                </a:lnTo>
                <a:lnTo>
                  <a:pt x="10" y="570"/>
                </a:lnTo>
                <a:lnTo>
                  <a:pt x="21" y="588"/>
                </a:lnTo>
                <a:lnTo>
                  <a:pt x="31" y="612"/>
                </a:lnTo>
                <a:lnTo>
                  <a:pt x="31" y="638"/>
                </a:lnTo>
                <a:lnTo>
                  <a:pt x="52" y="663"/>
                </a:lnTo>
                <a:lnTo>
                  <a:pt x="84" y="672"/>
                </a:lnTo>
                <a:lnTo>
                  <a:pt x="116" y="672"/>
                </a:lnTo>
                <a:lnTo>
                  <a:pt x="147" y="672"/>
                </a:lnTo>
                <a:lnTo>
                  <a:pt x="179" y="672"/>
                </a:lnTo>
                <a:lnTo>
                  <a:pt x="210" y="672"/>
                </a:lnTo>
                <a:lnTo>
                  <a:pt x="242" y="663"/>
                </a:lnTo>
                <a:lnTo>
                  <a:pt x="273" y="655"/>
                </a:lnTo>
                <a:lnTo>
                  <a:pt x="305" y="638"/>
                </a:lnTo>
                <a:lnTo>
                  <a:pt x="337" y="629"/>
                </a:lnTo>
                <a:lnTo>
                  <a:pt x="368" y="621"/>
                </a:lnTo>
                <a:lnTo>
                  <a:pt x="400" y="612"/>
                </a:lnTo>
                <a:lnTo>
                  <a:pt x="431" y="604"/>
                </a:lnTo>
                <a:lnTo>
                  <a:pt x="473" y="604"/>
                </a:lnTo>
                <a:lnTo>
                  <a:pt x="505" y="596"/>
                </a:lnTo>
                <a:lnTo>
                  <a:pt x="537" y="588"/>
                </a:lnTo>
                <a:lnTo>
                  <a:pt x="568" y="579"/>
                </a:lnTo>
                <a:lnTo>
                  <a:pt x="600" y="579"/>
                </a:lnTo>
                <a:lnTo>
                  <a:pt x="631" y="570"/>
                </a:lnTo>
                <a:lnTo>
                  <a:pt x="663" y="562"/>
                </a:lnTo>
                <a:lnTo>
                  <a:pt x="694" y="545"/>
                </a:lnTo>
                <a:lnTo>
                  <a:pt x="726" y="537"/>
                </a:lnTo>
                <a:lnTo>
                  <a:pt x="758" y="529"/>
                </a:lnTo>
                <a:lnTo>
                  <a:pt x="789" y="512"/>
                </a:lnTo>
                <a:lnTo>
                  <a:pt x="831" y="503"/>
                </a:lnTo>
                <a:lnTo>
                  <a:pt x="863" y="495"/>
                </a:lnTo>
                <a:lnTo>
                  <a:pt x="894" y="478"/>
                </a:lnTo>
                <a:lnTo>
                  <a:pt x="926" y="478"/>
                </a:lnTo>
                <a:lnTo>
                  <a:pt x="957" y="470"/>
                </a:lnTo>
                <a:lnTo>
                  <a:pt x="979" y="462"/>
                </a:lnTo>
                <a:lnTo>
                  <a:pt x="1010" y="453"/>
                </a:lnTo>
                <a:lnTo>
                  <a:pt x="1042" y="445"/>
                </a:lnTo>
                <a:lnTo>
                  <a:pt x="1084" y="445"/>
                </a:lnTo>
                <a:lnTo>
                  <a:pt x="1115" y="436"/>
                </a:lnTo>
                <a:lnTo>
                  <a:pt x="1147" y="428"/>
                </a:lnTo>
                <a:lnTo>
                  <a:pt x="1168" y="411"/>
                </a:lnTo>
                <a:lnTo>
                  <a:pt x="1200" y="403"/>
                </a:lnTo>
                <a:lnTo>
                  <a:pt x="1231" y="419"/>
                </a:lnTo>
                <a:lnTo>
                  <a:pt x="1273" y="436"/>
                </a:lnTo>
                <a:lnTo>
                  <a:pt x="1315" y="462"/>
                </a:lnTo>
                <a:lnTo>
                  <a:pt x="1347" y="470"/>
                </a:lnTo>
                <a:lnTo>
                  <a:pt x="1378" y="470"/>
                </a:lnTo>
                <a:lnTo>
                  <a:pt x="1410" y="486"/>
                </a:lnTo>
                <a:lnTo>
                  <a:pt x="1442" y="495"/>
                </a:lnTo>
                <a:lnTo>
                  <a:pt x="1473" y="503"/>
                </a:lnTo>
                <a:lnTo>
                  <a:pt x="1505" y="512"/>
                </a:lnTo>
                <a:lnTo>
                  <a:pt x="1536" y="520"/>
                </a:lnTo>
                <a:lnTo>
                  <a:pt x="1578" y="537"/>
                </a:lnTo>
                <a:lnTo>
                  <a:pt x="1620" y="545"/>
                </a:lnTo>
                <a:lnTo>
                  <a:pt x="1642" y="553"/>
                </a:lnTo>
                <a:lnTo>
                  <a:pt x="1673" y="562"/>
                </a:lnTo>
                <a:lnTo>
                  <a:pt x="1705" y="570"/>
                </a:lnTo>
                <a:lnTo>
                  <a:pt x="1736" y="579"/>
                </a:lnTo>
                <a:lnTo>
                  <a:pt x="1768" y="588"/>
                </a:lnTo>
                <a:lnTo>
                  <a:pt x="1810" y="596"/>
                </a:lnTo>
                <a:lnTo>
                  <a:pt x="1841" y="604"/>
                </a:lnTo>
                <a:lnTo>
                  <a:pt x="1863" y="604"/>
                </a:lnTo>
                <a:lnTo>
                  <a:pt x="1947" y="612"/>
                </a:lnTo>
                <a:lnTo>
                  <a:pt x="1989" y="621"/>
                </a:lnTo>
                <a:lnTo>
                  <a:pt x="2020" y="621"/>
                </a:lnTo>
                <a:lnTo>
                  <a:pt x="2062" y="621"/>
                </a:lnTo>
                <a:lnTo>
                  <a:pt x="2094" y="629"/>
                </a:lnTo>
                <a:lnTo>
                  <a:pt x="2126" y="629"/>
                </a:lnTo>
                <a:lnTo>
                  <a:pt x="2157" y="638"/>
                </a:lnTo>
                <a:lnTo>
                  <a:pt x="2189" y="638"/>
                </a:lnTo>
                <a:lnTo>
                  <a:pt x="2220" y="638"/>
                </a:lnTo>
                <a:lnTo>
                  <a:pt x="2252" y="638"/>
                </a:lnTo>
                <a:lnTo>
                  <a:pt x="2283" y="638"/>
                </a:lnTo>
                <a:lnTo>
                  <a:pt x="2305" y="638"/>
                </a:lnTo>
                <a:lnTo>
                  <a:pt x="2326" y="612"/>
                </a:lnTo>
                <a:lnTo>
                  <a:pt x="2336" y="588"/>
                </a:lnTo>
                <a:lnTo>
                  <a:pt x="2336" y="570"/>
                </a:lnTo>
                <a:lnTo>
                  <a:pt x="2347" y="545"/>
                </a:lnTo>
                <a:lnTo>
                  <a:pt x="2347" y="520"/>
                </a:lnTo>
                <a:lnTo>
                  <a:pt x="2357" y="495"/>
                </a:lnTo>
                <a:lnTo>
                  <a:pt x="2357" y="470"/>
                </a:lnTo>
                <a:lnTo>
                  <a:pt x="2357" y="445"/>
                </a:lnTo>
                <a:lnTo>
                  <a:pt x="2357" y="419"/>
                </a:lnTo>
                <a:lnTo>
                  <a:pt x="2357" y="394"/>
                </a:lnTo>
                <a:lnTo>
                  <a:pt x="2357" y="369"/>
                </a:lnTo>
                <a:lnTo>
                  <a:pt x="2357" y="343"/>
                </a:lnTo>
                <a:lnTo>
                  <a:pt x="2357" y="319"/>
                </a:lnTo>
                <a:lnTo>
                  <a:pt x="2357" y="293"/>
                </a:lnTo>
                <a:lnTo>
                  <a:pt x="2347" y="268"/>
                </a:lnTo>
                <a:lnTo>
                  <a:pt x="2336" y="243"/>
                </a:lnTo>
                <a:lnTo>
                  <a:pt x="2326" y="217"/>
                </a:lnTo>
                <a:lnTo>
                  <a:pt x="2305" y="193"/>
                </a:lnTo>
                <a:lnTo>
                  <a:pt x="2283" y="176"/>
                </a:lnTo>
                <a:lnTo>
                  <a:pt x="2273" y="150"/>
                </a:lnTo>
                <a:lnTo>
                  <a:pt x="2262" y="126"/>
                </a:lnTo>
                <a:lnTo>
                  <a:pt x="2262" y="108"/>
                </a:lnTo>
                <a:lnTo>
                  <a:pt x="2252" y="83"/>
                </a:lnTo>
                <a:lnTo>
                  <a:pt x="2231" y="58"/>
                </a:lnTo>
                <a:lnTo>
                  <a:pt x="2199" y="50"/>
                </a:lnTo>
                <a:lnTo>
                  <a:pt x="2168" y="41"/>
                </a:lnTo>
                <a:lnTo>
                  <a:pt x="2136" y="33"/>
                </a:lnTo>
                <a:lnTo>
                  <a:pt x="2105" y="24"/>
                </a:lnTo>
                <a:lnTo>
                  <a:pt x="2073" y="24"/>
                </a:lnTo>
                <a:lnTo>
                  <a:pt x="2041" y="24"/>
                </a:lnTo>
                <a:lnTo>
                  <a:pt x="2010" y="24"/>
                </a:lnTo>
                <a:lnTo>
                  <a:pt x="1978" y="24"/>
                </a:lnTo>
                <a:lnTo>
                  <a:pt x="1947" y="24"/>
                </a:lnTo>
                <a:lnTo>
                  <a:pt x="1915" y="24"/>
                </a:lnTo>
                <a:lnTo>
                  <a:pt x="1884" y="16"/>
                </a:lnTo>
                <a:lnTo>
                  <a:pt x="1852" y="7"/>
                </a:lnTo>
                <a:lnTo>
                  <a:pt x="1820" y="7"/>
                </a:lnTo>
                <a:lnTo>
                  <a:pt x="1789" y="7"/>
                </a:lnTo>
                <a:lnTo>
                  <a:pt x="1757" y="16"/>
                </a:lnTo>
                <a:lnTo>
                  <a:pt x="1715" y="16"/>
                </a:lnTo>
                <a:lnTo>
                  <a:pt x="1684" y="24"/>
                </a:lnTo>
                <a:lnTo>
                  <a:pt x="1652" y="24"/>
                </a:lnTo>
                <a:lnTo>
                  <a:pt x="1610" y="24"/>
                </a:lnTo>
                <a:lnTo>
                  <a:pt x="1578" y="24"/>
                </a:lnTo>
                <a:lnTo>
                  <a:pt x="1547" y="24"/>
                </a:lnTo>
                <a:lnTo>
                  <a:pt x="1505" y="24"/>
                </a:lnTo>
                <a:lnTo>
                  <a:pt x="1473" y="24"/>
                </a:lnTo>
                <a:lnTo>
                  <a:pt x="1442" y="24"/>
                </a:lnTo>
                <a:lnTo>
                  <a:pt x="1410" y="24"/>
                </a:lnTo>
                <a:lnTo>
                  <a:pt x="1378" y="24"/>
                </a:lnTo>
                <a:lnTo>
                  <a:pt x="1347" y="24"/>
                </a:lnTo>
                <a:lnTo>
                  <a:pt x="1315" y="24"/>
                </a:lnTo>
                <a:lnTo>
                  <a:pt x="1284" y="24"/>
                </a:lnTo>
                <a:lnTo>
                  <a:pt x="1252" y="16"/>
                </a:lnTo>
                <a:lnTo>
                  <a:pt x="1221" y="16"/>
                </a:lnTo>
                <a:lnTo>
                  <a:pt x="1189" y="16"/>
                </a:lnTo>
                <a:lnTo>
                  <a:pt x="1157" y="16"/>
                </a:lnTo>
                <a:lnTo>
                  <a:pt x="1126" y="16"/>
                </a:lnTo>
                <a:lnTo>
                  <a:pt x="1094" y="16"/>
                </a:lnTo>
                <a:lnTo>
                  <a:pt x="1063" y="16"/>
                </a:lnTo>
                <a:lnTo>
                  <a:pt x="1031" y="16"/>
                </a:lnTo>
                <a:lnTo>
                  <a:pt x="1000" y="24"/>
                </a:lnTo>
                <a:lnTo>
                  <a:pt x="968" y="24"/>
                </a:lnTo>
                <a:lnTo>
                  <a:pt x="936" y="33"/>
                </a:lnTo>
                <a:lnTo>
                  <a:pt x="905" y="41"/>
                </a:lnTo>
                <a:lnTo>
                  <a:pt x="873" y="50"/>
                </a:lnTo>
                <a:lnTo>
                  <a:pt x="842" y="50"/>
                </a:lnTo>
                <a:lnTo>
                  <a:pt x="810" y="50"/>
                </a:lnTo>
                <a:lnTo>
                  <a:pt x="779" y="50"/>
                </a:lnTo>
                <a:lnTo>
                  <a:pt x="747" y="50"/>
                </a:lnTo>
                <a:lnTo>
                  <a:pt x="715" y="50"/>
                </a:lnTo>
                <a:lnTo>
                  <a:pt x="684" y="50"/>
                </a:lnTo>
                <a:lnTo>
                  <a:pt x="652" y="50"/>
                </a:lnTo>
                <a:lnTo>
                  <a:pt x="621" y="50"/>
                </a:lnTo>
                <a:lnTo>
                  <a:pt x="589" y="50"/>
                </a:lnTo>
                <a:lnTo>
                  <a:pt x="558" y="50"/>
                </a:lnTo>
                <a:lnTo>
                  <a:pt x="526" y="50"/>
                </a:lnTo>
                <a:lnTo>
                  <a:pt x="484" y="41"/>
                </a:lnTo>
                <a:lnTo>
                  <a:pt x="452" y="41"/>
                </a:lnTo>
                <a:lnTo>
                  <a:pt x="421" y="33"/>
                </a:lnTo>
                <a:lnTo>
                  <a:pt x="389" y="24"/>
                </a:lnTo>
                <a:lnTo>
                  <a:pt x="358" y="16"/>
                </a:lnTo>
                <a:lnTo>
                  <a:pt x="326" y="7"/>
                </a:lnTo>
                <a:lnTo>
                  <a:pt x="294" y="0"/>
                </a:lnTo>
                <a:lnTo>
                  <a:pt x="263" y="0"/>
                </a:lnTo>
                <a:lnTo>
                  <a:pt x="231" y="0"/>
                </a:lnTo>
                <a:lnTo>
                  <a:pt x="200" y="16"/>
                </a:lnTo>
                <a:lnTo>
                  <a:pt x="168" y="33"/>
                </a:lnTo>
                <a:lnTo>
                  <a:pt x="137" y="50"/>
                </a:lnTo>
                <a:lnTo>
                  <a:pt x="115" y="89"/>
                </a:lnTo>
                <a:lnTo>
                  <a:pt x="73" y="75"/>
                </a:lnTo>
                <a:lnTo>
                  <a:pt x="115" y="89"/>
                </a:lnTo>
              </a:path>
            </a:pathLst>
          </a:custGeom>
          <a:pattFill prst="wdUpDiag">
            <a:fgClr>
              <a:srgbClr val="eeece1"/>
            </a:fgClr>
            <a:bgClr>
              <a:srgbClr val="0000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6"/>
          <p:cNvSpPr/>
          <p:nvPr/>
        </p:nvSpPr>
        <p:spPr>
          <a:xfrm>
            <a:off x="6858000" y="2913120"/>
            <a:ext cx="1707840" cy="1120320"/>
          </a:xfrm>
          <a:custGeom>
            <a:avLst/>
            <a:gdLst>
              <a:gd name="textAreaLeft" fmla="*/ 0 w 1707840"/>
              <a:gd name="textAreaRight" fmla="*/ 1708200 w 1707840"/>
              <a:gd name="textAreaTop" fmla="*/ 0 h 1120320"/>
              <a:gd name="textAreaBottom" fmla="*/ 1120680 h 1120320"/>
            </a:gdLst>
            <a:ahLst/>
            <a:rect l="textAreaLeft" t="textAreaTop" r="textAreaRight" b="textAreaBottom"/>
            <a:pathLst>
              <a:path w="1076" h="706">
                <a:moveTo>
                  <a:pt x="0" y="325"/>
                </a:moveTo>
                <a:lnTo>
                  <a:pt x="23" y="274"/>
                </a:lnTo>
                <a:lnTo>
                  <a:pt x="23" y="242"/>
                </a:lnTo>
                <a:lnTo>
                  <a:pt x="33" y="210"/>
                </a:lnTo>
                <a:lnTo>
                  <a:pt x="65" y="210"/>
                </a:lnTo>
                <a:lnTo>
                  <a:pt x="96" y="210"/>
                </a:lnTo>
                <a:lnTo>
                  <a:pt x="128" y="210"/>
                </a:lnTo>
                <a:lnTo>
                  <a:pt x="159" y="210"/>
                </a:lnTo>
                <a:lnTo>
                  <a:pt x="191" y="200"/>
                </a:lnTo>
                <a:lnTo>
                  <a:pt x="223" y="189"/>
                </a:lnTo>
                <a:lnTo>
                  <a:pt x="254" y="179"/>
                </a:lnTo>
                <a:lnTo>
                  <a:pt x="286" y="168"/>
                </a:lnTo>
                <a:lnTo>
                  <a:pt x="317" y="147"/>
                </a:lnTo>
                <a:lnTo>
                  <a:pt x="349" y="126"/>
                </a:lnTo>
                <a:lnTo>
                  <a:pt x="380" y="95"/>
                </a:lnTo>
                <a:lnTo>
                  <a:pt x="401" y="63"/>
                </a:lnTo>
                <a:lnTo>
                  <a:pt x="423" y="53"/>
                </a:lnTo>
                <a:lnTo>
                  <a:pt x="444" y="31"/>
                </a:lnTo>
                <a:lnTo>
                  <a:pt x="475" y="21"/>
                </a:lnTo>
                <a:lnTo>
                  <a:pt x="507" y="21"/>
                </a:lnTo>
                <a:lnTo>
                  <a:pt x="549" y="10"/>
                </a:lnTo>
                <a:lnTo>
                  <a:pt x="580" y="0"/>
                </a:lnTo>
                <a:lnTo>
                  <a:pt x="612" y="0"/>
                </a:lnTo>
                <a:lnTo>
                  <a:pt x="644" y="0"/>
                </a:lnTo>
                <a:lnTo>
                  <a:pt x="675" y="0"/>
                </a:lnTo>
                <a:lnTo>
                  <a:pt x="707" y="0"/>
                </a:lnTo>
                <a:lnTo>
                  <a:pt x="738" y="10"/>
                </a:lnTo>
                <a:lnTo>
                  <a:pt x="759" y="42"/>
                </a:lnTo>
                <a:lnTo>
                  <a:pt x="791" y="63"/>
                </a:lnTo>
                <a:lnTo>
                  <a:pt x="822" y="84"/>
                </a:lnTo>
                <a:lnTo>
                  <a:pt x="843" y="116"/>
                </a:lnTo>
                <a:lnTo>
                  <a:pt x="865" y="137"/>
                </a:lnTo>
                <a:lnTo>
                  <a:pt x="896" y="158"/>
                </a:lnTo>
                <a:lnTo>
                  <a:pt x="970" y="179"/>
                </a:lnTo>
                <a:lnTo>
                  <a:pt x="1001" y="189"/>
                </a:lnTo>
                <a:lnTo>
                  <a:pt x="1033" y="200"/>
                </a:lnTo>
                <a:lnTo>
                  <a:pt x="1043" y="231"/>
                </a:lnTo>
                <a:lnTo>
                  <a:pt x="1054" y="253"/>
                </a:lnTo>
                <a:lnTo>
                  <a:pt x="1064" y="284"/>
                </a:lnTo>
                <a:lnTo>
                  <a:pt x="1075" y="316"/>
                </a:lnTo>
                <a:lnTo>
                  <a:pt x="1075" y="347"/>
                </a:lnTo>
                <a:lnTo>
                  <a:pt x="1075" y="379"/>
                </a:lnTo>
                <a:lnTo>
                  <a:pt x="1075" y="410"/>
                </a:lnTo>
                <a:lnTo>
                  <a:pt x="1075" y="432"/>
                </a:lnTo>
                <a:lnTo>
                  <a:pt x="1075" y="463"/>
                </a:lnTo>
                <a:lnTo>
                  <a:pt x="1064" y="495"/>
                </a:lnTo>
                <a:lnTo>
                  <a:pt x="1054" y="526"/>
                </a:lnTo>
                <a:lnTo>
                  <a:pt x="1043" y="558"/>
                </a:lnTo>
                <a:lnTo>
                  <a:pt x="1033" y="589"/>
                </a:lnTo>
                <a:lnTo>
                  <a:pt x="1022" y="611"/>
                </a:lnTo>
                <a:lnTo>
                  <a:pt x="1012" y="642"/>
                </a:lnTo>
                <a:lnTo>
                  <a:pt x="1001" y="674"/>
                </a:lnTo>
                <a:lnTo>
                  <a:pt x="970" y="705"/>
                </a:lnTo>
                <a:lnTo>
                  <a:pt x="938" y="705"/>
                </a:lnTo>
                <a:lnTo>
                  <a:pt x="907" y="705"/>
                </a:lnTo>
                <a:lnTo>
                  <a:pt x="875" y="695"/>
                </a:lnTo>
                <a:lnTo>
                  <a:pt x="843" y="674"/>
                </a:lnTo>
                <a:lnTo>
                  <a:pt x="812" y="653"/>
                </a:lnTo>
                <a:lnTo>
                  <a:pt x="780" y="621"/>
                </a:lnTo>
                <a:lnTo>
                  <a:pt x="749" y="611"/>
                </a:lnTo>
                <a:lnTo>
                  <a:pt x="717" y="600"/>
                </a:lnTo>
                <a:lnTo>
                  <a:pt x="686" y="589"/>
                </a:lnTo>
                <a:lnTo>
                  <a:pt x="654" y="579"/>
                </a:lnTo>
                <a:lnTo>
                  <a:pt x="622" y="568"/>
                </a:lnTo>
                <a:lnTo>
                  <a:pt x="591" y="558"/>
                </a:lnTo>
                <a:lnTo>
                  <a:pt x="559" y="547"/>
                </a:lnTo>
                <a:lnTo>
                  <a:pt x="517" y="537"/>
                </a:lnTo>
                <a:lnTo>
                  <a:pt x="486" y="516"/>
                </a:lnTo>
                <a:lnTo>
                  <a:pt x="454" y="495"/>
                </a:lnTo>
                <a:lnTo>
                  <a:pt x="423" y="484"/>
                </a:lnTo>
                <a:lnTo>
                  <a:pt x="401" y="484"/>
                </a:lnTo>
                <a:lnTo>
                  <a:pt x="380" y="453"/>
                </a:lnTo>
                <a:lnTo>
                  <a:pt x="370" y="421"/>
                </a:lnTo>
                <a:lnTo>
                  <a:pt x="338" y="400"/>
                </a:lnTo>
                <a:lnTo>
                  <a:pt x="307" y="379"/>
                </a:lnTo>
                <a:lnTo>
                  <a:pt x="275" y="358"/>
                </a:lnTo>
                <a:lnTo>
                  <a:pt x="244" y="347"/>
                </a:lnTo>
                <a:lnTo>
                  <a:pt x="212" y="337"/>
                </a:lnTo>
                <a:lnTo>
                  <a:pt x="180" y="326"/>
                </a:lnTo>
                <a:lnTo>
                  <a:pt x="149" y="326"/>
                </a:lnTo>
                <a:lnTo>
                  <a:pt x="117" y="326"/>
                </a:lnTo>
                <a:lnTo>
                  <a:pt x="86" y="337"/>
                </a:lnTo>
                <a:lnTo>
                  <a:pt x="54" y="347"/>
                </a:lnTo>
                <a:lnTo>
                  <a:pt x="0" y="325"/>
                </a:lnTo>
                <a:lnTo>
                  <a:pt x="12" y="274"/>
                </a:lnTo>
                <a:lnTo>
                  <a:pt x="23" y="242"/>
                </a:lnTo>
                <a:lnTo>
                  <a:pt x="54" y="210"/>
                </a:lnTo>
                <a:lnTo>
                  <a:pt x="48" y="229"/>
                </a:lnTo>
              </a:path>
            </a:pathLst>
          </a:custGeom>
          <a:pattFill prst="wdUpDiag">
            <a:fgClr>
              <a:srgbClr val="ff5050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17"/>
          <p:cNvSpPr/>
          <p:nvPr/>
        </p:nvSpPr>
        <p:spPr>
          <a:xfrm>
            <a:off x="4605480" y="2895480"/>
            <a:ext cx="1622160" cy="1037880"/>
          </a:xfrm>
          <a:custGeom>
            <a:avLst/>
            <a:gdLst>
              <a:gd name="textAreaLeft" fmla="*/ 0 w 1622160"/>
              <a:gd name="textAreaRight" fmla="*/ 1622520 w 1622160"/>
              <a:gd name="textAreaTop" fmla="*/ 0 h 1037880"/>
              <a:gd name="textAreaBottom" fmla="*/ 1038240 h 1037880"/>
            </a:gdLst>
            <a:ahLst/>
            <a:rect l="textAreaLeft" t="textAreaTop" r="textAreaRight" b="textAreaBottom"/>
            <a:pathLst>
              <a:path w="1022" h="654">
                <a:moveTo>
                  <a:pt x="123" y="192"/>
                </a:moveTo>
                <a:lnTo>
                  <a:pt x="168" y="169"/>
                </a:lnTo>
                <a:lnTo>
                  <a:pt x="189" y="137"/>
                </a:lnTo>
                <a:lnTo>
                  <a:pt x="221" y="116"/>
                </a:lnTo>
                <a:lnTo>
                  <a:pt x="242" y="85"/>
                </a:lnTo>
                <a:lnTo>
                  <a:pt x="273" y="74"/>
                </a:lnTo>
                <a:lnTo>
                  <a:pt x="295" y="64"/>
                </a:lnTo>
                <a:lnTo>
                  <a:pt x="316" y="42"/>
                </a:lnTo>
                <a:lnTo>
                  <a:pt x="347" y="32"/>
                </a:lnTo>
                <a:lnTo>
                  <a:pt x="379" y="11"/>
                </a:lnTo>
                <a:lnTo>
                  <a:pt x="410" y="0"/>
                </a:lnTo>
                <a:lnTo>
                  <a:pt x="442" y="0"/>
                </a:lnTo>
                <a:lnTo>
                  <a:pt x="473" y="0"/>
                </a:lnTo>
                <a:lnTo>
                  <a:pt x="505" y="0"/>
                </a:lnTo>
                <a:lnTo>
                  <a:pt x="537" y="0"/>
                </a:lnTo>
                <a:lnTo>
                  <a:pt x="568" y="0"/>
                </a:lnTo>
                <a:lnTo>
                  <a:pt x="600" y="0"/>
                </a:lnTo>
                <a:lnTo>
                  <a:pt x="631" y="0"/>
                </a:lnTo>
                <a:lnTo>
                  <a:pt x="663" y="11"/>
                </a:lnTo>
                <a:lnTo>
                  <a:pt x="694" y="32"/>
                </a:lnTo>
                <a:lnTo>
                  <a:pt x="705" y="64"/>
                </a:lnTo>
                <a:lnTo>
                  <a:pt x="737" y="85"/>
                </a:lnTo>
                <a:lnTo>
                  <a:pt x="768" y="116"/>
                </a:lnTo>
                <a:lnTo>
                  <a:pt x="800" y="127"/>
                </a:lnTo>
                <a:lnTo>
                  <a:pt x="831" y="148"/>
                </a:lnTo>
                <a:lnTo>
                  <a:pt x="863" y="169"/>
                </a:lnTo>
                <a:lnTo>
                  <a:pt x="894" y="190"/>
                </a:lnTo>
                <a:lnTo>
                  <a:pt x="979" y="211"/>
                </a:lnTo>
                <a:lnTo>
                  <a:pt x="1010" y="232"/>
                </a:lnTo>
                <a:lnTo>
                  <a:pt x="1021" y="264"/>
                </a:lnTo>
                <a:lnTo>
                  <a:pt x="1021" y="295"/>
                </a:lnTo>
                <a:lnTo>
                  <a:pt x="989" y="316"/>
                </a:lnTo>
                <a:lnTo>
                  <a:pt x="958" y="316"/>
                </a:lnTo>
                <a:lnTo>
                  <a:pt x="936" y="316"/>
                </a:lnTo>
                <a:lnTo>
                  <a:pt x="905" y="337"/>
                </a:lnTo>
                <a:lnTo>
                  <a:pt x="873" y="337"/>
                </a:lnTo>
                <a:lnTo>
                  <a:pt x="842" y="348"/>
                </a:lnTo>
                <a:lnTo>
                  <a:pt x="810" y="358"/>
                </a:lnTo>
                <a:lnTo>
                  <a:pt x="779" y="369"/>
                </a:lnTo>
                <a:lnTo>
                  <a:pt x="747" y="379"/>
                </a:lnTo>
                <a:lnTo>
                  <a:pt x="715" y="390"/>
                </a:lnTo>
                <a:lnTo>
                  <a:pt x="684" y="400"/>
                </a:lnTo>
                <a:lnTo>
                  <a:pt x="652" y="411"/>
                </a:lnTo>
                <a:lnTo>
                  <a:pt x="621" y="432"/>
                </a:lnTo>
                <a:lnTo>
                  <a:pt x="589" y="464"/>
                </a:lnTo>
                <a:lnTo>
                  <a:pt x="568" y="495"/>
                </a:lnTo>
                <a:lnTo>
                  <a:pt x="558" y="527"/>
                </a:lnTo>
                <a:lnTo>
                  <a:pt x="526" y="537"/>
                </a:lnTo>
                <a:lnTo>
                  <a:pt x="494" y="548"/>
                </a:lnTo>
                <a:lnTo>
                  <a:pt x="463" y="569"/>
                </a:lnTo>
                <a:lnTo>
                  <a:pt x="431" y="579"/>
                </a:lnTo>
                <a:lnTo>
                  <a:pt x="400" y="590"/>
                </a:lnTo>
                <a:lnTo>
                  <a:pt x="368" y="600"/>
                </a:lnTo>
                <a:lnTo>
                  <a:pt x="337" y="611"/>
                </a:lnTo>
                <a:lnTo>
                  <a:pt x="305" y="622"/>
                </a:lnTo>
                <a:lnTo>
                  <a:pt x="273" y="632"/>
                </a:lnTo>
                <a:lnTo>
                  <a:pt x="242" y="643"/>
                </a:lnTo>
                <a:lnTo>
                  <a:pt x="210" y="653"/>
                </a:lnTo>
                <a:lnTo>
                  <a:pt x="168" y="653"/>
                </a:lnTo>
                <a:lnTo>
                  <a:pt x="126" y="653"/>
                </a:lnTo>
                <a:lnTo>
                  <a:pt x="95" y="643"/>
                </a:lnTo>
                <a:lnTo>
                  <a:pt x="63" y="622"/>
                </a:lnTo>
                <a:lnTo>
                  <a:pt x="42" y="600"/>
                </a:lnTo>
                <a:lnTo>
                  <a:pt x="31" y="569"/>
                </a:lnTo>
                <a:lnTo>
                  <a:pt x="21" y="537"/>
                </a:lnTo>
                <a:lnTo>
                  <a:pt x="21" y="506"/>
                </a:lnTo>
                <a:lnTo>
                  <a:pt x="21" y="474"/>
                </a:lnTo>
                <a:lnTo>
                  <a:pt x="21" y="443"/>
                </a:lnTo>
                <a:lnTo>
                  <a:pt x="10" y="421"/>
                </a:lnTo>
                <a:lnTo>
                  <a:pt x="10" y="390"/>
                </a:lnTo>
                <a:lnTo>
                  <a:pt x="0" y="358"/>
                </a:lnTo>
                <a:lnTo>
                  <a:pt x="0" y="327"/>
                </a:lnTo>
                <a:lnTo>
                  <a:pt x="0" y="295"/>
                </a:lnTo>
                <a:lnTo>
                  <a:pt x="0" y="264"/>
                </a:lnTo>
                <a:lnTo>
                  <a:pt x="0" y="242"/>
                </a:lnTo>
                <a:lnTo>
                  <a:pt x="10" y="211"/>
                </a:lnTo>
                <a:lnTo>
                  <a:pt x="31" y="179"/>
                </a:lnTo>
                <a:lnTo>
                  <a:pt x="63" y="158"/>
                </a:lnTo>
                <a:lnTo>
                  <a:pt x="95" y="148"/>
                </a:lnTo>
                <a:lnTo>
                  <a:pt x="123" y="192"/>
                </a:lnTo>
                <a:lnTo>
                  <a:pt x="123" y="192"/>
                </a:lnTo>
              </a:path>
            </a:pathLst>
          </a:custGeom>
          <a:pattFill prst="wdUpDiag">
            <a:fgClr>
              <a:srgbClr val="ff5050"/>
            </a:fgClr>
            <a:bgClr>
              <a:srgbClr val="ffffff"/>
            </a:bgClr>
          </a:patt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18"/>
          <p:cNvSpPr/>
          <p:nvPr/>
        </p:nvSpPr>
        <p:spPr>
          <a:xfrm>
            <a:off x="5573880" y="3330720"/>
            <a:ext cx="1806120" cy="318600"/>
          </a:xfrm>
          <a:custGeom>
            <a:avLst/>
            <a:gdLst>
              <a:gd name="textAreaLeft" fmla="*/ 0 w 1806120"/>
              <a:gd name="textAreaRight" fmla="*/ 1806480 w 1806120"/>
              <a:gd name="textAreaTop" fmla="*/ 0 h 318600"/>
              <a:gd name="textAreaBottom" fmla="*/ 318960 h 318600"/>
            </a:gdLst>
            <a:ahLst/>
            <a:rect l="textAreaLeft" t="textAreaTop" r="textAreaRight" b="textAreaBottom"/>
            <a:pathLst>
              <a:path w="1138" h="201">
                <a:moveTo>
                  <a:pt x="953" y="62"/>
                </a:moveTo>
                <a:lnTo>
                  <a:pt x="905" y="53"/>
                </a:lnTo>
                <a:lnTo>
                  <a:pt x="874" y="53"/>
                </a:lnTo>
                <a:lnTo>
                  <a:pt x="842" y="53"/>
                </a:lnTo>
                <a:lnTo>
                  <a:pt x="811" y="53"/>
                </a:lnTo>
                <a:lnTo>
                  <a:pt x="779" y="53"/>
                </a:lnTo>
                <a:lnTo>
                  <a:pt x="747" y="53"/>
                </a:lnTo>
                <a:lnTo>
                  <a:pt x="716" y="42"/>
                </a:lnTo>
                <a:lnTo>
                  <a:pt x="684" y="42"/>
                </a:lnTo>
                <a:lnTo>
                  <a:pt x="653" y="32"/>
                </a:lnTo>
                <a:lnTo>
                  <a:pt x="621" y="21"/>
                </a:lnTo>
                <a:lnTo>
                  <a:pt x="590" y="11"/>
                </a:lnTo>
                <a:lnTo>
                  <a:pt x="558" y="0"/>
                </a:lnTo>
                <a:lnTo>
                  <a:pt x="526" y="0"/>
                </a:lnTo>
                <a:lnTo>
                  <a:pt x="495" y="0"/>
                </a:lnTo>
                <a:lnTo>
                  <a:pt x="463" y="11"/>
                </a:lnTo>
                <a:lnTo>
                  <a:pt x="432" y="21"/>
                </a:lnTo>
                <a:lnTo>
                  <a:pt x="400" y="32"/>
                </a:lnTo>
                <a:lnTo>
                  <a:pt x="369" y="42"/>
                </a:lnTo>
                <a:lnTo>
                  <a:pt x="337" y="42"/>
                </a:lnTo>
                <a:lnTo>
                  <a:pt x="305" y="53"/>
                </a:lnTo>
                <a:lnTo>
                  <a:pt x="274" y="63"/>
                </a:lnTo>
                <a:lnTo>
                  <a:pt x="242" y="74"/>
                </a:lnTo>
                <a:lnTo>
                  <a:pt x="211" y="84"/>
                </a:lnTo>
                <a:lnTo>
                  <a:pt x="179" y="84"/>
                </a:lnTo>
                <a:lnTo>
                  <a:pt x="148" y="95"/>
                </a:lnTo>
                <a:lnTo>
                  <a:pt x="116" y="105"/>
                </a:lnTo>
                <a:lnTo>
                  <a:pt x="84" y="116"/>
                </a:lnTo>
                <a:lnTo>
                  <a:pt x="53" y="126"/>
                </a:lnTo>
                <a:lnTo>
                  <a:pt x="21" y="147"/>
                </a:lnTo>
                <a:lnTo>
                  <a:pt x="0" y="169"/>
                </a:lnTo>
                <a:lnTo>
                  <a:pt x="32" y="190"/>
                </a:lnTo>
                <a:lnTo>
                  <a:pt x="63" y="190"/>
                </a:lnTo>
                <a:lnTo>
                  <a:pt x="95" y="190"/>
                </a:lnTo>
                <a:lnTo>
                  <a:pt x="127" y="190"/>
                </a:lnTo>
                <a:lnTo>
                  <a:pt x="158" y="190"/>
                </a:lnTo>
                <a:lnTo>
                  <a:pt x="190" y="190"/>
                </a:lnTo>
                <a:lnTo>
                  <a:pt x="221" y="190"/>
                </a:lnTo>
                <a:lnTo>
                  <a:pt x="253" y="190"/>
                </a:lnTo>
                <a:lnTo>
                  <a:pt x="284" y="190"/>
                </a:lnTo>
                <a:lnTo>
                  <a:pt x="316" y="190"/>
                </a:lnTo>
                <a:lnTo>
                  <a:pt x="348" y="190"/>
                </a:lnTo>
                <a:lnTo>
                  <a:pt x="379" y="200"/>
                </a:lnTo>
                <a:lnTo>
                  <a:pt x="411" y="200"/>
                </a:lnTo>
                <a:lnTo>
                  <a:pt x="442" y="200"/>
                </a:lnTo>
                <a:lnTo>
                  <a:pt x="484" y="200"/>
                </a:lnTo>
                <a:lnTo>
                  <a:pt x="516" y="200"/>
                </a:lnTo>
                <a:lnTo>
                  <a:pt x="558" y="200"/>
                </a:lnTo>
                <a:lnTo>
                  <a:pt x="590" y="200"/>
                </a:lnTo>
                <a:lnTo>
                  <a:pt x="621" y="200"/>
                </a:lnTo>
                <a:lnTo>
                  <a:pt x="653" y="200"/>
                </a:lnTo>
                <a:lnTo>
                  <a:pt x="684" y="200"/>
                </a:lnTo>
                <a:lnTo>
                  <a:pt x="726" y="200"/>
                </a:lnTo>
                <a:lnTo>
                  <a:pt x="758" y="200"/>
                </a:lnTo>
                <a:lnTo>
                  <a:pt x="790" y="200"/>
                </a:lnTo>
                <a:lnTo>
                  <a:pt x="821" y="200"/>
                </a:lnTo>
                <a:lnTo>
                  <a:pt x="853" y="200"/>
                </a:lnTo>
                <a:lnTo>
                  <a:pt x="884" y="200"/>
                </a:lnTo>
                <a:lnTo>
                  <a:pt x="916" y="200"/>
                </a:lnTo>
                <a:lnTo>
                  <a:pt x="947" y="200"/>
                </a:lnTo>
                <a:lnTo>
                  <a:pt x="979" y="200"/>
                </a:lnTo>
                <a:lnTo>
                  <a:pt x="1011" y="190"/>
                </a:lnTo>
                <a:lnTo>
                  <a:pt x="1042" y="190"/>
                </a:lnTo>
                <a:lnTo>
                  <a:pt x="1074" y="179"/>
                </a:lnTo>
                <a:lnTo>
                  <a:pt x="1105" y="179"/>
                </a:lnTo>
                <a:lnTo>
                  <a:pt x="1137" y="179"/>
                </a:lnTo>
                <a:lnTo>
                  <a:pt x="1137" y="147"/>
                </a:lnTo>
                <a:lnTo>
                  <a:pt x="1126" y="116"/>
                </a:lnTo>
                <a:lnTo>
                  <a:pt x="1095" y="95"/>
                </a:lnTo>
                <a:lnTo>
                  <a:pt x="1063" y="84"/>
                </a:lnTo>
                <a:lnTo>
                  <a:pt x="1032" y="63"/>
                </a:lnTo>
                <a:lnTo>
                  <a:pt x="1000" y="53"/>
                </a:lnTo>
                <a:lnTo>
                  <a:pt x="953" y="62"/>
                </a:lnTo>
                <a:lnTo>
                  <a:pt x="905" y="53"/>
                </a:lnTo>
                <a:lnTo>
                  <a:pt x="905" y="62"/>
                </a:lnTo>
              </a:path>
            </a:pathLst>
          </a:custGeom>
          <a:solidFill>
            <a:srgbClr val="4d4d4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19"/>
          <p:cNvSpPr/>
          <p:nvPr/>
        </p:nvSpPr>
        <p:spPr>
          <a:xfrm>
            <a:off x="4597560" y="2438280"/>
            <a:ext cx="603000" cy="785520"/>
          </a:xfrm>
          <a:custGeom>
            <a:avLst/>
            <a:gdLst>
              <a:gd name="textAreaLeft" fmla="*/ 0 w 603000"/>
              <a:gd name="textAreaRight" fmla="*/ 603360 w 603000"/>
              <a:gd name="textAreaTop" fmla="*/ 0 h 785520"/>
              <a:gd name="textAreaBottom" fmla="*/ 785880 h 785520"/>
            </a:gdLst>
            <a:ahLst/>
            <a:rect l="textAreaLeft" t="textAreaTop" r="textAreaRight" b="textAreaBottom"/>
            <a:pathLst>
              <a:path w="380" h="495">
                <a:moveTo>
                  <a:pt x="80" y="0"/>
                </a:moveTo>
                <a:lnTo>
                  <a:pt x="127" y="10"/>
                </a:lnTo>
                <a:lnTo>
                  <a:pt x="158" y="31"/>
                </a:lnTo>
                <a:lnTo>
                  <a:pt x="190" y="52"/>
                </a:lnTo>
                <a:lnTo>
                  <a:pt x="221" y="73"/>
                </a:lnTo>
                <a:lnTo>
                  <a:pt x="253" y="84"/>
                </a:lnTo>
                <a:lnTo>
                  <a:pt x="284" y="105"/>
                </a:lnTo>
                <a:lnTo>
                  <a:pt x="305" y="136"/>
                </a:lnTo>
                <a:lnTo>
                  <a:pt x="326" y="168"/>
                </a:lnTo>
                <a:lnTo>
                  <a:pt x="348" y="178"/>
                </a:lnTo>
                <a:lnTo>
                  <a:pt x="358" y="210"/>
                </a:lnTo>
                <a:lnTo>
                  <a:pt x="379" y="242"/>
                </a:lnTo>
                <a:lnTo>
                  <a:pt x="369" y="273"/>
                </a:lnTo>
                <a:lnTo>
                  <a:pt x="337" y="294"/>
                </a:lnTo>
                <a:lnTo>
                  <a:pt x="305" y="315"/>
                </a:lnTo>
                <a:lnTo>
                  <a:pt x="274" y="336"/>
                </a:lnTo>
                <a:lnTo>
                  <a:pt x="242" y="357"/>
                </a:lnTo>
                <a:lnTo>
                  <a:pt x="211" y="400"/>
                </a:lnTo>
                <a:lnTo>
                  <a:pt x="190" y="431"/>
                </a:lnTo>
                <a:lnTo>
                  <a:pt x="158" y="463"/>
                </a:lnTo>
                <a:lnTo>
                  <a:pt x="137" y="494"/>
                </a:lnTo>
                <a:lnTo>
                  <a:pt x="158" y="463"/>
                </a:lnTo>
                <a:lnTo>
                  <a:pt x="127" y="463"/>
                </a:lnTo>
                <a:lnTo>
                  <a:pt x="105" y="463"/>
                </a:lnTo>
                <a:lnTo>
                  <a:pt x="74" y="431"/>
                </a:lnTo>
                <a:lnTo>
                  <a:pt x="53" y="400"/>
                </a:lnTo>
                <a:lnTo>
                  <a:pt x="32" y="378"/>
                </a:lnTo>
                <a:lnTo>
                  <a:pt x="21" y="347"/>
                </a:lnTo>
                <a:lnTo>
                  <a:pt x="11" y="315"/>
                </a:lnTo>
                <a:lnTo>
                  <a:pt x="0" y="284"/>
                </a:lnTo>
                <a:lnTo>
                  <a:pt x="0" y="252"/>
                </a:lnTo>
                <a:lnTo>
                  <a:pt x="0" y="221"/>
                </a:lnTo>
                <a:lnTo>
                  <a:pt x="0" y="199"/>
                </a:lnTo>
                <a:lnTo>
                  <a:pt x="0" y="168"/>
                </a:lnTo>
                <a:lnTo>
                  <a:pt x="0" y="136"/>
                </a:lnTo>
                <a:lnTo>
                  <a:pt x="0" y="105"/>
                </a:lnTo>
                <a:lnTo>
                  <a:pt x="0" y="73"/>
                </a:lnTo>
                <a:lnTo>
                  <a:pt x="0" y="42"/>
                </a:lnTo>
                <a:lnTo>
                  <a:pt x="21" y="10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solidFill>
            <a:srgbClr val="eaeaea"/>
          </a:solid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20"/>
          <p:cNvSpPr/>
          <p:nvPr/>
        </p:nvSpPr>
        <p:spPr>
          <a:xfrm flipH="1" rot="21240000">
            <a:off x="4569480" y="2676600"/>
            <a:ext cx="220320" cy="374400"/>
          </a:xfrm>
          <a:prstGeom prst="ellipse">
            <a:avLst/>
          </a:prstGeom>
          <a:solidFill>
            <a:srgbClr val="ff00cc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Group 26"/>
          <p:cNvGrpSpPr/>
          <p:nvPr/>
        </p:nvGrpSpPr>
        <p:grpSpPr>
          <a:xfrm>
            <a:off x="4795920" y="4284720"/>
            <a:ext cx="752040" cy="471240"/>
            <a:chOff x="4795920" y="4284720"/>
            <a:chExt cx="752040" cy="471240"/>
          </a:xfrm>
        </p:grpSpPr>
        <p:sp>
          <p:nvSpPr>
            <p:cNvPr id="265" name="Freeform 21"/>
            <p:cNvSpPr/>
            <p:nvPr/>
          </p:nvSpPr>
          <p:spPr>
            <a:xfrm>
              <a:off x="4795920" y="4441680"/>
              <a:ext cx="684000" cy="17748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431" h="112">
                  <a:moveTo>
                    <a:pt x="0" y="94"/>
                  </a:moveTo>
                  <a:lnTo>
                    <a:pt x="59" y="111"/>
                  </a:lnTo>
                  <a:lnTo>
                    <a:pt x="105" y="101"/>
                  </a:lnTo>
                  <a:lnTo>
                    <a:pt x="143" y="98"/>
                  </a:lnTo>
                  <a:lnTo>
                    <a:pt x="180" y="94"/>
                  </a:lnTo>
                  <a:lnTo>
                    <a:pt x="212" y="82"/>
                  </a:lnTo>
                  <a:lnTo>
                    <a:pt x="243" y="71"/>
                  </a:lnTo>
                  <a:lnTo>
                    <a:pt x="274" y="58"/>
                  </a:lnTo>
                  <a:lnTo>
                    <a:pt x="305" y="47"/>
                  </a:lnTo>
                  <a:lnTo>
                    <a:pt x="336" y="35"/>
                  </a:lnTo>
                  <a:lnTo>
                    <a:pt x="367" y="24"/>
                  </a:lnTo>
                  <a:lnTo>
                    <a:pt x="399" y="12"/>
                  </a:lnTo>
                  <a:lnTo>
                    <a:pt x="430" y="0"/>
                  </a:lnTo>
                  <a:lnTo>
                    <a:pt x="419" y="1"/>
                  </a:lnTo>
                </a:path>
              </a:pathLst>
            </a:custGeom>
            <a:noFill/>
            <a:ln cap="rnd" w="5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2"/>
            <p:cNvSpPr/>
            <p:nvPr/>
          </p:nvSpPr>
          <p:spPr>
            <a:xfrm>
              <a:off x="4924440" y="4387680"/>
              <a:ext cx="87120" cy="2268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55" h="143">
                  <a:moveTo>
                    <a:pt x="0" y="0"/>
                  </a:moveTo>
                  <a:lnTo>
                    <a:pt x="18" y="45"/>
                  </a:lnTo>
                  <a:lnTo>
                    <a:pt x="30" y="76"/>
                  </a:lnTo>
                  <a:lnTo>
                    <a:pt x="50" y="100"/>
                  </a:lnTo>
                  <a:lnTo>
                    <a:pt x="54" y="142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5116680" y="4624560"/>
              <a:ext cx="204480" cy="13140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29" h="83">
                  <a:moveTo>
                    <a:pt x="0" y="0"/>
                  </a:moveTo>
                  <a:lnTo>
                    <a:pt x="33" y="31"/>
                  </a:lnTo>
                  <a:lnTo>
                    <a:pt x="63" y="33"/>
                  </a:lnTo>
                  <a:lnTo>
                    <a:pt x="91" y="51"/>
                  </a:lnTo>
                  <a:lnTo>
                    <a:pt x="126" y="63"/>
                  </a:lnTo>
                  <a:lnTo>
                    <a:pt x="128" y="82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24"/>
            <p:cNvSpPr/>
            <p:nvPr/>
          </p:nvSpPr>
          <p:spPr>
            <a:xfrm>
              <a:off x="5173560" y="4284720"/>
              <a:ext cx="147240" cy="1789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93" h="113">
                  <a:moveTo>
                    <a:pt x="0" y="0"/>
                  </a:moveTo>
                  <a:lnTo>
                    <a:pt x="17" y="53"/>
                  </a:lnTo>
                  <a:lnTo>
                    <a:pt x="44" y="70"/>
                  </a:lnTo>
                  <a:lnTo>
                    <a:pt x="72" y="88"/>
                  </a:lnTo>
                  <a:lnTo>
                    <a:pt x="92" y="112"/>
                  </a:lnTo>
                  <a:lnTo>
                    <a:pt x="91" y="112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25"/>
            <p:cNvSpPr/>
            <p:nvPr/>
          </p:nvSpPr>
          <p:spPr>
            <a:xfrm>
              <a:off x="5343480" y="4540320"/>
              <a:ext cx="204480" cy="1299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29" h="82">
                  <a:moveTo>
                    <a:pt x="0" y="0"/>
                  </a:moveTo>
                  <a:lnTo>
                    <a:pt x="38" y="31"/>
                  </a:lnTo>
                  <a:lnTo>
                    <a:pt x="74" y="43"/>
                  </a:lnTo>
                  <a:lnTo>
                    <a:pt x="101" y="60"/>
                  </a:lnTo>
                  <a:lnTo>
                    <a:pt x="128" y="81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Group 32"/>
          <p:cNvGrpSpPr/>
          <p:nvPr/>
        </p:nvGrpSpPr>
        <p:grpSpPr>
          <a:xfrm>
            <a:off x="7661160" y="4286160"/>
            <a:ext cx="741240" cy="482400"/>
            <a:chOff x="7661160" y="4286160"/>
            <a:chExt cx="741240" cy="482400"/>
          </a:xfrm>
        </p:grpSpPr>
        <p:sp>
          <p:nvSpPr>
            <p:cNvPr id="271" name="Freeform 27"/>
            <p:cNvSpPr/>
            <p:nvPr/>
          </p:nvSpPr>
          <p:spPr>
            <a:xfrm>
              <a:off x="7709040" y="4468680"/>
              <a:ext cx="693360" cy="12492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437" h="79">
                  <a:moveTo>
                    <a:pt x="436" y="56"/>
                  </a:moveTo>
                  <a:lnTo>
                    <a:pt x="379" y="78"/>
                  </a:lnTo>
                  <a:lnTo>
                    <a:pt x="333" y="72"/>
                  </a:lnTo>
                  <a:lnTo>
                    <a:pt x="295" y="72"/>
                  </a:lnTo>
                  <a:lnTo>
                    <a:pt x="257" y="72"/>
                  </a:lnTo>
                  <a:lnTo>
                    <a:pt x="225" y="62"/>
                  </a:lnTo>
                  <a:lnTo>
                    <a:pt x="193" y="54"/>
                  </a:lnTo>
                  <a:lnTo>
                    <a:pt x="161" y="45"/>
                  </a:lnTo>
                  <a:lnTo>
                    <a:pt x="128" y="37"/>
                  </a:lnTo>
                  <a:lnTo>
                    <a:pt x="96" y="27"/>
                  </a:lnTo>
                  <a:lnTo>
                    <a:pt x="65" y="19"/>
                  </a:lnTo>
                  <a:lnTo>
                    <a:pt x="32" y="10"/>
                  </a:lnTo>
                  <a:lnTo>
                    <a:pt x="0" y="0"/>
                  </a:lnTo>
                  <a:lnTo>
                    <a:pt x="11" y="1"/>
                  </a:lnTo>
                </a:path>
              </a:pathLst>
            </a:custGeom>
            <a:noFill/>
            <a:ln cap="rnd" w="5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8"/>
            <p:cNvSpPr/>
            <p:nvPr/>
          </p:nvSpPr>
          <p:spPr>
            <a:xfrm>
              <a:off x="8191440" y="4367160"/>
              <a:ext cx="64800" cy="2329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41" h="147">
                  <a:moveTo>
                    <a:pt x="40" y="0"/>
                  </a:moveTo>
                  <a:lnTo>
                    <a:pt x="26" y="47"/>
                  </a:lnTo>
                  <a:lnTo>
                    <a:pt x="17" y="78"/>
                  </a:lnTo>
                  <a:lnTo>
                    <a:pt x="0" y="103"/>
                  </a:lnTo>
                  <a:lnTo>
                    <a:pt x="0" y="146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9"/>
            <p:cNvSpPr/>
            <p:nvPr/>
          </p:nvSpPr>
          <p:spPr>
            <a:xfrm>
              <a:off x="7893000" y="4619520"/>
              <a:ext cx="193320" cy="14904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2" h="94">
                  <a:moveTo>
                    <a:pt x="121" y="0"/>
                  </a:moveTo>
                  <a:lnTo>
                    <a:pt x="91" y="33"/>
                  </a:lnTo>
                  <a:lnTo>
                    <a:pt x="61" y="38"/>
                  </a:lnTo>
                  <a:lnTo>
                    <a:pt x="35" y="58"/>
                  </a:lnTo>
                  <a:lnTo>
                    <a:pt x="0" y="73"/>
                  </a:lnTo>
                  <a:lnTo>
                    <a:pt x="0" y="93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30"/>
            <p:cNvSpPr/>
            <p:nvPr/>
          </p:nvSpPr>
          <p:spPr>
            <a:xfrm>
              <a:off x="7869240" y="4286160"/>
              <a:ext cx="129960" cy="1918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82" h="121">
                  <a:moveTo>
                    <a:pt x="81" y="0"/>
                  </a:moveTo>
                  <a:lnTo>
                    <a:pt x="70" y="53"/>
                  </a:lnTo>
                  <a:lnTo>
                    <a:pt x="44" y="73"/>
                  </a:lnTo>
                  <a:lnTo>
                    <a:pt x="17" y="94"/>
                  </a:lnTo>
                  <a:lnTo>
                    <a:pt x="0" y="120"/>
                  </a:lnTo>
                  <a:lnTo>
                    <a:pt x="1" y="120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7661160" y="4554360"/>
              <a:ext cx="193320" cy="14904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22" h="94">
                  <a:moveTo>
                    <a:pt x="121" y="0"/>
                  </a:moveTo>
                  <a:lnTo>
                    <a:pt x="86" y="34"/>
                  </a:lnTo>
                  <a:lnTo>
                    <a:pt x="49" y="49"/>
                  </a:lnTo>
                  <a:lnTo>
                    <a:pt x="24" y="69"/>
                  </a:lnTo>
                  <a:lnTo>
                    <a:pt x="0" y="93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Oval 33"/>
          <p:cNvSpPr/>
          <p:nvPr/>
        </p:nvSpPr>
        <p:spPr>
          <a:xfrm>
            <a:off x="5880240" y="5423040"/>
            <a:ext cx="583920" cy="126720"/>
          </a:xfrm>
          <a:prstGeom prst="ellipse">
            <a:avLst/>
          </a:prstGeom>
          <a:pattFill prst="smCheck">
            <a:fgClr>
              <a:srgbClr val="4f81bd"/>
            </a:fgClr>
            <a:bgClr>
              <a:srgbClr val="ffffff"/>
            </a:bgClr>
          </a:pattFill>
          <a:ln w="254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Oval 34"/>
          <p:cNvSpPr/>
          <p:nvPr/>
        </p:nvSpPr>
        <p:spPr>
          <a:xfrm>
            <a:off x="6566040" y="5423040"/>
            <a:ext cx="583920" cy="126720"/>
          </a:xfrm>
          <a:prstGeom prst="ellipse">
            <a:avLst/>
          </a:prstGeom>
          <a:pattFill prst="smCheck">
            <a:fgClr>
              <a:srgbClr val="4f81bd"/>
            </a:fgClr>
            <a:bgClr>
              <a:srgbClr val="ffffff"/>
            </a:bgClr>
          </a:pattFill>
          <a:ln w="254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35"/>
          <p:cNvSpPr/>
          <p:nvPr/>
        </p:nvSpPr>
        <p:spPr>
          <a:xfrm>
            <a:off x="6108840" y="5727600"/>
            <a:ext cx="431280" cy="126720"/>
          </a:xfrm>
          <a:prstGeom prst="ellipse">
            <a:avLst/>
          </a:prstGeom>
          <a:pattFill prst="smCheck">
            <a:fgClr>
              <a:srgbClr val="4f81bd"/>
            </a:fgClr>
            <a:bgClr>
              <a:srgbClr val="ffffff"/>
            </a:bgClr>
          </a:pattFill>
          <a:ln w="254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36"/>
          <p:cNvSpPr/>
          <p:nvPr/>
        </p:nvSpPr>
        <p:spPr>
          <a:xfrm>
            <a:off x="6718320" y="5727600"/>
            <a:ext cx="431280" cy="126720"/>
          </a:xfrm>
          <a:prstGeom prst="ellipse">
            <a:avLst/>
          </a:prstGeom>
          <a:pattFill prst="smCheck">
            <a:fgClr>
              <a:srgbClr val="4f81bd"/>
            </a:fgClr>
            <a:bgClr>
              <a:srgbClr val="ffffff"/>
            </a:bgClr>
          </a:pattFill>
          <a:ln w="254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37"/>
          <p:cNvSpPr/>
          <p:nvPr/>
        </p:nvSpPr>
        <p:spPr>
          <a:xfrm>
            <a:off x="6176880" y="6054840"/>
            <a:ext cx="293400" cy="80640"/>
          </a:xfrm>
          <a:prstGeom prst="ellipse">
            <a:avLst/>
          </a:prstGeom>
          <a:pattFill prst="smCheck">
            <a:fgClr>
              <a:srgbClr val="4f81bd"/>
            </a:fgClr>
            <a:bgClr>
              <a:srgbClr val="ffffff"/>
            </a:bgClr>
          </a:pattFill>
          <a:ln w="254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Oval 38"/>
          <p:cNvSpPr/>
          <p:nvPr/>
        </p:nvSpPr>
        <p:spPr>
          <a:xfrm>
            <a:off x="6786720" y="6054840"/>
            <a:ext cx="294840" cy="80640"/>
          </a:xfrm>
          <a:prstGeom prst="ellipse">
            <a:avLst/>
          </a:prstGeom>
          <a:pattFill prst="smCheck">
            <a:fgClr>
              <a:srgbClr val="4f81bd"/>
            </a:fgClr>
            <a:bgClr>
              <a:srgbClr val="ffffff"/>
            </a:bgClr>
          </a:pattFill>
          <a:ln w="254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Oval 39"/>
          <p:cNvSpPr/>
          <p:nvPr/>
        </p:nvSpPr>
        <p:spPr>
          <a:xfrm>
            <a:off x="6483240" y="5416560"/>
            <a:ext cx="63000" cy="6300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Group 49"/>
          <p:cNvGrpSpPr/>
          <p:nvPr/>
        </p:nvGrpSpPr>
        <p:grpSpPr>
          <a:xfrm>
            <a:off x="4800600" y="1828800"/>
            <a:ext cx="1219320" cy="609480"/>
            <a:chOff x="4800600" y="1828800"/>
            <a:chExt cx="1219320" cy="609480"/>
          </a:xfrm>
        </p:grpSpPr>
        <p:sp>
          <p:nvSpPr>
            <p:cNvPr id="284" name="Line 40"/>
            <p:cNvSpPr/>
            <p:nvPr/>
          </p:nvSpPr>
          <p:spPr>
            <a:xfrm>
              <a:off x="4800600" y="2133360"/>
              <a:ext cx="36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Line 41"/>
            <p:cNvSpPr/>
            <p:nvPr/>
          </p:nvSpPr>
          <p:spPr>
            <a:xfrm>
              <a:off x="4952880" y="2209680"/>
              <a:ext cx="36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Line 42"/>
            <p:cNvSpPr/>
            <p:nvPr/>
          </p:nvSpPr>
          <p:spPr>
            <a:xfrm>
              <a:off x="5105160" y="2133360"/>
              <a:ext cx="76320" cy="30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Line 43"/>
            <p:cNvSpPr/>
            <p:nvPr/>
          </p:nvSpPr>
          <p:spPr>
            <a:xfrm>
              <a:off x="5257800" y="2133360"/>
              <a:ext cx="7596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Line 44"/>
            <p:cNvSpPr/>
            <p:nvPr/>
          </p:nvSpPr>
          <p:spPr>
            <a:xfrm>
              <a:off x="5410080" y="1981080"/>
              <a:ext cx="7632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Line 45"/>
            <p:cNvSpPr/>
            <p:nvPr/>
          </p:nvSpPr>
          <p:spPr>
            <a:xfrm>
              <a:off x="5562360" y="1904760"/>
              <a:ext cx="7632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Line 46"/>
            <p:cNvSpPr/>
            <p:nvPr/>
          </p:nvSpPr>
          <p:spPr>
            <a:xfrm>
              <a:off x="5715000" y="1904760"/>
              <a:ext cx="75960" cy="1526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Line 47"/>
            <p:cNvSpPr/>
            <p:nvPr/>
          </p:nvSpPr>
          <p:spPr>
            <a:xfrm>
              <a:off x="5867280" y="1828800"/>
              <a:ext cx="76320" cy="1522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Line 48"/>
            <p:cNvSpPr/>
            <p:nvPr/>
          </p:nvSpPr>
          <p:spPr>
            <a:xfrm>
              <a:off x="6019560" y="1828800"/>
              <a:ext cx="360" cy="1522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3" name="Group 59"/>
          <p:cNvGrpSpPr/>
          <p:nvPr/>
        </p:nvGrpSpPr>
        <p:grpSpPr>
          <a:xfrm>
            <a:off x="7086600" y="1752480"/>
            <a:ext cx="1219320" cy="609480"/>
            <a:chOff x="7086600" y="1752480"/>
            <a:chExt cx="1219320" cy="609480"/>
          </a:xfrm>
        </p:grpSpPr>
        <p:sp>
          <p:nvSpPr>
            <p:cNvPr id="294" name="Line 50"/>
            <p:cNvSpPr/>
            <p:nvPr/>
          </p:nvSpPr>
          <p:spPr>
            <a:xfrm>
              <a:off x="8305560" y="2057400"/>
              <a:ext cx="36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Line 51"/>
            <p:cNvSpPr/>
            <p:nvPr/>
          </p:nvSpPr>
          <p:spPr>
            <a:xfrm>
              <a:off x="8153280" y="2133360"/>
              <a:ext cx="36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Line 52"/>
            <p:cNvSpPr/>
            <p:nvPr/>
          </p:nvSpPr>
          <p:spPr>
            <a:xfrm flipH="1">
              <a:off x="7924680" y="2057400"/>
              <a:ext cx="76320" cy="304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Line 53"/>
            <p:cNvSpPr/>
            <p:nvPr/>
          </p:nvSpPr>
          <p:spPr>
            <a:xfrm flipH="1">
              <a:off x="7772400" y="2057400"/>
              <a:ext cx="7596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Line 54"/>
            <p:cNvSpPr/>
            <p:nvPr/>
          </p:nvSpPr>
          <p:spPr>
            <a:xfrm flipH="1">
              <a:off x="7619760" y="1904760"/>
              <a:ext cx="7632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Line 55"/>
            <p:cNvSpPr/>
            <p:nvPr/>
          </p:nvSpPr>
          <p:spPr>
            <a:xfrm flipH="1">
              <a:off x="7467480" y="1828800"/>
              <a:ext cx="76320" cy="228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Line 56"/>
            <p:cNvSpPr/>
            <p:nvPr/>
          </p:nvSpPr>
          <p:spPr>
            <a:xfrm flipH="1">
              <a:off x="7315200" y="1828800"/>
              <a:ext cx="75960" cy="1522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Line 57"/>
            <p:cNvSpPr/>
            <p:nvPr/>
          </p:nvSpPr>
          <p:spPr>
            <a:xfrm flipH="1">
              <a:off x="7162560" y="1752480"/>
              <a:ext cx="76320" cy="1522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Line 58"/>
            <p:cNvSpPr/>
            <p:nvPr/>
          </p:nvSpPr>
          <p:spPr>
            <a:xfrm>
              <a:off x="7086600" y="1752480"/>
              <a:ext cx="360" cy="1522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Freeform 60"/>
          <p:cNvSpPr/>
          <p:nvPr/>
        </p:nvSpPr>
        <p:spPr>
          <a:xfrm>
            <a:off x="4495680" y="5334120"/>
            <a:ext cx="229680" cy="153720"/>
          </a:xfrm>
          <a:custGeom>
            <a:avLst/>
            <a:gdLst>
              <a:gd name="textAreaLeft" fmla="*/ 0 w 229680"/>
              <a:gd name="textAreaRight" fmla="*/ 230040 w 22968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145" h="97">
                <a:moveTo>
                  <a:pt x="0" y="0"/>
                </a:moveTo>
                <a:lnTo>
                  <a:pt x="37" y="42"/>
                </a:lnTo>
                <a:lnTo>
                  <a:pt x="68" y="74"/>
                </a:lnTo>
                <a:lnTo>
                  <a:pt x="100" y="95"/>
                </a:lnTo>
                <a:lnTo>
                  <a:pt x="144" y="96"/>
                </a:lnTo>
              </a:path>
            </a:pathLst>
          </a:custGeom>
          <a:noFill/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2"/>
          <p:cNvSpPr/>
          <p:nvPr/>
        </p:nvSpPr>
        <p:spPr>
          <a:xfrm flipH="1">
            <a:off x="2666160" y="2587680"/>
            <a:ext cx="914040" cy="38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00cc"/>
                </a:solidFill>
                <a:latin typeface="Arial"/>
              </a:rPr>
              <a:t>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3"/>
          <p:cNvSpPr/>
          <p:nvPr/>
        </p:nvSpPr>
        <p:spPr>
          <a:xfrm flipH="1">
            <a:off x="533520" y="1292400"/>
            <a:ext cx="3504960" cy="38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NASOMEDIAL 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64"/>
          <p:cNvSpPr/>
          <p:nvPr/>
        </p:nvSpPr>
        <p:spPr>
          <a:xfrm>
            <a:off x="3352680" y="2819160"/>
            <a:ext cx="1143000" cy="76320"/>
          </a:xfrm>
          <a:prstGeom prst="line">
            <a:avLst/>
          </a:prstGeom>
          <a:ln w="12700">
            <a:solidFill>
              <a:srgbClr val="ff00cc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65"/>
          <p:cNvSpPr/>
          <p:nvPr/>
        </p:nvSpPr>
        <p:spPr>
          <a:xfrm flipH="1">
            <a:off x="2590200" y="3730680"/>
            <a:ext cx="1294920" cy="383760"/>
          </a:xfrm>
          <a:prstGeom prst="rect">
            <a:avLst/>
          </a:prstGeom>
          <a:noFill/>
          <a:ln w="9525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M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6"/>
          <p:cNvSpPr/>
          <p:nvPr/>
        </p:nvSpPr>
        <p:spPr>
          <a:xfrm flipH="1">
            <a:off x="990000" y="4340160"/>
            <a:ext cx="2819160" cy="38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chemeClr val="hlink"/>
                </a:solidFill>
                <a:latin typeface="Arial"/>
              </a:rPr>
              <a:t>MANDIBULAR P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7"/>
          <p:cNvSpPr/>
          <p:nvPr/>
        </p:nvSpPr>
        <p:spPr>
          <a:xfrm flipV="1">
            <a:off x="3657600" y="4267080"/>
            <a:ext cx="990360" cy="152280"/>
          </a:xfrm>
          <a:prstGeom prst="line">
            <a:avLst/>
          </a:prstGeom>
          <a:ln w="12700">
            <a:solidFill>
              <a:srgbClr val="000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68"/>
          <p:cNvSpPr/>
          <p:nvPr/>
        </p:nvSpPr>
        <p:spPr>
          <a:xfrm flipH="1">
            <a:off x="1523160" y="5324400"/>
            <a:ext cx="2285640" cy="38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YOID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9"/>
          <p:cNvSpPr/>
          <p:nvPr/>
        </p:nvSpPr>
        <p:spPr>
          <a:xfrm flipV="1">
            <a:off x="3581280" y="5373360"/>
            <a:ext cx="2286000" cy="74880"/>
          </a:xfrm>
          <a:prstGeom prst="line">
            <a:avLst/>
          </a:prstGeom>
          <a:ln w="12700">
            <a:solidFill>
              <a:srgbClr val="4f81bd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3886200" y="3581280"/>
            <a:ext cx="2057400" cy="304920"/>
          </a:xfrm>
          <a:prstGeom prst="line">
            <a:avLst/>
          </a:prstGeom>
          <a:ln w="12700">
            <a:solidFill>
              <a:srgbClr val="ff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71"/>
          <p:cNvSpPr/>
          <p:nvPr/>
        </p:nvSpPr>
        <p:spPr>
          <a:xfrm flipH="1">
            <a:off x="533520" y="3197160"/>
            <a:ext cx="3428640" cy="38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MAXILLAR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72"/>
          <p:cNvSpPr/>
          <p:nvPr/>
        </p:nvSpPr>
        <p:spPr>
          <a:xfrm>
            <a:off x="3504960" y="3429000"/>
            <a:ext cx="1371600" cy="360"/>
          </a:xfrm>
          <a:prstGeom prst="line">
            <a:avLst/>
          </a:prstGeom>
          <a:ln w="12700">
            <a:solidFill>
              <a:srgbClr val="ff505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73"/>
          <p:cNvSpPr/>
          <p:nvPr/>
        </p:nvSpPr>
        <p:spPr>
          <a:xfrm flipH="1">
            <a:off x="1065960" y="6319800"/>
            <a:ext cx="3580920" cy="38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chemeClr val="accent1"/>
                </a:solidFill>
                <a:latin typeface="Arial"/>
              </a:rPr>
              <a:t>LARYNGEAL CARTIL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75"/>
          <p:cNvSpPr/>
          <p:nvPr/>
        </p:nvSpPr>
        <p:spPr>
          <a:xfrm flipV="1">
            <a:off x="4572000" y="5943600"/>
            <a:ext cx="1676160" cy="457200"/>
          </a:xfrm>
          <a:prstGeom prst="line">
            <a:avLst/>
          </a:prstGeom>
          <a:ln w="12700">
            <a:solidFill>
              <a:srgbClr val="0099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76"/>
          <p:cNvSpPr/>
          <p:nvPr/>
        </p:nvSpPr>
        <p:spPr>
          <a:xfrm>
            <a:off x="3733560" y="1447560"/>
            <a:ext cx="2667240" cy="1676520"/>
          </a:xfrm>
          <a:prstGeom prst="line">
            <a:avLst/>
          </a:prstGeom>
          <a:ln w="12700">
            <a:solidFill>
              <a:srgbClr val="ff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77"/>
          <p:cNvSpPr/>
          <p:nvPr/>
        </p:nvSpPr>
        <p:spPr>
          <a:xfrm flipH="1">
            <a:off x="8379000" y="6532560"/>
            <a:ext cx="763200" cy="32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657600" y="369360"/>
            <a:ext cx="516204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3571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848360" cy="7619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4"/>
          <p:cNvSpPr/>
          <p:nvPr/>
        </p:nvSpPr>
        <p:spPr>
          <a:xfrm>
            <a:off x="228600" y="0"/>
            <a:ext cx="8915040" cy="702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Mal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chemeClr val="hlink"/>
                </a:solidFill>
                <a:latin typeface="Arial"/>
              </a:rPr>
              <a:t>Clef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volving the upper 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Unilate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chemeClr val="hlink"/>
                </a:solidFill>
                <a:latin typeface="Arial"/>
              </a:rPr>
              <a:t>3.Bilateral cleft l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 if maxillary and medial nasal processes do not fuse.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chemeClr val="hlink"/>
                </a:solidFill>
                <a:latin typeface="Arial"/>
              </a:rPr>
              <a:t>Cleft pa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ves the </a:t>
            </a:r>
            <a:r>
              <a:rPr b="1" lang="en-US" sz="3200" spc="-1" strike="noStrike">
                <a:solidFill>
                  <a:schemeClr val="hlink"/>
                </a:solidFill>
                <a:latin typeface="Arial"/>
              </a:rPr>
              <a:t>nasal and oral cavities connect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hlink"/>
                </a:solidFill>
                <a:latin typeface="Arial"/>
              </a:rPr>
              <a:t>This causes nursing problem for the new 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44"/>
          <p:cNvGrpSpPr/>
          <p:nvPr/>
        </p:nvGrpSpPr>
        <p:grpSpPr>
          <a:xfrm>
            <a:off x="75960" y="76320"/>
            <a:ext cx="9066240" cy="6324480"/>
            <a:chOff x="75960" y="76320"/>
            <a:chExt cx="9066240" cy="6324480"/>
          </a:xfrm>
        </p:grpSpPr>
        <p:sp>
          <p:nvSpPr>
            <p:cNvPr id="323" name="Rectangle 2"/>
            <p:cNvSpPr/>
            <p:nvPr/>
          </p:nvSpPr>
          <p:spPr>
            <a:xfrm>
              <a:off x="1600200" y="76320"/>
              <a:ext cx="6248160" cy="53640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>
                <a:lnSpc>
                  <a:spcPct val="100000"/>
                </a:lnSpc>
                <a:spcBef>
                  <a:spcPts val="1451"/>
                </a:spcBef>
              </a:pPr>
              <a:r>
                <a:rPr b="1" lang="ru-RU" sz="2900" spc="-1" strike="noStrike">
                  <a:solidFill>
                    <a:schemeClr val="accent2"/>
                  </a:solidFill>
                  <a:latin typeface="Arial"/>
                </a:rPr>
                <a:t>FACIAL DEFECTS: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3"/>
            <p:cNvSpPr/>
            <p:nvPr/>
          </p:nvSpPr>
          <p:spPr>
            <a:xfrm flipH="1">
              <a:off x="76320" y="3654360"/>
              <a:ext cx="3428640" cy="383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ff5050"/>
                  </a:solidFill>
                  <a:latin typeface="Arial"/>
                </a:rPr>
                <a:t>OBLIQUE FACIAL CLEF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4"/>
            <p:cNvSpPr/>
            <p:nvPr/>
          </p:nvSpPr>
          <p:spPr>
            <a:xfrm flipH="1">
              <a:off x="2057400" y="5940360"/>
              <a:ext cx="2895120" cy="383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chemeClr val="hlink"/>
                  </a:solidFill>
                  <a:latin typeface="Arial"/>
                </a:rPr>
                <a:t>MEDIAN CLEFT JA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5"/>
            <p:cNvSpPr/>
            <p:nvPr/>
          </p:nvSpPr>
          <p:spPr>
            <a:xfrm flipH="1">
              <a:off x="5256360" y="5407200"/>
              <a:ext cx="3885840" cy="993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UNILATERAL </a:t>
              </a:r>
              <a:r>
                <a:rPr b="1" lang="ru-RU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MACROSTOMIA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mouth too wide (</a:t>
              </a:r>
              <a:r>
                <a:rPr b="1" lang="ru-RU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microstomia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 - too small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6"/>
            <p:cNvSpPr/>
            <p:nvPr/>
          </p:nvSpPr>
          <p:spPr>
            <a:xfrm flipH="1">
              <a:off x="75600" y="4492800"/>
              <a:ext cx="3580920" cy="688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ff00cc"/>
                  </a:solidFill>
                  <a:latin typeface="Arial"/>
                </a:rPr>
                <a:t>MEDIAN CLEFT LIP          </a:t>
              </a:r>
              <a:r>
                <a:rPr b="1" lang="ru-RU" sz="20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Nose may also be clef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7"/>
            <p:cNvSpPr/>
            <p:nvPr/>
          </p:nvSpPr>
          <p:spPr>
            <a:xfrm flipH="1">
              <a:off x="6779520" y="3425760"/>
              <a:ext cx="1982520" cy="688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UNILATERAL CLEFT L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"/>
            <p:cNvSpPr/>
            <p:nvPr/>
          </p:nvSpPr>
          <p:spPr>
            <a:xfrm>
              <a:off x="2940120" y="792000"/>
              <a:ext cx="3843000" cy="3409560"/>
            </a:xfrm>
            <a:custGeom>
              <a:avLst/>
              <a:gdLst>
                <a:gd name="textAreaLeft" fmla="*/ 0 w 3843000"/>
                <a:gd name="textAreaRight" fmla="*/ 3843360 w 3843000"/>
                <a:gd name="textAreaTop" fmla="*/ 0 h 3409560"/>
                <a:gd name="textAreaBottom" fmla="*/ 3409920 h 3409560"/>
              </a:gdLst>
              <a:ahLst/>
              <a:rect l="textAreaLeft" t="textAreaTop" r="textAreaRight" b="textAreaBottom"/>
              <a:pathLst>
                <a:path w="2421" h="2148">
                  <a:moveTo>
                    <a:pt x="19" y="29"/>
                  </a:moveTo>
                  <a:lnTo>
                    <a:pt x="60" y="10"/>
                  </a:lnTo>
                  <a:lnTo>
                    <a:pt x="90" y="10"/>
                  </a:lnTo>
                  <a:lnTo>
                    <a:pt x="112" y="10"/>
                  </a:lnTo>
                  <a:lnTo>
                    <a:pt x="142" y="10"/>
                  </a:lnTo>
                  <a:lnTo>
                    <a:pt x="172" y="10"/>
                  </a:lnTo>
                  <a:lnTo>
                    <a:pt x="213" y="10"/>
                  </a:lnTo>
                  <a:lnTo>
                    <a:pt x="243" y="10"/>
                  </a:lnTo>
                  <a:lnTo>
                    <a:pt x="274" y="10"/>
                  </a:lnTo>
                  <a:lnTo>
                    <a:pt x="304" y="10"/>
                  </a:lnTo>
                  <a:lnTo>
                    <a:pt x="325" y="10"/>
                  </a:lnTo>
                  <a:lnTo>
                    <a:pt x="366" y="10"/>
                  </a:lnTo>
                  <a:lnTo>
                    <a:pt x="396" y="10"/>
                  </a:lnTo>
                  <a:lnTo>
                    <a:pt x="436" y="10"/>
                  </a:lnTo>
                  <a:lnTo>
                    <a:pt x="497" y="10"/>
                  </a:lnTo>
                  <a:lnTo>
                    <a:pt x="528" y="10"/>
                  </a:lnTo>
                  <a:lnTo>
                    <a:pt x="569" y="10"/>
                  </a:lnTo>
                  <a:lnTo>
                    <a:pt x="600" y="10"/>
                  </a:lnTo>
                  <a:lnTo>
                    <a:pt x="630" y="10"/>
                  </a:lnTo>
                  <a:lnTo>
                    <a:pt x="661" y="10"/>
                  </a:lnTo>
                  <a:lnTo>
                    <a:pt x="691" y="10"/>
                  </a:lnTo>
                  <a:lnTo>
                    <a:pt x="721" y="10"/>
                  </a:lnTo>
                  <a:lnTo>
                    <a:pt x="752" y="10"/>
                  </a:lnTo>
                  <a:lnTo>
                    <a:pt x="813" y="10"/>
                  </a:lnTo>
                  <a:lnTo>
                    <a:pt x="874" y="10"/>
                  </a:lnTo>
                  <a:lnTo>
                    <a:pt x="904" y="10"/>
                  </a:lnTo>
                  <a:lnTo>
                    <a:pt x="945" y="10"/>
                  </a:lnTo>
                  <a:lnTo>
                    <a:pt x="976" y="10"/>
                  </a:lnTo>
                  <a:lnTo>
                    <a:pt x="1016" y="21"/>
                  </a:lnTo>
                  <a:lnTo>
                    <a:pt x="1077" y="21"/>
                  </a:lnTo>
                  <a:lnTo>
                    <a:pt x="1108" y="21"/>
                  </a:lnTo>
                  <a:lnTo>
                    <a:pt x="1138" y="21"/>
                  </a:lnTo>
                  <a:lnTo>
                    <a:pt x="1169" y="21"/>
                  </a:lnTo>
                  <a:lnTo>
                    <a:pt x="1200" y="21"/>
                  </a:lnTo>
                  <a:lnTo>
                    <a:pt x="1230" y="21"/>
                  </a:lnTo>
                  <a:lnTo>
                    <a:pt x="1270" y="21"/>
                  </a:lnTo>
                  <a:lnTo>
                    <a:pt x="1301" y="21"/>
                  </a:lnTo>
                  <a:lnTo>
                    <a:pt x="1331" y="21"/>
                  </a:lnTo>
                  <a:lnTo>
                    <a:pt x="1362" y="21"/>
                  </a:lnTo>
                  <a:lnTo>
                    <a:pt x="1393" y="21"/>
                  </a:lnTo>
                  <a:lnTo>
                    <a:pt x="1423" y="21"/>
                  </a:lnTo>
                  <a:lnTo>
                    <a:pt x="1504" y="21"/>
                  </a:lnTo>
                  <a:lnTo>
                    <a:pt x="1535" y="21"/>
                  </a:lnTo>
                  <a:lnTo>
                    <a:pt x="1565" y="21"/>
                  </a:lnTo>
                  <a:lnTo>
                    <a:pt x="1607" y="21"/>
                  </a:lnTo>
                  <a:lnTo>
                    <a:pt x="1677" y="21"/>
                  </a:lnTo>
                  <a:lnTo>
                    <a:pt x="1708" y="21"/>
                  </a:lnTo>
                  <a:lnTo>
                    <a:pt x="1738" y="21"/>
                  </a:lnTo>
                  <a:lnTo>
                    <a:pt x="1769" y="21"/>
                  </a:lnTo>
                  <a:lnTo>
                    <a:pt x="1810" y="21"/>
                  </a:lnTo>
                  <a:lnTo>
                    <a:pt x="1841" y="21"/>
                  </a:lnTo>
                  <a:lnTo>
                    <a:pt x="1871" y="21"/>
                  </a:lnTo>
                  <a:lnTo>
                    <a:pt x="1901" y="10"/>
                  </a:lnTo>
                  <a:lnTo>
                    <a:pt x="1942" y="10"/>
                  </a:lnTo>
                  <a:lnTo>
                    <a:pt x="1972" y="10"/>
                  </a:lnTo>
                  <a:lnTo>
                    <a:pt x="2003" y="10"/>
                  </a:lnTo>
                  <a:lnTo>
                    <a:pt x="2034" y="10"/>
                  </a:lnTo>
                  <a:lnTo>
                    <a:pt x="2115" y="10"/>
                  </a:lnTo>
                  <a:lnTo>
                    <a:pt x="2176" y="10"/>
                  </a:lnTo>
                  <a:lnTo>
                    <a:pt x="2206" y="10"/>
                  </a:lnTo>
                  <a:lnTo>
                    <a:pt x="2237" y="10"/>
                  </a:lnTo>
                  <a:lnTo>
                    <a:pt x="2268" y="10"/>
                  </a:lnTo>
                  <a:lnTo>
                    <a:pt x="2298" y="10"/>
                  </a:lnTo>
                  <a:lnTo>
                    <a:pt x="2329" y="10"/>
                  </a:lnTo>
                  <a:lnTo>
                    <a:pt x="2359" y="0"/>
                  </a:lnTo>
                  <a:lnTo>
                    <a:pt x="2390" y="0"/>
                  </a:lnTo>
                  <a:lnTo>
                    <a:pt x="2390" y="31"/>
                  </a:lnTo>
                  <a:lnTo>
                    <a:pt x="2399" y="63"/>
                  </a:lnTo>
                  <a:lnTo>
                    <a:pt x="2410" y="94"/>
                  </a:lnTo>
                  <a:lnTo>
                    <a:pt x="2420" y="116"/>
                  </a:lnTo>
                  <a:lnTo>
                    <a:pt x="2420" y="147"/>
                  </a:lnTo>
                  <a:lnTo>
                    <a:pt x="2420" y="189"/>
                  </a:lnTo>
                  <a:lnTo>
                    <a:pt x="2420" y="221"/>
                  </a:lnTo>
                  <a:lnTo>
                    <a:pt x="2420" y="252"/>
                  </a:lnTo>
                  <a:lnTo>
                    <a:pt x="2420" y="284"/>
                  </a:lnTo>
                  <a:lnTo>
                    <a:pt x="2420" y="326"/>
                  </a:lnTo>
                  <a:lnTo>
                    <a:pt x="2420" y="358"/>
                  </a:lnTo>
                  <a:lnTo>
                    <a:pt x="2420" y="389"/>
                  </a:lnTo>
                  <a:lnTo>
                    <a:pt x="2420" y="421"/>
                  </a:lnTo>
                  <a:lnTo>
                    <a:pt x="2420" y="452"/>
                  </a:lnTo>
                  <a:lnTo>
                    <a:pt x="2420" y="484"/>
                  </a:lnTo>
                  <a:lnTo>
                    <a:pt x="2420" y="516"/>
                  </a:lnTo>
                  <a:lnTo>
                    <a:pt x="2420" y="547"/>
                  </a:lnTo>
                  <a:lnTo>
                    <a:pt x="2420" y="579"/>
                  </a:lnTo>
                  <a:lnTo>
                    <a:pt x="2420" y="621"/>
                  </a:lnTo>
                  <a:lnTo>
                    <a:pt x="2420" y="663"/>
                  </a:lnTo>
                  <a:lnTo>
                    <a:pt x="2420" y="695"/>
                  </a:lnTo>
                  <a:lnTo>
                    <a:pt x="2420" y="726"/>
                  </a:lnTo>
                  <a:lnTo>
                    <a:pt x="2420" y="758"/>
                  </a:lnTo>
                  <a:lnTo>
                    <a:pt x="2420" y="789"/>
                  </a:lnTo>
                  <a:lnTo>
                    <a:pt x="2420" y="821"/>
                  </a:lnTo>
                  <a:lnTo>
                    <a:pt x="2420" y="852"/>
                  </a:lnTo>
                  <a:lnTo>
                    <a:pt x="2420" y="874"/>
                  </a:lnTo>
                  <a:lnTo>
                    <a:pt x="2420" y="905"/>
                  </a:lnTo>
                  <a:lnTo>
                    <a:pt x="2420" y="937"/>
                  </a:lnTo>
                  <a:lnTo>
                    <a:pt x="2410" y="968"/>
                  </a:lnTo>
                  <a:lnTo>
                    <a:pt x="2399" y="1000"/>
                  </a:lnTo>
                  <a:lnTo>
                    <a:pt x="2390" y="1031"/>
                  </a:lnTo>
                  <a:lnTo>
                    <a:pt x="2379" y="1053"/>
                  </a:lnTo>
                  <a:lnTo>
                    <a:pt x="2369" y="1084"/>
                  </a:lnTo>
                  <a:lnTo>
                    <a:pt x="2349" y="1116"/>
                  </a:lnTo>
                  <a:lnTo>
                    <a:pt x="2338" y="1147"/>
                  </a:lnTo>
                  <a:lnTo>
                    <a:pt x="2318" y="1179"/>
                  </a:lnTo>
                  <a:lnTo>
                    <a:pt x="2298" y="1210"/>
                  </a:lnTo>
                  <a:lnTo>
                    <a:pt x="2277" y="1242"/>
                  </a:lnTo>
                  <a:lnTo>
                    <a:pt x="2257" y="1274"/>
                  </a:lnTo>
                  <a:lnTo>
                    <a:pt x="2237" y="1305"/>
                  </a:lnTo>
                  <a:lnTo>
                    <a:pt x="2217" y="1337"/>
                  </a:lnTo>
                  <a:lnTo>
                    <a:pt x="2196" y="1368"/>
                  </a:lnTo>
                  <a:lnTo>
                    <a:pt x="2176" y="1400"/>
                  </a:lnTo>
                  <a:lnTo>
                    <a:pt x="2156" y="1432"/>
                  </a:lnTo>
                  <a:lnTo>
                    <a:pt x="2135" y="1463"/>
                  </a:lnTo>
                  <a:lnTo>
                    <a:pt x="2115" y="1505"/>
                  </a:lnTo>
                  <a:lnTo>
                    <a:pt x="2095" y="1537"/>
                  </a:lnTo>
                  <a:lnTo>
                    <a:pt x="2064" y="1568"/>
                  </a:lnTo>
                  <a:lnTo>
                    <a:pt x="2044" y="1600"/>
                  </a:lnTo>
                  <a:lnTo>
                    <a:pt x="2034" y="1632"/>
                  </a:lnTo>
                  <a:lnTo>
                    <a:pt x="2013" y="1642"/>
                  </a:lnTo>
                  <a:lnTo>
                    <a:pt x="1992" y="1674"/>
                  </a:lnTo>
                  <a:lnTo>
                    <a:pt x="1962" y="1705"/>
                  </a:lnTo>
                  <a:lnTo>
                    <a:pt x="1931" y="1737"/>
                  </a:lnTo>
                  <a:lnTo>
                    <a:pt x="1901" y="1768"/>
                  </a:lnTo>
                  <a:lnTo>
                    <a:pt x="1871" y="1800"/>
                  </a:lnTo>
                  <a:lnTo>
                    <a:pt x="1850" y="1832"/>
                  </a:lnTo>
                  <a:lnTo>
                    <a:pt x="1820" y="1853"/>
                  </a:lnTo>
                  <a:lnTo>
                    <a:pt x="1789" y="1884"/>
                  </a:lnTo>
                  <a:lnTo>
                    <a:pt x="1779" y="1916"/>
                  </a:lnTo>
                  <a:lnTo>
                    <a:pt x="1749" y="1926"/>
                  </a:lnTo>
                  <a:lnTo>
                    <a:pt x="1738" y="1958"/>
                  </a:lnTo>
                  <a:lnTo>
                    <a:pt x="1708" y="1979"/>
                  </a:lnTo>
                  <a:lnTo>
                    <a:pt x="1677" y="2011"/>
                  </a:lnTo>
                  <a:lnTo>
                    <a:pt x="1647" y="2042"/>
                  </a:lnTo>
                  <a:lnTo>
                    <a:pt x="1627" y="2074"/>
                  </a:lnTo>
                  <a:lnTo>
                    <a:pt x="1596" y="2095"/>
                  </a:lnTo>
                  <a:lnTo>
                    <a:pt x="1565" y="2116"/>
                  </a:lnTo>
                  <a:lnTo>
                    <a:pt x="1535" y="2137"/>
                  </a:lnTo>
                  <a:lnTo>
                    <a:pt x="1504" y="2147"/>
                  </a:lnTo>
                  <a:lnTo>
                    <a:pt x="1474" y="2147"/>
                  </a:lnTo>
                  <a:lnTo>
                    <a:pt x="1434" y="2147"/>
                  </a:lnTo>
                  <a:lnTo>
                    <a:pt x="1403" y="2137"/>
                  </a:lnTo>
                  <a:lnTo>
                    <a:pt x="1372" y="2126"/>
                  </a:lnTo>
                  <a:lnTo>
                    <a:pt x="1342" y="2116"/>
                  </a:lnTo>
                  <a:lnTo>
                    <a:pt x="1311" y="2105"/>
                  </a:lnTo>
                  <a:lnTo>
                    <a:pt x="1281" y="2105"/>
                  </a:lnTo>
                  <a:lnTo>
                    <a:pt x="1250" y="2105"/>
                  </a:lnTo>
                  <a:lnTo>
                    <a:pt x="1220" y="2105"/>
                  </a:lnTo>
                  <a:lnTo>
                    <a:pt x="1180" y="2095"/>
                  </a:lnTo>
                  <a:lnTo>
                    <a:pt x="1158" y="2095"/>
                  </a:lnTo>
                  <a:lnTo>
                    <a:pt x="1128" y="2095"/>
                  </a:lnTo>
                  <a:lnTo>
                    <a:pt x="1097" y="2095"/>
                  </a:lnTo>
                  <a:lnTo>
                    <a:pt x="1067" y="2095"/>
                  </a:lnTo>
                  <a:lnTo>
                    <a:pt x="1037" y="2095"/>
                  </a:lnTo>
                  <a:lnTo>
                    <a:pt x="1007" y="2095"/>
                  </a:lnTo>
                  <a:lnTo>
                    <a:pt x="976" y="2095"/>
                  </a:lnTo>
                  <a:lnTo>
                    <a:pt x="935" y="2095"/>
                  </a:lnTo>
                  <a:lnTo>
                    <a:pt x="904" y="2095"/>
                  </a:lnTo>
                  <a:lnTo>
                    <a:pt x="874" y="2095"/>
                  </a:lnTo>
                  <a:lnTo>
                    <a:pt x="843" y="2095"/>
                  </a:lnTo>
                  <a:lnTo>
                    <a:pt x="813" y="2095"/>
                  </a:lnTo>
                  <a:lnTo>
                    <a:pt x="793" y="2126"/>
                  </a:lnTo>
                  <a:lnTo>
                    <a:pt x="762" y="2137"/>
                  </a:lnTo>
                  <a:lnTo>
                    <a:pt x="731" y="2116"/>
                  </a:lnTo>
                  <a:lnTo>
                    <a:pt x="701" y="2084"/>
                  </a:lnTo>
                  <a:lnTo>
                    <a:pt x="670" y="2063"/>
                  </a:lnTo>
                  <a:lnTo>
                    <a:pt x="650" y="2032"/>
                  </a:lnTo>
                  <a:lnTo>
                    <a:pt x="620" y="2011"/>
                  </a:lnTo>
                  <a:lnTo>
                    <a:pt x="600" y="1979"/>
                  </a:lnTo>
                  <a:lnTo>
                    <a:pt x="569" y="1947"/>
                  </a:lnTo>
                  <a:lnTo>
                    <a:pt x="559" y="1916"/>
                  </a:lnTo>
                  <a:lnTo>
                    <a:pt x="539" y="1884"/>
                  </a:lnTo>
                  <a:lnTo>
                    <a:pt x="528" y="1853"/>
                  </a:lnTo>
                  <a:lnTo>
                    <a:pt x="508" y="1821"/>
                  </a:lnTo>
                  <a:lnTo>
                    <a:pt x="488" y="1789"/>
                  </a:lnTo>
                  <a:lnTo>
                    <a:pt x="477" y="1758"/>
                  </a:lnTo>
                  <a:lnTo>
                    <a:pt x="457" y="1726"/>
                  </a:lnTo>
                  <a:lnTo>
                    <a:pt x="447" y="1684"/>
                  </a:lnTo>
                  <a:lnTo>
                    <a:pt x="427" y="1653"/>
                  </a:lnTo>
                  <a:lnTo>
                    <a:pt x="406" y="1621"/>
                  </a:lnTo>
                  <a:lnTo>
                    <a:pt x="386" y="1589"/>
                  </a:lnTo>
                  <a:lnTo>
                    <a:pt x="366" y="1558"/>
                  </a:lnTo>
                  <a:lnTo>
                    <a:pt x="345" y="1526"/>
                  </a:lnTo>
                  <a:lnTo>
                    <a:pt x="325" y="1495"/>
                  </a:lnTo>
                  <a:lnTo>
                    <a:pt x="304" y="1474"/>
                  </a:lnTo>
                  <a:lnTo>
                    <a:pt x="284" y="1442"/>
                  </a:lnTo>
                  <a:lnTo>
                    <a:pt x="254" y="1421"/>
                  </a:lnTo>
                  <a:lnTo>
                    <a:pt x="243" y="1389"/>
                  </a:lnTo>
                  <a:lnTo>
                    <a:pt x="213" y="1358"/>
                  </a:lnTo>
                  <a:lnTo>
                    <a:pt x="193" y="1326"/>
                  </a:lnTo>
                  <a:lnTo>
                    <a:pt x="162" y="1295"/>
                  </a:lnTo>
                  <a:lnTo>
                    <a:pt x="142" y="1263"/>
                  </a:lnTo>
                  <a:lnTo>
                    <a:pt x="121" y="1231"/>
                  </a:lnTo>
                  <a:lnTo>
                    <a:pt x="112" y="1200"/>
                  </a:lnTo>
                  <a:lnTo>
                    <a:pt x="90" y="1168"/>
                  </a:lnTo>
                  <a:lnTo>
                    <a:pt x="81" y="1137"/>
                  </a:lnTo>
                  <a:lnTo>
                    <a:pt x="60" y="1105"/>
                  </a:lnTo>
                  <a:lnTo>
                    <a:pt x="40" y="1074"/>
                  </a:lnTo>
                  <a:lnTo>
                    <a:pt x="29" y="1042"/>
                  </a:lnTo>
                  <a:lnTo>
                    <a:pt x="29" y="1010"/>
                  </a:lnTo>
                  <a:lnTo>
                    <a:pt x="20" y="979"/>
                  </a:lnTo>
                  <a:lnTo>
                    <a:pt x="9" y="937"/>
                  </a:lnTo>
                  <a:lnTo>
                    <a:pt x="9" y="905"/>
                  </a:lnTo>
                  <a:lnTo>
                    <a:pt x="9" y="874"/>
                  </a:lnTo>
                  <a:lnTo>
                    <a:pt x="9" y="852"/>
                  </a:lnTo>
                  <a:lnTo>
                    <a:pt x="9" y="821"/>
                  </a:lnTo>
                  <a:lnTo>
                    <a:pt x="9" y="789"/>
                  </a:lnTo>
                  <a:lnTo>
                    <a:pt x="9" y="758"/>
                  </a:lnTo>
                  <a:lnTo>
                    <a:pt x="9" y="726"/>
                  </a:lnTo>
                  <a:lnTo>
                    <a:pt x="9" y="684"/>
                  </a:lnTo>
                  <a:lnTo>
                    <a:pt x="9" y="652"/>
                  </a:lnTo>
                  <a:lnTo>
                    <a:pt x="9" y="621"/>
                  </a:lnTo>
                  <a:lnTo>
                    <a:pt x="9" y="589"/>
                  </a:lnTo>
                  <a:lnTo>
                    <a:pt x="9" y="547"/>
                  </a:lnTo>
                  <a:lnTo>
                    <a:pt x="9" y="505"/>
                  </a:lnTo>
                  <a:lnTo>
                    <a:pt x="9" y="463"/>
                  </a:lnTo>
                  <a:lnTo>
                    <a:pt x="9" y="431"/>
                  </a:lnTo>
                  <a:lnTo>
                    <a:pt x="0" y="400"/>
                  </a:lnTo>
                  <a:lnTo>
                    <a:pt x="0" y="368"/>
                  </a:lnTo>
                  <a:lnTo>
                    <a:pt x="0" y="337"/>
                  </a:lnTo>
                  <a:lnTo>
                    <a:pt x="0" y="305"/>
                  </a:lnTo>
                  <a:lnTo>
                    <a:pt x="0" y="273"/>
                  </a:lnTo>
                  <a:lnTo>
                    <a:pt x="0" y="242"/>
                  </a:lnTo>
                  <a:lnTo>
                    <a:pt x="0" y="210"/>
                  </a:lnTo>
                  <a:lnTo>
                    <a:pt x="0" y="179"/>
                  </a:lnTo>
                  <a:lnTo>
                    <a:pt x="0" y="147"/>
                  </a:lnTo>
                  <a:lnTo>
                    <a:pt x="0" y="116"/>
                  </a:lnTo>
                  <a:lnTo>
                    <a:pt x="9" y="94"/>
                  </a:lnTo>
                  <a:lnTo>
                    <a:pt x="19" y="29"/>
                  </a:lnTo>
                  <a:lnTo>
                    <a:pt x="19" y="29"/>
                  </a:lnTo>
                </a:path>
              </a:pathLst>
            </a:custGeom>
            <a:pattFill prst="openDmnd">
              <a:fgClr>
                <a:srgbClr val="eeece1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9"/>
            <p:cNvSpPr/>
            <p:nvPr/>
          </p:nvSpPr>
          <p:spPr>
            <a:xfrm>
              <a:off x="3490920" y="1293840"/>
              <a:ext cx="777600" cy="2314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90" h="146">
                  <a:moveTo>
                    <a:pt x="9" y="1"/>
                  </a:moveTo>
                  <a:lnTo>
                    <a:pt x="0" y="52"/>
                  </a:lnTo>
                  <a:lnTo>
                    <a:pt x="11" y="94"/>
                  </a:lnTo>
                  <a:lnTo>
                    <a:pt x="21" y="126"/>
                  </a:lnTo>
                  <a:lnTo>
                    <a:pt x="42" y="94"/>
                  </a:lnTo>
                  <a:lnTo>
                    <a:pt x="53" y="63"/>
                  </a:lnTo>
                  <a:lnTo>
                    <a:pt x="53" y="31"/>
                  </a:lnTo>
                  <a:lnTo>
                    <a:pt x="63" y="63"/>
                  </a:lnTo>
                  <a:lnTo>
                    <a:pt x="74" y="94"/>
                  </a:lnTo>
                  <a:lnTo>
                    <a:pt x="84" y="63"/>
                  </a:lnTo>
                  <a:lnTo>
                    <a:pt x="95" y="31"/>
                  </a:lnTo>
                  <a:lnTo>
                    <a:pt x="105" y="0"/>
                  </a:lnTo>
                  <a:lnTo>
                    <a:pt x="126" y="31"/>
                  </a:lnTo>
                  <a:lnTo>
                    <a:pt x="137" y="73"/>
                  </a:lnTo>
                  <a:lnTo>
                    <a:pt x="158" y="115"/>
                  </a:lnTo>
                  <a:lnTo>
                    <a:pt x="158" y="84"/>
                  </a:lnTo>
                  <a:lnTo>
                    <a:pt x="158" y="52"/>
                  </a:lnTo>
                  <a:lnTo>
                    <a:pt x="158" y="21"/>
                  </a:lnTo>
                  <a:lnTo>
                    <a:pt x="189" y="10"/>
                  </a:lnTo>
                  <a:lnTo>
                    <a:pt x="200" y="42"/>
                  </a:lnTo>
                  <a:lnTo>
                    <a:pt x="200" y="73"/>
                  </a:lnTo>
                  <a:lnTo>
                    <a:pt x="200" y="105"/>
                  </a:lnTo>
                  <a:lnTo>
                    <a:pt x="221" y="73"/>
                  </a:lnTo>
                  <a:lnTo>
                    <a:pt x="232" y="42"/>
                  </a:lnTo>
                  <a:lnTo>
                    <a:pt x="232" y="10"/>
                  </a:lnTo>
                  <a:lnTo>
                    <a:pt x="242" y="42"/>
                  </a:lnTo>
                  <a:lnTo>
                    <a:pt x="253" y="73"/>
                  </a:lnTo>
                  <a:lnTo>
                    <a:pt x="284" y="73"/>
                  </a:lnTo>
                  <a:lnTo>
                    <a:pt x="284" y="42"/>
                  </a:lnTo>
                  <a:lnTo>
                    <a:pt x="295" y="10"/>
                  </a:lnTo>
                  <a:lnTo>
                    <a:pt x="295" y="42"/>
                  </a:lnTo>
                  <a:lnTo>
                    <a:pt x="305" y="73"/>
                  </a:lnTo>
                  <a:lnTo>
                    <a:pt x="326" y="115"/>
                  </a:lnTo>
                  <a:lnTo>
                    <a:pt x="358" y="84"/>
                  </a:lnTo>
                  <a:lnTo>
                    <a:pt x="358" y="52"/>
                  </a:lnTo>
                  <a:lnTo>
                    <a:pt x="358" y="21"/>
                  </a:lnTo>
                  <a:lnTo>
                    <a:pt x="368" y="52"/>
                  </a:lnTo>
                  <a:lnTo>
                    <a:pt x="379" y="94"/>
                  </a:lnTo>
                  <a:lnTo>
                    <a:pt x="389" y="126"/>
                  </a:lnTo>
                  <a:lnTo>
                    <a:pt x="400" y="94"/>
                  </a:lnTo>
                  <a:lnTo>
                    <a:pt x="410" y="63"/>
                  </a:lnTo>
                  <a:lnTo>
                    <a:pt x="432" y="84"/>
                  </a:lnTo>
                  <a:lnTo>
                    <a:pt x="442" y="115"/>
                  </a:lnTo>
                  <a:lnTo>
                    <a:pt x="463" y="84"/>
                  </a:lnTo>
                  <a:lnTo>
                    <a:pt x="474" y="52"/>
                  </a:lnTo>
                  <a:lnTo>
                    <a:pt x="474" y="84"/>
                  </a:lnTo>
                  <a:lnTo>
                    <a:pt x="474" y="115"/>
                  </a:lnTo>
                  <a:lnTo>
                    <a:pt x="489" y="145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0"/>
            <p:cNvSpPr/>
            <p:nvPr/>
          </p:nvSpPr>
          <p:spPr>
            <a:xfrm>
              <a:off x="5318280" y="1293840"/>
              <a:ext cx="777600" cy="2314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490" h="146">
                  <a:moveTo>
                    <a:pt x="480" y="1"/>
                  </a:moveTo>
                  <a:lnTo>
                    <a:pt x="489" y="52"/>
                  </a:lnTo>
                  <a:lnTo>
                    <a:pt x="478" y="94"/>
                  </a:lnTo>
                  <a:lnTo>
                    <a:pt x="468" y="126"/>
                  </a:lnTo>
                  <a:lnTo>
                    <a:pt x="447" y="94"/>
                  </a:lnTo>
                  <a:lnTo>
                    <a:pt x="436" y="63"/>
                  </a:lnTo>
                  <a:lnTo>
                    <a:pt x="436" y="31"/>
                  </a:lnTo>
                  <a:lnTo>
                    <a:pt x="426" y="63"/>
                  </a:lnTo>
                  <a:lnTo>
                    <a:pt x="415" y="94"/>
                  </a:lnTo>
                  <a:lnTo>
                    <a:pt x="405" y="63"/>
                  </a:lnTo>
                  <a:lnTo>
                    <a:pt x="394" y="31"/>
                  </a:lnTo>
                  <a:lnTo>
                    <a:pt x="384" y="0"/>
                  </a:lnTo>
                  <a:lnTo>
                    <a:pt x="363" y="31"/>
                  </a:lnTo>
                  <a:lnTo>
                    <a:pt x="352" y="73"/>
                  </a:lnTo>
                  <a:lnTo>
                    <a:pt x="331" y="115"/>
                  </a:lnTo>
                  <a:lnTo>
                    <a:pt x="331" y="84"/>
                  </a:lnTo>
                  <a:lnTo>
                    <a:pt x="331" y="52"/>
                  </a:lnTo>
                  <a:lnTo>
                    <a:pt x="331" y="21"/>
                  </a:lnTo>
                  <a:lnTo>
                    <a:pt x="300" y="10"/>
                  </a:lnTo>
                  <a:lnTo>
                    <a:pt x="289" y="42"/>
                  </a:lnTo>
                  <a:lnTo>
                    <a:pt x="289" y="73"/>
                  </a:lnTo>
                  <a:lnTo>
                    <a:pt x="289" y="105"/>
                  </a:lnTo>
                  <a:lnTo>
                    <a:pt x="268" y="73"/>
                  </a:lnTo>
                  <a:lnTo>
                    <a:pt x="257" y="42"/>
                  </a:lnTo>
                  <a:lnTo>
                    <a:pt x="257" y="10"/>
                  </a:lnTo>
                  <a:lnTo>
                    <a:pt x="247" y="42"/>
                  </a:lnTo>
                  <a:lnTo>
                    <a:pt x="236" y="73"/>
                  </a:lnTo>
                  <a:lnTo>
                    <a:pt x="205" y="73"/>
                  </a:lnTo>
                  <a:lnTo>
                    <a:pt x="205" y="42"/>
                  </a:lnTo>
                  <a:lnTo>
                    <a:pt x="194" y="10"/>
                  </a:lnTo>
                  <a:lnTo>
                    <a:pt x="194" y="42"/>
                  </a:lnTo>
                  <a:lnTo>
                    <a:pt x="184" y="73"/>
                  </a:lnTo>
                  <a:lnTo>
                    <a:pt x="163" y="115"/>
                  </a:lnTo>
                  <a:lnTo>
                    <a:pt x="131" y="84"/>
                  </a:lnTo>
                  <a:lnTo>
                    <a:pt x="131" y="52"/>
                  </a:lnTo>
                  <a:lnTo>
                    <a:pt x="131" y="21"/>
                  </a:lnTo>
                  <a:lnTo>
                    <a:pt x="121" y="52"/>
                  </a:lnTo>
                  <a:lnTo>
                    <a:pt x="110" y="94"/>
                  </a:lnTo>
                  <a:lnTo>
                    <a:pt x="100" y="126"/>
                  </a:lnTo>
                  <a:lnTo>
                    <a:pt x="89" y="94"/>
                  </a:lnTo>
                  <a:lnTo>
                    <a:pt x="79" y="63"/>
                  </a:lnTo>
                  <a:lnTo>
                    <a:pt x="57" y="84"/>
                  </a:lnTo>
                  <a:lnTo>
                    <a:pt x="47" y="115"/>
                  </a:lnTo>
                  <a:lnTo>
                    <a:pt x="26" y="84"/>
                  </a:lnTo>
                  <a:lnTo>
                    <a:pt x="15" y="52"/>
                  </a:lnTo>
                  <a:lnTo>
                    <a:pt x="15" y="84"/>
                  </a:lnTo>
                  <a:lnTo>
                    <a:pt x="15" y="115"/>
                  </a:lnTo>
                  <a:lnTo>
                    <a:pt x="0" y="145"/>
                  </a:lnTo>
                </a:path>
              </a:pathLst>
            </a:custGeom>
            <a:noFill/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1"/>
            <p:cNvSpPr/>
            <p:nvPr/>
          </p:nvSpPr>
          <p:spPr>
            <a:xfrm>
              <a:off x="2971800" y="2209680"/>
              <a:ext cx="3811320" cy="3125520"/>
            </a:xfrm>
            <a:custGeom>
              <a:avLst/>
              <a:gdLst>
                <a:gd name="textAreaLeft" fmla="*/ 0 w 3811320"/>
                <a:gd name="textAreaRight" fmla="*/ 3811680 w 3811320"/>
                <a:gd name="textAreaTop" fmla="*/ 0 h 3125520"/>
                <a:gd name="textAreaBottom" fmla="*/ 3125880 h 3125520"/>
              </a:gdLst>
              <a:ahLst/>
              <a:rect l="textAreaLeft" t="textAreaTop" r="textAreaRight" b="textAreaBottom"/>
              <a:pathLst>
                <a:path w="2401" h="1969">
                  <a:moveTo>
                    <a:pt x="0" y="38"/>
                  </a:moveTo>
                  <a:lnTo>
                    <a:pt x="21" y="88"/>
                  </a:lnTo>
                  <a:lnTo>
                    <a:pt x="21" y="121"/>
                  </a:lnTo>
                  <a:lnTo>
                    <a:pt x="31" y="154"/>
                  </a:lnTo>
                  <a:lnTo>
                    <a:pt x="31" y="187"/>
                  </a:lnTo>
                  <a:lnTo>
                    <a:pt x="41" y="220"/>
                  </a:lnTo>
                  <a:lnTo>
                    <a:pt x="41" y="254"/>
                  </a:lnTo>
                  <a:lnTo>
                    <a:pt x="51" y="287"/>
                  </a:lnTo>
                  <a:lnTo>
                    <a:pt x="62" y="320"/>
                  </a:lnTo>
                  <a:lnTo>
                    <a:pt x="72" y="353"/>
                  </a:lnTo>
                  <a:lnTo>
                    <a:pt x="82" y="386"/>
                  </a:lnTo>
                  <a:lnTo>
                    <a:pt x="93" y="430"/>
                  </a:lnTo>
                  <a:lnTo>
                    <a:pt x="103" y="464"/>
                  </a:lnTo>
                  <a:lnTo>
                    <a:pt x="114" y="497"/>
                  </a:lnTo>
                  <a:lnTo>
                    <a:pt x="114" y="541"/>
                  </a:lnTo>
                  <a:lnTo>
                    <a:pt x="123" y="574"/>
                  </a:lnTo>
                  <a:lnTo>
                    <a:pt x="134" y="608"/>
                  </a:lnTo>
                  <a:lnTo>
                    <a:pt x="144" y="641"/>
                  </a:lnTo>
                  <a:lnTo>
                    <a:pt x="144" y="674"/>
                  </a:lnTo>
                  <a:lnTo>
                    <a:pt x="154" y="707"/>
                  </a:lnTo>
                  <a:lnTo>
                    <a:pt x="154" y="740"/>
                  </a:lnTo>
                  <a:lnTo>
                    <a:pt x="164" y="773"/>
                  </a:lnTo>
                  <a:lnTo>
                    <a:pt x="175" y="806"/>
                  </a:lnTo>
                  <a:lnTo>
                    <a:pt x="185" y="840"/>
                  </a:lnTo>
                  <a:lnTo>
                    <a:pt x="195" y="873"/>
                  </a:lnTo>
                  <a:lnTo>
                    <a:pt x="195" y="906"/>
                  </a:lnTo>
                  <a:lnTo>
                    <a:pt x="205" y="939"/>
                  </a:lnTo>
                  <a:lnTo>
                    <a:pt x="205" y="972"/>
                  </a:lnTo>
                  <a:lnTo>
                    <a:pt x="205" y="1006"/>
                  </a:lnTo>
                  <a:lnTo>
                    <a:pt x="205" y="1039"/>
                  </a:lnTo>
                  <a:lnTo>
                    <a:pt x="216" y="1072"/>
                  </a:lnTo>
                  <a:lnTo>
                    <a:pt x="216" y="1116"/>
                  </a:lnTo>
                  <a:lnTo>
                    <a:pt x="216" y="1149"/>
                  </a:lnTo>
                  <a:lnTo>
                    <a:pt x="216" y="1182"/>
                  </a:lnTo>
                  <a:lnTo>
                    <a:pt x="216" y="1216"/>
                  </a:lnTo>
                  <a:lnTo>
                    <a:pt x="226" y="1249"/>
                  </a:lnTo>
                  <a:lnTo>
                    <a:pt x="226" y="1282"/>
                  </a:lnTo>
                  <a:lnTo>
                    <a:pt x="226" y="1315"/>
                  </a:lnTo>
                  <a:lnTo>
                    <a:pt x="236" y="1348"/>
                  </a:lnTo>
                  <a:lnTo>
                    <a:pt x="236" y="1382"/>
                  </a:lnTo>
                  <a:lnTo>
                    <a:pt x="236" y="1414"/>
                  </a:lnTo>
                  <a:lnTo>
                    <a:pt x="246" y="1437"/>
                  </a:lnTo>
                  <a:lnTo>
                    <a:pt x="246" y="1470"/>
                  </a:lnTo>
                  <a:lnTo>
                    <a:pt x="257" y="1503"/>
                  </a:lnTo>
                  <a:lnTo>
                    <a:pt x="257" y="1536"/>
                  </a:lnTo>
                  <a:lnTo>
                    <a:pt x="266" y="1569"/>
                  </a:lnTo>
                  <a:lnTo>
                    <a:pt x="266" y="1602"/>
                  </a:lnTo>
                  <a:lnTo>
                    <a:pt x="277" y="1636"/>
                  </a:lnTo>
                  <a:lnTo>
                    <a:pt x="277" y="1669"/>
                  </a:lnTo>
                  <a:lnTo>
                    <a:pt x="298" y="1702"/>
                  </a:lnTo>
                  <a:lnTo>
                    <a:pt x="318" y="1735"/>
                  </a:lnTo>
                  <a:lnTo>
                    <a:pt x="339" y="1768"/>
                  </a:lnTo>
                  <a:lnTo>
                    <a:pt x="370" y="1790"/>
                  </a:lnTo>
                  <a:lnTo>
                    <a:pt x="400" y="1812"/>
                  </a:lnTo>
                  <a:lnTo>
                    <a:pt x="431" y="1835"/>
                  </a:lnTo>
                  <a:lnTo>
                    <a:pt x="461" y="1846"/>
                  </a:lnTo>
                  <a:lnTo>
                    <a:pt x="544" y="1879"/>
                  </a:lnTo>
                  <a:lnTo>
                    <a:pt x="574" y="1890"/>
                  </a:lnTo>
                  <a:lnTo>
                    <a:pt x="606" y="1901"/>
                  </a:lnTo>
                  <a:lnTo>
                    <a:pt x="636" y="1912"/>
                  </a:lnTo>
                  <a:lnTo>
                    <a:pt x="667" y="1923"/>
                  </a:lnTo>
                  <a:lnTo>
                    <a:pt x="697" y="1923"/>
                  </a:lnTo>
                  <a:lnTo>
                    <a:pt x="728" y="1934"/>
                  </a:lnTo>
                  <a:lnTo>
                    <a:pt x="760" y="1934"/>
                  </a:lnTo>
                  <a:lnTo>
                    <a:pt x="790" y="1934"/>
                  </a:lnTo>
                  <a:lnTo>
                    <a:pt x="821" y="1945"/>
                  </a:lnTo>
                  <a:lnTo>
                    <a:pt x="851" y="1945"/>
                  </a:lnTo>
                  <a:lnTo>
                    <a:pt x="882" y="1956"/>
                  </a:lnTo>
                  <a:lnTo>
                    <a:pt x="913" y="1956"/>
                  </a:lnTo>
                  <a:lnTo>
                    <a:pt x="954" y="1956"/>
                  </a:lnTo>
                  <a:lnTo>
                    <a:pt x="985" y="1968"/>
                  </a:lnTo>
                  <a:lnTo>
                    <a:pt x="1016" y="1968"/>
                  </a:lnTo>
                  <a:lnTo>
                    <a:pt x="1046" y="1968"/>
                  </a:lnTo>
                  <a:lnTo>
                    <a:pt x="1077" y="1968"/>
                  </a:lnTo>
                  <a:lnTo>
                    <a:pt x="1107" y="1968"/>
                  </a:lnTo>
                  <a:lnTo>
                    <a:pt x="1139" y="1968"/>
                  </a:lnTo>
                  <a:lnTo>
                    <a:pt x="1170" y="1968"/>
                  </a:lnTo>
                  <a:lnTo>
                    <a:pt x="1200" y="1968"/>
                  </a:lnTo>
                  <a:lnTo>
                    <a:pt x="1241" y="1968"/>
                  </a:lnTo>
                  <a:lnTo>
                    <a:pt x="1282" y="1968"/>
                  </a:lnTo>
                  <a:lnTo>
                    <a:pt x="1313" y="1968"/>
                  </a:lnTo>
                  <a:lnTo>
                    <a:pt x="1343" y="1968"/>
                  </a:lnTo>
                  <a:lnTo>
                    <a:pt x="1374" y="1968"/>
                  </a:lnTo>
                  <a:lnTo>
                    <a:pt x="1406" y="1956"/>
                  </a:lnTo>
                  <a:lnTo>
                    <a:pt x="1436" y="1945"/>
                  </a:lnTo>
                  <a:lnTo>
                    <a:pt x="1467" y="1934"/>
                  </a:lnTo>
                  <a:lnTo>
                    <a:pt x="1497" y="1923"/>
                  </a:lnTo>
                  <a:lnTo>
                    <a:pt x="1528" y="1912"/>
                  </a:lnTo>
                  <a:lnTo>
                    <a:pt x="1559" y="1901"/>
                  </a:lnTo>
                  <a:lnTo>
                    <a:pt x="1590" y="1879"/>
                  </a:lnTo>
                  <a:lnTo>
                    <a:pt x="1621" y="1868"/>
                  </a:lnTo>
                  <a:lnTo>
                    <a:pt x="1651" y="1857"/>
                  </a:lnTo>
                  <a:lnTo>
                    <a:pt x="1682" y="1846"/>
                  </a:lnTo>
                  <a:lnTo>
                    <a:pt x="1713" y="1846"/>
                  </a:lnTo>
                  <a:lnTo>
                    <a:pt x="1744" y="1835"/>
                  </a:lnTo>
                  <a:lnTo>
                    <a:pt x="1774" y="1835"/>
                  </a:lnTo>
                  <a:lnTo>
                    <a:pt x="1805" y="1824"/>
                  </a:lnTo>
                  <a:lnTo>
                    <a:pt x="1836" y="1812"/>
                  </a:lnTo>
                  <a:lnTo>
                    <a:pt x="1866" y="1790"/>
                  </a:lnTo>
                  <a:lnTo>
                    <a:pt x="1898" y="1780"/>
                  </a:lnTo>
                  <a:lnTo>
                    <a:pt x="1928" y="1757"/>
                  </a:lnTo>
                  <a:lnTo>
                    <a:pt x="1959" y="1735"/>
                  </a:lnTo>
                  <a:lnTo>
                    <a:pt x="1989" y="1724"/>
                  </a:lnTo>
                  <a:lnTo>
                    <a:pt x="2020" y="1702"/>
                  </a:lnTo>
                  <a:lnTo>
                    <a:pt x="2052" y="1680"/>
                  </a:lnTo>
                  <a:lnTo>
                    <a:pt x="2072" y="1647"/>
                  </a:lnTo>
                  <a:lnTo>
                    <a:pt x="2082" y="1624"/>
                  </a:lnTo>
                  <a:lnTo>
                    <a:pt x="2102" y="1592"/>
                  </a:lnTo>
                  <a:lnTo>
                    <a:pt x="2102" y="1558"/>
                  </a:lnTo>
                  <a:lnTo>
                    <a:pt x="2113" y="1525"/>
                  </a:lnTo>
                  <a:lnTo>
                    <a:pt x="2123" y="1492"/>
                  </a:lnTo>
                  <a:lnTo>
                    <a:pt x="2133" y="1459"/>
                  </a:lnTo>
                  <a:lnTo>
                    <a:pt x="2143" y="1426"/>
                  </a:lnTo>
                  <a:lnTo>
                    <a:pt x="2143" y="1392"/>
                  </a:lnTo>
                  <a:lnTo>
                    <a:pt x="2154" y="1359"/>
                  </a:lnTo>
                  <a:lnTo>
                    <a:pt x="2154" y="1326"/>
                  </a:lnTo>
                  <a:lnTo>
                    <a:pt x="2164" y="1293"/>
                  </a:lnTo>
                  <a:lnTo>
                    <a:pt x="2174" y="1260"/>
                  </a:lnTo>
                  <a:lnTo>
                    <a:pt x="2184" y="1226"/>
                  </a:lnTo>
                  <a:lnTo>
                    <a:pt x="2184" y="1194"/>
                  </a:lnTo>
                  <a:lnTo>
                    <a:pt x="2184" y="1160"/>
                  </a:lnTo>
                  <a:lnTo>
                    <a:pt x="2184" y="1127"/>
                  </a:lnTo>
                  <a:lnTo>
                    <a:pt x="2195" y="1094"/>
                  </a:lnTo>
                  <a:lnTo>
                    <a:pt x="2195" y="1061"/>
                  </a:lnTo>
                  <a:lnTo>
                    <a:pt x="2195" y="1028"/>
                  </a:lnTo>
                  <a:lnTo>
                    <a:pt x="2195" y="984"/>
                  </a:lnTo>
                  <a:lnTo>
                    <a:pt x="2205" y="950"/>
                  </a:lnTo>
                  <a:lnTo>
                    <a:pt x="2205" y="917"/>
                  </a:lnTo>
                  <a:lnTo>
                    <a:pt x="2215" y="884"/>
                  </a:lnTo>
                  <a:lnTo>
                    <a:pt x="2215" y="851"/>
                  </a:lnTo>
                  <a:lnTo>
                    <a:pt x="2225" y="828"/>
                  </a:lnTo>
                  <a:lnTo>
                    <a:pt x="2225" y="796"/>
                  </a:lnTo>
                  <a:lnTo>
                    <a:pt x="2236" y="762"/>
                  </a:lnTo>
                  <a:lnTo>
                    <a:pt x="2236" y="729"/>
                  </a:lnTo>
                  <a:lnTo>
                    <a:pt x="2247" y="696"/>
                  </a:lnTo>
                  <a:lnTo>
                    <a:pt x="2256" y="663"/>
                  </a:lnTo>
                  <a:lnTo>
                    <a:pt x="2267" y="630"/>
                  </a:lnTo>
                  <a:lnTo>
                    <a:pt x="2277" y="596"/>
                  </a:lnTo>
                  <a:lnTo>
                    <a:pt x="2287" y="563"/>
                  </a:lnTo>
                  <a:lnTo>
                    <a:pt x="2297" y="530"/>
                  </a:lnTo>
                  <a:lnTo>
                    <a:pt x="2308" y="497"/>
                  </a:lnTo>
                  <a:lnTo>
                    <a:pt x="2308" y="464"/>
                  </a:lnTo>
                  <a:lnTo>
                    <a:pt x="2318" y="420"/>
                  </a:lnTo>
                  <a:lnTo>
                    <a:pt x="2318" y="386"/>
                  </a:lnTo>
                  <a:lnTo>
                    <a:pt x="2328" y="353"/>
                  </a:lnTo>
                  <a:lnTo>
                    <a:pt x="2328" y="320"/>
                  </a:lnTo>
                  <a:lnTo>
                    <a:pt x="2349" y="287"/>
                  </a:lnTo>
                  <a:lnTo>
                    <a:pt x="2349" y="254"/>
                  </a:lnTo>
                  <a:lnTo>
                    <a:pt x="2359" y="220"/>
                  </a:lnTo>
                  <a:lnTo>
                    <a:pt x="2369" y="187"/>
                  </a:lnTo>
                  <a:lnTo>
                    <a:pt x="2379" y="154"/>
                  </a:lnTo>
                  <a:lnTo>
                    <a:pt x="2379" y="121"/>
                  </a:lnTo>
                  <a:lnTo>
                    <a:pt x="2390" y="88"/>
                  </a:lnTo>
                  <a:lnTo>
                    <a:pt x="2390" y="55"/>
                  </a:lnTo>
                  <a:lnTo>
                    <a:pt x="2390" y="32"/>
                  </a:lnTo>
                  <a:lnTo>
                    <a:pt x="2400" y="0"/>
                  </a:lnTo>
                  <a:lnTo>
                    <a:pt x="2369" y="22"/>
                  </a:lnTo>
                  <a:lnTo>
                    <a:pt x="2349" y="55"/>
                  </a:lnTo>
                  <a:lnTo>
                    <a:pt x="2338" y="88"/>
                  </a:lnTo>
                  <a:lnTo>
                    <a:pt x="2328" y="121"/>
                  </a:lnTo>
                  <a:lnTo>
                    <a:pt x="2318" y="154"/>
                  </a:lnTo>
                  <a:lnTo>
                    <a:pt x="2308" y="187"/>
                  </a:lnTo>
                  <a:lnTo>
                    <a:pt x="2287" y="220"/>
                  </a:lnTo>
                  <a:lnTo>
                    <a:pt x="2287" y="254"/>
                  </a:lnTo>
                  <a:lnTo>
                    <a:pt x="2277" y="287"/>
                  </a:lnTo>
                  <a:lnTo>
                    <a:pt x="2247" y="320"/>
                  </a:lnTo>
                  <a:lnTo>
                    <a:pt x="2225" y="353"/>
                  </a:lnTo>
                  <a:lnTo>
                    <a:pt x="2205" y="386"/>
                  </a:lnTo>
                  <a:lnTo>
                    <a:pt x="2184" y="420"/>
                  </a:lnTo>
                  <a:lnTo>
                    <a:pt x="2164" y="453"/>
                  </a:lnTo>
                  <a:lnTo>
                    <a:pt x="2133" y="486"/>
                  </a:lnTo>
                  <a:lnTo>
                    <a:pt x="2113" y="519"/>
                  </a:lnTo>
                  <a:lnTo>
                    <a:pt x="2093" y="552"/>
                  </a:lnTo>
                  <a:lnTo>
                    <a:pt x="2072" y="585"/>
                  </a:lnTo>
                  <a:lnTo>
                    <a:pt x="2041" y="618"/>
                  </a:lnTo>
                  <a:lnTo>
                    <a:pt x="2031" y="641"/>
                  </a:lnTo>
                  <a:lnTo>
                    <a:pt x="2010" y="674"/>
                  </a:lnTo>
                  <a:lnTo>
                    <a:pt x="1989" y="707"/>
                  </a:lnTo>
                  <a:lnTo>
                    <a:pt x="1969" y="740"/>
                  </a:lnTo>
                  <a:lnTo>
                    <a:pt x="1948" y="773"/>
                  </a:lnTo>
                  <a:lnTo>
                    <a:pt x="1918" y="784"/>
                  </a:lnTo>
                  <a:lnTo>
                    <a:pt x="1898" y="818"/>
                  </a:lnTo>
                  <a:lnTo>
                    <a:pt x="1866" y="840"/>
                  </a:lnTo>
                  <a:lnTo>
                    <a:pt x="1836" y="873"/>
                  </a:lnTo>
                  <a:lnTo>
                    <a:pt x="1816" y="906"/>
                  </a:lnTo>
                  <a:lnTo>
                    <a:pt x="1794" y="917"/>
                  </a:lnTo>
                  <a:lnTo>
                    <a:pt x="1785" y="950"/>
                  </a:lnTo>
                  <a:lnTo>
                    <a:pt x="1753" y="961"/>
                  </a:lnTo>
                  <a:lnTo>
                    <a:pt x="1744" y="994"/>
                  </a:lnTo>
                  <a:lnTo>
                    <a:pt x="1713" y="1016"/>
                  </a:lnTo>
                  <a:lnTo>
                    <a:pt x="1713" y="1039"/>
                  </a:lnTo>
                  <a:lnTo>
                    <a:pt x="1682" y="1050"/>
                  </a:lnTo>
                  <a:lnTo>
                    <a:pt x="1672" y="1083"/>
                  </a:lnTo>
                  <a:lnTo>
                    <a:pt x="1641" y="1105"/>
                  </a:lnTo>
                  <a:lnTo>
                    <a:pt x="1610" y="1138"/>
                  </a:lnTo>
                  <a:lnTo>
                    <a:pt x="1579" y="1149"/>
                  </a:lnTo>
                  <a:lnTo>
                    <a:pt x="1549" y="1171"/>
                  </a:lnTo>
                  <a:lnTo>
                    <a:pt x="1518" y="1182"/>
                  </a:lnTo>
                  <a:lnTo>
                    <a:pt x="1497" y="1216"/>
                  </a:lnTo>
                  <a:lnTo>
                    <a:pt x="1467" y="1226"/>
                  </a:lnTo>
                  <a:lnTo>
                    <a:pt x="1467" y="1249"/>
                  </a:lnTo>
                  <a:lnTo>
                    <a:pt x="1436" y="1260"/>
                  </a:lnTo>
                  <a:lnTo>
                    <a:pt x="1406" y="1282"/>
                  </a:lnTo>
                  <a:lnTo>
                    <a:pt x="1374" y="1304"/>
                  </a:lnTo>
                  <a:lnTo>
                    <a:pt x="1343" y="1315"/>
                  </a:lnTo>
                  <a:lnTo>
                    <a:pt x="1313" y="1315"/>
                  </a:lnTo>
                  <a:lnTo>
                    <a:pt x="1282" y="1315"/>
                  </a:lnTo>
                  <a:lnTo>
                    <a:pt x="1252" y="1326"/>
                  </a:lnTo>
                  <a:lnTo>
                    <a:pt x="1220" y="1337"/>
                  </a:lnTo>
                  <a:lnTo>
                    <a:pt x="1190" y="1337"/>
                  </a:lnTo>
                  <a:lnTo>
                    <a:pt x="1159" y="1337"/>
                  </a:lnTo>
                  <a:lnTo>
                    <a:pt x="1128" y="1337"/>
                  </a:lnTo>
                  <a:lnTo>
                    <a:pt x="1098" y="1337"/>
                  </a:lnTo>
                  <a:lnTo>
                    <a:pt x="1066" y="1337"/>
                  </a:lnTo>
                  <a:lnTo>
                    <a:pt x="1036" y="1337"/>
                  </a:lnTo>
                  <a:lnTo>
                    <a:pt x="1005" y="1337"/>
                  </a:lnTo>
                  <a:lnTo>
                    <a:pt x="975" y="1326"/>
                  </a:lnTo>
                  <a:lnTo>
                    <a:pt x="944" y="1315"/>
                  </a:lnTo>
                  <a:lnTo>
                    <a:pt x="913" y="1293"/>
                  </a:lnTo>
                  <a:lnTo>
                    <a:pt x="882" y="1282"/>
                  </a:lnTo>
                  <a:lnTo>
                    <a:pt x="851" y="1282"/>
                  </a:lnTo>
                  <a:lnTo>
                    <a:pt x="821" y="1271"/>
                  </a:lnTo>
                  <a:lnTo>
                    <a:pt x="790" y="1260"/>
                  </a:lnTo>
                  <a:lnTo>
                    <a:pt x="760" y="1249"/>
                  </a:lnTo>
                  <a:lnTo>
                    <a:pt x="739" y="1226"/>
                  </a:lnTo>
                  <a:lnTo>
                    <a:pt x="718" y="1216"/>
                  </a:lnTo>
                  <a:lnTo>
                    <a:pt x="687" y="1182"/>
                  </a:lnTo>
                  <a:lnTo>
                    <a:pt x="677" y="1149"/>
                  </a:lnTo>
                  <a:lnTo>
                    <a:pt x="647" y="1127"/>
                  </a:lnTo>
                  <a:lnTo>
                    <a:pt x="626" y="1094"/>
                  </a:lnTo>
                  <a:lnTo>
                    <a:pt x="595" y="1072"/>
                  </a:lnTo>
                  <a:lnTo>
                    <a:pt x="565" y="1050"/>
                  </a:lnTo>
                  <a:lnTo>
                    <a:pt x="544" y="1016"/>
                  </a:lnTo>
                  <a:lnTo>
                    <a:pt x="524" y="984"/>
                  </a:lnTo>
                  <a:lnTo>
                    <a:pt x="502" y="961"/>
                  </a:lnTo>
                  <a:lnTo>
                    <a:pt x="482" y="928"/>
                  </a:lnTo>
                  <a:lnTo>
                    <a:pt x="472" y="895"/>
                  </a:lnTo>
                  <a:lnTo>
                    <a:pt x="461" y="862"/>
                  </a:lnTo>
                  <a:lnTo>
                    <a:pt x="441" y="828"/>
                  </a:lnTo>
                  <a:lnTo>
                    <a:pt x="441" y="796"/>
                  </a:lnTo>
                  <a:lnTo>
                    <a:pt x="431" y="762"/>
                  </a:lnTo>
                  <a:lnTo>
                    <a:pt x="411" y="729"/>
                  </a:lnTo>
                  <a:lnTo>
                    <a:pt x="400" y="696"/>
                  </a:lnTo>
                  <a:lnTo>
                    <a:pt x="390" y="663"/>
                  </a:lnTo>
                  <a:lnTo>
                    <a:pt x="370" y="630"/>
                  </a:lnTo>
                  <a:lnTo>
                    <a:pt x="339" y="596"/>
                  </a:lnTo>
                  <a:lnTo>
                    <a:pt x="318" y="563"/>
                  </a:lnTo>
                  <a:lnTo>
                    <a:pt x="308" y="530"/>
                  </a:lnTo>
                  <a:lnTo>
                    <a:pt x="287" y="508"/>
                  </a:lnTo>
                  <a:lnTo>
                    <a:pt x="277" y="475"/>
                  </a:lnTo>
                  <a:lnTo>
                    <a:pt x="266" y="442"/>
                  </a:lnTo>
                  <a:lnTo>
                    <a:pt x="236" y="420"/>
                  </a:lnTo>
                  <a:lnTo>
                    <a:pt x="226" y="386"/>
                  </a:lnTo>
                  <a:lnTo>
                    <a:pt x="195" y="375"/>
                  </a:lnTo>
                  <a:lnTo>
                    <a:pt x="185" y="342"/>
                  </a:lnTo>
                  <a:lnTo>
                    <a:pt x="154" y="320"/>
                  </a:lnTo>
                  <a:lnTo>
                    <a:pt x="144" y="287"/>
                  </a:lnTo>
                  <a:lnTo>
                    <a:pt x="114" y="265"/>
                  </a:lnTo>
                  <a:lnTo>
                    <a:pt x="114" y="242"/>
                  </a:lnTo>
                  <a:lnTo>
                    <a:pt x="93" y="210"/>
                  </a:lnTo>
                  <a:lnTo>
                    <a:pt x="72" y="187"/>
                  </a:lnTo>
                  <a:lnTo>
                    <a:pt x="51" y="154"/>
                  </a:lnTo>
                  <a:lnTo>
                    <a:pt x="31" y="121"/>
                  </a:lnTo>
                  <a:lnTo>
                    <a:pt x="21" y="88"/>
                  </a:lnTo>
                  <a:lnTo>
                    <a:pt x="0" y="38"/>
                  </a:lnTo>
                </a:path>
              </a:pathLst>
            </a:custGeom>
            <a:pattFill prst="wdUpDiag">
              <a:fgClr>
                <a:srgbClr val="eeece1"/>
              </a:fgClr>
              <a:bgClr>
                <a:srgbClr val="0000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2"/>
            <p:cNvSpPr/>
            <p:nvPr/>
          </p:nvSpPr>
          <p:spPr>
            <a:xfrm>
              <a:off x="2922480" y="1600200"/>
              <a:ext cx="1722240" cy="2585520"/>
            </a:xfrm>
            <a:custGeom>
              <a:avLst/>
              <a:gdLst>
                <a:gd name="textAreaLeft" fmla="*/ 0 w 1722240"/>
                <a:gd name="textAreaRight" fmla="*/ 1722600 w 1722240"/>
                <a:gd name="textAreaTop" fmla="*/ 0 h 2585520"/>
                <a:gd name="textAreaBottom" fmla="*/ 2585880 h 2585520"/>
              </a:gdLst>
              <a:ahLst/>
              <a:rect l="textAreaLeft" t="textAreaTop" r="textAreaRight" b="textAreaBottom"/>
              <a:pathLst>
                <a:path w="1085" h="1629">
                  <a:moveTo>
                    <a:pt x="31" y="0"/>
                  </a:moveTo>
                  <a:lnTo>
                    <a:pt x="74" y="28"/>
                  </a:lnTo>
                  <a:lnTo>
                    <a:pt x="105" y="49"/>
                  </a:lnTo>
                  <a:lnTo>
                    <a:pt x="127" y="59"/>
                  </a:lnTo>
                  <a:lnTo>
                    <a:pt x="158" y="70"/>
                  </a:lnTo>
                  <a:lnTo>
                    <a:pt x="190" y="91"/>
                  </a:lnTo>
                  <a:lnTo>
                    <a:pt x="221" y="91"/>
                  </a:lnTo>
                  <a:lnTo>
                    <a:pt x="253" y="101"/>
                  </a:lnTo>
                  <a:lnTo>
                    <a:pt x="284" y="122"/>
                  </a:lnTo>
                  <a:lnTo>
                    <a:pt x="316" y="122"/>
                  </a:lnTo>
                  <a:lnTo>
                    <a:pt x="348" y="133"/>
                  </a:lnTo>
                  <a:lnTo>
                    <a:pt x="369" y="165"/>
                  </a:lnTo>
                  <a:lnTo>
                    <a:pt x="379" y="196"/>
                  </a:lnTo>
                  <a:lnTo>
                    <a:pt x="411" y="217"/>
                  </a:lnTo>
                  <a:lnTo>
                    <a:pt x="432" y="249"/>
                  </a:lnTo>
                  <a:lnTo>
                    <a:pt x="463" y="249"/>
                  </a:lnTo>
                  <a:lnTo>
                    <a:pt x="495" y="259"/>
                  </a:lnTo>
                  <a:lnTo>
                    <a:pt x="537" y="259"/>
                  </a:lnTo>
                  <a:lnTo>
                    <a:pt x="569" y="259"/>
                  </a:lnTo>
                  <a:lnTo>
                    <a:pt x="600" y="259"/>
                  </a:lnTo>
                  <a:lnTo>
                    <a:pt x="632" y="259"/>
                  </a:lnTo>
                  <a:lnTo>
                    <a:pt x="663" y="259"/>
                  </a:lnTo>
                  <a:lnTo>
                    <a:pt x="695" y="259"/>
                  </a:lnTo>
                  <a:lnTo>
                    <a:pt x="726" y="249"/>
                  </a:lnTo>
                  <a:lnTo>
                    <a:pt x="758" y="238"/>
                  </a:lnTo>
                  <a:lnTo>
                    <a:pt x="790" y="228"/>
                  </a:lnTo>
                  <a:lnTo>
                    <a:pt x="821" y="217"/>
                  </a:lnTo>
                  <a:lnTo>
                    <a:pt x="853" y="207"/>
                  </a:lnTo>
                  <a:lnTo>
                    <a:pt x="884" y="207"/>
                  </a:lnTo>
                  <a:lnTo>
                    <a:pt x="916" y="207"/>
                  </a:lnTo>
                  <a:lnTo>
                    <a:pt x="926" y="238"/>
                  </a:lnTo>
                  <a:lnTo>
                    <a:pt x="937" y="270"/>
                  </a:lnTo>
                  <a:lnTo>
                    <a:pt x="947" y="301"/>
                  </a:lnTo>
                  <a:lnTo>
                    <a:pt x="958" y="333"/>
                  </a:lnTo>
                  <a:lnTo>
                    <a:pt x="958" y="365"/>
                  </a:lnTo>
                  <a:lnTo>
                    <a:pt x="968" y="396"/>
                  </a:lnTo>
                  <a:lnTo>
                    <a:pt x="968" y="428"/>
                  </a:lnTo>
                  <a:lnTo>
                    <a:pt x="968" y="459"/>
                  </a:lnTo>
                  <a:lnTo>
                    <a:pt x="968" y="491"/>
                  </a:lnTo>
                  <a:lnTo>
                    <a:pt x="968" y="533"/>
                  </a:lnTo>
                  <a:lnTo>
                    <a:pt x="958" y="565"/>
                  </a:lnTo>
                  <a:lnTo>
                    <a:pt x="958" y="596"/>
                  </a:lnTo>
                  <a:lnTo>
                    <a:pt x="947" y="628"/>
                  </a:lnTo>
                  <a:lnTo>
                    <a:pt x="947" y="659"/>
                  </a:lnTo>
                  <a:lnTo>
                    <a:pt x="947" y="691"/>
                  </a:lnTo>
                  <a:lnTo>
                    <a:pt x="947" y="722"/>
                  </a:lnTo>
                  <a:lnTo>
                    <a:pt x="947" y="744"/>
                  </a:lnTo>
                  <a:lnTo>
                    <a:pt x="947" y="775"/>
                  </a:lnTo>
                  <a:lnTo>
                    <a:pt x="947" y="807"/>
                  </a:lnTo>
                  <a:lnTo>
                    <a:pt x="947" y="838"/>
                  </a:lnTo>
                  <a:lnTo>
                    <a:pt x="947" y="870"/>
                  </a:lnTo>
                  <a:lnTo>
                    <a:pt x="937" y="901"/>
                  </a:lnTo>
                  <a:lnTo>
                    <a:pt x="926" y="923"/>
                  </a:lnTo>
                  <a:lnTo>
                    <a:pt x="926" y="954"/>
                  </a:lnTo>
                  <a:lnTo>
                    <a:pt x="916" y="986"/>
                  </a:lnTo>
                  <a:lnTo>
                    <a:pt x="916" y="1017"/>
                  </a:lnTo>
                  <a:lnTo>
                    <a:pt x="916" y="1049"/>
                  </a:lnTo>
                  <a:lnTo>
                    <a:pt x="905" y="1080"/>
                  </a:lnTo>
                  <a:lnTo>
                    <a:pt x="905" y="1102"/>
                  </a:lnTo>
                  <a:lnTo>
                    <a:pt x="895" y="1133"/>
                  </a:lnTo>
                  <a:lnTo>
                    <a:pt x="874" y="1165"/>
                  </a:lnTo>
                  <a:lnTo>
                    <a:pt x="863" y="1196"/>
                  </a:lnTo>
                  <a:lnTo>
                    <a:pt x="863" y="1228"/>
                  </a:lnTo>
                  <a:lnTo>
                    <a:pt x="863" y="1259"/>
                  </a:lnTo>
                  <a:lnTo>
                    <a:pt x="853" y="1291"/>
                  </a:lnTo>
                  <a:lnTo>
                    <a:pt x="853" y="1323"/>
                  </a:lnTo>
                  <a:lnTo>
                    <a:pt x="853" y="1354"/>
                  </a:lnTo>
                  <a:lnTo>
                    <a:pt x="853" y="1386"/>
                  </a:lnTo>
                  <a:lnTo>
                    <a:pt x="884" y="1396"/>
                  </a:lnTo>
                  <a:lnTo>
                    <a:pt x="916" y="1396"/>
                  </a:lnTo>
                  <a:lnTo>
                    <a:pt x="947" y="1407"/>
                  </a:lnTo>
                  <a:lnTo>
                    <a:pt x="979" y="1407"/>
                  </a:lnTo>
                  <a:lnTo>
                    <a:pt x="1011" y="1417"/>
                  </a:lnTo>
                  <a:lnTo>
                    <a:pt x="1042" y="1428"/>
                  </a:lnTo>
                  <a:lnTo>
                    <a:pt x="1063" y="1459"/>
                  </a:lnTo>
                  <a:lnTo>
                    <a:pt x="1084" y="1481"/>
                  </a:lnTo>
                  <a:lnTo>
                    <a:pt x="1084" y="1512"/>
                  </a:lnTo>
                  <a:lnTo>
                    <a:pt x="1084" y="1544"/>
                  </a:lnTo>
                  <a:lnTo>
                    <a:pt x="1053" y="1565"/>
                  </a:lnTo>
                  <a:lnTo>
                    <a:pt x="1021" y="1575"/>
                  </a:lnTo>
                  <a:lnTo>
                    <a:pt x="989" y="1586"/>
                  </a:lnTo>
                  <a:lnTo>
                    <a:pt x="958" y="1596"/>
                  </a:lnTo>
                  <a:lnTo>
                    <a:pt x="926" y="1607"/>
                  </a:lnTo>
                  <a:lnTo>
                    <a:pt x="895" y="1607"/>
                  </a:lnTo>
                  <a:lnTo>
                    <a:pt x="863" y="1607"/>
                  </a:lnTo>
                  <a:lnTo>
                    <a:pt x="832" y="1617"/>
                  </a:lnTo>
                  <a:lnTo>
                    <a:pt x="800" y="1628"/>
                  </a:lnTo>
                  <a:lnTo>
                    <a:pt x="768" y="1617"/>
                  </a:lnTo>
                  <a:lnTo>
                    <a:pt x="737" y="1596"/>
                  </a:lnTo>
                  <a:lnTo>
                    <a:pt x="716" y="1565"/>
                  </a:lnTo>
                  <a:lnTo>
                    <a:pt x="695" y="1533"/>
                  </a:lnTo>
                  <a:lnTo>
                    <a:pt x="663" y="1512"/>
                  </a:lnTo>
                  <a:lnTo>
                    <a:pt x="642" y="1481"/>
                  </a:lnTo>
                  <a:lnTo>
                    <a:pt x="632" y="1459"/>
                  </a:lnTo>
                  <a:lnTo>
                    <a:pt x="600" y="1428"/>
                  </a:lnTo>
                  <a:lnTo>
                    <a:pt x="590" y="1396"/>
                  </a:lnTo>
                  <a:lnTo>
                    <a:pt x="558" y="1365"/>
                  </a:lnTo>
                  <a:lnTo>
                    <a:pt x="526" y="1344"/>
                  </a:lnTo>
                  <a:lnTo>
                    <a:pt x="516" y="1312"/>
                  </a:lnTo>
                  <a:lnTo>
                    <a:pt x="505" y="1280"/>
                  </a:lnTo>
                  <a:lnTo>
                    <a:pt x="484" y="1249"/>
                  </a:lnTo>
                  <a:lnTo>
                    <a:pt x="474" y="1217"/>
                  </a:lnTo>
                  <a:lnTo>
                    <a:pt x="463" y="1186"/>
                  </a:lnTo>
                  <a:lnTo>
                    <a:pt x="453" y="1154"/>
                  </a:lnTo>
                  <a:lnTo>
                    <a:pt x="442" y="1123"/>
                  </a:lnTo>
                  <a:lnTo>
                    <a:pt x="432" y="1091"/>
                  </a:lnTo>
                  <a:lnTo>
                    <a:pt x="400" y="1070"/>
                  </a:lnTo>
                  <a:lnTo>
                    <a:pt x="390" y="1038"/>
                  </a:lnTo>
                  <a:lnTo>
                    <a:pt x="358" y="1017"/>
                  </a:lnTo>
                  <a:lnTo>
                    <a:pt x="337" y="986"/>
                  </a:lnTo>
                  <a:lnTo>
                    <a:pt x="316" y="954"/>
                  </a:lnTo>
                  <a:lnTo>
                    <a:pt x="284" y="923"/>
                  </a:lnTo>
                  <a:lnTo>
                    <a:pt x="274" y="901"/>
                  </a:lnTo>
                  <a:lnTo>
                    <a:pt x="263" y="870"/>
                  </a:lnTo>
                  <a:lnTo>
                    <a:pt x="232" y="849"/>
                  </a:lnTo>
                  <a:lnTo>
                    <a:pt x="211" y="817"/>
                  </a:lnTo>
                  <a:lnTo>
                    <a:pt x="190" y="786"/>
                  </a:lnTo>
                  <a:lnTo>
                    <a:pt x="169" y="754"/>
                  </a:lnTo>
                  <a:lnTo>
                    <a:pt x="148" y="722"/>
                  </a:lnTo>
                  <a:lnTo>
                    <a:pt x="116" y="691"/>
                  </a:lnTo>
                  <a:lnTo>
                    <a:pt x="105" y="659"/>
                  </a:lnTo>
                  <a:lnTo>
                    <a:pt x="84" y="628"/>
                  </a:lnTo>
                  <a:lnTo>
                    <a:pt x="63" y="596"/>
                  </a:lnTo>
                  <a:lnTo>
                    <a:pt x="63" y="565"/>
                  </a:lnTo>
                  <a:lnTo>
                    <a:pt x="53" y="533"/>
                  </a:lnTo>
                  <a:lnTo>
                    <a:pt x="32" y="491"/>
                  </a:lnTo>
                  <a:lnTo>
                    <a:pt x="21" y="459"/>
                  </a:lnTo>
                  <a:lnTo>
                    <a:pt x="21" y="428"/>
                  </a:lnTo>
                  <a:lnTo>
                    <a:pt x="21" y="396"/>
                  </a:lnTo>
                  <a:lnTo>
                    <a:pt x="21" y="365"/>
                  </a:lnTo>
                  <a:lnTo>
                    <a:pt x="21" y="343"/>
                  </a:lnTo>
                  <a:lnTo>
                    <a:pt x="21" y="312"/>
                  </a:lnTo>
                  <a:lnTo>
                    <a:pt x="21" y="280"/>
                  </a:lnTo>
                  <a:lnTo>
                    <a:pt x="21" y="249"/>
                  </a:lnTo>
                  <a:lnTo>
                    <a:pt x="11" y="217"/>
                  </a:lnTo>
                  <a:lnTo>
                    <a:pt x="11" y="186"/>
                  </a:lnTo>
                  <a:lnTo>
                    <a:pt x="11" y="154"/>
                  </a:lnTo>
                  <a:lnTo>
                    <a:pt x="0" y="122"/>
                  </a:lnTo>
                  <a:lnTo>
                    <a:pt x="0" y="91"/>
                  </a:lnTo>
                  <a:lnTo>
                    <a:pt x="0" y="59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pattFill prst="wdUpDiag">
              <a:fgClr>
                <a:srgbClr val="ff6633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3"/>
            <p:cNvSpPr/>
            <p:nvPr/>
          </p:nvSpPr>
          <p:spPr>
            <a:xfrm>
              <a:off x="5011560" y="1744560"/>
              <a:ext cx="1837800" cy="244116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2441160"/>
                <a:gd name="textAreaBottom" fmla="*/ 2441520 h 2441160"/>
              </a:gdLst>
              <a:ahLst/>
              <a:rect l="textAreaLeft" t="textAreaTop" r="textAreaRight" b="textAreaBottom"/>
              <a:pathLst>
                <a:path w="1158" h="1538">
                  <a:moveTo>
                    <a:pt x="155" y="101"/>
                  </a:moveTo>
                  <a:lnTo>
                    <a:pt x="200" y="116"/>
                  </a:lnTo>
                  <a:lnTo>
                    <a:pt x="231" y="116"/>
                  </a:lnTo>
                  <a:lnTo>
                    <a:pt x="263" y="126"/>
                  </a:lnTo>
                  <a:lnTo>
                    <a:pt x="284" y="158"/>
                  </a:lnTo>
                  <a:lnTo>
                    <a:pt x="326" y="179"/>
                  </a:lnTo>
                  <a:lnTo>
                    <a:pt x="358" y="179"/>
                  </a:lnTo>
                  <a:lnTo>
                    <a:pt x="389" y="179"/>
                  </a:lnTo>
                  <a:lnTo>
                    <a:pt x="421" y="168"/>
                  </a:lnTo>
                  <a:lnTo>
                    <a:pt x="452" y="168"/>
                  </a:lnTo>
                  <a:lnTo>
                    <a:pt x="484" y="168"/>
                  </a:lnTo>
                  <a:lnTo>
                    <a:pt x="515" y="158"/>
                  </a:lnTo>
                  <a:lnTo>
                    <a:pt x="547" y="158"/>
                  </a:lnTo>
                  <a:lnTo>
                    <a:pt x="579" y="158"/>
                  </a:lnTo>
                  <a:lnTo>
                    <a:pt x="610" y="158"/>
                  </a:lnTo>
                  <a:lnTo>
                    <a:pt x="642" y="137"/>
                  </a:lnTo>
                  <a:lnTo>
                    <a:pt x="673" y="126"/>
                  </a:lnTo>
                  <a:lnTo>
                    <a:pt x="705" y="105"/>
                  </a:lnTo>
                  <a:lnTo>
                    <a:pt x="715" y="74"/>
                  </a:lnTo>
                  <a:lnTo>
                    <a:pt x="747" y="63"/>
                  </a:lnTo>
                  <a:lnTo>
                    <a:pt x="778" y="42"/>
                  </a:lnTo>
                  <a:lnTo>
                    <a:pt x="800" y="42"/>
                  </a:lnTo>
                  <a:lnTo>
                    <a:pt x="831" y="42"/>
                  </a:lnTo>
                  <a:lnTo>
                    <a:pt x="863" y="31"/>
                  </a:lnTo>
                  <a:lnTo>
                    <a:pt x="894" y="31"/>
                  </a:lnTo>
                  <a:lnTo>
                    <a:pt x="926" y="21"/>
                  </a:lnTo>
                  <a:lnTo>
                    <a:pt x="957" y="10"/>
                  </a:lnTo>
                  <a:lnTo>
                    <a:pt x="989" y="10"/>
                  </a:lnTo>
                  <a:lnTo>
                    <a:pt x="1021" y="0"/>
                  </a:lnTo>
                  <a:lnTo>
                    <a:pt x="1052" y="0"/>
                  </a:lnTo>
                  <a:lnTo>
                    <a:pt x="1094" y="0"/>
                  </a:lnTo>
                  <a:lnTo>
                    <a:pt x="1157" y="0"/>
                  </a:lnTo>
                  <a:lnTo>
                    <a:pt x="1126" y="0"/>
                  </a:lnTo>
                  <a:lnTo>
                    <a:pt x="1105" y="31"/>
                  </a:lnTo>
                  <a:lnTo>
                    <a:pt x="1105" y="63"/>
                  </a:lnTo>
                  <a:lnTo>
                    <a:pt x="1105" y="95"/>
                  </a:lnTo>
                  <a:lnTo>
                    <a:pt x="1105" y="126"/>
                  </a:lnTo>
                  <a:lnTo>
                    <a:pt x="1105" y="158"/>
                  </a:lnTo>
                  <a:lnTo>
                    <a:pt x="1115" y="189"/>
                  </a:lnTo>
                  <a:lnTo>
                    <a:pt x="1115" y="221"/>
                  </a:lnTo>
                  <a:lnTo>
                    <a:pt x="1115" y="252"/>
                  </a:lnTo>
                  <a:lnTo>
                    <a:pt x="1115" y="274"/>
                  </a:lnTo>
                  <a:lnTo>
                    <a:pt x="1115" y="305"/>
                  </a:lnTo>
                  <a:lnTo>
                    <a:pt x="1115" y="337"/>
                  </a:lnTo>
                  <a:lnTo>
                    <a:pt x="1115" y="368"/>
                  </a:lnTo>
                  <a:lnTo>
                    <a:pt x="1115" y="400"/>
                  </a:lnTo>
                  <a:lnTo>
                    <a:pt x="1115" y="431"/>
                  </a:lnTo>
                  <a:lnTo>
                    <a:pt x="1094" y="453"/>
                  </a:lnTo>
                  <a:lnTo>
                    <a:pt x="1084" y="484"/>
                  </a:lnTo>
                  <a:lnTo>
                    <a:pt x="1063" y="516"/>
                  </a:lnTo>
                  <a:lnTo>
                    <a:pt x="1052" y="547"/>
                  </a:lnTo>
                  <a:lnTo>
                    <a:pt x="1021" y="579"/>
                  </a:lnTo>
                  <a:lnTo>
                    <a:pt x="1010" y="610"/>
                  </a:lnTo>
                  <a:lnTo>
                    <a:pt x="989" y="642"/>
                  </a:lnTo>
                  <a:lnTo>
                    <a:pt x="968" y="674"/>
                  </a:lnTo>
                  <a:lnTo>
                    <a:pt x="957" y="705"/>
                  </a:lnTo>
                  <a:lnTo>
                    <a:pt x="936" y="737"/>
                  </a:lnTo>
                  <a:lnTo>
                    <a:pt x="915" y="768"/>
                  </a:lnTo>
                  <a:lnTo>
                    <a:pt x="894" y="800"/>
                  </a:lnTo>
                  <a:lnTo>
                    <a:pt x="873" y="832"/>
                  </a:lnTo>
                  <a:lnTo>
                    <a:pt x="852" y="863"/>
                  </a:lnTo>
                  <a:lnTo>
                    <a:pt x="831" y="895"/>
                  </a:lnTo>
                  <a:lnTo>
                    <a:pt x="800" y="926"/>
                  </a:lnTo>
                  <a:lnTo>
                    <a:pt x="789" y="958"/>
                  </a:lnTo>
                  <a:lnTo>
                    <a:pt x="768" y="989"/>
                  </a:lnTo>
                  <a:lnTo>
                    <a:pt x="747" y="1011"/>
                  </a:lnTo>
                  <a:lnTo>
                    <a:pt x="726" y="1042"/>
                  </a:lnTo>
                  <a:lnTo>
                    <a:pt x="705" y="1074"/>
                  </a:lnTo>
                  <a:lnTo>
                    <a:pt x="673" y="1105"/>
                  </a:lnTo>
                  <a:lnTo>
                    <a:pt x="652" y="1137"/>
                  </a:lnTo>
                  <a:lnTo>
                    <a:pt x="621" y="1168"/>
                  </a:lnTo>
                  <a:lnTo>
                    <a:pt x="600" y="1200"/>
                  </a:lnTo>
                  <a:lnTo>
                    <a:pt x="568" y="1221"/>
                  </a:lnTo>
                  <a:lnTo>
                    <a:pt x="536" y="1253"/>
                  </a:lnTo>
                  <a:lnTo>
                    <a:pt x="515" y="1284"/>
                  </a:lnTo>
                  <a:lnTo>
                    <a:pt x="484" y="1316"/>
                  </a:lnTo>
                  <a:lnTo>
                    <a:pt x="452" y="1337"/>
                  </a:lnTo>
                  <a:lnTo>
                    <a:pt x="431" y="1368"/>
                  </a:lnTo>
                  <a:lnTo>
                    <a:pt x="410" y="1390"/>
                  </a:lnTo>
                  <a:lnTo>
                    <a:pt x="379" y="1421"/>
                  </a:lnTo>
                  <a:lnTo>
                    <a:pt x="347" y="1453"/>
                  </a:lnTo>
                  <a:lnTo>
                    <a:pt x="315" y="1484"/>
                  </a:lnTo>
                  <a:lnTo>
                    <a:pt x="284" y="1505"/>
                  </a:lnTo>
                  <a:lnTo>
                    <a:pt x="252" y="1516"/>
                  </a:lnTo>
                  <a:lnTo>
                    <a:pt x="221" y="1526"/>
                  </a:lnTo>
                  <a:lnTo>
                    <a:pt x="189" y="1537"/>
                  </a:lnTo>
                  <a:lnTo>
                    <a:pt x="158" y="1537"/>
                  </a:lnTo>
                  <a:lnTo>
                    <a:pt x="126" y="1526"/>
                  </a:lnTo>
                  <a:lnTo>
                    <a:pt x="94" y="1516"/>
                  </a:lnTo>
                  <a:lnTo>
                    <a:pt x="63" y="1505"/>
                  </a:lnTo>
                  <a:lnTo>
                    <a:pt x="31" y="1495"/>
                  </a:lnTo>
                  <a:lnTo>
                    <a:pt x="0" y="1463"/>
                  </a:lnTo>
                  <a:lnTo>
                    <a:pt x="0" y="1432"/>
                  </a:lnTo>
                  <a:lnTo>
                    <a:pt x="0" y="1400"/>
                  </a:lnTo>
                  <a:lnTo>
                    <a:pt x="0" y="1368"/>
                  </a:lnTo>
                  <a:lnTo>
                    <a:pt x="31" y="1347"/>
                  </a:lnTo>
                  <a:lnTo>
                    <a:pt x="63" y="1347"/>
                  </a:lnTo>
                  <a:lnTo>
                    <a:pt x="94" y="1326"/>
                  </a:lnTo>
                  <a:lnTo>
                    <a:pt x="126" y="1326"/>
                  </a:lnTo>
                  <a:lnTo>
                    <a:pt x="158" y="1305"/>
                  </a:lnTo>
                  <a:lnTo>
                    <a:pt x="189" y="1305"/>
                  </a:lnTo>
                  <a:lnTo>
                    <a:pt x="210" y="1274"/>
                  </a:lnTo>
                  <a:lnTo>
                    <a:pt x="221" y="1242"/>
                  </a:lnTo>
                  <a:lnTo>
                    <a:pt x="231" y="1211"/>
                  </a:lnTo>
                  <a:lnTo>
                    <a:pt x="231" y="1189"/>
                  </a:lnTo>
                  <a:lnTo>
                    <a:pt x="231" y="1158"/>
                  </a:lnTo>
                  <a:lnTo>
                    <a:pt x="231" y="1126"/>
                  </a:lnTo>
                  <a:lnTo>
                    <a:pt x="231" y="1095"/>
                  </a:lnTo>
                  <a:lnTo>
                    <a:pt x="231" y="1063"/>
                  </a:lnTo>
                  <a:lnTo>
                    <a:pt x="231" y="1032"/>
                  </a:lnTo>
                  <a:lnTo>
                    <a:pt x="231" y="1000"/>
                  </a:lnTo>
                  <a:lnTo>
                    <a:pt x="210" y="968"/>
                  </a:lnTo>
                  <a:lnTo>
                    <a:pt x="189" y="937"/>
                  </a:lnTo>
                  <a:lnTo>
                    <a:pt x="168" y="905"/>
                  </a:lnTo>
                  <a:lnTo>
                    <a:pt x="158" y="874"/>
                  </a:lnTo>
                  <a:lnTo>
                    <a:pt x="147" y="842"/>
                  </a:lnTo>
                  <a:lnTo>
                    <a:pt x="147" y="810"/>
                  </a:lnTo>
                  <a:lnTo>
                    <a:pt x="126" y="779"/>
                  </a:lnTo>
                  <a:lnTo>
                    <a:pt x="126" y="747"/>
                  </a:lnTo>
                  <a:lnTo>
                    <a:pt x="115" y="716"/>
                  </a:lnTo>
                  <a:lnTo>
                    <a:pt x="105" y="684"/>
                  </a:lnTo>
                  <a:lnTo>
                    <a:pt x="105" y="653"/>
                  </a:lnTo>
                  <a:lnTo>
                    <a:pt x="94" y="631"/>
                  </a:lnTo>
                  <a:lnTo>
                    <a:pt x="84" y="600"/>
                  </a:lnTo>
                  <a:lnTo>
                    <a:pt x="84" y="568"/>
                  </a:lnTo>
                  <a:lnTo>
                    <a:pt x="84" y="537"/>
                  </a:lnTo>
                  <a:lnTo>
                    <a:pt x="84" y="505"/>
                  </a:lnTo>
                  <a:lnTo>
                    <a:pt x="84" y="474"/>
                  </a:lnTo>
                  <a:lnTo>
                    <a:pt x="84" y="442"/>
                  </a:lnTo>
                  <a:lnTo>
                    <a:pt x="84" y="410"/>
                  </a:lnTo>
                  <a:lnTo>
                    <a:pt x="84" y="379"/>
                  </a:lnTo>
                  <a:lnTo>
                    <a:pt x="84" y="347"/>
                  </a:lnTo>
                  <a:lnTo>
                    <a:pt x="84" y="316"/>
                  </a:lnTo>
                  <a:lnTo>
                    <a:pt x="94" y="284"/>
                  </a:lnTo>
                  <a:lnTo>
                    <a:pt x="105" y="252"/>
                  </a:lnTo>
                  <a:lnTo>
                    <a:pt x="105" y="221"/>
                  </a:lnTo>
                  <a:lnTo>
                    <a:pt x="115" y="189"/>
                  </a:lnTo>
                  <a:lnTo>
                    <a:pt x="126" y="158"/>
                  </a:lnTo>
                  <a:lnTo>
                    <a:pt x="155" y="101"/>
                  </a:lnTo>
                  <a:lnTo>
                    <a:pt x="200" y="126"/>
                  </a:lnTo>
                  <a:lnTo>
                    <a:pt x="231" y="126"/>
                  </a:lnTo>
                  <a:lnTo>
                    <a:pt x="263" y="126"/>
                  </a:lnTo>
                  <a:lnTo>
                    <a:pt x="294" y="147"/>
                  </a:lnTo>
                  <a:lnTo>
                    <a:pt x="326" y="158"/>
                  </a:lnTo>
                  <a:lnTo>
                    <a:pt x="347" y="149"/>
                  </a:lnTo>
                </a:path>
              </a:pathLst>
            </a:custGeom>
            <a:pattFill prst="wdUpDiag">
              <a:fgClr>
                <a:srgbClr val="ff6633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14"/>
            <p:cNvSpPr/>
            <p:nvPr/>
          </p:nvSpPr>
          <p:spPr>
            <a:xfrm>
              <a:off x="4276800" y="1895400"/>
              <a:ext cx="1103040" cy="2206440"/>
            </a:xfrm>
            <a:custGeom>
              <a:avLst/>
              <a:gdLst>
                <a:gd name="textAreaLeft" fmla="*/ 0 w 1103040"/>
                <a:gd name="textAreaRight" fmla="*/ 1103400 w 1103040"/>
                <a:gd name="textAreaTop" fmla="*/ 0 h 2206440"/>
                <a:gd name="textAreaBottom" fmla="*/ 2206800 h 2206440"/>
              </a:gdLst>
              <a:ahLst/>
              <a:rect l="textAreaLeft" t="textAreaTop" r="textAreaRight" b="textAreaBottom"/>
              <a:pathLst>
                <a:path w="695" h="1390">
                  <a:moveTo>
                    <a:pt x="42" y="6"/>
                  </a:moveTo>
                  <a:lnTo>
                    <a:pt x="73" y="52"/>
                  </a:lnTo>
                  <a:lnTo>
                    <a:pt x="94" y="84"/>
                  </a:lnTo>
                  <a:lnTo>
                    <a:pt x="105" y="115"/>
                  </a:lnTo>
                  <a:lnTo>
                    <a:pt x="105" y="147"/>
                  </a:lnTo>
                  <a:lnTo>
                    <a:pt x="105" y="189"/>
                  </a:lnTo>
                  <a:lnTo>
                    <a:pt x="105" y="221"/>
                  </a:lnTo>
                  <a:lnTo>
                    <a:pt x="105" y="252"/>
                  </a:lnTo>
                  <a:lnTo>
                    <a:pt x="105" y="284"/>
                  </a:lnTo>
                  <a:lnTo>
                    <a:pt x="105" y="315"/>
                  </a:lnTo>
                  <a:lnTo>
                    <a:pt x="105" y="347"/>
                  </a:lnTo>
                  <a:lnTo>
                    <a:pt x="105" y="389"/>
                  </a:lnTo>
                  <a:lnTo>
                    <a:pt x="105" y="421"/>
                  </a:lnTo>
                  <a:lnTo>
                    <a:pt x="105" y="452"/>
                  </a:lnTo>
                  <a:lnTo>
                    <a:pt x="105" y="484"/>
                  </a:lnTo>
                  <a:lnTo>
                    <a:pt x="105" y="515"/>
                  </a:lnTo>
                  <a:lnTo>
                    <a:pt x="105" y="547"/>
                  </a:lnTo>
                  <a:lnTo>
                    <a:pt x="105" y="589"/>
                  </a:lnTo>
                  <a:lnTo>
                    <a:pt x="105" y="621"/>
                  </a:lnTo>
                  <a:lnTo>
                    <a:pt x="105" y="652"/>
                  </a:lnTo>
                  <a:lnTo>
                    <a:pt x="84" y="684"/>
                  </a:lnTo>
                  <a:lnTo>
                    <a:pt x="84" y="715"/>
                  </a:lnTo>
                  <a:lnTo>
                    <a:pt x="73" y="737"/>
                  </a:lnTo>
                  <a:lnTo>
                    <a:pt x="63" y="768"/>
                  </a:lnTo>
                  <a:lnTo>
                    <a:pt x="52" y="800"/>
                  </a:lnTo>
                  <a:lnTo>
                    <a:pt x="42" y="831"/>
                  </a:lnTo>
                  <a:lnTo>
                    <a:pt x="42" y="863"/>
                  </a:lnTo>
                  <a:lnTo>
                    <a:pt x="31" y="894"/>
                  </a:lnTo>
                  <a:lnTo>
                    <a:pt x="21" y="926"/>
                  </a:lnTo>
                  <a:lnTo>
                    <a:pt x="10" y="958"/>
                  </a:lnTo>
                  <a:lnTo>
                    <a:pt x="10" y="989"/>
                  </a:lnTo>
                  <a:lnTo>
                    <a:pt x="10" y="1021"/>
                  </a:lnTo>
                  <a:lnTo>
                    <a:pt x="0" y="1052"/>
                  </a:lnTo>
                  <a:lnTo>
                    <a:pt x="0" y="1084"/>
                  </a:lnTo>
                  <a:lnTo>
                    <a:pt x="0" y="1116"/>
                  </a:lnTo>
                  <a:lnTo>
                    <a:pt x="0" y="1147"/>
                  </a:lnTo>
                  <a:lnTo>
                    <a:pt x="0" y="1179"/>
                  </a:lnTo>
                  <a:lnTo>
                    <a:pt x="10" y="1210"/>
                  </a:lnTo>
                  <a:lnTo>
                    <a:pt x="42" y="1221"/>
                  </a:lnTo>
                  <a:lnTo>
                    <a:pt x="73" y="1221"/>
                  </a:lnTo>
                  <a:lnTo>
                    <a:pt x="105" y="1221"/>
                  </a:lnTo>
                  <a:lnTo>
                    <a:pt x="136" y="1221"/>
                  </a:lnTo>
                  <a:lnTo>
                    <a:pt x="158" y="1221"/>
                  </a:lnTo>
                  <a:lnTo>
                    <a:pt x="189" y="1221"/>
                  </a:lnTo>
                  <a:lnTo>
                    <a:pt x="221" y="1242"/>
                  </a:lnTo>
                  <a:lnTo>
                    <a:pt x="231" y="1273"/>
                  </a:lnTo>
                  <a:lnTo>
                    <a:pt x="231" y="1295"/>
                  </a:lnTo>
                  <a:lnTo>
                    <a:pt x="231" y="1326"/>
                  </a:lnTo>
                  <a:lnTo>
                    <a:pt x="231" y="1358"/>
                  </a:lnTo>
                  <a:lnTo>
                    <a:pt x="231" y="1389"/>
                  </a:lnTo>
                  <a:lnTo>
                    <a:pt x="263" y="1389"/>
                  </a:lnTo>
                  <a:lnTo>
                    <a:pt x="294" y="1389"/>
                  </a:lnTo>
                  <a:lnTo>
                    <a:pt x="326" y="1389"/>
                  </a:lnTo>
                  <a:lnTo>
                    <a:pt x="357" y="1389"/>
                  </a:lnTo>
                  <a:lnTo>
                    <a:pt x="421" y="1389"/>
                  </a:lnTo>
                  <a:lnTo>
                    <a:pt x="463" y="1389"/>
                  </a:lnTo>
                  <a:lnTo>
                    <a:pt x="473" y="1358"/>
                  </a:lnTo>
                  <a:lnTo>
                    <a:pt x="473" y="1326"/>
                  </a:lnTo>
                  <a:lnTo>
                    <a:pt x="473" y="1295"/>
                  </a:lnTo>
                  <a:lnTo>
                    <a:pt x="463" y="1273"/>
                  </a:lnTo>
                  <a:lnTo>
                    <a:pt x="463" y="1242"/>
                  </a:lnTo>
                  <a:lnTo>
                    <a:pt x="494" y="1221"/>
                  </a:lnTo>
                  <a:lnTo>
                    <a:pt x="526" y="1221"/>
                  </a:lnTo>
                  <a:lnTo>
                    <a:pt x="557" y="1221"/>
                  </a:lnTo>
                  <a:lnTo>
                    <a:pt x="589" y="1221"/>
                  </a:lnTo>
                  <a:lnTo>
                    <a:pt x="621" y="1221"/>
                  </a:lnTo>
                  <a:lnTo>
                    <a:pt x="652" y="1221"/>
                  </a:lnTo>
                  <a:lnTo>
                    <a:pt x="684" y="1210"/>
                  </a:lnTo>
                  <a:lnTo>
                    <a:pt x="684" y="1179"/>
                  </a:lnTo>
                  <a:lnTo>
                    <a:pt x="694" y="1147"/>
                  </a:lnTo>
                  <a:lnTo>
                    <a:pt x="694" y="1116"/>
                  </a:lnTo>
                  <a:lnTo>
                    <a:pt x="694" y="1094"/>
                  </a:lnTo>
                  <a:lnTo>
                    <a:pt x="694" y="1063"/>
                  </a:lnTo>
                  <a:lnTo>
                    <a:pt x="694" y="1031"/>
                  </a:lnTo>
                  <a:lnTo>
                    <a:pt x="694" y="1000"/>
                  </a:lnTo>
                  <a:lnTo>
                    <a:pt x="694" y="968"/>
                  </a:lnTo>
                  <a:lnTo>
                    <a:pt x="694" y="937"/>
                  </a:lnTo>
                  <a:lnTo>
                    <a:pt x="673" y="905"/>
                  </a:lnTo>
                  <a:lnTo>
                    <a:pt x="663" y="873"/>
                  </a:lnTo>
                  <a:lnTo>
                    <a:pt x="652" y="842"/>
                  </a:lnTo>
                  <a:lnTo>
                    <a:pt x="642" y="810"/>
                  </a:lnTo>
                  <a:lnTo>
                    <a:pt x="621" y="779"/>
                  </a:lnTo>
                  <a:lnTo>
                    <a:pt x="610" y="747"/>
                  </a:lnTo>
                  <a:lnTo>
                    <a:pt x="610" y="715"/>
                  </a:lnTo>
                  <a:lnTo>
                    <a:pt x="600" y="684"/>
                  </a:lnTo>
                  <a:lnTo>
                    <a:pt x="578" y="652"/>
                  </a:lnTo>
                  <a:lnTo>
                    <a:pt x="578" y="621"/>
                  </a:lnTo>
                  <a:lnTo>
                    <a:pt x="568" y="589"/>
                  </a:lnTo>
                  <a:lnTo>
                    <a:pt x="568" y="558"/>
                  </a:lnTo>
                  <a:lnTo>
                    <a:pt x="568" y="536"/>
                  </a:lnTo>
                  <a:lnTo>
                    <a:pt x="568" y="505"/>
                  </a:lnTo>
                  <a:lnTo>
                    <a:pt x="557" y="463"/>
                  </a:lnTo>
                  <a:lnTo>
                    <a:pt x="557" y="431"/>
                  </a:lnTo>
                  <a:lnTo>
                    <a:pt x="557" y="389"/>
                  </a:lnTo>
                  <a:lnTo>
                    <a:pt x="557" y="358"/>
                  </a:lnTo>
                  <a:lnTo>
                    <a:pt x="557" y="336"/>
                  </a:lnTo>
                  <a:lnTo>
                    <a:pt x="557" y="305"/>
                  </a:lnTo>
                  <a:lnTo>
                    <a:pt x="557" y="273"/>
                  </a:lnTo>
                  <a:lnTo>
                    <a:pt x="557" y="242"/>
                  </a:lnTo>
                  <a:lnTo>
                    <a:pt x="557" y="210"/>
                  </a:lnTo>
                  <a:lnTo>
                    <a:pt x="568" y="179"/>
                  </a:lnTo>
                  <a:lnTo>
                    <a:pt x="568" y="157"/>
                  </a:lnTo>
                  <a:lnTo>
                    <a:pt x="578" y="126"/>
                  </a:lnTo>
                  <a:lnTo>
                    <a:pt x="589" y="94"/>
                  </a:lnTo>
                  <a:lnTo>
                    <a:pt x="600" y="63"/>
                  </a:lnTo>
                  <a:lnTo>
                    <a:pt x="621" y="31"/>
                  </a:lnTo>
                  <a:lnTo>
                    <a:pt x="642" y="0"/>
                  </a:lnTo>
                  <a:lnTo>
                    <a:pt x="610" y="0"/>
                  </a:lnTo>
                  <a:lnTo>
                    <a:pt x="578" y="0"/>
                  </a:lnTo>
                  <a:lnTo>
                    <a:pt x="547" y="0"/>
                  </a:lnTo>
                  <a:lnTo>
                    <a:pt x="515" y="0"/>
                  </a:lnTo>
                  <a:lnTo>
                    <a:pt x="484" y="0"/>
                  </a:lnTo>
                  <a:lnTo>
                    <a:pt x="452" y="0"/>
                  </a:lnTo>
                  <a:lnTo>
                    <a:pt x="410" y="0"/>
                  </a:lnTo>
                  <a:lnTo>
                    <a:pt x="379" y="10"/>
                  </a:lnTo>
                  <a:lnTo>
                    <a:pt x="357" y="10"/>
                  </a:lnTo>
                  <a:lnTo>
                    <a:pt x="326" y="21"/>
                  </a:lnTo>
                  <a:lnTo>
                    <a:pt x="284" y="21"/>
                  </a:lnTo>
                  <a:lnTo>
                    <a:pt x="252" y="31"/>
                  </a:lnTo>
                  <a:lnTo>
                    <a:pt x="221" y="31"/>
                  </a:lnTo>
                  <a:lnTo>
                    <a:pt x="189" y="31"/>
                  </a:lnTo>
                  <a:lnTo>
                    <a:pt x="158" y="31"/>
                  </a:lnTo>
                  <a:lnTo>
                    <a:pt x="136" y="31"/>
                  </a:lnTo>
                  <a:lnTo>
                    <a:pt x="105" y="31"/>
                  </a:lnTo>
                  <a:lnTo>
                    <a:pt x="42" y="6"/>
                  </a:lnTo>
                  <a:lnTo>
                    <a:pt x="42" y="6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eeece1"/>
              </a:bgClr>
            </a:pattFill>
            <a:ln cap="rnd" w="127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15"/>
            <p:cNvSpPr/>
            <p:nvPr/>
          </p:nvSpPr>
          <p:spPr>
            <a:xfrm>
              <a:off x="4191120" y="1593720"/>
              <a:ext cx="1272960" cy="836280"/>
            </a:xfrm>
            <a:custGeom>
              <a:avLst/>
              <a:gdLst>
                <a:gd name="textAreaLeft" fmla="*/ 0 w 1272960"/>
                <a:gd name="textAreaRight" fmla="*/ 1273320 w 1272960"/>
                <a:gd name="textAreaTop" fmla="*/ 0 h 836280"/>
                <a:gd name="textAreaBottom" fmla="*/ 836640 h 836280"/>
              </a:gdLst>
              <a:ahLst/>
              <a:rect l="textAreaLeft" t="textAreaTop" r="textAreaRight" b="textAreaBottom"/>
              <a:pathLst>
                <a:path w="802" h="527">
                  <a:moveTo>
                    <a:pt x="0" y="4"/>
                  </a:moveTo>
                  <a:lnTo>
                    <a:pt x="43" y="11"/>
                  </a:lnTo>
                  <a:lnTo>
                    <a:pt x="75" y="11"/>
                  </a:lnTo>
                  <a:lnTo>
                    <a:pt x="106" y="11"/>
                  </a:lnTo>
                  <a:lnTo>
                    <a:pt x="138" y="11"/>
                  </a:lnTo>
                  <a:lnTo>
                    <a:pt x="180" y="11"/>
                  </a:lnTo>
                  <a:lnTo>
                    <a:pt x="212" y="11"/>
                  </a:lnTo>
                  <a:lnTo>
                    <a:pt x="243" y="11"/>
                  </a:lnTo>
                  <a:lnTo>
                    <a:pt x="275" y="11"/>
                  </a:lnTo>
                  <a:lnTo>
                    <a:pt x="306" y="11"/>
                  </a:lnTo>
                  <a:lnTo>
                    <a:pt x="338" y="0"/>
                  </a:lnTo>
                  <a:lnTo>
                    <a:pt x="369" y="0"/>
                  </a:lnTo>
                  <a:lnTo>
                    <a:pt x="401" y="0"/>
                  </a:lnTo>
                  <a:lnTo>
                    <a:pt x="433" y="0"/>
                  </a:lnTo>
                  <a:lnTo>
                    <a:pt x="464" y="0"/>
                  </a:lnTo>
                  <a:lnTo>
                    <a:pt x="506" y="0"/>
                  </a:lnTo>
                  <a:lnTo>
                    <a:pt x="538" y="0"/>
                  </a:lnTo>
                  <a:lnTo>
                    <a:pt x="569" y="0"/>
                  </a:lnTo>
                  <a:lnTo>
                    <a:pt x="601" y="0"/>
                  </a:lnTo>
                  <a:lnTo>
                    <a:pt x="632" y="0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17" y="0"/>
                  </a:lnTo>
                  <a:lnTo>
                    <a:pt x="748" y="0"/>
                  </a:lnTo>
                  <a:lnTo>
                    <a:pt x="780" y="0"/>
                  </a:lnTo>
                  <a:lnTo>
                    <a:pt x="801" y="32"/>
                  </a:lnTo>
                  <a:lnTo>
                    <a:pt x="769" y="42"/>
                  </a:lnTo>
                  <a:lnTo>
                    <a:pt x="748" y="74"/>
                  </a:lnTo>
                  <a:lnTo>
                    <a:pt x="738" y="105"/>
                  </a:lnTo>
                  <a:lnTo>
                    <a:pt x="727" y="137"/>
                  </a:lnTo>
                  <a:lnTo>
                    <a:pt x="706" y="169"/>
                  </a:lnTo>
                  <a:lnTo>
                    <a:pt x="685" y="200"/>
                  </a:lnTo>
                  <a:lnTo>
                    <a:pt x="654" y="211"/>
                  </a:lnTo>
                  <a:lnTo>
                    <a:pt x="632" y="232"/>
                  </a:lnTo>
                  <a:lnTo>
                    <a:pt x="611" y="263"/>
                  </a:lnTo>
                  <a:lnTo>
                    <a:pt x="580" y="295"/>
                  </a:lnTo>
                  <a:lnTo>
                    <a:pt x="559" y="326"/>
                  </a:lnTo>
                  <a:lnTo>
                    <a:pt x="527" y="358"/>
                  </a:lnTo>
                  <a:lnTo>
                    <a:pt x="517" y="390"/>
                  </a:lnTo>
                  <a:lnTo>
                    <a:pt x="496" y="421"/>
                  </a:lnTo>
                  <a:lnTo>
                    <a:pt x="485" y="453"/>
                  </a:lnTo>
                  <a:lnTo>
                    <a:pt x="464" y="484"/>
                  </a:lnTo>
                  <a:lnTo>
                    <a:pt x="433" y="505"/>
                  </a:lnTo>
                  <a:lnTo>
                    <a:pt x="411" y="526"/>
                  </a:lnTo>
                  <a:lnTo>
                    <a:pt x="380" y="526"/>
                  </a:lnTo>
                  <a:lnTo>
                    <a:pt x="359" y="495"/>
                  </a:lnTo>
                  <a:lnTo>
                    <a:pt x="348" y="463"/>
                  </a:lnTo>
                  <a:lnTo>
                    <a:pt x="327" y="432"/>
                  </a:lnTo>
                  <a:lnTo>
                    <a:pt x="306" y="400"/>
                  </a:lnTo>
                  <a:lnTo>
                    <a:pt x="285" y="369"/>
                  </a:lnTo>
                  <a:lnTo>
                    <a:pt x="275" y="347"/>
                  </a:lnTo>
                  <a:lnTo>
                    <a:pt x="243" y="326"/>
                  </a:lnTo>
                  <a:lnTo>
                    <a:pt x="222" y="295"/>
                  </a:lnTo>
                  <a:lnTo>
                    <a:pt x="190" y="274"/>
                  </a:lnTo>
                  <a:lnTo>
                    <a:pt x="159" y="253"/>
                  </a:lnTo>
                  <a:lnTo>
                    <a:pt x="127" y="242"/>
                  </a:lnTo>
                  <a:lnTo>
                    <a:pt x="96" y="232"/>
                  </a:lnTo>
                  <a:lnTo>
                    <a:pt x="64" y="232"/>
                  </a:lnTo>
                  <a:lnTo>
                    <a:pt x="64" y="200"/>
                  </a:lnTo>
                  <a:lnTo>
                    <a:pt x="85" y="169"/>
                  </a:lnTo>
                  <a:lnTo>
                    <a:pt x="96" y="147"/>
                  </a:lnTo>
                  <a:lnTo>
                    <a:pt x="96" y="116"/>
                  </a:lnTo>
                  <a:lnTo>
                    <a:pt x="96" y="84"/>
                  </a:lnTo>
                  <a:lnTo>
                    <a:pt x="64" y="63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pattFill prst="openDmnd">
              <a:fgClr>
                <a:srgbClr val="eeece1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Oval 16"/>
            <p:cNvSpPr/>
            <p:nvPr/>
          </p:nvSpPr>
          <p:spPr>
            <a:xfrm>
              <a:off x="3519360" y="1568520"/>
              <a:ext cx="809280" cy="444240"/>
            </a:xfrm>
            <a:prstGeom prst="ellipse">
              <a:avLst/>
            </a:prstGeom>
            <a:solidFill>
              <a:schemeClr val="bg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8" name="Group 19"/>
            <p:cNvGrpSpPr/>
            <p:nvPr/>
          </p:nvGrpSpPr>
          <p:grpSpPr>
            <a:xfrm>
              <a:off x="3794040" y="1660680"/>
              <a:ext cx="259920" cy="259920"/>
              <a:chOff x="3794040" y="1660680"/>
              <a:chExt cx="259920" cy="259920"/>
            </a:xfrm>
          </p:grpSpPr>
          <p:sp>
            <p:nvSpPr>
              <p:cNvPr id="339" name="Oval 17"/>
              <p:cNvSpPr/>
              <p:nvPr/>
            </p:nvSpPr>
            <p:spPr>
              <a:xfrm>
                <a:off x="3794040" y="1660680"/>
                <a:ext cx="259920" cy="259920"/>
              </a:xfrm>
              <a:prstGeom prst="ellipse">
                <a:avLst/>
              </a:prstGeom>
              <a:solidFill>
                <a:srgbClr val="33ccff"/>
              </a:solidFill>
              <a:ln w="1270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Oval 18"/>
              <p:cNvSpPr/>
              <p:nvPr/>
            </p:nvSpPr>
            <p:spPr>
              <a:xfrm>
                <a:off x="3848040" y="1714680"/>
                <a:ext cx="151920" cy="151920"/>
              </a:xfrm>
              <a:prstGeom prst="ellipse">
                <a:avLst/>
              </a:prstGeom>
              <a:solidFill>
                <a:schemeClr val="tx1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1" name="Oval 20"/>
            <p:cNvSpPr/>
            <p:nvPr/>
          </p:nvSpPr>
          <p:spPr>
            <a:xfrm>
              <a:off x="5348160" y="1568520"/>
              <a:ext cx="809280" cy="444240"/>
            </a:xfrm>
            <a:prstGeom prst="ellipse">
              <a:avLst/>
            </a:prstGeom>
            <a:solidFill>
              <a:schemeClr val="bg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oup 23"/>
            <p:cNvGrpSpPr/>
            <p:nvPr/>
          </p:nvGrpSpPr>
          <p:grpSpPr>
            <a:xfrm>
              <a:off x="5622840" y="1660680"/>
              <a:ext cx="259920" cy="259920"/>
              <a:chOff x="5622840" y="1660680"/>
              <a:chExt cx="259920" cy="259920"/>
            </a:xfrm>
          </p:grpSpPr>
          <p:sp>
            <p:nvSpPr>
              <p:cNvPr id="343" name="Oval 21"/>
              <p:cNvSpPr/>
              <p:nvPr/>
            </p:nvSpPr>
            <p:spPr>
              <a:xfrm>
                <a:off x="5622840" y="1660680"/>
                <a:ext cx="259920" cy="259920"/>
              </a:xfrm>
              <a:prstGeom prst="ellipse">
                <a:avLst/>
              </a:prstGeom>
              <a:solidFill>
                <a:srgbClr val="33ccff"/>
              </a:solidFill>
              <a:ln w="1270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Oval 22"/>
              <p:cNvSpPr/>
              <p:nvPr/>
            </p:nvSpPr>
            <p:spPr>
              <a:xfrm>
                <a:off x="5676840" y="1714680"/>
                <a:ext cx="151920" cy="151920"/>
              </a:xfrm>
              <a:prstGeom prst="ellipse">
                <a:avLst/>
              </a:prstGeom>
              <a:solidFill>
                <a:schemeClr val="tx1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 useBgFill="1">
          <p:nvSpPr>
            <p:cNvPr id="345" name="Freeform 24"/>
            <p:cNvSpPr/>
            <p:nvPr/>
          </p:nvSpPr>
          <p:spPr>
            <a:xfrm>
              <a:off x="4276800" y="3749760"/>
              <a:ext cx="318600" cy="13788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01" h="87">
                  <a:moveTo>
                    <a:pt x="186" y="86"/>
                  </a:moveTo>
                  <a:lnTo>
                    <a:pt x="200" y="42"/>
                  </a:lnTo>
                  <a:lnTo>
                    <a:pt x="168" y="21"/>
                  </a:lnTo>
                  <a:lnTo>
                    <a:pt x="136" y="11"/>
                  </a:lnTo>
                  <a:lnTo>
                    <a:pt x="105" y="0"/>
                  </a:lnTo>
                  <a:lnTo>
                    <a:pt x="73" y="0"/>
                  </a:lnTo>
                  <a:lnTo>
                    <a:pt x="42" y="0"/>
                  </a:lnTo>
                  <a:lnTo>
                    <a:pt x="10" y="0"/>
                  </a:lnTo>
                  <a:lnTo>
                    <a:pt x="0" y="32"/>
                  </a:lnTo>
                  <a:lnTo>
                    <a:pt x="21" y="63"/>
                  </a:lnTo>
                  <a:lnTo>
                    <a:pt x="52" y="74"/>
                  </a:lnTo>
                  <a:lnTo>
                    <a:pt x="84" y="84"/>
                  </a:lnTo>
                  <a:lnTo>
                    <a:pt x="115" y="84"/>
                  </a:lnTo>
                  <a:lnTo>
                    <a:pt x="186" y="86"/>
                  </a:lnTo>
                  <a:lnTo>
                    <a:pt x="186" y="86"/>
                  </a:lnTo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 useBgFill="1">
          <p:nvSpPr>
            <p:cNvPr id="346" name="Freeform 25"/>
            <p:cNvSpPr/>
            <p:nvPr/>
          </p:nvSpPr>
          <p:spPr>
            <a:xfrm>
              <a:off x="5011560" y="3767040"/>
              <a:ext cx="323640" cy="1346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04" h="85">
                  <a:moveTo>
                    <a:pt x="203" y="27"/>
                  </a:moveTo>
                  <a:lnTo>
                    <a:pt x="158" y="10"/>
                  </a:lnTo>
                  <a:lnTo>
                    <a:pt x="126" y="10"/>
                  </a:lnTo>
                  <a:lnTo>
                    <a:pt x="94" y="10"/>
                  </a:lnTo>
                  <a:lnTo>
                    <a:pt x="63" y="10"/>
                  </a:lnTo>
                  <a:lnTo>
                    <a:pt x="31" y="0"/>
                  </a:lnTo>
                  <a:lnTo>
                    <a:pt x="10" y="31"/>
                  </a:lnTo>
                  <a:lnTo>
                    <a:pt x="0" y="63"/>
                  </a:lnTo>
                  <a:lnTo>
                    <a:pt x="31" y="84"/>
                  </a:lnTo>
                  <a:lnTo>
                    <a:pt x="63" y="84"/>
                  </a:lnTo>
                  <a:lnTo>
                    <a:pt x="94" y="84"/>
                  </a:lnTo>
                  <a:lnTo>
                    <a:pt x="126" y="84"/>
                  </a:lnTo>
                  <a:lnTo>
                    <a:pt x="158" y="84"/>
                  </a:lnTo>
                  <a:lnTo>
                    <a:pt x="203" y="27"/>
                  </a:lnTo>
                  <a:lnTo>
                    <a:pt x="203" y="27"/>
                  </a:lnTo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26"/>
            <p:cNvSpPr/>
            <p:nvPr/>
          </p:nvSpPr>
          <p:spPr>
            <a:xfrm>
              <a:off x="2671920" y="1494000"/>
              <a:ext cx="336240" cy="140472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1404720"/>
                <a:gd name="textAreaBottom" fmla="*/ 1405080 h 1404720"/>
              </a:gdLst>
              <a:ahLst/>
              <a:rect l="textAreaLeft" t="textAreaTop" r="textAreaRight" b="textAreaBottom"/>
              <a:pathLst>
                <a:path w="212" h="885">
                  <a:moveTo>
                    <a:pt x="189" y="115"/>
                  </a:moveTo>
                  <a:lnTo>
                    <a:pt x="148" y="63"/>
                  </a:lnTo>
                  <a:lnTo>
                    <a:pt x="127" y="31"/>
                  </a:lnTo>
                  <a:lnTo>
                    <a:pt x="106" y="0"/>
                  </a:lnTo>
                  <a:lnTo>
                    <a:pt x="74" y="0"/>
                  </a:lnTo>
                  <a:lnTo>
                    <a:pt x="42" y="0"/>
                  </a:lnTo>
                  <a:lnTo>
                    <a:pt x="11" y="21"/>
                  </a:lnTo>
                  <a:lnTo>
                    <a:pt x="0" y="53"/>
                  </a:lnTo>
                  <a:lnTo>
                    <a:pt x="0" y="84"/>
                  </a:lnTo>
                  <a:lnTo>
                    <a:pt x="0" y="116"/>
                  </a:lnTo>
                  <a:lnTo>
                    <a:pt x="0" y="147"/>
                  </a:lnTo>
                  <a:lnTo>
                    <a:pt x="0" y="179"/>
                  </a:lnTo>
                  <a:lnTo>
                    <a:pt x="0" y="210"/>
                  </a:lnTo>
                  <a:lnTo>
                    <a:pt x="0" y="232"/>
                  </a:lnTo>
                  <a:lnTo>
                    <a:pt x="0" y="263"/>
                  </a:lnTo>
                  <a:lnTo>
                    <a:pt x="0" y="295"/>
                  </a:lnTo>
                  <a:lnTo>
                    <a:pt x="0" y="326"/>
                  </a:lnTo>
                  <a:lnTo>
                    <a:pt x="0" y="358"/>
                  </a:lnTo>
                  <a:lnTo>
                    <a:pt x="0" y="389"/>
                  </a:lnTo>
                  <a:lnTo>
                    <a:pt x="0" y="421"/>
                  </a:lnTo>
                  <a:lnTo>
                    <a:pt x="0" y="453"/>
                  </a:lnTo>
                  <a:lnTo>
                    <a:pt x="11" y="484"/>
                  </a:lnTo>
                  <a:lnTo>
                    <a:pt x="21" y="516"/>
                  </a:lnTo>
                  <a:lnTo>
                    <a:pt x="32" y="547"/>
                  </a:lnTo>
                  <a:lnTo>
                    <a:pt x="32" y="579"/>
                  </a:lnTo>
                  <a:lnTo>
                    <a:pt x="42" y="611"/>
                  </a:lnTo>
                  <a:lnTo>
                    <a:pt x="53" y="642"/>
                  </a:lnTo>
                  <a:lnTo>
                    <a:pt x="64" y="674"/>
                  </a:lnTo>
                  <a:lnTo>
                    <a:pt x="74" y="705"/>
                  </a:lnTo>
                  <a:lnTo>
                    <a:pt x="95" y="737"/>
                  </a:lnTo>
                  <a:lnTo>
                    <a:pt x="116" y="768"/>
                  </a:lnTo>
                  <a:lnTo>
                    <a:pt x="127" y="800"/>
                  </a:lnTo>
                  <a:lnTo>
                    <a:pt x="127" y="832"/>
                  </a:lnTo>
                  <a:lnTo>
                    <a:pt x="127" y="863"/>
                  </a:lnTo>
                  <a:lnTo>
                    <a:pt x="158" y="874"/>
                  </a:lnTo>
                  <a:lnTo>
                    <a:pt x="190" y="884"/>
                  </a:lnTo>
                  <a:lnTo>
                    <a:pt x="211" y="853"/>
                  </a:lnTo>
                  <a:lnTo>
                    <a:pt x="211" y="821"/>
                  </a:lnTo>
                  <a:lnTo>
                    <a:pt x="211" y="789"/>
                  </a:lnTo>
                  <a:lnTo>
                    <a:pt x="211" y="758"/>
                  </a:lnTo>
                  <a:lnTo>
                    <a:pt x="211" y="726"/>
                  </a:lnTo>
                  <a:lnTo>
                    <a:pt x="211" y="695"/>
                  </a:lnTo>
                  <a:lnTo>
                    <a:pt x="211" y="663"/>
                  </a:lnTo>
                  <a:lnTo>
                    <a:pt x="211" y="632"/>
                  </a:lnTo>
                  <a:lnTo>
                    <a:pt x="200" y="600"/>
                  </a:lnTo>
                  <a:lnTo>
                    <a:pt x="190" y="568"/>
                  </a:lnTo>
                  <a:lnTo>
                    <a:pt x="169" y="537"/>
                  </a:lnTo>
                  <a:lnTo>
                    <a:pt x="169" y="505"/>
                  </a:lnTo>
                  <a:lnTo>
                    <a:pt x="169" y="474"/>
                  </a:lnTo>
                  <a:lnTo>
                    <a:pt x="169" y="442"/>
                  </a:lnTo>
                  <a:lnTo>
                    <a:pt x="169" y="410"/>
                  </a:lnTo>
                  <a:lnTo>
                    <a:pt x="169" y="379"/>
                  </a:lnTo>
                  <a:lnTo>
                    <a:pt x="169" y="347"/>
                  </a:lnTo>
                  <a:lnTo>
                    <a:pt x="169" y="316"/>
                  </a:lnTo>
                  <a:lnTo>
                    <a:pt x="158" y="284"/>
                  </a:lnTo>
                  <a:lnTo>
                    <a:pt x="158" y="253"/>
                  </a:lnTo>
                  <a:lnTo>
                    <a:pt x="158" y="221"/>
                  </a:lnTo>
                  <a:lnTo>
                    <a:pt x="158" y="189"/>
                  </a:lnTo>
                  <a:lnTo>
                    <a:pt x="158" y="158"/>
                  </a:lnTo>
                  <a:lnTo>
                    <a:pt x="189" y="115"/>
                  </a:lnTo>
                  <a:lnTo>
                    <a:pt x="189" y="115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27"/>
            <p:cNvSpPr/>
            <p:nvPr/>
          </p:nvSpPr>
          <p:spPr>
            <a:xfrm>
              <a:off x="2705040" y="1693800"/>
              <a:ext cx="191880" cy="9745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121" h="614">
                  <a:moveTo>
                    <a:pt x="120" y="37"/>
                  </a:moveTo>
                  <a:lnTo>
                    <a:pt x="74" y="0"/>
                  </a:lnTo>
                  <a:lnTo>
                    <a:pt x="43" y="0"/>
                  </a:lnTo>
                  <a:lnTo>
                    <a:pt x="32" y="32"/>
                  </a:lnTo>
                  <a:lnTo>
                    <a:pt x="11" y="63"/>
                  </a:lnTo>
                  <a:lnTo>
                    <a:pt x="0" y="95"/>
                  </a:lnTo>
                  <a:lnTo>
                    <a:pt x="0" y="127"/>
                  </a:lnTo>
                  <a:lnTo>
                    <a:pt x="0" y="158"/>
                  </a:lnTo>
                  <a:lnTo>
                    <a:pt x="0" y="190"/>
                  </a:lnTo>
                  <a:lnTo>
                    <a:pt x="0" y="221"/>
                  </a:lnTo>
                  <a:lnTo>
                    <a:pt x="0" y="253"/>
                  </a:lnTo>
                  <a:lnTo>
                    <a:pt x="0" y="284"/>
                  </a:lnTo>
                  <a:lnTo>
                    <a:pt x="0" y="306"/>
                  </a:lnTo>
                  <a:lnTo>
                    <a:pt x="11" y="337"/>
                  </a:lnTo>
                  <a:lnTo>
                    <a:pt x="11" y="369"/>
                  </a:lnTo>
                  <a:lnTo>
                    <a:pt x="21" y="400"/>
                  </a:lnTo>
                  <a:lnTo>
                    <a:pt x="21" y="432"/>
                  </a:lnTo>
                  <a:lnTo>
                    <a:pt x="32" y="463"/>
                  </a:lnTo>
                  <a:lnTo>
                    <a:pt x="43" y="485"/>
                  </a:lnTo>
                  <a:lnTo>
                    <a:pt x="53" y="516"/>
                  </a:lnTo>
                  <a:lnTo>
                    <a:pt x="64" y="548"/>
                  </a:lnTo>
                  <a:lnTo>
                    <a:pt x="74" y="579"/>
                  </a:lnTo>
                  <a:lnTo>
                    <a:pt x="72" y="613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28"/>
            <p:cNvSpPr/>
            <p:nvPr/>
          </p:nvSpPr>
          <p:spPr>
            <a:xfrm>
              <a:off x="2773440" y="1995480"/>
              <a:ext cx="123480" cy="3855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78" h="243">
                  <a:moveTo>
                    <a:pt x="77" y="39"/>
                  </a:moveTo>
                  <a:lnTo>
                    <a:pt x="31" y="0"/>
                  </a:lnTo>
                  <a:lnTo>
                    <a:pt x="10" y="31"/>
                  </a:lnTo>
                  <a:lnTo>
                    <a:pt x="0" y="63"/>
                  </a:lnTo>
                  <a:lnTo>
                    <a:pt x="0" y="94"/>
                  </a:lnTo>
                  <a:lnTo>
                    <a:pt x="0" y="116"/>
                  </a:lnTo>
                  <a:lnTo>
                    <a:pt x="0" y="147"/>
                  </a:lnTo>
                  <a:lnTo>
                    <a:pt x="10" y="179"/>
                  </a:lnTo>
                  <a:lnTo>
                    <a:pt x="21" y="210"/>
                  </a:lnTo>
                  <a:lnTo>
                    <a:pt x="52" y="242"/>
                  </a:lnTo>
                  <a:lnTo>
                    <a:pt x="29" y="231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29"/>
            <p:cNvSpPr/>
            <p:nvPr/>
          </p:nvSpPr>
          <p:spPr>
            <a:xfrm>
              <a:off x="6708600" y="1569960"/>
              <a:ext cx="336240" cy="140472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1404720"/>
                <a:gd name="textAreaBottom" fmla="*/ 1405080 h 1404720"/>
              </a:gdLst>
              <a:ahLst/>
              <a:rect l="textAreaLeft" t="textAreaTop" r="textAreaRight" b="textAreaBottom"/>
              <a:pathLst>
                <a:path w="212" h="885">
                  <a:moveTo>
                    <a:pt x="22" y="115"/>
                  </a:moveTo>
                  <a:lnTo>
                    <a:pt x="63" y="63"/>
                  </a:lnTo>
                  <a:lnTo>
                    <a:pt x="84" y="31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69" y="0"/>
                  </a:lnTo>
                  <a:lnTo>
                    <a:pt x="200" y="21"/>
                  </a:lnTo>
                  <a:lnTo>
                    <a:pt x="211" y="53"/>
                  </a:lnTo>
                  <a:lnTo>
                    <a:pt x="211" y="84"/>
                  </a:lnTo>
                  <a:lnTo>
                    <a:pt x="211" y="116"/>
                  </a:lnTo>
                  <a:lnTo>
                    <a:pt x="211" y="147"/>
                  </a:lnTo>
                  <a:lnTo>
                    <a:pt x="211" y="179"/>
                  </a:lnTo>
                  <a:lnTo>
                    <a:pt x="211" y="210"/>
                  </a:lnTo>
                  <a:lnTo>
                    <a:pt x="211" y="232"/>
                  </a:lnTo>
                  <a:lnTo>
                    <a:pt x="211" y="263"/>
                  </a:lnTo>
                  <a:lnTo>
                    <a:pt x="211" y="295"/>
                  </a:lnTo>
                  <a:lnTo>
                    <a:pt x="211" y="326"/>
                  </a:lnTo>
                  <a:lnTo>
                    <a:pt x="211" y="358"/>
                  </a:lnTo>
                  <a:lnTo>
                    <a:pt x="211" y="389"/>
                  </a:lnTo>
                  <a:lnTo>
                    <a:pt x="211" y="421"/>
                  </a:lnTo>
                  <a:lnTo>
                    <a:pt x="211" y="453"/>
                  </a:lnTo>
                  <a:lnTo>
                    <a:pt x="200" y="484"/>
                  </a:lnTo>
                  <a:lnTo>
                    <a:pt x="190" y="516"/>
                  </a:lnTo>
                  <a:lnTo>
                    <a:pt x="179" y="547"/>
                  </a:lnTo>
                  <a:lnTo>
                    <a:pt x="179" y="579"/>
                  </a:lnTo>
                  <a:lnTo>
                    <a:pt x="169" y="611"/>
                  </a:lnTo>
                  <a:lnTo>
                    <a:pt x="158" y="642"/>
                  </a:lnTo>
                  <a:lnTo>
                    <a:pt x="147" y="674"/>
                  </a:lnTo>
                  <a:lnTo>
                    <a:pt x="137" y="705"/>
                  </a:lnTo>
                  <a:lnTo>
                    <a:pt x="116" y="737"/>
                  </a:lnTo>
                  <a:lnTo>
                    <a:pt x="95" y="768"/>
                  </a:lnTo>
                  <a:lnTo>
                    <a:pt x="84" y="800"/>
                  </a:lnTo>
                  <a:lnTo>
                    <a:pt x="84" y="832"/>
                  </a:lnTo>
                  <a:lnTo>
                    <a:pt x="84" y="863"/>
                  </a:lnTo>
                  <a:lnTo>
                    <a:pt x="53" y="874"/>
                  </a:lnTo>
                  <a:lnTo>
                    <a:pt x="21" y="884"/>
                  </a:lnTo>
                  <a:lnTo>
                    <a:pt x="0" y="853"/>
                  </a:lnTo>
                  <a:lnTo>
                    <a:pt x="0" y="821"/>
                  </a:lnTo>
                  <a:lnTo>
                    <a:pt x="0" y="789"/>
                  </a:lnTo>
                  <a:lnTo>
                    <a:pt x="0" y="758"/>
                  </a:lnTo>
                  <a:lnTo>
                    <a:pt x="0" y="726"/>
                  </a:lnTo>
                  <a:lnTo>
                    <a:pt x="0" y="695"/>
                  </a:lnTo>
                  <a:lnTo>
                    <a:pt x="0" y="663"/>
                  </a:lnTo>
                  <a:lnTo>
                    <a:pt x="0" y="632"/>
                  </a:lnTo>
                  <a:lnTo>
                    <a:pt x="11" y="600"/>
                  </a:lnTo>
                  <a:lnTo>
                    <a:pt x="21" y="568"/>
                  </a:lnTo>
                  <a:lnTo>
                    <a:pt x="42" y="537"/>
                  </a:lnTo>
                  <a:lnTo>
                    <a:pt x="42" y="505"/>
                  </a:lnTo>
                  <a:lnTo>
                    <a:pt x="42" y="474"/>
                  </a:lnTo>
                  <a:lnTo>
                    <a:pt x="42" y="442"/>
                  </a:lnTo>
                  <a:lnTo>
                    <a:pt x="42" y="410"/>
                  </a:lnTo>
                  <a:lnTo>
                    <a:pt x="42" y="379"/>
                  </a:lnTo>
                  <a:lnTo>
                    <a:pt x="42" y="347"/>
                  </a:lnTo>
                  <a:lnTo>
                    <a:pt x="42" y="316"/>
                  </a:lnTo>
                  <a:lnTo>
                    <a:pt x="53" y="284"/>
                  </a:lnTo>
                  <a:lnTo>
                    <a:pt x="53" y="253"/>
                  </a:lnTo>
                  <a:lnTo>
                    <a:pt x="53" y="221"/>
                  </a:lnTo>
                  <a:lnTo>
                    <a:pt x="53" y="189"/>
                  </a:lnTo>
                  <a:lnTo>
                    <a:pt x="53" y="158"/>
                  </a:lnTo>
                  <a:lnTo>
                    <a:pt x="22" y="115"/>
                  </a:lnTo>
                  <a:lnTo>
                    <a:pt x="22" y="115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30"/>
            <p:cNvSpPr/>
            <p:nvPr/>
          </p:nvSpPr>
          <p:spPr>
            <a:xfrm>
              <a:off x="6819840" y="1770120"/>
              <a:ext cx="191880" cy="9745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121" h="614">
                  <a:moveTo>
                    <a:pt x="0" y="37"/>
                  </a:moveTo>
                  <a:lnTo>
                    <a:pt x="46" y="0"/>
                  </a:lnTo>
                  <a:lnTo>
                    <a:pt x="77" y="0"/>
                  </a:lnTo>
                  <a:lnTo>
                    <a:pt x="88" y="32"/>
                  </a:lnTo>
                  <a:lnTo>
                    <a:pt x="109" y="63"/>
                  </a:lnTo>
                  <a:lnTo>
                    <a:pt x="120" y="95"/>
                  </a:lnTo>
                  <a:lnTo>
                    <a:pt x="120" y="127"/>
                  </a:lnTo>
                  <a:lnTo>
                    <a:pt x="120" y="158"/>
                  </a:lnTo>
                  <a:lnTo>
                    <a:pt x="120" y="190"/>
                  </a:lnTo>
                  <a:lnTo>
                    <a:pt x="120" y="221"/>
                  </a:lnTo>
                  <a:lnTo>
                    <a:pt x="120" y="253"/>
                  </a:lnTo>
                  <a:lnTo>
                    <a:pt x="120" y="284"/>
                  </a:lnTo>
                  <a:lnTo>
                    <a:pt x="120" y="306"/>
                  </a:lnTo>
                  <a:lnTo>
                    <a:pt x="109" y="337"/>
                  </a:lnTo>
                  <a:lnTo>
                    <a:pt x="109" y="369"/>
                  </a:lnTo>
                  <a:lnTo>
                    <a:pt x="99" y="400"/>
                  </a:lnTo>
                  <a:lnTo>
                    <a:pt x="99" y="432"/>
                  </a:lnTo>
                  <a:lnTo>
                    <a:pt x="88" y="463"/>
                  </a:lnTo>
                  <a:lnTo>
                    <a:pt x="77" y="485"/>
                  </a:lnTo>
                  <a:lnTo>
                    <a:pt x="67" y="516"/>
                  </a:lnTo>
                  <a:lnTo>
                    <a:pt x="56" y="548"/>
                  </a:lnTo>
                  <a:lnTo>
                    <a:pt x="46" y="579"/>
                  </a:lnTo>
                  <a:lnTo>
                    <a:pt x="48" y="613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1"/>
            <p:cNvSpPr/>
            <p:nvPr/>
          </p:nvSpPr>
          <p:spPr>
            <a:xfrm>
              <a:off x="6819840" y="2071800"/>
              <a:ext cx="123480" cy="3855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78" h="243">
                  <a:moveTo>
                    <a:pt x="0" y="39"/>
                  </a:moveTo>
                  <a:lnTo>
                    <a:pt x="46" y="0"/>
                  </a:lnTo>
                  <a:lnTo>
                    <a:pt x="67" y="31"/>
                  </a:lnTo>
                  <a:lnTo>
                    <a:pt x="77" y="63"/>
                  </a:lnTo>
                  <a:lnTo>
                    <a:pt x="77" y="94"/>
                  </a:lnTo>
                  <a:lnTo>
                    <a:pt x="77" y="116"/>
                  </a:lnTo>
                  <a:lnTo>
                    <a:pt x="77" y="147"/>
                  </a:lnTo>
                  <a:lnTo>
                    <a:pt x="67" y="179"/>
                  </a:lnTo>
                  <a:lnTo>
                    <a:pt x="56" y="210"/>
                  </a:lnTo>
                  <a:lnTo>
                    <a:pt x="25" y="242"/>
                  </a:lnTo>
                  <a:lnTo>
                    <a:pt x="48" y="231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Line 32"/>
            <p:cNvSpPr/>
            <p:nvPr/>
          </p:nvSpPr>
          <p:spPr>
            <a:xfrm>
              <a:off x="4800600" y="2361960"/>
              <a:ext cx="360" cy="1295640"/>
            </a:xfrm>
            <a:prstGeom prst="line">
              <a:avLst/>
            </a:prstGeom>
            <a:ln w="127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AutoShape 33"/>
            <p:cNvSpPr/>
            <p:nvPr/>
          </p:nvSpPr>
          <p:spPr>
            <a:xfrm>
              <a:off x="4730760" y="4425840"/>
              <a:ext cx="139320" cy="901440"/>
            </a:xfrm>
            <a:prstGeom prst="roundRect">
              <a:avLst>
                <a:gd name="adj" fmla="val 12495"/>
              </a:avLst>
            </a:prstGeom>
            <a:solidFill>
              <a:srgbClr val="5f5f5f"/>
            </a:solidFill>
            <a:ln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34"/>
            <p:cNvSpPr/>
            <p:nvPr/>
          </p:nvSpPr>
          <p:spPr>
            <a:xfrm>
              <a:off x="4267080" y="3962520"/>
              <a:ext cx="1449000" cy="347400"/>
            </a:xfrm>
            <a:custGeom>
              <a:avLst/>
              <a:gdLst>
                <a:gd name="textAreaLeft" fmla="*/ 0 w 1449000"/>
                <a:gd name="textAreaRight" fmla="*/ 1449360 w 14490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913" h="219">
                  <a:moveTo>
                    <a:pt x="0" y="115"/>
                  </a:moveTo>
                  <a:lnTo>
                    <a:pt x="54" y="73"/>
                  </a:lnTo>
                  <a:lnTo>
                    <a:pt x="90" y="57"/>
                  </a:lnTo>
                  <a:lnTo>
                    <a:pt x="125" y="57"/>
                  </a:lnTo>
                  <a:lnTo>
                    <a:pt x="161" y="57"/>
                  </a:lnTo>
                  <a:lnTo>
                    <a:pt x="198" y="57"/>
                  </a:lnTo>
                  <a:lnTo>
                    <a:pt x="233" y="57"/>
                  </a:lnTo>
                  <a:lnTo>
                    <a:pt x="269" y="57"/>
                  </a:lnTo>
                  <a:lnTo>
                    <a:pt x="316" y="57"/>
                  </a:lnTo>
                  <a:lnTo>
                    <a:pt x="351" y="57"/>
                  </a:lnTo>
                  <a:lnTo>
                    <a:pt x="388" y="57"/>
                  </a:lnTo>
                  <a:lnTo>
                    <a:pt x="423" y="57"/>
                  </a:lnTo>
                  <a:lnTo>
                    <a:pt x="448" y="57"/>
                  </a:lnTo>
                  <a:lnTo>
                    <a:pt x="483" y="57"/>
                  </a:lnTo>
                  <a:lnTo>
                    <a:pt x="519" y="57"/>
                  </a:lnTo>
                  <a:lnTo>
                    <a:pt x="554" y="57"/>
                  </a:lnTo>
                  <a:lnTo>
                    <a:pt x="601" y="57"/>
                  </a:lnTo>
                  <a:lnTo>
                    <a:pt x="638" y="57"/>
                  </a:lnTo>
                  <a:lnTo>
                    <a:pt x="673" y="57"/>
                  </a:lnTo>
                  <a:lnTo>
                    <a:pt x="698" y="57"/>
                  </a:lnTo>
                  <a:lnTo>
                    <a:pt x="733" y="57"/>
                  </a:lnTo>
                  <a:lnTo>
                    <a:pt x="769" y="57"/>
                  </a:lnTo>
                  <a:lnTo>
                    <a:pt x="804" y="57"/>
                  </a:lnTo>
                  <a:lnTo>
                    <a:pt x="840" y="44"/>
                  </a:lnTo>
                  <a:lnTo>
                    <a:pt x="875" y="15"/>
                  </a:lnTo>
                  <a:lnTo>
                    <a:pt x="912" y="0"/>
                  </a:lnTo>
                  <a:lnTo>
                    <a:pt x="875" y="15"/>
                  </a:lnTo>
                  <a:lnTo>
                    <a:pt x="840" y="57"/>
                  </a:lnTo>
                  <a:lnTo>
                    <a:pt x="828" y="102"/>
                  </a:lnTo>
                  <a:lnTo>
                    <a:pt x="804" y="146"/>
                  </a:lnTo>
                  <a:lnTo>
                    <a:pt x="769" y="160"/>
                  </a:lnTo>
                  <a:lnTo>
                    <a:pt x="733" y="175"/>
                  </a:lnTo>
                  <a:lnTo>
                    <a:pt x="698" y="189"/>
                  </a:lnTo>
                  <a:lnTo>
                    <a:pt x="673" y="189"/>
                  </a:lnTo>
                  <a:lnTo>
                    <a:pt x="638" y="189"/>
                  </a:lnTo>
                  <a:lnTo>
                    <a:pt x="601" y="189"/>
                  </a:lnTo>
                  <a:lnTo>
                    <a:pt x="554" y="189"/>
                  </a:lnTo>
                  <a:lnTo>
                    <a:pt x="519" y="189"/>
                  </a:lnTo>
                  <a:lnTo>
                    <a:pt x="483" y="189"/>
                  </a:lnTo>
                  <a:lnTo>
                    <a:pt x="448" y="189"/>
                  </a:lnTo>
                  <a:lnTo>
                    <a:pt x="423" y="189"/>
                  </a:lnTo>
                  <a:lnTo>
                    <a:pt x="388" y="204"/>
                  </a:lnTo>
                  <a:lnTo>
                    <a:pt x="351" y="204"/>
                  </a:lnTo>
                  <a:lnTo>
                    <a:pt x="316" y="218"/>
                  </a:lnTo>
                  <a:lnTo>
                    <a:pt x="280" y="218"/>
                  </a:lnTo>
                  <a:lnTo>
                    <a:pt x="245" y="218"/>
                  </a:lnTo>
                  <a:lnTo>
                    <a:pt x="198" y="218"/>
                  </a:lnTo>
                  <a:lnTo>
                    <a:pt x="173" y="218"/>
                  </a:lnTo>
                  <a:lnTo>
                    <a:pt x="138" y="218"/>
                  </a:lnTo>
                  <a:lnTo>
                    <a:pt x="101" y="204"/>
                  </a:lnTo>
                  <a:lnTo>
                    <a:pt x="66" y="189"/>
                  </a:lnTo>
                  <a:lnTo>
                    <a:pt x="0" y="115"/>
                  </a:lnTo>
                  <a:lnTo>
                    <a:pt x="54" y="73"/>
                  </a:lnTo>
                  <a:lnTo>
                    <a:pt x="54" y="49"/>
                  </a:lnTo>
                </a:path>
              </a:pathLst>
            </a:custGeom>
            <a:solidFill>
              <a:srgbClr val="5f5f5f"/>
            </a:solidFill>
            <a:ln cap="rnd"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35"/>
            <p:cNvSpPr/>
            <p:nvPr/>
          </p:nvSpPr>
          <p:spPr>
            <a:xfrm>
              <a:off x="4260960" y="1981080"/>
              <a:ext cx="217080" cy="176004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760040"/>
                <a:gd name="textAreaBottom" fmla="*/ 1760400 h 1760040"/>
              </a:gdLst>
              <a:ahLst/>
              <a:rect l="textAreaLeft" t="textAreaTop" r="textAreaRight" b="textAreaBottom"/>
              <a:pathLst>
                <a:path w="137" h="1109">
                  <a:moveTo>
                    <a:pt x="52" y="0"/>
                  </a:moveTo>
                  <a:lnTo>
                    <a:pt x="42" y="45"/>
                  </a:lnTo>
                  <a:lnTo>
                    <a:pt x="42" y="77"/>
                  </a:lnTo>
                  <a:lnTo>
                    <a:pt x="42" y="108"/>
                  </a:lnTo>
                  <a:lnTo>
                    <a:pt x="42" y="140"/>
                  </a:lnTo>
                  <a:lnTo>
                    <a:pt x="42" y="171"/>
                  </a:lnTo>
                  <a:lnTo>
                    <a:pt x="42" y="203"/>
                  </a:lnTo>
                  <a:lnTo>
                    <a:pt x="42" y="234"/>
                  </a:lnTo>
                  <a:lnTo>
                    <a:pt x="42" y="256"/>
                  </a:lnTo>
                  <a:lnTo>
                    <a:pt x="42" y="287"/>
                  </a:lnTo>
                  <a:lnTo>
                    <a:pt x="42" y="329"/>
                  </a:lnTo>
                  <a:lnTo>
                    <a:pt x="42" y="361"/>
                  </a:lnTo>
                  <a:lnTo>
                    <a:pt x="42" y="392"/>
                  </a:lnTo>
                  <a:lnTo>
                    <a:pt x="42" y="434"/>
                  </a:lnTo>
                  <a:lnTo>
                    <a:pt x="42" y="456"/>
                  </a:lnTo>
                  <a:lnTo>
                    <a:pt x="42" y="487"/>
                  </a:lnTo>
                  <a:lnTo>
                    <a:pt x="42" y="519"/>
                  </a:lnTo>
                  <a:lnTo>
                    <a:pt x="42" y="561"/>
                  </a:lnTo>
                  <a:lnTo>
                    <a:pt x="42" y="592"/>
                  </a:lnTo>
                  <a:lnTo>
                    <a:pt x="31" y="624"/>
                  </a:lnTo>
                  <a:lnTo>
                    <a:pt x="31" y="656"/>
                  </a:lnTo>
                  <a:lnTo>
                    <a:pt x="31" y="687"/>
                  </a:lnTo>
                  <a:lnTo>
                    <a:pt x="31" y="729"/>
                  </a:lnTo>
                  <a:lnTo>
                    <a:pt x="31" y="761"/>
                  </a:lnTo>
                  <a:lnTo>
                    <a:pt x="31" y="792"/>
                  </a:lnTo>
                  <a:lnTo>
                    <a:pt x="31" y="814"/>
                  </a:lnTo>
                  <a:lnTo>
                    <a:pt x="31" y="845"/>
                  </a:lnTo>
                  <a:lnTo>
                    <a:pt x="21" y="877"/>
                  </a:lnTo>
                  <a:lnTo>
                    <a:pt x="21" y="919"/>
                  </a:lnTo>
                  <a:lnTo>
                    <a:pt x="21" y="950"/>
                  </a:lnTo>
                  <a:lnTo>
                    <a:pt x="21" y="982"/>
                  </a:lnTo>
                  <a:lnTo>
                    <a:pt x="21" y="1014"/>
                  </a:lnTo>
                  <a:lnTo>
                    <a:pt x="10" y="1045"/>
                  </a:lnTo>
                  <a:lnTo>
                    <a:pt x="10" y="1077"/>
                  </a:lnTo>
                  <a:lnTo>
                    <a:pt x="0" y="1108"/>
                  </a:lnTo>
                  <a:lnTo>
                    <a:pt x="31" y="1108"/>
                  </a:lnTo>
                  <a:lnTo>
                    <a:pt x="52" y="1077"/>
                  </a:lnTo>
                  <a:lnTo>
                    <a:pt x="63" y="1045"/>
                  </a:lnTo>
                  <a:lnTo>
                    <a:pt x="63" y="1014"/>
                  </a:lnTo>
                  <a:lnTo>
                    <a:pt x="63" y="992"/>
                  </a:lnTo>
                  <a:lnTo>
                    <a:pt x="63" y="961"/>
                  </a:lnTo>
                  <a:lnTo>
                    <a:pt x="63" y="929"/>
                  </a:lnTo>
                  <a:lnTo>
                    <a:pt x="73" y="898"/>
                  </a:lnTo>
                  <a:lnTo>
                    <a:pt x="73" y="866"/>
                  </a:lnTo>
                  <a:lnTo>
                    <a:pt x="73" y="835"/>
                  </a:lnTo>
                  <a:lnTo>
                    <a:pt x="84" y="803"/>
                  </a:lnTo>
                  <a:lnTo>
                    <a:pt x="84" y="771"/>
                  </a:lnTo>
                  <a:lnTo>
                    <a:pt x="84" y="740"/>
                  </a:lnTo>
                  <a:lnTo>
                    <a:pt x="94" y="708"/>
                  </a:lnTo>
                  <a:lnTo>
                    <a:pt x="94" y="677"/>
                  </a:lnTo>
                  <a:lnTo>
                    <a:pt x="105" y="645"/>
                  </a:lnTo>
                  <a:lnTo>
                    <a:pt x="105" y="613"/>
                  </a:lnTo>
                  <a:lnTo>
                    <a:pt x="105" y="582"/>
                  </a:lnTo>
                  <a:lnTo>
                    <a:pt x="115" y="540"/>
                  </a:lnTo>
                  <a:lnTo>
                    <a:pt x="115" y="498"/>
                  </a:lnTo>
                  <a:lnTo>
                    <a:pt x="126" y="466"/>
                  </a:lnTo>
                  <a:lnTo>
                    <a:pt x="136" y="434"/>
                  </a:lnTo>
                  <a:lnTo>
                    <a:pt x="136" y="403"/>
                  </a:lnTo>
                  <a:lnTo>
                    <a:pt x="136" y="371"/>
                  </a:lnTo>
                  <a:lnTo>
                    <a:pt x="136" y="340"/>
                  </a:lnTo>
                  <a:lnTo>
                    <a:pt x="136" y="308"/>
                  </a:lnTo>
                  <a:lnTo>
                    <a:pt x="136" y="277"/>
                  </a:lnTo>
                  <a:lnTo>
                    <a:pt x="136" y="245"/>
                  </a:lnTo>
                  <a:lnTo>
                    <a:pt x="136" y="213"/>
                  </a:lnTo>
                  <a:lnTo>
                    <a:pt x="136" y="182"/>
                  </a:lnTo>
                  <a:lnTo>
                    <a:pt x="136" y="150"/>
                  </a:lnTo>
                  <a:lnTo>
                    <a:pt x="136" y="119"/>
                  </a:lnTo>
                  <a:lnTo>
                    <a:pt x="136" y="87"/>
                  </a:lnTo>
                  <a:lnTo>
                    <a:pt x="136" y="55"/>
                  </a:lnTo>
                  <a:lnTo>
                    <a:pt x="126" y="24"/>
                  </a:lnTo>
                  <a:lnTo>
                    <a:pt x="94" y="3"/>
                  </a:lnTo>
                  <a:lnTo>
                    <a:pt x="52" y="0"/>
                  </a:lnTo>
                  <a:lnTo>
                    <a:pt x="52" y="0"/>
                  </a:lnTo>
                </a:path>
              </a:pathLst>
            </a:custGeom>
            <a:solidFill>
              <a:srgbClr val="5f5f5f"/>
            </a:solidFill>
            <a:ln cap="rnd"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AutoShape 36"/>
            <p:cNvSpPr/>
            <p:nvPr/>
          </p:nvSpPr>
          <p:spPr>
            <a:xfrm>
              <a:off x="4730760" y="3816360"/>
              <a:ext cx="139320" cy="215640"/>
            </a:xfrm>
            <a:prstGeom prst="roundRect">
              <a:avLst>
                <a:gd name="adj" fmla="val 12495"/>
              </a:avLst>
            </a:prstGeom>
            <a:solidFill>
              <a:srgbClr val="ff00cc"/>
            </a:solidFill>
            <a:ln w="127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AutoShape 37"/>
            <p:cNvSpPr/>
            <p:nvPr/>
          </p:nvSpPr>
          <p:spPr>
            <a:xfrm>
              <a:off x="5035680" y="3816360"/>
              <a:ext cx="139320" cy="215640"/>
            </a:xfrm>
            <a:prstGeom prst="roundRect">
              <a:avLst>
                <a:gd name="adj" fmla="val 12495"/>
              </a:avLst>
            </a:prstGeom>
            <a:solidFill>
              <a:srgbClr val="5f5f5f"/>
            </a:solidFill>
            <a:ln w="127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Line 38"/>
            <p:cNvSpPr/>
            <p:nvPr/>
          </p:nvSpPr>
          <p:spPr>
            <a:xfrm flipV="1">
              <a:off x="4419360" y="4800600"/>
              <a:ext cx="381240" cy="1143000"/>
            </a:xfrm>
            <a:prstGeom prst="line">
              <a:avLst/>
            </a:prstGeom>
            <a:ln w="1270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Line 39"/>
            <p:cNvSpPr/>
            <p:nvPr/>
          </p:nvSpPr>
          <p:spPr>
            <a:xfrm flipH="1">
              <a:off x="5105160" y="3657600"/>
              <a:ext cx="1600200" cy="228600"/>
            </a:xfrm>
            <a:prstGeom prst="line">
              <a:avLst/>
            </a:prstGeom>
            <a:ln w="12700">
              <a:solidFill>
                <a:srgbClr val="99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Line 40"/>
            <p:cNvSpPr/>
            <p:nvPr/>
          </p:nvSpPr>
          <p:spPr>
            <a:xfrm flipV="1">
              <a:off x="2819160" y="2819160"/>
              <a:ext cx="1600200" cy="838440"/>
            </a:xfrm>
            <a:prstGeom prst="line">
              <a:avLst/>
            </a:prstGeom>
            <a:ln w="12700">
              <a:solidFill>
                <a:srgbClr val="ff0066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41"/>
            <p:cNvSpPr/>
            <p:nvPr/>
          </p:nvSpPr>
          <p:spPr>
            <a:xfrm>
              <a:off x="4114800" y="3946680"/>
              <a:ext cx="1644120" cy="469440"/>
            </a:xfrm>
            <a:custGeom>
              <a:avLst/>
              <a:gdLst>
                <a:gd name="textAreaLeft" fmla="*/ 0 w 1644120"/>
                <a:gd name="textAreaRight" fmla="*/ 1644480 w 164412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1036" h="296">
                  <a:moveTo>
                    <a:pt x="0" y="202"/>
                  </a:moveTo>
                  <a:lnTo>
                    <a:pt x="46" y="232"/>
                  </a:lnTo>
                  <a:lnTo>
                    <a:pt x="78" y="253"/>
                  </a:lnTo>
                  <a:lnTo>
                    <a:pt x="109" y="264"/>
                  </a:lnTo>
                  <a:lnTo>
                    <a:pt x="141" y="264"/>
                  </a:lnTo>
                  <a:lnTo>
                    <a:pt x="183" y="285"/>
                  </a:lnTo>
                  <a:lnTo>
                    <a:pt x="214" y="285"/>
                  </a:lnTo>
                  <a:lnTo>
                    <a:pt x="246" y="285"/>
                  </a:lnTo>
                  <a:lnTo>
                    <a:pt x="277" y="285"/>
                  </a:lnTo>
                  <a:lnTo>
                    <a:pt x="299" y="285"/>
                  </a:lnTo>
                  <a:lnTo>
                    <a:pt x="330" y="285"/>
                  </a:lnTo>
                  <a:lnTo>
                    <a:pt x="362" y="285"/>
                  </a:lnTo>
                  <a:lnTo>
                    <a:pt x="393" y="285"/>
                  </a:lnTo>
                  <a:lnTo>
                    <a:pt x="425" y="295"/>
                  </a:lnTo>
                  <a:lnTo>
                    <a:pt x="456" y="295"/>
                  </a:lnTo>
                  <a:lnTo>
                    <a:pt x="488" y="295"/>
                  </a:lnTo>
                  <a:lnTo>
                    <a:pt x="520" y="295"/>
                  </a:lnTo>
                  <a:lnTo>
                    <a:pt x="551" y="295"/>
                  </a:lnTo>
                  <a:lnTo>
                    <a:pt x="583" y="295"/>
                  </a:lnTo>
                  <a:lnTo>
                    <a:pt x="614" y="295"/>
                  </a:lnTo>
                  <a:lnTo>
                    <a:pt x="646" y="285"/>
                  </a:lnTo>
                  <a:lnTo>
                    <a:pt x="677" y="285"/>
                  </a:lnTo>
                  <a:lnTo>
                    <a:pt x="709" y="274"/>
                  </a:lnTo>
                  <a:lnTo>
                    <a:pt x="741" y="264"/>
                  </a:lnTo>
                  <a:lnTo>
                    <a:pt x="772" y="253"/>
                  </a:lnTo>
                  <a:lnTo>
                    <a:pt x="804" y="243"/>
                  </a:lnTo>
                  <a:lnTo>
                    <a:pt x="835" y="232"/>
                  </a:lnTo>
                  <a:lnTo>
                    <a:pt x="867" y="221"/>
                  </a:lnTo>
                  <a:lnTo>
                    <a:pt x="898" y="211"/>
                  </a:lnTo>
                  <a:lnTo>
                    <a:pt x="930" y="200"/>
                  </a:lnTo>
                  <a:lnTo>
                    <a:pt x="962" y="179"/>
                  </a:lnTo>
                  <a:lnTo>
                    <a:pt x="993" y="158"/>
                  </a:lnTo>
                  <a:lnTo>
                    <a:pt x="1004" y="127"/>
                  </a:lnTo>
                  <a:lnTo>
                    <a:pt x="1014" y="95"/>
                  </a:lnTo>
                  <a:lnTo>
                    <a:pt x="1025" y="64"/>
                  </a:lnTo>
                  <a:lnTo>
                    <a:pt x="1035" y="42"/>
                  </a:lnTo>
                  <a:lnTo>
                    <a:pt x="1035" y="11"/>
                  </a:lnTo>
                  <a:lnTo>
                    <a:pt x="1004" y="0"/>
                  </a:lnTo>
                  <a:lnTo>
                    <a:pt x="972" y="0"/>
                  </a:lnTo>
                  <a:lnTo>
                    <a:pt x="930" y="0"/>
                  </a:lnTo>
                  <a:lnTo>
                    <a:pt x="898" y="0"/>
                  </a:lnTo>
                  <a:lnTo>
                    <a:pt x="867" y="0"/>
                  </a:lnTo>
                  <a:lnTo>
                    <a:pt x="835" y="0"/>
                  </a:lnTo>
                  <a:lnTo>
                    <a:pt x="804" y="0"/>
                  </a:lnTo>
                  <a:lnTo>
                    <a:pt x="762" y="0"/>
                  </a:lnTo>
                  <a:lnTo>
                    <a:pt x="730" y="0"/>
                  </a:lnTo>
                  <a:lnTo>
                    <a:pt x="698" y="0"/>
                  </a:lnTo>
                  <a:lnTo>
                    <a:pt x="667" y="0"/>
                  </a:lnTo>
                  <a:lnTo>
                    <a:pt x="635" y="0"/>
                  </a:lnTo>
                  <a:lnTo>
                    <a:pt x="593" y="0"/>
                  </a:lnTo>
                  <a:lnTo>
                    <a:pt x="562" y="0"/>
                  </a:lnTo>
                  <a:lnTo>
                    <a:pt x="530" y="11"/>
                  </a:lnTo>
                  <a:lnTo>
                    <a:pt x="498" y="11"/>
                  </a:lnTo>
                  <a:lnTo>
                    <a:pt x="467" y="11"/>
                  </a:lnTo>
                  <a:lnTo>
                    <a:pt x="435" y="11"/>
                  </a:lnTo>
                  <a:lnTo>
                    <a:pt x="404" y="11"/>
                  </a:lnTo>
                  <a:lnTo>
                    <a:pt x="372" y="11"/>
                  </a:lnTo>
                  <a:lnTo>
                    <a:pt x="341" y="11"/>
                  </a:lnTo>
                  <a:lnTo>
                    <a:pt x="309" y="11"/>
                  </a:lnTo>
                  <a:lnTo>
                    <a:pt x="267" y="11"/>
                  </a:lnTo>
                  <a:lnTo>
                    <a:pt x="225" y="11"/>
                  </a:lnTo>
                  <a:lnTo>
                    <a:pt x="193" y="11"/>
                  </a:lnTo>
                  <a:lnTo>
                    <a:pt x="162" y="21"/>
                  </a:lnTo>
                  <a:lnTo>
                    <a:pt x="130" y="32"/>
                  </a:lnTo>
                  <a:lnTo>
                    <a:pt x="99" y="42"/>
                  </a:lnTo>
                  <a:lnTo>
                    <a:pt x="67" y="64"/>
                  </a:lnTo>
                  <a:lnTo>
                    <a:pt x="35" y="85"/>
                  </a:lnTo>
                  <a:lnTo>
                    <a:pt x="25" y="116"/>
                  </a:lnTo>
                  <a:lnTo>
                    <a:pt x="48" y="106"/>
                  </a:lnTo>
                </a:path>
              </a:pathLst>
            </a:custGeom>
            <a:noFill/>
            <a:ln cap="rnd" w="254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Arc 42"/>
            <p:cNvSpPr/>
            <p:nvPr/>
          </p:nvSpPr>
          <p:spPr>
            <a:xfrm>
              <a:off x="5484960" y="4114800"/>
              <a:ext cx="2287080" cy="1218960"/>
            </a:xfrm>
            <a:custGeom>
              <a:avLst/>
              <a:gdLst>
                <a:gd name="textAreaLeft" fmla="*/ 0 w 2287080"/>
                <a:gd name="textAreaRight" fmla="*/ 2287440 w 22870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fill="none" w="21615" h="21600">
                  <a:moveTo>
                    <a:pt x="0" y="0"/>
                  </a:moveTo>
                  <a:cubicBezTo>
                    <a:pt x="5" y="0"/>
                    <a:pt x="10" y="-1"/>
                    <a:pt x="15" y="0"/>
                  </a:cubicBezTo>
                  <a:cubicBezTo>
                    <a:pt x="11944" y="0"/>
                    <a:pt x="21615" y="9670"/>
                    <a:pt x="21615" y="21600"/>
                  </a:cubicBezTo>
                </a:path>
                <a:path stroke="0" w="21615" h="21600">
                  <a:moveTo>
                    <a:pt x="0" y="0"/>
                  </a:moveTo>
                  <a:cubicBezTo>
                    <a:pt x="5" y="0"/>
                    <a:pt x="10" y="-1"/>
                    <a:pt x="15" y="0"/>
                  </a:cubicBezTo>
                  <a:cubicBezTo>
                    <a:pt x="11944" y="0"/>
                    <a:pt x="21615" y="9670"/>
                    <a:pt x="21615" y="21600"/>
                  </a:cubicBezTo>
                  <a:lnTo>
                    <a:pt x="15" y="21600"/>
                  </a:lnTo>
                  <a:close/>
                </a:path>
              </a:pathLst>
            </a:custGeom>
            <a:noFill/>
            <a:ln cap="rnd" w="12700">
              <a:solidFill>
                <a:srgbClr val="1f497d">
                  <a:lumMod val="60000"/>
                  <a:lumOff val="40000"/>
                </a:srgbClr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  <p:sp>
          <p:nvSpPr>
            <p:cNvPr id="364" name="Line 43"/>
            <p:cNvSpPr/>
            <p:nvPr/>
          </p:nvSpPr>
          <p:spPr>
            <a:xfrm flipV="1">
              <a:off x="2590560" y="3962160"/>
              <a:ext cx="2210040" cy="609840"/>
            </a:xfrm>
            <a:prstGeom prst="line">
              <a:avLst/>
            </a:prstGeom>
            <a:ln w="12700">
              <a:solidFill>
                <a:srgbClr val="ff00cc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5" name="Rectangle 45"/>
          <p:cNvSpPr/>
          <p:nvPr/>
        </p:nvSpPr>
        <p:spPr>
          <a:xfrm flipH="1">
            <a:off x="8379000" y="6532560"/>
            <a:ext cx="763200" cy="32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bilateral cleft lip"/>
          <p:cNvPicPr/>
          <p:nvPr/>
        </p:nvPicPr>
        <p:blipFill>
          <a:blip r:embed="rId1"/>
          <a:stretch/>
        </p:blipFill>
        <p:spPr>
          <a:xfrm>
            <a:off x="4572000" y="228600"/>
            <a:ext cx="4571640" cy="38095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median cleft of upper lip"/>
          <p:cNvPicPr/>
          <p:nvPr/>
        </p:nvPicPr>
        <p:blipFill>
          <a:blip r:embed="rId2"/>
          <a:stretch/>
        </p:blipFill>
        <p:spPr>
          <a:xfrm>
            <a:off x="0" y="0"/>
            <a:ext cx="4495320" cy="426672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8"/>
          <p:cNvSpPr/>
          <p:nvPr/>
        </p:nvSpPr>
        <p:spPr>
          <a:xfrm>
            <a:off x="457200" y="4716360"/>
            <a:ext cx="2971440" cy="126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ft Upper 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lip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4952880" y="4572000"/>
            <a:ext cx="396216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ateral Facial clefts and bilateral cleft 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development palate2"/>
          <p:cNvPicPr/>
          <p:nvPr/>
        </p:nvPicPr>
        <p:blipFill>
          <a:blip r:embed="rId1"/>
          <a:stretch/>
        </p:blipFill>
        <p:spPr>
          <a:xfrm>
            <a:off x="0" y="1905120"/>
            <a:ext cx="9143640" cy="4952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2"/>
          <p:cNvSpPr/>
          <p:nvPr/>
        </p:nvSpPr>
        <p:spPr>
          <a:xfrm>
            <a:off x="990720" y="228600"/>
            <a:ext cx="69339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chemeClr val="accent2"/>
                </a:solidFill>
                <a:latin typeface="Arial"/>
              </a:rPr>
              <a:t>PALAT</a:t>
            </a:r>
            <a:r>
              <a:rPr b="1" lang="en-US" sz="3200" spc="-1" strike="noStrike">
                <a:solidFill>
                  <a:schemeClr val="accent2"/>
                </a:solidFill>
                <a:latin typeface="Arial"/>
              </a:rPr>
              <a:t>E</a:t>
            </a:r>
            <a:r>
              <a:rPr b="1" lang="ru-RU" sz="32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chemeClr val="accent2"/>
                </a:solidFill>
                <a:latin typeface="Arial"/>
              </a:rPr>
              <a:t>developes by fushion of maxillar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040" cy="289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CROMORPHOLOGY AND EMBRYOLOGY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F THE ORAL CA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304920" y="0"/>
            <a:ext cx="8152920" cy="53640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>
              <a:lnSpc>
                <a:spcPct val="100000"/>
              </a:lnSpc>
              <a:spcBef>
                <a:spcPts val="1451"/>
              </a:spcBef>
            </a:pPr>
            <a:r>
              <a:rPr b="1" lang="ru-RU" sz="2900" spc="-1" strike="noStrike">
                <a:solidFill>
                  <a:schemeClr val="accent2"/>
                </a:solidFill>
                <a:latin typeface="Arial"/>
              </a:rPr>
              <a:t>PALATAL DEFECTS  I: Partial failures to fuse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 flipH="1">
            <a:off x="6093720" y="987480"/>
            <a:ext cx="2287080" cy="62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UNILATERAL CLEFT 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 flipH="1">
            <a:off x="5492880" y="5946840"/>
            <a:ext cx="2653920" cy="38376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1800" spc="-1" strike="noStrike">
                <a:solidFill>
                  <a:srgbClr val="ff9999"/>
                </a:solidFill>
                <a:latin typeface="Arial"/>
              </a:rPr>
              <a:t>Lateral palatines</a:t>
            </a:r>
            <a:r>
              <a:rPr b="1" lang="ru-RU" sz="2000" spc="-1" strike="noStrike">
                <a:solidFill>
                  <a:schemeClr val="hlink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 useBgFill="1">
        <p:nvSpPr>
          <p:cNvPr id="375" name="Rectangle 5"/>
          <p:cNvSpPr/>
          <p:nvPr/>
        </p:nvSpPr>
        <p:spPr>
          <a:xfrm flipH="1">
            <a:off x="5415840" y="1833480"/>
            <a:ext cx="3719160" cy="356760"/>
          </a:xfrm>
          <a:prstGeom prst="rect">
            <a:avLst/>
          </a:prstGeom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ru-RU" sz="1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 flipH="1">
            <a:off x="5715000" y="5102280"/>
            <a:ext cx="2895120" cy="35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chemeClr val="hlink"/>
                </a:solidFill>
                <a:latin typeface="Arial"/>
              </a:rPr>
              <a:t>CLEFT UV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 flipH="1">
            <a:off x="4572000" y="1295280"/>
            <a:ext cx="1371600" cy="228600"/>
          </a:xfrm>
          <a:prstGeom prst="line">
            <a:avLst/>
          </a:prstGeom>
          <a:ln w="12700">
            <a:solidFill>
              <a:srgbClr val="f79646">
                <a:lumMod val="50000"/>
              </a:srgbClr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Group 12"/>
          <p:cNvGrpSpPr/>
          <p:nvPr/>
        </p:nvGrpSpPr>
        <p:grpSpPr>
          <a:xfrm>
            <a:off x="976320" y="787320"/>
            <a:ext cx="4084200" cy="4471560"/>
            <a:chOff x="976320" y="787320"/>
            <a:chExt cx="4084200" cy="4471560"/>
          </a:xfrm>
        </p:grpSpPr>
        <p:sp>
          <p:nvSpPr>
            <p:cNvPr id="379" name="Freeform 9"/>
            <p:cNvSpPr/>
            <p:nvPr/>
          </p:nvSpPr>
          <p:spPr>
            <a:xfrm>
              <a:off x="1523880" y="1600200"/>
              <a:ext cx="3201480" cy="3658680"/>
            </a:xfrm>
            <a:custGeom>
              <a:avLst/>
              <a:gdLst>
                <a:gd name="textAreaLeft" fmla="*/ 0 w 3201480"/>
                <a:gd name="textAreaRight" fmla="*/ 3201840 w 3201480"/>
                <a:gd name="textAreaTop" fmla="*/ 0 h 3658680"/>
                <a:gd name="textAreaBottom" fmla="*/ 3659040 h 3658680"/>
              </a:gdLst>
              <a:ahLst/>
              <a:rect l="textAreaLeft" t="textAreaTop" r="textAreaRight" b="textAreaBottom"/>
              <a:pathLst>
                <a:path w="2017" h="2305">
                  <a:moveTo>
                    <a:pt x="0" y="2304"/>
                  </a:moveTo>
                  <a:lnTo>
                    <a:pt x="48" y="2304"/>
                  </a:lnTo>
                  <a:lnTo>
                    <a:pt x="84" y="2304"/>
                  </a:lnTo>
                  <a:lnTo>
                    <a:pt x="120" y="2304"/>
                  </a:lnTo>
                  <a:lnTo>
                    <a:pt x="156" y="2292"/>
                  </a:lnTo>
                  <a:lnTo>
                    <a:pt x="192" y="2280"/>
                  </a:lnTo>
                  <a:lnTo>
                    <a:pt x="228" y="2280"/>
                  </a:lnTo>
                  <a:lnTo>
                    <a:pt x="276" y="2268"/>
                  </a:lnTo>
                  <a:lnTo>
                    <a:pt x="312" y="2244"/>
                  </a:lnTo>
                  <a:lnTo>
                    <a:pt x="348" y="2232"/>
                  </a:lnTo>
                  <a:lnTo>
                    <a:pt x="384" y="2232"/>
                  </a:lnTo>
                  <a:lnTo>
                    <a:pt x="420" y="2208"/>
                  </a:lnTo>
                  <a:lnTo>
                    <a:pt x="456" y="2196"/>
                  </a:lnTo>
                  <a:lnTo>
                    <a:pt x="492" y="2184"/>
                  </a:lnTo>
                  <a:lnTo>
                    <a:pt x="528" y="2172"/>
                  </a:lnTo>
                  <a:lnTo>
                    <a:pt x="564" y="2148"/>
                  </a:lnTo>
                  <a:lnTo>
                    <a:pt x="600" y="2136"/>
                  </a:lnTo>
                  <a:lnTo>
                    <a:pt x="636" y="2124"/>
                  </a:lnTo>
                  <a:lnTo>
                    <a:pt x="672" y="2112"/>
                  </a:lnTo>
                  <a:lnTo>
                    <a:pt x="708" y="2088"/>
                  </a:lnTo>
                  <a:lnTo>
                    <a:pt x="744" y="2064"/>
                  </a:lnTo>
                  <a:lnTo>
                    <a:pt x="780" y="2040"/>
                  </a:lnTo>
                  <a:lnTo>
                    <a:pt x="816" y="2016"/>
                  </a:lnTo>
                  <a:lnTo>
                    <a:pt x="852" y="2016"/>
                  </a:lnTo>
                  <a:lnTo>
                    <a:pt x="888" y="2052"/>
                  </a:lnTo>
                  <a:lnTo>
                    <a:pt x="912" y="2088"/>
                  </a:lnTo>
                  <a:lnTo>
                    <a:pt x="912" y="2124"/>
                  </a:lnTo>
                  <a:lnTo>
                    <a:pt x="924" y="2160"/>
                  </a:lnTo>
                  <a:lnTo>
                    <a:pt x="924" y="2196"/>
                  </a:lnTo>
                  <a:lnTo>
                    <a:pt x="960" y="2232"/>
                  </a:lnTo>
                  <a:lnTo>
                    <a:pt x="984" y="2268"/>
                  </a:lnTo>
                  <a:lnTo>
                    <a:pt x="1020" y="2280"/>
                  </a:lnTo>
                  <a:lnTo>
                    <a:pt x="1056" y="2280"/>
                  </a:lnTo>
                  <a:lnTo>
                    <a:pt x="1092" y="2280"/>
                  </a:lnTo>
                  <a:lnTo>
                    <a:pt x="1128" y="2280"/>
                  </a:lnTo>
                  <a:lnTo>
                    <a:pt x="1152" y="2244"/>
                  </a:lnTo>
                  <a:lnTo>
                    <a:pt x="1176" y="2208"/>
                  </a:lnTo>
                  <a:lnTo>
                    <a:pt x="1188" y="2172"/>
                  </a:lnTo>
                  <a:lnTo>
                    <a:pt x="1200" y="2136"/>
                  </a:lnTo>
                  <a:lnTo>
                    <a:pt x="1200" y="2100"/>
                  </a:lnTo>
                  <a:lnTo>
                    <a:pt x="1212" y="2064"/>
                  </a:lnTo>
                  <a:lnTo>
                    <a:pt x="1224" y="2028"/>
                  </a:lnTo>
                  <a:lnTo>
                    <a:pt x="1260" y="2016"/>
                  </a:lnTo>
                  <a:lnTo>
                    <a:pt x="1296" y="2016"/>
                  </a:lnTo>
                  <a:lnTo>
                    <a:pt x="1332" y="2016"/>
                  </a:lnTo>
                  <a:lnTo>
                    <a:pt x="1368" y="2040"/>
                  </a:lnTo>
                  <a:lnTo>
                    <a:pt x="1404" y="2064"/>
                  </a:lnTo>
                  <a:lnTo>
                    <a:pt x="1440" y="2100"/>
                  </a:lnTo>
                  <a:lnTo>
                    <a:pt x="1476" y="2124"/>
                  </a:lnTo>
                  <a:lnTo>
                    <a:pt x="1512" y="2148"/>
                  </a:lnTo>
                  <a:lnTo>
                    <a:pt x="1548" y="2172"/>
                  </a:lnTo>
                  <a:lnTo>
                    <a:pt x="1584" y="2184"/>
                  </a:lnTo>
                  <a:lnTo>
                    <a:pt x="1632" y="2220"/>
                  </a:lnTo>
                  <a:lnTo>
                    <a:pt x="1668" y="2232"/>
                  </a:lnTo>
                  <a:lnTo>
                    <a:pt x="1704" y="2256"/>
                  </a:lnTo>
                  <a:lnTo>
                    <a:pt x="1740" y="2256"/>
                  </a:lnTo>
                  <a:lnTo>
                    <a:pt x="1776" y="2268"/>
                  </a:lnTo>
                  <a:lnTo>
                    <a:pt x="1812" y="2280"/>
                  </a:lnTo>
                  <a:lnTo>
                    <a:pt x="1848" y="2280"/>
                  </a:lnTo>
                  <a:lnTo>
                    <a:pt x="1884" y="2292"/>
                  </a:lnTo>
                  <a:lnTo>
                    <a:pt x="1920" y="2304"/>
                  </a:lnTo>
                  <a:lnTo>
                    <a:pt x="1956" y="2304"/>
                  </a:lnTo>
                  <a:lnTo>
                    <a:pt x="1992" y="2304"/>
                  </a:lnTo>
                  <a:lnTo>
                    <a:pt x="2004" y="2268"/>
                  </a:lnTo>
                  <a:lnTo>
                    <a:pt x="2016" y="2232"/>
                  </a:lnTo>
                  <a:lnTo>
                    <a:pt x="2016" y="2196"/>
                  </a:lnTo>
                  <a:lnTo>
                    <a:pt x="2016" y="2160"/>
                  </a:lnTo>
                  <a:lnTo>
                    <a:pt x="2016" y="2124"/>
                  </a:lnTo>
                  <a:lnTo>
                    <a:pt x="2016" y="2088"/>
                  </a:lnTo>
                  <a:lnTo>
                    <a:pt x="2016" y="2052"/>
                  </a:lnTo>
                  <a:lnTo>
                    <a:pt x="2004" y="2016"/>
                  </a:lnTo>
                  <a:lnTo>
                    <a:pt x="1992" y="1980"/>
                  </a:lnTo>
                  <a:lnTo>
                    <a:pt x="1980" y="1944"/>
                  </a:lnTo>
                  <a:lnTo>
                    <a:pt x="1944" y="1932"/>
                  </a:lnTo>
                  <a:lnTo>
                    <a:pt x="1908" y="1908"/>
                  </a:lnTo>
                  <a:lnTo>
                    <a:pt x="1872" y="1896"/>
                  </a:lnTo>
                  <a:lnTo>
                    <a:pt x="1848" y="1860"/>
                  </a:lnTo>
                  <a:lnTo>
                    <a:pt x="1824" y="1824"/>
                  </a:lnTo>
                  <a:lnTo>
                    <a:pt x="1812" y="1788"/>
                  </a:lnTo>
                  <a:lnTo>
                    <a:pt x="1800" y="1752"/>
                  </a:lnTo>
                  <a:lnTo>
                    <a:pt x="1788" y="1716"/>
                  </a:lnTo>
                  <a:lnTo>
                    <a:pt x="1764" y="1680"/>
                  </a:lnTo>
                  <a:lnTo>
                    <a:pt x="1752" y="1644"/>
                  </a:lnTo>
                  <a:lnTo>
                    <a:pt x="1740" y="1608"/>
                  </a:lnTo>
                  <a:lnTo>
                    <a:pt x="1740" y="1572"/>
                  </a:lnTo>
                  <a:lnTo>
                    <a:pt x="1728" y="1536"/>
                  </a:lnTo>
                  <a:lnTo>
                    <a:pt x="1704" y="1500"/>
                  </a:lnTo>
                  <a:lnTo>
                    <a:pt x="1704" y="1464"/>
                  </a:lnTo>
                  <a:lnTo>
                    <a:pt x="1692" y="1428"/>
                  </a:lnTo>
                  <a:lnTo>
                    <a:pt x="1680" y="1380"/>
                  </a:lnTo>
                  <a:lnTo>
                    <a:pt x="1680" y="1332"/>
                  </a:lnTo>
                  <a:lnTo>
                    <a:pt x="1680" y="1296"/>
                  </a:lnTo>
                  <a:lnTo>
                    <a:pt x="1656" y="1260"/>
                  </a:lnTo>
                  <a:lnTo>
                    <a:pt x="1644" y="1224"/>
                  </a:lnTo>
                  <a:lnTo>
                    <a:pt x="1632" y="1188"/>
                  </a:lnTo>
                  <a:lnTo>
                    <a:pt x="1620" y="1152"/>
                  </a:lnTo>
                  <a:lnTo>
                    <a:pt x="1620" y="1056"/>
                  </a:lnTo>
                  <a:lnTo>
                    <a:pt x="1620" y="1020"/>
                  </a:lnTo>
                  <a:lnTo>
                    <a:pt x="1608" y="984"/>
                  </a:lnTo>
                  <a:lnTo>
                    <a:pt x="1596" y="948"/>
                  </a:lnTo>
                  <a:lnTo>
                    <a:pt x="1596" y="912"/>
                  </a:lnTo>
                  <a:lnTo>
                    <a:pt x="1584" y="876"/>
                  </a:lnTo>
                  <a:lnTo>
                    <a:pt x="1584" y="840"/>
                  </a:lnTo>
                  <a:lnTo>
                    <a:pt x="1584" y="804"/>
                  </a:lnTo>
                  <a:lnTo>
                    <a:pt x="1584" y="768"/>
                  </a:lnTo>
                  <a:lnTo>
                    <a:pt x="1584" y="732"/>
                  </a:lnTo>
                  <a:lnTo>
                    <a:pt x="1584" y="684"/>
                  </a:lnTo>
                  <a:lnTo>
                    <a:pt x="1584" y="648"/>
                  </a:lnTo>
                  <a:lnTo>
                    <a:pt x="1584" y="612"/>
                  </a:lnTo>
                  <a:lnTo>
                    <a:pt x="1584" y="576"/>
                  </a:lnTo>
                  <a:lnTo>
                    <a:pt x="1584" y="540"/>
                  </a:lnTo>
                  <a:lnTo>
                    <a:pt x="1584" y="504"/>
                  </a:lnTo>
                  <a:lnTo>
                    <a:pt x="1584" y="468"/>
                  </a:lnTo>
                  <a:lnTo>
                    <a:pt x="1584" y="432"/>
                  </a:lnTo>
                  <a:lnTo>
                    <a:pt x="1584" y="396"/>
                  </a:lnTo>
                  <a:lnTo>
                    <a:pt x="1560" y="360"/>
                  </a:lnTo>
                  <a:lnTo>
                    <a:pt x="1536" y="324"/>
                  </a:lnTo>
                  <a:lnTo>
                    <a:pt x="1512" y="288"/>
                  </a:lnTo>
                  <a:lnTo>
                    <a:pt x="1476" y="252"/>
                  </a:lnTo>
                  <a:lnTo>
                    <a:pt x="1440" y="228"/>
                  </a:lnTo>
                  <a:lnTo>
                    <a:pt x="1416" y="192"/>
                  </a:lnTo>
                  <a:lnTo>
                    <a:pt x="1380" y="168"/>
                  </a:lnTo>
                  <a:lnTo>
                    <a:pt x="1356" y="132"/>
                  </a:lnTo>
                  <a:lnTo>
                    <a:pt x="1320" y="120"/>
                  </a:lnTo>
                  <a:lnTo>
                    <a:pt x="1284" y="84"/>
                  </a:lnTo>
                  <a:lnTo>
                    <a:pt x="1260" y="48"/>
                  </a:lnTo>
                  <a:lnTo>
                    <a:pt x="1224" y="36"/>
                  </a:lnTo>
                  <a:lnTo>
                    <a:pt x="1188" y="0"/>
                  </a:lnTo>
                  <a:lnTo>
                    <a:pt x="1152" y="0"/>
                  </a:lnTo>
                  <a:lnTo>
                    <a:pt x="1116" y="0"/>
                  </a:lnTo>
                  <a:lnTo>
                    <a:pt x="1080" y="0"/>
                  </a:lnTo>
                  <a:lnTo>
                    <a:pt x="1044" y="0"/>
                  </a:lnTo>
                  <a:lnTo>
                    <a:pt x="1008" y="0"/>
                  </a:lnTo>
                  <a:lnTo>
                    <a:pt x="972" y="0"/>
                  </a:lnTo>
                  <a:lnTo>
                    <a:pt x="936" y="0"/>
                  </a:lnTo>
                  <a:lnTo>
                    <a:pt x="888" y="0"/>
                  </a:lnTo>
                  <a:lnTo>
                    <a:pt x="852" y="0"/>
                  </a:lnTo>
                  <a:lnTo>
                    <a:pt x="816" y="12"/>
                  </a:lnTo>
                  <a:lnTo>
                    <a:pt x="780" y="36"/>
                  </a:lnTo>
                  <a:lnTo>
                    <a:pt x="744" y="72"/>
                  </a:lnTo>
                  <a:lnTo>
                    <a:pt x="696" y="84"/>
                  </a:lnTo>
                  <a:lnTo>
                    <a:pt x="660" y="108"/>
                  </a:lnTo>
                  <a:lnTo>
                    <a:pt x="624" y="132"/>
                  </a:lnTo>
                  <a:lnTo>
                    <a:pt x="588" y="156"/>
                  </a:lnTo>
                  <a:lnTo>
                    <a:pt x="552" y="180"/>
                  </a:lnTo>
                  <a:lnTo>
                    <a:pt x="504" y="204"/>
                  </a:lnTo>
                  <a:lnTo>
                    <a:pt x="468" y="228"/>
                  </a:lnTo>
                  <a:lnTo>
                    <a:pt x="444" y="264"/>
                  </a:lnTo>
                  <a:lnTo>
                    <a:pt x="420" y="300"/>
                  </a:lnTo>
                  <a:lnTo>
                    <a:pt x="396" y="336"/>
                  </a:lnTo>
                  <a:lnTo>
                    <a:pt x="360" y="360"/>
                  </a:lnTo>
                  <a:lnTo>
                    <a:pt x="324" y="396"/>
                  </a:lnTo>
                  <a:lnTo>
                    <a:pt x="300" y="432"/>
                  </a:lnTo>
                  <a:lnTo>
                    <a:pt x="276" y="468"/>
                  </a:lnTo>
                  <a:lnTo>
                    <a:pt x="264" y="504"/>
                  </a:lnTo>
                  <a:lnTo>
                    <a:pt x="252" y="540"/>
                  </a:lnTo>
                  <a:lnTo>
                    <a:pt x="240" y="576"/>
                  </a:lnTo>
                  <a:lnTo>
                    <a:pt x="240" y="612"/>
                  </a:lnTo>
                  <a:lnTo>
                    <a:pt x="240" y="660"/>
                  </a:lnTo>
                  <a:lnTo>
                    <a:pt x="240" y="696"/>
                  </a:lnTo>
                  <a:lnTo>
                    <a:pt x="240" y="732"/>
                  </a:lnTo>
                  <a:lnTo>
                    <a:pt x="252" y="780"/>
                  </a:lnTo>
                  <a:lnTo>
                    <a:pt x="252" y="816"/>
                  </a:lnTo>
                  <a:lnTo>
                    <a:pt x="252" y="852"/>
                  </a:lnTo>
                  <a:lnTo>
                    <a:pt x="252" y="888"/>
                  </a:lnTo>
                  <a:lnTo>
                    <a:pt x="252" y="936"/>
                  </a:lnTo>
                  <a:lnTo>
                    <a:pt x="252" y="972"/>
                  </a:lnTo>
                  <a:lnTo>
                    <a:pt x="252" y="1044"/>
                  </a:lnTo>
                  <a:lnTo>
                    <a:pt x="252" y="1140"/>
                  </a:lnTo>
                  <a:lnTo>
                    <a:pt x="252" y="1176"/>
                  </a:lnTo>
                  <a:lnTo>
                    <a:pt x="252" y="1212"/>
                  </a:lnTo>
                  <a:lnTo>
                    <a:pt x="252" y="1248"/>
                  </a:lnTo>
                  <a:lnTo>
                    <a:pt x="252" y="1284"/>
                  </a:lnTo>
                  <a:lnTo>
                    <a:pt x="252" y="1320"/>
                  </a:lnTo>
                  <a:lnTo>
                    <a:pt x="252" y="1356"/>
                  </a:lnTo>
                  <a:lnTo>
                    <a:pt x="252" y="1392"/>
                  </a:lnTo>
                  <a:lnTo>
                    <a:pt x="252" y="1440"/>
                  </a:lnTo>
                  <a:lnTo>
                    <a:pt x="240" y="1476"/>
                  </a:lnTo>
                  <a:lnTo>
                    <a:pt x="216" y="1512"/>
                  </a:lnTo>
                  <a:lnTo>
                    <a:pt x="204" y="1548"/>
                  </a:lnTo>
                  <a:lnTo>
                    <a:pt x="180" y="1584"/>
                  </a:lnTo>
                  <a:lnTo>
                    <a:pt x="168" y="1620"/>
                  </a:lnTo>
                  <a:lnTo>
                    <a:pt x="156" y="1656"/>
                  </a:lnTo>
                  <a:lnTo>
                    <a:pt x="132" y="1752"/>
                  </a:lnTo>
                  <a:lnTo>
                    <a:pt x="108" y="1788"/>
                  </a:lnTo>
                  <a:lnTo>
                    <a:pt x="96" y="1824"/>
                  </a:lnTo>
                  <a:lnTo>
                    <a:pt x="72" y="1860"/>
                  </a:lnTo>
                  <a:lnTo>
                    <a:pt x="60" y="1896"/>
                  </a:lnTo>
                  <a:lnTo>
                    <a:pt x="36" y="1932"/>
                  </a:lnTo>
                  <a:lnTo>
                    <a:pt x="24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0" y="2112"/>
                  </a:lnTo>
                  <a:lnTo>
                    <a:pt x="0" y="2160"/>
                  </a:lnTo>
                  <a:lnTo>
                    <a:pt x="0" y="2196"/>
                  </a:lnTo>
                  <a:lnTo>
                    <a:pt x="0" y="2232"/>
                  </a:lnTo>
                  <a:lnTo>
                    <a:pt x="0" y="2304"/>
                  </a:lnTo>
                  <a:lnTo>
                    <a:pt x="0" y="2304"/>
                  </a:lnTo>
                </a:path>
              </a:pathLst>
            </a:custGeom>
            <a:pattFill prst="wdUpDiag">
              <a:fgClr>
                <a:srgbClr val="ff5050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0"/>
            <p:cNvSpPr/>
            <p:nvPr/>
          </p:nvSpPr>
          <p:spPr>
            <a:xfrm>
              <a:off x="976320" y="787320"/>
              <a:ext cx="4084200" cy="1576080"/>
            </a:xfrm>
            <a:custGeom>
              <a:avLst/>
              <a:gdLst>
                <a:gd name="textAreaLeft" fmla="*/ 0 w 4084200"/>
                <a:gd name="textAreaRight" fmla="*/ 4084560 w 4084200"/>
                <a:gd name="textAreaTop" fmla="*/ 0 h 1576080"/>
                <a:gd name="textAreaBottom" fmla="*/ 1576440 h 1576080"/>
              </a:gdLst>
              <a:ahLst/>
              <a:rect l="textAreaLeft" t="textAreaTop" r="textAreaRight" b="textAreaBottom"/>
              <a:pathLst>
                <a:path w="2573" h="993">
                  <a:moveTo>
                    <a:pt x="0" y="721"/>
                  </a:moveTo>
                  <a:lnTo>
                    <a:pt x="56" y="655"/>
                  </a:lnTo>
                  <a:lnTo>
                    <a:pt x="102" y="608"/>
                  </a:lnTo>
                  <a:lnTo>
                    <a:pt x="146" y="576"/>
                  </a:lnTo>
                  <a:lnTo>
                    <a:pt x="192" y="544"/>
                  </a:lnTo>
                  <a:lnTo>
                    <a:pt x="223" y="496"/>
                  </a:lnTo>
                  <a:lnTo>
                    <a:pt x="267" y="464"/>
                  </a:lnTo>
                  <a:lnTo>
                    <a:pt x="313" y="415"/>
                  </a:lnTo>
                  <a:lnTo>
                    <a:pt x="344" y="368"/>
                  </a:lnTo>
                  <a:lnTo>
                    <a:pt x="390" y="351"/>
                  </a:lnTo>
                  <a:lnTo>
                    <a:pt x="434" y="336"/>
                  </a:lnTo>
                  <a:lnTo>
                    <a:pt x="480" y="304"/>
                  </a:lnTo>
                  <a:lnTo>
                    <a:pt x="525" y="272"/>
                  </a:lnTo>
                  <a:lnTo>
                    <a:pt x="571" y="240"/>
                  </a:lnTo>
                  <a:lnTo>
                    <a:pt x="616" y="208"/>
                  </a:lnTo>
                  <a:lnTo>
                    <a:pt x="662" y="176"/>
                  </a:lnTo>
                  <a:lnTo>
                    <a:pt x="692" y="143"/>
                  </a:lnTo>
                  <a:lnTo>
                    <a:pt x="738" y="111"/>
                  </a:lnTo>
                  <a:lnTo>
                    <a:pt x="783" y="95"/>
                  </a:lnTo>
                  <a:lnTo>
                    <a:pt x="829" y="79"/>
                  </a:lnTo>
                  <a:lnTo>
                    <a:pt x="874" y="63"/>
                  </a:lnTo>
                  <a:lnTo>
                    <a:pt x="920" y="47"/>
                  </a:lnTo>
                  <a:lnTo>
                    <a:pt x="980" y="31"/>
                  </a:lnTo>
                  <a:lnTo>
                    <a:pt x="1026" y="15"/>
                  </a:lnTo>
                  <a:lnTo>
                    <a:pt x="1071" y="15"/>
                  </a:lnTo>
                  <a:lnTo>
                    <a:pt x="1117" y="0"/>
                  </a:lnTo>
                  <a:lnTo>
                    <a:pt x="1162" y="0"/>
                  </a:lnTo>
                  <a:lnTo>
                    <a:pt x="1222" y="0"/>
                  </a:lnTo>
                  <a:lnTo>
                    <a:pt x="1268" y="0"/>
                  </a:lnTo>
                  <a:lnTo>
                    <a:pt x="1314" y="0"/>
                  </a:lnTo>
                  <a:lnTo>
                    <a:pt x="1359" y="0"/>
                  </a:lnTo>
                  <a:lnTo>
                    <a:pt x="1405" y="0"/>
                  </a:lnTo>
                  <a:lnTo>
                    <a:pt x="1450" y="0"/>
                  </a:lnTo>
                  <a:lnTo>
                    <a:pt x="1496" y="15"/>
                  </a:lnTo>
                  <a:lnTo>
                    <a:pt x="1540" y="31"/>
                  </a:lnTo>
                  <a:lnTo>
                    <a:pt x="1586" y="63"/>
                  </a:lnTo>
                  <a:lnTo>
                    <a:pt x="1647" y="111"/>
                  </a:lnTo>
                  <a:lnTo>
                    <a:pt x="1707" y="143"/>
                  </a:lnTo>
                  <a:lnTo>
                    <a:pt x="1738" y="176"/>
                  </a:lnTo>
                  <a:lnTo>
                    <a:pt x="1784" y="191"/>
                  </a:lnTo>
                  <a:lnTo>
                    <a:pt x="1828" y="208"/>
                  </a:lnTo>
                  <a:lnTo>
                    <a:pt x="1874" y="240"/>
                  </a:lnTo>
                  <a:lnTo>
                    <a:pt x="1919" y="272"/>
                  </a:lnTo>
                  <a:lnTo>
                    <a:pt x="1951" y="287"/>
                  </a:lnTo>
                  <a:lnTo>
                    <a:pt x="1995" y="304"/>
                  </a:lnTo>
                  <a:lnTo>
                    <a:pt x="2042" y="336"/>
                  </a:lnTo>
                  <a:lnTo>
                    <a:pt x="2086" y="368"/>
                  </a:lnTo>
                  <a:lnTo>
                    <a:pt x="2132" y="400"/>
                  </a:lnTo>
                  <a:lnTo>
                    <a:pt x="2193" y="447"/>
                  </a:lnTo>
                  <a:lnTo>
                    <a:pt x="2223" y="480"/>
                  </a:lnTo>
                  <a:lnTo>
                    <a:pt x="2269" y="512"/>
                  </a:lnTo>
                  <a:lnTo>
                    <a:pt x="2314" y="544"/>
                  </a:lnTo>
                  <a:lnTo>
                    <a:pt x="2360" y="576"/>
                  </a:lnTo>
                  <a:lnTo>
                    <a:pt x="2404" y="623"/>
                  </a:lnTo>
                  <a:lnTo>
                    <a:pt x="2451" y="640"/>
                  </a:lnTo>
                  <a:lnTo>
                    <a:pt x="2495" y="687"/>
                  </a:lnTo>
                  <a:lnTo>
                    <a:pt x="2541" y="719"/>
                  </a:lnTo>
                  <a:lnTo>
                    <a:pt x="2572" y="753"/>
                  </a:lnTo>
                  <a:lnTo>
                    <a:pt x="2525" y="768"/>
                  </a:lnTo>
                  <a:lnTo>
                    <a:pt x="2481" y="768"/>
                  </a:lnTo>
                  <a:lnTo>
                    <a:pt x="2435" y="768"/>
                  </a:lnTo>
                  <a:lnTo>
                    <a:pt x="2390" y="768"/>
                  </a:lnTo>
                  <a:lnTo>
                    <a:pt x="2374" y="817"/>
                  </a:lnTo>
                  <a:lnTo>
                    <a:pt x="2360" y="864"/>
                  </a:lnTo>
                  <a:lnTo>
                    <a:pt x="2344" y="912"/>
                  </a:lnTo>
                  <a:lnTo>
                    <a:pt x="2344" y="960"/>
                  </a:lnTo>
                  <a:lnTo>
                    <a:pt x="2299" y="928"/>
                  </a:lnTo>
                  <a:lnTo>
                    <a:pt x="2283" y="880"/>
                  </a:lnTo>
                  <a:lnTo>
                    <a:pt x="2253" y="832"/>
                  </a:lnTo>
                  <a:lnTo>
                    <a:pt x="2207" y="800"/>
                  </a:lnTo>
                  <a:lnTo>
                    <a:pt x="2163" y="753"/>
                  </a:lnTo>
                  <a:lnTo>
                    <a:pt x="2132" y="719"/>
                  </a:lnTo>
                  <a:lnTo>
                    <a:pt x="2086" y="687"/>
                  </a:lnTo>
                  <a:lnTo>
                    <a:pt x="2056" y="640"/>
                  </a:lnTo>
                  <a:lnTo>
                    <a:pt x="2011" y="608"/>
                  </a:lnTo>
                  <a:lnTo>
                    <a:pt x="1965" y="576"/>
                  </a:lnTo>
                  <a:lnTo>
                    <a:pt x="1919" y="544"/>
                  </a:lnTo>
                  <a:lnTo>
                    <a:pt x="1874" y="496"/>
                  </a:lnTo>
                  <a:lnTo>
                    <a:pt x="1828" y="464"/>
                  </a:lnTo>
                  <a:lnTo>
                    <a:pt x="1784" y="432"/>
                  </a:lnTo>
                  <a:lnTo>
                    <a:pt x="1738" y="400"/>
                  </a:lnTo>
                  <a:lnTo>
                    <a:pt x="1707" y="351"/>
                  </a:lnTo>
                  <a:lnTo>
                    <a:pt x="1663" y="336"/>
                  </a:lnTo>
                  <a:lnTo>
                    <a:pt x="1617" y="319"/>
                  </a:lnTo>
                  <a:lnTo>
                    <a:pt x="1571" y="287"/>
                  </a:lnTo>
                  <a:lnTo>
                    <a:pt x="1526" y="287"/>
                  </a:lnTo>
                  <a:lnTo>
                    <a:pt x="1480" y="272"/>
                  </a:lnTo>
                  <a:lnTo>
                    <a:pt x="1435" y="255"/>
                  </a:lnTo>
                  <a:lnTo>
                    <a:pt x="1389" y="255"/>
                  </a:lnTo>
                  <a:lnTo>
                    <a:pt x="1345" y="240"/>
                  </a:lnTo>
                  <a:lnTo>
                    <a:pt x="1298" y="240"/>
                  </a:lnTo>
                  <a:lnTo>
                    <a:pt x="1252" y="240"/>
                  </a:lnTo>
                  <a:lnTo>
                    <a:pt x="1208" y="240"/>
                  </a:lnTo>
                  <a:lnTo>
                    <a:pt x="1162" y="272"/>
                  </a:lnTo>
                  <a:lnTo>
                    <a:pt x="1117" y="287"/>
                  </a:lnTo>
                  <a:lnTo>
                    <a:pt x="1071" y="287"/>
                  </a:lnTo>
                  <a:lnTo>
                    <a:pt x="1026" y="304"/>
                  </a:lnTo>
                  <a:lnTo>
                    <a:pt x="980" y="319"/>
                  </a:lnTo>
                  <a:lnTo>
                    <a:pt x="934" y="336"/>
                  </a:lnTo>
                  <a:lnTo>
                    <a:pt x="889" y="368"/>
                  </a:lnTo>
                  <a:lnTo>
                    <a:pt x="843" y="400"/>
                  </a:lnTo>
                  <a:lnTo>
                    <a:pt x="799" y="432"/>
                  </a:lnTo>
                  <a:lnTo>
                    <a:pt x="753" y="464"/>
                  </a:lnTo>
                  <a:lnTo>
                    <a:pt x="708" y="496"/>
                  </a:lnTo>
                  <a:lnTo>
                    <a:pt x="678" y="544"/>
                  </a:lnTo>
                  <a:lnTo>
                    <a:pt x="646" y="576"/>
                  </a:lnTo>
                  <a:lnTo>
                    <a:pt x="632" y="623"/>
                  </a:lnTo>
                  <a:lnTo>
                    <a:pt x="586" y="655"/>
                  </a:lnTo>
                  <a:lnTo>
                    <a:pt x="541" y="687"/>
                  </a:lnTo>
                  <a:lnTo>
                    <a:pt x="495" y="736"/>
                  </a:lnTo>
                  <a:lnTo>
                    <a:pt x="450" y="785"/>
                  </a:lnTo>
                  <a:lnTo>
                    <a:pt x="404" y="800"/>
                  </a:lnTo>
                  <a:lnTo>
                    <a:pt x="390" y="848"/>
                  </a:lnTo>
                  <a:lnTo>
                    <a:pt x="344" y="896"/>
                  </a:lnTo>
                  <a:lnTo>
                    <a:pt x="328" y="944"/>
                  </a:lnTo>
                  <a:lnTo>
                    <a:pt x="283" y="992"/>
                  </a:lnTo>
                  <a:lnTo>
                    <a:pt x="267" y="944"/>
                  </a:lnTo>
                  <a:lnTo>
                    <a:pt x="267" y="896"/>
                  </a:lnTo>
                  <a:lnTo>
                    <a:pt x="267" y="848"/>
                  </a:lnTo>
                  <a:lnTo>
                    <a:pt x="253" y="800"/>
                  </a:lnTo>
                  <a:lnTo>
                    <a:pt x="223" y="753"/>
                  </a:lnTo>
                  <a:lnTo>
                    <a:pt x="177" y="736"/>
                  </a:lnTo>
                  <a:lnTo>
                    <a:pt x="132" y="719"/>
                  </a:lnTo>
                  <a:lnTo>
                    <a:pt x="86" y="719"/>
                  </a:lnTo>
                  <a:lnTo>
                    <a:pt x="0" y="721"/>
                  </a:lnTo>
                  <a:lnTo>
                    <a:pt x="0" y="721"/>
                  </a:lnTo>
                </a:path>
              </a:pathLst>
            </a:custGeom>
            <a:pattFill prst="horz">
              <a:fgClr>
                <a:srgbClr val="ff5050"/>
              </a:fgClr>
              <a:bgClr>
                <a:srgbClr val="eeece1"/>
              </a:bgClr>
            </a:patt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>
              <a:off x="1428840" y="1162080"/>
              <a:ext cx="3277800" cy="3544560"/>
            </a:xfrm>
            <a:custGeom>
              <a:avLst/>
              <a:gdLst>
                <a:gd name="textAreaLeft" fmla="*/ 0 w 3277800"/>
                <a:gd name="textAreaRight" fmla="*/ 3278160 w 327780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065" h="2233">
                  <a:moveTo>
                    <a:pt x="60" y="2196"/>
                  </a:moveTo>
                  <a:lnTo>
                    <a:pt x="72" y="2148"/>
                  </a:lnTo>
                  <a:lnTo>
                    <a:pt x="72" y="2112"/>
                  </a:lnTo>
                  <a:lnTo>
                    <a:pt x="72" y="2076"/>
                  </a:lnTo>
                  <a:lnTo>
                    <a:pt x="72" y="2040"/>
                  </a:lnTo>
                  <a:lnTo>
                    <a:pt x="72" y="2004"/>
                  </a:lnTo>
                  <a:lnTo>
                    <a:pt x="72" y="1968"/>
                  </a:lnTo>
                  <a:lnTo>
                    <a:pt x="72" y="1920"/>
                  </a:lnTo>
                  <a:lnTo>
                    <a:pt x="72" y="1872"/>
                  </a:lnTo>
                  <a:lnTo>
                    <a:pt x="72" y="1824"/>
                  </a:lnTo>
                  <a:lnTo>
                    <a:pt x="60" y="1788"/>
                  </a:lnTo>
                  <a:lnTo>
                    <a:pt x="60" y="1752"/>
                  </a:lnTo>
                  <a:lnTo>
                    <a:pt x="48" y="1716"/>
                  </a:lnTo>
                  <a:lnTo>
                    <a:pt x="48" y="1680"/>
                  </a:lnTo>
                  <a:lnTo>
                    <a:pt x="36" y="1644"/>
                  </a:lnTo>
                  <a:lnTo>
                    <a:pt x="36" y="1608"/>
                  </a:lnTo>
                  <a:lnTo>
                    <a:pt x="24" y="1524"/>
                  </a:lnTo>
                  <a:lnTo>
                    <a:pt x="12" y="1476"/>
                  </a:lnTo>
                  <a:lnTo>
                    <a:pt x="12" y="1428"/>
                  </a:lnTo>
                  <a:lnTo>
                    <a:pt x="12" y="1392"/>
                  </a:lnTo>
                  <a:lnTo>
                    <a:pt x="12" y="1356"/>
                  </a:lnTo>
                  <a:lnTo>
                    <a:pt x="12" y="1320"/>
                  </a:lnTo>
                  <a:lnTo>
                    <a:pt x="12" y="1284"/>
                  </a:lnTo>
                  <a:lnTo>
                    <a:pt x="12" y="1248"/>
                  </a:lnTo>
                  <a:lnTo>
                    <a:pt x="12" y="1152"/>
                  </a:lnTo>
                  <a:lnTo>
                    <a:pt x="12" y="1116"/>
                  </a:lnTo>
                  <a:lnTo>
                    <a:pt x="12" y="1080"/>
                  </a:lnTo>
                  <a:lnTo>
                    <a:pt x="12" y="1044"/>
                  </a:lnTo>
                  <a:lnTo>
                    <a:pt x="12" y="1008"/>
                  </a:lnTo>
                  <a:lnTo>
                    <a:pt x="12" y="972"/>
                  </a:lnTo>
                  <a:lnTo>
                    <a:pt x="12" y="936"/>
                  </a:lnTo>
                  <a:lnTo>
                    <a:pt x="12" y="900"/>
                  </a:lnTo>
                  <a:lnTo>
                    <a:pt x="0" y="864"/>
                  </a:lnTo>
                  <a:lnTo>
                    <a:pt x="0" y="828"/>
                  </a:lnTo>
                  <a:lnTo>
                    <a:pt x="0" y="792"/>
                  </a:lnTo>
                  <a:lnTo>
                    <a:pt x="0" y="756"/>
                  </a:lnTo>
                  <a:lnTo>
                    <a:pt x="0" y="720"/>
                  </a:lnTo>
                  <a:lnTo>
                    <a:pt x="12" y="684"/>
                  </a:lnTo>
                  <a:lnTo>
                    <a:pt x="48" y="660"/>
                  </a:lnTo>
                  <a:lnTo>
                    <a:pt x="84" y="636"/>
                  </a:lnTo>
                  <a:lnTo>
                    <a:pt x="108" y="600"/>
                  </a:lnTo>
                  <a:lnTo>
                    <a:pt x="132" y="564"/>
                  </a:lnTo>
                  <a:lnTo>
                    <a:pt x="168" y="528"/>
                  </a:lnTo>
                  <a:lnTo>
                    <a:pt x="180" y="492"/>
                  </a:lnTo>
                  <a:lnTo>
                    <a:pt x="216" y="468"/>
                  </a:lnTo>
                  <a:lnTo>
                    <a:pt x="228" y="432"/>
                  </a:lnTo>
                  <a:lnTo>
                    <a:pt x="264" y="420"/>
                  </a:lnTo>
                  <a:lnTo>
                    <a:pt x="300" y="396"/>
                  </a:lnTo>
                  <a:lnTo>
                    <a:pt x="336" y="372"/>
                  </a:lnTo>
                  <a:lnTo>
                    <a:pt x="360" y="336"/>
                  </a:lnTo>
                  <a:lnTo>
                    <a:pt x="384" y="300"/>
                  </a:lnTo>
                  <a:lnTo>
                    <a:pt x="408" y="264"/>
                  </a:lnTo>
                  <a:lnTo>
                    <a:pt x="444" y="240"/>
                  </a:lnTo>
                  <a:lnTo>
                    <a:pt x="480" y="216"/>
                  </a:lnTo>
                  <a:lnTo>
                    <a:pt x="516" y="180"/>
                  </a:lnTo>
                  <a:lnTo>
                    <a:pt x="552" y="156"/>
                  </a:lnTo>
                  <a:lnTo>
                    <a:pt x="588" y="132"/>
                  </a:lnTo>
                  <a:lnTo>
                    <a:pt x="624" y="108"/>
                  </a:lnTo>
                  <a:lnTo>
                    <a:pt x="660" y="96"/>
                  </a:lnTo>
                  <a:lnTo>
                    <a:pt x="696" y="72"/>
                  </a:lnTo>
                  <a:lnTo>
                    <a:pt x="732" y="60"/>
                  </a:lnTo>
                  <a:lnTo>
                    <a:pt x="768" y="24"/>
                  </a:lnTo>
                  <a:lnTo>
                    <a:pt x="804" y="0"/>
                  </a:lnTo>
                  <a:lnTo>
                    <a:pt x="840" y="0"/>
                  </a:lnTo>
                  <a:lnTo>
                    <a:pt x="876" y="0"/>
                  </a:lnTo>
                  <a:lnTo>
                    <a:pt x="924" y="0"/>
                  </a:lnTo>
                  <a:lnTo>
                    <a:pt x="960" y="0"/>
                  </a:lnTo>
                  <a:lnTo>
                    <a:pt x="996" y="0"/>
                  </a:lnTo>
                  <a:lnTo>
                    <a:pt x="1032" y="0"/>
                  </a:lnTo>
                  <a:lnTo>
                    <a:pt x="1068" y="0"/>
                  </a:lnTo>
                  <a:lnTo>
                    <a:pt x="1104" y="0"/>
                  </a:lnTo>
                  <a:lnTo>
                    <a:pt x="1140" y="0"/>
                  </a:lnTo>
                  <a:lnTo>
                    <a:pt x="1176" y="0"/>
                  </a:lnTo>
                  <a:lnTo>
                    <a:pt x="1212" y="12"/>
                  </a:lnTo>
                  <a:lnTo>
                    <a:pt x="1248" y="24"/>
                  </a:lnTo>
                  <a:lnTo>
                    <a:pt x="1284" y="48"/>
                  </a:lnTo>
                  <a:lnTo>
                    <a:pt x="1320" y="60"/>
                  </a:lnTo>
                  <a:lnTo>
                    <a:pt x="1356" y="72"/>
                  </a:lnTo>
                  <a:lnTo>
                    <a:pt x="1392" y="84"/>
                  </a:lnTo>
                  <a:lnTo>
                    <a:pt x="1428" y="108"/>
                  </a:lnTo>
                  <a:lnTo>
                    <a:pt x="1464" y="120"/>
                  </a:lnTo>
                  <a:lnTo>
                    <a:pt x="1500" y="132"/>
                  </a:lnTo>
                  <a:lnTo>
                    <a:pt x="1524" y="168"/>
                  </a:lnTo>
                  <a:lnTo>
                    <a:pt x="1548" y="204"/>
                  </a:lnTo>
                  <a:lnTo>
                    <a:pt x="1584" y="228"/>
                  </a:lnTo>
                  <a:lnTo>
                    <a:pt x="1620" y="264"/>
                  </a:lnTo>
                  <a:lnTo>
                    <a:pt x="1656" y="276"/>
                  </a:lnTo>
                  <a:lnTo>
                    <a:pt x="1680" y="312"/>
                  </a:lnTo>
                  <a:lnTo>
                    <a:pt x="1716" y="336"/>
                  </a:lnTo>
                  <a:lnTo>
                    <a:pt x="1752" y="360"/>
                  </a:lnTo>
                  <a:lnTo>
                    <a:pt x="1788" y="396"/>
                  </a:lnTo>
                  <a:lnTo>
                    <a:pt x="1824" y="420"/>
                  </a:lnTo>
                  <a:lnTo>
                    <a:pt x="1860" y="444"/>
                  </a:lnTo>
                  <a:lnTo>
                    <a:pt x="1884" y="480"/>
                  </a:lnTo>
                  <a:lnTo>
                    <a:pt x="1920" y="516"/>
                  </a:lnTo>
                  <a:lnTo>
                    <a:pt x="1956" y="540"/>
                  </a:lnTo>
                  <a:lnTo>
                    <a:pt x="1992" y="564"/>
                  </a:lnTo>
                  <a:lnTo>
                    <a:pt x="2028" y="600"/>
                  </a:lnTo>
                  <a:lnTo>
                    <a:pt x="2052" y="636"/>
                  </a:lnTo>
                  <a:lnTo>
                    <a:pt x="2064" y="672"/>
                  </a:lnTo>
                  <a:lnTo>
                    <a:pt x="2064" y="708"/>
                  </a:lnTo>
                  <a:lnTo>
                    <a:pt x="2064" y="744"/>
                  </a:lnTo>
                  <a:lnTo>
                    <a:pt x="2064" y="780"/>
                  </a:lnTo>
                  <a:lnTo>
                    <a:pt x="2064" y="828"/>
                  </a:lnTo>
                  <a:lnTo>
                    <a:pt x="2064" y="864"/>
                  </a:lnTo>
                  <a:lnTo>
                    <a:pt x="2064" y="900"/>
                  </a:lnTo>
                  <a:lnTo>
                    <a:pt x="2064" y="948"/>
                  </a:lnTo>
                  <a:lnTo>
                    <a:pt x="2064" y="984"/>
                  </a:lnTo>
                  <a:lnTo>
                    <a:pt x="2064" y="1020"/>
                  </a:lnTo>
                  <a:lnTo>
                    <a:pt x="2064" y="1068"/>
                  </a:lnTo>
                  <a:lnTo>
                    <a:pt x="2064" y="1116"/>
                  </a:lnTo>
                  <a:lnTo>
                    <a:pt x="2064" y="1152"/>
                  </a:lnTo>
                  <a:lnTo>
                    <a:pt x="2064" y="1200"/>
                  </a:lnTo>
                  <a:lnTo>
                    <a:pt x="2064" y="1236"/>
                  </a:lnTo>
                  <a:lnTo>
                    <a:pt x="2052" y="1272"/>
                  </a:lnTo>
                  <a:lnTo>
                    <a:pt x="2052" y="1320"/>
                  </a:lnTo>
                  <a:lnTo>
                    <a:pt x="2052" y="1356"/>
                  </a:lnTo>
                  <a:lnTo>
                    <a:pt x="2040" y="1392"/>
                  </a:lnTo>
                  <a:lnTo>
                    <a:pt x="2040" y="1440"/>
                  </a:lnTo>
                  <a:lnTo>
                    <a:pt x="2040" y="1488"/>
                  </a:lnTo>
                  <a:lnTo>
                    <a:pt x="2040" y="1560"/>
                  </a:lnTo>
                  <a:lnTo>
                    <a:pt x="2040" y="1656"/>
                  </a:lnTo>
                  <a:lnTo>
                    <a:pt x="2028" y="1692"/>
                  </a:lnTo>
                  <a:lnTo>
                    <a:pt x="2028" y="1728"/>
                  </a:lnTo>
                  <a:lnTo>
                    <a:pt x="2028" y="1764"/>
                  </a:lnTo>
                  <a:lnTo>
                    <a:pt x="2028" y="1812"/>
                  </a:lnTo>
                  <a:lnTo>
                    <a:pt x="2028" y="1860"/>
                  </a:lnTo>
                  <a:lnTo>
                    <a:pt x="2028" y="1908"/>
                  </a:lnTo>
                  <a:lnTo>
                    <a:pt x="2028" y="1944"/>
                  </a:lnTo>
                  <a:lnTo>
                    <a:pt x="2028" y="1980"/>
                  </a:lnTo>
                  <a:lnTo>
                    <a:pt x="2028" y="2028"/>
                  </a:lnTo>
                  <a:lnTo>
                    <a:pt x="2028" y="2064"/>
                  </a:lnTo>
                  <a:lnTo>
                    <a:pt x="2028" y="2100"/>
                  </a:lnTo>
                  <a:lnTo>
                    <a:pt x="2028" y="2148"/>
                  </a:lnTo>
                  <a:lnTo>
                    <a:pt x="2028" y="2184"/>
                  </a:lnTo>
                  <a:lnTo>
                    <a:pt x="1992" y="2208"/>
                  </a:lnTo>
                  <a:lnTo>
                    <a:pt x="1956" y="2184"/>
                  </a:lnTo>
                  <a:lnTo>
                    <a:pt x="1920" y="2148"/>
                  </a:lnTo>
                  <a:lnTo>
                    <a:pt x="1896" y="2112"/>
                  </a:lnTo>
                  <a:lnTo>
                    <a:pt x="1884" y="2076"/>
                  </a:lnTo>
                  <a:lnTo>
                    <a:pt x="1872" y="2040"/>
                  </a:lnTo>
                  <a:lnTo>
                    <a:pt x="1860" y="2004"/>
                  </a:lnTo>
                  <a:lnTo>
                    <a:pt x="1860" y="1968"/>
                  </a:lnTo>
                  <a:lnTo>
                    <a:pt x="1848" y="1932"/>
                  </a:lnTo>
                  <a:lnTo>
                    <a:pt x="1824" y="1896"/>
                  </a:lnTo>
                  <a:lnTo>
                    <a:pt x="1812" y="1860"/>
                  </a:lnTo>
                  <a:lnTo>
                    <a:pt x="1800" y="1824"/>
                  </a:lnTo>
                  <a:lnTo>
                    <a:pt x="1776" y="1788"/>
                  </a:lnTo>
                  <a:lnTo>
                    <a:pt x="1764" y="1752"/>
                  </a:lnTo>
                  <a:lnTo>
                    <a:pt x="1752" y="1716"/>
                  </a:lnTo>
                  <a:lnTo>
                    <a:pt x="1740" y="1680"/>
                  </a:lnTo>
                  <a:lnTo>
                    <a:pt x="1728" y="1644"/>
                  </a:lnTo>
                  <a:lnTo>
                    <a:pt x="1728" y="1608"/>
                  </a:lnTo>
                  <a:lnTo>
                    <a:pt x="1716" y="1560"/>
                  </a:lnTo>
                  <a:lnTo>
                    <a:pt x="1716" y="1512"/>
                  </a:lnTo>
                  <a:lnTo>
                    <a:pt x="1704" y="1476"/>
                  </a:lnTo>
                  <a:lnTo>
                    <a:pt x="1692" y="1440"/>
                  </a:lnTo>
                  <a:lnTo>
                    <a:pt x="1692" y="1404"/>
                  </a:lnTo>
                  <a:lnTo>
                    <a:pt x="1680" y="1368"/>
                  </a:lnTo>
                  <a:lnTo>
                    <a:pt x="1668" y="1332"/>
                  </a:lnTo>
                  <a:lnTo>
                    <a:pt x="1668" y="1296"/>
                  </a:lnTo>
                  <a:lnTo>
                    <a:pt x="1668" y="1260"/>
                  </a:lnTo>
                  <a:lnTo>
                    <a:pt x="1656" y="1224"/>
                  </a:lnTo>
                  <a:lnTo>
                    <a:pt x="1656" y="1188"/>
                  </a:lnTo>
                  <a:lnTo>
                    <a:pt x="1644" y="1152"/>
                  </a:lnTo>
                  <a:lnTo>
                    <a:pt x="1644" y="1116"/>
                  </a:lnTo>
                  <a:lnTo>
                    <a:pt x="1644" y="1080"/>
                  </a:lnTo>
                  <a:lnTo>
                    <a:pt x="1644" y="1044"/>
                  </a:lnTo>
                  <a:lnTo>
                    <a:pt x="1632" y="948"/>
                  </a:lnTo>
                  <a:lnTo>
                    <a:pt x="1632" y="900"/>
                  </a:lnTo>
                  <a:lnTo>
                    <a:pt x="1632" y="852"/>
                  </a:lnTo>
                  <a:lnTo>
                    <a:pt x="1632" y="816"/>
                  </a:lnTo>
                  <a:lnTo>
                    <a:pt x="1632" y="780"/>
                  </a:lnTo>
                  <a:lnTo>
                    <a:pt x="1632" y="744"/>
                  </a:lnTo>
                  <a:lnTo>
                    <a:pt x="1632" y="696"/>
                  </a:lnTo>
                  <a:lnTo>
                    <a:pt x="1632" y="660"/>
                  </a:lnTo>
                  <a:lnTo>
                    <a:pt x="1620" y="624"/>
                  </a:lnTo>
                  <a:lnTo>
                    <a:pt x="1596" y="588"/>
                  </a:lnTo>
                  <a:lnTo>
                    <a:pt x="1572" y="552"/>
                  </a:lnTo>
                  <a:lnTo>
                    <a:pt x="1536" y="528"/>
                  </a:lnTo>
                  <a:lnTo>
                    <a:pt x="1512" y="492"/>
                  </a:lnTo>
                  <a:lnTo>
                    <a:pt x="1476" y="456"/>
                  </a:lnTo>
                  <a:lnTo>
                    <a:pt x="1440" y="444"/>
                  </a:lnTo>
                  <a:lnTo>
                    <a:pt x="1404" y="408"/>
                  </a:lnTo>
                  <a:lnTo>
                    <a:pt x="1368" y="384"/>
                  </a:lnTo>
                  <a:lnTo>
                    <a:pt x="1332" y="360"/>
                  </a:lnTo>
                  <a:lnTo>
                    <a:pt x="1296" y="348"/>
                  </a:lnTo>
                  <a:lnTo>
                    <a:pt x="1260" y="324"/>
                  </a:lnTo>
                  <a:lnTo>
                    <a:pt x="1224" y="324"/>
                  </a:lnTo>
                  <a:lnTo>
                    <a:pt x="1188" y="312"/>
                  </a:lnTo>
                  <a:lnTo>
                    <a:pt x="1152" y="300"/>
                  </a:lnTo>
                  <a:lnTo>
                    <a:pt x="1116" y="288"/>
                  </a:lnTo>
                  <a:lnTo>
                    <a:pt x="1080" y="276"/>
                  </a:lnTo>
                  <a:lnTo>
                    <a:pt x="1044" y="276"/>
                  </a:lnTo>
                  <a:lnTo>
                    <a:pt x="1008" y="276"/>
                  </a:lnTo>
                  <a:lnTo>
                    <a:pt x="972" y="276"/>
                  </a:lnTo>
                  <a:lnTo>
                    <a:pt x="936" y="276"/>
                  </a:lnTo>
                  <a:lnTo>
                    <a:pt x="900" y="276"/>
                  </a:lnTo>
                  <a:lnTo>
                    <a:pt x="864" y="288"/>
                  </a:lnTo>
                  <a:lnTo>
                    <a:pt x="828" y="312"/>
                  </a:lnTo>
                  <a:lnTo>
                    <a:pt x="792" y="336"/>
                  </a:lnTo>
                  <a:lnTo>
                    <a:pt x="756" y="360"/>
                  </a:lnTo>
                  <a:lnTo>
                    <a:pt x="720" y="372"/>
                  </a:lnTo>
                  <a:lnTo>
                    <a:pt x="684" y="396"/>
                  </a:lnTo>
                  <a:lnTo>
                    <a:pt x="648" y="432"/>
                  </a:lnTo>
                  <a:lnTo>
                    <a:pt x="612" y="456"/>
                  </a:lnTo>
                  <a:lnTo>
                    <a:pt x="576" y="492"/>
                  </a:lnTo>
                  <a:lnTo>
                    <a:pt x="552" y="528"/>
                  </a:lnTo>
                  <a:lnTo>
                    <a:pt x="528" y="564"/>
                  </a:lnTo>
                  <a:lnTo>
                    <a:pt x="492" y="588"/>
                  </a:lnTo>
                  <a:lnTo>
                    <a:pt x="468" y="624"/>
                  </a:lnTo>
                  <a:lnTo>
                    <a:pt x="432" y="636"/>
                  </a:lnTo>
                  <a:lnTo>
                    <a:pt x="420" y="672"/>
                  </a:lnTo>
                  <a:lnTo>
                    <a:pt x="384" y="696"/>
                  </a:lnTo>
                  <a:lnTo>
                    <a:pt x="372" y="732"/>
                  </a:lnTo>
                  <a:lnTo>
                    <a:pt x="360" y="768"/>
                  </a:lnTo>
                  <a:lnTo>
                    <a:pt x="336" y="804"/>
                  </a:lnTo>
                  <a:lnTo>
                    <a:pt x="336" y="840"/>
                  </a:lnTo>
                  <a:lnTo>
                    <a:pt x="336" y="876"/>
                  </a:lnTo>
                  <a:lnTo>
                    <a:pt x="336" y="912"/>
                  </a:lnTo>
                  <a:lnTo>
                    <a:pt x="336" y="948"/>
                  </a:lnTo>
                  <a:lnTo>
                    <a:pt x="336" y="984"/>
                  </a:lnTo>
                  <a:lnTo>
                    <a:pt x="336" y="1020"/>
                  </a:lnTo>
                  <a:lnTo>
                    <a:pt x="336" y="1056"/>
                  </a:lnTo>
                  <a:lnTo>
                    <a:pt x="336" y="1104"/>
                  </a:lnTo>
                  <a:lnTo>
                    <a:pt x="336" y="1140"/>
                  </a:lnTo>
                  <a:lnTo>
                    <a:pt x="336" y="1176"/>
                  </a:lnTo>
                  <a:lnTo>
                    <a:pt x="336" y="1212"/>
                  </a:lnTo>
                  <a:lnTo>
                    <a:pt x="336" y="1248"/>
                  </a:lnTo>
                  <a:lnTo>
                    <a:pt x="336" y="1296"/>
                  </a:lnTo>
                  <a:lnTo>
                    <a:pt x="336" y="1332"/>
                  </a:lnTo>
                  <a:lnTo>
                    <a:pt x="336" y="1368"/>
                  </a:lnTo>
                  <a:lnTo>
                    <a:pt x="336" y="1404"/>
                  </a:lnTo>
                  <a:lnTo>
                    <a:pt x="336" y="1440"/>
                  </a:lnTo>
                  <a:lnTo>
                    <a:pt x="336" y="1488"/>
                  </a:lnTo>
                  <a:lnTo>
                    <a:pt x="336" y="1536"/>
                  </a:lnTo>
                  <a:lnTo>
                    <a:pt x="336" y="1572"/>
                  </a:lnTo>
                  <a:lnTo>
                    <a:pt x="336" y="1608"/>
                  </a:lnTo>
                  <a:lnTo>
                    <a:pt x="336" y="1656"/>
                  </a:lnTo>
                  <a:lnTo>
                    <a:pt x="336" y="1692"/>
                  </a:lnTo>
                  <a:lnTo>
                    <a:pt x="336" y="1728"/>
                  </a:lnTo>
                  <a:lnTo>
                    <a:pt x="324" y="1776"/>
                  </a:lnTo>
                  <a:lnTo>
                    <a:pt x="312" y="1812"/>
                  </a:lnTo>
                  <a:lnTo>
                    <a:pt x="300" y="1848"/>
                  </a:lnTo>
                  <a:lnTo>
                    <a:pt x="288" y="1884"/>
                  </a:lnTo>
                  <a:lnTo>
                    <a:pt x="276" y="1920"/>
                  </a:lnTo>
                  <a:lnTo>
                    <a:pt x="264" y="1956"/>
                  </a:lnTo>
                  <a:lnTo>
                    <a:pt x="240" y="1992"/>
                  </a:lnTo>
                  <a:lnTo>
                    <a:pt x="228" y="2028"/>
                  </a:lnTo>
                  <a:lnTo>
                    <a:pt x="216" y="2064"/>
                  </a:lnTo>
                  <a:lnTo>
                    <a:pt x="192" y="2100"/>
                  </a:lnTo>
                  <a:lnTo>
                    <a:pt x="180" y="2136"/>
                  </a:lnTo>
                  <a:lnTo>
                    <a:pt x="168" y="2172"/>
                  </a:lnTo>
                  <a:lnTo>
                    <a:pt x="144" y="2208"/>
                  </a:lnTo>
                  <a:lnTo>
                    <a:pt x="108" y="2232"/>
                  </a:lnTo>
                  <a:lnTo>
                    <a:pt x="60" y="2196"/>
                  </a:lnTo>
                  <a:lnTo>
                    <a:pt x="60" y="2196"/>
                  </a:lnTo>
                </a:path>
              </a:pathLst>
            </a:custGeom>
            <a:pattFill prst="ltHorz">
              <a:fgClr>
                <a:srgbClr val="ffcc99"/>
              </a:fgClr>
              <a:bgClr>
                <a:srgbClr val="ff9900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2" name="Line 13"/>
          <p:cNvSpPr/>
          <p:nvPr/>
        </p:nvSpPr>
        <p:spPr>
          <a:xfrm flipV="1">
            <a:off x="1981080" y="3962160"/>
            <a:ext cx="2209680" cy="76320"/>
          </a:xfrm>
          <a:prstGeom prst="line">
            <a:avLst/>
          </a:prstGeom>
          <a:ln w="508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14"/>
          <p:cNvSpPr/>
          <p:nvPr/>
        </p:nvSpPr>
        <p:spPr>
          <a:xfrm>
            <a:off x="3124080" y="1752480"/>
            <a:ext cx="360" cy="2209680"/>
          </a:xfrm>
          <a:prstGeom prst="line">
            <a:avLst/>
          </a:prstGeom>
          <a:ln w="7620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Oval 15"/>
          <p:cNvSpPr/>
          <p:nvPr/>
        </p:nvSpPr>
        <p:spPr>
          <a:xfrm>
            <a:off x="2997360" y="2158920"/>
            <a:ext cx="253800" cy="253800"/>
          </a:xfrm>
          <a:prstGeom prst="ellipse">
            <a:avLst/>
          </a:prstGeom>
          <a:solidFill>
            <a:srgbClr val="99ffcc"/>
          </a:solidFill>
          <a:ln w="5080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6"/>
          <p:cNvSpPr/>
          <p:nvPr/>
        </p:nvSpPr>
        <p:spPr>
          <a:xfrm rot="2940000">
            <a:off x="4314960" y="1501560"/>
            <a:ext cx="207720" cy="382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Group 22"/>
          <p:cNvGrpSpPr/>
          <p:nvPr/>
        </p:nvGrpSpPr>
        <p:grpSpPr>
          <a:xfrm>
            <a:off x="2268360" y="838080"/>
            <a:ext cx="1558440" cy="837720"/>
            <a:chOff x="2268360" y="838080"/>
            <a:chExt cx="1558440" cy="837720"/>
          </a:xfrm>
        </p:grpSpPr>
        <p:sp>
          <p:nvSpPr>
            <p:cNvPr id="387" name="Oval 17"/>
            <p:cNvSpPr/>
            <p:nvPr/>
          </p:nvSpPr>
          <p:spPr>
            <a:xfrm flipH="1" rot="19800000">
              <a:off x="2267640" y="1468080"/>
              <a:ext cx="415440" cy="110880"/>
            </a:xfrm>
            <a:prstGeom prst="ellipse">
              <a:avLst/>
            </a:prstGeom>
            <a:solidFill>
              <a:schemeClr val="bg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>
              <a:off x="2971800" y="838080"/>
              <a:ext cx="77400" cy="306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49" h="193">
                  <a:moveTo>
                    <a:pt x="24" y="0"/>
                  </a:moveTo>
                  <a:lnTo>
                    <a:pt x="6" y="32"/>
                  </a:lnTo>
                  <a:lnTo>
                    <a:pt x="6" y="56"/>
                  </a:lnTo>
                  <a:lnTo>
                    <a:pt x="24" y="56"/>
                  </a:lnTo>
                  <a:lnTo>
                    <a:pt x="36" y="80"/>
                  </a:lnTo>
                  <a:lnTo>
                    <a:pt x="18" y="88"/>
                  </a:lnTo>
                  <a:lnTo>
                    <a:pt x="0" y="96"/>
                  </a:lnTo>
                  <a:lnTo>
                    <a:pt x="6" y="120"/>
                  </a:lnTo>
                  <a:lnTo>
                    <a:pt x="24" y="120"/>
                  </a:lnTo>
                  <a:lnTo>
                    <a:pt x="42" y="128"/>
                  </a:lnTo>
                  <a:lnTo>
                    <a:pt x="48" y="152"/>
                  </a:lnTo>
                  <a:lnTo>
                    <a:pt x="30" y="168"/>
                  </a:lnTo>
                  <a:lnTo>
                    <a:pt x="18" y="192"/>
                  </a:lnTo>
                  <a:lnTo>
                    <a:pt x="24" y="192"/>
                  </a:lnTo>
                </a:path>
              </a:pathLst>
            </a:custGeom>
            <a:solidFill>
              <a:srgbClr val="ff9999"/>
            </a:solidFill>
            <a:ln cap="rnd" w="25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val 19"/>
            <p:cNvSpPr/>
            <p:nvPr/>
          </p:nvSpPr>
          <p:spPr>
            <a:xfrm flipH="1" rot="60000">
              <a:off x="2572200" y="1314360"/>
              <a:ext cx="415440" cy="114120"/>
            </a:xfrm>
            <a:prstGeom prst="ellipse">
              <a:avLst/>
            </a:prstGeom>
            <a:solidFill>
              <a:schemeClr val="bg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20"/>
            <p:cNvSpPr/>
            <p:nvPr/>
          </p:nvSpPr>
          <p:spPr>
            <a:xfrm rot="1800000">
              <a:off x="3411360" y="1468080"/>
              <a:ext cx="415440" cy="110880"/>
            </a:xfrm>
            <a:prstGeom prst="ellipse">
              <a:avLst/>
            </a:prstGeom>
            <a:solidFill>
              <a:schemeClr val="bg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21"/>
            <p:cNvSpPr/>
            <p:nvPr/>
          </p:nvSpPr>
          <p:spPr>
            <a:xfrm flipH="1" rot="60000">
              <a:off x="3029400" y="1314360"/>
              <a:ext cx="415440" cy="114120"/>
            </a:xfrm>
            <a:prstGeom prst="ellipse">
              <a:avLst/>
            </a:prstGeom>
            <a:solidFill>
              <a:schemeClr val="bg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AutoShape 23"/>
          <p:cNvSpPr/>
          <p:nvPr/>
        </p:nvSpPr>
        <p:spPr>
          <a:xfrm rot="21480000">
            <a:off x="3097080" y="4736880"/>
            <a:ext cx="171000" cy="509400"/>
          </a:xfrm>
          <a:prstGeom prst="roundRect">
            <a:avLst>
              <a:gd name="adj" fmla="val 12495"/>
            </a:avLst>
          </a:prstGeom>
          <a:solidFill>
            <a:schemeClr val="bg1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Arc 24"/>
          <p:cNvSpPr/>
          <p:nvPr/>
        </p:nvSpPr>
        <p:spPr>
          <a:xfrm>
            <a:off x="3200400" y="5105520"/>
            <a:ext cx="2285640" cy="456840"/>
          </a:xfrm>
          <a:custGeom>
            <a:avLst/>
            <a:gdLst>
              <a:gd name="textAreaLeft" fmla="*/ 0 w 2285640"/>
              <a:gd name="textAreaRight" fmla="*/ 2286000 w 228564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700">
            <a:solidFill>
              <a:srgbClr val="c0504d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AutoShape 25"/>
          <p:cNvSpPr/>
          <p:nvPr/>
        </p:nvSpPr>
        <p:spPr>
          <a:xfrm rot="7620000">
            <a:off x="2328120" y="1459800"/>
            <a:ext cx="145800" cy="72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26"/>
          <p:cNvSpPr/>
          <p:nvPr/>
        </p:nvSpPr>
        <p:spPr>
          <a:xfrm flipH="1">
            <a:off x="4876920" y="2739960"/>
            <a:ext cx="4265280" cy="117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ANTERIOR CLEFT PALATE              Incomplete &amp; Uni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7"/>
          <p:cNvSpPr/>
          <p:nvPr/>
        </p:nvSpPr>
        <p:spPr>
          <a:xfrm flipH="1">
            <a:off x="4882320" y="3660840"/>
            <a:ext cx="4177800" cy="35676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ru-RU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397" name="Arc 28"/>
          <p:cNvSpPr/>
          <p:nvPr/>
        </p:nvSpPr>
        <p:spPr>
          <a:xfrm>
            <a:off x="2590920" y="1905120"/>
            <a:ext cx="2592000" cy="837720"/>
          </a:xfrm>
          <a:custGeom>
            <a:avLst/>
            <a:gdLst>
              <a:gd name="textAreaLeft" fmla="*/ 0 w 2592000"/>
              <a:gd name="textAreaRight" fmla="*/ 2592360 w 2592000"/>
              <a:gd name="textAreaTop" fmla="*/ 0 h 837720"/>
              <a:gd name="textAreaBottom" fmla="*/ 838080 h 837720"/>
            </a:gdLst>
            <a:ahLst/>
            <a:rect l="textAreaLeft" t="textAreaTop" r="textAreaRight" b="textAreaBottom"/>
            <a:pathLst>
              <a:path fill="none" w="21613" h="21600">
                <a:moveTo>
                  <a:pt x="0" y="0"/>
                </a:moveTo>
                <a:cubicBezTo>
                  <a:pt x="4" y="0"/>
                  <a:pt x="8" y="-1"/>
                  <a:pt x="13" y="0"/>
                </a:cubicBezTo>
                <a:cubicBezTo>
                  <a:pt x="11942" y="0"/>
                  <a:pt x="21613" y="9670"/>
                  <a:pt x="21613" y="21600"/>
                </a:cubicBezTo>
              </a:path>
              <a:path stroke="0" w="21613" h="21600">
                <a:moveTo>
                  <a:pt x="0" y="0"/>
                </a:moveTo>
                <a:cubicBezTo>
                  <a:pt x="4" y="0"/>
                  <a:pt x="8" y="-1"/>
                  <a:pt x="13" y="0"/>
                </a:cubicBezTo>
                <a:cubicBezTo>
                  <a:pt x="11942" y="0"/>
                  <a:pt x="21613" y="9670"/>
                  <a:pt x="21613" y="21600"/>
                </a:cubicBezTo>
                <a:lnTo>
                  <a:pt x="13" y="21600"/>
                </a:lnTo>
                <a:close/>
              </a:path>
            </a:pathLst>
          </a:custGeom>
          <a:noFill/>
          <a:ln cap="rnd" w="50800">
            <a:solidFill>
              <a:srgbClr val="9966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990720" y="0"/>
            <a:ext cx="7162560" cy="53640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>
              <a:lnSpc>
                <a:spcPct val="100000"/>
              </a:lnSpc>
              <a:spcBef>
                <a:spcPts val="1451"/>
              </a:spcBef>
            </a:pPr>
            <a:r>
              <a:rPr b="1" lang="ru-RU" sz="2900" spc="-1" strike="noStrike">
                <a:solidFill>
                  <a:schemeClr val="accent2"/>
                </a:solidFill>
                <a:latin typeface="Arial"/>
              </a:rPr>
              <a:t>PALATAL DEFECTS  II: Failures to fu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 flipH="1">
            <a:off x="5257800" y="3882960"/>
            <a:ext cx="3428640" cy="96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POST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 u="sng">
                <a:solidFill>
                  <a:srgbClr val="ff5050"/>
                </a:solidFill>
                <a:uFillTx/>
                <a:latin typeface="Arial"/>
              </a:rPr>
              <a:t>CLEFT PA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 flipH="1">
            <a:off x="4800600" y="835200"/>
            <a:ext cx="3962160" cy="117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COMPLETE UNILATERAL ANTERIOR CLEFT         Palate &amp; 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 flipH="1">
            <a:off x="4730040" y="2136600"/>
            <a:ext cx="4177800" cy="35676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ru-RU" sz="1800" spc="-1" strike="noStrike">
              <a:solidFill>
                <a:srgbClr val="ff9999"/>
              </a:solidFill>
              <a:latin typeface="Arial"/>
            </a:endParaRPr>
          </a:p>
        </p:txBody>
      </p:sp>
      <p:sp>
        <p:nvSpPr>
          <p:cNvPr id="402" name="Rectangle 6"/>
          <p:cNvSpPr/>
          <p:nvPr/>
        </p:nvSpPr>
        <p:spPr>
          <a:xfrm flipH="1">
            <a:off x="8001000" y="6532560"/>
            <a:ext cx="1064880" cy="32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PA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10"/>
          <p:cNvGrpSpPr/>
          <p:nvPr/>
        </p:nvGrpSpPr>
        <p:grpSpPr>
          <a:xfrm>
            <a:off x="214200" y="1244520"/>
            <a:ext cx="4084200" cy="4471560"/>
            <a:chOff x="214200" y="1244520"/>
            <a:chExt cx="4084200" cy="4471560"/>
          </a:xfrm>
        </p:grpSpPr>
        <p:sp>
          <p:nvSpPr>
            <p:cNvPr id="404" name="Freeform 7"/>
            <p:cNvSpPr/>
            <p:nvPr/>
          </p:nvSpPr>
          <p:spPr>
            <a:xfrm>
              <a:off x="762120" y="2057400"/>
              <a:ext cx="3201480" cy="3658680"/>
            </a:xfrm>
            <a:custGeom>
              <a:avLst/>
              <a:gdLst>
                <a:gd name="textAreaLeft" fmla="*/ 0 w 3201480"/>
                <a:gd name="textAreaRight" fmla="*/ 3201840 w 3201480"/>
                <a:gd name="textAreaTop" fmla="*/ 0 h 3658680"/>
                <a:gd name="textAreaBottom" fmla="*/ 3659040 h 3658680"/>
              </a:gdLst>
              <a:ahLst/>
              <a:rect l="textAreaLeft" t="textAreaTop" r="textAreaRight" b="textAreaBottom"/>
              <a:pathLst>
                <a:path w="2017" h="2305">
                  <a:moveTo>
                    <a:pt x="0" y="2304"/>
                  </a:moveTo>
                  <a:lnTo>
                    <a:pt x="48" y="2304"/>
                  </a:lnTo>
                  <a:lnTo>
                    <a:pt x="84" y="2304"/>
                  </a:lnTo>
                  <a:lnTo>
                    <a:pt x="120" y="2304"/>
                  </a:lnTo>
                  <a:lnTo>
                    <a:pt x="156" y="2292"/>
                  </a:lnTo>
                  <a:lnTo>
                    <a:pt x="192" y="2280"/>
                  </a:lnTo>
                  <a:lnTo>
                    <a:pt x="228" y="2280"/>
                  </a:lnTo>
                  <a:lnTo>
                    <a:pt x="276" y="2268"/>
                  </a:lnTo>
                  <a:lnTo>
                    <a:pt x="312" y="2244"/>
                  </a:lnTo>
                  <a:lnTo>
                    <a:pt x="348" y="2232"/>
                  </a:lnTo>
                  <a:lnTo>
                    <a:pt x="384" y="2232"/>
                  </a:lnTo>
                  <a:lnTo>
                    <a:pt x="420" y="2208"/>
                  </a:lnTo>
                  <a:lnTo>
                    <a:pt x="456" y="2196"/>
                  </a:lnTo>
                  <a:lnTo>
                    <a:pt x="492" y="2184"/>
                  </a:lnTo>
                  <a:lnTo>
                    <a:pt x="528" y="2172"/>
                  </a:lnTo>
                  <a:lnTo>
                    <a:pt x="564" y="2148"/>
                  </a:lnTo>
                  <a:lnTo>
                    <a:pt x="600" y="2136"/>
                  </a:lnTo>
                  <a:lnTo>
                    <a:pt x="636" y="2124"/>
                  </a:lnTo>
                  <a:lnTo>
                    <a:pt x="672" y="2112"/>
                  </a:lnTo>
                  <a:lnTo>
                    <a:pt x="708" y="2088"/>
                  </a:lnTo>
                  <a:lnTo>
                    <a:pt x="744" y="2064"/>
                  </a:lnTo>
                  <a:lnTo>
                    <a:pt x="780" y="2040"/>
                  </a:lnTo>
                  <a:lnTo>
                    <a:pt x="816" y="2016"/>
                  </a:lnTo>
                  <a:lnTo>
                    <a:pt x="852" y="2016"/>
                  </a:lnTo>
                  <a:lnTo>
                    <a:pt x="888" y="2052"/>
                  </a:lnTo>
                  <a:lnTo>
                    <a:pt x="912" y="2088"/>
                  </a:lnTo>
                  <a:lnTo>
                    <a:pt x="912" y="2124"/>
                  </a:lnTo>
                  <a:lnTo>
                    <a:pt x="924" y="2160"/>
                  </a:lnTo>
                  <a:lnTo>
                    <a:pt x="924" y="2196"/>
                  </a:lnTo>
                  <a:lnTo>
                    <a:pt x="960" y="2232"/>
                  </a:lnTo>
                  <a:lnTo>
                    <a:pt x="984" y="2268"/>
                  </a:lnTo>
                  <a:lnTo>
                    <a:pt x="1020" y="2280"/>
                  </a:lnTo>
                  <a:lnTo>
                    <a:pt x="1056" y="2280"/>
                  </a:lnTo>
                  <a:lnTo>
                    <a:pt x="1092" y="2280"/>
                  </a:lnTo>
                  <a:lnTo>
                    <a:pt x="1128" y="2280"/>
                  </a:lnTo>
                  <a:lnTo>
                    <a:pt x="1152" y="2244"/>
                  </a:lnTo>
                  <a:lnTo>
                    <a:pt x="1176" y="2208"/>
                  </a:lnTo>
                  <a:lnTo>
                    <a:pt x="1188" y="2172"/>
                  </a:lnTo>
                  <a:lnTo>
                    <a:pt x="1200" y="2136"/>
                  </a:lnTo>
                  <a:lnTo>
                    <a:pt x="1200" y="2100"/>
                  </a:lnTo>
                  <a:lnTo>
                    <a:pt x="1212" y="2064"/>
                  </a:lnTo>
                  <a:lnTo>
                    <a:pt x="1224" y="2028"/>
                  </a:lnTo>
                  <a:lnTo>
                    <a:pt x="1260" y="2016"/>
                  </a:lnTo>
                  <a:lnTo>
                    <a:pt x="1296" y="2016"/>
                  </a:lnTo>
                  <a:lnTo>
                    <a:pt x="1332" y="2016"/>
                  </a:lnTo>
                  <a:lnTo>
                    <a:pt x="1368" y="2040"/>
                  </a:lnTo>
                  <a:lnTo>
                    <a:pt x="1404" y="2064"/>
                  </a:lnTo>
                  <a:lnTo>
                    <a:pt x="1440" y="2100"/>
                  </a:lnTo>
                  <a:lnTo>
                    <a:pt x="1476" y="2124"/>
                  </a:lnTo>
                  <a:lnTo>
                    <a:pt x="1512" y="2148"/>
                  </a:lnTo>
                  <a:lnTo>
                    <a:pt x="1548" y="2172"/>
                  </a:lnTo>
                  <a:lnTo>
                    <a:pt x="1584" y="2184"/>
                  </a:lnTo>
                  <a:lnTo>
                    <a:pt x="1632" y="2220"/>
                  </a:lnTo>
                  <a:lnTo>
                    <a:pt x="1668" y="2232"/>
                  </a:lnTo>
                  <a:lnTo>
                    <a:pt x="1704" y="2256"/>
                  </a:lnTo>
                  <a:lnTo>
                    <a:pt x="1740" y="2256"/>
                  </a:lnTo>
                  <a:lnTo>
                    <a:pt x="1776" y="2268"/>
                  </a:lnTo>
                  <a:lnTo>
                    <a:pt x="1812" y="2280"/>
                  </a:lnTo>
                  <a:lnTo>
                    <a:pt x="1848" y="2280"/>
                  </a:lnTo>
                  <a:lnTo>
                    <a:pt x="1884" y="2292"/>
                  </a:lnTo>
                  <a:lnTo>
                    <a:pt x="1920" y="2304"/>
                  </a:lnTo>
                  <a:lnTo>
                    <a:pt x="1956" y="2304"/>
                  </a:lnTo>
                  <a:lnTo>
                    <a:pt x="1992" y="2304"/>
                  </a:lnTo>
                  <a:lnTo>
                    <a:pt x="2004" y="2268"/>
                  </a:lnTo>
                  <a:lnTo>
                    <a:pt x="2016" y="2232"/>
                  </a:lnTo>
                  <a:lnTo>
                    <a:pt x="2016" y="2196"/>
                  </a:lnTo>
                  <a:lnTo>
                    <a:pt x="2016" y="2160"/>
                  </a:lnTo>
                  <a:lnTo>
                    <a:pt x="2016" y="2124"/>
                  </a:lnTo>
                  <a:lnTo>
                    <a:pt x="2016" y="2088"/>
                  </a:lnTo>
                  <a:lnTo>
                    <a:pt x="2016" y="2052"/>
                  </a:lnTo>
                  <a:lnTo>
                    <a:pt x="2004" y="2016"/>
                  </a:lnTo>
                  <a:lnTo>
                    <a:pt x="1992" y="1980"/>
                  </a:lnTo>
                  <a:lnTo>
                    <a:pt x="1980" y="1944"/>
                  </a:lnTo>
                  <a:lnTo>
                    <a:pt x="1944" y="1932"/>
                  </a:lnTo>
                  <a:lnTo>
                    <a:pt x="1908" y="1908"/>
                  </a:lnTo>
                  <a:lnTo>
                    <a:pt x="1872" y="1896"/>
                  </a:lnTo>
                  <a:lnTo>
                    <a:pt x="1848" y="1860"/>
                  </a:lnTo>
                  <a:lnTo>
                    <a:pt x="1824" y="1824"/>
                  </a:lnTo>
                  <a:lnTo>
                    <a:pt x="1812" y="1788"/>
                  </a:lnTo>
                  <a:lnTo>
                    <a:pt x="1800" y="1752"/>
                  </a:lnTo>
                  <a:lnTo>
                    <a:pt x="1788" y="1716"/>
                  </a:lnTo>
                  <a:lnTo>
                    <a:pt x="1764" y="1680"/>
                  </a:lnTo>
                  <a:lnTo>
                    <a:pt x="1752" y="1644"/>
                  </a:lnTo>
                  <a:lnTo>
                    <a:pt x="1740" y="1608"/>
                  </a:lnTo>
                  <a:lnTo>
                    <a:pt x="1740" y="1572"/>
                  </a:lnTo>
                  <a:lnTo>
                    <a:pt x="1728" y="1536"/>
                  </a:lnTo>
                  <a:lnTo>
                    <a:pt x="1704" y="1500"/>
                  </a:lnTo>
                  <a:lnTo>
                    <a:pt x="1704" y="1464"/>
                  </a:lnTo>
                  <a:lnTo>
                    <a:pt x="1692" y="1428"/>
                  </a:lnTo>
                  <a:lnTo>
                    <a:pt x="1680" y="1380"/>
                  </a:lnTo>
                  <a:lnTo>
                    <a:pt x="1680" y="1332"/>
                  </a:lnTo>
                  <a:lnTo>
                    <a:pt x="1680" y="1296"/>
                  </a:lnTo>
                  <a:lnTo>
                    <a:pt x="1656" y="1260"/>
                  </a:lnTo>
                  <a:lnTo>
                    <a:pt x="1644" y="1224"/>
                  </a:lnTo>
                  <a:lnTo>
                    <a:pt x="1632" y="1188"/>
                  </a:lnTo>
                  <a:lnTo>
                    <a:pt x="1620" y="1152"/>
                  </a:lnTo>
                  <a:lnTo>
                    <a:pt x="1620" y="1056"/>
                  </a:lnTo>
                  <a:lnTo>
                    <a:pt x="1620" y="1020"/>
                  </a:lnTo>
                  <a:lnTo>
                    <a:pt x="1608" y="984"/>
                  </a:lnTo>
                  <a:lnTo>
                    <a:pt x="1596" y="948"/>
                  </a:lnTo>
                  <a:lnTo>
                    <a:pt x="1596" y="912"/>
                  </a:lnTo>
                  <a:lnTo>
                    <a:pt x="1584" y="876"/>
                  </a:lnTo>
                  <a:lnTo>
                    <a:pt x="1584" y="840"/>
                  </a:lnTo>
                  <a:lnTo>
                    <a:pt x="1584" y="804"/>
                  </a:lnTo>
                  <a:lnTo>
                    <a:pt x="1584" y="768"/>
                  </a:lnTo>
                  <a:lnTo>
                    <a:pt x="1584" y="732"/>
                  </a:lnTo>
                  <a:lnTo>
                    <a:pt x="1584" y="684"/>
                  </a:lnTo>
                  <a:lnTo>
                    <a:pt x="1584" y="648"/>
                  </a:lnTo>
                  <a:lnTo>
                    <a:pt x="1584" y="612"/>
                  </a:lnTo>
                  <a:lnTo>
                    <a:pt x="1584" y="576"/>
                  </a:lnTo>
                  <a:lnTo>
                    <a:pt x="1584" y="540"/>
                  </a:lnTo>
                  <a:lnTo>
                    <a:pt x="1584" y="504"/>
                  </a:lnTo>
                  <a:lnTo>
                    <a:pt x="1584" y="468"/>
                  </a:lnTo>
                  <a:lnTo>
                    <a:pt x="1584" y="432"/>
                  </a:lnTo>
                  <a:lnTo>
                    <a:pt x="1584" y="396"/>
                  </a:lnTo>
                  <a:lnTo>
                    <a:pt x="1560" y="360"/>
                  </a:lnTo>
                  <a:lnTo>
                    <a:pt x="1536" y="324"/>
                  </a:lnTo>
                  <a:lnTo>
                    <a:pt x="1512" y="288"/>
                  </a:lnTo>
                  <a:lnTo>
                    <a:pt x="1476" y="252"/>
                  </a:lnTo>
                  <a:lnTo>
                    <a:pt x="1440" y="228"/>
                  </a:lnTo>
                  <a:lnTo>
                    <a:pt x="1416" y="192"/>
                  </a:lnTo>
                  <a:lnTo>
                    <a:pt x="1380" y="168"/>
                  </a:lnTo>
                  <a:lnTo>
                    <a:pt x="1356" y="132"/>
                  </a:lnTo>
                  <a:lnTo>
                    <a:pt x="1320" y="120"/>
                  </a:lnTo>
                  <a:lnTo>
                    <a:pt x="1284" y="84"/>
                  </a:lnTo>
                  <a:lnTo>
                    <a:pt x="1260" y="48"/>
                  </a:lnTo>
                  <a:lnTo>
                    <a:pt x="1224" y="36"/>
                  </a:lnTo>
                  <a:lnTo>
                    <a:pt x="1188" y="0"/>
                  </a:lnTo>
                  <a:lnTo>
                    <a:pt x="1152" y="0"/>
                  </a:lnTo>
                  <a:lnTo>
                    <a:pt x="1116" y="0"/>
                  </a:lnTo>
                  <a:lnTo>
                    <a:pt x="1080" y="0"/>
                  </a:lnTo>
                  <a:lnTo>
                    <a:pt x="1044" y="0"/>
                  </a:lnTo>
                  <a:lnTo>
                    <a:pt x="1008" y="0"/>
                  </a:lnTo>
                  <a:lnTo>
                    <a:pt x="972" y="0"/>
                  </a:lnTo>
                  <a:lnTo>
                    <a:pt x="936" y="0"/>
                  </a:lnTo>
                  <a:lnTo>
                    <a:pt x="888" y="0"/>
                  </a:lnTo>
                  <a:lnTo>
                    <a:pt x="852" y="0"/>
                  </a:lnTo>
                  <a:lnTo>
                    <a:pt x="816" y="12"/>
                  </a:lnTo>
                  <a:lnTo>
                    <a:pt x="780" y="36"/>
                  </a:lnTo>
                  <a:lnTo>
                    <a:pt x="744" y="72"/>
                  </a:lnTo>
                  <a:lnTo>
                    <a:pt x="696" y="84"/>
                  </a:lnTo>
                  <a:lnTo>
                    <a:pt x="660" y="108"/>
                  </a:lnTo>
                  <a:lnTo>
                    <a:pt x="624" y="132"/>
                  </a:lnTo>
                  <a:lnTo>
                    <a:pt x="588" y="156"/>
                  </a:lnTo>
                  <a:lnTo>
                    <a:pt x="552" y="180"/>
                  </a:lnTo>
                  <a:lnTo>
                    <a:pt x="504" y="204"/>
                  </a:lnTo>
                  <a:lnTo>
                    <a:pt x="468" y="228"/>
                  </a:lnTo>
                  <a:lnTo>
                    <a:pt x="444" y="264"/>
                  </a:lnTo>
                  <a:lnTo>
                    <a:pt x="420" y="300"/>
                  </a:lnTo>
                  <a:lnTo>
                    <a:pt x="396" y="336"/>
                  </a:lnTo>
                  <a:lnTo>
                    <a:pt x="360" y="360"/>
                  </a:lnTo>
                  <a:lnTo>
                    <a:pt x="324" y="396"/>
                  </a:lnTo>
                  <a:lnTo>
                    <a:pt x="300" y="432"/>
                  </a:lnTo>
                  <a:lnTo>
                    <a:pt x="276" y="468"/>
                  </a:lnTo>
                  <a:lnTo>
                    <a:pt x="264" y="504"/>
                  </a:lnTo>
                  <a:lnTo>
                    <a:pt x="252" y="540"/>
                  </a:lnTo>
                  <a:lnTo>
                    <a:pt x="240" y="576"/>
                  </a:lnTo>
                  <a:lnTo>
                    <a:pt x="240" y="612"/>
                  </a:lnTo>
                  <a:lnTo>
                    <a:pt x="240" y="660"/>
                  </a:lnTo>
                  <a:lnTo>
                    <a:pt x="240" y="696"/>
                  </a:lnTo>
                  <a:lnTo>
                    <a:pt x="240" y="732"/>
                  </a:lnTo>
                  <a:lnTo>
                    <a:pt x="252" y="780"/>
                  </a:lnTo>
                  <a:lnTo>
                    <a:pt x="252" y="816"/>
                  </a:lnTo>
                  <a:lnTo>
                    <a:pt x="252" y="852"/>
                  </a:lnTo>
                  <a:lnTo>
                    <a:pt x="252" y="888"/>
                  </a:lnTo>
                  <a:lnTo>
                    <a:pt x="252" y="936"/>
                  </a:lnTo>
                  <a:lnTo>
                    <a:pt x="252" y="972"/>
                  </a:lnTo>
                  <a:lnTo>
                    <a:pt x="252" y="1044"/>
                  </a:lnTo>
                  <a:lnTo>
                    <a:pt x="252" y="1140"/>
                  </a:lnTo>
                  <a:lnTo>
                    <a:pt x="252" y="1176"/>
                  </a:lnTo>
                  <a:lnTo>
                    <a:pt x="252" y="1212"/>
                  </a:lnTo>
                  <a:lnTo>
                    <a:pt x="252" y="1248"/>
                  </a:lnTo>
                  <a:lnTo>
                    <a:pt x="252" y="1284"/>
                  </a:lnTo>
                  <a:lnTo>
                    <a:pt x="252" y="1320"/>
                  </a:lnTo>
                  <a:lnTo>
                    <a:pt x="252" y="1356"/>
                  </a:lnTo>
                  <a:lnTo>
                    <a:pt x="252" y="1392"/>
                  </a:lnTo>
                  <a:lnTo>
                    <a:pt x="252" y="1440"/>
                  </a:lnTo>
                  <a:lnTo>
                    <a:pt x="240" y="1476"/>
                  </a:lnTo>
                  <a:lnTo>
                    <a:pt x="216" y="1512"/>
                  </a:lnTo>
                  <a:lnTo>
                    <a:pt x="204" y="1548"/>
                  </a:lnTo>
                  <a:lnTo>
                    <a:pt x="180" y="1584"/>
                  </a:lnTo>
                  <a:lnTo>
                    <a:pt x="168" y="1620"/>
                  </a:lnTo>
                  <a:lnTo>
                    <a:pt x="156" y="1656"/>
                  </a:lnTo>
                  <a:lnTo>
                    <a:pt x="132" y="1752"/>
                  </a:lnTo>
                  <a:lnTo>
                    <a:pt x="108" y="1788"/>
                  </a:lnTo>
                  <a:lnTo>
                    <a:pt x="96" y="1824"/>
                  </a:lnTo>
                  <a:lnTo>
                    <a:pt x="72" y="1860"/>
                  </a:lnTo>
                  <a:lnTo>
                    <a:pt x="60" y="1896"/>
                  </a:lnTo>
                  <a:lnTo>
                    <a:pt x="36" y="1932"/>
                  </a:lnTo>
                  <a:lnTo>
                    <a:pt x="24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0" y="2112"/>
                  </a:lnTo>
                  <a:lnTo>
                    <a:pt x="0" y="2160"/>
                  </a:lnTo>
                  <a:lnTo>
                    <a:pt x="0" y="2196"/>
                  </a:lnTo>
                  <a:lnTo>
                    <a:pt x="0" y="2232"/>
                  </a:lnTo>
                  <a:lnTo>
                    <a:pt x="0" y="2304"/>
                  </a:lnTo>
                  <a:lnTo>
                    <a:pt x="0" y="2304"/>
                  </a:lnTo>
                </a:path>
              </a:pathLst>
            </a:custGeom>
            <a:pattFill prst="wdUpDiag">
              <a:fgClr>
                <a:srgbClr val="ff5050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8"/>
            <p:cNvSpPr/>
            <p:nvPr/>
          </p:nvSpPr>
          <p:spPr>
            <a:xfrm>
              <a:off x="214200" y="1244520"/>
              <a:ext cx="4084200" cy="1576080"/>
            </a:xfrm>
            <a:custGeom>
              <a:avLst/>
              <a:gdLst>
                <a:gd name="textAreaLeft" fmla="*/ 0 w 4084200"/>
                <a:gd name="textAreaRight" fmla="*/ 4084560 w 4084200"/>
                <a:gd name="textAreaTop" fmla="*/ 0 h 1576080"/>
                <a:gd name="textAreaBottom" fmla="*/ 1576440 h 1576080"/>
              </a:gdLst>
              <a:ahLst/>
              <a:rect l="textAreaLeft" t="textAreaTop" r="textAreaRight" b="textAreaBottom"/>
              <a:pathLst>
                <a:path w="2573" h="993">
                  <a:moveTo>
                    <a:pt x="0" y="721"/>
                  </a:moveTo>
                  <a:lnTo>
                    <a:pt x="56" y="655"/>
                  </a:lnTo>
                  <a:lnTo>
                    <a:pt x="102" y="608"/>
                  </a:lnTo>
                  <a:lnTo>
                    <a:pt x="146" y="576"/>
                  </a:lnTo>
                  <a:lnTo>
                    <a:pt x="192" y="544"/>
                  </a:lnTo>
                  <a:lnTo>
                    <a:pt x="223" y="496"/>
                  </a:lnTo>
                  <a:lnTo>
                    <a:pt x="267" y="464"/>
                  </a:lnTo>
                  <a:lnTo>
                    <a:pt x="313" y="415"/>
                  </a:lnTo>
                  <a:lnTo>
                    <a:pt x="344" y="368"/>
                  </a:lnTo>
                  <a:lnTo>
                    <a:pt x="390" y="351"/>
                  </a:lnTo>
                  <a:lnTo>
                    <a:pt x="434" y="336"/>
                  </a:lnTo>
                  <a:lnTo>
                    <a:pt x="480" y="304"/>
                  </a:lnTo>
                  <a:lnTo>
                    <a:pt x="525" y="272"/>
                  </a:lnTo>
                  <a:lnTo>
                    <a:pt x="571" y="240"/>
                  </a:lnTo>
                  <a:lnTo>
                    <a:pt x="616" y="208"/>
                  </a:lnTo>
                  <a:lnTo>
                    <a:pt x="662" y="176"/>
                  </a:lnTo>
                  <a:lnTo>
                    <a:pt x="692" y="143"/>
                  </a:lnTo>
                  <a:lnTo>
                    <a:pt x="738" y="111"/>
                  </a:lnTo>
                  <a:lnTo>
                    <a:pt x="783" y="95"/>
                  </a:lnTo>
                  <a:lnTo>
                    <a:pt x="829" y="79"/>
                  </a:lnTo>
                  <a:lnTo>
                    <a:pt x="874" y="63"/>
                  </a:lnTo>
                  <a:lnTo>
                    <a:pt x="920" y="47"/>
                  </a:lnTo>
                  <a:lnTo>
                    <a:pt x="980" y="31"/>
                  </a:lnTo>
                  <a:lnTo>
                    <a:pt x="1026" y="15"/>
                  </a:lnTo>
                  <a:lnTo>
                    <a:pt x="1071" y="15"/>
                  </a:lnTo>
                  <a:lnTo>
                    <a:pt x="1117" y="0"/>
                  </a:lnTo>
                  <a:lnTo>
                    <a:pt x="1162" y="0"/>
                  </a:lnTo>
                  <a:lnTo>
                    <a:pt x="1222" y="0"/>
                  </a:lnTo>
                  <a:lnTo>
                    <a:pt x="1268" y="0"/>
                  </a:lnTo>
                  <a:lnTo>
                    <a:pt x="1314" y="0"/>
                  </a:lnTo>
                  <a:lnTo>
                    <a:pt x="1359" y="0"/>
                  </a:lnTo>
                  <a:lnTo>
                    <a:pt x="1405" y="0"/>
                  </a:lnTo>
                  <a:lnTo>
                    <a:pt x="1450" y="0"/>
                  </a:lnTo>
                  <a:lnTo>
                    <a:pt x="1496" y="15"/>
                  </a:lnTo>
                  <a:lnTo>
                    <a:pt x="1540" y="31"/>
                  </a:lnTo>
                  <a:lnTo>
                    <a:pt x="1586" y="63"/>
                  </a:lnTo>
                  <a:lnTo>
                    <a:pt x="1647" y="111"/>
                  </a:lnTo>
                  <a:lnTo>
                    <a:pt x="1707" y="143"/>
                  </a:lnTo>
                  <a:lnTo>
                    <a:pt x="1738" y="176"/>
                  </a:lnTo>
                  <a:lnTo>
                    <a:pt x="1784" y="191"/>
                  </a:lnTo>
                  <a:lnTo>
                    <a:pt x="1828" y="208"/>
                  </a:lnTo>
                  <a:lnTo>
                    <a:pt x="1874" y="240"/>
                  </a:lnTo>
                  <a:lnTo>
                    <a:pt x="1919" y="272"/>
                  </a:lnTo>
                  <a:lnTo>
                    <a:pt x="1951" y="287"/>
                  </a:lnTo>
                  <a:lnTo>
                    <a:pt x="1995" y="304"/>
                  </a:lnTo>
                  <a:lnTo>
                    <a:pt x="2042" y="336"/>
                  </a:lnTo>
                  <a:lnTo>
                    <a:pt x="2086" y="368"/>
                  </a:lnTo>
                  <a:lnTo>
                    <a:pt x="2132" y="400"/>
                  </a:lnTo>
                  <a:lnTo>
                    <a:pt x="2193" y="447"/>
                  </a:lnTo>
                  <a:lnTo>
                    <a:pt x="2223" y="480"/>
                  </a:lnTo>
                  <a:lnTo>
                    <a:pt x="2269" y="512"/>
                  </a:lnTo>
                  <a:lnTo>
                    <a:pt x="2314" y="544"/>
                  </a:lnTo>
                  <a:lnTo>
                    <a:pt x="2360" y="576"/>
                  </a:lnTo>
                  <a:lnTo>
                    <a:pt x="2404" y="623"/>
                  </a:lnTo>
                  <a:lnTo>
                    <a:pt x="2451" y="640"/>
                  </a:lnTo>
                  <a:lnTo>
                    <a:pt x="2495" y="687"/>
                  </a:lnTo>
                  <a:lnTo>
                    <a:pt x="2541" y="719"/>
                  </a:lnTo>
                  <a:lnTo>
                    <a:pt x="2572" y="753"/>
                  </a:lnTo>
                  <a:lnTo>
                    <a:pt x="2525" y="768"/>
                  </a:lnTo>
                  <a:lnTo>
                    <a:pt x="2481" y="768"/>
                  </a:lnTo>
                  <a:lnTo>
                    <a:pt x="2435" y="768"/>
                  </a:lnTo>
                  <a:lnTo>
                    <a:pt x="2390" y="768"/>
                  </a:lnTo>
                  <a:lnTo>
                    <a:pt x="2374" y="817"/>
                  </a:lnTo>
                  <a:lnTo>
                    <a:pt x="2360" y="864"/>
                  </a:lnTo>
                  <a:lnTo>
                    <a:pt x="2344" y="912"/>
                  </a:lnTo>
                  <a:lnTo>
                    <a:pt x="2344" y="960"/>
                  </a:lnTo>
                  <a:lnTo>
                    <a:pt x="2299" y="928"/>
                  </a:lnTo>
                  <a:lnTo>
                    <a:pt x="2283" y="880"/>
                  </a:lnTo>
                  <a:lnTo>
                    <a:pt x="2253" y="832"/>
                  </a:lnTo>
                  <a:lnTo>
                    <a:pt x="2207" y="800"/>
                  </a:lnTo>
                  <a:lnTo>
                    <a:pt x="2163" y="753"/>
                  </a:lnTo>
                  <a:lnTo>
                    <a:pt x="2132" y="719"/>
                  </a:lnTo>
                  <a:lnTo>
                    <a:pt x="2086" y="687"/>
                  </a:lnTo>
                  <a:lnTo>
                    <a:pt x="2056" y="640"/>
                  </a:lnTo>
                  <a:lnTo>
                    <a:pt x="2011" y="608"/>
                  </a:lnTo>
                  <a:lnTo>
                    <a:pt x="1965" y="576"/>
                  </a:lnTo>
                  <a:lnTo>
                    <a:pt x="1919" y="544"/>
                  </a:lnTo>
                  <a:lnTo>
                    <a:pt x="1874" y="496"/>
                  </a:lnTo>
                  <a:lnTo>
                    <a:pt x="1828" y="464"/>
                  </a:lnTo>
                  <a:lnTo>
                    <a:pt x="1784" y="432"/>
                  </a:lnTo>
                  <a:lnTo>
                    <a:pt x="1738" y="400"/>
                  </a:lnTo>
                  <a:lnTo>
                    <a:pt x="1707" y="351"/>
                  </a:lnTo>
                  <a:lnTo>
                    <a:pt x="1663" y="336"/>
                  </a:lnTo>
                  <a:lnTo>
                    <a:pt x="1617" y="319"/>
                  </a:lnTo>
                  <a:lnTo>
                    <a:pt x="1571" y="287"/>
                  </a:lnTo>
                  <a:lnTo>
                    <a:pt x="1526" y="287"/>
                  </a:lnTo>
                  <a:lnTo>
                    <a:pt x="1480" y="272"/>
                  </a:lnTo>
                  <a:lnTo>
                    <a:pt x="1435" y="255"/>
                  </a:lnTo>
                  <a:lnTo>
                    <a:pt x="1389" y="255"/>
                  </a:lnTo>
                  <a:lnTo>
                    <a:pt x="1345" y="240"/>
                  </a:lnTo>
                  <a:lnTo>
                    <a:pt x="1298" y="240"/>
                  </a:lnTo>
                  <a:lnTo>
                    <a:pt x="1252" y="240"/>
                  </a:lnTo>
                  <a:lnTo>
                    <a:pt x="1208" y="240"/>
                  </a:lnTo>
                  <a:lnTo>
                    <a:pt x="1162" y="272"/>
                  </a:lnTo>
                  <a:lnTo>
                    <a:pt x="1117" y="287"/>
                  </a:lnTo>
                  <a:lnTo>
                    <a:pt x="1071" y="287"/>
                  </a:lnTo>
                  <a:lnTo>
                    <a:pt x="1026" y="304"/>
                  </a:lnTo>
                  <a:lnTo>
                    <a:pt x="980" y="319"/>
                  </a:lnTo>
                  <a:lnTo>
                    <a:pt x="934" y="336"/>
                  </a:lnTo>
                  <a:lnTo>
                    <a:pt x="889" y="368"/>
                  </a:lnTo>
                  <a:lnTo>
                    <a:pt x="843" y="400"/>
                  </a:lnTo>
                  <a:lnTo>
                    <a:pt x="799" y="432"/>
                  </a:lnTo>
                  <a:lnTo>
                    <a:pt x="753" y="464"/>
                  </a:lnTo>
                  <a:lnTo>
                    <a:pt x="708" y="496"/>
                  </a:lnTo>
                  <a:lnTo>
                    <a:pt x="678" y="544"/>
                  </a:lnTo>
                  <a:lnTo>
                    <a:pt x="646" y="576"/>
                  </a:lnTo>
                  <a:lnTo>
                    <a:pt x="632" y="623"/>
                  </a:lnTo>
                  <a:lnTo>
                    <a:pt x="586" y="655"/>
                  </a:lnTo>
                  <a:lnTo>
                    <a:pt x="541" y="687"/>
                  </a:lnTo>
                  <a:lnTo>
                    <a:pt x="495" y="736"/>
                  </a:lnTo>
                  <a:lnTo>
                    <a:pt x="450" y="785"/>
                  </a:lnTo>
                  <a:lnTo>
                    <a:pt x="404" y="800"/>
                  </a:lnTo>
                  <a:lnTo>
                    <a:pt x="390" y="848"/>
                  </a:lnTo>
                  <a:lnTo>
                    <a:pt x="344" y="896"/>
                  </a:lnTo>
                  <a:lnTo>
                    <a:pt x="328" y="944"/>
                  </a:lnTo>
                  <a:lnTo>
                    <a:pt x="283" y="992"/>
                  </a:lnTo>
                  <a:lnTo>
                    <a:pt x="267" y="944"/>
                  </a:lnTo>
                  <a:lnTo>
                    <a:pt x="267" y="896"/>
                  </a:lnTo>
                  <a:lnTo>
                    <a:pt x="267" y="848"/>
                  </a:lnTo>
                  <a:lnTo>
                    <a:pt x="253" y="800"/>
                  </a:lnTo>
                  <a:lnTo>
                    <a:pt x="223" y="753"/>
                  </a:lnTo>
                  <a:lnTo>
                    <a:pt x="177" y="736"/>
                  </a:lnTo>
                  <a:lnTo>
                    <a:pt x="132" y="719"/>
                  </a:lnTo>
                  <a:lnTo>
                    <a:pt x="86" y="719"/>
                  </a:lnTo>
                  <a:lnTo>
                    <a:pt x="0" y="721"/>
                  </a:lnTo>
                  <a:lnTo>
                    <a:pt x="0" y="721"/>
                  </a:lnTo>
                </a:path>
              </a:pathLst>
            </a:custGeom>
            <a:pattFill prst="horz">
              <a:fgClr>
                <a:srgbClr val="ff5050"/>
              </a:fgClr>
              <a:bgClr>
                <a:srgbClr val="eeece1"/>
              </a:bgClr>
            </a:patt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9"/>
            <p:cNvSpPr/>
            <p:nvPr/>
          </p:nvSpPr>
          <p:spPr>
            <a:xfrm>
              <a:off x="666720" y="1619280"/>
              <a:ext cx="3277800" cy="3544560"/>
            </a:xfrm>
            <a:custGeom>
              <a:avLst/>
              <a:gdLst>
                <a:gd name="textAreaLeft" fmla="*/ 0 w 3277800"/>
                <a:gd name="textAreaRight" fmla="*/ 3278160 w 3277800"/>
                <a:gd name="textAreaTop" fmla="*/ 0 h 3544560"/>
                <a:gd name="textAreaBottom" fmla="*/ 3544920 h 3544560"/>
              </a:gdLst>
              <a:ahLst/>
              <a:rect l="textAreaLeft" t="textAreaTop" r="textAreaRight" b="textAreaBottom"/>
              <a:pathLst>
                <a:path w="2065" h="2233">
                  <a:moveTo>
                    <a:pt x="60" y="2196"/>
                  </a:moveTo>
                  <a:lnTo>
                    <a:pt x="72" y="2148"/>
                  </a:lnTo>
                  <a:lnTo>
                    <a:pt x="72" y="2112"/>
                  </a:lnTo>
                  <a:lnTo>
                    <a:pt x="72" y="2076"/>
                  </a:lnTo>
                  <a:lnTo>
                    <a:pt x="72" y="2040"/>
                  </a:lnTo>
                  <a:lnTo>
                    <a:pt x="72" y="2004"/>
                  </a:lnTo>
                  <a:lnTo>
                    <a:pt x="72" y="1968"/>
                  </a:lnTo>
                  <a:lnTo>
                    <a:pt x="72" y="1920"/>
                  </a:lnTo>
                  <a:lnTo>
                    <a:pt x="72" y="1872"/>
                  </a:lnTo>
                  <a:lnTo>
                    <a:pt x="72" y="1824"/>
                  </a:lnTo>
                  <a:lnTo>
                    <a:pt x="60" y="1788"/>
                  </a:lnTo>
                  <a:lnTo>
                    <a:pt x="60" y="1752"/>
                  </a:lnTo>
                  <a:lnTo>
                    <a:pt x="48" y="1716"/>
                  </a:lnTo>
                  <a:lnTo>
                    <a:pt x="48" y="1680"/>
                  </a:lnTo>
                  <a:lnTo>
                    <a:pt x="36" y="1644"/>
                  </a:lnTo>
                  <a:lnTo>
                    <a:pt x="36" y="1608"/>
                  </a:lnTo>
                  <a:lnTo>
                    <a:pt x="24" y="1524"/>
                  </a:lnTo>
                  <a:lnTo>
                    <a:pt x="12" y="1476"/>
                  </a:lnTo>
                  <a:lnTo>
                    <a:pt x="12" y="1428"/>
                  </a:lnTo>
                  <a:lnTo>
                    <a:pt x="12" y="1392"/>
                  </a:lnTo>
                  <a:lnTo>
                    <a:pt x="12" y="1356"/>
                  </a:lnTo>
                  <a:lnTo>
                    <a:pt x="12" y="1320"/>
                  </a:lnTo>
                  <a:lnTo>
                    <a:pt x="12" y="1284"/>
                  </a:lnTo>
                  <a:lnTo>
                    <a:pt x="12" y="1248"/>
                  </a:lnTo>
                  <a:lnTo>
                    <a:pt x="12" y="1152"/>
                  </a:lnTo>
                  <a:lnTo>
                    <a:pt x="12" y="1116"/>
                  </a:lnTo>
                  <a:lnTo>
                    <a:pt x="12" y="1080"/>
                  </a:lnTo>
                  <a:lnTo>
                    <a:pt x="12" y="1044"/>
                  </a:lnTo>
                  <a:lnTo>
                    <a:pt x="12" y="1008"/>
                  </a:lnTo>
                  <a:lnTo>
                    <a:pt x="12" y="972"/>
                  </a:lnTo>
                  <a:lnTo>
                    <a:pt x="12" y="936"/>
                  </a:lnTo>
                  <a:lnTo>
                    <a:pt x="12" y="900"/>
                  </a:lnTo>
                  <a:lnTo>
                    <a:pt x="0" y="864"/>
                  </a:lnTo>
                  <a:lnTo>
                    <a:pt x="0" y="828"/>
                  </a:lnTo>
                  <a:lnTo>
                    <a:pt x="0" y="792"/>
                  </a:lnTo>
                  <a:lnTo>
                    <a:pt x="0" y="756"/>
                  </a:lnTo>
                  <a:lnTo>
                    <a:pt x="0" y="720"/>
                  </a:lnTo>
                  <a:lnTo>
                    <a:pt x="12" y="684"/>
                  </a:lnTo>
                  <a:lnTo>
                    <a:pt x="48" y="660"/>
                  </a:lnTo>
                  <a:lnTo>
                    <a:pt x="84" y="636"/>
                  </a:lnTo>
                  <a:lnTo>
                    <a:pt x="108" y="600"/>
                  </a:lnTo>
                  <a:lnTo>
                    <a:pt x="132" y="564"/>
                  </a:lnTo>
                  <a:lnTo>
                    <a:pt x="168" y="528"/>
                  </a:lnTo>
                  <a:lnTo>
                    <a:pt x="180" y="492"/>
                  </a:lnTo>
                  <a:lnTo>
                    <a:pt x="216" y="468"/>
                  </a:lnTo>
                  <a:lnTo>
                    <a:pt x="228" y="432"/>
                  </a:lnTo>
                  <a:lnTo>
                    <a:pt x="264" y="420"/>
                  </a:lnTo>
                  <a:lnTo>
                    <a:pt x="300" y="396"/>
                  </a:lnTo>
                  <a:lnTo>
                    <a:pt x="336" y="372"/>
                  </a:lnTo>
                  <a:lnTo>
                    <a:pt x="360" y="336"/>
                  </a:lnTo>
                  <a:lnTo>
                    <a:pt x="384" y="300"/>
                  </a:lnTo>
                  <a:lnTo>
                    <a:pt x="408" y="264"/>
                  </a:lnTo>
                  <a:lnTo>
                    <a:pt x="444" y="240"/>
                  </a:lnTo>
                  <a:lnTo>
                    <a:pt x="480" y="216"/>
                  </a:lnTo>
                  <a:lnTo>
                    <a:pt x="516" y="180"/>
                  </a:lnTo>
                  <a:lnTo>
                    <a:pt x="552" y="156"/>
                  </a:lnTo>
                  <a:lnTo>
                    <a:pt x="588" y="132"/>
                  </a:lnTo>
                  <a:lnTo>
                    <a:pt x="624" y="108"/>
                  </a:lnTo>
                  <a:lnTo>
                    <a:pt x="660" y="96"/>
                  </a:lnTo>
                  <a:lnTo>
                    <a:pt x="696" y="72"/>
                  </a:lnTo>
                  <a:lnTo>
                    <a:pt x="732" y="60"/>
                  </a:lnTo>
                  <a:lnTo>
                    <a:pt x="768" y="24"/>
                  </a:lnTo>
                  <a:lnTo>
                    <a:pt x="804" y="0"/>
                  </a:lnTo>
                  <a:lnTo>
                    <a:pt x="840" y="0"/>
                  </a:lnTo>
                  <a:lnTo>
                    <a:pt x="876" y="0"/>
                  </a:lnTo>
                  <a:lnTo>
                    <a:pt x="924" y="0"/>
                  </a:lnTo>
                  <a:lnTo>
                    <a:pt x="960" y="0"/>
                  </a:lnTo>
                  <a:lnTo>
                    <a:pt x="996" y="0"/>
                  </a:lnTo>
                  <a:lnTo>
                    <a:pt x="1032" y="0"/>
                  </a:lnTo>
                  <a:lnTo>
                    <a:pt x="1068" y="0"/>
                  </a:lnTo>
                  <a:lnTo>
                    <a:pt x="1104" y="0"/>
                  </a:lnTo>
                  <a:lnTo>
                    <a:pt x="1140" y="0"/>
                  </a:lnTo>
                  <a:lnTo>
                    <a:pt x="1176" y="0"/>
                  </a:lnTo>
                  <a:lnTo>
                    <a:pt x="1212" y="12"/>
                  </a:lnTo>
                  <a:lnTo>
                    <a:pt x="1248" y="24"/>
                  </a:lnTo>
                  <a:lnTo>
                    <a:pt x="1284" y="48"/>
                  </a:lnTo>
                  <a:lnTo>
                    <a:pt x="1320" y="60"/>
                  </a:lnTo>
                  <a:lnTo>
                    <a:pt x="1356" y="72"/>
                  </a:lnTo>
                  <a:lnTo>
                    <a:pt x="1392" y="84"/>
                  </a:lnTo>
                  <a:lnTo>
                    <a:pt x="1428" y="108"/>
                  </a:lnTo>
                  <a:lnTo>
                    <a:pt x="1464" y="120"/>
                  </a:lnTo>
                  <a:lnTo>
                    <a:pt x="1500" y="132"/>
                  </a:lnTo>
                  <a:lnTo>
                    <a:pt x="1524" y="168"/>
                  </a:lnTo>
                  <a:lnTo>
                    <a:pt x="1548" y="204"/>
                  </a:lnTo>
                  <a:lnTo>
                    <a:pt x="1584" y="228"/>
                  </a:lnTo>
                  <a:lnTo>
                    <a:pt x="1620" y="264"/>
                  </a:lnTo>
                  <a:lnTo>
                    <a:pt x="1656" y="276"/>
                  </a:lnTo>
                  <a:lnTo>
                    <a:pt x="1680" y="312"/>
                  </a:lnTo>
                  <a:lnTo>
                    <a:pt x="1716" y="336"/>
                  </a:lnTo>
                  <a:lnTo>
                    <a:pt x="1752" y="360"/>
                  </a:lnTo>
                  <a:lnTo>
                    <a:pt x="1788" y="396"/>
                  </a:lnTo>
                  <a:lnTo>
                    <a:pt x="1824" y="420"/>
                  </a:lnTo>
                  <a:lnTo>
                    <a:pt x="1860" y="444"/>
                  </a:lnTo>
                  <a:lnTo>
                    <a:pt x="1884" y="480"/>
                  </a:lnTo>
                  <a:lnTo>
                    <a:pt x="1920" y="516"/>
                  </a:lnTo>
                  <a:lnTo>
                    <a:pt x="1956" y="540"/>
                  </a:lnTo>
                  <a:lnTo>
                    <a:pt x="1992" y="564"/>
                  </a:lnTo>
                  <a:lnTo>
                    <a:pt x="2028" y="600"/>
                  </a:lnTo>
                  <a:lnTo>
                    <a:pt x="2052" y="636"/>
                  </a:lnTo>
                  <a:lnTo>
                    <a:pt x="2064" y="672"/>
                  </a:lnTo>
                  <a:lnTo>
                    <a:pt x="2064" y="708"/>
                  </a:lnTo>
                  <a:lnTo>
                    <a:pt x="2064" y="744"/>
                  </a:lnTo>
                  <a:lnTo>
                    <a:pt x="2064" y="780"/>
                  </a:lnTo>
                  <a:lnTo>
                    <a:pt x="2064" y="828"/>
                  </a:lnTo>
                  <a:lnTo>
                    <a:pt x="2064" y="864"/>
                  </a:lnTo>
                  <a:lnTo>
                    <a:pt x="2064" y="900"/>
                  </a:lnTo>
                  <a:lnTo>
                    <a:pt x="2064" y="948"/>
                  </a:lnTo>
                  <a:lnTo>
                    <a:pt x="2064" y="984"/>
                  </a:lnTo>
                  <a:lnTo>
                    <a:pt x="2064" y="1020"/>
                  </a:lnTo>
                  <a:lnTo>
                    <a:pt x="2064" y="1068"/>
                  </a:lnTo>
                  <a:lnTo>
                    <a:pt x="2064" y="1116"/>
                  </a:lnTo>
                  <a:lnTo>
                    <a:pt x="2064" y="1152"/>
                  </a:lnTo>
                  <a:lnTo>
                    <a:pt x="2064" y="1200"/>
                  </a:lnTo>
                  <a:lnTo>
                    <a:pt x="2064" y="1236"/>
                  </a:lnTo>
                  <a:lnTo>
                    <a:pt x="2052" y="1272"/>
                  </a:lnTo>
                  <a:lnTo>
                    <a:pt x="2052" y="1320"/>
                  </a:lnTo>
                  <a:lnTo>
                    <a:pt x="2052" y="1356"/>
                  </a:lnTo>
                  <a:lnTo>
                    <a:pt x="2040" y="1392"/>
                  </a:lnTo>
                  <a:lnTo>
                    <a:pt x="2040" y="1440"/>
                  </a:lnTo>
                  <a:lnTo>
                    <a:pt x="2040" y="1488"/>
                  </a:lnTo>
                  <a:lnTo>
                    <a:pt x="2040" y="1560"/>
                  </a:lnTo>
                  <a:lnTo>
                    <a:pt x="2040" y="1656"/>
                  </a:lnTo>
                  <a:lnTo>
                    <a:pt x="2028" y="1692"/>
                  </a:lnTo>
                  <a:lnTo>
                    <a:pt x="2028" y="1728"/>
                  </a:lnTo>
                  <a:lnTo>
                    <a:pt x="2028" y="1764"/>
                  </a:lnTo>
                  <a:lnTo>
                    <a:pt x="2028" y="1812"/>
                  </a:lnTo>
                  <a:lnTo>
                    <a:pt x="2028" y="1860"/>
                  </a:lnTo>
                  <a:lnTo>
                    <a:pt x="2028" y="1908"/>
                  </a:lnTo>
                  <a:lnTo>
                    <a:pt x="2028" y="1944"/>
                  </a:lnTo>
                  <a:lnTo>
                    <a:pt x="2028" y="1980"/>
                  </a:lnTo>
                  <a:lnTo>
                    <a:pt x="2028" y="2028"/>
                  </a:lnTo>
                  <a:lnTo>
                    <a:pt x="2028" y="2064"/>
                  </a:lnTo>
                  <a:lnTo>
                    <a:pt x="2028" y="2100"/>
                  </a:lnTo>
                  <a:lnTo>
                    <a:pt x="2028" y="2148"/>
                  </a:lnTo>
                  <a:lnTo>
                    <a:pt x="2028" y="2184"/>
                  </a:lnTo>
                  <a:lnTo>
                    <a:pt x="1992" y="2208"/>
                  </a:lnTo>
                  <a:lnTo>
                    <a:pt x="1956" y="2184"/>
                  </a:lnTo>
                  <a:lnTo>
                    <a:pt x="1920" y="2148"/>
                  </a:lnTo>
                  <a:lnTo>
                    <a:pt x="1896" y="2112"/>
                  </a:lnTo>
                  <a:lnTo>
                    <a:pt x="1884" y="2076"/>
                  </a:lnTo>
                  <a:lnTo>
                    <a:pt x="1872" y="2040"/>
                  </a:lnTo>
                  <a:lnTo>
                    <a:pt x="1860" y="2004"/>
                  </a:lnTo>
                  <a:lnTo>
                    <a:pt x="1860" y="1968"/>
                  </a:lnTo>
                  <a:lnTo>
                    <a:pt x="1848" y="1932"/>
                  </a:lnTo>
                  <a:lnTo>
                    <a:pt x="1824" y="1896"/>
                  </a:lnTo>
                  <a:lnTo>
                    <a:pt x="1812" y="1860"/>
                  </a:lnTo>
                  <a:lnTo>
                    <a:pt x="1800" y="1824"/>
                  </a:lnTo>
                  <a:lnTo>
                    <a:pt x="1776" y="1788"/>
                  </a:lnTo>
                  <a:lnTo>
                    <a:pt x="1764" y="1752"/>
                  </a:lnTo>
                  <a:lnTo>
                    <a:pt x="1752" y="1716"/>
                  </a:lnTo>
                  <a:lnTo>
                    <a:pt x="1740" y="1680"/>
                  </a:lnTo>
                  <a:lnTo>
                    <a:pt x="1728" y="1644"/>
                  </a:lnTo>
                  <a:lnTo>
                    <a:pt x="1728" y="1608"/>
                  </a:lnTo>
                  <a:lnTo>
                    <a:pt x="1716" y="1560"/>
                  </a:lnTo>
                  <a:lnTo>
                    <a:pt x="1716" y="1512"/>
                  </a:lnTo>
                  <a:lnTo>
                    <a:pt x="1704" y="1476"/>
                  </a:lnTo>
                  <a:lnTo>
                    <a:pt x="1692" y="1440"/>
                  </a:lnTo>
                  <a:lnTo>
                    <a:pt x="1692" y="1404"/>
                  </a:lnTo>
                  <a:lnTo>
                    <a:pt x="1680" y="1368"/>
                  </a:lnTo>
                  <a:lnTo>
                    <a:pt x="1668" y="1332"/>
                  </a:lnTo>
                  <a:lnTo>
                    <a:pt x="1668" y="1296"/>
                  </a:lnTo>
                  <a:lnTo>
                    <a:pt x="1668" y="1260"/>
                  </a:lnTo>
                  <a:lnTo>
                    <a:pt x="1656" y="1224"/>
                  </a:lnTo>
                  <a:lnTo>
                    <a:pt x="1656" y="1188"/>
                  </a:lnTo>
                  <a:lnTo>
                    <a:pt x="1644" y="1152"/>
                  </a:lnTo>
                  <a:lnTo>
                    <a:pt x="1644" y="1116"/>
                  </a:lnTo>
                  <a:lnTo>
                    <a:pt x="1644" y="1080"/>
                  </a:lnTo>
                  <a:lnTo>
                    <a:pt x="1644" y="1044"/>
                  </a:lnTo>
                  <a:lnTo>
                    <a:pt x="1632" y="948"/>
                  </a:lnTo>
                  <a:lnTo>
                    <a:pt x="1632" y="900"/>
                  </a:lnTo>
                  <a:lnTo>
                    <a:pt x="1632" y="852"/>
                  </a:lnTo>
                  <a:lnTo>
                    <a:pt x="1632" y="816"/>
                  </a:lnTo>
                  <a:lnTo>
                    <a:pt x="1632" y="780"/>
                  </a:lnTo>
                  <a:lnTo>
                    <a:pt x="1632" y="744"/>
                  </a:lnTo>
                  <a:lnTo>
                    <a:pt x="1632" y="696"/>
                  </a:lnTo>
                  <a:lnTo>
                    <a:pt x="1632" y="660"/>
                  </a:lnTo>
                  <a:lnTo>
                    <a:pt x="1620" y="624"/>
                  </a:lnTo>
                  <a:lnTo>
                    <a:pt x="1596" y="588"/>
                  </a:lnTo>
                  <a:lnTo>
                    <a:pt x="1572" y="552"/>
                  </a:lnTo>
                  <a:lnTo>
                    <a:pt x="1536" y="528"/>
                  </a:lnTo>
                  <a:lnTo>
                    <a:pt x="1512" y="492"/>
                  </a:lnTo>
                  <a:lnTo>
                    <a:pt x="1476" y="456"/>
                  </a:lnTo>
                  <a:lnTo>
                    <a:pt x="1440" y="444"/>
                  </a:lnTo>
                  <a:lnTo>
                    <a:pt x="1404" y="408"/>
                  </a:lnTo>
                  <a:lnTo>
                    <a:pt x="1368" y="384"/>
                  </a:lnTo>
                  <a:lnTo>
                    <a:pt x="1332" y="360"/>
                  </a:lnTo>
                  <a:lnTo>
                    <a:pt x="1296" y="348"/>
                  </a:lnTo>
                  <a:lnTo>
                    <a:pt x="1260" y="324"/>
                  </a:lnTo>
                  <a:lnTo>
                    <a:pt x="1224" y="324"/>
                  </a:lnTo>
                  <a:lnTo>
                    <a:pt x="1188" y="312"/>
                  </a:lnTo>
                  <a:lnTo>
                    <a:pt x="1152" y="300"/>
                  </a:lnTo>
                  <a:lnTo>
                    <a:pt x="1116" y="288"/>
                  </a:lnTo>
                  <a:lnTo>
                    <a:pt x="1080" y="276"/>
                  </a:lnTo>
                  <a:lnTo>
                    <a:pt x="1044" y="276"/>
                  </a:lnTo>
                  <a:lnTo>
                    <a:pt x="1008" y="276"/>
                  </a:lnTo>
                  <a:lnTo>
                    <a:pt x="972" y="276"/>
                  </a:lnTo>
                  <a:lnTo>
                    <a:pt x="936" y="276"/>
                  </a:lnTo>
                  <a:lnTo>
                    <a:pt x="900" y="276"/>
                  </a:lnTo>
                  <a:lnTo>
                    <a:pt x="864" y="288"/>
                  </a:lnTo>
                  <a:lnTo>
                    <a:pt x="828" y="312"/>
                  </a:lnTo>
                  <a:lnTo>
                    <a:pt x="792" y="336"/>
                  </a:lnTo>
                  <a:lnTo>
                    <a:pt x="756" y="360"/>
                  </a:lnTo>
                  <a:lnTo>
                    <a:pt x="720" y="372"/>
                  </a:lnTo>
                  <a:lnTo>
                    <a:pt x="684" y="396"/>
                  </a:lnTo>
                  <a:lnTo>
                    <a:pt x="648" y="432"/>
                  </a:lnTo>
                  <a:lnTo>
                    <a:pt x="612" y="456"/>
                  </a:lnTo>
                  <a:lnTo>
                    <a:pt x="576" y="492"/>
                  </a:lnTo>
                  <a:lnTo>
                    <a:pt x="552" y="528"/>
                  </a:lnTo>
                  <a:lnTo>
                    <a:pt x="528" y="564"/>
                  </a:lnTo>
                  <a:lnTo>
                    <a:pt x="492" y="588"/>
                  </a:lnTo>
                  <a:lnTo>
                    <a:pt x="468" y="624"/>
                  </a:lnTo>
                  <a:lnTo>
                    <a:pt x="432" y="636"/>
                  </a:lnTo>
                  <a:lnTo>
                    <a:pt x="420" y="672"/>
                  </a:lnTo>
                  <a:lnTo>
                    <a:pt x="384" y="696"/>
                  </a:lnTo>
                  <a:lnTo>
                    <a:pt x="372" y="732"/>
                  </a:lnTo>
                  <a:lnTo>
                    <a:pt x="360" y="768"/>
                  </a:lnTo>
                  <a:lnTo>
                    <a:pt x="336" y="804"/>
                  </a:lnTo>
                  <a:lnTo>
                    <a:pt x="336" y="840"/>
                  </a:lnTo>
                  <a:lnTo>
                    <a:pt x="336" y="876"/>
                  </a:lnTo>
                  <a:lnTo>
                    <a:pt x="336" y="912"/>
                  </a:lnTo>
                  <a:lnTo>
                    <a:pt x="336" y="948"/>
                  </a:lnTo>
                  <a:lnTo>
                    <a:pt x="336" y="984"/>
                  </a:lnTo>
                  <a:lnTo>
                    <a:pt x="336" y="1020"/>
                  </a:lnTo>
                  <a:lnTo>
                    <a:pt x="336" y="1056"/>
                  </a:lnTo>
                  <a:lnTo>
                    <a:pt x="336" y="1104"/>
                  </a:lnTo>
                  <a:lnTo>
                    <a:pt x="336" y="1140"/>
                  </a:lnTo>
                  <a:lnTo>
                    <a:pt x="336" y="1176"/>
                  </a:lnTo>
                  <a:lnTo>
                    <a:pt x="336" y="1212"/>
                  </a:lnTo>
                  <a:lnTo>
                    <a:pt x="336" y="1248"/>
                  </a:lnTo>
                  <a:lnTo>
                    <a:pt x="336" y="1296"/>
                  </a:lnTo>
                  <a:lnTo>
                    <a:pt x="336" y="1332"/>
                  </a:lnTo>
                  <a:lnTo>
                    <a:pt x="336" y="1368"/>
                  </a:lnTo>
                  <a:lnTo>
                    <a:pt x="336" y="1404"/>
                  </a:lnTo>
                  <a:lnTo>
                    <a:pt x="336" y="1440"/>
                  </a:lnTo>
                  <a:lnTo>
                    <a:pt x="336" y="1488"/>
                  </a:lnTo>
                  <a:lnTo>
                    <a:pt x="336" y="1536"/>
                  </a:lnTo>
                  <a:lnTo>
                    <a:pt x="336" y="1572"/>
                  </a:lnTo>
                  <a:lnTo>
                    <a:pt x="336" y="1608"/>
                  </a:lnTo>
                  <a:lnTo>
                    <a:pt x="336" y="1656"/>
                  </a:lnTo>
                  <a:lnTo>
                    <a:pt x="336" y="1692"/>
                  </a:lnTo>
                  <a:lnTo>
                    <a:pt x="336" y="1728"/>
                  </a:lnTo>
                  <a:lnTo>
                    <a:pt x="324" y="1776"/>
                  </a:lnTo>
                  <a:lnTo>
                    <a:pt x="312" y="1812"/>
                  </a:lnTo>
                  <a:lnTo>
                    <a:pt x="300" y="1848"/>
                  </a:lnTo>
                  <a:lnTo>
                    <a:pt x="288" y="1884"/>
                  </a:lnTo>
                  <a:lnTo>
                    <a:pt x="276" y="1920"/>
                  </a:lnTo>
                  <a:lnTo>
                    <a:pt x="264" y="1956"/>
                  </a:lnTo>
                  <a:lnTo>
                    <a:pt x="240" y="1992"/>
                  </a:lnTo>
                  <a:lnTo>
                    <a:pt x="228" y="2028"/>
                  </a:lnTo>
                  <a:lnTo>
                    <a:pt x="216" y="2064"/>
                  </a:lnTo>
                  <a:lnTo>
                    <a:pt x="192" y="2100"/>
                  </a:lnTo>
                  <a:lnTo>
                    <a:pt x="180" y="2136"/>
                  </a:lnTo>
                  <a:lnTo>
                    <a:pt x="168" y="2172"/>
                  </a:lnTo>
                  <a:lnTo>
                    <a:pt x="144" y="2208"/>
                  </a:lnTo>
                  <a:lnTo>
                    <a:pt x="108" y="2232"/>
                  </a:lnTo>
                  <a:lnTo>
                    <a:pt x="60" y="2196"/>
                  </a:lnTo>
                  <a:lnTo>
                    <a:pt x="60" y="2196"/>
                  </a:lnTo>
                </a:path>
              </a:pathLst>
            </a:custGeom>
            <a:pattFill prst="ltHorz">
              <a:fgClr>
                <a:srgbClr val="ffcc99"/>
              </a:fgClr>
              <a:bgClr>
                <a:srgbClr val="ff9900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Line 11"/>
          <p:cNvSpPr/>
          <p:nvPr/>
        </p:nvSpPr>
        <p:spPr>
          <a:xfrm flipV="1">
            <a:off x="1218960" y="4419360"/>
            <a:ext cx="2210040" cy="76320"/>
          </a:xfrm>
          <a:prstGeom prst="line">
            <a:avLst/>
          </a:prstGeom>
          <a:ln w="508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Oval 12"/>
          <p:cNvSpPr/>
          <p:nvPr/>
        </p:nvSpPr>
        <p:spPr>
          <a:xfrm flipH="1" rot="19800000">
            <a:off x="1505520" y="1925280"/>
            <a:ext cx="415440" cy="110880"/>
          </a:xfrm>
          <a:prstGeom prst="ellipse">
            <a:avLst/>
          </a:prstGeom>
          <a:solidFill>
            <a:schemeClr val="bg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13"/>
          <p:cNvSpPr/>
          <p:nvPr/>
        </p:nvSpPr>
        <p:spPr>
          <a:xfrm>
            <a:off x="2361960" y="2209680"/>
            <a:ext cx="360" cy="2209680"/>
          </a:xfrm>
          <a:prstGeom prst="line">
            <a:avLst/>
          </a:prstGeom>
          <a:ln w="7620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Oval 14"/>
          <p:cNvSpPr/>
          <p:nvPr/>
        </p:nvSpPr>
        <p:spPr>
          <a:xfrm>
            <a:off x="2235240" y="2616120"/>
            <a:ext cx="253800" cy="253800"/>
          </a:xfrm>
          <a:prstGeom prst="ellipse">
            <a:avLst/>
          </a:prstGeom>
          <a:solidFill>
            <a:srgbClr val="99ffcc"/>
          </a:solidFill>
          <a:ln w="5080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15"/>
          <p:cNvSpPr/>
          <p:nvPr/>
        </p:nvSpPr>
        <p:spPr>
          <a:xfrm>
            <a:off x="2209680" y="1295280"/>
            <a:ext cx="77400" cy="306000"/>
          </a:xfrm>
          <a:custGeom>
            <a:avLst/>
            <a:gdLst>
              <a:gd name="textAreaLeft" fmla="*/ 0 w 77400"/>
              <a:gd name="textAreaRight" fmla="*/ 77760 w 77400"/>
              <a:gd name="textAreaTop" fmla="*/ 0 h 306000"/>
              <a:gd name="textAreaBottom" fmla="*/ 306360 h 306000"/>
            </a:gdLst>
            <a:ahLst/>
            <a:rect l="textAreaLeft" t="textAreaTop" r="textAreaRight" b="textAreaBottom"/>
            <a:pathLst>
              <a:path w="49" h="193">
                <a:moveTo>
                  <a:pt x="24" y="0"/>
                </a:moveTo>
                <a:lnTo>
                  <a:pt x="6" y="32"/>
                </a:lnTo>
                <a:lnTo>
                  <a:pt x="6" y="56"/>
                </a:lnTo>
                <a:lnTo>
                  <a:pt x="24" y="56"/>
                </a:lnTo>
                <a:lnTo>
                  <a:pt x="36" y="80"/>
                </a:lnTo>
                <a:lnTo>
                  <a:pt x="18" y="88"/>
                </a:lnTo>
                <a:lnTo>
                  <a:pt x="0" y="96"/>
                </a:lnTo>
                <a:lnTo>
                  <a:pt x="6" y="120"/>
                </a:lnTo>
                <a:lnTo>
                  <a:pt x="24" y="120"/>
                </a:lnTo>
                <a:lnTo>
                  <a:pt x="42" y="128"/>
                </a:lnTo>
                <a:lnTo>
                  <a:pt x="48" y="152"/>
                </a:lnTo>
                <a:lnTo>
                  <a:pt x="30" y="168"/>
                </a:lnTo>
                <a:lnTo>
                  <a:pt x="18" y="192"/>
                </a:lnTo>
                <a:lnTo>
                  <a:pt x="24" y="192"/>
                </a:lnTo>
              </a:path>
            </a:pathLst>
          </a:custGeom>
          <a:solidFill>
            <a:srgbClr val="ff9999"/>
          </a:solidFill>
          <a:ln cap="rnd" w="25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AutoShape 16"/>
          <p:cNvSpPr/>
          <p:nvPr/>
        </p:nvSpPr>
        <p:spPr>
          <a:xfrm rot="2460000">
            <a:off x="773280" y="2150640"/>
            <a:ext cx="1726920" cy="190080"/>
          </a:xfrm>
          <a:prstGeom prst="roundRect">
            <a:avLst>
              <a:gd name="adj" fmla="val 12495"/>
            </a:avLst>
          </a:prstGeom>
          <a:solidFill>
            <a:schemeClr val="bg1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Oval 17"/>
          <p:cNvSpPr/>
          <p:nvPr/>
        </p:nvSpPr>
        <p:spPr>
          <a:xfrm flipH="1" rot="60000">
            <a:off x="1810440" y="1771560"/>
            <a:ext cx="415440" cy="114120"/>
          </a:xfrm>
          <a:prstGeom prst="ellipse">
            <a:avLst/>
          </a:prstGeom>
          <a:solidFill>
            <a:schemeClr val="bg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Oval 18"/>
          <p:cNvSpPr/>
          <p:nvPr/>
        </p:nvSpPr>
        <p:spPr>
          <a:xfrm rot="1800000">
            <a:off x="2649240" y="1925280"/>
            <a:ext cx="415440" cy="110880"/>
          </a:xfrm>
          <a:prstGeom prst="ellipse">
            <a:avLst/>
          </a:prstGeom>
          <a:solidFill>
            <a:schemeClr val="bg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Oval 19"/>
          <p:cNvSpPr/>
          <p:nvPr/>
        </p:nvSpPr>
        <p:spPr>
          <a:xfrm flipH="1" rot="60000">
            <a:off x="2267640" y="1771560"/>
            <a:ext cx="415440" cy="114120"/>
          </a:xfrm>
          <a:prstGeom prst="ellipse">
            <a:avLst/>
          </a:prstGeom>
          <a:solidFill>
            <a:schemeClr val="bg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AutoShape 20"/>
          <p:cNvSpPr/>
          <p:nvPr/>
        </p:nvSpPr>
        <p:spPr>
          <a:xfrm rot="21480000">
            <a:off x="2292120" y="2747880"/>
            <a:ext cx="139320" cy="29570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700">
            <a:solidFill>
              <a:srgbClr val="ff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Line 21"/>
          <p:cNvSpPr/>
          <p:nvPr/>
        </p:nvSpPr>
        <p:spPr>
          <a:xfrm flipH="1">
            <a:off x="1523880" y="1218960"/>
            <a:ext cx="3200400" cy="914400"/>
          </a:xfrm>
          <a:prstGeom prst="line">
            <a:avLst/>
          </a:prstGeom>
          <a:ln w="25400">
            <a:solidFill>
              <a:srgbClr val="f79646">
                <a:lumMod val="50000"/>
              </a:srgbClr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Line 22"/>
          <p:cNvSpPr/>
          <p:nvPr/>
        </p:nvSpPr>
        <p:spPr>
          <a:xfrm flipH="1">
            <a:off x="2361960" y="4114800"/>
            <a:ext cx="2895840" cy="228600"/>
          </a:xfrm>
          <a:prstGeom prst="line">
            <a:avLst/>
          </a:prstGeom>
          <a:ln w="25400">
            <a:solidFill>
              <a:srgbClr val="ff505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23"/>
          <p:cNvSpPr/>
          <p:nvPr/>
        </p:nvSpPr>
        <p:spPr>
          <a:xfrm flipH="1">
            <a:off x="4723560" y="5330880"/>
            <a:ext cx="4190760" cy="62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Can occur independently; can be partial; anterior can be b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4"/>
          <p:cNvSpPr/>
          <p:nvPr/>
        </p:nvSpPr>
        <p:spPr>
          <a:xfrm flipH="1">
            <a:off x="4882320" y="3052800"/>
            <a:ext cx="3719160" cy="35676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ru-RU" sz="18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42"/>
          <p:cNvGrpSpPr/>
          <p:nvPr/>
        </p:nvGrpSpPr>
        <p:grpSpPr>
          <a:xfrm>
            <a:off x="0" y="76320"/>
            <a:ext cx="9142200" cy="5808600"/>
            <a:chOff x="0" y="76320"/>
            <a:chExt cx="9142200" cy="5808600"/>
          </a:xfrm>
        </p:grpSpPr>
        <p:sp>
          <p:nvSpPr>
            <p:cNvPr id="422" name="Rectangle 2"/>
            <p:cNvSpPr/>
            <p:nvPr/>
          </p:nvSpPr>
          <p:spPr>
            <a:xfrm>
              <a:off x="2057400" y="76320"/>
              <a:ext cx="5866920" cy="51840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accent2"/>
                  </a:solidFill>
                  <a:latin typeface="Arial"/>
                </a:rPr>
                <a:t>Sources of Tongue develop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3"/>
            <p:cNvSpPr/>
            <p:nvPr/>
          </p:nvSpPr>
          <p:spPr>
            <a:xfrm flipH="1" flipV="1">
              <a:off x="8458200" y="5017320"/>
              <a:ext cx="609120" cy="356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endParaRPr b="1" lang="ru-RU" sz="1800" spc="-1" strike="noStrike">
                <a:solidFill>
                  <a:schemeClr val="accent2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24" name="Oval 4"/>
            <p:cNvSpPr/>
            <p:nvPr/>
          </p:nvSpPr>
          <p:spPr>
            <a:xfrm>
              <a:off x="735120" y="120636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cce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Oval 5"/>
            <p:cNvSpPr/>
            <p:nvPr/>
          </p:nvSpPr>
          <p:spPr>
            <a:xfrm>
              <a:off x="3478320" y="120636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cce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AutoShape 6"/>
            <p:cNvSpPr/>
            <p:nvPr/>
          </p:nvSpPr>
          <p:spPr>
            <a:xfrm>
              <a:off x="892080" y="1181160"/>
              <a:ext cx="3107880" cy="731520"/>
            </a:xfrm>
            <a:prstGeom prst="octagon">
              <a:avLst>
                <a:gd name="adj" fmla="val 29282"/>
              </a:avLst>
            </a:prstGeom>
            <a:pattFill prst="openDmnd">
              <a:fgClr>
                <a:srgbClr val="c0504d"/>
              </a:fgClr>
              <a:bgClr>
                <a:srgbClr val="ccec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Group 10"/>
            <p:cNvGrpSpPr/>
            <p:nvPr/>
          </p:nvGrpSpPr>
          <p:grpSpPr>
            <a:xfrm>
              <a:off x="735120" y="2003400"/>
              <a:ext cx="3331800" cy="731520"/>
              <a:chOff x="735120" y="2003400"/>
              <a:chExt cx="3331800" cy="731520"/>
            </a:xfrm>
          </p:grpSpPr>
          <p:sp>
            <p:nvSpPr>
              <p:cNvPr id="428" name="Oval 7"/>
              <p:cNvSpPr/>
              <p:nvPr/>
            </p:nvSpPr>
            <p:spPr>
              <a:xfrm>
                <a:off x="735120" y="2028960"/>
                <a:ext cx="588600" cy="680760"/>
              </a:xfrm>
              <a:prstGeom prst="ellipse">
                <a:avLst/>
              </a:prstGeom>
              <a:pattFill prst="openDmnd">
                <a:fgClr>
                  <a:srgbClr val="ccecff"/>
                </a:fgClr>
                <a:bgClr>
                  <a:srgbClr val="c0504d"/>
                </a:bgClr>
              </a:pattFill>
              <a:ln w="508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3478320" y="2028960"/>
                <a:ext cx="588600" cy="680760"/>
              </a:xfrm>
              <a:prstGeom prst="ellipse">
                <a:avLst/>
              </a:prstGeom>
              <a:pattFill prst="openDmnd">
                <a:fgClr>
                  <a:srgbClr val="ccecff"/>
                </a:fgClr>
                <a:bgClr>
                  <a:srgbClr val="c0504d"/>
                </a:bgClr>
              </a:pattFill>
              <a:ln w="508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AutoShape 9"/>
              <p:cNvSpPr/>
              <p:nvPr/>
            </p:nvSpPr>
            <p:spPr>
              <a:xfrm>
                <a:off x="892080" y="2003400"/>
                <a:ext cx="3107880" cy="731520"/>
              </a:xfrm>
              <a:prstGeom prst="octagon">
                <a:avLst>
                  <a:gd name="adj" fmla="val 29282"/>
                </a:avLst>
              </a:prstGeom>
              <a:pattFill prst="openDmnd">
                <a:fgClr>
                  <a:srgbClr val="ccecff"/>
                </a:fgClr>
                <a:bgClr>
                  <a:srgbClr val="c0504d"/>
                </a:bgClr>
              </a:patt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1" name="Oval 11"/>
            <p:cNvSpPr/>
            <p:nvPr/>
          </p:nvSpPr>
          <p:spPr>
            <a:xfrm>
              <a:off x="735120" y="2852640"/>
              <a:ext cx="588600" cy="680760"/>
            </a:xfrm>
            <a:prstGeom prst="ellipse">
              <a:avLst/>
            </a:prstGeom>
            <a:pattFill prst="openDmnd">
              <a:fgClr>
                <a:srgbClr val="99ffff"/>
              </a:fgClr>
              <a:bgClr>
                <a:srgbClr val="c0504d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Oval 12"/>
            <p:cNvSpPr/>
            <p:nvPr/>
          </p:nvSpPr>
          <p:spPr>
            <a:xfrm>
              <a:off x="3478320" y="2852640"/>
              <a:ext cx="588600" cy="680760"/>
            </a:xfrm>
            <a:prstGeom prst="ellipse">
              <a:avLst/>
            </a:prstGeom>
            <a:pattFill prst="openDmnd">
              <a:fgClr>
                <a:srgbClr val="99ffff"/>
              </a:fgClr>
              <a:bgClr>
                <a:srgbClr val="c0504d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AutoShape 13"/>
            <p:cNvSpPr/>
            <p:nvPr/>
          </p:nvSpPr>
          <p:spPr>
            <a:xfrm>
              <a:off x="892080" y="2827440"/>
              <a:ext cx="3107880" cy="731520"/>
            </a:xfrm>
            <a:prstGeom prst="octagon">
              <a:avLst>
                <a:gd name="adj" fmla="val 29282"/>
              </a:avLst>
            </a:prstGeom>
            <a:pattFill prst="openDmnd">
              <a:fgClr>
                <a:srgbClr val="99ffff"/>
              </a:fgClr>
              <a:bgClr>
                <a:srgbClr val="c0504d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Oval 14"/>
            <p:cNvSpPr/>
            <p:nvPr/>
          </p:nvSpPr>
          <p:spPr>
            <a:xfrm>
              <a:off x="735120" y="367524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66c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3478320" y="367524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66c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AutoShape 16"/>
            <p:cNvSpPr/>
            <p:nvPr/>
          </p:nvSpPr>
          <p:spPr>
            <a:xfrm>
              <a:off x="892080" y="3649680"/>
              <a:ext cx="3107880" cy="731520"/>
            </a:xfrm>
            <a:prstGeom prst="octagon">
              <a:avLst>
                <a:gd name="adj" fmla="val 29282"/>
              </a:avLst>
            </a:prstGeom>
            <a:pattFill prst="openDmnd">
              <a:fgClr>
                <a:srgbClr val="c0504d"/>
              </a:fgClr>
              <a:bgClr>
                <a:srgbClr val="66cc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Rectangle 17"/>
            <p:cNvSpPr/>
            <p:nvPr/>
          </p:nvSpPr>
          <p:spPr>
            <a:xfrm flipH="1">
              <a:off x="0" y="685800"/>
              <a:ext cx="114264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8"/>
            <p:cNvSpPr/>
            <p:nvPr/>
          </p:nvSpPr>
          <p:spPr>
            <a:xfrm flipH="1">
              <a:off x="380160" y="1295280"/>
              <a:ext cx="38052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hlink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9"/>
            <p:cNvSpPr/>
            <p:nvPr/>
          </p:nvSpPr>
          <p:spPr>
            <a:xfrm flipH="1">
              <a:off x="380160" y="2209680"/>
              <a:ext cx="38052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0"/>
            <p:cNvSpPr/>
            <p:nvPr/>
          </p:nvSpPr>
          <p:spPr>
            <a:xfrm flipH="1">
              <a:off x="304920" y="2971800"/>
              <a:ext cx="60912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rgbClr val="99ffff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1"/>
            <p:cNvSpPr/>
            <p:nvPr/>
          </p:nvSpPr>
          <p:spPr>
            <a:xfrm flipH="1">
              <a:off x="227880" y="3809880"/>
              <a:ext cx="53316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rgbClr val="ff00cc"/>
                  </a:solidFill>
                  <a:latin typeface="Arial"/>
                </a:rPr>
                <a:t>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2"/>
            <p:cNvSpPr/>
            <p:nvPr/>
          </p:nvSpPr>
          <p:spPr>
            <a:xfrm>
              <a:off x="2298600" y="1765440"/>
              <a:ext cx="202680" cy="2026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Oval 23"/>
            <p:cNvSpPr/>
            <p:nvPr/>
          </p:nvSpPr>
          <p:spPr>
            <a:xfrm>
              <a:off x="1892160" y="1434960"/>
              <a:ext cx="406080" cy="4060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508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Oval 24"/>
            <p:cNvSpPr/>
            <p:nvPr/>
          </p:nvSpPr>
          <p:spPr>
            <a:xfrm>
              <a:off x="2502000" y="1434960"/>
              <a:ext cx="406080" cy="4060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508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Oval 25"/>
            <p:cNvSpPr/>
            <p:nvPr/>
          </p:nvSpPr>
          <p:spPr>
            <a:xfrm>
              <a:off x="2254320" y="2635200"/>
              <a:ext cx="291600" cy="291600"/>
            </a:xfrm>
            <a:prstGeom prst="ellipse">
              <a:avLst/>
            </a:prstGeom>
            <a:pattFill prst="openDmnd">
              <a:fgClr>
                <a:srgbClr val="0000ff"/>
              </a:fgClr>
              <a:bgClr>
                <a:srgbClr val="c0504d"/>
              </a:bgClr>
            </a:pattFill>
            <a:ln w="508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Oval 26"/>
            <p:cNvSpPr/>
            <p:nvPr/>
          </p:nvSpPr>
          <p:spPr>
            <a:xfrm>
              <a:off x="2158920" y="3149640"/>
              <a:ext cx="482400" cy="634680"/>
            </a:xfrm>
            <a:prstGeom prst="ellipse">
              <a:avLst/>
            </a:prstGeom>
            <a:pattFill prst="smCheck">
              <a:fgClr>
                <a:srgbClr val="4f81bd"/>
              </a:fgClr>
              <a:bgClr>
                <a:srgbClr val="eeece1"/>
              </a:bgClr>
            </a:pattFill>
            <a:ln w="50800">
              <a:solidFill>
                <a:srgbClr val="99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27"/>
            <p:cNvSpPr/>
            <p:nvPr/>
          </p:nvSpPr>
          <p:spPr>
            <a:xfrm>
              <a:off x="4819680" y="2419200"/>
              <a:ext cx="3106440" cy="934560"/>
            </a:xfrm>
            <a:custGeom>
              <a:avLst/>
              <a:gdLst>
                <a:gd name="textAreaLeft" fmla="*/ 0 w 3106440"/>
                <a:gd name="textAreaRight" fmla="*/ 3106800 w 3106440"/>
                <a:gd name="textAreaTop" fmla="*/ 0 h 934560"/>
                <a:gd name="textAreaBottom" fmla="*/ 934920 h 934560"/>
              </a:gdLst>
              <a:ahLst/>
              <a:rect l="textAreaLeft" t="textAreaTop" r="textAreaRight" b="textAreaBottom"/>
              <a:pathLst>
                <a:path w="1957" h="589">
                  <a:moveTo>
                    <a:pt x="1908" y="492"/>
                  </a:moveTo>
                  <a:lnTo>
                    <a:pt x="1908" y="444"/>
                  </a:lnTo>
                  <a:lnTo>
                    <a:pt x="1896" y="408"/>
                  </a:lnTo>
                  <a:lnTo>
                    <a:pt x="1872" y="360"/>
                  </a:lnTo>
                  <a:lnTo>
                    <a:pt x="1848" y="324"/>
                  </a:lnTo>
                  <a:lnTo>
                    <a:pt x="1824" y="288"/>
                  </a:lnTo>
                  <a:lnTo>
                    <a:pt x="1788" y="264"/>
                  </a:lnTo>
                  <a:lnTo>
                    <a:pt x="1752" y="228"/>
                  </a:lnTo>
                  <a:lnTo>
                    <a:pt x="1716" y="216"/>
                  </a:lnTo>
                  <a:lnTo>
                    <a:pt x="1680" y="192"/>
                  </a:lnTo>
                  <a:lnTo>
                    <a:pt x="1644" y="168"/>
                  </a:lnTo>
                  <a:lnTo>
                    <a:pt x="1608" y="156"/>
                  </a:lnTo>
                  <a:lnTo>
                    <a:pt x="1572" y="120"/>
                  </a:lnTo>
                  <a:lnTo>
                    <a:pt x="1536" y="120"/>
                  </a:lnTo>
                  <a:lnTo>
                    <a:pt x="1500" y="108"/>
                  </a:lnTo>
                  <a:lnTo>
                    <a:pt x="1452" y="84"/>
                  </a:lnTo>
                  <a:lnTo>
                    <a:pt x="1416" y="72"/>
                  </a:lnTo>
                  <a:lnTo>
                    <a:pt x="1368" y="60"/>
                  </a:lnTo>
                  <a:lnTo>
                    <a:pt x="1320" y="60"/>
                  </a:lnTo>
                  <a:lnTo>
                    <a:pt x="1284" y="48"/>
                  </a:lnTo>
                  <a:lnTo>
                    <a:pt x="1236" y="48"/>
                  </a:lnTo>
                  <a:lnTo>
                    <a:pt x="1188" y="36"/>
                  </a:lnTo>
                  <a:lnTo>
                    <a:pt x="1152" y="24"/>
                  </a:lnTo>
                  <a:lnTo>
                    <a:pt x="1116" y="24"/>
                  </a:lnTo>
                  <a:lnTo>
                    <a:pt x="1080" y="24"/>
                  </a:lnTo>
                  <a:lnTo>
                    <a:pt x="1032" y="24"/>
                  </a:lnTo>
                  <a:lnTo>
                    <a:pt x="984" y="12"/>
                  </a:lnTo>
                  <a:lnTo>
                    <a:pt x="936" y="12"/>
                  </a:lnTo>
                  <a:lnTo>
                    <a:pt x="888" y="12"/>
                  </a:lnTo>
                  <a:lnTo>
                    <a:pt x="840" y="12"/>
                  </a:lnTo>
                  <a:lnTo>
                    <a:pt x="792" y="12"/>
                  </a:lnTo>
                  <a:lnTo>
                    <a:pt x="696" y="12"/>
                  </a:lnTo>
                  <a:lnTo>
                    <a:pt x="624" y="12"/>
                  </a:lnTo>
                  <a:lnTo>
                    <a:pt x="576" y="12"/>
                  </a:lnTo>
                  <a:lnTo>
                    <a:pt x="528" y="12"/>
                  </a:lnTo>
                  <a:lnTo>
                    <a:pt x="480" y="12"/>
                  </a:lnTo>
                  <a:lnTo>
                    <a:pt x="444" y="0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40" y="0"/>
                  </a:lnTo>
                  <a:lnTo>
                    <a:pt x="204" y="12"/>
                  </a:lnTo>
                  <a:lnTo>
                    <a:pt x="168" y="12"/>
                  </a:lnTo>
                  <a:lnTo>
                    <a:pt x="132" y="36"/>
                  </a:lnTo>
                  <a:lnTo>
                    <a:pt x="96" y="48"/>
                  </a:lnTo>
                  <a:lnTo>
                    <a:pt x="60" y="60"/>
                  </a:lnTo>
                  <a:lnTo>
                    <a:pt x="36" y="96"/>
                  </a:lnTo>
                  <a:lnTo>
                    <a:pt x="0" y="132"/>
                  </a:lnTo>
                  <a:lnTo>
                    <a:pt x="0" y="168"/>
                  </a:lnTo>
                  <a:lnTo>
                    <a:pt x="12" y="204"/>
                  </a:lnTo>
                  <a:lnTo>
                    <a:pt x="60" y="228"/>
                  </a:lnTo>
                  <a:lnTo>
                    <a:pt x="108" y="264"/>
                  </a:lnTo>
                  <a:lnTo>
                    <a:pt x="144" y="288"/>
                  </a:lnTo>
                  <a:lnTo>
                    <a:pt x="180" y="300"/>
                  </a:lnTo>
                  <a:lnTo>
                    <a:pt x="216" y="300"/>
                  </a:lnTo>
                  <a:lnTo>
                    <a:pt x="252" y="312"/>
                  </a:lnTo>
                  <a:lnTo>
                    <a:pt x="300" y="336"/>
                  </a:lnTo>
                  <a:lnTo>
                    <a:pt x="336" y="336"/>
                  </a:lnTo>
                  <a:lnTo>
                    <a:pt x="372" y="348"/>
                  </a:lnTo>
                  <a:lnTo>
                    <a:pt x="408" y="348"/>
                  </a:lnTo>
                  <a:lnTo>
                    <a:pt x="444" y="360"/>
                  </a:lnTo>
                  <a:lnTo>
                    <a:pt x="480" y="372"/>
                  </a:lnTo>
                  <a:lnTo>
                    <a:pt x="528" y="384"/>
                  </a:lnTo>
                  <a:lnTo>
                    <a:pt x="600" y="384"/>
                  </a:lnTo>
                  <a:lnTo>
                    <a:pt x="636" y="396"/>
                  </a:lnTo>
                  <a:lnTo>
                    <a:pt x="720" y="408"/>
                  </a:lnTo>
                  <a:lnTo>
                    <a:pt x="804" y="420"/>
                  </a:lnTo>
                  <a:lnTo>
                    <a:pt x="840" y="420"/>
                  </a:lnTo>
                  <a:lnTo>
                    <a:pt x="876" y="432"/>
                  </a:lnTo>
                  <a:lnTo>
                    <a:pt x="912" y="444"/>
                  </a:lnTo>
                  <a:lnTo>
                    <a:pt x="948" y="468"/>
                  </a:lnTo>
                  <a:lnTo>
                    <a:pt x="972" y="504"/>
                  </a:lnTo>
                  <a:lnTo>
                    <a:pt x="996" y="540"/>
                  </a:lnTo>
                  <a:lnTo>
                    <a:pt x="996" y="576"/>
                  </a:lnTo>
                  <a:lnTo>
                    <a:pt x="1032" y="588"/>
                  </a:lnTo>
                  <a:lnTo>
                    <a:pt x="1128" y="588"/>
                  </a:lnTo>
                  <a:lnTo>
                    <a:pt x="1164" y="588"/>
                  </a:lnTo>
                  <a:lnTo>
                    <a:pt x="1212" y="588"/>
                  </a:lnTo>
                  <a:lnTo>
                    <a:pt x="1248" y="588"/>
                  </a:lnTo>
                  <a:lnTo>
                    <a:pt x="1284" y="588"/>
                  </a:lnTo>
                  <a:lnTo>
                    <a:pt x="1332" y="588"/>
                  </a:lnTo>
                  <a:lnTo>
                    <a:pt x="1368" y="588"/>
                  </a:lnTo>
                  <a:lnTo>
                    <a:pt x="1404" y="588"/>
                  </a:lnTo>
                  <a:lnTo>
                    <a:pt x="1452" y="588"/>
                  </a:lnTo>
                  <a:lnTo>
                    <a:pt x="1500" y="588"/>
                  </a:lnTo>
                  <a:lnTo>
                    <a:pt x="1548" y="588"/>
                  </a:lnTo>
                  <a:lnTo>
                    <a:pt x="1584" y="588"/>
                  </a:lnTo>
                  <a:lnTo>
                    <a:pt x="1620" y="588"/>
                  </a:lnTo>
                  <a:lnTo>
                    <a:pt x="1656" y="588"/>
                  </a:lnTo>
                  <a:lnTo>
                    <a:pt x="1704" y="588"/>
                  </a:lnTo>
                  <a:lnTo>
                    <a:pt x="1752" y="588"/>
                  </a:lnTo>
                  <a:lnTo>
                    <a:pt x="1788" y="588"/>
                  </a:lnTo>
                  <a:lnTo>
                    <a:pt x="1824" y="588"/>
                  </a:lnTo>
                  <a:lnTo>
                    <a:pt x="1860" y="588"/>
                  </a:lnTo>
                  <a:lnTo>
                    <a:pt x="1896" y="576"/>
                  </a:lnTo>
                  <a:lnTo>
                    <a:pt x="1932" y="576"/>
                  </a:lnTo>
                  <a:lnTo>
                    <a:pt x="1956" y="540"/>
                  </a:lnTo>
                  <a:lnTo>
                    <a:pt x="1908" y="492"/>
                  </a:lnTo>
                  <a:lnTo>
                    <a:pt x="1908" y="492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eeece1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28"/>
            <p:cNvSpPr/>
            <p:nvPr/>
          </p:nvSpPr>
          <p:spPr>
            <a:xfrm>
              <a:off x="4838760" y="2400480"/>
              <a:ext cx="2096640" cy="953640"/>
            </a:xfrm>
            <a:custGeom>
              <a:avLst/>
              <a:gdLst>
                <a:gd name="textAreaLeft" fmla="*/ 0 w 2096640"/>
                <a:gd name="textAreaRight" fmla="*/ 2097000 w 2096640"/>
                <a:gd name="textAreaTop" fmla="*/ 0 h 953640"/>
                <a:gd name="textAreaBottom" fmla="*/ 954000 h 953640"/>
              </a:gdLst>
              <a:ahLst/>
              <a:rect l="textAreaLeft" t="textAreaTop" r="textAreaRight" b="textAreaBottom"/>
              <a:pathLst>
                <a:path w="1321" h="601">
                  <a:moveTo>
                    <a:pt x="1032" y="600"/>
                  </a:moveTo>
                  <a:lnTo>
                    <a:pt x="984" y="564"/>
                  </a:lnTo>
                  <a:lnTo>
                    <a:pt x="960" y="528"/>
                  </a:lnTo>
                  <a:lnTo>
                    <a:pt x="924" y="492"/>
                  </a:lnTo>
                  <a:lnTo>
                    <a:pt x="888" y="468"/>
                  </a:lnTo>
                  <a:lnTo>
                    <a:pt x="852" y="444"/>
                  </a:lnTo>
                  <a:lnTo>
                    <a:pt x="816" y="444"/>
                  </a:lnTo>
                  <a:lnTo>
                    <a:pt x="780" y="432"/>
                  </a:lnTo>
                  <a:lnTo>
                    <a:pt x="744" y="420"/>
                  </a:lnTo>
                  <a:lnTo>
                    <a:pt x="708" y="420"/>
                  </a:lnTo>
                  <a:lnTo>
                    <a:pt x="672" y="420"/>
                  </a:lnTo>
                  <a:lnTo>
                    <a:pt x="636" y="420"/>
                  </a:lnTo>
                  <a:lnTo>
                    <a:pt x="600" y="420"/>
                  </a:lnTo>
                  <a:lnTo>
                    <a:pt x="564" y="420"/>
                  </a:lnTo>
                  <a:lnTo>
                    <a:pt x="528" y="408"/>
                  </a:lnTo>
                  <a:lnTo>
                    <a:pt x="492" y="396"/>
                  </a:lnTo>
                  <a:lnTo>
                    <a:pt x="456" y="396"/>
                  </a:lnTo>
                  <a:lnTo>
                    <a:pt x="420" y="384"/>
                  </a:lnTo>
                  <a:lnTo>
                    <a:pt x="384" y="372"/>
                  </a:lnTo>
                  <a:lnTo>
                    <a:pt x="348" y="372"/>
                  </a:lnTo>
                  <a:lnTo>
                    <a:pt x="312" y="360"/>
                  </a:lnTo>
                  <a:lnTo>
                    <a:pt x="276" y="348"/>
                  </a:lnTo>
                  <a:lnTo>
                    <a:pt x="240" y="336"/>
                  </a:lnTo>
                  <a:lnTo>
                    <a:pt x="204" y="324"/>
                  </a:lnTo>
                  <a:lnTo>
                    <a:pt x="168" y="312"/>
                  </a:lnTo>
                  <a:lnTo>
                    <a:pt x="132" y="300"/>
                  </a:lnTo>
                  <a:lnTo>
                    <a:pt x="96" y="276"/>
                  </a:lnTo>
                  <a:lnTo>
                    <a:pt x="60" y="252"/>
                  </a:lnTo>
                  <a:lnTo>
                    <a:pt x="24" y="228"/>
                  </a:lnTo>
                  <a:lnTo>
                    <a:pt x="0" y="192"/>
                  </a:lnTo>
                  <a:lnTo>
                    <a:pt x="0" y="156"/>
                  </a:lnTo>
                  <a:lnTo>
                    <a:pt x="0" y="120"/>
                  </a:lnTo>
                  <a:lnTo>
                    <a:pt x="36" y="84"/>
                  </a:lnTo>
                  <a:lnTo>
                    <a:pt x="72" y="72"/>
                  </a:lnTo>
                  <a:lnTo>
                    <a:pt x="108" y="48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60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16" y="0"/>
                  </a:lnTo>
                  <a:lnTo>
                    <a:pt x="552" y="0"/>
                  </a:lnTo>
                  <a:lnTo>
                    <a:pt x="588" y="0"/>
                  </a:lnTo>
                  <a:lnTo>
                    <a:pt x="624" y="0"/>
                  </a:lnTo>
                  <a:lnTo>
                    <a:pt x="660" y="0"/>
                  </a:lnTo>
                  <a:lnTo>
                    <a:pt x="708" y="12"/>
                  </a:lnTo>
                  <a:lnTo>
                    <a:pt x="744" y="24"/>
                  </a:lnTo>
                  <a:lnTo>
                    <a:pt x="780" y="24"/>
                  </a:lnTo>
                  <a:lnTo>
                    <a:pt x="816" y="24"/>
                  </a:lnTo>
                  <a:lnTo>
                    <a:pt x="852" y="24"/>
                  </a:lnTo>
                  <a:lnTo>
                    <a:pt x="888" y="24"/>
                  </a:lnTo>
                  <a:lnTo>
                    <a:pt x="924" y="24"/>
                  </a:lnTo>
                  <a:lnTo>
                    <a:pt x="960" y="24"/>
                  </a:lnTo>
                  <a:lnTo>
                    <a:pt x="996" y="24"/>
                  </a:lnTo>
                  <a:lnTo>
                    <a:pt x="1032" y="36"/>
                  </a:lnTo>
                  <a:lnTo>
                    <a:pt x="1068" y="36"/>
                  </a:lnTo>
                  <a:lnTo>
                    <a:pt x="1104" y="36"/>
                  </a:lnTo>
                  <a:lnTo>
                    <a:pt x="1140" y="36"/>
                  </a:lnTo>
                  <a:lnTo>
                    <a:pt x="1176" y="36"/>
                  </a:lnTo>
                  <a:lnTo>
                    <a:pt x="1212" y="48"/>
                  </a:lnTo>
                  <a:lnTo>
                    <a:pt x="1248" y="48"/>
                  </a:lnTo>
                  <a:lnTo>
                    <a:pt x="1284" y="60"/>
                  </a:lnTo>
                  <a:lnTo>
                    <a:pt x="1320" y="60"/>
                  </a:lnTo>
                  <a:lnTo>
                    <a:pt x="1320" y="72"/>
                  </a:lnTo>
                </a:path>
              </a:pathLst>
            </a:custGeom>
            <a:noFill/>
            <a:ln cap="rnd" w="50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29"/>
            <p:cNvSpPr/>
            <p:nvPr/>
          </p:nvSpPr>
          <p:spPr>
            <a:xfrm>
              <a:off x="5105520" y="2552760"/>
              <a:ext cx="2668320" cy="839520"/>
            </a:xfrm>
            <a:custGeom>
              <a:avLst/>
              <a:gdLst>
                <a:gd name="textAreaLeft" fmla="*/ 0 w 2668320"/>
                <a:gd name="textAreaRight" fmla="*/ 2668680 w 266832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1681" h="529">
                  <a:moveTo>
                    <a:pt x="1680" y="456"/>
                  </a:moveTo>
                  <a:lnTo>
                    <a:pt x="1632" y="456"/>
                  </a:lnTo>
                  <a:lnTo>
                    <a:pt x="1632" y="420"/>
                  </a:lnTo>
                  <a:lnTo>
                    <a:pt x="1608" y="384"/>
                  </a:lnTo>
                  <a:lnTo>
                    <a:pt x="1584" y="348"/>
                  </a:lnTo>
                  <a:lnTo>
                    <a:pt x="1548" y="312"/>
                  </a:lnTo>
                  <a:lnTo>
                    <a:pt x="1512" y="288"/>
                  </a:lnTo>
                  <a:lnTo>
                    <a:pt x="1476" y="252"/>
                  </a:lnTo>
                  <a:lnTo>
                    <a:pt x="1440" y="240"/>
                  </a:lnTo>
                  <a:lnTo>
                    <a:pt x="1404" y="228"/>
                  </a:lnTo>
                  <a:lnTo>
                    <a:pt x="1368" y="204"/>
                  </a:lnTo>
                  <a:lnTo>
                    <a:pt x="1332" y="180"/>
                  </a:lnTo>
                  <a:lnTo>
                    <a:pt x="1296" y="168"/>
                  </a:lnTo>
                  <a:lnTo>
                    <a:pt x="1260" y="156"/>
                  </a:lnTo>
                  <a:lnTo>
                    <a:pt x="1224" y="132"/>
                  </a:lnTo>
                  <a:lnTo>
                    <a:pt x="1188" y="120"/>
                  </a:lnTo>
                  <a:lnTo>
                    <a:pt x="1152" y="108"/>
                  </a:lnTo>
                  <a:lnTo>
                    <a:pt x="1116" y="96"/>
                  </a:lnTo>
                  <a:lnTo>
                    <a:pt x="1080" y="96"/>
                  </a:lnTo>
                  <a:lnTo>
                    <a:pt x="1044" y="84"/>
                  </a:lnTo>
                  <a:lnTo>
                    <a:pt x="1008" y="72"/>
                  </a:lnTo>
                  <a:lnTo>
                    <a:pt x="972" y="72"/>
                  </a:lnTo>
                  <a:lnTo>
                    <a:pt x="936" y="72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60"/>
                  </a:lnTo>
                  <a:lnTo>
                    <a:pt x="792" y="60"/>
                  </a:lnTo>
                  <a:lnTo>
                    <a:pt x="756" y="48"/>
                  </a:lnTo>
                  <a:lnTo>
                    <a:pt x="720" y="36"/>
                  </a:lnTo>
                  <a:lnTo>
                    <a:pt x="684" y="36"/>
                  </a:lnTo>
                  <a:lnTo>
                    <a:pt x="648" y="24"/>
                  </a:lnTo>
                  <a:lnTo>
                    <a:pt x="612" y="24"/>
                  </a:lnTo>
                  <a:lnTo>
                    <a:pt x="564" y="24"/>
                  </a:lnTo>
                  <a:lnTo>
                    <a:pt x="528" y="12"/>
                  </a:lnTo>
                  <a:lnTo>
                    <a:pt x="492" y="12"/>
                  </a:lnTo>
                  <a:lnTo>
                    <a:pt x="456" y="12"/>
                  </a:lnTo>
                  <a:lnTo>
                    <a:pt x="420" y="12"/>
                  </a:lnTo>
                  <a:lnTo>
                    <a:pt x="372" y="12"/>
                  </a:lnTo>
                  <a:lnTo>
                    <a:pt x="336" y="12"/>
                  </a:lnTo>
                  <a:lnTo>
                    <a:pt x="300" y="0"/>
                  </a:lnTo>
                  <a:lnTo>
                    <a:pt x="264" y="0"/>
                  </a:lnTo>
                  <a:lnTo>
                    <a:pt x="228" y="0"/>
                  </a:lnTo>
                  <a:lnTo>
                    <a:pt x="192" y="0"/>
                  </a:lnTo>
                  <a:lnTo>
                    <a:pt x="156" y="0"/>
                  </a:lnTo>
                  <a:lnTo>
                    <a:pt x="120" y="0"/>
                  </a:lnTo>
                  <a:lnTo>
                    <a:pt x="84" y="0"/>
                  </a:lnTo>
                  <a:lnTo>
                    <a:pt x="48" y="0"/>
                  </a:lnTo>
                  <a:lnTo>
                    <a:pt x="12" y="12"/>
                  </a:lnTo>
                  <a:lnTo>
                    <a:pt x="0" y="48"/>
                  </a:lnTo>
                  <a:lnTo>
                    <a:pt x="0" y="84"/>
                  </a:lnTo>
                  <a:lnTo>
                    <a:pt x="24" y="120"/>
                  </a:lnTo>
                  <a:lnTo>
                    <a:pt x="60" y="144"/>
                  </a:lnTo>
                  <a:lnTo>
                    <a:pt x="96" y="156"/>
                  </a:lnTo>
                  <a:lnTo>
                    <a:pt x="132" y="156"/>
                  </a:lnTo>
                  <a:lnTo>
                    <a:pt x="180" y="156"/>
                  </a:lnTo>
                  <a:lnTo>
                    <a:pt x="216" y="156"/>
                  </a:lnTo>
                  <a:lnTo>
                    <a:pt x="252" y="156"/>
                  </a:lnTo>
                  <a:lnTo>
                    <a:pt x="288" y="168"/>
                  </a:lnTo>
                  <a:lnTo>
                    <a:pt x="324" y="180"/>
                  </a:lnTo>
                  <a:lnTo>
                    <a:pt x="360" y="192"/>
                  </a:lnTo>
                  <a:lnTo>
                    <a:pt x="396" y="204"/>
                  </a:lnTo>
                  <a:lnTo>
                    <a:pt x="432" y="204"/>
                  </a:lnTo>
                  <a:lnTo>
                    <a:pt x="468" y="216"/>
                  </a:lnTo>
                  <a:lnTo>
                    <a:pt x="504" y="228"/>
                  </a:lnTo>
                  <a:lnTo>
                    <a:pt x="540" y="228"/>
                  </a:lnTo>
                  <a:lnTo>
                    <a:pt x="576" y="240"/>
                  </a:lnTo>
                  <a:lnTo>
                    <a:pt x="612" y="240"/>
                  </a:lnTo>
                  <a:lnTo>
                    <a:pt x="648" y="252"/>
                  </a:lnTo>
                  <a:lnTo>
                    <a:pt x="684" y="264"/>
                  </a:lnTo>
                  <a:lnTo>
                    <a:pt x="720" y="276"/>
                  </a:lnTo>
                  <a:lnTo>
                    <a:pt x="756" y="288"/>
                  </a:lnTo>
                  <a:lnTo>
                    <a:pt x="792" y="300"/>
                  </a:lnTo>
                  <a:lnTo>
                    <a:pt x="828" y="312"/>
                  </a:lnTo>
                  <a:lnTo>
                    <a:pt x="864" y="324"/>
                  </a:lnTo>
                  <a:lnTo>
                    <a:pt x="900" y="348"/>
                  </a:lnTo>
                  <a:lnTo>
                    <a:pt x="948" y="384"/>
                  </a:lnTo>
                  <a:lnTo>
                    <a:pt x="972" y="420"/>
                  </a:lnTo>
                  <a:lnTo>
                    <a:pt x="984" y="456"/>
                  </a:lnTo>
                  <a:lnTo>
                    <a:pt x="984" y="492"/>
                  </a:lnTo>
                  <a:lnTo>
                    <a:pt x="1020" y="492"/>
                  </a:lnTo>
                  <a:lnTo>
                    <a:pt x="1056" y="504"/>
                  </a:lnTo>
                  <a:lnTo>
                    <a:pt x="1092" y="504"/>
                  </a:lnTo>
                  <a:lnTo>
                    <a:pt x="1140" y="516"/>
                  </a:lnTo>
                  <a:lnTo>
                    <a:pt x="1188" y="528"/>
                  </a:lnTo>
                  <a:lnTo>
                    <a:pt x="1236" y="528"/>
                  </a:lnTo>
                  <a:lnTo>
                    <a:pt x="1272" y="528"/>
                  </a:lnTo>
                  <a:lnTo>
                    <a:pt x="1308" y="528"/>
                  </a:lnTo>
                  <a:lnTo>
                    <a:pt x="1344" y="528"/>
                  </a:lnTo>
                  <a:lnTo>
                    <a:pt x="1380" y="528"/>
                  </a:lnTo>
                  <a:lnTo>
                    <a:pt x="1428" y="528"/>
                  </a:lnTo>
                  <a:lnTo>
                    <a:pt x="1464" y="528"/>
                  </a:lnTo>
                  <a:lnTo>
                    <a:pt x="1500" y="528"/>
                  </a:lnTo>
                  <a:lnTo>
                    <a:pt x="1536" y="528"/>
                  </a:lnTo>
                  <a:lnTo>
                    <a:pt x="1572" y="528"/>
                  </a:lnTo>
                  <a:lnTo>
                    <a:pt x="1620" y="528"/>
                  </a:lnTo>
                  <a:lnTo>
                    <a:pt x="1656" y="528"/>
                  </a:lnTo>
                  <a:lnTo>
                    <a:pt x="1680" y="456"/>
                  </a:lnTo>
                  <a:lnTo>
                    <a:pt x="1632" y="444"/>
                  </a:lnTo>
                  <a:lnTo>
                    <a:pt x="1632" y="456"/>
                  </a:lnTo>
                </a:path>
              </a:pathLst>
            </a:custGeom>
            <a:pattFill prst="ltUpDiag">
              <a:fgClr>
                <a:srgbClr val="ffcc66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30"/>
            <p:cNvSpPr/>
            <p:nvPr/>
          </p:nvSpPr>
          <p:spPr>
            <a:xfrm>
              <a:off x="7010280" y="2514600"/>
              <a:ext cx="858600" cy="686880"/>
            </a:xfrm>
            <a:custGeom>
              <a:avLst/>
              <a:gdLst>
                <a:gd name="textAreaLeft" fmla="*/ 0 w 858600"/>
                <a:gd name="textAreaRight" fmla="*/ 858960 w 85860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541" h="433">
                  <a:moveTo>
                    <a:pt x="528" y="432"/>
                  </a:moveTo>
                  <a:lnTo>
                    <a:pt x="540" y="384"/>
                  </a:lnTo>
                  <a:lnTo>
                    <a:pt x="528" y="348"/>
                  </a:lnTo>
                  <a:lnTo>
                    <a:pt x="504" y="312"/>
                  </a:lnTo>
                  <a:lnTo>
                    <a:pt x="480" y="276"/>
                  </a:lnTo>
                  <a:lnTo>
                    <a:pt x="444" y="252"/>
                  </a:lnTo>
                  <a:lnTo>
                    <a:pt x="408" y="216"/>
                  </a:lnTo>
                  <a:lnTo>
                    <a:pt x="396" y="180"/>
                  </a:lnTo>
                  <a:lnTo>
                    <a:pt x="360" y="156"/>
                  </a:lnTo>
                  <a:lnTo>
                    <a:pt x="324" y="132"/>
                  </a:lnTo>
                  <a:lnTo>
                    <a:pt x="288" y="120"/>
                  </a:lnTo>
                  <a:lnTo>
                    <a:pt x="252" y="96"/>
                  </a:lnTo>
                  <a:lnTo>
                    <a:pt x="216" y="84"/>
                  </a:lnTo>
                  <a:lnTo>
                    <a:pt x="180" y="72"/>
                  </a:lnTo>
                  <a:lnTo>
                    <a:pt x="144" y="60"/>
                  </a:lnTo>
                  <a:lnTo>
                    <a:pt x="108" y="48"/>
                  </a:lnTo>
                  <a:lnTo>
                    <a:pt x="72" y="36"/>
                  </a:lnTo>
                  <a:lnTo>
                    <a:pt x="36" y="12"/>
                  </a:lnTo>
                  <a:lnTo>
                    <a:pt x="0" y="0"/>
                  </a:lnTo>
                </a:path>
              </a:pathLst>
            </a:custGeom>
            <a:noFill/>
            <a:ln cap="rnd" w="50800">
              <a:solidFill>
                <a:srgbClr val="99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1" name="Group 33"/>
            <p:cNvGrpSpPr/>
            <p:nvPr/>
          </p:nvGrpSpPr>
          <p:grpSpPr>
            <a:xfrm>
              <a:off x="4190760" y="1143000"/>
              <a:ext cx="2057400" cy="1066680"/>
              <a:chOff x="4190760" y="1143000"/>
              <a:chExt cx="2057400" cy="1066680"/>
            </a:xfrm>
          </p:grpSpPr>
          <p:sp>
            <p:nvSpPr>
              <p:cNvPr id="452" name="Line 31"/>
              <p:cNvSpPr/>
              <p:nvPr/>
            </p:nvSpPr>
            <p:spPr>
              <a:xfrm>
                <a:off x="4190760" y="1523880"/>
                <a:ext cx="1447920" cy="68580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Rectangle 32"/>
              <p:cNvSpPr/>
              <p:nvPr/>
            </p:nvSpPr>
            <p:spPr>
              <a:xfrm flipH="1">
                <a:off x="4572000" y="1143000"/>
                <a:ext cx="1676160" cy="5054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9600" bIns="39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400"/>
                  </a:spcBef>
                </a:pPr>
                <a:r>
                  <a:rPr b="1" lang="ru-RU" sz="2800" spc="-1" strike="noStrike">
                    <a:solidFill>
                      <a:schemeClr val="hlink"/>
                    </a:solidFill>
                    <a:latin typeface="Arial"/>
                  </a:rPr>
                  <a:t>ARCH  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Line 34"/>
            <p:cNvSpPr/>
            <p:nvPr/>
          </p:nvSpPr>
          <p:spPr>
            <a:xfrm flipV="1">
              <a:off x="4190760" y="3124080"/>
              <a:ext cx="2895840" cy="152280"/>
            </a:xfrm>
            <a:prstGeom prst="line">
              <a:avLst/>
            </a:prstGeom>
            <a:ln w="50800">
              <a:solidFill>
                <a:srgbClr val="f79646">
                  <a:lumMod val="50000"/>
                </a:srgbClr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Rectangle 35"/>
            <p:cNvSpPr/>
            <p:nvPr/>
          </p:nvSpPr>
          <p:spPr>
            <a:xfrm flipH="1">
              <a:off x="4724280" y="3505320"/>
              <a:ext cx="167616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ARCH II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6"/>
            <p:cNvSpPr/>
            <p:nvPr/>
          </p:nvSpPr>
          <p:spPr>
            <a:xfrm>
              <a:off x="4190760" y="1600200"/>
              <a:ext cx="1295640" cy="609480"/>
            </a:xfrm>
            <a:prstGeom prst="line">
              <a:avLst/>
            </a:prstGeom>
            <a:ln w="5080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Oval 37"/>
            <p:cNvSpPr/>
            <p:nvPr/>
          </p:nvSpPr>
          <p:spPr>
            <a:xfrm>
              <a:off x="3517920" y="5499000"/>
              <a:ext cx="202680" cy="2026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Oval 38"/>
            <p:cNvSpPr/>
            <p:nvPr/>
          </p:nvSpPr>
          <p:spPr>
            <a:xfrm>
              <a:off x="4159080" y="5454720"/>
              <a:ext cx="291600" cy="291600"/>
            </a:xfrm>
            <a:prstGeom prst="ellipse">
              <a:avLst/>
            </a:prstGeom>
            <a:pattFill prst="openDmnd">
              <a:fgClr>
                <a:srgbClr val="0000ff"/>
              </a:fgClr>
              <a:bgClr>
                <a:srgbClr val="c0504d"/>
              </a:bgClr>
            </a:pattFill>
            <a:ln w="508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Line 39"/>
            <p:cNvSpPr/>
            <p:nvPr/>
          </p:nvSpPr>
          <p:spPr>
            <a:xfrm flipH="1">
              <a:off x="7010280" y="1676160"/>
              <a:ext cx="228600" cy="762120"/>
            </a:xfrm>
            <a:prstGeom prst="line">
              <a:avLst/>
            </a:prstGeom>
            <a:ln w="12700">
              <a:solidFill>
                <a:srgbClr val="f79646">
                  <a:lumMod val="50000"/>
                </a:srgbClr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Rectangle 40"/>
            <p:cNvSpPr/>
            <p:nvPr/>
          </p:nvSpPr>
          <p:spPr>
            <a:xfrm flipH="1">
              <a:off x="7162200" y="1295280"/>
              <a:ext cx="1828440" cy="627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Terminal sul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41"/>
            <p:cNvSpPr/>
            <p:nvPr/>
          </p:nvSpPr>
          <p:spPr>
            <a:xfrm flipH="1">
              <a:off x="6705720" y="5562720"/>
              <a:ext cx="2436480" cy="3222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TONG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4" descr=""/>
          <p:cNvPicPr/>
          <p:nvPr/>
        </p:nvPicPr>
        <p:blipFill>
          <a:blip r:embed="rId1"/>
          <a:stretch/>
        </p:blipFill>
        <p:spPr>
          <a:xfrm>
            <a:off x="324000" y="-228600"/>
            <a:ext cx="8496000" cy="7086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58"/>
          <p:cNvGrpSpPr/>
          <p:nvPr/>
        </p:nvGrpSpPr>
        <p:grpSpPr>
          <a:xfrm>
            <a:off x="0" y="157320"/>
            <a:ext cx="9144720" cy="6622560"/>
            <a:chOff x="0" y="157320"/>
            <a:chExt cx="9144720" cy="6622560"/>
          </a:xfrm>
        </p:grpSpPr>
        <p:sp>
          <p:nvSpPr>
            <p:cNvPr id="464" name="Rectangle 2"/>
            <p:cNvSpPr/>
            <p:nvPr/>
          </p:nvSpPr>
          <p:spPr>
            <a:xfrm>
              <a:off x="1828800" y="157320"/>
              <a:ext cx="5333760" cy="51840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accent2"/>
                  </a:solidFill>
                  <a:latin typeface="Arial"/>
                </a:rPr>
                <a:t>TONGUE MALFORMATIONS 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3"/>
            <p:cNvSpPr/>
            <p:nvPr/>
          </p:nvSpPr>
          <p:spPr>
            <a:xfrm>
              <a:off x="735120" y="128736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cce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Oval 4"/>
            <p:cNvSpPr/>
            <p:nvPr/>
          </p:nvSpPr>
          <p:spPr>
            <a:xfrm>
              <a:off x="3478320" y="128736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cce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AutoShape 5"/>
            <p:cNvSpPr/>
            <p:nvPr/>
          </p:nvSpPr>
          <p:spPr>
            <a:xfrm>
              <a:off x="892080" y="1262160"/>
              <a:ext cx="3107880" cy="731520"/>
            </a:xfrm>
            <a:prstGeom prst="octagon">
              <a:avLst>
                <a:gd name="adj" fmla="val 29282"/>
              </a:avLst>
            </a:prstGeom>
            <a:pattFill prst="openDmnd">
              <a:fgClr>
                <a:srgbClr val="c0504d"/>
              </a:fgClr>
              <a:bgClr>
                <a:srgbClr val="ccec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8" name="Group 9"/>
            <p:cNvGrpSpPr/>
            <p:nvPr/>
          </p:nvGrpSpPr>
          <p:grpSpPr>
            <a:xfrm>
              <a:off x="735120" y="2084400"/>
              <a:ext cx="3331800" cy="731520"/>
              <a:chOff x="735120" y="2084400"/>
              <a:chExt cx="3331800" cy="731520"/>
            </a:xfrm>
          </p:grpSpPr>
          <p:sp>
            <p:nvSpPr>
              <p:cNvPr id="469" name="Oval 6"/>
              <p:cNvSpPr/>
              <p:nvPr/>
            </p:nvSpPr>
            <p:spPr>
              <a:xfrm>
                <a:off x="735120" y="2109960"/>
                <a:ext cx="588600" cy="680760"/>
              </a:xfrm>
              <a:prstGeom prst="ellipse">
                <a:avLst/>
              </a:prstGeom>
              <a:pattFill prst="openDmnd">
                <a:fgClr>
                  <a:srgbClr val="ccecff"/>
                </a:fgClr>
                <a:bgClr>
                  <a:srgbClr val="c0504d"/>
                </a:bgClr>
              </a:pattFill>
              <a:ln w="508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Oval 7"/>
              <p:cNvSpPr/>
              <p:nvPr/>
            </p:nvSpPr>
            <p:spPr>
              <a:xfrm>
                <a:off x="3478320" y="2109960"/>
                <a:ext cx="588600" cy="680760"/>
              </a:xfrm>
              <a:prstGeom prst="ellipse">
                <a:avLst/>
              </a:prstGeom>
              <a:pattFill prst="openDmnd">
                <a:fgClr>
                  <a:srgbClr val="ccecff"/>
                </a:fgClr>
                <a:bgClr>
                  <a:srgbClr val="c0504d"/>
                </a:bgClr>
              </a:pattFill>
              <a:ln w="508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AutoShape 8"/>
              <p:cNvSpPr/>
              <p:nvPr/>
            </p:nvSpPr>
            <p:spPr>
              <a:xfrm>
                <a:off x="892080" y="2084400"/>
                <a:ext cx="3107880" cy="731520"/>
              </a:xfrm>
              <a:prstGeom prst="octagon">
                <a:avLst>
                  <a:gd name="adj" fmla="val 29282"/>
                </a:avLst>
              </a:prstGeom>
              <a:pattFill prst="openDmnd">
                <a:fgClr>
                  <a:srgbClr val="ccecff"/>
                </a:fgClr>
                <a:bgClr>
                  <a:srgbClr val="c0504d"/>
                </a:bgClr>
              </a:patt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2" name="Oval 10"/>
            <p:cNvSpPr/>
            <p:nvPr/>
          </p:nvSpPr>
          <p:spPr>
            <a:xfrm>
              <a:off x="735120" y="2933640"/>
              <a:ext cx="588600" cy="680760"/>
            </a:xfrm>
            <a:prstGeom prst="ellipse">
              <a:avLst/>
            </a:prstGeom>
            <a:pattFill prst="openDmnd">
              <a:fgClr>
                <a:srgbClr val="99ffff"/>
              </a:fgClr>
              <a:bgClr>
                <a:srgbClr val="c0504d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Oval 11"/>
            <p:cNvSpPr/>
            <p:nvPr/>
          </p:nvSpPr>
          <p:spPr>
            <a:xfrm>
              <a:off x="3478320" y="2933640"/>
              <a:ext cx="588600" cy="680760"/>
            </a:xfrm>
            <a:prstGeom prst="ellipse">
              <a:avLst/>
            </a:prstGeom>
            <a:pattFill prst="openDmnd">
              <a:fgClr>
                <a:srgbClr val="99ffff"/>
              </a:fgClr>
              <a:bgClr>
                <a:srgbClr val="c0504d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AutoShape 12"/>
            <p:cNvSpPr/>
            <p:nvPr/>
          </p:nvSpPr>
          <p:spPr>
            <a:xfrm>
              <a:off x="892080" y="2908440"/>
              <a:ext cx="3107880" cy="731520"/>
            </a:xfrm>
            <a:prstGeom prst="octagon">
              <a:avLst>
                <a:gd name="adj" fmla="val 29282"/>
              </a:avLst>
            </a:prstGeom>
            <a:pattFill prst="openDmnd">
              <a:fgClr>
                <a:srgbClr val="99ffff"/>
              </a:fgClr>
              <a:bgClr>
                <a:srgbClr val="c0504d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Oval 13"/>
            <p:cNvSpPr/>
            <p:nvPr/>
          </p:nvSpPr>
          <p:spPr>
            <a:xfrm>
              <a:off x="735120" y="375588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66c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Oval 14"/>
            <p:cNvSpPr/>
            <p:nvPr/>
          </p:nvSpPr>
          <p:spPr>
            <a:xfrm>
              <a:off x="3478320" y="3755880"/>
              <a:ext cx="588600" cy="68076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66ccff"/>
              </a:bgClr>
            </a:pattFill>
            <a:ln w="50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AutoShape 15"/>
            <p:cNvSpPr/>
            <p:nvPr/>
          </p:nvSpPr>
          <p:spPr>
            <a:xfrm>
              <a:off x="892080" y="3730680"/>
              <a:ext cx="3107880" cy="731520"/>
            </a:xfrm>
            <a:prstGeom prst="octagon">
              <a:avLst>
                <a:gd name="adj" fmla="val 29282"/>
              </a:avLst>
            </a:prstGeom>
            <a:pattFill prst="openDmnd">
              <a:fgClr>
                <a:srgbClr val="c0504d"/>
              </a:fgClr>
              <a:bgClr>
                <a:srgbClr val="66cc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Rectangle 16"/>
            <p:cNvSpPr/>
            <p:nvPr/>
          </p:nvSpPr>
          <p:spPr>
            <a:xfrm flipH="1">
              <a:off x="0" y="766800"/>
              <a:ext cx="1142640" cy="353160"/>
            </a:xfrm>
            <a:prstGeom prst="rect">
              <a:avLst/>
            </a:prstGeom>
            <a:noFill/>
            <a:ln w="9525">
              <a:solidFill>
                <a:srgbClr val="f79646">
                  <a:lumMod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7"/>
            <p:cNvSpPr/>
            <p:nvPr/>
          </p:nvSpPr>
          <p:spPr>
            <a:xfrm flipH="1">
              <a:off x="380160" y="1376280"/>
              <a:ext cx="38052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hlink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8"/>
            <p:cNvSpPr/>
            <p:nvPr/>
          </p:nvSpPr>
          <p:spPr>
            <a:xfrm flipH="1">
              <a:off x="380160" y="2290680"/>
              <a:ext cx="380520" cy="353160"/>
            </a:xfrm>
            <a:prstGeom prst="rect">
              <a:avLst/>
            </a:prstGeom>
            <a:noFill/>
            <a:ln w="9525">
              <a:solidFill>
                <a:srgbClr val="f79646">
                  <a:lumMod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9"/>
            <p:cNvSpPr/>
            <p:nvPr/>
          </p:nvSpPr>
          <p:spPr>
            <a:xfrm flipH="1">
              <a:off x="304920" y="3052800"/>
              <a:ext cx="60912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rgbClr val="99ffff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20"/>
            <p:cNvSpPr/>
            <p:nvPr/>
          </p:nvSpPr>
          <p:spPr>
            <a:xfrm flipH="1">
              <a:off x="227880" y="3890880"/>
              <a:ext cx="53316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rgbClr val="ff00cc"/>
                  </a:solidFill>
                  <a:latin typeface="Arial"/>
                </a:rPr>
                <a:t>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21"/>
            <p:cNvSpPr/>
            <p:nvPr/>
          </p:nvSpPr>
          <p:spPr>
            <a:xfrm>
              <a:off x="2298600" y="1846440"/>
              <a:ext cx="202680" cy="2026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25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Oval 22"/>
            <p:cNvSpPr/>
            <p:nvPr/>
          </p:nvSpPr>
          <p:spPr>
            <a:xfrm>
              <a:off x="1892160" y="1515960"/>
              <a:ext cx="406080" cy="4060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508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Oval 23"/>
            <p:cNvSpPr/>
            <p:nvPr/>
          </p:nvSpPr>
          <p:spPr>
            <a:xfrm>
              <a:off x="2502000" y="1515960"/>
              <a:ext cx="406080" cy="406080"/>
            </a:xfrm>
            <a:prstGeom prst="ellipse">
              <a:avLst/>
            </a:prstGeom>
            <a:pattFill prst="openDmnd">
              <a:fgClr>
                <a:srgbClr val="c0504d"/>
              </a:fgClr>
              <a:bgClr>
                <a:srgbClr val="0000ff"/>
              </a:bgClr>
            </a:pattFill>
            <a:ln w="508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Oval 24"/>
            <p:cNvSpPr/>
            <p:nvPr/>
          </p:nvSpPr>
          <p:spPr>
            <a:xfrm>
              <a:off x="2254320" y="2716200"/>
              <a:ext cx="291600" cy="291600"/>
            </a:xfrm>
            <a:prstGeom prst="ellipse">
              <a:avLst/>
            </a:prstGeom>
            <a:pattFill prst="openDmnd">
              <a:fgClr>
                <a:srgbClr val="0000ff"/>
              </a:fgClr>
              <a:bgClr>
                <a:srgbClr val="c0504d"/>
              </a:bgClr>
            </a:pattFill>
            <a:ln w="508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Oval 25"/>
            <p:cNvSpPr/>
            <p:nvPr/>
          </p:nvSpPr>
          <p:spPr>
            <a:xfrm>
              <a:off x="2158920" y="3230640"/>
              <a:ext cx="482400" cy="634680"/>
            </a:xfrm>
            <a:prstGeom prst="ellipse">
              <a:avLst/>
            </a:prstGeom>
            <a:pattFill prst="smCheck">
              <a:fgClr>
                <a:srgbClr val="4f81bd"/>
              </a:fgClr>
              <a:bgClr>
                <a:srgbClr val="eeece1"/>
              </a:bgClr>
            </a:pattFill>
            <a:ln w="50800">
              <a:solidFill>
                <a:srgbClr val="99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Rectangle 26"/>
            <p:cNvSpPr/>
            <p:nvPr/>
          </p:nvSpPr>
          <p:spPr>
            <a:xfrm flipH="1">
              <a:off x="4191840" y="1147680"/>
              <a:ext cx="495252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rgbClr val="ff00cc"/>
                  </a:solidFill>
                  <a:latin typeface="Arial"/>
                </a:rPr>
                <a:t>LATERAL LINGUAL SWELL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rc 27"/>
            <p:cNvSpPr/>
            <p:nvPr/>
          </p:nvSpPr>
          <p:spPr>
            <a:xfrm>
              <a:off x="2895480" y="1528920"/>
              <a:ext cx="1523520" cy="304560"/>
            </a:xfrm>
            <a:custGeom>
              <a:avLst/>
              <a:gdLst>
                <a:gd name="textAreaLeft" fmla="*/ 0 w 1523520"/>
                <a:gd name="textAreaRight" fmla="*/ 1523880 w 152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cap="rnd" w="12700">
              <a:solidFill>
                <a:srgbClr val="ff00cc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Rectangle 28"/>
            <p:cNvSpPr/>
            <p:nvPr/>
          </p:nvSpPr>
          <p:spPr>
            <a:xfrm flipH="1">
              <a:off x="4496760" y="1604880"/>
              <a:ext cx="4113000" cy="1541880"/>
            </a:xfrm>
            <a:prstGeom prst="rect">
              <a:avLst/>
            </a:prstGeom>
            <a:noFill/>
            <a:ln w="9525">
              <a:solidFill>
                <a:srgbClr val="f79646">
                  <a:lumMod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ru-RU" sz="24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Failure of these to fuse properly causes a </a:t>
              </a:r>
              <a:r>
                <a:rPr b="1" lang="ru-RU" sz="2400" spc="-1" strike="noStrike" u="sng">
                  <a:solidFill>
                    <a:schemeClr val="accent2">
                      <a:lumMod val="75000"/>
                    </a:schemeClr>
                  </a:solidFill>
                  <a:uFillTx/>
                  <a:latin typeface="Arial"/>
                </a:rPr>
                <a:t>DEEP MEDIAL SULCUS</a:t>
              </a:r>
              <a:r>
                <a:rPr b="1" lang="ru-RU" sz="24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 or at worst a </a:t>
              </a:r>
              <a:r>
                <a:rPr b="1" lang="en-US" sz="2400" spc="-1" strike="noStrike" u="sng">
                  <a:solidFill>
                    <a:schemeClr val="accent2">
                      <a:lumMod val="75000"/>
                    </a:schemeClr>
                  </a:solidFill>
                  <a:uFillTx/>
                  <a:latin typeface="Arial"/>
                </a:rPr>
                <a:t>SPLIT T</a:t>
              </a:r>
              <a:r>
                <a:rPr b="1" lang="ru-RU" sz="2400" spc="-1" strike="noStrike" u="sng">
                  <a:solidFill>
                    <a:schemeClr val="accent2">
                      <a:lumMod val="75000"/>
                    </a:schemeClr>
                  </a:solidFill>
                  <a:uFillTx/>
                  <a:latin typeface="Arial"/>
                </a:rPr>
                <a:t>ONG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50"/>
            <p:cNvGrpSpPr/>
            <p:nvPr/>
          </p:nvGrpSpPr>
          <p:grpSpPr>
            <a:xfrm>
              <a:off x="7353360" y="3681360"/>
              <a:ext cx="1315800" cy="2172960"/>
              <a:chOff x="7353360" y="3681360"/>
              <a:chExt cx="1315800" cy="2172960"/>
            </a:xfrm>
          </p:grpSpPr>
          <p:sp>
            <p:nvSpPr>
              <p:cNvPr id="492" name="Freeform 29"/>
              <p:cNvSpPr/>
              <p:nvPr/>
            </p:nvSpPr>
            <p:spPr>
              <a:xfrm>
                <a:off x="7353360" y="3681360"/>
                <a:ext cx="1315800" cy="2172960"/>
              </a:xfrm>
              <a:custGeom>
                <a:avLst/>
                <a:gdLst>
                  <a:gd name="textAreaLeft" fmla="*/ 0 w 1315800"/>
                  <a:gd name="textAreaRight" fmla="*/ 1316160 w 1315800"/>
                  <a:gd name="textAreaTop" fmla="*/ 0 h 2172960"/>
                  <a:gd name="textAreaBottom" fmla="*/ 2173320 h 2172960"/>
                </a:gdLst>
                <a:ahLst/>
                <a:rect l="textAreaLeft" t="textAreaTop" r="textAreaRight" b="textAreaBottom"/>
                <a:pathLst>
                  <a:path w="829" h="1369">
                    <a:moveTo>
                      <a:pt x="24" y="948"/>
                    </a:moveTo>
                    <a:lnTo>
                      <a:pt x="0" y="900"/>
                    </a:lnTo>
                    <a:lnTo>
                      <a:pt x="12" y="864"/>
                    </a:lnTo>
                    <a:lnTo>
                      <a:pt x="24" y="828"/>
                    </a:lnTo>
                    <a:lnTo>
                      <a:pt x="36" y="780"/>
                    </a:lnTo>
                    <a:lnTo>
                      <a:pt x="36" y="744"/>
                    </a:lnTo>
                    <a:lnTo>
                      <a:pt x="48" y="708"/>
                    </a:lnTo>
                    <a:lnTo>
                      <a:pt x="60" y="672"/>
                    </a:lnTo>
                    <a:lnTo>
                      <a:pt x="84" y="624"/>
                    </a:lnTo>
                    <a:lnTo>
                      <a:pt x="96" y="528"/>
                    </a:lnTo>
                    <a:lnTo>
                      <a:pt x="108" y="480"/>
                    </a:lnTo>
                    <a:lnTo>
                      <a:pt x="120" y="444"/>
                    </a:lnTo>
                    <a:lnTo>
                      <a:pt x="144" y="408"/>
                    </a:lnTo>
                    <a:lnTo>
                      <a:pt x="144" y="372"/>
                    </a:lnTo>
                    <a:lnTo>
                      <a:pt x="156" y="300"/>
                    </a:lnTo>
                    <a:lnTo>
                      <a:pt x="180" y="252"/>
                    </a:lnTo>
                    <a:lnTo>
                      <a:pt x="192" y="204"/>
                    </a:lnTo>
                    <a:lnTo>
                      <a:pt x="228" y="156"/>
                    </a:lnTo>
                    <a:lnTo>
                      <a:pt x="240" y="108"/>
                    </a:lnTo>
                    <a:lnTo>
                      <a:pt x="252" y="72"/>
                    </a:lnTo>
                    <a:lnTo>
                      <a:pt x="276" y="36"/>
                    </a:lnTo>
                    <a:lnTo>
                      <a:pt x="312" y="0"/>
                    </a:lnTo>
                    <a:lnTo>
                      <a:pt x="348" y="0"/>
                    </a:lnTo>
                    <a:lnTo>
                      <a:pt x="372" y="36"/>
                    </a:lnTo>
                    <a:lnTo>
                      <a:pt x="384" y="72"/>
                    </a:lnTo>
                    <a:lnTo>
                      <a:pt x="396" y="108"/>
                    </a:lnTo>
                    <a:lnTo>
                      <a:pt x="408" y="144"/>
                    </a:lnTo>
                    <a:lnTo>
                      <a:pt x="408" y="180"/>
                    </a:lnTo>
                    <a:lnTo>
                      <a:pt x="444" y="204"/>
                    </a:lnTo>
                    <a:lnTo>
                      <a:pt x="480" y="168"/>
                    </a:lnTo>
                    <a:lnTo>
                      <a:pt x="480" y="132"/>
                    </a:lnTo>
                    <a:lnTo>
                      <a:pt x="492" y="96"/>
                    </a:lnTo>
                    <a:lnTo>
                      <a:pt x="504" y="60"/>
                    </a:lnTo>
                    <a:lnTo>
                      <a:pt x="516" y="24"/>
                    </a:lnTo>
                    <a:lnTo>
                      <a:pt x="552" y="12"/>
                    </a:lnTo>
                    <a:lnTo>
                      <a:pt x="588" y="12"/>
                    </a:lnTo>
                    <a:lnTo>
                      <a:pt x="600" y="48"/>
                    </a:lnTo>
                    <a:lnTo>
                      <a:pt x="612" y="84"/>
                    </a:lnTo>
                    <a:lnTo>
                      <a:pt x="624" y="120"/>
                    </a:lnTo>
                    <a:lnTo>
                      <a:pt x="636" y="156"/>
                    </a:lnTo>
                    <a:lnTo>
                      <a:pt x="648" y="192"/>
                    </a:lnTo>
                    <a:lnTo>
                      <a:pt x="660" y="228"/>
                    </a:lnTo>
                    <a:lnTo>
                      <a:pt x="672" y="276"/>
                    </a:lnTo>
                    <a:lnTo>
                      <a:pt x="684" y="312"/>
                    </a:lnTo>
                    <a:lnTo>
                      <a:pt x="696" y="348"/>
                    </a:lnTo>
                    <a:lnTo>
                      <a:pt x="696" y="384"/>
                    </a:lnTo>
                    <a:lnTo>
                      <a:pt x="708" y="420"/>
                    </a:lnTo>
                    <a:lnTo>
                      <a:pt x="720" y="468"/>
                    </a:lnTo>
                    <a:lnTo>
                      <a:pt x="720" y="504"/>
                    </a:lnTo>
                    <a:lnTo>
                      <a:pt x="732" y="552"/>
                    </a:lnTo>
                    <a:lnTo>
                      <a:pt x="744" y="588"/>
                    </a:lnTo>
                    <a:lnTo>
                      <a:pt x="756" y="624"/>
                    </a:lnTo>
                    <a:lnTo>
                      <a:pt x="756" y="660"/>
                    </a:lnTo>
                    <a:lnTo>
                      <a:pt x="768" y="696"/>
                    </a:lnTo>
                    <a:lnTo>
                      <a:pt x="792" y="732"/>
                    </a:lnTo>
                    <a:lnTo>
                      <a:pt x="804" y="768"/>
                    </a:lnTo>
                    <a:lnTo>
                      <a:pt x="816" y="804"/>
                    </a:lnTo>
                    <a:lnTo>
                      <a:pt x="816" y="840"/>
                    </a:lnTo>
                    <a:lnTo>
                      <a:pt x="828" y="876"/>
                    </a:lnTo>
                    <a:lnTo>
                      <a:pt x="828" y="912"/>
                    </a:lnTo>
                    <a:lnTo>
                      <a:pt x="828" y="948"/>
                    </a:lnTo>
                    <a:lnTo>
                      <a:pt x="828" y="984"/>
                    </a:lnTo>
                    <a:lnTo>
                      <a:pt x="828" y="1020"/>
                    </a:lnTo>
                    <a:lnTo>
                      <a:pt x="828" y="1056"/>
                    </a:lnTo>
                    <a:lnTo>
                      <a:pt x="828" y="1092"/>
                    </a:lnTo>
                    <a:lnTo>
                      <a:pt x="828" y="1128"/>
                    </a:lnTo>
                    <a:lnTo>
                      <a:pt x="804" y="1164"/>
                    </a:lnTo>
                    <a:lnTo>
                      <a:pt x="780" y="1200"/>
                    </a:lnTo>
                    <a:lnTo>
                      <a:pt x="744" y="1236"/>
                    </a:lnTo>
                    <a:lnTo>
                      <a:pt x="720" y="1272"/>
                    </a:lnTo>
                    <a:lnTo>
                      <a:pt x="708" y="1308"/>
                    </a:lnTo>
                    <a:lnTo>
                      <a:pt x="684" y="1344"/>
                    </a:lnTo>
                    <a:lnTo>
                      <a:pt x="636" y="1356"/>
                    </a:lnTo>
                    <a:lnTo>
                      <a:pt x="600" y="1368"/>
                    </a:lnTo>
                    <a:lnTo>
                      <a:pt x="564" y="1368"/>
                    </a:lnTo>
                    <a:lnTo>
                      <a:pt x="528" y="1368"/>
                    </a:lnTo>
                    <a:lnTo>
                      <a:pt x="480" y="1368"/>
                    </a:lnTo>
                    <a:lnTo>
                      <a:pt x="432" y="1368"/>
                    </a:lnTo>
                    <a:lnTo>
                      <a:pt x="396" y="1368"/>
                    </a:lnTo>
                    <a:lnTo>
                      <a:pt x="360" y="1368"/>
                    </a:lnTo>
                    <a:lnTo>
                      <a:pt x="324" y="1368"/>
                    </a:lnTo>
                    <a:lnTo>
                      <a:pt x="288" y="1368"/>
                    </a:lnTo>
                    <a:lnTo>
                      <a:pt x="252" y="1368"/>
                    </a:lnTo>
                    <a:lnTo>
                      <a:pt x="204" y="1368"/>
                    </a:lnTo>
                    <a:lnTo>
                      <a:pt x="168" y="1332"/>
                    </a:lnTo>
                    <a:lnTo>
                      <a:pt x="156" y="1296"/>
                    </a:lnTo>
                    <a:lnTo>
                      <a:pt x="120" y="1260"/>
                    </a:lnTo>
                    <a:lnTo>
                      <a:pt x="96" y="1224"/>
                    </a:lnTo>
                    <a:lnTo>
                      <a:pt x="60" y="1212"/>
                    </a:lnTo>
                    <a:lnTo>
                      <a:pt x="36" y="1176"/>
                    </a:lnTo>
                    <a:lnTo>
                      <a:pt x="24" y="1140"/>
                    </a:lnTo>
                    <a:lnTo>
                      <a:pt x="12" y="1104"/>
                    </a:lnTo>
                    <a:lnTo>
                      <a:pt x="12" y="1068"/>
                    </a:lnTo>
                    <a:lnTo>
                      <a:pt x="12" y="1032"/>
                    </a:lnTo>
                    <a:lnTo>
                      <a:pt x="12" y="996"/>
                    </a:lnTo>
                    <a:lnTo>
                      <a:pt x="24" y="948"/>
                    </a:lnTo>
                    <a:lnTo>
                      <a:pt x="24" y="948"/>
                    </a:lnTo>
                  </a:path>
                </a:pathLst>
              </a:custGeom>
              <a:pattFill prst="wdUpDiag">
                <a:fgClr>
                  <a:srgbClr val="ff5050"/>
                </a:fgClr>
                <a:bgClr>
                  <a:srgbClr val="eeece1"/>
                </a:bgClr>
              </a:pattFill>
              <a:ln cap="rnd" w="127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93" name="Group 39"/>
              <p:cNvGrpSpPr/>
              <p:nvPr/>
            </p:nvGrpSpPr>
            <p:grpSpPr>
              <a:xfrm>
                <a:off x="7905600" y="3967200"/>
                <a:ext cx="248760" cy="1373040"/>
                <a:chOff x="7905600" y="3967200"/>
                <a:chExt cx="248760" cy="1373040"/>
              </a:xfrm>
            </p:grpSpPr>
            <p:sp>
              <p:nvSpPr>
                <p:cNvPr id="494" name="Line 30"/>
                <p:cNvSpPr/>
                <p:nvPr/>
              </p:nvSpPr>
              <p:spPr>
                <a:xfrm>
                  <a:off x="8076960" y="4043160"/>
                  <a:ext cx="360" cy="1295280"/>
                </a:xfrm>
                <a:prstGeom prst="line">
                  <a:avLst/>
                </a:prstGeom>
                <a:ln w="12700">
                  <a:solidFill>
                    <a:srgbClr val="080808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5" name="Freeform 31"/>
                <p:cNvSpPr/>
                <p:nvPr/>
              </p:nvSpPr>
              <p:spPr>
                <a:xfrm>
                  <a:off x="7924680" y="4119480"/>
                  <a:ext cx="153720" cy="22968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229680"/>
                    <a:gd name="textAreaBottom" fmla="*/ 230040 h 229680"/>
                  </a:gdLst>
                  <a:ahLst/>
                  <a:rect l="textAreaLeft" t="textAreaTop" r="textAreaRight" b="textAreaBottom"/>
                  <a:pathLst>
                    <a:path w="97" h="145">
                      <a:moveTo>
                        <a:pt x="0" y="0"/>
                      </a:moveTo>
                      <a:lnTo>
                        <a:pt x="36" y="48"/>
                      </a:lnTo>
                      <a:lnTo>
                        <a:pt x="72" y="72"/>
                      </a:lnTo>
                      <a:lnTo>
                        <a:pt x="72" y="108"/>
                      </a:lnTo>
                      <a:lnTo>
                        <a:pt x="96" y="144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6" name="Freeform 32"/>
                <p:cNvSpPr/>
                <p:nvPr/>
              </p:nvSpPr>
              <p:spPr>
                <a:xfrm>
                  <a:off x="7924680" y="4309920"/>
                  <a:ext cx="153720" cy="19188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91880"/>
                    <a:gd name="textAreaBottom" fmla="*/ 192240 h 191880"/>
                  </a:gdLst>
                  <a:ahLst/>
                  <a:rect l="textAreaLeft" t="textAreaTop" r="textAreaRight" b="textAreaBottom"/>
                  <a:pathLst>
                    <a:path w="97" h="121">
                      <a:moveTo>
                        <a:pt x="0" y="24"/>
                      </a:moveTo>
                      <a:lnTo>
                        <a:pt x="48" y="0"/>
                      </a:lnTo>
                      <a:lnTo>
                        <a:pt x="60" y="36"/>
                      </a:lnTo>
                      <a:lnTo>
                        <a:pt x="84" y="72"/>
                      </a:lnTo>
                      <a:lnTo>
                        <a:pt x="96" y="120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7" name="Freeform 33"/>
                <p:cNvSpPr/>
                <p:nvPr/>
              </p:nvSpPr>
              <p:spPr>
                <a:xfrm>
                  <a:off x="7924680" y="3967200"/>
                  <a:ext cx="153720" cy="22968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229680"/>
                    <a:gd name="textAreaBottom" fmla="*/ 230040 h 229680"/>
                  </a:gdLst>
                  <a:ahLst/>
                  <a:rect l="textAreaLeft" t="textAreaTop" r="textAreaRight" b="textAreaBottom"/>
                  <a:pathLst>
                    <a:path w="97" h="145">
                      <a:moveTo>
                        <a:pt x="0" y="0"/>
                      </a:moveTo>
                      <a:lnTo>
                        <a:pt x="48" y="36"/>
                      </a:lnTo>
                      <a:lnTo>
                        <a:pt x="60" y="72"/>
                      </a:lnTo>
                      <a:lnTo>
                        <a:pt x="84" y="108"/>
                      </a:lnTo>
                      <a:lnTo>
                        <a:pt x="96" y="144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8" name="Freeform 34"/>
                <p:cNvSpPr/>
                <p:nvPr/>
              </p:nvSpPr>
              <p:spPr>
                <a:xfrm>
                  <a:off x="7924680" y="4500720"/>
                  <a:ext cx="134640" cy="13464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85" h="85">
                      <a:moveTo>
                        <a:pt x="0" y="0"/>
                      </a:moveTo>
                      <a:lnTo>
                        <a:pt x="48" y="12"/>
                      </a:lnTo>
                      <a:lnTo>
                        <a:pt x="72" y="48"/>
                      </a:lnTo>
                      <a:lnTo>
                        <a:pt x="84" y="84"/>
                      </a:lnTo>
                      <a:lnTo>
                        <a:pt x="84" y="48"/>
                      </a:lnTo>
                      <a:lnTo>
                        <a:pt x="48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chemeClr val="accent1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9" name="Freeform 35"/>
                <p:cNvSpPr/>
                <p:nvPr/>
              </p:nvSpPr>
              <p:spPr>
                <a:xfrm>
                  <a:off x="7924680" y="4633920"/>
                  <a:ext cx="153720" cy="17280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72800"/>
                    <a:gd name="textAreaBottom" fmla="*/ 173160 h 172800"/>
                  </a:gdLst>
                  <a:ahLst/>
                  <a:rect l="textAreaLeft" t="textAreaTop" r="textAreaRight" b="textAreaBottom"/>
                  <a:pathLst>
                    <a:path w="97" h="109">
                      <a:moveTo>
                        <a:pt x="96" y="108"/>
                      </a:moveTo>
                      <a:lnTo>
                        <a:pt x="72" y="60"/>
                      </a:lnTo>
                      <a:lnTo>
                        <a:pt x="72" y="24"/>
                      </a:lnTo>
                      <a:lnTo>
                        <a:pt x="36" y="12"/>
                      </a:lnTo>
                      <a:lnTo>
                        <a:pt x="0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0" name="Freeform 36"/>
                <p:cNvSpPr/>
                <p:nvPr/>
              </p:nvSpPr>
              <p:spPr>
                <a:xfrm>
                  <a:off x="7924680" y="4862520"/>
                  <a:ext cx="229680" cy="9648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96480"/>
                    <a:gd name="textAreaBottom" fmla="*/ 96840 h 96480"/>
                  </a:gdLst>
                  <a:ahLst/>
                  <a:rect l="textAreaLeft" t="textAreaTop" r="textAreaRight" b="textAreaBottom"/>
                  <a:pathLst>
                    <a:path w="145" h="61">
                      <a:moveTo>
                        <a:pt x="144" y="60"/>
                      </a:moveTo>
                      <a:lnTo>
                        <a:pt x="96" y="36"/>
                      </a:lnTo>
                      <a:lnTo>
                        <a:pt x="48" y="12"/>
                      </a:lnTo>
                      <a:lnTo>
                        <a:pt x="12" y="0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1" name="Freeform 37"/>
                <p:cNvSpPr/>
                <p:nvPr/>
              </p:nvSpPr>
              <p:spPr>
                <a:xfrm>
                  <a:off x="7924680" y="4957920"/>
                  <a:ext cx="153720" cy="15372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97" h="97">
                      <a:moveTo>
                        <a:pt x="96" y="96"/>
                      </a:moveTo>
                      <a:lnTo>
                        <a:pt x="84" y="48"/>
                      </a:lnTo>
                      <a:lnTo>
                        <a:pt x="48" y="36"/>
                      </a:lnTo>
                      <a:lnTo>
                        <a:pt x="12" y="2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2" name="Freeform 38"/>
                <p:cNvSpPr/>
                <p:nvPr/>
              </p:nvSpPr>
              <p:spPr>
                <a:xfrm>
                  <a:off x="7905600" y="5186520"/>
                  <a:ext cx="172800" cy="153720"/>
                </a:xfrm>
                <a:custGeom>
                  <a:avLst/>
                  <a:gdLst>
                    <a:gd name="textAreaLeft" fmla="*/ 0 w 172800"/>
                    <a:gd name="textAreaRight" fmla="*/ 173160 w 17280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109" h="97">
                      <a:moveTo>
                        <a:pt x="108" y="96"/>
                      </a:moveTo>
                      <a:lnTo>
                        <a:pt x="108" y="48"/>
                      </a:lnTo>
                      <a:lnTo>
                        <a:pt x="72" y="24"/>
                      </a:lnTo>
                      <a:lnTo>
                        <a:pt x="36" y="12"/>
                      </a:ln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03" name="Group 49"/>
              <p:cNvGrpSpPr/>
              <p:nvPr/>
            </p:nvGrpSpPr>
            <p:grpSpPr>
              <a:xfrm>
                <a:off x="7981920" y="4043520"/>
                <a:ext cx="249120" cy="1372680"/>
                <a:chOff x="7981920" y="4043520"/>
                <a:chExt cx="249120" cy="1372680"/>
              </a:xfrm>
            </p:grpSpPr>
            <p:sp>
              <p:nvSpPr>
                <p:cNvPr id="504" name="Line 40"/>
                <p:cNvSpPr/>
                <p:nvPr/>
              </p:nvSpPr>
              <p:spPr>
                <a:xfrm>
                  <a:off x="8057880" y="4119480"/>
                  <a:ext cx="360" cy="1295280"/>
                </a:xfrm>
                <a:prstGeom prst="line">
                  <a:avLst/>
                </a:prstGeom>
                <a:ln w="12700">
                  <a:solidFill>
                    <a:srgbClr val="080808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5" name="Freeform 41"/>
                <p:cNvSpPr/>
                <p:nvPr/>
              </p:nvSpPr>
              <p:spPr>
                <a:xfrm>
                  <a:off x="8058240" y="4195800"/>
                  <a:ext cx="153720" cy="22968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229680"/>
                    <a:gd name="textAreaBottom" fmla="*/ 230040 h 229680"/>
                  </a:gdLst>
                  <a:ahLst/>
                  <a:rect l="textAreaLeft" t="textAreaTop" r="textAreaRight" b="textAreaBottom"/>
                  <a:pathLst>
                    <a:path w="97" h="145">
                      <a:moveTo>
                        <a:pt x="96" y="0"/>
                      </a:moveTo>
                      <a:lnTo>
                        <a:pt x="60" y="48"/>
                      </a:lnTo>
                      <a:lnTo>
                        <a:pt x="24" y="72"/>
                      </a:lnTo>
                      <a:lnTo>
                        <a:pt x="24" y="108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6" name="Freeform 42"/>
                <p:cNvSpPr/>
                <p:nvPr/>
              </p:nvSpPr>
              <p:spPr>
                <a:xfrm>
                  <a:off x="8058240" y="4386240"/>
                  <a:ext cx="153720" cy="19188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91880"/>
                    <a:gd name="textAreaBottom" fmla="*/ 192240 h 191880"/>
                  </a:gdLst>
                  <a:ahLst/>
                  <a:rect l="textAreaLeft" t="textAreaTop" r="textAreaRight" b="textAreaBottom"/>
                  <a:pathLst>
                    <a:path w="97" h="121">
                      <a:moveTo>
                        <a:pt x="96" y="24"/>
                      </a:moveTo>
                      <a:lnTo>
                        <a:pt x="48" y="0"/>
                      </a:lnTo>
                      <a:lnTo>
                        <a:pt x="36" y="36"/>
                      </a:lnTo>
                      <a:lnTo>
                        <a:pt x="12" y="72"/>
                      </a:lnTo>
                      <a:lnTo>
                        <a:pt x="0" y="120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7" name="Freeform 43"/>
                <p:cNvSpPr/>
                <p:nvPr/>
              </p:nvSpPr>
              <p:spPr>
                <a:xfrm>
                  <a:off x="8058240" y="4043520"/>
                  <a:ext cx="153720" cy="22968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229680"/>
                    <a:gd name="textAreaBottom" fmla="*/ 230040 h 229680"/>
                  </a:gdLst>
                  <a:ahLst/>
                  <a:rect l="textAreaLeft" t="textAreaTop" r="textAreaRight" b="textAreaBottom"/>
                  <a:pathLst>
                    <a:path w="97" h="145">
                      <a:moveTo>
                        <a:pt x="96" y="0"/>
                      </a:moveTo>
                      <a:lnTo>
                        <a:pt x="48" y="36"/>
                      </a:lnTo>
                      <a:lnTo>
                        <a:pt x="36" y="72"/>
                      </a:lnTo>
                      <a:lnTo>
                        <a:pt x="12" y="108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8" name="Freeform 44"/>
                <p:cNvSpPr/>
                <p:nvPr/>
              </p:nvSpPr>
              <p:spPr>
                <a:xfrm>
                  <a:off x="8077320" y="4576680"/>
                  <a:ext cx="134640" cy="13464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85" h="85">
                      <a:moveTo>
                        <a:pt x="84" y="0"/>
                      </a:moveTo>
                      <a:lnTo>
                        <a:pt x="36" y="12"/>
                      </a:lnTo>
                      <a:lnTo>
                        <a:pt x="12" y="48"/>
                      </a:lnTo>
                      <a:lnTo>
                        <a:pt x="0" y="84"/>
                      </a:lnTo>
                      <a:lnTo>
                        <a:pt x="0" y="48"/>
                      </a:lnTo>
                      <a:lnTo>
                        <a:pt x="36" y="24"/>
                      </a:lnTo>
                      <a:lnTo>
                        <a:pt x="84" y="0"/>
                      </a:lnTo>
                    </a:path>
                  </a:pathLst>
                </a:custGeom>
                <a:solidFill>
                  <a:schemeClr val="accent1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9" name="Freeform 45"/>
                <p:cNvSpPr/>
                <p:nvPr/>
              </p:nvSpPr>
              <p:spPr>
                <a:xfrm>
                  <a:off x="8058240" y="4710240"/>
                  <a:ext cx="153720" cy="17280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72800"/>
                    <a:gd name="textAreaBottom" fmla="*/ 173160 h 172800"/>
                  </a:gdLst>
                  <a:ahLst/>
                  <a:rect l="textAreaLeft" t="textAreaTop" r="textAreaRight" b="textAreaBottom"/>
                  <a:pathLst>
                    <a:path w="97" h="109">
                      <a:moveTo>
                        <a:pt x="0" y="108"/>
                      </a:moveTo>
                      <a:lnTo>
                        <a:pt x="24" y="60"/>
                      </a:lnTo>
                      <a:lnTo>
                        <a:pt x="24" y="24"/>
                      </a:lnTo>
                      <a:lnTo>
                        <a:pt x="60" y="12"/>
                      </a:lnTo>
                      <a:lnTo>
                        <a:pt x="96" y="0"/>
                      </a:lnTo>
                      <a:lnTo>
                        <a:pt x="96" y="12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0" name="Freeform 46"/>
                <p:cNvSpPr/>
                <p:nvPr/>
              </p:nvSpPr>
              <p:spPr>
                <a:xfrm>
                  <a:off x="7981920" y="4938840"/>
                  <a:ext cx="229680" cy="96480"/>
                </a:xfrm>
                <a:custGeom>
                  <a:avLst/>
                  <a:gdLst>
                    <a:gd name="textAreaLeft" fmla="*/ 0 w 229680"/>
                    <a:gd name="textAreaRight" fmla="*/ 230040 w 229680"/>
                    <a:gd name="textAreaTop" fmla="*/ 0 h 96480"/>
                    <a:gd name="textAreaBottom" fmla="*/ 96840 h 96480"/>
                  </a:gdLst>
                  <a:ahLst/>
                  <a:rect l="textAreaLeft" t="textAreaTop" r="textAreaRight" b="textAreaBottom"/>
                  <a:pathLst>
                    <a:path w="145" h="61">
                      <a:moveTo>
                        <a:pt x="0" y="60"/>
                      </a:moveTo>
                      <a:lnTo>
                        <a:pt x="48" y="36"/>
                      </a:lnTo>
                      <a:lnTo>
                        <a:pt x="96" y="12"/>
                      </a:lnTo>
                      <a:lnTo>
                        <a:pt x="132" y="0"/>
                      </a:lnTo>
                      <a:lnTo>
                        <a:pt x="144" y="12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1" name="Freeform 47"/>
                <p:cNvSpPr/>
                <p:nvPr/>
              </p:nvSpPr>
              <p:spPr>
                <a:xfrm>
                  <a:off x="8058240" y="5033880"/>
                  <a:ext cx="153720" cy="15372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97" h="97">
                      <a:moveTo>
                        <a:pt x="0" y="96"/>
                      </a:moveTo>
                      <a:lnTo>
                        <a:pt x="12" y="48"/>
                      </a:lnTo>
                      <a:lnTo>
                        <a:pt x="48" y="36"/>
                      </a:lnTo>
                      <a:lnTo>
                        <a:pt x="84" y="24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12" name="Freeform 48"/>
                <p:cNvSpPr/>
                <p:nvPr/>
              </p:nvSpPr>
              <p:spPr>
                <a:xfrm>
                  <a:off x="8058240" y="5262480"/>
                  <a:ext cx="172800" cy="153720"/>
                </a:xfrm>
                <a:custGeom>
                  <a:avLst/>
                  <a:gdLst>
                    <a:gd name="textAreaLeft" fmla="*/ 0 w 172800"/>
                    <a:gd name="textAreaRight" fmla="*/ 173160 w 17280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109" h="97">
                      <a:moveTo>
                        <a:pt x="0" y="96"/>
                      </a:moveTo>
                      <a:lnTo>
                        <a:pt x="0" y="48"/>
                      </a:lnTo>
                      <a:lnTo>
                        <a:pt x="36" y="24"/>
                      </a:lnTo>
                      <a:lnTo>
                        <a:pt x="72" y="12"/>
                      </a:lnTo>
                      <a:lnTo>
                        <a:pt x="108" y="0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13" name="Arc 51"/>
            <p:cNvSpPr/>
            <p:nvPr/>
          </p:nvSpPr>
          <p:spPr>
            <a:xfrm>
              <a:off x="8032680" y="3008160"/>
              <a:ext cx="45720" cy="8060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fill="none" w="21712" h="21600">
                  <a:moveTo>
                    <a:pt x="0" y="0"/>
                  </a:moveTo>
                  <a:cubicBezTo>
                    <a:pt x="37" y="0"/>
                    <a:pt x="74" y="-1"/>
                    <a:pt x="112" y="0"/>
                  </a:cubicBezTo>
                  <a:cubicBezTo>
                    <a:pt x="12041" y="0"/>
                    <a:pt x="21712" y="9670"/>
                    <a:pt x="21712" y="21600"/>
                  </a:cubicBezTo>
                </a:path>
                <a:path stroke="0" w="21712" h="21600">
                  <a:moveTo>
                    <a:pt x="0" y="0"/>
                  </a:moveTo>
                  <a:cubicBezTo>
                    <a:pt x="37" y="0"/>
                    <a:pt x="74" y="-1"/>
                    <a:pt x="112" y="0"/>
                  </a:cubicBezTo>
                  <a:cubicBezTo>
                    <a:pt x="12041" y="0"/>
                    <a:pt x="21712" y="9670"/>
                    <a:pt x="21712" y="21600"/>
                  </a:cubicBezTo>
                  <a:lnTo>
                    <a:pt x="112" y="21600"/>
                  </a:lnTo>
                  <a:close/>
                </a:path>
              </a:pathLst>
            </a:custGeom>
            <a:noFill/>
            <a:ln cap="rnd" w="12700">
              <a:solidFill>
                <a:srgbClr val="f79646">
                  <a:lumMod val="50000"/>
                </a:srgbClr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52"/>
            <p:cNvSpPr/>
            <p:nvPr/>
          </p:nvSpPr>
          <p:spPr>
            <a:xfrm>
              <a:off x="4729320" y="3708360"/>
              <a:ext cx="1534680" cy="3071520"/>
            </a:xfrm>
            <a:custGeom>
              <a:avLst/>
              <a:gdLst>
                <a:gd name="textAreaLeft" fmla="*/ 0 w 1534680"/>
                <a:gd name="textAreaRight" fmla="*/ 1535040 w 153468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967" h="1935">
                  <a:moveTo>
                    <a:pt x="221" y="1934"/>
                  </a:moveTo>
                  <a:lnTo>
                    <a:pt x="190" y="1870"/>
                  </a:lnTo>
                  <a:lnTo>
                    <a:pt x="158" y="1823"/>
                  </a:lnTo>
                  <a:lnTo>
                    <a:pt x="126" y="1775"/>
                  </a:lnTo>
                  <a:lnTo>
                    <a:pt x="95" y="1727"/>
                  </a:lnTo>
                  <a:lnTo>
                    <a:pt x="47" y="1680"/>
                  </a:lnTo>
                  <a:lnTo>
                    <a:pt x="47" y="1632"/>
                  </a:lnTo>
                  <a:lnTo>
                    <a:pt x="31" y="1585"/>
                  </a:lnTo>
                  <a:lnTo>
                    <a:pt x="31" y="1537"/>
                  </a:lnTo>
                  <a:lnTo>
                    <a:pt x="15" y="1490"/>
                  </a:lnTo>
                  <a:lnTo>
                    <a:pt x="0" y="1442"/>
                  </a:lnTo>
                  <a:lnTo>
                    <a:pt x="0" y="1379"/>
                  </a:lnTo>
                  <a:lnTo>
                    <a:pt x="0" y="1315"/>
                  </a:lnTo>
                  <a:lnTo>
                    <a:pt x="0" y="1268"/>
                  </a:lnTo>
                  <a:lnTo>
                    <a:pt x="0" y="1220"/>
                  </a:lnTo>
                  <a:lnTo>
                    <a:pt x="0" y="1173"/>
                  </a:lnTo>
                  <a:lnTo>
                    <a:pt x="0" y="1109"/>
                  </a:lnTo>
                  <a:lnTo>
                    <a:pt x="0" y="1046"/>
                  </a:lnTo>
                  <a:lnTo>
                    <a:pt x="0" y="982"/>
                  </a:lnTo>
                  <a:lnTo>
                    <a:pt x="15" y="935"/>
                  </a:lnTo>
                  <a:lnTo>
                    <a:pt x="31" y="871"/>
                  </a:lnTo>
                  <a:lnTo>
                    <a:pt x="63" y="824"/>
                  </a:lnTo>
                  <a:lnTo>
                    <a:pt x="79" y="776"/>
                  </a:lnTo>
                  <a:lnTo>
                    <a:pt x="95" y="729"/>
                  </a:lnTo>
                  <a:lnTo>
                    <a:pt x="110" y="681"/>
                  </a:lnTo>
                  <a:lnTo>
                    <a:pt x="126" y="634"/>
                  </a:lnTo>
                  <a:lnTo>
                    <a:pt x="142" y="586"/>
                  </a:lnTo>
                  <a:lnTo>
                    <a:pt x="158" y="538"/>
                  </a:lnTo>
                  <a:lnTo>
                    <a:pt x="190" y="491"/>
                  </a:lnTo>
                  <a:lnTo>
                    <a:pt x="221" y="428"/>
                  </a:lnTo>
                  <a:lnTo>
                    <a:pt x="237" y="380"/>
                  </a:lnTo>
                  <a:lnTo>
                    <a:pt x="269" y="332"/>
                  </a:lnTo>
                  <a:lnTo>
                    <a:pt x="285" y="285"/>
                  </a:lnTo>
                  <a:lnTo>
                    <a:pt x="285" y="237"/>
                  </a:lnTo>
                  <a:lnTo>
                    <a:pt x="316" y="190"/>
                  </a:lnTo>
                  <a:lnTo>
                    <a:pt x="332" y="142"/>
                  </a:lnTo>
                  <a:lnTo>
                    <a:pt x="364" y="95"/>
                  </a:lnTo>
                  <a:lnTo>
                    <a:pt x="411" y="47"/>
                  </a:lnTo>
                  <a:lnTo>
                    <a:pt x="459" y="0"/>
                  </a:lnTo>
                  <a:lnTo>
                    <a:pt x="506" y="0"/>
                  </a:lnTo>
                  <a:lnTo>
                    <a:pt x="554" y="31"/>
                  </a:lnTo>
                  <a:lnTo>
                    <a:pt x="601" y="63"/>
                  </a:lnTo>
                  <a:lnTo>
                    <a:pt x="633" y="110"/>
                  </a:lnTo>
                  <a:lnTo>
                    <a:pt x="665" y="158"/>
                  </a:lnTo>
                  <a:lnTo>
                    <a:pt x="696" y="206"/>
                  </a:lnTo>
                  <a:lnTo>
                    <a:pt x="712" y="253"/>
                  </a:lnTo>
                  <a:lnTo>
                    <a:pt x="744" y="301"/>
                  </a:lnTo>
                  <a:lnTo>
                    <a:pt x="775" y="348"/>
                  </a:lnTo>
                  <a:lnTo>
                    <a:pt x="791" y="412"/>
                  </a:lnTo>
                  <a:lnTo>
                    <a:pt x="807" y="459"/>
                  </a:lnTo>
                  <a:lnTo>
                    <a:pt x="823" y="507"/>
                  </a:lnTo>
                  <a:lnTo>
                    <a:pt x="839" y="554"/>
                  </a:lnTo>
                  <a:lnTo>
                    <a:pt x="855" y="602"/>
                  </a:lnTo>
                  <a:lnTo>
                    <a:pt x="870" y="649"/>
                  </a:lnTo>
                  <a:lnTo>
                    <a:pt x="902" y="697"/>
                  </a:lnTo>
                  <a:lnTo>
                    <a:pt x="902" y="745"/>
                  </a:lnTo>
                  <a:lnTo>
                    <a:pt x="918" y="792"/>
                  </a:lnTo>
                  <a:lnTo>
                    <a:pt x="918" y="840"/>
                  </a:lnTo>
                  <a:lnTo>
                    <a:pt x="934" y="887"/>
                  </a:lnTo>
                  <a:lnTo>
                    <a:pt x="950" y="935"/>
                  </a:lnTo>
                  <a:lnTo>
                    <a:pt x="966" y="982"/>
                  </a:lnTo>
                  <a:lnTo>
                    <a:pt x="966" y="1030"/>
                  </a:lnTo>
                  <a:lnTo>
                    <a:pt x="966" y="1077"/>
                  </a:lnTo>
                  <a:lnTo>
                    <a:pt x="966" y="1125"/>
                  </a:lnTo>
                  <a:lnTo>
                    <a:pt x="966" y="1173"/>
                  </a:lnTo>
                  <a:lnTo>
                    <a:pt x="966" y="1220"/>
                  </a:lnTo>
                  <a:lnTo>
                    <a:pt x="966" y="1268"/>
                  </a:lnTo>
                  <a:lnTo>
                    <a:pt x="966" y="1331"/>
                  </a:lnTo>
                  <a:lnTo>
                    <a:pt x="966" y="1379"/>
                  </a:lnTo>
                  <a:lnTo>
                    <a:pt x="966" y="1426"/>
                  </a:lnTo>
                  <a:lnTo>
                    <a:pt x="966" y="1474"/>
                  </a:lnTo>
                  <a:lnTo>
                    <a:pt x="966" y="1521"/>
                  </a:lnTo>
                  <a:lnTo>
                    <a:pt x="934" y="1569"/>
                  </a:lnTo>
                  <a:lnTo>
                    <a:pt x="918" y="1616"/>
                  </a:lnTo>
                  <a:lnTo>
                    <a:pt x="902" y="1664"/>
                  </a:lnTo>
                  <a:lnTo>
                    <a:pt x="886" y="1712"/>
                  </a:lnTo>
                  <a:lnTo>
                    <a:pt x="870" y="1759"/>
                  </a:lnTo>
                  <a:lnTo>
                    <a:pt x="855" y="1807"/>
                  </a:lnTo>
                  <a:lnTo>
                    <a:pt x="839" y="1854"/>
                  </a:lnTo>
                  <a:lnTo>
                    <a:pt x="807" y="1902"/>
                  </a:lnTo>
                  <a:lnTo>
                    <a:pt x="760" y="1902"/>
                  </a:lnTo>
                  <a:lnTo>
                    <a:pt x="712" y="1902"/>
                  </a:lnTo>
                  <a:lnTo>
                    <a:pt x="665" y="1902"/>
                  </a:lnTo>
                  <a:lnTo>
                    <a:pt x="617" y="1902"/>
                  </a:lnTo>
                  <a:lnTo>
                    <a:pt x="570" y="1902"/>
                  </a:lnTo>
                  <a:lnTo>
                    <a:pt x="522" y="1902"/>
                  </a:lnTo>
                  <a:lnTo>
                    <a:pt x="475" y="1902"/>
                  </a:lnTo>
                  <a:lnTo>
                    <a:pt x="411" y="1902"/>
                  </a:lnTo>
                  <a:lnTo>
                    <a:pt x="364" y="1902"/>
                  </a:lnTo>
                  <a:lnTo>
                    <a:pt x="300" y="1902"/>
                  </a:lnTo>
                  <a:lnTo>
                    <a:pt x="221" y="1934"/>
                  </a:lnTo>
                  <a:lnTo>
                    <a:pt x="221" y="1934"/>
                  </a:lnTo>
                </a:path>
              </a:pathLst>
            </a:custGeom>
            <a:pattFill prst="wdUpDiag">
              <a:fgClr>
                <a:srgbClr val="ff5050"/>
              </a:fgClr>
              <a:bgClr>
                <a:srgbClr val="eeece1"/>
              </a:bgClr>
            </a:patt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53"/>
            <p:cNvSpPr/>
            <p:nvPr/>
          </p:nvSpPr>
          <p:spPr>
            <a:xfrm>
              <a:off x="611280" y="4694400"/>
              <a:ext cx="931680" cy="1861920"/>
            </a:xfrm>
            <a:custGeom>
              <a:avLst/>
              <a:gdLst>
                <a:gd name="textAreaLeft" fmla="*/ 0 w 931680"/>
                <a:gd name="textAreaRight" fmla="*/ 932040 w 931680"/>
                <a:gd name="textAreaTop" fmla="*/ 0 h 1861920"/>
                <a:gd name="textAreaBottom" fmla="*/ 1862280 h 1861920"/>
              </a:gdLst>
              <a:ahLst/>
              <a:rect l="textAreaLeft" t="textAreaTop" r="textAreaRight" b="textAreaBottom"/>
              <a:pathLst>
                <a:path w="587" h="1173">
                  <a:moveTo>
                    <a:pt x="134" y="1172"/>
                  </a:moveTo>
                  <a:lnTo>
                    <a:pt x="115" y="1133"/>
                  </a:lnTo>
                  <a:lnTo>
                    <a:pt x="96" y="1104"/>
                  </a:lnTo>
                  <a:lnTo>
                    <a:pt x="76" y="1075"/>
                  </a:lnTo>
                  <a:lnTo>
                    <a:pt x="57" y="1047"/>
                  </a:lnTo>
                  <a:lnTo>
                    <a:pt x="28" y="1018"/>
                  </a:lnTo>
                  <a:lnTo>
                    <a:pt x="28" y="989"/>
                  </a:lnTo>
                  <a:lnTo>
                    <a:pt x="19" y="960"/>
                  </a:lnTo>
                  <a:lnTo>
                    <a:pt x="19" y="931"/>
                  </a:lnTo>
                  <a:lnTo>
                    <a:pt x="9" y="903"/>
                  </a:lnTo>
                  <a:lnTo>
                    <a:pt x="0" y="874"/>
                  </a:lnTo>
                  <a:lnTo>
                    <a:pt x="0" y="835"/>
                  </a:lnTo>
                  <a:lnTo>
                    <a:pt x="0" y="797"/>
                  </a:lnTo>
                  <a:lnTo>
                    <a:pt x="0" y="768"/>
                  </a:lnTo>
                  <a:lnTo>
                    <a:pt x="0" y="739"/>
                  </a:lnTo>
                  <a:lnTo>
                    <a:pt x="0" y="710"/>
                  </a:lnTo>
                  <a:lnTo>
                    <a:pt x="0" y="672"/>
                  </a:lnTo>
                  <a:lnTo>
                    <a:pt x="0" y="634"/>
                  </a:lnTo>
                  <a:lnTo>
                    <a:pt x="0" y="595"/>
                  </a:lnTo>
                  <a:lnTo>
                    <a:pt x="9" y="566"/>
                  </a:lnTo>
                  <a:lnTo>
                    <a:pt x="19" y="528"/>
                  </a:lnTo>
                  <a:lnTo>
                    <a:pt x="38" y="499"/>
                  </a:lnTo>
                  <a:lnTo>
                    <a:pt x="48" y="470"/>
                  </a:lnTo>
                  <a:lnTo>
                    <a:pt x="57" y="441"/>
                  </a:lnTo>
                  <a:lnTo>
                    <a:pt x="67" y="413"/>
                  </a:lnTo>
                  <a:lnTo>
                    <a:pt x="76" y="384"/>
                  </a:lnTo>
                  <a:lnTo>
                    <a:pt x="86" y="355"/>
                  </a:lnTo>
                  <a:lnTo>
                    <a:pt x="96" y="326"/>
                  </a:lnTo>
                  <a:lnTo>
                    <a:pt x="115" y="297"/>
                  </a:lnTo>
                  <a:lnTo>
                    <a:pt x="134" y="259"/>
                  </a:lnTo>
                  <a:lnTo>
                    <a:pt x="144" y="230"/>
                  </a:lnTo>
                  <a:lnTo>
                    <a:pt x="163" y="201"/>
                  </a:lnTo>
                  <a:lnTo>
                    <a:pt x="172" y="172"/>
                  </a:lnTo>
                  <a:lnTo>
                    <a:pt x="172" y="144"/>
                  </a:lnTo>
                  <a:lnTo>
                    <a:pt x="192" y="115"/>
                  </a:lnTo>
                  <a:lnTo>
                    <a:pt x="201" y="86"/>
                  </a:lnTo>
                  <a:lnTo>
                    <a:pt x="220" y="57"/>
                  </a:lnTo>
                  <a:lnTo>
                    <a:pt x="249" y="28"/>
                  </a:lnTo>
                  <a:lnTo>
                    <a:pt x="278" y="0"/>
                  </a:lnTo>
                  <a:lnTo>
                    <a:pt x="307" y="0"/>
                  </a:lnTo>
                  <a:lnTo>
                    <a:pt x="336" y="19"/>
                  </a:lnTo>
                  <a:lnTo>
                    <a:pt x="365" y="38"/>
                  </a:lnTo>
                  <a:lnTo>
                    <a:pt x="384" y="67"/>
                  </a:lnTo>
                  <a:lnTo>
                    <a:pt x="403" y="96"/>
                  </a:lnTo>
                  <a:lnTo>
                    <a:pt x="422" y="124"/>
                  </a:lnTo>
                  <a:lnTo>
                    <a:pt x="432" y="153"/>
                  </a:lnTo>
                  <a:lnTo>
                    <a:pt x="451" y="182"/>
                  </a:lnTo>
                  <a:lnTo>
                    <a:pt x="470" y="211"/>
                  </a:lnTo>
                  <a:lnTo>
                    <a:pt x="480" y="249"/>
                  </a:lnTo>
                  <a:lnTo>
                    <a:pt x="489" y="278"/>
                  </a:lnTo>
                  <a:lnTo>
                    <a:pt x="499" y="307"/>
                  </a:lnTo>
                  <a:lnTo>
                    <a:pt x="509" y="336"/>
                  </a:lnTo>
                  <a:lnTo>
                    <a:pt x="518" y="365"/>
                  </a:lnTo>
                  <a:lnTo>
                    <a:pt x="528" y="393"/>
                  </a:lnTo>
                  <a:lnTo>
                    <a:pt x="547" y="422"/>
                  </a:lnTo>
                  <a:lnTo>
                    <a:pt x="547" y="451"/>
                  </a:lnTo>
                  <a:lnTo>
                    <a:pt x="557" y="480"/>
                  </a:lnTo>
                  <a:lnTo>
                    <a:pt x="557" y="509"/>
                  </a:lnTo>
                  <a:lnTo>
                    <a:pt x="566" y="537"/>
                  </a:lnTo>
                  <a:lnTo>
                    <a:pt x="576" y="566"/>
                  </a:lnTo>
                  <a:lnTo>
                    <a:pt x="586" y="595"/>
                  </a:lnTo>
                  <a:lnTo>
                    <a:pt x="586" y="624"/>
                  </a:lnTo>
                  <a:lnTo>
                    <a:pt x="586" y="653"/>
                  </a:lnTo>
                  <a:lnTo>
                    <a:pt x="586" y="682"/>
                  </a:lnTo>
                  <a:lnTo>
                    <a:pt x="586" y="710"/>
                  </a:lnTo>
                  <a:lnTo>
                    <a:pt x="586" y="739"/>
                  </a:lnTo>
                  <a:lnTo>
                    <a:pt x="586" y="768"/>
                  </a:lnTo>
                  <a:lnTo>
                    <a:pt x="586" y="806"/>
                  </a:lnTo>
                  <a:lnTo>
                    <a:pt x="586" y="835"/>
                  </a:lnTo>
                  <a:lnTo>
                    <a:pt x="586" y="864"/>
                  </a:lnTo>
                  <a:lnTo>
                    <a:pt x="586" y="893"/>
                  </a:lnTo>
                  <a:lnTo>
                    <a:pt x="586" y="922"/>
                  </a:lnTo>
                  <a:lnTo>
                    <a:pt x="566" y="951"/>
                  </a:lnTo>
                  <a:lnTo>
                    <a:pt x="557" y="979"/>
                  </a:lnTo>
                  <a:lnTo>
                    <a:pt x="547" y="1008"/>
                  </a:lnTo>
                  <a:lnTo>
                    <a:pt x="537" y="1037"/>
                  </a:lnTo>
                  <a:lnTo>
                    <a:pt x="528" y="1066"/>
                  </a:lnTo>
                  <a:lnTo>
                    <a:pt x="518" y="1095"/>
                  </a:lnTo>
                  <a:lnTo>
                    <a:pt x="509" y="1123"/>
                  </a:lnTo>
                  <a:lnTo>
                    <a:pt x="489" y="1152"/>
                  </a:lnTo>
                  <a:lnTo>
                    <a:pt x="461" y="1152"/>
                  </a:lnTo>
                  <a:lnTo>
                    <a:pt x="432" y="1152"/>
                  </a:lnTo>
                  <a:lnTo>
                    <a:pt x="403" y="1152"/>
                  </a:lnTo>
                  <a:lnTo>
                    <a:pt x="374" y="1152"/>
                  </a:lnTo>
                  <a:lnTo>
                    <a:pt x="345" y="1152"/>
                  </a:lnTo>
                  <a:lnTo>
                    <a:pt x="317" y="1152"/>
                  </a:lnTo>
                  <a:lnTo>
                    <a:pt x="288" y="1152"/>
                  </a:lnTo>
                  <a:lnTo>
                    <a:pt x="249" y="1152"/>
                  </a:lnTo>
                  <a:lnTo>
                    <a:pt x="220" y="1152"/>
                  </a:lnTo>
                  <a:lnTo>
                    <a:pt x="182" y="1152"/>
                  </a:lnTo>
                  <a:lnTo>
                    <a:pt x="134" y="1172"/>
                  </a:lnTo>
                  <a:lnTo>
                    <a:pt x="134" y="1172"/>
                  </a:lnTo>
                </a:path>
              </a:pathLst>
            </a:custGeom>
            <a:pattFill prst="wdUpDiag">
              <a:fgClr>
                <a:srgbClr val="ff5050"/>
              </a:fgClr>
              <a:bgClr>
                <a:srgbClr val="eeece1"/>
              </a:bgClr>
            </a:pattFill>
            <a:ln cap="rnd" w="127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Rectangle 54"/>
            <p:cNvSpPr/>
            <p:nvPr/>
          </p:nvSpPr>
          <p:spPr>
            <a:xfrm flipH="1">
              <a:off x="1542240" y="4729320"/>
              <a:ext cx="3185640" cy="932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Overgrowth - </a:t>
              </a:r>
              <a:r>
                <a:rPr b="1" lang="ru-RU" sz="2800" spc="-1" strike="noStrike" u="sng">
                  <a:solidFill>
                    <a:schemeClr val="accent2">
                      <a:lumMod val="75000"/>
                    </a:schemeClr>
                  </a:solidFill>
                  <a:uFillTx/>
                  <a:latin typeface="Arial"/>
                </a:rPr>
                <a:t>MACROGLOS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55"/>
            <p:cNvSpPr/>
            <p:nvPr/>
          </p:nvSpPr>
          <p:spPr>
            <a:xfrm>
              <a:off x="4038480" y="5033880"/>
              <a:ext cx="838080" cy="360"/>
            </a:xfrm>
            <a:prstGeom prst="line">
              <a:avLst/>
            </a:prstGeom>
            <a:ln>
              <a:solidFill>
                <a:srgbClr val="c0504d"/>
              </a:solidFill>
              <a:round/>
              <a:tailEnd len="lg" type="stealth" w="med"/>
            </a:ln>
          </p:spPr>
          <p:style>
            <a:lnRef idx="3">
              <a:schemeClr val="accent2"/>
            </a:lnRef>
            <a:fillRef idx="0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Rectangle 56"/>
            <p:cNvSpPr/>
            <p:nvPr/>
          </p:nvSpPr>
          <p:spPr>
            <a:xfrm flipH="1">
              <a:off x="1542240" y="5796000"/>
              <a:ext cx="3485880" cy="932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accent2">
                      <a:lumMod val="75000"/>
                    </a:schemeClr>
                  </a:solidFill>
                  <a:latin typeface="Arial"/>
                </a:rPr>
                <a:t>Undergrowth - </a:t>
              </a:r>
              <a:r>
                <a:rPr b="1" lang="ru-RU" sz="2800" spc="-1" strike="noStrike" u="sng">
                  <a:solidFill>
                    <a:schemeClr val="accent2">
                      <a:lumMod val="75000"/>
                    </a:schemeClr>
                  </a:solidFill>
                  <a:uFillTx/>
                  <a:latin typeface="Arial"/>
                </a:rPr>
                <a:t>MICROGLOS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57"/>
            <p:cNvSpPr/>
            <p:nvPr/>
          </p:nvSpPr>
          <p:spPr>
            <a:xfrm flipH="1" flipV="1">
              <a:off x="1143000" y="5719680"/>
              <a:ext cx="609480" cy="685800"/>
            </a:xfrm>
            <a:prstGeom prst="line">
              <a:avLst/>
            </a:prstGeom>
            <a:ln>
              <a:solidFill>
                <a:srgbClr val="c0504d"/>
              </a:solidFill>
              <a:round/>
              <a:tailEnd len="lg" type="stealth" w="med"/>
            </a:ln>
          </p:spPr>
          <p:style>
            <a:lnRef idx="3">
              <a:schemeClr val="accent2"/>
            </a:lnRef>
            <a:fillRef idx="0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0" name="Rectangle 59"/>
          <p:cNvSpPr/>
          <p:nvPr/>
        </p:nvSpPr>
        <p:spPr>
          <a:xfrm flipH="1">
            <a:off x="8075520" y="6456240"/>
            <a:ext cx="1066320" cy="32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TON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457200" y="609480"/>
            <a:ext cx="8686440" cy="612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 u="sng">
                <a:solidFill>
                  <a:schemeClr val="hlink"/>
                </a:solidFill>
                <a:uFillTx/>
                <a:latin typeface="Arial"/>
              </a:rPr>
              <a:t>ORAL CAVITY </a:t>
            </a: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IS LINED BY </a:t>
            </a:r>
            <a:r>
              <a:rPr b="1" lang="en-US" sz="3600" spc="-1" strike="noStrike" u="sng">
                <a:solidFill>
                  <a:schemeClr val="hlink"/>
                </a:solidFill>
                <a:uFillTx/>
                <a:latin typeface="Arial"/>
              </a:rPr>
              <a:t>MUCOSA</a:t>
            </a: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, CONSIST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STRATIFIED NONKERATINIZED EPITHELI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AND 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.T. LAMINA PROPR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FUNC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1. PROT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2. SECRE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3. SENS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152"/>
          <p:cNvGrpSpPr/>
          <p:nvPr/>
        </p:nvGrpSpPr>
        <p:grpSpPr>
          <a:xfrm>
            <a:off x="171000" y="0"/>
            <a:ext cx="8972640" cy="6914160"/>
            <a:chOff x="171000" y="0"/>
            <a:chExt cx="8972640" cy="6914160"/>
          </a:xfrm>
        </p:grpSpPr>
        <p:sp>
          <p:nvSpPr>
            <p:cNvPr id="523" name="Freeform 2"/>
            <p:cNvSpPr/>
            <p:nvPr/>
          </p:nvSpPr>
          <p:spPr>
            <a:xfrm>
              <a:off x="3895560" y="2900520"/>
              <a:ext cx="5181120" cy="2549160"/>
            </a:xfrm>
            <a:custGeom>
              <a:avLst/>
              <a:gdLst>
                <a:gd name="textAreaLeft" fmla="*/ 0 w 5181120"/>
                <a:gd name="textAreaRight" fmla="*/ 5181480 w 5181120"/>
                <a:gd name="textAreaTop" fmla="*/ 0 h 2549160"/>
                <a:gd name="textAreaBottom" fmla="*/ 2549520 h 2549160"/>
              </a:gdLst>
              <a:ahLst/>
              <a:rect l="textAreaLeft" t="textAreaTop" r="textAreaRight" b="textAreaBottom"/>
              <a:pathLst>
                <a:path w="3264" h="1606">
                  <a:moveTo>
                    <a:pt x="90" y="245"/>
                  </a:moveTo>
                  <a:lnTo>
                    <a:pt x="142" y="230"/>
                  </a:lnTo>
                  <a:lnTo>
                    <a:pt x="175" y="230"/>
                  </a:lnTo>
                  <a:lnTo>
                    <a:pt x="208" y="230"/>
                  </a:lnTo>
                  <a:lnTo>
                    <a:pt x="241" y="219"/>
                  </a:lnTo>
                  <a:lnTo>
                    <a:pt x="273" y="197"/>
                  </a:lnTo>
                  <a:lnTo>
                    <a:pt x="306" y="186"/>
                  </a:lnTo>
                  <a:lnTo>
                    <a:pt x="339" y="175"/>
                  </a:lnTo>
                  <a:lnTo>
                    <a:pt x="371" y="175"/>
                  </a:lnTo>
                  <a:lnTo>
                    <a:pt x="382" y="208"/>
                  </a:lnTo>
                  <a:lnTo>
                    <a:pt x="404" y="241"/>
                  </a:lnTo>
                  <a:lnTo>
                    <a:pt x="437" y="241"/>
                  </a:lnTo>
                  <a:lnTo>
                    <a:pt x="459" y="208"/>
                  </a:lnTo>
                  <a:lnTo>
                    <a:pt x="470" y="175"/>
                  </a:lnTo>
                  <a:lnTo>
                    <a:pt x="502" y="164"/>
                  </a:lnTo>
                  <a:lnTo>
                    <a:pt x="535" y="153"/>
                  </a:lnTo>
                  <a:lnTo>
                    <a:pt x="557" y="121"/>
                  </a:lnTo>
                  <a:lnTo>
                    <a:pt x="579" y="88"/>
                  </a:lnTo>
                  <a:lnTo>
                    <a:pt x="611" y="77"/>
                  </a:lnTo>
                  <a:lnTo>
                    <a:pt x="633" y="110"/>
                  </a:lnTo>
                  <a:lnTo>
                    <a:pt x="644" y="142"/>
                  </a:lnTo>
                  <a:lnTo>
                    <a:pt x="677" y="142"/>
                  </a:lnTo>
                  <a:lnTo>
                    <a:pt x="710" y="142"/>
                  </a:lnTo>
                  <a:lnTo>
                    <a:pt x="742" y="121"/>
                  </a:lnTo>
                  <a:lnTo>
                    <a:pt x="775" y="99"/>
                  </a:lnTo>
                  <a:lnTo>
                    <a:pt x="808" y="99"/>
                  </a:lnTo>
                  <a:lnTo>
                    <a:pt x="830" y="131"/>
                  </a:lnTo>
                  <a:lnTo>
                    <a:pt x="862" y="142"/>
                  </a:lnTo>
                  <a:lnTo>
                    <a:pt x="895" y="121"/>
                  </a:lnTo>
                  <a:lnTo>
                    <a:pt x="906" y="88"/>
                  </a:lnTo>
                  <a:lnTo>
                    <a:pt x="939" y="99"/>
                  </a:lnTo>
                  <a:lnTo>
                    <a:pt x="939" y="131"/>
                  </a:lnTo>
                  <a:lnTo>
                    <a:pt x="961" y="164"/>
                  </a:lnTo>
                  <a:lnTo>
                    <a:pt x="982" y="197"/>
                  </a:lnTo>
                  <a:lnTo>
                    <a:pt x="993" y="230"/>
                  </a:lnTo>
                  <a:lnTo>
                    <a:pt x="1026" y="219"/>
                  </a:lnTo>
                  <a:lnTo>
                    <a:pt x="1037" y="186"/>
                  </a:lnTo>
                  <a:lnTo>
                    <a:pt x="1037" y="153"/>
                  </a:lnTo>
                  <a:lnTo>
                    <a:pt x="1037" y="121"/>
                  </a:lnTo>
                  <a:lnTo>
                    <a:pt x="1070" y="110"/>
                  </a:lnTo>
                  <a:lnTo>
                    <a:pt x="1102" y="121"/>
                  </a:lnTo>
                  <a:lnTo>
                    <a:pt x="1124" y="153"/>
                  </a:lnTo>
                  <a:lnTo>
                    <a:pt x="1157" y="164"/>
                  </a:lnTo>
                  <a:lnTo>
                    <a:pt x="1157" y="131"/>
                  </a:lnTo>
                  <a:lnTo>
                    <a:pt x="1168" y="99"/>
                  </a:lnTo>
                  <a:lnTo>
                    <a:pt x="1201" y="99"/>
                  </a:lnTo>
                  <a:lnTo>
                    <a:pt x="1212" y="131"/>
                  </a:lnTo>
                  <a:lnTo>
                    <a:pt x="1222" y="164"/>
                  </a:lnTo>
                  <a:lnTo>
                    <a:pt x="1255" y="186"/>
                  </a:lnTo>
                  <a:lnTo>
                    <a:pt x="1288" y="197"/>
                  </a:lnTo>
                  <a:lnTo>
                    <a:pt x="1299" y="164"/>
                  </a:lnTo>
                  <a:lnTo>
                    <a:pt x="1310" y="131"/>
                  </a:lnTo>
                  <a:lnTo>
                    <a:pt x="1310" y="99"/>
                  </a:lnTo>
                  <a:lnTo>
                    <a:pt x="1321" y="66"/>
                  </a:lnTo>
                  <a:lnTo>
                    <a:pt x="1332" y="33"/>
                  </a:lnTo>
                  <a:lnTo>
                    <a:pt x="1364" y="11"/>
                  </a:lnTo>
                  <a:lnTo>
                    <a:pt x="1397" y="0"/>
                  </a:lnTo>
                  <a:lnTo>
                    <a:pt x="1430" y="0"/>
                  </a:lnTo>
                  <a:lnTo>
                    <a:pt x="1463" y="0"/>
                  </a:lnTo>
                  <a:lnTo>
                    <a:pt x="1473" y="33"/>
                  </a:lnTo>
                  <a:lnTo>
                    <a:pt x="1495" y="66"/>
                  </a:lnTo>
                  <a:lnTo>
                    <a:pt x="1506" y="99"/>
                  </a:lnTo>
                  <a:lnTo>
                    <a:pt x="1517" y="131"/>
                  </a:lnTo>
                  <a:lnTo>
                    <a:pt x="1528" y="164"/>
                  </a:lnTo>
                  <a:lnTo>
                    <a:pt x="1539" y="197"/>
                  </a:lnTo>
                  <a:lnTo>
                    <a:pt x="1572" y="208"/>
                  </a:lnTo>
                  <a:lnTo>
                    <a:pt x="1604" y="208"/>
                  </a:lnTo>
                  <a:lnTo>
                    <a:pt x="1637" y="197"/>
                  </a:lnTo>
                  <a:lnTo>
                    <a:pt x="1648" y="164"/>
                  </a:lnTo>
                  <a:lnTo>
                    <a:pt x="1670" y="131"/>
                  </a:lnTo>
                  <a:lnTo>
                    <a:pt x="1703" y="110"/>
                  </a:lnTo>
                  <a:lnTo>
                    <a:pt x="1713" y="142"/>
                  </a:lnTo>
                  <a:lnTo>
                    <a:pt x="1746" y="164"/>
                  </a:lnTo>
                  <a:lnTo>
                    <a:pt x="1779" y="164"/>
                  </a:lnTo>
                  <a:lnTo>
                    <a:pt x="1812" y="131"/>
                  </a:lnTo>
                  <a:lnTo>
                    <a:pt x="1823" y="99"/>
                  </a:lnTo>
                  <a:lnTo>
                    <a:pt x="1855" y="88"/>
                  </a:lnTo>
                  <a:lnTo>
                    <a:pt x="1877" y="121"/>
                  </a:lnTo>
                  <a:lnTo>
                    <a:pt x="1910" y="121"/>
                  </a:lnTo>
                  <a:lnTo>
                    <a:pt x="1943" y="121"/>
                  </a:lnTo>
                  <a:lnTo>
                    <a:pt x="1954" y="88"/>
                  </a:lnTo>
                  <a:lnTo>
                    <a:pt x="1986" y="110"/>
                  </a:lnTo>
                  <a:lnTo>
                    <a:pt x="1986" y="142"/>
                  </a:lnTo>
                  <a:lnTo>
                    <a:pt x="2019" y="142"/>
                  </a:lnTo>
                  <a:lnTo>
                    <a:pt x="2030" y="110"/>
                  </a:lnTo>
                  <a:lnTo>
                    <a:pt x="2063" y="99"/>
                  </a:lnTo>
                  <a:lnTo>
                    <a:pt x="2084" y="142"/>
                  </a:lnTo>
                  <a:lnTo>
                    <a:pt x="2117" y="153"/>
                  </a:lnTo>
                  <a:lnTo>
                    <a:pt x="2150" y="164"/>
                  </a:lnTo>
                  <a:lnTo>
                    <a:pt x="2161" y="131"/>
                  </a:lnTo>
                  <a:lnTo>
                    <a:pt x="2161" y="99"/>
                  </a:lnTo>
                  <a:lnTo>
                    <a:pt x="2194" y="88"/>
                  </a:lnTo>
                  <a:lnTo>
                    <a:pt x="2226" y="99"/>
                  </a:lnTo>
                  <a:lnTo>
                    <a:pt x="2259" y="88"/>
                  </a:lnTo>
                  <a:lnTo>
                    <a:pt x="2259" y="121"/>
                  </a:lnTo>
                  <a:lnTo>
                    <a:pt x="2281" y="153"/>
                  </a:lnTo>
                  <a:lnTo>
                    <a:pt x="2292" y="186"/>
                  </a:lnTo>
                  <a:lnTo>
                    <a:pt x="2292" y="219"/>
                  </a:lnTo>
                  <a:lnTo>
                    <a:pt x="2324" y="197"/>
                  </a:lnTo>
                  <a:lnTo>
                    <a:pt x="2324" y="164"/>
                  </a:lnTo>
                  <a:lnTo>
                    <a:pt x="2324" y="131"/>
                  </a:lnTo>
                  <a:lnTo>
                    <a:pt x="2335" y="99"/>
                  </a:lnTo>
                  <a:lnTo>
                    <a:pt x="2357" y="66"/>
                  </a:lnTo>
                  <a:lnTo>
                    <a:pt x="2390" y="77"/>
                  </a:lnTo>
                  <a:lnTo>
                    <a:pt x="2390" y="110"/>
                  </a:lnTo>
                  <a:lnTo>
                    <a:pt x="2412" y="142"/>
                  </a:lnTo>
                  <a:lnTo>
                    <a:pt x="2434" y="110"/>
                  </a:lnTo>
                  <a:lnTo>
                    <a:pt x="2455" y="77"/>
                  </a:lnTo>
                  <a:lnTo>
                    <a:pt x="2477" y="110"/>
                  </a:lnTo>
                  <a:lnTo>
                    <a:pt x="2488" y="142"/>
                  </a:lnTo>
                  <a:lnTo>
                    <a:pt x="2499" y="175"/>
                  </a:lnTo>
                  <a:lnTo>
                    <a:pt x="2499" y="208"/>
                  </a:lnTo>
                  <a:lnTo>
                    <a:pt x="2521" y="175"/>
                  </a:lnTo>
                  <a:lnTo>
                    <a:pt x="2532" y="142"/>
                  </a:lnTo>
                  <a:lnTo>
                    <a:pt x="2543" y="110"/>
                  </a:lnTo>
                  <a:lnTo>
                    <a:pt x="2575" y="77"/>
                  </a:lnTo>
                  <a:lnTo>
                    <a:pt x="2597" y="110"/>
                  </a:lnTo>
                  <a:lnTo>
                    <a:pt x="2597" y="142"/>
                  </a:lnTo>
                  <a:lnTo>
                    <a:pt x="2630" y="153"/>
                  </a:lnTo>
                  <a:lnTo>
                    <a:pt x="2652" y="121"/>
                  </a:lnTo>
                  <a:lnTo>
                    <a:pt x="2685" y="99"/>
                  </a:lnTo>
                  <a:lnTo>
                    <a:pt x="2695" y="142"/>
                  </a:lnTo>
                  <a:lnTo>
                    <a:pt x="2695" y="175"/>
                  </a:lnTo>
                  <a:lnTo>
                    <a:pt x="2706" y="208"/>
                  </a:lnTo>
                  <a:lnTo>
                    <a:pt x="2739" y="208"/>
                  </a:lnTo>
                  <a:lnTo>
                    <a:pt x="2772" y="197"/>
                  </a:lnTo>
                  <a:lnTo>
                    <a:pt x="2772" y="230"/>
                  </a:lnTo>
                  <a:lnTo>
                    <a:pt x="2783" y="273"/>
                  </a:lnTo>
                  <a:lnTo>
                    <a:pt x="2783" y="306"/>
                  </a:lnTo>
                  <a:lnTo>
                    <a:pt x="2783" y="339"/>
                  </a:lnTo>
                  <a:lnTo>
                    <a:pt x="2815" y="361"/>
                  </a:lnTo>
                  <a:lnTo>
                    <a:pt x="2815" y="328"/>
                  </a:lnTo>
                  <a:lnTo>
                    <a:pt x="2826" y="295"/>
                  </a:lnTo>
                  <a:lnTo>
                    <a:pt x="2837" y="262"/>
                  </a:lnTo>
                  <a:lnTo>
                    <a:pt x="2859" y="230"/>
                  </a:lnTo>
                  <a:lnTo>
                    <a:pt x="2859" y="197"/>
                  </a:lnTo>
                  <a:lnTo>
                    <a:pt x="2870" y="164"/>
                  </a:lnTo>
                  <a:lnTo>
                    <a:pt x="2892" y="131"/>
                  </a:lnTo>
                  <a:lnTo>
                    <a:pt x="2925" y="121"/>
                  </a:lnTo>
                  <a:lnTo>
                    <a:pt x="2957" y="121"/>
                  </a:lnTo>
                  <a:lnTo>
                    <a:pt x="2990" y="110"/>
                  </a:lnTo>
                  <a:lnTo>
                    <a:pt x="3023" y="110"/>
                  </a:lnTo>
                  <a:lnTo>
                    <a:pt x="3056" y="110"/>
                  </a:lnTo>
                  <a:lnTo>
                    <a:pt x="3088" y="110"/>
                  </a:lnTo>
                  <a:lnTo>
                    <a:pt x="3121" y="121"/>
                  </a:lnTo>
                  <a:lnTo>
                    <a:pt x="3154" y="142"/>
                  </a:lnTo>
                  <a:lnTo>
                    <a:pt x="3176" y="175"/>
                  </a:lnTo>
                  <a:lnTo>
                    <a:pt x="3186" y="208"/>
                  </a:lnTo>
                  <a:lnTo>
                    <a:pt x="3197" y="241"/>
                  </a:lnTo>
                  <a:lnTo>
                    <a:pt x="3197" y="273"/>
                  </a:lnTo>
                  <a:lnTo>
                    <a:pt x="3197" y="306"/>
                  </a:lnTo>
                  <a:lnTo>
                    <a:pt x="3197" y="339"/>
                  </a:lnTo>
                  <a:lnTo>
                    <a:pt x="3186" y="372"/>
                  </a:lnTo>
                  <a:lnTo>
                    <a:pt x="3186" y="404"/>
                  </a:lnTo>
                  <a:lnTo>
                    <a:pt x="3186" y="437"/>
                  </a:lnTo>
                  <a:lnTo>
                    <a:pt x="3219" y="437"/>
                  </a:lnTo>
                  <a:lnTo>
                    <a:pt x="3252" y="459"/>
                  </a:lnTo>
                  <a:lnTo>
                    <a:pt x="3252" y="492"/>
                  </a:lnTo>
                  <a:lnTo>
                    <a:pt x="3263" y="524"/>
                  </a:lnTo>
                  <a:lnTo>
                    <a:pt x="3263" y="568"/>
                  </a:lnTo>
                  <a:lnTo>
                    <a:pt x="3263" y="601"/>
                  </a:lnTo>
                  <a:lnTo>
                    <a:pt x="3263" y="633"/>
                  </a:lnTo>
                  <a:lnTo>
                    <a:pt x="3263" y="666"/>
                  </a:lnTo>
                  <a:lnTo>
                    <a:pt x="3263" y="699"/>
                  </a:lnTo>
                  <a:lnTo>
                    <a:pt x="3263" y="743"/>
                  </a:lnTo>
                  <a:lnTo>
                    <a:pt x="3263" y="775"/>
                  </a:lnTo>
                  <a:lnTo>
                    <a:pt x="3263" y="808"/>
                  </a:lnTo>
                  <a:lnTo>
                    <a:pt x="3263" y="841"/>
                  </a:lnTo>
                  <a:lnTo>
                    <a:pt x="3263" y="874"/>
                  </a:lnTo>
                  <a:lnTo>
                    <a:pt x="3252" y="906"/>
                  </a:lnTo>
                  <a:lnTo>
                    <a:pt x="3252" y="950"/>
                  </a:lnTo>
                  <a:lnTo>
                    <a:pt x="3252" y="983"/>
                  </a:lnTo>
                  <a:lnTo>
                    <a:pt x="3241" y="1015"/>
                  </a:lnTo>
                  <a:lnTo>
                    <a:pt x="3241" y="1059"/>
                  </a:lnTo>
                  <a:lnTo>
                    <a:pt x="3230" y="1092"/>
                  </a:lnTo>
                  <a:lnTo>
                    <a:pt x="3230" y="1125"/>
                  </a:lnTo>
                  <a:lnTo>
                    <a:pt x="3230" y="1157"/>
                  </a:lnTo>
                  <a:lnTo>
                    <a:pt x="3230" y="1190"/>
                  </a:lnTo>
                  <a:lnTo>
                    <a:pt x="3219" y="1223"/>
                  </a:lnTo>
                  <a:lnTo>
                    <a:pt x="3219" y="1256"/>
                  </a:lnTo>
                  <a:lnTo>
                    <a:pt x="3219" y="1288"/>
                  </a:lnTo>
                  <a:lnTo>
                    <a:pt x="3208" y="1321"/>
                  </a:lnTo>
                  <a:lnTo>
                    <a:pt x="3208" y="1365"/>
                  </a:lnTo>
                  <a:lnTo>
                    <a:pt x="3197" y="1397"/>
                  </a:lnTo>
                  <a:lnTo>
                    <a:pt x="3186" y="1430"/>
                  </a:lnTo>
                  <a:lnTo>
                    <a:pt x="3186" y="1463"/>
                  </a:lnTo>
                  <a:lnTo>
                    <a:pt x="3186" y="1496"/>
                  </a:lnTo>
                  <a:lnTo>
                    <a:pt x="3186" y="1528"/>
                  </a:lnTo>
                  <a:lnTo>
                    <a:pt x="3176" y="1561"/>
                  </a:lnTo>
                  <a:lnTo>
                    <a:pt x="3143" y="1561"/>
                  </a:lnTo>
                  <a:lnTo>
                    <a:pt x="3110" y="1583"/>
                  </a:lnTo>
                  <a:lnTo>
                    <a:pt x="3077" y="1583"/>
                  </a:lnTo>
                  <a:lnTo>
                    <a:pt x="3045" y="1594"/>
                  </a:lnTo>
                  <a:lnTo>
                    <a:pt x="3012" y="1605"/>
                  </a:lnTo>
                  <a:lnTo>
                    <a:pt x="2979" y="1605"/>
                  </a:lnTo>
                  <a:lnTo>
                    <a:pt x="2946" y="1594"/>
                  </a:lnTo>
                  <a:lnTo>
                    <a:pt x="2935" y="1561"/>
                  </a:lnTo>
                  <a:lnTo>
                    <a:pt x="2935" y="1528"/>
                  </a:lnTo>
                  <a:lnTo>
                    <a:pt x="2935" y="1496"/>
                  </a:lnTo>
                  <a:lnTo>
                    <a:pt x="2935" y="1463"/>
                  </a:lnTo>
                  <a:lnTo>
                    <a:pt x="2957" y="1430"/>
                  </a:lnTo>
                  <a:lnTo>
                    <a:pt x="2968" y="1397"/>
                  </a:lnTo>
                  <a:lnTo>
                    <a:pt x="2979" y="1365"/>
                  </a:lnTo>
                  <a:lnTo>
                    <a:pt x="2979" y="1332"/>
                  </a:lnTo>
                  <a:lnTo>
                    <a:pt x="2979" y="1299"/>
                  </a:lnTo>
                  <a:lnTo>
                    <a:pt x="2979" y="1266"/>
                  </a:lnTo>
                  <a:lnTo>
                    <a:pt x="2968" y="1234"/>
                  </a:lnTo>
                  <a:lnTo>
                    <a:pt x="2935" y="1212"/>
                  </a:lnTo>
                  <a:lnTo>
                    <a:pt x="2903" y="1201"/>
                  </a:lnTo>
                  <a:lnTo>
                    <a:pt x="2870" y="1179"/>
                  </a:lnTo>
                  <a:lnTo>
                    <a:pt x="2837" y="1168"/>
                  </a:lnTo>
                  <a:lnTo>
                    <a:pt x="2805" y="1146"/>
                  </a:lnTo>
                  <a:lnTo>
                    <a:pt x="2772" y="1125"/>
                  </a:lnTo>
                  <a:lnTo>
                    <a:pt x="2739" y="1114"/>
                  </a:lnTo>
                  <a:lnTo>
                    <a:pt x="2706" y="1092"/>
                  </a:lnTo>
                  <a:lnTo>
                    <a:pt x="2663" y="1081"/>
                  </a:lnTo>
                  <a:lnTo>
                    <a:pt x="2630" y="1070"/>
                  </a:lnTo>
                  <a:lnTo>
                    <a:pt x="2597" y="1070"/>
                  </a:lnTo>
                  <a:lnTo>
                    <a:pt x="2565" y="1070"/>
                  </a:lnTo>
                  <a:lnTo>
                    <a:pt x="2532" y="1070"/>
                  </a:lnTo>
                  <a:lnTo>
                    <a:pt x="2488" y="1070"/>
                  </a:lnTo>
                  <a:lnTo>
                    <a:pt x="2455" y="1070"/>
                  </a:lnTo>
                  <a:lnTo>
                    <a:pt x="2423" y="1070"/>
                  </a:lnTo>
                  <a:lnTo>
                    <a:pt x="2379" y="1059"/>
                  </a:lnTo>
                  <a:lnTo>
                    <a:pt x="2346" y="1059"/>
                  </a:lnTo>
                  <a:lnTo>
                    <a:pt x="2314" y="1048"/>
                  </a:lnTo>
                  <a:lnTo>
                    <a:pt x="2270" y="1048"/>
                  </a:lnTo>
                  <a:lnTo>
                    <a:pt x="2237" y="1037"/>
                  </a:lnTo>
                  <a:lnTo>
                    <a:pt x="2204" y="1037"/>
                  </a:lnTo>
                  <a:lnTo>
                    <a:pt x="2172" y="1026"/>
                  </a:lnTo>
                  <a:lnTo>
                    <a:pt x="2139" y="1015"/>
                  </a:lnTo>
                  <a:lnTo>
                    <a:pt x="2106" y="1015"/>
                  </a:lnTo>
                  <a:lnTo>
                    <a:pt x="2074" y="1005"/>
                  </a:lnTo>
                  <a:lnTo>
                    <a:pt x="2041" y="1005"/>
                  </a:lnTo>
                  <a:lnTo>
                    <a:pt x="1997" y="994"/>
                  </a:lnTo>
                  <a:lnTo>
                    <a:pt x="1964" y="994"/>
                  </a:lnTo>
                  <a:lnTo>
                    <a:pt x="1921" y="994"/>
                  </a:lnTo>
                  <a:lnTo>
                    <a:pt x="1888" y="994"/>
                  </a:lnTo>
                  <a:lnTo>
                    <a:pt x="1855" y="994"/>
                  </a:lnTo>
                  <a:lnTo>
                    <a:pt x="1823" y="994"/>
                  </a:lnTo>
                  <a:lnTo>
                    <a:pt x="1790" y="994"/>
                  </a:lnTo>
                  <a:lnTo>
                    <a:pt x="1757" y="994"/>
                  </a:lnTo>
                  <a:lnTo>
                    <a:pt x="1724" y="983"/>
                  </a:lnTo>
                  <a:lnTo>
                    <a:pt x="1692" y="983"/>
                  </a:lnTo>
                  <a:lnTo>
                    <a:pt x="1659" y="972"/>
                  </a:lnTo>
                  <a:lnTo>
                    <a:pt x="1626" y="972"/>
                  </a:lnTo>
                  <a:lnTo>
                    <a:pt x="1593" y="961"/>
                  </a:lnTo>
                  <a:lnTo>
                    <a:pt x="1561" y="961"/>
                  </a:lnTo>
                  <a:lnTo>
                    <a:pt x="1528" y="950"/>
                  </a:lnTo>
                  <a:lnTo>
                    <a:pt x="1495" y="950"/>
                  </a:lnTo>
                  <a:lnTo>
                    <a:pt x="1463" y="939"/>
                  </a:lnTo>
                  <a:lnTo>
                    <a:pt x="1430" y="939"/>
                  </a:lnTo>
                  <a:lnTo>
                    <a:pt x="1397" y="939"/>
                  </a:lnTo>
                  <a:lnTo>
                    <a:pt x="1364" y="939"/>
                  </a:lnTo>
                  <a:lnTo>
                    <a:pt x="1332" y="928"/>
                  </a:lnTo>
                  <a:lnTo>
                    <a:pt x="1288" y="928"/>
                  </a:lnTo>
                  <a:lnTo>
                    <a:pt x="1255" y="928"/>
                  </a:lnTo>
                  <a:lnTo>
                    <a:pt x="1222" y="928"/>
                  </a:lnTo>
                  <a:lnTo>
                    <a:pt x="1190" y="917"/>
                  </a:lnTo>
                  <a:lnTo>
                    <a:pt x="1157" y="917"/>
                  </a:lnTo>
                  <a:lnTo>
                    <a:pt x="1113" y="906"/>
                  </a:lnTo>
                  <a:lnTo>
                    <a:pt x="1081" y="906"/>
                  </a:lnTo>
                  <a:lnTo>
                    <a:pt x="1048" y="895"/>
                  </a:lnTo>
                  <a:lnTo>
                    <a:pt x="1015" y="895"/>
                  </a:lnTo>
                  <a:lnTo>
                    <a:pt x="982" y="884"/>
                  </a:lnTo>
                  <a:lnTo>
                    <a:pt x="950" y="874"/>
                  </a:lnTo>
                  <a:lnTo>
                    <a:pt x="917" y="874"/>
                  </a:lnTo>
                  <a:lnTo>
                    <a:pt x="884" y="874"/>
                  </a:lnTo>
                  <a:lnTo>
                    <a:pt x="852" y="863"/>
                  </a:lnTo>
                  <a:lnTo>
                    <a:pt x="819" y="863"/>
                  </a:lnTo>
                  <a:lnTo>
                    <a:pt x="786" y="863"/>
                  </a:lnTo>
                  <a:lnTo>
                    <a:pt x="742" y="852"/>
                  </a:lnTo>
                  <a:lnTo>
                    <a:pt x="710" y="841"/>
                  </a:lnTo>
                  <a:lnTo>
                    <a:pt x="677" y="841"/>
                  </a:lnTo>
                  <a:lnTo>
                    <a:pt x="644" y="830"/>
                  </a:lnTo>
                  <a:lnTo>
                    <a:pt x="611" y="830"/>
                  </a:lnTo>
                  <a:lnTo>
                    <a:pt x="579" y="819"/>
                  </a:lnTo>
                  <a:lnTo>
                    <a:pt x="546" y="819"/>
                  </a:lnTo>
                  <a:lnTo>
                    <a:pt x="502" y="819"/>
                  </a:lnTo>
                  <a:lnTo>
                    <a:pt x="470" y="808"/>
                  </a:lnTo>
                  <a:lnTo>
                    <a:pt x="437" y="808"/>
                  </a:lnTo>
                  <a:lnTo>
                    <a:pt x="404" y="797"/>
                  </a:lnTo>
                  <a:lnTo>
                    <a:pt x="371" y="797"/>
                  </a:lnTo>
                  <a:lnTo>
                    <a:pt x="339" y="786"/>
                  </a:lnTo>
                  <a:lnTo>
                    <a:pt x="306" y="775"/>
                  </a:lnTo>
                  <a:lnTo>
                    <a:pt x="273" y="753"/>
                  </a:lnTo>
                  <a:lnTo>
                    <a:pt x="241" y="743"/>
                  </a:lnTo>
                  <a:lnTo>
                    <a:pt x="208" y="743"/>
                  </a:lnTo>
                  <a:lnTo>
                    <a:pt x="175" y="732"/>
                  </a:lnTo>
                  <a:lnTo>
                    <a:pt x="142" y="732"/>
                  </a:lnTo>
                  <a:lnTo>
                    <a:pt x="110" y="721"/>
                  </a:lnTo>
                  <a:lnTo>
                    <a:pt x="77" y="699"/>
                  </a:lnTo>
                  <a:lnTo>
                    <a:pt x="44" y="677"/>
                  </a:lnTo>
                  <a:lnTo>
                    <a:pt x="22" y="644"/>
                  </a:lnTo>
                  <a:lnTo>
                    <a:pt x="11" y="612"/>
                  </a:lnTo>
                  <a:lnTo>
                    <a:pt x="11" y="579"/>
                  </a:lnTo>
                  <a:lnTo>
                    <a:pt x="0" y="546"/>
                  </a:lnTo>
                  <a:lnTo>
                    <a:pt x="0" y="513"/>
                  </a:lnTo>
                  <a:lnTo>
                    <a:pt x="0" y="481"/>
                  </a:lnTo>
                  <a:lnTo>
                    <a:pt x="0" y="448"/>
                  </a:lnTo>
                  <a:lnTo>
                    <a:pt x="22" y="415"/>
                  </a:lnTo>
                  <a:lnTo>
                    <a:pt x="33" y="382"/>
                  </a:lnTo>
                  <a:lnTo>
                    <a:pt x="33" y="350"/>
                  </a:lnTo>
                  <a:lnTo>
                    <a:pt x="44" y="317"/>
                  </a:lnTo>
                  <a:lnTo>
                    <a:pt x="90" y="245"/>
                  </a:lnTo>
                  <a:lnTo>
                    <a:pt x="90" y="245"/>
                  </a:lnTo>
                </a:path>
              </a:pathLst>
            </a:custGeom>
            <a:pattFill prst="smCheck">
              <a:fgClr>
                <a:srgbClr val="4f81bd"/>
              </a:fgClr>
              <a:bgClr>
                <a:srgbClr val="eeece1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4" name="Group 6"/>
            <p:cNvGrpSpPr/>
            <p:nvPr/>
          </p:nvGrpSpPr>
          <p:grpSpPr>
            <a:xfrm>
              <a:off x="2608200" y="1467000"/>
              <a:ext cx="740880" cy="2291760"/>
              <a:chOff x="2608200" y="1467000"/>
              <a:chExt cx="740880" cy="2291760"/>
            </a:xfrm>
          </p:grpSpPr>
          <p:sp>
            <p:nvSpPr>
              <p:cNvPr id="525" name="Freeform 3"/>
              <p:cNvSpPr/>
              <p:nvPr/>
            </p:nvSpPr>
            <p:spPr>
              <a:xfrm>
                <a:off x="2608200" y="1806480"/>
                <a:ext cx="740880" cy="1952280"/>
              </a:xfrm>
              <a:custGeom>
                <a:avLst/>
                <a:gdLst>
                  <a:gd name="textAreaLeft" fmla="*/ 0 w 740880"/>
                  <a:gd name="textAreaRight" fmla="*/ 741240 w 740880"/>
                  <a:gd name="textAreaTop" fmla="*/ 0 h 1952280"/>
                  <a:gd name="textAreaBottom" fmla="*/ 1952640 h 1952280"/>
                </a:gdLst>
                <a:ahLst/>
                <a:rect l="textAreaLeft" t="textAreaTop" r="textAreaRight" b="textAreaBottom"/>
                <a:pathLst>
                  <a:path w="467" h="1230">
                    <a:moveTo>
                      <a:pt x="410" y="35"/>
                    </a:moveTo>
                    <a:lnTo>
                      <a:pt x="440" y="74"/>
                    </a:lnTo>
                    <a:lnTo>
                      <a:pt x="447" y="108"/>
                    </a:lnTo>
                    <a:lnTo>
                      <a:pt x="456" y="140"/>
                    </a:lnTo>
                    <a:lnTo>
                      <a:pt x="464" y="172"/>
                    </a:lnTo>
                    <a:lnTo>
                      <a:pt x="462" y="201"/>
                    </a:lnTo>
                    <a:lnTo>
                      <a:pt x="461" y="231"/>
                    </a:lnTo>
                    <a:lnTo>
                      <a:pt x="466" y="273"/>
                    </a:lnTo>
                    <a:lnTo>
                      <a:pt x="462" y="309"/>
                    </a:lnTo>
                    <a:lnTo>
                      <a:pt x="464" y="390"/>
                    </a:lnTo>
                    <a:lnTo>
                      <a:pt x="460" y="427"/>
                    </a:lnTo>
                    <a:lnTo>
                      <a:pt x="459" y="458"/>
                    </a:lnTo>
                    <a:lnTo>
                      <a:pt x="457" y="487"/>
                    </a:lnTo>
                    <a:lnTo>
                      <a:pt x="457" y="515"/>
                    </a:lnTo>
                    <a:lnTo>
                      <a:pt x="456" y="545"/>
                    </a:lnTo>
                    <a:lnTo>
                      <a:pt x="447" y="571"/>
                    </a:lnTo>
                    <a:lnTo>
                      <a:pt x="434" y="606"/>
                    </a:lnTo>
                    <a:lnTo>
                      <a:pt x="433" y="635"/>
                    </a:lnTo>
                    <a:lnTo>
                      <a:pt x="423" y="662"/>
                    </a:lnTo>
                    <a:lnTo>
                      <a:pt x="414" y="688"/>
                    </a:lnTo>
                    <a:lnTo>
                      <a:pt x="404" y="714"/>
                    </a:lnTo>
                    <a:lnTo>
                      <a:pt x="404" y="743"/>
                    </a:lnTo>
                    <a:lnTo>
                      <a:pt x="394" y="768"/>
                    </a:lnTo>
                    <a:lnTo>
                      <a:pt x="382" y="803"/>
                    </a:lnTo>
                    <a:lnTo>
                      <a:pt x="372" y="830"/>
                    </a:lnTo>
                    <a:lnTo>
                      <a:pt x="372" y="860"/>
                    </a:lnTo>
                    <a:lnTo>
                      <a:pt x="362" y="886"/>
                    </a:lnTo>
                    <a:lnTo>
                      <a:pt x="352" y="912"/>
                    </a:lnTo>
                    <a:lnTo>
                      <a:pt x="344" y="937"/>
                    </a:lnTo>
                    <a:lnTo>
                      <a:pt x="334" y="964"/>
                    </a:lnTo>
                    <a:lnTo>
                      <a:pt x="324" y="990"/>
                    </a:lnTo>
                    <a:lnTo>
                      <a:pt x="315" y="1017"/>
                    </a:lnTo>
                    <a:lnTo>
                      <a:pt x="305" y="1042"/>
                    </a:lnTo>
                    <a:lnTo>
                      <a:pt x="295" y="1068"/>
                    </a:lnTo>
                    <a:lnTo>
                      <a:pt x="286" y="1095"/>
                    </a:lnTo>
                    <a:lnTo>
                      <a:pt x="277" y="1121"/>
                    </a:lnTo>
                    <a:lnTo>
                      <a:pt x="276" y="1149"/>
                    </a:lnTo>
                    <a:lnTo>
                      <a:pt x="266" y="1176"/>
                    </a:lnTo>
                    <a:lnTo>
                      <a:pt x="256" y="1202"/>
                    </a:lnTo>
                    <a:lnTo>
                      <a:pt x="247" y="1229"/>
                    </a:lnTo>
                    <a:lnTo>
                      <a:pt x="218" y="1227"/>
                    </a:lnTo>
                    <a:lnTo>
                      <a:pt x="218" y="1199"/>
                    </a:lnTo>
                    <a:lnTo>
                      <a:pt x="210" y="1166"/>
                    </a:lnTo>
                    <a:lnTo>
                      <a:pt x="203" y="1134"/>
                    </a:lnTo>
                    <a:lnTo>
                      <a:pt x="186" y="1098"/>
                    </a:lnTo>
                    <a:lnTo>
                      <a:pt x="181" y="1056"/>
                    </a:lnTo>
                    <a:lnTo>
                      <a:pt x="165" y="1021"/>
                    </a:lnTo>
                    <a:lnTo>
                      <a:pt x="156" y="987"/>
                    </a:lnTo>
                    <a:lnTo>
                      <a:pt x="148" y="957"/>
                    </a:lnTo>
                    <a:lnTo>
                      <a:pt x="131" y="920"/>
                    </a:lnTo>
                    <a:lnTo>
                      <a:pt x="124" y="888"/>
                    </a:lnTo>
                    <a:lnTo>
                      <a:pt x="107" y="852"/>
                    </a:lnTo>
                    <a:lnTo>
                      <a:pt x="90" y="816"/>
                    </a:lnTo>
                    <a:lnTo>
                      <a:pt x="82" y="784"/>
                    </a:lnTo>
                    <a:lnTo>
                      <a:pt x="75" y="751"/>
                    </a:lnTo>
                    <a:lnTo>
                      <a:pt x="67" y="718"/>
                    </a:lnTo>
                    <a:lnTo>
                      <a:pt x="58" y="686"/>
                    </a:lnTo>
                    <a:lnTo>
                      <a:pt x="51" y="653"/>
                    </a:lnTo>
                    <a:lnTo>
                      <a:pt x="35" y="618"/>
                    </a:lnTo>
                    <a:lnTo>
                      <a:pt x="26" y="584"/>
                    </a:lnTo>
                    <a:lnTo>
                      <a:pt x="18" y="553"/>
                    </a:lnTo>
                    <a:lnTo>
                      <a:pt x="10" y="520"/>
                    </a:lnTo>
                    <a:lnTo>
                      <a:pt x="3" y="487"/>
                    </a:lnTo>
                    <a:lnTo>
                      <a:pt x="4" y="458"/>
                    </a:lnTo>
                    <a:lnTo>
                      <a:pt x="4" y="429"/>
                    </a:lnTo>
                    <a:lnTo>
                      <a:pt x="5" y="400"/>
                    </a:lnTo>
                    <a:lnTo>
                      <a:pt x="0" y="358"/>
                    </a:lnTo>
                    <a:lnTo>
                      <a:pt x="0" y="329"/>
                    </a:lnTo>
                    <a:lnTo>
                      <a:pt x="1" y="300"/>
                    </a:lnTo>
                    <a:lnTo>
                      <a:pt x="2" y="270"/>
                    </a:lnTo>
                    <a:lnTo>
                      <a:pt x="12" y="245"/>
                    </a:lnTo>
                    <a:lnTo>
                      <a:pt x="12" y="216"/>
                    </a:lnTo>
                    <a:lnTo>
                      <a:pt x="13" y="187"/>
                    </a:lnTo>
                    <a:lnTo>
                      <a:pt x="13" y="156"/>
                    </a:lnTo>
                    <a:lnTo>
                      <a:pt x="23" y="131"/>
                    </a:lnTo>
                    <a:lnTo>
                      <a:pt x="33" y="105"/>
                    </a:lnTo>
                    <a:lnTo>
                      <a:pt x="42" y="79"/>
                    </a:lnTo>
                    <a:lnTo>
                      <a:pt x="52" y="51"/>
                    </a:lnTo>
                    <a:lnTo>
                      <a:pt x="62" y="25"/>
                    </a:lnTo>
                    <a:lnTo>
                      <a:pt x="70" y="0"/>
                    </a:lnTo>
                    <a:lnTo>
                      <a:pt x="62" y="25"/>
                    </a:lnTo>
                    <a:lnTo>
                      <a:pt x="69" y="58"/>
                    </a:lnTo>
                    <a:lnTo>
                      <a:pt x="68" y="89"/>
                    </a:lnTo>
                    <a:lnTo>
                      <a:pt x="67" y="118"/>
                    </a:lnTo>
                    <a:lnTo>
                      <a:pt x="67" y="147"/>
                    </a:lnTo>
                    <a:lnTo>
                      <a:pt x="66" y="176"/>
                    </a:lnTo>
                    <a:lnTo>
                      <a:pt x="66" y="206"/>
                    </a:lnTo>
                    <a:lnTo>
                      <a:pt x="65" y="235"/>
                    </a:lnTo>
                    <a:lnTo>
                      <a:pt x="73" y="267"/>
                    </a:lnTo>
                    <a:lnTo>
                      <a:pt x="64" y="293"/>
                    </a:lnTo>
                    <a:lnTo>
                      <a:pt x="68" y="334"/>
                    </a:lnTo>
                    <a:lnTo>
                      <a:pt x="75" y="367"/>
                    </a:lnTo>
                    <a:lnTo>
                      <a:pt x="75" y="397"/>
                    </a:lnTo>
                    <a:lnTo>
                      <a:pt x="75" y="426"/>
                    </a:lnTo>
                    <a:lnTo>
                      <a:pt x="82" y="458"/>
                    </a:lnTo>
                    <a:lnTo>
                      <a:pt x="91" y="491"/>
                    </a:lnTo>
                    <a:lnTo>
                      <a:pt x="99" y="523"/>
                    </a:lnTo>
                    <a:lnTo>
                      <a:pt x="97" y="553"/>
                    </a:lnTo>
                    <a:lnTo>
                      <a:pt x="106" y="585"/>
                    </a:lnTo>
                    <a:lnTo>
                      <a:pt x="114" y="617"/>
                    </a:lnTo>
                    <a:lnTo>
                      <a:pt x="121" y="650"/>
                    </a:lnTo>
                    <a:lnTo>
                      <a:pt x="135" y="695"/>
                    </a:lnTo>
                    <a:lnTo>
                      <a:pt x="142" y="728"/>
                    </a:lnTo>
                    <a:lnTo>
                      <a:pt x="159" y="762"/>
                    </a:lnTo>
                    <a:lnTo>
                      <a:pt x="168" y="795"/>
                    </a:lnTo>
                    <a:lnTo>
                      <a:pt x="176" y="828"/>
                    </a:lnTo>
                    <a:lnTo>
                      <a:pt x="193" y="864"/>
                    </a:lnTo>
                    <a:lnTo>
                      <a:pt x="208" y="898"/>
                    </a:lnTo>
                    <a:lnTo>
                      <a:pt x="229" y="925"/>
                    </a:lnTo>
                    <a:lnTo>
                      <a:pt x="237" y="959"/>
                    </a:lnTo>
                    <a:lnTo>
                      <a:pt x="254" y="935"/>
                    </a:lnTo>
                    <a:lnTo>
                      <a:pt x="264" y="909"/>
                    </a:lnTo>
                    <a:lnTo>
                      <a:pt x="274" y="884"/>
                    </a:lnTo>
                    <a:lnTo>
                      <a:pt x="283" y="857"/>
                    </a:lnTo>
                    <a:lnTo>
                      <a:pt x="293" y="831"/>
                    </a:lnTo>
                    <a:lnTo>
                      <a:pt x="305" y="796"/>
                    </a:lnTo>
                    <a:lnTo>
                      <a:pt x="318" y="761"/>
                    </a:lnTo>
                    <a:lnTo>
                      <a:pt x="328" y="735"/>
                    </a:lnTo>
                    <a:lnTo>
                      <a:pt x="338" y="708"/>
                    </a:lnTo>
                    <a:lnTo>
                      <a:pt x="347" y="683"/>
                    </a:lnTo>
                    <a:lnTo>
                      <a:pt x="356" y="656"/>
                    </a:lnTo>
                    <a:lnTo>
                      <a:pt x="366" y="630"/>
                    </a:lnTo>
                    <a:lnTo>
                      <a:pt x="375" y="603"/>
                    </a:lnTo>
                    <a:lnTo>
                      <a:pt x="385" y="579"/>
                    </a:lnTo>
                    <a:lnTo>
                      <a:pt x="389" y="540"/>
                    </a:lnTo>
                    <a:lnTo>
                      <a:pt x="389" y="510"/>
                    </a:lnTo>
                    <a:lnTo>
                      <a:pt x="399" y="484"/>
                    </a:lnTo>
                    <a:lnTo>
                      <a:pt x="399" y="455"/>
                    </a:lnTo>
                    <a:lnTo>
                      <a:pt x="392" y="422"/>
                    </a:lnTo>
                    <a:lnTo>
                      <a:pt x="393" y="393"/>
                    </a:lnTo>
                    <a:lnTo>
                      <a:pt x="394" y="364"/>
                    </a:lnTo>
                    <a:lnTo>
                      <a:pt x="394" y="335"/>
                    </a:lnTo>
                    <a:lnTo>
                      <a:pt x="396" y="306"/>
                    </a:lnTo>
                    <a:lnTo>
                      <a:pt x="396" y="276"/>
                    </a:lnTo>
                    <a:lnTo>
                      <a:pt x="397" y="248"/>
                    </a:lnTo>
                    <a:lnTo>
                      <a:pt x="398" y="217"/>
                    </a:lnTo>
                    <a:lnTo>
                      <a:pt x="398" y="188"/>
                    </a:lnTo>
                    <a:lnTo>
                      <a:pt x="399" y="158"/>
                    </a:lnTo>
                    <a:lnTo>
                      <a:pt x="399" y="130"/>
                    </a:lnTo>
                    <a:lnTo>
                      <a:pt x="392" y="98"/>
                    </a:lnTo>
                    <a:lnTo>
                      <a:pt x="410" y="35"/>
                    </a:lnTo>
                    <a:lnTo>
                      <a:pt x="410" y="35"/>
                    </a:lnTo>
                  </a:path>
                </a:pathLst>
              </a:custGeom>
              <a:solidFill>
                <a:schemeClr val="bg1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4"/>
              <p:cNvSpPr/>
              <p:nvPr/>
            </p:nvSpPr>
            <p:spPr>
              <a:xfrm>
                <a:off x="2698920" y="1533600"/>
                <a:ext cx="560160" cy="1782360"/>
              </a:xfrm>
              <a:custGeom>
                <a:avLst/>
                <a:gdLst>
                  <a:gd name="textAreaLeft" fmla="*/ 0 w 560160"/>
                  <a:gd name="textAreaRight" fmla="*/ 560520 w 560160"/>
                  <a:gd name="textAreaTop" fmla="*/ 0 h 1782360"/>
                  <a:gd name="textAreaBottom" fmla="*/ 1782720 h 1782360"/>
                </a:gdLst>
                <a:ahLst/>
                <a:rect l="textAreaLeft" t="textAreaTop" r="textAreaRight" b="textAreaBottom"/>
                <a:pathLst>
                  <a:path w="353" h="1123">
                    <a:moveTo>
                      <a:pt x="352" y="207"/>
                    </a:moveTo>
                    <a:lnTo>
                      <a:pt x="351" y="168"/>
                    </a:lnTo>
                    <a:lnTo>
                      <a:pt x="333" y="141"/>
                    </a:lnTo>
                    <a:lnTo>
                      <a:pt x="324" y="107"/>
                    </a:lnTo>
                    <a:lnTo>
                      <a:pt x="316" y="75"/>
                    </a:lnTo>
                    <a:lnTo>
                      <a:pt x="308" y="42"/>
                    </a:lnTo>
                    <a:lnTo>
                      <a:pt x="292" y="6"/>
                    </a:lnTo>
                    <a:lnTo>
                      <a:pt x="266" y="26"/>
                    </a:lnTo>
                    <a:lnTo>
                      <a:pt x="265" y="57"/>
                    </a:lnTo>
                    <a:lnTo>
                      <a:pt x="255" y="82"/>
                    </a:lnTo>
                    <a:lnTo>
                      <a:pt x="263" y="114"/>
                    </a:lnTo>
                    <a:lnTo>
                      <a:pt x="261" y="144"/>
                    </a:lnTo>
                    <a:lnTo>
                      <a:pt x="270" y="176"/>
                    </a:lnTo>
                    <a:lnTo>
                      <a:pt x="260" y="202"/>
                    </a:lnTo>
                    <a:lnTo>
                      <a:pt x="256" y="241"/>
                    </a:lnTo>
                    <a:lnTo>
                      <a:pt x="255" y="270"/>
                    </a:lnTo>
                    <a:lnTo>
                      <a:pt x="252" y="307"/>
                    </a:lnTo>
                    <a:lnTo>
                      <a:pt x="250" y="337"/>
                    </a:lnTo>
                    <a:lnTo>
                      <a:pt x="241" y="363"/>
                    </a:lnTo>
                    <a:lnTo>
                      <a:pt x="249" y="396"/>
                    </a:lnTo>
                    <a:lnTo>
                      <a:pt x="240" y="422"/>
                    </a:lnTo>
                    <a:lnTo>
                      <a:pt x="238" y="452"/>
                    </a:lnTo>
                    <a:lnTo>
                      <a:pt x="238" y="481"/>
                    </a:lnTo>
                    <a:lnTo>
                      <a:pt x="228" y="507"/>
                    </a:lnTo>
                    <a:lnTo>
                      <a:pt x="228" y="536"/>
                    </a:lnTo>
                    <a:lnTo>
                      <a:pt x="226" y="565"/>
                    </a:lnTo>
                    <a:lnTo>
                      <a:pt x="226" y="595"/>
                    </a:lnTo>
                    <a:lnTo>
                      <a:pt x="217" y="620"/>
                    </a:lnTo>
                    <a:lnTo>
                      <a:pt x="215" y="649"/>
                    </a:lnTo>
                    <a:lnTo>
                      <a:pt x="214" y="679"/>
                    </a:lnTo>
                    <a:lnTo>
                      <a:pt x="214" y="710"/>
                    </a:lnTo>
                    <a:lnTo>
                      <a:pt x="213" y="739"/>
                    </a:lnTo>
                    <a:lnTo>
                      <a:pt x="203" y="764"/>
                    </a:lnTo>
                    <a:lnTo>
                      <a:pt x="194" y="791"/>
                    </a:lnTo>
                    <a:lnTo>
                      <a:pt x="192" y="820"/>
                    </a:lnTo>
                    <a:lnTo>
                      <a:pt x="202" y="794"/>
                    </a:lnTo>
                    <a:lnTo>
                      <a:pt x="195" y="762"/>
                    </a:lnTo>
                    <a:lnTo>
                      <a:pt x="187" y="729"/>
                    </a:lnTo>
                    <a:lnTo>
                      <a:pt x="178" y="696"/>
                    </a:lnTo>
                    <a:lnTo>
                      <a:pt x="171" y="665"/>
                    </a:lnTo>
                    <a:lnTo>
                      <a:pt x="163" y="631"/>
                    </a:lnTo>
                    <a:lnTo>
                      <a:pt x="156" y="598"/>
                    </a:lnTo>
                    <a:lnTo>
                      <a:pt x="139" y="563"/>
                    </a:lnTo>
                    <a:lnTo>
                      <a:pt x="139" y="533"/>
                    </a:lnTo>
                    <a:lnTo>
                      <a:pt x="132" y="501"/>
                    </a:lnTo>
                    <a:lnTo>
                      <a:pt x="124" y="468"/>
                    </a:lnTo>
                    <a:lnTo>
                      <a:pt x="120" y="427"/>
                    </a:lnTo>
                    <a:lnTo>
                      <a:pt x="111" y="394"/>
                    </a:lnTo>
                    <a:lnTo>
                      <a:pt x="112" y="365"/>
                    </a:lnTo>
                    <a:lnTo>
                      <a:pt x="112" y="336"/>
                    </a:lnTo>
                    <a:lnTo>
                      <a:pt x="105" y="304"/>
                    </a:lnTo>
                    <a:lnTo>
                      <a:pt x="105" y="275"/>
                    </a:lnTo>
                    <a:lnTo>
                      <a:pt x="98" y="242"/>
                    </a:lnTo>
                    <a:lnTo>
                      <a:pt x="99" y="213"/>
                    </a:lnTo>
                    <a:lnTo>
                      <a:pt x="108" y="187"/>
                    </a:lnTo>
                    <a:lnTo>
                      <a:pt x="99" y="155"/>
                    </a:lnTo>
                    <a:lnTo>
                      <a:pt x="102" y="124"/>
                    </a:lnTo>
                    <a:lnTo>
                      <a:pt x="102" y="96"/>
                    </a:lnTo>
                    <a:lnTo>
                      <a:pt x="103" y="65"/>
                    </a:lnTo>
                    <a:lnTo>
                      <a:pt x="86" y="30"/>
                    </a:lnTo>
                    <a:lnTo>
                      <a:pt x="86" y="0"/>
                    </a:lnTo>
                    <a:lnTo>
                      <a:pt x="60" y="21"/>
                    </a:lnTo>
                    <a:lnTo>
                      <a:pt x="51" y="47"/>
                    </a:lnTo>
                    <a:lnTo>
                      <a:pt x="41" y="74"/>
                    </a:lnTo>
                    <a:lnTo>
                      <a:pt x="31" y="98"/>
                    </a:lnTo>
                    <a:lnTo>
                      <a:pt x="22" y="126"/>
                    </a:lnTo>
                    <a:lnTo>
                      <a:pt x="12" y="152"/>
                    </a:lnTo>
                    <a:lnTo>
                      <a:pt x="3" y="179"/>
                    </a:lnTo>
                    <a:lnTo>
                      <a:pt x="2" y="207"/>
                    </a:lnTo>
                    <a:lnTo>
                      <a:pt x="1" y="236"/>
                    </a:lnTo>
                    <a:lnTo>
                      <a:pt x="0" y="266"/>
                    </a:lnTo>
                    <a:lnTo>
                      <a:pt x="8" y="299"/>
                    </a:lnTo>
                    <a:lnTo>
                      <a:pt x="7" y="327"/>
                    </a:lnTo>
                    <a:lnTo>
                      <a:pt x="7" y="357"/>
                    </a:lnTo>
                    <a:lnTo>
                      <a:pt x="15" y="390"/>
                    </a:lnTo>
                    <a:lnTo>
                      <a:pt x="14" y="419"/>
                    </a:lnTo>
                    <a:lnTo>
                      <a:pt x="13" y="449"/>
                    </a:lnTo>
                    <a:lnTo>
                      <a:pt x="12" y="478"/>
                    </a:lnTo>
                    <a:lnTo>
                      <a:pt x="11" y="507"/>
                    </a:lnTo>
                    <a:lnTo>
                      <a:pt x="9" y="536"/>
                    </a:lnTo>
                    <a:lnTo>
                      <a:pt x="10" y="565"/>
                    </a:lnTo>
                    <a:lnTo>
                      <a:pt x="8" y="595"/>
                    </a:lnTo>
                    <a:lnTo>
                      <a:pt x="17" y="628"/>
                    </a:lnTo>
                    <a:lnTo>
                      <a:pt x="17" y="656"/>
                    </a:lnTo>
                    <a:lnTo>
                      <a:pt x="24" y="688"/>
                    </a:lnTo>
                    <a:lnTo>
                      <a:pt x="32" y="722"/>
                    </a:lnTo>
                    <a:lnTo>
                      <a:pt x="39" y="755"/>
                    </a:lnTo>
                    <a:lnTo>
                      <a:pt x="47" y="786"/>
                    </a:lnTo>
                    <a:lnTo>
                      <a:pt x="67" y="814"/>
                    </a:lnTo>
                    <a:lnTo>
                      <a:pt x="66" y="843"/>
                    </a:lnTo>
                    <a:lnTo>
                      <a:pt x="87" y="869"/>
                    </a:lnTo>
                    <a:lnTo>
                      <a:pt x="85" y="900"/>
                    </a:lnTo>
                    <a:lnTo>
                      <a:pt x="84" y="929"/>
                    </a:lnTo>
                    <a:lnTo>
                      <a:pt x="101" y="965"/>
                    </a:lnTo>
                    <a:lnTo>
                      <a:pt x="118" y="1000"/>
                    </a:lnTo>
                    <a:lnTo>
                      <a:pt x="116" y="1030"/>
                    </a:lnTo>
                    <a:lnTo>
                      <a:pt x="140" y="1047"/>
                    </a:lnTo>
                    <a:lnTo>
                      <a:pt x="139" y="1076"/>
                    </a:lnTo>
                    <a:lnTo>
                      <a:pt x="159" y="1104"/>
                    </a:lnTo>
                    <a:lnTo>
                      <a:pt x="182" y="1122"/>
                    </a:lnTo>
                    <a:lnTo>
                      <a:pt x="200" y="1099"/>
                    </a:lnTo>
                    <a:lnTo>
                      <a:pt x="210" y="1072"/>
                    </a:lnTo>
                    <a:lnTo>
                      <a:pt x="219" y="1047"/>
                    </a:lnTo>
                    <a:lnTo>
                      <a:pt x="228" y="1020"/>
                    </a:lnTo>
                    <a:lnTo>
                      <a:pt x="248" y="997"/>
                    </a:lnTo>
                    <a:lnTo>
                      <a:pt x="256" y="973"/>
                    </a:lnTo>
                    <a:lnTo>
                      <a:pt x="266" y="946"/>
                    </a:lnTo>
                    <a:lnTo>
                      <a:pt x="284" y="922"/>
                    </a:lnTo>
                    <a:lnTo>
                      <a:pt x="294" y="897"/>
                    </a:lnTo>
                    <a:lnTo>
                      <a:pt x="303" y="870"/>
                    </a:lnTo>
                    <a:lnTo>
                      <a:pt x="313" y="844"/>
                    </a:lnTo>
                    <a:lnTo>
                      <a:pt x="322" y="817"/>
                    </a:lnTo>
                    <a:lnTo>
                      <a:pt x="324" y="788"/>
                    </a:lnTo>
                    <a:lnTo>
                      <a:pt x="333" y="762"/>
                    </a:lnTo>
                    <a:lnTo>
                      <a:pt x="325" y="730"/>
                    </a:lnTo>
                    <a:lnTo>
                      <a:pt x="325" y="701"/>
                    </a:lnTo>
                    <a:lnTo>
                      <a:pt x="326" y="671"/>
                    </a:lnTo>
                    <a:lnTo>
                      <a:pt x="335" y="645"/>
                    </a:lnTo>
                    <a:lnTo>
                      <a:pt x="337" y="615"/>
                    </a:lnTo>
                    <a:lnTo>
                      <a:pt x="337" y="586"/>
                    </a:lnTo>
                    <a:lnTo>
                      <a:pt x="338" y="556"/>
                    </a:lnTo>
                    <a:lnTo>
                      <a:pt x="338" y="528"/>
                    </a:lnTo>
                    <a:lnTo>
                      <a:pt x="340" y="498"/>
                    </a:lnTo>
                    <a:lnTo>
                      <a:pt x="332" y="466"/>
                    </a:lnTo>
                    <a:lnTo>
                      <a:pt x="332" y="436"/>
                    </a:lnTo>
                    <a:lnTo>
                      <a:pt x="333" y="408"/>
                    </a:lnTo>
                    <a:lnTo>
                      <a:pt x="334" y="378"/>
                    </a:lnTo>
                    <a:lnTo>
                      <a:pt x="335" y="349"/>
                    </a:lnTo>
                    <a:lnTo>
                      <a:pt x="335" y="319"/>
                    </a:lnTo>
                    <a:lnTo>
                      <a:pt x="345" y="292"/>
                    </a:lnTo>
                    <a:lnTo>
                      <a:pt x="346" y="263"/>
                    </a:lnTo>
                    <a:lnTo>
                      <a:pt x="352" y="207"/>
                    </a:lnTo>
                    <a:lnTo>
                      <a:pt x="352" y="207"/>
                    </a:lnTo>
                  </a:path>
                </a:pathLst>
              </a:custGeom>
              <a:solidFill>
                <a:srgbClr val="dddddd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5"/>
              <p:cNvSpPr/>
              <p:nvPr/>
            </p:nvSpPr>
            <p:spPr>
              <a:xfrm>
                <a:off x="2854440" y="1467000"/>
                <a:ext cx="266400" cy="129024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290240"/>
                  <a:gd name="textAreaBottom" fmla="*/ 1290600 h 1290240"/>
                </a:gdLst>
                <a:ahLst/>
                <a:rect l="textAreaLeft" t="textAreaTop" r="textAreaRight" b="textAreaBottom"/>
                <a:pathLst>
                  <a:path w="168" h="813">
                    <a:moveTo>
                      <a:pt x="155" y="40"/>
                    </a:moveTo>
                    <a:lnTo>
                      <a:pt x="115" y="20"/>
                    </a:lnTo>
                    <a:lnTo>
                      <a:pt x="93" y="2"/>
                    </a:lnTo>
                    <a:lnTo>
                      <a:pt x="63" y="0"/>
                    </a:lnTo>
                    <a:lnTo>
                      <a:pt x="30" y="8"/>
                    </a:lnTo>
                    <a:lnTo>
                      <a:pt x="12" y="32"/>
                    </a:lnTo>
                    <a:lnTo>
                      <a:pt x="2" y="58"/>
                    </a:lnTo>
                    <a:lnTo>
                      <a:pt x="2" y="87"/>
                    </a:lnTo>
                    <a:lnTo>
                      <a:pt x="22" y="115"/>
                    </a:lnTo>
                    <a:lnTo>
                      <a:pt x="13" y="140"/>
                    </a:lnTo>
                    <a:lnTo>
                      <a:pt x="4" y="166"/>
                    </a:lnTo>
                    <a:lnTo>
                      <a:pt x="2" y="196"/>
                    </a:lnTo>
                    <a:lnTo>
                      <a:pt x="1" y="225"/>
                    </a:lnTo>
                    <a:lnTo>
                      <a:pt x="10" y="257"/>
                    </a:lnTo>
                    <a:lnTo>
                      <a:pt x="0" y="284"/>
                    </a:lnTo>
                    <a:lnTo>
                      <a:pt x="7" y="317"/>
                    </a:lnTo>
                    <a:lnTo>
                      <a:pt x="15" y="349"/>
                    </a:lnTo>
                    <a:lnTo>
                      <a:pt x="14" y="378"/>
                    </a:lnTo>
                    <a:lnTo>
                      <a:pt x="23" y="410"/>
                    </a:lnTo>
                    <a:lnTo>
                      <a:pt x="22" y="440"/>
                    </a:lnTo>
                    <a:lnTo>
                      <a:pt x="30" y="473"/>
                    </a:lnTo>
                    <a:lnTo>
                      <a:pt x="38" y="505"/>
                    </a:lnTo>
                    <a:lnTo>
                      <a:pt x="37" y="533"/>
                    </a:lnTo>
                    <a:lnTo>
                      <a:pt x="45" y="567"/>
                    </a:lnTo>
                    <a:lnTo>
                      <a:pt x="43" y="597"/>
                    </a:lnTo>
                    <a:lnTo>
                      <a:pt x="42" y="626"/>
                    </a:lnTo>
                    <a:lnTo>
                      <a:pt x="51" y="658"/>
                    </a:lnTo>
                    <a:lnTo>
                      <a:pt x="59" y="690"/>
                    </a:lnTo>
                    <a:lnTo>
                      <a:pt x="67" y="723"/>
                    </a:lnTo>
                    <a:lnTo>
                      <a:pt x="75" y="755"/>
                    </a:lnTo>
                    <a:lnTo>
                      <a:pt x="94" y="782"/>
                    </a:lnTo>
                    <a:lnTo>
                      <a:pt x="94" y="812"/>
                    </a:lnTo>
                    <a:lnTo>
                      <a:pt x="112" y="789"/>
                    </a:lnTo>
                    <a:lnTo>
                      <a:pt x="121" y="763"/>
                    </a:lnTo>
                    <a:lnTo>
                      <a:pt x="123" y="734"/>
                    </a:lnTo>
                    <a:lnTo>
                      <a:pt x="122" y="704"/>
                    </a:lnTo>
                    <a:lnTo>
                      <a:pt x="115" y="670"/>
                    </a:lnTo>
                    <a:lnTo>
                      <a:pt x="115" y="641"/>
                    </a:lnTo>
                    <a:lnTo>
                      <a:pt x="125" y="616"/>
                    </a:lnTo>
                    <a:lnTo>
                      <a:pt x="126" y="586"/>
                    </a:lnTo>
                    <a:lnTo>
                      <a:pt x="127" y="557"/>
                    </a:lnTo>
                    <a:lnTo>
                      <a:pt x="128" y="529"/>
                    </a:lnTo>
                    <a:lnTo>
                      <a:pt x="138" y="502"/>
                    </a:lnTo>
                    <a:lnTo>
                      <a:pt x="139" y="473"/>
                    </a:lnTo>
                    <a:lnTo>
                      <a:pt x="148" y="446"/>
                    </a:lnTo>
                    <a:lnTo>
                      <a:pt x="148" y="416"/>
                    </a:lnTo>
                    <a:lnTo>
                      <a:pt x="150" y="387"/>
                    </a:lnTo>
                    <a:lnTo>
                      <a:pt x="151" y="358"/>
                    </a:lnTo>
                    <a:lnTo>
                      <a:pt x="160" y="332"/>
                    </a:lnTo>
                    <a:lnTo>
                      <a:pt x="160" y="303"/>
                    </a:lnTo>
                    <a:lnTo>
                      <a:pt x="161" y="274"/>
                    </a:lnTo>
                    <a:lnTo>
                      <a:pt x="162" y="244"/>
                    </a:lnTo>
                    <a:lnTo>
                      <a:pt x="163" y="214"/>
                    </a:lnTo>
                    <a:lnTo>
                      <a:pt x="163" y="186"/>
                    </a:lnTo>
                    <a:lnTo>
                      <a:pt x="165" y="156"/>
                    </a:lnTo>
                    <a:lnTo>
                      <a:pt x="165" y="127"/>
                    </a:lnTo>
                    <a:lnTo>
                      <a:pt x="167" y="98"/>
                    </a:lnTo>
                    <a:lnTo>
                      <a:pt x="155" y="40"/>
                    </a:lnTo>
                    <a:lnTo>
                      <a:pt x="155" y="40"/>
                    </a:lnTo>
                  </a:path>
                </a:pathLst>
              </a:custGeom>
              <a:solidFill>
                <a:srgbClr val="ffcccc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28" name="Freeform 7"/>
            <p:cNvSpPr/>
            <p:nvPr/>
          </p:nvSpPr>
          <p:spPr>
            <a:xfrm>
              <a:off x="1828800" y="1219320"/>
              <a:ext cx="763200" cy="197280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1972800"/>
                <a:gd name="textAreaBottom" fmla="*/ 1973160 h 1972800"/>
              </a:gdLst>
              <a:ahLst/>
              <a:rect l="textAreaLeft" t="textAreaTop" r="textAreaRight" b="textAreaBottom"/>
              <a:pathLst>
                <a:path w="481" h="1243">
                  <a:moveTo>
                    <a:pt x="480" y="547"/>
                  </a:moveTo>
                  <a:lnTo>
                    <a:pt x="459" y="603"/>
                  </a:lnTo>
                  <a:lnTo>
                    <a:pt x="453" y="643"/>
                  </a:lnTo>
                  <a:lnTo>
                    <a:pt x="448" y="683"/>
                  </a:lnTo>
                  <a:lnTo>
                    <a:pt x="444" y="722"/>
                  </a:lnTo>
                  <a:lnTo>
                    <a:pt x="428" y="756"/>
                  </a:lnTo>
                  <a:lnTo>
                    <a:pt x="422" y="795"/>
                  </a:lnTo>
                  <a:lnTo>
                    <a:pt x="419" y="834"/>
                  </a:lnTo>
                  <a:lnTo>
                    <a:pt x="402" y="866"/>
                  </a:lnTo>
                  <a:lnTo>
                    <a:pt x="419" y="905"/>
                  </a:lnTo>
                  <a:lnTo>
                    <a:pt x="400" y="938"/>
                  </a:lnTo>
                  <a:lnTo>
                    <a:pt x="397" y="977"/>
                  </a:lnTo>
                  <a:lnTo>
                    <a:pt x="393" y="1016"/>
                  </a:lnTo>
                  <a:lnTo>
                    <a:pt x="377" y="1050"/>
                  </a:lnTo>
                  <a:lnTo>
                    <a:pt x="371" y="1089"/>
                  </a:lnTo>
                  <a:lnTo>
                    <a:pt x="355" y="1121"/>
                  </a:lnTo>
                  <a:lnTo>
                    <a:pt x="351" y="1162"/>
                  </a:lnTo>
                  <a:lnTo>
                    <a:pt x="346" y="1201"/>
                  </a:lnTo>
                  <a:lnTo>
                    <a:pt x="341" y="1242"/>
                  </a:lnTo>
                  <a:lnTo>
                    <a:pt x="299" y="1227"/>
                  </a:lnTo>
                  <a:lnTo>
                    <a:pt x="273" y="1199"/>
                  </a:lnTo>
                  <a:lnTo>
                    <a:pt x="279" y="1159"/>
                  </a:lnTo>
                  <a:lnTo>
                    <a:pt x="264" y="1121"/>
                  </a:lnTo>
                  <a:lnTo>
                    <a:pt x="248" y="1083"/>
                  </a:lnTo>
                  <a:lnTo>
                    <a:pt x="253" y="1043"/>
                  </a:lnTo>
                  <a:lnTo>
                    <a:pt x="256" y="989"/>
                  </a:lnTo>
                  <a:lnTo>
                    <a:pt x="231" y="959"/>
                  </a:lnTo>
                  <a:lnTo>
                    <a:pt x="246" y="927"/>
                  </a:lnTo>
                  <a:lnTo>
                    <a:pt x="233" y="888"/>
                  </a:lnTo>
                  <a:lnTo>
                    <a:pt x="236" y="849"/>
                  </a:lnTo>
                  <a:lnTo>
                    <a:pt x="240" y="809"/>
                  </a:lnTo>
                  <a:lnTo>
                    <a:pt x="226" y="771"/>
                  </a:lnTo>
                  <a:lnTo>
                    <a:pt x="228" y="716"/>
                  </a:lnTo>
                  <a:lnTo>
                    <a:pt x="220" y="670"/>
                  </a:lnTo>
                  <a:lnTo>
                    <a:pt x="215" y="623"/>
                  </a:lnTo>
                  <a:lnTo>
                    <a:pt x="209" y="577"/>
                  </a:lnTo>
                  <a:lnTo>
                    <a:pt x="214" y="537"/>
                  </a:lnTo>
                  <a:lnTo>
                    <a:pt x="208" y="490"/>
                  </a:lnTo>
                  <a:lnTo>
                    <a:pt x="192" y="453"/>
                  </a:lnTo>
                  <a:lnTo>
                    <a:pt x="177" y="414"/>
                  </a:lnTo>
                  <a:lnTo>
                    <a:pt x="152" y="385"/>
                  </a:lnTo>
                  <a:lnTo>
                    <a:pt x="136" y="346"/>
                  </a:lnTo>
                  <a:lnTo>
                    <a:pt x="142" y="307"/>
                  </a:lnTo>
                  <a:lnTo>
                    <a:pt x="116" y="278"/>
                  </a:lnTo>
                  <a:lnTo>
                    <a:pt x="100" y="240"/>
                  </a:lnTo>
                  <a:lnTo>
                    <a:pt x="94" y="194"/>
                  </a:lnTo>
                  <a:lnTo>
                    <a:pt x="79" y="154"/>
                  </a:lnTo>
                  <a:lnTo>
                    <a:pt x="85" y="115"/>
                  </a:lnTo>
                  <a:lnTo>
                    <a:pt x="69" y="78"/>
                  </a:lnTo>
                  <a:lnTo>
                    <a:pt x="45" y="48"/>
                  </a:lnTo>
                  <a:lnTo>
                    <a:pt x="18" y="19"/>
                  </a:lnTo>
                  <a:lnTo>
                    <a:pt x="0" y="0"/>
                  </a:lnTo>
                </a:path>
              </a:pathLst>
            </a:custGeom>
            <a:noFill/>
            <a:ln cap="rnd" w="762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8"/>
            <p:cNvSpPr/>
            <p:nvPr/>
          </p:nvSpPr>
          <p:spPr>
            <a:xfrm>
              <a:off x="2809800" y="804960"/>
              <a:ext cx="1172880" cy="461520"/>
            </a:xfrm>
            <a:custGeom>
              <a:avLst/>
              <a:gdLst>
                <a:gd name="textAreaLeft" fmla="*/ 0 w 1172880"/>
                <a:gd name="textAreaRight" fmla="*/ 1173240 w 117288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739" h="291">
                  <a:moveTo>
                    <a:pt x="738" y="290"/>
                  </a:moveTo>
                  <a:lnTo>
                    <a:pt x="695" y="279"/>
                  </a:lnTo>
                  <a:lnTo>
                    <a:pt x="667" y="279"/>
                  </a:lnTo>
                  <a:lnTo>
                    <a:pt x="630" y="270"/>
                  </a:lnTo>
                  <a:lnTo>
                    <a:pt x="603" y="251"/>
                  </a:lnTo>
                  <a:lnTo>
                    <a:pt x="575" y="241"/>
                  </a:lnTo>
                  <a:lnTo>
                    <a:pt x="518" y="232"/>
                  </a:lnTo>
                  <a:lnTo>
                    <a:pt x="482" y="223"/>
                  </a:lnTo>
                  <a:lnTo>
                    <a:pt x="454" y="214"/>
                  </a:lnTo>
                  <a:lnTo>
                    <a:pt x="380" y="195"/>
                  </a:lnTo>
                  <a:lnTo>
                    <a:pt x="343" y="167"/>
                  </a:lnTo>
                  <a:lnTo>
                    <a:pt x="306" y="148"/>
                  </a:lnTo>
                  <a:lnTo>
                    <a:pt x="269" y="130"/>
                  </a:lnTo>
                  <a:lnTo>
                    <a:pt x="231" y="112"/>
                  </a:lnTo>
                  <a:lnTo>
                    <a:pt x="195" y="93"/>
                  </a:lnTo>
                  <a:lnTo>
                    <a:pt x="167" y="74"/>
                  </a:lnTo>
                  <a:lnTo>
                    <a:pt x="139" y="65"/>
                  </a:lnTo>
                  <a:lnTo>
                    <a:pt x="111" y="46"/>
                  </a:lnTo>
                  <a:lnTo>
                    <a:pt x="84" y="37"/>
                  </a:lnTo>
                  <a:lnTo>
                    <a:pt x="56" y="18"/>
                  </a:lnTo>
                  <a:lnTo>
                    <a:pt x="28" y="9"/>
                  </a:lnTo>
                  <a:lnTo>
                    <a:pt x="0" y="0"/>
                  </a:lnTo>
                  <a:lnTo>
                    <a:pt x="4" y="3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9"/>
            <p:cNvSpPr/>
            <p:nvPr/>
          </p:nvSpPr>
          <p:spPr>
            <a:xfrm>
              <a:off x="2362320" y="773280"/>
              <a:ext cx="402840" cy="158076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254" h="996">
                  <a:moveTo>
                    <a:pt x="253" y="0"/>
                  </a:moveTo>
                  <a:lnTo>
                    <a:pt x="234" y="73"/>
                  </a:lnTo>
                  <a:lnTo>
                    <a:pt x="209" y="117"/>
                  </a:lnTo>
                  <a:lnTo>
                    <a:pt x="184" y="160"/>
                  </a:lnTo>
                  <a:lnTo>
                    <a:pt x="154" y="216"/>
                  </a:lnTo>
                  <a:lnTo>
                    <a:pt x="131" y="258"/>
                  </a:lnTo>
                  <a:lnTo>
                    <a:pt x="138" y="336"/>
                  </a:lnTo>
                  <a:lnTo>
                    <a:pt x="141" y="396"/>
                  </a:lnTo>
                  <a:lnTo>
                    <a:pt x="131" y="449"/>
                  </a:lnTo>
                  <a:lnTo>
                    <a:pt x="119" y="500"/>
                  </a:lnTo>
                  <a:lnTo>
                    <a:pt x="108" y="549"/>
                  </a:lnTo>
                  <a:lnTo>
                    <a:pt x="84" y="591"/>
                  </a:lnTo>
                  <a:lnTo>
                    <a:pt x="76" y="641"/>
                  </a:lnTo>
                  <a:lnTo>
                    <a:pt x="64" y="692"/>
                  </a:lnTo>
                  <a:lnTo>
                    <a:pt x="39" y="734"/>
                  </a:lnTo>
                  <a:lnTo>
                    <a:pt x="29" y="783"/>
                  </a:lnTo>
                  <a:lnTo>
                    <a:pt x="19" y="836"/>
                  </a:lnTo>
                  <a:lnTo>
                    <a:pt x="9" y="885"/>
                  </a:lnTo>
                  <a:lnTo>
                    <a:pt x="9" y="945"/>
                  </a:lnTo>
                  <a:lnTo>
                    <a:pt x="0" y="995"/>
                  </a:lnTo>
                  <a:lnTo>
                    <a:pt x="29" y="949"/>
                  </a:lnTo>
                </a:path>
              </a:pathLst>
            </a:custGeom>
            <a:solidFill>
              <a:schemeClr val="accent1"/>
            </a:solidFill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0"/>
            <p:cNvSpPr/>
            <p:nvPr/>
          </p:nvSpPr>
          <p:spPr>
            <a:xfrm>
              <a:off x="2124000" y="330120"/>
              <a:ext cx="456840" cy="99036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88" h="624">
                  <a:moveTo>
                    <a:pt x="287" y="620"/>
                  </a:moveTo>
                  <a:lnTo>
                    <a:pt x="204" y="623"/>
                  </a:lnTo>
                  <a:lnTo>
                    <a:pt x="130" y="604"/>
                  </a:lnTo>
                  <a:lnTo>
                    <a:pt x="93" y="585"/>
                  </a:lnTo>
                  <a:lnTo>
                    <a:pt x="56" y="566"/>
                  </a:lnTo>
                  <a:lnTo>
                    <a:pt x="28" y="548"/>
                  </a:lnTo>
                  <a:lnTo>
                    <a:pt x="0" y="538"/>
                  </a:lnTo>
                  <a:lnTo>
                    <a:pt x="0" y="511"/>
                  </a:lnTo>
                  <a:lnTo>
                    <a:pt x="37" y="483"/>
                  </a:lnTo>
                  <a:lnTo>
                    <a:pt x="74" y="455"/>
                  </a:lnTo>
                  <a:lnTo>
                    <a:pt x="102" y="417"/>
                  </a:lnTo>
                  <a:lnTo>
                    <a:pt x="111" y="390"/>
                  </a:lnTo>
                  <a:lnTo>
                    <a:pt x="120" y="362"/>
                  </a:lnTo>
                  <a:lnTo>
                    <a:pt x="139" y="334"/>
                  </a:lnTo>
                  <a:lnTo>
                    <a:pt x="148" y="306"/>
                  </a:lnTo>
                  <a:lnTo>
                    <a:pt x="148" y="279"/>
                  </a:lnTo>
                  <a:lnTo>
                    <a:pt x="148" y="251"/>
                  </a:lnTo>
                  <a:lnTo>
                    <a:pt x="148" y="222"/>
                  </a:lnTo>
                  <a:lnTo>
                    <a:pt x="148" y="194"/>
                  </a:lnTo>
                  <a:lnTo>
                    <a:pt x="148" y="167"/>
                  </a:lnTo>
                  <a:lnTo>
                    <a:pt x="148" y="139"/>
                  </a:lnTo>
                  <a:lnTo>
                    <a:pt x="148" y="111"/>
                  </a:lnTo>
                  <a:lnTo>
                    <a:pt x="148" y="84"/>
                  </a:lnTo>
                  <a:lnTo>
                    <a:pt x="148" y="56"/>
                  </a:lnTo>
                  <a:lnTo>
                    <a:pt x="148" y="28"/>
                  </a:lnTo>
                  <a:lnTo>
                    <a:pt x="148" y="0"/>
                  </a:lnTo>
                  <a:lnTo>
                    <a:pt x="165" y="7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Rectangle 11"/>
            <p:cNvSpPr/>
            <p:nvPr/>
          </p:nvSpPr>
          <p:spPr>
            <a:xfrm flipH="1">
              <a:off x="3905280" y="2446200"/>
              <a:ext cx="127584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TOO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18"/>
            <p:cNvGrpSpPr/>
            <p:nvPr/>
          </p:nvGrpSpPr>
          <p:grpSpPr>
            <a:xfrm>
              <a:off x="3575160" y="1049400"/>
              <a:ext cx="2920680" cy="620280"/>
              <a:chOff x="3575160" y="1049400"/>
              <a:chExt cx="2920680" cy="620280"/>
            </a:xfrm>
          </p:grpSpPr>
          <p:sp>
            <p:nvSpPr>
              <p:cNvPr id="534" name="Freeform 12"/>
              <p:cNvSpPr/>
              <p:nvPr/>
            </p:nvSpPr>
            <p:spPr>
              <a:xfrm>
                <a:off x="5489640" y="1195560"/>
                <a:ext cx="1006200" cy="394920"/>
              </a:xfrm>
              <a:custGeom>
                <a:avLst/>
                <a:gdLst>
                  <a:gd name="textAreaLeft" fmla="*/ 0 w 1006200"/>
                  <a:gd name="textAreaRight" fmla="*/ 1006560 w 100620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634" h="249">
                    <a:moveTo>
                      <a:pt x="633" y="3"/>
                    </a:moveTo>
                    <a:lnTo>
                      <a:pt x="594" y="0"/>
                    </a:lnTo>
                    <a:lnTo>
                      <a:pt x="567" y="0"/>
                    </a:lnTo>
                    <a:lnTo>
                      <a:pt x="511" y="10"/>
                    </a:lnTo>
                    <a:lnTo>
                      <a:pt x="492" y="38"/>
                    </a:lnTo>
                    <a:lnTo>
                      <a:pt x="456" y="57"/>
                    </a:lnTo>
                    <a:lnTo>
                      <a:pt x="428" y="75"/>
                    </a:lnTo>
                    <a:lnTo>
                      <a:pt x="400" y="94"/>
                    </a:lnTo>
                    <a:lnTo>
                      <a:pt x="363" y="112"/>
                    </a:lnTo>
                    <a:lnTo>
                      <a:pt x="288" y="131"/>
                    </a:lnTo>
                    <a:lnTo>
                      <a:pt x="261" y="140"/>
                    </a:lnTo>
                    <a:lnTo>
                      <a:pt x="223" y="159"/>
                    </a:lnTo>
                    <a:lnTo>
                      <a:pt x="149" y="168"/>
                    </a:lnTo>
                    <a:lnTo>
                      <a:pt x="112" y="187"/>
                    </a:lnTo>
                    <a:lnTo>
                      <a:pt x="84" y="196"/>
                    </a:lnTo>
                    <a:lnTo>
                      <a:pt x="57" y="205"/>
                    </a:lnTo>
                    <a:lnTo>
                      <a:pt x="29" y="214"/>
                    </a:lnTo>
                    <a:lnTo>
                      <a:pt x="0" y="224"/>
                    </a:lnTo>
                    <a:lnTo>
                      <a:pt x="21" y="248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Freeform 13"/>
              <p:cNvSpPr/>
              <p:nvPr/>
            </p:nvSpPr>
            <p:spPr>
              <a:xfrm>
                <a:off x="5508720" y="1154160"/>
                <a:ext cx="947520" cy="499680"/>
              </a:xfrm>
              <a:custGeom>
                <a:avLst/>
                <a:gdLst>
                  <a:gd name="textAreaLeft" fmla="*/ 0 w 947520"/>
                  <a:gd name="textAreaRight" fmla="*/ 947880 w 9475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597" h="315">
                    <a:moveTo>
                      <a:pt x="0" y="0"/>
                    </a:moveTo>
                    <a:lnTo>
                      <a:pt x="24" y="31"/>
                    </a:lnTo>
                    <a:lnTo>
                      <a:pt x="43" y="52"/>
                    </a:lnTo>
                    <a:lnTo>
                      <a:pt x="88" y="86"/>
                    </a:lnTo>
                    <a:lnTo>
                      <a:pt x="121" y="80"/>
                    </a:lnTo>
                    <a:lnTo>
                      <a:pt x="159" y="94"/>
                    </a:lnTo>
                    <a:lnTo>
                      <a:pt x="193" y="102"/>
                    </a:lnTo>
                    <a:lnTo>
                      <a:pt x="226" y="110"/>
                    </a:lnTo>
                    <a:lnTo>
                      <a:pt x="263" y="125"/>
                    </a:lnTo>
                    <a:lnTo>
                      <a:pt x="328" y="166"/>
                    </a:lnTo>
                    <a:lnTo>
                      <a:pt x="353" y="180"/>
                    </a:lnTo>
                    <a:lnTo>
                      <a:pt x="392" y="194"/>
                    </a:lnTo>
                    <a:lnTo>
                      <a:pt x="450" y="242"/>
                    </a:lnTo>
                    <a:lnTo>
                      <a:pt x="489" y="257"/>
                    </a:lnTo>
                    <a:lnTo>
                      <a:pt x="515" y="271"/>
                    </a:lnTo>
                    <a:lnTo>
                      <a:pt x="539" y="285"/>
                    </a:lnTo>
                    <a:lnTo>
                      <a:pt x="566" y="299"/>
                    </a:lnTo>
                    <a:lnTo>
                      <a:pt x="592" y="314"/>
                    </a:lnTo>
                    <a:lnTo>
                      <a:pt x="596" y="282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Freeform 14"/>
              <p:cNvSpPr/>
              <p:nvPr/>
            </p:nvSpPr>
            <p:spPr>
              <a:xfrm>
                <a:off x="3575160" y="1063800"/>
                <a:ext cx="2207880" cy="531360"/>
              </a:xfrm>
              <a:custGeom>
                <a:avLst/>
                <a:gdLst>
                  <a:gd name="textAreaLeft" fmla="*/ 0 w 2207880"/>
                  <a:gd name="textAreaRight" fmla="*/ 2208240 w 2207880"/>
                  <a:gd name="textAreaTop" fmla="*/ 0 h 531360"/>
                  <a:gd name="textAreaBottom" fmla="*/ 531720 h 531360"/>
                </a:gdLst>
                <a:ahLst/>
                <a:rect l="textAreaLeft" t="textAreaTop" r="textAreaRight" b="textAreaBottom"/>
                <a:pathLst>
                  <a:path w="1391" h="335">
                    <a:moveTo>
                      <a:pt x="1390" y="45"/>
                    </a:moveTo>
                    <a:lnTo>
                      <a:pt x="1308" y="57"/>
                    </a:lnTo>
                    <a:lnTo>
                      <a:pt x="1272" y="84"/>
                    </a:lnTo>
                    <a:lnTo>
                      <a:pt x="1234" y="112"/>
                    </a:lnTo>
                    <a:lnTo>
                      <a:pt x="1206" y="121"/>
                    </a:lnTo>
                    <a:lnTo>
                      <a:pt x="1178" y="140"/>
                    </a:lnTo>
                    <a:lnTo>
                      <a:pt x="1151" y="159"/>
                    </a:lnTo>
                    <a:lnTo>
                      <a:pt x="1123" y="177"/>
                    </a:lnTo>
                    <a:lnTo>
                      <a:pt x="1058" y="195"/>
                    </a:lnTo>
                    <a:lnTo>
                      <a:pt x="1030" y="204"/>
                    </a:lnTo>
                    <a:lnTo>
                      <a:pt x="993" y="223"/>
                    </a:lnTo>
                    <a:lnTo>
                      <a:pt x="956" y="242"/>
                    </a:lnTo>
                    <a:lnTo>
                      <a:pt x="919" y="270"/>
                    </a:lnTo>
                    <a:lnTo>
                      <a:pt x="891" y="288"/>
                    </a:lnTo>
                    <a:lnTo>
                      <a:pt x="863" y="306"/>
                    </a:lnTo>
                    <a:lnTo>
                      <a:pt x="835" y="325"/>
                    </a:lnTo>
                    <a:lnTo>
                      <a:pt x="807" y="334"/>
                    </a:lnTo>
                    <a:lnTo>
                      <a:pt x="779" y="334"/>
                    </a:lnTo>
                    <a:lnTo>
                      <a:pt x="752" y="316"/>
                    </a:lnTo>
                    <a:lnTo>
                      <a:pt x="743" y="288"/>
                    </a:lnTo>
                    <a:lnTo>
                      <a:pt x="715" y="260"/>
                    </a:lnTo>
                    <a:lnTo>
                      <a:pt x="696" y="232"/>
                    </a:lnTo>
                    <a:lnTo>
                      <a:pt x="677" y="204"/>
                    </a:lnTo>
                    <a:lnTo>
                      <a:pt x="658" y="177"/>
                    </a:lnTo>
                    <a:lnTo>
                      <a:pt x="641" y="149"/>
                    </a:lnTo>
                    <a:lnTo>
                      <a:pt x="612" y="130"/>
                    </a:lnTo>
                    <a:lnTo>
                      <a:pt x="594" y="102"/>
                    </a:lnTo>
                    <a:lnTo>
                      <a:pt x="566" y="93"/>
                    </a:lnTo>
                    <a:lnTo>
                      <a:pt x="538" y="66"/>
                    </a:lnTo>
                    <a:lnTo>
                      <a:pt x="501" y="38"/>
                    </a:lnTo>
                    <a:lnTo>
                      <a:pt x="473" y="19"/>
                    </a:lnTo>
                    <a:lnTo>
                      <a:pt x="445" y="10"/>
                    </a:lnTo>
                    <a:lnTo>
                      <a:pt x="418" y="0"/>
                    </a:lnTo>
                    <a:lnTo>
                      <a:pt x="390" y="10"/>
                    </a:lnTo>
                    <a:lnTo>
                      <a:pt x="362" y="38"/>
                    </a:lnTo>
                    <a:lnTo>
                      <a:pt x="334" y="57"/>
                    </a:lnTo>
                    <a:lnTo>
                      <a:pt x="306" y="74"/>
                    </a:lnTo>
                    <a:lnTo>
                      <a:pt x="278" y="93"/>
                    </a:lnTo>
                    <a:lnTo>
                      <a:pt x="250" y="102"/>
                    </a:lnTo>
                    <a:lnTo>
                      <a:pt x="176" y="130"/>
                    </a:lnTo>
                    <a:lnTo>
                      <a:pt x="148" y="149"/>
                    </a:lnTo>
                    <a:lnTo>
                      <a:pt x="129" y="177"/>
                    </a:lnTo>
                    <a:lnTo>
                      <a:pt x="93" y="204"/>
                    </a:lnTo>
                    <a:lnTo>
                      <a:pt x="37" y="260"/>
                    </a:lnTo>
                    <a:lnTo>
                      <a:pt x="9" y="288"/>
                    </a:lnTo>
                    <a:lnTo>
                      <a:pt x="0" y="316"/>
                    </a:lnTo>
                    <a:lnTo>
                      <a:pt x="2" y="331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Freeform 15"/>
              <p:cNvSpPr/>
              <p:nvPr/>
            </p:nvSpPr>
            <p:spPr>
              <a:xfrm>
                <a:off x="3753000" y="1108080"/>
                <a:ext cx="2222280" cy="547200"/>
              </a:xfrm>
              <a:custGeom>
                <a:avLst/>
                <a:gdLst>
                  <a:gd name="textAreaLeft" fmla="*/ 0 w 2222280"/>
                  <a:gd name="textAreaRight" fmla="*/ 2222640 w 2222280"/>
                  <a:gd name="textAreaTop" fmla="*/ 0 h 547200"/>
                  <a:gd name="textAreaBottom" fmla="*/ 547560 h 547200"/>
                </a:gdLst>
                <a:ahLst/>
                <a:rect l="textAreaLeft" t="textAreaTop" r="textAreaRight" b="textAreaBottom"/>
                <a:pathLst>
                  <a:path w="1400" h="345">
                    <a:moveTo>
                      <a:pt x="1399" y="344"/>
                    </a:moveTo>
                    <a:lnTo>
                      <a:pt x="1353" y="325"/>
                    </a:lnTo>
                    <a:lnTo>
                      <a:pt x="1316" y="316"/>
                    </a:lnTo>
                    <a:lnTo>
                      <a:pt x="1278" y="288"/>
                    </a:lnTo>
                    <a:lnTo>
                      <a:pt x="1251" y="278"/>
                    </a:lnTo>
                    <a:lnTo>
                      <a:pt x="1223" y="278"/>
                    </a:lnTo>
                    <a:lnTo>
                      <a:pt x="1195" y="278"/>
                    </a:lnTo>
                    <a:lnTo>
                      <a:pt x="1167" y="260"/>
                    </a:lnTo>
                    <a:lnTo>
                      <a:pt x="1140" y="232"/>
                    </a:lnTo>
                    <a:lnTo>
                      <a:pt x="1112" y="214"/>
                    </a:lnTo>
                    <a:lnTo>
                      <a:pt x="1075" y="195"/>
                    </a:lnTo>
                    <a:lnTo>
                      <a:pt x="1047" y="176"/>
                    </a:lnTo>
                    <a:lnTo>
                      <a:pt x="1019" y="158"/>
                    </a:lnTo>
                    <a:lnTo>
                      <a:pt x="982" y="140"/>
                    </a:lnTo>
                    <a:lnTo>
                      <a:pt x="954" y="130"/>
                    </a:lnTo>
                    <a:lnTo>
                      <a:pt x="927" y="121"/>
                    </a:lnTo>
                    <a:lnTo>
                      <a:pt x="899" y="112"/>
                    </a:lnTo>
                    <a:lnTo>
                      <a:pt x="861" y="93"/>
                    </a:lnTo>
                    <a:lnTo>
                      <a:pt x="825" y="83"/>
                    </a:lnTo>
                    <a:lnTo>
                      <a:pt x="797" y="65"/>
                    </a:lnTo>
                    <a:lnTo>
                      <a:pt x="769" y="55"/>
                    </a:lnTo>
                    <a:lnTo>
                      <a:pt x="732" y="46"/>
                    </a:lnTo>
                    <a:lnTo>
                      <a:pt x="704" y="65"/>
                    </a:lnTo>
                    <a:lnTo>
                      <a:pt x="667" y="83"/>
                    </a:lnTo>
                    <a:lnTo>
                      <a:pt x="630" y="102"/>
                    </a:lnTo>
                    <a:lnTo>
                      <a:pt x="602" y="112"/>
                    </a:lnTo>
                    <a:lnTo>
                      <a:pt x="574" y="130"/>
                    </a:lnTo>
                    <a:lnTo>
                      <a:pt x="546" y="140"/>
                    </a:lnTo>
                    <a:lnTo>
                      <a:pt x="519" y="167"/>
                    </a:lnTo>
                    <a:lnTo>
                      <a:pt x="491" y="186"/>
                    </a:lnTo>
                    <a:lnTo>
                      <a:pt x="463" y="204"/>
                    </a:lnTo>
                    <a:lnTo>
                      <a:pt x="435" y="204"/>
                    </a:lnTo>
                    <a:lnTo>
                      <a:pt x="408" y="214"/>
                    </a:lnTo>
                    <a:lnTo>
                      <a:pt x="380" y="251"/>
                    </a:lnTo>
                    <a:lnTo>
                      <a:pt x="370" y="307"/>
                    </a:lnTo>
                    <a:lnTo>
                      <a:pt x="342" y="316"/>
                    </a:lnTo>
                    <a:lnTo>
                      <a:pt x="333" y="288"/>
                    </a:lnTo>
                    <a:lnTo>
                      <a:pt x="306" y="269"/>
                    </a:lnTo>
                    <a:lnTo>
                      <a:pt x="287" y="242"/>
                    </a:lnTo>
                    <a:lnTo>
                      <a:pt x="259" y="214"/>
                    </a:lnTo>
                    <a:lnTo>
                      <a:pt x="223" y="186"/>
                    </a:lnTo>
                    <a:lnTo>
                      <a:pt x="195" y="167"/>
                    </a:lnTo>
                    <a:lnTo>
                      <a:pt x="157" y="130"/>
                    </a:lnTo>
                    <a:lnTo>
                      <a:pt x="120" y="102"/>
                    </a:lnTo>
                    <a:lnTo>
                      <a:pt x="102" y="74"/>
                    </a:lnTo>
                    <a:lnTo>
                      <a:pt x="83" y="46"/>
                    </a:lnTo>
                    <a:lnTo>
                      <a:pt x="55" y="19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13" y="17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Freeform 16"/>
              <p:cNvSpPr/>
              <p:nvPr/>
            </p:nvSpPr>
            <p:spPr>
              <a:xfrm>
                <a:off x="4267080" y="1049400"/>
                <a:ext cx="1190160" cy="217080"/>
              </a:xfrm>
              <a:custGeom>
                <a:avLst/>
                <a:gdLst>
                  <a:gd name="textAreaLeft" fmla="*/ 0 w 1190160"/>
                  <a:gd name="textAreaRight" fmla="*/ 1190520 w 119016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750" h="137">
                    <a:moveTo>
                      <a:pt x="749" y="54"/>
                    </a:moveTo>
                    <a:lnTo>
                      <a:pt x="705" y="47"/>
                    </a:lnTo>
                    <a:lnTo>
                      <a:pt x="649" y="47"/>
                    </a:lnTo>
                    <a:lnTo>
                      <a:pt x="575" y="47"/>
                    </a:lnTo>
                    <a:lnTo>
                      <a:pt x="547" y="47"/>
                    </a:lnTo>
                    <a:lnTo>
                      <a:pt x="520" y="47"/>
                    </a:lnTo>
                    <a:lnTo>
                      <a:pt x="491" y="47"/>
                    </a:lnTo>
                    <a:lnTo>
                      <a:pt x="463" y="47"/>
                    </a:lnTo>
                    <a:lnTo>
                      <a:pt x="435" y="47"/>
                    </a:lnTo>
                    <a:lnTo>
                      <a:pt x="408" y="47"/>
                    </a:lnTo>
                    <a:lnTo>
                      <a:pt x="380" y="47"/>
                    </a:lnTo>
                    <a:lnTo>
                      <a:pt x="352" y="47"/>
                    </a:lnTo>
                    <a:lnTo>
                      <a:pt x="315" y="47"/>
                    </a:lnTo>
                    <a:lnTo>
                      <a:pt x="287" y="47"/>
                    </a:lnTo>
                    <a:lnTo>
                      <a:pt x="259" y="47"/>
                    </a:lnTo>
                    <a:lnTo>
                      <a:pt x="222" y="28"/>
                    </a:lnTo>
                    <a:lnTo>
                      <a:pt x="195" y="19"/>
                    </a:lnTo>
                    <a:lnTo>
                      <a:pt x="167" y="19"/>
                    </a:lnTo>
                    <a:lnTo>
                      <a:pt x="139" y="0"/>
                    </a:lnTo>
                    <a:lnTo>
                      <a:pt x="111" y="0"/>
                    </a:lnTo>
                    <a:lnTo>
                      <a:pt x="83" y="9"/>
                    </a:lnTo>
                    <a:lnTo>
                      <a:pt x="65" y="37"/>
                    </a:lnTo>
                    <a:lnTo>
                      <a:pt x="37" y="65"/>
                    </a:lnTo>
                    <a:lnTo>
                      <a:pt x="18" y="102"/>
                    </a:lnTo>
                    <a:lnTo>
                      <a:pt x="0" y="130"/>
                    </a:lnTo>
                    <a:lnTo>
                      <a:pt x="15" y="136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Freeform 17"/>
              <p:cNvSpPr/>
              <p:nvPr/>
            </p:nvSpPr>
            <p:spPr>
              <a:xfrm>
                <a:off x="3903840" y="1589040"/>
                <a:ext cx="1363320" cy="80640"/>
              </a:xfrm>
              <a:custGeom>
                <a:avLst/>
                <a:gdLst>
                  <a:gd name="textAreaLeft" fmla="*/ 0 w 1363320"/>
                  <a:gd name="textAreaRight" fmla="*/ 1363680 w 13633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859" h="51">
                    <a:moveTo>
                      <a:pt x="858" y="0"/>
                    </a:moveTo>
                    <a:lnTo>
                      <a:pt x="815" y="13"/>
                    </a:lnTo>
                    <a:lnTo>
                      <a:pt x="778" y="13"/>
                    </a:lnTo>
                    <a:lnTo>
                      <a:pt x="750" y="13"/>
                    </a:lnTo>
                    <a:lnTo>
                      <a:pt x="713" y="13"/>
                    </a:lnTo>
                    <a:lnTo>
                      <a:pt x="676" y="13"/>
                    </a:lnTo>
                    <a:lnTo>
                      <a:pt x="648" y="13"/>
                    </a:lnTo>
                    <a:lnTo>
                      <a:pt x="620" y="13"/>
                    </a:lnTo>
                    <a:lnTo>
                      <a:pt x="592" y="13"/>
                    </a:lnTo>
                    <a:lnTo>
                      <a:pt x="564" y="13"/>
                    </a:lnTo>
                    <a:lnTo>
                      <a:pt x="537" y="13"/>
                    </a:lnTo>
                    <a:lnTo>
                      <a:pt x="500" y="13"/>
                    </a:lnTo>
                    <a:lnTo>
                      <a:pt x="443" y="13"/>
                    </a:lnTo>
                    <a:lnTo>
                      <a:pt x="416" y="13"/>
                    </a:lnTo>
                    <a:lnTo>
                      <a:pt x="388" y="22"/>
                    </a:lnTo>
                    <a:lnTo>
                      <a:pt x="360" y="32"/>
                    </a:lnTo>
                    <a:lnTo>
                      <a:pt x="296" y="41"/>
                    </a:lnTo>
                    <a:lnTo>
                      <a:pt x="239" y="41"/>
                    </a:lnTo>
                    <a:lnTo>
                      <a:pt x="212" y="50"/>
                    </a:lnTo>
                    <a:lnTo>
                      <a:pt x="184" y="50"/>
                    </a:lnTo>
                    <a:lnTo>
                      <a:pt x="156" y="50"/>
                    </a:lnTo>
                    <a:lnTo>
                      <a:pt x="120" y="50"/>
                    </a:lnTo>
                    <a:lnTo>
                      <a:pt x="63" y="50"/>
                    </a:lnTo>
                    <a:lnTo>
                      <a:pt x="35" y="50"/>
                    </a:lnTo>
                    <a:lnTo>
                      <a:pt x="8" y="50"/>
                    </a:lnTo>
                    <a:lnTo>
                      <a:pt x="0" y="41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0" name="Freeform 19"/>
            <p:cNvSpPr/>
            <p:nvPr/>
          </p:nvSpPr>
          <p:spPr>
            <a:xfrm>
              <a:off x="5657760" y="1114560"/>
              <a:ext cx="1037880" cy="475920"/>
            </a:xfrm>
            <a:custGeom>
              <a:avLst/>
              <a:gdLst>
                <a:gd name="textAreaLeft" fmla="*/ 0 w 1037880"/>
                <a:gd name="textAreaRight" fmla="*/ 1038240 w 103788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654" h="300">
                  <a:moveTo>
                    <a:pt x="653" y="258"/>
                  </a:moveTo>
                  <a:lnTo>
                    <a:pt x="571" y="251"/>
                  </a:lnTo>
                  <a:lnTo>
                    <a:pt x="516" y="232"/>
                  </a:lnTo>
                  <a:lnTo>
                    <a:pt x="488" y="214"/>
                  </a:lnTo>
                  <a:lnTo>
                    <a:pt x="451" y="186"/>
                  </a:lnTo>
                  <a:lnTo>
                    <a:pt x="423" y="158"/>
                  </a:lnTo>
                  <a:lnTo>
                    <a:pt x="395" y="140"/>
                  </a:lnTo>
                  <a:lnTo>
                    <a:pt x="367" y="112"/>
                  </a:lnTo>
                  <a:lnTo>
                    <a:pt x="340" y="83"/>
                  </a:lnTo>
                  <a:lnTo>
                    <a:pt x="312" y="55"/>
                  </a:lnTo>
                  <a:lnTo>
                    <a:pt x="283" y="28"/>
                  </a:lnTo>
                  <a:lnTo>
                    <a:pt x="265" y="0"/>
                  </a:lnTo>
                  <a:lnTo>
                    <a:pt x="238" y="0"/>
                  </a:lnTo>
                  <a:lnTo>
                    <a:pt x="210" y="19"/>
                  </a:lnTo>
                  <a:lnTo>
                    <a:pt x="181" y="46"/>
                  </a:lnTo>
                  <a:lnTo>
                    <a:pt x="153" y="74"/>
                  </a:lnTo>
                  <a:lnTo>
                    <a:pt x="136" y="112"/>
                  </a:lnTo>
                  <a:lnTo>
                    <a:pt x="107" y="148"/>
                  </a:lnTo>
                  <a:lnTo>
                    <a:pt x="89" y="176"/>
                  </a:lnTo>
                  <a:lnTo>
                    <a:pt x="70" y="204"/>
                  </a:lnTo>
                  <a:lnTo>
                    <a:pt x="61" y="232"/>
                  </a:lnTo>
                  <a:lnTo>
                    <a:pt x="34" y="260"/>
                  </a:lnTo>
                  <a:lnTo>
                    <a:pt x="0" y="299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20"/>
            <p:cNvSpPr/>
            <p:nvPr/>
          </p:nvSpPr>
          <p:spPr>
            <a:xfrm>
              <a:off x="3387600" y="1100160"/>
              <a:ext cx="271080" cy="117756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1177560"/>
                <a:gd name="textAreaBottom" fmla="*/ 1177920 h 1177560"/>
              </a:gdLst>
              <a:ahLst/>
              <a:rect l="textAreaLeft" t="textAreaTop" r="textAreaRight" b="textAreaBottom"/>
              <a:pathLst>
                <a:path w="171" h="742">
                  <a:moveTo>
                    <a:pt x="25" y="0"/>
                  </a:moveTo>
                  <a:lnTo>
                    <a:pt x="0" y="66"/>
                  </a:lnTo>
                  <a:lnTo>
                    <a:pt x="1" y="113"/>
                  </a:lnTo>
                  <a:lnTo>
                    <a:pt x="7" y="197"/>
                  </a:lnTo>
                  <a:lnTo>
                    <a:pt x="21" y="247"/>
                  </a:lnTo>
                  <a:lnTo>
                    <a:pt x="46" y="287"/>
                  </a:lnTo>
                  <a:lnTo>
                    <a:pt x="61" y="325"/>
                  </a:lnTo>
                  <a:lnTo>
                    <a:pt x="88" y="366"/>
                  </a:lnTo>
                  <a:lnTo>
                    <a:pt x="93" y="400"/>
                  </a:lnTo>
                  <a:lnTo>
                    <a:pt x="120" y="441"/>
                  </a:lnTo>
                  <a:lnTo>
                    <a:pt x="146" y="483"/>
                  </a:lnTo>
                  <a:lnTo>
                    <a:pt x="161" y="521"/>
                  </a:lnTo>
                  <a:lnTo>
                    <a:pt x="166" y="556"/>
                  </a:lnTo>
                  <a:lnTo>
                    <a:pt x="170" y="593"/>
                  </a:lnTo>
                  <a:lnTo>
                    <a:pt x="162" y="626"/>
                  </a:lnTo>
                  <a:lnTo>
                    <a:pt x="155" y="660"/>
                  </a:lnTo>
                  <a:lnTo>
                    <a:pt x="148" y="694"/>
                  </a:lnTo>
                  <a:lnTo>
                    <a:pt x="130" y="724"/>
                  </a:lnTo>
                  <a:lnTo>
                    <a:pt x="126" y="741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21"/>
            <p:cNvSpPr/>
            <p:nvPr/>
          </p:nvSpPr>
          <p:spPr>
            <a:xfrm>
              <a:off x="2362320" y="447840"/>
              <a:ext cx="306000" cy="3823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13" y="47"/>
                  </a:lnTo>
                  <a:lnTo>
                    <a:pt x="46" y="69"/>
                  </a:lnTo>
                  <a:lnTo>
                    <a:pt x="67" y="102"/>
                  </a:lnTo>
                  <a:lnTo>
                    <a:pt x="89" y="135"/>
                  </a:lnTo>
                  <a:lnTo>
                    <a:pt x="100" y="167"/>
                  </a:lnTo>
                  <a:lnTo>
                    <a:pt x="144" y="189"/>
                  </a:lnTo>
                  <a:lnTo>
                    <a:pt x="177" y="222"/>
                  </a:lnTo>
                  <a:lnTo>
                    <a:pt x="192" y="240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22"/>
            <p:cNvSpPr/>
            <p:nvPr/>
          </p:nvSpPr>
          <p:spPr>
            <a:xfrm>
              <a:off x="3352680" y="885960"/>
              <a:ext cx="5714640" cy="2306160"/>
            </a:xfrm>
            <a:custGeom>
              <a:avLst/>
              <a:gdLst>
                <a:gd name="textAreaLeft" fmla="*/ 0 w 5714640"/>
                <a:gd name="textAreaRight" fmla="*/ 5715000 w 5714640"/>
                <a:gd name="textAreaTop" fmla="*/ 0 h 2306160"/>
                <a:gd name="textAreaBottom" fmla="*/ 2306520 h 2306160"/>
              </a:gdLst>
              <a:ahLst/>
              <a:rect l="textAreaLeft" t="textAreaTop" r="textAreaRight" b="textAreaBottom"/>
              <a:pathLst>
                <a:path w="3600" h="1453">
                  <a:moveTo>
                    <a:pt x="0" y="780"/>
                  </a:moveTo>
                  <a:lnTo>
                    <a:pt x="11" y="830"/>
                  </a:lnTo>
                  <a:lnTo>
                    <a:pt x="11" y="863"/>
                  </a:lnTo>
                  <a:lnTo>
                    <a:pt x="11" y="895"/>
                  </a:lnTo>
                  <a:lnTo>
                    <a:pt x="11" y="928"/>
                  </a:lnTo>
                  <a:lnTo>
                    <a:pt x="33" y="972"/>
                  </a:lnTo>
                  <a:lnTo>
                    <a:pt x="54" y="1005"/>
                  </a:lnTo>
                  <a:lnTo>
                    <a:pt x="65" y="1037"/>
                  </a:lnTo>
                  <a:lnTo>
                    <a:pt x="65" y="1081"/>
                  </a:lnTo>
                  <a:lnTo>
                    <a:pt x="76" y="1125"/>
                  </a:lnTo>
                  <a:lnTo>
                    <a:pt x="76" y="1157"/>
                  </a:lnTo>
                  <a:lnTo>
                    <a:pt x="76" y="1190"/>
                  </a:lnTo>
                  <a:lnTo>
                    <a:pt x="76" y="1223"/>
                  </a:lnTo>
                  <a:lnTo>
                    <a:pt x="76" y="1256"/>
                  </a:lnTo>
                  <a:lnTo>
                    <a:pt x="76" y="1288"/>
                  </a:lnTo>
                  <a:lnTo>
                    <a:pt x="76" y="1321"/>
                  </a:lnTo>
                  <a:lnTo>
                    <a:pt x="76" y="1354"/>
                  </a:lnTo>
                  <a:lnTo>
                    <a:pt x="76" y="1387"/>
                  </a:lnTo>
                  <a:lnTo>
                    <a:pt x="76" y="1419"/>
                  </a:lnTo>
                  <a:lnTo>
                    <a:pt x="98" y="1452"/>
                  </a:lnTo>
                  <a:lnTo>
                    <a:pt x="131" y="1452"/>
                  </a:lnTo>
                  <a:lnTo>
                    <a:pt x="153" y="1419"/>
                  </a:lnTo>
                  <a:lnTo>
                    <a:pt x="185" y="1387"/>
                  </a:lnTo>
                  <a:lnTo>
                    <a:pt x="185" y="1354"/>
                  </a:lnTo>
                  <a:lnTo>
                    <a:pt x="196" y="1321"/>
                  </a:lnTo>
                  <a:lnTo>
                    <a:pt x="196" y="1288"/>
                  </a:lnTo>
                  <a:lnTo>
                    <a:pt x="196" y="1256"/>
                  </a:lnTo>
                  <a:lnTo>
                    <a:pt x="207" y="1223"/>
                  </a:lnTo>
                  <a:lnTo>
                    <a:pt x="218" y="1179"/>
                  </a:lnTo>
                  <a:lnTo>
                    <a:pt x="229" y="1146"/>
                  </a:lnTo>
                  <a:lnTo>
                    <a:pt x="240" y="1114"/>
                  </a:lnTo>
                  <a:lnTo>
                    <a:pt x="251" y="1081"/>
                  </a:lnTo>
                  <a:lnTo>
                    <a:pt x="273" y="1048"/>
                  </a:lnTo>
                  <a:lnTo>
                    <a:pt x="273" y="1015"/>
                  </a:lnTo>
                  <a:lnTo>
                    <a:pt x="284" y="983"/>
                  </a:lnTo>
                  <a:lnTo>
                    <a:pt x="284" y="950"/>
                  </a:lnTo>
                  <a:lnTo>
                    <a:pt x="284" y="917"/>
                  </a:lnTo>
                  <a:lnTo>
                    <a:pt x="294" y="884"/>
                  </a:lnTo>
                  <a:lnTo>
                    <a:pt x="294" y="852"/>
                  </a:lnTo>
                  <a:lnTo>
                    <a:pt x="316" y="808"/>
                  </a:lnTo>
                  <a:lnTo>
                    <a:pt x="316" y="775"/>
                  </a:lnTo>
                  <a:lnTo>
                    <a:pt x="327" y="743"/>
                  </a:lnTo>
                  <a:lnTo>
                    <a:pt x="338" y="710"/>
                  </a:lnTo>
                  <a:lnTo>
                    <a:pt x="349" y="677"/>
                  </a:lnTo>
                  <a:lnTo>
                    <a:pt x="371" y="644"/>
                  </a:lnTo>
                  <a:lnTo>
                    <a:pt x="404" y="633"/>
                  </a:lnTo>
                  <a:lnTo>
                    <a:pt x="436" y="633"/>
                  </a:lnTo>
                  <a:lnTo>
                    <a:pt x="469" y="644"/>
                  </a:lnTo>
                  <a:lnTo>
                    <a:pt x="502" y="655"/>
                  </a:lnTo>
                  <a:lnTo>
                    <a:pt x="524" y="623"/>
                  </a:lnTo>
                  <a:lnTo>
                    <a:pt x="556" y="601"/>
                  </a:lnTo>
                  <a:lnTo>
                    <a:pt x="589" y="601"/>
                  </a:lnTo>
                  <a:lnTo>
                    <a:pt x="622" y="601"/>
                  </a:lnTo>
                  <a:lnTo>
                    <a:pt x="633" y="633"/>
                  </a:lnTo>
                  <a:lnTo>
                    <a:pt x="665" y="644"/>
                  </a:lnTo>
                  <a:lnTo>
                    <a:pt x="698" y="644"/>
                  </a:lnTo>
                  <a:lnTo>
                    <a:pt x="709" y="612"/>
                  </a:lnTo>
                  <a:lnTo>
                    <a:pt x="742" y="590"/>
                  </a:lnTo>
                  <a:lnTo>
                    <a:pt x="775" y="579"/>
                  </a:lnTo>
                  <a:lnTo>
                    <a:pt x="818" y="579"/>
                  </a:lnTo>
                  <a:lnTo>
                    <a:pt x="840" y="623"/>
                  </a:lnTo>
                  <a:lnTo>
                    <a:pt x="884" y="644"/>
                  </a:lnTo>
                  <a:lnTo>
                    <a:pt x="905" y="612"/>
                  </a:lnTo>
                  <a:lnTo>
                    <a:pt x="938" y="612"/>
                  </a:lnTo>
                  <a:lnTo>
                    <a:pt x="971" y="612"/>
                  </a:lnTo>
                  <a:lnTo>
                    <a:pt x="1004" y="633"/>
                  </a:lnTo>
                  <a:lnTo>
                    <a:pt x="1036" y="655"/>
                  </a:lnTo>
                  <a:lnTo>
                    <a:pt x="1069" y="655"/>
                  </a:lnTo>
                  <a:lnTo>
                    <a:pt x="1080" y="623"/>
                  </a:lnTo>
                  <a:lnTo>
                    <a:pt x="1124" y="590"/>
                  </a:lnTo>
                  <a:lnTo>
                    <a:pt x="1156" y="579"/>
                  </a:lnTo>
                  <a:lnTo>
                    <a:pt x="1189" y="579"/>
                  </a:lnTo>
                  <a:lnTo>
                    <a:pt x="1255" y="601"/>
                  </a:lnTo>
                  <a:lnTo>
                    <a:pt x="1320" y="612"/>
                  </a:lnTo>
                  <a:lnTo>
                    <a:pt x="1353" y="633"/>
                  </a:lnTo>
                  <a:lnTo>
                    <a:pt x="1386" y="601"/>
                  </a:lnTo>
                  <a:lnTo>
                    <a:pt x="1396" y="568"/>
                  </a:lnTo>
                  <a:lnTo>
                    <a:pt x="1429" y="568"/>
                  </a:lnTo>
                  <a:lnTo>
                    <a:pt x="1462" y="568"/>
                  </a:lnTo>
                  <a:lnTo>
                    <a:pt x="1473" y="601"/>
                  </a:lnTo>
                  <a:lnTo>
                    <a:pt x="1484" y="633"/>
                  </a:lnTo>
                  <a:lnTo>
                    <a:pt x="1516" y="633"/>
                  </a:lnTo>
                  <a:lnTo>
                    <a:pt x="1549" y="612"/>
                  </a:lnTo>
                  <a:lnTo>
                    <a:pt x="1582" y="579"/>
                  </a:lnTo>
                  <a:lnTo>
                    <a:pt x="1615" y="579"/>
                  </a:lnTo>
                  <a:lnTo>
                    <a:pt x="1647" y="601"/>
                  </a:lnTo>
                  <a:lnTo>
                    <a:pt x="1680" y="612"/>
                  </a:lnTo>
                  <a:lnTo>
                    <a:pt x="1713" y="601"/>
                  </a:lnTo>
                  <a:lnTo>
                    <a:pt x="1746" y="579"/>
                  </a:lnTo>
                  <a:lnTo>
                    <a:pt x="1778" y="579"/>
                  </a:lnTo>
                  <a:lnTo>
                    <a:pt x="1800" y="612"/>
                  </a:lnTo>
                  <a:lnTo>
                    <a:pt x="1833" y="623"/>
                  </a:lnTo>
                  <a:lnTo>
                    <a:pt x="1866" y="623"/>
                  </a:lnTo>
                  <a:lnTo>
                    <a:pt x="1887" y="590"/>
                  </a:lnTo>
                  <a:lnTo>
                    <a:pt x="1920" y="590"/>
                  </a:lnTo>
                  <a:lnTo>
                    <a:pt x="1953" y="590"/>
                  </a:lnTo>
                  <a:lnTo>
                    <a:pt x="1986" y="623"/>
                  </a:lnTo>
                  <a:lnTo>
                    <a:pt x="2018" y="623"/>
                  </a:lnTo>
                  <a:lnTo>
                    <a:pt x="2051" y="612"/>
                  </a:lnTo>
                  <a:lnTo>
                    <a:pt x="2084" y="601"/>
                  </a:lnTo>
                  <a:lnTo>
                    <a:pt x="2117" y="601"/>
                  </a:lnTo>
                  <a:lnTo>
                    <a:pt x="2160" y="601"/>
                  </a:lnTo>
                  <a:lnTo>
                    <a:pt x="2258" y="623"/>
                  </a:lnTo>
                  <a:lnTo>
                    <a:pt x="2346" y="623"/>
                  </a:lnTo>
                  <a:lnTo>
                    <a:pt x="2411" y="623"/>
                  </a:lnTo>
                  <a:lnTo>
                    <a:pt x="2444" y="623"/>
                  </a:lnTo>
                  <a:lnTo>
                    <a:pt x="2477" y="623"/>
                  </a:lnTo>
                  <a:lnTo>
                    <a:pt x="2509" y="623"/>
                  </a:lnTo>
                  <a:lnTo>
                    <a:pt x="2542" y="623"/>
                  </a:lnTo>
                  <a:lnTo>
                    <a:pt x="2575" y="623"/>
                  </a:lnTo>
                  <a:lnTo>
                    <a:pt x="2608" y="623"/>
                  </a:lnTo>
                  <a:lnTo>
                    <a:pt x="2640" y="623"/>
                  </a:lnTo>
                  <a:lnTo>
                    <a:pt x="2684" y="623"/>
                  </a:lnTo>
                  <a:lnTo>
                    <a:pt x="2717" y="612"/>
                  </a:lnTo>
                  <a:lnTo>
                    <a:pt x="2760" y="612"/>
                  </a:lnTo>
                  <a:lnTo>
                    <a:pt x="2793" y="601"/>
                  </a:lnTo>
                  <a:lnTo>
                    <a:pt x="2826" y="601"/>
                  </a:lnTo>
                  <a:lnTo>
                    <a:pt x="2859" y="601"/>
                  </a:lnTo>
                  <a:lnTo>
                    <a:pt x="2924" y="601"/>
                  </a:lnTo>
                  <a:lnTo>
                    <a:pt x="3033" y="601"/>
                  </a:lnTo>
                  <a:lnTo>
                    <a:pt x="3066" y="601"/>
                  </a:lnTo>
                  <a:lnTo>
                    <a:pt x="3109" y="590"/>
                  </a:lnTo>
                  <a:lnTo>
                    <a:pt x="3153" y="579"/>
                  </a:lnTo>
                  <a:lnTo>
                    <a:pt x="3197" y="568"/>
                  </a:lnTo>
                  <a:lnTo>
                    <a:pt x="3284" y="568"/>
                  </a:lnTo>
                  <a:lnTo>
                    <a:pt x="3350" y="568"/>
                  </a:lnTo>
                  <a:lnTo>
                    <a:pt x="3382" y="568"/>
                  </a:lnTo>
                  <a:lnTo>
                    <a:pt x="3448" y="568"/>
                  </a:lnTo>
                  <a:lnTo>
                    <a:pt x="3513" y="568"/>
                  </a:lnTo>
                  <a:lnTo>
                    <a:pt x="3579" y="568"/>
                  </a:lnTo>
                  <a:lnTo>
                    <a:pt x="3599" y="557"/>
                  </a:lnTo>
                  <a:lnTo>
                    <a:pt x="3590" y="524"/>
                  </a:lnTo>
                  <a:lnTo>
                    <a:pt x="3590" y="492"/>
                  </a:lnTo>
                  <a:lnTo>
                    <a:pt x="3590" y="459"/>
                  </a:lnTo>
                  <a:lnTo>
                    <a:pt x="3590" y="426"/>
                  </a:lnTo>
                  <a:lnTo>
                    <a:pt x="3590" y="393"/>
                  </a:lnTo>
                  <a:lnTo>
                    <a:pt x="3557" y="382"/>
                  </a:lnTo>
                  <a:lnTo>
                    <a:pt x="3524" y="382"/>
                  </a:lnTo>
                  <a:lnTo>
                    <a:pt x="3491" y="372"/>
                  </a:lnTo>
                  <a:lnTo>
                    <a:pt x="3459" y="372"/>
                  </a:lnTo>
                  <a:lnTo>
                    <a:pt x="3426" y="372"/>
                  </a:lnTo>
                  <a:lnTo>
                    <a:pt x="3393" y="361"/>
                  </a:lnTo>
                  <a:lnTo>
                    <a:pt x="3360" y="361"/>
                  </a:lnTo>
                  <a:lnTo>
                    <a:pt x="3328" y="350"/>
                  </a:lnTo>
                  <a:lnTo>
                    <a:pt x="3295" y="350"/>
                  </a:lnTo>
                  <a:lnTo>
                    <a:pt x="3262" y="339"/>
                  </a:lnTo>
                  <a:lnTo>
                    <a:pt x="3229" y="339"/>
                  </a:lnTo>
                  <a:lnTo>
                    <a:pt x="3186" y="328"/>
                  </a:lnTo>
                  <a:lnTo>
                    <a:pt x="3153" y="317"/>
                  </a:lnTo>
                  <a:lnTo>
                    <a:pt x="3120" y="317"/>
                  </a:lnTo>
                  <a:lnTo>
                    <a:pt x="3088" y="306"/>
                  </a:lnTo>
                  <a:lnTo>
                    <a:pt x="3055" y="295"/>
                  </a:lnTo>
                  <a:lnTo>
                    <a:pt x="3022" y="284"/>
                  </a:lnTo>
                  <a:lnTo>
                    <a:pt x="2989" y="273"/>
                  </a:lnTo>
                  <a:lnTo>
                    <a:pt x="2957" y="273"/>
                  </a:lnTo>
                  <a:lnTo>
                    <a:pt x="2869" y="262"/>
                  </a:lnTo>
                  <a:lnTo>
                    <a:pt x="2826" y="241"/>
                  </a:lnTo>
                  <a:lnTo>
                    <a:pt x="2793" y="230"/>
                  </a:lnTo>
                  <a:lnTo>
                    <a:pt x="2760" y="219"/>
                  </a:lnTo>
                  <a:lnTo>
                    <a:pt x="2728" y="219"/>
                  </a:lnTo>
                  <a:lnTo>
                    <a:pt x="2695" y="208"/>
                  </a:lnTo>
                  <a:lnTo>
                    <a:pt x="2662" y="197"/>
                  </a:lnTo>
                  <a:lnTo>
                    <a:pt x="2629" y="186"/>
                  </a:lnTo>
                  <a:lnTo>
                    <a:pt x="2597" y="175"/>
                  </a:lnTo>
                  <a:lnTo>
                    <a:pt x="2564" y="175"/>
                  </a:lnTo>
                  <a:lnTo>
                    <a:pt x="2531" y="164"/>
                  </a:lnTo>
                  <a:lnTo>
                    <a:pt x="2498" y="153"/>
                  </a:lnTo>
                  <a:lnTo>
                    <a:pt x="2466" y="142"/>
                  </a:lnTo>
                  <a:lnTo>
                    <a:pt x="2433" y="142"/>
                  </a:lnTo>
                  <a:lnTo>
                    <a:pt x="2400" y="131"/>
                  </a:lnTo>
                  <a:lnTo>
                    <a:pt x="2368" y="121"/>
                  </a:lnTo>
                  <a:lnTo>
                    <a:pt x="2335" y="121"/>
                  </a:lnTo>
                  <a:lnTo>
                    <a:pt x="2269" y="121"/>
                  </a:lnTo>
                  <a:lnTo>
                    <a:pt x="2226" y="110"/>
                  </a:lnTo>
                  <a:lnTo>
                    <a:pt x="2193" y="99"/>
                  </a:lnTo>
                  <a:lnTo>
                    <a:pt x="2160" y="99"/>
                  </a:lnTo>
                  <a:lnTo>
                    <a:pt x="2127" y="88"/>
                  </a:lnTo>
                  <a:lnTo>
                    <a:pt x="2095" y="88"/>
                  </a:lnTo>
                  <a:lnTo>
                    <a:pt x="2062" y="88"/>
                  </a:lnTo>
                  <a:lnTo>
                    <a:pt x="2029" y="77"/>
                  </a:lnTo>
                  <a:lnTo>
                    <a:pt x="1997" y="77"/>
                  </a:lnTo>
                  <a:lnTo>
                    <a:pt x="1964" y="77"/>
                  </a:lnTo>
                  <a:lnTo>
                    <a:pt x="1931" y="66"/>
                  </a:lnTo>
                  <a:lnTo>
                    <a:pt x="1898" y="66"/>
                  </a:lnTo>
                  <a:lnTo>
                    <a:pt x="1866" y="55"/>
                  </a:lnTo>
                  <a:lnTo>
                    <a:pt x="1833" y="55"/>
                  </a:lnTo>
                  <a:lnTo>
                    <a:pt x="1800" y="44"/>
                  </a:lnTo>
                  <a:lnTo>
                    <a:pt x="1767" y="44"/>
                  </a:lnTo>
                  <a:lnTo>
                    <a:pt x="1735" y="33"/>
                  </a:lnTo>
                  <a:lnTo>
                    <a:pt x="1702" y="33"/>
                  </a:lnTo>
                  <a:lnTo>
                    <a:pt x="1669" y="33"/>
                  </a:lnTo>
                  <a:lnTo>
                    <a:pt x="1637" y="33"/>
                  </a:lnTo>
                  <a:lnTo>
                    <a:pt x="1604" y="33"/>
                  </a:lnTo>
                  <a:lnTo>
                    <a:pt x="1571" y="33"/>
                  </a:lnTo>
                  <a:lnTo>
                    <a:pt x="1538" y="33"/>
                  </a:lnTo>
                  <a:lnTo>
                    <a:pt x="1506" y="33"/>
                  </a:lnTo>
                  <a:lnTo>
                    <a:pt x="1473" y="22"/>
                  </a:lnTo>
                  <a:lnTo>
                    <a:pt x="1440" y="22"/>
                  </a:lnTo>
                  <a:lnTo>
                    <a:pt x="1407" y="22"/>
                  </a:lnTo>
                  <a:lnTo>
                    <a:pt x="1375" y="22"/>
                  </a:lnTo>
                  <a:lnTo>
                    <a:pt x="1342" y="22"/>
                  </a:lnTo>
                  <a:lnTo>
                    <a:pt x="1309" y="22"/>
                  </a:lnTo>
                  <a:lnTo>
                    <a:pt x="1266" y="22"/>
                  </a:lnTo>
                  <a:lnTo>
                    <a:pt x="1233" y="22"/>
                  </a:lnTo>
                  <a:lnTo>
                    <a:pt x="1189" y="22"/>
                  </a:lnTo>
                  <a:lnTo>
                    <a:pt x="1156" y="22"/>
                  </a:lnTo>
                  <a:lnTo>
                    <a:pt x="1124" y="22"/>
                  </a:lnTo>
                  <a:lnTo>
                    <a:pt x="1091" y="22"/>
                  </a:lnTo>
                  <a:lnTo>
                    <a:pt x="1047" y="11"/>
                  </a:lnTo>
                  <a:lnTo>
                    <a:pt x="1004" y="11"/>
                  </a:lnTo>
                  <a:lnTo>
                    <a:pt x="971" y="11"/>
                  </a:lnTo>
                  <a:lnTo>
                    <a:pt x="938" y="11"/>
                  </a:lnTo>
                  <a:lnTo>
                    <a:pt x="905" y="11"/>
                  </a:lnTo>
                  <a:lnTo>
                    <a:pt x="873" y="0"/>
                  </a:lnTo>
                  <a:lnTo>
                    <a:pt x="840" y="0"/>
                  </a:lnTo>
                  <a:lnTo>
                    <a:pt x="807" y="0"/>
                  </a:lnTo>
                  <a:lnTo>
                    <a:pt x="775" y="0"/>
                  </a:lnTo>
                  <a:lnTo>
                    <a:pt x="709" y="0"/>
                  </a:lnTo>
                  <a:lnTo>
                    <a:pt x="665" y="0"/>
                  </a:lnTo>
                  <a:lnTo>
                    <a:pt x="622" y="0"/>
                  </a:lnTo>
                  <a:lnTo>
                    <a:pt x="545" y="0"/>
                  </a:lnTo>
                  <a:lnTo>
                    <a:pt x="513" y="0"/>
                  </a:lnTo>
                  <a:lnTo>
                    <a:pt x="469" y="0"/>
                  </a:lnTo>
                  <a:lnTo>
                    <a:pt x="436" y="0"/>
                  </a:lnTo>
                  <a:lnTo>
                    <a:pt x="404" y="0"/>
                  </a:lnTo>
                  <a:lnTo>
                    <a:pt x="371" y="0"/>
                  </a:lnTo>
                  <a:lnTo>
                    <a:pt x="338" y="0"/>
                  </a:lnTo>
                  <a:lnTo>
                    <a:pt x="336" y="12"/>
                  </a:lnTo>
                </a:path>
              </a:pathLst>
            </a:custGeom>
            <a:noFill/>
            <a:ln cap="rnd" w="762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23"/>
            <p:cNvSpPr/>
            <p:nvPr/>
          </p:nvSpPr>
          <p:spPr>
            <a:xfrm>
              <a:off x="7219800" y="1557360"/>
              <a:ext cx="1404720" cy="182160"/>
            </a:xfrm>
            <a:custGeom>
              <a:avLst/>
              <a:gdLst>
                <a:gd name="textAreaLeft" fmla="*/ 0 w 1404720"/>
                <a:gd name="textAreaRight" fmla="*/ 1405080 w 140472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885" h="115">
                  <a:moveTo>
                    <a:pt x="823" y="0"/>
                  </a:moveTo>
                  <a:lnTo>
                    <a:pt x="748" y="32"/>
                  </a:lnTo>
                  <a:lnTo>
                    <a:pt x="641" y="63"/>
                  </a:lnTo>
                  <a:lnTo>
                    <a:pt x="532" y="47"/>
                  </a:lnTo>
                  <a:lnTo>
                    <a:pt x="398" y="45"/>
                  </a:lnTo>
                  <a:lnTo>
                    <a:pt x="289" y="28"/>
                  </a:lnTo>
                  <a:lnTo>
                    <a:pt x="222" y="38"/>
                  </a:lnTo>
                  <a:lnTo>
                    <a:pt x="155" y="49"/>
                  </a:lnTo>
                  <a:lnTo>
                    <a:pt x="116" y="35"/>
                  </a:lnTo>
                  <a:lnTo>
                    <a:pt x="48" y="34"/>
                  </a:lnTo>
                  <a:lnTo>
                    <a:pt x="0" y="23"/>
                  </a:lnTo>
                  <a:lnTo>
                    <a:pt x="21" y="47"/>
                  </a:lnTo>
                  <a:lnTo>
                    <a:pt x="35" y="75"/>
                  </a:lnTo>
                  <a:lnTo>
                    <a:pt x="62" y="95"/>
                  </a:lnTo>
                  <a:lnTo>
                    <a:pt x="89" y="94"/>
                  </a:lnTo>
                  <a:lnTo>
                    <a:pt x="115" y="91"/>
                  </a:lnTo>
                  <a:lnTo>
                    <a:pt x="163" y="103"/>
                  </a:lnTo>
                  <a:lnTo>
                    <a:pt x="196" y="98"/>
                  </a:lnTo>
                  <a:lnTo>
                    <a:pt x="231" y="105"/>
                  </a:lnTo>
                  <a:lnTo>
                    <a:pt x="264" y="99"/>
                  </a:lnTo>
                  <a:lnTo>
                    <a:pt x="297" y="105"/>
                  </a:lnTo>
                  <a:lnTo>
                    <a:pt x="331" y="112"/>
                  </a:lnTo>
                  <a:lnTo>
                    <a:pt x="358" y="110"/>
                  </a:lnTo>
                  <a:lnTo>
                    <a:pt x="385" y="108"/>
                  </a:lnTo>
                  <a:lnTo>
                    <a:pt x="426" y="111"/>
                  </a:lnTo>
                  <a:lnTo>
                    <a:pt x="453" y="109"/>
                  </a:lnTo>
                  <a:lnTo>
                    <a:pt x="480" y="108"/>
                  </a:lnTo>
                  <a:lnTo>
                    <a:pt x="513" y="114"/>
                  </a:lnTo>
                  <a:lnTo>
                    <a:pt x="541" y="113"/>
                  </a:lnTo>
                  <a:lnTo>
                    <a:pt x="567" y="110"/>
                  </a:lnTo>
                  <a:lnTo>
                    <a:pt x="608" y="113"/>
                  </a:lnTo>
                  <a:lnTo>
                    <a:pt x="634" y="111"/>
                  </a:lnTo>
                  <a:lnTo>
                    <a:pt x="661" y="110"/>
                  </a:lnTo>
                  <a:lnTo>
                    <a:pt x="682" y="100"/>
                  </a:lnTo>
                  <a:lnTo>
                    <a:pt x="708" y="98"/>
                  </a:lnTo>
                  <a:lnTo>
                    <a:pt x="735" y="97"/>
                  </a:lnTo>
                  <a:lnTo>
                    <a:pt x="776" y="76"/>
                  </a:lnTo>
                  <a:lnTo>
                    <a:pt x="802" y="75"/>
                  </a:lnTo>
                  <a:lnTo>
                    <a:pt x="829" y="73"/>
                  </a:lnTo>
                  <a:lnTo>
                    <a:pt x="856" y="71"/>
                  </a:lnTo>
                  <a:lnTo>
                    <a:pt x="884" y="69"/>
                  </a:lnTo>
                  <a:lnTo>
                    <a:pt x="869" y="41"/>
                  </a:lnTo>
                  <a:lnTo>
                    <a:pt x="823" y="0"/>
                  </a:lnTo>
                  <a:lnTo>
                    <a:pt x="823" y="0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24"/>
            <p:cNvSpPr/>
            <p:nvPr/>
          </p:nvSpPr>
          <p:spPr>
            <a:xfrm>
              <a:off x="6929280" y="1434960"/>
              <a:ext cx="1375920" cy="301320"/>
            </a:xfrm>
            <a:custGeom>
              <a:avLst/>
              <a:gdLst>
                <a:gd name="textAreaLeft" fmla="*/ 0 w 1375920"/>
                <a:gd name="textAreaRight" fmla="*/ 1376280 w 13759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867" h="190">
                  <a:moveTo>
                    <a:pt x="816" y="83"/>
                  </a:moveTo>
                  <a:lnTo>
                    <a:pt x="738" y="62"/>
                  </a:lnTo>
                  <a:lnTo>
                    <a:pt x="627" y="49"/>
                  </a:lnTo>
                  <a:lnTo>
                    <a:pt x="522" y="82"/>
                  </a:lnTo>
                  <a:lnTo>
                    <a:pt x="390" y="105"/>
                  </a:lnTo>
                  <a:lnTo>
                    <a:pt x="285" y="138"/>
                  </a:lnTo>
                  <a:lnTo>
                    <a:pt x="217" y="139"/>
                  </a:lnTo>
                  <a:lnTo>
                    <a:pt x="149" y="139"/>
                  </a:lnTo>
                  <a:lnTo>
                    <a:pt x="112" y="159"/>
                  </a:lnTo>
                  <a:lnTo>
                    <a:pt x="46" y="171"/>
                  </a:lnTo>
                  <a:lnTo>
                    <a:pt x="0" y="189"/>
                  </a:lnTo>
                  <a:lnTo>
                    <a:pt x="17" y="162"/>
                  </a:lnTo>
                  <a:lnTo>
                    <a:pt x="26" y="132"/>
                  </a:lnTo>
                  <a:lnTo>
                    <a:pt x="50" y="108"/>
                  </a:lnTo>
                  <a:lnTo>
                    <a:pt x="77" y="105"/>
                  </a:lnTo>
                  <a:lnTo>
                    <a:pt x="103" y="103"/>
                  </a:lnTo>
                  <a:lnTo>
                    <a:pt x="149" y="84"/>
                  </a:lnTo>
                  <a:lnTo>
                    <a:pt x="182" y="84"/>
                  </a:lnTo>
                  <a:lnTo>
                    <a:pt x="215" y="72"/>
                  </a:lnTo>
                  <a:lnTo>
                    <a:pt x="250" y="72"/>
                  </a:lnTo>
                  <a:lnTo>
                    <a:pt x="280" y="62"/>
                  </a:lnTo>
                  <a:lnTo>
                    <a:pt x="313" y="49"/>
                  </a:lnTo>
                  <a:lnTo>
                    <a:pt x="340" y="47"/>
                  </a:lnTo>
                  <a:lnTo>
                    <a:pt x="367" y="44"/>
                  </a:lnTo>
                  <a:lnTo>
                    <a:pt x="407" y="35"/>
                  </a:lnTo>
                  <a:lnTo>
                    <a:pt x="434" y="32"/>
                  </a:lnTo>
                  <a:lnTo>
                    <a:pt x="461" y="30"/>
                  </a:lnTo>
                  <a:lnTo>
                    <a:pt x="493" y="18"/>
                  </a:lnTo>
                  <a:lnTo>
                    <a:pt x="521" y="15"/>
                  </a:lnTo>
                  <a:lnTo>
                    <a:pt x="547" y="14"/>
                  </a:lnTo>
                  <a:lnTo>
                    <a:pt x="586" y="5"/>
                  </a:lnTo>
                  <a:lnTo>
                    <a:pt x="613" y="2"/>
                  </a:lnTo>
                  <a:lnTo>
                    <a:pt x="640" y="0"/>
                  </a:lnTo>
                  <a:lnTo>
                    <a:pt x="662" y="6"/>
                  </a:lnTo>
                  <a:lnTo>
                    <a:pt x="688" y="4"/>
                  </a:lnTo>
                  <a:lnTo>
                    <a:pt x="715" y="1"/>
                  </a:lnTo>
                  <a:lnTo>
                    <a:pt x="758" y="15"/>
                  </a:lnTo>
                  <a:lnTo>
                    <a:pt x="784" y="12"/>
                  </a:lnTo>
                  <a:lnTo>
                    <a:pt x="811" y="10"/>
                  </a:lnTo>
                  <a:lnTo>
                    <a:pt x="838" y="8"/>
                  </a:lnTo>
                  <a:lnTo>
                    <a:pt x="866" y="5"/>
                  </a:lnTo>
                  <a:lnTo>
                    <a:pt x="856" y="35"/>
                  </a:lnTo>
                  <a:lnTo>
                    <a:pt x="816" y="83"/>
                  </a:lnTo>
                  <a:lnTo>
                    <a:pt x="816" y="83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25"/>
            <p:cNvSpPr/>
            <p:nvPr/>
          </p:nvSpPr>
          <p:spPr>
            <a:xfrm>
              <a:off x="6764400" y="1341360"/>
              <a:ext cx="1399680" cy="340920"/>
            </a:xfrm>
            <a:custGeom>
              <a:avLst/>
              <a:gdLst>
                <a:gd name="textAreaLeft" fmla="*/ 0 w 1399680"/>
                <a:gd name="textAreaRight" fmla="*/ 1400040 w 13996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882" h="215">
                  <a:moveTo>
                    <a:pt x="809" y="214"/>
                  </a:moveTo>
                  <a:lnTo>
                    <a:pt x="741" y="170"/>
                  </a:lnTo>
                  <a:lnTo>
                    <a:pt x="640" y="122"/>
                  </a:lnTo>
                  <a:lnTo>
                    <a:pt x="530" y="122"/>
                  </a:lnTo>
                  <a:lnTo>
                    <a:pt x="397" y="102"/>
                  </a:lnTo>
                  <a:lnTo>
                    <a:pt x="287" y="102"/>
                  </a:lnTo>
                  <a:lnTo>
                    <a:pt x="222" y="81"/>
                  </a:lnTo>
                  <a:lnTo>
                    <a:pt x="158" y="60"/>
                  </a:lnTo>
                  <a:lnTo>
                    <a:pt x="116" y="68"/>
                  </a:lnTo>
                  <a:lnTo>
                    <a:pt x="50" y="59"/>
                  </a:lnTo>
                  <a:lnTo>
                    <a:pt x="0" y="62"/>
                  </a:lnTo>
                  <a:lnTo>
                    <a:pt x="26" y="41"/>
                  </a:lnTo>
                  <a:lnTo>
                    <a:pt x="44" y="16"/>
                  </a:lnTo>
                  <a:lnTo>
                    <a:pt x="73" y="0"/>
                  </a:lnTo>
                  <a:lnTo>
                    <a:pt x="100" y="5"/>
                  </a:lnTo>
                  <a:lnTo>
                    <a:pt x="126" y="12"/>
                  </a:lnTo>
                  <a:lnTo>
                    <a:pt x="175" y="8"/>
                  </a:lnTo>
                  <a:lnTo>
                    <a:pt x="206" y="19"/>
                  </a:lnTo>
                  <a:lnTo>
                    <a:pt x="242" y="17"/>
                  </a:lnTo>
                  <a:lnTo>
                    <a:pt x="273" y="28"/>
                  </a:lnTo>
                  <a:lnTo>
                    <a:pt x="307" y="28"/>
                  </a:lnTo>
                  <a:lnTo>
                    <a:pt x="342" y="26"/>
                  </a:lnTo>
                  <a:lnTo>
                    <a:pt x="368" y="31"/>
                  </a:lnTo>
                  <a:lnTo>
                    <a:pt x="395" y="38"/>
                  </a:lnTo>
                  <a:lnTo>
                    <a:pt x="435" y="41"/>
                  </a:lnTo>
                  <a:lnTo>
                    <a:pt x="462" y="47"/>
                  </a:lnTo>
                  <a:lnTo>
                    <a:pt x="488" y="53"/>
                  </a:lnTo>
                  <a:lnTo>
                    <a:pt x="522" y="52"/>
                  </a:lnTo>
                  <a:lnTo>
                    <a:pt x="549" y="57"/>
                  </a:lnTo>
                  <a:lnTo>
                    <a:pt x="574" y="64"/>
                  </a:lnTo>
                  <a:lnTo>
                    <a:pt x="615" y="68"/>
                  </a:lnTo>
                  <a:lnTo>
                    <a:pt x="641" y="74"/>
                  </a:lnTo>
                  <a:lnTo>
                    <a:pt x="667" y="80"/>
                  </a:lnTo>
                  <a:lnTo>
                    <a:pt x="686" y="93"/>
                  </a:lnTo>
                  <a:lnTo>
                    <a:pt x="712" y="98"/>
                  </a:lnTo>
                  <a:lnTo>
                    <a:pt x="739" y="104"/>
                  </a:lnTo>
                  <a:lnTo>
                    <a:pt x="776" y="131"/>
                  </a:lnTo>
                  <a:lnTo>
                    <a:pt x="801" y="136"/>
                  </a:lnTo>
                  <a:lnTo>
                    <a:pt x="828" y="142"/>
                  </a:lnTo>
                  <a:lnTo>
                    <a:pt x="854" y="149"/>
                  </a:lnTo>
                  <a:lnTo>
                    <a:pt x="881" y="154"/>
                  </a:lnTo>
                  <a:lnTo>
                    <a:pt x="862" y="179"/>
                  </a:lnTo>
                  <a:lnTo>
                    <a:pt x="809" y="214"/>
                  </a:lnTo>
                  <a:lnTo>
                    <a:pt x="809" y="214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Oval 26"/>
            <p:cNvSpPr/>
            <p:nvPr/>
          </p:nvSpPr>
          <p:spPr>
            <a:xfrm>
              <a:off x="8236080" y="15210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Oval 27"/>
            <p:cNvSpPr/>
            <p:nvPr/>
          </p:nvSpPr>
          <p:spPr>
            <a:xfrm>
              <a:off x="8388360" y="15210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Oval 28"/>
            <p:cNvSpPr/>
            <p:nvPr/>
          </p:nvSpPr>
          <p:spPr>
            <a:xfrm>
              <a:off x="6864480" y="15210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Oval 29"/>
            <p:cNvSpPr/>
            <p:nvPr/>
          </p:nvSpPr>
          <p:spPr>
            <a:xfrm>
              <a:off x="7016760" y="144468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Oval 30"/>
            <p:cNvSpPr/>
            <p:nvPr/>
          </p:nvSpPr>
          <p:spPr>
            <a:xfrm>
              <a:off x="7016760" y="159696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Oval 31"/>
            <p:cNvSpPr/>
            <p:nvPr/>
          </p:nvSpPr>
          <p:spPr>
            <a:xfrm>
              <a:off x="7169040" y="167328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Oval 32"/>
            <p:cNvSpPr/>
            <p:nvPr/>
          </p:nvSpPr>
          <p:spPr>
            <a:xfrm>
              <a:off x="8616960" y="15210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33"/>
            <p:cNvSpPr/>
            <p:nvPr/>
          </p:nvSpPr>
          <p:spPr>
            <a:xfrm>
              <a:off x="2666880" y="1111320"/>
              <a:ext cx="686880" cy="185400"/>
            </a:xfrm>
            <a:custGeom>
              <a:avLst/>
              <a:gdLst>
                <a:gd name="textAreaLeft" fmla="*/ 0 w 686880"/>
                <a:gd name="textAreaRight" fmla="*/ 687240 w 686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433" h="117">
                  <a:moveTo>
                    <a:pt x="0" y="116"/>
                  </a:moveTo>
                  <a:lnTo>
                    <a:pt x="2" y="58"/>
                  </a:lnTo>
                  <a:lnTo>
                    <a:pt x="39" y="34"/>
                  </a:lnTo>
                  <a:lnTo>
                    <a:pt x="64" y="0"/>
                  </a:lnTo>
                  <a:lnTo>
                    <a:pt x="100" y="0"/>
                  </a:lnTo>
                  <a:lnTo>
                    <a:pt x="137" y="0"/>
                  </a:lnTo>
                  <a:lnTo>
                    <a:pt x="174" y="0"/>
                  </a:lnTo>
                  <a:lnTo>
                    <a:pt x="222" y="0"/>
                  </a:lnTo>
                  <a:lnTo>
                    <a:pt x="259" y="0"/>
                  </a:lnTo>
                  <a:lnTo>
                    <a:pt x="357" y="0"/>
                  </a:lnTo>
                  <a:lnTo>
                    <a:pt x="394" y="34"/>
                  </a:lnTo>
                  <a:lnTo>
                    <a:pt x="432" y="65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34"/>
            <p:cNvSpPr/>
            <p:nvPr/>
          </p:nvSpPr>
          <p:spPr>
            <a:xfrm>
              <a:off x="6553080" y="1209600"/>
              <a:ext cx="177480" cy="4582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12" h="289">
                  <a:moveTo>
                    <a:pt x="0" y="0"/>
                  </a:moveTo>
                  <a:lnTo>
                    <a:pt x="46" y="15"/>
                  </a:lnTo>
                  <a:lnTo>
                    <a:pt x="79" y="37"/>
                  </a:lnTo>
                  <a:lnTo>
                    <a:pt x="90" y="69"/>
                  </a:lnTo>
                  <a:lnTo>
                    <a:pt x="101" y="102"/>
                  </a:lnTo>
                  <a:lnTo>
                    <a:pt x="111" y="135"/>
                  </a:lnTo>
                  <a:lnTo>
                    <a:pt x="111" y="168"/>
                  </a:lnTo>
                  <a:lnTo>
                    <a:pt x="111" y="200"/>
                  </a:lnTo>
                  <a:lnTo>
                    <a:pt x="111" y="233"/>
                  </a:lnTo>
                  <a:lnTo>
                    <a:pt x="101" y="266"/>
                  </a:lnTo>
                  <a:lnTo>
                    <a:pt x="68" y="288"/>
                  </a:lnTo>
                  <a:lnTo>
                    <a:pt x="48" y="288"/>
                  </a:lnTo>
                </a:path>
              </a:pathLst>
            </a:custGeom>
            <a:noFill/>
            <a:ln cap="rnd" w="762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35"/>
            <p:cNvSpPr/>
            <p:nvPr/>
          </p:nvSpPr>
          <p:spPr>
            <a:xfrm>
              <a:off x="685800" y="662040"/>
              <a:ext cx="1361880" cy="300960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3009600"/>
                <a:gd name="textAreaBottom" fmla="*/ 3009960 h 3009600"/>
              </a:gdLst>
              <a:ahLst/>
              <a:rect l="textAreaLeft" t="textAreaTop" r="textAreaRight" b="textAreaBottom"/>
              <a:pathLst>
                <a:path w="858" h="1896">
                  <a:moveTo>
                    <a:pt x="0" y="6"/>
                  </a:moveTo>
                  <a:lnTo>
                    <a:pt x="50" y="0"/>
                  </a:lnTo>
                  <a:lnTo>
                    <a:pt x="61" y="24"/>
                  </a:lnTo>
                  <a:lnTo>
                    <a:pt x="93" y="50"/>
                  </a:lnTo>
                  <a:lnTo>
                    <a:pt x="104" y="75"/>
                  </a:lnTo>
                  <a:lnTo>
                    <a:pt x="115" y="108"/>
                  </a:lnTo>
                  <a:lnTo>
                    <a:pt x="137" y="134"/>
                  </a:lnTo>
                  <a:lnTo>
                    <a:pt x="159" y="168"/>
                  </a:lnTo>
                  <a:lnTo>
                    <a:pt x="181" y="202"/>
                  </a:lnTo>
                  <a:lnTo>
                    <a:pt x="192" y="235"/>
                  </a:lnTo>
                  <a:lnTo>
                    <a:pt x="203" y="302"/>
                  </a:lnTo>
                  <a:lnTo>
                    <a:pt x="224" y="336"/>
                  </a:lnTo>
                  <a:lnTo>
                    <a:pt x="235" y="370"/>
                  </a:lnTo>
                  <a:lnTo>
                    <a:pt x="235" y="403"/>
                  </a:lnTo>
                  <a:lnTo>
                    <a:pt x="246" y="471"/>
                  </a:lnTo>
                  <a:lnTo>
                    <a:pt x="246" y="521"/>
                  </a:lnTo>
                  <a:lnTo>
                    <a:pt x="257" y="555"/>
                  </a:lnTo>
                  <a:lnTo>
                    <a:pt x="268" y="589"/>
                  </a:lnTo>
                  <a:lnTo>
                    <a:pt x="268" y="622"/>
                  </a:lnTo>
                  <a:lnTo>
                    <a:pt x="268" y="682"/>
                  </a:lnTo>
                  <a:lnTo>
                    <a:pt x="268" y="707"/>
                  </a:lnTo>
                  <a:lnTo>
                    <a:pt x="279" y="741"/>
                  </a:lnTo>
                  <a:lnTo>
                    <a:pt x="279" y="766"/>
                  </a:lnTo>
                  <a:lnTo>
                    <a:pt x="279" y="799"/>
                  </a:lnTo>
                  <a:lnTo>
                    <a:pt x="279" y="825"/>
                  </a:lnTo>
                  <a:lnTo>
                    <a:pt x="279" y="850"/>
                  </a:lnTo>
                  <a:lnTo>
                    <a:pt x="279" y="884"/>
                  </a:lnTo>
                  <a:lnTo>
                    <a:pt x="279" y="909"/>
                  </a:lnTo>
                  <a:lnTo>
                    <a:pt x="279" y="943"/>
                  </a:lnTo>
                  <a:lnTo>
                    <a:pt x="268" y="968"/>
                  </a:lnTo>
                  <a:lnTo>
                    <a:pt x="268" y="1001"/>
                  </a:lnTo>
                  <a:lnTo>
                    <a:pt x="257" y="1027"/>
                  </a:lnTo>
                  <a:lnTo>
                    <a:pt x="246" y="1078"/>
                  </a:lnTo>
                  <a:lnTo>
                    <a:pt x="246" y="1137"/>
                  </a:lnTo>
                  <a:lnTo>
                    <a:pt x="235" y="1162"/>
                  </a:lnTo>
                  <a:lnTo>
                    <a:pt x="235" y="1187"/>
                  </a:lnTo>
                  <a:lnTo>
                    <a:pt x="235" y="1212"/>
                  </a:lnTo>
                  <a:lnTo>
                    <a:pt x="224" y="1238"/>
                  </a:lnTo>
                  <a:lnTo>
                    <a:pt x="224" y="1272"/>
                  </a:lnTo>
                  <a:lnTo>
                    <a:pt x="224" y="1296"/>
                  </a:lnTo>
                  <a:lnTo>
                    <a:pt x="224" y="1322"/>
                  </a:lnTo>
                  <a:lnTo>
                    <a:pt x="224" y="1347"/>
                  </a:lnTo>
                  <a:lnTo>
                    <a:pt x="224" y="1373"/>
                  </a:lnTo>
                  <a:lnTo>
                    <a:pt x="224" y="1397"/>
                  </a:lnTo>
                  <a:lnTo>
                    <a:pt x="224" y="1423"/>
                  </a:lnTo>
                  <a:lnTo>
                    <a:pt x="224" y="1448"/>
                  </a:lnTo>
                  <a:lnTo>
                    <a:pt x="224" y="1473"/>
                  </a:lnTo>
                  <a:lnTo>
                    <a:pt x="224" y="1499"/>
                  </a:lnTo>
                  <a:lnTo>
                    <a:pt x="224" y="1524"/>
                  </a:lnTo>
                  <a:lnTo>
                    <a:pt x="224" y="1549"/>
                  </a:lnTo>
                  <a:lnTo>
                    <a:pt x="224" y="1574"/>
                  </a:lnTo>
                  <a:lnTo>
                    <a:pt x="224" y="1600"/>
                  </a:lnTo>
                  <a:lnTo>
                    <a:pt x="224" y="1625"/>
                  </a:lnTo>
                  <a:lnTo>
                    <a:pt x="235" y="1651"/>
                  </a:lnTo>
                  <a:lnTo>
                    <a:pt x="246" y="1675"/>
                  </a:lnTo>
                  <a:lnTo>
                    <a:pt x="257" y="1701"/>
                  </a:lnTo>
                  <a:lnTo>
                    <a:pt x="268" y="1726"/>
                  </a:lnTo>
                  <a:lnTo>
                    <a:pt x="279" y="1760"/>
                  </a:lnTo>
                  <a:lnTo>
                    <a:pt x="301" y="1793"/>
                  </a:lnTo>
                  <a:lnTo>
                    <a:pt x="323" y="1819"/>
                  </a:lnTo>
                  <a:lnTo>
                    <a:pt x="344" y="1844"/>
                  </a:lnTo>
                  <a:lnTo>
                    <a:pt x="377" y="1861"/>
                  </a:lnTo>
                  <a:lnTo>
                    <a:pt x="410" y="1878"/>
                  </a:lnTo>
                  <a:lnTo>
                    <a:pt x="443" y="1886"/>
                  </a:lnTo>
                  <a:lnTo>
                    <a:pt x="475" y="1895"/>
                  </a:lnTo>
                  <a:lnTo>
                    <a:pt x="508" y="1895"/>
                  </a:lnTo>
                  <a:lnTo>
                    <a:pt x="552" y="1895"/>
                  </a:lnTo>
                  <a:lnTo>
                    <a:pt x="584" y="1895"/>
                  </a:lnTo>
                  <a:lnTo>
                    <a:pt x="617" y="1895"/>
                  </a:lnTo>
                  <a:lnTo>
                    <a:pt x="650" y="1895"/>
                  </a:lnTo>
                  <a:lnTo>
                    <a:pt x="683" y="1878"/>
                  </a:lnTo>
                  <a:lnTo>
                    <a:pt x="715" y="1861"/>
                  </a:lnTo>
                  <a:lnTo>
                    <a:pt x="748" y="1853"/>
                  </a:lnTo>
                  <a:lnTo>
                    <a:pt x="770" y="1827"/>
                  </a:lnTo>
                  <a:lnTo>
                    <a:pt x="792" y="1802"/>
                  </a:lnTo>
                  <a:lnTo>
                    <a:pt x="814" y="1776"/>
                  </a:lnTo>
                  <a:lnTo>
                    <a:pt x="824" y="1752"/>
                  </a:lnTo>
                  <a:lnTo>
                    <a:pt x="835" y="1726"/>
                  </a:lnTo>
                  <a:lnTo>
                    <a:pt x="846" y="1701"/>
                  </a:lnTo>
                  <a:lnTo>
                    <a:pt x="846" y="1675"/>
                  </a:lnTo>
                  <a:lnTo>
                    <a:pt x="846" y="1651"/>
                  </a:lnTo>
                  <a:lnTo>
                    <a:pt x="857" y="1617"/>
                  </a:lnTo>
                  <a:lnTo>
                    <a:pt x="857" y="1591"/>
                  </a:lnTo>
                  <a:lnTo>
                    <a:pt x="857" y="1566"/>
                  </a:lnTo>
                  <a:lnTo>
                    <a:pt x="857" y="1541"/>
                  </a:lnTo>
                  <a:lnTo>
                    <a:pt x="857" y="1516"/>
                  </a:lnTo>
                  <a:lnTo>
                    <a:pt x="857" y="1490"/>
                  </a:lnTo>
                  <a:lnTo>
                    <a:pt x="857" y="1465"/>
                  </a:lnTo>
                  <a:lnTo>
                    <a:pt x="857" y="1440"/>
                  </a:lnTo>
                  <a:lnTo>
                    <a:pt x="857" y="1414"/>
                  </a:lnTo>
                  <a:lnTo>
                    <a:pt x="857" y="1380"/>
                  </a:lnTo>
                  <a:lnTo>
                    <a:pt x="857" y="1356"/>
                  </a:lnTo>
                  <a:lnTo>
                    <a:pt x="857" y="1330"/>
                  </a:lnTo>
                  <a:lnTo>
                    <a:pt x="857" y="1305"/>
                  </a:lnTo>
                  <a:lnTo>
                    <a:pt x="857" y="1279"/>
                  </a:lnTo>
                  <a:lnTo>
                    <a:pt x="857" y="1255"/>
                  </a:lnTo>
                  <a:lnTo>
                    <a:pt x="846" y="1229"/>
                  </a:lnTo>
                  <a:lnTo>
                    <a:pt x="835" y="1195"/>
                  </a:lnTo>
                  <a:lnTo>
                    <a:pt x="814" y="1170"/>
                  </a:lnTo>
                  <a:lnTo>
                    <a:pt x="803" y="1145"/>
                  </a:lnTo>
                  <a:lnTo>
                    <a:pt x="792" y="1111"/>
                  </a:lnTo>
                  <a:lnTo>
                    <a:pt x="770" y="1078"/>
                  </a:lnTo>
                  <a:lnTo>
                    <a:pt x="770" y="1052"/>
                  </a:lnTo>
                  <a:lnTo>
                    <a:pt x="759" y="1018"/>
                  </a:lnTo>
                  <a:lnTo>
                    <a:pt x="748" y="960"/>
                  </a:lnTo>
                  <a:lnTo>
                    <a:pt x="748" y="934"/>
                  </a:lnTo>
                  <a:lnTo>
                    <a:pt x="748" y="900"/>
                  </a:lnTo>
                  <a:lnTo>
                    <a:pt x="737" y="876"/>
                  </a:lnTo>
                  <a:lnTo>
                    <a:pt x="737" y="842"/>
                  </a:lnTo>
                  <a:lnTo>
                    <a:pt x="737" y="808"/>
                  </a:lnTo>
                  <a:lnTo>
                    <a:pt x="726" y="783"/>
                  </a:lnTo>
                  <a:lnTo>
                    <a:pt x="726" y="758"/>
                  </a:lnTo>
                  <a:lnTo>
                    <a:pt x="726" y="732"/>
                  </a:lnTo>
                  <a:lnTo>
                    <a:pt x="726" y="707"/>
                  </a:lnTo>
                  <a:lnTo>
                    <a:pt x="726" y="673"/>
                  </a:lnTo>
                  <a:lnTo>
                    <a:pt x="726" y="639"/>
                  </a:lnTo>
                  <a:lnTo>
                    <a:pt x="726" y="614"/>
                  </a:lnTo>
                  <a:lnTo>
                    <a:pt x="726" y="589"/>
                  </a:lnTo>
                  <a:lnTo>
                    <a:pt x="726" y="564"/>
                  </a:lnTo>
                  <a:lnTo>
                    <a:pt x="726" y="538"/>
                  </a:lnTo>
                  <a:lnTo>
                    <a:pt x="726" y="513"/>
                  </a:lnTo>
                  <a:lnTo>
                    <a:pt x="726" y="488"/>
                  </a:lnTo>
                  <a:lnTo>
                    <a:pt x="726" y="463"/>
                  </a:lnTo>
                  <a:lnTo>
                    <a:pt x="726" y="437"/>
                  </a:lnTo>
                  <a:lnTo>
                    <a:pt x="715" y="412"/>
                  </a:lnTo>
                  <a:lnTo>
                    <a:pt x="704" y="387"/>
                  </a:lnTo>
                  <a:lnTo>
                    <a:pt x="704" y="362"/>
                  </a:lnTo>
                  <a:lnTo>
                    <a:pt x="704" y="336"/>
                  </a:lnTo>
                  <a:lnTo>
                    <a:pt x="672" y="303"/>
                  </a:lnTo>
                </a:path>
              </a:pathLst>
            </a:custGeom>
            <a:noFill/>
            <a:ln cap="rnd" w="76200">
              <a:solidFill>
                <a:srgbClr val="f79646">
                  <a:lumMod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7" name="Group 39"/>
            <p:cNvGrpSpPr/>
            <p:nvPr/>
          </p:nvGrpSpPr>
          <p:grpSpPr>
            <a:xfrm>
              <a:off x="2762280" y="3429000"/>
              <a:ext cx="740880" cy="2292120"/>
              <a:chOff x="2762280" y="3429000"/>
              <a:chExt cx="740880" cy="2292120"/>
            </a:xfrm>
          </p:grpSpPr>
          <p:sp>
            <p:nvSpPr>
              <p:cNvPr id="558" name="Freeform 36"/>
              <p:cNvSpPr/>
              <p:nvPr/>
            </p:nvSpPr>
            <p:spPr>
              <a:xfrm>
                <a:off x="2762280" y="3429000"/>
                <a:ext cx="740880" cy="1952280"/>
              </a:xfrm>
              <a:custGeom>
                <a:avLst/>
                <a:gdLst>
                  <a:gd name="textAreaLeft" fmla="*/ 0 w 740880"/>
                  <a:gd name="textAreaRight" fmla="*/ 741240 w 740880"/>
                  <a:gd name="textAreaTop" fmla="*/ 0 h 1952280"/>
                  <a:gd name="textAreaBottom" fmla="*/ 1952640 h 1952280"/>
                </a:gdLst>
                <a:ahLst/>
                <a:rect l="textAreaLeft" t="textAreaTop" r="textAreaRight" b="textAreaBottom"/>
                <a:pathLst>
                  <a:path w="467" h="1230">
                    <a:moveTo>
                      <a:pt x="410" y="1194"/>
                    </a:moveTo>
                    <a:lnTo>
                      <a:pt x="440" y="1155"/>
                    </a:lnTo>
                    <a:lnTo>
                      <a:pt x="447" y="1121"/>
                    </a:lnTo>
                    <a:lnTo>
                      <a:pt x="456" y="1089"/>
                    </a:lnTo>
                    <a:lnTo>
                      <a:pt x="464" y="1057"/>
                    </a:lnTo>
                    <a:lnTo>
                      <a:pt x="462" y="1028"/>
                    </a:lnTo>
                    <a:lnTo>
                      <a:pt x="461" y="998"/>
                    </a:lnTo>
                    <a:lnTo>
                      <a:pt x="466" y="956"/>
                    </a:lnTo>
                    <a:lnTo>
                      <a:pt x="462" y="920"/>
                    </a:lnTo>
                    <a:lnTo>
                      <a:pt x="464" y="839"/>
                    </a:lnTo>
                    <a:lnTo>
                      <a:pt x="460" y="802"/>
                    </a:lnTo>
                    <a:lnTo>
                      <a:pt x="459" y="771"/>
                    </a:lnTo>
                    <a:lnTo>
                      <a:pt x="457" y="742"/>
                    </a:lnTo>
                    <a:lnTo>
                      <a:pt x="457" y="714"/>
                    </a:lnTo>
                    <a:lnTo>
                      <a:pt x="456" y="684"/>
                    </a:lnTo>
                    <a:lnTo>
                      <a:pt x="447" y="658"/>
                    </a:lnTo>
                    <a:lnTo>
                      <a:pt x="434" y="623"/>
                    </a:lnTo>
                    <a:lnTo>
                      <a:pt x="433" y="594"/>
                    </a:lnTo>
                    <a:lnTo>
                      <a:pt x="423" y="567"/>
                    </a:lnTo>
                    <a:lnTo>
                      <a:pt x="414" y="541"/>
                    </a:lnTo>
                    <a:lnTo>
                      <a:pt x="404" y="515"/>
                    </a:lnTo>
                    <a:lnTo>
                      <a:pt x="404" y="486"/>
                    </a:lnTo>
                    <a:lnTo>
                      <a:pt x="394" y="461"/>
                    </a:lnTo>
                    <a:lnTo>
                      <a:pt x="382" y="426"/>
                    </a:lnTo>
                    <a:lnTo>
                      <a:pt x="372" y="399"/>
                    </a:lnTo>
                    <a:lnTo>
                      <a:pt x="372" y="369"/>
                    </a:lnTo>
                    <a:lnTo>
                      <a:pt x="362" y="343"/>
                    </a:lnTo>
                    <a:lnTo>
                      <a:pt x="352" y="317"/>
                    </a:lnTo>
                    <a:lnTo>
                      <a:pt x="344" y="292"/>
                    </a:lnTo>
                    <a:lnTo>
                      <a:pt x="334" y="265"/>
                    </a:lnTo>
                    <a:lnTo>
                      <a:pt x="324" y="239"/>
                    </a:lnTo>
                    <a:lnTo>
                      <a:pt x="315" y="212"/>
                    </a:lnTo>
                    <a:lnTo>
                      <a:pt x="305" y="187"/>
                    </a:lnTo>
                    <a:lnTo>
                      <a:pt x="295" y="161"/>
                    </a:lnTo>
                    <a:lnTo>
                      <a:pt x="286" y="134"/>
                    </a:lnTo>
                    <a:lnTo>
                      <a:pt x="277" y="108"/>
                    </a:lnTo>
                    <a:lnTo>
                      <a:pt x="276" y="80"/>
                    </a:lnTo>
                    <a:lnTo>
                      <a:pt x="266" y="53"/>
                    </a:lnTo>
                    <a:lnTo>
                      <a:pt x="256" y="27"/>
                    </a:lnTo>
                    <a:lnTo>
                      <a:pt x="247" y="0"/>
                    </a:lnTo>
                    <a:lnTo>
                      <a:pt x="218" y="2"/>
                    </a:lnTo>
                    <a:lnTo>
                      <a:pt x="218" y="30"/>
                    </a:lnTo>
                    <a:lnTo>
                      <a:pt x="210" y="63"/>
                    </a:lnTo>
                    <a:lnTo>
                      <a:pt x="203" y="95"/>
                    </a:lnTo>
                    <a:lnTo>
                      <a:pt x="186" y="131"/>
                    </a:lnTo>
                    <a:lnTo>
                      <a:pt x="181" y="173"/>
                    </a:lnTo>
                    <a:lnTo>
                      <a:pt x="165" y="208"/>
                    </a:lnTo>
                    <a:lnTo>
                      <a:pt x="156" y="242"/>
                    </a:lnTo>
                    <a:lnTo>
                      <a:pt x="148" y="272"/>
                    </a:lnTo>
                    <a:lnTo>
                      <a:pt x="131" y="309"/>
                    </a:lnTo>
                    <a:lnTo>
                      <a:pt x="124" y="341"/>
                    </a:lnTo>
                    <a:lnTo>
                      <a:pt x="107" y="377"/>
                    </a:lnTo>
                    <a:lnTo>
                      <a:pt x="90" y="413"/>
                    </a:lnTo>
                    <a:lnTo>
                      <a:pt x="82" y="445"/>
                    </a:lnTo>
                    <a:lnTo>
                      <a:pt x="75" y="478"/>
                    </a:lnTo>
                    <a:lnTo>
                      <a:pt x="67" y="511"/>
                    </a:lnTo>
                    <a:lnTo>
                      <a:pt x="58" y="543"/>
                    </a:lnTo>
                    <a:lnTo>
                      <a:pt x="51" y="576"/>
                    </a:lnTo>
                    <a:lnTo>
                      <a:pt x="35" y="611"/>
                    </a:lnTo>
                    <a:lnTo>
                      <a:pt x="26" y="645"/>
                    </a:lnTo>
                    <a:lnTo>
                      <a:pt x="18" y="676"/>
                    </a:lnTo>
                    <a:lnTo>
                      <a:pt x="10" y="709"/>
                    </a:lnTo>
                    <a:lnTo>
                      <a:pt x="3" y="742"/>
                    </a:lnTo>
                    <a:lnTo>
                      <a:pt x="4" y="771"/>
                    </a:lnTo>
                    <a:lnTo>
                      <a:pt x="4" y="800"/>
                    </a:lnTo>
                    <a:lnTo>
                      <a:pt x="5" y="829"/>
                    </a:lnTo>
                    <a:lnTo>
                      <a:pt x="0" y="871"/>
                    </a:lnTo>
                    <a:lnTo>
                      <a:pt x="0" y="900"/>
                    </a:lnTo>
                    <a:lnTo>
                      <a:pt x="1" y="929"/>
                    </a:lnTo>
                    <a:lnTo>
                      <a:pt x="2" y="959"/>
                    </a:lnTo>
                    <a:lnTo>
                      <a:pt x="12" y="984"/>
                    </a:lnTo>
                    <a:lnTo>
                      <a:pt x="12" y="1013"/>
                    </a:lnTo>
                    <a:lnTo>
                      <a:pt x="13" y="1042"/>
                    </a:lnTo>
                    <a:lnTo>
                      <a:pt x="13" y="1073"/>
                    </a:lnTo>
                    <a:lnTo>
                      <a:pt x="23" y="1098"/>
                    </a:lnTo>
                    <a:lnTo>
                      <a:pt x="33" y="1124"/>
                    </a:lnTo>
                    <a:lnTo>
                      <a:pt x="42" y="1150"/>
                    </a:lnTo>
                    <a:lnTo>
                      <a:pt x="52" y="1178"/>
                    </a:lnTo>
                    <a:lnTo>
                      <a:pt x="62" y="1204"/>
                    </a:lnTo>
                    <a:lnTo>
                      <a:pt x="70" y="1229"/>
                    </a:lnTo>
                    <a:lnTo>
                      <a:pt x="62" y="1204"/>
                    </a:lnTo>
                    <a:lnTo>
                      <a:pt x="69" y="1171"/>
                    </a:lnTo>
                    <a:lnTo>
                      <a:pt x="68" y="1140"/>
                    </a:lnTo>
                    <a:lnTo>
                      <a:pt x="67" y="1111"/>
                    </a:lnTo>
                    <a:lnTo>
                      <a:pt x="67" y="1082"/>
                    </a:lnTo>
                    <a:lnTo>
                      <a:pt x="66" y="1053"/>
                    </a:lnTo>
                    <a:lnTo>
                      <a:pt x="66" y="1023"/>
                    </a:lnTo>
                    <a:lnTo>
                      <a:pt x="65" y="994"/>
                    </a:lnTo>
                    <a:lnTo>
                      <a:pt x="73" y="962"/>
                    </a:lnTo>
                    <a:lnTo>
                      <a:pt x="64" y="936"/>
                    </a:lnTo>
                    <a:lnTo>
                      <a:pt x="68" y="895"/>
                    </a:lnTo>
                    <a:lnTo>
                      <a:pt x="75" y="862"/>
                    </a:lnTo>
                    <a:lnTo>
                      <a:pt x="75" y="832"/>
                    </a:lnTo>
                    <a:lnTo>
                      <a:pt x="75" y="803"/>
                    </a:lnTo>
                    <a:lnTo>
                      <a:pt x="82" y="771"/>
                    </a:lnTo>
                    <a:lnTo>
                      <a:pt x="91" y="738"/>
                    </a:lnTo>
                    <a:lnTo>
                      <a:pt x="99" y="706"/>
                    </a:lnTo>
                    <a:lnTo>
                      <a:pt x="97" y="676"/>
                    </a:lnTo>
                    <a:lnTo>
                      <a:pt x="106" y="644"/>
                    </a:lnTo>
                    <a:lnTo>
                      <a:pt x="114" y="612"/>
                    </a:lnTo>
                    <a:lnTo>
                      <a:pt x="121" y="579"/>
                    </a:lnTo>
                    <a:lnTo>
                      <a:pt x="135" y="534"/>
                    </a:lnTo>
                    <a:lnTo>
                      <a:pt x="142" y="501"/>
                    </a:lnTo>
                    <a:lnTo>
                      <a:pt x="159" y="467"/>
                    </a:lnTo>
                    <a:lnTo>
                      <a:pt x="168" y="434"/>
                    </a:lnTo>
                    <a:lnTo>
                      <a:pt x="176" y="401"/>
                    </a:lnTo>
                    <a:lnTo>
                      <a:pt x="193" y="365"/>
                    </a:lnTo>
                    <a:lnTo>
                      <a:pt x="208" y="331"/>
                    </a:lnTo>
                    <a:lnTo>
                      <a:pt x="229" y="304"/>
                    </a:lnTo>
                    <a:lnTo>
                      <a:pt x="237" y="270"/>
                    </a:lnTo>
                    <a:lnTo>
                      <a:pt x="254" y="294"/>
                    </a:lnTo>
                    <a:lnTo>
                      <a:pt x="264" y="320"/>
                    </a:lnTo>
                    <a:lnTo>
                      <a:pt x="274" y="345"/>
                    </a:lnTo>
                    <a:lnTo>
                      <a:pt x="283" y="372"/>
                    </a:lnTo>
                    <a:lnTo>
                      <a:pt x="293" y="398"/>
                    </a:lnTo>
                    <a:lnTo>
                      <a:pt x="305" y="433"/>
                    </a:lnTo>
                    <a:lnTo>
                      <a:pt x="318" y="468"/>
                    </a:lnTo>
                    <a:lnTo>
                      <a:pt x="328" y="494"/>
                    </a:lnTo>
                    <a:lnTo>
                      <a:pt x="338" y="521"/>
                    </a:lnTo>
                    <a:lnTo>
                      <a:pt x="347" y="546"/>
                    </a:lnTo>
                    <a:lnTo>
                      <a:pt x="356" y="573"/>
                    </a:lnTo>
                    <a:lnTo>
                      <a:pt x="366" y="599"/>
                    </a:lnTo>
                    <a:lnTo>
                      <a:pt x="375" y="626"/>
                    </a:lnTo>
                    <a:lnTo>
                      <a:pt x="385" y="650"/>
                    </a:lnTo>
                    <a:lnTo>
                      <a:pt x="389" y="689"/>
                    </a:lnTo>
                    <a:lnTo>
                      <a:pt x="389" y="719"/>
                    </a:lnTo>
                    <a:lnTo>
                      <a:pt x="399" y="745"/>
                    </a:lnTo>
                    <a:lnTo>
                      <a:pt x="399" y="774"/>
                    </a:lnTo>
                    <a:lnTo>
                      <a:pt x="392" y="807"/>
                    </a:lnTo>
                    <a:lnTo>
                      <a:pt x="393" y="836"/>
                    </a:lnTo>
                    <a:lnTo>
                      <a:pt x="394" y="865"/>
                    </a:lnTo>
                    <a:lnTo>
                      <a:pt x="394" y="894"/>
                    </a:lnTo>
                    <a:lnTo>
                      <a:pt x="396" y="923"/>
                    </a:lnTo>
                    <a:lnTo>
                      <a:pt x="396" y="953"/>
                    </a:lnTo>
                    <a:lnTo>
                      <a:pt x="397" y="981"/>
                    </a:lnTo>
                    <a:lnTo>
                      <a:pt x="398" y="1012"/>
                    </a:lnTo>
                    <a:lnTo>
                      <a:pt x="398" y="1041"/>
                    </a:lnTo>
                    <a:lnTo>
                      <a:pt x="399" y="1071"/>
                    </a:lnTo>
                    <a:lnTo>
                      <a:pt x="399" y="1099"/>
                    </a:lnTo>
                    <a:lnTo>
                      <a:pt x="392" y="1131"/>
                    </a:lnTo>
                    <a:lnTo>
                      <a:pt x="410" y="1194"/>
                    </a:lnTo>
                    <a:lnTo>
                      <a:pt x="410" y="1194"/>
                    </a:lnTo>
                  </a:path>
                </a:pathLst>
              </a:custGeom>
              <a:solidFill>
                <a:schemeClr val="bg1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Freeform 37"/>
              <p:cNvSpPr/>
              <p:nvPr/>
            </p:nvSpPr>
            <p:spPr>
              <a:xfrm>
                <a:off x="2852640" y="3871800"/>
                <a:ext cx="560160" cy="1782360"/>
              </a:xfrm>
              <a:custGeom>
                <a:avLst/>
                <a:gdLst>
                  <a:gd name="textAreaLeft" fmla="*/ 0 w 560160"/>
                  <a:gd name="textAreaRight" fmla="*/ 560520 w 560160"/>
                  <a:gd name="textAreaTop" fmla="*/ 0 h 1782360"/>
                  <a:gd name="textAreaBottom" fmla="*/ 1782720 h 1782360"/>
                </a:gdLst>
                <a:ahLst/>
                <a:rect l="textAreaLeft" t="textAreaTop" r="textAreaRight" b="textAreaBottom"/>
                <a:pathLst>
                  <a:path w="353" h="1123">
                    <a:moveTo>
                      <a:pt x="352" y="915"/>
                    </a:moveTo>
                    <a:lnTo>
                      <a:pt x="351" y="954"/>
                    </a:lnTo>
                    <a:lnTo>
                      <a:pt x="333" y="981"/>
                    </a:lnTo>
                    <a:lnTo>
                      <a:pt x="324" y="1015"/>
                    </a:lnTo>
                    <a:lnTo>
                      <a:pt x="316" y="1047"/>
                    </a:lnTo>
                    <a:lnTo>
                      <a:pt x="308" y="1080"/>
                    </a:lnTo>
                    <a:lnTo>
                      <a:pt x="292" y="1116"/>
                    </a:lnTo>
                    <a:lnTo>
                      <a:pt x="266" y="1096"/>
                    </a:lnTo>
                    <a:lnTo>
                      <a:pt x="265" y="1065"/>
                    </a:lnTo>
                    <a:lnTo>
                      <a:pt x="255" y="1040"/>
                    </a:lnTo>
                    <a:lnTo>
                      <a:pt x="263" y="1008"/>
                    </a:lnTo>
                    <a:lnTo>
                      <a:pt x="261" y="978"/>
                    </a:lnTo>
                    <a:lnTo>
                      <a:pt x="270" y="946"/>
                    </a:lnTo>
                    <a:lnTo>
                      <a:pt x="260" y="920"/>
                    </a:lnTo>
                    <a:lnTo>
                      <a:pt x="256" y="881"/>
                    </a:lnTo>
                    <a:lnTo>
                      <a:pt x="255" y="852"/>
                    </a:lnTo>
                    <a:lnTo>
                      <a:pt x="252" y="815"/>
                    </a:lnTo>
                    <a:lnTo>
                      <a:pt x="250" y="785"/>
                    </a:lnTo>
                    <a:lnTo>
                      <a:pt x="241" y="759"/>
                    </a:lnTo>
                    <a:lnTo>
                      <a:pt x="249" y="726"/>
                    </a:lnTo>
                    <a:lnTo>
                      <a:pt x="240" y="700"/>
                    </a:lnTo>
                    <a:lnTo>
                      <a:pt x="238" y="670"/>
                    </a:lnTo>
                    <a:lnTo>
                      <a:pt x="238" y="641"/>
                    </a:lnTo>
                    <a:lnTo>
                      <a:pt x="228" y="615"/>
                    </a:lnTo>
                    <a:lnTo>
                      <a:pt x="228" y="586"/>
                    </a:lnTo>
                    <a:lnTo>
                      <a:pt x="226" y="557"/>
                    </a:lnTo>
                    <a:lnTo>
                      <a:pt x="226" y="527"/>
                    </a:lnTo>
                    <a:lnTo>
                      <a:pt x="217" y="502"/>
                    </a:lnTo>
                    <a:lnTo>
                      <a:pt x="215" y="473"/>
                    </a:lnTo>
                    <a:lnTo>
                      <a:pt x="214" y="443"/>
                    </a:lnTo>
                    <a:lnTo>
                      <a:pt x="214" y="412"/>
                    </a:lnTo>
                    <a:lnTo>
                      <a:pt x="213" y="383"/>
                    </a:lnTo>
                    <a:lnTo>
                      <a:pt x="203" y="358"/>
                    </a:lnTo>
                    <a:lnTo>
                      <a:pt x="194" y="331"/>
                    </a:lnTo>
                    <a:lnTo>
                      <a:pt x="192" y="302"/>
                    </a:lnTo>
                    <a:lnTo>
                      <a:pt x="202" y="328"/>
                    </a:lnTo>
                    <a:lnTo>
                      <a:pt x="195" y="360"/>
                    </a:lnTo>
                    <a:lnTo>
                      <a:pt x="187" y="393"/>
                    </a:lnTo>
                    <a:lnTo>
                      <a:pt x="178" y="426"/>
                    </a:lnTo>
                    <a:lnTo>
                      <a:pt x="171" y="457"/>
                    </a:lnTo>
                    <a:lnTo>
                      <a:pt x="163" y="491"/>
                    </a:lnTo>
                    <a:lnTo>
                      <a:pt x="156" y="524"/>
                    </a:lnTo>
                    <a:lnTo>
                      <a:pt x="139" y="559"/>
                    </a:lnTo>
                    <a:lnTo>
                      <a:pt x="139" y="589"/>
                    </a:lnTo>
                    <a:lnTo>
                      <a:pt x="132" y="621"/>
                    </a:lnTo>
                    <a:lnTo>
                      <a:pt x="124" y="654"/>
                    </a:lnTo>
                    <a:lnTo>
                      <a:pt x="120" y="695"/>
                    </a:lnTo>
                    <a:lnTo>
                      <a:pt x="111" y="728"/>
                    </a:lnTo>
                    <a:lnTo>
                      <a:pt x="112" y="757"/>
                    </a:lnTo>
                    <a:lnTo>
                      <a:pt x="112" y="786"/>
                    </a:lnTo>
                    <a:lnTo>
                      <a:pt x="105" y="818"/>
                    </a:lnTo>
                    <a:lnTo>
                      <a:pt x="105" y="847"/>
                    </a:lnTo>
                    <a:lnTo>
                      <a:pt x="98" y="880"/>
                    </a:lnTo>
                    <a:lnTo>
                      <a:pt x="99" y="909"/>
                    </a:lnTo>
                    <a:lnTo>
                      <a:pt x="108" y="935"/>
                    </a:lnTo>
                    <a:lnTo>
                      <a:pt x="99" y="967"/>
                    </a:lnTo>
                    <a:lnTo>
                      <a:pt x="102" y="998"/>
                    </a:lnTo>
                    <a:lnTo>
                      <a:pt x="102" y="1026"/>
                    </a:lnTo>
                    <a:lnTo>
                      <a:pt x="103" y="1057"/>
                    </a:lnTo>
                    <a:lnTo>
                      <a:pt x="86" y="1092"/>
                    </a:lnTo>
                    <a:lnTo>
                      <a:pt x="86" y="1122"/>
                    </a:lnTo>
                    <a:lnTo>
                      <a:pt x="60" y="1101"/>
                    </a:lnTo>
                    <a:lnTo>
                      <a:pt x="51" y="1075"/>
                    </a:lnTo>
                    <a:lnTo>
                      <a:pt x="41" y="1048"/>
                    </a:lnTo>
                    <a:lnTo>
                      <a:pt x="31" y="1024"/>
                    </a:lnTo>
                    <a:lnTo>
                      <a:pt x="22" y="996"/>
                    </a:lnTo>
                    <a:lnTo>
                      <a:pt x="12" y="970"/>
                    </a:lnTo>
                    <a:lnTo>
                      <a:pt x="3" y="943"/>
                    </a:lnTo>
                    <a:lnTo>
                      <a:pt x="2" y="915"/>
                    </a:lnTo>
                    <a:lnTo>
                      <a:pt x="1" y="886"/>
                    </a:lnTo>
                    <a:lnTo>
                      <a:pt x="0" y="856"/>
                    </a:lnTo>
                    <a:lnTo>
                      <a:pt x="8" y="823"/>
                    </a:lnTo>
                    <a:lnTo>
                      <a:pt x="7" y="795"/>
                    </a:lnTo>
                    <a:lnTo>
                      <a:pt x="7" y="765"/>
                    </a:lnTo>
                    <a:lnTo>
                      <a:pt x="15" y="732"/>
                    </a:lnTo>
                    <a:lnTo>
                      <a:pt x="14" y="703"/>
                    </a:lnTo>
                    <a:lnTo>
                      <a:pt x="13" y="673"/>
                    </a:lnTo>
                    <a:lnTo>
                      <a:pt x="12" y="644"/>
                    </a:lnTo>
                    <a:lnTo>
                      <a:pt x="11" y="615"/>
                    </a:lnTo>
                    <a:lnTo>
                      <a:pt x="9" y="586"/>
                    </a:lnTo>
                    <a:lnTo>
                      <a:pt x="10" y="557"/>
                    </a:lnTo>
                    <a:lnTo>
                      <a:pt x="8" y="527"/>
                    </a:lnTo>
                    <a:lnTo>
                      <a:pt x="17" y="494"/>
                    </a:lnTo>
                    <a:lnTo>
                      <a:pt x="17" y="466"/>
                    </a:lnTo>
                    <a:lnTo>
                      <a:pt x="24" y="434"/>
                    </a:lnTo>
                    <a:lnTo>
                      <a:pt x="32" y="400"/>
                    </a:lnTo>
                    <a:lnTo>
                      <a:pt x="39" y="367"/>
                    </a:lnTo>
                    <a:lnTo>
                      <a:pt x="47" y="336"/>
                    </a:lnTo>
                    <a:lnTo>
                      <a:pt x="67" y="308"/>
                    </a:lnTo>
                    <a:lnTo>
                      <a:pt x="66" y="279"/>
                    </a:lnTo>
                    <a:lnTo>
                      <a:pt x="87" y="253"/>
                    </a:lnTo>
                    <a:lnTo>
                      <a:pt x="85" y="222"/>
                    </a:lnTo>
                    <a:lnTo>
                      <a:pt x="84" y="193"/>
                    </a:lnTo>
                    <a:lnTo>
                      <a:pt x="101" y="157"/>
                    </a:lnTo>
                    <a:lnTo>
                      <a:pt x="118" y="122"/>
                    </a:lnTo>
                    <a:lnTo>
                      <a:pt x="116" y="92"/>
                    </a:lnTo>
                    <a:lnTo>
                      <a:pt x="140" y="75"/>
                    </a:lnTo>
                    <a:lnTo>
                      <a:pt x="139" y="46"/>
                    </a:lnTo>
                    <a:lnTo>
                      <a:pt x="159" y="18"/>
                    </a:lnTo>
                    <a:lnTo>
                      <a:pt x="182" y="0"/>
                    </a:lnTo>
                    <a:lnTo>
                      <a:pt x="200" y="23"/>
                    </a:lnTo>
                    <a:lnTo>
                      <a:pt x="210" y="50"/>
                    </a:lnTo>
                    <a:lnTo>
                      <a:pt x="219" y="75"/>
                    </a:lnTo>
                    <a:lnTo>
                      <a:pt x="228" y="102"/>
                    </a:lnTo>
                    <a:lnTo>
                      <a:pt x="248" y="125"/>
                    </a:lnTo>
                    <a:lnTo>
                      <a:pt x="256" y="149"/>
                    </a:lnTo>
                    <a:lnTo>
                      <a:pt x="266" y="176"/>
                    </a:lnTo>
                    <a:lnTo>
                      <a:pt x="284" y="200"/>
                    </a:lnTo>
                    <a:lnTo>
                      <a:pt x="294" y="225"/>
                    </a:lnTo>
                    <a:lnTo>
                      <a:pt x="303" y="252"/>
                    </a:lnTo>
                    <a:lnTo>
                      <a:pt x="313" y="278"/>
                    </a:lnTo>
                    <a:lnTo>
                      <a:pt x="322" y="305"/>
                    </a:lnTo>
                    <a:lnTo>
                      <a:pt x="324" y="334"/>
                    </a:lnTo>
                    <a:lnTo>
                      <a:pt x="333" y="360"/>
                    </a:lnTo>
                    <a:lnTo>
                      <a:pt x="325" y="392"/>
                    </a:lnTo>
                    <a:lnTo>
                      <a:pt x="325" y="421"/>
                    </a:lnTo>
                    <a:lnTo>
                      <a:pt x="326" y="451"/>
                    </a:lnTo>
                    <a:lnTo>
                      <a:pt x="335" y="477"/>
                    </a:lnTo>
                    <a:lnTo>
                      <a:pt x="337" y="507"/>
                    </a:lnTo>
                    <a:lnTo>
                      <a:pt x="337" y="536"/>
                    </a:lnTo>
                    <a:lnTo>
                      <a:pt x="338" y="566"/>
                    </a:lnTo>
                    <a:lnTo>
                      <a:pt x="338" y="594"/>
                    </a:lnTo>
                    <a:lnTo>
                      <a:pt x="340" y="624"/>
                    </a:lnTo>
                    <a:lnTo>
                      <a:pt x="332" y="656"/>
                    </a:lnTo>
                    <a:lnTo>
                      <a:pt x="332" y="686"/>
                    </a:lnTo>
                    <a:lnTo>
                      <a:pt x="333" y="714"/>
                    </a:lnTo>
                    <a:lnTo>
                      <a:pt x="334" y="744"/>
                    </a:lnTo>
                    <a:lnTo>
                      <a:pt x="335" y="773"/>
                    </a:lnTo>
                    <a:lnTo>
                      <a:pt x="335" y="803"/>
                    </a:lnTo>
                    <a:lnTo>
                      <a:pt x="345" y="830"/>
                    </a:lnTo>
                    <a:lnTo>
                      <a:pt x="346" y="859"/>
                    </a:lnTo>
                    <a:lnTo>
                      <a:pt x="352" y="915"/>
                    </a:lnTo>
                    <a:lnTo>
                      <a:pt x="352" y="915"/>
                    </a:lnTo>
                  </a:path>
                </a:pathLst>
              </a:custGeom>
              <a:solidFill>
                <a:srgbClr val="dddddd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Freeform 38"/>
              <p:cNvSpPr/>
              <p:nvPr/>
            </p:nvSpPr>
            <p:spPr>
              <a:xfrm>
                <a:off x="3008160" y="4430880"/>
                <a:ext cx="266400" cy="129024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290240"/>
                  <a:gd name="textAreaBottom" fmla="*/ 1290600 h 1290240"/>
                </a:gdLst>
                <a:ahLst/>
                <a:rect l="textAreaLeft" t="textAreaTop" r="textAreaRight" b="textAreaBottom"/>
                <a:pathLst>
                  <a:path w="168" h="813">
                    <a:moveTo>
                      <a:pt x="155" y="772"/>
                    </a:moveTo>
                    <a:lnTo>
                      <a:pt x="115" y="792"/>
                    </a:lnTo>
                    <a:lnTo>
                      <a:pt x="93" y="810"/>
                    </a:lnTo>
                    <a:lnTo>
                      <a:pt x="63" y="812"/>
                    </a:lnTo>
                    <a:lnTo>
                      <a:pt x="30" y="804"/>
                    </a:lnTo>
                    <a:lnTo>
                      <a:pt x="12" y="780"/>
                    </a:lnTo>
                    <a:lnTo>
                      <a:pt x="2" y="754"/>
                    </a:lnTo>
                    <a:lnTo>
                      <a:pt x="2" y="725"/>
                    </a:lnTo>
                    <a:lnTo>
                      <a:pt x="22" y="697"/>
                    </a:lnTo>
                    <a:lnTo>
                      <a:pt x="13" y="672"/>
                    </a:lnTo>
                    <a:lnTo>
                      <a:pt x="4" y="646"/>
                    </a:lnTo>
                    <a:lnTo>
                      <a:pt x="2" y="616"/>
                    </a:lnTo>
                    <a:lnTo>
                      <a:pt x="1" y="587"/>
                    </a:lnTo>
                    <a:lnTo>
                      <a:pt x="10" y="555"/>
                    </a:lnTo>
                    <a:lnTo>
                      <a:pt x="0" y="528"/>
                    </a:lnTo>
                    <a:lnTo>
                      <a:pt x="7" y="495"/>
                    </a:lnTo>
                    <a:lnTo>
                      <a:pt x="15" y="463"/>
                    </a:lnTo>
                    <a:lnTo>
                      <a:pt x="14" y="434"/>
                    </a:lnTo>
                    <a:lnTo>
                      <a:pt x="23" y="402"/>
                    </a:lnTo>
                    <a:lnTo>
                      <a:pt x="22" y="372"/>
                    </a:lnTo>
                    <a:lnTo>
                      <a:pt x="30" y="339"/>
                    </a:lnTo>
                    <a:lnTo>
                      <a:pt x="38" y="307"/>
                    </a:lnTo>
                    <a:lnTo>
                      <a:pt x="37" y="279"/>
                    </a:lnTo>
                    <a:lnTo>
                      <a:pt x="45" y="245"/>
                    </a:lnTo>
                    <a:lnTo>
                      <a:pt x="43" y="215"/>
                    </a:lnTo>
                    <a:lnTo>
                      <a:pt x="42" y="186"/>
                    </a:lnTo>
                    <a:lnTo>
                      <a:pt x="51" y="154"/>
                    </a:lnTo>
                    <a:lnTo>
                      <a:pt x="59" y="122"/>
                    </a:lnTo>
                    <a:lnTo>
                      <a:pt x="67" y="89"/>
                    </a:lnTo>
                    <a:lnTo>
                      <a:pt x="75" y="57"/>
                    </a:lnTo>
                    <a:lnTo>
                      <a:pt x="94" y="30"/>
                    </a:lnTo>
                    <a:lnTo>
                      <a:pt x="94" y="0"/>
                    </a:lnTo>
                    <a:lnTo>
                      <a:pt x="112" y="23"/>
                    </a:lnTo>
                    <a:lnTo>
                      <a:pt x="121" y="49"/>
                    </a:lnTo>
                    <a:lnTo>
                      <a:pt x="123" y="78"/>
                    </a:lnTo>
                    <a:lnTo>
                      <a:pt x="122" y="108"/>
                    </a:lnTo>
                    <a:lnTo>
                      <a:pt x="115" y="142"/>
                    </a:lnTo>
                    <a:lnTo>
                      <a:pt x="115" y="171"/>
                    </a:lnTo>
                    <a:lnTo>
                      <a:pt x="125" y="196"/>
                    </a:lnTo>
                    <a:lnTo>
                      <a:pt x="126" y="226"/>
                    </a:lnTo>
                    <a:lnTo>
                      <a:pt x="127" y="255"/>
                    </a:lnTo>
                    <a:lnTo>
                      <a:pt x="128" y="283"/>
                    </a:lnTo>
                    <a:lnTo>
                      <a:pt x="138" y="310"/>
                    </a:lnTo>
                    <a:lnTo>
                      <a:pt x="139" y="339"/>
                    </a:lnTo>
                    <a:lnTo>
                      <a:pt x="148" y="366"/>
                    </a:lnTo>
                    <a:lnTo>
                      <a:pt x="148" y="396"/>
                    </a:lnTo>
                    <a:lnTo>
                      <a:pt x="150" y="425"/>
                    </a:lnTo>
                    <a:lnTo>
                      <a:pt x="151" y="454"/>
                    </a:lnTo>
                    <a:lnTo>
                      <a:pt x="160" y="480"/>
                    </a:lnTo>
                    <a:lnTo>
                      <a:pt x="160" y="509"/>
                    </a:lnTo>
                    <a:lnTo>
                      <a:pt x="161" y="538"/>
                    </a:lnTo>
                    <a:lnTo>
                      <a:pt x="162" y="568"/>
                    </a:lnTo>
                    <a:lnTo>
                      <a:pt x="163" y="598"/>
                    </a:lnTo>
                    <a:lnTo>
                      <a:pt x="163" y="626"/>
                    </a:lnTo>
                    <a:lnTo>
                      <a:pt x="165" y="656"/>
                    </a:lnTo>
                    <a:lnTo>
                      <a:pt x="165" y="685"/>
                    </a:lnTo>
                    <a:lnTo>
                      <a:pt x="167" y="714"/>
                    </a:lnTo>
                    <a:lnTo>
                      <a:pt x="155" y="772"/>
                    </a:lnTo>
                    <a:lnTo>
                      <a:pt x="155" y="772"/>
                    </a:lnTo>
                  </a:path>
                </a:pathLst>
              </a:custGeom>
              <a:solidFill>
                <a:srgbClr val="ffcccc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1" name="Freeform 40"/>
            <p:cNvSpPr/>
            <p:nvPr/>
          </p:nvSpPr>
          <p:spPr>
            <a:xfrm>
              <a:off x="1984320" y="3994200"/>
              <a:ext cx="759960" cy="1887120"/>
            </a:xfrm>
            <a:custGeom>
              <a:avLst/>
              <a:gdLst>
                <a:gd name="textAreaLeft" fmla="*/ 0 w 759960"/>
                <a:gd name="textAreaRight" fmla="*/ 760320 w 759960"/>
                <a:gd name="textAreaTop" fmla="*/ 0 h 1887120"/>
                <a:gd name="textAreaBottom" fmla="*/ 1887480 h 1887120"/>
              </a:gdLst>
              <a:ahLst/>
              <a:rect l="textAreaLeft" t="textAreaTop" r="textAreaRight" b="textAreaBottom"/>
              <a:pathLst>
                <a:path w="479" h="1189">
                  <a:moveTo>
                    <a:pt x="478" y="664"/>
                  </a:moveTo>
                  <a:lnTo>
                    <a:pt x="458" y="611"/>
                  </a:lnTo>
                  <a:lnTo>
                    <a:pt x="451" y="573"/>
                  </a:lnTo>
                  <a:lnTo>
                    <a:pt x="447" y="535"/>
                  </a:lnTo>
                  <a:lnTo>
                    <a:pt x="442" y="497"/>
                  </a:lnTo>
                  <a:lnTo>
                    <a:pt x="427" y="465"/>
                  </a:lnTo>
                  <a:lnTo>
                    <a:pt x="420" y="428"/>
                  </a:lnTo>
                  <a:lnTo>
                    <a:pt x="417" y="390"/>
                  </a:lnTo>
                  <a:lnTo>
                    <a:pt x="400" y="359"/>
                  </a:lnTo>
                  <a:lnTo>
                    <a:pt x="417" y="323"/>
                  </a:lnTo>
                  <a:lnTo>
                    <a:pt x="398" y="291"/>
                  </a:lnTo>
                  <a:lnTo>
                    <a:pt x="396" y="253"/>
                  </a:lnTo>
                  <a:lnTo>
                    <a:pt x="390" y="216"/>
                  </a:lnTo>
                  <a:lnTo>
                    <a:pt x="375" y="184"/>
                  </a:lnTo>
                  <a:lnTo>
                    <a:pt x="369" y="146"/>
                  </a:lnTo>
                  <a:lnTo>
                    <a:pt x="354" y="115"/>
                  </a:lnTo>
                  <a:lnTo>
                    <a:pt x="349" y="77"/>
                  </a:lnTo>
                  <a:lnTo>
                    <a:pt x="344" y="39"/>
                  </a:lnTo>
                  <a:lnTo>
                    <a:pt x="339" y="0"/>
                  </a:lnTo>
                  <a:lnTo>
                    <a:pt x="298" y="14"/>
                  </a:lnTo>
                  <a:lnTo>
                    <a:pt x="272" y="41"/>
                  </a:lnTo>
                  <a:lnTo>
                    <a:pt x="277" y="79"/>
                  </a:lnTo>
                  <a:lnTo>
                    <a:pt x="262" y="115"/>
                  </a:lnTo>
                  <a:lnTo>
                    <a:pt x="246" y="152"/>
                  </a:lnTo>
                  <a:lnTo>
                    <a:pt x="252" y="191"/>
                  </a:lnTo>
                  <a:lnTo>
                    <a:pt x="254" y="242"/>
                  </a:lnTo>
                  <a:lnTo>
                    <a:pt x="230" y="270"/>
                  </a:lnTo>
                  <a:lnTo>
                    <a:pt x="245" y="301"/>
                  </a:lnTo>
                  <a:lnTo>
                    <a:pt x="231" y="339"/>
                  </a:lnTo>
                  <a:lnTo>
                    <a:pt x="234" y="376"/>
                  </a:lnTo>
                  <a:lnTo>
                    <a:pt x="239" y="414"/>
                  </a:lnTo>
                  <a:lnTo>
                    <a:pt x="225" y="450"/>
                  </a:lnTo>
                  <a:lnTo>
                    <a:pt x="226" y="503"/>
                  </a:lnTo>
                  <a:lnTo>
                    <a:pt x="219" y="547"/>
                  </a:lnTo>
                  <a:lnTo>
                    <a:pt x="214" y="592"/>
                  </a:lnTo>
                  <a:lnTo>
                    <a:pt x="208" y="636"/>
                  </a:lnTo>
                  <a:lnTo>
                    <a:pt x="213" y="675"/>
                  </a:lnTo>
                  <a:lnTo>
                    <a:pt x="206" y="719"/>
                  </a:lnTo>
                  <a:lnTo>
                    <a:pt x="191" y="754"/>
                  </a:lnTo>
                  <a:lnTo>
                    <a:pt x="175" y="792"/>
                  </a:lnTo>
                  <a:lnTo>
                    <a:pt x="151" y="819"/>
                  </a:lnTo>
                  <a:lnTo>
                    <a:pt x="136" y="857"/>
                  </a:lnTo>
                  <a:lnTo>
                    <a:pt x="141" y="895"/>
                  </a:lnTo>
                  <a:lnTo>
                    <a:pt x="116" y="922"/>
                  </a:lnTo>
                  <a:lnTo>
                    <a:pt x="100" y="958"/>
                  </a:lnTo>
                  <a:lnTo>
                    <a:pt x="94" y="1003"/>
                  </a:lnTo>
                  <a:lnTo>
                    <a:pt x="78" y="1040"/>
                  </a:lnTo>
                  <a:lnTo>
                    <a:pt x="85" y="1078"/>
                  </a:lnTo>
                  <a:lnTo>
                    <a:pt x="69" y="1113"/>
                  </a:lnTo>
                  <a:lnTo>
                    <a:pt x="44" y="1142"/>
                  </a:lnTo>
                  <a:lnTo>
                    <a:pt x="17" y="1170"/>
                  </a:lnTo>
                  <a:lnTo>
                    <a:pt x="0" y="1188"/>
                  </a:lnTo>
                </a:path>
              </a:pathLst>
            </a:custGeom>
            <a:noFill/>
            <a:ln cap="rnd" w="762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41"/>
            <p:cNvSpPr/>
            <p:nvPr/>
          </p:nvSpPr>
          <p:spPr>
            <a:xfrm>
              <a:off x="2887560" y="5921280"/>
              <a:ext cx="1172880" cy="461520"/>
            </a:xfrm>
            <a:custGeom>
              <a:avLst/>
              <a:gdLst>
                <a:gd name="textAreaLeft" fmla="*/ 0 w 1172880"/>
                <a:gd name="textAreaRight" fmla="*/ 1173240 w 117288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739" h="291">
                  <a:moveTo>
                    <a:pt x="738" y="0"/>
                  </a:moveTo>
                  <a:lnTo>
                    <a:pt x="695" y="11"/>
                  </a:lnTo>
                  <a:lnTo>
                    <a:pt x="667" y="11"/>
                  </a:lnTo>
                  <a:lnTo>
                    <a:pt x="630" y="20"/>
                  </a:lnTo>
                  <a:lnTo>
                    <a:pt x="603" y="39"/>
                  </a:lnTo>
                  <a:lnTo>
                    <a:pt x="575" y="49"/>
                  </a:lnTo>
                  <a:lnTo>
                    <a:pt x="518" y="58"/>
                  </a:lnTo>
                  <a:lnTo>
                    <a:pt x="482" y="67"/>
                  </a:lnTo>
                  <a:lnTo>
                    <a:pt x="454" y="76"/>
                  </a:lnTo>
                  <a:lnTo>
                    <a:pt x="380" y="95"/>
                  </a:lnTo>
                  <a:lnTo>
                    <a:pt x="343" y="123"/>
                  </a:lnTo>
                  <a:lnTo>
                    <a:pt x="306" y="142"/>
                  </a:lnTo>
                  <a:lnTo>
                    <a:pt x="269" y="160"/>
                  </a:lnTo>
                  <a:lnTo>
                    <a:pt x="231" y="178"/>
                  </a:lnTo>
                  <a:lnTo>
                    <a:pt x="195" y="197"/>
                  </a:lnTo>
                  <a:lnTo>
                    <a:pt x="167" y="216"/>
                  </a:lnTo>
                  <a:lnTo>
                    <a:pt x="139" y="225"/>
                  </a:lnTo>
                  <a:lnTo>
                    <a:pt x="111" y="244"/>
                  </a:lnTo>
                  <a:lnTo>
                    <a:pt x="84" y="253"/>
                  </a:lnTo>
                  <a:lnTo>
                    <a:pt x="56" y="272"/>
                  </a:lnTo>
                  <a:lnTo>
                    <a:pt x="28" y="281"/>
                  </a:lnTo>
                  <a:lnTo>
                    <a:pt x="0" y="290"/>
                  </a:lnTo>
                  <a:lnTo>
                    <a:pt x="4" y="287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42"/>
            <p:cNvSpPr/>
            <p:nvPr/>
          </p:nvSpPr>
          <p:spPr>
            <a:xfrm>
              <a:off x="2438280" y="4834080"/>
              <a:ext cx="402840" cy="158076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254" h="996">
                  <a:moveTo>
                    <a:pt x="253" y="995"/>
                  </a:moveTo>
                  <a:lnTo>
                    <a:pt x="235" y="921"/>
                  </a:lnTo>
                  <a:lnTo>
                    <a:pt x="210" y="877"/>
                  </a:lnTo>
                  <a:lnTo>
                    <a:pt x="185" y="834"/>
                  </a:lnTo>
                  <a:lnTo>
                    <a:pt x="155" y="778"/>
                  </a:lnTo>
                  <a:lnTo>
                    <a:pt x="132" y="736"/>
                  </a:lnTo>
                  <a:lnTo>
                    <a:pt x="139" y="658"/>
                  </a:lnTo>
                  <a:lnTo>
                    <a:pt x="142" y="598"/>
                  </a:lnTo>
                  <a:lnTo>
                    <a:pt x="132" y="546"/>
                  </a:lnTo>
                  <a:lnTo>
                    <a:pt x="120" y="494"/>
                  </a:lnTo>
                  <a:lnTo>
                    <a:pt x="109" y="445"/>
                  </a:lnTo>
                  <a:lnTo>
                    <a:pt x="85" y="403"/>
                  </a:lnTo>
                  <a:lnTo>
                    <a:pt x="77" y="354"/>
                  </a:lnTo>
                  <a:lnTo>
                    <a:pt x="65" y="303"/>
                  </a:lnTo>
                  <a:lnTo>
                    <a:pt x="40" y="260"/>
                  </a:lnTo>
                  <a:lnTo>
                    <a:pt x="30" y="211"/>
                  </a:lnTo>
                  <a:lnTo>
                    <a:pt x="20" y="158"/>
                  </a:lnTo>
                  <a:lnTo>
                    <a:pt x="10" y="109"/>
                  </a:lnTo>
                  <a:lnTo>
                    <a:pt x="10" y="49"/>
                  </a:lnTo>
                  <a:lnTo>
                    <a:pt x="0" y="0"/>
                  </a:lnTo>
                  <a:lnTo>
                    <a:pt x="30" y="45"/>
                  </a:lnTo>
                </a:path>
              </a:pathLst>
            </a:custGeom>
            <a:solidFill>
              <a:schemeClr val="accent1"/>
            </a:solidFill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43"/>
            <p:cNvSpPr/>
            <p:nvPr/>
          </p:nvSpPr>
          <p:spPr>
            <a:xfrm>
              <a:off x="2201760" y="5867280"/>
              <a:ext cx="456840" cy="8395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288" h="529">
                  <a:moveTo>
                    <a:pt x="287" y="2"/>
                  </a:moveTo>
                  <a:lnTo>
                    <a:pt x="204" y="0"/>
                  </a:lnTo>
                  <a:lnTo>
                    <a:pt x="130" y="16"/>
                  </a:lnTo>
                  <a:lnTo>
                    <a:pt x="93" y="32"/>
                  </a:lnTo>
                  <a:lnTo>
                    <a:pt x="56" y="48"/>
                  </a:lnTo>
                  <a:lnTo>
                    <a:pt x="28" y="63"/>
                  </a:lnTo>
                  <a:lnTo>
                    <a:pt x="0" y="72"/>
                  </a:lnTo>
                  <a:lnTo>
                    <a:pt x="0" y="94"/>
                  </a:lnTo>
                  <a:lnTo>
                    <a:pt x="37" y="118"/>
                  </a:lnTo>
                  <a:lnTo>
                    <a:pt x="74" y="142"/>
                  </a:lnTo>
                  <a:lnTo>
                    <a:pt x="102" y="174"/>
                  </a:lnTo>
                  <a:lnTo>
                    <a:pt x="111" y="197"/>
                  </a:lnTo>
                  <a:lnTo>
                    <a:pt x="120" y="221"/>
                  </a:lnTo>
                  <a:lnTo>
                    <a:pt x="139" y="244"/>
                  </a:lnTo>
                  <a:lnTo>
                    <a:pt x="148" y="268"/>
                  </a:lnTo>
                  <a:lnTo>
                    <a:pt x="148" y="291"/>
                  </a:lnTo>
                  <a:lnTo>
                    <a:pt x="148" y="315"/>
                  </a:lnTo>
                  <a:lnTo>
                    <a:pt x="148" y="339"/>
                  </a:lnTo>
                  <a:lnTo>
                    <a:pt x="148" y="363"/>
                  </a:lnTo>
                  <a:lnTo>
                    <a:pt x="148" y="386"/>
                  </a:lnTo>
                  <a:lnTo>
                    <a:pt x="148" y="410"/>
                  </a:lnTo>
                  <a:lnTo>
                    <a:pt x="148" y="433"/>
                  </a:lnTo>
                  <a:lnTo>
                    <a:pt x="148" y="456"/>
                  </a:lnTo>
                  <a:lnTo>
                    <a:pt x="148" y="480"/>
                  </a:lnTo>
                  <a:lnTo>
                    <a:pt x="148" y="504"/>
                  </a:lnTo>
                  <a:lnTo>
                    <a:pt x="148" y="528"/>
                  </a:lnTo>
                  <a:lnTo>
                    <a:pt x="165" y="522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5" name="Group 50"/>
            <p:cNvGrpSpPr/>
            <p:nvPr/>
          </p:nvGrpSpPr>
          <p:grpSpPr>
            <a:xfrm>
              <a:off x="3652920" y="5518080"/>
              <a:ext cx="2920680" cy="620280"/>
              <a:chOff x="3652920" y="5518080"/>
              <a:chExt cx="2920680" cy="620280"/>
            </a:xfrm>
          </p:grpSpPr>
          <p:sp>
            <p:nvSpPr>
              <p:cNvPr id="566" name="Freeform 44"/>
              <p:cNvSpPr/>
              <p:nvPr/>
            </p:nvSpPr>
            <p:spPr>
              <a:xfrm>
                <a:off x="5567400" y="5597640"/>
                <a:ext cx="1006200" cy="394920"/>
              </a:xfrm>
              <a:custGeom>
                <a:avLst/>
                <a:gdLst>
                  <a:gd name="textAreaLeft" fmla="*/ 0 w 1006200"/>
                  <a:gd name="textAreaRight" fmla="*/ 1006560 w 100620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634" h="249">
                    <a:moveTo>
                      <a:pt x="633" y="245"/>
                    </a:moveTo>
                    <a:lnTo>
                      <a:pt x="594" y="248"/>
                    </a:lnTo>
                    <a:lnTo>
                      <a:pt x="567" y="248"/>
                    </a:lnTo>
                    <a:lnTo>
                      <a:pt x="511" y="238"/>
                    </a:lnTo>
                    <a:lnTo>
                      <a:pt x="492" y="210"/>
                    </a:lnTo>
                    <a:lnTo>
                      <a:pt x="456" y="191"/>
                    </a:lnTo>
                    <a:lnTo>
                      <a:pt x="428" y="173"/>
                    </a:lnTo>
                    <a:lnTo>
                      <a:pt x="400" y="154"/>
                    </a:lnTo>
                    <a:lnTo>
                      <a:pt x="363" y="136"/>
                    </a:lnTo>
                    <a:lnTo>
                      <a:pt x="288" y="117"/>
                    </a:lnTo>
                    <a:lnTo>
                      <a:pt x="261" y="108"/>
                    </a:lnTo>
                    <a:lnTo>
                      <a:pt x="223" y="89"/>
                    </a:lnTo>
                    <a:lnTo>
                      <a:pt x="149" y="80"/>
                    </a:lnTo>
                    <a:lnTo>
                      <a:pt x="112" y="61"/>
                    </a:lnTo>
                    <a:lnTo>
                      <a:pt x="84" y="52"/>
                    </a:lnTo>
                    <a:lnTo>
                      <a:pt x="57" y="43"/>
                    </a:lnTo>
                    <a:lnTo>
                      <a:pt x="29" y="34"/>
                    </a:lnTo>
                    <a:lnTo>
                      <a:pt x="0" y="24"/>
                    </a:lnTo>
                    <a:lnTo>
                      <a:pt x="21" y="0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Freeform 45"/>
              <p:cNvSpPr/>
              <p:nvPr/>
            </p:nvSpPr>
            <p:spPr>
              <a:xfrm>
                <a:off x="5586480" y="5533920"/>
                <a:ext cx="947520" cy="499680"/>
              </a:xfrm>
              <a:custGeom>
                <a:avLst/>
                <a:gdLst>
                  <a:gd name="textAreaLeft" fmla="*/ 0 w 947520"/>
                  <a:gd name="textAreaRight" fmla="*/ 947880 w 9475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597" h="315">
                    <a:moveTo>
                      <a:pt x="0" y="314"/>
                    </a:moveTo>
                    <a:lnTo>
                      <a:pt x="24" y="283"/>
                    </a:lnTo>
                    <a:lnTo>
                      <a:pt x="43" y="262"/>
                    </a:lnTo>
                    <a:lnTo>
                      <a:pt x="88" y="228"/>
                    </a:lnTo>
                    <a:lnTo>
                      <a:pt x="121" y="234"/>
                    </a:lnTo>
                    <a:lnTo>
                      <a:pt x="159" y="220"/>
                    </a:lnTo>
                    <a:lnTo>
                      <a:pt x="193" y="212"/>
                    </a:lnTo>
                    <a:lnTo>
                      <a:pt x="226" y="204"/>
                    </a:lnTo>
                    <a:lnTo>
                      <a:pt x="263" y="189"/>
                    </a:lnTo>
                    <a:lnTo>
                      <a:pt x="328" y="148"/>
                    </a:lnTo>
                    <a:lnTo>
                      <a:pt x="353" y="134"/>
                    </a:lnTo>
                    <a:lnTo>
                      <a:pt x="392" y="120"/>
                    </a:lnTo>
                    <a:lnTo>
                      <a:pt x="450" y="72"/>
                    </a:lnTo>
                    <a:lnTo>
                      <a:pt x="489" y="57"/>
                    </a:lnTo>
                    <a:lnTo>
                      <a:pt x="515" y="43"/>
                    </a:lnTo>
                    <a:lnTo>
                      <a:pt x="539" y="29"/>
                    </a:lnTo>
                    <a:lnTo>
                      <a:pt x="566" y="15"/>
                    </a:lnTo>
                    <a:lnTo>
                      <a:pt x="592" y="0"/>
                    </a:lnTo>
                    <a:lnTo>
                      <a:pt x="596" y="32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Freeform 46"/>
              <p:cNvSpPr/>
              <p:nvPr/>
            </p:nvSpPr>
            <p:spPr>
              <a:xfrm>
                <a:off x="3652920" y="5592600"/>
                <a:ext cx="2207880" cy="531360"/>
              </a:xfrm>
              <a:custGeom>
                <a:avLst/>
                <a:gdLst>
                  <a:gd name="textAreaLeft" fmla="*/ 0 w 2207880"/>
                  <a:gd name="textAreaRight" fmla="*/ 2208240 w 2207880"/>
                  <a:gd name="textAreaTop" fmla="*/ 0 h 531360"/>
                  <a:gd name="textAreaBottom" fmla="*/ 531720 h 531360"/>
                </a:gdLst>
                <a:ahLst/>
                <a:rect l="textAreaLeft" t="textAreaTop" r="textAreaRight" b="textAreaBottom"/>
                <a:pathLst>
                  <a:path w="1391" h="335">
                    <a:moveTo>
                      <a:pt x="1390" y="289"/>
                    </a:moveTo>
                    <a:lnTo>
                      <a:pt x="1308" y="277"/>
                    </a:lnTo>
                    <a:lnTo>
                      <a:pt x="1272" y="250"/>
                    </a:lnTo>
                    <a:lnTo>
                      <a:pt x="1234" y="222"/>
                    </a:lnTo>
                    <a:lnTo>
                      <a:pt x="1206" y="213"/>
                    </a:lnTo>
                    <a:lnTo>
                      <a:pt x="1178" y="194"/>
                    </a:lnTo>
                    <a:lnTo>
                      <a:pt x="1151" y="175"/>
                    </a:lnTo>
                    <a:lnTo>
                      <a:pt x="1123" y="157"/>
                    </a:lnTo>
                    <a:lnTo>
                      <a:pt x="1058" y="139"/>
                    </a:lnTo>
                    <a:lnTo>
                      <a:pt x="1030" y="130"/>
                    </a:lnTo>
                    <a:lnTo>
                      <a:pt x="993" y="111"/>
                    </a:lnTo>
                    <a:lnTo>
                      <a:pt x="956" y="92"/>
                    </a:lnTo>
                    <a:lnTo>
                      <a:pt x="919" y="64"/>
                    </a:lnTo>
                    <a:lnTo>
                      <a:pt x="891" y="46"/>
                    </a:lnTo>
                    <a:lnTo>
                      <a:pt x="863" y="28"/>
                    </a:lnTo>
                    <a:lnTo>
                      <a:pt x="835" y="9"/>
                    </a:lnTo>
                    <a:lnTo>
                      <a:pt x="807" y="0"/>
                    </a:lnTo>
                    <a:lnTo>
                      <a:pt x="779" y="0"/>
                    </a:lnTo>
                    <a:lnTo>
                      <a:pt x="752" y="18"/>
                    </a:lnTo>
                    <a:lnTo>
                      <a:pt x="743" y="46"/>
                    </a:lnTo>
                    <a:lnTo>
                      <a:pt x="715" y="74"/>
                    </a:lnTo>
                    <a:lnTo>
                      <a:pt x="696" y="102"/>
                    </a:lnTo>
                    <a:lnTo>
                      <a:pt x="677" y="130"/>
                    </a:lnTo>
                    <a:lnTo>
                      <a:pt x="658" y="157"/>
                    </a:lnTo>
                    <a:lnTo>
                      <a:pt x="641" y="185"/>
                    </a:lnTo>
                    <a:lnTo>
                      <a:pt x="612" y="204"/>
                    </a:lnTo>
                    <a:lnTo>
                      <a:pt x="594" y="232"/>
                    </a:lnTo>
                    <a:lnTo>
                      <a:pt x="566" y="241"/>
                    </a:lnTo>
                    <a:lnTo>
                      <a:pt x="538" y="268"/>
                    </a:lnTo>
                    <a:lnTo>
                      <a:pt x="501" y="296"/>
                    </a:lnTo>
                    <a:lnTo>
                      <a:pt x="473" y="315"/>
                    </a:lnTo>
                    <a:lnTo>
                      <a:pt x="445" y="324"/>
                    </a:lnTo>
                    <a:lnTo>
                      <a:pt x="418" y="334"/>
                    </a:lnTo>
                    <a:lnTo>
                      <a:pt x="390" y="324"/>
                    </a:lnTo>
                    <a:lnTo>
                      <a:pt x="362" y="296"/>
                    </a:lnTo>
                    <a:lnTo>
                      <a:pt x="334" y="277"/>
                    </a:lnTo>
                    <a:lnTo>
                      <a:pt x="306" y="260"/>
                    </a:lnTo>
                    <a:lnTo>
                      <a:pt x="278" y="241"/>
                    </a:lnTo>
                    <a:lnTo>
                      <a:pt x="250" y="232"/>
                    </a:lnTo>
                    <a:lnTo>
                      <a:pt x="176" y="204"/>
                    </a:lnTo>
                    <a:lnTo>
                      <a:pt x="148" y="185"/>
                    </a:lnTo>
                    <a:lnTo>
                      <a:pt x="129" y="157"/>
                    </a:lnTo>
                    <a:lnTo>
                      <a:pt x="93" y="130"/>
                    </a:lnTo>
                    <a:lnTo>
                      <a:pt x="37" y="74"/>
                    </a:lnTo>
                    <a:lnTo>
                      <a:pt x="9" y="46"/>
                    </a:lnTo>
                    <a:lnTo>
                      <a:pt x="0" y="18"/>
                    </a:lnTo>
                    <a:lnTo>
                      <a:pt x="2" y="3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Freeform 47"/>
              <p:cNvSpPr/>
              <p:nvPr/>
            </p:nvSpPr>
            <p:spPr>
              <a:xfrm>
                <a:off x="3830760" y="5532480"/>
                <a:ext cx="2222280" cy="547200"/>
              </a:xfrm>
              <a:custGeom>
                <a:avLst/>
                <a:gdLst>
                  <a:gd name="textAreaLeft" fmla="*/ 0 w 2222280"/>
                  <a:gd name="textAreaRight" fmla="*/ 2222640 w 2222280"/>
                  <a:gd name="textAreaTop" fmla="*/ 0 h 547200"/>
                  <a:gd name="textAreaBottom" fmla="*/ 547560 h 547200"/>
                </a:gdLst>
                <a:ahLst/>
                <a:rect l="textAreaLeft" t="textAreaTop" r="textAreaRight" b="textAreaBottom"/>
                <a:pathLst>
                  <a:path w="1400" h="345">
                    <a:moveTo>
                      <a:pt x="1399" y="0"/>
                    </a:moveTo>
                    <a:lnTo>
                      <a:pt x="1353" y="19"/>
                    </a:lnTo>
                    <a:lnTo>
                      <a:pt x="1316" y="28"/>
                    </a:lnTo>
                    <a:lnTo>
                      <a:pt x="1278" y="56"/>
                    </a:lnTo>
                    <a:lnTo>
                      <a:pt x="1251" y="66"/>
                    </a:lnTo>
                    <a:lnTo>
                      <a:pt x="1223" y="66"/>
                    </a:lnTo>
                    <a:lnTo>
                      <a:pt x="1195" y="66"/>
                    </a:lnTo>
                    <a:lnTo>
                      <a:pt x="1167" y="84"/>
                    </a:lnTo>
                    <a:lnTo>
                      <a:pt x="1140" y="112"/>
                    </a:lnTo>
                    <a:lnTo>
                      <a:pt x="1112" y="130"/>
                    </a:lnTo>
                    <a:lnTo>
                      <a:pt x="1075" y="149"/>
                    </a:lnTo>
                    <a:lnTo>
                      <a:pt x="1047" y="168"/>
                    </a:lnTo>
                    <a:lnTo>
                      <a:pt x="1019" y="186"/>
                    </a:lnTo>
                    <a:lnTo>
                      <a:pt x="982" y="204"/>
                    </a:lnTo>
                    <a:lnTo>
                      <a:pt x="954" y="214"/>
                    </a:lnTo>
                    <a:lnTo>
                      <a:pt x="927" y="223"/>
                    </a:lnTo>
                    <a:lnTo>
                      <a:pt x="899" y="232"/>
                    </a:lnTo>
                    <a:lnTo>
                      <a:pt x="861" y="251"/>
                    </a:lnTo>
                    <a:lnTo>
                      <a:pt x="825" y="261"/>
                    </a:lnTo>
                    <a:lnTo>
                      <a:pt x="797" y="279"/>
                    </a:lnTo>
                    <a:lnTo>
                      <a:pt x="769" y="289"/>
                    </a:lnTo>
                    <a:lnTo>
                      <a:pt x="732" y="298"/>
                    </a:lnTo>
                    <a:lnTo>
                      <a:pt x="704" y="279"/>
                    </a:lnTo>
                    <a:lnTo>
                      <a:pt x="667" y="261"/>
                    </a:lnTo>
                    <a:lnTo>
                      <a:pt x="630" y="242"/>
                    </a:lnTo>
                    <a:lnTo>
                      <a:pt x="602" y="232"/>
                    </a:lnTo>
                    <a:lnTo>
                      <a:pt x="574" y="214"/>
                    </a:lnTo>
                    <a:lnTo>
                      <a:pt x="546" y="204"/>
                    </a:lnTo>
                    <a:lnTo>
                      <a:pt x="519" y="177"/>
                    </a:lnTo>
                    <a:lnTo>
                      <a:pt x="491" y="158"/>
                    </a:lnTo>
                    <a:lnTo>
                      <a:pt x="463" y="140"/>
                    </a:lnTo>
                    <a:lnTo>
                      <a:pt x="435" y="140"/>
                    </a:lnTo>
                    <a:lnTo>
                      <a:pt x="408" y="130"/>
                    </a:lnTo>
                    <a:lnTo>
                      <a:pt x="380" y="93"/>
                    </a:lnTo>
                    <a:lnTo>
                      <a:pt x="370" y="37"/>
                    </a:lnTo>
                    <a:lnTo>
                      <a:pt x="342" y="28"/>
                    </a:lnTo>
                    <a:lnTo>
                      <a:pt x="333" y="56"/>
                    </a:lnTo>
                    <a:lnTo>
                      <a:pt x="306" y="75"/>
                    </a:lnTo>
                    <a:lnTo>
                      <a:pt x="287" y="102"/>
                    </a:lnTo>
                    <a:lnTo>
                      <a:pt x="259" y="130"/>
                    </a:lnTo>
                    <a:lnTo>
                      <a:pt x="223" y="158"/>
                    </a:lnTo>
                    <a:lnTo>
                      <a:pt x="195" y="177"/>
                    </a:lnTo>
                    <a:lnTo>
                      <a:pt x="157" y="214"/>
                    </a:lnTo>
                    <a:lnTo>
                      <a:pt x="120" y="242"/>
                    </a:lnTo>
                    <a:lnTo>
                      <a:pt x="102" y="270"/>
                    </a:lnTo>
                    <a:lnTo>
                      <a:pt x="83" y="298"/>
                    </a:lnTo>
                    <a:lnTo>
                      <a:pt x="55" y="325"/>
                    </a:lnTo>
                    <a:lnTo>
                      <a:pt x="27" y="344"/>
                    </a:lnTo>
                    <a:lnTo>
                      <a:pt x="0" y="344"/>
                    </a:lnTo>
                    <a:lnTo>
                      <a:pt x="13" y="327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Freeform 48"/>
              <p:cNvSpPr/>
              <p:nvPr/>
            </p:nvSpPr>
            <p:spPr>
              <a:xfrm>
                <a:off x="4344840" y="5921280"/>
                <a:ext cx="1190160" cy="217080"/>
              </a:xfrm>
              <a:custGeom>
                <a:avLst/>
                <a:gdLst>
                  <a:gd name="textAreaLeft" fmla="*/ 0 w 1190160"/>
                  <a:gd name="textAreaRight" fmla="*/ 1190520 w 119016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750" h="137">
                    <a:moveTo>
                      <a:pt x="749" y="82"/>
                    </a:moveTo>
                    <a:lnTo>
                      <a:pt x="705" y="89"/>
                    </a:lnTo>
                    <a:lnTo>
                      <a:pt x="649" y="89"/>
                    </a:lnTo>
                    <a:lnTo>
                      <a:pt x="575" y="89"/>
                    </a:lnTo>
                    <a:lnTo>
                      <a:pt x="547" y="89"/>
                    </a:lnTo>
                    <a:lnTo>
                      <a:pt x="520" y="89"/>
                    </a:lnTo>
                    <a:lnTo>
                      <a:pt x="491" y="89"/>
                    </a:lnTo>
                    <a:lnTo>
                      <a:pt x="463" y="89"/>
                    </a:lnTo>
                    <a:lnTo>
                      <a:pt x="435" y="89"/>
                    </a:lnTo>
                    <a:lnTo>
                      <a:pt x="408" y="89"/>
                    </a:lnTo>
                    <a:lnTo>
                      <a:pt x="380" y="89"/>
                    </a:lnTo>
                    <a:lnTo>
                      <a:pt x="352" y="89"/>
                    </a:lnTo>
                    <a:lnTo>
                      <a:pt x="315" y="89"/>
                    </a:lnTo>
                    <a:lnTo>
                      <a:pt x="287" y="89"/>
                    </a:lnTo>
                    <a:lnTo>
                      <a:pt x="259" y="89"/>
                    </a:lnTo>
                    <a:lnTo>
                      <a:pt x="222" y="108"/>
                    </a:lnTo>
                    <a:lnTo>
                      <a:pt x="195" y="117"/>
                    </a:lnTo>
                    <a:lnTo>
                      <a:pt x="167" y="117"/>
                    </a:lnTo>
                    <a:lnTo>
                      <a:pt x="139" y="136"/>
                    </a:lnTo>
                    <a:lnTo>
                      <a:pt x="111" y="136"/>
                    </a:lnTo>
                    <a:lnTo>
                      <a:pt x="83" y="127"/>
                    </a:lnTo>
                    <a:lnTo>
                      <a:pt x="65" y="99"/>
                    </a:lnTo>
                    <a:lnTo>
                      <a:pt x="37" y="71"/>
                    </a:lnTo>
                    <a:lnTo>
                      <a:pt x="18" y="34"/>
                    </a:lnTo>
                    <a:lnTo>
                      <a:pt x="0" y="6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Freeform 49"/>
              <p:cNvSpPr/>
              <p:nvPr/>
            </p:nvSpPr>
            <p:spPr>
              <a:xfrm>
                <a:off x="3981600" y="5518080"/>
                <a:ext cx="1363320" cy="80640"/>
              </a:xfrm>
              <a:custGeom>
                <a:avLst/>
                <a:gdLst>
                  <a:gd name="textAreaLeft" fmla="*/ 0 w 1363320"/>
                  <a:gd name="textAreaRight" fmla="*/ 1363680 w 13633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859" h="51">
                    <a:moveTo>
                      <a:pt x="858" y="50"/>
                    </a:moveTo>
                    <a:lnTo>
                      <a:pt x="815" y="37"/>
                    </a:lnTo>
                    <a:lnTo>
                      <a:pt x="778" y="37"/>
                    </a:lnTo>
                    <a:lnTo>
                      <a:pt x="750" y="37"/>
                    </a:lnTo>
                    <a:lnTo>
                      <a:pt x="713" y="37"/>
                    </a:lnTo>
                    <a:lnTo>
                      <a:pt x="676" y="37"/>
                    </a:lnTo>
                    <a:lnTo>
                      <a:pt x="648" y="37"/>
                    </a:lnTo>
                    <a:lnTo>
                      <a:pt x="620" y="37"/>
                    </a:lnTo>
                    <a:lnTo>
                      <a:pt x="592" y="37"/>
                    </a:lnTo>
                    <a:lnTo>
                      <a:pt x="564" y="37"/>
                    </a:lnTo>
                    <a:lnTo>
                      <a:pt x="537" y="37"/>
                    </a:lnTo>
                    <a:lnTo>
                      <a:pt x="500" y="37"/>
                    </a:lnTo>
                    <a:lnTo>
                      <a:pt x="443" y="37"/>
                    </a:lnTo>
                    <a:lnTo>
                      <a:pt x="416" y="37"/>
                    </a:lnTo>
                    <a:lnTo>
                      <a:pt x="388" y="28"/>
                    </a:lnTo>
                    <a:lnTo>
                      <a:pt x="360" y="18"/>
                    </a:lnTo>
                    <a:lnTo>
                      <a:pt x="296" y="9"/>
                    </a:lnTo>
                    <a:lnTo>
                      <a:pt x="239" y="9"/>
                    </a:lnTo>
                    <a:lnTo>
                      <a:pt x="212" y="0"/>
                    </a:lnTo>
                    <a:lnTo>
                      <a:pt x="184" y="0"/>
                    </a:lnTo>
                    <a:lnTo>
                      <a:pt x="156" y="0"/>
                    </a:lnTo>
                    <a:lnTo>
                      <a:pt x="120" y="0"/>
                    </a:lnTo>
                    <a:lnTo>
                      <a:pt x="63" y="0"/>
                    </a:lnTo>
                    <a:lnTo>
                      <a:pt x="35" y="0"/>
                    </a:lnTo>
                    <a:lnTo>
                      <a:pt x="8" y="0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Freeform 51"/>
            <p:cNvSpPr/>
            <p:nvPr/>
          </p:nvSpPr>
          <p:spPr>
            <a:xfrm>
              <a:off x="3465360" y="4910040"/>
              <a:ext cx="271080" cy="117756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1177560"/>
                <a:gd name="textAreaBottom" fmla="*/ 1177920 h 1177560"/>
              </a:gdLst>
              <a:ahLst/>
              <a:rect l="textAreaLeft" t="textAreaTop" r="textAreaRight" b="textAreaBottom"/>
              <a:pathLst>
                <a:path w="171" h="742">
                  <a:moveTo>
                    <a:pt x="25" y="741"/>
                  </a:moveTo>
                  <a:lnTo>
                    <a:pt x="0" y="674"/>
                  </a:lnTo>
                  <a:lnTo>
                    <a:pt x="1" y="627"/>
                  </a:lnTo>
                  <a:lnTo>
                    <a:pt x="7" y="544"/>
                  </a:lnTo>
                  <a:lnTo>
                    <a:pt x="21" y="493"/>
                  </a:lnTo>
                  <a:lnTo>
                    <a:pt x="46" y="454"/>
                  </a:lnTo>
                  <a:lnTo>
                    <a:pt x="61" y="415"/>
                  </a:lnTo>
                  <a:lnTo>
                    <a:pt x="89" y="375"/>
                  </a:lnTo>
                  <a:lnTo>
                    <a:pt x="94" y="340"/>
                  </a:lnTo>
                  <a:lnTo>
                    <a:pt x="120" y="299"/>
                  </a:lnTo>
                  <a:lnTo>
                    <a:pt x="146" y="258"/>
                  </a:lnTo>
                  <a:lnTo>
                    <a:pt x="161" y="219"/>
                  </a:lnTo>
                  <a:lnTo>
                    <a:pt x="166" y="185"/>
                  </a:lnTo>
                  <a:lnTo>
                    <a:pt x="170" y="148"/>
                  </a:lnTo>
                  <a:lnTo>
                    <a:pt x="162" y="115"/>
                  </a:lnTo>
                  <a:lnTo>
                    <a:pt x="155" y="80"/>
                  </a:lnTo>
                  <a:lnTo>
                    <a:pt x="149" y="47"/>
                  </a:lnTo>
                  <a:lnTo>
                    <a:pt x="130" y="16"/>
                  </a:lnTo>
                  <a:lnTo>
                    <a:pt x="126" y="0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52"/>
            <p:cNvSpPr/>
            <p:nvPr/>
          </p:nvSpPr>
          <p:spPr>
            <a:xfrm>
              <a:off x="2440080" y="6357960"/>
              <a:ext cx="306000" cy="3823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240"/>
                  </a:moveTo>
                  <a:lnTo>
                    <a:pt x="13" y="193"/>
                  </a:lnTo>
                  <a:lnTo>
                    <a:pt x="46" y="171"/>
                  </a:lnTo>
                  <a:lnTo>
                    <a:pt x="67" y="138"/>
                  </a:lnTo>
                  <a:lnTo>
                    <a:pt x="89" y="105"/>
                  </a:lnTo>
                  <a:lnTo>
                    <a:pt x="100" y="73"/>
                  </a:lnTo>
                  <a:lnTo>
                    <a:pt x="144" y="51"/>
                  </a:lnTo>
                  <a:lnTo>
                    <a:pt x="177" y="18"/>
                  </a:lnTo>
                  <a:lnTo>
                    <a:pt x="192" y="0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4" name="Group 56"/>
            <p:cNvGrpSpPr/>
            <p:nvPr/>
          </p:nvGrpSpPr>
          <p:grpSpPr>
            <a:xfrm>
              <a:off x="4097160" y="3448080"/>
              <a:ext cx="1542960" cy="506160"/>
              <a:chOff x="4097160" y="3448080"/>
              <a:chExt cx="1542960" cy="506160"/>
            </a:xfrm>
          </p:grpSpPr>
          <p:sp>
            <p:nvSpPr>
              <p:cNvPr id="575" name="Freeform 53"/>
              <p:cNvSpPr/>
              <p:nvPr/>
            </p:nvSpPr>
            <p:spPr>
              <a:xfrm>
                <a:off x="4097160" y="3772080"/>
                <a:ext cx="1404720" cy="182160"/>
              </a:xfrm>
              <a:custGeom>
                <a:avLst/>
                <a:gdLst>
                  <a:gd name="textAreaLeft" fmla="*/ 0 w 1404720"/>
                  <a:gd name="textAreaRight" fmla="*/ 1405080 w 140472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885" h="115">
                    <a:moveTo>
                      <a:pt x="823" y="114"/>
                    </a:moveTo>
                    <a:lnTo>
                      <a:pt x="748" y="82"/>
                    </a:lnTo>
                    <a:lnTo>
                      <a:pt x="641" y="51"/>
                    </a:lnTo>
                    <a:lnTo>
                      <a:pt x="532" y="67"/>
                    </a:lnTo>
                    <a:lnTo>
                      <a:pt x="398" y="69"/>
                    </a:lnTo>
                    <a:lnTo>
                      <a:pt x="289" y="86"/>
                    </a:lnTo>
                    <a:lnTo>
                      <a:pt x="222" y="76"/>
                    </a:lnTo>
                    <a:lnTo>
                      <a:pt x="155" y="65"/>
                    </a:lnTo>
                    <a:lnTo>
                      <a:pt x="116" y="79"/>
                    </a:lnTo>
                    <a:lnTo>
                      <a:pt x="48" y="80"/>
                    </a:lnTo>
                    <a:lnTo>
                      <a:pt x="0" y="91"/>
                    </a:lnTo>
                    <a:lnTo>
                      <a:pt x="21" y="67"/>
                    </a:lnTo>
                    <a:lnTo>
                      <a:pt x="35" y="39"/>
                    </a:lnTo>
                    <a:lnTo>
                      <a:pt x="62" y="19"/>
                    </a:lnTo>
                    <a:lnTo>
                      <a:pt x="89" y="20"/>
                    </a:lnTo>
                    <a:lnTo>
                      <a:pt x="115" y="23"/>
                    </a:lnTo>
                    <a:lnTo>
                      <a:pt x="163" y="11"/>
                    </a:lnTo>
                    <a:lnTo>
                      <a:pt x="196" y="16"/>
                    </a:lnTo>
                    <a:lnTo>
                      <a:pt x="231" y="9"/>
                    </a:lnTo>
                    <a:lnTo>
                      <a:pt x="264" y="15"/>
                    </a:lnTo>
                    <a:lnTo>
                      <a:pt x="297" y="9"/>
                    </a:lnTo>
                    <a:lnTo>
                      <a:pt x="331" y="2"/>
                    </a:lnTo>
                    <a:lnTo>
                      <a:pt x="358" y="4"/>
                    </a:lnTo>
                    <a:lnTo>
                      <a:pt x="385" y="6"/>
                    </a:lnTo>
                    <a:lnTo>
                      <a:pt x="426" y="3"/>
                    </a:lnTo>
                    <a:lnTo>
                      <a:pt x="453" y="5"/>
                    </a:lnTo>
                    <a:lnTo>
                      <a:pt x="480" y="6"/>
                    </a:lnTo>
                    <a:lnTo>
                      <a:pt x="513" y="0"/>
                    </a:lnTo>
                    <a:lnTo>
                      <a:pt x="541" y="1"/>
                    </a:lnTo>
                    <a:lnTo>
                      <a:pt x="567" y="4"/>
                    </a:lnTo>
                    <a:lnTo>
                      <a:pt x="608" y="1"/>
                    </a:lnTo>
                    <a:lnTo>
                      <a:pt x="634" y="3"/>
                    </a:lnTo>
                    <a:lnTo>
                      <a:pt x="661" y="4"/>
                    </a:lnTo>
                    <a:lnTo>
                      <a:pt x="682" y="14"/>
                    </a:lnTo>
                    <a:lnTo>
                      <a:pt x="708" y="16"/>
                    </a:lnTo>
                    <a:lnTo>
                      <a:pt x="735" y="17"/>
                    </a:lnTo>
                    <a:lnTo>
                      <a:pt x="776" y="38"/>
                    </a:lnTo>
                    <a:lnTo>
                      <a:pt x="802" y="39"/>
                    </a:lnTo>
                    <a:lnTo>
                      <a:pt x="829" y="41"/>
                    </a:lnTo>
                    <a:lnTo>
                      <a:pt x="856" y="43"/>
                    </a:lnTo>
                    <a:lnTo>
                      <a:pt x="884" y="45"/>
                    </a:lnTo>
                    <a:lnTo>
                      <a:pt x="869" y="73"/>
                    </a:lnTo>
                    <a:lnTo>
                      <a:pt x="823" y="114"/>
                    </a:lnTo>
                    <a:lnTo>
                      <a:pt x="823" y="114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Freeform 54"/>
              <p:cNvSpPr/>
              <p:nvPr/>
            </p:nvSpPr>
            <p:spPr>
              <a:xfrm>
                <a:off x="4264200" y="3470400"/>
                <a:ext cx="1375920" cy="301320"/>
              </a:xfrm>
              <a:custGeom>
                <a:avLst/>
                <a:gdLst>
                  <a:gd name="textAreaLeft" fmla="*/ 0 w 1375920"/>
                  <a:gd name="textAreaRight" fmla="*/ 1376280 w 1375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67" h="190">
                    <a:moveTo>
                      <a:pt x="816" y="106"/>
                    </a:moveTo>
                    <a:lnTo>
                      <a:pt x="738" y="127"/>
                    </a:lnTo>
                    <a:lnTo>
                      <a:pt x="627" y="140"/>
                    </a:lnTo>
                    <a:lnTo>
                      <a:pt x="522" y="107"/>
                    </a:lnTo>
                    <a:lnTo>
                      <a:pt x="390" y="84"/>
                    </a:lnTo>
                    <a:lnTo>
                      <a:pt x="285" y="51"/>
                    </a:lnTo>
                    <a:lnTo>
                      <a:pt x="217" y="50"/>
                    </a:lnTo>
                    <a:lnTo>
                      <a:pt x="149" y="50"/>
                    </a:lnTo>
                    <a:lnTo>
                      <a:pt x="112" y="30"/>
                    </a:lnTo>
                    <a:lnTo>
                      <a:pt x="46" y="18"/>
                    </a:lnTo>
                    <a:lnTo>
                      <a:pt x="0" y="0"/>
                    </a:lnTo>
                    <a:lnTo>
                      <a:pt x="17" y="27"/>
                    </a:lnTo>
                    <a:lnTo>
                      <a:pt x="26" y="57"/>
                    </a:lnTo>
                    <a:lnTo>
                      <a:pt x="50" y="81"/>
                    </a:lnTo>
                    <a:lnTo>
                      <a:pt x="77" y="84"/>
                    </a:lnTo>
                    <a:lnTo>
                      <a:pt x="103" y="86"/>
                    </a:lnTo>
                    <a:lnTo>
                      <a:pt x="149" y="105"/>
                    </a:lnTo>
                    <a:lnTo>
                      <a:pt x="182" y="105"/>
                    </a:lnTo>
                    <a:lnTo>
                      <a:pt x="215" y="117"/>
                    </a:lnTo>
                    <a:lnTo>
                      <a:pt x="250" y="117"/>
                    </a:lnTo>
                    <a:lnTo>
                      <a:pt x="280" y="127"/>
                    </a:lnTo>
                    <a:lnTo>
                      <a:pt x="313" y="140"/>
                    </a:lnTo>
                    <a:lnTo>
                      <a:pt x="340" y="142"/>
                    </a:lnTo>
                    <a:lnTo>
                      <a:pt x="367" y="145"/>
                    </a:lnTo>
                    <a:lnTo>
                      <a:pt x="407" y="154"/>
                    </a:lnTo>
                    <a:lnTo>
                      <a:pt x="434" y="157"/>
                    </a:lnTo>
                    <a:lnTo>
                      <a:pt x="461" y="159"/>
                    </a:lnTo>
                    <a:lnTo>
                      <a:pt x="493" y="171"/>
                    </a:lnTo>
                    <a:lnTo>
                      <a:pt x="521" y="174"/>
                    </a:lnTo>
                    <a:lnTo>
                      <a:pt x="547" y="175"/>
                    </a:lnTo>
                    <a:lnTo>
                      <a:pt x="586" y="184"/>
                    </a:lnTo>
                    <a:lnTo>
                      <a:pt x="613" y="187"/>
                    </a:lnTo>
                    <a:lnTo>
                      <a:pt x="640" y="189"/>
                    </a:lnTo>
                    <a:lnTo>
                      <a:pt x="662" y="183"/>
                    </a:lnTo>
                    <a:lnTo>
                      <a:pt x="688" y="185"/>
                    </a:lnTo>
                    <a:lnTo>
                      <a:pt x="715" y="188"/>
                    </a:lnTo>
                    <a:lnTo>
                      <a:pt x="758" y="174"/>
                    </a:lnTo>
                    <a:lnTo>
                      <a:pt x="784" y="177"/>
                    </a:lnTo>
                    <a:lnTo>
                      <a:pt x="811" y="179"/>
                    </a:lnTo>
                    <a:lnTo>
                      <a:pt x="838" y="181"/>
                    </a:lnTo>
                    <a:lnTo>
                      <a:pt x="866" y="184"/>
                    </a:lnTo>
                    <a:lnTo>
                      <a:pt x="856" y="154"/>
                    </a:lnTo>
                    <a:lnTo>
                      <a:pt x="816" y="106"/>
                    </a:lnTo>
                    <a:lnTo>
                      <a:pt x="816" y="10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Freeform 55"/>
              <p:cNvSpPr/>
              <p:nvPr/>
            </p:nvSpPr>
            <p:spPr>
              <a:xfrm>
                <a:off x="4098960" y="3448080"/>
                <a:ext cx="1399680" cy="340920"/>
              </a:xfrm>
              <a:custGeom>
                <a:avLst/>
                <a:gdLst>
                  <a:gd name="textAreaLeft" fmla="*/ 0 w 1399680"/>
                  <a:gd name="textAreaRight" fmla="*/ 1400040 w 139968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882" h="215">
                    <a:moveTo>
                      <a:pt x="809" y="0"/>
                    </a:moveTo>
                    <a:lnTo>
                      <a:pt x="741" y="44"/>
                    </a:lnTo>
                    <a:lnTo>
                      <a:pt x="640" y="92"/>
                    </a:lnTo>
                    <a:lnTo>
                      <a:pt x="530" y="92"/>
                    </a:lnTo>
                    <a:lnTo>
                      <a:pt x="397" y="112"/>
                    </a:lnTo>
                    <a:lnTo>
                      <a:pt x="287" y="112"/>
                    </a:lnTo>
                    <a:lnTo>
                      <a:pt x="222" y="133"/>
                    </a:lnTo>
                    <a:lnTo>
                      <a:pt x="158" y="154"/>
                    </a:lnTo>
                    <a:lnTo>
                      <a:pt x="116" y="146"/>
                    </a:lnTo>
                    <a:lnTo>
                      <a:pt x="50" y="155"/>
                    </a:lnTo>
                    <a:lnTo>
                      <a:pt x="0" y="152"/>
                    </a:lnTo>
                    <a:lnTo>
                      <a:pt x="26" y="173"/>
                    </a:lnTo>
                    <a:lnTo>
                      <a:pt x="44" y="198"/>
                    </a:lnTo>
                    <a:lnTo>
                      <a:pt x="73" y="214"/>
                    </a:lnTo>
                    <a:lnTo>
                      <a:pt x="100" y="209"/>
                    </a:lnTo>
                    <a:lnTo>
                      <a:pt x="126" y="202"/>
                    </a:lnTo>
                    <a:lnTo>
                      <a:pt x="175" y="206"/>
                    </a:lnTo>
                    <a:lnTo>
                      <a:pt x="206" y="195"/>
                    </a:lnTo>
                    <a:lnTo>
                      <a:pt x="242" y="197"/>
                    </a:lnTo>
                    <a:lnTo>
                      <a:pt x="273" y="186"/>
                    </a:lnTo>
                    <a:lnTo>
                      <a:pt x="307" y="186"/>
                    </a:lnTo>
                    <a:lnTo>
                      <a:pt x="342" y="188"/>
                    </a:lnTo>
                    <a:lnTo>
                      <a:pt x="368" y="183"/>
                    </a:lnTo>
                    <a:lnTo>
                      <a:pt x="395" y="176"/>
                    </a:lnTo>
                    <a:lnTo>
                      <a:pt x="435" y="173"/>
                    </a:lnTo>
                    <a:lnTo>
                      <a:pt x="462" y="167"/>
                    </a:lnTo>
                    <a:lnTo>
                      <a:pt x="488" y="161"/>
                    </a:lnTo>
                    <a:lnTo>
                      <a:pt x="522" y="162"/>
                    </a:lnTo>
                    <a:lnTo>
                      <a:pt x="549" y="157"/>
                    </a:lnTo>
                    <a:lnTo>
                      <a:pt x="574" y="150"/>
                    </a:lnTo>
                    <a:lnTo>
                      <a:pt x="615" y="146"/>
                    </a:lnTo>
                    <a:lnTo>
                      <a:pt x="641" y="140"/>
                    </a:lnTo>
                    <a:lnTo>
                      <a:pt x="667" y="134"/>
                    </a:lnTo>
                    <a:lnTo>
                      <a:pt x="686" y="121"/>
                    </a:lnTo>
                    <a:lnTo>
                      <a:pt x="712" y="116"/>
                    </a:lnTo>
                    <a:lnTo>
                      <a:pt x="739" y="110"/>
                    </a:lnTo>
                    <a:lnTo>
                      <a:pt x="776" y="83"/>
                    </a:lnTo>
                    <a:lnTo>
                      <a:pt x="801" y="78"/>
                    </a:lnTo>
                    <a:lnTo>
                      <a:pt x="828" y="72"/>
                    </a:lnTo>
                    <a:lnTo>
                      <a:pt x="854" y="65"/>
                    </a:lnTo>
                    <a:lnTo>
                      <a:pt x="881" y="60"/>
                    </a:lnTo>
                    <a:lnTo>
                      <a:pt x="862" y="35"/>
                    </a:lnTo>
                    <a:lnTo>
                      <a:pt x="809" y="0"/>
                    </a:lnTo>
                    <a:lnTo>
                      <a:pt x="809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8" name="Oval 57"/>
            <p:cNvSpPr/>
            <p:nvPr/>
          </p:nvSpPr>
          <p:spPr>
            <a:xfrm>
              <a:off x="6103800" y="55260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Oval 58"/>
            <p:cNvSpPr/>
            <p:nvPr/>
          </p:nvSpPr>
          <p:spPr>
            <a:xfrm>
              <a:off x="5418000" y="545004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Oval 59"/>
            <p:cNvSpPr/>
            <p:nvPr/>
          </p:nvSpPr>
          <p:spPr>
            <a:xfrm>
              <a:off x="5799240" y="537372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Oval 60"/>
            <p:cNvSpPr/>
            <p:nvPr/>
          </p:nvSpPr>
          <p:spPr>
            <a:xfrm>
              <a:off x="5646600" y="537372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Oval 61"/>
            <p:cNvSpPr/>
            <p:nvPr/>
          </p:nvSpPr>
          <p:spPr>
            <a:xfrm>
              <a:off x="6027840" y="537372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Oval 62"/>
            <p:cNvSpPr/>
            <p:nvPr/>
          </p:nvSpPr>
          <p:spPr>
            <a:xfrm>
              <a:off x="5494320" y="52974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63"/>
            <p:cNvSpPr/>
            <p:nvPr/>
          </p:nvSpPr>
          <p:spPr>
            <a:xfrm>
              <a:off x="2743200" y="5791320"/>
              <a:ext cx="688680" cy="28548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434" h="180">
                  <a:moveTo>
                    <a:pt x="0" y="0"/>
                  </a:moveTo>
                  <a:lnTo>
                    <a:pt x="2" y="89"/>
                  </a:lnTo>
                  <a:lnTo>
                    <a:pt x="39" y="125"/>
                  </a:lnTo>
                  <a:lnTo>
                    <a:pt x="64" y="179"/>
                  </a:lnTo>
                  <a:lnTo>
                    <a:pt x="100" y="179"/>
                  </a:lnTo>
                  <a:lnTo>
                    <a:pt x="137" y="179"/>
                  </a:lnTo>
                  <a:lnTo>
                    <a:pt x="174" y="179"/>
                  </a:lnTo>
                  <a:lnTo>
                    <a:pt x="223" y="179"/>
                  </a:lnTo>
                  <a:lnTo>
                    <a:pt x="260" y="179"/>
                  </a:lnTo>
                  <a:lnTo>
                    <a:pt x="358" y="179"/>
                  </a:lnTo>
                  <a:lnTo>
                    <a:pt x="395" y="125"/>
                  </a:lnTo>
                  <a:lnTo>
                    <a:pt x="433" y="78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5" name="Group 66"/>
            <p:cNvGrpSpPr/>
            <p:nvPr/>
          </p:nvGrpSpPr>
          <p:grpSpPr>
            <a:xfrm>
              <a:off x="6497640" y="5595840"/>
              <a:ext cx="1072800" cy="553680"/>
              <a:chOff x="6497640" y="5595840"/>
              <a:chExt cx="1072800" cy="553680"/>
            </a:xfrm>
          </p:grpSpPr>
          <p:sp>
            <p:nvSpPr>
              <p:cNvPr id="586" name="Freeform 64"/>
              <p:cNvSpPr/>
              <p:nvPr/>
            </p:nvSpPr>
            <p:spPr>
              <a:xfrm>
                <a:off x="6497640" y="5673600"/>
                <a:ext cx="1037880" cy="475920"/>
              </a:xfrm>
              <a:custGeom>
                <a:avLst/>
                <a:gdLst>
                  <a:gd name="textAreaLeft" fmla="*/ 0 w 1037880"/>
                  <a:gd name="textAreaRight" fmla="*/ 1038240 w 1037880"/>
                  <a:gd name="textAreaTop" fmla="*/ 0 h 475920"/>
                  <a:gd name="textAreaBottom" fmla="*/ 476280 h 475920"/>
                </a:gdLst>
                <a:ahLst/>
                <a:rect l="textAreaLeft" t="textAreaTop" r="textAreaRight" b="textAreaBottom"/>
                <a:pathLst>
                  <a:path w="654" h="300">
                    <a:moveTo>
                      <a:pt x="653" y="41"/>
                    </a:moveTo>
                    <a:lnTo>
                      <a:pt x="571" y="48"/>
                    </a:lnTo>
                    <a:lnTo>
                      <a:pt x="516" y="67"/>
                    </a:lnTo>
                    <a:lnTo>
                      <a:pt x="488" y="85"/>
                    </a:lnTo>
                    <a:lnTo>
                      <a:pt x="451" y="113"/>
                    </a:lnTo>
                    <a:lnTo>
                      <a:pt x="423" y="141"/>
                    </a:lnTo>
                    <a:lnTo>
                      <a:pt x="395" y="159"/>
                    </a:lnTo>
                    <a:lnTo>
                      <a:pt x="367" y="187"/>
                    </a:lnTo>
                    <a:lnTo>
                      <a:pt x="340" y="216"/>
                    </a:lnTo>
                    <a:lnTo>
                      <a:pt x="312" y="244"/>
                    </a:lnTo>
                    <a:lnTo>
                      <a:pt x="283" y="271"/>
                    </a:lnTo>
                    <a:lnTo>
                      <a:pt x="265" y="299"/>
                    </a:lnTo>
                    <a:lnTo>
                      <a:pt x="238" y="299"/>
                    </a:lnTo>
                    <a:lnTo>
                      <a:pt x="210" y="280"/>
                    </a:lnTo>
                    <a:lnTo>
                      <a:pt x="181" y="253"/>
                    </a:lnTo>
                    <a:lnTo>
                      <a:pt x="153" y="225"/>
                    </a:lnTo>
                    <a:lnTo>
                      <a:pt x="136" y="187"/>
                    </a:lnTo>
                    <a:lnTo>
                      <a:pt x="107" y="151"/>
                    </a:lnTo>
                    <a:lnTo>
                      <a:pt x="89" y="123"/>
                    </a:lnTo>
                    <a:lnTo>
                      <a:pt x="70" y="95"/>
                    </a:lnTo>
                    <a:lnTo>
                      <a:pt x="61" y="67"/>
                    </a:lnTo>
                    <a:lnTo>
                      <a:pt x="34" y="3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Freeform 65"/>
              <p:cNvSpPr/>
              <p:nvPr/>
            </p:nvSpPr>
            <p:spPr>
              <a:xfrm>
                <a:off x="7392960" y="5595840"/>
                <a:ext cx="177480" cy="4582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112" h="289">
                    <a:moveTo>
                      <a:pt x="0" y="288"/>
                    </a:moveTo>
                    <a:lnTo>
                      <a:pt x="46" y="273"/>
                    </a:lnTo>
                    <a:lnTo>
                      <a:pt x="79" y="251"/>
                    </a:lnTo>
                    <a:lnTo>
                      <a:pt x="90" y="219"/>
                    </a:lnTo>
                    <a:lnTo>
                      <a:pt x="101" y="186"/>
                    </a:lnTo>
                    <a:lnTo>
                      <a:pt x="111" y="153"/>
                    </a:lnTo>
                    <a:lnTo>
                      <a:pt x="111" y="120"/>
                    </a:lnTo>
                    <a:lnTo>
                      <a:pt x="111" y="88"/>
                    </a:lnTo>
                    <a:lnTo>
                      <a:pt x="111" y="55"/>
                    </a:lnTo>
                    <a:lnTo>
                      <a:pt x="101" y="22"/>
                    </a:lnTo>
                    <a:lnTo>
                      <a:pt x="68" y="0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762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8" name="Freeform 67"/>
            <p:cNvSpPr/>
            <p:nvPr/>
          </p:nvSpPr>
          <p:spPr>
            <a:xfrm>
              <a:off x="3505320" y="2867040"/>
              <a:ext cx="5562360" cy="242676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26760"/>
                <a:gd name="textAreaBottom" fmla="*/ 2427120 h 2426760"/>
              </a:gdLst>
              <a:ahLst/>
              <a:rect l="textAreaLeft" t="textAreaTop" r="textAreaRight" b="textAreaBottom"/>
              <a:pathLst>
                <a:path w="3504" h="1529">
                  <a:moveTo>
                    <a:pt x="0" y="1274"/>
                  </a:moveTo>
                  <a:lnTo>
                    <a:pt x="10" y="1222"/>
                  </a:lnTo>
                  <a:lnTo>
                    <a:pt x="10" y="1189"/>
                  </a:lnTo>
                  <a:lnTo>
                    <a:pt x="21" y="1156"/>
                  </a:lnTo>
                  <a:lnTo>
                    <a:pt x="21" y="1124"/>
                  </a:lnTo>
                  <a:lnTo>
                    <a:pt x="21" y="1091"/>
                  </a:lnTo>
                  <a:lnTo>
                    <a:pt x="32" y="1058"/>
                  </a:lnTo>
                  <a:lnTo>
                    <a:pt x="32" y="1026"/>
                  </a:lnTo>
                  <a:lnTo>
                    <a:pt x="43" y="993"/>
                  </a:lnTo>
                  <a:lnTo>
                    <a:pt x="53" y="960"/>
                  </a:lnTo>
                  <a:lnTo>
                    <a:pt x="53" y="927"/>
                  </a:lnTo>
                  <a:lnTo>
                    <a:pt x="53" y="895"/>
                  </a:lnTo>
                  <a:lnTo>
                    <a:pt x="64" y="862"/>
                  </a:lnTo>
                  <a:lnTo>
                    <a:pt x="64" y="829"/>
                  </a:lnTo>
                  <a:lnTo>
                    <a:pt x="64" y="796"/>
                  </a:lnTo>
                  <a:lnTo>
                    <a:pt x="74" y="764"/>
                  </a:lnTo>
                  <a:lnTo>
                    <a:pt x="74" y="731"/>
                  </a:lnTo>
                  <a:lnTo>
                    <a:pt x="107" y="709"/>
                  </a:lnTo>
                  <a:lnTo>
                    <a:pt x="140" y="698"/>
                  </a:lnTo>
                  <a:lnTo>
                    <a:pt x="171" y="698"/>
                  </a:lnTo>
                  <a:lnTo>
                    <a:pt x="193" y="731"/>
                  </a:lnTo>
                  <a:lnTo>
                    <a:pt x="214" y="764"/>
                  </a:lnTo>
                  <a:lnTo>
                    <a:pt x="236" y="796"/>
                  </a:lnTo>
                  <a:lnTo>
                    <a:pt x="258" y="829"/>
                  </a:lnTo>
                  <a:lnTo>
                    <a:pt x="280" y="862"/>
                  </a:lnTo>
                  <a:lnTo>
                    <a:pt x="300" y="895"/>
                  </a:lnTo>
                  <a:lnTo>
                    <a:pt x="311" y="927"/>
                  </a:lnTo>
                  <a:lnTo>
                    <a:pt x="322" y="960"/>
                  </a:lnTo>
                  <a:lnTo>
                    <a:pt x="344" y="993"/>
                  </a:lnTo>
                  <a:lnTo>
                    <a:pt x="355" y="1026"/>
                  </a:lnTo>
                  <a:lnTo>
                    <a:pt x="365" y="1058"/>
                  </a:lnTo>
                  <a:lnTo>
                    <a:pt x="365" y="1091"/>
                  </a:lnTo>
                  <a:lnTo>
                    <a:pt x="387" y="1124"/>
                  </a:lnTo>
                  <a:lnTo>
                    <a:pt x="398" y="1156"/>
                  </a:lnTo>
                  <a:lnTo>
                    <a:pt x="408" y="1189"/>
                  </a:lnTo>
                  <a:lnTo>
                    <a:pt x="408" y="1222"/>
                  </a:lnTo>
                  <a:lnTo>
                    <a:pt x="419" y="1255"/>
                  </a:lnTo>
                  <a:lnTo>
                    <a:pt x="440" y="1287"/>
                  </a:lnTo>
                  <a:lnTo>
                    <a:pt x="451" y="1320"/>
                  </a:lnTo>
                  <a:lnTo>
                    <a:pt x="473" y="1353"/>
                  </a:lnTo>
                  <a:lnTo>
                    <a:pt x="495" y="1386"/>
                  </a:lnTo>
                  <a:lnTo>
                    <a:pt x="516" y="1418"/>
                  </a:lnTo>
                  <a:lnTo>
                    <a:pt x="548" y="1451"/>
                  </a:lnTo>
                  <a:lnTo>
                    <a:pt x="580" y="1462"/>
                  </a:lnTo>
                  <a:lnTo>
                    <a:pt x="613" y="1462"/>
                  </a:lnTo>
                  <a:lnTo>
                    <a:pt x="655" y="1473"/>
                  </a:lnTo>
                  <a:lnTo>
                    <a:pt x="688" y="1473"/>
                  </a:lnTo>
                  <a:lnTo>
                    <a:pt x="720" y="1484"/>
                  </a:lnTo>
                  <a:lnTo>
                    <a:pt x="753" y="1484"/>
                  </a:lnTo>
                  <a:lnTo>
                    <a:pt x="785" y="1484"/>
                  </a:lnTo>
                  <a:lnTo>
                    <a:pt x="871" y="1484"/>
                  </a:lnTo>
                  <a:lnTo>
                    <a:pt x="903" y="1495"/>
                  </a:lnTo>
                  <a:lnTo>
                    <a:pt x="946" y="1495"/>
                  </a:lnTo>
                  <a:lnTo>
                    <a:pt x="1021" y="1506"/>
                  </a:lnTo>
                  <a:lnTo>
                    <a:pt x="1097" y="1506"/>
                  </a:lnTo>
                  <a:lnTo>
                    <a:pt x="1140" y="1517"/>
                  </a:lnTo>
                  <a:lnTo>
                    <a:pt x="1215" y="1517"/>
                  </a:lnTo>
                  <a:lnTo>
                    <a:pt x="1258" y="1517"/>
                  </a:lnTo>
                  <a:lnTo>
                    <a:pt x="1301" y="1517"/>
                  </a:lnTo>
                  <a:lnTo>
                    <a:pt x="1387" y="1517"/>
                  </a:lnTo>
                  <a:lnTo>
                    <a:pt x="1430" y="1517"/>
                  </a:lnTo>
                  <a:lnTo>
                    <a:pt x="1463" y="1517"/>
                  </a:lnTo>
                  <a:lnTo>
                    <a:pt x="1495" y="1517"/>
                  </a:lnTo>
                  <a:lnTo>
                    <a:pt x="1527" y="1517"/>
                  </a:lnTo>
                  <a:lnTo>
                    <a:pt x="1614" y="1528"/>
                  </a:lnTo>
                  <a:lnTo>
                    <a:pt x="1645" y="1528"/>
                  </a:lnTo>
                  <a:lnTo>
                    <a:pt x="1678" y="1528"/>
                  </a:lnTo>
                  <a:lnTo>
                    <a:pt x="1742" y="1528"/>
                  </a:lnTo>
                  <a:lnTo>
                    <a:pt x="1786" y="1528"/>
                  </a:lnTo>
                  <a:lnTo>
                    <a:pt x="1871" y="1528"/>
                  </a:lnTo>
                  <a:lnTo>
                    <a:pt x="1904" y="1528"/>
                  </a:lnTo>
                  <a:lnTo>
                    <a:pt x="1947" y="1528"/>
                  </a:lnTo>
                  <a:lnTo>
                    <a:pt x="2022" y="1528"/>
                  </a:lnTo>
                  <a:lnTo>
                    <a:pt x="2066" y="1528"/>
                  </a:lnTo>
                  <a:lnTo>
                    <a:pt x="2130" y="1528"/>
                  </a:lnTo>
                  <a:lnTo>
                    <a:pt x="2216" y="1528"/>
                  </a:lnTo>
                  <a:lnTo>
                    <a:pt x="2259" y="1528"/>
                  </a:lnTo>
                  <a:lnTo>
                    <a:pt x="2302" y="1528"/>
                  </a:lnTo>
                  <a:lnTo>
                    <a:pt x="2377" y="1528"/>
                  </a:lnTo>
                  <a:lnTo>
                    <a:pt x="2421" y="1528"/>
                  </a:lnTo>
                  <a:lnTo>
                    <a:pt x="2463" y="1528"/>
                  </a:lnTo>
                  <a:lnTo>
                    <a:pt x="2506" y="1528"/>
                  </a:lnTo>
                  <a:lnTo>
                    <a:pt x="2550" y="1528"/>
                  </a:lnTo>
                  <a:lnTo>
                    <a:pt x="2581" y="1528"/>
                  </a:lnTo>
                  <a:lnTo>
                    <a:pt x="2625" y="1528"/>
                  </a:lnTo>
                  <a:lnTo>
                    <a:pt x="2657" y="1528"/>
                  </a:lnTo>
                  <a:lnTo>
                    <a:pt x="2690" y="1528"/>
                  </a:lnTo>
                  <a:lnTo>
                    <a:pt x="2732" y="1528"/>
                  </a:lnTo>
                  <a:lnTo>
                    <a:pt x="2797" y="1528"/>
                  </a:lnTo>
                  <a:lnTo>
                    <a:pt x="2840" y="1528"/>
                  </a:lnTo>
                  <a:lnTo>
                    <a:pt x="2872" y="1528"/>
                  </a:lnTo>
                  <a:lnTo>
                    <a:pt x="2916" y="1528"/>
                  </a:lnTo>
                  <a:lnTo>
                    <a:pt x="3002" y="1528"/>
                  </a:lnTo>
                  <a:lnTo>
                    <a:pt x="3034" y="1528"/>
                  </a:lnTo>
                  <a:lnTo>
                    <a:pt x="3066" y="1528"/>
                  </a:lnTo>
                  <a:lnTo>
                    <a:pt x="3109" y="1528"/>
                  </a:lnTo>
                  <a:lnTo>
                    <a:pt x="3142" y="1528"/>
                  </a:lnTo>
                  <a:lnTo>
                    <a:pt x="3174" y="1528"/>
                  </a:lnTo>
                  <a:lnTo>
                    <a:pt x="3195" y="1495"/>
                  </a:lnTo>
                  <a:lnTo>
                    <a:pt x="3217" y="1451"/>
                  </a:lnTo>
                  <a:lnTo>
                    <a:pt x="3217" y="1418"/>
                  </a:lnTo>
                  <a:lnTo>
                    <a:pt x="3217" y="1386"/>
                  </a:lnTo>
                  <a:lnTo>
                    <a:pt x="3217" y="1353"/>
                  </a:lnTo>
                  <a:lnTo>
                    <a:pt x="3217" y="1320"/>
                  </a:lnTo>
                  <a:lnTo>
                    <a:pt x="3206" y="1287"/>
                  </a:lnTo>
                  <a:lnTo>
                    <a:pt x="3184" y="1255"/>
                  </a:lnTo>
                  <a:lnTo>
                    <a:pt x="3152" y="1233"/>
                  </a:lnTo>
                  <a:lnTo>
                    <a:pt x="3109" y="1200"/>
                  </a:lnTo>
                  <a:lnTo>
                    <a:pt x="3066" y="1178"/>
                  </a:lnTo>
                  <a:lnTo>
                    <a:pt x="3023" y="1156"/>
                  </a:lnTo>
                  <a:lnTo>
                    <a:pt x="2947" y="1146"/>
                  </a:lnTo>
                  <a:lnTo>
                    <a:pt x="2861" y="1135"/>
                  </a:lnTo>
                  <a:lnTo>
                    <a:pt x="2819" y="1113"/>
                  </a:lnTo>
                  <a:lnTo>
                    <a:pt x="2787" y="1102"/>
                  </a:lnTo>
                  <a:lnTo>
                    <a:pt x="2701" y="1091"/>
                  </a:lnTo>
                  <a:lnTo>
                    <a:pt x="2636" y="1091"/>
                  </a:lnTo>
                  <a:lnTo>
                    <a:pt x="2592" y="1080"/>
                  </a:lnTo>
                  <a:lnTo>
                    <a:pt x="2550" y="1069"/>
                  </a:lnTo>
                  <a:lnTo>
                    <a:pt x="2506" y="1058"/>
                  </a:lnTo>
                  <a:lnTo>
                    <a:pt x="2421" y="1047"/>
                  </a:lnTo>
                  <a:lnTo>
                    <a:pt x="2335" y="1047"/>
                  </a:lnTo>
                  <a:lnTo>
                    <a:pt x="2270" y="1036"/>
                  </a:lnTo>
                  <a:lnTo>
                    <a:pt x="2184" y="1026"/>
                  </a:lnTo>
                  <a:lnTo>
                    <a:pt x="2141" y="1015"/>
                  </a:lnTo>
                  <a:lnTo>
                    <a:pt x="2097" y="1015"/>
                  </a:lnTo>
                  <a:lnTo>
                    <a:pt x="2011" y="1004"/>
                  </a:lnTo>
                  <a:lnTo>
                    <a:pt x="1947" y="1004"/>
                  </a:lnTo>
                  <a:lnTo>
                    <a:pt x="1860" y="993"/>
                  </a:lnTo>
                  <a:lnTo>
                    <a:pt x="1829" y="982"/>
                  </a:lnTo>
                  <a:lnTo>
                    <a:pt x="1764" y="982"/>
                  </a:lnTo>
                  <a:lnTo>
                    <a:pt x="1678" y="971"/>
                  </a:lnTo>
                  <a:lnTo>
                    <a:pt x="1614" y="971"/>
                  </a:lnTo>
                  <a:lnTo>
                    <a:pt x="1549" y="960"/>
                  </a:lnTo>
                  <a:lnTo>
                    <a:pt x="1474" y="949"/>
                  </a:lnTo>
                  <a:lnTo>
                    <a:pt x="1441" y="949"/>
                  </a:lnTo>
                  <a:lnTo>
                    <a:pt x="1398" y="938"/>
                  </a:lnTo>
                  <a:lnTo>
                    <a:pt x="1334" y="927"/>
                  </a:lnTo>
                  <a:lnTo>
                    <a:pt x="1301" y="916"/>
                  </a:lnTo>
                  <a:lnTo>
                    <a:pt x="1269" y="916"/>
                  </a:lnTo>
                  <a:lnTo>
                    <a:pt x="1226" y="905"/>
                  </a:lnTo>
                  <a:lnTo>
                    <a:pt x="1183" y="895"/>
                  </a:lnTo>
                  <a:lnTo>
                    <a:pt x="1150" y="895"/>
                  </a:lnTo>
                  <a:lnTo>
                    <a:pt x="1108" y="884"/>
                  </a:lnTo>
                  <a:lnTo>
                    <a:pt x="1075" y="884"/>
                  </a:lnTo>
                  <a:lnTo>
                    <a:pt x="1032" y="884"/>
                  </a:lnTo>
                  <a:lnTo>
                    <a:pt x="968" y="873"/>
                  </a:lnTo>
                  <a:lnTo>
                    <a:pt x="903" y="873"/>
                  </a:lnTo>
                  <a:lnTo>
                    <a:pt x="871" y="873"/>
                  </a:lnTo>
                  <a:lnTo>
                    <a:pt x="795" y="862"/>
                  </a:lnTo>
                  <a:lnTo>
                    <a:pt x="764" y="851"/>
                  </a:lnTo>
                  <a:lnTo>
                    <a:pt x="720" y="840"/>
                  </a:lnTo>
                  <a:lnTo>
                    <a:pt x="688" y="840"/>
                  </a:lnTo>
                  <a:lnTo>
                    <a:pt x="655" y="829"/>
                  </a:lnTo>
                  <a:lnTo>
                    <a:pt x="624" y="829"/>
                  </a:lnTo>
                  <a:lnTo>
                    <a:pt x="591" y="818"/>
                  </a:lnTo>
                  <a:lnTo>
                    <a:pt x="559" y="807"/>
                  </a:lnTo>
                  <a:lnTo>
                    <a:pt x="527" y="796"/>
                  </a:lnTo>
                  <a:lnTo>
                    <a:pt x="484" y="785"/>
                  </a:lnTo>
                  <a:lnTo>
                    <a:pt x="451" y="774"/>
                  </a:lnTo>
                  <a:lnTo>
                    <a:pt x="419" y="764"/>
                  </a:lnTo>
                  <a:lnTo>
                    <a:pt x="387" y="753"/>
                  </a:lnTo>
                  <a:lnTo>
                    <a:pt x="355" y="742"/>
                  </a:lnTo>
                  <a:lnTo>
                    <a:pt x="344" y="709"/>
                  </a:lnTo>
                  <a:lnTo>
                    <a:pt x="322" y="676"/>
                  </a:lnTo>
                  <a:lnTo>
                    <a:pt x="300" y="644"/>
                  </a:lnTo>
                  <a:lnTo>
                    <a:pt x="289" y="611"/>
                  </a:lnTo>
                  <a:lnTo>
                    <a:pt x="289" y="578"/>
                  </a:lnTo>
                  <a:lnTo>
                    <a:pt x="280" y="545"/>
                  </a:lnTo>
                  <a:lnTo>
                    <a:pt x="280" y="513"/>
                  </a:lnTo>
                  <a:lnTo>
                    <a:pt x="280" y="480"/>
                  </a:lnTo>
                  <a:lnTo>
                    <a:pt x="280" y="436"/>
                  </a:lnTo>
                  <a:lnTo>
                    <a:pt x="280" y="403"/>
                  </a:lnTo>
                  <a:lnTo>
                    <a:pt x="289" y="371"/>
                  </a:lnTo>
                  <a:lnTo>
                    <a:pt x="300" y="338"/>
                  </a:lnTo>
                  <a:lnTo>
                    <a:pt x="322" y="305"/>
                  </a:lnTo>
                  <a:lnTo>
                    <a:pt x="344" y="272"/>
                  </a:lnTo>
                  <a:lnTo>
                    <a:pt x="376" y="251"/>
                  </a:lnTo>
                  <a:lnTo>
                    <a:pt x="408" y="218"/>
                  </a:lnTo>
                  <a:lnTo>
                    <a:pt x="419" y="185"/>
                  </a:lnTo>
                  <a:lnTo>
                    <a:pt x="429" y="152"/>
                  </a:lnTo>
                  <a:lnTo>
                    <a:pt x="440" y="196"/>
                  </a:lnTo>
                  <a:lnTo>
                    <a:pt x="451" y="240"/>
                  </a:lnTo>
                  <a:lnTo>
                    <a:pt x="462" y="305"/>
                  </a:lnTo>
                  <a:lnTo>
                    <a:pt x="462" y="371"/>
                  </a:lnTo>
                  <a:lnTo>
                    <a:pt x="462" y="403"/>
                  </a:lnTo>
                  <a:lnTo>
                    <a:pt x="462" y="371"/>
                  </a:lnTo>
                  <a:lnTo>
                    <a:pt x="473" y="327"/>
                  </a:lnTo>
                  <a:lnTo>
                    <a:pt x="473" y="262"/>
                  </a:lnTo>
                  <a:lnTo>
                    <a:pt x="484" y="218"/>
                  </a:lnTo>
                  <a:lnTo>
                    <a:pt x="495" y="152"/>
                  </a:lnTo>
                  <a:lnTo>
                    <a:pt x="505" y="120"/>
                  </a:lnTo>
                  <a:lnTo>
                    <a:pt x="527" y="152"/>
                  </a:lnTo>
                  <a:lnTo>
                    <a:pt x="559" y="262"/>
                  </a:lnTo>
                  <a:lnTo>
                    <a:pt x="580" y="305"/>
                  </a:lnTo>
                  <a:lnTo>
                    <a:pt x="602" y="262"/>
                  </a:lnTo>
                  <a:lnTo>
                    <a:pt x="602" y="196"/>
                  </a:lnTo>
                  <a:lnTo>
                    <a:pt x="602" y="163"/>
                  </a:lnTo>
                  <a:lnTo>
                    <a:pt x="602" y="131"/>
                  </a:lnTo>
                  <a:lnTo>
                    <a:pt x="613" y="98"/>
                  </a:lnTo>
                  <a:lnTo>
                    <a:pt x="645" y="142"/>
                  </a:lnTo>
                  <a:lnTo>
                    <a:pt x="655" y="207"/>
                  </a:lnTo>
                  <a:lnTo>
                    <a:pt x="677" y="272"/>
                  </a:lnTo>
                  <a:lnTo>
                    <a:pt x="710" y="262"/>
                  </a:lnTo>
                  <a:lnTo>
                    <a:pt x="720" y="229"/>
                  </a:lnTo>
                  <a:lnTo>
                    <a:pt x="731" y="196"/>
                  </a:lnTo>
                  <a:lnTo>
                    <a:pt x="742" y="163"/>
                  </a:lnTo>
                  <a:lnTo>
                    <a:pt x="764" y="131"/>
                  </a:lnTo>
                  <a:lnTo>
                    <a:pt x="806" y="152"/>
                  </a:lnTo>
                  <a:lnTo>
                    <a:pt x="828" y="196"/>
                  </a:lnTo>
                  <a:lnTo>
                    <a:pt x="839" y="163"/>
                  </a:lnTo>
                  <a:lnTo>
                    <a:pt x="850" y="131"/>
                  </a:lnTo>
                  <a:lnTo>
                    <a:pt x="850" y="98"/>
                  </a:lnTo>
                  <a:lnTo>
                    <a:pt x="860" y="65"/>
                  </a:lnTo>
                  <a:lnTo>
                    <a:pt x="892" y="76"/>
                  </a:lnTo>
                  <a:lnTo>
                    <a:pt x="914" y="109"/>
                  </a:lnTo>
                  <a:lnTo>
                    <a:pt x="946" y="152"/>
                  </a:lnTo>
                  <a:lnTo>
                    <a:pt x="957" y="196"/>
                  </a:lnTo>
                  <a:lnTo>
                    <a:pt x="957" y="229"/>
                  </a:lnTo>
                  <a:lnTo>
                    <a:pt x="979" y="152"/>
                  </a:lnTo>
                  <a:lnTo>
                    <a:pt x="979" y="65"/>
                  </a:lnTo>
                  <a:lnTo>
                    <a:pt x="1021" y="109"/>
                  </a:lnTo>
                  <a:lnTo>
                    <a:pt x="1021" y="142"/>
                  </a:lnTo>
                  <a:lnTo>
                    <a:pt x="1021" y="174"/>
                  </a:lnTo>
                  <a:lnTo>
                    <a:pt x="1032" y="142"/>
                  </a:lnTo>
                  <a:lnTo>
                    <a:pt x="1032" y="109"/>
                  </a:lnTo>
                  <a:lnTo>
                    <a:pt x="1054" y="76"/>
                  </a:lnTo>
                  <a:lnTo>
                    <a:pt x="1065" y="43"/>
                  </a:lnTo>
                  <a:lnTo>
                    <a:pt x="1097" y="109"/>
                  </a:lnTo>
                  <a:lnTo>
                    <a:pt x="1119" y="196"/>
                  </a:lnTo>
                  <a:lnTo>
                    <a:pt x="1150" y="142"/>
                  </a:lnTo>
                  <a:lnTo>
                    <a:pt x="1161" y="109"/>
                  </a:lnTo>
                  <a:lnTo>
                    <a:pt x="1172" y="76"/>
                  </a:lnTo>
                  <a:lnTo>
                    <a:pt x="1194" y="43"/>
                  </a:lnTo>
                  <a:lnTo>
                    <a:pt x="1226" y="131"/>
                  </a:lnTo>
                  <a:lnTo>
                    <a:pt x="1237" y="196"/>
                  </a:lnTo>
                  <a:lnTo>
                    <a:pt x="1258" y="262"/>
                  </a:lnTo>
                  <a:lnTo>
                    <a:pt x="1290" y="251"/>
                  </a:lnTo>
                  <a:lnTo>
                    <a:pt x="1290" y="218"/>
                  </a:lnTo>
                  <a:lnTo>
                    <a:pt x="1301" y="152"/>
                  </a:lnTo>
                  <a:lnTo>
                    <a:pt x="1323" y="120"/>
                  </a:lnTo>
                  <a:lnTo>
                    <a:pt x="1334" y="87"/>
                  </a:lnTo>
                  <a:lnTo>
                    <a:pt x="1366" y="76"/>
                  </a:lnTo>
                  <a:lnTo>
                    <a:pt x="1376" y="142"/>
                  </a:lnTo>
                  <a:lnTo>
                    <a:pt x="1409" y="174"/>
                  </a:lnTo>
                  <a:lnTo>
                    <a:pt x="1420" y="207"/>
                  </a:lnTo>
                  <a:lnTo>
                    <a:pt x="1430" y="142"/>
                  </a:lnTo>
                  <a:lnTo>
                    <a:pt x="1430" y="109"/>
                  </a:lnTo>
                  <a:lnTo>
                    <a:pt x="1441" y="76"/>
                  </a:lnTo>
                  <a:lnTo>
                    <a:pt x="1474" y="87"/>
                  </a:lnTo>
                  <a:lnTo>
                    <a:pt x="1505" y="174"/>
                  </a:lnTo>
                  <a:lnTo>
                    <a:pt x="1516" y="207"/>
                  </a:lnTo>
                  <a:lnTo>
                    <a:pt x="1527" y="240"/>
                  </a:lnTo>
                  <a:lnTo>
                    <a:pt x="1560" y="240"/>
                  </a:lnTo>
                  <a:lnTo>
                    <a:pt x="1571" y="196"/>
                  </a:lnTo>
                  <a:lnTo>
                    <a:pt x="1581" y="163"/>
                  </a:lnTo>
                  <a:lnTo>
                    <a:pt x="1581" y="131"/>
                  </a:lnTo>
                  <a:lnTo>
                    <a:pt x="1571" y="98"/>
                  </a:lnTo>
                  <a:lnTo>
                    <a:pt x="1560" y="54"/>
                  </a:lnTo>
                  <a:lnTo>
                    <a:pt x="1560" y="21"/>
                  </a:lnTo>
                  <a:lnTo>
                    <a:pt x="1592" y="11"/>
                  </a:lnTo>
                  <a:lnTo>
                    <a:pt x="1624" y="11"/>
                  </a:lnTo>
                  <a:lnTo>
                    <a:pt x="1656" y="11"/>
                  </a:lnTo>
                  <a:lnTo>
                    <a:pt x="1689" y="11"/>
                  </a:lnTo>
                  <a:lnTo>
                    <a:pt x="1721" y="11"/>
                  </a:lnTo>
                  <a:lnTo>
                    <a:pt x="1742" y="43"/>
                  </a:lnTo>
                  <a:lnTo>
                    <a:pt x="1753" y="76"/>
                  </a:lnTo>
                  <a:lnTo>
                    <a:pt x="1753" y="109"/>
                  </a:lnTo>
                  <a:lnTo>
                    <a:pt x="1753" y="142"/>
                  </a:lnTo>
                  <a:lnTo>
                    <a:pt x="1764" y="174"/>
                  </a:lnTo>
                  <a:lnTo>
                    <a:pt x="1786" y="207"/>
                  </a:lnTo>
                  <a:lnTo>
                    <a:pt x="1818" y="229"/>
                  </a:lnTo>
                  <a:lnTo>
                    <a:pt x="1840" y="196"/>
                  </a:lnTo>
                  <a:lnTo>
                    <a:pt x="1840" y="163"/>
                  </a:lnTo>
                  <a:lnTo>
                    <a:pt x="1840" y="131"/>
                  </a:lnTo>
                  <a:lnTo>
                    <a:pt x="1840" y="87"/>
                  </a:lnTo>
                  <a:lnTo>
                    <a:pt x="1840" y="54"/>
                  </a:lnTo>
                  <a:lnTo>
                    <a:pt x="1851" y="21"/>
                  </a:lnTo>
                  <a:lnTo>
                    <a:pt x="1860" y="131"/>
                  </a:lnTo>
                  <a:lnTo>
                    <a:pt x="1882" y="218"/>
                  </a:lnTo>
                  <a:lnTo>
                    <a:pt x="1893" y="251"/>
                  </a:lnTo>
                  <a:lnTo>
                    <a:pt x="1926" y="163"/>
                  </a:lnTo>
                  <a:lnTo>
                    <a:pt x="1936" y="131"/>
                  </a:lnTo>
                  <a:lnTo>
                    <a:pt x="1947" y="98"/>
                  </a:lnTo>
                  <a:lnTo>
                    <a:pt x="1947" y="65"/>
                  </a:lnTo>
                  <a:lnTo>
                    <a:pt x="1958" y="21"/>
                  </a:lnTo>
                  <a:lnTo>
                    <a:pt x="1969" y="54"/>
                  </a:lnTo>
                  <a:lnTo>
                    <a:pt x="1979" y="131"/>
                  </a:lnTo>
                  <a:lnTo>
                    <a:pt x="2001" y="163"/>
                  </a:lnTo>
                  <a:lnTo>
                    <a:pt x="2022" y="196"/>
                  </a:lnTo>
                  <a:lnTo>
                    <a:pt x="2033" y="229"/>
                  </a:lnTo>
                  <a:lnTo>
                    <a:pt x="2055" y="142"/>
                  </a:lnTo>
                  <a:lnTo>
                    <a:pt x="2066" y="109"/>
                  </a:lnTo>
                  <a:lnTo>
                    <a:pt x="2076" y="76"/>
                  </a:lnTo>
                  <a:lnTo>
                    <a:pt x="2087" y="32"/>
                  </a:lnTo>
                  <a:lnTo>
                    <a:pt x="2108" y="65"/>
                  </a:lnTo>
                  <a:lnTo>
                    <a:pt x="2141" y="109"/>
                  </a:lnTo>
                  <a:lnTo>
                    <a:pt x="2173" y="152"/>
                  </a:lnTo>
                  <a:lnTo>
                    <a:pt x="2184" y="185"/>
                  </a:lnTo>
                  <a:lnTo>
                    <a:pt x="2195" y="218"/>
                  </a:lnTo>
                  <a:lnTo>
                    <a:pt x="2195" y="120"/>
                  </a:lnTo>
                  <a:lnTo>
                    <a:pt x="2195" y="32"/>
                  </a:lnTo>
                  <a:lnTo>
                    <a:pt x="2195" y="0"/>
                  </a:lnTo>
                  <a:lnTo>
                    <a:pt x="2216" y="43"/>
                  </a:lnTo>
                  <a:lnTo>
                    <a:pt x="2226" y="87"/>
                  </a:lnTo>
                  <a:lnTo>
                    <a:pt x="2237" y="131"/>
                  </a:lnTo>
                  <a:lnTo>
                    <a:pt x="2248" y="163"/>
                  </a:lnTo>
                  <a:lnTo>
                    <a:pt x="2281" y="174"/>
                  </a:lnTo>
                  <a:lnTo>
                    <a:pt x="2291" y="109"/>
                  </a:lnTo>
                  <a:lnTo>
                    <a:pt x="2313" y="65"/>
                  </a:lnTo>
                  <a:lnTo>
                    <a:pt x="2324" y="32"/>
                  </a:lnTo>
                  <a:lnTo>
                    <a:pt x="2335" y="98"/>
                  </a:lnTo>
                  <a:lnTo>
                    <a:pt x="2356" y="185"/>
                  </a:lnTo>
                  <a:lnTo>
                    <a:pt x="2366" y="218"/>
                  </a:lnTo>
                  <a:lnTo>
                    <a:pt x="2388" y="152"/>
                  </a:lnTo>
                  <a:lnTo>
                    <a:pt x="2399" y="109"/>
                  </a:lnTo>
                  <a:lnTo>
                    <a:pt x="2399" y="65"/>
                  </a:lnTo>
                  <a:lnTo>
                    <a:pt x="2410" y="32"/>
                  </a:lnTo>
                  <a:lnTo>
                    <a:pt x="2442" y="76"/>
                  </a:lnTo>
                  <a:lnTo>
                    <a:pt x="2442" y="142"/>
                  </a:lnTo>
                  <a:lnTo>
                    <a:pt x="2453" y="185"/>
                  </a:lnTo>
                  <a:lnTo>
                    <a:pt x="2463" y="152"/>
                  </a:lnTo>
                  <a:lnTo>
                    <a:pt x="2474" y="109"/>
                  </a:lnTo>
                  <a:lnTo>
                    <a:pt x="2485" y="76"/>
                  </a:lnTo>
                  <a:lnTo>
                    <a:pt x="2485" y="43"/>
                  </a:lnTo>
                  <a:lnTo>
                    <a:pt x="2485" y="11"/>
                  </a:lnTo>
                  <a:lnTo>
                    <a:pt x="2517" y="98"/>
                  </a:lnTo>
                  <a:lnTo>
                    <a:pt x="2528" y="163"/>
                  </a:lnTo>
                  <a:lnTo>
                    <a:pt x="2539" y="229"/>
                  </a:lnTo>
                  <a:lnTo>
                    <a:pt x="2539" y="262"/>
                  </a:lnTo>
                  <a:lnTo>
                    <a:pt x="2572" y="207"/>
                  </a:lnTo>
                  <a:lnTo>
                    <a:pt x="2581" y="120"/>
                  </a:lnTo>
                  <a:lnTo>
                    <a:pt x="2592" y="87"/>
                  </a:lnTo>
                  <a:lnTo>
                    <a:pt x="2614" y="54"/>
                  </a:lnTo>
                  <a:lnTo>
                    <a:pt x="2646" y="87"/>
                  </a:lnTo>
                  <a:lnTo>
                    <a:pt x="2668" y="131"/>
                  </a:lnTo>
                  <a:lnTo>
                    <a:pt x="2668" y="163"/>
                  </a:lnTo>
                  <a:lnTo>
                    <a:pt x="2668" y="196"/>
                  </a:lnTo>
                  <a:lnTo>
                    <a:pt x="2690" y="131"/>
                  </a:lnTo>
                  <a:lnTo>
                    <a:pt x="2701" y="65"/>
                  </a:lnTo>
                  <a:lnTo>
                    <a:pt x="2721" y="32"/>
                  </a:lnTo>
                  <a:lnTo>
                    <a:pt x="2743" y="76"/>
                  </a:lnTo>
                  <a:lnTo>
                    <a:pt x="2743" y="163"/>
                  </a:lnTo>
                  <a:lnTo>
                    <a:pt x="2743" y="207"/>
                  </a:lnTo>
                  <a:lnTo>
                    <a:pt x="2743" y="240"/>
                  </a:lnTo>
                  <a:lnTo>
                    <a:pt x="2787" y="152"/>
                  </a:lnTo>
                  <a:lnTo>
                    <a:pt x="2797" y="120"/>
                  </a:lnTo>
                  <a:lnTo>
                    <a:pt x="2819" y="87"/>
                  </a:lnTo>
                  <a:lnTo>
                    <a:pt x="2840" y="54"/>
                  </a:lnTo>
                  <a:lnTo>
                    <a:pt x="2851" y="142"/>
                  </a:lnTo>
                  <a:lnTo>
                    <a:pt x="2851" y="185"/>
                  </a:lnTo>
                  <a:lnTo>
                    <a:pt x="2883" y="163"/>
                  </a:lnTo>
                  <a:lnTo>
                    <a:pt x="2905" y="120"/>
                  </a:lnTo>
                  <a:lnTo>
                    <a:pt x="2927" y="87"/>
                  </a:lnTo>
                  <a:lnTo>
                    <a:pt x="2958" y="76"/>
                  </a:lnTo>
                  <a:lnTo>
                    <a:pt x="2958" y="131"/>
                  </a:lnTo>
                  <a:lnTo>
                    <a:pt x="2958" y="218"/>
                  </a:lnTo>
                  <a:lnTo>
                    <a:pt x="2958" y="251"/>
                  </a:lnTo>
                  <a:lnTo>
                    <a:pt x="2991" y="207"/>
                  </a:lnTo>
                  <a:lnTo>
                    <a:pt x="3012" y="163"/>
                  </a:lnTo>
                  <a:lnTo>
                    <a:pt x="3034" y="196"/>
                  </a:lnTo>
                  <a:lnTo>
                    <a:pt x="3034" y="240"/>
                  </a:lnTo>
                  <a:lnTo>
                    <a:pt x="3034" y="272"/>
                  </a:lnTo>
                  <a:lnTo>
                    <a:pt x="3023" y="305"/>
                  </a:lnTo>
                  <a:lnTo>
                    <a:pt x="3012" y="338"/>
                  </a:lnTo>
                  <a:lnTo>
                    <a:pt x="3012" y="371"/>
                  </a:lnTo>
                  <a:lnTo>
                    <a:pt x="3012" y="403"/>
                  </a:lnTo>
                  <a:lnTo>
                    <a:pt x="3045" y="403"/>
                  </a:lnTo>
                  <a:lnTo>
                    <a:pt x="3056" y="371"/>
                  </a:lnTo>
                  <a:lnTo>
                    <a:pt x="3066" y="338"/>
                  </a:lnTo>
                  <a:lnTo>
                    <a:pt x="3087" y="305"/>
                  </a:lnTo>
                  <a:lnTo>
                    <a:pt x="3087" y="272"/>
                  </a:lnTo>
                  <a:lnTo>
                    <a:pt x="3087" y="240"/>
                  </a:lnTo>
                  <a:lnTo>
                    <a:pt x="3087" y="207"/>
                  </a:lnTo>
                  <a:lnTo>
                    <a:pt x="3087" y="174"/>
                  </a:lnTo>
                  <a:lnTo>
                    <a:pt x="3098" y="142"/>
                  </a:lnTo>
                  <a:lnTo>
                    <a:pt x="3131" y="109"/>
                  </a:lnTo>
                  <a:lnTo>
                    <a:pt x="3163" y="109"/>
                  </a:lnTo>
                  <a:lnTo>
                    <a:pt x="3195" y="109"/>
                  </a:lnTo>
                  <a:lnTo>
                    <a:pt x="3227" y="109"/>
                  </a:lnTo>
                  <a:lnTo>
                    <a:pt x="3260" y="109"/>
                  </a:lnTo>
                  <a:lnTo>
                    <a:pt x="3292" y="109"/>
                  </a:lnTo>
                  <a:lnTo>
                    <a:pt x="3324" y="131"/>
                  </a:lnTo>
                  <a:lnTo>
                    <a:pt x="3357" y="142"/>
                  </a:lnTo>
                  <a:lnTo>
                    <a:pt x="3389" y="152"/>
                  </a:lnTo>
                  <a:lnTo>
                    <a:pt x="3422" y="174"/>
                  </a:lnTo>
                  <a:lnTo>
                    <a:pt x="3442" y="207"/>
                  </a:lnTo>
                  <a:lnTo>
                    <a:pt x="3453" y="240"/>
                  </a:lnTo>
                  <a:lnTo>
                    <a:pt x="3453" y="272"/>
                  </a:lnTo>
                  <a:lnTo>
                    <a:pt x="3453" y="305"/>
                  </a:lnTo>
                  <a:lnTo>
                    <a:pt x="3422" y="316"/>
                  </a:lnTo>
                  <a:lnTo>
                    <a:pt x="3411" y="349"/>
                  </a:lnTo>
                  <a:lnTo>
                    <a:pt x="3411" y="382"/>
                  </a:lnTo>
                  <a:lnTo>
                    <a:pt x="3411" y="414"/>
                  </a:lnTo>
                  <a:lnTo>
                    <a:pt x="3400" y="447"/>
                  </a:lnTo>
                  <a:lnTo>
                    <a:pt x="3431" y="458"/>
                  </a:lnTo>
                  <a:lnTo>
                    <a:pt x="3464" y="458"/>
                  </a:lnTo>
                  <a:lnTo>
                    <a:pt x="3497" y="480"/>
                  </a:lnTo>
                  <a:lnTo>
                    <a:pt x="3503" y="458"/>
                  </a:lnTo>
                </a:path>
              </a:pathLst>
            </a:custGeom>
            <a:noFill/>
            <a:ln cap="rnd" w="762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9" name="Group 71"/>
            <p:cNvGrpSpPr/>
            <p:nvPr/>
          </p:nvGrpSpPr>
          <p:grpSpPr>
            <a:xfrm>
              <a:off x="5473800" y="3335400"/>
              <a:ext cx="1437840" cy="952200"/>
              <a:chOff x="5473800" y="3335400"/>
              <a:chExt cx="1437840" cy="952200"/>
            </a:xfrm>
          </p:grpSpPr>
          <p:sp>
            <p:nvSpPr>
              <p:cNvPr id="590" name="Freeform 68"/>
              <p:cNvSpPr/>
              <p:nvPr/>
            </p:nvSpPr>
            <p:spPr>
              <a:xfrm>
                <a:off x="5564160" y="3648240"/>
                <a:ext cx="1253880" cy="639360"/>
              </a:xfrm>
              <a:custGeom>
                <a:avLst/>
                <a:gdLst>
                  <a:gd name="textAreaLeft" fmla="*/ 0 w 1253880"/>
                  <a:gd name="textAreaRight" fmla="*/ 1254240 w 1253880"/>
                  <a:gd name="textAreaTop" fmla="*/ 0 h 639360"/>
                  <a:gd name="textAreaBottom" fmla="*/ 639720 h 639360"/>
                </a:gdLst>
                <a:ahLst/>
                <a:rect l="textAreaLeft" t="textAreaTop" r="textAreaRight" b="textAreaBottom"/>
                <a:pathLst>
                  <a:path w="790" h="403">
                    <a:moveTo>
                      <a:pt x="761" y="89"/>
                    </a:moveTo>
                    <a:lnTo>
                      <a:pt x="680" y="90"/>
                    </a:lnTo>
                    <a:lnTo>
                      <a:pt x="569" y="105"/>
                    </a:lnTo>
                    <a:lnTo>
                      <a:pt x="476" y="164"/>
                    </a:lnTo>
                    <a:lnTo>
                      <a:pt x="355" y="220"/>
                    </a:lnTo>
                    <a:lnTo>
                      <a:pt x="262" y="280"/>
                    </a:lnTo>
                    <a:lnTo>
                      <a:pt x="197" y="299"/>
                    </a:lnTo>
                    <a:lnTo>
                      <a:pt x="131" y="315"/>
                    </a:lnTo>
                    <a:lnTo>
                      <a:pt x="101" y="344"/>
                    </a:lnTo>
                    <a:lnTo>
                      <a:pt x="40" y="373"/>
                    </a:lnTo>
                    <a:lnTo>
                      <a:pt x="0" y="402"/>
                    </a:lnTo>
                    <a:lnTo>
                      <a:pt x="10" y="372"/>
                    </a:lnTo>
                    <a:lnTo>
                      <a:pt x="11" y="341"/>
                    </a:lnTo>
                    <a:lnTo>
                      <a:pt x="27" y="311"/>
                    </a:lnTo>
                    <a:lnTo>
                      <a:pt x="52" y="301"/>
                    </a:lnTo>
                    <a:lnTo>
                      <a:pt x="77" y="293"/>
                    </a:lnTo>
                    <a:lnTo>
                      <a:pt x="116" y="263"/>
                    </a:lnTo>
                    <a:lnTo>
                      <a:pt x="149" y="254"/>
                    </a:lnTo>
                    <a:lnTo>
                      <a:pt x="178" y="234"/>
                    </a:lnTo>
                    <a:lnTo>
                      <a:pt x="210" y="225"/>
                    </a:lnTo>
                    <a:lnTo>
                      <a:pt x="239" y="207"/>
                    </a:lnTo>
                    <a:lnTo>
                      <a:pt x="266" y="186"/>
                    </a:lnTo>
                    <a:lnTo>
                      <a:pt x="292" y="177"/>
                    </a:lnTo>
                    <a:lnTo>
                      <a:pt x="317" y="168"/>
                    </a:lnTo>
                    <a:lnTo>
                      <a:pt x="354" y="149"/>
                    </a:lnTo>
                    <a:lnTo>
                      <a:pt x="379" y="140"/>
                    </a:lnTo>
                    <a:lnTo>
                      <a:pt x="404" y="129"/>
                    </a:lnTo>
                    <a:lnTo>
                      <a:pt x="432" y="110"/>
                    </a:lnTo>
                    <a:lnTo>
                      <a:pt x="457" y="100"/>
                    </a:lnTo>
                    <a:lnTo>
                      <a:pt x="482" y="92"/>
                    </a:lnTo>
                    <a:lnTo>
                      <a:pt x="519" y="73"/>
                    </a:lnTo>
                    <a:lnTo>
                      <a:pt x="544" y="64"/>
                    </a:lnTo>
                    <a:lnTo>
                      <a:pt x="568" y="54"/>
                    </a:lnTo>
                    <a:lnTo>
                      <a:pt x="592" y="55"/>
                    </a:lnTo>
                    <a:lnTo>
                      <a:pt x="617" y="45"/>
                    </a:lnTo>
                    <a:lnTo>
                      <a:pt x="641" y="36"/>
                    </a:lnTo>
                    <a:lnTo>
                      <a:pt x="687" y="39"/>
                    </a:lnTo>
                    <a:lnTo>
                      <a:pt x="712" y="29"/>
                    </a:lnTo>
                    <a:lnTo>
                      <a:pt x="737" y="20"/>
                    </a:lnTo>
                    <a:lnTo>
                      <a:pt x="763" y="10"/>
                    </a:lnTo>
                    <a:lnTo>
                      <a:pt x="789" y="0"/>
                    </a:lnTo>
                    <a:lnTo>
                      <a:pt x="787" y="33"/>
                    </a:lnTo>
                    <a:lnTo>
                      <a:pt x="761" y="89"/>
                    </a:lnTo>
                    <a:lnTo>
                      <a:pt x="761" y="89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Freeform 69"/>
              <p:cNvSpPr/>
              <p:nvPr/>
            </p:nvSpPr>
            <p:spPr>
              <a:xfrm>
                <a:off x="5535720" y="3438360"/>
                <a:ext cx="1375920" cy="460080"/>
              </a:xfrm>
              <a:custGeom>
                <a:avLst/>
                <a:gdLst>
                  <a:gd name="textAreaLeft" fmla="*/ 0 w 1375920"/>
                  <a:gd name="textAreaRight" fmla="*/ 1376280 w 137592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867" h="290">
                    <a:moveTo>
                      <a:pt x="788" y="0"/>
                    </a:moveTo>
                    <a:lnTo>
                      <a:pt x="726" y="51"/>
                    </a:lnTo>
                    <a:lnTo>
                      <a:pt x="630" y="107"/>
                    </a:lnTo>
                    <a:lnTo>
                      <a:pt x="520" y="121"/>
                    </a:lnTo>
                    <a:lnTo>
                      <a:pt x="390" y="153"/>
                    </a:lnTo>
                    <a:lnTo>
                      <a:pt x="281" y="166"/>
                    </a:lnTo>
                    <a:lnTo>
                      <a:pt x="218" y="192"/>
                    </a:lnTo>
                    <a:lnTo>
                      <a:pt x="156" y="220"/>
                    </a:lnTo>
                    <a:lnTo>
                      <a:pt x="115" y="217"/>
                    </a:lnTo>
                    <a:lnTo>
                      <a:pt x="50" y="232"/>
                    </a:lnTo>
                    <a:lnTo>
                      <a:pt x="0" y="235"/>
                    </a:lnTo>
                    <a:lnTo>
                      <a:pt x="26" y="253"/>
                    </a:lnTo>
                    <a:lnTo>
                      <a:pt x="47" y="276"/>
                    </a:lnTo>
                    <a:lnTo>
                      <a:pt x="78" y="289"/>
                    </a:lnTo>
                    <a:lnTo>
                      <a:pt x="105" y="280"/>
                    </a:lnTo>
                    <a:lnTo>
                      <a:pt x="129" y="272"/>
                    </a:lnTo>
                    <a:lnTo>
                      <a:pt x="178" y="270"/>
                    </a:lnTo>
                    <a:lnTo>
                      <a:pt x="209" y="257"/>
                    </a:lnTo>
                    <a:lnTo>
                      <a:pt x="244" y="255"/>
                    </a:lnTo>
                    <a:lnTo>
                      <a:pt x="275" y="240"/>
                    </a:lnTo>
                    <a:lnTo>
                      <a:pt x="308" y="237"/>
                    </a:lnTo>
                    <a:lnTo>
                      <a:pt x="342" y="235"/>
                    </a:lnTo>
                    <a:lnTo>
                      <a:pt x="368" y="226"/>
                    </a:lnTo>
                    <a:lnTo>
                      <a:pt x="394" y="218"/>
                    </a:lnTo>
                    <a:lnTo>
                      <a:pt x="434" y="210"/>
                    </a:lnTo>
                    <a:lnTo>
                      <a:pt x="460" y="201"/>
                    </a:lnTo>
                    <a:lnTo>
                      <a:pt x="486" y="193"/>
                    </a:lnTo>
                    <a:lnTo>
                      <a:pt x="520" y="190"/>
                    </a:lnTo>
                    <a:lnTo>
                      <a:pt x="547" y="182"/>
                    </a:lnTo>
                    <a:lnTo>
                      <a:pt x="570" y="173"/>
                    </a:lnTo>
                    <a:lnTo>
                      <a:pt x="610" y="164"/>
                    </a:lnTo>
                    <a:lnTo>
                      <a:pt x="636" y="156"/>
                    </a:lnTo>
                    <a:lnTo>
                      <a:pt x="661" y="148"/>
                    </a:lnTo>
                    <a:lnTo>
                      <a:pt x="679" y="133"/>
                    </a:lnTo>
                    <a:lnTo>
                      <a:pt x="704" y="125"/>
                    </a:lnTo>
                    <a:lnTo>
                      <a:pt x="729" y="116"/>
                    </a:lnTo>
                    <a:lnTo>
                      <a:pt x="763" y="85"/>
                    </a:lnTo>
                    <a:lnTo>
                      <a:pt x="788" y="78"/>
                    </a:lnTo>
                    <a:lnTo>
                      <a:pt x="814" y="69"/>
                    </a:lnTo>
                    <a:lnTo>
                      <a:pt x="839" y="59"/>
                    </a:lnTo>
                    <a:lnTo>
                      <a:pt x="866" y="50"/>
                    </a:lnTo>
                    <a:lnTo>
                      <a:pt x="844" y="27"/>
                    </a:lnTo>
                    <a:lnTo>
                      <a:pt x="788" y="0"/>
                    </a:lnTo>
                    <a:lnTo>
                      <a:pt x="788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 70"/>
              <p:cNvSpPr/>
              <p:nvPr/>
            </p:nvSpPr>
            <p:spPr>
              <a:xfrm>
                <a:off x="5473800" y="3335400"/>
                <a:ext cx="1218960" cy="786960"/>
              </a:xfrm>
              <a:custGeom>
                <a:avLst/>
                <a:gdLst>
                  <a:gd name="textAreaLeft" fmla="*/ 0 w 1218960"/>
                  <a:gd name="textAreaRight" fmla="*/ 1219320 w 12189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768" h="496">
                    <a:moveTo>
                      <a:pt x="678" y="0"/>
                    </a:moveTo>
                    <a:lnTo>
                      <a:pt x="633" y="69"/>
                    </a:lnTo>
                    <a:lnTo>
                      <a:pt x="560" y="153"/>
                    </a:lnTo>
                    <a:lnTo>
                      <a:pt x="460" y="198"/>
                    </a:lnTo>
                    <a:lnTo>
                      <a:pt x="346" y="270"/>
                    </a:lnTo>
                    <a:lnTo>
                      <a:pt x="246" y="315"/>
                    </a:lnTo>
                    <a:lnTo>
                      <a:pt x="196" y="360"/>
                    </a:lnTo>
                    <a:lnTo>
                      <a:pt x="145" y="406"/>
                    </a:lnTo>
                    <a:lnTo>
                      <a:pt x="104" y="416"/>
                    </a:lnTo>
                    <a:lnTo>
                      <a:pt x="47" y="451"/>
                    </a:lnTo>
                    <a:lnTo>
                      <a:pt x="0" y="469"/>
                    </a:lnTo>
                    <a:lnTo>
                      <a:pt x="32" y="477"/>
                    </a:lnTo>
                    <a:lnTo>
                      <a:pt x="59" y="493"/>
                    </a:lnTo>
                    <a:lnTo>
                      <a:pt x="92" y="495"/>
                    </a:lnTo>
                    <a:lnTo>
                      <a:pt x="115" y="480"/>
                    </a:lnTo>
                    <a:lnTo>
                      <a:pt x="135" y="463"/>
                    </a:lnTo>
                    <a:lnTo>
                      <a:pt x="182" y="447"/>
                    </a:lnTo>
                    <a:lnTo>
                      <a:pt x="206" y="424"/>
                    </a:lnTo>
                    <a:lnTo>
                      <a:pt x="239" y="411"/>
                    </a:lnTo>
                    <a:lnTo>
                      <a:pt x="264" y="388"/>
                    </a:lnTo>
                    <a:lnTo>
                      <a:pt x="295" y="374"/>
                    </a:lnTo>
                    <a:lnTo>
                      <a:pt x="327" y="362"/>
                    </a:lnTo>
                    <a:lnTo>
                      <a:pt x="349" y="347"/>
                    </a:lnTo>
                    <a:lnTo>
                      <a:pt x="371" y="329"/>
                    </a:lnTo>
                    <a:lnTo>
                      <a:pt x="406" y="310"/>
                    </a:lnTo>
                    <a:lnTo>
                      <a:pt x="428" y="294"/>
                    </a:lnTo>
                    <a:lnTo>
                      <a:pt x="449" y="278"/>
                    </a:lnTo>
                    <a:lnTo>
                      <a:pt x="481" y="265"/>
                    </a:lnTo>
                    <a:lnTo>
                      <a:pt x="504" y="250"/>
                    </a:lnTo>
                    <a:lnTo>
                      <a:pt x="523" y="233"/>
                    </a:lnTo>
                    <a:lnTo>
                      <a:pt x="559" y="213"/>
                    </a:lnTo>
                    <a:lnTo>
                      <a:pt x="580" y="197"/>
                    </a:lnTo>
                    <a:lnTo>
                      <a:pt x="602" y="180"/>
                    </a:lnTo>
                    <a:lnTo>
                      <a:pt x="614" y="161"/>
                    </a:lnTo>
                    <a:lnTo>
                      <a:pt x="636" y="146"/>
                    </a:lnTo>
                    <a:lnTo>
                      <a:pt x="658" y="130"/>
                    </a:lnTo>
                    <a:lnTo>
                      <a:pt x="681" y="90"/>
                    </a:lnTo>
                    <a:lnTo>
                      <a:pt x="702" y="75"/>
                    </a:lnTo>
                    <a:lnTo>
                      <a:pt x="724" y="58"/>
                    </a:lnTo>
                    <a:lnTo>
                      <a:pt x="745" y="41"/>
                    </a:lnTo>
                    <a:lnTo>
                      <a:pt x="767" y="26"/>
                    </a:lnTo>
                    <a:lnTo>
                      <a:pt x="740" y="11"/>
                    </a:lnTo>
                    <a:lnTo>
                      <a:pt x="678" y="0"/>
                    </a:lnTo>
                    <a:lnTo>
                      <a:pt x="678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3" name="Group 75"/>
            <p:cNvGrpSpPr/>
            <p:nvPr/>
          </p:nvGrpSpPr>
          <p:grpSpPr>
            <a:xfrm>
              <a:off x="5516640" y="3206880"/>
              <a:ext cx="1306080" cy="1123560"/>
              <a:chOff x="5516640" y="3206880"/>
              <a:chExt cx="1306080" cy="1123560"/>
            </a:xfrm>
          </p:grpSpPr>
          <p:sp>
            <p:nvSpPr>
              <p:cNvPr id="594" name="Freeform 72"/>
              <p:cNvSpPr/>
              <p:nvPr/>
            </p:nvSpPr>
            <p:spPr>
              <a:xfrm>
                <a:off x="5516640" y="3408480"/>
                <a:ext cx="1107720" cy="912600"/>
              </a:xfrm>
              <a:custGeom>
                <a:avLst/>
                <a:gdLst>
                  <a:gd name="textAreaLeft" fmla="*/ 0 w 1107720"/>
                  <a:gd name="textAreaRight" fmla="*/ 1108080 w 11077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698" h="575">
                    <a:moveTo>
                      <a:pt x="606" y="574"/>
                    </a:moveTo>
                    <a:lnTo>
                      <a:pt x="570" y="500"/>
                    </a:lnTo>
                    <a:lnTo>
                      <a:pt x="510" y="407"/>
                    </a:lnTo>
                    <a:lnTo>
                      <a:pt x="417" y="347"/>
                    </a:lnTo>
                    <a:lnTo>
                      <a:pt x="315" y="261"/>
                    </a:lnTo>
                    <a:lnTo>
                      <a:pt x="221" y="202"/>
                    </a:lnTo>
                    <a:lnTo>
                      <a:pt x="177" y="151"/>
                    </a:lnTo>
                    <a:lnTo>
                      <a:pt x="134" y="99"/>
                    </a:lnTo>
                    <a:lnTo>
                      <a:pt x="95" y="83"/>
                    </a:lnTo>
                    <a:lnTo>
                      <a:pt x="43" y="40"/>
                    </a:lnTo>
                    <a:lnTo>
                      <a:pt x="0" y="16"/>
                    </a:lnTo>
                    <a:lnTo>
                      <a:pt x="31" y="12"/>
                    </a:lnTo>
                    <a:lnTo>
                      <a:pt x="60" y="0"/>
                    </a:lnTo>
                    <a:lnTo>
                      <a:pt x="94" y="3"/>
                    </a:lnTo>
                    <a:lnTo>
                      <a:pt x="114" y="21"/>
                    </a:lnTo>
                    <a:lnTo>
                      <a:pt x="131" y="41"/>
                    </a:lnTo>
                    <a:lnTo>
                      <a:pt x="175" y="63"/>
                    </a:lnTo>
                    <a:lnTo>
                      <a:pt x="197" y="88"/>
                    </a:lnTo>
                    <a:lnTo>
                      <a:pt x="228" y="106"/>
                    </a:lnTo>
                    <a:lnTo>
                      <a:pt x="249" y="132"/>
                    </a:lnTo>
                    <a:lnTo>
                      <a:pt x="278" y="149"/>
                    </a:lnTo>
                    <a:lnTo>
                      <a:pt x="308" y="166"/>
                    </a:lnTo>
                    <a:lnTo>
                      <a:pt x="327" y="186"/>
                    </a:lnTo>
                    <a:lnTo>
                      <a:pt x="346" y="205"/>
                    </a:lnTo>
                    <a:lnTo>
                      <a:pt x="379" y="230"/>
                    </a:lnTo>
                    <a:lnTo>
                      <a:pt x="398" y="249"/>
                    </a:lnTo>
                    <a:lnTo>
                      <a:pt x="418" y="267"/>
                    </a:lnTo>
                    <a:lnTo>
                      <a:pt x="447" y="284"/>
                    </a:lnTo>
                    <a:lnTo>
                      <a:pt x="467" y="303"/>
                    </a:lnTo>
                    <a:lnTo>
                      <a:pt x="485" y="323"/>
                    </a:lnTo>
                    <a:lnTo>
                      <a:pt x="518" y="347"/>
                    </a:lnTo>
                    <a:lnTo>
                      <a:pt x="536" y="366"/>
                    </a:lnTo>
                    <a:lnTo>
                      <a:pt x="556" y="384"/>
                    </a:lnTo>
                    <a:lnTo>
                      <a:pt x="565" y="406"/>
                    </a:lnTo>
                    <a:lnTo>
                      <a:pt x="583" y="424"/>
                    </a:lnTo>
                    <a:lnTo>
                      <a:pt x="603" y="443"/>
                    </a:lnTo>
                    <a:lnTo>
                      <a:pt x="620" y="486"/>
                    </a:lnTo>
                    <a:lnTo>
                      <a:pt x="639" y="503"/>
                    </a:lnTo>
                    <a:lnTo>
                      <a:pt x="658" y="523"/>
                    </a:lnTo>
                    <a:lnTo>
                      <a:pt x="677" y="542"/>
                    </a:lnTo>
                    <a:lnTo>
                      <a:pt x="697" y="562"/>
                    </a:lnTo>
                    <a:lnTo>
                      <a:pt x="667" y="573"/>
                    </a:lnTo>
                    <a:lnTo>
                      <a:pt x="606" y="574"/>
                    </a:lnTo>
                    <a:lnTo>
                      <a:pt x="606" y="574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Freeform 73"/>
              <p:cNvSpPr/>
              <p:nvPr/>
            </p:nvSpPr>
            <p:spPr>
              <a:xfrm>
                <a:off x="5907240" y="3206880"/>
                <a:ext cx="896400" cy="1123560"/>
              </a:xfrm>
              <a:custGeom>
                <a:avLst/>
                <a:gdLst>
                  <a:gd name="textAreaLeft" fmla="*/ 0 w 896400"/>
                  <a:gd name="textAreaRight" fmla="*/ 896760 w 896400"/>
                  <a:gd name="textAreaTop" fmla="*/ 0 h 1123560"/>
                  <a:gd name="textAreaBottom" fmla="*/ 1123920 h 1123560"/>
                </a:gdLst>
                <a:ahLst/>
                <a:rect l="textAreaLeft" t="textAreaTop" r="textAreaRight" b="textAreaBottom"/>
                <a:pathLst>
                  <a:path w="565" h="708">
                    <a:moveTo>
                      <a:pt x="564" y="616"/>
                    </a:moveTo>
                    <a:lnTo>
                      <a:pt x="491" y="580"/>
                    </a:lnTo>
                    <a:lnTo>
                      <a:pt x="399" y="517"/>
                    </a:lnTo>
                    <a:lnTo>
                      <a:pt x="341" y="423"/>
                    </a:lnTo>
                    <a:lnTo>
                      <a:pt x="257" y="320"/>
                    </a:lnTo>
                    <a:lnTo>
                      <a:pt x="199" y="226"/>
                    </a:lnTo>
                    <a:lnTo>
                      <a:pt x="148" y="180"/>
                    </a:lnTo>
                    <a:lnTo>
                      <a:pt x="97" y="136"/>
                    </a:lnTo>
                    <a:lnTo>
                      <a:pt x="82" y="96"/>
                    </a:lnTo>
                    <a:lnTo>
                      <a:pt x="40" y="44"/>
                    </a:lnTo>
                    <a:lnTo>
                      <a:pt x="17" y="0"/>
                    </a:lnTo>
                    <a:lnTo>
                      <a:pt x="12" y="32"/>
                    </a:lnTo>
                    <a:lnTo>
                      <a:pt x="0" y="60"/>
                    </a:lnTo>
                    <a:lnTo>
                      <a:pt x="2" y="94"/>
                    </a:lnTo>
                    <a:lnTo>
                      <a:pt x="20" y="114"/>
                    </a:lnTo>
                    <a:lnTo>
                      <a:pt x="39" y="133"/>
                    </a:lnTo>
                    <a:lnTo>
                      <a:pt x="61" y="177"/>
                    </a:lnTo>
                    <a:lnTo>
                      <a:pt x="86" y="199"/>
                    </a:lnTo>
                    <a:lnTo>
                      <a:pt x="103" y="230"/>
                    </a:lnTo>
                    <a:lnTo>
                      <a:pt x="129" y="253"/>
                    </a:lnTo>
                    <a:lnTo>
                      <a:pt x="145" y="280"/>
                    </a:lnTo>
                    <a:lnTo>
                      <a:pt x="162" y="311"/>
                    </a:lnTo>
                    <a:lnTo>
                      <a:pt x="181" y="330"/>
                    </a:lnTo>
                    <a:lnTo>
                      <a:pt x="199" y="350"/>
                    </a:lnTo>
                    <a:lnTo>
                      <a:pt x="223" y="384"/>
                    </a:lnTo>
                    <a:lnTo>
                      <a:pt x="242" y="403"/>
                    </a:lnTo>
                    <a:lnTo>
                      <a:pt x="261" y="423"/>
                    </a:lnTo>
                    <a:lnTo>
                      <a:pt x="277" y="453"/>
                    </a:lnTo>
                    <a:lnTo>
                      <a:pt x="296" y="473"/>
                    </a:lnTo>
                    <a:lnTo>
                      <a:pt x="315" y="491"/>
                    </a:lnTo>
                    <a:lnTo>
                      <a:pt x="339" y="524"/>
                    </a:lnTo>
                    <a:lnTo>
                      <a:pt x="357" y="544"/>
                    </a:lnTo>
                    <a:lnTo>
                      <a:pt x="376" y="563"/>
                    </a:lnTo>
                    <a:lnTo>
                      <a:pt x="397" y="573"/>
                    </a:lnTo>
                    <a:lnTo>
                      <a:pt x="415" y="591"/>
                    </a:lnTo>
                    <a:lnTo>
                      <a:pt x="434" y="611"/>
                    </a:lnTo>
                    <a:lnTo>
                      <a:pt x="475" y="629"/>
                    </a:lnTo>
                    <a:lnTo>
                      <a:pt x="493" y="648"/>
                    </a:lnTo>
                    <a:lnTo>
                      <a:pt x="512" y="667"/>
                    </a:lnTo>
                    <a:lnTo>
                      <a:pt x="531" y="687"/>
                    </a:lnTo>
                    <a:lnTo>
                      <a:pt x="550" y="707"/>
                    </a:lnTo>
                    <a:lnTo>
                      <a:pt x="562" y="678"/>
                    </a:lnTo>
                    <a:lnTo>
                      <a:pt x="564" y="616"/>
                    </a:lnTo>
                    <a:lnTo>
                      <a:pt x="564" y="61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Freeform 74"/>
              <p:cNvSpPr/>
              <p:nvPr/>
            </p:nvSpPr>
            <p:spPr>
              <a:xfrm>
                <a:off x="5665680" y="3263760"/>
                <a:ext cx="1157040" cy="809280"/>
              </a:xfrm>
              <a:custGeom>
                <a:avLst/>
                <a:gdLst>
                  <a:gd name="textAreaLeft" fmla="*/ 0 w 1157040"/>
                  <a:gd name="textAreaRight" fmla="*/ 1157400 w 1157040"/>
                  <a:gd name="textAreaTop" fmla="*/ 0 h 809280"/>
                  <a:gd name="textAreaBottom" fmla="*/ 809640 h 809280"/>
                </a:gdLst>
                <a:ahLst/>
                <a:rect l="textAreaLeft" t="textAreaTop" r="textAreaRight" b="textAreaBottom"/>
                <a:pathLst>
                  <a:path w="729" h="510">
                    <a:moveTo>
                      <a:pt x="711" y="416"/>
                    </a:moveTo>
                    <a:lnTo>
                      <a:pt x="630" y="405"/>
                    </a:lnTo>
                    <a:lnTo>
                      <a:pt x="523" y="375"/>
                    </a:lnTo>
                    <a:lnTo>
                      <a:pt x="440" y="303"/>
                    </a:lnTo>
                    <a:lnTo>
                      <a:pt x="326" y="230"/>
                    </a:lnTo>
                    <a:lnTo>
                      <a:pt x="243" y="158"/>
                    </a:lnTo>
                    <a:lnTo>
                      <a:pt x="180" y="131"/>
                    </a:lnTo>
                    <a:lnTo>
                      <a:pt x="118" y="105"/>
                    </a:lnTo>
                    <a:lnTo>
                      <a:pt x="92" y="72"/>
                    </a:lnTo>
                    <a:lnTo>
                      <a:pt x="36" y="35"/>
                    </a:lnTo>
                    <a:lnTo>
                      <a:pt x="0" y="0"/>
                    </a:lnTo>
                    <a:lnTo>
                      <a:pt x="6" y="33"/>
                    </a:lnTo>
                    <a:lnTo>
                      <a:pt x="3" y="64"/>
                    </a:lnTo>
                    <a:lnTo>
                      <a:pt x="15" y="95"/>
                    </a:lnTo>
                    <a:lnTo>
                      <a:pt x="38" y="109"/>
                    </a:lnTo>
                    <a:lnTo>
                      <a:pt x="63" y="121"/>
                    </a:lnTo>
                    <a:lnTo>
                      <a:pt x="97" y="156"/>
                    </a:lnTo>
                    <a:lnTo>
                      <a:pt x="128" y="168"/>
                    </a:lnTo>
                    <a:lnTo>
                      <a:pt x="153" y="193"/>
                    </a:lnTo>
                    <a:lnTo>
                      <a:pt x="184" y="205"/>
                    </a:lnTo>
                    <a:lnTo>
                      <a:pt x="210" y="227"/>
                    </a:lnTo>
                    <a:lnTo>
                      <a:pt x="235" y="252"/>
                    </a:lnTo>
                    <a:lnTo>
                      <a:pt x="258" y="265"/>
                    </a:lnTo>
                    <a:lnTo>
                      <a:pt x="283" y="277"/>
                    </a:lnTo>
                    <a:lnTo>
                      <a:pt x="315" y="301"/>
                    </a:lnTo>
                    <a:lnTo>
                      <a:pt x="339" y="315"/>
                    </a:lnTo>
                    <a:lnTo>
                      <a:pt x="363" y="327"/>
                    </a:lnTo>
                    <a:lnTo>
                      <a:pt x="388" y="350"/>
                    </a:lnTo>
                    <a:lnTo>
                      <a:pt x="411" y="364"/>
                    </a:lnTo>
                    <a:lnTo>
                      <a:pt x="435" y="375"/>
                    </a:lnTo>
                    <a:lnTo>
                      <a:pt x="468" y="399"/>
                    </a:lnTo>
                    <a:lnTo>
                      <a:pt x="492" y="412"/>
                    </a:lnTo>
                    <a:lnTo>
                      <a:pt x="516" y="424"/>
                    </a:lnTo>
                    <a:lnTo>
                      <a:pt x="538" y="427"/>
                    </a:lnTo>
                    <a:lnTo>
                      <a:pt x="561" y="440"/>
                    </a:lnTo>
                    <a:lnTo>
                      <a:pt x="586" y="453"/>
                    </a:lnTo>
                    <a:lnTo>
                      <a:pt x="631" y="457"/>
                    </a:lnTo>
                    <a:lnTo>
                      <a:pt x="653" y="470"/>
                    </a:lnTo>
                    <a:lnTo>
                      <a:pt x="678" y="483"/>
                    </a:lnTo>
                    <a:lnTo>
                      <a:pt x="702" y="495"/>
                    </a:lnTo>
                    <a:lnTo>
                      <a:pt x="726" y="509"/>
                    </a:lnTo>
                    <a:lnTo>
                      <a:pt x="728" y="477"/>
                    </a:lnTo>
                    <a:lnTo>
                      <a:pt x="711" y="416"/>
                    </a:lnTo>
                    <a:lnTo>
                      <a:pt x="711" y="41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7" name="Group 79"/>
            <p:cNvGrpSpPr/>
            <p:nvPr/>
          </p:nvGrpSpPr>
          <p:grpSpPr>
            <a:xfrm>
              <a:off x="7574040" y="3359160"/>
              <a:ext cx="1306080" cy="1123560"/>
              <a:chOff x="7574040" y="3359160"/>
              <a:chExt cx="1306080" cy="1123560"/>
            </a:xfrm>
          </p:grpSpPr>
          <p:sp>
            <p:nvSpPr>
              <p:cNvPr id="598" name="Freeform 76"/>
              <p:cNvSpPr/>
              <p:nvPr/>
            </p:nvSpPr>
            <p:spPr>
              <a:xfrm>
                <a:off x="7574040" y="3560760"/>
                <a:ext cx="1107720" cy="912600"/>
              </a:xfrm>
              <a:custGeom>
                <a:avLst/>
                <a:gdLst>
                  <a:gd name="textAreaLeft" fmla="*/ 0 w 1107720"/>
                  <a:gd name="textAreaRight" fmla="*/ 1108080 w 11077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698" h="575">
                    <a:moveTo>
                      <a:pt x="606" y="574"/>
                    </a:moveTo>
                    <a:lnTo>
                      <a:pt x="570" y="500"/>
                    </a:lnTo>
                    <a:lnTo>
                      <a:pt x="510" y="407"/>
                    </a:lnTo>
                    <a:lnTo>
                      <a:pt x="417" y="347"/>
                    </a:lnTo>
                    <a:lnTo>
                      <a:pt x="315" y="261"/>
                    </a:lnTo>
                    <a:lnTo>
                      <a:pt x="221" y="202"/>
                    </a:lnTo>
                    <a:lnTo>
                      <a:pt x="177" y="151"/>
                    </a:lnTo>
                    <a:lnTo>
                      <a:pt x="134" y="99"/>
                    </a:lnTo>
                    <a:lnTo>
                      <a:pt x="95" y="83"/>
                    </a:lnTo>
                    <a:lnTo>
                      <a:pt x="43" y="40"/>
                    </a:lnTo>
                    <a:lnTo>
                      <a:pt x="0" y="16"/>
                    </a:lnTo>
                    <a:lnTo>
                      <a:pt x="31" y="12"/>
                    </a:lnTo>
                    <a:lnTo>
                      <a:pt x="60" y="0"/>
                    </a:lnTo>
                    <a:lnTo>
                      <a:pt x="94" y="3"/>
                    </a:lnTo>
                    <a:lnTo>
                      <a:pt x="114" y="21"/>
                    </a:lnTo>
                    <a:lnTo>
                      <a:pt x="131" y="41"/>
                    </a:lnTo>
                    <a:lnTo>
                      <a:pt x="175" y="63"/>
                    </a:lnTo>
                    <a:lnTo>
                      <a:pt x="197" y="88"/>
                    </a:lnTo>
                    <a:lnTo>
                      <a:pt x="228" y="106"/>
                    </a:lnTo>
                    <a:lnTo>
                      <a:pt x="249" y="132"/>
                    </a:lnTo>
                    <a:lnTo>
                      <a:pt x="278" y="149"/>
                    </a:lnTo>
                    <a:lnTo>
                      <a:pt x="308" y="166"/>
                    </a:lnTo>
                    <a:lnTo>
                      <a:pt x="327" y="186"/>
                    </a:lnTo>
                    <a:lnTo>
                      <a:pt x="346" y="205"/>
                    </a:lnTo>
                    <a:lnTo>
                      <a:pt x="379" y="230"/>
                    </a:lnTo>
                    <a:lnTo>
                      <a:pt x="398" y="249"/>
                    </a:lnTo>
                    <a:lnTo>
                      <a:pt x="418" y="267"/>
                    </a:lnTo>
                    <a:lnTo>
                      <a:pt x="447" y="284"/>
                    </a:lnTo>
                    <a:lnTo>
                      <a:pt x="467" y="303"/>
                    </a:lnTo>
                    <a:lnTo>
                      <a:pt x="485" y="323"/>
                    </a:lnTo>
                    <a:lnTo>
                      <a:pt x="518" y="347"/>
                    </a:lnTo>
                    <a:lnTo>
                      <a:pt x="536" y="366"/>
                    </a:lnTo>
                    <a:lnTo>
                      <a:pt x="556" y="384"/>
                    </a:lnTo>
                    <a:lnTo>
                      <a:pt x="565" y="406"/>
                    </a:lnTo>
                    <a:lnTo>
                      <a:pt x="583" y="424"/>
                    </a:lnTo>
                    <a:lnTo>
                      <a:pt x="603" y="443"/>
                    </a:lnTo>
                    <a:lnTo>
                      <a:pt x="620" y="486"/>
                    </a:lnTo>
                    <a:lnTo>
                      <a:pt x="639" y="503"/>
                    </a:lnTo>
                    <a:lnTo>
                      <a:pt x="658" y="523"/>
                    </a:lnTo>
                    <a:lnTo>
                      <a:pt x="677" y="542"/>
                    </a:lnTo>
                    <a:lnTo>
                      <a:pt x="697" y="562"/>
                    </a:lnTo>
                    <a:lnTo>
                      <a:pt x="667" y="573"/>
                    </a:lnTo>
                    <a:lnTo>
                      <a:pt x="606" y="574"/>
                    </a:lnTo>
                    <a:lnTo>
                      <a:pt x="606" y="574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77"/>
              <p:cNvSpPr/>
              <p:nvPr/>
            </p:nvSpPr>
            <p:spPr>
              <a:xfrm>
                <a:off x="7964640" y="3359160"/>
                <a:ext cx="896400" cy="1123560"/>
              </a:xfrm>
              <a:custGeom>
                <a:avLst/>
                <a:gdLst>
                  <a:gd name="textAreaLeft" fmla="*/ 0 w 896400"/>
                  <a:gd name="textAreaRight" fmla="*/ 896760 w 896400"/>
                  <a:gd name="textAreaTop" fmla="*/ 0 h 1123560"/>
                  <a:gd name="textAreaBottom" fmla="*/ 1123920 h 1123560"/>
                </a:gdLst>
                <a:ahLst/>
                <a:rect l="textAreaLeft" t="textAreaTop" r="textAreaRight" b="textAreaBottom"/>
                <a:pathLst>
                  <a:path w="565" h="708">
                    <a:moveTo>
                      <a:pt x="564" y="616"/>
                    </a:moveTo>
                    <a:lnTo>
                      <a:pt x="491" y="580"/>
                    </a:lnTo>
                    <a:lnTo>
                      <a:pt x="399" y="517"/>
                    </a:lnTo>
                    <a:lnTo>
                      <a:pt x="341" y="423"/>
                    </a:lnTo>
                    <a:lnTo>
                      <a:pt x="257" y="320"/>
                    </a:lnTo>
                    <a:lnTo>
                      <a:pt x="199" y="226"/>
                    </a:lnTo>
                    <a:lnTo>
                      <a:pt x="148" y="180"/>
                    </a:lnTo>
                    <a:lnTo>
                      <a:pt x="97" y="136"/>
                    </a:lnTo>
                    <a:lnTo>
                      <a:pt x="82" y="96"/>
                    </a:lnTo>
                    <a:lnTo>
                      <a:pt x="40" y="44"/>
                    </a:lnTo>
                    <a:lnTo>
                      <a:pt x="17" y="0"/>
                    </a:lnTo>
                    <a:lnTo>
                      <a:pt x="12" y="32"/>
                    </a:lnTo>
                    <a:lnTo>
                      <a:pt x="0" y="60"/>
                    </a:lnTo>
                    <a:lnTo>
                      <a:pt x="2" y="94"/>
                    </a:lnTo>
                    <a:lnTo>
                      <a:pt x="20" y="114"/>
                    </a:lnTo>
                    <a:lnTo>
                      <a:pt x="39" y="133"/>
                    </a:lnTo>
                    <a:lnTo>
                      <a:pt x="61" y="177"/>
                    </a:lnTo>
                    <a:lnTo>
                      <a:pt x="86" y="199"/>
                    </a:lnTo>
                    <a:lnTo>
                      <a:pt x="103" y="230"/>
                    </a:lnTo>
                    <a:lnTo>
                      <a:pt x="129" y="253"/>
                    </a:lnTo>
                    <a:lnTo>
                      <a:pt x="145" y="280"/>
                    </a:lnTo>
                    <a:lnTo>
                      <a:pt x="162" y="311"/>
                    </a:lnTo>
                    <a:lnTo>
                      <a:pt x="181" y="330"/>
                    </a:lnTo>
                    <a:lnTo>
                      <a:pt x="199" y="350"/>
                    </a:lnTo>
                    <a:lnTo>
                      <a:pt x="223" y="384"/>
                    </a:lnTo>
                    <a:lnTo>
                      <a:pt x="242" y="403"/>
                    </a:lnTo>
                    <a:lnTo>
                      <a:pt x="261" y="423"/>
                    </a:lnTo>
                    <a:lnTo>
                      <a:pt x="277" y="453"/>
                    </a:lnTo>
                    <a:lnTo>
                      <a:pt x="296" y="473"/>
                    </a:lnTo>
                    <a:lnTo>
                      <a:pt x="315" y="491"/>
                    </a:lnTo>
                    <a:lnTo>
                      <a:pt x="339" y="524"/>
                    </a:lnTo>
                    <a:lnTo>
                      <a:pt x="357" y="544"/>
                    </a:lnTo>
                    <a:lnTo>
                      <a:pt x="376" y="563"/>
                    </a:lnTo>
                    <a:lnTo>
                      <a:pt x="397" y="573"/>
                    </a:lnTo>
                    <a:lnTo>
                      <a:pt x="415" y="591"/>
                    </a:lnTo>
                    <a:lnTo>
                      <a:pt x="434" y="611"/>
                    </a:lnTo>
                    <a:lnTo>
                      <a:pt x="475" y="629"/>
                    </a:lnTo>
                    <a:lnTo>
                      <a:pt x="493" y="648"/>
                    </a:lnTo>
                    <a:lnTo>
                      <a:pt x="512" y="667"/>
                    </a:lnTo>
                    <a:lnTo>
                      <a:pt x="531" y="687"/>
                    </a:lnTo>
                    <a:lnTo>
                      <a:pt x="550" y="707"/>
                    </a:lnTo>
                    <a:lnTo>
                      <a:pt x="562" y="678"/>
                    </a:lnTo>
                    <a:lnTo>
                      <a:pt x="564" y="616"/>
                    </a:lnTo>
                    <a:lnTo>
                      <a:pt x="564" y="61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Freeform 78"/>
              <p:cNvSpPr/>
              <p:nvPr/>
            </p:nvSpPr>
            <p:spPr>
              <a:xfrm>
                <a:off x="7723080" y="3416400"/>
                <a:ext cx="1157040" cy="809280"/>
              </a:xfrm>
              <a:custGeom>
                <a:avLst/>
                <a:gdLst>
                  <a:gd name="textAreaLeft" fmla="*/ 0 w 1157040"/>
                  <a:gd name="textAreaRight" fmla="*/ 1157400 w 1157040"/>
                  <a:gd name="textAreaTop" fmla="*/ 0 h 809280"/>
                  <a:gd name="textAreaBottom" fmla="*/ 809640 h 809280"/>
                </a:gdLst>
                <a:ahLst/>
                <a:rect l="textAreaLeft" t="textAreaTop" r="textAreaRight" b="textAreaBottom"/>
                <a:pathLst>
                  <a:path w="729" h="510">
                    <a:moveTo>
                      <a:pt x="711" y="416"/>
                    </a:moveTo>
                    <a:lnTo>
                      <a:pt x="630" y="405"/>
                    </a:lnTo>
                    <a:lnTo>
                      <a:pt x="523" y="375"/>
                    </a:lnTo>
                    <a:lnTo>
                      <a:pt x="440" y="303"/>
                    </a:lnTo>
                    <a:lnTo>
                      <a:pt x="326" y="230"/>
                    </a:lnTo>
                    <a:lnTo>
                      <a:pt x="243" y="158"/>
                    </a:lnTo>
                    <a:lnTo>
                      <a:pt x="180" y="131"/>
                    </a:lnTo>
                    <a:lnTo>
                      <a:pt x="118" y="105"/>
                    </a:lnTo>
                    <a:lnTo>
                      <a:pt x="92" y="72"/>
                    </a:lnTo>
                    <a:lnTo>
                      <a:pt x="36" y="35"/>
                    </a:lnTo>
                    <a:lnTo>
                      <a:pt x="0" y="0"/>
                    </a:lnTo>
                    <a:lnTo>
                      <a:pt x="6" y="33"/>
                    </a:lnTo>
                    <a:lnTo>
                      <a:pt x="3" y="64"/>
                    </a:lnTo>
                    <a:lnTo>
                      <a:pt x="15" y="95"/>
                    </a:lnTo>
                    <a:lnTo>
                      <a:pt x="38" y="109"/>
                    </a:lnTo>
                    <a:lnTo>
                      <a:pt x="63" y="121"/>
                    </a:lnTo>
                    <a:lnTo>
                      <a:pt x="97" y="156"/>
                    </a:lnTo>
                    <a:lnTo>
                      <a:pt x="128" y="168"/>
                    </a:lnTo>
                    <a:lnTo>
                      <a:pt x="153" y="193"/>
                    </a:lnTo>
                    <a:lnTo>
                      <a:pt x="184" y="205"/>
                    </a:lnTo>
                    <a:lnTo>
                      <a:pt x="210" y="227"/>
                    </a:lnTo>
                    <a:lnTo>
                      <a:pt x="235" y="252"/>
                    </a:lnTo>
                    <a:lnTo>
                      <a:pt x="258" y="265"/>
                    </a:lnTo>
                    <a:lnTo>
                      <a:pt x="283" y="277"/>
                    </a:lnTo>
                    <a:lnTo>
                      <a:pt x="315" y="301"/>
                    </a:lnTo>
                    <a:lnTo>
                      <a:pt x="339" y="315"/>
                    </a:lnTo>
                    <a:lnTo>
                      <a:pt x="363" y="327"/>
                    </a:lnTo>
                    <a:lnTo>
                      <a:pt x="388" y="350"/>
                    </a:lnTo>
                    <a:lnTo>
                      <a:pt x="411" y="364"/>
                    </a:lnTo>
                    <a:lnTo>
                      <a:pt x="435" y="375"/>
                    </a:lnTo>
                    <a:lnTo>
                      <a:pt x="468" y="399"/>
                    </a:lnTo>
                    <a:lnTo>
                      <a:pt x="492" y="412"/>
                    </a:lnTo>
                    <a:lnTo>
                      <a:pt x="516" y="424"/>
                    </a:lnTo>
                    <a:lnTo>
                      <a:pt x="538" y="427"/>
                    </a:lnTo>
                    <a:lnTo>
                      <a:pt x="561" y="440"/>
                    </a:lnTo>
                    <a:lnTo>
                      <a:pt x="586" y="453"/>
                    </a:lnTo>
                    <a:lnTo>
                      <a:pt x="631" y="457"/>
                    </a:lnTo>
                    <a:lnTo>
                      <a:pt x="653" y="470"/>
                    </a:lnTo>
                    <a:lnTo>
                      <a:pt x="678" y="483"/>
                    </a:lnTo>
                    <a:lnTo>
                      <a:pt x="702" y="495"/>
                    </a:lnTo>
                    <a:lnTo>
                      <a:pt x="726" y="509"/>
                    </a:lnTo>
                    <a:lnTo>
                      <a:pt x="728" y="477"/>
                    </a:lnTo>
                    <a:lnTo>
                      <a:pt x="711" y="416"/>
                    </a:lnTo>
                    <a:lnTo>
                      <a:pt x="711" y="41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1" name="Group 83"/>
            <p:cNvGrpSpPr/>
            <p:nvPr/>
          </p:nvGrpSpPr>
          <p:grpSpPr>
            <a:xfrm>
              <a:off x="6888240" y="3359160"/>
              <a:ext cx="1306080" cy="1123560"/>
              <a:chOff x="6888240" y="3359160"/>
              <a:chExt cx="1306080" cy="1123560"/>
            </a:xfrm>
          </p:grpSpPr>
          <p:sp>
            <p:nvSpPr>
              <p:cNvPr id="602" name="Freeform 80"/>
              <p:cNvSpPr/>
              <p:nvPr/>
            </p:nvSpPr>
            <p:spPr>
              <a:xfrm>
                <a:off x="6888240" y="3560760"/>
                <a:ext cx="1107720" cy="912600"/>
              </a:xfrm>
              <a:custGeom>
                <a:avLst/>
                <a:gdLst>
                  <a:gd name="textAreaLeft" fmla="*/ 0 w 1107720"/>
                  <a:gd name="textAreaRight" fmla="*/ 1108080 w 110772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698" h="575">
                    <a:moveTo>
                      <a:pt x="606" y="574"/>
                    </a:moveTo>
                    <a:lnTo>
                      <a:pt x="570" y="500"/>
                    </a:lnTo>
                    <a:lnTo>
                      <a:pt x="510" y="407"/>
                    </a:lnTo>
                    <a:lnTo>
                      <a:pt x="417" y="347"/>
                    </a:lnTo>
                    <a:lnTo>
                      <a:pt x="315" y="261"/>
                    </a:lnTo>
                    <a:lnTo>
                      <a:pt x="221" y="202"/>
                    </a:lnTo>
                    <a:lnTo>
                      <a:pt x="177" y="151"/>
                    </a:lnTo>
                    <a:lnTo>
                      <a:pt x="134" y="99"/>
                    </a:lnTo>
                    <a:lnTo>
                      <a:pt x="95" y="83"/>
                    </a:lnTo>
                    <a:lnTo>
                      <a:pt x="43" y="40"/>
                    </a:lnTo>
                    <a:lnTo>
                      <a:pt x="0" y="16"/>
                    </a:lnTo>
                    <a:lnTo>
                      <a:pt x="31" y="12"/>
                    </a:lnTo>
                    <a:lnTo>
                      <a:pt x="60" y="0"/>
                    </a:lnTo>
                    <a:lnTo>
                      <a:pt x="94" y="3"/>
                    </a:lnTo>
                    <a:lnTo>
                      <a:pt x="114" y="21"/>
                    </a:lnTo>
                    <a:lnTo>
                      <a:pt x="131" y="41"/>
                    </a:lnTo>
                    <a:lnTo>
                      <a:pt x="175" y="63"/>
                    </a:lnTo>
                    <a:lnTo>
                      <a:pt x="197" y="88"/>
                    </a:lnTo>
                    <a:lnTo>
                      <a:pt x="228" y="106"/>
                    </a:lnTo>
                    <a:lnTo>
                      <a:pt x="249" y="132"/>
                    </a:lnTo>
                    <a:lnTo>
                      <a:pt x="278" y="149"/>
                    </a:lnTo>
                    <a:lnTo>
                      <a:pt x="308" y="166"/>
                    </a:lnTo>
                    <a:lnTo>
                      <a:pt x="327" y="186"/>
                    </a:lnTo>
                    <a:lnTo>
                      <a:pt x="346" y="205"/>
                    </a:lnTo>
                    <a:lnTo>
                      <a:pt x="379" y="230"/>
                    </a:lnTo>
                    <a:lnTo>
                      <a:pt x="398" y="249"/>
                    </a:lnTo>
                    <a:lnTo>
                      <a:pt x="418" y="267"/>
                    </a:lnTo>
                    <a:lnTo>
                      <a:pt x="447" y="284"/>
                    </a:lnTo>
                    <a:lnTo>
                      <a:pt x="467" y="303"/>
                    </a:lnTo>
                    <a:lnTo>
                      <a:pt x="485" y="323"/>
                    </a:lnTo>
                    <a:lnTo>
                      <a:pt x="518" y="347"/>
                    </a:lnTo>
                    <a:lnTo>
                      <a:pt x="536" y="366"/>
                    </a:lnTo>
                    <a:lnTo>
                      <a:pt x="556" y="384"/>
                    </a:lnTo>
                    <a:lnTo>
                      <a:pt x="565" y="406"/>
                    </a:lnTo>
                    <a:lnTo>
                      <a:pt x="583" y="424"/>
                    </a:lnTo>
                    <a:lnTo>
                      <a:pt x="603" y="443"/>
                    </a:lnTo>
                    <a:lnTo>
                      <a:pt x="620" y="486"/>
                    </a:lnTo>
                    <a:lnTo>
                      <a:pt x="639" y="503"/>
                    </a:lnTo>
                    <a:lnTo>
                      <a:pt x="658" y="523"/>
                    </a:lnTo>
                    <a:lnTo>
                      <a:pt x="677" y="542"/>
                    </a:lnTo>
                    <a:lnTo>
                      <a:pt x="697" y="562"/>
                    </a:lnTo>
                    <a:lnTo>
                      <a:pt x="667" y="573"/>
                    </a:lnTo>
                    <a:lnTo>
                      <a:pt x="606" y="574"/>
                    </a:lnTo>
                    <a:lnTo>
                      <a:pt x="606" y="574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81"/>
              <p:cNvSpPr/>
              <p:nvPr/>
            </p:nvSpPr>
            <p:spPr>
              <a:xfrm>
                <a:off x="7278840" y="3359160"/>
                <a:ext cx="896400" cy="1123560"/>
              </a:xfrm>
              <a:custGeom>
                <a:avLst/>
                <a:gdLst>
                  <a:gd name="textAreaLeft" fmla="*/ 0 w 896400"/>
                  <a:gd name="textAreaRight" fmla="*/ 896760 w 896400"/>
                  <a:gd name="textAreaTop" fmla="*/ 0 h 1123560"/>
                  <a:gd name="textAreaBottom" fmla="*/ 1123920 h 1123560"/>
                </a:gdLst>
                <a:ahLst/>
                <a:rect l="textAreaLeft" t="textAreaTop" r="textAreaRight" b="textAreaBottom"/>
                <a:pathLst>
                  <a:path w="565" h="708">
                    <a:moveTo>
                      <a:pt x="564" y="616"/>
                    </a:moveTo>
                    <a:lnTo>
                      <a:pt x="491" y="580"/>
                    </a:lnTo>
                    <a:lnTo>
                      <a:pt x="399" y="517"/>
                    </a:lnTo>
                    <a:lnTo>
                      <a:pt x="341" y="423"/>
                    </a:lnTo>
                    <a:lnTo>
                      <a:pt x="257" y="320"/>
                    </a:lnTo>
                    <a:lnTo>
                      <a:pt x="199" y="226"/>
                    </a:lnTo>
                    <a:lnTo>
                      <a:pt x="148" y="180"/>
                    </a:lnTo>
                    <a:lnTo>
                      <a:pt x="97" y="136"/>
                    </a:lnTo>
                    <a:lnTo>
                      <a:pt x="82" y="96"/>
                    </a:lnTo>
                    <a:lnTo>
                      <a:pt x="40" y="44"/>
                    </a:lnTo>
                    <a:lnTo>
                      <a:pt x="17" y="0"/>
                    </a:lnTo>
                    <a:lnTo>
                      <a:pt x="12" y="32"/>
                    </a:lnTo>
                    <a:lnTo>
                      <a:pt x="0" y="60"/>
                    </a:lnTo>
                    <a:lnTo>
                      <a:pt x="2" y="94"/>
                    </a:lnTo>
                    <a:lnTo>
                      <a:pt x="20" y="114"/>
                    </a:lnTo>
                    <a:lnTo>
                      <a:pt x="39" y="133"/>
                    </a:lnTo>
                    <a:lnTo>
                      <a:pt x="61" y="177"/>
                    </a:lnTo>
                    <a:lnTo>
                      <a:pt x="86" y="199"/>
                    </a:lnTo>
                    <a:lnTo>
                      <a:pt x="103" y="230"/>
                    </a:lnTo>
                    <a:lnTo>
                      <a:pt x="129" y="253"/>
                    </a:lnTo>
                    <a:lnTo>
                      <a:pt x="145" y="280"/>
                    </a:lnTo>
                    <a:lnTo>
                      <a:pt x="162" y="311"/>
                    </a:lnTo>
                    <a:lnTo>
                      <a:pt x="181" y="330"/>
                    </a:lnTo>
                    <a:lnTo>
                      <a:pt x="199" y="350"/>
                    </a:lnTo>
                    <a:lnTo>
                      <a:pt x="223" y="384"/>
                    </a:lnTo>
                    <a:lnTo>
                      <a:pt x="242" y="403"/>
                    </a:lnTo>
                    <a:lnTo>
                      <a:pt x="261" y="423"/>
                    </a:lnTo>
                    <a:lnTo>
                      <a:pt x="277" y="453"/>
                    </a:lnTo>
                    <a:lnTo>
                      <a:pt x="296" y="473"/>
                    </a:lnTo>
                    <a:lnTo>
                      <a:pt x="315" y="491"/>
                    </a:lnTo>
                    <a:lnTo>
                      <a:pt x="339" y="524"/>
                    </a:lnTo>
                    <a:lnTo>
                      <a:pt x="357" y="544"/>
                    </a:lnTo>
                    <a:lnTo>
                      <a:pt x="376" y="563"/>
                    </a:lnTo>
                    <a:lnTo>
                      <a:pt x="397" y="573"/>
                    </a:lnTo>
                    <a:lnTo>
                      <a:pt x="415" y="591"/>
                    </a:lnTo>
                    <a:lnTo>
                      <a:pt x="434" y="611"/>
                    </a:lnTo>
                    <a:lnTo>
                      <a:pt x="475" y="629"/>
                    </a:lnTo>
                    <a:lnTo>
                      <a:pt x="493" y="648"/>
                    </a:lnTo>
                    <a:lnTo>
                      <a:pt x="512" y="667"/>
                    </a:lnTo>
                    <a:lnTo>
                      <a:pt x="531" y="687"/>
                    </a:lnTo>
                    <a:lnTo>
                      <a:pt x="550" y="707"/>
                    </a:lnTo>
                    <a:lnTo>
                      <a:pt x="562" y="678"/>
                    </a:lnTo>
                    <a:lnTo>
                      <a:pt x="564" y="616"/>
                    </a:lnTo>
                    <a:lnTo>
                      <a:pt x="564" y="61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82"/>
              <p:cNvSpPr/>
              <p:nvPr/>
            </p:nvSpPr>
            <p:spPr>
              <a:xfrm>
                <a:off x="7037280" y="3416400"/>
                <a:ext cx="1157040" cy="809280"/>
              </a:xfrm>
              <a:custGeom>
                <a:avLst/>
                <a:gdLst>
                  <a:gd name="textAreaLeft" fmla="*/ 0 w 1157040"/>
                  <a:gd name="textAreaRight" fmla="*/ 1157400 w 1157040"/>
                  <a:gd name="textAreaTop" fmla="*/ 0 h 809280"/>
                  <a:gd name="textAreaBottom" fmla="*/ 809640 h 809280"/>
                </a:gdLst>
                <a:ahLst/>
                <a:rect l="textAreaLeft" t="textAreaTop" r="textAreaRight" b="textAreaBottom"/>
                <a:pathLst>
                  <a:path w="729" h="510">
                    <a:moveTo>
                      <a:pt x="711" y="416"/>
                    </a:moveTo>
                    <a:lnTo>
                      <a:pt x="630" y="405"/>
                    </a:lnTo>
                    <a:lnTo>
                      <a:pt x="523" y="375"/>
                    </a:lnTo>
                    <a:lnTo>
                      <a:pt x="440" y="303"/>
                    </a:lnTo>
                    <a:lnTo>
                      <a:pt x="326" y="230"/>
                    </a:lnTo>
                    <a:lnTo>
                      <a:pt x="243" y="158"/>
                    </a:lnTo>
                    <a:lnTo>
                      <a:pt x="180" y="131"/>
                    </a:lnTo>
                    <a:lnTo>
                      <a:pt x="118" y="105"/>
                    </a:lnTo>
                    <a:lnTo>
                      <a:pt x="92" y="72"/>
                    </a:lnTo>
                    <a:lnTo>
                      <a:pt x="36" y="35"/>
                    </a:lnTo>
                    <a:lnTo>
                      <a:pt x="0" y="0"/>
                    </a:lnTo>
                    <a:lnTo>
                      <a:pt x="6" y="33"/>
                    </a:lnTo>
                    <a:lnTo>
                      <a:pt x="3" y="64"/>
                    </a:lnTo>
                    <a:lnTo>
                      <a:pt x="15" y="95"/>
                    </a:lnTo>
                    <a:lnTo>
                      <a:pt x="38" y="109"/>
                    </a:lnTo>
                    <a:lnTo>
                      <a:pt x="63" y="121"/>
                    </a:lnTo>
                    <a:lnTo>
                      <a:pt x="97" y="156"/>
                    </a:lnTo>
                    <a:lnTo>
                      <a:pt x="128" y="168"/>
                    </a:lnTo>
                    <a:lnTo>
                      <a:pt x="153" y="193"/>
                    </a:lnTo>
                    <a:lnTo>
                      <a:pt x="184" y="205"/>
                    </a:lnTo>
                    <a:lnTo>
                      <a:pt x="210" y="227"/>
                    </a:lnTo>
                    <a:lnTo>
                      <a:pt x="235" y="252"/>
                    </a:lnTo>
                    <a:lnTo>
                      <a:pt x="258" y="265"/>
                    </a:lnTo>
                    <a:lnTo>
                      <a:pt x="283" y="277"/>
                    </a:lnTo>
                    <a:lnTo>
                      <a:pt x="315" y="301"/>
                    </a:lnTo>
                    <a:lnTo>
                      <a:pt x="339" y="315"/>
                    </a:lnTo>
                    <a:lnTo>
                      <a:pt x="363" y="327"/>
                    </a:lnTo>
                    <a:lnTo>
                      <a:pt x="388" y="350"/>
                    </a:lnTo>
                    <a:lnTo>
                      <a:pt x="411" y="364"/>
                    </a:lnTo>
                    <a:lnTo>
                      <a:pt x="435" y="375"/>
                    </a:lnTo>
                    <a:lnTo>
                      <a:pt x="468" y="399"/>
                    </a:lnTo>
                    <a:lnTo>
                      <a:pt x="492" y="412"/>
                    </a:lnTo>
                    <a:lnTo>
                      <a:pt x="516" y="424"/>
                    </a:lnTo>
                    <a:lnTo>
                      <a:pt x="538" y="427"/>
                    </a:lnTo>
                    <a:lnTo>
                      <a:pt x="561" y="440"/>
                    </a:lnTo>
                    <a:lnTo>
                      <a:pt x="586" y="453"/>
                    </a:lnTo>
                    <a:lnTo>
                      <a:pt x="631" y="457"/>
                    </a:lnTo>
                    <a:lnTo>
                      <a:pt x="653" y="470"/>
                    </a:lnTo>
                    <a:lnTo>
                      <a:pt x="678" y="483"/>
                    </a:lnTo>
                    <a:lnTo>
                      <a:pt x="702" y="495"/>
                    </a:lnTo>
                    <a:lnTo>
                      <a:pt x="726" y="509"/>
                    </a:lnTo>
                    <a:lnTo>
                      <a:pt x="728" y="477"/>
                    </a:lnTo>
                    <a:lnTo>
                      <a:pt x="711" y="416"/>
                    </a:lnTo>
                    <a:lnTo>
                      <a:pt x="711" y="416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5" name="Group 87"/>
            <p:cNvGrpSpPr/>
            <p:nvPr/>
          </p:nvGrpSpPr>
          <p:grpSpPr>
            <a:xfrm>
              <a:off x="6467400" y="3471840"/>
              <a:ext cx="1495080" cy="825120"/>
              <a:chOff x="6467400" y="3471840"/>
              <a:chExt cx="1495080" cy="825120"/>
            </a:xfrm>
          </p:grpSpPr>
          <p:sp>
            <p:nvSpPr>
              <p:cNvPr id="606" name="Freeform 84"/>
              <p:cNvSpPr/>
              <p:nvPr/>
            </p:nvSpPr>
            <p:spPr>
              <a:xfrm>
                <a:off x="6532560" y="3817800"/>
                <a:ext cx="1321920" cy="479160"/>
              </a:xfrm>
              <a:custGeom>
                <a:avLst/>
                <a:gdLst>
                  <a:gd name="textAreaLeft" fmla="*/ 0 w 1321920"/>
                  <a:gd name="textAreaRight" fmla="*/ 1322280 w 1321920"/>
                  <a:gd name="textAreaTop" fmla="*/ 0 h 479160"/>
                  <a:gd name="textAreaBottom" fmla="*/ 479520 h 479160"/>
                </a:gdLst>
                <a:ahLst/>
                <a:rect l="textAreaLeft" t="textAreaTop" r="textAreaRight" b="textAreaBottom"/>
                <a:pathLst>
                  <a:path w="833" h="302">
                    <a:moveTo>
                      <a:pt x="794" y="83"/>
                    </a:moveTo>
                    <a:lnTo>
                      <a:pt x="713" y="74"/>
                    </a:lnTo>
                    <a:lnTo>
                      <a:pt x="602" y="76"/>
                    </a:lnTo>
                    <a:lnTo>
                      <a:pt x="502" y="123"/>
                    </a:lnTo>
                    <a:lnTo>
                      <a:pt x="375" y="164"/>
                    </a:lnTo>
                    <a:lnTo>
                      <a:pt x="275" y="212"/>
                    </a:lnTo>
                    <a:lnTo>
                      <a:pt x="208" y="223"/>
                    </a:lnTo>
                    <a:lnTo>
                      <a:pt x="142" y="232"/>
                    </a:lnTo>
                    <a:lnTo>
                      <a:pt x="107" y="256"/>
                    </a:lnTo>
                    <a:lnTo>
                      <a:pt x="43" y="278"/>
                    </a:lnTo>
                    <a:lnTo>
                      <a:pt x="0" y="301"/>
                    </a:lnTo>
                    <a:lnTo>
                      <a:pt x="13" y="273"/>
                    </a:lnTo>
                    <a:lnTo>
                      <a:pt x="18" y="242"/>
                    </a:lnTo>
                    <a:lnTo>
                      <a:pt x="39" y="215"/>
                    </a:lnTo>
                    <a:lnTo>
                      <a:pt x="65" y="207"/>
                    </a:lnTo>
                    <a:lnTo>
                      <a:pt x="91" y="203"/>
                    </a:lnTo>
                    <a:lnTo>
                      <a:pt x="133" y="178"/>
                    </a:lnTo>
                    <a:lnTo>
                      <a:pt x="166" y="172"/>
                    </a:lnTo>
                    <a:lnTo>
                      <a:pt x="197" y="156"/>
                    </a:lnTo>
                    <a:lnTo>
                      <a:pt x="230" y="152"/>
                    </a:lnTo>
                    <a:lnTo>
                      <a:pt x="260" y="136"/>
                    </a:lnTo>
                    <a:lnTo>
                      <a:pt x="291" y="120"/>
                    </a:lnTo>
                    <a:lnTo>
                      <a:pt x="318" y="114"/>
                    </a:lnTo>
                    <a:lnTo>
                      <a:pt x="344" y="108"/>
                    </a:lnTo>
                    <a:lnTo>
                      <a:pt x="382" y="93"/>
                    </a:lnTo>
                    <a:lnTo>
                      <a:pt x="409" y="87"/>
                    </a:lnTo>
                    <a:lnTo>
                      <a:pt x="434" y="80"/>
                    </a:lnTo>
                    <a:lnTo>
                      <a:pt x="464" y="64"/>
                    </a:lnTo>
                    <a:lnTo>
                      <a:pt x="491" y="57"/>
                    </a:lnTo>
                    <a:lnTo>
                      <a:pt x="517" y="53"/>
                    </a:lnTo>
                    <a:lnTo>
                      <a:pt x="555" y="37"/>
                    </a:lnTo>
                    <a:lnTo>
                      <a:pt x="581" y="32"/>
                    </a:lnTo>
                    <a:lnTo>
                      <a:pt x="607" y="25"/>
                    </a:lnTo>
                    <a:lnTo>
                      <a:pt x="630" y="29"/>
                    </a:lnTo>
                    <a:lnTo>
                      <a:pt x="655" y="23"/>
                    </a:lnTo>
                    <a:lnTo>
                      <a:pt x="682" y="16"/>
                    </a:lnTo>
                    <a:lnTo>
                      <a:pt x="727" y="25"/>
                    </a:lnTo>
                    <a:lnTo>
                      <a:pt x="752" y="17"/>
                    </a:lnTo>
                    <a:lnTo>
                      <a:pt x="779" y="12"/>
                    </a:lnTo>
                    <a:lnTo>
                      <a:pt x="805" y="6"/>
                    </a:lnTo>
                    <a:lnTo>
                      <a:pt x="832" y="0"/>
                    </a:lnTo>
                    <a:lnTo>
                      <a:pt x="826" y="31"/>
                    </a:lnTo>
                    <a:lnTo>
                      <a:pt x="794" y="83"/>
                    </a:lnTo>
                    <a:lnTo>
                      <a:pt x="794" y="83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5"/>
              <p:cNvSpPr/>
              <p:nvPr/>
            </p:nvSpPr>
            <p:spPr>
              <a:xfrm>
                <a:off x="6561000" y="3603600"/>
                <a:ext cx="1401480" cy="318600"/>
              </a:xfrm>
              <a:custGeom>
                <a:avLst/>
                <a:gdLst>
                  <a:gd name="textAreaLeft" fmla="*/ 0 w 1401480"/>
                  <a:gd name="textAreaRight" fmla="*/ 1401840 w 140148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883" h="201">
                    <a:moveTo>
                      <a:pt x="812" y="0"/>
                    </a:moveTo>
                    <a:lnTo>
                      <a:pt x="743" y="43"/>
                    </a:lnTo>
                    <a:lnTo>
                      <a:pt x="641" y="87"/>
                    </a:lnTo>
                    <a:lnTo>
                      <a:pt x="531" y="87"/>
                    </a:lnTo>
                    <a:lnTo>
                      <a:pt x="399" y="103"/>
                    </a:lnTo>
                    <a:lnTo>
                      <a:pt x="288" y="103"/>
                    </a:lnTo>
                    <a:lnTo>
                      <a:pt x="222" y="122"/>
                    </a:lnTo>
                    <a:lnTo>
                      <a:pt x="158" y="142"/>
                    </a:lnTo>
                    <a:lnTo>
                      <a:pt x="116" y="133"/>
                    </a:lnTo>
                    <a:lnTo>
                      <a:pt x="50" y="141"/>
                    </a:lnTo>
                    <a:lnTo>
                      <a:pt x="0" y="137"/>
                    </a:lnTo>
                    <a:lnTo>
                      <a:pt x="25" y="159"/>
                    </a:lnTo>
                    <a:lnTo>
                      <a:pt x="42" y="184"/>
                    </a:lnTo>
                    <a:lnTo>
                      <a:pt x="72" y="200"/>
                    </a:lnTo>
                    <a:lnTo>
                      <a:pt x="98" y="195"/>
                    </a:lnTo>
                    <a:lnTo>
                      <a:pt x="125" y="189"/>
                    </a:lnTo>
                    <a:lnTo>
                      <a:pt x="174" y="194"/>
                    </a:lnTo>
                    <a:lnTo>
                      <a:pt x="206" y="184"/>
                    </a:lnTo>
                    <a:lnTo>
                      <a:pt x="241" y="186"/>
                    </a:lnTo>
                    <a:lnTo>
                      <a:pt x="274" y="177"/>
                    </a:lnTo>
                    <a:lnTo>
                      <a:pt x="305" y="177"/>
                    </a:lnTo>
                    <a:lnTo>
                      <a:pt x="341" y="179"/>
                    </a:lnTo>
                    <a:lnTo>
                      <a:pt x="367" y="173"/>
                    </a:lnTo>
                    <a:lnTo>
                      <a:pt x="393" y="169"/>
                    </a:lnTo>
                    <a:lnTo>
                      <a:pt x="435" y="166"/>
                    </a:lnTo>
                    <a:lnTo>
                      <a:pt x="461" y="160"/>
                    </a:lnTo>
                    <a:lnTo>
                      <a:pt x="488" y="155"/>
                    </a:lnTo>
                    <a:lnTo>
                      <a:pt x="522" y="157"/>
                    </a:lnTo>
                    <a:lnTo>
                      <a:pt x="549" y="151"/>
                    </a:lnTo>
                    <a:lnTo>
                      <a:pt x="575" y="145"/>
                    </a:lnTo>
                    <a:lnTo>
                      <a:pt x="615" y="142"/>
                    </a:lnTo>
                    <a:lnTo>
                      <a:pt x="642" y="137"/>
                    </a:lnTo>
                    <a:lnTo>
                      <a:pt x="668" y="131"/>
                    </a:lnTo>
                    <a:lnTo>
                      <a:pt x="687" y="119"/>
                    </a:lnTo>
                    <a:lnTo>
                      <a:pt x="712" y="113"/>
                    </a:lnTo>
                    <a:lnTo>
                      <a:pt x="739" y="108"/>
                    </a:lnTo>
                    <a:lnTo>
                      <a:pt x="776" y="82"/>
                    </a:lnTo>
                    <a:lnTo>
                      <a:pt x="802" y="77"/>
                    </a:lnTo>
                    <a:lnTo>
                      <a:pt x="828" y="71"/>
                    </a:lnTo>
                    <a:lnTo>
                      <a:pt x="855" y="66"/>
                    </a:lnTo>
                    <a:lnTo>
                      <a:pt x="882" y="60"/>
                    </a:lnTo>
                    <a:lnTo>
                      <a:pt x="864" y="35"/>
                    </a:lnTo>
                    <a:lnTo>
                      <a:pt x="812" y="0"/>
                    </a:lnTo>
                    <a:lnTo>
                      <a:pt x="812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86"/>
              <p:cNvSpPr/>
              <p:nvPr/>
            </p:nvSpPr>
            <p:spPr>
              <a:xfrm>
                <a:off x="6467400" y="3471840"/>
                <a:ext cx="1298160" cy="667800"/>
              </a:xfrm>
              <a:custGeom>
                <a:avLst/>
                <a:gdLst>
                  <a:gd name="textAreaLeft" fmla="*/ 0 w 1298160"/>
                  <a:gd name="textAreaRight" fmla="*/ 1298520 w 12981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818" h="421">
                    <a:moveTo>
                      <a:pt x="730" y="0"/>
                    </a:moveTo>
                    <a:lnTo>
                      <a:pt x="677" y="63"/>
                    </a:lnTo>
                    <a:lnTo>
                      <a:pt x="595" y="138"/>
                    </a:lnTo>
                    <a:lnTo>
                      <a:pt x="490" y="170"/>
                    </a:lnTo>
                    <a:lnTo>
                      <a:pt x="368" y="228"/>
                    </a:lnTo>
                    <a:lnTo>
                      <a:pt x="263" y="260"/>
                    </a:lnTo>
                    <a:lnTo>
                      <a:pt x="207" y="300"/>
                    </a:lnTo>
                    <a:lnTo>
                      <a:pt x="152" y="338"/>
                    </a:lnTo>
                    <a:lnTo>
                      <a:pt x="110" y="343"/>
                    </a:lnTo>
                    <a:lnTo>
                      <a:pt x="49" y="371"/>
                    </a:lnTo>
                    <a:lnTo>
                      <a:pt x="0" y="383"/>
                    </a:lnTo>
                    <a:lnTo>
                      <a:pt x="31" y="395"/>
                    </a:lnTo>
                    <a:lnTo>
                      <a:pt x="56" y="414"/>
                    </a:lnTo>
                    <a:lnTo>
                      <a:pt x="89" y="420"/>
                    </a:lnTo>
                    <a:lnTo>
                      <a:pt x="113" y="408"/>
                    </a:lnTo>
                    <a:lnTo>
                      <a:pt x="136" y="394"/>
                    </a:lnTo>
                    <a:lnTo>
                      <a:pt x="184" y="383"/>
                    </a:lnTo>
                    <a:lnTo>
                      <a:pt x="210" y="363"/>
                    </a:lnTo>
                    <a:lnTo>
                      <a:pt x="245" y="355"/>
                    </a:lnTo>
                    <a:lnTo>
                      <a:pt x="272" y="335"/>
                    </a:lnTo>
                    <a:lnTo>
                      <a:pt x="304" y="325"/>
                    </a:lnTo>
                    <a:lnTo>
                      <a:pt x="338" y="317"/>
                    </a:lnTo>
                    <a:lnTo>
                      <a:pt x="362" y="304"/>
                    </a:lnTo>
                    <a:lnTo>
                      <a:pt x="385" y="290"/>
                    </a:lnTo>
                    <a:lnTo>
                      <a:pt x="422" y="275"/>
                    </a:lnTo>
                    <a:lnTo>
                      <a:pt x="447" y="262"/>
                    </a:lnTo>
                    <a:lnTo>
                      <a:pt x="470" y="248"/>
                    </a:lnTo>
                    <a:lnTo>
                      <a:pt x="503" y="239"/>
                    </a:lnTo>
                    <a:lnTo>
                      <a:pt x="527" y="227"/>
                    </a:lnTo>
                    <a:lnTo>
                      <a:pt x="549" y="213"/>
                    </a:lnTo>
                    <a:lnTo>
                      <a:pt x="587" y="197"/>
                    </a:lnTo>
                    <a:lnTo>
                      <a:pt x="610" y="184"/>
                    </a:lnTo>
                    <a:lnTo>
                      <a:pt x="633" y="170"/>
                    </a:lnTo>
                    <a:lnTo>
                      <a:pt x="647" y="153"/>
                    </a:lnTo>
                    <a:lnTo>
                      <a:pt x="671" y="140"/>
                    </a:lnTo>
                    <a:lnTo>
                      <a:pt x="695" y="126"/>
                    </a:lnTo>
                    <a:lnTo>
                      <a:pt x="722" y="90"/>
                    </a:lnTo>
                    <a:lnTo>
                      <a:pt x="745" y="78"/>
                    </a:lnTo>
                    <a:lnTo>
                      <a:pt x="769" y="64"/>
                    </a:lnTo>
                    <a:lnTo>
                      <a:pt x="792" y="50"/>
                    </a:lnTo>
                    <a:lnTo>
                      <a:pt x="817" y="37"/>
                    </a:lnTo>
                    <a:lnTo>
                      <a:pt x="790" y="18"/>
                    </a:lnTo>
                    <a:lnTo>
                      <a:pt x="730" y="0"/>
                    </a:lnTo>
                    <a:lnTo>
                      <a:pt x="730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91"/>
            <p:cNvGrpSpPr/>
            <p:nvPr/>
          </p:nvGrpSpPr>
          <p:grpSpPr>
            <a:xfrm>
              <a:off x="5919840" y="3813120"/>
              <a:ext cx="1540800" cy="507960"/>
              <a:chOff x="5919840" y="3813120"/>
              <a:chExt cx="1540800" cy="507960"/>
            </a:xfrm>
          </p:grpSpPr>
          <p:sp>
            <p:nvSpPr>
              <p:cNvPr id="610" name="Freeform 88"/>
              <p:cNvSpPr/>
              <p:nvPr/>
            </p:nvSpPr>
            <p:spPr>
              <a:xfrm>
                <a:off x="5919840" y="3813120"/>
                <a:ext cx="1402920" cy="183960"/>
              </a:xfrm>
              <a:custGeom>
                <a:avLst/>
                <a:gdLst>
                  <a:gd name="textAreaLeft" fmla="*/ 0 w 1402920"/>
                  <a:gd name="textAreaRight" fmla="*/ 1403280 w 14029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884" h="116">
                    <a:moveTo>
                      <a:pt x="823" y="0"/>
                    </a:moveTo>
                    <a:lnTo>
                      <a:pt x="748" y="32"/>
                    </a:lnTo>
                    <a:lnTo>
                      <a:pt x="640" y="63"/>
                    </a:lnTo>
                    <a:lnTo>
                      <a:pt x="531" y="47"/>
                    </a:lnTo>
                    <a:lnTo>
                      <a:pt x="398" y="45"/>
                    </a:lnTo>
                    <a:lnTo>
                      <a:pt x="289" y="28"/>
                    </a:lnTo>
                    <a:lnTo>
                      <a:pt x="221" y="38"/>
                    </a:lnTo>
                    <a:lnTo>
                      <a:pt x="154" y="49"/>
                    </a:lnTo>
                    <a:lnTo>
                      <a:pt x="115" y="35"/>
                    </a:lnTo>
                    <a:lnTo>
                      <a:pt x="48" y="34"/>
                    </a:lnTo>
                    <a:lnTo>
                      <a:pt x="0" y="24"/>
                    </a:lnTo>
                    <a:lnTo>
                      <a:pt x="20" y="47"/>
                    </a:lnTo>
                    <a:lnTo>
                      <a:pt x="34" y="75"/>
                    </a:lnTo>
                    <a:lnTo>
                      <a:pt x="61" y="94"/>
                    </a:lnTo>
                    <a:lnTo>
                      <a:pt x="89" y="94"/>
                    </a:lnTo>
                    <a:lnTo>
                      <a:pt x="114" y="91"/>
                    </a:lnTo>
                    <a:lnTo>
                      <a:pt x="162" y="103"/>
                    </a:lnTo>
                    <a:lnTo>
                      <a:pt x="196" y="98"/>
                    </a:lnTo>
                    <a:lnTo>
                      <a:pt x="231" y="105"/>
                    </a:lnTo>
                    <a:lnTo>
                      <a:pt x="263" y="99"/>
                    </a:lnTo>
                    <a:lnTo>
                      <a:pt x="297" y="106"/>
                    </a:lnTo>
                    <a:lnTo>
                      <a:pt x="330" y="112"/>
                    </a:lnTo>
                    <a:lnTo>
                      <a:pt x="358" y="109"/>
                    </a:lnTo>
                    <a:lnTo>
                      <a:pt x="385" y="107"/>
                    </a:lnTo>
                    <a:lnTo>
                      <a:pt x="426" y="110"/>
                    </a:lnTo>
                    <a:lnTo>
                      <a:pt x="452" y="109"/>
                    </a:lnTo>
                    <a:lnTo>
                      <a:pt x="479" y="108"/>
                    </a:lnTo>
                    <a:lnTo>
                      <a:pt x="513" y="115"/>
                    </a:lnTo>
                    <a:lnTo>
                      <a:pt x="540" y="113"/>
                    </a:lnTo>
                    <a:lnTo>
                      <a:pt x="567" y="109"/>
                    </a:lnTo>
                    <a:lnTo>
                      <a:pt x="607" y="113"/>
                    </a:lnTo>
                    <a:lnTo>
                      <a:pt x="634" y="111"/>
                    </a:lnTo>
                    <a:lnTo>
                      <a:pt x="660" y="111"/>
                    </a:lnTo>
                    <a:lnTo>
                      <a:pt x="682" y="100"/>
                    </a:lnTo>
                    <a:lnTo>
                      <a:pt x="707" y="98"/>
                    </a:lnTo>
                    <a:lnTo>
                      <a:pt x="735" y="97"/>
                    </a:lnTo>
                    <a:lnTo>
                      <a:pt x="775" y="75"/>
                    </a:lnTo>
                    <a:lnTo>
                      <a:pt x="800" y="75"/>
                    </a:lnTo>
                    <a:lnTo>
                      <a:pt x="828" y="72"/>
                    </a:lnTo>
                    <a:lnTo>
                      <a:pt x="855" y="71"/>
                    </a:lnTo>
                    <a:lnTo>
                      <a:pt x="883" y="68"/>
                    </a:lnTo>
                    <a:lnTo>
                      <a:pt x="868" y="40"/>
                    </a:lnTo>
                    <a:lnTo>
                      <a:pt x="823" y="0"/>
                    </a:lnTo>
                    <a:lnTo>
                      <a:pt x="823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89"/>
              <p:cNvSpPr/>
              <p:nvPr/>
            </p:nvSpPr>
            <p:spPr>
              <a:xfrm>
                <a:off x="6084720" y="3995640"/>
                <a:ext cx="1375920" cy="301320"/>
              </a:xfrm>
              <a:custGeom>
                <a:avLst/>
                <a:gdLst>
                  <a:gd name="textAreaLeft" fmla="*/ 0 w 1375920"/>
                  <a:gd name="textAreaRight" fmla="*/ 1376280 w 1375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67" h="190">
                    <a:moveTo>
                      <a:pt x="817" y="84"/>
                    </a:moveTo>
                    <a:lnTo>
                      <a:pt x="738" y="63"/>
                    </a:lnTo>
                    <a:lnTo>
                      <a:pt x="627" y="49"/>
                    </a:lnTo>
                    <a:lnTo>
                      <a:pt x="522" y="82"/>
                    </a:lnTo>
                    <a:lnTo>
                      <a:pt x="391" y="104"/>
                    </a:lnTo>
                    <a:lnTo>
                      <a:pt x="286" y="138"/>
                    </a:lnTo>
                    <a:lnTo>
                      <a:pt x="218" y="139"/>
                    </a:lnTo>
                    <a:lnTo>
                      <a:pt x="150" y="139"/>
                    </a:lnTo>
                    <a:lnTo>
                      <a:pt x="112" y="160"/>
                    </a:lnTo>
                    <a:lnTo>
                      <a:pt x="46" y="171"/>
                    </a:lnTo>
                    <a:lnTo>
                      <a:pt x="0" y="189"/>
                    </a:lnTo>
                    <a:lnTo>
                      <a:pt x="18" y="161"/>
                    </a:lnTo>
                    <a:lnTo>
                      <a:pt x="27" y="133"/>
                    </a:lnTo>
                    <a:lnTo>
                      <a:pt x="50" y="108"/>
                    </a:lnTo>
                    <a:lnTo>
                      <a:pt x="77" y="104"/>
                    </a:lnTo>
                    <a:lnTo>
                      <a:pt x="104" y="102"/>
                    </a:lnTo>
                    <a:lnTo>
                      <a:pt x="150" y="85"/>
                    </a:lnTo>
                    <a:lnTo>
                      <a:pt x="183" y="84"/>
                    </a:lnTo>
                    <a:lnTo>
                      <a:pt x="216" y="72"/>
                    </a:lnTo>
                    <a:lnTo>
                      <a:pt x="251" y="71"/>
                    </a:lnTo>
                    <a:lnTo>
                      <a:pt x="281" y="62"/>
                    </a:lnTo>
                    <a:lnTo>
                      <a:pt x="314" y="49"/>
                    </a:lnTo>
                    <a:lnTo>
                      <a:pt x="340" y="48"/>
                    </a:lnTo>
                    <a:lnTo>
                      <a:pt x="367" y="45"/>
                    </a:lnTo>
                    <a:lnTo>
                      <a:pt x="408" y="34"/>
                    </a:lnTo>
                    <a:lnTo>
                      <a:pt x="435" y="33"/>
                    </a:lnTo>
                    <a:lnTo>
                      <a:pt x="462" y="30"/>
                    </a:lnTo>
                    <a:lnTo>
                      <a:pt x="493" y="17"/>
                    </a:lnTo>
                    <a:lnTo>
                      <a:pt x="520" y="15"/>
                    </a:lnTo>
                    <a:lnTo>
                      <a:pt x="546" y="14"/>
                    </a:lnTo>
                    <a:lnTo>
                      <a:pt x="587" y="5"/>
                    </a:lnTo>
                    <a:lnTo>
                      <a:pt x="613" y="2"/>
                    </a:lnTo>
                    <a:lnTo>
                      <a:pt x="640" y="0"/>
                    </a:lnTo>
                    <a:lnTo>
                      <a:pt x="663" y="5"/>
                    </a:lnTo>
                    <a:lnTo>
                      <a:pt x="688" y="4"/>
                    </a:lnTo>
                    <a:lnTo>
                      <a:pt x="716" y="1"/>
                    </a:lnTo>
                    <a:lnTo>
                      <a:pt x="759" y="15"/>
                    </a:lnTo>
                    <a:lnTo>
                      <a:pt x="785" y="13"/>
                    </a:lnTo>
                    <a:lnTo>
                      <a:pt x="811" y="11"/>
                    </a:lnTo>
                    <a:lnTo>
                      <a:pt x="838" y="7"/>
                    </a:lnTo>
                    <a:lnTo>
                      <a:pt x="866" y="5"/>
                    </a:lnTo>
                    <a:lnTo>
                      <a:pt x="856" y="34"/>
                    </a:lnTo>
                    <a:lnTo>
                      <a:pt x="817" y="84"/>
                    </a:lnTo>
                    <a:lnTo>
                      <a:pt x="817" y="84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90"/>
              <p:cNvSpPr/>
              <p:nvPr/>
            </p:nvSpPr>
            <p:spPr>
              <a:xfrm>
                <a:off x="5919840" y="3978360"/>
                <a:ext cx="1401480" cy="342720"/>
              </a:xfrm>
              <a:custGeom>
                <a:avLst/>
                <a:gdLst>
                  <a:gd name="textAreaLeft" fmla="*/ 0 w 1401480"/>
                  <a:gd name="textAreaRight" fmla="*/ 1401840 w 140148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883" h="216">
                    <a:moveTo>
                      <a:pt x="810" y="215"/>
                    </a:moveTo>
                    <a:lnTo>
                      <a:pt x="742" y="169"/>
                    </a:lnTo>
                    <a:lnTo>
                      <a:pt x="641" y="122"/>
                    </a:lnTo>
                    <a:lnTo>
                      <a:pt x="531" y="122"/>
                    </a:lnTo>
                    <a:lnTo>
                      <a:pt x="397" y="102"/>
                    </a:lnTo>
                    <a:lnTo>
                      <a:pt x="287" y="102"/>
                    </a:lnTo>
                    <a:lnTo>
                      <a:pt x="222" y="81"/>
                    </a:lnTo>
                    <a:lnTo>
                      <a:pt x="158" y="59"/>
                    </a:lnTo>
                    <a:lnTo>
                      <a:pt x="117" y="68"/>
                    </a:lnTo>
                    <a:lnTo>
                      <a:pt x="51" y="59"/>
                    </a:lnTo>
                    <a:lnTo>
                      <a:pt x="0" y="62"/>
                    </a:lnTo>
                    <a:lnTo>
                      <a:pt x="27" y="41"/>
                    </a:lnTo>
                    <a:lnTo>
                      <a:pt x="44" y="16"/>
                    </a:lnTo>
                    <a:lnTo>
                      <a:pt x="74" y="0"/>
                    </a:lnTo>
                    <a:lnTo>
                      <a:pt x="100" y="5"/>
                    </a:lnTo>
                    <a:lnTo>
                      <a:pt x="127" y="12"/>
                    </a:lnTo>
                    <a:lnTo>
                      <a:pt x="176" y="7"/>
                    </a:lnTo>
                    <a:lnTo>
                      <a:pt x="207" y="19"/>
                    </a:lnTo>
                    <a:lnTo>
                      <a:pt x="242" y="17"/>
                    </a:lnTo>
                    <a:lnTo>
                      <a:pt x="274" y="27"/>
                    </a:lnTo>
                    <a:lnTo>
                      <a:pt x="307" y="29"/>
                    </a:lnTo>
                    <a:lnTo>
                      <a:pt x="344" y="26"/>
                    </a:lnTo>
                    <a:lnTo>
                      <a:pt x="368" y="31"/>
                    </a:lnTo>
                    <a:lnTo>
                      <a:pt x="395" y="38"/>
                    </a:lnTo>
                    <a:lnTo>
                      <a:pt x="435" y="41"/>
                    </a:lnTo>
                    <a:lnTo>
                      <a:pt x="463" y="46"/>
                    </a:lnTo>
                    <a:lnTo>
                      <a:pt x="489" y="53"/>
                    </a:lnTo>
                    <a:lnTo>
                      <a:pt x="522" y="52"/>
                    </a:lnTo>
                    <a:lnTo>
                      <a:pt x="549" y="56"/>
                    </a:lnTo>
                    <a:lnTo>
                      <a:pt x="574" y="65"/>
                    </a:lnTo>
                    <a:lnTo>
                      <a:pt x="616" y="68"/>
                    </a:lnTo>
                    <a:lnTo>
                      <a:pt x="642" y="74"/>
                    </a:lnTo>
                    <a:lnTo>
                      <a:pt x="668" y="80"/>
                    </a:lnTo>
                    <a:lnTo>
                      <a:pt x="687" y="92"/>
                    </a:lnTo>
                    <a:lnTo>
                      <a:pt x="712" y="98"/>
                    </a:lnTo>
                    <a:lnTo>
                      <a:pt x="739" y="105"/>
                    </a:lnTo>
                    <a:lnTo>
                      <a:pt x="776" y="131"/>
                    </a:lnTo>
                    <a:lnTo>
                      <a:pt x="802" y="136"/>
                    </a:lnTo>
                    <a:lnTo>
                      <a:pt x="829" y="142"/>
                    </a:lnTo>
                    <a:lnTo>
                      <a:pt x="854" y="149"/>
                    </a:lnTo>
                    <a:lnTo>
                      <a:pt x="882" y="154"/>
                    </a:lnTo>
                    <a:lnTo>
                      <a:pt x="863" y="179"/>
                    </a:lnTo>
                    <a:lnTo>
                      <a:pt x="810" y="215"/>
                    </a:lnTo>
                    <a:lnTo>
                      <a:pt x="810" y="215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3" name="Group 95"/>
            <p:cNvGrpSpPr/>
            <p:nvPr/>
          </p:nvGrpSpPr>
          <p:grpSpPr>
            <a:xfrm>
              <a:off x="4600440" y="3519360"/>
              <a:ext cx="1528560" cy="761760"/>
              <a:chOff x="4600440" y="3519360"/>
              <a:chExt cx="1528560" cy="761760"/>
            </a:xfrm>
          </p:grpSpPr>
          <p:sp>
            <p:nvSpPr>
              <p:cNvPr id="614" name="Freeform 92"/>
              <p:cNvSpPr/>
              <p:nvPr/>
            </p:nvSpPr>
            <p:spPr>
              <a:xfrm>
                <a:off x="4600440" y="3822840"/>
                <a:ext cx="1374480" cy="45828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866" h="289">
                    <a:moveTo>
                      <a:pt x="789" y="288"/>
                    </a:moveTo>
                    <a:lnTo>
                      <a:pt x="724" y="238"/>
                    </a:lnTo>
                    <a:lnTo>
                      <a:pt x="629" y="180"/>
                    </a:lnTo>
                    <a:lnTo>
                      <a:pt x="519" y="167"/>
                    </a:lnTo>
                    <a:lnTo>
                      <a:pt x="390" y="135"/>
                    </a:lnTo>
                    <a:lnTo>
                      <a:pt x="280" y="123"/>
                    </a:lnTo>
                    <a:lnTo>
                      <a:pt x="218" y="96"/>
                    </a:lnTo>
                    <a:lnTo>
                      <a:pt x="156" y="68"/>
                    </a:lnTo>
                    <a:lnTo>
                      <a:pt x="114" y="71"/>
                    </a:lnTo>
                    <a:lnTo>
                      <a:pt x="49" y="55"/>
                    </a:lnTo>
                    <a:lnTo>
                      <a:pt x="0" y="52"/>
                    </a:lnTo>
                    <a:lnTo>
                      <a:pt x="26" y="35"/>
                    </a:lnTo>
                    <a:lnTo>
                      <a:pt x="46" y="12"/>
                    </a:lnTo>
                    <a:lnTo>
                      <a:pt x="78" y="0"/>
                    </a:lnTo>
                    <a:lnTo>
                      <a:pt x="104" y="7"/>
                    </a:lnTo>
                    <a:lnTo>
                      <a:pt x="128" y="17"/>
                    </a:lnTo>
                    <a:lnTo>
                      <a:pt x="177" y="18"/>
                    </a:lnTo>
                    <a:lnTo>
                      <a:pt x="208" y="31"/>
                    </a:lnTo>
                    <a:lnTo>
                      <a:pt x="244" y="33"/>
                    </a:lnTo>
                    <a:lnTo>
                      <a:pt x="274" y="48"/>
                    </a:lnTo>
                    <a:lnTo>
                      <a:pt x="308" y="50"/>
                    </a:lnTo>
                    <a:lnTo>
                      <a:pt x="342" y="52"/>
                    </a:lnTo>
                    <a:lnTo>
                      <a:pt x="368" y="62"/>
                    </a:lnTo>
                    <a:lnTo>
                      <a:pt x="393" y="71"/>
                    </a:lnTo>
                    <a:lnTo>
                      <a:pt x="434" y="79"/>
                    </a:lnTo>
                    <a:lnTo>
                      <a:pt x="459" y="87"/>
                    </a:lnTo>
                    <a:lnTo>
                      <a:pt x="485" y="95"/>
                    </a:lnTo>
                    <a:lnTo>
                      <a:pt x="519" y="97"/>
                    </a:lnTo>
                    <a:lnTo>
                      <a:pt x="545" y="106"/>
                    </a:lnTo>
                    <a:lnTo>
                      <a:pt x="570" y="116"/>
                    </a:lnTo>
                    <a:lnTo>
                      <a:pt x="610" y="123"/>
                    </a:lnTo>
                    <a:lnTo>
                      <a:pt x="635" y="132"/>
                    </a:lnTo>
                    <a:lnTo>
                      <a:pt x="661" y="139"/>
                    </a:lnTo>
                    <a:lnTo>
                      <a:pt x="678" y="155"/>
                    </a:lnTo>
                    <a:lnTo>
                      <a:pt x="702" y="164"/>
                    </a:lnTo>
                    <a:lnTo>
                      <a:pt x="729" y="172"/>
                    </a:lnTo>
                    <a:lnTo>
                      <a:pt x="763" y="203"/>
                    </a:lnTo>
                    <a:lnTo>
                      <a:pt x="787" y="210"/>
                    </a:lnTo>
                    <a:lnTo>
                      <a:pt x="813" y="220"/>
                    </a:lnTo>
                    <a:lnTo>
                      <a:pt x="839" y="228"/>
                    </a:lnTo>
                    <a:lnTo>
                      <a:pt x="865" y="238"/>
                    </a:lnTo>
                    <a:lnTo>
                      <a:pt x="843" y="261"/>
                    </a:lnTo>
                    <a:lnTo>
                      <a:pt x="789" y="288"/>
                    </a:lnTo>
                    <a:lnTo>
                      <a:pt x="789" y="288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93"/>
              <p:cNvSpPr/>
              <p:nvPr/>
            </p:nvSpPr>
            <p:spPr>
              <a:xfrm>
                <a:off x="4875120" y="3519360"/>
                <a:ext cx="1253880" cy="637920"/>
              </a:xfrm>
              <a:custGeom>
                <a:avLst/>
                <a:gdLst>
                  <a:gd name="textAreaLeft" fmla="*/ 0 w 1253880"/>
                  <a:gd name="textAreaRight" fmla="*/ 1254240 w 1253880"/>
                  <a:gd name="textAreaTop" fmla="*/ 0 h 637920"/>
                  <a:gd name="textAreaBottom" fmla="*/ 638280 h 637920"/>
                </a:gdLst>
                <a:ahLst/>
                <a:rect l="textAreaLeft" t="textAreaTop" r="textAreaRight" b="textAreaBottom"/>
                <a:pathLst>
                  <a:path w="790" h="402">
                    <a:moveTo>
                      <a:pt x="762" y="313"/>
                    </a:moveTo>
                    <a:lnTo>
                      <a:pt x="681" y="313"/>
                    </a:lnTo>
                    <a:lnTo>
                      <a:pt x="570" y="297"/>
                    </a:lnTo>
                    <a:lnTo>
                      <a:pt x="477" y="238"/>
                    </a:lnTo>
                    <a:lnTo>
                      <a:pt x="356" y="182"/>
                    </a:lnTo>
                    <a:lnTo>
                      <a:pt x="263" y="123"/>
                    </a:lnTo>
                    <a:lnTo>
                      <a:pt x="197" y="104"/>
                    </a:lnTo>
                    <a:lnTo>
                      <a:pt x="132" y="87"/>
                    </a:lnTo>
                    <a:lnTo>
                      <a:pt x="101" y="57"/>
                    </a:lnTo>
                    <a:lnTo>
                      <a:pt x="40" y="29"/>
                    </a:lnTo>
                    <a:lnTo>
                      <a:pt x="0" y="0"/>
                    </a:lnTo>
                    <a:lnTo>
                      <a:pt x="10" y="31"/>
                    </a:lnTo>
                    <a:lnTo>
                      <a:pt x="11" y="61"/>
                    </a:lnTo>
                    <a:lnTo>
                      <a:pt x="28" y="91"/>
                    </a:lnTo>
                    <a:lnTo>
                      <a:pt x="53" y="101"/>
                    </a:lnTo>
                    <a:lnTo>
                      <a:pt x="78" y="110"/>
                    </a:lnTo>
                    <a:lnTo>
                      <a:pt x="117" y="139"/>
                    </a:lnTo>
                    <a:lnTo>
                      <a:pt x="149" y="148"/>
                    </a:lnTo>
                    <a:lnTo>
                      <a:pt x="178" y="169"/>
                    </a:lnTo>
                    <a:lnTo>
                      <a:pt x="212" y="178"/>
                    </a:lnTo>
                    <a:lnTo>
                      <a:pt x="238" y="195"/>
                    </a:lnTo>
                    <a:lnTo>
                      <a:pt x="267" y="216"/>
                    </a:lnTo>
                    <a:lnTo>
                      <a:pt x="292" y="224"/>
                    </a:lnTo>
                    <a:lnTo>
                      <a:pt x="317" y="234"/>
                    </a:lnTo>
                    <a:lnTo>
                      <a:pt x="354" y="254"/>
                    </a:lnTo>
                    <a:lnTo>
                      <a:pt x="379" y="263"/>
                    </a:lnTo>
                    <a:lnTo>
                      <a:pt x="405" y="273"/>
                    </a:lnTo>
                    <a:lnTo>
                      <a:pt x="432" y="293"/>
                    </a:lnTo>
                    <a:lnTo>
                      <a:pt x="458" y="302"/>
                    </a:lnTo>
                    <a:lnTo>
                      <a:pt x="483" y="310"/>
                    </a:lnTo>
                    <a:lnTo>
                      <a:pt x="519" y="329"/>
                    </a:lnTo>
                    <a:lnTo>
                      <a:pt x="544" y="339"/>
                    </a:lnTo>
                    <a:lnTo>
                      <a:pt x="570" y="348"/>
                    </a:lnTo>
                    <a:lnTo>
                      <a:pt x="593" y="348"/>
                    </a:lnTo>
                    <a:lnTo>
                      <a:pt x="617" y="356"/>
                    </a:lnTo>
                    <a:lnTo>
                      <a:pt x="643" y="366"/>
                    </a:lnTo>
                    <a:lnTo>
                      <a:pt x="688" y="364"/>
                    </a:lnTo>
                    <a:lnTo>
                      <a:pt x="712" y="373"/>
                    </a:lnTo>
                    <a:lnTo>
                      <a:pt x="738" y="382"/>
                    </a:lnTo>
                    <a:lnTo>
                      <a:pt x="763" y="392"/>
                    </a:lnTo>
                    <a:lnTo>
                      <a:pt x="789" y="401"/>
                    </a:lnTo>
                    <a:lnTo>
                      <a:pt x="787" y="370"/>
                    </a:lnTo>
                    <a:lnTo>
                      <a:pt x="762" y="313"/>
                    </a:lnTo>
                    <a:lnTo>
                      <a:pt x="762" y="313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94"/>
              <p:cNvSpPr/>
              <p:nvPr/>
            </p:nvSpPr>
            <p:spPr>
              <a:xfrm>
                <a:off x="4659480" y="3687840"/>
                <a:ext cx="1391760" cy="247320"/>
              </a:xfrm>
              <a:custGeom>
                <a:avLst/>
                <a:gdLst>
                  <a:gd name="textAreaLeft" fmla="*/ 0 w 1391760"/>
                  <a:gd name="textAreaRight" fmla="*/ 1392120 w 139176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877" h="156">
                    <a:moveTo>
                      <a:pt x="822" y="62"/>
                    </a:moveTo>
                    <a:lnTo>
                      <a:pt x="744" y="88"/>
                    </a:lnTo>
                    <a:lnTo>
                      <a:pt x="635" y="108"/>
                    </a:lnTo>
                    <a:lnTo>
                      <a:pt x="528" y="79"/>
                    </a:lnTo>
                    <a:lnTo>
                      <a:pt x="394" y="64"/>
                    </a:lnTo>
                    <a:lnTo>
                      <a:pt x="288" y="36"/>
                    </a:lnTo>
                    <a:lnTo>
                      <a:pt x="219" y="39"/>
                    </a:lnTo>
                    <a:lnTo>
                      <a:pt x="152" y="43"/>
                    </a:lnTo>
                    <a:lnTo>
                      <a:pt x="114" y="24"/>
                    </a:lnTo>
                    <a:lnTo>
                      <a:pt x="48" y="16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31" y="56"/>
                    </a:lnTo>
                    <a:lnTo>
                      <a:pt x="55" y="79"/>
                    </a:lnTo>
                    <a:lnTo>
                      <a:pt x="82" y="81"/>
                    </a:lnTo>
                    <a:lnTo>
                      <a:pt x="110" y="81"/>
                    </a:lnTo>
                    <a:lnTo>
                      <a:pt x="156" y="98"/>
                    </a:lnTo>
                    <a:lnTo>
                      <a:pt x="189" y="95"/>
                    </a:lnTo>
                    <a:lnTo>
                      <a:pt x="222" y="106"/>
                    </a:lnTo>
                    <a:lnTo>
                      <a:pt x="255" y="104"/>
                    </a:lnTo>
                    <a:lnTo>
                      <a:pt x="288" y="112"/>
                    </a:lnTo>
                    <a:lnTo>
                      <a:pt x="322" y="124"/>
                    </a:lnTo>
                    <a:lnTo>
                      <a:pt x="348" y="125"/>
                    </a:lnTo>
                    <a:lnTo>
                      <a:pt x="376" y="125"/>
                    </a:lnTo>
                    <a:lnTo>
                      <a:pt x="415" y="132"/>
                    </a:lnTo>
                    <a:lnTo>
                      <a:pt x="443" y="135"/>
                    </a:lnTo>
                    <a:lnTo>
                      <a:pt x="470" y="135"/>
                    </a:lnTo>
                    <a:lnTo>
                      <a:pt x="502" y="145"/>
                    </a:lnTo>
                    <a:lnTo>
                      <a:pt x="529" y="147"/>
                    </a:lnTo>
                    <a:lnTo>
                      <a:pt x="555" y="146"/>
                    </a:lnTo>
                    <a:lnTo>
                      <a:pt x="596" y="154"/>
                    </a:lnTo>
                    <a:lnTo>
                      <a:pt x="623" y="155"/>
                    </a:lnTo>
                    <a:lnTo>
                      <a:pt x="650" y="155"/>
                    </a:lnTo>
                    <a:lnTo>
                      <a:pt x="671" y="148"/>
                    </a:lnTo>
                    <a:lnTo>
                      <a:pt x="697" y="150"/>
                    </a:lnTo>
                    <a:lnTo>
                      <a:pt x="725" y="150"/>
                    </a:lnTo>
                    <a:lnTo>
                      <a:pt x="768" y="134"/>
                    </a:lnTo>
                    <a:lnTo>
                      <a:pt x="793" y="136"/>
                    </a:lnTo>
                    <a:lnTo>
                      <a:pt x="821" y="137"/>
                    </a:lnTo>
                    <a:lnTo>
                      <a:pt x="848" y="137"/>
                    </a:lnTo>
                    <a:lnTo>
                      <a:pt x="876" y="139"/>
                    </a:lnTo>
                    <a:lnTo>
                      <a:pt x="864" y="110"/>
                    </a:lnTo>
                    <a:lnTo>
                      <a:pt x="822" y="62"/>
                    </a:lnTo>
                    <a:lnTo>
                      <a:pt x="822" y="62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7" name="Group 99"/>
            <p:cNvGrpSpPr/>
            <p:nvPr/>
          </p:nvGrpSpPr>
          <p:grpSpPr>
            <a:xfrm>
              <a:off x="7613640" y="3684600"/>
              <a:ext cx="1530000" cy="685440"/>
              <a:chOff x="7613640" y="3684600"/>
              <a:chExt cx="1530000" cy="685440"/>
            </a:xfrm>
          </p:grpSpPr>
          <p:sp>
            <p:nvSpPr>
              <p:cNvPr id="618" name="Freeform 96"/>
              <p:cNvSpPr/>
              <p:nvPr/>
            </p:nvSpPr>
            <p:spPr>
              <a:xfrm>
                <a:off x="7651800" y="4051440"/>
                <a:ext cx="1371240" cy="318600"/>
              </a:xfrm>
              <a:custGeom>
                <a:avLst/>
                <a:gdLst>
                  <a:gd name="textAreaLeft" fmla="*/ 0 w 1371240"/>
                  <a:gd name="textAreaRight" fmla="*/ 1371600 w 137124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864" h="201">
                    <a:moveTo>
                      <a:pt x="815" y="80"/>
                    </a:moveTo>
                    <a:lnTo>
                      <a:pt x="735" y="62"/>
                    </a:lnTo>
                    <a:lnTo>
                      <a:pt x="625" y="50"/>
                    </a:lnTo>
                    <a:lnTo>
                      <a:pt x="520" y="84"/>
                    </a:lnTo>
                    <a:lnTo>
                      <a:pt x="389" y="110"/>
                    </a:lnTo>
                    <a:lnTo>
                      <a:pt x="284" y="146"/>
                    </a:lnTo>
                    <a:lnTo>
                      <a:pt x="216" y="148"/>
                    </a:lnTo>
                    <a:lnTo>
                      <a:pt x="149" y="148"/>
                    </a:lnTo>
                    <a:lnTo>
                      <a:pt x="112" y="169"/>
                    </a:lnTo>
                    <a:lnTo>
                      <a:pt x="46" y="182"/>
                    </a:lnTo>
                    <a:lnTo>
                      <a:pt x="0" y="200"/>
                    </a:lnTo>
                    <a:lnTo>
                      <a:pt x="17" y="174"/>
                    </a:lnTo>
                    <a:lnTo>
                      <a:pt x="25" y="144"/>
                    </a:lnTo>
                    <a:lnTo>
                      <a:pt x="49" y="119"/>
                    </a:lnTo>
                    <a:lnTo>
                      <a:pt x="76" y="115"/>
                    </a:lnTo>
                    <a:lnTo>
                      <a:pt x="102" y="114"/>
                    </a:lnTo>
                    <a:lnTo>
                      <a:pt x="147" y="94"/>
                    </a:lnTo>
                    <a:lnTo>
                      <a:pt x="180" y="92"/>
                    </a:lnTo>
                    <a:lnTo>
                      <a:pt x="214" y="80"/>
                    </a:lnTo>
                    <a:lnTo>
                      <a:pt x="247" y="80"/>
                    </a:lnTo>
                    <a:lnTo>
                      <a:pt x="278" y="68"/>
                    </a:lnTo>
                    <a:lnTo>
                      <a:pt x="311" y="55"/>
                    </a:lnTo>
                    <a:lnTo>
                      <a:pt x="338" y="53"/>
                    </a:lnTo>
                    <a:lnTo>
                      <a:pt x="365" y="50"/>
                    </a:lnTo>
                    <a:lnTo>
                      <a:pt x="405" y="40"/>
                    </a:lnTo>
                    <a:lnTo>
                      <a:pt x="432" y="38"/>
                    </a:lnTo>
                    <a:lnTo>
                      <a:pt x="458" y="33"/>
                    </a:lnTo>
                    <a:lnTo>
                      <a:pt x="490" y="22"/>
                    </a:lnTo>
                    <a:lnTo>
                      <a:pt x="517" y="18"/>
                    </a:lnTo>
                    <a:lnTo>
                      <a:pt x="544" y="17"/>
                    </a:lnTo>
                    <a:lnTo>
                      <a:pt x="583" y="6"/>
                    </a:lnTo>
                    <a:lnTo>
                      <a:pt x="609" y="4"/>
                    </a:lnTo>
                    <a:lnTo>
                      <a:pt x="636" y="0"/>
                    </a:lnTo>
                    <a:lnTo>
                      <a:pt x="659" y="7"/>
                    </a:lnTo>
                    <a:lnTo>
                      <a:pt x="684" y="4"/>
                    </a:lnTo>
                    <a:lnTo>
                      <a:pt x="711" y="0"/>
                    </a:lnTo>
                    <a:lnTo>
                      <a:pt x="756" y="14"/>
                    </a:lnTo>
                    <a:lnTo>
                      <a:pt x="781" y="10"/>
                    </a:lnTo>
                    <a:lnTo>
                      <a:pt x="808" y="8"/>
                    </a:lnTo>
                    <a:lnTo>
                      <a:pt x="835" y="5"/>
                    </a:lnTo>
                    <a:lnTo>
                      <a:pt x="863" y="2"/>
                    </a:lnTo>
                    <a:lnTo>
                      <a:pt x="853" y="32"/>
                    </a:lnTo>
                    <a:lnTo>
                      <a:pt x="815" y="80"/>
                    </a:lnTo>
                    <a:lnTo>
                      <a:pt x="815" y="8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97"/>
              <p:cNvSpPr/>
              <p:nvPr/>
            </p:nvSpPr>
            <p:spPr>
              <a:xfrm>
                <a:off x="7738920" y="3841920"/>
                <a:ext cx="1404720" cy="193320"/>
              </a:xfrm>
              <a:custGeom>
                <a:avLst/>
                <a:gdLst>
                  <a:gd name="textAreaLeft" fmla="*/ 0 w 1404720"/>
                  <a:gd name="textAreaRight" fmla="*/ 1405080 w 140472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885" h="122">
                    <a:moveTo>
                      <a:pt x="822" y="0"/>
                    </a:moveTo>
                    <a:lnTo>
                      <a:pt x="749" y="35"/>
                    </a:lnTo>
                    <a:lnTo>
                      <a:pt x="642" y="66"/>
                    </a:lnTo>
                    <a:lnTo>
                      <a:pt x="532" y="52"/>
                    </a:lnTo>
                    <a:lnTo>
                      <a:pt x="399" y="53"/>
                    </a:lnTo>
                    <a:lnTo>
                      <a:pt x="290" y="39"/>
                    </a:lnTo>
                    <a:lnTo>
                      <a:pt x="222" y="49"/>
                    </a:lnTo>
                    <a:lnTo>
                      <a:pt x="156" y="61"/>
                    </a:lnTo>
                    <a:lnTo>
                      <a:pt x="115" y="48"/>
                    </a:lnTo>
                    <a:lnTo>
                      <a:pt x="48" y="48"/>
                    </a:lnTo>
                    <a:lnTo>
                      <a:pt x="0" y="38"/>
                    </a:lnTo>
                    <a:lnTo>
                      <a:pt x="21" y="62"/>
                    </a:lnTo>
                    <a:lnTo>
                      <a:pt x="35" y="89"/>
                    </a:lnTo>
                    <a:lnTo>
                      <a:pt x="63" y="109"/>
                    </a:lnTo>
                    <a:lnTo>
                      <a:pt x="90" y="107"/>
                    </a:lnTo>
                    <a:lnTo>
                      <a:pt x="117" y="104"/>
                    </a:lnTo>
                    <a:lnTo>
                      <a:pt x="165" y="115"/>
                    </a:lnTo>
                    <a:lnTo>
                      <a:pt x="198" y="109"/>
                    </a:lnTo>
                    <a:lnTo>
                      <a:pt x="232" y="116"/>
                    </a:lnTo>
                    <a:lnTo>
                      <a:pt x="267" y="110"/>
                    </a:lnTo>
                    <a:lnTo>
                      <a:pt x="298" y="115"/>
                    </a:lnTo>
                    <a:lnTo>
                      <a:pt x="332" y="121"/>
                    </a:lnTo>
                    <a:lnTo>
                      <a:pt x="359" y="118"/>
                    </a:lnTo>
                    <a:lnTo>
                      <a:pt x="386" y="117"/>
                    </a:lnTo>
                    <a:lnTo>
                      <a:pt x="428" y="119"/>
                    </a:lnTo>
                    <a:lnTo>
                      <a:pt x="454" y="117"/>
                    </a:lnTo>
                    <a:lnTo>
                      <a:pt x="482" y="114"/>
                    </a:lnTo>
                    <a:lnTo>
                      <a:pt x="515" y="121"/>
                    </a:lnTo>
                    <a:lnTo>
                      <a:pt x="543" y="119"/>
                    </a:lnTo>
                    <a:lnTo>
                      <a:pt x="569" y="115"/>
                    </a:lnTo>
                    <a:lnTo>
                      <a:pt x="609" y="117"/>
                    </a:lnTo>
                    <a:lnTo>
                      <a:pt x="636" y="116"/>
                    </a:lnTo>
                    <a:lnTo>
                      <a:pt x="663" y="113"/>
                    </a:lnTo>
                    <a:lnTo>
                      <a:pt x="684" y="103"/>
                    </a:lnTo>
                    <a:lnTo>
                      <a:pt x="709" y="100"/>
                    </a:lnTo>
                    <a:lnTo>
                      <a:pt x="737" y="98"/>
                    </a:lnTo>
                    <a:lnTo>
                      <a:pt x="777" y="78"/>
                    </a:lnTo>
                    <a:lnTo>
                      <a:pt x="803" y="76"/>
                    </a:lnTo>
                    <a:lnTo>
                      <a:pt x="829" y="73"/>
                    </a:lnTo>
                    <a:lnTo>
                      <a:pt x="857" y="71"/>
                    </a:lnTo>
                    <a:lnTo>
                      <a:pt x="884" y="69"/>
                    </a:lnTo>
                    <a:lnTo>
                      <a:pt x="869" y="41"/>
                    </a:lnTo>
                    <a:lnTo>
                      <a:pt x="822" y="0"/>
                    </a:lnTo>
                    <a:lnTo>
                      <a:pt x="822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98"/>
              <p:cNvSpPr/>
              <p:nvPr/>
            </p:nvSpPr>
            <p:spPr>
              <a:xfrm>
                <a:off x="7613640" y="3684600"/>
                <a:ext cx="1355400" cy="539280"/>
              </a:xfrm>
              <a:custGeom>
                <a:avLst/>
                <a:gdLst>
                  <a:gd name="textAreaLeft" fmla="*/ 0 w 1355400"/>
                  <a:gd name="textAreaRight" fmla="*/ 1355760 w 1355400"/>
                  <a:gd name="textAreaTop" fmla="*/ 0 h 539280"/>
                  <a:gd name="textAreaBottom" fmla="*/ 539640 h 539280"/>
                </a:gdLst>
                <a:ahLst/>
                <a:rect l="textAreaLeft" t="textAreaTop" r="textAreaRight" b="textAreaBottom"/>
                <a:pathLst>
                  <a:path w="854" h="340">
                    <a:moveTo>
                      <a:pt x="771" y="0"/>
                    </a:moveTo>
                    <a:lnTo>
                      <a:pt x="711" y="56"/>
                    </a:lnTo>
                    <a:lnTo>
                      <a:pt x="621" y="120"/>
                    </a:lnTo>
                    <a:lnTo>
                      <a:pt x="513" y="140"/>
                    </a:lnTo>
                    <a:lnTo>
                      <a:pt x="384" y="182"/>
                    </a:lnTo>
                    <a:lnTo>
                      <a:pt x="276" y="201"/>
                    </a:lnTo>
                    <a:lnTo>
                      <a:pt x="215" y="233"/>
                    </a:lnTo>
                    <a:lnTo>
                      <a:pt x="156" y="265"/>
                    </a:lnTo>
                    <a:lnTo>
                      <a:pt x="114" y="265"/>
                    </a:lnTo>
                    <a:lnTo>
                      <a:pt x="50" y="285"/>
                    </a:lnTo>
                    <a:lnTo>
                      <a:pt x="0" y="291"/>
                    </a:lnTo>
                    <a:lnTo>
                      <a:pt x="30" y="307"/>
                    </a:lnTo>
                    <a:lnTo>
                      <a:pt x="52" y="329"/>
                    </a:lnTo>
                    <a:lnTo>
                      <a:pt x="83" y="339"/>
                    </a:lnTo>
                    <a:lnTo>
                      <a:pt x="109" y="330"/>
                    </a:lnTo>
                    <a:lnTo>
                      <a:pt x="134" y="318"/>
                    </a:lnTo>
                    <a:lnTo>
                      <a:pt x="182" y="314"/>
                    </a:lnTo>
                    <a:lnTo>
                      <a:pt x="211" y="297"/>
                    </a:lnTo>
                    <a:lnTo>
                      <a:pt x="246" y="293"/>
                    </a:lnTo>
                    <a:lnTo>
                      <a:pt x="275" y="277"/>
                    </a:lnTo>
                    <a:lnTo>
                      <a:pt x="309" y="271"/>
                    </a:lnTo>
                    <a:lnTo>
                      <a:pt x="344" y="267"/>
                    </a:lnTo>
                    <a:lnTo>
                      <a:pt x="368" y="257"/>
                    </a:lnTo>
                    <a:lnTo>
                      <a:pt x="394" y="245"/>
                    </a:lnTo>
                    <a:lnTo>
                      <a:pt x="432" y="235"/>
                    </a:lnTo>
                    <a:lnTo>
                      <a:pt x="458" y="226"/>
                    </a:lnTo>
                    <a:lnTo>
                      <a:pt x="483" y="215"/>
                    </a:lnTo>
                    <a:lnTo>
                      <a:pt x="516" y="210"/>
                    </a:lnTo>
                    <a:lnTo>
                      <a:pt x="542" y="201"/>
                    </a:lnTo>
                    <a:lnTo>
                      <a:pt x="565" y="189"/>
                    </a:lnTo>
                    <a:lnTo>
                      <a:pt x="605" y="178"/>
                    </a:lnTo>
                    <a:lnTo>
                      <a:pt x="630" y="168"/>
                    </a:lnTo>
                    <a:lnTo>
                      <a:pt x="654" y="157"/>
                    </a:lnTo>
                    <a:lnTo>
                      <a:pt x="671" y="141"/>
                    </a:lnTo>
                    <a:lnTo>
                      <a:pt x="695" y="132"/>
                    </a:lnTo>
                    <a:lnTo>
                      <a:pt x="721" y="121"/>
                    </a:lnTo>
                    <a:lnTo>
                      <a:pt x="752" y="88"/>
                    </a:lnTo>
                    <a:lnTo>
                      <a:pt x="776" y="79"/>
                    </a:lnTo>
                    <a:lnTo>
                      <a:pt x="802" y="68"/>
                    </a:lnTo>
                    <a:lnTo>
                      <a:pt x="827" y="57"/>
                    </a:lnTo>
                    <a:lnTo>
                      <a:pt x="853" y="47"/>
                    </a:lnTo>
                    <a:lnTo>
                      <a:pt x="829" y="25"/>
                    </a:lnTo>
                    <a:lnTo>
                      <a:pt x="771" y="0"/>
                    </a:lnTo>
                    <a:lnTo>
                      <a:pt x="771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1" name="Group 103"/>
            <p:cNvGrpSpPr/>
            <p:nvPr/>
          </p:nvGrpSpPr>
          <p:grpSpPr>
            <a:xfrm>
              <a:off x="6046920" y="3298680"/>
              <a:ext cx="1534680" cy="745920"/>
              <a:chOff x="6046920" y="3298680"/>
              <a:chExt cx="1534680" cy="745920"/>
            </a:xfrm>
          </p:grpSpPr>
          <p:sp>
            <p:nvSpPr>
              <p:cNvPr id="622" name="Freeform 100"/>
              <p:cNvSpPr/>
              <p:nvPr/>
            </p:nvSpPr>
            <p:spPr>
              <a:xfrm>
                <a:off x="6046920" y="3603600"/>
                <a:ext cx="1380600" cy="441000"/>
              </a:xfrm>
              <a:custGeom>
                <a:avLst/>
                <a:gdLst>
                  <a:gd name="textAreaLeft" fmla="*/ 0 w 1380600"/>
                  <a:gd name="textAreaRight" fmla="*/ 1380960 w 138060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w="870" h="278">
                    <a:moveTo>
                      <a:pt x="794" y="277"/>
                    </a:moveTo>
                    <a:lnTo>
                      <a:pt x="728" y="227"/>
                    </a:lnTo>
                    <a:lnTo>
                      <a:pt x="632" y="171"/>
                    </a:lnTo>
                    <a:lnTo>
                      <a:pt x="522" y="160"/>
                    </a:lnTo>
                    <a:lnTo>
                      <a:pt x="392" y="130"/>
                    </a:lnTo>
                    <a:lnTo>
                      <a:pt x="282" y="120"/>
                    </a:lnTo>
                    <a:lnTo>
                      <a:pt x="219" y="94"/>
                    </a:lnTo>
                    <a:lnTo>
                      <a:pt x="158" y="68"/>
                    </a:lnTo>
                    <a:lnTo>
                      <a:pt x="116" y="71"/>
                    </a:lnTo>
                    <a:lnTo>
                      <a:pt x="50" y="56"/>
                    </a:lnTo>
                    <a:lnTo>
                      <a:pt x="0" y="54"/>
                    </a:lnTo>
                    <a:lnTo>
                      <a:pt x="26" y="37"/>
                    </a:lnTo>
                    <a:lnTo>
                      <a:pt x="47" y="13"/>
                    </a:lnTo>
                    <a:lnTo>
                      <a:pt x="78" y="0"/>
                    </a:lnTo>
                    <a:lnTo>
                      <a:pt x="104" y="7"/>
                    </a:lnTo>
                    <a:lnTo>
                      <a:pt x="129" y="17"/>
                    </a:lnTo>
                    <a:lnTo>
                      <a:pt x="178" y="17"/>
                    </a:lnTo>
                    <a:lnTo>
                      <a:pt x="209" y="29"/>
                    </a:lnTo>
                    <a:lnTo>
                      <a:pt x="244" y="31"/>
                    </a:lnTo>
                    <a:lnTo>
                      <a:pt x="275" y="45"/>
                    </a:lnTo>
                    <a:lnTo>
                      <a:pt x="309" y="47"/>
                    </a:lnTo>
                    <a:lnTo>
                      <a:pt x="343" y="48"/>
                    </a:lnTo>
                    <a:lnTo>
                      <a:pt x="369" y="57"/>
                    </a:lnTo>
                    <a:lnTo>
                      <a:pt x="395" y="66"/>
                    </a:lnTo>
                    <a:lnTo>
                      <a:pt x="435" y="73"/>
                    </a:lnTo>
                    <a:lnTo>
                      <a:pt x="461" y="81"/>
                    </a:lnTo>
                    <a:lnTo>
                      <a:pt x="487" y="88"/>
                    </a:lnTo>
                    <a:lnTo>
                      <a:pt x="520" y="90"/>
                    </a:lnTo>
                    <a:lnTo>
                      <a:pt x="547" y="98"/>
                    </a:lnTo>
                    <a:lnTo>
                      <a:pt x="572" y="108"/>
                    </a:lnTo>
                    <a:lnTo>
                      <a:pt x="612" y="114"/>
                    </a:lnTo>
                    <a:lnTo>
                      <a:pt x="637" y="123"/>
                    </a:lnTo>
                    <a:lnTo>
                      <a:pt x="663" y="130"/>
                    </a:lnTo>
                    <a:lnTo>
                      <a:pt x="681" y="145"/>
                    </a:lnTo>
                    <a:lnTo>
                      <a:pt x="705" y="153"/>
                    </a:lnTo>
                    <a:lnTo>
                      <a:pt x="732" y="161"/>
                    </a:lnTo>
                    <a:lnTo>
                      <a:pt x="766" y="192"/>
                    </a:lnTo>
                    <a:lnTo>
                      <a:pt x="791" y="198"/>
                    </a:lnTo>
                    <a:lnTo>
                      <a:pt x="817" y="207"/>
                    </a:lnTo>
                    <a:lnTo>
                      <a:pt x="842" y="216"/>
                    </a:lnTo>
                    <a:lnTo>
                      <a:pt x="869" y="225"/>
                    </a:lnTo>
                    <a:lnTo>
                      <a:pt x="848" y="248"/>
                    </a:lnTo>
                    <a:lnTo>
                      <a:pt x="794" y="277"/>
                    </a:lnTo>
                    <a:lnTo>
                      <a:pt x="794" y="277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101"/>
              <p:cNvSpPr/>
              <p:nvPr/>
            </p:nvSpPr>
            <p:spPr>
              <a:xfrm>
                <a:off x="6316560" y="3298680"/>
                <a:ext cx="1265040" cy="617040"/>
              </a:xfrm>
              <a:custGeom>
                <a:avLst/>
                <a:gdLst>
                  <a:gd name="textAreaLeft" fmla="*/ 0 w 1265040"/>
                  <a:gd name="textAreaRight" fmla="*/ 1265400 w 1265040"/>
                  <a:gd name="textAreaTop" fmla="*/ 0 h 617040"/>
                  <a:gd name="textAreaBottom" fmla="*/ 617400 h 617040"/>
                </a:gdLst>
                <a:ahLst/>
                <a:rect l="textAreaLeft" t="textAreaTop" r="textAreaRight" b="textAreaBottom"/>
                <a:pathLst>
                  <a:path w="797" h="389">
                    <a:moveTo>
                      <a:pt x="767" y="300"/>
                    </a:moveTo>
                    <a:lnTo>
                      <a:pt x="686" y="301"/>
                    </a:lnTo>
                    <a:lnTo>
                      <a:pt x="575" y="287"/>
                    </a:lnTo>
                    <a:lnTo>
                      <a:pt x="481" y="229"/>
                    </a:lnTo>
                    <a:lnTo>
                      <a:pt x="359" y="176"/>
                    </a:lnTo>
                    <a:lnTo>
                      <a:pt x="265" y="118"/>
                    </a:lnTo>
                    <a:lnTo>
                      <a:pt x="198" y="101"/>
                    </a:lnTo>
                    <a:lnTo>
                      <a:pt x="133" y="85"/>
                    </a:lnTo>
                    <a:lnTo>
                      <a:pt x="101" y="56"/>
                    </a:lnTo>
                    <a:lnTo>
                      <a:pt x="40" y="28"/>
                    </a:lnTo>
                    <a:lnTo>
                      <a:pt x="0" y="0"/>
                    </a:lnTo>
                    <a:lnTo>
                      <a:pt x="10" y="30"/>
                    </a:lnTo>
                    <a:lnTo>
                      <a:pt x="12" y="61"/>
                    </a:lnTo>
                    <a:lnTo>
                      <a:pt x="29" y="90"/>
                    </a:lnTo>
                    <a:lnTo>
                      <a:pt x="54" y="100"/>
                    </a:lnTo>
                    <a:lnTo>
                      <a:pt x="80" y="108"/>
                    </a:lnTo>
                    <a:lnTo>
                      <a:pt x="119" y="137"/>
                    </a:lnTo>
                    <a:lnTo>
                      <a:pt x="152" y="146"/>
                    </a:lnTo>
                    <a:lnTo>
                      <a:pt x="181" y="166"/>
                    </a:lnTo>
                    <a:lnTo>
                      <a:pt x="215" y="174"/>
                    </a:lnTo>
                    <a:lnTo>
                      <a:pt x="241" y="191"/>
                    </a:lnTo>
                    <a:lnTo>
                      <a:pt x="270" y="211"/>
                    </a:lnTo>
                    <a:lnTo>
                      <a:pt x="296" y="219"/>
                    </a:lnTo>
                    <a:lnTo>
                      <a:pt x="321" y="229"/>
                    </a:lnTo>
                    <a:lnTo>
                      <a:pt x="358" y="248"/>
                    </a:lnTo>
                    <a:lnTo>
                      <a:pt x="383" y="257"/>
                    </a:lnTo>
                    <a:lnTo>
                      <a:pt x="409" y="266"/>
                    </a:lnTo>
                    <a:lnTo>
                      <a:pt x="437" y="285"/>
                    </a:lnTo>
                    <a:lnTo>
                      <a:pt x="463" y="294"/>
                    </a:lnTo>
                    <a:lnTo>
                      <a:pt x="488" y="302"/>
                    </a:lnTo>
                    <a:lnTo>
                      <a:pt x="525" y="320"/>
                    </a:lnTo>
                    <a:lnTo>
                      <a:pt x="550" y="330"/>
                    </a:lnTo>
                    <a:lnTo>
                      <a:pt x="575" y="338"/>
                    </a:lnTo>
                    <a:lnTo>
                      <a:pt x="599" y="338"/>
                    </a:lnTo>
                    <a:lnTo>
                      <a:pt x="623" y="346"/>
                    </a:lnTo>
                    <a:lnTo>
                      <a:pt x="649" y="355"/>
                    </a:lnTo>
                    <a:lnTo>
                      <a:pt x="693" y="352"/>
                    </a:lnTo>
                    <a:lnTo>
                      <a:pt x="718" y="361"/>
                    </a:lnTo>
                    <a:lnTo>
                      <a:pt x="744" y="369"/>
                    </a:lnTo>
                    <a:lnTo>
                      <a:pt x="770" y="378"/>
                    </a:lnTo>
                    <a:lnTo>
                      <a:pt x="796" y="388"/>
                    </a:lnTo>
                    <a:lnTo>
                      <a:pt x="793" y="356"/>
                    </a:lnTo>
                    <a:lnTo>
                      <a:pt x="767" y="300"/>
                    </a:lnTo>
                    <a:lnTo>
                      <a:pt x="767" y="30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102"/>
              <p:cNvSpPr/>
              <p:nvPr/>
            </p:nvSpPr>
            <p:spPr>
              <a:xfrm>
                <a:off x="6103800" y="3470400"/>
                <a:ext cx="1395000" cy="229680"/>
              </a:xfrm>
              <a:custGeom>
                <a:avLst/>
                <a:gdLst>
                  <a:gd name="textAreaLeft" fmla="*/ 0 w 1395000"/>
                  <a:gd name="textAreaRight" fmla="*/ 1395360 w 139500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879" h="145">
                    <a:moveTo>
                      <a:pt x="822" y="48"/>
                    </a:moveTo>
                    <a:lnTo>
                      <a:pt x="745" y="75"/>
                    </a:lnTo>
                    <a:lnTo>
                      <a:pt x="636" y="97"/>
                    </a:lnTo>
                    <a:lnTo>
                      <a:pt x="529" y="71"/>
                    </a:lnTo>
                    <a:lnTo>
                      <a:pt x="395" y="57"/>
                    </a:lnTo>
                    <a:lnTo>
                      <a:pt x="288" y="31"/>
                    </a:lnTo>
                    <a:lnTo>
                      <a:pt x="220" y="35"/>
                    </a:lnTo>
                    <a:lnTo>
                      <a:pt x="152" y="40"/>
                    </a:lnTo>
                    <a:lnTo>
                      <a:pt x="114" y="23"/>
                    </a:lnTo>
                    <a:lnTo>
                      <a:pt x="48" y="15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31" y="56"/>
                    </a:lnTo>
                    <a:lnTo>
                      <a:pt x="56" y="78"/>
                    </a:lnTo>
                    <a:lnTo>
                      <a:pt x="83" y="80"/>
                    </a:lnTo>
                    <a:lnTo>
                      <a:pt x="111" y="80"/>
                    </a:lnTo>
                    <a:lnTo>
                      <a:pt x="157" y="95"/>
                    </a:lnTo>
                    <a:lnTo>
                      <a:pt x="190" y="92"/>
                    </a:lnTo>
                    <a:lnTo>
                      <a:pt x="224" y="103"/>
                    </a:lnTo>
                    <a:lnTo>
                      <a:pt x="257" y="100"/>
                    </a:lnTo>
                    <a:lnTo>
                      <a:pt x="290" y="107"/>
                    </a:lnTo>
                    <a:lnTo>
                      <a:pt x="323" y="118"/>
                    </a:lnTo>
                    <a:lnTo>
                      <a:pt x="350" y="119"/>
                    </a:lnTo>
                    <a:lnTo>
                      <a:pt x="378" y="119"/>
                    </a:lnTo>
                    <a:lnTo>
                      <a:pt x="417" y="126"/>
                    </a:lnTo>
                    <a:lnTo>
                      <a:pt x="445" y="127"/>
                    </a:lnTo>
                    <a:lnTo>
                      <a:pt x="472" y="127"/>
                    </a:lnTo>
                    <a:lnTo>
                      <a:pt x="504" y="136"/>
                    </a:lnTo>
                    <a:lnTo>
                      <a:pt x="531" y="138"/>
                    </a:lnTo>
                    <a:lnTo>
                      <a:pt x="557" y="137"/>
                    </a:lnTo>
                    <a:lnTo>
                      <a:pt x="598" y="144"/>
                    </a:lnTo>
                    <a:lnTo>
                      <a:pt x="625" y="144"/>
                    </a:lnTo>
                    <a:lnTo>
                      <a:pt x="652" y="144"/>
                    </a:lnTo>
                    <a:lnTo>
                      <a:pt x="673" y="137"/>
                    </a:lnTo>
                    <a:lnTo>
                      <a:pt x="699" y="138"/>
                    </a:lnTo>
                    <a:lnTo>
                      <a:pt x="727" y="138"/>
                    </a:lnTo>
                    <a:lnTo>
                      <a:pt x="769" y="121"/>
                    </a:lnTo>
                    <a:lnTo>
                      <a:pt x="795" y="123"/>
                    </a:lnTo>
                    <a:lnTo>
                      <a:pt x="823" y="123"/>
                    </a:lnTo>
                    <a:lnTo>
                      <a:pt x="850" y="123"/>
                    </a:lnTo>
                    <a:lnTo>
                      <a:pt x="878" y="124"/>
                    </a:lnTo>
                    <a:lnTo>
                      <a:pt x="865" y="95"/>
                    </a:lnTo>
                    <a:lnTo>
                      <a:pt x="822" y="48"/>
                    </a:lnTo>
                    <a:lnTo>
                      <a:pt x="822" y="48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5" name="Group 107"/>
            <p:cNvGrpSpPr/>
            <p:nvPr/>
          </p:nvGrpSpPr>
          <p:grpSpPr>
            <a:xfrm>
              <a:off x="4599000" y="3298680"/>
              <a:ext cx="1535040" cy="745920"/>
              <a:chOff x="4599000" y="3298680"/>
              <a:chExt cx="1535040" cy="745920"/>
            </a:xfrm>
          </p:grpSpPr>
          <p:sp>
            <p:nvSpPr>
              <p:cNvPr id="626" name="Freeform 104"/>
              <p:cNvSpPr/>
              <p:nvPr/>
            </p:nvSpPr>
            <p:spPr>
              <a:xfrm>
                <a:off x="4599000" y="3603600"/>
                <a:ext cx="1380600" cy="441000"/>
              </a:xfrm>
              <a:custGeom>
                <a:avLst/>
                <a:gdLst>
                  <a:gd name="textAreaLeft" fmla="*/ 0 w 1380600"/>
                  <a:gd name="textAreaRight" fmla="*/ 1380960 w 138060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w="870" h="278">
                    <a:moveTo>
                      <a:pt x="794" y="277"/>
                    </a:moveTo>
                    <a:lnTo>
                      <a:pt x="728" y="227"/>
                    </a:lnTo>
                    <a:lnTo>
                      <a:pt x="632" y="171"/>
                    </a:lnTo>
                    <a:lnTo>
                      <a:pt x="522" y="160"/>
                    </a:lnTo>
                    <a:lnTo>
                      <a:pt x="392" y="130"/>
                    </a:lnTo>
                    <a:lnTo>
                      <a:pt x="282" y="120"/>
                    </a:lnTo>
                    <a:lnTo>
                      <a:pt x="219" y="94"/>
                    </a:lnTo>
                    <a:lnTo>
                      <a:pt x="158" y="68"/>
                    </a:lnTo>
                    <a:lnTo>
                      <a:pt x="116" y="71"/>
                    </a:lnTo>
                    <a:lnTo>
                      <a:pt x="50" y="56"/>
                    </a:lnTo>
                    <a:lnTo>
                      <a:pt x="0" y="54"/>
                    </a:lnTo>
                    <a:lnTo>
                      <a:pt x="26" y="37"/>
                    </a:lnTo>
                    <a:lnTo>
                      <a:pt x="47" y="13"/>
                    </a:lnTo>
                    <a:lnTo>
                      <a:pt x="78" y="0"/>
                    </a:lnTo>
                    <a:lnTo>
                      <a:pt x="104" y="7"/>
                    </a:lnTo>
                    <a:lnTo>
                      <a:pt x="129" y="17"/>
                    </a:lnTo>
                    <a:lnTo>
                      <a:pt x="178" y="17"/>
                    </a:lnTo>
                    <a:lnTo>
                      <a:pt x="209" y="29"/>
                    </a:lnTo>
                    <a:lnTo>
                      <a:pt x="244" y="31"/>
                    </a:lnTo>
                    <a:lnTo>
                      <a:pt x="275" y="45"/>
                    </a:lnTo>
                    <a:lnTo>
                      <a:pt x="309" y="47"/>
                    </a:lnTo>
                    <a:lnTo>
                      <a:pt x="343" y="48"/>
                    </a:lnTo>
                    <a:lnTo>
                      <a:pt x="369" y="57"/>
                    </a:lnTo>
                    <a:lnTo>
                      <a:pt x="395" y="66"/>
                    </a:lnTo>
                    <a:lnTo>
                      <a:pt x="435" y="73"/>
                    </a:lnTo>
                    <a:lnTo>
                      <a:pt x="461" y="81"/>
                    </a:lnTo>
                    <a:lnTo>
                      <a:pt x="487" y="88"/>
                    </a:lnTo>
                    <a:lnTo>
                      <a:pt x="520" y="90"/>
                    </a:lnTo>
                    <a:lnTo>
                      <a:pt x="547" y="98"/>
                    </a:lnTo>
                    <a:lnTo>
                      <a:pt x="572" y="108"/>
                    </a:lnTo>
                    <a:lnTo>
                      <a:pt x="612" y="114"/>
                    </a:lnTo>
                    <a:lnTo>
                      <a:pt x="637" y="123"/>
                    </a:lnTo>
                    <a:lnTo>
                      <a:pt x="663" y="130"/>
                    </a:lnTo>
                    <a:lnTo>
                      <a:pt x="681" y="145"/>
                    </a:lnTo>
                    <a:lnTo>
                      <a:pt x="705" y="153"/>
                    </a:lnTo>
                    <a:lnTo>
                      <a:pt x="732" y="161"/>
                    </a:lnTo>
                    <a:lnTo>
                      <a:pt x="766" y="192"/>
                    </a:lnTo>
                    <a:lnTo>
                      <a:pt x="791" y="198"/>
                    </a:lnTo>
                    <a:lnTo>
                      <a:pt x="817" y="207"/>
                    </a:lnTo>
                    <a:lnTo>
                      <a:pt x="842" y="216"/>
                    </a:lnTo>
                    <a:lnTo>
                      <a:pt x="869" y="225"/>
                    </a:lnTo>
                    <a:lnTo>
                      <a:pt x="848" y="248"/>
                    </a:lnTo>
                    <a:lnTo>
                      <a:pt x="794" y="277"/>
                    </a:lnTo>
                    <a:lnTo>
                      <a:pt x="794" y="277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105"/>
              <p:cNvSpPr/>
              <p:nvPr/>
            </p:nvSpPr>
            <p:spPr>
              <a:xfrm>
                <a:off x="4869000" y="3298680"/>
                <a:ext cx="1265040" cy="617040"/>
              </a:xfrm>
              <a:custGeom>
                <a:avLst/>
                <a:gdLst>
                  <a:gd name="textAreaLeft" fmla="*/ 0 w 1265040"/>
                  <a:gd name="textAreaRight" fmla="*/ 1265400 w 1265040"/>
                  <a:gd name="textAreaTop" fmla="*/ 0 h 617040"/>
                  <a:gd name="textAreaBottom" fmla="*/ 617400 h 617040"/>
                </a:gdLst>
                <a:ahLst/>
                <a:rect l="textAreaLeft" t="textAreaTop" r="textAreaRight" b="textAreaBottom"/>
                <a:pathLst>
                  <a:path w="797" h="389">
                    <a:moveTo>
                      <a:pt x="767" y="300"/>
                    </a:moveTo>
                    <a:lnTo>
                      <a:pt x="686" y="301"/>
                    </a:lnTo>
                    <a:lnTo>
                      <a:pt x="575" y="287"/>
                    </a:lnTo>
                    <a:lnTo>
                      <a:pt x="481" y="229"/>
                    </a:lnTo>
                    <a:lnTo>
                      <a:pt x="359" y="176"/>
                    </a:lnTo>
                    <a:lnTo>
                      <a:pt x="265" y="118"/>
                    </a:lnTo>
                    <a:lnTo>
                      <a:pt x="198" y="101"/>
                    </a:lnTo>
                    <a:lnTo>
                      <a:pt x="133" y="85"/>
                    </a:lnTo>
                    <a:lnTo>
                      <a:pt x="101" y="56"/>
                    </a:lnTo>
                    <a:lnTo>
                      <a:pt x="40" y="28"/>
                    </a:lnTo>
                    <a:lnTo>
                      <a:pt x="0" y="0"/>
                    </a:lnTo>
                    <a:lnTo>
                      <a:pt x="10" y="30"/>
                    </a:lnTo>
                    <a:lnTo>
                      <a:pt x="12" y="61"/>
                    </a:lnTo>
                    <a:lnTo>
                      <a:pt x="29" y="90"/>
                    </a:lnTo>
                    <a:lnTo>
                      <a:pt x="54" y="100"/>
                    </a:lnTo>
                    <a:lnTo>
                      <a:pt x="80" y="108"/>
                    </a:lnTo>
                    <a:lnTo>
                      <a:pt x="119" y="137"/>
                    </a:lnTo>
                    <a:lnTo>
                      <a:pt x="152" y="146"/>
                    </a:lnTo>
                    <a:lnTo>
                      <a:pt x="181" y="166"/>
                    </a:lnTo>
                    <a:lnTo>
                      <a:pt x="215" y="174"/>
                    </a:lnTo>
                    <a:lnTo>
                      <a:pt x="241" y="191"/>
                    </a:lnTo>
                    <a:lnTo>
                      <a:pt x="270" y="211"/>
                    </a:lnTo>
                    <a:lnTo>
                      <a:pt x="296" y="219"/>
                    </a:lnTo>
                    <a:lnTo>
                      <a:pt x="321" y="229"/>
                    </a:lnTo>
                    <a:lnTo>
                      <a:pt x="358" y="248"/>
                    </a:lnTo>
                    <a:lnTo>
                      <a:pt x="383" y="257"/>
                    </a:lnTo>
                    <a:lnTo>
                      <a:pt x="409" y="266"/>
                    </a:lnTo>
                    <a:lnTo>
                      <a:pt x="437" y="285"/>
                    </a:lnTo>
                    <a:lnTo>
                      <a:pt x="463" y="294"/>
                    </a:lnTo>
                    <a:lnTo>
                      <a:pt x="488" y="302"/>
                    </a:lnTo>
                    <a:lnTo>
                      <a:pt x="525" y="320"/>
                    </a:lnTo>
                    <a:lnTo>
                      <a:pt x="550" y="330"/>
                    </a:lnTo>
                    <a:lnTo>
                      <a:pt x="575" y="338"/>
                    </a:lnTo>
                    <a:lnTo>
                      <a:pt x="599" y="338"/>
                    </a:lnTo>
                    <a:lnTo>
                      <a:pt x="623" y="346"/>
                    </a:lnTo>
                    <a:lnTo>
                      <a:pt x="649" y="355"/>
                    </a:lnTo>
                    <a:lnTo>
                      <a:pt x="693" y="352"/>
                    </a:lnTo>
                    <a:lnTo>
                      <a:pt x="718" y="361"/>
                    </a:lnTo>
                    <a:lnTo>
                      <a:pt x="744" y="369"/>
                    </a:lnTo>
                    <a:lnTo>
                      <a:pt x="770" y="378"/>
                    </a:lnTo>
                    <a:lnTo>
                      <a:pt x="796" y="388"/>
                    </a:lnTo>
                    <a:lnTo>
                      <a:pt x="793" y="356"/>
                    </a:lnTo>
                    <a:lnTo>
                      <a:pt x="767" y="300"/>
                    </a:lnTo>
                    <a:lnTo>
                      <a:pt x="767" y="30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06"/>
              <p:cNvSpPr/>
              <p:nvPr/>
            </p:nvSpPr>
            <p:spPr>
              <a:xfrm>
                <a:off x="4656240" y="3470400"/>
                <a:ext cx="1395000" cy="229680"/>
              </a:xfrm>
              <a:custGeom>
                <a:avLst/>
                <a:gdLst>
                  <a:gd name="textAreaLeft" fmla="*/ 0 w 1395000"/>
                  <a:gd name="textAreaRight" fmla="*/ 1395360 w 139500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879" h="145">
                    <a:moveTo>
                      <a:pt x="822" y="48"/>
                    </a:moveTo>
                    <a:lnTo>
                      <a:pt x="745" y="75"/>
                    </a:lnTo>
                    <a:lnTo>
                      <a:pt x="636" y="97"/>
                    </a:lnTo>
                    <a:lnTo>
                      <a:pt x="529" y="71"/>
                    </a:lnTo>
                    <a:lnTo>
                      <a:pt x="395" y="57"/>
                    </a:lnTo>
                    <a:lnTo>
                      <a:pt x="288" y="31"/>
                    </a:lnTo>
                    <a:lnTo>
                      <a:pt x="220" y="35"/>
                    </a:lnTo>
                    <a:lnTo>
                      <a:pt x="152" y="40"/>
                    </a:lnTo>
                    <a:lnTo>
                      <a:pt x="114" y="23"/>
                    </a:lnTo>
                    <a:lnTo>
                      <a:pt x="48" y="15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31" y="56"/>
                    </a:lnTo>
                    <a:lnTo>
                      <a:pt x="56" y="78"/>
                    </a:lnTo>
                    <a:lnTo>
                      <a:pt x="83" y="80"/>
                    </a:lnTo>
                    <a:lnTo>
                      <a:pt x="111" y="80"/>
                    </a:lnTo>
                    <a:lnTo>
                      <a:pt x="157" y="95"/>
                    </a:lnTo>
                    <a:lnTo>
                      <a:pt x="190" y="92"/>
                    </a:lnTo>
                    <a:lnTo>
                      <a:pt x="224" y="103"/>
                    </a:lnTo>
                    <a:lnTo>
                      <a:pt x="257" y="100"/>
                    </a:lnTo>
                    <a:lnTo>
                      <a:pt x="290" y="107"/>
                    </a:lnTo>
                    <a:lnTo>
                      <a:pt x="323" y="118"/>
                    </a:lnTo>
                    <a:lnTo>
                      <a:pt x="350" y="119"/>
                    </a:lnTo>
                    <a:lnTo>
                      <a:pt x="378" y="119"/>
                    </a:lnTo>
                    <a:lnTo>
                      <a:pt x="417" y="126"/>
                    </a:lnTo>
                    <a:lnTo>
                      <a:pt x="445" y="127"/>
                    </a:lnTo>
                    <a:lnTo>
                      <a:pt x="472" y="127"/>
                    </a:lnTo>
                    <a:lnTo>
                      <a:pt x="504" y="136"/>
                    </a:lnTo>
                    <a:lnTo>
                      <a:pt x="531" y="138"/>
                    </a:lnTo>
                    <a:lnTo>
                      <a:pt x="557" y="137"/>
                    </a:lnTo>
                    <a:lnTo>
                      <a:pt x="598" y="144"/>
                    </a:lnTo>
                    <a:lnTo>
                      <a:pt x="625" y="144"/>
                    </a:lnTo>
                    <a:lnTo>
                      <a:pt x="652" y="144"/>
                    </a:lnTo>
                    <a:lnTo>
                      <a:pt x="673" y="137"/>
                    </a:lnTo>
                    <a:lnTo>
                      <a:pt x="699" y="138"/>
                    </a:lnTo>
                    <a:lnTo>
                      <a:pt x="727" y="138"/>
                    </a:lnTo>
                    <a:lnTo>
                      <a:pt x="769" y="121"/>
                    </a:lnTo>
                    <a:lnTo>
                      <a:pt x="795" y="123"/>
                    </a:lnTo>
                    <a:lnTo>
                      <a:pt x="823" y="123"/>
                    </a:lnTo>
                    <a:lnTo>
                      <a:pt x="850" y="123"/>
                    </a:lnTo>
                    <a:lnTo>
                      <a:pt x="878" y="124"/>
                    </a:lnTo>
                    <a:lnTo>
                      <a:pt x="865" y="95"/>
                    </a:lnTo>
                    <a:lnTo>
                      <a:pt x="822" y="48"/>
                    </a:lnTo>
                    <a:lnTo>
                      <a:pt x="822" y="48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9" name="Group 111"/>
            <p:cNvGrpSpPr/>
            <p:nvPr/>
          </p:nvGrpSpPr>
          <p:grpSpPr>
            <a:xfrm>
              <a:off x="7608960" y="3451320"/>
              <a:ext cx="1534680" cy="745560"/>
              <a:chOff x="7608960" y="3451320"/>
              <a:chExt cx="1534680" cy="745560"/>
            </a:xfrm>
          </p:grpSpPr>
          <p:sp>
            <p:nvSpPr>
              <p:cNvPr id="630" name="Freeform 108"/>
              <p:cNvSpPr/>
              <p:nvPr/>
            </p:nvSpPr>
            <p:spPr>
              <a:xfrm>
                <a:off x="7608960" y="3755880"/>
                <a:ext cx="1380600" cy="441000"/>
              </a:xfrm>
              <a:custGeom>
                <a:avLst/>
                <a:gdLst>
                  <a:gd name="textAreaLeft" fmla="*/ 0 w 1380600"/>
                  <a:gd name="textAreaRight" fmla="*/ 1380960 w 138060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w="870" h="278">
                    <a:moveTo>
                      <a:pt x="794" y="277"/>
                    </a:moveTo>
                    <a:lnTo>
                      <a:pt x="728" y="227"/>
                    </a:lnTo>
                    <a:lnTo>
                      <a:pt x="632" y="171"/>
                    </a:lnTo>
                    <a:lnTo>
                      <a:pt x="522" y="160"/>
                    </a:lnTo>
                    <a:lnTo>
                      <a:pt x="392" y="130"/>
                    </a:lnTo>
                    <a:lnTo>
                      <a:pt x="282" y="120"/>
                    </a:lnTo>
                    <a:lnTo>
                      <a:pt x="219" y="94"/>
                    </a:lnTo>
                    <a:lnTo>
                      <a:pt x="158" y="68"/>
                    </a:lnTo>
                    <a:lnTo>
                      <a:pt x="116" y="71"/>
                    </a:lnTo>
                    <a:lnTo>
                      <a:pt x="50" y="56"/>
                    </a:lnTo>
                    <a:lnTo>
                      <a:pt x="0" y="54"/>
                    </a:lnTo>
                    <a:lnTo>
                      <a:pt x="26" y="37"/>
                    </a:lnTo>
                    <a:lnTo>
                      <a:pt x="47" y="13"/>
                    </a:lnTo>
                    <a:lnTo>
                      <a:pt x="78" y="0"/>
                    </a:lnTo>
                    <a:lnTo>
                      <a:pt x="104" y="7"/>
                    </a:lnTo>
                    <a:lnTo>
                      <a:pt x="129" y="17"/>
                    </a:lnTo>
                    <a:lnTo>
                      <a:pt x="178" y="17"/>
                    </a:lnTo>
                    <a:lnTo>
                      <a:pt x="209" y="29"/>
                    </a:lnTo>
                    <a:lnTo>
                      <a:pt x="244" y="31"/>
                    </a:lnTo>
                    <a:lnTo>
                      <a:pt x="275" y="45"/>
                    </a:lnTo>
                    <a:lnTo>
                      <a:pt x="309" y="47"/>
                    </a:lnTo>
                    <a:lnTo>
                      <a:pt x="343" y="48"/>
                    </a:lnTo>
                    <a:lnTo>
                      <a:pt x="369" y="57"/>
                    </a:lnTo>
                    <a:lnTo>
                      <a:pt x="395" y="66"/>
                    </a:lnTo>
                    <a:lnTo>
                      <a:pt x="435" y="73"/>
                    </a:lnTo>
                    <a:lnTo>
                      <a:pt x="461" y="81"/>
                    </a:lnTo>
                    <a:lnTo>
                      <a:pt x="487" y="88"/>
                    </a:lnTo>
                    <a:lnTo>
                      <a:pt x="520" y="90"/>
                    </a:lnTo>
                    <a:lnTo>
                      <a:pt x="547" y="98"/>
                    </a:lnTo>
                    <a:lnTo>
                      <a:pt x="572" y="108"/>
                    </a:lnTo>
                    <a:lnTo>
                      <a:pt x="612" y="114"/>
                    </a:lnTo>
                    <a:lnTo>
                      <a:pt x="637" y="123"/>
                    </a:lnTo>
                    <a:lnTo>
                      <a:pt x="663" y="130"/>
                    </a:lnTo>
                    <a:lnTo>
                      <a:pt x="681" y="145"/>
                    </a:lnTo>
                    <a:lnTo>
                      <a:pt x="705" y="153"/>
                    </a:lnTo>
                    <a:lnTo>
                      <a:pt x="732" y="161"/>
                    </a:lnTo>
                    <a:lnTo>
                      <a:pt x="766" y="192"/>
                    </a:lnTo>
                    <a:lnTo>
                      <a:pt x="791" y="198"/>
                    </a:lnTo>
                    <a:lnTo>
                      <a:pt x="817" y="207"/>
                    </a:lnTo>
                    <a:lnTo>
                      <a:pt x="842" y="216"/>
                    </a:lnTo>
                    <a:lnTo>
                      <a:pt x="869" y="225"/>
                    </a:lnTo>
                    <a:lnTo>
                      <a:pt x="848" y="248"/>
                    </a:lnTo>
                    <a:lnTo>
                      <a:pt x="794" y="277"/>
                    </a:lnTo>
                    <a:lnTo>
                      <a:pt x="794" y="277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109"/>
              <p:cNvSpPr/>
              <p:nvPr/>
            </p:nvSpPr>
            <p:spPr>
              <a:xfrm>
                <a:off x="7878600" y="3451320"/>
                <a:ext cx="1265040" cy="617040"/>
              </a:xfrm>
              <a:custGeom>
                <a:avLst/>
                <a:gdLst>
                  <a:gd name="textAreaLeft" fmla="*/ 0 w 1265040"/>
                  <a:gd name="textAreaRight" fmla="*/ 1265400 w 1265040"/>
                  <a:gd name="textAreaTop" fmla="*/ 0 h 617040"/>
                  <a:gd name="textAreaBottom" fmla="*/ 617400 h 617040"/>
                </a:gdLst>
                <a:ahLst/>
                <a:rect l="textAreaLeft" t="textAreaTop" r="textAreaRight" b="textAreaBottom"/>
                <a:pathLst>
                  <a:path w="797" h="389">
                    <a:moveTo>
                      <a:pt x="767" y="300"/>
                    </a:moveTo>
                    <a:lnTo>
                      <a:pt x="686" y="301"/>
                    </a:lnTo>
                    <a:lnTo>
                      <a:pt x="575" y="287"/>
                    </a:lnTo>
                    <a:lnTo>
                      <a:pt x="481" y="229"/>
                    </a:lnTo>
                    <a:lnTo>
                      <a:pt x="359" y="176"/>
                    </a:lnTo>
                    <a:lnTo>
                      <a:pt x="265" y="118"/>
                    </a:lnTo>
                    <a:lnTo>
                      <a:pt x="198" y="101"/>
                    </a:lnTo>
                    <a:lnTo>
                      <a:pt x="133" y="85"/>
                    </a:lnTo>
                    <a:lnTo>
                      <a:pt x="101" y="56"/>
                    </a:lnTo>
                    <a:lnTo>
                      <a:pt x="40" y="28"/>
                    </a:lnTo>
                    <a:lnTo>
                      <a:pt x="0" y="0"/>
                    </a:lnTo>
                    <a:lnTo>
                      <a:pt x="10" y="30"/>
                    </a:lnTo>
                    <a:lnTo>
                      <a:pt x="12" y="61"/>
                    </a:lnTo>
                    <a:lnTo>
                      <a:pt x="29" y="90"/>
                    </a:lnTo>
                    <a:lnTo>
                      <a:pt x="54" y="100"/>
                    </a:lnTo>
                    <a:lnTo>
                      <a:pt x="80" y="108"/>
                    </a:lnTo>
                    <a:lnTo>
                      <a:pt x="119" y="137"/>
                    </a:lnTo>
                    <a:lnTo>
                      <a:pt x="152" y="146"/>
                    </a:lnTo>
                    <a:lnTo>
                      <a:pt x="181" y="166"/>
                    </a:lnTo>
                    <a:lnTo>
                      <a:pt x="215" y="174"/>
                    </a:lnTo>
                    <a:lnTo>
                      <a:pt x="241" y="191"/>
                    </a:lnTo>
                    <a:lnTo>
                      <a:pt x="270" y="211"/>
                    </a:lnTo>
                    <a:lnTo>
                      <a:pt x="296" y="219"/>
                    </a:lnTo>
                    <a:lnTo>
                      <a:pt x="321" y="229"/>
                    </a:lnTo>
                    <a:lnTo>
                      <a:pt x="358" y="248"/>
                    </a:lnTo>
                    <a:lnTo>
                      <a:pt x="383" y="257"/>
                    </a:lnTo>
                    <a:lnTo>
                      <a:pt x="409" y="266"/>
                    </a:lnTo>
                    <a:lnTo>
                      <a:pt x="437" y="285"/>
                    </a:lnTo>
                    <a:lnTo>
                      <a:pt x="463" y="294"/>
                    </a:lnTo>
                    <a:lnTo>
                      <a:pt x="488" y="302"/>
                    </a:lnTo>
                    <a:lnTo>
                      <a:pt x="525" y="320"/>
                    </a:lnTo>
                    <a:lnTo>
                      <a:pt x="550" y="330"/>
                    </a:lnTo>
                    <a:lnTo>
                      <a:pt x="575" y="338"/>
                    </a:lnTo>
                    <a:lnTo>
                      <a:pt x="599" y="338"/>
                    </a:lnTo>
                    <a:lnTo>
                      <a:pt x="623" y="346"/>
                    </a:lnTo>
                    <a:lnTo>
                      <a:pt x="649" y="355"/>
                    </a:lnTo>
                    <a:lnTo>
                      <a:pt x="693" y="352"/>
                    </a:lnTo>
                    <a:lnTo>
                      <a:pt x="718" y="361"/>
                    </a:lnTo>
                    <a:lnTo>
                      <a:pt x="744" y="369"/>
                    </a:lnTo>
                    <a:lnTo>
                      <a:pt x="770" y="378"/>
                    </a:lnTo>
                    <a:lnTo>
                      <a:pt x="796" y="388"/>
                    </a:lnTo>
                    <a:lnTo>
                      <a:pt x="793" y="356"/>
                    </a:lnTo>
                    <a:lnTo>
                      <a:pt x="767" y="300"/>
                    </a:lnTo>
                    <a:lnTo>
                      <a:pt x="767" y="30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110"/>
              <p:cNvSpPr/>
              <p:nvPr/>
            </p:nvSpPr>
            <p:spPr>
              <a:xfrm>
                <a:off x="7666200" y="3622680"/>
                <a:ext cx="1395000" cy="229680"/>
              </a:xfrm>
              <a:custGeom>
                <a:avLst/>
                <a:gdLst>
                  <a:gd name="textAreaLeft" fmla="*/ 0 w 1395000"/>
                  <a:gd name="textAreaRight" fmla="*/ 1395360 w 1395000"/>
                  <a:gd name="textAreaTop" fmla="*/ 0 h 229680"/>
                  <a:gd name="textAreaBottom" fmla="*/ 230040 h 229680"/>
                </a:gdLst>
                <a:ahLst/>
                <a:rect l="textAreaLeft" t="textAreaTop" r="textAreaRight" b="textAreaBottom"/>
                <a:pathLst>
                  <a:path w="879" h="145">
                    <a:moveTo>
                      <a:pt x="822" y="48"/>
                    </a:moveTo>
                    <a:lnTo>
                      <a:pt x="745" y="75"/>
                    </a:lnTo>
                    <a:lnTo>
                      <a:pt x="636" y="97"/>
                    </a:lnTo>
                    <a:lnTo>
                      <a:pt x="529" y="71"/>
                    </a:lnTo>
                    <a:lnTo>
                      <a:pt x="395" y="57"/>
                    </a:lnTo>
                    <a:lnTo>
                      <a:pt x="288" y="31"/>
                    </a:lnTo>
                    <a:lnTo>
                      <a:pt x="220" y="35"/>
                    </a:lnTo>
                    <a:lnTo>
                      <a:pt x="152" y="40"/>
                    </a:lnTo>
                    <a:lnTo>
                      <a:pt x="114" y="23"/>
                    </a:lnTo>
                    <a:lnTo>
                      <a:pt x="48" y="15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31" y="56"/>
                    </a:lnTo>
                    <a:lnTo>
                      <a:pt x="56" y="78"/>
                    </a:lnTo>
                    <a:lnTo>
                      <a:pt x="83" y="80"/>
                    </a:lnTo>
                    <a:lnTo>
                      <a:pt x="111" y="80"/>
                    </a:lnTo>
                    <a:lnTo>
                      <a:pt x="157" y="95"/>
                    </a:lnTo>
                    <a:lnTo>
                      <a:pt x="190" y="92"/>
                    </a:lnTo>
                    <a:lnTo>
                      <a:pt x="224" y="103"/>
                    </a:lnTo>
                    <a:lnTo>
                      <a:pt x="257" y="100"/>
                    </a:lnTo>
                    <a:lnTo>
                      <a:pt x="290" y="107"/>
                    </a:lnTo>
                    <a:lnTo>
                      <a:pt x="323" y="118"/>
                    </a:lnTo>
                    <a:lnTo>
                      <a:pt x="350" y="119"/>
                    </a:lnTo>
                    <a:lnTo>
                      <a:pt x="378" y="119"/>
                    </a:lnTo>
                    <a:lnTo>
                      <a:pt x="417" y="126"/>
                    </a:lnTo>
                    <a:lnTo>
                      <a:pt x="445" y="127"/>
                    </a:lnTo>
                    <a:lnTo>
                      <a:pt x="472" y="127"/>
                    </a:lnTo>
                    <a:lnTo>
                      <a:pt x="504" y="136"/>
                    </a:lnTo>
                    <a:lnTo>
                      <a:pt x="531" y="138"/>
                    </a:lnTo>
                    <a:lnTo>
                      <a:pt x="557" y="137"/>
                    </a:lnTo>
                    <a:lnTo>
                      <a:pt x="598" y="144"/>
                    </a:lnTo>
                    <a:lnTo>
                      <a:pt x="625" y="144"/>
                    </a:lnTo>
                    <a:lnTo>
                      <a:pt x="652" y="144"/>
                    </a:lnTo>
                    <a:lnTo>
                      <a:pt x="673" y="137"/>
                    </a:lnTo>
                    <a:lnTo>
                      <a:pt x="699" y="138"/>
                    </a:lnTo>
                    <a:lnTo>
                      <a:pt x="727" y="138"/>
                    </a:lnTo>
                    <a:lnTo>
                      <a:pt x="769" y="121"/>
                    </a:lnTo>
                    <a:lnTo>
                      <a:pt x="795" y="123"/>
                    </a:lnTo>
                    <a:lnTo>
                      <a:pt x="823" y="123"/>
                    </a:lnTo>
                    <a:lnTo>
                      <a:pt x="850" y="123"/>
                    </a:lnTo>
                    <a:lnTo>
                      <a:pt x="878" y="124"/>
                    </a:lnTo>
                    <a:lnTo>
                      <a:pt x="865" y="95"/>
                    </a:lnTo>
                    <a:lnTo>
                      <a:pt x="822" y="48"/>
                    </a:lnTo>
                    <a:lnTo>
                      <a:pt x="822" y="48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3" name="Group 115"/>
            <p:cNvGrpSpPr/>
            <p:nvPr/>
          </p:nvGrpSpPr>
          <p:grpSpPr>
            <a:xfrm>
              <a:off x="7139160" y="3965400"/>
              <a:ext cx="1540800" cy="507960"/>
              <a:chOff x="7139160" y="3965400"/>
              <a:chExt cx="1540800" cy="507960"/>
            </a:xfrm>
          </p:grpSpPr>
          <p:sp>
            <p:nvSpPr>
              <p:cNvPr id="634" name="Freeform 112"/>
              <p:cNvSpPr/>
              <p:nvPr/>
            </p:nvSpPr>
            <p:spPr>
              <a:xfrm>
                <a:off x="7139160" y="3965400"/>
                <a:ext cx="1402920" cy="183960"/>
              </a:xfrm>
              <a:custGeom>
                <a:avLst/>
                <a:gdLst>
                  <a:gd name="textAreaLeft" fmla="*/ 0 w 1402920"/>
                  <a:gd name="textAreaRight" fmla="*/ 1403280 w 14029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884" h="116">
                    <a:moveTo>
                      <a:pt x="823" y="0"/>
                    </a:moveTo>
                    <a:lnTo>
                      <a:pt x="748" y="32"/>
                    </a:lnTo>
                    <a:lnTo>
                      <a:pt x="640" y="63"/>
                    </a:lnTo>
                    <a:lnTo>
                      <a:pt x="531" y="47"/>
                    </a:lnTo>
                    <a:lnTo>
                      <a:pt x="398" y="45"/>
                    </a:lnTo>
                    <a:lnTo>
                      <a:pt x="289" y="28"/>
                    </a:lnTo>
                    <a:lnTo>
                      <a:pt x="221" y="38"/>
                    </a:lnTo>
                    <a:lnTo>
                      <a:pt x="154" y="49"/>
                    </a:lnTo>
                    <a:lnTo>
                      <a:pt x="115" y="35"/>
                    </a:lnTo>
                    <a:lnTo>
                      <a:pt x="48" y="34"/>
                    </a:lnTo>
                    <a:lnTo>
                      <a:pt x="0" y="24"/>
                    </a:lnTo>
                    <a:lnTo>
                      <a:pt x="20" y="47"/>
                    </a:lnTo>
                    <a:lnTo>
                      <a:pt x="34" y="75"/>
                    </a:lnTo>
                    <a:lnTo>
                      <a:pt x="61" y="94"/>
                    </a:lnTo>
                    <a:lnTo>
                      <a:pt x="89" y="94"/>
                    </a:lnTo>
                    <a:lnTo>
                      <a:pt x="114" y="91"/>
                    </a:lnTo>
                    <a:lnTo>
                      <a:pt x="162" y="103"/>
                    </a:lnTo>
                    <a:lnTo>
                      <a:pt x="196" y="98"/>
                    </a:lnTo>
                    <a:lnTo>
                      <a:pt x="231" y="105"/>
                    </a:lnTo>
                    <a:lnTo>
                      <a:pt x="263" y="99"/>
                    </a:lnTo>
                    <a:lnTo>
                      <a:pt x="297" y="106"/>
                    </a:lnTo>
                    <a:lnTo>
                      <a:pt x="330" y="112"/>
                    </a:lnTo>
                    <a:lnTo>
                      <a:pt x="358" y="109"/>
                    </a:lnTo>
                    <a:lnTo>
                      <a:pt x="385" y="107"/>
                    </a:lnTo>
                    <a:lnTo>
                      <a:pt x="426" y="110"/>
                    </a:lnTo>
                    <a:lnTo>
                      <a:pt x="452" y="109"/>
                    </a:lnTo>
                    <a:lnTo>
                      <a:pt x="479" y="108"/>
                    </a:lnTo>
                    <a:lnTo>
                      <a:pt x="513" y="115"/>
                    </a:lnTo>
                    <a:lnTo>
                      <a:pt x="540" y="113"/>
                    </a:lnTo>
                    <a:lnTo>
                      <a:pt x="567" y="109"/>
                    </a:lnTo>
                    <a:lnTo>
                      <a:pt x="607" y="113"/>
                    </a:lnTo>
                    <a:lnTo>
                      <a:pt x="634" y="111"/>
                    </a:lnTo>
                    <a:lnTo>
                      <a:pt x="660" y="111"/>
                    </a:lnTo>
                    <a:lnTo>
                      <a:pt x="682" y="100"/>
                    </a:lnTo>
                    <a:lnTo>
                      <a:pt x="707" y="98"/>
                    </a:lnTo>
                    <a:lnTo>
                      <a:pt x="735" y="97"/>
                    </a:lnTo>
                    <a:lnTo>
                      <a:pt x="775" y="75"/>
                    </a:lnTo>
                    <a:lnTo>
                      <a:pt x="800" y="75"/>
                    </a:lnTo>
                    <a:lnTo>
                      <a:pt x="828" y="72"/>
                    </a:lnTo>
                    <a:lnTo>
                      <a:pt x="855" y="71"/>
                    </a:lnTo>
                    <a:lnTo>
                      <a:pt x="883" y="68"/>
                    </a:lnTo>
                    <a:lnTo>
                      <a:pt x="868" y="40"/>
                    </a:lnTo>
                    <a:lnTo>
                      <a:pt x="823" y="0"/>
                    </a:lnTo>
                    <a:lnTo>
                      <a:pt x="823" y="0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Freeform 113"/>
              <p:cNvSpPr/>
              <p:nvPr/>
            </p:nvSpPr>
            <p:spPr>
              <a:xfrm>
                <a:off x="7304040" y="4148280"/>
                <a:ext cx="1375920" cy="301320"/>
              </a:xfrm>
              <a:custGeom>
                <a:avLst/>
                <a:gdLst>
                  <a:gd name="textAreaLeft" fmla="*/ 0 w 1375920"/>
                  <a:gd name="textAreaRight" fmla="*/ 1376280 w 1375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67" h="190">
                    <a:moveTo>
                      <a:pt x="817" y="84"/>
                    </a:moveTo>
                    <a:lnTo>
                      <a:pt x="738" y="63"/>
                    </a:lnTo>
                    <a:lnTo>
                      <a:pt x="627" y="49"/>
                    </a:lnTo>
                    <a:lnTo>
                      <a:pt x="522" y="82"/>
                    </a:lnTo>
                    <a:lnTo>
                      <a:pt x="391" y="104"/>
                    </a:lnTo>
                    <a:lnTo>
                      <a:pt x="286" y="138"/>
                    </a:lnTo>
                    <a:lnTo>
                      <a:pt x="218" y="139"/>
                    </a:lnTo>
                    <a:lnTo>
                      <a:pt x="150" y="139"/>
                    </a:lnTo>
                    <a:lnTo>
                      <a:pt x="112" y="160"/>
                    </a:lnTo>
                    <a:lnTo>
                      <a:pt x="46" y="171"/>
                    </a:lnTo>
                    <a:lnTo>
                      <a:pt x="0" y="189"/>
                    </a:lnTo>
                    <a:lnTo>
                      <a:pt x="18" y="161"/>
                    </a:lnTo>
                    <a:lnTo>
                      <a:pt x="27" y="133"/>
                    </a:lnTo>
                    <a:lnTo>
                      <a:pt x="50" y="108"/>
                    </a:lnTo>
                    <a:lnTo>
                      <a:pt x="77" y="104"/>
                    </a:lnTo>
                    <a:lnTo>
                      <a:pt x="104" y="102"/>
                    </a:lnTo>
                    <a:lnTo>
                      <a:pt x="150" y="85"/>
                    </a:lnTo>
                    <a:lnTo>
                      <a:pt x="183" y="84"/>
                    </a:lnTo>
                    <a:lnTo>
                      <a:pt x="216" y="72"/>
                    </a:lnTo>
                    <a:lnTo>
                      <a:pt x="251" y="71"/>
                    </a:lnTo>
                    <a:lnTo>
                      <a:pt x="281" y="62"/>
                    </a:lnTo>
                    <a:lnTo>
                      <a:pt x="314" y="49"/>
                    </a:lnTo>
                    <a:lnTo>
                      <a:pt x="340" y="48"/>
                    </a:lnTo>
                    <a:lnTo>
                      <a:pt x="367" y="45"/>
                    </a:lnTo>
                    <a:lnTo>
                      <a:pt x="408" y="34"/>
                    </a:lnTo>
                    <a:lnTo>
                      <a:pt x="435" y="33"/>
                    </a:lnTo>
                    <a:lnTo>
                      <a:pt x="462" y="30"/>
                    </a:lnTo>
                    <a:lnTo>
                      <a:pt x="493" y="17"/>
                    </a:lnTo>
                    <a:lnTo>
                      <a:pt x="520" y="15"/>
                    </a:lnTo>
                    <a:lnTo>
                      <a:pt x="546" y="14"/>
                    </a:lnTo>
                    <a:lnTo>
                      <a:pt x="587" y="5"/>
                    </a:lnTo>
                    <a:lnTo>
                      <a:pt x="613" y="2"/>
                    </a:lnTo>
                    <a:lnTo>
                      <a:pt x="640" y="0"/>
                    </a:lnTo>
                    <a:lnTo>
                      <a:pt x="663" y="5"/>
                    </a:lnTo>
                    <a:lnTo>
                      <a:pt x="688" y="4"/>
                    </a:lnTo>
                    <a:lnTo>
                      <a:pt x="716" y="1"/>
                    </a:lnTo>
                    <a:lnTo>
                      <a:pt x="759" y="15"/>
                    </a:lnTo>
                    <a:lnTo>
                      <a:pt x="785" y="13"/>
                    </a:lnTo>
                    <a:lnTo>
                      <a:pt x="811" y="11"/>
                    </a:lnTo>
                    <a:lnTo>
                      <a:pt x="838" y="7"/>
                    </a:lnTo>
                    <a:lnTo>
                      <a:pt x="866" y="5"/>
                    </a:lnTo>
                    <a:lnTo>
                      <a:pt x="856" y="34"/>
                    </a:lnTo>
                    <a:lnTo>
                      <a:pt x="817" y="84"/>
                    </a:lnTo>
                    <a:lnTo>
                      <a:pt x="817" y="84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Freeform 114"/>
              <p:cNvSpPr/>
              <p:nvPr/>
            </p:nvSpPr>
            <p:spPr>
              <a:xfrm>
                <a:off x="7139160" y="4130640"/>
                <a:ext cx="1401480" cy="342720"/>
              </a:xfrm>
              <a:custGeom>
                <a:avLst/>
                <a:gdLst>
                  <a:gd name="textAreaLeft" fmla="*/ 0 w 1401480"/>
                  <a:gd name="textAreaRight" fmla="*/ 1401840 w 140148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883" h="216">
                    <a:moveTo>
                      <a:pt x="810" y="215"/>
                    </a:moveTo>
                    <a:lnTo>
                      <a:pt x="742" y="169"/>
                    </a:lnTo>
                    <a:lnTo>
                      <a:pt x="641" y="122"/>
                    </a:lnTo>
                    <a:lnTo>
                      <a:pt x="531" y="122"/>
                    </a:lnTo>
                    <a:lnTo>
                      <a:pt x="397" y="102"/>
                    </a:lnTo>
                    <a:lnTo>
                      <a:pt x="287" y="102"/>
                    </a:lnTo>
                    <a:lnTo>
                      <a:pt x="222" y="81"/>
                    </a:lnTo>
                    <a:lnTo>
                      <a:pt x="158" y="59"/>
                    </a:lnTo>
                    <a:lnTo>
                      <a:pt x="117" y="68"/>
                    </a:lnTo>
                    <a:lnTo>
                      <a:pt x="51" y="59"/>
                    </a:lnTo>
                    <a:lnTo>
                      <a:pt x="0" y="62"/>
                    </a:lnTo>
                    <a:lnTo>
                      <a:pt x="27" y="41"/>
                    </a:lnTo>
                    <a:lnTo>
                      <a:pt x="44" y="16"/>
                    </a:lnTo>
                    <a:lnTo>
                      <a:pt x="74" y="0"/>
                    </a:lnTo>
                    <a:lnTo>
                      <a:pt x="100" y="5"/>
                    </a:lnTo>
                    <a:lnTo>
                      <a:pt x="127" y="12"/>
                    </a:lnTo>
                    <a:lnTo>
                      <a:pt x="176" y="7"/>
                    </a:lnTo>
                    <a:lnTo>
                      <a:pt x="207" y="19"/>
                    </a:lnTo>
                    <a:lnTo>
                      <a:pt x="242" y="17"/>
                    </a:lnTo>
                    <a:lnTo>
                      <a:pt x="274" y="27"/>
                    </a:lnTo>
                    <a:lnTo>
                      <a:pt x="307" y="29"/>
                    </a:lnTo>
                    <a:lnTo>
                      <a:pt x="344" y="26"/>
                    </a:lnTo>
                    <a:lnTo>
                      <a:pt x="368" y="31"/>
                    </a:lnTo>
                    <a:lnTo>
                      <a:pt x="395" y="38"/>
                    </a:lnTo>
                    <a:lnTo>
                      <a:pt x="435" y="41"/>
                    </a:lnTo>
                    <a:lnTo>
                      <a:pt x="463" y="46"/>
                    </a:lnTo>
                    <a:lnTo>
                      <a:pt x="489" y="53"/>
                    </a:lnTo>
                    <a:lnTo>
                      <a:pt x="522" y="52"/>
                    </a:lnTo>
                    <a:lnTo>
                      <a:pt x="549" y="56"/>
                    </a:lnTo>
                    <a:lnTo>
                      <a:pt x="574" y="65"/>
                    </a:lnTo>
                    <a:lnTo>
                      <a:pt x="616" y="68"/>
                    </a:lnTo>
                    <a:lnTo>
                      <a:pt x="642" y="74"/>
                    </a:lnTo>
                    <a:lnTo>
                      <a:pt x="668" y="80"/>
                    </a:lnTo>
                    <a:lnTo>
                      <a:pt x="687" y="92"/>
                    </a:lnTo>
                    <a:lnTo>
                      <a:pt x="712" y="98"/>
                    </a:lnTo>
                    <a:lnTo>
                      <a:pt x="739" y="105"/>
                    </a:lnTo>
                    <a:lnTo>
                      <a:pt x="776" y="131"/>
                    </a:lnTo>
                    <a:lnTo>
                      <a:pt x="802" y="136"/>
                    </a:lnTo>
                    <a:lnTo>
                      <a:pt x="829" y="142"/>
                    </a:lnTo>
                    <a:lnTo>
                      <a:pt x="854" y="149"/>
                    </a:lnTo>
                    <a:lnTo>
                      <a:pt x="882" y="154"/>
                    </a:lnTo>
                    <a:lnTo>
                      <a:pt x="863" y="179"/>
                    </a:lnTo>
                    <a:lnTo>
                      <a:pt x="810" y="215"/>
                    </a:lnTo>
                    <a:lnTo>
                      <a:pt x="810" y="215"/>
                    </a:lnTo>
                  </a:path>
                </a:pathLst>
              </a:custGeom>
              <a:pattFill prst="ltVert">
                <a:fgClr>
                  <a:srgbClr val="ffcc66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7" name="Group 118"/>
            <p:cNvGrpSpPr/>
            <p:nvPr/>
          </p:nvGrpSpPr>
          <p:grpSpPr>
            <a:xfrm>
              <a:off x="6802560" y="5519880"/>
              <a:ext cx="1072800" cy="553680"/>
              <a:chOff x="6802560" y="5519880"/>
              <a:chExt cx="1072800" cy="553680"/>
            </a:xfrm>
          </p:grpSpPr>
          <p:sp>
            <p:nvSpPr>
              <p:cNvPr id="638" name="Freeform 116"/>
              <p:cNvSpPr/>
              <p:nvPr/>
            </p:nvSpPr>
            <p:spPr>
              <a:xfrm>
                <a:off x="6802560" y="5597640"/>
                <a:ext cx="1037880" cy="475920"/>
              </a:xfrm>
              <a:custGeom>
                <a:avLst/>
                <a:gdLst>
                  <a:gd name="textAreaLeft" fmla="*/ 0 w 1037880"/>
                  <a:gd name="textAreaRight" fmla="*/ 1038240 w 1037880"/>
                  <a:gd name="textAreaTop" fmla="*/ 0 h 475920"/>
                  <a:gd name="textAreaBottom" fmla="*/ 476280 h 475920"/>
                </a:gdLst>
                <a:ahLst/>
                <a:rect l="textAreaLeft" t="textAreaTop" r="textAreaRight" b="textAreaBottom"/>
                <a:pathLst>
                  <a:path w="654" h="300">
                    <a:moveTo>
                      <a:pt x="653" y="41"/>
                    </a:moveTo>
                    <a:lnTo>
                      <a:pt x="571" y="48"/>
                    </a:lnTo>
                    <a:lnTo>
                      <a:pt x="516" y="67"/>
                    </a:lnTo>
                    <a:lnTo>
                      <a:pt x="488" y="85"/>
                    </a:lnTo>
                    <a:lnTo>
                      <a:pt x="451" y="113"/>
                    </a:lnTo>
                    <a:lnTo>
                      <a:pt x="423" y="141"/>
                    </a:lnTo>
                    <a:lnTo>
                      <a:pt x="395" y="159"/>
                    </a:lnTo>
                    <a:lnTo>
                      <a:pt x="367" y="187"/>
                    </a:lnTo>
                    <a:lnTo>
                      <a:pt x="340" y="216"/>
                    </a:lnTo>
                    <a:lnTo>
                      <a:pt x="312" y="244"/>
                    </a:lnTo>
                    <a:lnTo>
                      <a:pt x="283" y="271"/>
                    </a:lnTo>
                    <a:lnTo>
                      <a:pt x="265" y="299"/>
                    </a:lnTo>
                    <a:lnTo>
                      <a:pt x="238" y="299"/>
                    </a:lnTo>
                    <a:lnTo>
                      <a:pt x="210" y="280"/>
                    </a:lnTo>
                    <a:lnTo>
                      <a:pt x="181" y="253"/>
                    </a:lnTo>
                    <a:lnTo>
                      <a:pt x="153" y="225"/>
                    </a:lnTo>
                    <a:lnTo>
                      <a:pt x="136" y="187"/>
                    </a:lnTo>
                    <a:lnTo>
                      <a:pt x="107" y="151"/>
                    </a:lnTo>
                    <a:lnTo>
                      <a:pt x="89" y="123"/>
                    </a:lnTo>
                    <a:lnTo>
                      <a:pt x="70" y="95"/>
                    </a:lnTo>
                    <a:lnTo>
                      <a:pt x="61" y="67"/>
                    </a:lnTo>
                    <a:lnTo>
                      <a:pt x="34" y="3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70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117"/>
              <p:cNvSpPr/>
              <p:nvPr/>
            </p:nvSpPr>
            <p:spPr>
              <a:xfrm>
                <a:off x="7697880" y="5519880"/>
                <a:ext cx="177480" cy="45828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112" h="289">
                    <a:moveTo>
                      <a:pt x="0" y="288"/>
                    </a:moveTo>
                    <a:lnTo>
                      <a:pt x="46" y="273"/>
                    </a:lnTo>
                    <a:lnTo>
                      <a:pt x="79" y="251"/>
                    </a:lnTo>
                    <a:lnTo>
                      <a:pt x="90" y="219"/>
                    </a:lnTo>
                    <a:lnTo>
                      <a:pt x="101" y="186"/>
                    </a:lnTo>
                    <a:lnTo>
                      <a:pt x="111" y="153"/>
                    </a:lnTo>
                    <a:lnTo>
                      <a:pt x="111" y="120"/>
                    </a:lnTo>
                    <a:lnTo>
                      <a:pt x="111" y="88"/>
                    </a:lnTo>
                    <a:lnTo>
                      <a:pt x="111" y="55"/>
                    </a:lnTo>
                    <a:lnTo>
                      <a:pt x="101" y="22"/>
                    </a:lnTo>
                    <a:lnTo>
                      <a:pt x="68" y="0"/>
                    </a:lnTo>
                    <a:lnTo>
                      <a:pt x="48" y="0"/>
                    </a:lnTo>
                  </a:path>
                </a:pathLst>
              </a:custGeom>
              <a:noFill/>
              <a:ln cap="rnd" w="762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Freeform 119"/>
            <p:cNvSpPr/>
            <p:nvPr/>
          </p:nvSpPr>
          <p:spPr>
            <a:xfrm>
              <a:off x="6477120" y="5465880"/>
              <a:ext cx="2363400" cy="347400"/>
            </a:xfrm>
            <a:custGeom>
              <a:avLst/>
              <a:gdLst>
                <a:gd name="textAreaLeft" fmla="*/ 0 w 2363400"/>
                <a:gd name="textAreaRight" fmla="*/ 2363760 w 23634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489" h="219">
                  <a:moveTo>
                    <a:pt x="0" y="213"/>
                  </a:moveTo>
                  <a:lnTo>
                    <a:pt x="44" y="218"/>
                  </a:lnTo>
                  <a:lnTo>
                    <a:pt x="120" y="196"/>
                  </a:lnTo>
                  <a:lnTo>
                    <a:pt x="164" y="174"/>
                  </a:lnTo>
                  <a:lnTo>
                    <a:pt x="197" y="163"/>
                  </a:lnTo>
                  <a:lnTo>
                    <a:pt x="240" y="142"/>
                  </a:lnTo>
                  <a:lnTo>
                    <a:pt x="273" y="131"/>
                  </a:lnTo>
                  <a:lnTo>
                    <a:pt x="306" y="109"/>
                  </a:lnTo>
                  <a:lnTo>
                    <a:pt x="338" y="87"/>
                  </a:lnTo>
                  <a:lnTo>
                    <a:pt x="360" y="54"/>
                  </a:lnTo>
                  <a:lnTo>
                    <a:pt x="393" y="32"/>
                  </a:lnTo>
                  <a:lnTo>
                    <a:pt x="426" y="22"/>
                  </a:lnTo>
                  <a:lnTo>
                    <a:pt x="458" y="22"/>
                  </a:lnTo>
                  <a:lnTo>
                    <a:pt x="491" y="11"/>
                  </a:lnTo>
                  <a:lnTo>
                    <a:pt x="524" y="11"/>
                  </a:lnTo>
                  <a:lnTo>
                    <a:pt x="568" y="11"/>
                  </a:lnTo>
                  <a:lnTo>
                    <a:pt x="611" y="0"/>
                  </a:lnTo>
                  <a:lnTo>
                    <a:pt x="644" y="0"/>
                  </a:lnTo>
                  <a:lnTo>
                    <a:pt x="688" y="0"/>
                  </a:lnTo>
                  <a:lnTo>
                    <a:pt x="720" y="0"/>
                  </a:lnTo>
                  <a:lnTo>
                    <a:pt x="753" y="0"/>
                  </a:lnTo>
                  <a:lnTo>
                    <a:pt x="840" y="0"/>
                  </a:lnTo>
                  <a:lnTo>
                    <a:pt x="873" y="0"/>
                  </a:lnTo>
                  <a:lnTo>
                    <a:pt x="906" y="0"/>
                  </a:lnTo>
                  <a:lnTo>
                    <a:pt x="949" y="0"/>
                  </a:lnTo>
                  <a:lnTo>
                    <a:pt x="982" y="0"/>
                  </a:lnTo>
                  <a:lnTo>
                    <a:pt x="1026" y="0"/>
                  </a:lnTo>
                  <a:lnTo>
                    <a:pt x="1059" y="0"/>
                  </a:lnTo>
                  <a:lnTo>
                    <a:pt x="1091" y="11"/>
                  </a:lnTo>
                  <a:lnTo>
                    <a:pt x="1157" y="11"/>
                  </a:lnTo>
                  <a:lnTo>
                    <a:pt x="1200" y="11"/>
                  </a:lnTo>
                  <a:lnTo>
                    <a:pt x="1233" y="22"/>
                  </a:lnTo>
                  <a:lnTo>
                    <a:pt x="1277" y="32"/>
                  </a:lnTo>
                  <a:lnTo>
                    <a:pt x="1309" y="32"/>
                  </a:lnTo>
                  <a:lnTo>
                    <a:pt x="1342" y="32"/>
                  </a:lnTo>
                  <a:lnTo>
                    <a:pt x="1375" y="32"/>
                  </a:lnTo>
                  <a:lnTo>
                    <a:pt x="1408" y="32"/>
                  </a:lnTo>
                  <a:lnTo>
                    <a:pt x="1440" y="32"/>
                  </a:lnTo>
                  <a:lnTo>
                    <a:pt x="1473" y="32"/>
                  </a:lnTo>
                  <a:lnTo>
                    <a:pt x="1488" y="21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120"/>
            <p:cNvSpPr/>
            <p:nvPr/>
          </p:nvSpPr>
          <p:spPr>
            <a:xfrm>
              <a:off x="5867280" y="5770440"/>
              <a:ext cx="2363400" cy="347400"/>
            </a:xfrm>
            <a:custGeom>
              <a:avLst/>
              <a:gdLst>
                <a:gd name="textAreaLeft" fmla="*/ 0 w 2363400"/>
                <a:gd name="textAreaRight" fmla="*/ 2363760 w 236340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489" h="219">
                  <a:moveTo>
                    <a:pt x="1488" y="5"/>
                  </a:moveTo>
                  <a:lnTo>
                    <a:pt x="1444" y="0"/>
                  </a:lnTo>
                  <a:lnTo>
                    <a:pt x="1368" y="22"/>
                  </a:lnTo>
                  <a:lnTo>
                    <a:pt x="1324" y="44"/>
                  </a:lnTo>
                  <a:lnTo>
                    <a:pt x="1291" y="55"/>
                  </a:lnTo>
                  <a:lnTo>
                    <a:pt x="1248" y="76"/>
                  </a:lnTo>
                  <a:lnTo>
                    <a:pt x="1215" y="87"/>
                  </a:lnTo>
                  <a:lnTo>
                    <a:pt x="1182" y="109"/>
                  </a:lnTo>
                  <a:lnTo>
                    <a:pt x="1150" y="131"/>
                  </a:lnTo>
                  <a:lnTo>
                    <a:pt x="1128" y="164"/>
                  </a:lnTo>
                  <a:lnTo>
                    <a:pt x="1095" y="186"/>
                  </a:lnTo>
                  <a:lnTo>
                    <a:pt x="1062" y="196"/>
                  </a:lnTo>
                  <a:lnTo>
                    <a:pt x="1030" y="196"/>
                  </a:lnTo>
                  <a:lnTo>
                    <a:pt x="997" y="207"/>
                  </a:lnTo>
                  <a:lnTo>
                    <a:pt x="964" y="207"/>
                  </a:lnTo>
                  <a:lnTo>
                    <a:pt x="920" y="207"/>
                  </a:lnTo>
                  <a:lnTo>
                    <a:pt x="877" y="218"/>
                  </a:lnTo>
                  <a:lnTo>
                    <a:pt x="844" y="218"/>
                  </a:lnTo>
                  <a:lnTo>
                    <a:pt x="800" y="218"/>
                  </a:lnTo>
                  <a:lnTo>
                    <a:pt x="768" y="218"/>
                  </a:lnTo>
                  <a:lnTo>
                    <a:pt x="735" y="218"/>
                  </a:lnTo>
                  <a:lnTo>
                    <a:pt x="648" y="218"/>
                  </a:lnTo>
                  <a:lnTo>
                    <a:pt x="615" y="218"/>
                  </a:lnTo>
                  <a:lnTo>
                    <a:pt x="582" y="218"/>
                  </a:lnTo>
                  <a:lnTo>
                    <a:pt x="539" y="218"/>
                  </a:lnTo>
                  <a:lnTo>
                    <a:pt x="506" y="218"/>
                  </a:lnTo>
                  <a:lnTo>
                    <a:pt x="462" y="218"/>
                  </a:lnTo>
                  <a:lnTo>
                    <a:pt x="429" y="218"/>
                  </a:lnTo>
                  <a:lnTo>
                    <a:pt x="397" y="207"/>
                  </a:lnTo>
                  <a:lnTo>
                    <a:pt x="331" y="207"/>
                  </a:lnTo>
                  <a:lnTo>
                    <a:pt x="288" y="207"/>
                  </a:lnTo>
                  <a:lnTo>
                    <a:pt x="255" y="196"/>
                  </a:lnTo>
                  <a:lnTo>
                    <a:pt x="211" y="186"/>
                  </a:lnTo>
                  <a:lnTo>
                    <a:pt x="179" y="186"/>
                  </a:lnTo>
                  <a:lnTo>
                    <a:pt x="146" y="186"/>
                  </a:lnTo>
                  <a:lnTo>
                    <a:pt x="113" y="186"/>
                  </a:lnTo>
                  <a:lnTo>
                    <a:pt x="80" y="186"/>
                  </a:lnTo>
                  <a:lnTo>
                    <a:pt x="48" y="186"/>
                  </a:lnTo>
                  <a:lnTo>
                    <a:pt x="15" y="186"/>
                  </a:lnTo>
                  <a:lnTo>
                    <a:pt x="0" y="197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121"/>
            <p:cNvSpPr/>
            <p:nvPr/>
          </p:nvSpPr>
          <p:spPr>
            <a:xfrm>
              <a:off x="8001000" y="5499000"/>
              <a:ext cx="915480" cy="64260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642600"/>
                <a:gd name="textAreaBottom" fmla="*/ 642960 h 642600"/>
              </a:gdLst>
              <a:ahLst/>
              <a:rect l="textAreaLeft" t="textAreaTop" r="textAreaRight" b="textAreaBottom"/>
              <a:pathLst>
                <a:path w="577" h="405">
                  <a:moveTo>
                    <a:pt x="0" y="0"/>
                  </a:moveTo>
                  <a:lnTo>
                    <a:pt x="33" y="44"/>
                  </a:lnTo>
                  <a:lnTo>
                    <a:pt x="55" y="77"/>
                  </a:lnTo>
                  <a:lnTo>
                    <a:pt x="77" y="110"/>
                  </a:lnTo>
                  <a:lnTo>
                    <a:pt x="109" y="121"/>
                  </a:lnTo>
                  <a:lnTo>
                    <a:pt x="131" y="153"/>
                  </a:lnTo>
                  <a:lnTo>
                    <a:pt x="164" y="175"/>
                  </a:lnTo>
                  <a:lnTo>
                    <a:pt x="197" y="208"/>
                  </a:lnTo>
                  <a:lnTo>
                    <a:pt x="219" y="241"/>
                  </a:lnTo>
                  <a:lnTo>
                    <a:pt x="251" y="273"/>
                  </a:lnTo>
                  <a:lnTo>
                    <a:pt x="284" y="295"/>
                  </a:lnTo>
                  <a:lnTo>
                    <a:pt x="328" y="328"/>
                  </a:lnTo>
                  <a:lnTo>
                    <a:pt x="371" y="361"/>
                  </a:lnTo>
                  <a:lnTo>
                    <a:pt x="459" y="382"/>
                  </a:lnTo>
                  <a:lnTo>
                    <a:pt x="491" y="393"/>
                  </a:lnTo>
                  <a:lnTo>
                    <a:pt x="524" y="393"/>
                  </a:lnTo>
                  <a:lnTo>
                    <a:pt x="557" y="404"/>
                  </a:lnTo>
                  <a:lnTo>
                    <a:pt x="576" y="384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122"/>
            <p:cNvSpPr/>
            <p:nvPr/>
          </p:nvSpPr>
          <p:spPr>
            <a:xfrm>
              <a:off x="7696080" y="5575320"/>
              <a:ext cx="1068120" cy="534600"/>
            </a:xfrm>
            <a:custGeom>
              <a:avLst/>
              <a:gdLst>
                <a:gd name="textAreaLeft" fmla="*/ 0 w 1068120"/>
                <a:gd name="textAreaRight" fmla="*/ 1068480 w 106812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673" h="337">
                  <a:moveTo>
                    <a:pt x="0" y="336"/>
                  </a:moveTo>
                  <a:lnTo>
                    <a:pt x="61" y="334"/>
                  </a:lnTo>
                  <a:lnTo>
                    <a:pt x="94" y="334"/>
                  </a:lnTo>
                  <a:lnTo>
                    <a:pt x="127" y="334"/>
                  </a:lnTo>
                  <a:lnTo>
                    <a:pt x="160" y="334"/>
                  </a:lnTo>
                  <a:lnTo>
                    <a:pt x="203" y="334"/>
                  </a:lnTo>
                  <a:lnTo>
                    <a:pt x="247" y="334"/>
                  </a:lnTo>
                  <a:lnTo>
                    <a:pt x="291" y="334"/>
                  </a:lnTo>
                  <a:lnTo>
                    <a:pt x="323" y="334"/>
                  </a:lnTo>
                  <a:lnTo>
                    <a:pt x="356" y="324"/>
                  </a:lnTo>
                  <a:lnTo>
                    <a:pt x="389" y="291"/>
                  </a:lnTo>
                  <a:lnTo>
                    <a:pt x="421" y="269"/>
                  </a:lnTo>
                  <a:lnTo>
                    <a:pt x="443" y="236"/>
                  </a:lnTo>
                  <a:lnTo>
                    <a:pt x="476" y="214"/>
                  </a:lnTo>
                  <a:lnTo>
                    <a:pt x="509" y="182"/>
                  </a:lnTo>
                  <a:lnTo>
                    <a:pt x="552" y="149"/>
                  </a:lnTo>
                  <a:lnTo>
                    <a:pt x="574" y="116"/>
                  </a:lnTo>
                  <a:lnTo>
                    <a:pt x="596" y="83"/>
                  </a:lnTo>
                  <a:lnTo>
                    <a:pt x="629" y="51"/>
                  </a:lnTo>
                  <a:lnTo>
                    <a:pt x="662" y="18"/>
                  </a:lnTo>
                  <a:lnTo>
                    <a:pt x="672" y="0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123"/>
            <p:cNvSpPr/>
            <p:nvPr/>
          </p:nvSpPr>
          <p:spPr>
            <a:xfrm>
              <a:off x="3657600" y="4660920"/>
              <a:ext cx="396360" cy="111708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1117080"/>
                <a:gd name="textAreaBottom" fmla="*/ 1117440 h 1117080"/>
              </a:gdLst>
              <a:ahLst/>
              <a:rect l="textAreaLeft" t="textAreaTop" r="textAreaRight" b="textAreaBottom"/>
              <a:pathLst>
                <a:path w="250" h="704">
                  <a:moveTo>
                    <a:pt x="0" y="0"/>
                  </a:moveTo>
                  <a:lnTo>
                    <a:pt x="20" y="48"/>
                  </a:lnTo>
                  <a:lnTo>
                    <a:pt x="30" y="81"/>
                  </a:lnTo>
                  <a:lnTo>
                    <a:pt x="41" y="114"/>
                  </a:lnTo>
                  <a:lnTo>
                    <a:pt x="52" y="147"/>
                  </a:lnTo>
                  <a:lnTo>
                    <a:pt x="63" y="179"/>
                  </a:lnTo>
                  <a:lnTo>
                    <a:pt x="74" y="212"/>
                  </a:lnTo>
                  <a:lnTo>
                    <a:pt x="96" y="245"/>
                  </a:lnTo>
                  <a:lnTo>
                    <a:pt x="118" y="277"/>
                  </a:lnTo>
                  <a:lnTo>
                    <a:pt x="129" y="310"/>
                  </a:lnTo>
                  <a:lnTo>
                    <a:pt x="150" y="343"/>
                  </a:lnTo>
                  <a:lnTo>
                    <a:pt x="150" y="376"/>
                  </a:lnTo>
                  <a:lnTo>
                    <a:pt x="161" y="408"/>
                  </a:lnTo>
                  <a:lnTo>
                    <a:pt x="161" y="441"/>
                  </a:lnTo>
                  <a:lnTo>
                    <a:pt x="172" y="474"/>
                  </a:lnTo>
                  <a:lnTo>
                    <a:pt x="172" y="507"/>
                  </a:lnTo>
                  <a:lnTo>
                    <a:pt x="172" y="539"/>
                  </a:lnTo>
                  <a:lnTo>
                    <a:pt x="183" y="572"/>
                  </a:lnTo>
                  <a:lnTo>
                    <a:pt x="194" y="605"/>
                  </a:lnTo>
                  <a:lnTo>
                    <a:pt x="205" y="638"/>
                  </a:lnTo>
                  <a:lnTo>
                    <a:pt x="227" y="670"/>
                  </a:lnTo>
                  <a:lnTo>
                    <a:pt x="249" y="703"/>
                  </a:lnTo>
                  <a:lnTo>
                    <a:pt x="240" y="672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Oval 124"/>
            <p:cNvSpPr/>
            <p:nvPr/>
          </p:nvSpPr>
          <p:spPr>
            <a:xfrm>
              <a:off x="6180120" y="537372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Oval 125"/>
            <p:cNvSpPr/>
            <p:nvPr/>
          </p:nvSpPr>
          <p:spPr>
            <a:xfrm>
              <a:off x="6332400" y="545004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126"/>
            <p:cNvSpPr/>
            <p:nvPr/>
          </p:nvSpPr>
          <p:spPr>
            <a:xfrm>
              <a:off x="985680" y="3819600"/>
              <a:ext cx="1041120" cy="229032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2290320"/>
                <a:gd name="textAreaBottom" fmla="*/ 2290680 h 2290320"/>
              </a:gdLst>
              <a:ahLst/>
              <a:rect l="textAreaLeft" t="textAreaTop" r="textAreaRight" b="textAreaBottom"/>
              <a:pathLst>
                <a:path w="656" h="1443">
                  <a:moveTo>
                    <a:pt x="3" y="1442"/>
                  </a:moveTo>
                  <a:lnTo>
                    <a:pt x="0" y="1386"/>
                  </a:lnTo>
                  <a:lnTo>
                    <a:pt x="11" y="1353"/>
                  </a:lnTo>
                  <a:lnTo>
                    <a:pt x="11" y="1320"/>
                  </a:lnTo>
                  <a:lnTo>
                    <a:pt x="22" y="1288"/>
                  </a:lnTo>
                  <a:lnTo>
                    <a:pt x="44" y="1244"/>
                  </a:lnTo>
                  <a:lnTo>
                    <a:pt x="55" y="1211"/>
                  </a:lnTo>
                  <a:lnTo>
                    <a:pt x="66" y="1179"/>
                  </a:lnTo>
                  <a:lnTo>
                    <a:pt x="66" y="1146"/>
                  </a:lnTo>
                  <a:lnTo>
                    <a:pt x="66" y="1113"/>
                  </a:lnTo>
                  <a:lnTo>
                    <a:pt x="66" y="1080"/>
                  </a:lnTo>
                  <a:lnTo>
                    <a:pt x="66" y="1048"/>
                  </a:lnTo>
                  <a:lnTo>
                    <a:pt x="66" y="1015"/>
                  </a:lnTo>
                  <a:lnTo>
                    <a:pt x="66" y="971"/>
                  </a:lnTo>
                  <a:lnTo>
                    <a:pt x="77" y="938"/>
                  </a:lnTo>
                  <a:lnTo>
                    <a:pt x="77" y="906"/>
                  </a:lnTo>
                  <a:lnTo>
                    <a:pt x="88" y="873"/>
                  </a:lnTo>
                  <a:lnTo>
                    <a:pt x="99" y="829"/>
                  </a:lnTo>
                  <a:lnTo>
                    <a:pt x="99" y="797"/>
                  </a:lnTo>
                  <a:lnTo>
                    <a:pt x="110" y="764"/>
                  </a:lnTo>
                  <a:lnTo>
                    <a:pt x="110" y="731"/>
                  </a:lnTo>
                  <a:lnTo>
                    <a:pt x="110" y="698"/>
                  </a:lnTo>
                  <a:lnTo>
                    <a:pt x="120" y="666"/>
                  </a:lnTo>
                  <a:lnTo>
                    <a:pt x="120" y="633"/>
                  </a:lnTo>
                  <a:lnTo>
                    <a:pt x="120" y="589"/>
                  </a:lnTo>
                  <a:lnTo>
                    <a:pt x="120" y="546"/>
                  </a:lnTo>
                  <a:lnTo>
                    <a:pt x="120" y="513"/>
                  </a:lnTo>
                  <a:lnTo>
                    <a:pt x="120" y="469"/>
                  </a:lnTo>
                  <a:lnTo>
                    <a:pt x="120" y="426"/>
                  </a:lnTo>
                  <a:lnTo>
                    <a:pt x="120" y="393"/>
                  </a:lnTo>
                  <a:lnTo>
                    <a:pt x="120" y="349"/>
                  </a:lnTo>
                  <a:lnTo>
                    <a:pt x="120" y="316"/>
                  </a:lnTo>
                  <a:lnTo>
                    <a:pt x="120" y="284"/>
                  </a:lnTo>
                  <a:lnTo>
                    <a:pt x="120" y="251"/>
                  </a:lnTo>
                  <a:lnTo>
                    <a:pt x="120" y="218"/>
                  </a:lnTo>
                  <a:lnTo>
                    <a:pt x="120" y="185"/>
                  </a:lnTo>
                  <a:lnTo>
                    <a:pt x="120" y="153"/>
                  </a:lnTo>
                  <a:lnTo>
                    <a:pt x="131" y="120"/>
                  </a:lnTo>
                  <a:lnTo>
                    <a:pt x="142" y="87"/>
                  </a:lnTo>
                  <a:lnTo>
                    <a:pt x="164" y="54"/>
                  </a:lnTo>
                  <a:lnTo>
                    <a:pt x="197" y="33"/>
                  </a:lnTo>
                  <a:lnTo>
                    <a:pt x="230" y="11"/>
                  </a:lnTo>
                  <a:lnTo>
                    <a:pt x="262" y="11"/>
                  </a:lnTo>
                  <a:lnTo>
                    <a:pt x="295" y="11"/>
                  </a:lnTo>
                  <a:lnTo>
                    <a:pt x="328" y="11"/>
                  </a:lnTo>
                  <a:lnTo>
                    <a:pt x="361" y="11"/>
                  </a:lnTo>
                  <a:lnTo>
                    <a:pt x="393" y="0"/>
                  </a:lnTo>
                  <a:lnTo>
                    <a:pt x="426" y="0"/>
                  </a:lnTo>
                  <a:lnTo>
                    <a:pt x="459" y="0"/>
                  </a:lnTo>
                  <a:lnTo>
                    <a:pt x="491" y="0"/>
                  </a:lnTo>
                  <a:lnTo>
                    <a:pt x="524" y="0"/>
                  </a:lnTo>
                  <a:lnTo>
                    <a:pt x="557" y="0"/>
                  </a:lnTo>
                  <a:lnTo>
                    <a:pt x="590" y="22"/>
                  </a:lnTo>
                  <a:lnTo>
                    <a:pt x="601" y="54"/>
                  </a:lnTo>
                  <a:lnTo>
                    <a:pt x="622" y="87"/>
                  </a:lnTo>
                  <a:lnTo>
                    <a:pt x="633" y="120"/>
                  </a:lnTo>
                  <a:lnTo>
                    <a:pt x="644" y="164"/>
                  </a:lnTo>
                  <a:lnTo>
                    <a:pt x="655" y="207"/>
                  </a:lnTo>
                  <a:lnTo>
                    <a:pt x="655" y="251"/>
                  </a:lnTo>
                  <a:lnTo>
                    <a:pt x="655" y="295"/>
                  </a:lnTo>
                  <a:lnTo>
                    <a:pt x="655" y="327"/>
                  </a:lnTo>
                  <a:lnTo>
                    <a:pt x="655" y="371"/>
                  </a:lnTo>
                  <a:lnTo>
                    <a:pt x="655" y="458"/>
                  </a:lnTo>
                  <a:lnTo>
                    <a:pt x="655" y="524"/>
                  </a:lnTo>
                  <a:lnTo>
                    <a:pt x="644" y="589"/>
                  </a:lnTo>
                  <a:lnTo>
                    <a:pt x="633" y="622"/>
                  </a:lnTo>
                  <a:lnTo>
                    <a:pt x="633" y="655"/>
                  </a:lnTo>
                  <a:lnTo>
                    <a:pt x="611" y="742"/>
                  </a:lnTo>
                  <a:lnTo>
                    <a:pt x="601" y="829"/>
                  </a:lnTo>
                  <a:lnTo>
                    <a:pt x="601" y="862"/>
                  </a:lnTo>
                  <a:lnTo>
                    <a:pt x="601" y="895"/>
                  </a:lnTo>
                  <a:lnTo>
                    <a:pt x="601" y="928"/>
                  </a:lnTo>
                  <a:lnTo>
                    <a:pt x="590" y="960"/>
                  </a:lnTo>
                  <a:lnTo>
                    <a:pt x="590" y="993"/>
                  </a:lnTo>
                  <a:lnTo>
                    <a:pt x="590" y="1026"/>
                  </a:lnTo>
                  <a:lnTo>
                    <a:pt x="590" y="1059"/>
                  </a:lnTo>
                  <a:lnTo>
                    <a:pt x="590" y="1091"/>
                  </a:lnTo>
                  <a:lnTo>
                    <a:pt x="590" y="1124"/>
                  </a:lnTo>
                  <a:lnTo>
                    <a:pt x="590" y="1157"/>
                  </a:lnTo>
                  <a:lnTo>
                    <a:pt x="590" y="1200"/>
                  </a:lnTo>
                  <a:lnTo>
                    <a:pt x="590" y="1233"/>
                  </a:lnTo>
                  <a:lnTo>
                    <a:pt x="590" y="1266"/>
                  </a:lnTo>
                  <a:lnTo>
                    <a:pt x="590" y="1299"/>
                  </a:lnTo>
                  <a:lnTo>
                    <a:pt x="579" y="1298"/>
                  </a:lnTo>
                </a:path>
              </a:pathLst>
            </a:custGeom>
            <a:noFill/>
            <a:ln cap="rnd" w="76200">
              <a:solidFill>
                <a:srgbClr val="f79646">
                  <a:lumMod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Rectangle 127"/>
            <p:cNvSpPr/>
            <p:nvPr/>
          </p:nvSpPr>
          <p:spPr>
            <a:xfrm flipH="1">
              <a:off x="1238400" y="2827440"/>
              <a:ext cx="81864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LI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28"/>
            <p:cNvSpPr/>
            <p:nvPr/>
          </p:nvSpPr>
          <p:spPr>
            <a:xfrm flipH="1">
              <a:off x="1238400" y="4046400"/>
              <a:ext cx="81864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LI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29"/>
            <p:cNvSpPr/>
            <p:nvPr/>
          </p:nvSpPr>
          <p:spPr>
            <a:xfrm flipH="1">
              <a:off x="4057560" y="1913040"/>
              <a:ext cx="264744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HARD PAL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30"/>
            <p:cNvSpPr/>
            <p:nvPr/>
          </p:nvSpPr>
          <p:spPr>
            <a:xfrm flipH="1">
              <a:off x="6644520" y="1913040"/>
              <a:ext cx="249660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ff00cc"/>
                  </a:solidFill>
                  <a:latin typeface="Calibri"/>
                </a:rPr>
                <a:t>SOFT PAL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31"/>
            <p:cNvSpPr/>
            <p:nvPr/>
          </p:nvSpPr>
          <p:spPr>
            <a:xfrm flipH="1">
              <a:off x="5505480" y="3513240"/>
              <a:ext cx="2647440" cy="688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</a:pPr>
              <a:r>
                <a:rPr b="1" lang="ru-RU" sz="4000" spc="-1" strike="noStrike">
                  <a:solidFill>
                    <a:schemeClr val="accent2"/>
                  </a:solidFill>
                  <a:latin typeface="Calibri"/>
                </a:rPr>
                <a:t>TONGU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32"/>
            <p:cNvSpPr/>
            <p:nvPr/>
          </p:nvSpPr>
          <p:spPr>
            <a:xfrm>
              <a:off x="2666880" y="0"/>
              <a:ext cx="6474960" cy="53640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>
                <a:lnSpc>
                  <a:spcPct val="100000"/>
                </a:lnSpc>
                <a:spcBef>
                  <a:spcPts val="1451"/>
                </a:spcBef>
              </a:pPr>
              <a:r>
                <a:rPr b="1" lang="ru-RU" sz="2900" spc="-1" strike="noStrike">
                  <a:solidFill>
                    <a:schemeClr val="accent2"/>
                  </a:solidFill>
                  <a:latin typeface="Calibri"/>
                </a:rPr>
                <a:t>ORAL STRUCTURES Sagittal view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33"/>
            <p:cNvSpPr/>
            <p:nvPr/>
          </p:nvSpPr>
          <p:spPr>
            <a:xfrm>
              <a:off x="8845560" y="388296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Oval 134"/>
            <p:cNvSpPr/>
            <p:nvPr/>
          </p:nvSpPr>
          <p:spPr>
            <a:xfrm>
              <a:off x="8769240" y="373068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Oval 135"/>
            <p:cNvSpPr/>
            <p:nvPr/>
          </p:nvSpPr>
          <p:spPr>
            <a:xfrm>
              <a:off x="8159760" y="357840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Oval 136"/>
            <p:cNvSpPr/>
            <p:nvPr/>
          </p:nvSpPr>
          <p:spPr>
            <a:xfrm>
              <a:off x="8312040" y="365436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Oval 137"/>
            <p:cNvSpPr/>
            <p:nvPr/>
          </p:nvSpPr>
          <p:spPr>
            <a:xfrm>
              <a:off x="8769240" y="4264200"/>
              <a:ext cx="139320" cy="13932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Oval 138"/>
            <p:cNvSpPr/>
            <p:nvPr/>
          </p:nvSpPr>
          <p:spPr>
            <a:xfrm>
              <a:off x="8845560" y="4111560"/>
              <a:ext cx="139320" cy="13932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Oval 139"/>
            <p:cNvSpPr/>
            <p:nvPr/>
          </p:nvSpPr>
          <p:spPr>
            <a:xfrm>
              <a:off x="8618400" y="4111560"/>
              <a:ext cx="139320" cy="13932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Oval 140"/>
            <p:cNvSpPr/>
            <p:nvPr/>
          </p:nvSpPr>
          <p:spPr>
            <a:xfrm>
              <a:off x="8694720" y="4416480"/>
              <a:ext cx="139320" cy="13932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Rectangle 141"/>
            <p:cNvSpPr/>
            <p:nvPr/>
          </p:nvSpPr>
          <p:spPr>
            <a:xfrm flipH="1">
              <a:off x="4419000" y="4656240"/>
              <a:ext cx="327636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33ccff"/>
                  </a:solidFill>
                  <a:latin typeface="Calibri"/>
                </a:rPr>
                <a:t>SALIVARY GLAN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Arc 142"/>
            <p:cNvSpPr/>
            <p:nvPr/>
          </p:nvSpPr>
          <p:spPr>
            <a:xfrm>
              <a:off x="7467480" y="4191120"/>
              <a:ext cx="1142640" cy="685440"/>
            </a:xfrm>
            <a:custGeom>
              <a:avLst/>
              <a:gdLst>
                <a:gd name="textAreaLeft" fmla="*/ 0 w 1142640"/>
                <a:gd name="textAreaRight" fmla="*/ 1143000 w 11426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cap="rnd" w="12700">
              <a:solidFill>
                <a:srgbClr val="ffff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Rectangle 143"/>
            <p:cNvSpPr/>
            <p:nvPr/>
          </p:nvSpPr>
          <p:spPr>
            <a:xfrm flipH="1">
              <a:off x="3675960" y="6332400"/>
              <a:ext cx="3028680" cy="353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ru-RU" sz="1800" spc="-1" strike="noStrike">
                  <a:solidFill>
                    <a:srgbClr val="ff0000"/>
                  </a:solidFill>
                  <a:latin typeface="Calibri"/>
                </a:rPr>
                <a:t>ALVEOLAR B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rc 144"/>
            <p:cNvSpPr/>
            <p:nvPr/>
          </p:nvSpPr>
          <p:spPr>
            <a:xfrm>
              <a:off x="5867280" y="5029200"/>
              <a:ext cx="306000" cy="30456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fill="none" w="21712" h="21600">
                  <a:moveTo>
                    <a:pt x="0" y="0"/>
                  </a:moveTo>
                  <a:cubicBezTo>
                    <a:pt x="37" y="0"/>
                    <a:pt x="74" y="-1"/>
                    <a:pt x="112" y="0"/>
                  </a:cubicBezTo>
                  <a:cubicBezTo>
                    <a:pt x="12041" y="0"/>
                    <a:pt x="21712" y="9670"/>
                    <a:pt x="21712" y="21600"/>
                  </a:cubicBezTo>
                </a:path>
                <a:path stroke="0" w="21712" h="21600">
                  <a:moveTo>
                    <a:pt x="0" y="0"/>
                  </a:moveTo>
                  <a:cubicBezTo>
                    <a:pt x="37" y="0"/>
                    <a:pt x="74" y="-1"/>
                    <a:pt x="112" y="0"/>
                  </a:cubicBezTo>
                  <a:cubicBezTo>
                    <a:pt x="12041" y="0"/>
                    <a:pt x="21712" y="9670"/>
                    <a:pt x="21712" y="21600"/>
                  </a:cubicBezTo>
                  <a:lnTo>
                    <a:pt x="112" y="21600"/>
                  </a:lnTo>
                  <a:close/>
                </a:path>
              </a:pathLst>
            </a:custGeom>
            <a:noFill/>
            <a:ln cap="rnd" w="12700">
              <a:solidFill>
                <a:srgbClr val="4f81bd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Line 145"/>
            <p:cNvSpPr/>
            <p:nvPr/>
          </p:nvSpPr>
          <p:spPr>
            <a:xfrm>
              <a:off x="3733560" y="5410080"/>
              <a:ext cx="457200" cy="914400"/>
            </a:xfrm>
            <a:prstGeom prst="line">
              <a:avLst/>
            </a:prstGeom>
            <a:ln w="12700">
              <a:solidFill>
                <a:srgbClr val="4f81bd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Line 146"/>
            <p:cNvSpPr/>
            <p:nvPr/>
          </p:nvSpPr>
          <p:spPr>
            <a:xfrm>
              <a:off x="2666880" y="5486400"/>
              <a:ext cx="1371600" cy="838080"/>
            </a:xfrm>
            <a:prstGeom prst="line">
              <a:avLst/>
            </a:prstGeom>
            <a:ln w="12700">
              <a:solidFill>
                <a:srgbClr val="4f81bd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Rectangle 147"/>
            <p:cNvSpPr/>
            <p:nvPr/>
          </p:nvSpPr>
          <p:spPr>
            <a:xfrm flipH="1">
              <a:off x="170640" y="6408720"/>
              <a:ext cx="165708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</a:rPr>
                <a:t>+</a:t>
              </a:r>
              <a:r>
                <a:rPr b="1" lang="ru-RU" sz="18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</a:rPr>
                <a:t> </a:t>
              </a:r>
              <a:r>
                <a:rPr b="1" lang="ru-RU" sz="28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</a:rPr>
                <a:t>CHEE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rc 148"/>
            <p:cNvSpPr/>
            <p:nvPr/>
          </p:nvSpPr>
          <p:spPr>
            <a:xfrm>
              <a:off x="3200400" y="2666880"/>
              <a:ext cx="837720" cy="9140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cap="rnd" w="127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0" name="Picture 149" descr=""/>
            <p:cNvPicPr/>
            <p:nvPr/>
          </p:nvPicPr>
          <p:blipFill>
            <a:blip r:embed="rId1"/>
            <a:stretch/>
          </p:blipFill>
          <p:spPr>
            <a:xfrm>
              <a:off x="7505640" y="6534000"/>
              <a:ext cx="1431720" cy="3218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671" name="Rectangle 150"/>
            <p:cNvSpPr/>
            <p:nvPr/>
          </p:nvSpPr>
          <p:spPr>
            <a:xfrm flipH="1">
              <a:off x="4210200" y="4275000"/>
              <a:ext cx="1275840" cy="505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rgbClr val="ff7c80"/>
                  </a:solidFill>
                  <a:latin typeface="Calibri"/>
                </a:rPr>
                <a:t>GU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151"/>
            <p:cNvSpPr/>
            <p:nvPr/>
          </p:nvSpPr>
          <p:spPr>
            <a:xfrm flipH="1" flipV="1">
              <a:off x="3733560" y="4197240"/>
              <a:ext cx="533520" cy="146160"/>
            </a:xfrm>
            <a:prstGeom prst="line">
              <a:avLst/>
            </a:prstGeom>
            <a:ln>
              <a:solidFill>
                <a:srgbClr val="c0504d"/>
              </a:solidFill>
              <a:round/>
              <a:tailEnd len="lg" type="stealth" w="med"/>
            </a:ln>
          </p:spPr>
          <p:style>
            <a:lnRef idx="3">
              <a:schemeClr val="accent2"/>
            </a:lnRef>
            <a:fillRef idx="0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2"/>
          <p:cNvSpPr/>
          <p:nvPr/>
        </p:nvSpPr>
        <p:spPr>
          <a:xfrm>
            <a:off x="1371600" y="0"/>
            <a:ext cx="6019560" cy="53640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>
              <a:lnSpc>
                <a:spcPct val="100000"/>
              </a:lnSpc>
              <a:spcBef>
                <a:spcPts val="1451"/>
              </a:spcBef>
            </a:pPr>
            <a:r>
              <a:rPr b="1" lang="ru-RU" sz="2900" spc="-1" strike="noStrike">
                <a:solidFill>
                  <a:schemeClr val="accent2"/>
                </a:solidFill>
                <a:latin typeface="Calibri"/>
              </a:rPr>
              <a:t>ORAL  MUCOSAE: Classif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3"/>
          <p:cNvSpPr/>
          <p:nvPr/>
        </p:nvSpPr>
        <p:spPr>
          <a:xfrm flipH="1">
            <a:off x="476280" y="693720"/>
            <a:ext cx="2800080" cy="105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MASTICATORY</a:t>
            </a:r>
            <a:r>
              <a:rPr b="1" lang="en-US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(CHEW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 flipH="1">
            <a:off x="3449520" y="1211400"/>
            <a:ext cx="2569680" cy="49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HARD PALAT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5"/>
          <p:cNvSpPr/>
          <p:nvPr/>
        </p:nvSpPr>
        <p:spPr>
          <a:xfrm flipH="1">
            <a:off x="6171480" y="1225440"/>
            <a:ext cx="1752120" cy="109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7c80"/>
                </a:solidFill>
                <a:latin typeface="Calibri"/>
              </a:rPr>
              <a:t>GINGIVA</a:t>
            </a:r>
            <a:r>
              <a:rPr b="1" lang="en-US" sz="2800" spc="-1" strike="noStrike">
                <a:solidFill>
                  <a:srgbClr val="ff7c8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6"/>
          <p:cNvSpPr/>
          <p:nvPr/>
        </p:nvSpPr>
        <p:spPr>
          <a:xfrm flipH="1">
            <a:off x="551880" y="1836720"/>
            <a:ext cx="2418840" cy="566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SPECI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 flipH="1" flipV="1" rot="10800000">
            <a:off x="2971440" y="2123280"/>
            <a:ext cx="4571640" cy="49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400" spc="-1" strike="noStrike">
                <a:solidFill>
                  <a:srgbClr val="558ed5"/>
                </a:solidFill>
                <a:latin typeface="Calibri"/>
              </a:rPr>
              <a:t>               </a:t>
            </a: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DORSAL LING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8"/>
          <p:cNvSpPr/>
          <p:nvPr/>
        </p:nvSpPr>
        <p:spPr>
          <a:xfrm flipH="1">
            <a:off x="532800" y="3048120"/>
            <a:ext cx="2742840" cy="105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LINING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 (COVE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9"/>
          <p:cNvSpPr/>
          <p:nvPr/>
        </p:nvSpPr>
        <p:spPr>
          <a:xfrm flipH="1">
            <a:off x="3448800" y="3753000"/>
            <a:ext cx="1503000" cy="49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LAB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"/>
          <p:cNvSpPr/>
          <p:nvPr/>
        </p:nvSpPr>
        <p:spPr>
          <a:xfrm flipH="1">
            <a:off x="4723560" y="3940560"/>
            <a:ext cx="1380600" cy="49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9999"/>
                </a:solidFill>
                <a:latin typeface="Calibri"/>
              </a:rPr>
              <a:t>BUC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1"/>
          <p:cNvSpPr/>
          <p:nvPr/>
        </p:nvSpPr>
        <p:spPr>
          <a:xfrm>
            <a:off x="5562720" y="4541760"/>
            <a:ext cx="1980720" cy="49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00cc"/>
                </a:solidFill>
                <a:latin typeface="Calibri"/>
              </a:rPr>
              <a:t>ALVE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2"/>
          <p:cNvSpPr/>
          <p:nvPr/>
        </p:nvSpPr>
        <p:spPr>
          <a:xfrm flipV="1" rot="10800000">
            <a:off x="6553440" y="5230440"/>
            <a:ext cx="2590560" cy="49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3480" bIns="334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cccc00"/>
                </a:solidFill>
                <a:latin typeface="Calibri"/>
              </a:rPr>
              <a:t>SOFT PAL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5"/>
          <p:cNvSpPr/>
          <p:nvPr/>
        </p:nvSpPr>
        <p:spPr>
          <a:xfrm flipH="1">
            <a:off x="3295080" y="693720"/>
            <a:ext cx="5619240" cy="50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i="1" lang="en-US" sz="2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Epithelium undergoes </a:t>
            </a:r>
            <a:r>
              <a:rPr b="1" i="1" lang="ru-RU" sz="2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keratiniz</a:t>
            </a:r>
            <a:r>
              <a:rPr b="1" i="1" lang="en-US" sz="2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7"/>
          <p:cNvSpPr/>
          <p:nvPr/>
        </p:nvSpPr>
        <p:spPr>
          <a:xfrm>
            <a:off x="82440" y="768240"/>
            <a:ext cx="215640" cy="291600"/>
          </a:xfrm>
          <a:prstGeom prst="diamond">
            <a:avLst/>
          </a:prstGeom>
          <a:solidFill>
            <a:srgbClr val="ff7c80"/>
          </a:solidFill>
          <a:ln w="127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18"/>
          <p:cNvSpPr/>
          <p:nvPr/>
        </p:nvSpPr>
        <p:spPr>
          <a:xfrm>
            <a:off x="82440" y="1911240"/>
            <a:ext cx="215640" cy="291600"/>
          </a:xfrm>
          <a:prstGeom prst="diamond">
            <a:avLst/>
          </a:prstGeom>
          <a:solidFill>
            <a:srgbClr val="ff7c80"/>
          </a:solidFill>
          <a:ln w="127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19"/>
          <p:cNvSpPr/>
          <p:nvPr/>
        </p:nvSpPr>
        <p:spPr>
          <a:xfrm>
            <a:off x="82440" y="3130560"/>
            <a:ext cx="215640" cy="291600"/>
          </a:xfrm>
          <a:prstGeom prst="diamond">
            <a:avLst/>
          </a:prstGeom>
          <a:solidFill>
            <a:srgbClr val="ff7c80"/>
          </a:solidFill>
          <a:ln w="127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Line 21"/>
          <p:cNvSpPr/>
          <p:nvPr/>
        </p:nvSpPr>
        <p:spPr>
          <a:xfrm>
            <a:off x="685800" y="1676160"/>
            <a:ext cx="7772400" cy="360"/>
          </a:xfrm>
          <a:prstGeom prst="line">
            <a:avLst/>
          </a:prstGeom>
          <a:ln w="127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Line 22"/>
          <p:cNvSpPr/>
          <p:nvPr/>
        </p:nvSpPr>
        <p:spPr>
          <a:xfrm>
            <a:off x="685800" y="2971800"/>
            <a:ext cx="7772400" cy="360"/>
          </a:xfrm>
          <a:prstGeom prst="line">
            <a:avLst/>
          </a:prstGeom>
          <a:ln w="127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Freeform 2"/>
          <p:cNvSpPr/>
          <p:nvPr/>
        </p:nvSpPr>
        <p:spPr>
          <a:xfrm>
            <a:off x="1908000" y="976320"/>
            <a:ext cx="2738160" cy="4885920"/>
          </a:xfrm>
          <a:custGeom>
            <a:avLst/>
            <a:gdLst>
              <a:gd name="textAreaLeft" fmla="*/ 0 w 2738160"/>
              <a:gd name="textAreaRight" fmla="*/ 2738520 w 2738160"/>
              <a:gd name="textAreaTop" fmla="*/ 0 h 4885920"/>
              <a:gd name="textAreaBottom" fmla="*/ 4886280 h 4885920"/>
            </a:gdLst>
            <a:ahLst/>
            <a:rect l="textAreaLeft" t="textAreaTop" r="textAreaRight" b="textAreaBottom"/>
            <a:pathLst>
              <a:path w="1725" h="3078">
                <a:moveTo>
                  <a:pt x="94" y="3033"/>
                </a:moveTo>
                <a:lnTo>
                  <a:pt x="120" y="2979"/>
                </a:lnTo>
                <a:lnTo>
                  <a:pt x="120" y="2946"/>
                </a:lnTo>
                <a:lnTo>
                  <a:pt x="131" y="2913"/>
                </a:lnTo>
                <a:lnTo>
                  <a:pt x="131" y="2881"/>
                </a:lnTo>
                <a:lnTo>
                  <a:pt x="131" y="2848"/>
                </a:lnTo>
                <a:lnTo>
                  <a:pt x="142" y="2815"/>
                </a:lnTo>
                <a:lnTo>
                  <a:pt x="142" y="2782"/>
                </a:lnTo>
                <a:lnTo>
                  <a:pt x="142" y="2750"/>
                </a:lnTo>
                <a:lnTo>
                  <a:pt x="142" y="2717"/>
                </a:lnTo>
                <a:lnTo>
                  <a:pt x="142" y="2684"/>
                </a:lnTo>
                <a:lnTo>
                  <a:pt x="142" y="2641"/>
                </a:lnTo>
                <a:lnTo>
                  <a:pt x="142" y="2608"/>
                </a:lnTo>
                <a:lnTo>
                  <a:pt x="142" y="2575"/>
                </a:lnTo>
                <a:lnTo>
                  <a:pt x="153" y="2542"/>
                </a:lnTo>
                <a:lnTo>
                  <a:pt x="164" y="2499"/>
                </a:lnTo>
                <a:lnTo>
                  <a:pt x="164" y="2466"/>
                </a:lnTo>
                <a:lnTo>
                  <a:pt x="175" y="2433"/>
                </a:lnTo>
                <a:lnTo>
                  <a:pt x="175" y="2401"/>
                </a:lnTo>
                <a:lnTo>
                  <a:pt x="186" y="2357"/>
                </a:lnTo>
                <a:lnTo>
                  <a:pt x="186" y="2313"/>
                </a:lnTo>
                <a:lnTo>
                  <a:pt x="196" y="2280"/>
                </a:lnTo>
                <a:lnTo>
                  <a:pt x="196" y="2248"/>
                </a:lnTo>
                <a:lnTo>
                  <a:pt x="196" y="2215"/>
                </a:lnTo>
                <a:lnTo>
                  <a:pt x="196" y="2182"/>
                </a:lnTo>
                <a:lnTo>
                  <a:pt x="196" y="2139"/>
                </a:lnTo>
                <a:lnTo>
                  <a:pt x="196" y="2106"/>
                </a:lnTo>
                <a:lnTo>
                  <a:pt x="196" y="2062"/>
                </a:lnTo>
                <a:lnTo>
                  <a:pt x="196" y="2029"/>
                </a:lnTo>
                <a:lnTo>
                  <a:pt x="196" y="1997"/>
                </a:lnTo>
                <a:lnTo>
                  <a:pt x="196" y="1964"/>
                </a:lnTo>
                <a:lnTo>
                  <a:pt x="196" y="1931"/>
                </a:lnTo>
                <a:lnTo>
                  <a:pt x="196" y="1898"/>
                </a:lnTo>
                <a:lnTo>
                  <a:pt x="196" y="1866"/>
                </a:lnTo>
                <a:lnTo>
                  <a:pt x="196" y="1833"/>
                </a:lnTo>
                <a:lnTo>
                  <a:pt x="196" y="1800"/>
                </a:lnTo>
                <a:lnTo>
                  <a:pt x="196" y="1757"/>
                </a:lnTo>
                <a:lnTo>
                  <a:pt x="196" y="1713"/>
                </a:lnTo>
                <a:lnTo>
                  <a:pt x="196" y="1680"/>
                </a:lnTo>
                <a:lnTo>
                  <a:pt x="196" y="1647"/>
                </a:lnTo>
                <a:lnTo>
                  <a:pt x="196" y="1615"/>
                </a:lnTo>
                <a:lnTo>
                  <a:pt x="196" y="1582"/>
                </a:lnTo>
                <a:lnTo>
                  <a:pt x="196" y="1549"/>
                </a:lnTo>
                <a:lnTo>
                  <a:pt x="186" y="1506"/>
                </a:lnTo>
                <a:lnTo>
                  <a:pt x="186" y="1462"/>
                </a:lnTo>
                <a:lnTo>
                  <a:pt x="175" y="1429"/>
                </a:lnTo>
                <a:lnTo>
                  <a:pt x="164" y="1396"/>
                </a:lnTo>
                <a:lnTo>
                  <a:pt x="142" y="1364"/>
                </a:lnTo>
                <a:lnTo>
                  <a:pt x="131" y="1320"/>
                </a:lnTo>
                <a:lnTo>
                  <a:pt x="120" y="1276"/>
                </a:lnTo>
                <a:lnTo>
                  <a:pt x="98" y="1244"/>
                </a:lnTo>
                <a:lnTo>
                  <a:pt x="98" y="1211"/>
                </a:lnTo>
                <a:lnTo>
                  <a:pt x="87" y="1178"/>
                </a:lnTo>
                <a:lnTo>
                  <a:pt x="66" y="1145"/>
                </a:lnTo>
                <a:lnTo>
                  <a:pt x="55" y="1102"/>
                </a:lnTo>
                <a:lnTo>
                  <a:pt x="44" y="1069"/>
                </a:lnTo>
                <a:lnTo>
                  <a:pt x="44" y="1036"/>
                </a:lnTo>
                <a:lnTo>
                  <a:pt x="33" y="1004"/>
                </a:lnTo>
                <a:lnTo>
                  <a:pt x="22" y="971"/>
                </a:lnTo>
                <a:lnTo>
                  <a:pt x="22" y="938"/>
                </a:lnTo>
                <a:lnTo>
                  <a:pt x="11" y="905"/>
                </a:lnTo>
                <a:lnTo>
                  <a:pt x="11" y="862"/>
                </a:lnTo>
                <a:lnTo>
                  <a:pt x="11" y="829"/>
                </a:lnTo>
                <a:lnTo>
                  <a:pt x="0" y="796"/>
                </a:lnTo>
                <a:lnTo>
                  <a:pt x="0" y="763"/>
                </a:lnTo>
                <a:lnTo>
                  <a:pt x="0" y="720"/>
                </a:lnTo>
                <a:lnTo>
                  <a:pt x="0" y="687"/>
                </a:lnTo>
                <a:lnTo>
                  <a:pt x="0" y="654"/>
                </a:lnTo>
                <a:lnTo>
                  <a:pt x="0" y="622"/>
                </a:lnTo>
                <a:lnTo>
                  <a:pt x="0" y="556"/>
                </a:lnTo>
                <a:lnTo>
                  <a:pt x="11" y="469"/>
                </a:lnTo>
                <a:lnTo>
                  <a:pt x="22" y="425"/>
                </a:lnTo>
                <a:lnTo>
                  <a:pt x="33" y="392"/>
                </a:lnTo>
                <a:lnTo>
                  <a:pt x="55" y="360"/>
                </a:lnTo>
                <a:lnTo>
                  <a:pt x="76" y="327"/>
                </a:lnTo>
                <a:lnTo>
                  <a:pt x="109" y="283"/>
                </a:lnTo>
                <a:lnTo>
                  <a:pt x="142" y="240"/>
                </a:lnTo>
                <a:lnTo>
                  <a:pt x="164" y="207"/>
                </a:lnTo>
                <a:lnTo>
                  <a:pt x="196" y="185"/>
                </a:lnTo>
                <a:lnTo>
                  <a:pt x="229" y="163"/>
                </a:lnTo>
                <a:lnTo>
                  <a:pt x="262" y="141"/>
                </a:lnTo>
                <a:lnTo>
                  <a:pt x="295" y="120"/>
                </a:lnTo>
                <a:lnTo>
                  <a:pt x="338" y="98"/>
                </a:lnTo>
                <a:lnTo>
                  <a:pt x="382" y="76"/>
                </a:lnTo>
                <a:lnTo>
                  <a:pt x="415" y="65"/>
                </a:lnTo>
                <a:lnTo>
                  <a:pt x="447" y="43"/>
                </a:lnTo>
                <a:lnTo>
                  <a:pt x="480" y="32"/>
                </a:lnTo>
                <a:lnTo>
                  <a:pt x="513" y="32"/>
                </a:lnTo>
                <a:lnTo>
                  <a:pt x="546" y="21"/>
                </a:lnTo>
                <a:lnTo>
                  <a:pt x="589" y="10"/>
                </a:lnTo>
                <a:lnTo>
                  <a:pt x="633" y="10"/>
                </a:lnTo>
                <a:lnTo>
                  <a:pt x="666" y="0"/>
                </a:lnTo>
                <a:lnTo>
                  <a:pt x="698" y="0"/>
                </a:lnTo>
                <a:lnTo>
                  <a:pt x="731" y="0"/>
                </a:lnTo>
                <a:lnTo>
                  <a:pt x="764" y="0"/>
                </a:lnTo>
                <a:lnTo>
                  <a:pt x="807" y="0"/>
                </a:lnTo>
                <a:lnTo>
                  <a:pt x="840" y="0"/>
                </a:lnTo>
                <a:lnTo>
                  <a:pt x="873" y="0"/>
                </a:lnTo>
                <a:lnTo>
                  <a:pt x="917" y="0"/>
                </a:lnTo>
                <a:lnTo>
                  <a:pt x="949" y="0"/>
                </a:lnTo>
                <a:lnTo>
                  <a:pt x="982" y="0"/>
                </a:lnTo>
                <a:lnTo>
                  <a:pt x="1026" y="0"/>
                </a:lnTo>
                <a:lnTo>
                  <a:pt x="1058" y="0"/>
                </a:lnTo>
                <a:lnTo>
                  <a:pt x="1091" y="10"/>
                </a:lnTo>
                <a:lnTo>
                  <a:pt x="1124" y="10"/>
                </a:lnTo>
                <a:lnTo>
                  <a:pt x="1168" y="21"/>
                </a:lnTo>
                <a:lnTo>
                  <a:pt x="1211" y="21"/>
                </a:lnTo>
                <a:lnTo>
                  <a:pt x="1244" y="32"/>
                </a:lnTo>
                <a:lnTo>
                  <a:pt x="1288" y="43"/>
                </a:lnTo>
                <a:lnTo>
                  <a:pt x="1320" y="43"/>
                </a:lnTo>
                <a:lnTo>
                  <a:pt x="1353" y="54"/>
                </a:lnTo>
                <a:lnTo>
                  <a:pt x="1386" y="65"/>
                </a:lnTo>
                <a:lnTo>
                  <a:pt x="1429" y="76"/>
                </a:lnTo>
                <a:lnTo>
                  <a:pt x="1462" y="98"/>
                </a:lnTo>
                <a:lnTo>
                  <a:pt x="1495" y="109"/>
                </a:lnTo>
                <a:lnTo>
                  <a:pt x="1528" y="141"/>
                </a:lnTo>
                <a:lnTo>
                  <a:pt x="1560" y="163"/>
                </a:lnTo>
                <a:lnTo>
                  <a:pt x="1582" y="196"/>
                </a:lnTo>
                <a:lnTo>
                  <a:pt x="1615" y="229"/>
                </a:lnTo>
                <a:lnTo>
                  <a:pt x="1637" y="261"/>
                </a:lnTo>
                <a:lnTo>
                  <a:pt x="1648" y="294"/>
                </a:lnTo>
                <a:lnTo>
                  <a:pt x="1669" y="327"/>
                </a:lnTo>
                <a:lnTo>
                  <a:pt x="1691" y="360"/>
                </a:lnTo>
                <a:lnTo>
                  <a:pt x="1702" y="392"/>
                </a:lnTo>
                <a:lnTo>
                  <a:pt x="1702" y="436"/>
                </a:lnTo>
                <a:lnTo>
                  <a:pt x="1713" y="469"/>
                </a:lnTo>
                <a:lnTo>
                  <a:pt x="1724" y="502"/>
                </a:lnTo>
                <a:lnTo>
                  <a:pt x="1724" y="545"/>
                </a:lnTo>
                <a:lnTo>
                  <a:pt x="1724" y="589"/>
                </a:lnTo>
                <a:lnTo>
                  <a:pt x="1724" y="622"/>
                </a:lnTo>
                <a:lnTo>
                  <a:pt x="1724" y="654"/>
                </a:lnTo>
                <a:lnTo>
                  <a:pt x="1724" y="698"/>
                </a:lnTo>
                <a:lnTo>
                  <a:pt x="1724" y="742"/>
                </a:lnTo>
                <a:lnTo>
                  <a:pt x="1724" y="785"/>
                </a:lnTo>
                <a:lnTo>
                  <a:pt x="1724" y="818"/>
                </a:lnTo>
                <a:lnTo>
                  <a:pt x="1724" y="851"/>
                </a:lnTo>
                <a:lnTo>
                  <a:pt x="1724" y="916"/>
                </a:lnTo>
                <a:lnTo>
                  <a:pt x="1713" y="949"/>
                </a:lnTo>
                <a:lnTo>
                  <a:pt x="1713" y="993"/>
                </a:lnTo>
                <a:lnTo>
                  <a:pt x="1713" y="1036"/>
                </a:lnTo>
                <a:lnTo>
                  <a:pt x="1702" y="1080"/>
                </a:lnTo>
                <a:lnTo>
                  <a:pt x="1702" y="1124"/>
                </a:lnTo>
                <a:lnTo>
                  <a:pt x="1702" y="1156"/>
                </a:lnTo>
                <a:lnTo>
                  <a:pt x="1702" y="1189"/>
                </a:lnTo>
                <a:lnTo>
                  <a:pt x="1702" y="1255"/>
                </a:lnTo>
                <a:lnTo>
                  <a:pt x="1702" y="1287"/>
                </a:lnTo>
                <a:lnTo>
                  <a:pt x="1702" y="1331"/>
                </a:lnTo>
                <a:lnTo>
                  <a:pt x="1702" y="1375"/>
                </a:lnTo>
                <a:lnTo>
                  <a:pt x="1691" y="1418"/>
                </a:lnTo>
                <a:lnTo>
                  <a:pt x="1680" y="1462"/>
                </a:lnTo>
                <a:lnTo>
                  <a:pt x="1680" y="1495"/>
                </a:lnTo>
                <a:lnTo>
                  <a:pt x="1669" y="1538"/>
                </a:lnTo>
                <a:lnTo>
                  <a:pt x="1669" y="1571"/>
                </a:lnTo>
                <a:lnTo>
                  <a:pt x="1669" y="1604"/>
                </a:lnTo>
                <a:lnTo>
                  <a:pt x="1669" y="1637"/>
                </a:lnTo>
                <a:lnTo>
                  <a:pt x="1669" y="1680"/>
                </a:lnTo>
                <a:lnTo>
                  <a:pt x="1659" y="1724"/>
                </a:lnTo>
                <a:lnTo>
                  <a:pt x="1659" y="1768"/>
                </a:lnTo>
                <a:lnTo>
                  <a:pt x="1659" y="1811"/>
                </a:lnTo>
                <a:lnTo>
                  <a:pt x="1648" y="1855"/>
                </a:lnTo>
                <a:lnTo>
                  <a:pt x="1648" y="1888"/>
                </a:lnTo>
                <a:lnTo>
                  <a:pt x="1637" y="1920"/>
                </a:lnTo>
                <a:lnTo>
                  <a:pt x="1637" y="1964"/>
                </a:lnTo>
                <a:lnTo>
                  <a:pt x="1637" y="2008"/>
                </a:lnTo>
                <a:lnTo>
                  <a:pt x="1626" y="2051"/>
                </a:lnTo>
                <a:lnTo>
                  <a:pt x="1626" y="2117"/>
                </a:lnTo>
                <a:lnTo>
                  <a:pt x="1626" y="2149"/>
                </a:lnTo>
                <a:lnTo>
                  <a:pt x="1626" y="2193"/>
                </a:lnTo>
                <a:lnTo>
                  <a:pt x="1626" y="2237"/>
                </a:lnTo>
                <a:lnTo>
                  <a:pt x="1626" y="2280"/>
                </a:lnTo>
                <a:lnTo>
                  <a:pt x="1626" y="2324"/>
                </a:lnTo>
                <a:lnTo>
                  <a:pt x="1626" y="2368"/>
                </a:lnTo>
                <a:lnTo>
                  <a:pt x="1626" y="2411"/>
                </a:lnTo>
                <a:lnTo>
                  <a:pt x="1626" y="2455"/>
                </a:lnTo>
                <a:lnTo>
                  <a:pt x="1626" y="2488"/>
                </a:lnTo>
                <a:lnTo>
                  <a:pt x="1615" y="2521"/>
                </a:lnTo>
                <a:lnTo>
                  <a:pt x="1615" y="2553"/>
                </a:lnTo>
                <a:lnTo>
                  <a:pt x="1615" y="2586"/>
                </a:lnTo>
                <a:lnTo>
                  <a:pt x="1615" y="2619"/>
                </a:lnTo>
                <a:lnTo>
                  <a:pt x="1604" y="2652"/>
                </a:lnTo>
                <a:lnTo>
                  <a:pt x="1604" y="2684"/>
                </a:lnTo>
                <a:lnTo>
                  <a:pt x="1604" y="2717"/>
                </a:lnTo>
                <a:lnTo>
                  <a:pt x="1593" y="2761"/>
                </a:lnTo>
                <a:lnTo>
                  <a:pt x="1582" y="2804"/>
                </a:lnTo>
                <a:lnTo>
                  <a:pt x="1582" y="2837"/>
                </a:lnTo>
                <a:lnTo>
                  <a:pt x="1582" y="2870"/>
                </a:lnTo>
                <a:lnTo>
                  <a:pt x="1582" y="2903"/>
                </a:lnTo>
                <a:lnTo>
                  <a:pt x="1582" y="2935"/>
                </a:lnTo>
                <a:lnTo>
                  <a:pt x="1571" y="2968"/>
                </a:lnTo>
                <a:lnTo>
                  <a:pt x="1571" y="3001"/>
                </a:lnTo>
                <a:lnTo>
                  <a:pt x="1560" y="3034"/>
                </a:lnTo>
                <a:lnTo>
                  <a:pt x="1528" y="3055"/>
                </a:lnTo>
                <a:lnTo>
                  <a:pt x="1495" y="3055"/>
                </a:lnTo>
                <a:lnTo>
                  <a:pt x="1462" y="3066"/>
                </a:lnTo>
                <a:lnTo>
                  <a:pt x="1418" y="3077"/>
                </a:lnTo>
                <a:lnTo>
                  <a:pt x="1375" y="3077"/>
                </a:lnTo>
                <a:lnTo>
                  <a:pt x="1331" y="3077"/>
                </a:lnTo>
                <a:lnTo>
                  <a:pt x="1244" y="3077"/>
                </a:lnTo>
                <a:lnTo>
                  <a:pt x="1211" y="3077"/>
                </a:lnTo>
                <a:lnTo>
                  <a:pt x="1178" y="3077"/>
                </a:lnTo>
                <a:lnTo>
                  <a:pt x="1135" y="3077"/>
                </a:lnTo>
                <a:lnTo>
                  <a:pt x="1091" y="3077"/>
                </a:lnTo>
                <a:lnTo>
                  <a:pt x="1026" y="3077"/>
                </a:lnTo>
                <a:lnTo>
                  <a:pt x="960" y="3077"/>
                </a:lnTo>
                <a:lnTo>
                  <a:pt x="917" y="3077"/>
                </a:lnTo>
                <a:lnTo>
                  <a:pt x="851" y="3077"/>
                </a:lnTo>
                <a:lnTo>
                  <a:pt x="764" y="3077"/>
                </a:lnTo>
                <a:lnTo>
                  <a:pt x="677" y="3077"/>
                </a:lnTo>
                <a:lnTo>
                  <a:pt x="633" y="3066"/>
                </a:lnTo>
                <a:lnTo>
                  <a:pt x="589" y="3066"/>
                </a:lnTo>
                <a:lnTo>
                  <a:pt x="546" y="3066"/>
                </a:lnTo>
                <a:lnTo>
                  <a:pt x="513" y="3055"/>
                </a:lnTo>
                <a:lnTo>
                  <a:pt x="480" y="3055"/>
                </a:lnTo>
                <a:lnTo>
                  <a:pt x="437" y="3055"/>
                </a:lnTo>
                <a:lnTo>
                  <a:pt x="404" y="3044"/>
                </a:lnTo>
                <a:lnTo>
                  <a:pt x="371" y="3044"/>
                </a:lnTo>
                <a:lnTo>
                  <a:pt x="306" y="3044"/>
                </a:lnTo>
                <a:lnTo>
                  <a:pt x="273" y="3034"/>
                </a:lnTo>
                <a:lnTo>
                  <a:pt x="240" y="3034"/>
                </a:lnTo>
                <a:lnTo>
                  <a:pt x="207" y="3034"/>
                </a:lnTo>
                <a:lnTo>
                  <a:pt x="175" y="3034"/>
                </a:lnTo>
                <a:lnTo>
                  <a:pt x="142" y="3034"/>
                </a:lnTo>
                <a:lnTo>
                  <a:pt x="94" y="3033"/>
                </a:lnTo>
                <a:lnTo>
                  <a:pt x="94" y="3033"/>
                </a:lnTo>
              </a:path>
            </a:pathLst>
          </a:custGeom>
          <a:pattFill prst="horz">
            <a:fgClr>
              <a:srgbClr val="eeece1"/>
            </a:fgClr>
            <a:bgClr>
              <a:srgbClr val="4f81bd"/>
            </a:bgClr>
          </a:pattFill>
          <a:ln cap="rnd"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Freeform 3"/>
          <p:cNvSpPr/>
          <p:nvPr/>
        </p:nvSpPr>
        <p:spPr>
          <a:xfrm>
            <a:off x="2914560" y="3916440"/>
            <a:ext cx="1234800" cy="1934640"/>
          </a:xfrm>
          <a:custGeom>
            <a:avLst/>
            <a:gdLst>
              <a:gd name="textAreaLeft" fmla="*/ 0 w 1234800"/>
              <a:gd name="textAreaRight" fmla="*/ 1235160 w 1234800"/>
              <a:gd name="textAreaTop" fmla="*/ 0 h 1934640"/>
              <a:gd name="textAreaBottom" fmla="*/ 1935000 h 1934640"/>
            </a:gdLst>
            <a:ahLst/>
            <a:rect l="textAreaLeft" t="textAreaTop" r="textAreaRight" b="textAreaBottom"/>
            <a:pathLst>
              <a:path w="778" h="1219">
                <a:moveTo>
                  <a:pt x="48" y="1080"/>
                </a:moveTo>
                <a:lnTo>
                  <a:pt x="92" y="1027"/>
                </a:lnTo>
                <a:lnTo>
                  <a:pt x="115" y="995"/>
                </a:lnTo>
                <a:lnTo>
                  <a:pt x="137" y="964"/>
                </a:lnTo>
                <a:lnTo>
                  <a:pt x="159" y="931"/>
                </a:lnTo>
                <a:lnTo>
                  <a:pt x="175" y="889"/>
                </a:lnTo>
                <a:lnTo>
                  <a:pt x="197" y="856"/>
                </a:lnTo>
                <a:lnTo>
                  <a:pt x="222" y="807"/>
                </a:lnTo>
                <a:lnTo>
                  <a:pt x="246" y="776"/>
                </a:lnTo>
                <a:lnTo>
                  <a:pt x="268" y="744"/>
                </a:lnTo>
                <a:lnTo>
                  <a:pt x="290" y="712"/>
                </a:lnTo>
                <a:lnTo>
                  <a:pt x="313" y="680"/>
                </a:lnTo>
                <a:lnTo>
                  <a:pt x="328" y="637"/>
                </a:lnTo>
                <a:lnTo>
                  <a:pt x="359" y="616"/>
                </a:lnTo>
                <a:lnTo>
                  <a:pt x="391" y="578"/>
                </a:lnTo>
                <a:lnTo>
                  <a:pt x="414" y="545"/>
                </a:lnTo>
                <a:lnTo>
                  <a:pt x="437" y="513"/>
                </a:lnTo>
                <a:lnTo>
                  <a:pt x="466" y="493"/>
                </a:lnTo>
                <a:lnTo>
                  <a:pt x="484" y="432"/>
                </a:lnTo>
                <a:lnTo>
                  <a:pt x="500" y="390"/>
                </a:lnTo>
                <a:lnTo>
                  <a:pt x="515" y="347"/>
                </a:lnTo>
                <a:lnTo>
                  <a:pt x="537" y="316"/>
                </a:lnTo>
                <a:lnTo>
                  <a:pt x="555" y="255"/>
                </a:lnTo>
                <a:lnTo>
                  <a:pt x="578" y="223"/>
                </a:lnTo>
                <a:lnTo>
                  <a:pt x="592" y="180"/>
                </a:lnTo>
                <a:lnTo>
                  <a:pt x="608" y="139"/>
                </a:lnTo>
                <a:lnTo>
                  <a:pt x="631" y="106"/>
                </a:lnTo>
                <a:lnTo>
                  <a:pt x="646" y="64"/>
                </a:lnTo>
                <a:lnTo>
                  <a:pt x="668" y="32"/>
                </a:lnTo>
                <a:lnTo>
                  <a:pt x="691" y="0"/>
                </a:lnTo>
                <a:lnTo>
                  <a:pt x="744" y="11"/>
                </a:lnTo>
                <a:lnTo>
                  <a:pt x="777" y="36"/>
                </a:lnTo>
                <a:lnTo>
                  <a:pt x="769" y="89"/>
                </a:lnTo>
                <a:lnTo>
                  <a:pt x="753" y="132"/>
                </a:lnTo>
                <a:lnTo>
                  <a:pt x="738" y="175"/>
                </a:lnTo>
                <a:lnTo>
                  <a:pt x="716" y="206"/>
                </a:lnTo>
                <a:lnTo>
                  <a:pt x="698" y="267"/>
                </a:lnTo>
                <a:lnTo>
                  <a:pt x="680" y="327"/>
                </a:lnTo>
                <a:lnTo>
                  <a:pt x="655" y="376"/>
                </a:lnTo>
                <a:lnTo>
                  <a:pt x="632" y="409"/>
                </a:lnTo>
                <a:lnTo>
                  <a:pt x="607" y="459"/>
                </a:lnTo>
                <a:lnTo>
                  <a:pt x="593" y="501"/>
                </a:lnTo>
                <a:lnTo>
                  <a:pt x="570" y="533"/>
                </a:lnTo>
                <a:lnTo>
                  <a:pt x="554" y="575"/>
                </a:lnTo>
                <a:lnTo>
                  <a:pt x="539" y="617"/>
                </a:lnTo>
                <a:lnTo>
                  <a:pt x="506" y="656"/>
                </a:lnTo>
                <a:lnTo>
                  <a:pt x="484" y="688"/>
                </a:lnTo>
                <a:lnTo>
                  <a:pt x="468" y="731"/>
                </a:lnTo>
                <a:lnTo>
                  <a:pt x="439" y="752"/>
                </a:lnTo>
                <a:lnTo>
                  <a:pt x="413" y="802"/>
                </a:lnTo>
                <a:lnTo>
                  <a:pt x="351" y="862"/>
                </a:lnTo>
                <a:lnTo>
                  <a:pt x="318" y="901"/>
                </a:lnTo>
                <a:lnTo>
                  <a:pt x="294" y="932"/>
                </a:lnTo>
                <a:lnTo>
                  <a:pt x="272" y="964"/>
                </a:lnTo>
                <a:lnTo>
                  <a:pt x="257" y="1006"/>
                </a:lnTo>
                <a:lnTo>
                  <a:pt x="242" y="1049"/>
                </a:lnTo>
                <a:lnTo>
                  <a:pt x="211" y="1071"/>
                </a:lnTo>
                <a:lnTo>
                  <a:pt x="182" y="1091"/>
                </a:lnTo>
                <a:lnTo>
                  <a:pt x="152" y="1113"/>
                </a:lnTo>
                <a:lnTo>
                  <a:pt x="121" y="1134"/>
                </a:lnTo>
                <a:lnTo>
                  <a:pt x="91" y="1155"/>
                </a:lnTo>
                <a:lnTo>
                  <a:pt x="61" y="1176"/>
                </a:lnTo>
                <a:lnTo>
                  <a:pt x="31" y="1197"/>
                </a:lnTo>
                <a:lnTo>
                  <a:pt x="0" y="1218"/>
                </a:lnTo>
                <a:lnTo>
                  <a:pt x="23" y="1186"/>
                </a:lnTo>
                <a:lnTo>
                  <a:pt x="46" y="1154"/>
                </a:lnTo>
                <a:lnTo>
                  <a:pt x="48" y="1080"/>
                </a:lnTo>
                <a:lnTo>
                  <a:pt x="48" y="1080"/>
                </a:lnTo>
              </a:path>
            </a:pathLst>
          </a:custGeom>
          <a:pattFill prst="ltVert">
            <a:fgClr>
              <a:srgbClr val="ffcc66"/>
            </a:fgClr>
            <a:bgClr>
              <a:srgbClr val="ffffff"/>
            </a:bgClr>
          </a:patt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2" name="Group 20"/>
          <p:cNvGrpSpPr/>
          <p:nvPr/>
        </p:nvGrpSpPr>
        <p:grpSpPr>
          <a:xfrm>
            <a:off x="2286000" y="1565280"/>
            <a:ext cx="1829880" cy="4303080"/>
            <a:chOff x="2286000" y="1565280"/>
            <a:chExt cx="1829880" cy="4303080"/>
          </a:xfrm>
        </p:grpSpPr>
        <p:sp>
          <p:nvSpPr>
            <p:cNvPr id="693" name="Freeform 4"/>
            <p:cNvSpPr/>
            <p:nvPr/>
          </p:nvSpPr>
          <p:spPr>
            <a:xfrm>
              <a:off x="2693880" y="1603440"/>
              <a:ext cx="1112400" cy="332388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3323880"/>
                <a:gd name="textAreaBottom" fmla="*/ 3324240 h 3323880"/>
              </a:gdLst>
              <a:ahLst/>
              <a:rect l="textAreaLeft" t="textAreaTop" r="textAreaRight" b="textAreaBottom"/>
              <a:pathLst>
                <a:path w="701" h="2094">
                  <a:moveTo>
                    <a:pt x="568" y="2071"/>
                  </a:moveTo>
                  <a:lnTo>
                    <a:pt x="554" y="1821"/>
                  </a:lnTo>
                  <a:lnTo>
                    <a:pt x="516" y="1492"/>
                  </a:lnTo>
                  <a:lnTo>
                    <a:pt x="417" y="1267"/>
                  </a:lnTo>
                  <a:lnTo>
                    <a:pt x="317" y="944"/>
                  </a:lnTo>
                  <a:lnTo>
                    <a:pt x="218" y="720"/>
                  </a:lnTo>
                  <a:lnTo>
                    <a:pt x="182" y="533"/>
                  </a:lnTo>
                  <a:lnTo>
                    <a:pt x="145" y="348"/>
                  </a:lnTo>
                  <a:lnTo>
                    <a:pt x="98" y="283"/>
                  </a:lnTo>
                  <a:lnTo>
                    <a:pt x="48" y="121"/>
                  </a:lnTo>
                  <a:lnTo>
                    <a:pt x="0" y="33"/>
                  </a:lnTo>
                  <a:lnTo>
                    <a:pt x="45" y="28"/>
                  </a:lnTo>
                  <a:lnTo>
                    <a:pt x="91" y="0"/>
                  </a:lnTo>
                  <a:lnTo>
                    <a:pt x="137" y="18"/>
                  </a:lnTo>
                  <a:lnTo>
                    <a:pt x="154" y="86"/>
                  </a:lnTo>
                  <a:lnTo>
                    <a:pt x="171" y="157"/>
                  </a:lnTo>
                  <a:lnTo>
                    <a:pt x="220" y="248"/>
                  </a:lnTo>
                  <a:lnTo>
                    <a:pt x="238" y="338"/>
                  </a:lnTo>
                  <a:lnTo>
                    <a:pt x="270" y="405"/>
                  </a:lnTo>
                  <a:lnTo>
                    <a:pt x="289" y="500"/>
                  </a:lnTo>
                  <a:lnTo>
                    <a:pt x="320" y="567"/>
                  </a:lnTo>
                  <a:lnTo>
                    <a:pt x="353" y="635"/>
                  </a:lnTo>
                  <a:lnTo>
                    <a:pt x="370" y="703"/>
                  </a:lnTo>
                  <a:lnTo>
                    <a:pt x="388" y="774"/>
                  </a:lnTo>
                  <a:lnTo>
                    <a:pt x="421" y="864"/>
                  </a:lnTo>
                  <a:lnTo>
                    <a:pt x="438" y="934"/>
                  </a:lnTo>
                  <a:lnTo>
                    <a:pt x="455" y="1003"/>
                  </a:lnTo>
                  <a:lnTo>
                    <a:pt x="488" y="1068"/>
                  </a:lnTo>
                  <a:lnTo>
                    <a:pt x="505" y="1139"/>
                  </a:lnTo>
                  <a:lnTo>
                    <a:pt x="522" y="1209"/>
                  </a:lnTo>
                  <a:lnTo>
                    <a:pt x="555" y="1299"/>
                  </a:lnTo>
                  <a:lnTo>
                    <a:pt x="572" y="1369"/>
                  </a:lnTo>
                  <a:lnTo>
                    <a:pt x="590" y="1438"/>
                  </a:lnTo>
                  <a:lnTo>
                    <a:pt x="591" y="1509"/>
                  </a:lnTo>
                  <a:lnTo>
                    <a:pt x="609" y="1577"/>
                  </a:lnTo>
                  <a:lnTo>
                    <a:pt x="626" y="1646"/>
                  </a:lnTo>
                  <a:lnTo>
                    <a:pt x="630" y="1788"/>
                  </a:lnTo>
                  <a:lnTo>
                    <a:pt x="648" y="1857"/>
                  </a:lnTo>
                  <a:lnTo>
                    <a:pt x="665" y="1926"/>
                  </a:lnTo>
                  <a:lnTo>
                    <a:pt x="682" y="1996"/>
                  </a:lnTo>
                  <a:lnTo>
                    <a:pt x="700" y="2065"/>
                  </a:lnTo>
                  <a:lnTo>
                    <a:pt x="654" y="2093"/>
                  </a:lnTo>
                  <a:lnTo>
                    <a:pt x="568" y="2071"/>
                  </a:lnTo>
                  <a:lnTo>
                    <a:pt x="568" y="2071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5"/>
            <p:cNvSpPr/>
            <p:nvPr/>
          </p:nvSpPr>
          <p:spPr>
            <a:xfrm>
              <a:off x="2517840" y="1724040"/>
              <a:ext cx="1112400" cy="332388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3323880"/>
                <a:gd name="textAreaBottom" fmla="*/ 3324240 h 3323880"/>
              </a:gdLst>
              <a:ahLst/>
              <a:rect l="textAreaLeft" t="textAreaTop" r="textAreaRight" b="textAreaBottom"/>
              <a:pathLst>
                <a:path w="701" h="2094">
                  <a:moveTo>
                    <a:pt x="568" y="2074"/>
                  </a:moveTo>
                  <a:lnTo>
                    <a:pt x="554" y="1822"/>
                  </a:lnTo>
                  <a:lnTo>
                    <a:pt x="516" y="1494"/>
                  </a:lnTo>
                  <a:lnTo>
                    <a:pt x="416" y="1267"/>
                  </a:lnTo>
                  <a:lnTo>
                    <a:pt x="316" y="945"/>
                  </a:lnTo>
                  <a:lnTo>
                    <a:pt x="217" y="720"/>
                  </a:lnTo>
                  <a:lnTo>
                    <a:pt x="182" y="536"/>
                  </a:lnTo>
                  <a:lnTo>
                    <a:pt x="146" y="348"/>
                  </a:lnTo>
                  <a:lnTo>
                    <a:pt x="99" y="284"/>
                  </a:lnTo>
                  <a:lnTo>
                    <a:pt x="49" y="122"/>
                  </a:lnTo>
                  <a:lnTo>
                    <a:pt x="0" y="33"/>
                  </a:lnTo>
                  <a:lnTo>
                    <a:pt x="46" y="28"/>
                  </a:lnTo>
                  <a:lnTo>
                    <a:pt x="91" y="0"/>
                  </a:lnTo>
                  <a:lnTo>
                    <a:pt x="137" y="19"/>
                  </a:lnTo>
                  <a:lnTo>
                    <a:pt x="154" y="86"/>
                  </a:lnTo>
                  <a:lnTo>
                    <a:pt x="171" y="157"/>
                  </a:lnTo>
                  <a:lnTo>
                    <a:pt x="220" y="248"/>
                  </a:lnTo>
                  <a:lnTo>
                    <a:pt x="238" y="340"/>
                  </a:lnTo>
                  <a:lnTo>
                    <a:pt x="271" y="407"/>
                  </a:lnTo>
                  <a:lnTo>
                    <a:pt x="289" y="500"/>
                  </a:lnTo>
                  <a:lnTo>
                    <a:pt x="320" y="567"/>
                  </a:lnTo>
                  <a:lnTo>
                    <a:pt x="353" y="635"/>
                  </a:lnTo>
                  <a:lnTo>
                    <a:pt x="370" y="705"/>
                  </a:lnTo>
                  <a:lnTo>
                    <a:pt x="388" y="774"/>
                  </a:lnTo>
                  <a:lnTo>
                    <a:pt x="421" y="865"/>
                  </a:lnTo>
                  <a:lnTo>
                    <a:pt x="438" y="934"/>
                  </a:lnTo>
                  <a:lnTo>
                    <a:pt x="455" y="1005"/>
                  </a:lnTo>
                  <a:lnTo>
                    <a:pt x="488" y="1070"/>
                  </a:lnTo>
                  <a:lnTo>
                    <a:pt x="506" y="1140"/>
                  </a:lnTo>
                  <a:lnTo>
                    <a:pt x="522" y="1210"/>
                  </a:lnTo>
                  <a:lnTo>
                    <a:pt x="555" y="1300"/>
                  </a:lnTo>
                  <a:lnTo>
                    <a:pt x="572" y="1369"/>
                  </a:lnTo>
                  <a:lnTo>
                    <a:pt x="590" y="1440"/>
                  </a:lnTo>
                  <a:lnTo>
                    <a:pt x="592" y="1510"/>
                  </a:lnTo>
                  <a:lnTo>
                    <a:pt x="609" y="1579"/>
                  </a:lnTo>
                  <a:lnTo>
                    <a:pt x="626" y="1648"/>
                  </a:lnTo>
                  <a:lnTo>
                    <a:pt x="630" y="1790"/>
                  </a:lnTo>
                  <a:lnTo>
                    <a:pt x="648" y="1859"/>
                  </a:lnTo>
                  <a:lnTo>
                    <a:pt x="665" y="1929"/>
                  </a:lnTo>
                  <a:lnTo>
                    <a:pt x="682" y="1998"/>
                  </a:lnTo>
                  <a:lnTo>
                    <a:pt x="700" y="2068"/>
                  </a:lnTo>
                  <a:lnTo>
                    <a:pt x="654" y="2093"/>
                  </a:lnTo>
                  <a:lnTo>
                    <a:pt x="568" y="2074"/>
                  </a:lnTo>
                  <a:lnTo>
                    <a:pt x="568" y="2074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6"/>
            <p:cNvSpPr/>
            <p:nvPr/>
          </p:nvSpPr>
          <p:spPr>
            <a:xfrm>
              <a:off x="2498760" y="2232000"/>
              <a:ext cx="1407600" cy="3133440"/>
            </a:xfrm>
            <a:custGeom>
              <a:avLst/>
              <a:gdLst>
                <a:gd name="textAreaLeft" fmla="*/ 0 w 1407600"/>
                <a:gd name="textAreaRight" fmla="*/ 1407960 w 1407600"/>
                <a:gd name="textAreaTop" fmla="*/ 0 h 3133440"/>
                <a:gd name="textAreaBottom" fmla="*/ 3133800 h 3133440"/>
              </a:gdLst>
              <a:ahLst/>
              <a:rect l="textAreaLeft" t="textAreaTop" r="textAreaRight" b="textAreaBottom"/>
              <a:pathLst>
                <a:path w="887" h="1974">
                  <a:moveTo>
                    <a:pt x="886" y="209"/>
                  </a:moveTo>
                  <a:lnTo>
                    <a:pt x="761" y="336"/>
                  </a:lnTo>
                  <a:lnTo>
                    <a:pt x="607" y="533"/>
                  </a:lnTo>
                  <a:lnTo>
                    <a:pt x="530" y="788"/>
                  </a:lnTo>
                  <a:lnTo>
                    <a:pt x="405" y="1083"/>
                  </a:lnTo>
                  <a:lnTo>
                    <a:pt x="328" y="1339"/>
                  </a:lnTo>
                  <a:lnTo>
                    <a:pt x="247" y="1473"/>
                  </a:lnTo>
                  <a:lnTo>
                    <a:pt x="165" y="1606"/>
                  </a:lnTo>
                  <a:lnTo>
                    <a:pt x="150" y="1708"/>
                  </a:lnTo>
                  <a:lnTo>
                    <a:pt x="88" y="1857"/>
                  </a:lnTo>
                  <a:lnTo>
                    <a:pt x="61" y="1973"/>
                  </a:lnTo>
                  <a:lnTo>
                    <a:pt x="40" y="1899"/>
                  </a:lnTo>
                  <a:lnTo>
                    <a:pt x="7" y="1840"/>
                  </a:lnTo>
                  <a:lnTo>
                    <a:pt x="0" y="1758"/>
                  </a:lnTo>
                  <a:lnTo>
                    <a:pt x="28" y="1699"/>
                  </a:lnTo>
                  <a:lnTo>
                    <a:pt x="57" y="1645"/>
                  </a:lnTo>
                  <a:lnTo>
                    <a:pt x="84" y="1528"/>
                  </a:lnTo>
                  <a:lnTo>
                    <a:pt x="124" y="1462"/>
                  </a:lnTo>
                  <a:lnTo>
                    <a:pt x="144" y="1379"/>
                  </a:lnTo>
                  <a:lnTo>
                    <a:pt x="187" y="1312"/>
                  </a:lnTo>
                  <a:lnTo>
                    <a:pt x="209" y="1236"/>
                  </a:lnTo>
                  <a:lnTo>
                    <a:pt x="229" y="1152"/>
                  </a:lnTo>
                  <a:lnTo>
                    <a:pt x="258" y="1096"/>
                  </a:lnTo>
                  <a:lnTo>
                    <a:pt x="287" y="1038"/>
                  </a:lnTo>
                  <a:lnTo>
                    <a:pt x="321" y="948"/>
                  </a:lnTo>
                  <a:lnTo>
                    <a:pt x="350" y="890"/>
                  </a:lnTo>
                  <a:lnTo>
                    <a:pt x="378" y="834"/>
                  </a:lnTo>
                  <a:lnTo>
                    <a:pt x="400" y="753"/>
                  </a:lnTo>
                  <a:lnTo>
                    <a:pt x="429" y="695"/>
                  </a:lnTo>
                  <a:lnTo>
                    <a:pt x="458" y="640"/>
                  </a:lnTo>
                  <a:lnTo>
                    <a:pt x="492" y="550"/>
                  </a:lnTo>
                  <a:lnTo>
                    <a:pt x="520" y="494"/>
                  </a:lnTo>
                  <a:lnTo>
                    <a:pt x="549" y="435"/>
                  </a:lnTo>
                  <a:lnTo>
                    <a:pt x="585" y="404"/>
                  </a:lnTo>
                  <a:lnTo>
                    <a:pt x="613" y="348"/>
                  </a:lnTo>
                  <a:lnTo>
                    <a:pt x="642" y="290"/>
                  </a:lnTo>
                  <a:lnTo>
                    <a:pt x="713" y="225"/>
                  </a:lnTo>
                  <a:lnTo>
                    <a:pt x="742" y="170"/>
                  </a:lnTo>
                  <a:lnTo>
                    <a:pt x="770" y="114"/>
                  </a:lnTo>
                  <a:lnTo>
                    <a:pt x="800" y="57"/>
                  </a:lnTo>
                  <a:lnTo>
                    <a:pt x="830" y="0"/>
                  </a:lnTo>
                  <a:lnTo>
                    <a:pt x="861" y="64"/>
                  </a:lnTo>
                  <a:lnTo>
                    <a:pt x="886" y="209"/>
                  </a:lnTo>
                  <a:lnTo>
                    <a:pt x="886" y="209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7"/>
            <p:cNvSpPr/>
            <p:nvPr/>
          </p:nvSpPr>
          <p:spPr>
            <a:xfrm>
              <a:off x="2625840" y="2430360"/>
              <a:ext cx="1406160" cy="3138120"/>
            </a:xfrm>
            <a:custGeom>
              <a:avLst/>
              <a:gdLst>
                <a:gd name="textAreaLeft" fmla="*/ 0 w 1406160"/>
                <a:gd name="textAreaRight" fmla="*/ 1406520 w 1406160"/>
                <a:gd name="textAreaTop" fmla="*/ 0 h 3138120"/>
                <a:gd name="textAreaBottom" fmla="*/ 3138480 h 3138120"/>
              </a:gdLst>
              <a:ahLst/>
              <a:rect l="textAreaLeft" t="textAreaTop" r="textAreaRight" b="textAreaBottom"/>
              <a:pathLst>
                <a:path w="886" h="1977">
                  <a:moveTo>
                    <a:pt x="885" y="212"/>
                  </a:moveTo>
                  <a:lnTo>
                    <a:pt x="759" y="337"/>
                  </a:lnTo>
                  <a:lnTo>
                    <a:pt x="606" y="536"/>
                  </a:lnTo>
                  <a:lnTo>
                    <a:pt x="529" y="789"/>
                  </a:lnTo>
                  <a:lnTo>
                    <a:pt x="404" y="1084"/>
                  </a:lnTo>
                  <a:lnTo>
                    <a:pt x="327" y="1341"/>
                  </a:lnTo>
                  <a:lnTo>
                    <a:pt x="247" y="1474"/>
                  </a:lnTo>
                  <a:lnTo>
                    <a:pt x="165" y="1608"/>
                  </a:lnTo>
                  <a:lnTo>
                    <a:pt x="150" y="1708"/>
                  </a:lnTo>
                  <a:lnTo>
                    <a:pt x="89" y="1859"/>
                  </a:lnTo>
                  <a:lnTo>
                    <a:pt x="61" y="1976"/>
                  </a:lnTo>
                  <a:lnTo>
                    <a:pt x="40" y="1902"/>
                  </a:lnTo>
                  <a:lnTo>
                    <a:pt x="7" y="1840"/>
                  </a:lnTo>
                  <a:lnTo>
                    <a:pt x="0" y="1758"/>
                  </a:lnTo>
                  <a:lnTo>
                    <a:pt x="28" y="1701"/>
                  </a:lnTo>
                  <a:lnTo>
                    <a:pt x="57" y="1648"/>
                  </a:lnTo>
                  <a:lnTo>
                    <a:pt x="83" y="1530"/>
                  </a:lnTo>
                  <a:lnTo>
                    <a:pt x="123" y="1464"/>
                  </a:lnTo>
                  <a:lnTo>
                    <a:pt x="144" y="1381"/>
                  </a:lnTo>
                  <a:lnTo>
                    <a:pt x="186" y="1314"/>
                  </a:lnTo>
                  <a:lnTo>
                    <a:pt x="209" y="1237"/>
                  </a:lnTo>
                  <a:lnTo>
                    <a:pt x="230" y="1153"/>
                  </a:lnTo>
                  <a:lnTo>
                    <a:pt x="258" y="1097"/>
                  </a:lnTo>
                  <a:lnTo>
                    <a:pt x="287" y="1040"/>
                  </a:lnTo>
                  <a:lnTo>
                    <a:pt x="321" y="948"/>
                  </a:lnTo>
                  <a:lnTo>
                    <a:pt x="350" y="891"/>
                  </a:lnTo>
                  <a:lnTo>
                    <a:pt x="377" y="834"/>
                  </a:lnTo>
                  <a:lnTo>
                    <a:pt x="400" y="755"/>
                  </a:lnTo>
                  <a:lnTo>
                    <a:pt x="428" y="695"/>
                  </a:lnTo>
                  <a:lnTo>
                    <a:pt x="457" y="643"/>
                  </a:lnTo>
                  <a:lnTo>
                    <a:pt x="492" y="551"/>
                  </a:lnTo>
                  <a:lnTo>
                    <a:pt x="520" y="495"/>
                  </a:lnTo>
                  <a:lnTo>
                    <a:pt x="549" y="438"/>
                  </a:lnTo>
                  <a:lnTo>
                    <a:pt x="584" y="403"/>
                  </a:lnTo>
                  <a:lnTo>
                    <a:pt x="612" y="348"/>
                  </a:lnTo>
                  <a:lnTo>
                    <a:pt x="641" y="291"/>
                  </a:lnTo>
                  <a:lnTo>
                    <a:pt x="713" y="227"/>
                  </a:lnTo>
                  <a:lnTo>
                    <a:pt x="741" y="172"/>
                  </a:lnTo>
                  <a:lnTo>
                    <a:pt x="770" y="115"/>
                  </a:lnTo>
                  <a:lnTo>
                    <a:pt x="799" y="59"/>
                  </a:lnTo>
                  <a:lnTo>
                    <a:pt x="828" y="0"/>
                  </a:lnTo>
                  <a:lnTo>
                    <a:pt x="860" y="63"/>
                  </a:lnTo>
                  <a:lnTo>
                    <a:pt x="885" y="212"/>
                  </a:lnTo>
                  <a:lnTo>
                    <a:pt x="885" y="212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8"/>
            <p:cNvSpPr/>
            <p:nvPr/>
          </p:nvSpPr>
          <p:spPr>
            <a:xfrm>
              <a:off x="2682720" y="2849400"/>
              <a:ext cx="1418760" cy="3018960"/>
            </a:xfrm>
            <a:custGeom>
              <a:avLst/>
              <a:gdLst>
                <a:gd name="textAreaLeft" fmla="*/ 0 w 1418760"/>
                <a:gd name="textAreaRight" fmla="*/ 1419120 w 1418760"/>
                <a:gd name="textAreaTop" fmla="*/ 0 h 3018960"/>
                <a:gd name="textAreaBottom" fmla="*/ 3019320 h 3018960"/>
              </a:gdLst>
              <a:ahLst/>
              <a:rect l="textAreaLeft" t="textAreaTop" r="textAreaRight" b="textAreaBottom"/>
              <a:pathLst>
                <a:path w="894" h="1902">
                  <a:moveTo>
                    <a:pt x="893" y="201"/>
                  </a:moveTo>
                  <a:lnTo>
                    <a:pt x="767" y="322"/>
                  </a:lnTo>
                  <a:lnTo>
                    <a:pt x="612" y="515"/>
                  </a:lnTo>
                  <a:lnTo>
                    <a:pt x="534" y="758"/>
                  </a:lnTo>
                  <a:lnTo>
                    <a:pt x="407" y="1041"/>
                  </a:lnTo>
                  <a:lnTo>
                    <a:pt x="330" y="1288"/>
                  </a:lnTo>
                  <a:lnTo>
                    <a:pt x="249" y="1417"/>
                  </a:lnTo>
                  <a:lnTo>
                    <a:pt x="166" y="1547"/>
                  </a:lnTo>
                  <a:lnTo>
                    <a:pt x="151" y="1645"/>
                  </a:lnTo>
                  <a:lnTo>
                    <a:pt x="88" y="1788"/>
                  </a:lnTo>
                  <a:lnTo>
                    <a:pt x="60" y="1901"/>
                  </a:lnTo>
                  <a:lnTo>
                    <a:pt x="40" y="1830"/>
                  </a:lnTo>
                  <a:lnTo>
                    <a:pt x="7" y="1771"/>
                  </a:lnTo>
                  <a:lnTo>
                    <a:pt x="0" y="1692"/>
                  </a:lnTo>
                  <a:lnTo>
                    <a:pt x="28" y="1637"/>
                  </a:lnTo>
                  <a:lnTo>
                    <a:pt x="57" y="1584"/>
                  </a:lnTo>
                  <a:lnTo>
                    <a:pt x="85" y="1471"/>
                  </a:lnTo>
                  <a:lnTo>
                    <a:pt x="124" y="1408"/>
                  </a:lnTo>
                  <a:lnTo>
                    <a:pt x="145" y="1327"/>
                  </a:lnTo>
                  <a:lnTo>
                    <a:pt x="188" y="1264"/>
                  </a:lnTo>
                  <a:lnTo>
                    <a:pt x="210" y="1190"/>
                  </a:lnTo>
                  <a:lnTo>
                    <a:pt x="231" y="1110"/>
                  </a:lnTo>
                  <a:lnTo>
                    <a:pt x="260" y="1055"/>
                  </a:lnTo>
                  <a:lnTo>
                    <a:pt x="290" y="1000"/>
                  </a:lnTo>
                  <a:lnTo>
                    <a:pt x="324" y="912"/>
                  </a:lnTo>
                  <a:lnTo>
                    <a:pt x="353" y="856"/>
                  </a:lnTo>
                  <a:lnTo>
                    <a:pt x="381" y="803"/>
                  </a:lnTo>
                  <a:lnTo>
                    <a:pt x="404" y="725"/>
                  </a:lnTo>
                  <a:lnTo>
                    <a:pt x="432" y="669"/>
                  </a:lnTo>
                  <a:lnTo>
                    <a:pt x="462" y="618"/>
                  </a:lnTo>
                  <a:lnTo>
                    <a:pt x="497" y="530"/>
                  </a:lnTo>
                  <a:lnTo>
                    <a:pt x="524" y="475"/>
                  </a:lnTo>
                  <a:lnTo>
                    <a:pt x="554" y="420"/>
                  </a:lnTo>
                  <a:lnTo>
                    <a:pt x="591" y="388"/>
                  </a:lnTo>
                  <a:lnTo>
                    <a:pt x="618" y="335"/>
                  </a:lnTo>
                  <a:lnTo>
                    <a:pt x="647" y="278"/>
                  </a:lnTo>
                  <a:lnTo>
                    <a:pt x="720" y="217"/>
                  </a:lnTo>
                  <a:lnTo>
                    <a:pt x="747" y="165"/>
                  </a:lnTo>
                  <a:lnTo>
                    <a:pt x="777" y="108"/>
                  </a:lnTo>
                  <a:lnTo>
                    <a:pt x="807" y="54"/>
                  </a:lnTo>
                  <a:lnTo>
                    <a:pt x="836" y="0"/>
                  </a:lnTo>
                  <a:lnTo>
                    <a:pt x="868" y="59"/>
                  </a:lnTo>
                  <a:lnTo>
                    <a:pt x="893" y="201"/>
                  </a:lnTo>
                  <a:lnTo>
                    <a:pt x="893" y="201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9"/>
            <p:cNvSpPr/>
            <p:nvPr/>
          </p:nvSpPr>
          <p:spPr>
            <a:xfrm>
              <a:off x="2489040" y="1805040"/>
              <a:ext cx="1404720" cy="3134880"/>
            </a:xfrm>
            <a:custGeom>
              <a:avLst/>
              <a:gdLst>
                <a:gd name="textAreaLeft" fmla="*/ 0 w 1404720"/>
                <a:gd name="textAreaRight" fmla="*/ 1405080 w 1404720"/>
                <a:gd name="textAreaTop" fmla="*/ 0 h 3134880"/>
                <a:gd name="textAreaBottom" fmla="*/ 3135240 h 3134880"/>
              </a:gdLst>
              <a:ahLst/>
              <a:rect l="textAreaLeft" t="textAreaTop" r="textAreaRight" b="textAreaBottom"/>
              <a:pathLst>
                <a:path w="885" h="1975">
                  <a:moveTo>
                    <a:pt x="884" y="211"/>
                  </a:moveTo>
                  <a:lnTo>
                    <a:pt x="758" y="335"/>
                  </a:lnTo>
                  <a:lnTo>
                    <a:pt x="606" y="535"/>
                  </a:lnTo>
                  <a:lnTo>
                    <a:pt x="528" y="788"/>
                  </a:lnTo>
                  <a:lnTo>
                    <a:pt x="404" y="1083"/>
                  </a:lnTo>
                  <a:lnTo>
                    <a:pt x="327" y="1339"/>
                  </a:lnTo>
                  <a:lnTo>
                    <a:pt x="247" y="1472"/>
                  </a:lnTo>
                  <a:lnTo>
                    <a:pt x="165" y="1606"/>
                  </a:lnTo>
                  <a:lnTo>
                    <a:pt x="150" y="1708"/>
                  </a:lnTo>
                  <a:lnTo>
                    <a:pt x="89" y="1857"/>
                  </a:lnTo>
                  <a:lnTo>
                    <a:pt x="60" y="1974"/>
                  </a:lnTo>
                  <a:lnTo>
                    <a:pt x="41" y="1901"/>
                  </a:lnTo>
                  <a:lnTo>
                    <a:pt x="7" y="1838"/>
                  </a:lnTo>
                  <a:lnTo>
                    <a:pt x="0" y="1756"/>
                  </a:lnTo>
                  <a:lnTo>
                    <a:pt x="28" y="1699"/>
                  </a:lnTo>
                  <a:lnTo>
                    <a:pt x="57" y="1646"/>
                  </a:lnTo>
                  <a:lnTo>
                    <a:pt x="83" y="1529"/>
                  </a:lnTo>
                  <a:lnTo>
                    <a:pt x="123" y="1462"/>
                  </a:lnTo>
                  <a:lnTo>
                    <a:pt x="145" y="1379"/>
                  </a:lnTo>
                  <a:lnTo>
                    <a:pt x="186" y="1312"/>
                  </a:lnTo>
                  <a:lnTo>
                    <a:pt x="208" y="1235"/>
                  </a:lnTo>
                  <a:lnTo>
                    <a:pt x="230" y="1152"/>
                  </a:lnTo>
                  <a:lnTo>
                    <a:pt x="258" y="1097"/>
                  </a:lnTo>
                  <a:lnTo>
                    <a:pt x="287" y="1040"/>
                  </a:lnTo>
                  <a:lnTo>
                    <a:pt x="321" y="948"/>
                  </a:lnTo>
                  <a:lnTo>
                    <a:pt x="350" y="890"/>
                  </a:lnTo>
                  <a:lnTo>
                    <a:pt x="377" y="834"/>
                  </a:lnTo>
                  <a:lnTo>
                    <a:pt x="399" y="753"/>
                  </a:lnTo>
                  <a:lnTo>
                    <a:pt x="427" y="695"/>
                  </a:lnTo>
                  <a:lnTo>
                    <a:pt x="457" y="643"/>
                  </a:lnTo>
                  <a:lnTo>
                    <a:pt x="492" y="551"/>
                  </a:lnTo>
                  <a:lnTo>
                    <a:pt x="519" y="495"/>
                  </a:lnTo>
                  <a:lnTo>
                    <a:pt x="549" y="437"/>
                  </a:lnTo>
                  <a:lnTo>
                    <a:pt x="583" y="403"/>
                  </a:lnTo>
                  <a:lnTo>
                    <a:pt x="611" y="347"/>
                  </a:lnTo>
                  <a:lnTo>
                    <a:pt x="640" y="291"/>
                  </a:lnTo>
                  <a:lnTo>
                    <a:pt x="712" y="225"/>
                  </a:lnTo>
                  <a:lnTo>
                    <a:pt x="740" y="172"/>
                  </a:lnTo>
                  <a:lnTo>
                    <a:pt x="769" y="114"/>
                  </a:lnTo>
                  <a:lnTo>
                    <a:pt x="798" y="58"/>
                  </a:lnTo>
                  <a:lnTo>
                    <a:pt x="827" y="0"/>
                  </a:lnTo>
                  <a:lnTo>
                    <a:pt x="859" y="63"/>
                  </a:lnTo>
                  <a:lnTo>
                    <a:pt x="884" y="211"/>
                  </a:lnTo>
                  <a:lnTo>
                    <a:pt x="884" y="211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10"/>
            <p:cNvSpPr/>
            <p:nvPr/>
          </p:nvSpPr>
          <p:spPr>
            <a:xfrm>
              <a:off x="2873520" y="1585800"/>
              <a:ext cx="1114200" cy="3320640"/>
            </a:xfrm>
            <a:custGeom>
              <a:avLst/>
              <a:gdLst>
                <a:gd name="textAreaLeft" fmla="*/ 0 w 1114200"/>
                <a:gd name="textAreaRight" fmla="*/ 1114560 w 1114200"/>
                <a:gd name="textAreaTop" fmla="*/ 0 h 3320640"/>
                <a:gd name="textAreaBottom" fmla="*/ 3321000 h 3320640"/>
              </a:gdLst>
              <a:ahLst/>
              <a:rect l="textAreaLeft" t="textAreaTop" r="textAreaRight" b="textAreaBottom"/>
              <a:pathLst>
                <a:path w="702" h="2092">
                  <a:moveTo>
                    <a:pt x="569" y="2072"/>
                  </a:moveTo>
                  <a:lnTo>
                    <a:pt x="555" y="1819"/>
                  </a:lnTo>
                  <a:lnTo>
                    <a:pt x="515" y="1492"/>
                  </a:lnTo>
                  <a:lnTo>
                    <a:pt x="417" y="1267"/>
                  </a:lnTo>
                  <a:lnTo>
                    <a:pt x="317" y="945"/>
                  </a:lnTo>
                  <a:lnTo>
                    <a:pt x="218" y="718"/>
                  </a:lnTo>
                  <a:lnTo>
                    <a:pt x="182" y="534"/>
                  </a:lnTo>
                  <a:lnTo>
                    <a:pt x="147" y="348"/>
                  </a:lnTo>
                  <a:lnTo>
                    <a:pt x="99" y="282"/>
                  </a:lnTo>
                  <a:lnTo>
                    <a:pt x="48" y="120"/>
                  </a:lnTo>
                  <a:lnTo>
                    <a:pt x="0" y="32"/>
                  </a:lnTo>
                  <a:lnTo>
                    <a:pt x="47" y="28"/>
                  </a:lnTo>
                  <a:lnTo>
                    <a:pt x="92" y="0"/>
                  </a:lnTo>
                  <a:lnTo>
                    <a:pt x="137" y="18"/>
                  </a:lnTo>
                  <a:lnTo>
                    <a:pt x="154" y="86"/>
                  </a:lnTo>
                  <a:lnTo>
                    <a:pt x="171" y="157"/>
                  </a:lnTo>
                  <a:lnTo>
                    <a:pt x="221" y="246"/>
                  </a:lnTo>
                  <a:lnTo>
                    <a:pt x="238" y="338"/>
                  </a:lnTo>
                  <a:lnTo>
                    <a:pt x="271" y="405"/>
                  </a:lnTo>
                  <a:lnTo>
                    <a:pt x="290" y="500"/>
                  </a:lnTo>
                  <a:lnTo>
                    <a:pt x="320" y="565"/>
                  </a:lnTo>
                  <a:lnTo>
                    <a:pt x="354" y="634"/>
                  </a:lnTo>
                  <a:lnTo>
                    <a:pt x="371" y="704"/>
                  </a:lnTo>
                  <a:lnTo>
                    <a:pt x="388" y="774"/>
                  </a:lnTo>
                  <a:lnTo>
                    <a:pt x="421" y="862"/>
                  </a:lnTo>
                  <a:lnTo>
                    <a:pt x="439" y="934"/>
                  </a:lnTo>
                  <a:lnTo>
                    <a:pt x="456" y="1002"/>
                  </a:lnTo>
                  <a:lnTo>
                    <a:pt x="489" y="1068"/>
                  </a:lnTo>
                  <a:lnTo>
                    <a:pt x="506" y="1139"/>
                  </a:lnTo>
                  <a:lnTo>
                    <a:pt x="522" y="1207"/>
                  </a:lnTo>
                  <a:lnTo>
                    <a:pt x="555" y="1300"/>
                  </a:lnTo>
                  <a:lnTo>
                    <a:pt x="573" y="1368"/>
                  </a:lnTo>
                  <a:lnTo>
                    <a:pt x="590" y="1437"/>
                  </a:lnTo>
                  <a:lnTo>
                    <a:pt x="592" y="1508"/>
                  </a:lnTo>
                  <a:lnTo>
                    <a:pt x="609" y="1576"/>
                  </a:lnTo>
                  <a:lnTo>
                    <a:pt x="627" y="1646"/>
                  </a:lnTo>
                  <a:lnTo>
                    <a:pt x="631" y="1788"/>
                  </a:lnTo>
                  <a:lnTo>
                    <a:pt x="649" y="1856"/>
                  </a:lnTo>
                  <a:lnTo>
                    <a:pt x="665" y="1925"/>
                  </a:lnTo>
                  <a:lnTo>
                    <a:pt x="683" y="1995"/>
                  </a:lnTo>
                  <a:lnTo>
                    <a:pt x="701" y="2064"/>
                  </a:lnTo>
                  <a:lnTo>
                    <a:pt x="655" y="2091"/>
                  </a:lnTo>
                  <a:lnTo>
                    <a:pt x="569" y="2072"/>
                  </a:lnTo>
                  <a:lnTo>
                    <a:pt x="569" y="2072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1"/>
            <p:cNvSpPr/>
            <p:nvPr/>
          </p:nvSpPr>
          <p:spPr>
            <a:xfrm>
              <a:off x="2286000" y="2066760"/>
              <a:ext cx="1112400" cy="332532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3325320"/>
                <a:gd name="textAreaBottom" fmla="*/ 3325680 h 3325320"/>
              </a:gdLst>
              <a:ahLst/>
              <a:rect l="textAreaLeft" t="textAreaTop" r="textAreaRight" b="textAreaBottom"/>
              <a:pathLst>
                <a:path w="701" h="2095">
                  <a:moveTo>
                    <a:pt x="568" y="2075"/>
                  </a:moveTo>
                  <a:lnTo>
                    <a:pt x="554" y="1823"/>
                  </a:lnTo>
                  <a:lnTo>
                    <a:pt x="515" y="1495"/>
                  </a:lnTo>
                  <a:lnTo>
                    <a:pt x="416" y="1268"/>
                  </a:lnTo>
                  <a:lnTo>
                    <a:pt x="317" y="947"/>
                  </a:lnTo>
                  <a:lnTo>
                    <a:pt x="218" y="720"/>
                  </a:lnTo>
                  <a:lnTo>
                    <a:pt x="182" y="535"/>
                  </a:lnTo>
                  <a:lnTo>
                    <a:pt x="146" y="349"/>
                  </a:lnTo>
                  <a:lnTo>
                    <a:pt x="99" y="284"/>
                  </a:lnTo>
                  <a:lnTo>
                    <a:pt x="48" y="121"/>
                  </a:lnTo>
                  <a:lnTo>
                    <a:pt x="0" y="33"/>
                  </a:lnTo>
                  <a:lnTo>
                    <a:pt x="47" y="29"/>
                  </a:lnTo>
                  <a:lnTo>
                    <a:pt x="91" y="0"/>
                  </a:lnTo>
                  <a:lnTo>
                    <a:pt x="137" y="19"/>
                  </a:lnTo>
                  <a:lnTo>
                    <a:pt x="154" y="86"/>
                  </a:lnTo>
                  <a:lnTo>
                    <a:pt x="171" y="157"/>
                  </a:lnTo>
                  <a:lnTo>
                    <a:pt x="220" y="247"/>
                  </a:lnTo>
                  <a:lnTo>
                    <a:pt x="239" y="340"/>
                  </a:lnTo>
                  <a:lnTo>
                    <a:pt x="271" y="407"/>
                  </a:lnTo>
                  <a:lnTo>
                    <a:pt x="289" y="500"/>
                  </a:lnTo>
                  <a:lnTo>
                    <a:pt x="320" y="566"/>
                  </a:lnTo>
                  <a:lnTo>
                    <a:pt x="353" y="634"/>
                  </a:lnTo>
                  <a:lnTo>
                    <a:pt x="370" y="705"/>
                  </a:lnTo>
                  <a:lnTo>
                    <a:pt x="388" y="775"/>
                  </a:lnTo>
                  <a:lnTo>
                    <a:pt x="422" y="864"/>
                  </a:lnTo>
                  <a:lnTo>
                    <a:pt x="438" y="935"/>
                  </a:lnTo>
                  <a:lnTo>
                    <a:pt x="456" y="1004"/>
                  </a:lnTo>
                  <a:lnTo>
                    <a:pt x="488" y="1070"/>
                  </a:lnTo>
                  <a:lnTo>
                    <a:pt x="506" y="1141"/>
                  </a:lnTo>
                  <a:lnTo>
                    <a:pt x="522" y="1210"/>
                  </a:lnTo>
                  <a:lnTo>
                    <a:pt x="555" y="1301"/>
                  </a:lnTo>
                  <a:lnTo>
                    <a:pt x="572" y="1369"/>
                  </a:lnTo>
                  <a:lnTo>
                    <a:pt x="590" y="1440"/>
                  </a:lnTo>
                  <a:lnTo>
                    <a:pt x="592" y="1511"/>
                  </a:lnTo>
                  <a:lnTo>
                    <a:pt x="608" y="1578"/>
                  </a:lnTo>
                  <a:lnTo>
                    <a:pt x="626" y="1648"/>
                  </a:lnTo>
                  <a:lnTo>
                    <a:pt x="630" y="1789"/>
                  </a:lnTo>
                  <a:lnTo>
                    <a:pt x="648" y="1858"/>
                  </a:lnTo>
                  <a:lnTo>
                    <a:pt x="665" y="1928"/>
                  </a:lnTo>
                  <a:lnTo>
                    <a:pt x="682" y="1999"/>
                  </a:lnTo>
                  <a:lnTo>
                    <a:pt x="700" y="2069"/>
                  </a:lnTo>
                  <a:lnTo>
                    <a:pt x="654" y="2094"/>
                  </a:lnTo>
                  <a:lnTo>
                    <a:pt x="568" y="2075"/>
                  </a:lnTo>
                  <a:lnTo>
                    <a:pt x="568" y="2075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2"/>
            <p:cNvSpPr/>
            <p:nvPr/>
          </p:nvSpPr>
          <p:spPr>
            <a:xfrm>
              <a:off x="2400480" y="1843200"/>
              <a:ext cx="1112400" cy="332244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3322440"/>
                <a:gd name="textAreaBottom" fmla="*/ 3322800 h 3322440"/>
              </a:gdLst>
              <a:ahLst/>
              <a:rect l="textAreaLeft" t="textAreaTop" r="textAreaRight" b="textAreaBottom"/>
              <a:pathLst>
                <a:path w="701" h="2093">
                  <a:moveTo>
                    <a:pt x="568" y="2073"/>
                  </a:moveTo>
                  <a:lnTo>
                    <a:pt x="554" y="1821"/>
                  </a:lnTo>
                  <a:lnTo>
                    <a:pt x="515" y="1493"/>
                  </a:lnTo>
                  <a:lnTo>
                    <a:pt x="417" y="1267"/>
                  </a:lnTo>
                  <a:lnTo>
                    <a:pt x="316" y="946"/>
                  </a:lnTo>
                  <a:lnTo>
                    <a:pt x="217" y="720"/>
                  </a:lnTo>
                  <a:lnTo>
                    <a:pt x="182" y="535"/>
                  </a:lnTo>
                  <a:lnTo>
                    <a:pt x="146" y="347"/>
                  </a:lnTo>
                  <a:lnTo>
                    <a:pt x="99" y="281"/>
                  </a:lnTo>
                  <a:lnTo>
                    <a:pt x="47" y="121"/>
                  </a:lnTo>
                  <a:lnTo>
                    <a:pt x="0" y="32"/>
                  </a:lnTo>
                  <a:lnTo>
                    <a:pt x="45" y="27"/>
                  </a:lnTo>
                  <a:lnTo>
                    <a:pt x="91" y="0"/>
                  </a:lnTo>
                  <a:lnTo>
                    <a:pt x="136" y="18"/>
                  </a:lnTo>
                  <a:lnTo>
                    <a:pt x="154" y="86"/>
                  </a:lnTo>
                  <a:lnTo>
                    <a:pt x="171" y="155"/>
                  </a:lnTo>
                  <a:lnTo>
                    <a:pt x="220" y="248"/>
                  </a:lnTo>
                  <a:lnTo>
                    <a:pt x="238" y="338"/>
                  </a:lnTo>
                  <a:lnTo>
                    <a:pt x="270" y="407"/>
                  </a:lnTo>
                  <a:lnTo>
                    <a:pt x="289" y="500"/>
                  </a:lnTo>
                  <a:lnTo>
                    <a:pt x="320" y="566"/>
                  </a:lnTo>
                  <a:lnTo>
                    <a:pt x="353" y="634"/>
                  </a:lnTo>
                  <a:lnTo>
                    <a:pt x="371" y="703"/>
                  </a:lnTo>
                  <a:lnTo>
                    <a:pt x="387" y="774"/>
                  </a:lnTo>
                  <a:lnTo>
                    <a:pt x="421" y="864"/>
                  </a:lnTo>
                  <a:lnTo>
                    <a:pt x="438" y="932"/>
                  </a:lnTo>
                  <a:lnTo>
                    <a:pt x="455" y="1003"/>
                  </a:lnTo>
                  <a:lnTo>
                    <a:pt x="488" y="1068"/>
                  </a:lnTo>
                  <a:lnTo>
                    <a:pt x="505" y="1139"/>
                  </a:lnTo>
                  <a:lnTo>
                    <a:pt x="522" y="1209"/>
                  </a:lnTo>
                  <a:lnTo>
                    <a:pt x="555" y="1301"/>
                  </a:lnTo>
                  <a:lnTo>
                    <a:pt x="572" y="1368"/>
                  </a:lnTo>
                  <a:lnTo>
                    <a:pt x="589" y="1438"/>
                  </a:lnTo>
                  <a:lnTo>
                    <a:pt x="592" y="1509"/>
                  </a:lnTo>
                  <a:lnTo>
                    <a:pt x="609" y="1576"/>
                  </a:lnTo>
                  <a:lnTo>
                    <a:pt x="626" y="1646"/>
                  </a:lnTo>
                  <a:lnTo>
                    <a:pt x="631" y="1789"/>
                  </a:lnTo>
                  <a:lnTo>
                    <a:pt x="648" y="1857"/>
                  </a:lnTo>
                  <a:lnTo>
                    <a:pt x="665" y="1926"/>
                  </a:lnTo>
                  <a:lnTo>
                    <a:pt x="682" y="1996"/>
                  </a:lnTo>
                  <a:lnTo>
                    <a:pt x="700" y="2065"/>
                  </a:lnTo>
                  <a:lnTo>
                    <a:pt x="654" y="2092"/>
                  </a:lnTo>
                  <a:lnTo>
                    <a:pt x="568" y="2073"/>
                  </a:lnTo>
                  <a:lnTo>
                    <a:pt x="568" y="2073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3"/>
            <p:cNvSpPr/>
            <p:nvPr/>
          </p:nvSpPr>
          <p:spPr>
            <a:xfrm>
              <a:off x="2424240" y="2698920"/>
              <a:ext cx="801360" cy="292392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2923920"/>
                <a:gd name="textAreaBottom" fmla="*/ 2924280 h 2923920"/>
              </a:gdLst>
              <a:ahLst/>
              <a:rect l="textAreaLeft" t="textAreaTop" r="textAreaRight" b="textAreaBottom"/>
              <a:pathLst>
                <a:path w="505" h="1842">
                  <a:moveTo>
                    <a:pt x="410" y="1822"/>
                  </a:moveTo>
                  <a:lnTo>
                    <a:pt x="399" y="1601"/>
                  </a:lnTo>
                  <a:lnTo>
                    <a:pt x="371" y="1313"/>
                  </a:lnTo>
                  <a:lnTo>
                    <a:pt x="300" y="1113"/>
                  </a:lnTo>
                  <a:lnTo>
                    <a:pt x="228" y="831"/>
                  </a:lnTo>
                  <a:lnTo>
                    <a:pt x="157" y="630"/>
                  </a:lnTo>
                  <a:lnTo>
                    <a:pt x="131" y="469"/>
                  </a:lnTo>
                  <a:lnTo>
                    <a:pt x="104" y="305"/>
                  </a:lnTo>
                  <a:lnTo>
                    <a:pt x="71" y="248"/>
                  </a:lnTo>
                  <a:lnTo>
                    <a:pt x="34" y="105"/>
                  </a:lnTo>
                  <a:lnTo>
                    <a:pt x="0" y="27"/>
                  </a:lnTo>
                  <a:lnTo>
                    <a:pt x="32" y="23"/>
                  </a:lnTo>
                  <a:lnTo>
                    <a:pt x="64" y="0"/>
                  </a:lnTo>
                  <a:lnTo>
                    <a:pt x="96" y="18"/>
                  </a:lnTo>
                  <a:lnTo>
                    <a:pt x="110" y="76"/>
                  </a:lnTo>
                  <a:lnTo>
                    <a:pt x="121" y="139"/>
                  </a:lnTo>
                  <a:lnTo>
                    <a:pt x="156" y="218"/>
                  </a:lnTo>
                  <a:lnTo>
                    <a:pt x="169" y="299"/>
                  </a:lnTo>
                  <a:lnTo>
                    <a:pt x="192" y="358"/>
                  </a:lnTo>
                  <a:lnTo>
                    <a:pt x="206" y="440"/>
                  </a:lnTo>
                  <a:lnTo>
                    <a:pt x="228" y="499"/>
                  </a:lnTo>
                  <a:lnTo>
                    <a:pt x="252" y="559"/>
                  </a:lnTo>
                  <a:lnTo>
                    <a:pt x="265" y="620"/>
                  </a:lnTo>
                  <a:lnTo>
                    <a:pt x="277" y="682"/>
                  </a:lnTo>
                  <a:lnTo>
                    <a:pt x="301" y="760"/>
                  </a:lnTo>
                  <a:lnTo>
                    <a:pt x="314" y="823"/>
                  </a:lnTo>
                  <a:lnTo>
                    <a:pt x="325" y="885"/>
                  </a:lnTo>
                  <a:lnTo>
                    <a:pt x="349" y="943"/>
                  </a:lnTo>
                  <a:lnTo>
                    <a:pt x="362" y="1003"/>
                  </a:lnTo>
                  <a:lnTo>
                    <a:pt x="374" y="1065"/>
                  </a:lnTo>
                  <a:lnTo>
                    <a:pt x="398" y="1145"/>
                  </a:lnTo>
                  <a:lnTo>
                    <a:pt x="410" y="1205"/>
                  </a:lnTo>
                  <a:lnTo>
                    <a:pt x="423" y="1267"/>
                  </a:lnTo>
                  <a:lnTo>
                    <a:pt x="424" y="1330"/>
                  </a:lnTo>
                  <a:lnTo>
                    <a:pt x="437" y="1389"/>
                  </a:lnTo>
                  <a:lnTo>
                    <a:pt x="450" y="1449"/>
                  </a:lnTo>
                  <a:lnTo>
                    <a:pt x="453" y="1575"/>
                  </a:lnTo>
                  <a:lnTo>
                    <a:pt x="465" y="1633"/>
                  </a:lnTo>
                  <a:lnTo>
                    <a:pt x="478" y="1695"/>
                  </a:lnTo>
                  <a:lnTo>
                    <a:pt x="490" y="1756"/>
                  </a:lnTo>
                  <a:lnTo>
                    <a:pt x="504" y="1818"/>
                  </a:lnTo>
                  <a:lnTo>
                    <a:pt x="471" y="1841"/>
                  </a:lnTo>
                  <a:lnTo>
                    <a:pt x="410" y="1822"/>
                  </a:lnTo>
                  <a:lnTo>
                    <a:pt x="410" y="1822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4"/>
            <p:cNvSpPr/>
            <p:nvPr/>
          </p:nvSpPr>
          <p:spPr>
            <a:xfrm>
              <a:off x="3114720" y="1565280"/>
              <a:ext cx="796680" cy="292068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2920680"/>
                <a:gd name="textAreaBottom" fmla="*/ 2921040 h 2920680"/>
              </a:gdLst>
              <a:ahLst/>
              <a:rect l="textAreaLeft" t="textAreaTop" r="textAreaRight" b="textAreaBottom"/>
              <a:pathLst>
                <a:path w="502" h="1840">
                  <a:moveTo>
                    <a:pt x="408" y="1819"/>
                  </a:moveTo>
                  <a:lnTo>
                    <a:pt x="397" y="1599"/>
                  </a:lnTo>
                  <a:lnTo>
                    <a:pt x="369" y="1311"/>
                  </a:lnTo>
                  <a:lnTo>
                    <a:pt x="298" y="1113"/>
                  </a:lnTo>
                  <a:lnTo>
                    <a:pt x="226" y="830"/>
                  </a:lnTo>
                  <a:lnTo>
                    <a:pt x="156" y="630"/>
                  </a:lnTo>
                  <a:lnTo>
                    <a:pt x="130" y="469"/>
                  </a:lnTo>
                  <a:lnTo>
                    <a:pt x="103" y="304"/>
                  </a:lnTo>
                  <a:lnTo>
                    <a:pt x="70" y="246"/>
                  </a:lnTo>
                  <a:lnTo>
                    <a:pt x="34" y="104"/>
                  </a:lnTo>
                  <a:lnTo>
                    <a:pt x="0" y="26"/>
                  </a:lnTo>
                  <a:lnTo>
                    <a:pt x="32" y="23"/>
                  </a:lnTo>
                  <a:lnTo>
                    <a:pt x="64" y="0"/>
                  </a:lnTo>
                  <a:lnTo>
                    <a:pt x="96" y="18"/>
                  </a:lnTo>
                  <a:lnTo>
                    <a:pt x="108" y="76"/>
                  </a:lnTo>
                  <a:lnTo>
                    <a:pt x="121" y="137"/>
                  </a:lnTo>
                  <a:lnTo>
                    <a:pt x="155" y="217"/>
                  </a:lnTo>
                  <a:lnTo>
                    <a:pt x="169" y="299"/>
                  </a:lnTo>
                  <a:lnTo>
                    <a:pt x="191" y="358"/>
                  </a:lnTo>
                  <a:lnTo>
                    <a:pt x="204" y="440"/>
                  </a:lnTo>
                  <a:lnTo>
                    <a:pt x="227" y="498"/>
                  </a:lnTo>
                  <a:lnTo>
                    <a:pt x="251" y="559"/>
                  </a:lnTo>
                  <a:lnTo>
                    <a:pt x="262" y="619"/>
                  </a:lnTo>
                  <a:lnTo>
                    <a:pt x="275" y="682"/>
                  </a:lnTo>
                  <a:lnTo>
                    <a:pt x="299" y="760"/>
                  </a:lnTo>
                  <a:lnTo>
                    <a:pt x="311" y="822"/>
                  </a:lnTo>
                  <a:lnTo>
                    <a:pt x="324" y="883"/>
                  </a:lnTo>
                  <a:lnTo>
                    <a:pt x="347" y="941"/>
                  </a:lnTo>
                  <a:lnTo>
                    <a:pt x="361" y="1003"/>
                  </a:lnTo>
                  <a:lnTo>
                    <a:pt x="372" y="1063"/>
                  </a:lnTo>
                  <a:lnTo>
                    <a:pt x="396" y="1144"/>
                  </a:lnTo>
                  <a:lnTo>
                    <a:pt x="408" y="1204"/>
                  </a:lnTo>
                  <a:lnTo>
                    <a:pt x="421" y="1265"/>
                  </a:lnTo>
                  <a:lnTo>
                    <a:pt x="423" y="1327"/>
                  </a:lnTo>
                  <a:lnTo>
                    <a:pt x="435" y="1388"/>
                  </a:lnTo>
                  <a:lnTo>
                    <a:pt x="448" y="1449"/>
                  </a:lnTo>
                  <a:lnTo>
                    <a:pt x="451" y="1573"/>
                  </a:lnTo>
                  <a:lnTo>
                    <a:pt x="464" y="1634"/>
                  </a:lnTo>
                  <a:lnTo>
                    <a:pt x="476" y="1695"/>
                  </a:lnTo>
                  <a:lnTo>
                    <a:pt x="489" y="1755"/>
                  </a:lnTo>
                  <a:lnTo>
                    <a:pt x="501" y="1817"/>
                  </a:lnTo>
                  <a:lnTo>
                    <a:pt x="469" y="1839"/>
                  </a:lnTo>
                  <a:lnTo>
                    <a:pt x="408" y="1819"/>
                  </a:lnTo>
                  <a:lnTo>
                    <a:pt x="408" y="1819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5"/>
            <p:cNvSpPr/>
            <p:nvPr/>
          </p:nvSpPr>
          <p:spPr>
            <a:xfrm>
              <a:off x="3195720" y="1581120"/>
              <a:ext cx="879120" cy="2857320"/>
            </a:xfrm>
            <a:custGeom>
              <a:avLst/>
              <a:gdLst>
                <a:gd name="textAreaLeft" fmla="*/ 0 w 879120"/>
                <a:gd name="textAreaRight" fmla="*/ 879480 w 879120"/>
                <a:gd name="textAreaTop" fmla="*/ 0 h 2857320"/>
                <a:gd name="textAreaBottom" fmla="*/ 2857680 h 2857320"/>
              </a:gdLst>
              <a:ahLst/>
              <a:rect l="textAreaLeft" t="textAreaTop" r="textAreaRight" b="textAreaBottom"/>
              <a:pathLst>
                <a:path w="554" h="1800">
                  <a:moveTo>
                    <a:pt x="460" y="1787"/>
                  </a:moveTo>
                  <a:lnTo>
                    <a:pt x="443" y="1566"/>
                  </a:lnTo>
                  <a:lnTo>
                    <a:pt x="405" y="1283"/>
                  </a:lnTo>
                  <a:lnTo>
                    <a:pt x="330" y="1090"/>
                  </a:lnTo>
                  <a:lnTo>
                    <a:pt x="249" y="815"/>
                  </a:lnTo>
                  <a:lnTo>
                    <a:pt x="173" y="622"/>
                  </a:lnTo>
                  <a:lnTo>
                    <a:pt x="142" y="463"/>
                  </a:lnTo>
                  <a:lnTo>
                    <a:pt x="111" y="300"/>
                  </a:lnTo>
                  <a:lnTo>
                    <a:pt x="77" y="247"/>
                  </a:lnTo>
                  <a:lnTo>
                    <a:pt x="35" y="108"/>
                  </a:lnTo>
                  <a:lnTo>
                    <a:pt x="0" y="33"/>
                  </a:lnTo>
                  <a:lnTo>
                    <a:pt x="31" y="27"/>
                  </a:lnTo>
                  <a:lnTo>
                    <a:pt x="62" y="0"/>
                  </a:lnTo>
                  <a:lnTo>
                    <a:pt x="94" y="13"/>
                  </a:lnTo>
                  <a:lnTo>
                    <a:pt x="109" y="72"/>
                  </a:lnTo>
                  <a:lnTo>
                    <a:pt x="123" y="132"/>
                  </a:lnTo>
                  <a:lnTo>
                    <a:pt x="160" y="209"/>
                  </a:lnTo>
                  <a:lnTo>
                    <a:pt x="176" y="289"/>
                  </a:lnTo>
                  <a:lnTo>
                    <a:pt x="201" y="345"/>
                  </a:lnTo>
                  <a:lnTo>
                    <a:pt x="216" y="427"/>
                  </a:lnTo>
                  <a:lnTo>
                    <a:pt x="240" y="482"/>
                  </a:lnTo>
                  <a:lnTo>
                    <a:pt x="265" y="541"/>
                  </a:lnTo>
                  <a:lnTo>
                    <a:pt x="279" y="602"/>
                  </a:lnTo>
                  <a:lnTo>
                    <a:pt x="293" y="661"/>
                  </a:lnTo>
                  <a:lnTo>
                    <a:pt x="320" y="737"/>
                  </a:lnTo>
                  <a:lnTo>
                    <a:pt x="335" y="797"/>
                  </a:lnTo>
                  <a:lnTo>
                    <a:pt x="348" y="857"/>
                  </a:lnTo>
                  <a:lnTo>
                    <a:pt x="374" y="913"/>
                  </a:lnTo>
                  <a:lnTo>
                    <a:pt x="388" y="974"/>
                  </a:lnTo>
                  <a:lnTo>
                    <a:pt x="401" y="1034"/>
                  </a:lnTo>
                  <a:lnTo>
                    <a:pt x="428" y="1112"/>
                  </a:lnTo>
                  <a:lnTo>
                    <a:pt x="442" y="1172"/>
                  </a:lnTo>
                  <a:lnTo>
                    <a:pt x="456" y="1231"/>
                  </a:lnTo>
                  <a:lnTo>
                    <a:pt x="459" y="1293"/>
                  </a:lnTo>
                  <a:lnTo>
                    <a:pt x="473" y="1352"/>
                  </a:lnTo>
                  <a:lnTo>
                    <a:pt x="488" y="1411"/>
                  </a:lnTo>
                  <a:lnTo>
                    <a:pt x="495" y="1535"/>
                  </a:lnTo>
                  <a:lnTo>
                    <a:pt x="509" y="1595"/>
                  </a:lnTo>
                  <a:lnTo>
                    <a:pt x="524" y="1654"/>
                  </a:lnTo>
                  <a:lnTo>
                    <a:pt x="538" y="1715"/>
                  </a:lnTo>
                  <a:lnTo>
                    <a:pt x="553" y="1774"/>
                  </a:lnTo>
                  <a:lnTo>
                    <a:pt x="521" y="1799"/>
                  </a:lnTo>
                  <a:lnTo>
                    <a:pt x="460" y="1787"/>
                  </a:lnTo>
                  <a:lnTo>
                    <a:pt x="460" y="1787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6"/>
            <p:cNvSpPr/>
            <p:nvPr/>
          </p:nvSpPr>
          <p:spPr>
            <a:xfrm>
              <a:off x="3417840" y="1627200"/>
              <a:ext cx="698040" cy="253656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2536560"/>
                <a:gd name="textAreaBottom" fmla="*/ 2536920 h 2536560"/>
              </a:gdLst>
              <a:ahLst/>
              <a:rect l="textAreaLeft" t="textAreaTop" r="textAreaRight" b="textAreaBottom"/>
              <a:pathLst>
                <a:path w="440" h="1598">
                  <a:moveTo>
                    <a:pt x="378" y="1455"/>
                  </a:moveTo>
                  <a:lnTo>
                    <a:pt x="364" y="1373"/>
                  </a:lnTo>
                  <a:lnTo>
                    <a:pt x="353" y="1328"/>
                  </a:lnTo>
                  <a:lnTo>
                    <a:pt x="344" y="1284"/>
                  </a:lnTo>
                  <a:lnTo>
                    <a:pt x="334" y="1239"/>
                  </a:lnTo>
                  <a:lnTo>
                    <a:pt x="315" y="1196"/>
                  </a:lnTo>
                  <a:lnTo>
                    <a:pt x="305" y="1149"/>
                  </a:lnTo>
                  <a:lnTo>
                    <a:pt x="286" y="1091"/>
                  </a:lnTo>
                  <a:lnTo>
                    <a:pt x="277" y="1047"/>
                  </a:lnTo>
                  <a:lnTo>
                    <a:pt x="267" y="1001"/>
                  </a:lnTo>
                  <a:lnTo>
                    <a:pt x="257" y="957"/>
                  </a:lnTo>
                  <a:lnTo>
                    <a:pt x="248" y="913"/>
                  </a:lnTo>
                  <a:lnTo>
                    <a:pt x="229" y="869"/>
                  </a:lnTo>
                  <a:lnTo>
                    <a:pt x="227" y="822"/>
                  </a:lnTo>
                  <a:lnTo>
                    <a:pt x="217" y="763"/>
                  </a:lnTo>
                  <a:lnTo>
                    <a:pt x="207" y="717"/>
                  </a:lnTo>
                  <a:lnTo>
                    <a:pt x="197" y="672"/>
                  </a:lnTo>
                  <a:lnTo>
                    <a:pt x="196" y="627"/>
                  </a:lnTo>
                  <a:lnTo>
                    <a:pt x="169" y="569"/>
                  </a:lnTo>
                  <a:lnTo>
                    <a:pt x="150" y="524"/>
                  </a:lnTo>
                  <a:lnTo>
                    <a:pt x="132" y="481"/>
                  </a:lnTo>
                  <a:lnTo>
                    <a:pt x="122" y="436"/>
                  </a:lnTo>
                  <a:lnTo>
                    <a:pt x="95" y="378"/>
                  </a:lnTo>
                  <a:lnTo>
                    <a:pt x="85" y="332"/>
                  </a:lnTo>
                  <a:lnTo>
                    <a:pt x="66" y="290"/>
                  </a:lnTo>
                  <a:lnTo>
                    <a:pt x="48" y="245"/>
                  </a:lnTo>
                  <a:lnTo>
                    <a:pt x="38" y="201"/>
                  </a:lnTo>
                  <a:lnTo>
                    <a:pt x="19" y="156"/>
                  </a:lnTo>
                  <a:lnTo>
                    <a:pt x="10" y="112"/>
                  </a:lnTo>
                  <a:lnTo>
                    <a:pt x="0" y="67"/>
                  </a:lnTo>
                  <a:lnTo>
                    <a:pt x="24" y="18"/>
                  </a:lnTo>
                  <a:lnTo>
                    <a:pt x="50" y="0"/>
                  </a:lnTo>
                  <a:lnTo>
                    <a:pt x="76" y="44"/>
                  </a:lnTo>
                  <a:lnTo>
                    <a:pt x="95" y="89"/>
                  </a:lnTo>
                  <a:lnTo>
                    <a:pt x="114" y="132"/>
                  </a:lnTo>
                  <a:lnTo>
                    <a:pt x="124" y="176"/>
                  </a:lnTo>
                  <a:lnTo>
                    <a:pt x="151" y="235"/>
                  </a:lnTo>
                  <a:lnTo>
                    <a:pt x="178" y="294"/>
                  </a:lnTo>
                  <a:lnTo>
                    <a:pt x="196" y="352"/>
                  </a:lnTo>
                  <a:lnTo>
                    <a:pt x="207" y="397"/>
                  </a:lnTo>
                  <a:lnTo>
                    <a:pt x="227" y="457"/>
                  </a:lnTo>
                  <a:lnTo>
                    <a:pt x="245" y="501"/>
                  </a:lnTo>
                  <a:lnTo>
                    <a:pt x="255" y="544"/>
                  </a:lnTo>
                  <a:lnTo>
                    <a:pt x="272" y="589"/>
                  </a:lnTo>
                  <a:lnTo>
                    <a:pt x="291" y="632"/>
                  </a:lnTo>
                  <a:lnTo>
                    <a:pt x="301" y="693"/>
                  </a:lnTo>
                  <a:lnTo>
                    <a:pt x="311" y="739"/>
                  </a:lnTo>
                  <a:lnTo>
                    <a:pt x="330" y="781"/>
                  </a:lnTo>
                  <a:lnTo>
                    <a:pt x="331" y="827"/>
                  </a:lnTo>
                  <a:lnTo>
                    <a:pt x="350" y="887"/>
                  </a:lnTo>
                  <a:lnTo>
                    <a:pt x="362" y="991"/>
                  </a:lnTo>
                  <a:lnTo>
                    <a:pt x="372" y="1053"/>
                  </a:lnTo>
                  <a:lnTo>
                    <a:pt x="381" y="1098"/>
                  </a:lnTo>
                  <a:lnTo>
                    <a:pt x="391" y="1141"/>
                  </a:lnTo>
                  <a:lnTo>
                    <a:pt x="410" y="1186"/>
                  </a:lnTo>
                  <a:lnTo>
                    <a:pt x="428" y="1229"/>
                  </a:lnTo>
                  <a:lnTo>
                    <a:pt x="429" y="1276"/>
                  </a:lnTo>
                  <a:lnTo>
                    <a:pt x="431" y="1321"/>
                  </a:lnTo>
                  <a:lnTo>
                    <a:pt x="431" y="1367"/>
                  </a:lnTo>
                  <a:lnTo>
                    <a:pt x="433" y="1412"/>
                  </a:lnTo>
                  <a:lnTo>
                    <a:pt x="435" y="1459"/>
                  </a:lnTo>
                  <a:lnTo>
                    <a:pt x="436" y="1503"/>
                  </a:lnTo>
                  <a:lnTo>
                    <a:pt x="437" y="1549"/>
                  </a:lnTo>
                  <a:lnTo>
                    <a:pt x="439" y="1597"/>
                  </a:lnTo>
                  <a:lnTo>
                    <a:pt x="428" y="1551"/>
                  </a:lnTo>
                  <a:lnTo>
                    <a:pt x="418" y="1506"/>
                  </a:lnTo>
                  <a:lnTo>
                    <a:pt x="378" y="1455"/>
                  </a:lnTo>
                  <a:lnTo>
                    <a:pt x="378" y="1455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17"/>
            <p:cNvSpPr/>
            <p:nvPr/>
          </p:nvSpPr>
          <p:spPr>
            <a:xfrm>
              <a:off x="2381400" y="3116160"/>
              <a:ext cx="694800" cy="2533320"/>
            </a:xfrm>
            <a:custGeom>
              <a:avLst/>
              <a:gdLst>
                <a:gd name="textAreaLeft" fmla="*/ 0 w 694800"/>
                <a:gd name="textAreaRight" fmla="*/ 695160 w 694800"/>
                <a:gd name="textAreaTop" fmla="*/ 0 h 2533320"/>
                <a:gd name="textAreaBottom" fmla="*/ 2533680 h 2533320"/>
              </a:gdLst>
              <a:ahLst/>
              <a:rect l="textAreaLeft" t="textAreaTop" r="textAreaRight" b="textAreaBottom"/>
              <a:pathLst>
                <a:path w="438" h="1596">
                  <a:moveTo>
                    <a:pt x="376" y="1453"/>
                  </a:moveTo>
                  <a:lnTo>
                    <a:pt x="362" y="1372"/>
                  </a:lnTo>
                  <a:lnTo>
                    <a:pt x="351" y="1328"/>
                  </a:lnTo>
                  <a:lnTo>
                    <a:pt x="342" y="1284"/>
                  </a:lnTo>
                  <a:lnTo>
                    <a:pt x="332" y="1238"/>
                  </a:lnTo>
                  <a:lnTo>
                    <a:pt x="313" y="1194"/>
                  </a:lnTo>
                  <a:lnTo>
                    <a:pt x="303" y="1149"/>
                  </a:lnTo>
                  <a:lnTo>
                    <a:pt x="285" y="1091"/>
                  </a:lnTo>
                  <a:lnTo>
                    <a:pt x="275" y="1046"/>
                  </a:lnTo>
                  <a:lnTo>
                    <a:pt x="266" y="1000"/>
                  </a:lnTo>
                  <a:lnTo>
                    <a:pt x="256" y="957"/>
                  </a:lnTo>
                  <a:lnTo>
                    <a:pt x="246" y="911"/>
                  </a:lnTo>
                  <a:lnTo>
                    <a:pt x="227" y="867"/>
                  </a:lnTo>
                  <a:lnTo>
                    <a:pt x="226" y="821"/>
                  </a:lnTo>
                  <a:lnTo>
                    <a:pt x="216" y="763"/>
                  </a:lnTo>
                  <a:lnTo>
                    <a:pt x="206" y="716"/>
                  </a:lnTo>
                  <a:lnTo>
                    <a:pt x="195" y="672"/>
                  </a:lnTo>
                  <a:lnTo>
                    <a:pt x="194" y="628"/>
                  </a:lnTo>
                  <a:lnTo>
                    <a:pt x="167" y="568"/>
                  </a:lnTo>
                  <a:lnTo>
                    <a:pt x="149" y="525"/>
                  </a:lnTo>
                  <a:lnTo>
                    <a:pt x="130" y="479"/>
                  </a:lnTo>
                  <a:lnTo>
                    <a:pt x="120" y="436"/>
                  </a:lnTo>
                  <a:lnTo>
                    <a:pt x="93" y="377"/>
                  </a:lnTo>
                  <a:lnTo>
                    <a:pt x="83" y="331"/>
                  </a:lnTo>
                  <a:lnTo>
                    <a:pt x="64" y="289"/>
                  </a:lnTo>
                  <a:lnTo>
                    <a:pt x="47" y="244"/>
                  </a:lnTo>
                  <a:lnTo>
                    <a:pt x="38" y="199"/>
                  </a:lnTo>
                  <a:lnTo>
                    <a:pt x="19" y="155"/>
                  </a:lnTo>
                  <a:lnTo>
                    <a:pt x="9" y="111"/>
                  </a:lnTo>
                  <a:lnTo>
                    <a:pt x="0" y="65"/>
                  </a:lnTo>
                  <a:lnTo>
                    <a:pt x="24" y="18"/>
                  </a:lnTo>
                  <a:lnTo>
                    <a:pt x="49" y="0"/>
                  </a:lnTo>
                  <a:lnTo>
                    <a:pt x="76" y="43"/>
                  </a:lnTo>
                  <a:lnTo>
                    <a:pt x="95" y="88"/>
                  </a:lnTo>
                  <a:lnTo>
                    <a:pt x="113" y="132"/>
                  </a:lnTo>
                  <a:lnTo>
                    <a:pt x="122" y="176"/>
                  </a:lnTo>
                  <a:lnTo>
                    <a:pt x="150" y="234"/>
                  </a:lnTo>
                  <a:lnTo>
                    <a:pt x="177" y="292"/>
                  </a:lnTo>
                  <a:lnTo>
                    <a:pt x="195" y="352"/>
                  </a:lnTo>
                  <a:lnTo>
                    <a:pt x="205" y="398"/>
                  </a:lnTo>
                  <a:lnTo>
                    <a:pt x="225" y="456"/>
                  </a:lnTo>
                  <a:lnTo>
                    <a:pt x="243" y="500"/>
                  </a:lnTo>
                  <a:lnTo>
                    <a:pt x="252" y="544"/>
                  </a:lnTo>
                  <a:lnTo>
                    <a:pt x="271" y="589"/>
                  </a:lnTo>
                  <a:lnTo>
                    <a:pt x="289" y="631"/>
                  </a:lnTo>
                  <a:lnTo>
                    <a:pt x="300" y="691"/>
                  </a:lnTo>
                  <a:lnTo>
                    <a:pt x="309" y="737"/>
                  </a:lnTo>
                  <a:lnTo>
                    <a:pt x="328" y="783"/>
                  </a:lnTo>
                  <a:lnTo>
                    <a:pt x="330" y="826"/>
                  </a:lnTo>
                  <a:lnTo>
                    <a:pt x="348" y="886"/>
                  </a:lnTo>
                  <a:lnTo>
                    <a:pt x="360" y="991"/>
                  </a:lnTo>
                  <a:lnTo>
                    <a:pt x="370" y="1052"/>
                  </a:lnTo>
                  <a:lnTo>
                    <a:pt x="379" y="1097"/>
                  </a:lnTo>
                  <a:lnTo>
                    <a:pt x="389" y="1140"/>
                  </a:lnTo>
                  <a:lnTo>
                    <a:pt x="408" y="1185"/>
                  </a:lnTo>
                  <a:lnTo>
                    <a:pt x="426" y="1230"/>
                  </a:lnTo>
                  <a:lnTo>
                    <a:pt x="428" y="1274"/>
                  </a:lnTo>
                  <a:lnTo>
                    <a:pt x="429" y="1319"/>
                  </a:lnTo>
                  <a:lnTo>
                    <a:pt x="430" y="1366"/>
                  </a:lnTo>
                  <a:lnTo>
                    <a:pt x="431" y="1412"/>
                  </a:lnTo>
                  <a:lnTo>
                    <a:pt x="433" y="1457"/>
                  </a:lnTo>
                  <a:lnTo>
                    <a:pt x="434" y="1503"/>
                  </a:lnTo>
                  <a:lnTo>
                    <a:pt x="435" y="1547"/>
                  </a:lnTo>
                  <a:lnTo>
                    <a:pt x="437" y="1595"/>
                  </a:lnTo>
                  <a:lnTo>
                    <a:pt x="427" y="1549"/>
                  </a:lnTo>
                  <a:lnTo>
                    <a:pt x="416" y="1504"/>
                  </a:lnTo>
                  <a:lnTo>
                    <a:pt x="376" y="1453"/>
                  </a:lnTo>
                  <a:lnTo>
                    <a:pt x="376" y="1453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18"/>
            <p:cNvSpPr/>
            <p:nvPr/>
          </p:nvSpPr>
          <p:spPr>
            <a:xfrm>
              <a:off x="2476440" y="1631880"/>
              <a:ext cx="1188720" cy="2885760"/>
            </a:xfrm>
            <a:custGeom>
              <a:avLst/>
              <a:gdLst>
                <a:gd name="textAreaLeft" fmla="*/ 0 w 1188720"/>
                <a:gd name="textAreaRight" fmla="*/ 1189080 w 1188720"/>
                <a:gd name="textAreaTop" fmla="*/ 0 h 2885760"/>
                <a:gd name="textAreaBottom" fmla="*/ 2886120 h 2885760"/>
              </a:gdLst>
              <a:ahLst/>
              <a:rect l="textAreaLeft" t="textAreaTop" r="textAreaRight" b="textAreaBottom"/>
              <a:pathLst>
                <a:path w="749" h="1818">
                  <a:moveTo>
                    <a:pt x="748" y="194"/>
                  </a:moveTo>
                  <a:lnTo>
                    <a:pt x="642" y="311"/>
                  </a:lnTo>
                  <a:lnTo>
                    <a:pt x="513" y="493"/>
                  </a:lnTo>
                  <a:lnTo>
                    <a:pt x="447" y="727"/>
                  </a:lnTo>
                  <a:lnTo>
                    <a:pt x="342" y="998"/>
                  </a:lnTo>
                  <a:lnTo>
                    <a:pt x="277" y="1233"/>
                  </a:lnTo>
                  <a:lnTo>
                    <a:pt x="209" y="1356"/>
                  </a:lnTo>
                  <a:lnTo>
                    <a:pt x="141" y="1480"/>
                  </a:lnTo>
                  <a:lnTo>
                    <a:pt x="128" y="1573"/>
                  </a:lnTo>
                  <a:lnTo>
                    <a:pt x="76" y="1710"/>
                  </a:lnTo>
                  <a:lnTo>
                    <a:pt x="52" y="1817"/>
                  </a:lnTo>
                  <a:lnTo>
                    <a:pt x="36" y="1749"/>
                  </a:lnTo>
                  <a:lnTo>
                    <a:pt x="7" y="1692"/>
                  </a:lnTo>
                  <a:lnTo>
                    <a:pt x="0" y="1618"/>
                  </a:lnTo>
                  <a:lnTo>
                    <a:pt x="24" y="1564"/>
                  </a:lnTo>
                  <a:lnTo>
                    <a:pt x="49" y="1515"/>
                  </a:lnTo>
                  <a:lnTo>
                    <a:pt x="71" y="1405"/>
                  </a:lnTo>
                  <a:lnTo>
                    <a:pt x="105" y="1346"/>
                  </a:lnTo>
                  <a:lnTo>
                    <a:pt x="122" y="1269"/>
                  </a:lnTo>
                  <a:lnTo>
                    <a:pt x="158" y="1207"/>
                  </a:lnTo>
                  <a:lnTo>
                    <a:pt x="176" y="1137"/>
                  </a:lnTo>
                  <a:lnTo>
                    <a:pt x="194" y="1060"/>
                  </a:lnTo>
                  <a:lnTo>
                    <a:pt x="217" y="1009"/>
                  </a:lnTo>
                  <a:lnTo>
                    <a:pt x="243" y="956"/>
                  </a:lnTo>
                  <a:lnTo>
                    <a:pt x="271" y="873"/>
                  </a:lnTo>
                  <a:lnTo>
                    <a:pt x="295" y="818"/>
                  </a:lnTo>
                  <a:lnTo>
                    <a:pt x="319" y="767"/>
                  </a:lnTo>
                  <a:lnTo>
                    <a:pt x="337" y="694"/>
                  </a:lnTo>
                  <a:lnTo>
                    <a:pt x="362" y="639"/>
                  </a:lnTo>
                  <a:lnTo>
                    <a:pt x="386" y="591"/>
                  </a:lnTo>
                  <a:lnTo>
                    <a:pt x="415" y="507"/>
                  </a:lnTo>
                  <a:lnTo>
                    <a:pt x="438" y="455"/>
                  </a:lnTo>
                  <a:lnTo>
                    <a:pt x="463" y="402"/>
                  </a:lnTo>
                  <a:lnTo>
                    <a:pt x="494" y="372"/>
                  </a:lnTo>
                  <a:lnTo>
                    <a:pt x="517" y="321"/>
                  </a:lnTo>
                  <a:lnTo>
                    <a:pt x="541" y="268"/>
                  </a:lnTo>
                  <a:lnTo>
                    <a:pt x="602" y="208"/>
                  </a:lnTo>
                  <a:lnTo>
                    <a:pt x="625" y="158"/>
                  </a:lnTo>
                  <a:lnTo>
                    <a:pt x="650" y="106"/>
                  </a:lnTo>
                  <a:lnTo>
                    <a:pt x="674" y="54"/>
                  </a:lnTo>
                  <a:lnTo>
                    <a:pt x="700" y="0"/>
                  </a:lnTo>
                  <a:lnTo>
                    <a:pt x="727" y="59"/>
                  </a:lnTo>
                  <a:lnTo>
                    <a:pt x="748" y="194"/>
                  </a:lnTo>
                  <a:lnTo>
                    <a:pt x="748" y="194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9"/>
            <p:cNvSpPr/>
            <p:nvPr/>
          </p:nvSpPr>
          <p:spPr>
            <a:xfrm>
              <a:off x="2919240" y="3411360"/>
              <a:ext cx="1093320" cy="2331720"/>
            </a:xfrm>
            <a:custGeom>
              <a:avLst/>
              <a:gdLst>
                <a:gd name="textAreaLeft" fmla="*/ 0 w 1093320"/>
                <a:gd name="textAreaRight" fmla="*/ 1093680 w 1093320"/>
                <a:gd name="textAreaTop" fmla="*/ 0 h 2331720"/>
                <a:gd name="textAreaBottom" fmla="*/ 2332080 h 2331720"/>
              </a:gdLst>
              <a:ahLst/>
              <a:rect l="textAreaLeft" t="textAreaTop" r="textAreaRight" b="textAreaBottom"/>
              <a:pathLst>
                <a:path w="689" h="1469">
                  <a:moveTo>
                    <a:pt x="688" y="156"/>
                  </a:moveTo>
                  <a:lnTo>
                    <a:pt x="591" y="250"/>
                  </a:lnTo>
                  <a:lnTo>
                    <a:pt x="472" y="398"/>
                  </a:lnTo>
                  <a:lnTo>
                    <a:pt x="412" y="586"/>
                  </a:lnTo>
                  <a:lnTo>
                    <a:pt x="314" y="805"/>
                  </a:lnTo>
                  <a:lnTo>
                    <a:pt x="255" y="995"/>
                  </a:lnTo>
                  <a:lnTo>
                    <a:pt x="193" y="1094"/>
                  </a:lnTo>
                  <a:lnTo>
                    <a:pt x="128" y="1194"/>
                  </a:lnTo>
                  <a:lnTo>
                    <a:pt x="117" y="1270"/>
                  </a:lnTo>
                  <a:lnTo>
                    <a:pt x="68" y="1379"/>
                  </a:lnTo>
                  <a:lnTo>
                    <a:pt x="47" y="1468"/>
                  </a:lnTo>
                  <a:lnTo>
                    <a:pt x="32" y="1412"/>
                  </a:lnTo>
                  <a:lnTo>
                    <a:pt x="6" y="1367"/>
                  </a:lnTo>
                  <a:lnTo>
                    <a:pt x="0" y="1306"/>
                  </a:lnTo>
                  <a:lnTo>
                    <a:pt x="22" y="1264"/>
                  </a:lnTo>
                  <a:lnTo>
                    <a:pt x="45" y="1223"/>
                  </a:lnTo>
                  <a:lnTo>
                    <a:pt x="66" y="1136"/>
                  </a:lnTo>
                  <a:lnTo>
                    <a:pt x="96" y="1087"/>
                  </a:lnTo>
                  <a:lnTo>
                    <a:pt x="113" y="1026"/>
                  </a:lnTo>
                  <a:lnTo>
                    <a:pt x="145" y="975"/>
                  </a:lnTo>
                  <a:lnTo>
                    <a:pt x="162" y="919"/>
                  </a:lnTo>
                  <a:lnTo>
                    <a:pt x="179" y="857"/>
                  </a:lnTo>
                  <a:lnTo>
                    <a:pt x="201" y="815"/>
                  </a:lnTo>
                  <a:lnTo>
                    <a:pt x="223" y="773"/>
                  </a:lnTo>
                  <a:lnTo>
                    <a:pt x="250" y="704"/>
                  </a:lnTo>
                  <a:lnTo>
                    <a:pt x="273" y="662"/>
                  </a:lnTo>
                  <a:lnTo>
                    <a:pt x="293" y="619"/>
                  </a:lnTo>
                  <a:lnTo>
                    <a:pt x="311" y="562"/>
                  </a:lnTo>
                  <a:lnTo>
                    <a:pt x="333" y="517"/>
                  </a:lnTo>
                  <a:lnTo>
                    <a:pt x="356" y="476"/>
                  </a:lnTo>
                  <a:lnTo>
                    <a:pt x="383" y="409"/>
                  </a:lnTo>
                  <a:lnTo>
                    <a:pt x="404" y="368"/>
                  </a:lnTo>
                  <a:lnTo>
                    <a:pt x="427" y="325"/>
                  </a:lnTo>
                  <a:lnTo>
                    <a:pt x="456" y="300"/>
                  </a:lnTo>
                  <a:lnTo>
                    <a:pt x="477" y="258"/>
                  </a:lnTo>
                  <a:lnTo>
                    <a:pt x="498" y="217"/>
                  </a:lnTo>
                  <a:lnTo>
                    <a:pt x="555" y="167"/>
                  </a:lnTo>
                  <a:lnTo>
                    <a:pt x="576" y="129"/>
                  </a:lnTo>
                  <a:lnTo>
                    <a:pt x="599" y="84"/>
                  </a:lnTo>
                  <a:lnTo>
                    <a:pt x="622" y="43"/>
                  </a:lnTo>
                  <a:lnTo>
                    <a:pt x="644" y="0"/>
                  </a:lnTo>
                  <a:lnTo>
                    <a:pt x="669" y="47"/>
                  </a:lnTo>
                  <a:lnTo>
                    <a:pt x="688" y="156"/>
                  </a:lnTo>
                  <a:lnTo>
                    <a:pt x="688" y="156"/>
                  </a:lnTo>
                </a:path>
              </a:pathLst>
            </a:custGeom>
            <a:pattFill prst="ltVert">
              <a:fgClr>
                <a:srgbClr val="ffcc66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9" name="Freeform 21"/>
          <p:cNvSpPr/>
          <p:nvPr/>
        </p:nvSpPr>
        <p:spPr>
          <a:xfrm>
            <a:off x="3200400" y="4068720"/>
            <a:ext cx="1101240" cy="1800000"/>
          </a:xfrm>
          <a:custGeom>
            <a:avLst/>
            <a:gdLst>
              <a:gd name="textAreaLeft" fmla="*/ 0 w 1101240"/>
              <a:gd name="textAreaRight" fmla="*/ 1101600 w 110124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694" h="1134">
                <a:moveTo>
                  <a:pt x="42" y="1004"/>
                </a:moveTo>
                <a:lnTo>
                  <a:pt x="82" y="955"/>
                </a:lnTo>
                <a:lnTo>
                  <a:pt x="102" y="925"/>
                </a:lnTo>
                <a:lnTo>
                  <a:pt x="122" y="896"/>
                </a:lnTo>
                <a:lnTo>
                  <a:pt x="141" y="866"/>
                </a:lnTo>
                <a:lnTo>
                  <a:pt x="156" y="826"/>
                </a:lnTo>
                <a:lnTo>
                  <a:pt x="175" y="796"/>
                </a:lnTo>
                <a:lnTo>
                  <a:pt x="198" y="750"/>
                </a:lnTo>
                <a:lnTo>
                  <a:pt x="219" y="721"/>
                </a:lnTo>
                <a:lnTo>
                  <a:pt x="239" y="692"/>
                </a:lnTo>
                <a:lnTo>
                  <a:pt x="258" y="662"/>
                </a:lnTo>
                <a:lnTo>
                  <a:pt x="279" y="632"/>
                </a:lnTo>
                <a:lnTo>
                  <a:pt x="292" y="592"/>
                </a:lnTo>
                <a:lnTo>
                  <a:pt x="320" y="573"/>
                </a:lnTo>
                <a:lnTo>
                  <a:pt x="348" y="537"/>
                </a:lnTo>
                <a:lnTo>
                  <a:pt x="369" y="506"/>
                </a:lnTo>
                <a:lnTo>
                  <a:pt x="389" y="477"/>
                </a:lnTo>
                <a:lnTo>
                  <a:pt x="415" y="458"/>
                </a:lnTo>
                <a:lnTo>
                  <a:pt x="431" y="401"/>
                </a:lnTo>
                <a:lnTo>
                  <a:pt x="445" y="362"/>
                </a:lnTo>
                <a:lnTo>
                  <a:pt x="459" y="322"/>
                </a:lnTo>
                <a:lnTo>
                  <a:pt x="478" y="293"/>
                </a:lnTo>
                <a:lnTo>
                  <a:pt x="495" y="237"/>
                </a:lnTo>
                <a:lnTo>
                  <a:pt x="515" y="207"/>
                </a:lnTo>
                <a:lnTo>
                  <a:pt x="528" y="167"/>
                </a:lnTo>
                <a:lnTo>
                  <a:pt x="542" y="129"/>
                </a:lnTo>
                <a:lnTo>
                  <a:pt x="562" y="98"/>
                </a:lnTo>
                <a:lnTo>
                  <a:pt x="576" y="59"/>
                </a:lnTo>
                <a:lnTo>
                  <a:pt x="595" y="29"/>
                </a:lnTo>
                <a:lnTo>
                  <a:pt x="616" y="0"/>
                </a:lnTo>
                <a:lnTo>
                  <a:pt x="663" y="10"/>
                </a:lnTo>
                <a:lnTo>
                  <a:pt x="693" y="33"/>
                </a:lnTo>
                <a:lnTo>
                  <a:pt x="685" y="82"/>
                </a:lnTo>
                <a:lnTo>
                  <a:pt x="671" y="122"/>
                </a:lnTo>
                <a:lnTo>
                  <a:pt x="658" y="162"/>
                </a:lnTo>
                <a:lnTo>
                  <a:pt x="638" y="191"/>
                </a:lnTo>
                <a:lnTo>
                  <a:pt x="622" y="248"/>
                </a:lnTo>
                <a:lnTo>
                  <a:pt x="606" y="304"/>
                </a:lnTo>
                <a:lnTo>
                  <a:pt x="584" y="349"/>
                </a:lnTo>
                <a:lnTo>
                  <a:pt x="563" y="380"/>
                </a:lnTo>
                <a:lnTo>
                  <a:pt x="541" y="426"/>
                </a:lnTo>
                <a:lnTo>
                  <a:pt x="528" y="466"/>
                </a:lnTo>
                <a:lnTo>
                  <a:pt x="508" y="495"/>
                </a:lnTo>
                <a:lnTo>
                  <a:pt x="494" y="534"/>
                </a:lnTo>
                <a:lnTo>
                  <a:pt x="480" y="573"/>
                </a:lnTo>
                <a:lnTo>
                  <a:pt x="451" y="610"/>
                </a:lnTo>
                <a:lnTo>
                  <a:pt x="431" y="639"/>
                </a:lnTo>
                <a:lnTo>
                  <a:pt x="417" y="679"/>
                </a:lnTo>
                <a:lnTo>
                  <a:pt x="391" y="699"/>
                </a:lnTo>
                <a:lnTo>
                  <a:pt x="368" y="746"/>
                </a:lnTo>
                <a:lnTo>
                  <a:pt x="313" y="801"/>
                </a:lnTo>
                <a:lnTo>
                  <a:pt x="283" y="838"/>
                </a:lnTo>
                <a:lnTo>
                  <a:pt x="262" y="866"/>
                </a:lnTo>
                <a:lnTo>
                  <a:pt x="242" y="896"/>
                </a:lnTo>
                <a:lnTo>
                  <a:pt x="229" y="935"/>
                </a:lnTo>
                <a:lnTo>
                  <a:pt x="215" y="975"/>
                </a:lnTo>
                <a:lnTo>
                  <a:pt x="188" y="996"/>
                </a:lnTo>
                <a:lnTo>
                  <a:pt x="162" y="1014"/>
                </a:lnTo>
                <a:lnTo>
                  <a:pt x="135" y="1035"/>
                </a:lnTo>
                <a:lnTo>
                  <a:pt x="107" y="1054"/>
                </a:lnTo>
                <a:lnTo>
                  <a:pt x="81" y="1074"/>
                </a:lnTo>
                <a:lnTo>
                  <a:pt x="54" y="1093"/>
                </a:lnTo>
                <a:lnTo>
                  <a:pt x="27" y="1113"/>
                </a:lnTo>
                <a:lnTo>
                  <a:pt x="0" y="1133"/>
                </a:lnTo>
                <a:lnTo>
                  <a:pt x="20" y="1103"/>
                </a:lnTo>
                <a:lnTo>
                  <a:pt x="41" y="1073"/>
                </a:lnTo>
                <a:lnTo>
                  <a:pt x="42" y="1004"/>
                </a:lnTo>
                <a:lnTo>
                  <a:pt x="42" y="1004"/>
                </a:lnTo>
              </a:path>
            </a:pathLst>
          </a:custGeom>
          <a:pattFill prst="ltVert">
            <a:fgClr>
              <a:srgbClr val="ffcc66"/>
            </a:fgClr>
            <a:bgClr>
              <a:srgbClr val="ffffff"/>
            </a:bgClr>
          </a:patt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Freeform 22"/>
          <p:cNvSpPr/>
          <p:nvPr/>
        </p:nvSpPr>
        <p:spPr>
          <a:xfrm>
            <a:off x="3352680" y="4724280"/>
            <a:ext cx="763200" cy="1220400"/>
          </a:xfrm>
          <a:custGeom>
            <a:avLst/>
            <a:gdLst>
              <a:gd name="textAreaLeft" fmla="*/ 0 w 763200"/>
              <a:gd name="textAreaRight" fmla="*/ 763560 w 763200"/>
              <a:gd name="textAreaTop" fmla="*/ 0 h 1220400"/>
              <a:gd name="textAreaBottom" fmla="*/ 1220760 h 1220400"/>
            </a:gdLst>
            <a:ahLst/>
            <a:rect l="textAreaLeft" t="textAreaTop" r="textAreaRight" b="textAreaBottom"/>
            <a:pathLst>
              <a:path w="481" h="769">
                <a:moveTo>
                  <a:pt x="29" y="680"/>
                </a:moveTo>
                <a:lnTo>
                  <a:pt x="56" y="647"/>
                </a:lnTo>
                <a:lnTo>
                  <a:pt x="71" y="627"/>
                </a:lnTo>
                <a:lnTo>
                  <a:pt x="84" y="607"/>
                </a:lnTo>
                <a:lnTo>
                  <a:pt x="98" y="587"/>
                </a:lnTo>
                <a:lnTo>
                  <a:pt x="108" y="560"/>
                </a:lnTo>
                <a:lnTo>
                  <a:pt x="121" y="539"/>
                </a:lnTo>
                <a:lnTo>
                  <a:pt x="137" y="508"/>
                </a:lnTo>
                <a:lnTo>
                  <a:pt x="151" y="489"/>
                </a:lnTo>
                <a:lnTo>
                  <a:pt x="165" y="469"/>
                </a:lnTo>
                <a:lnTo>
                  <a:pt x="179" y="448"/>
                </a:lnTo>
                <a:lnTo>
                  <a:pt x="193" y="428"/>
                </a:lnTo>
                <a:lnTo>
                  <a:pt x="202" y="401"/>
                </a:lnTo>
                <a:lnTo>
                  <a:pt x="221" y="388"/>
                </a:lnTo>
                <a:lnTo>
                  <a:pt x="241" y="364"/>
                </a:lnTo>
                <a:lnTo>
                  <a:pt x="255" y="343"/>
                </a:lnTo>
                <a:lnTo>
                  <a:pt x="269" y="323"/>
                </a:lnTo>
                <a:lnTo>
                  <a:pt x="287" y="310"/>
                </a:lnTo>
                <a:lnTo>
                  <a:pt x="298" y="272"/>
                </a:lnTo>
                <a:lnTo>
                  <a:pt x="308" y="245"/>
                </a:lnTo>
                <a:lnTo>
                  <a:pt x="318" y="218"/>
                </a:lnTo>
                <a:lnTo>
                  <a:pt x="331" y="199"/>
                </a:lnTo>
                <a:lnTo>
                  <a:pt x="342" y="160"/>
                </a:lnTo>
                <a:lnTo>
                  <a:pt x="357" y="140"/>
                </a:lnTo>
                <a:lnTo>
                  <a:pt x="365" y="113"/>
                </a:lnTo>
                <a:lnTo>
                  <a:pt x="375" y="87"/>
                </a:lnTo>
                <a:lnTo>
                  <a:pt x="389" y="66"/>
                </a:lnTo>
                <a:lnTo>
                  <a:pt x="399" y="40"/>
                </a:lnTo>
                <a:lnTo>
                  <a:pt x="412" y="20"/>
                </a:lnTo>
                <a:lnTo>
                  <a:pt x="426" y="0"/>
                </a:lnTo>
                <a:lnTo>
                  <a:pt x="459" y="6"/>
                </a:lnTo>
                <a:lnTo>
                  <a:pt x="480" y="22"/>
                </a:lnTo>
                <a:lnTo>
                  <a:pt x="475" y="56"/>
                </a:lnTo>
                <a:lnTo>
                  <a:pt x="465" y="83"/>
                </a:lnTo>
                <a:lnTo>
                  <a:pt x="455" y="110"/>
                </a:lnTo>
                <a:lnTo>
                  <a:pt x="442" y="129"/>
                </a:lnTo>
                <a:lnTo>
                  <a:pt x="431" y="168"/>
                </a:lnTo>
                <a:lnTo>
                  <a:pt x="420" y="206"/>
                </a:lnTo>
                <a:lnTo>
                  <a:pt x="404" y="237"/>
                </a:lnTo>
                <a:lnTo>
                  <a:pt x="390" y="257"/>
                </a:lnTo>
                <a:lnTo>
                  <a:pt x="374" y="289"/>
                </a:lnTo>
                <a:lnTo>
                  <a:pt x="366" y="315"/>
                </a:lnTo>
                <a:lnTo>
                  <a:pt x="352" y="336"/>
                </a:lnTo>
                <a:lnTo>
                  <a:pt x="342" y="362"/>
                </a:lnTo>
                <a:lnTo>
                  <a:pt x="332" y="389"/>
                </a:lnTo>
                <a:lnTo>
                  <a:pt x="312" y="413"/>
                </a:lnTo>
                <a:lnTo>
                  <a:pt x="298" y="433"/>
                </a:lnTo>
                <a:lnTo>
                  <a:pt x="289" y="460"/>
                </a:lnTo>
                <a:lnTo>
                  <a:pt x="271" y="474"/>
                </a:lnTo>
                <a:lnTo>
                  <a:pt x="255" y="505"/>
                </a:lnTo>
                <a:lnTo>
                  <a:pt x="216" y="543"/>
                </a:lnTo>
                <a:lnTo>
                  <a:pt x="196" y="568"/>
                </a:lnTo>
                <a:lnTo>
                  <a:pt x="181" y="587"/>
                </a:lnTo>
                <a:lnTo>
                  <a:pt x="168" y="607"/>
                </a:lnTo>
                <a:lnTo>
                  <a:pt x="158" y="634"/>
                </a:lnTo>
                <a:lnTo>
                  <a:pt x="149" y="661"/>
                </a:lnTo>
                <a:lnTo>
                  <a:pt x="130" y="675"/>
                </a:lnTo>
                <a:lnTo>
                  <a:pt x="112" y="687"/>
                </a:lnTo>
                <a:lnTo>
                  <a:pt x="93" y="701"/>
                </a:lnTo>
                <a:lnTo>
                  <a:pt x="74" y="715"/>
                </a:lnTo>
                <a:lnTo>
                  <a:pt x="56" y="728"/>
                </a:lnTo>
                <a:lnTo>
                  <a:pt x="37" y="741"/>
                </a:lnTo>
                <a:lnTo>
                  <a:pt x="19" y="754"/>
                </a:lnTo>
                <a:lnTo>
                  <a:pt x="0" y="768"/>
                </a:lnTo>
                <a:lnTo>
                  <a:pt x="14" y="747"/>
                </a:lnTo>
                <a:lnTo>
                  <a:pt x="28" y="727"/>
                </a:lnTo>
                <a:lnTo>
                  <a:pt x="29" y="680"/>
                </a:lnTo>
                <a:lnTo>
                  <a:pt x="29" y="680"/>
                </a:lnTo>
              </a:path>
            </a:pathLst>
          </a:custGeom>
          <a:pattFill prst="ltVert">
            <a:fgClr>
              <a:srgbClr val="ffcc66"/>
            </a:fgClr>
            <a:bgClr>
              <a:srgbClr val="ffffff"/>
            </a:bgClr>
          </a:patt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Freeform 23"/>
          <p:cNvSpPr/>
          <p:nvPr/>
        </p:nvSpPr>
        <p:spPr>
          <a:xfrm>
            <a:off x="3524400" y="4724280"/>
            <a:ext cx="744120" cy="1203120"/>
          </a:xfrm>
          <a:custGeom>
            <a:avLst/>
            <a:gdLst>
              <a:gd name="textAreaLeft" fmla="*/ 0 w 744120"/>
              <a:gd name="textAreaRight" fmla="*/ 744480 w 744120"/>
              <a:gd name="textAreaTop" fmla="*/ 0 h 1203120"/>
              <a:gd name="textAreaBottom" fmla="*/ 1203480 h 1203120"/>
            </a:gdLst>
            <a:ahLst/>
            <a:rect l="textAreaLeft" t="textAreaTop" r="textAreaRight" b="textAreaBottom"/>
            <a:pathLst>
              <a:path w="469" h="758">
                <a:moveTo>
                  <a:pt x="28" y="671"/>
                </a:moveTo>
                <a:lnTo>
                  <a:pt x="55" y="638"/>
                </a:lnTo>
                <a:lnTo>
                  <a:pt x="69" y="618"/>
                </a:lnTo>
                <a:lnTo>
                  <a:pt x="82" y="599"/>
                </a:lnTo>
                <a:lnTo>
                  <a:pt x="95" y="578"/>
                </a:lnTo>
                <a:lnTo>
                  <a:pt x="105" y="552"/>
                </a:lnTo>
                <a:lnTo>
                  <a:pt x="118" y="532"/>
                </a:lnTo>
                <a:lnTo>
                  <a:pt x="133" y="501"/>
                </a:lnTo>
                <a:lnTo>
                  <a:pt x="148" y="482"/>
                </a:lnTo>
                <a:lnTo>
                  <a:pt x="161" y="462"/>
                </a:lnTo>
                <a:lnTo>
                  <a:pt x="174" y="442"/>
                </a:lnTo>
                <a:lnTo>
                  <a:pt x="188" y="422"/>
                </a:lnTo>
                <a:lnTo>
                  <a:pt x="197" y="395"/>
                </a:lnTo>
                <a:lnTo>
                  <a:pt x="216" y="382"/>
                </a:lnTo>
                <a:lnTo>
                  <a:pt x="235" y="359"/>
                </a:lnTo>
                <a:lnTo>
                  <a:pt x="249" y="338"/>
                </a:lnTo>
                <a:lnTo>
                  <a:pt x="263" y="318"/>
                </a:lnTo>
                <a:lnTo>
                  <a:pt x="280" y="306"/>
                </a:lnTo>
                <a:lnTo>
                  <a:pt x="291" y="268"/>
                </a:lnTo>
                <a:lnTo>
                  <a:pt x="301" y="242"/>
                </a:lnTo>
                <a:lnTo>
                  <a:pt x="310" y="215"/>
                </a:lnTo>
                <a:lnTo>
                  <a:pt x="323" y="196"/>
                </a:lnTo>
                <a:lnTo>
                  <a:pt x="334" y="158"/>
                </a:lnTo>
                <a:lnTo>
                  <a:pt x="348" y="138"/>
                </a:lnTo>
                <a:lnTo>
                  <a:pt x="356" y="111"/>
                </a:lnTo>
                <a:lnTo>
                  <a:pt x="366" y="86"/>
                </a:lnTo>
                <a:lnTo>
                  <a:pt x="380" y="65"/>
                </a:lnTo>
                <a:lnTo>
                  <a:pt x="389" y="39"/>
                </a:lnTo>
                <a:lnTo>
                  <a:pt x="402" y="19"/>
                </a:lnTo>
                <a:lnTo>
                  <a:pt x="416" y="0"/>
                </a:lnTo>
                <a:lnTo>
                  <a:pt x="448" y="6"/>
                </a:lnTo>
                <a:lnTo>
                  <a:pt x="468" y="22"/>
                </a:lnTo>
                <a:lnTo>
                  <a:pt x="463" y="55"/>
                </a:lnTo>
                <a:lnTo>
                  <a:pt x="453" y="82"/>
                </a:lnTo>
                <a:lnTo>
                  <a:pt x="444" y="108"/>
                </a:lnTo>
                <a:lnTo>
                  <a:pt x="431" y="128"/>
                </a:lnTo>
                <a:lnTo>
                  <a:pt x="420" y="165"/>
                </a:lnTo>
                <a:lnTo>
                  <a:pt x="409" y="203"/>
                </a:lnTo>
                <a:lnTo>
                  <a:pt x="394" y="233"/>
                </a:lnTo>
                <a:lnTo>
                  <a:pt x="380" y="254"/>
                </a:lnTo>
                <a:lnTo>
                  <a:pt x="365" y="285"/>
                </a:lnTo>
                <a:lnTo>
                  <a:pt x="357" y="311"/>
                </a:lnTo>
                <a:lnTo>
                  <a:pt x="343" y="331"/>
                </a:lnTo>
                <a:lnTo>
                  <a:pt x="333" y="357"/>
                </a:lnTo>
                <a:lnTo>
                  <a:pt x="324" y="383"/>
                </a:lnTo>
                <a:lnTo>
                  <a:pt x="304" y="407"/>
                </a:lnTo>
                <a:lnTo>
                  <a:pt x="291" y="427"/>
                </a:lnTo>
                <a:lnTo>
                  <a:pt x="281" y="454"/>
                </a:lnTo>
                <a:lnTo>
                  <a:pt x="264" y="467"/>
                </a:lnTo>
                <a:lnTo>
                  <a:pt x="248" y="498"/>
                </a:lnTo>
                <a:lnTo>
                  <a:pt x="211" y="535"/>
                </a:lnTo>
                <a:lnTo>
                  <a:pt x="191" y="559"/>
                </a:lnTo>
                <a:lnTo>
                  <a:pt x="177" y="579"/>
                </a:lnTo>
                <a:lnTo>
                  <a:pt x="163" y="599"/>
                </a:lnTo>
                <a:lnTo>
                  <a:pt x="154" y="625"/>
                </a:lnTo>
                <a:lnTo>
                  <a:pt x="145" y="651"/>
                </a:lnTo>
                <a:lnTo>
                  <a:pt x="127" y="665"/>
                </a:lnTo>
                <a:lnTo>
                  <a:pt x="109" y="678"/>
                </a:lnTo>
                <a:lnTo>
                  <a:pt x="91" y="691"/>
                </a:lnTo>
                <a:lnTo>
                  <a:pt x="72" y="704"/>
                </a:lnTo>
                <a:lnTo>
                  <a:pt x="54" y="717"/>
                </a:lnTo>
                <a:lnTo>
                  <a:pt x="36" y="730"/>
                </a:lnTo>
                <a:lnTo>
                  <a:pt x="18" y="743"/>
                </a:lnTo>
                <a:lnTo>
                  <a:pt x="0" y="757"/>
                </a:lnTo>
                <a:lnTo>
                  <a:pt x="13" y="737"/>
                </a:lnTo>
                <a:lnTo>
                  <a:pt x="27" y="717"/>
                </a:lnTo>
                <a:lnTo>
                  <a:pt x="28" y="671"/>
                </a:lnTo>
                <a:lnTo>
                  <a:pt x="28" y="671"/>
                </a:lnTo>
              </a:path>
            </a:pathLst>
          </a:custGeom>
          <a:pattFill prst="ltVert">
            <a:fgClr>
              <a:srgbClr val="ffcc66"/>
            </a:fgClr>
            <a:bgClr>
              <a:srgbClr val="ffffff"/>
            </a:bgClr>
          </a:patt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2" name="Group 28"/>
          <p:cNvGrpSpPr/>
          <p:nvPr/>
        </p:nvGrpSpPr>
        <p:grpSpPr>
          <a:xfrm>
            <a:off x="4197240" y="2216160"/>
            <a:ext cx="291960" cy="444240"/>
            <a:chOff x="4197240" y="2216160"/>
            <a:chExt cx="291960" cy="444240"/>
          </a:xfrm>
        </p:grpSpPr>
        <p:sp>
          <p:nvSpPr>
            <p:cNvPr id="713" name="Oval 24"/>
            <p:cNvSpPr/>
            <p:nvPr/>
          </p:nvSpPr>
          <p:spPr>
            <a:xfrm>
              <a:off x="4273560" y="221616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Oval 25"/>
            <p:cNvSpPr/>
            <p:nvPr/>
          </p:nvSpPr>
          <p:spPr>
            <a:xfrm>
              <a:off x="4349880" y="236844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Oval 26"/>
            <p:cNvSpPr/>
            <p:nvPr/>
          </p:nvSpPr>
          <p:spPr>
            <a:xfrm>
              <a:off x="4197240" y="236844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Oval 27"/>
            <p:cNvSpPr/>
            <p:nvPr/>
          </p:nvSpPr>
          <p:spPr>
            <a:xfrm>
              <a:off x="4349880" y="252108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7" name="Group 33"/>
          <p:cNvGrpSpPr/>
          <p:nvPr/>
        </p:nvGrpSpPr>
        <p:grpSpPr>
          <a:xfrm>
            <a:off x="4121280" y="3587760"/>
            <a:ext cx="291600" cy="444240"/>
            <a:chOff x="4121280" y="3587760"/>
            <a:chExt cx="291600" cy="444240"/>
          </a:xfrm>
        </p:grpSpPr>
        <p:sp>
          <p:nvSpPr>
            <p:cNvPr id="718" name="Oval 29"/>
            <p:cNvSpPr/>
            <p:nvPr/>
          </p:nvSpPr>
          <p:spPr>
            <a:xfrm>
              <a:off x="4197240" y="389268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Oval 30"/>
            <p:cNvSpPr/>
            <p:nvPr/>
          </p:nvSpPr>
          <p:spPr>
            <a:xfrm>
              <a:off x="4273560" y="374004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Oval 31"/>
            <p:cNvSpPr/>
            <p:nvPr/>
          </p:nvSpPr>
          <p:spPr>
            <a:xfrm>
              <a:off x="4121280" y="374004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Oval 32"/>
            <p:cNvSpPr/>
            <p:nvPr/>
          </p:nvSpPr>
          <p:spPr>
            <a:xfrm>
              <a:off x="4273560" y="3587760"/>
              <a:ext cx="13932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2" name="Freeform 34"/>
          <p:cNvSpPr/>
          <p:nvPr/>
        </p:nvSpPr>
        <p:spPr>
          <a:xfrm>
            <a:off x="4038480" y="1014480"/>
            <a:ext cx="725040" cy="4868640"/>
          </a:xfrm>
          <a:custGeom>
            <a:avLst/>
            <a:gdLst>
              <a:gd name="textAreaLeft" fmla="*/ 0 w 725040"/>
              <a:gd name="textAreaRight" fmla="*/ 725400 w 725040"/>
              <a:gd name="textAreaTop" fmla="*/ 0 h 4868640"/>
              <a:gd name="textAreaBottom" fmla="*/ 4869000 h 4868640"/>
            </a:gdLst>
            <a:ahLst/>
            <a:rect l="textAreaLeft" t="textAreaTop" r="textAreaRight" b="textAreaBottom"/>
            <a:pathLst>
              <a:path w="457" h="3067">
                <a:moveTo>
                  <a:pt x="0" y="81"/>
                </a:moveTo>
                <a:lnTo>
                  <a:pt x="52" y="65"/>
                </a:lnTo>
                <a:lnTo>
                  <a:pt x="85" y="43"/>
                </a:lnTo>
                <a:lnTo>
                  <a:pt x="118" y="21"/>
                </a:lnTo>
                <a:lnTo>
                  <a:pt x="150" y="0"/>
                </a:lnTo>
                <a:lnTo>
                  <a:pt x="183" y="0"/>
                </a:lnTo>
                <a:lnTo>
                  <a:pt x="216" y="11"/>
                </a:lnTo>
                <a:lnTo>
                  <a:pt x="249" y="21"/>
                </a:lnTo>
                <a:lnTo>
                  <a:pt x="281" y="43"/>
                </a:lnTo>
                <a:lnTo>
                  <a:pt x="314" y="65"/>
                </a:lnTo>
                <a:lnTo>
                  <a:pt x="336" y="98"/>
                </a:lnTo>
                <a:lnTo>
                  <a:pt x="369" y="131"/>
                </a:lnTo>
                <a:lnTo>
                  <a:pt x="380" y="163"/>
                </a:lnTo>
                <a:lnTo>
                  <a:pt x="401" y="196"/>
                </a:lnTo>
                <a:lnTo>
                  <a:pt x="423" y="229"/>
                </a:lnTo>
                <a:lnTo>
                  <a:pt x="423" y="262"/>
                </a:lnTo>
                <a:lnTo>
                  <a:pt x="434" y="294"/>
                </a:lnTo>
                <a:lnTo>
                  <a:pt x="434" y="327"/>
                </a:lnTo>
                <a:lnTo>
                  <a:pt x="434" y="360"/>
                </a:lnTo>
                <a:lnTo>
                  <a:pt x="434" y="393"/>
                </a:lnTo>
                <a:lnTo>
                  <a:pt x="445" y="425"/>
                </a:lnTo>
                <a:lnTo>
                  <a:pt x="445" y="458"/>
                </a:lnTo>
                <a:lnTo>
                  <a:pt x="445" y="491"/>
                </a:lnTo>
                <a:lnTo>
                  <a:pt x="445" y="524"/>
                </a:lnTo>
                <a:lnTo>
                  <a:pt x="445" y="556"/>
                </a:lnTo>
                <a:lnTo>
                  <a:pt x="445" y="589"/>
                </a:lnTo>
                <a:lnTo>
                  <a:pt x="445" y="622"/>
                </a:lnTo>
                <a:lnTo>
                  <a:pt x="445" y="654"/>
                </a:lnTo>
                <a:lnTo>
                  <a:pt x="445" y="687"/>
                </a:lnTo>
                <a:lnTo>
                  <a:pt x="445" y="720"/>
                </a:lnTo>
                <a:lnTo>
                  <a:pt x="445" y="753"/>
                </a:lnTo>
                <a:lnTo>
                  <a:pt x="445" y="785"/>
                </a:lnTo>
                <a:lnTo>
                  <a:pt x="445" y="818"/>
                </a:lnTo>
                <a:lnTo>
                  <a:pt x="456" y="851"/>
                </a:lnTo>
                <a:lnTo>
                  <a:pt x="456" y="884"/>
                </a:lnTo>
                <a:lnTo>
                  <a:pt x="456" y="916"/>
                </a:lnTo>
                <a:lnTo>
                  <a:pt x="456" y="949"/>
                </a:lnTo>
                <a:lnTo>
                  <a:pt x="456" y="993"/>
                </a:lnTo>
                <a:lnTo>
                  <a:pt x="456" y="1036"/>
                </a:lnTo>
                <a:lnTo>
                  <a:pt x="456" y="1080"/>
                </a:lnTo>
                <a:lnTo>
                  <a:pt x="456" y="1124"/>
                </a:lnTo>
                <a:lnTo>
                  <a:pt x="456" y="1157"/>
                </a:lnTo>
                <a:lnTo>
                  <a:pt x="456" y="1189"/>
                </a:lnTo>
                <a:lnTo>
                  <a:pt x="456" y="1222"/>
                </a:lnTo>
                <a:lnTo>
                  <a:pt x="445" y="1255"/>
                </a:lnTo>
                <a:lnTo>
                  <a:pt x="445" y="1287"/>
                </a:lnTo>
                <a:lnTo>
                  <a:pt x="445" y="1320"/>
                </a:lnTo>
                <a:lnTo>
                  <a:pt x="434" y="1353"/>
                </a:lnTo>
                <a:lnTo>
                  <a:pt x="423" y="1386"/>
                </a:lnTo>
                <a:lnTo>
                  <a:pt x="423" y="1418"/>
                </a:lnTo>
                <a:lnTo>
                  <a:pt x="412" y="1451"/>
                </a:lnTo>
                <a:lnTo>
                  <a:pt x="401" y="1484"/>
                </a:lnTo>
                <a:lnTo>
                  <a:pt x="401" y="1517"/>
                </a:lnTo>
                <a:lnTo>
                  <a:pt x="401" y="1549"/>
                </a:lnTo>
                <a:lnTo>
                  <a:pt x="401" y="1582"/>
                </a:lnTo>
                <a:lnTo>
                  <a:pt x="401" y="1615"/>
                </a:lnTo>
                <a:lnTo>
                  <a:pt x="401" y="1648"/>
                </a:lnTo>
                <a:lnTo>
                  <a:pt x="401" y="1680"/>
                </a:lnTo>
                <a:lnTo>
                  <a:pt x="401" y="1713"/>
                </a:lnTo>
                <a:lnTo>
                  <a:pt x="401" y="1757"/>
                </a:lnTo>
                <a:lnTo>
                  <a:pt x="401" y="1789"/>
                </a:lnTo>
                <a:lnTo>
                  <a:pt x="401" y="1822"/>
                </a:lnTo>
                <a:lnTo>
                  <a:pt x="391" y="1855"/>
                </a:lnTo>
                <a:lnTo>
                  <a:pt x="391" y="1888"/>
                </a:lnTo>
                <a:lnTo>
                  <a:pt x="391" y="1920"/>
                </a:lnTo>
                <a:lnTo>
                  <a:pt x="391" y="1953"/>
                </a:lnTo>
                <a:lnTo>
                  <a:pt x="391" y="1997"/>
                </a:lnTo>
                <a:lnTo>
                  <a:pt x="380" y="2030"/>
                </a:lnTo>
                <a:lnTo>
                  <a:pt x="369" y="2062"/>
                </a:lnTo>
                <a:lnTo>
                  <a:pt x="369" y="2095"/>
                </a:lnTo>
                <a:lnTo>
                  <a:pt x="358" y="2128"/>
                </a:lnTo>
                <a:lnTo>
                  <a:pt x="358" y="2161"/>
                </a:lnTo>
                <a:lnTo>
                  <a:pt x="358" y="2193"/>
                </a:lnTo>
                <a:lnTo>
                  <a:pt x="358" y="2226"/>
                </a:lnTo>
                <a:lnTo>
                  <a:pt x="347" y="2259"/>
                </a:lnTo>
                <a:lnTo>
                  <a:pt x="347" y="2292"/>
                </a:lnTo>
                <a:lnTo>
                  <a:pt x="347" y="2324"/>
                </a:lnTo>
                <a:lnTo>
                  <a:pt x="347" y="2357"/>
                </a:lnTo>
                <a:lnTo>
                  <a:pt x="347" y="2390"/>
                </a:lnTo>
                <a:lnTo>
                  <a:pt x="347" y="2422"/>
                </a:lnTo>
                <a:lnTo>
                  <a:pt x="347" y="2455"/>
                </a:lnTo>
                <a:lnTo>
                  <a:pt x="347" y="2488"/>
                </a:lnTo>
                <a:lnTo>
                  <a:pt x="336" y="2521"/>
                </a:lnTo>
                <a:lnTo>
                  <a:pt x="336" y="2553"/>
                </a:lnTo>
                <a:lnTo>
                  <a:pt x="336" y="2586"/>
                </a:lnTo>
                <a:lnTo>
                  <a:pt x="336" y="2619"/>
                </a:lnTo>
                <a:lnTo>
                  <a:pt x="336" y="2652"/>
                </a:lnTo>
                <a:lnTo>
                  <a:pt x="336" y="2684"/>
                </a:lnTo>
                <a:lnTo>
                  <a:pt x="336" y="2717"/>
                </a:lnTo>
                <a:lnTo>
                  <a:pt x="336" y="2750"/>
                </a:lnTo>
                <a:lnTo>
                  <a:pt x="336" y="2783"/>
                </a:lnTo>
                <a:lnTo>
                  <a:pt x="325" y="2815"/>
                </a:lnTo>
                <a:lnTo>
                  <a:pt x="325" y="2848"/>
                </a:lnTo>
                <a:lnTo>
                  <a:pt x="325" y="2881"/>
                </a:lnTo>
                <a:lnTo>
                  <a:pt x="314" y="2914"/>
                </a:lnTo>
                <a:lnTo>
                  <a:pt x="314" y="2946"/>
                </a:lnTo>
                <a:lnTo>
                  <a:pt x="314" y="2979"/>
                </a:lnTo>
                <a:lnTo>
                  <a:pt x="314" y="3012"/>
                </a:lnTo>
                <a:lnTo>
                  <a:pt x="314" y="3045"/>
                </a:lnTo>
                <a:lnTo>
                  <a:pt x="281" y="3066"/>
                </a:lnTo>
                <a:lnTo>
                  <a:pt x="249" y="3066"/>
                </a:lnTo>
                <a:lnTo>
                  <a:pt x="227" y="3034"/>
                </a:lnTo>
                <a:lnTo>
                  <a:pt x="205" y="3001"/>
                </a:lnTo>
                <a:lnTo>
                  <a:pt x="183" y="2968"/>
                </a:lnTo>
                <a:lnTo>
                  <a:pt x="172" y="2935"/>
                </a:lnTo>
                <a:lnTo>
                  <a:pt x="172" y="2903"/>
                </a:lnTo>
                <a:lnTo>
                  <a:pt x="205" y="2892"/>
                </a:lnTo>
                <a:lnTo>
                  <a:pt x="216" y="2859"/>
                </a:lnTo>
                <a:lnTo>
                  <a:pt x="216" y="2826"/>
                </a:lnTo>
                <a:lnTo>
                  <a:pt x="183" y="2815"/>
                </a:lnTo>
                <a:lnTo>
                  <a:pt x="161" y="2783"/>
                </a:lnTo>
                <a:lnTo>
                  <a:pt x="161" y="2750"/>
                </a:lnTo>
                <a:lnTo>
                  <a:pt x="194" y="2728"/>
                </a:lnTo>
                <a:lnTo>
                  <a:pt x="216" y="2695"/>
                </a:lnTo>
                <a:lnTo>
                  <a:pt x="227" y="2663"/>
                </a:lnTo>
                <a:lnTo>
                  <a:pt x="205" y="2630"/>
                </a:lnTo>
                <a:lnTo>
                  <a:pt x="194" y="2597"/>
                </a:lnTo>
                <a:lnTo>
                  <a:pt x="216" y="2564"/>
                </a:lnTo>
                <a:lnTo>
                  <a:pt x="238" y="2532"/>
                </a:lnTo>
                <a:lnTo>
                  <a:pt x="238" y="2499"/>
                </a:lnTo>
                <a:lnTo>
                  <a:pt x="205" y="2477"/>
                </a:lnTo>
                <a:lnTo>
                  <a:pt x="205" y="2444"/>
                </a:lnTo>
                <a:lnTo>
                  <a:pt x="205" y="2412"/>
                </a:lnTo>
                <a:lnTo>
                  <a:pt x="227" y="2379"/>
                </a:lnTo>
                <a:lnTo>
                  <a:pt x="238" y="2346"/>
                </a:lnTo>
                <a:lnTo>
                  <a:pt x="216" y="2313"/>
                </a:lnTo>
                <a:lnTo>
                  <a:pt x="216" y="2281"/>
                </a:lnTo>
                <a:lnTo>
                  <a:pt x="249" y="2259"/>
                </a:lnTo>
                <a:lnTo>
                  <a:pt x="249" y="2226"/>
                </a:lnTo>
                <a:lnTo>
                  <a:pt x="216" y="2215"/>
                </a:lnTo>
                <a:lnTo>
                  <a:pt x="205" y="2182"/>
                </a:lnTo>
                <a:lnTo>
                  <a:pt x="205" y="2150"/>
                </a:lnTo>
                <a:lnTo>
                  <a:pt x="238" y="2128"/>
                </a:lnTo>
                <a:lnTo>
                  <a:pt x="249" y="2095"/>
                </a:lnTo>
                <a:lnTo>
                  <a:pt x="227" y="2062"/>
                </a:lnTo>
                <a:lnTo>
                  <a:pt x="227" y="2030"/>
                </a:lnTo>
                <a:lnTo>
                  <a:pt x="227" y="1997"/>
                </a:lnTo>
                <a:lnTo>
                  <a:pt x="249" y="1964"/>
                </a:lnTo>
                <a:lnTo>
                  <a:pt x="249" y="1931"/>
                </a:lnTo>
                <a:lnTo>
                  <a:pt x="238" y="1899"/>
                </a:lnTo>
                <a:lnTo>
                  <a:pt x="260" y="1866"/>
                </a:lnTo>
                <a:lnTo>
                  <a:pt x="260" y="1833"/>
                </a:lnTo>
                <a:lnTo>
                  <a:pt x="270" y="1800"/>
                </a:lnTo>
                <a:lnTo>
                  <a:pt x="292" y="1768"/>
                </a:lnTo>
                <a:lnTo>
                  <a:pt x="270" y="1735"/>
                </a:lnTo>
                <a:lnTo>
                  <a:pt x="270" y="1702"/>
                </a:lnTo>
                <a:lnTo>
                  <a:pt x="270" y="1669"/>
                </a:lnTo>
                <a:lnTo>
                  <a:pt x="281" y="1637"/>
                </a:lnTo>
                <a:lnTo>
                  <a:pt x="281" y="1604"/>
                </a:lnTo>
                <a:lnTo>
                  <a:pt x="270" y="1571"/>
                </a:lnTo>
                <a:lnTo>
                  <a:pt x="249" y="1538"/>
                </a:lnTo>
                <a:lnTo>
                  <a:pt x="249" y="1506"/>
                </a:lnTo>
                <a:lnTo>
                  <a:pt x="249" y="1473"/>
                </a:lnTo>
                <a:lnTo>
                  <a:pt x="281" y="1451"/>
                </a:lnTo>
                <a:lnTo>
                  <a:pt x="314" y="1440"/>
                </a:lnTo>
                <a:lnTo>
                  <a:pt x="314" y="1397"/>
                </a:lnTo>
                <a:lnTo>
                  <a:pt x="314" y="1364"/>
                </a:lnTo>
                <a:lnTo>
                  <a:pt x="292" y="1331"/>
                </a:lnTo>
                <a:lnTo>
                  <a:pt x="292" y="1298"/>
                </a:lnTo>
                <a:lnTo>
                  <a:pt x="303" y="1266"/>
                </a:lnTo>
                <a:lnTo>
                  <a:pt x="314" y="1233"/>
                </a:lnTo>
                <a:lnTo>
                  <a:pt x="314" y="1200"/>
                </a:lnTo>
                <a:lnTo>
                  <a:pt x="281" y="1178"/>
                </a:lnTo>
                <a:lnTo>
                  <a:pt x="270" y="1146"/>
                </a:lnTo>
                <a:lnTo>
                  <a:pt x="270" y="1113"/>
                </a:lnTo>
                <a:lnTo>
                  <a:pt x="303" y="1080"/>
                </a:lnTo>
                <a:lnTo>
                  <a:pt x="314" y="1047"/>
                </a:lnTo>
                <a:lnTo>
                  <a:pt x="314" y="1015"/>
                </a:lnTo>
                <a:lnTo>
                  <a:pt x="314" y="982"/>
                </a:lnTo>
                <a:lnTo>
                  <a:pt x="336" y="949"/>
                </a:lnTo>
                <a:lnTo>
                  <a:pt x="369" y="927"/>
                </a:lnTo>
                <a:lnTo>
                  <a:pt x="380" y="895"/>
                </a:lnTo>
                <a:lnTo>
                  <a:pt x="347" y="873"/>
                </a:lnTo>
                <a:lnTo>
                  <a:pt x="314" y="862"/>
                </a:lnTo>
                <a:lnTo>
                  <a:pt x="303" y="829"/>
                </a:lnTo>
                <a:lnTo>
                  <a:pt x="303" y="796"/>
                </a:lnTo>
                <a:lnTo>
                  <a:pt x="336" y="764"/>
                </a:lnTo>
                <a:lnTo>
                  <a:pt x="347" y="731"/>
                </a:lnTo>
                <a:lnTo>
                  <a:pt x="347" y="698"/>
                </a:lnTo>
                <a:lnTo>
                  <a:pt x="314" y="698"/>
                </a:lnTo>
                <a:lnTo>
                  <a:pt x="292" y="665"/>
                </a:lnTo>
                <a:lnTo>
                  <a:pt x="292" y="633"/>
                </a:lnTo>
                <a:lnTo>
                  <a:pt x="303" y="600"/>
                </a:lnTo>
                <a:lnTo>
                  <a:pt x="325" y="567"/>
                </a:lnTo>
                <a:lnTo>
                  <a:pt x="314" y="534"/>
                </a:lnTo>
                <a:lnTo>
                  <a:pt x="281" y="534"/>
                </a:lnTo>
                <a:lnTo>
                  <a:pt x="270" y="502"/>
                </a:lnTo>
                <a:lnTo>
                  <a:pt x="270" y="469"/>
                </a:lnTo>
                <a:lnTo>
                  <a:pt x="281" y="436"/>
                </a:lnTo>
                <a:lnTo>
                  <a:pt x="303" y="403"/>
                </a:lnTo>
                <a:lnTo>
                  <a:pt x="270" y="382"/>
                </a:lnTo>
                <a:lnTo>
                  <a:pt x="238" y="349"/>
                </a:lnTo>
                <a:lnTo>
                  <a:pt x="238" y="316"/>
                </a:lnTo>
                <a:lnTo>
                  <a:pt x="238" y="283"/>
                </a:lnTo>
                <a:lnTo>
                  <a:pt x="205" y="283"/>
                </a:lnTo>
                <a:lnTo>
                  <a:pt x="183" y="251"/>
                </a:lnTo>
                <a:lnTo>
                  <a:pt x="183" y="218"/>
                </a:lnTo>
                <a:lnTo>
                  <a:pt x="150" y="207"/>
                </a:lnTo>
                <a:lnTo>
                  <a:pt x="140" y="174"/>
                </a:lnTo>
                <a:lnTo>
                  <a:pt x="140" y="142"/>
                </a:lnTo>
                <a:lnTo>
                  <a:pt x="107" y="142"/>
                </a:lnTo>
                <a:lnTo>
                  <a:pt x="74" y="142"/>
                </a:lnTo>
                <a:lnTo>
                  <a:pt x="52" y="109"/>
                </a:lnTo>
                <a:lnTo>
                  <a:pt x="52" y="76"/>
                </a:lnTo>
                <a:lnTo>
                  <a:pt x="48" y="81"/>
                </a:lnTo>
              </a:path>
            </a:pathLst>
          </a:custGeom>
          <a:pattFill prst="smCheck">
            <a:fgClr>
              <a:srgbClr val="0000ff"/>
            </a:fgClr>
            <a:bgClr>
              <a:srgbClr val="ffffff"/>
            </a:bgClr>
          </a:patt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Line 35"/>
          <p:cNvSpPr/>
          <p:nvPr/>
        </p:nvSpPr>
        <p:spPr>
          <a:xfrm>
            <a:off x="1904760" y="5867280"/>
            <a:ext cx="2895840" cy="360"/>
          </a:xfrm>
          <a:prstGeom prst="line">
            <a:avLst/>
          </a:prstGeom>
          <a:ln w="12700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Line 36"/>
          <p:cNvSpPr/>
          <p:nvPr/>
        </p:nvSpPr>
        <p:spPr>
          <a:xfrm>
            <a:off x="2286000" y="1295280"/>
            <a:ext cx="152280" cy="22860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Line 37"/>
          <p:cNvSpPr/>
          <p:nvPr/>
        </p:nvSpPr>
        <p:spPr>
          <a:xfrm>
            <a:off x="2019240" y="1562040"/>
            <a:ext cx="228600" cy="15228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Line 38"/>
          <p:cNvSpPr/>
          <p:nvPr/>
        </p:nvSpPr>
        <p:spPr>
          <a:xfrm flipV="1">
            <a:off x="1920600" y="2012760"/>
            <a:ext cx="273240" cy="1260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ine 39"/>
          <p:cNvSpPr/>
          <p:nvPr/>
        </p:nvSpPr>
        <p:spPr>
          <a:xfrm flipV="1">
            <a:off x="1920600" y="2393640"/>
            <a:ext cx="273240" cy="1296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ine 40"/>
          <p:cNvSpPr/>
          <p:nvPr/>
        </p:nvSpPr>
        <p:spPr>
          <a:xfrm flipV="1">
            <a:off x="2008080" y="2728800"/>
            <a:ext cx="250920" cy="10476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ine 41"/>
          <p:cNvSpPr/>
          <p:nvPr/>
        </p:nvSpPr>
        <p:spPr>
          <a:xfrm flipV="1">
            <a:off x="2225520" y="4451040"/>
            <a:ext cx="272880" cy="1296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Line 42"/>
          <p:cNvSpPr/>
          <p:nvPr/>
        </p:nvSpPr>
        <p:spPr>
          <a:xfrm flipV="1">
            <a:off x="2225520" y="3841560"/>
            <a:ext cx="272880" cy="1260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Line 43"/>
          <p:cNvSpPr/>
          <p:nvPr/>
        </p:nvSpPr>
        <p:spPr>
          <a:xfrm flipV="1">
            <a:off x="2225520" y="4832280"/>
            <a:ext cx="272880" cy="1260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Line 44"/>
          <p:cNvSpPr/>
          <p:nvPr/>
        </p:nvSpPr>
        <p:spPr>
          <a:xfrm flipV="1">
            <a:off x="2149200" y="5289480"/>
            <a:ext cx="273240" cy="12600"/>
          </a:xfrm>
          <a:prstGeom prst="line">
            <a:avLst/>
          </a:prstGeom>
          <a:ln w="50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45"/>
          <p:cNvSpPr/>
          <p:nvPr/>
        </p:nvSpPr>
        <p:spPr>
          <a:xfrm>
            <a:off x="2268360" y="944640"/>
            <a:ext cx="1923840" cy="27576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275760"/>
              <a:gd name="textAreaBottom" fmla="*/ 276120 h 275760"/>
            </a:gdLst>
            <a:ahLst/>
            <a:rect l="textAreaLeft" t="textAreaTop" r="textAreaRight" b="textAreaBottom"/>
            <a:pathLst>
              <a:path w="1212" h="174">
                <a:moveTo>
                  <a:pt x="11" y="173"/>
                </a:moveTo>
                <a:lnTo>
                  <a:pt x="0" y="120"/>
                </a:lnTo>
                <a:lnTo>
                  <a:pt x="33" y="120"/>
                </a:lnTo>
                <a:lnTo>
                  <a:pt x="65" y="109"/>
                </a:lnTo>
                <a:lnTo>
                  <a:pt x="98" y="87"/>
                </a:lnTo>
                <a:lnTo>
                  <a:pt x="131" y="76"/>
                </a:lnTo>
                <a:lnTo>
                  <a:pt x="163" y="55"/>
                </a:lnTo>
                <a:lnTo>
                  <a:pt x="196" y="44"/>
                </a:lnTo>
                <a:lnTo>
                  <a:pt x="229" y="33"/>
                </a:lnTo>
                <a:lnTo>
                  <a:pt x="262" y="22"/>
                </a:lnTo>
                <a:lnTo>
                  <a:pt x="294" y="22"/>
                </a:lnTo>
                <a:lnTo>
                  <a:pt x="327" y="22"/>
                </a:lnTo>
                <a:lnTo>
                  <a:pt x="360" y="22"/>
                </a:lnTo>
                <a:lnTo>
                  <a:pt x="393" y="22"/>
                </a:lnTo>
                <a:lnTo>
                  <a:pt x="425" y="22"/>
                </a:lnTo>
                <a:lnTo>
                  <a:pt x="458" y="22"/>
                </a:lnTo>
                <a:lnTo>
                  <a:pt x="491" y="22"/>
                </a:lnTo>
                <a:lnTo>
                  <a:pt x="524" y="11"/>
                </a:lnTo>
                <a:lnTo>
                  <a:pt x="556" y="11"/>
                </a:lnTo>
                <a:lnTo>
                  <a:pt x="589" y="11"/>
                </a:lnTo>
                <a:lnTo>
                  <a:pt x="622" y="11"/>
                </a:lnTo>
                <a:lnTo>
                  <a:pt x="654" y="0"/>
                </a:lnTo>
                <a:lnTo>
                  <a:pt x="698" y="0"/>
                </a:lnTo>
                <a:lnTo>
                  <a:pt x="731" y="0"/>
                </a:lnTo>
                <a:lnTo>
                  <a:pt x="764" y="0"/>
                </a:lnTo>
                <a:lnTo>
                  <a:pt x="796" y="0"/>
                </a:lnTo>
                <a:lnTo>
                  <a:pt x="829" y="0"/>
                </a:lnTo>
                <a:lnTo>
                  <a:pt x="873" y="11"/>
                </a:lnTo>
                <a:lnTo>
                  <a:pt x="905" y="22"/>
                </a:lnTo>
                <a:lnTo>
                  <a:pt x="938" y="22"/>
                </a:lnTo>
                <a:lnTo>
                  <a:pt x="971" y="44"/>
                </a:lnTo>
                <a:lnTo>
                  <a:pt x="1004" y="44"/>
                </a:lnTo>
                <a:lnTo>
                  <a:pt x="1036" y="55"/>
                </a:lnTo>
                <a:lnTo>
                  <a:pt x="1069" y="65"/>
                </a:lnTo>
                <a:lnTo>
                  <a:pt x="1102" y="65"/>
                </a:lnTo>
                <a:lnTo>
                  <a:pt x="1135" y="76"/>
                </a:lnTo>
                <a:lnTo>
                  <a:pt x="1167" y="76"/>
                </a:lnTo>
                <a:lnTo>
                  <a:pt x="1211" y="77"/>
                </a:lnTo>
              </a:path>
            </a:pathLst>
          </a:custGeom>
          <a:noFill/>
          <a:ln cap="rnd" w="762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46"/>
          <p:cNvSpPr/>
          <p:nvPr/>
        </p:nvSpPr>
        <p:spPr>
          <a:xfrm>
            <a:off x="1973160" y="1706400"/>
            <a:ext cx="174240" cy="209160"/>
          </a:xfrm>
          <a:custGeom>
            <a:avLst/>
            <a:gdLst>
              <a:gd name="textAreaLeft" fmla="*/ 0 w 174240"/>
              <a:gd name="textAreaRight" fmla="*/ 174600 w 174240"/>
              <a:gd name="textAreaTop" fmla="*/ 0 h 209160"/>
              <a:gd name="textAreaBottom" fmla="*/ 209520 h 209160"/>
            </a:gdLst>
            <a:ahLst/>
            <a:rect l="textAreaLeft" t="textAreaTop" r="textAreaRight" b="textAreaBottom"/>
            <a:pathLst>
              <a:path w="110" h="132">
                <a:moveTo>
                  <a:pt x="101" y="77"/>
                </a:moveTo>
                <a:lnTo>
                  <a:pt x="77" y="131"/>
                </a:lnTo>
                <a:lnTo>
                  <a:pt x="101" y="77"/>
                </a:lnTo>
                <a:lnTo>
                  <a:pt x="55" y="44"/>
                </a:lnTo>
                <a:lnTo>
                  <a:pt x="44" y="77"/>
                </a:lnTo>
                <a:lnTo>
                  <a:pt x="44" y="109"/>
                </a:lnTo>
                <a:lnTo>
                  <a:pt x="77" y="131"/>
                </a:lnTo>
                <a:lnTo>
                  <a:pt x="109" y="131"/>
                </a:lnTo>
                <a:lnTo>
                  <a:pt x="101" y="77"/>
                </a:lnTo>
                <a:lnTo>
                  <a:pt x="109" y="33"/>
                </a:lnTo>
                <a:lnTo>
                  <a:pt x="77" y="11"/>
                </a:lnTo>
                <a:lnTo>
                  <a:pt x="44" y="0"/>
                </a:lnTo>
                <a:lnTo>
                  <a:pt x="11" y="22"/>
                </a:lnTo>
                <a:lnTo>
                  <a:pt x="0" y="55"/>
                </a:lnTo>
                <a:lnTo>
                  <a:pt x="5" y="77"/>
                </a:lnTo>
              </a:path>
            </a:pathLst>
          </a:custGeom>
          <a:noFill/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47"/>
          <p:cNvSpPr/>
          <p:nvPr/>
        </p:nvSpPr>
        <p:spPr>
          <a:xfrm>
            <a:off x="2201760" y="3078000"/>
            <a:ext cx="174240" cy="209160"/>
          </a:xfrm>
          <a:custGeom>
            <a:avLst/>
            <a:gdLst>
              <a:gd name="textAreaLeft" fmla="*/ 0 w 174240"/>
              <a:gd name="textAreaRight" fmla="*/ 174600 w 174240"/>
              <a:gd name="textAreaTop" fmla="*/ 0 h 209160"/>
              <a:gd name="textAreaBottom" fmla="*/ 209520 h 209160"/>
            </a:gdLst>
            <a:ahLst/>
            <a:rect l="textAreaLeft" t="textAreaTop" r="textAreaRight" b="textAreaBottom"/>
            <a:pathLst>
              <a:path w="110" h="132">
                <a:moveTo>
                  <a:pt x="101" y="77"/>
                </a:moveTo>
                <a:lnTo>
                  <a:pt x="77" y="131"/>
                </a:lnTo>
                <a:lnTo>
                  <a:pt x="101" y="77"/>
                </a:lnTo>
                <a:lnTo>
                  <a:pt x="55" y="44"/>
                </a:lnTo>
                <a:lnTo>
                  <a:pt x="44" y="77"/>
                </a:lnTo>
                <a:lnTo>
                  <a:pt x="44" y="109"/>
                </a:lnTo>
                <a:lnTo>
                  <a:pt x="77" y="131"/>
                </a:lnTo>
                <a:lnTo>
                  <a:pt x="109" y="131"/>
                </a:lnTo>
                <a:lnTo>
                  <a:pt x="101" y="77"/>
                </a:lnTo>
                <a:lnTo>
                  <a:pt x="109" y="33"/>
                </a:lnTo>
                <a:lnTo>
                  <a:pt x="77" y="11"/>
                </a:lnTo>
                <a:lnTo>
                  <a:pt x="44" y="0"/>
                </a:lnTo>
                <a:lnTo>
                  <a:pt x="11" y="22"/>
                </a:lnTo>
                <a:lnTo>
                  <a:pt x="0" y="55"/>
                </a:lnTo>
                <a:lnTo>
                  <a:pt x="5" y="77"/>
                </a:lnTo>
              </a:path>
            </a:pathLst>
          </a:custGeom>
          <a:noFill/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48"/>
          <p:cNvSpPr/>
          <p:nvPr/>
        </p:nvSpPr>
        <p:spPr>
          <a:xfrm>
            <a:off x="2049480" y="2544840"/>
            <a:ext cx="174240" cy="209160"/>
          </a:xfrm>
          <a:custGeom>
            <a:avLst/>
            <a:gdLst>
              <a:gd name="textAreaLeft" fmla="*/ 0 w 174240"/>
              <a:gd name="textAreaRight" fmla="*/ 174600 w 174240"/>
              <a:gd name="textAreaTop" fmla="*/ 0 h 209160"/>
              <a:gd name="textAreaBottom" fmla="*/ 209520 h 209160"/>
            </a:gdLst>
            <a:ahLst/>
            <a:rect l="textAreaLeft" t="textAreaTop" r="textAreaRight" b="textAreaBottom"/>
            <a:pathLst>
              <a:path w="110" h="132">
                <a:moveTo>
                  <a:pt x="101" y="77"/>
                </a:moveTo>
                <a:lnTo>
                  <a:pt x="77" y="131"/>
                </a:lnTo>
                <a:lnTo>
                  <a:pt x="101" y="77"/>
                </a:lnTo>
                <a:lnTo>
                  <a:pt x="55" y="44"/>
                </a:lnTo>
                <a:lnTo>
                  <a:pt x="44" y="77"/>
                </a:lnTo>
                <a:lnTo>
                  <a:pt x="44" y="109"/>
                </a:lnTo>
                <a:lnTo>
                  <a:pt x="77" y="131"/>
                </a:lnTo>
                <a:lnTo>
                  <a:pt x="109" y="131"/>
                </a:lnTo>
                <a:lnTo>
                  <a:pt x="101" y="77"/>
                </a:lnTo>
                <a:lnTo>
                  <a:pt x="109" y="33"/>
                </a:lnTo>
                <a:lnTo>
                  <a:pt x="77" y="11"/>
                </a:lnTo>
                <a:lnTo>
                  <a:pt x="44" y="0"/>
                </a:lnTo>
                <a:lnTo>
                  <a:pt x="11" y="22"/>
                </a:lnTo>
                <a:lnTo>
                  <a:pt x="0" y="55"/>
                </a:lnTo>
                <a:lnTo>
                  <a:pt x="5" y="77"/>
                </a:lnTo>
              </a:path>
            </a:pathLst>
          </a:custGeom>
          <a:noFill/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49"/>
          <p:cNvSpPr/>
          <p:nvPr/>
        </p:nvSpPr>
        <p:spPr>
          <a:xfrm>
            <a:off x="2201760" y="4983120"/>
            <a:ext cx="174240" cy="209160"/>
          </a:xfrm>
          <a:custGeom>
            <a:avLst/>
            <a:gdLst>
              <a:gd name="textAreaLeft" fmla="*/ 0 w 174240"/>
              <a:gd name="textAreaRight" fmla="*/ 174600 w 174240"/>
              <a:gd name="textAreaTop" fmla="*/ 0 h 209160"/>
              <a:gd name="textAreaBottom" fmla="*/ 209520 h 209160"/>
            </a:gdLst>
            <a:ahLst/>
            <a:rect l="textAreaLeft" t="textAreaTop" r="textAreaRight" b="textAreaBottom"/>
            <a:pathLst>
              <a:path w="110" h="132">
                <a:moveTo>
                  <a:pt x="101" y="77"/>
                </a:moveTo>
                <a:lnTo>
                  <a:pt x="77" y="131"/>
                </a:lnTo>
                <a:lnTo>
                  <a:pt x="101" y="77"/>
                </a:lnTo>
                <a:lnTo>
                  <a:pt x="55" y="44"/>
                </a:lnTo>
                <a:lnTo>
                  <a:pt x="44" y="77"/>
                </a:lnTo>
                <a:lnTo>
                  <a:pt x="44" y="109"/>
                </a:lnTo>
                <a:lnTo>
                  <a:pt x="77" y="131"/>
                </a:lnTo>
                <a:lnTo>
                  <a:pt x="109" y="131"/>
                </a:lnTo>
                <a:lnTo>
                  <a:pt x="101" y="77"/>
                </a:lnTo>
                <a:lnTo>
                  <a:pt x="109" y="33"/>
                </a:lnTo>
                <a:lnTo>
                  <a:pt x="77" y="11"/>
                </a:lnTo>
                <a:lnTo>
                  <a:pt x="44" y="0"/>
                </a:lnTo>
                <a:lnTo>
                  <a:pt x="11" y="22"/>
                </a:lnTo>
                <a:lnTo>
                  <a:pt x="0" y="55"/>
                </a:lnTo>
                <a:lnTo>
                  <a:pt x="5" y="77"/>
                </a:lnTo>
              </a:path>
            </a:pathLst>
          </a:custGeom>
          <a:noFill/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50"/>
          <p:cNvSpPr/>
          <p:nvPr/>
        </p:nvSpPr>
        <p:spPr>
          <a:xfrm>
            <a:off x="2278080" y="4068720"/>
            <a:ext cx="174240" cy="209160"/>
          </a:xfrm>
          <a:custGeom>
            <a:avLst/>
            <a:gdLst>
              <a:gd name="textAreaLeft" fmla="*/ 0 w 174240"/>
              <a:gd name="textAreaRight" fmla="*/ 174600 w 174240"/>
              <a:gd name="textAreaTop" fmla="*/ 0 h 209160"/>
              <a:gd name="textAreaBottom" fmla="*/ 209520 h 209160"/>
            </a:gdLst>
            <a:ahLst/>
            <a:rect l="textAreaLeft" t="textAreaTop" r="textAreaRight" b="textAreaBottom"/>
            <a:pathLst>
              <a:path w="110" h="132">
                <a:moveTo>
                  <a:pt x="101" y="77"/>
                </a:moveTo>
                <a:lnTo>
                  <a:pt x="77" y="131"/>
                </a:lnTo>
                <a:lnTo>
                  <a:pt x="101" y="77"/>
                </a:lnTo>
                <a:lnTo>
                  <a:pt x="55" y="44"/>
                </a:lnTo>
                <a:lnTo>
                  <a:pt x="44" y="77"/>
                </a:lnTo>
                <a:lnTo>
                  <a:pt x="44" y="109"/>
                </a:lnTo>
                <a:lnTo>
                  <a:pt x="77" y="131"/>
                </a:lnTo>
                <a:lnTo>
                  <a:pt x="109" y="131"/>
                </a:lnTo>
                <a:lnTo>
                  <a:pt x="101" y="77"/>
                </a:lnTo>
                <a:lnTo>
                  <a:pt x="109" y="33"/>
                </a:lnTo>
                <a:lnTo>
                  <a:pt x="77" y="11"/>
                </a:lnTo>
                <a:lnTo>
                  <a:pt x="44" y="0"/>
                </a:lnTo>
                <a:lnTo>
                  <a:pt x="11" y="22"/>
                </a:lnTo>
                <a:lnTo>
                  <a:pt x="0" y="55"/>
                </a:lnTo>
                <a:lnTo>
                  <a:pt x="5" y="77"/>
                </a:lnTo>
              </a:path>
            </a:pathLst>
          </a:custGeom>
          <a:noFill/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Rectangle 51"/>
          <p:cNvSpPr/>
          <p:nvPr/>
        </p:nvSpPr>
        <p:spPr>
          <a:xfrm>
            <a:off x="6400800" y="76320"/>
            <a:ext cx="1752120" cy="91476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</a:pPr>
            <a:r>
              <a:rPr b="1" lang="ru-RU" sz="5400" spc="-1" strike="noStrike">
                <a:solidFill>
                  <a:schemeClr val="accent2"/>
                </a:solidFill>
                <a:latin typeface="Calibri"/>
              </a:rPr>
              <a:t>LI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52"/>
          <p:cNvSpPr/>
          <p:nvPr/>
        </p:nvSpPr>
        <p:spPr>
          <a:xfrm flipH="1">
            <a:off x="76320" y="88920"/>
            <a:ext cx="2971440" cy="153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6633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ff6633"/>
                </a:solidFill>
                <a:latin typeface="Calibri"/>
              </a:rPr>
              <a:t>RED MARG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6633"/>
                </a:solidFill>
                <a:latin typeface="Calibri"/>
              </a:rPr>
              <a:t>VERMILION </a:t>
            </a:r>
            <a:r>
              <a:rPr b="1" lang="en-US" sz="2800" spc="-1" strike="noStrike" u="sng">
                <a:solidFill>
                  <a:srgbClr val="ff6633"/>
                </a:solidFill>
                <a:uFillTx/>
                <a:latin typeface="Calibri"/>
              </a:rPr>
              <a:t>trans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53"/>
          <p:cNvSpPr/>
          <p:nvPr/>
        </p:nvSpPr>
        <p:spPr>
          <a:xfrm>
            <a:off x="2436840" y="228600"/>
            <a:ext cx="991800" cy="533160"/>
          </a:xfrm>
          <a:custGeom>
            <a:avLst/>
            <a:gdLst>
              <a:gd name="textAreaLeft" fmla="*/ 0 w 991800"/>
              <a:gd name="textAreaRight" fmla="*/ 992160 w 9918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fill="none" w="21635" h="21600">
                <a:moveTo>
                  <a:pt x="0" y="0"/>
                </a:moveTo>
                <a:cubicBezTo>
                  <a:pt x="11" y="0"/>
                  <a:pt x="23" y="-1"/>
                  <a:pt x="35" y="0"/>
                </a:cubicBezTo>
                <a:cubicBezTo>
                  <a:pt x="11964" y="0"/>
                  <a:pt x="21635" y="9670"/>
                  <a:pt x="21635" y="21600"/>
                </a:cubicBezTo>
              </a:path>
              <a:path stroke="0" w="21635" h="21600">
                <a:moveTo>
                  <a:pt x="0" y="0"/>
                </a:moveTo>
                <a:cubicBezTo>
                  <a:pt x="11" y="0"/>
                  <a:pt x="23" y="-1"/>
                  <a:pt x="35" y="0"/>
                </a:cubicBezTo>
                <a:cubicBezTo>
                  <a:pt x="11964" y="0"/>
                  <a:pt x="21635" y="9670"/>
                  <a:pt x="21635" y="21600"/>
                </a:cubicBezTo>
                <a:lnTo>
                  <a:pt x="35" y="21600"/>
                </a:lnTo>
                <a:close/>
              </a:path>
            </a:pathLst>
          </a:custGeom>
          <a:noFill/>
          <a:ln cap="rnd" w="12700">
            <a:solidFill>
              <a:srgbClr val="ff6633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4"/>
          <p:cNvSpPr/>
          <p:nvPr/>
        </p:nvSpPr>
        <p:spPr>
          <a:xfrm flipH="1">
            <a:off x="152280" y="3365640"/>
            <a:ext cx="2057040" cy="174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1.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HAIRY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Calibri"/>
              </a:rPr>
              <a:t>a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5"/>
          <p:cNvSpPr/>
          <p:nvPr/>
        </p:nvSpPr>
        <p:spPr>
          <a:xfrm>
            <a:off x="992160" y="2057400"/>
            <a:ext cx="761760" cy="114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142640"/>
              <a:gd name="textAreaBottom" fmla="*/ 1143000 h 114264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600"/>
                </a:moveTo>
                <a:cubicBezTo>
                  <a:pt x="0" y="9688"/>
                  <a:pt x="9643" y="24"/>
                  <a:pt x="21555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88"/>
                  <a:pt x="9643" y="24"/>
                  <a:pt x="21555" y="0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12700">
            <a:solidFill>
              <a:srgbClr val="f79646">
                <a:lumMod val="75000"/>
              </a:srgbClr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56"/>
          <p:cNvSpPr/>
          <p:nvPr/>
        </p:nvSpPr>
        <p:spPr>
          <a:xfrm flipH="1">
            <a:off x="2514600" y="5943600"/>
            <a:ext cx="1676160" cy="35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7"/>
          <p:cNvSpPr/>
          <p:nvPr/>
        </p:nvSpPr>
        <p:spPr>
          <a:xfrm flipH="1">
            <a:off x="5104800" y="1689120"/>
            <a:ext cx="4038120" cy="93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chemeClr val="hlink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chemeClr val="hlink"/>
                </a:solidFill>
                <a:latin typeface="Calibri"/>
              </a:rPr>
              <a:t>LABIAL MUCOSA  thick </a:t>
            </a:r>
            <a:r>
              <a:rPr b="1" lang="en-US" sz="2800" spc="-1" strike="noStrike" u="sng">
                <a:solidFill>
                  <a:schemeClr val="hlink"/>
                </a:solidFill>
                <a:uFillTx/>
                <a:latin typeface="Calibri"/>
              </a:rPr>
              <a:t>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58"/>
          <p:cNvSpPr/>
          <p:nvPr/>
        </p:nvSpPr>
        <p:spPr>
          <a:xfrm flipH="1">
            <a:off x="5257080" y="3137040"/>
            <a:ext cx="2742840" cy="50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66ccff"/>
                </a:solidFill>
                <a:latin typeface="Calibri"/>
              </a:rPr>
              <a:t>GLAND muc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59"/>
          <p:cNvSpPr/>
          <p:nvPr/>
        </p:nvSpPr>
        <p:spPr>
          <a:xfrm flipV="1">
            <a:off x="4343400" y="3352680"/>
            <a:ext cx="838080" cy="457200"/>
          </a:xfrm>
          <a:prstGeom prst="line">
            <a:avLst/>
          </a:prstGeom>
          <a:ln w="12700">
            <a:solidFill>
              <a:srgbClr val="66cc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60"/>
          <p:cNvSpPr/>
          <p:nvPr/>
        </p:nvSpPr>
        <p:spPr>
          <a:xfrm flipH="1">
            <a:off x="5403960" y="5035680"/>
            <a:ext cx="3288960" cy="35676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1" lang="ru-RU" sz="18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37"/>
          <p:cNvGrpSpPr/>
          <p:nvPr/>
        </p:nvGrpSpPr>
        <p:grpSpPr>
          <a:xfrm>
            <a:off x="22320" y="0"/>
            <a:ext cx="9730800" cy="6390720"/>
            <a:chOff x="22320" y="0"/>
            <a:chExt cx="9730800" cy="6390720"/>
          </a:xfrm>
        </p:grpSpPr>
        <p:sp>
          <p:nvSpPr>
            <p:cNvPr id="750" name="Rectangle 2"/>
            <p:cNvSpPr/>
            <p:nvPr/>
          </p:nvSpPr>
          <p:spPr>
            <a:xfrm>
              <a:off x="2209680" y="0"/>
              <a:ext cx="6629040" cy="91764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>
                <a:lnSpc>
                  <a:spcPct val="100000"/>
                </a:lnSpc>
                <a:spcBef>
                  <a:spcPts val="2701"/>
                </a:spcBef>
              </a:pPr>
              <a:r>
                <a:rPr b="1" lang="en-US" sz="5400" spc="-1" strike="noStrike">
                  <a:solidFill>
                    <a:schemeClr val="accent2"/>
                  </a:solidFill>
                  <a:latin typeface="Calibri"/>
                </a:rPr>
                <a:t>GUM (GINGIVA)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"/>
            <p:cNvSpPr/>
            <p:nvPr/>
          </p:nvSpPr>
          <p:spPr>
            <a:xfrm flipH="1">
              <a:off x="6039000" y="3894120"/>
              <a:ext cx="3104640" cy="566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1" lang="ru-RU" sz="3200" spc="-1" strike="noStrike">
                  <a:solidFill>
                    <a:srgbClr val="ff9999"/>
                  </a:solidFill>
                  <a:latin typeface="Calibri"/>
                </a:rPr>
                <a:t>FREE GING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Group 7"/>
            <p:cNvGrpSpPr/>
            <p:nvPr/>
          </p:nvGrpSpPr>
          <p:grpSpPr>
            <a:xfrm>
              <a:off x="2971800" y="2133720"/>
              <a:ext cx="2722320" cy="3810960"/>
              <a:chOff x="2971800" y="2133720"/>
              <a:chExt cx="2722320" cy="3810960"/>
            </a:xfrm>
          </p:grpSpPr>
          <p:sp>
            <p:nvSpPr>
              <p:cNvPr id="753" name="Freeform 4"/>
              <p:cNvSpPr/>
              <p:nvPr/>
            </p:nvSpPr>
            <p:spPr>
              <a:xfrm>
                <a:off x="3720960" y="3830760"/>
                <a:ext cx="1806120" cy="2037960"/>
              </a:xfrm>
              <a:custGeom>
                <a:avLst/>
                <a:gdLst>
                  <a:gd name="textAreaLeft" fmla="*/ 0 w 1806120"/>
                  <a:gd name="textAreaRight" fmla="*/ 1806480 w 1806120"/>
                  <a:gd name="textAreaTop" fmla="*/ 0 h 2037960"/>
                  <a:gd name="textAreaBottom" fmla="*/ 2038320 h 2037960"/>
                </a:gdLst>
                <a:ahLst/>
                <a:rect l="textAreaLeft" t="textAreaTop" r="textAreaRight" b="textAreaBottom"/>
                <a:pathLst>
                  <a:path w="1138" h="1284">
                    <a:moveTo>
                      <a:pt x="8" y="1283"/>
                    </a:moveTo>
                    <a:lnTo>
                      <a:pt x="63" y="1253"/>
                    </a:lnTo>
                    <a:lnTo>
                      <a:pt x="95" y="1253"/>
                    </a:lnTo>
                    <a:lnTo>
                      <a:pt x="126" y="1253"/>
                    </a:lnTo>
                    <a:lnTo>
                      <a:pt x="158" y="1253"/>
                    </a:lnTo>
                    <a:lnTo>
                      <a:pt x="189" y="1253"/>
                    </a:lnTo>
                    <a:lnTo>
                      <a:pt x="211" y="1253"/>
                    </a:lnTo>
                    <a:lnTo>
                      <a:pt x="242" y="1253"/>
                    </a:lnTo>
                    <a:lnTo>
                      <a:pt x="274" y="1242"/>
                    </a:lnTo>
                    <a:lnTo>
                      <a:pt x="305" y="1242"/>
                    </a:lnTo>
                    <a:lnTo>
                      <a:pt x="389" y="1242"/>
                    </a:lnTo>
                    <a:lnTo>
                      <a:pt x="453" y="1242"/>
                    </a:lnTo>
                    <a:lnTo>
                      <a:pt x="484" y="1242"/>
                    </a:lnTo>
                    <a:lnTo>
                      <a:pt x="516" y="1242"/>
                    </a:lnTo>
                    <a:lnTo>
                      <a:pt x="579" y="1242"/>
                    </a:lnTo>
                    <a:lnTo>
                      <a:pt x="610" y="1242"/>
                    </a:lnTo>
                    <a:lnTo>
                      <a:pt x="653" y="1242"/>
                    </a:lnTo>
                    <a:lnTo>
                      <a:pt x="726" y="1242"/>
                    </a:lnTo>
                    <a:lnTo>
                      <a:pt x="768" y="1242"/>
                    </a:lnTo>
                    <a:lnTo>
                      <a:pt x="800" y="1242"/>
                    </a:lnTo>
                    <a:lnTo>
                      <a:pt x="831" y="1242"/>
                    </a:lnTo>
                    <a:lnTo>
                      <a:pt x="863" y="1242"/>
                    </a:lnTo>
                    <a:lnTo>
                      <a:pt x="895" y="1253"/>
                    </a:lnTo>
                    <a:lnTo>
                      <a:pt x="926" y="1253"/>
                    </a:lnTo>
                    <a:lnTo>
                      <a:pt x="968" y="1253"/>
                    </a:lnTo>
                    <a:lnTo>
                      <a:pt x="1052" y="1253"/>
                    </a:lnTo>
                    <a:lnTo>
                      <a:pt x="1116" y="1253"/>
                    </a:lnTo>
                    <a:lnTo>
                      <a:pt x="1137" y="1231"/>
                    </a:lnTo>
                    <a:lnTo>
                      <a:pt x="1137" y="1200"/>
                    </a:lnTo>
                    <a:lnTo>
                      <a:pt x="1137" y="1168"/>
                    </a:lnTo>
                    <a:lnTo>
                      <a:pt x="1137" y="1137"/>
                    </a:lnTo>
                    <a:lnTo>
                      <a:pt x="1137" y="1105"/>
                    </a:lnTo>
                    <a:lnTo>
                      <a:pt x="1137" y="1074"/>
                    </a:lnTo>
                    <a:lnTo>
                      <a:pt x="1137" y="1052"/>
                    </a:lnTo>
                    <a:lnTo>
                      <a:pt x="1137" y="1021"/>
                    </a:lnTo>
                    <a:lnTo>
                      <a:pt x="1116" y="989"/>
                    </a:lnTo>
                    <a:lnTo>
                      <a:pt x="1116" y="958"/>
                    </a:lnTo>
                    <a:lnTo>
                      <a:pt x="1116" y="926"/>
                    </a:lnTo>
                    <a:lnTo>
                      <a:pt x="1105" y="895"/>
                    </a:lnTo>
                    <a:lnTo>
                      <a:pt x="1105" y="873"/>
                    </a:lnTo>
                    <a:lnTo>
                      <a:pt x="1084" y="842"/>
                    </a:lnTo>
                    <a:lnTo>
                      <a:pt x="1073" y="810"/>
                    </a:lnTo>
                    <a:lnTo>
                      <a:pt x="1073" y="779"/>
                    </a:lnTo>
                    <a:lnTo>
                      <a:pt x="1063" y="747"/>
                    </a:lnTo>
                    <a:lnTo>
                      <a:pt x="1052" y="716"/>
                    </a:lnTo>
                    <a:lnTo>
                      <a:pt x="1031" y="684"/>
                    </a:lnTo>
                    <a:lnTo>
                      <a:pt x="1031" y="652"/>
                    </a:lnTo>
                    <a:lnTo>
                      <a:pt x="1021" y="621"/>
                    </a:lnTo>
                    <a:lnTo>
                      <a:pt x="1000" y="589"/>
                    </a:lnTo>
                    <a:lnTo>
                      <a:pt x="989" y="558"/>
                    </a:lnTo>
                    <a:lnTo>
                      <a:pt x="989" y="526"/>
                    </a:lnTo>
                    <a:lnTo>
                      <a:pt x="979" y="494"/>
                    </a:lnTo>
                    <a:lnTo>
                      <a:pt x="968" y="463"/>
                    </a:lnTo>
                    <a:lnTo>
                      <a:pt x="958" y="431"/>
                    </a:lnTo>
                    <a:lnTo>
                      <a:pt x="947" y="400"/>
                    </a:lnTo>
                    <a:lnTo>
                      <a:pt x="947" y="368"/>
                    </a:lnTo>
                    <a:lnTo>
                      <a:pt x="937" y="337"/>
                    </a:lnTo>
                    <a:lnTo>
                      <a:pt x="926" y="305"/>
                    </a:lnTo>
                    <a:lnTo>
                      <a:pt x="916" y="273"/>
                    </a:lnTo>
                    <a:lnTo>
                      <a:pt x="905" y="242"/>
                    </a:lnTo>
                    <a:lnTo>
                      <a:pt x="895" y="210"/>
                    </a:lnTo>
                    <a:lnTo>
                      <a:pt x="863" y="189"/>
                    </a:lnTo>
                    <a:lnTo>
                      <a:pt x="852" y="158"/>
                    </a:lnTo>
                    <a:lnTo>
                      <a:pt x="831" y="126"/>
                    </a:lnTo>
                    <a:lnTo>
                      <a:pt x="810" y="94"/>
                    </a:lnTo>
                    <a:lnTo>
                      <a:pt x="779" y="63"/>
                    </a:lnTo>
                    <a:lnTo>
                      <a:pt x="747" y="42"/>
                    </a:lnTo>
                    <a:lnTo>
                      <a:pt x="716" y="21"/>
                    </a:lnTo>
                    <a:lnTo>
                      <a:pt x="684" y="10"/>
                    </a:lnTo>
                    <a:lnTo>
                      <a:pt x="653" y="0"/>
                    </a:lnTo>
                    <a:lnTo>
                      <a:pt x="631" y="0"/>
                    </a:lnTo>
                    <a:lnTo>
                      <a:pt x="600" y="0"/>
                    </a:lnTo>
                    <a:lnTo>
                      <a:pt x="568" y="0"/>
                    </a:lnTo>
                    <a:lnTo>
                      <a:pt x="526" y="0"/>
                    </a:lnTo>
                    <a:lnTo>
                      <a:pt x="484" y="0"/>
                    </a:lnTo>
                    <a:lnTo>
                      <a:pt x="442" y="10"/>
                    </a:lnTo>
                    <a:lnTo>
                      <a:pt x="410" y="31"/>
                    </a:lnTo>
                    <a:lnTo>
                      <a:pt x="379" y="42"/>
                    </a:lnTo>
                    <a:lnTo>
                      <a:pt x="347" y="52"/>
                    </a:lnTo>
                    <a:lnTo>
                      <a:pt x="316" y="73"/>
                    </a:lnTo>
                    <a:lnTo>
                      <a:pt x="284" y="94"/>
                    </a:lnTo>
                    <a:lnTo>
                      <a:pt x="253" y="115"/>
                    </a:lnTo>
                    <a:lnTo>
                      <a:pt x="232" y="137"/>
                    </a:lnTo>
                    <a:lnTo>
                      <a:pt x="200" y="158"/>
                    </a:lnTo>
                    <a:lnTo>
                      <a:pt x="179" y="189"/>
                    </a:lnTo>
                    <a:lnTo>
                      <a:pt x="158" y="221"/>
                    </a:lnTo>
                    <a:lnTo>
                      <a:pt x="137" y="252"/>
                    </a:lnTo>
                    <a:lnTo>
                      <a:pt x="116" y="284"/>
                    </a:lnTo>
                    <a:lnTo>
                      <a:pt x="95" y="316"/>
                    </a:lnTo>
                    <a:lnTo>
                      <a:pt x="84" y="347"/>
                    </a:lnTo>
                    <a:lnTo>
                      <a:pt x="63" y="379"/>
                    </a:lnTo>
                    <a:lnTo>
                      <a:pt x="53" y="410"/>
                    </a:lnTo>
                    <a:lnTo>
                      <a:pt x="42" y="442"/>
                    </a:lnTo>
                    <a:lnTo>
                      <a:pt x="42" y="473"/>
                    </a:lnTo>
                    <a:lnTo>
                      <a:pt x="32" y="505"/>
                    </a:lnTo>
                    <a:lnTo>
                      <a:pt x="32" y="537"/>
                    </a:lnTo>
                    <a:lnTo>
                      <a:pt x="32" y="568"/>
                    </a:lnTo>
                    <a:lnTo>
                      <a:pt x="32" y="600"/>
                    </a:lnTo>
                    <a:lnTo>
                      <a:pt x="32" y="631"/>
                    </a:lnTo>
                    <a:lnTo>
                      <a:pt x="32" y="663"/>
                    </a:lnTo>
                    <a:lnTo>
                      <a:pt x="32" y="695"/>
                    </a:lnTo>
                    <a:lnTo>
                      <a:pt x="21" y="726"/>
                    </a:lnTo>
                    <a:lnTo>
                      <a:pt x="21" y="758"/>
                    </a:lnTo>
                    <a:lnTo>
                      <a:pt x="21" y="789"/>
                    </a:lnTo>
                    <a:lnTo>
                      <a:pt x="21" y="821"/>
                    </a:lnTo>
                    <a:lnTo>
                      <a:pt x="21" y="852"/>
                    </a:lnTo>
                    <a:lnTo>
                      <a:pt x="21" y="884"/>
                    </a:lnTo>
                    <a:lnTo>
                      <a:pt x="21" y="916"/>
                    </a:lnTo>
                    <a:lnTo>
                      <a:pt x="11" y="947"/>
                    </a:lnTo>
                    <a:lnTo>
                      <a:pt x="0" y="979"/>
                    </a:lnTo>
                    <a:lnTo>
                      <a:pt x="0" y="1010"/>
                    </a:lnTo>
                    <a:lnTo>
                      <a:pt x="0" y="1042"/>
                    </a:lnTo>
                    <a:lnTo>
                      <a:pt x="0" y="1074"/>
                    </a:lnTo>
                    <a:lnTo>
                      <a:pt x="0" y="1105"/>
                    </a:lnTo>
                    <a:lnTo>
                      <a:pt x="0" y="1137"/>
                    </a:lnTo>
                    <a:lnTo>
                      <a:pt x="0" y="1168"/>
                    </a:lnTo>
                    <a:lnTo>
                      <a:pt x="0" y="1200"/>
                    </a:lnTo>
                    <a:lnTo>
                      <a:pt x="0" y="1231"/>
                    </a:lnTo>
                    <a:lnTo>
                      <a:pt x="8" y="1283"/>
                    </a:lnTo>
                    <a:lnTo>
                      <a:pt x="8" y="1283"/>
                    </a:lnTo>
                  </a:path>
                </a:pathLst>
              </a:custGeom>
              <a:pattFill prst="smCheck">
                <a:fgClr>
                  <a:srgbClr val="4f81bd"/>
                </a:fgClr>
                <a:bgClr>
                  <a:srgbClr val="009900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Rectangle 5"/>
              <p:cNvSpPr/>
              <p:nvPr/>
            </p:nvSpPr>
            <p:spPr>
              <a:xfrm>
                <a:off x="2971800" y="2133720"/>
                <a:ext cx="761760" cy="3733560"/>
              </a:xfrm>
              <a:prstGeom prst="rect">
                <a:avLst/>
              </a:prstGeom>
              <a:pattFill prst="wdUpDiag">
                <a:fgClr>
                  <a:srgbClr val="ffffff"/>
                </a:fgClr>
                <a:bgClr>
                  <a:srgbClr val="eeece1"/>
                </a:bgClr>
              </a:pattFill>
              <a:ln w="9525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Freeform 6"/>
              <p:cNvSpPr/>
              <p:nvPr/>
            </p:nvSpPr>
            <p:spPr>
              <a:xfrm>
                <a:off x="3657600" y="3662280"/>
                <a:ext cx="2036520" cy="2282400"/>
              </a:xfrm>
              <a:custGeom>
                <a:avLst/>
                <a:gdLst>
                  <a:gd name="textAreaLeft" fmla="*/ 0 w 2036520"/>
                  <a:gd name="textAreaRight" fmla="*/ 2036880 w 2036520"/>
                  <a:gd name="textAreaTop" fmla="*/ 0 h 2282400"/>
                  <a:gd name="textAreaBottom" fmla="*/ 2282760 h 2282400"/>
                </a:gdLst>
                <a:ahLst/>
                <a:rect l="textAreaLeft" t="textAreaTop" r="textAreaRight" b="textAreaBottom"/>
                <a:pathLst>
                  <a:path w="1283" h="1438">
                    <a:moveTo>
                      <a:pt x="0" y="1437"/>
                    </a:moveTo>
                    <a:lnTo>
                      <a:pt x="19" y="1390"/>
                    </a:lnTo>
                    <a:lnTo>
                      <a:pt x="19" y="1359"/>
                    </a:lnTo>
                    <a:lnTo>
                      <a:pt x="19" y="1337"/>
                    </a:lnTo>
                    <a:lnTo>
                      <a:pt x="19" y="1306"/>
                    </a:lnTo>
                    <a:lnTo>
                      <a:pt x="19" y="1274"/>
                    </a:lnTo>
                    <a:lnTo>
                      <a:pt x="19" y="1243"/>
                    </a:lnTo>
                    <a:lnTo>
                      <a:pt x="19" y="1211"/>
                    </a:lnTo>
                    <a:lnTo>
                      <a:pt x="19" y="1180"/>
                    </a:lnTo>
                    <a:lnTo>
                      <a:pt x="19" y="1158"/>
                    </a:lnTo>
                    <a:lnTo>
                      <a:pt x="19" y="1127"/>
                    </a:lnTo>
                    <a:lnTo>
                      <a:pt x="19" y="1095"/>
                    </a:lnTo>
                    <a:lnTo>
                      <a:pt x="19" y="1064"/>
                    </a:lnTo>
                    <a:lnTo>
                      <a:pt x="19" y="1032"/>
                    </a:lnTo>
                    <a:lnTo>
                      <a:pt x="19" y="1001"/>
                    </a:lnTo>
                    <a:lnTo>
                      <a:pt x="19" y="979"/>
                    </a:lnTo>
                    <a:lnTo>
                      <a:pt x="19" y="948"/>
                    </a:lnTo>
                    <a:lnTo>
                      <a:pt x="19" y="916"/>
                    </a:lnTo>
                    <a:lnTo>
                      <a:pt x="30" y="885"/>
                    </a:lnTo>
                    <a:lnTo>
                      <a:pt x="30" y="853"/>
                    </a:lnTo>
                    <a:lnTo>
                      <a:pt x="30" y="822"/>
                    </a:lnTo>
                    <a:lnTo>
                      <a:pt x="30" y="790"/>
                    </a:lnTo>
                    <a:lnTo>
                      <a:pt x="30" y="758"/>
                    </a:lnTo>
                    <a:lnTo>
                      <a:pt x="30" y="727"/>
                    </a:lnTo>
                    <a:lnTo>
                      <a:pt x="30" y="695"/>
                    </a:lnTo>
                    <a:lnTo>
                      <a:pt x="30" y="664"/>
                    </a:lnTo>
                    <a:lnTo>
                      <a:pt x="30" y="632"/>
                    </a:lnTo>
                    <a:lnTo>
                      <a:pt x="30" y="600"/>
                    </a:lnTo>
                    <a:lnTo>
                      <a:pt x="40" y="569"/>
                    </a:lnTo>
                    <a:lnTo>
                      <a:pt x="51" y="537"/>
                    </a:lnTo>
                    <a:lnTo>
                      <a:pt x="61" y="506"/>
                    </a:lnTo>
                    <a:lnTo>
                      <a:pt x="72" y="474"/>
                    </a:lnTo>
                    <a:lnTo>
                      <a:pt x="82" y="443"/>
                    </a:lnTo>
                    <a:lnTo>
                      <a:pt x="93" y="411"/>
                    </a:lnTo>
                    <a:lnTo>
                      <a:pt x="114" y="379"/>
                    </a:lnTo>
                    <a:lnTo>
                      <a:pt x="124" y="348"/>
                    </a:lnTo>
                    <a:lnTo>
                      <a:pt x="145" y="316"/>
                    </a:lnTo>
                    <a:lnTo>
                      <a:pt x="145" y="285"/>
                    </a:lnTo>
                    <a:lnTo>
                      <a:pt x="166" y="253"/>
                    </a:lnTo>
                    <a:lnTo>
                      <a:pt x="187" y="221"/>
                    </a:lnTo>
                    <a:lnTo>
                      <a:pt x="208" y="190"/>
                    </a:lnTo>
                    <a:lnTo>
                      <a:pt x="240" y="179"/>
                    </a:lnTo>
                    <a:lnTo>
                      <a:pt x="261" y="148"/>
                    </a:lnTo>
                    <a:lnTo>
                      <a:pt x="282" y="116"/>
                    </a:lnTo>
                    <a:lnTo>
                      <a:pt x="314" y="95"/>
                    </a:lnTo>
                    <a:lnTo>
                      <a:pt x="345" y="64"/>
                    </a:lnTo>
                    <a:lnTo>
                      <a:pt x="377" y="53"/>
                    </a:lnTo>
                    <a:lnTo>
                      <a:pt x="408" y="32"/>
                    </a:lnTo>
                    <a:lnTo>
                      <a:pt x="440" y="21"/>
                    </a:lnTo>
                    <a:lnTo>
                      <a:pt x="472" y="11"/>
                    </a:lnTo>
                    <a:lnTo>
                      <a:pt x="503" y="0"/>
                    </a:lnTo>
                    <a:lnTo>
                      <a:pt x="535" y="0"/>
                    </a:lnTo>
                    <a:lnTo>
                      <a:pt x="566" y="0"/>
                    </a:lnTo>
                    <a:lnTo>
                      <a:pt x="598" y="0"/>
                    </a:lnTo>
                    <a:lnTo>
                      <a:pt x="629" y="0"/>
                    </a:lnTo>
                    <a:lnTo>
                      <a:pt x="661" y="0"/>
                    </a:lnTo>
                    <a:lnTo>
                      <a:pt x="693" y="0"/>
                    </a:lnTo>
                    <a:lnTo>
                      <a:pt x="735" y="21"/>
                    </a:lnTo>
                    <a:lnTo>
                      <a:pt x="756" y="43"/>
                    </a:lnTo>
                    <a:lnTo>
                      <a:pt x="787" y="53"/>
                    </a:lnTo>
                    <a:lnTo>
                      <a:pt x="819" y="85"/>
                    </a:lnTo>
                    <a:lnTo>
                      <a:pt x="850" y="106"/>
                    </a:lnTo>
                    <a:lnTo>
                      <a:pt x="871" y="137"/>
                    </a:lnTo>
                    <a:lnTo>
                      <a:pt x="903" y="148"/>
                    </a:lnTo>
                    <a:lnTo>
                      <a:pt x="924" y="179"/>
                    </a:lnTo>
                    <a:lnTo>
                      <a:pt x="956" y="200"/>
                    </a:lnTo>
                    <a:lnTo>
                      <a:pt x="966" y="232"/>
                    </a:lnTo>
                    <a:lnTo>
                      <a:pt x="987" y="264"/>
                    </a:lnTo>
                    <a:lnTo>
                      <a:pt x="998" y="295"/>
                    </a:lnTo>
                    <a:lnTo>
                      <a:pt x="1008" y="327"/>
                    </a:lnTo>
                    <a:lnTo>
                      <a:pt x="1029" y="358"/>
                    </a:lnTo>
                    <a:lnTo>
                      <a:pt x="1040" y="390"/>
                    </a:lnTo>
                    <a:lnTo>
                      <a:pt x="1040" y="422"/>
                    </a:lnTo>
                    <a:lnTo>
                      <a:pt x="1050" y="453"/>
                    </a:lnTo>
                    <a:lnTo>
                      <a:pt x="1071" y="485"/>
                    </a:lnTo>
                    <a:lnTo>
                      <a:pt x="1071" y="516"/>
                    </a:lnTo>
                    <a:lnTo>
                      <a:pt x="1082" y="548"/>
                    </a:lnTo>
                    <a:lnTo>
                      <a:pt x="1092" y="579"/>
                    </a:lnTo>
                    <a:lnTo>
                      <a:pt x="1113" y="611"/>
                    </a:lnTo>
                    <a:lnTo>
                      <a:pt x="1113" y="643"/>
                    </a:lnTo>
                    <a:lnTo>
                      <a:pt x="1124" y="674"/>
                    </a:lnTo>
                    <a:lnTo>
                      <a:pt x="1135" y="706"/>
                    </a:lnTo>
                    <a:lnTo>
                      <a:pt x="1145" y="737"/>
                    </a:lnTo>
                    <a:lnTo>
                      <a:pt x="1156" y="769"/>
                    </a:lnTo>
                    <a:lnTo>
                      <a:pt x="1166" y="811"/>
                    </a:lnTo>
                    <a:lnTo>
                      <a:pt x="1166" y="843"/>
                    </a:lnTo>
                    <a:lnTo>
                      <a:pt x="1166" y="874"/>
                    </a:lnTo>
                    <a:lnTo>
                      <a:pt x="1177" y="906"/>
                    </a:lnTo>
                    <a:lnTo>
                      <a:pt x="1177" y="937"/>
                    </a:lnTo>
                    <a:lnTo>
                      <a:pt x="1198" y="969"/>
                    </a:lnTo>
                    <a:lnTo>
                      <a:pt x="1198" y="1001"/>
                    </a:lnTo>
                    <a:lnTo>
                      <a:pt x="1208" y="1032"/>
                    </a:lnTo>
                    <a:lnTo>
                      <a:pt x="1219" y="1064"/>
                    </a:lnTo>
                    <a:lnTo>
                      <a:pt x="1229" y="1095"/>
                    </a:lnTo>
                    <a:lnTo>
                      <a:pt x="1240" y="1127"/>
                    </a:lnTo>
                    <a:lnTo>
                      <a:pt x="1250" y="1158"/>
                    </a:lnTo>
                    <a:lnTo>
                      <a:pt x="1250" y="1180"/>
                    </a:lnTo>
                    <a:lnTo>
                      <a:pt x="1250" y="1211"/>
                    </a:lnTo>
                    <a:lnTo>
                      <a:pt x="1261" y="1243"/>
                    </a:lnTo>
                    <a:lnTo>
                      <a:pt x="1261" y="1274"/>
                    </a:lnTo>
                    <a:lnTo>
                      <a:pt x="1271" y="1306"/>
                    </a:lnTo>
                    <a:lnTo>
                      <a:pt x="1282" y="1337"/>
                    </a:lnTo>
                    <a:lnTo>
                      <a:pt x="1282" y="1359"/>
                    </a:lnTo>
                    <a:lnTo>
                      <a:pt x="1250" y="1380"/>
                    </a:lnTo>
                    <a:lnTo>
                      <a:pt x="1219" y="1380"/>
                    </a:lnTo>
                    <a:lnTo>
                      <a:pt x="1187" y="1380"/>
                    </a:lnTo>
                    <a:lnTo>
                      <a:pt x="1156" y="1380"/>
                    </a:lnTo>
                    <a:lnTo>
                      <a:pt x="1124" y="1380"/>
                    </a:lnTo>
                    <a:lnTo>
                      <a:pt x="1092" y="1380"/>
                    </a:lnTo>
                    <a:lnTo>
                      <a:pt x="1071" y="1348"/>
                    </a:lnTo>
                    <a:lnTo>
                      <a:pt x="1103" y="1348"/>
                    </a:lnTo>
                    <a:lnTo>
                      <a:pt x="1135" y="1316"/>
                    </a:lnTo>
                    <a:lnTo>
                      <a:pt x="1156" y="1285"/>
                    </a:lnTo>
                    <a:lnTo>
                      <a:pt x="1124" y="1285"/>
                    </a:lnTo>
                    <a:lnTo>
                      <a:pt x="1092" y="1285"/>
                    </a:lnTo>
                    <a:lnTo>
                      <a:pt x="1061" y="1285"/>
                    </a:lnTo>
                    <a:lnTo>
                      <a:pt x="1050" y="1253"/>
                    </a:lnTo>
                    <a:lnTo>
                      <a:pt x="1050" y="1222"/>
                    </a:lnTo>
                    <a:lnTo>
                      <a:pt x="1082" y="1222"/>
                    </a:lnTo>
                    <a:lnTo>
                      <a:pt x="1113" y="1211"/>
                    </a:lnTo>
                    <a:lnTo>
                      <a:pt x="1135" y="1201"/>
                    </a:lnTo>
                    <a:lnTo>
                      <a:pt x="1156" y="1169"/>
                    </a:lnTo>
                    <a:lnTo>
                      <a:pt x="1124" y="1148"/>
                    </a:lnTo>
                    <a:lnTo>
                      <a:pt x="1092" y="1137"/>
                    </a:lnTo>
                    <a:lnTo>
                      <a:pt x="1061" y="1137"/>
                    </a:lnTo>
                    <a:lnTo>
                      <a:pt x="1029" y="1137"/>
                    </a:lnTo>
                    <a:lnTo>
                      <a:pt x="1008" y="1106"/>
                    </a:lnTo>
                    <a:lnTo>
                      <a:pt x="1050" y="1095"/>
                    </a:lnTo>
                    <a:lnTo>
                      <a:pt x="1082" y="1095"/>
                    </a:lnTo>
                    <a:lnTo>
                      <a:pt x="1113" y="1074"/>
                    </a:lnTo>
                    <a:lnTo>
                      <a:pt x="1124" y="1043"/>
                    </a:lnTo>
                    <a:lnTo>
                      <a:pt x="1124" y="1011"/>
                    </a:lnTo>
                    <a:lnTo>
                      <a:pt x="1092" y="1011"/>
                    </a:lnTo>
                    <a:lnTo>
                      <a:pt x="1050" y="1011"/>
                    </a:lnTo>
                    <a:lnTo>
                      <a:pt x="1040" y="1043"/>
                    </a:lnTo>
                    <a:lnTo>
                      <a:pt x="1008" y="1053"/>
                    </a:lnTo>
                    <a:lnTo>
                      <a:pt x="977" y="1064"/>
                    </a:lnTo>
                    <a:lnTo>
                      <a:pt x="966" y="1032"/>
                    </a:lnTo>
                    <a:lnTo>
                      <a:pt x="987" y="1001"/>
                    </a:lnTo>
                    <a:lnTo>
                      <a:pt x="1019" y="990"/>
                    </a:lnTo>
                    <a:lnTo>
                      <a:pt x="1050" y="969"/>
                    </a:lnTo>
                    <a:lnTo>
                      <a:pt x="1082" y="948"/>
                    </a:lnTo>
                    <a:lnTo>
                      <a:pt x="1082" y="916"/>
                    </a:lnTo>
                    <a:lnTo>
                      <a:pt x="1050" y="895"/>
                    </a:lnTo>
                    <a:lnTo>
                      <a:pt x="1019" y="906"/>
                    </a:lnTo>
                    <a:lnTo>
                      <a:pt x="987" y="937"/>
                    </a:lnTo>
                    <a:lnTo>
                      <a:pt x="956" y="948"/>
                    </a:lnTo>
                    <a:lnTo>
                      <a:pt x="924" y="948"/>
                    </a:lnTo>
                    <a:lnTo>
                      <a:pt x="914" y="916"/>
                    </a:lnTo>
                    <a:lnTo>
                      <a:pt x="945" y="906"/>
                    </a:lnTo>
                    <a:lnTo>
                      <a:pt x="987" y="885"/>
                    </a:lnTo>
                    <a:lnTo>
                      <a:pt x="1019" y="864"/>
                    </a:lnTo>
                    <a:lnTo>
                      <a:pt x="1040" y="832"/>
                    </a:lnTo>
                    <a:lnTo>
                      <a:pt x="1008" y="811"/>
                    </a:lnTo>
                    <a:lnTo>
                      <a:pt x="977" y="811"/>
                    </a:lnTo>
                    <a:lnTo>
                      <a:pt x="945" y="811"/>
                    </a:lnTo>
                    <a:lnTo>
                      <a:pt x="914" y="832"/>
                    </a:lnTo>
                    <a:lnTo>
                      <a:pt x="914" y="801"/>
                    </a:lnTo>
                    <a:lnTo>
                      <a:pt x="914" y="779"/>
                    </a:lnTo>
                    <a:lnTo>
                      <a:pt x="945" y="769"/>
                    </a:lnTo>
                    <a:lnTo>
                      <a:pt x="977" y="748"/>
                    </a:lnTo>
                    <a:lnTo>
                      <a:pt x="1008" y="737"/>
                    </a:lnTo>
                    <a:lnTo>
                      <a:pt x="1029" y="706"/>
                    </a:lnTo>
                    <a:lnTo>
                      <a:pt x="998" y="685"/>
                    </a:lnTo>
                    <a:lnTo>
                      <a:pt x="966" y="685"/>
                    </a:lnTo>
                    <a:lnTo>
                      <a:pt x="935" y="685"/>
                    </a:lnTo>
                    <a:lnTo>
                      <a:pt x="903" y="706"/>
                    </a:lnTo>
                    <a:lnTo>
                      <a:pt x="861" y="727"/>
                    </a:lnTo>
                    <a:lnTo>
                      <a:pt x="840" y="695"/>
                    </a:lnTo>
                    <a:lnTo>
                      <a:pt x="861" y="664"/>
                    </a:lnTo>
                    <a:lnTo>
                      <a:pt x="892" y="643"/>
                    </a:lnTo>
                    <a:lnTo>
                      <a:pt x="914" y="632"/>
                    </a:lnTo>
                    <a:lnTo>
                      <a:pt x="945" y="611"/>
                    </a:lnTo>
                    <a:lnTo>
                      <a:pt x="945" y="579"/>
                    </a:lnTo>
                    <a:lnTo>
                      <a:pt x="914" y="558"/>
                    </a:lnTo>
                    <a:lnTo>
                      <a:pt x="882" y="558"/>
                    </a:lnTo>
                    <a:lnTo>
                      <a:pt x="850" y="590"/>
                    </a:lnTo>
                    <a:lnTo>
                      <a:pt x="819" y="611"/>
                    </a:lnTo>
                    <a:lnTo>
                      <a:pt x="787" y="611"/>
                    </a:lnTo>
                    <a:lnTo>
                      <a:pt x="787" y="579"/>
                    </a:lnTo>
                    <a:lnTo>
                      <a:pt x="819" y="548"/>
                    </a:lnTo>
                    <a:lnTo>
                      <a:pt x="850" y="516"/>
                    </a:lnTo>
                    <a:lnTo>
                      <a:pt x="882" y="495"/>
                    </a:lnTo>
                    <a:lnTo>
                      <a:pt x="914" y="474"/>
                    </a:lnTo>
                    <a:lnTo>
                      <a:pt x="892" y="443"/>
                    </a:lnTo>
                    <a:lnTo>
                      <a:pt x="861" y="443"/>
                    </a:lnTo>
                    <a:lnTo>
                      <a:pt x="829" y="474"/>
                    </a:lnTo>
                    <a:lnTo>
                      <a:pt x="798" y="495"/>
                    </a:lnTo>
                    <a:lnTo>
                      <a:pt x="777" y="464"/>
                    </a:lnTo>
                    <a:lnTo>
                      <a:pt x="787" y="432"/>
                    </a:lnTo>
                    <a:lnTo>
                      <a:pt x="819" y="411"/>
                    </a:lnTo>
                    <a:lnTo>
                      <a:pt x="850" y="400"/>
                    </a:lnTo>
                    <a:lnTo>
                      <a:pt x="882" y="379"/>
                    </a:lnTo>
                    <a:lnTo>
                      <a:pt x="882" y="348"/>
                    </a:lnTo>
                    <a:lnTo>
                      <a:pt x="850" y="337"/>
                    </a:lnTo>
                    <a:lnTo>
                      <a:pt x="819" y="337"/>
                    </a:lnTo>
                    <a:lnTo>
                      <a:pt x="787" y="369"/>
                    </a:lnTo>
                    <a:lnTo>
                      <a:pt x="756" y="390"/>
                    </a:lnTo>
                    <a:lnTo>
                      <a:pt x="735" y="358"/>
                    </a:lnTo>
                    <a:lnTo>
                      <a:pt x="756" y="327"/>
                    </a:lnTo>
                    <a:lnTo>
                      <a:pt x="787" y="316"/>
                    </a:lnTo>
                    <a:lnTo>
                      <a:pt x="819" y="295"/>
                    </a:lnTo>
                    <a:lnTo>
                      <a:pt x="829" y="264"/>
                    </a:lnTo>
                    <a:lnTo>
                      <a:pt x="798" y="243"/>
                    </a:lnTo>
                    <a:lnTo>
                      <a:pt x="766" y="232"/>
                    </a:lnTo>
                    <a:lnTo>
                      <a:pt x="735" y="253"/>
                    </a:lnTo>
                    <a:lnTo>
                      <a:pt x="714" y="285"/>
                    </a:lnTo>
                    <a:lnTo>
                      <a:pt x="682" y="306"/>
                    </a:lnTo>
                    <a:lnTo>
                      <a:pt x="671" y="274"/>
                    </a:lnTo>
                    <a:lnTo>
                      <a:pt x="671" y="243"/>
                    </a:lnTo>
                    <a:lnTo>
                      <a:pt x="682" y="221"/>
                    </a:lnTo>
                    <a:lnTo>
                      <a:pt x="714" y="190"/>
                    </a:lnTo>
                    <a:lnTo>
                      <a:pt x="724" y="158"/>
                    </a:lnTo>
                    <a:lnTo>
                      <a:pt x="693" y="148"/>
                    </a:lnTo>
                    <a:lnTo>
                      <a:pt x="671" y="148"/>
                    </a:lnTo>
                    <a:lnTo>
                      <a:pt x="650" y="179"/>
                    </a:lnTo>
                    <a:lnTo>
                      <a:pt x="650" y="211"/>
                    </a:lnTo>
                    <a:lnTo>
                      <a:pt x="640" y="243"/>
                    </a:lnTo>
                    <a:lnTo>
                      <a:pt x="629" y="274"/>
                    </a:lnTo>
                    <a:lnTo>
                      <a:pt x="598" y="243"/>
                    </a:lnTo>
                    <a:lnTo>
                      <a:pt x="598" y="221"/>
                    </a:lnTo>
                    <a:lnTo>
                      <a:pt x="598" y="190"/>
                    </a:lnTo>
                    <a:lnTo>
                      <a:pt x="587" y="158"/>
                    </a:lnTo>
                    <a:lnTo>
                      <a:pt x="556" y="158"/>
                    </a:lnTo>
                    <a:lnTo>
                      <a:pt x="545" y="190"/>
                    </a:lnTo>
                    <a:lnTo>
                      <a:pt x="545" y="221"/>
                    </a:lnTo>
                    <a:lnTo>
                      <a:pt x="545" y="243"/>
                    </a:lnTo>
                    <a:lnTo>
                      <a:pt x="545" y="274"/>
                    </a:lnTo>
                    <a:lnTo>
                      <a:pt x="545" y="306"/>
                    </a:lnTo>
                    <a:lnTo>
                      <a:pt x="514" y="316"/>
                    </a:lnTo>
                    <a:lnTo>
                      <a:pt x="482" y="285"/>
                    </a:lnTo>
                    <a:lnTo>
                      <a:pt x="461" y="253"/>
                    </a:lnTo>
                    <a:lnTo>
                      <a:pt x="440" y="221"/>
                    </a:lnTo>
                    <a:lnTo>
                      <a:pt x="408" y="211"/>
                    </a:lnTo>
                    <a:lnTo>
                      <a:pt x="398" y="243"/>
                    </a:lnTo>
                    <a:lnTo>
                      <a:pt x="408" y="274"/>
                    </a:lnTo>
                    <a:lnTo>
                      <a:pt x="429" y="306"/>
                    </a:lnTo>
                    <a:lnTo>
                      <a:pt x="440" y="337"/>
                    </a:lnTo>
                    <a:lnTo>
                      <a:pt x="408" y="348"/>
                    </a:lnTo>
                    <a:lnTo>
                      <a:pt x="377" y="348"/>
                    </a:lnTo>
                    <a:lnTo>
                      <a:pt x="356" y="316"/>
                    </a:lnTo>
                    <a:lnTo>
                      <a:pt x="324" y="295"/>
                    </a:lnTo>
                    <a:lnTo>
                      <a:pt x="293" y="295"/>
                    </a:lnTo>
                    <a:lnTo>
                      <a:pt x="293" y="327"/>
                    </a:lnTo>
                    <a:lnTo>
                      <a:pt x="293" y="358"/>
                    </a:lnTo>
                    <a:lnTo>
                      <a:pt x="314" y="390"/>
                    </a:lnTo>
                    <a:lnTo>
                      <a:pt x="345" y="411"/>
                    </a:lnTo>
                    <a:lnTo>
                      <a:pt x="314" y="432"/>
                    </a:lnTo>
                    <a:lnTo>
                      <a:pt x="282" y="432"/>
                    </a:lnTo>
                    <a:lnTo>
                      <a:pt x="251" y="411"/>
                    </a:lnTo>
                    <a:lnTo>
                      <a:pt x="229" y="390"/>
                    </a:lnTo>
                    <a:lnTo>
                      <a:pt x="208" y="422"/>
                    </a:lnTo>
                    <a:lnTo>
                      <a:pt x="208" y="453"/>
                    </a:lnTo>
                    <a:lnTo>
                      <a:pt x="229" y="485"/>
                    </a:lnTo>
                    <a:lnTo>
                      <a:pt x="240" y="516"/>
                    </a:lnTo>
                    <a:lnTo>
                      <a:pt x="229" y="548"/>
                    </a:lnTo>
                    <a:lnTo>
                      <a:pt x="198" y="548"/>
                    </a:lnTo>
                    <a:lnTo>
                      <a:pt x="166" y="527"/>
                    </a:lnTo>
                    <a:lnTo>
                      <a:pt x="135" y="516"/>
                    </a:lnTo>
                    <a:lnTo>
                      <a:pt x="124" y="548"/>
                    </a:lnTo>
                    <a:lnTo>
                      <a:pt x="145" y="579"/>
                    </a:lnTo>
                    <a:lnTo>
                      <a:pt x="166" y="611"/>
                    </a:lnTo>
                    <a:lnTo>
                      <a:pt x="166" y="643"/>
                    </a:lnTo>
                    <a:lnTo>
                      <a:pt x="145" y="674"/>
                    </a:lnTo>
                    <a:lnTo>
                      <a:pt x="124" y="706"/>
                    </a:lnTo>
                    <a:lnTo>
                      <a:pt x="124" y="737"/>
                    </a:lnTo>
                    <a:lnTo>
                      <a:pt x="114" y="769"/>
                    </a:lnTo>
                    <a:lnTo>
                      <a:pt x="103" y="801"/>
                    </a:lnTo>
                    <a:lnTo>
                      <a:pt x="93" y="832"/>
                    </a:lnTo>
                    <a:lnTo>
                      <a:pt x="82" y="864"/>
                    </a:lnTo>
                    <a:lnTo>
                      <a:pt x="82" y="895"/>
                    </a:lnTo>
                    <a:lnTo>
                      <a:pt x="82" y="927"/>
                    </a:lnTo>
                    <a:lnTo>
                      <a:pt x="82" y="958"/>
                    </a:lnTo>
                    <a:lnTo>
                      <a:pt x="82" y="990"/>
                    </a:lnTo>
                    <a:lnTo>
                      <a:pt x="82" y="1022"/>
                    </a:lnTo>
                    <a:lnTo>
                      <a:pt x="82" y="1053"/>
                    </a:lnTo>
                    <a:lnTo>
                      <a:pt x="82" y="1085"/>
                    </a:lnTo>
                    <a:lnTo>
                      <a:pt x="82" y="1116"/>
                    </a:lnTo>
                    <a:lnTo>
                      <a:pt x="72" y="1148"/>
                    </a:lnTo>
                    <a:lnTo>
                      <a:pt x="61" y="1180"/>
                    </a:lnTo>
                    <a:lnTo>
                      <a:pt x="61" y="1211"/>
                    </a:lnTo>
                    <a:lnTo>
                      <a:pt x="61" y="1243"/>
                    </a:lnTo>
                    <a:lnTo>
                      <a:pt x="61" y="1274"/>
                    </a:lnTo>
                    <a:lnTo>
                      <a:pt x="51" y="1306"/>
                    </a:lnTo>
                    <a:lnTo>
                      <a:pt x="40" y="1337"/>
                    </a:lnTo>
                    <a:lnTo>
                      <a:pt x="40" y="1359"/>
                    </a:lnTo>
                    <a:lnTo>
                      <a:pt x="30" y="1390"/>
                    </a:lnTo>
                    <a:lnTo>
                      <a:pt x="0" y="1437"/>
                    </a:lnTo>
                    <a:lnTo>
                      <a:pt x="0" y="1437"/>
                    </a:lnTo>
                  </a:path>
                </a:pathLst>
              </a:custGeom>
              <a:pattFill prst="openDmnd">
                <a:fgClr>
                  <a:srgbClr val="ff9999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6" name="Freeform 8"/>
            <p:cNvSpPr/>
            <p:nvPr/>
          </p:nvSpPr>
          <p:spPr>
            <a:xfrm>
              <a:off x="1533600" y="1542960"/>
              <a:ext cx="402840" cy="96012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254" h="605">
                  <a:moveTo>
                    <a:pt x="20" y="604"/>
                  </a:moveTo>
                  <a:lnTo>
                    <a:pt x="0" y="544"/>
                  </a:lnTo>
                  <a:lnTo>
                    <a:pt x="0" y="518"/>
                  </a:lnTo>
                  <a:lnTo>
                    <a:pt x="0" y="481"/>
                  </a:lnTo>
                  <a:lnTo>
                    <a:pt x="13" y="442"/>
                  </a:lnTo>
                  <a:lnTo>
                    <a:pt x="38" y="405"/>
                  </a:lnTo>
                  <a:lnTo>
                    <a:pt x="38" y="367"/>
                  </a:lnTo>
                  <a:lnTo>
                    <a:pt x="38" y="329"/>
                  </a:lnTo>
                  <a:lnTo>
                    <a:pt x="38" y="303"/>
                  </a:lnTo>
                  <a:lnTo>
                    <a:pt x="38" y="266"/>
                  </a:lnTo>
                  <a:lnTo>
                    <a:pt x="50" y="227"/>
                  </a:lnTo>
                  <a:lnTo>
                    <a:pt x="50" y="190"/>
                  </a:lnTo>
                  <a:lnTo>
                    <a:pt x="50" y="152"/>
                  </a:lnTo>
                  <a:lnTo>
                    <a:pt x="50" y="114"/>
                  </a:lnTo>
                  <a:lnTo>
                    <a:pt x="50" y="88"/>
                  </a:lnTo>
                  <a:lnTo>
                    <a:pt x="50" y="51"/>
                  </a:lnTo>
                  <a:lnTo>
                    <a:pt x="50" y="12"/>
                  </a:lnTo>
                  <a:lnTo>
                    <a:pt x="89" y="0"/>
                  </a:lnTo>
                  <a:lnTo>
                    <a:pt x="126" y="0"/>
                  </a:lnTo>
                  <a:lnTo>
                    <a:pt x="139" y="38"/>
                  </a:lnTo>
                  <a:lnTo>
                    <a:pt x="139" y="76"/>
                  </a:lnTo>
                  <a:lnTo>
                    <a:pt x="151" y="114"/>
                  </a:lnTo>
                  <a:lnTo>
                    <a:pt x="164" y="152"/>
                  </a:lnTo>
                  <a:lnTo>
                    <a:pt x="176" y="190"/>
                  </a:lnTo>
                  <a:lnTo>
                    <a:pt x="176" y="227"/>
                  </a:lnTo>
                  <a:lnTo>
                    <a:pt x="190" y="266"/>
                  </a:lnTo>
                  <a:lnTo>
                    <a:pt x="202" y="303"/>
                  </a:lnTo>
                  <a:lnTo>
                    <a:pt x="202" y="329"/>
                  </a:lnTo>
                  <a:lnTo>
                    <a:pt x="215" y="367"/>
                  </a:lnTo>
                  <a:lnTo>
                    <a:pt x="228" y="405"/>
                  </a:lnTo>
                  <a:lnTo>
                    <a:pt x="240" y="442"/>
                  </a:lnTo>
                  <a:lnTo>
                    <a:pt x="253" y="405"/>
                  </a:lnTo>
                  <a:lnTo>
                    <a:pt x="251" y="431"/>
                  </a:lnTo>
                </a:path>
              </a:pathLst>
            </a:custGeom>
            <a:noFill/>
            <a:ln cap="rnd" w="50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7" name="Group 12"/>
            <p:cNvGrpSpPr/>
            <p:nvPr/>
          </p:nvGrpSpPr>
          <p:grpSpPr>
            <a:xfrm>
              <a:off x="782640" y="1038240"/>
              <a:ext cx="718920" cy="2230200"/>
              <a:chOff x="782640" y="1038240"/>
              <a:chExt cx="718920" cy="2230200"/>
            </a:xfrm>
          </p:grpSpPr>
          <p:sp>
            <p:nvSpPr>
              <p:cNvPr id="758" name="Freeform 9"/>
              <p:cNvSpPr/>
              <p:nvPr/>
            </p:nvSpPr>
            <p:spPr>
              <a:xfrm>
                <a:off x="782640" y="1038240"/>
                <a:ext cx="718920" cy="189972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1899720"/>
                  <a:gd name="textAreaBottom" fmla="*/ 1900080 h 1899720"/>
                </a:gdLst>
                <a:ahLst/>
                <a:rect l="textAreaLeft" t="textAreaTop" r="textAreaRight" b="textAreaBottom"/>
                <a:pathLst>
                  <a:path w="453" h="1197">
                    <a:moveTo>
                      <a:pt x="398" y="1161"/>
                    </a:moveTo>
                    <a:lnTo>
                      <a:pt x="427" y="1124"/>
                    </a:lnTo>
                    <a:lnTo>
                      <a:pt x="434" y="1090"/>
                    </a:lnTo>
                    <a:lnTo>
                      <a:pt x="442" y="1059"/>
                    </a:lnTo>
                    <a:lnTo>
                      <a:pt x="450" y="1028"/>
                    </a:lnTo>
                    <a:lnTo>
                      <a:pt x="448" y="1000"/>
                    </a:lnTo>
                    <a:lnTo>
                      <a:pt x="447" y="971"/>
                    </a:lnTo>
                    <a:lnTo>
                      <a:pt x="452" y="930"/>
                    </a:lnTo>
                    <a:lnTo>
                      <a:pt x="448" y="895"/>
                    </a:lnTo>
                    <a:lnTo>
                      <a:pt x="450" y="816"/>
                    </a:lnTo>
                    <a:lnTo>
                      <a:pt x="446" y="780"/>
                    </a:lnTo>
                    <a:lnTo>
                      <a:pt x="445" y="750"/>
                    </a:lnTo>
                    <a:lnTo>
                      <a:pt x="443" y="722"/>
                    </a:lnTo>
                    <a:lnTo>
                      <a:pt x="443" y="694"/>
                    </a:lnTo>
                    <a:lnTo>
                      <a:pt x="442" y="665"/>
                    </a:lnTo>
                    <a:lnTo>
                      <a:pt x="434" y="640"/>
                    </a:lnTo>
                    <a:lnTo>
                      <a:pt x="421" y="606"/>
                    </a:lnTo>
                    <a:lnTo>
                      <a:pt x="420" y="578"/>
                    </a:lnTo>
                    <a:lnTo>
                      <a:pt x="410" y="551"/>
                    </a:lnTo>
                    <a:lnTo>
                      <a:pt x="402" y="526"/>
                    </a:lnTo>
                    <a:lnTo>
                      <a:pt x="392" y="501"/>
                    </a:lnTo>
                    <a:lnTo>
                      <a:pt x="392" y="472"/>
                    </a:lnTo>
                    <a:lnTo>
                      <a:pt x="382" y="448"/>
                    </a:lnTo>
                    <a:lnTo>
                      <a:pt x="371" y="414"/>
                    </a:lnTo>
                    <a:lnTo>
                      <a:pt x="361" y="388"/>
                    </a:lnTo>
                    <a:lnTo>
                      <a:pt x="361" y="359"/>
                    </a:lnTo>
                    <a:lnTo>
                      <a:pt x="351" y="333"/>
                    </a:lnTo>
                    <a:lnTo>
                      <a:pt x="341" y="308"/>
                    </a:lnTo>
                    <a:lnTo>
                      <a:pt x="334" y="284"/>
                    </a:lnTo>
                    <a:lnTo>
                      <a:pt x="324" y="257"/>
                    </a:lnTo>
                    <a:lnTo>
                      <a:pt x="314" y="232"/>
                    </a:lnTo>
                    <a:lnTo>
                      <a:pt x="306" y="206"/>
                    </a:lnTo>
                    <a:lnTo>
                      <a:pt x="296" y="181"/>
                    </a:lnTo>
                    <a:lnTo>
                      <a:pt x="286" y="156"/>
                    </a:lnTo>
                    <a:lnTo>
                      <a:pt x="277" y="130"/>
                    </a:lnTo>
                    <a:lnTo>
                      <a:pt x="269" y="105"/>
                    </a:lnTo>
                    <a:lnTo>
                      <a:pt x="268" y="77"/>
                    </a:lnTo>
                    <a:lnTo>
                      <a:pt x="258" y="51"/>
                    </a:lnTo>
                    <a:lnTo>
                      <a:pt x="248" y="26"/>
                    </a:lnTo>
                    <a:lnTo>
                      <a:pt x="240" y="0"/>
                    </a:lnTo>
                    <a:lnTo>
                      <a:pt x="211" y="1"/>
                    </a:lnTo>
                    <a:lnTo>
                      <a:pt x="211" y="29"/>
                    </a:lnTo>
                    <a:lnTo>
                      <a:pt x="204" y="61"/>
                    </a:lnTo>
                    <a:lnTo>
                      <a:pt x="197" y="92"/>
                    </a:lnTo>
                    <a:lnTo>
                      <a:pt x="180" y="127"/>
                    </a:lnTo>
                    <a:lnTo>
                      <a:pt x="176" y="168"/>
                    </a:lnTo>
                    <a:lnTo>
                      <a:pt x="160" y="202"/>
                    </a:lnTo>
                    <a:lnTo>
                      <a:pt x="151" y="235"/>
                    </a:lnTo>
                    <a:lnTo>
                      <a:pt x="144" y="264"/>
                    </a:lnTo>
                    <a:lnTo>
                      <a:pt x="127" y="300"/>
                    </a:lnTo>
                    <a:lnTo>
                      <a:pt x="120" y="331"/>
                    </a:lnTo>
                    <a:lnTo>
                      <a:pt x="104" y="366"/>
                    </a:lnTo>
                    <a:lnTo>
                      <a:pt x="87" y="401"/>
                    </a:lnTo>
                    <a:lnTo>
                      <a:pt x="80" y="433"/>
                    </a:lnTo>
                    <a:lnTo>
                      <a:pt x="73" y="465"/>
                    </a:lnTo>
                    <a:lnTo>
                      <a:pt x="65" y="497"/>
                    </a:lnTo>
                    <a:lnTo>
                      <a:pt x="56" y="528"/>
                    </a:lnTo>
                    <a:lnTo>
                      <a:pt x="49" y="560"/>
                    </a:lnTo>
                    <a:lnTo>
                      <a:pt x="34" y="594"/>
                    </a:lnTo>
                    <a:lnTo>
                      <a:pt x="25" y="627"/>
                    </a:lnTo>
                    <a:lnTo>
                      <a:pt x="17" y="657"/>
                    </a:lnTo>
                    <a:lnTo>
                      <a:pt x="10" y="689"/>
                    </a:lnTo>
                    <a:lnTo>
                      <a:pt x="3" y="722"/>
                    </a:lnTo>
                    <a:lnTo>
                      <a:pt x="4" y="750"/>
                    </a:lnTo>
                    <a:lnTo>
                      <a:pt x="4" y="778"/>
                    </a:lnTo>
                    <a:lnTo>
                      <a:pt x="5" y="806"/>
                    </a:lnTo>
                    <a:lnTo>
                      <a:pt x="0" y="847"/>
                    </a:lnTo>
                    <a:lnTo>
                      <a:pt x="0" y="875"/>
                    </a:lnTo>
                    <a:lnTo>
                      <a:pt x="1" y="904"/>
                    </a:lnTo>
                    <a:lnTo>
                      <a:pt x="2" y="933"/>
                    </a:lnTo>
                    <a:lnTo>
                      <a:pt x="12" y="957"/>
                    </a:lnTo>
                    <a:lnTo>
                      <a:pt x="12" y="985"/>
                    </a:lnTo>
                    <a:lnTo>
                      <a:pt x="13" y="1014"/>
                    </a:lnTo>
                    <a:lnTo>
                      <a:pt x="13" y="1044"/>
                    </a:lnTo>
                    <a:lnTo>
                      <a:pt x="22" y="1068"/>
                    </a:lnTo>
                    <a:lnTo>
                      <a:pt x="32" y="1093"/>
                    </a:lnTo>
                    <a:lnTo>
                      <a:pt x="41" y="1119"/>
                    </a:lnTo>
                    <a:lnTo>
                      <a:pt x="50" y="1146"/>
                    </a:lnTo>
                    <a:lnTo>
                      <a:pt x="60" y="1171"/>
                    </a:lnTo>
                    <a:lnTo>
                      <a:pt x="68" y="1196"/>
                    </a:lnTo>
                    <a:lnTo>
                      <a:pt x="60" y="1171"/>
                    </a:lnTo>
                    <a:lnTo>
                      <a:pt x="67" y="1139"/>
                    </a:lnTo>
                    <a:lnTo>
                      <a:pt x="66" y="1109"/>
                    </a:lnTo>
                    <a:lnTo>
                      <a:pt x="65" y="1081"/>
                    </a:lnTo>
                    <a:lnTo>
                      <a:pt x="65" y="1052"/>
                    </a:lnTo>
                    <a:lnTo>
                      <a:pt x="64" y="1024"/>
                    </a:lnTo>
                    <a:lnTo>
                      <a:pt x="64" y="995"/>
                    </a:lnTo>
                    <a:lnTo>
                      <a:pt x="63" y="967"/>
                    </a:lnTo>
                    <a:lnTo>
                      <a:pt x="71" y="936"/>
                    </a:lnTo>
                    <a:lnTo>
                      <a:pt x="62" y="910"/>
                    </a:lnTo>
                    <a:lnTo>
                      <a:pt x="66" y="870"/>
                    </a:lnTo>
                    <a:lnTo>
                      <a:pt x="73" y="838"/>
                    </a:lnTo>
                    <a:lnTo>
                      <a:pt x="73" y="809"/>
                    </a:lnTo>
                    <a:lnTo>
                      <a:pt x="73" y="781"/>
                    </a:lnTo>
                    <a:lnTo>
                      <a:pt x="80" y="750"/>
                    </a:lnTo>
                    <a:lnTo>
                      <a:pt x="88" y="718"/>
                    </a:lnTo>
                    <a:lnTo>
                      <a:pt x="96" y="687"/>
                    </a:lnTo>
                    <a:lnTo>
                      <a:pt x="94" y="657"/>
                    </a:lnTo>
                    <a:lnTo>
                      <a:pt x="103" y="626"/>
                    </a:lnTo>
                    <a:lnTo>
                      <a:pt x="111" y="595"/>
                    </a:lnTo>
                    <a:lnTo>
                      <a:pt x="117" y="563"/>
                    </a:lnTo>
                    <a:lnTo>
                      <a:pt x="131" y="519"/>
                    </a:lnTo>
                    <a:lnTo>
                      <a:pt x="138" y="487"/>
                    </a:lnTo>
                    <a:lnTo>
                      <a:pt x="154" y="454"/>
                    </a:lnTo>
                    <a:lnTo>
                      <a:pt x="163" y="422"/>
                    </a:lnTo>
                    <a:lnTo>
                      <a:pt x="171" y="390"/>
                    </a:lnTo>
                    <a:lnTo>
                      <a:pt x="187" y="355"/>
                    </a:lnTo>
                    <a:lnTo>
                      <a:pt x="202" y="322"/>
                    </a:lnTo>
                    <a:lnTo>
                      <a:pt x="222" y="295"/>
                    </a:lnTo>
                    <a:lnTo>
                      <a:pt x="230" y="262"/>
                    </a:lnTo>
                    <a:lnTo>
                      <a:pt x="246" y="286"/>
                    </a:lnTo>
                    <a:lnTo>
                      <a:pt x="256" y="311"/>
                    </a:lnTo>
                    <a:lnTo>
                      <a:pt x="266" y="335"/>
                    </a:lnTo>
                    <a:lnTo>
                      <a:pt x="274" y="362"/>
                    </a:lnTo>
                    <a:lnTo>
                      <a:pt x="284" y="387"/>
                    </a:lnTo>
                    <a:lnTo>
                      <a:pt x="296" y="421"/>
                    </a:lnTo>
                    <a:lnTo>
                      <a:pt x="308" y="455"/>
                    </a:lnTo>
                    <a:lnTo>
                      <a:pt x="318" y="480"/>
                    </a:lnTo>
                    <a:lnTo>
                      <a:pt x="328" y="507"/>
                    </a:lnTo>
                    <a:lnTo>
                      <a:pt x="337" y="531"/>
                    </a:lnTo>
                    <a:lnTo>
                      <a:pt x="345" y="557"/>
                    </a:lnTo>
                    <a:lnTo>
                      <a:pt x="355" y="582"/>
                    </a:lnTo>
                    <a:lnTo>
                      <a:pt x="364" y="609"/>
                    </a:lnTo>
                    <a:lnTo>
                      <a:pt x="373" y="632"/>
                    </a:lnTo>
                    <a:lnTo>
                      <a:pt x="377" y="670"/>
                    </a:lnTo>
                    <a:lnTo>
                      <a:pt x="377" y="699"/>
                    </a:lnTo>
                    <a:lnTo>
                      <a:pt x="387" y="725"/>
                    </a:lnTo>
                    <a:lnTo>
                      <a:pt x="387" y="753"/>
                    </a:lnTo>
                    <a:lnTo>
                      <a:pt x="380" y="785"/>
                    </a:lnTo>
                    <a:lnTo>
                      <a:pt x="381" y="813"/>
                    </a:lnTo>
                    <a:lnTo>
                      <a:pt x="382" y="841"/>
                    </a:lnTo>
                    <a:lnTo>
                      <a:pt x="382" y="870"/>
                    </a:lnTo>
                    <a:lnTo>
                      <a:pt x="384" y="898"/>
                    </a:lnTo>
                    <a:lnTo>
                      <a:pt x="384" y="927"/>
                    </a:lnTo>
                    <a:lnTo>
                      <a:pt x="385" y="954"/>
                    </a:lnTo>
                    <a:lnTo>
                      <a:pt x="386" y="984"/>
                    </a:lnTo>
                    <a:lnTo>
                      <a:pt x="386" y="1013"/>
                    </a:lnTo>
                    <a:lnTo>
                      <a:pt x="387" y="1042"/>
                    </a:lnTo>
                    <a:lnTo>
                      <a:pt x="387" y="1069"/>
                    </a:lnTo>
                    <a:lnTo>
                      <a:pt x="380" y="1100"/>
                    </a:lnTo>
                    <a:lnTo>
                      <a:pt x="398" y="1161"/>
                    </a:lnTo>
                    <a:lnTo>
                      <a:pt x="398" y="1161"/>
                    </a:lnTo>
                  </a:path>
                </a:pathLst>
              </a:custGeom>
              <a:solidFill>
                <a:schemeClr val="bg1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Freeform 10"/>
              <p:cNvSpPr/>
              <p:nvPr/>
            </p:nvSpPr>
            <p:spPr>
              <a:xfrm>
                <a:off x="870120" y="1471680"/>
                <a:ext cx="544320" cy="1733040"/>
              </a:xfrm>
              <a:custGeom>
                <a:avLst/>
                <a:gdLst>
                  <a:gd name="textAreaLeft" fmla="*/ 0 w 544320"/>
                  <a:gd name="textAreaRight" fmla="*/ 544680 w 544320"/>
                  <a:gd name="textAreaTop" fmla="*/ 0 h 1733040"/>
                  <a:gd name="textAreaBottom" fmla="*/ 1733400 h 1733040"/>
                </a:gdLst>
                <a:ahLst/>
                <a:rect l="textAreaLeft" t="textAreaTop" r="textAreaRight" b="textAreaBottom"/>
                <a:pathLst>
                  <a:path w="343" h="1092">
                    <a:moveTo>
                      <a:pt x="342" y="889"/>
                    </a:moveTo>
                    <a:lnTo>
                      <a:pt x="341" y="927"/>
                    </a:lnTo>
                    <a:lnTo>
                      <a:pt x="324" y="953"/>
                    </a:lnTo>
                    <a:lnTo>
                      <a:pt x="315" y="986"/>
                    </a:lnTo>
                    <a:lnTo>
                      <a:pt x="307" y="1018"/>
                    </a:lnTo>
                    <a:lnTo>
                      <a:pt x="299" y="1050"/>
                    </a:lnTo>
                    <a:lnTo>
                      <a:pt x="284" y="1085"/>
                    </a:lnTo>
                    <a:lnTo>
                      <a:pt x="258" y="1065"/>
                    </a:lnTo>
                    <a:lnTo>
                      <a:pt x="257" y="1035"/>
                    </a:lnTo>
                    <a:lnTo>
                      <a:pt x="248" y="1011"/>
                    </a:lnTo>
                    <a:lnTo>
                      <a:pt x="256" y="980"/>
                    </a:lnTo>
                    <a:lnTo>
                      <a:pt x="254" y="950"/>
                    </a:lnTo>
                    <a:lnTo>
                      <a:pt x="262" y="919"/>
                    </a:lnTo>
                    <a:lnTo>
                      <a:pt x="253" y="894"/>
                    </a:lnTo>
                    <a:lnTo>
                      <a:pt x="249" y="856"/>
                    </a:lnTo>
                    <a:lnTo>
                      <a:pt x="248" y="828"/>
                    </a:lnTo>
                    <a:lnTo>
                      <a:pt x="245" y="792"/>
                    </a:lnTo>
                    <a:lnTo>
                      <a:pt x="243" y="763"/>
                    </a:lnTo>
                    <a:lnTo>
                      <a:pt x="234" y="738"/>
                    </a:lnTo>
                    <a:lnTo>
                      <a:pt x="242" y="705"/>
                    </a:lnTo>
                    <a:lnTo>
                      <a:pt x="233" y="680"/>
                    </a:lnTo>
                    <a:lnTo>
                      <a:pt x="231" y="651"/>
                    </a:lnTo>
                    <a:lnTo>
                      <a:pt x="231" y="623"/>
                    </a:lnTo>
                    <a:lnTo>
                      <a:pt x="222" y="598"/>
                    </a:lnTo>
                    <a:lnTo>
                      <a:pt x="222" y="569"/>
                    </a:lnTo>
                    <a:lnTo>
                      <a:pt x="220" y="541"/>
                    </a:lnTo>
                    <a:lnTo>
                      <a:pt x="220" y="512"/>
                    </a:lnTo>
                    <a:lnTo>
                      <a:pt x="211" y="488"/>
                    </a:lnTo>
                    <a:lnTo>
                      <a:pt x="209" y="459"/>
                    </a:lnTo>
                    <a:lnTo>
                      <a:pt x="208" y="430"/>
                    </a:lnTo>
                    <a:lnTo>
                      <a:pt x="208" y="400"/>
                    </a:lnTo>
                    <a:lnTo>
                      <a:pt x="207" y="372"/>
                    </a:lnTo>
                    <a:lnTo>
                      <a:pt x="197" y="348"/>
                    </a:lnTo>
                    <a:lnTo>
                      <a:pt x="188" y="321"/>
                    </a:lnTo>
                    <a:lnTo>
                      <a:pt x="187" y="293"/>
                    </a:lnTo>
                    <a:lnTo>
                      <a:pt x="196" y="318"/>
                    </a:lnTo>
                    <a:lnTo>
                      <a:pt x="189" y="350"/>
                    </a:lnTo>
                    <a:lnTo>
                      <a:pt x="182" y="382"/>
                    </a:lnTo>
                    <a:lnTo>
                      <a:pt x="173" y="414"/>
                    </a:lnTo>
                    <a:lnTo>
                      <a:pt x="166" y="444"/>
                    </a:lnTo>
                    <a:lnTo>
                      <a:pt x="158" y="477"/>
                    </a:lnTo>
                    <a:lnTo>
                      <a:pt x="152" y="509"/>
                    </a:lnTo>
                    <a:lnTo>
                      <a:pt x="135" y="543"/>
                    </a:lnTo>
                    <a:lnTo>
                      <a:pt x="135" y="572"/>
                    </a:lnTo>
                    <a:lnTo>
                      <a:pt x="128" y="603"/>
                    </a:lnTo>
                    <a:lnTo>
                      <a:pt x="120" y="635"/>
                    </a:lnTo>
                    <a:lnTo>
                      <a:pt x="117" y="675"/>
                    </a:lnTo>
                    <a:lnTo>
                      <a:pt x="108" y="707"/>
                    </a:lnTo>
                    <a:lnTo>
                      <a:pt x="109" y="736"/>
                    </a:lnTo>
                    <a:lnTo>
                      <a:pt x="109" y="764"/>
                    </a:lnTo>
                    <a:lnTo>
                      <a:pt x="102" y="795"/>
                    </a:lnTo>
                    <a:lnTo>
                      <a:pt x="102" y="823"/>
                    </a:lnTo>
                    <a:lnTo>
                      <a:pt x="95" y="855"/>
                    </a:lnTo>
                    <a:lnTo>
                      <a:pt x="96" y="883"/>
                    </a:lnTo>
                    <a:lnTo>
                      <a:pt x="105" y="909"/>
                    </a:lnTo>
                    <a:lnTo>
                      <a:pt x="96" y="940"/>
                    </a:lnTo>
                    <a:lnTo>
                      <a:pt x="99" y="970"/>
                    </a:lnTo>
                    <a:lnTo>
                      <a:pt x="99" y="997"/>
                    </a:lnTo>
                    <a:lnTo>
                      <a:pt x="100" y="1027"/>
                    </a:lnTo>
                    <a:lnTo>
                      <a:pt x="84" y="1061"/>
                    </a:lnTo>
                    <a:lnTo>
                      <a:pt x="84" y="1091"/>
                    </a:lnTo>
                    <a:lnTo>
                      <a:pt x="58" y="1070"/>
                    </a:lnTo>
                    <a:lnTo>
                      <a:pt x="50" y="1045"/>
                    </a:lnTo>
                    <a:lnTo>
                      <a:pt x="40" y="1019"/>
                    </a:lnTo>
                    <a:lnTo>
                      <a:pt x="30" y="995"/>
                    </a:lnTo>
                    <a:lnTo>
                      <a:pt x="21" y="968"/>
                    </a:lnTo>
                    <a:lnTo>
                      <a:pt x="12" y="943"/>
                    </a:lnTo>
                    <a:lnTo>
                      <a:pt x="3" y="916"/>
                    </a:lnTo>
                    <a:lnTo>
                      <a:pt x="2" y="889"/>
                    </a:lnTo>
                    <a:lnTo>
                      <a:pt x="1" y="861"/>
                    </a:lnTo>
                    <a:lnTo>
                      <a:pt x="0" y="832"/>
                    </a:lnTo>
                    <a:lnTo>
                      <a:pt x="8" y="800"/>
                    </a:lnTo>
                    <a:lnTo>
                      <a:pt x="7" y="773"/>
                    </a:lnTo>
                    <a:lnTo>
                      <a:pt x="7" y="743"/>
                    </a:lnTo>
                    <a:lnTo>
                      <a:pt x="15" y="711"/>
                    </a:lnTo>
                    <a:lnTo>
                      <a:pt x="14" y="683"/>
                    </a:lnTo>
                    <a:lnTo>
                      <a:pt x="13" y="654"/>
                    </a:lnTo>
                    <a:lnTo>
                      <a:pt x="12" y="626"/>
                    </a:lnTo>
                    <a:lnTo>
                      <a:pt x="11" y="598"/>
                    </a:lnTo>
                    <a:lnTo>
                      <a:pt x="9" y="569"/>
                    </a:lnTo>
                    <a:lnTo>
                      <a:pt x="10" y="541"/>
                    </a:lnTo>
                    <a:lnTo>
                      <a:pt x="8" y="512"/>
                    </a:lnTo>
                    <a:lnTo>
                      <a:pt x="17" y="480"/>
                    </a:lnTo>
                    <a:lnTo>
                      <a:pt x="17" y="453"/>
                    </a:lnTo>
                    <a:lnTo>
                      <a:pt x="23" y="422"/>
                    </a:lnTo>
                    <a:lnTo>
                      <a:pt x="31" y="388"/>
                    </a:lnTo>
                    <a:lnTo>
                      <a:pt x="38" y="356"/>
                    </a:lnTo>
                    <a:lnTo>
                      <a:pt x="46" y="326"/>
                    </a:lnTo>
                    <a:lnTo>
                      <a:pt x="65" y="299"/>
                    </a:lnTo>
                    <a:lnTo>
                      <a:pt x="64" y="271"/>
                    </a:lnTo>
                    <a:lnTo>
                      <a:pt x="85" y="246"/>
                    </a:lnTo>
                    <a:lnTo>
                      <a:pt x="83" y="215"/>
                    </a:lnTo>
                    <a:lnTo>
                      <a:pt x="82" y="187"/>
                    </a:lnTo>
                    <a:lnTo>
                      <a:pt x="98" y="152"/>
                    </a:lnTo>
                    <a:lnTo>
                      <a:pt x="115" y="118"/>
                    </a:lnTo>
                    <a:lnTo>
                      <a:pt x="113" y="89"/>
                    </a:lnTo>
                    <a:lnTo>
                      <a:pt x="136" y="72"/>
                    </a:lnTo>
                    <a:lnTo>
                      <a:pt x="135" y="44"/>
                    </a:lnTo>
                    <a:lnTo>
                      <a:pt x="154" y="17"/>
                    </a:lnTo>
                    <a:lnTo>
                      <a:pt x="177" y="0"/>
                    </a:lnTo>
                    <a:lnTo>
                      <a:pt x="194" y="22"/>
                    </a:lnTo>
                    <a:lnTo>
                      <a:pt x="204" y="48"/>
                    </a:lnTo>
                    <a:lnTo>
                      <a:pt x="213" y="72"/>
                    </a:lnTo>
                    <a:lnTo>
                      <a:pt x="222" y="99"/>
                    </a:lnTo>
                    <a:lnTo>
                      <a:pt x="241" y="121"/>
                    </a:lnTo>
                    <a:lnTo>
                      <a:pt x="249" y="144"/>
                    </a:lnTo>
                    <a:lnTo>
                      <a:pt x="258" y="171"/>
                    </a:lnTo>
                    <a:lnTo>
                      <a:pt x="276" y="194"/>
                    </a:lnTo>
                    <a:lnTo>
                      <a:pt x="286" y="218"/>
                    </a:lnTo>
                    <a:lnTo>
                      <a:pt x="294" y="245"/>
                    </a:lnTo>
                    <a:lnTo>
                      <a:pt x="304" y="270"/>
                    </a:lnTo>
                    <a:lnTo>
                      <a:pt x="313" y="296"/>
                    </a:lnTo>
                    <a:lnTo>
                      <a:pt x="315" y="324"/>
                    </a:lnTo>
                    <a:lnTo>
                      <a:pt x="324" y="350"/>
                    </a:lnTo>
                    <a:lnTo>
                      <a:pt x="316" y="381"/>
                    </a:lnTo>
                    <a:lnTo>
                      <a:pt x="316" y="409"/>
                    </a:lnTo>
                    <a:lnTo>
                      <a:pt x="317" y="438"/>
                    </a:lnTo>
                    <a:lnTo>
                      <a:pt x="325" y="463"/>
                    </a:lnTo>
                    <a:lnTo>
                      <a:pt x="327" y="492"/>
                    </a:lnTo>
                    <a:lnTo>
                      <a:pt x="327" y="521"/>
                    </a:lnTo>
                    <a:lnTo>
                      <a:pt x="328" y="550"/>
                    </a:lnTo>
                    <a:lnTo>
                      <a:pt x="328" y="577"/>
                    </a:lnTo>
                    <a:lnTo>
                      <a:pt x="330" y="606"/>
                    </a:lnTo>
                    <a:lnTo>
                      <a:pt x="323" y="637"/>
                    </a:lnTo>
                    <a:lnTo>
                      <a:pt x="323" y="667"/>
                    </a:lnTo>
                    <a:lnTo>
                      <a:pt x="324" y="694"/>
                    </a:lnTo>
                    <a:lnTo>
                      <a:pt x="325" y="723"/>
                    </a:lnTo>
                    <a:lnTo>
                      <a:pt x="325" y="751"/>
                    </a:lnTo>
                    <a:lnTo>
                      <a:pt x="325" y="780"/>
                    </a:lnTo>
                    <a:lnTo>
                      <a:pt x="335" y="807"/>
                    </a:lnTo>
                    <a:lnTo>
                      <a:pt x="336" y="835"/>
                    </a:lnTo>
                    <a:lnTo>
                      <a:pt x="342" y="889"/>
                    </a:lnTo>
                    <a:lnTo>
                      <a:pt x="342" y="889"/>
                    </a:lnTo>
                  </a:path>
                </a:pathLst>
              </a:custGeom>
              <a:solidFill>
                <a:srgbClr val="dddddd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Freeform 11"/>
              <p:cNvSpPr/>
              <p:nvPr/>
            </p:nvSpPr>
            <p:spPr>
              <a:xfrm>
                <a:off x="1020600" y="2011320"/>
                <a:ext cx="258480" cy="125712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257120"/>
                  <a:gd name="textAreaBottom" fmla="*/ 1257480 h 1257120"/>
                </a:gdLst>
                <a:ahLst/>
                <a:rect l="textAreaLeft" t="textAreaTop" r="textAreaRight" b="textAreaBottom"/>
                <a:pathLst>
                  <a:path w="163" h="792">
                    <a:moveTo>
                      <a:pt x="151" y="753"/>
                    </a:moveTo>
                    <a:lnTo>
                      <a:pt x="112" y="772"/>
                    </a:lnTo>
                    <a:lnTo>
                      <a:pt x="91" y="790"/>
                    </a:lnTo>
                    <a:lnTo>
                      <a:pt x="62" y="791"/>
                    </a:lnTo>
                    <a:lnTo>
                      <a:pt x="30" y="784"/>
                    </a:lnTo>
                    <a:lnTo>
                      <a:pt x="12" y="760"/>
                    </a:lnTo>
                    <a:lnTo>
                      <a:pt x="2" y="735"/>
                    </a:lnTo>
                    <a:lnTo>
                      <a:pt x="2" y="707"/>
                    </a:lnTo>
                    <a:lnTo>
                      <a:pt x="22" y="679"/>
                    </a:lnTo>
                    <a:lnTo>
                      <a:pt x="13" y="655"/>
                    </a:lnTo>
                    <a:lnTo>
                      <a:pt x="4" y="630"/>
                    </a:lnTo>
                    <a:lnTo>
                      <a:pt x="2" y="601"/>
                    </a:lnTo>
                    <a:lnTo>
                      <a:pt x="1" y="572"/>
                    </a:lnTo>
                    <a:lnTo>
                      <a:pt x="10" y="541"/>
                    </a:lnTo>
                    <a:lnTo>
                      <a:pt x="0" y="515"/>
                    </a:lnTo>
                    <a:lnTo>
                      <a:pt x="7" y="483"/>
                    </a:lnTo>
                    <a:lnTo>
                      <a:pt x="15" y="452"/>
                    </a:lnTo>
                    <a:lnTo>
                      <a:pt x="14" y="423"/>
                    </a:lnTo>
                    <a:lnTo>
                      <a:pt x="23" y="392"/>
                    </a:lnTo>
                    <a:lnTo>
                      <a:pt x="22" y="363"/>
                    </a:lnTo>
                    <a:lnTo>
                      <a:pt x="30" y="331"/>
                    </a:lnTo>
                    <a:lnTo>
                      <a:pt x="37" y="300"/>
                    </a:lnTo>
                    <a:lnTo>
                      <a:pt x="36" y="272"/>
                    </a:lnTo>
                    <a:lnTo>
                      <a:pt x="44" y="239"/>
                    </a:lnTo>
                    <a:lnTo>
                      <a:pt x="42" y="210"/>
                    </a:lnTo>
                    <a:lnTo>
                      <a:pt x="41" y="182"/>
                    </a:lnTo>
                    <a:lnTo>
                      <a:pt x="50" y="151"/>
                    </a:lnTo>
                    <a:lnTo>
                      <a:pt x="58" y="119"/>
                    </a:lnTo>
                    <a:lnTo>
                      <a:pt x="65" y="87"/>
                    </a:lnTo>
                    <a:lnTo>
                      <a:pt x="73" y="56"/>
                    </a:lnTo>
                    <a:lnTo>
                      <a:pt x="92" y="30"/>
                    </a:lnTo>
                    <a:lnTo>
                      <a:pt x="92" y="0"/>
                    </a:lnTo>
                    <a:lnTo>
                      <a:pt x="109" y="23"/>
                    </a:lnTo>
                    <a:lnTo>
                      <a:pt x="118" y="48"/>
                    </a:lnTo>
                    <a:lnTo>
                      <a:pt x="120" y="76"/>
                    </a:lnTo>
                    <a:lnTo>
                      <a:pt x="119" y="106"/>
                    </a:lnTo>
                    <a:lnTo>
                      <a:pt x="112" y="139"/>
                    </a:lnTo>
                    <a:lnTo>
                      <a:pt x="112" y="167"/>
                    </a:lnTo>
                    <a:lnTo>
                      <a:pt x="122" y="191"/>
                    </a:lnTo>
                    <a:lnTo>
                      <a:pt x="123" y="221"/>
                    </a:lnTo>
                    <a:lnTo>
                      <a:pt x="124" y="249"/>
                    </a:lnTo>
                    <a:lnTo>
                      <a:pt x="125" y="276"/>
                    </a:lnTo>
                    <a:lnTo>
                      <a:pt x="134" y="302"/>
                    </a:lnTo>
                    <a:lnTo>
                      <a:pt x="135" y="331"/>
                    </a:lnTo>
                    <a:lnTo>
                      <a:pt x="144" y="357"/>
                    </a:lnTo>
                    <a:lnTo>
                      <a:pt x="144" y="386"/>
                    </a:lnTo>
                    <a:lnTo>
                      <a:pt x="146" y="415"/>
                    </a:lnTo>
                    <a:lnTo>
                      <a:pt x="147" y="443"/>
                    </a:lnTo>
                    <a:lnTo>
                      <a:pt x="156" y="468"/>
                    </a:lnTo>
                    <a:lnTo>
                      <a:pt x="156" y="496"/>
                    </a:lnTo>
                    <a:lnTo>
                      <a:pt x="157" y="525"/>
                    </a:lnTo>
                    <a:lnTo>
                      <a:pt x="158" y="554"/>
                    </a:lnTo>
                    <a:lnTo>
                      <a:pt x="159" y="583"/>
                    </a:lnTo>
                    <a:lnTo>
                      <a:pt x="159" y="610"/>
                    </a:lnTo>
                    <a:lnTo>
                      <a:pt x="161" y="640"/>
                    </a:lnTo>
                    <a:lnTo>
                      <a:pt x="161" y="668"/>
                    </a:lnTo>
                    <a:lnTo>
                      <a:pt x="162" y="696"/>
                    </a:lnTo>
                    <a:lnTo>
                      <a:pt x="151" y="753"/>
                    </a:lnTo>
                    <a:lnTo>
                      <a:pt x="151" y="753"/>
                    </a:lnTo>
                  </a:path>
                </a:pathLst>
              </a:custGeom>
              <a:solidFill>
                <a:srgbClr val="ffcccc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1" name="Freeform 13"/>
            <p:cNvSpPr/>
            <p:nvPr/>
          </p:nvSpPr>
          <p:spPr>
            <a:xfrm>
              <a:off x="22320" y="1511280"/>
              <a:ext cx="742680" cy="191880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1918800"/>
                <a:gd name="textAreaBottom" fmla="*/ 1919160 h 1918800"/>
              </a:gdLst>
              <a:ahLst/>
              <a:rect l="textAreaLeft" t="textAreaTop" r="textAreaRight" b="textAreaBottom"/>
              <a:pathLst>
                <a:path w="468" h="1209">
                  <a:moveTo>
                    <a:pt x="467" y="676"/>
                  </a:moveTo>
                  <a:lnTo>
                    <a:pt x="448" y="621"/>
                  </a:lnTo>
                  <a:lnTo>
                    <a:pt x="442" y="583"/>
                  </a:lnTo>
                  <a:lnTo>
                    <a:pt x="437" y="544"/>
                  </a:lnTo>
                  <a:lnTo>
                    <a:pt x="432" y="505"/>
                  </a:lnTo>
                  <a:lnTo>
                    <a:pt x="417" y="473"/>
                  </a:lnTo>
                  <a:lnTo>
                    <a:pt x="411" y="435"/>
                  </a:lnTo>
                  <a:lnTo>
                    <a:pt x="408" y="397"/>
                  </a:lnTo>
                  <a:lnTo>
                    <a:pt x="392" y="365"/>
                  </a:lnTo>
                  <a:lnTo>
                    <a:pt x="408" y="328"/>
                  </a:lnTo>
                  <a:lnTo>
                    <a:pt x="390" y="296"/>
                  </a:lnTo>
                  <a:lnTo>
                    <a:pt x="387" y="258"/>
                  </a:lnTo>
                  <a:lnTo>
                    <a:pt x="383" y="219"/>
                  </a:lnTo>
                  <a:lnTo>
                    <a:pt x="368" y="187"/>
                  </a:lnTo>
                  <a:lnTo>
                    <a:pt x="361" y="149"/>
                  </a:lnTo>
                  <a:lnTo>
                    <a:pt x="346" y="117"/>
                  </a:lnTo>
                  <a:lnTo>
                    <a:pt x="342" y="78"/>
                  </a:lnTo>
                  <a:lnTo>
                    <a:pt x="337" y="40"/>
                  </a:lnTo>
                  <a:lnTo>
                    <a:pt x="333" y="0"/>
                  </a:lnTo>
                  <a:lnTo>
                    <a:pt x="292" y="14"/>
                  </a:lnTo>
                  <a:lnTo>
                    <a:pt x="266" y="42"/>
                  </a:lnTo>
                  <a:lnTo>
                    <a:pt x="272" y="80"/>
                  </a:lnTo>
                  <a:lnTo>
                    <a:pt x="257" y="117"/>
                  </a:lnTo>
                  <a:lnTo>
                    <a:pt x="242" y="154"/>
                  </a:lnTo>
                  <a:lnTo>
                    <a:pt x="247" y="194"/>
                  </a:lnTo>
                  <a:lnTo>
                    <a:pt x="250" y="246"/>
                  </a:lnTo>
                  <a:lnTo>
                    <a:pt x="225" y="275"/>
                  </a:lnTo>
                  <a:lnTo>
                    <a:pt x="241" y="306"/>
                  </a:lnTo>
                  <a:lnTo>
                    <a:pt x="227" y="344"/>
                  </a:lnTo>
                  <a:lnTo>
                    <a:pt x="230" y="383"/>
                  </a:lnTo>
                  <a:lnTo>
                    <a:pt x="235" y="421"/>
                  </a:lnTo>
                  <a:lnTo>
                    <a:pt x="221" y="458"/>
                  </a:lnTo>
                  <a:lnTo>
                    <a:pt x="222" y="511"/>
                  </a:lnTo>
                  <a:lnTo>
                    <a:pt x="215" y="556"/>
                  </a:lnTo>
                  <a:lnTo>
                    <a:pt x="210" y="602"/>
                  </a:lnTo>
                  <a:lnTo>
                    <a:pt x="204" y="647"/>
                  </a:lnTo>
                  <a:lnTo>
                    <a:pt x="209" y="686"/>
                  </a:lnTo>
                  <a:lnTo>
                    <a:pt x="203" y="731"/>
                  </a:lnTo>
                  <a:lnTo>
                    <a:pt x="188" y="767"/>
                  </a:lnTo>
                  <a:lnTo>
                    <a:pt x="173" y="805"/>
                  </a:lnTo>
                  <a:lnTo>
                    <a:pt x="148" y="833"/>
                  </a:lnTo>
                  <a:lnTo>
                    <a:pt x="133" y="871"/>
                  </a:lnTo>
                  <a:lnTo>
                    <a:pt x="139" y="910"/>
                  </a:lnTo>
                  <a:lnTo>
                    <a:pt x="114" y="937"/>
                  </a:lnTo>
                  <a:lnTo>
                    <a:pt x="98" y="974"/>
                  </a:lnTo>
                  <a:lnTo>
                    <a:pt x="92" y="1020"/>
                  </a:lnTo>
                  <a:lnTo>
                    <a:pt x="77" y="1058"/>
                  </a:lnTo>
                  <a:lnTo>
                    <a:pt x="83" y="1096"/>
                  </a:lnTo>
                  <a:lnTo>
                    <a:pt x="68" y="1132"/>
                  </a:lnTo>
                  <a:lnTo>
                    <a:pt x="44" y="1161"/>
                  </a:lnTo>
                  <a:lnTo>
                    <a:pt x="18" y="1190"/>
                  </a:lnTo>
                  <a:lnTo>
                    <a:pt x="0" y="1208"/>
                  </a:lnTo>
                </a:path>
              </a:pathLst>
            </a:custGeom>
            <a:noFill/>
            <a:ln cap="rnd" w="762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74880" y="3386160"/>
              <a:ext cx="1139400" cy="448920"/>
            </a:xfrm>
            <a:custGeom>
              <a:avLst/>
              <a:gdLst>
                <a:gd name="textAreaLeft" fmla="*/ 0 w 1139400"/>
                <a:gd name="textAreaRight" fmla="*/ 1139760 w 113940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718" h="283">
                  <a:moveTo>
                    <a:pt x="717" y="0"/>
                  </a:moveTo>
                  <a:lnTo>
                    <a:pt x="676" y="11"/>
                  </a:lnTo>
                  <a:lnTo>
                    <a:pt x="649" y="11"/>
                  </a:lnTo>
                  <a:lnTo>
                    <a:pt x="613" y="19"/>
                  </a:lnTo>
                  <a:lnTo>
                    <a:pt x="586" y="38"/>
                  </a:lnTo>
                  <a:lnTo>
                    <a:pt x="559" y="48"/>
                  </a:lnTo>
                  <a:lnTo>
                    <a:pt x="504" y="56"/>
                  </a:lnTo>
                  <a:lnTo>
                    <a:pt x="469" y="65"/>
                  </a:lnTo>
                  <a:lnTo>
                    <a:pt x="442" y="74"/>
                  </a:lnTo>
                  <a:lnTo>
                    <a:pt x="370" y="92"/>
                  </a:lnTo>
                  <a:lnTo>
                    <a:pt x="334" y="120"/>
                  </a:lnTo>
                  <a:lnTo>
                    <a:pt x="298" y="138"/>
                  </a:lnTo>
                  <a:lnTo>
                    <a:pt x="262" y="156"/>
                  </a:lnTo>
                  <a:lnTo>
                    <a:pt x="225" y="173"/>
                  </a:lnTo>
                  <a:lnTo>
                    <a:pt x="190" y="192"/>
                  </a:lnTo>
                  <a:lnTo>
                    <a:pt x="163" y="210"/>
                  </a:lnTo>
                  <a:lnTo>
                    <a:pt x="136" y="219"/>
                  </a:lnTo>
                  <a:lnTo>
                    <a:pt x="108" y="237"/>
                  </a:lnTo>
                  <a:lnTo>
                    <a:pt x="82" y="246"/>
                  </a:lnTo>
                  <a:lnTo>
                    <a:pt x="55" y="264"/>
                  </a:lnTo>
                  <a:lnTo>
                    <a:pt x="28" y="273"/>
                  </a:lnTo>
                  <a:lnTo>
                    <a:pt x="0" y="282"/>
                  </a:lnTo>
                  <a:lnTo>
                    <a:pt x="4" y="279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542880" y="2325600"/>
              <a:ext cx="391680" cy="1537920"/>
            </a:xfrm>
            <a:custGeom>
              <a:avLst/>
              <a:gdLst>
                <a:gd name="textAreaLeft" fmla="*/ 0 w 391680"/>
                <a:gd name="textAreaRight" fmla="*/ 392040 w 391680"/>
                <a:gd name="textAreaTop" fmla="*/ 0 h 1537920"/>
                <a:gd name="textAreaBottom" fmla="*/ 1538280 h 1537920"/>
              </a:gdLst>
              <a:ahLst/>
              <a:rect l="textAreaLeft" t="textAreaTop" r="textAreaRight" b="textAreaBottom"/>
              <a:pathLst>
                <a:path w="247" h="969">
                  <a:moveTo>
                    <a:pt x="246" y="968"/>
                  </a:moveTo>
                  <a:lnTo>
                    <a:pt x="228" y="896"/>
                  </a:lnTo>
                  <a:lnTo>
                    <a:pt x="204" y="853"/>
                  </a:lnTo>
                  <a:lnTo>
                    <a:pt x="180" y="812"/>
                  </a:lnTo>
                  <a:lnTo>
                    <a:pt x="151" y="757"/>
                  </a:lnTo>
                  <a:lnTo>
                    <a:pt x="128" y="716"/>
                  </a:lnTo>
                  <a:lnTo>
                    <a:pt x="134" y="641"/>
                  </a:lnTo>
                  <a:lnTo>
                    <a:pt x="138" y="583"/>
                  </a:lnTo>
                  <a:lnTo>
                    <a:pt x="128" y="531"/>
                  </a:lnTo>
                  <a:lnTo>
                    <a:pt x="117" y="482"/>
                  </a:lnTo>
                  <a:lnTo>
                    <a:pt x="105" y="434"/>
                  </a:lnTo>
                  <a:lnTo>
                    <a:pt x="83" y="392"/>
                  </a:lnTo>
                  <a:lnTo>
                    <a:pt x="74" y="345"/>
                  </a:lnTo>
                  <a:lnTo>
                    <a:pt x="63" y="295"/>
                  </a:lnTo>
                  <a:lnTo>
                    <a:pt x="39" y="254"/>
                  </a:lnTo>
                  <a:lnTo>
                    <a:pt x="29" y="206"/>
                  </a:lnTo>
                  <a:lnTo>
                    <a:pt x="19" y="154"/>
                  </a:lnTo>
                  <a:lnTo>
                    <a:pt x="10" y="10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29" y="45"/>
                  </a:lnTo>
                </a:path>
              </a:pathLst>
            </a:custGeom>
            <a:solidFill>
              <a:schemeClr val="accent1"/>
            </a:solidFill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309600" y="3330720"/>
              <a:ext cx="445680" cy="963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963360"/>
                <a:gd name="textAreaBottom" fmla="*/ 963720 h 963360"/>
              </a:gdLst>
              <a:ahLst/>
              <a:rect l="textAreaLeft" t="textAreaTop" r="textAreaRight" b="textAreaBottom"/>
              <a:pathLst>
                <a:path w="281" h="607">
                  <a:moveTo>
                    <a:pt x="280" y="2"/>
                  </a:moveTo>
                  <a:lnTo>
                    <a:pt x="200" y="0"/>
                  </a:lnTo>
                  <a:lnTo>
                    <a:pt x="127" y="18"/>
                  </a:lnTo>
                  <a:lnTo>
                    <a:pt x="91" y="36"/>
                  </a:lnTo>
                  <a:lnTo>
                    <a:pt x="55" y="55"/>
                  </a:lnTo>
                  <a:lnTo>
                    <a:pt x="28" y="72"/>
                  </a:lnTo>
                  <a:lnTo>
                    <a:pt x="0" y="82"/>
                  </a:lnTo>
                  <a:lnTo>
                    <a:pt x="0" y="108"/>
                  </a:lnTo>
                  <a:lnTo>
                    <a:pt x="37" y="136"/>
                  </a:lnTo>
                  <a:lnTo>
                    <a:pt x="73" y="163"/>
                  </a:lnTo>
                  <a:lnTo>
                    <a:pt x="100" y="200"/>
                  </a:lnTo>
                  <a:lnTo>
                    <a:pt x="109" y="226"/>
                  </a:lnTo>
                  <a:lnTo>
                    <a:pt x="118" y="253"/>
                  </a:lnTo>
                  <a:lnTo>
                    <a:pt x="136" y="281"/>
                  </a:lnTo>
                  <a:lnTo>
                    <a:pt x="145" y="308"/>
                  </a:lnTo>
                  <a:lnTo>
                    <a:pt x="145" y="334"/>
                  </a:lnTo>
                  <a:lnTo>
                    <a:pt x="145" y="361"/>
                  </a:lnTo>
                  <a:lnTo>
                    <a:pt x="145" y="390"/>
                  </a:lnTo>
                  <a:lnTo>
                    <a:pt x="145" y="417"/>
                  </a:lnTo>
                  <a:lnTo>
                    <a:pt x="145" y="443"/>
                  </a:lnTo>
                  <a:lnTo>
                    <a:pt x="145" y="470"/>
                  </a:lnTo>
                  <a:lnTo>
                    <a:pt x="145" y="498"/>
                  </a:lnTo>
                  <a:lnTo>
                    <a:pt x="145" y="524"/>
                  </a:lnTo>
                  <a:lnTo>
                    <a:pt x="145" y="551"/>
                  </a:lnTo>
                  <a:lnTo>
                    <a:pt x="145" y="578"/>
                  </a:lnTo>
                  <a:lnTo>
                    <a:pt x="145" y="606"/>
                  </a:lnTo>
                  <a:lnTo>
                    <a:pt x="161" y="599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1536840" y="2514600"/>
              <a:ext cx="293400" cy="10314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031400"/>
                <a:gd name="textAreaBottom" fmla="*/ 1031760 h 1031400"/>
              </a:gdLst>
              <a:ahLst/>
              <a:rect l="textAreaLeft" t="textAreaTop" r="textAreaRight" b="textAreaBottom"/>
              <a:pathLst>
                <a:path w="185" h="650">
                  <a:moveTo>
                    <a:pt x="26" y="649"/>
                  </a:moveTo>
                  <a:lnTo>
                    <a:pt x="0" y="591"/>
                  </a:lnTo>
                  <a:lnTo>
                    <a:pt x="1" y="550"/>
                  </a:lnTo>
                  <a:lnTo>
                    <a:pt x="7" y="476"/>
                  </a:lnTo>
                  <a:lnTo>
                    <a:pt x="23" y="432"/>
                  </a:lnTo>
                  <a:lnTo>
                    <a:pt x="49" y="397"/>
                  </a:lnTo>
                  <a:lnTo>
                    <a:pt x="66" y="364"/>
                  </a:lnTo>
                  <a:lnTo>
                    <a:pt x="96" y="328"/>
                  </a:lnTo>
                  <a:lnTo>
                    <a:pt x="101" y="298"/>
                  </a:lnTo>
                  <a:lnTo>
                    <a:pt x="129" y="262"/>
                  </a:lnTo>
                  <a:lnTo>
                    <a:pt x="158" y="225"/>
                  </a:lnTo>
                  <a:lnTo>
                    <a:pt x="174" y="192"/>
                  </a:lnTo>
                  <a:lnTo>
                    <a:pt x="179" y="162"/>
                  </a:lnTo>
                  <a:lnTo>
                    <a:pt x="184" y="130"/>
                  </a:lnTo>
                  <a:lnTo>
                    <a:pt x="176" y="100"/>
                  </a:lnTo>
                  <a:lnTo>
                    <a:pt x="167" y="70"/>
                  </a:lnTo>
                  <a:lnTo>
                    <a:pt x="160" y="41"/>
                  </a:lnTo>
                  <a:lnTo>
                    <a:pt x="140" y="14"/>
                  </a:lnTo>
                  <a:lnTo>
                    <a:pt x="136" y="0"/>
                  </a:lnTo>
                </a:path>
              </a:pathLst>
            </a:custGeom>
            <a:noFill/>
            <a:ln cap="rnd" w="1270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838080" y="3359160"/>
              <a:ext cx="667800" cy="178920"/>
            </a:xfrm>
            <a:custGeom>
              <a:avLst/>
              <a:gdLst>
                <a:gd name="textAreaLeft" fmla="*/ 0 w 667800"/>
                <a:gd name="textAreaRight" fmla="*/ 668160 w 6678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421" h="113">
                  <a:moveTo>
                    <a:pt x="0" y="0"/>
                  </a:moveTo>
                  <a:lnTo>
                    <a:pt x="2" y="56"/>
                  </a:lnTo>
                  <a:lnTo>
                    <a:pt x="38" y="78"/>
                  </a:lnTo>
                  <a:lnTo>
                    <a:pt x="62" y="112"/>
                  </a:lnTo>
                  <a:lnTo>
                    <a:pt x="97" y="112"/>
                  </a:lnTo>
                  <a:lnTo>
                    <a:pt x="133" y="112"/>
                  </a:lnTo>
                  <a:lnTo>
                    <a:pt x="170" y="112"/>
                  </a:lnTo>
                  <a:lnTo>
                    <a:pt x="217" y="112"/>
                  </a:lnTo>
                  <a:lnTo>
                    <a:pt x="253" y="112"/>
                  </a:lnTo>
                  <a:lnTo>
                    <a:pt x="348" y="112"/>
                  </a:lnTo>
                  <a:lnTo>
                    <a:pt x="384" y="78"/>
                  </a:lnTo>
                  <a:lnTo>
                    <a:pt x="420" y="49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93600" y="2287440"/>
              <a:ext cx="221760" cy="99504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995040"/>
                <a:gd name="textAreaBottom" fmla="*/ 995400 h 995040"/>
              </a:gdLst>
              <a:ahLst/>
              <a:rect l="textAreaLeft" t="textAreaTop" r="textAreaRight" b="textAreaBottom"/>
              <a:pathLst>
                <a:path w="140" h="627">
                  <a:moveTo>
                    <a:pt x="0" y="626"/>
                  </a:moveTo>
                  <a:lnTo>
                    <a:pt x="17" y="584"/>
                  </a:lnTo>
                  <a:lnTo>
                    <a:pt x="28" y="552"/>
                  </a:lnTo>
                  <a:lnTo>
                    <a:pt x="28" y="522"/>
                  </a:lnTo>
                  <a:lnTo>
                    <a:pt x="37" y="491"/>
                  </a:lnTo>
                  <a:lnTo>
                    <a:pt x="48" y="460"/>
                  </a:lnTo>
                  <a:lnTo>
                    <a:pt x="48" y="430"/>
                  </a:lnTo>
                  <a:lnTo>
                    <a:pt x="57" y="399"/>
                  </a:lnTo>
                  <a:lnTo>
                    <a:pt x="68" y="368"/>
                  </a:lnTo>
                  <a:lnTo>
                    <a:pt x="88" y="337"/>
                  </a:lnTo>
                  <a:lnTo>
                    <a:pt x="98" y="307"/>
                  </a:lnTo>
                  <a:lnTo>
                    <a:pt x="98" y="276"/>
                  </a:lnTo>
                  <a:lnTo>
                    <a:pt x="109" y="245"/>
                  </a:lnTo>
                  <a:lnTo>
                    <a:pt x="109" y="215"/>
                  </a:lnTo>
                  <a:lnTo>
                    <a:pt x="118" y="184"/>
                  </a:lnTo>
                  <a:lnTo>
                    <a:pt x="129" y="153"/>
                  </a:lnTo>
                  <a:lnTo>
                    <a:pt x="129" y="122"/>
                  </a:lnTo>
                  <a:lnTo>
                    <a:pt x="129" y="91"/>
                  </a:lnTo>
                  <a:lnTo>
                    <a:pt x="129" y="61"/>
                  </a:lnTo>
                  <a:lnTo>
                    <a:pt x="129" y="30"/>
                  </a:lnTo>
                  <a:lnTo>
                    <a:pt x="139" y="0"/>
                  </a:lnTo>
                  <a:lnTo>
                    <a:pt x="139" y="18"/>
                  </a:lnTo>
                </a:path>
              </a:pathLst>
            </a:custGeom>
            <a:noFill/>
            <a:ln cap="rnd" w="508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2022480" y="2378160"/>
              <a:ext cx="221760" cy="46332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40" h="292">
                  <a:moveTo>
                    <a:pt x="139" y="291"/>
                  </a:moveTo>
                  <a:lnTo>
                    <a:pt x="98" y="275"/>
                  </a:lnTo>
                  <a:lnTo>
                    <a:pt x="88" y="244"/>
                  </a:lnTo>
                  <a:lnTo>
                    <a:pt x="78" y="214"/>
                  </a:lnTo>
                  <a:lnTo>
                    <a:pt x="68" y="183"/>
                  </a:lnTo>
                  <a:lnTo>
                    <a:pt x="57" y="153"/>
                  </a:lnTo>
                  <a:lnTo>
                    <a:pt x="48" y="131"/>
                  </a:lnTo>
                  <a:lnTo>
                    <a:pt x="48" y="102"/>
                  </a:lnTo>
                  <a:lnTo>
                    <a:pt x="37" y="61"/>
                  </a:lnTo>
                  <a:lnTo>
                    <a:pt x="27" y="30"/>
                  </a:lnTo>
                  <a:lnTo>
                    <a:pt x="17" y="0"/>
                  </a:lnTo>
                  <a:lnTo>
                    <a:pt x="0" y="13"/>
                  </a:lnTo>
                </a:path>
              </a:pathLst>
            </a:custGeom>
            <a:noFill/>
            <a:ln cap="rnd" w="5080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318960" y="1474920"/>
              <a:ext cx="472680" cy="107424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1074240"/>
                <a:gd name="textAreaBottom" fmla="*/ 1074600 h 1074240"/>
              </a:gdLst>
              <a:ahLst/>
              <a:rect l="textAreaLeft" t="textAreaTop" r="textAreaRight" b="textAreaBottom"/>
              <a:pathLst>
                <a:path w="298" h="677">
                  <a:moveTo>
                    <a:pt x="0" y="484"/>
                  </a:moveTo>
                  <a:lnTo>
                    <a:pt x="10" y="440"/>
                  </a:lnTo>
                  <a:lnTo>
                    <a:pt x="10" y="409"/>
                  </a:lnTo>
                  <a:lnTo>
                    <a:pt x="20" y="379"/>
                  </a:lnTo>
                  <a:lnTo>
                    <a:pt x="30" y="348"/>
                  </a:lnTo>
                  <a:lnTo>
                    <a:pt x="41" y="318"/>
                  </a:lnTo>
                  <a:lnTo>
                    <a:pt x="41" y="286"/>
                  </a:lnTo>
                  <a:lnTo>
                    <a:pt x="41" y="256"/>
                  </a:lnTo>
                  <a:lnTo>
                    <a:pt x="41" y="235"/>
                  </a:lnTo>
                  <a:lnTo>
                    <a:pt x="41" y="205"/>
                  </a:lnTo>
                  <a:lnTo>
                    <a:pt x="41" y="174"/>
                  </a:lnTo>
                  <a:lnTo>
                    <a:pt x="41" y="143"/>
                  </a:lnTo>
                  <a:lnTo>
                    <a:pt x="41" y="112"/>
                  </a:lnTo>
                  <a:lnTo>
                    <a:pt x="41" y="82"/>
                  </a:lnTo>
                  <a:lnTo>
                    <a:pt x="51" y="51"/>
                  </a:lnTo>
                  <a:lnTo>
                    <a:pt x="71" y="20"/>
                  </a:lnTo>
                  <a:lnTo>
                    <a:pt x="102" y="0"/>
                  </a:lnTo>
                  <a:lnTo>
                    <a:pt x="132" y="0"/>
                  </a:lnTo>
                  <a:lnTo>
                    <a:pt x="164" y="0"/>
                  </a:lnTo>
                  <a:lnTo>
                    <a:pt x="184" y="31"/>
                  </a:lnTo>
                  <a:lnTo>
                    <a:pt x="204" y="62"/>
                  </a:lnTo>
                  <a:lnTo>
                    <a:pt x="204" y="92"/>
                  </a:lnTo>
                  <a:lnTo>
                    <a:pt x="204" y="123"/>
                  </a:lnTo>
                  <a:lnTo>
                    <a:pt x="204" y="153"/>
                  </a:lnTo>
                  <a:lnTo>
                    <a:pt x="215" y="184"/>
                  </a:lnTo>
                  <a:lnTo>
                    <a:pt x="215" y="214"/>
                  </a:lnTo>
                  <a:lnTo>
                    <a:pt x="215" y="246"/>
                  </a:lnTo>
                  <a:lnTo>
                    <a:pt x="236" y="277"/>
                  </a:lnTo>
                  <a:lnTo>
                    <a:pt x="236" y="307"/>
                  </a:lnTo>
                  <a:lnTo>
                    <a:pt x="245" y="338"/>
                  </a:lnTo>
                  <a:lnTo>
                    <a:pt x="245" y="368"/>
                  </a:lnTo>
                  <a:lnTo>
                    <a:pt x="245" y="399"/>
                  </a:lnTo>
                  <a:lnTo>
                    <a:pt x="256" y="430"/>
                  </a:lnTo>
                  <a:lnTo>
                    <a:pt x="256" y="461"/>
                  </a:lnTo>
                  <a:lnTo>
                    <a:pt x="256" y="492"/>
                  </a:lnTo>
                  <a:lnTo>
                    <a:pt x="266" y="522"/>
                  </a:lnTo>
                  <a:lnTo>
                    <a:pt x="277" y="553"/>
                  </a:lnTo>
                  <a:lnTo>
                    <a:pt x="286" y="583"/>
                  </a:lnTo>
                  <a:lnTo>
                    <a:pt x="297" y="614"/>
                  </a:lnTo>
                  <a:lnTo>
                    <a:pt x="297" y="645"/>
                  </a:lnTo>
                  <a:lnTo>
                    <a:pt x="297" y="676"/>
                  </a:lnTo>
                  <a:lnTo>
                    <a:pt x="280" y="671"/>
                  </a:lnTo>
                </a:path>
              </a:pathLst>
            </a:custGeom>
            <a:noFill/>
            <a:ln cap="rnd" w="5080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1506600" y="1477800"/>
              <a:ext cx="452160" cy="9903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85" h="624">
                  <a:moveTo>
                    <a:pt x="0" y="623"/>
                  </a:moveTo>
                  <a:lnTo>
                    <a:pt x="0" y="583"/>
                  </a:lnTo>
                  <a:lnTo>
                    <a:pt x="0" y="553"/>
                  </a:lnTo>
                  <a:lnTo>
                    <a:pt x="0" y="522"/>
                  </a:lnTo>
                  <a:lnTo>
                    <a:pt x="0" y="492"/>
                  </a:lnTo>
                  <a:lnTo>
                    <a:pt x="20" y="460"/>
                  </a:lnTo>
                  <a:lnTo>
                    <a:pt x="30" y="430"/>
                  </a:lnTo>
                  <a:lnTo>
                    <a:pt x="30" y="409"/>
                  </a:lnTo>
                  <a:lnTo>
                    <a:pt x="41" y="379"/>
                  </a:lnTo>
                  <a:lnTo>
                    <a:pt x="50" y="348"/>
                  </a:lnTo>
                  <a:lnTo>
                    <a:pt x="50" y="318"/>
                  </a:lnTo>
                  <a:lnTo>
                    <a:pt x="50" y="287"/>
                  </a:lnTo>
                  <a:lnTo>
                    <a:pt x="50" y="257"/>
                  </a:lnTo>
                  <a:lnTo>
                    <a:pt x="50" y="235"/>
                  </a:lnTo>
                  <a:lnTo>
                    <a:pt x="50" y="205"/>
                  </a:lnTo>
                  <a:lnTo>
                    <a:pt x="50" y="174"/>
                  </a:lnTo>
                  <a:lnTo>
                    <a:pt x="61" y="144"/>
                  </a:lnTo>
                  <a:lnTo>
                    <a:pt x="61" y="113"/>
                  </a:lnTo>
                  <a:lnTo>
                    <a:pt x="61" y="83"/>
                  </a:lnTo>
                  <a:lnTo>
                    <a:pt x="61" y="52"/>
                  </a:lnTo>
                  <a:lnTo>
                    <a:pt x="61" y="21"/>
                  </a:lnTo>
                  <a:lnTo>
                    <a:pt x="91" y="0"/>
                  </a:lnTo>
                  <a:lnTo>
                    <a:pt x="112" y="0"/>
                  </a:lnTo>
                  <a:lnTo>
                    <a:pt x="142" y="0"/>
                  </a:lnTo>
                  <a:lnTo>
                    <a:pt x="173" y="11"/>
                  </a:lnTo>
                  <a:lnTo>
                    <a:pt x="193" y="41"/>
                  </a:lnTo>
                  <a:lnTo>
                    <a:pt x="193" y="63"/>
                  </a:lnTo>
                  <a:lnTo>
                    <a:pt x="203" y="93"/>
                  </a:lnTo>
                  <a:lnTo>
                    <a:pt x="203" y="124"/>
                  </a:lnTo>
                  <a:lnTo>
                    <a:pt x="203" y="154"/>
                  </a:lnTo>
                  <a:lnTo>
                    <a:pt x="213" y="185"/>
                  </a:lnTo>
                  <a:lnTo>
                    <a:pt x="223" y="215"/>
                  </a:lnTo>
                  <a:lnTo>
                    <a:pt x="223" y="246"/>
                  </a:lnTo>
                  <a:lnTo>
                    <a:pt x="234" y="277"/>
                  </a:lnTo>
                  <a:lnTo>
                    <a:pt x="243" y="307"/>
                  </a:lnTo>
                  <a:lnTo>
                    <a:pt x="264" y="338"/>
                  </a:lnTo>
                  <a:lnTo>
                    <a:pt x="264" y="368"/>
                  </a:lnTo>
                  <a:lnTo>
                    <a:pt x="274" y="399"/>
                  </a:lnTo>
                  <a:lnTo>
                    <a:pt x="284" y="430"/>
                  </a:lnTo>
                  <a:lnTo>
                    <a:pt x="278" y="437"/>
                  </a:lnTo>
                </a:path>
              </a:pathLst>
            </a:custGeom>
            <a:noFill/>
            <a:ln cap="rnd" w="5080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538200" y="3808440"/>
              <a:ext cx="298080" cy="37260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188" h="235">
                  <a:moveTo>
                    <a:pt x="0" y="234"/>
                  </a:moveTo>
                  <a:lnTo>
                    <a:pt x="13" y="188"/>
                  </a:lnTo>
                  <a:lnTo>
                    <a:pt x="45" y="167"/>
                  </a:lnTo>
                  <a:lnTo>
                    <a:pt x="66" y="135"/>
                  </a:lnTo>
                  <a:lnTo>
                    <a:pt x="87" y="102"/>
                  </a:lnTo>
                  <a:lnTo>
                    <a:pt x="98" y="71"/>
                  </a:lnTo>
                  <a:lnTo>
                    <a:pt x="141" y="50"/>
                  </a:lnTo>
                  <a:lnTo>
                    <a:pt x="173" y="18"/>
                  </a:lnTo>
                  <a:lnTo>
                    <a:pt x="187" y="0"/>
                  </a:lnTo>
                </a:path>
              </a:pathLst>
            </a:custGeom>
            <a:noFill/>
            <a:ln cap="rnd" w="10160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Arc 24"/>
            <p:cNvSpPr/>
            <p:nvPr/>
          </p:nvSpPr>
          <p:spPr>
            <a:xfrm>
              <a:off x="2131920" y="2209680"/>
              <a:ext cx="686880" cy="151920"/>
            </a:xfrm>
            <a:custGeom>
              <a:avLst/>
              <a:gdLst>
                <a:gd name="textAreaLeft" fmla="*/ 0 w 686880"/>
                <a:gd name="textAreaRight" fmla="*/ 687240 w 68688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fill="none" w="21650" h="21600">
                  <a:moveTo>
                    <a:pt x="0" y="0"/>
                  </a:moveTo>
                  <a:cubicBezTo>
                    <a:pt x="16" y="0"/>
                    <a:pt x="33" y="-1"/>
                    <a:pt x="50" y="0"/>
                  </a:cubicBezTo>
                  <a:cubicBezTo>
                    <a:pt x="11979" y="0"/>
                    <a:pt x="21650" y="9670"/>
                    <a:pt x="21650" y="21600"/>
                  </a:cubicBezTo>
                </a:path>
                <a:path stroke="0" w="21650" h="21600">
                  <a:moveTo>
                    <a:pt x="0" y="0"/>
                  </a:moveTo>
                  <a:cubicBezTo>
                    <a:pt x="16" y="0"/>
                    <a:pt x="33" y="-1"/>
                    <a:pt x="50" y="0"/>
                  </a:cubicBezTo>
                  <a:cubicBezTo>
                    <a:pt x="11979" y="0"/>
                    <a:pt x="21650" y="9670"/>
                    <a:pt x="21650" y="21600"/>
                  </a:cubicBezTo>
                  <a:lnTo>
                    <a:pt x="50" y="21600"/>
                  </a:lnTo>
                  <a:close/>
                </a:path>
              </a:pathLst>
            </a:custGeom>
            <a:noFill/>
            <a:ln cap="rnd" w="25400">
              <a:solidFill>
                <a:srgbClr val="f79646">
                  <a:lumMod val="75000"/>
                </a:srgbClr>
              </a:solidFill>
              <a:prstDash val="dash"/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Rectangle 25"/>
            <p:cNvSpPr/>
            <p:nvPr/>
          </p:nvSpPr>
          <p:spPr>
            <a:xfrm flipH="1">
              <a:off x="5693760" y="4960800"/>
              <a:ext cx="4059000" cy="1429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1" lang="ru-RU" sz="3200" spc="-1" strike="noStrike">
                  <a:solidFill>
                    <a:srgbClr val="ff6699"/>
                  </a:solidFill>
                  <a:latin typeface="Calibri"/>
                </a:rPr>
                <a:t>ATTACHED GING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</a:pPr>
              <a:r>
                <a:rPr b="1" lang="en-US" sz="3200" spc="-1" strike="noStrike">
                  <a:solidFill>
                    <a:srgbClr val="ff6699"/>
                  </a:solidFill>
                  <a:latin typeface="Calibri"/>
                </a:rPr>
                <a:t>	</a:t>
              </a:r>
              <a:r>
                <a:rPr b="1" lang="en-US" sz="4000" spc="-1" strike="noStrike">
                  <a:solidFill>
                    <a:srgbClr val="ff6699"/>
                  </a:solidFill>
                  <a:latin typeface="Calibri"/>
                </a:rPr>
                <a:t>c.t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26"/>
            <p:cNvSpPr/>
            <p:nvPr/>
          </p:nvSpPr>
          <p:spPr>
            <a:xfrm>
              <a:off x="3733560" y="4572000"/>
              <a:ext cx="3276720" cy="360"/>
            </a:xfrm>
            <a:prstGeom prst="line">
              <a:avLst/>
            </a:prstGeom>
            <a:ln w="254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Rectangle 27"/>
            <p:cNvSpPr/>
            <p:nvPr/>
          </p:nvSpPr>
          <p:spPr>
            <a:xfrm>
              <a:off x="5486400" y="3505320"/>
              <a:ext cx="837720" cy="1097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3300"/>
                </a:spcBef>
              </a:pPr>
              <a:r>
                <a:rPr b="0" lang="ru-RU" sz="6600" spc="-1" strike="noStrike">
                  <a:solidFill>
                    <a:srgbClr val="ff9999"/>
                  </a:solidFill>
                  <a:latin typeface="Times New Roman"/>
                </a:rPr>
                <a:t>}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28"/>
            <p:cNvSpPr/>
            <p:nvPr/>
          </p:nvSpPr>
          <p:spPr>
            <a:xfrm flipH="1">
              <a:off x="457200" y="4884840"/>
              <a:ext cx="2057040" cy="810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ru-RU" sz="2400" spc="-1" strike="noStrike">
                  <a:solidFill>
                    <a:srgbClr val="558ed5"/>
                  </a:solidFill>
                  <a:latin typeface="Calibri"/>
                </a:rPr>
                <a:t>Epithelial attach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29"/>
            <p:cNvSpPr/>
            <p:nvPr/>
          </p:nvSpPr>
          <p:spPr>
            <a:xfrm flipV="1">
              <a:off x="2133360" y="5105160"/>
              <a:ext cx="1600200" cy="76320"/>
            </a:xfrm>
            <a:prstGeom prst="line">
              <a:avLst/>
            </a:prstGeom>
            <a:ln w="25400">
              <a:solidFill>
                <a:srgbClr val="1f497d">
                  <a:lumMod val="60000"/>
                  <a:lumOff val="40000"/>
                </a:srgbClr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1347840" y="1322280"/>
              <a:ext cx="769680" cy="1193400"/>
            </a:xfrm>
            <a:custGeom>
              <a:avLst/>
              <a:gdLst>
                <a:gd name="textAreaLeft" fmla="*/ 0 w 769680"/>
                <a:gd name="textAreaRight" fmla="*/ 770040 w 769680"/>
                <a:gd name="textAreaTop" fmla="*/ 0 h 1193400"/>
                <a:gd name="textAreaBottom" fmla="*/ 1193760 h 1193400"/>
              </a:gdLst>
              <a:ahLst/>
              <a:rect l="textAreaLeft" t="textAreaTop" r="textAreaRight" b="textAreaBottom"/>
              <a:pathLst>
                <a:path w="485" h="752">
                  <a:moveTo>
                    <a:pt x="15" y="751"/>
                  </a:moveTo>
                  <a:lnTo>
                    <a:pt x="63" y="727"/>
                  </a:lnTo>
                  <a:lnTo>
                    <a:pt x="95" y="727"/>
                  </a:lnTo>
                  <a:lnTo>
                    <a:pt x="126" y="716"/>
                  </a:lnTo>
                  <a:lnTo>
                    <a:pt x="158" y="716"/>
                  </a:lnTo>
                  <a:lnTo>
                    <a:pt x="189" y="716"/>
                  </a:lnTo>
                  <a:lnTo>
                    <a:pt x="221" y="716"/>
                  </a:lnTo>
                  <a:lnTo>
                    <a:pt x="252" y="716"/>
                  </a:lnTo>
                  <a:lnTo>
                    <a:pt x="274" y="716"/>
                  </a:lnTo>
                  <a:lnTo>
                    <a:pt x="305" y="716"/>
                  </a:lnTo>
                  <a:lnTo>
                    <a:pt x="347" y="716"/>
                  </a:lnTo>
                  <a:lnTo>
                    <a:pt x="379" y="716"/>
                  </a:lnTo>
                  <a:lnTo>
                    <a:pt x="410" y="706"/>
                  </a:lnTo>
                  <a:lnTo>
                    <a:pt x="442" y="706"/>
                  </a:lnTo>
                  <a:lnTo>
                    <a:pt x="473" y="674"/>
                  </a:lnTo>
                  <a:lnTo>
                    <a:pt x="473" y="643"/>
                  </a:lnTo>
                  <a:lnTo>
                    <a:pt x="473" y="611"/>
                  </a:lnTo>
                  <a:lnTo>
                    <a:pt x="473" y="569"/>
                  </a:lnTo>
                  <a:lnTo>
                    <a:pt x="473" y="537"/>
                  </a:lnTo>
                  <a:lnTo>
                    <a:pt x="473" y="506"/>
                  </a:lnTo>
                  <a:lnTo>
                    <a:pt x="473" y="474"/>
                  </a:lnTo>
                  <a:lnTo>
                    <a:pt x="484" y="443"/>
                  </a:lnTo>
                  <a:lnTo>
                    <a:pt x="484" y="411"/>
                  </a:lnTo>
                  <a:lnTo>
                    <a:pt x="484" y="379"/>
                  </a:lnTo>
                  <a:lnTo>
                    <a:pt x="484" y="348"/>
                  </a:lnTo>
                  <a:lnTo>
                    <a:pt x="484" y="316"/>
                  </a:lnTo>
                  <a:lnTo>
                    <a:pt x="484" y="285"/>
                  </a:lnTo>
                  <a:lnTo>
                    <a:pt x="484" y="253"/>
                  </a:lnTo>
                  <a:lnTo>
                    <a:pt x="484" y="222"/>
                  </a:lnTo>
                  <a:lnTo>
                    <a:pt x="484" y="190"/>
                  </a:lnTo>
                  <a:lnTo>
                    <a:pt x="484" y="158"/>
                  </a:lnTo>
                  <a:lnTo>
                    <a:pt x="484" y="127"/>
                  </a:lnTo>
                  <a:lnTo>
                    <a:pt x="484" y="95"/>
                  </a:lnTo>
                  <a:lnTo>
                    <a:pt x="484" y="64"/>
                  </a:lnTo>
                  <a:lnTo>
                    <a:pt x="473" y="32"/>
                  </a:lnTo>
                  <a:lnTo>
                    <a:pt x="442" y="11"/>
                  </a:lnTo>
                  <a:lnTo>
                    <a:pt x="410" y="0"/>
                  </a:lnTo>
                  <a:lnTo>
                    <a:pt x="379" y="0"/>
                  </a:lnTo>
                  <a:lnTo>
                    <a:pt x="337" y="0"/>
                  </a:lnTo>
                  <a:lnTo>
                    <a:pt x="295" y="0"/>
                  </a:lnTo>
                  <a:lnTo>
                    <a:pt x="263" y="0"/>
                  </a:lnTo>
                  <a:lnTo>
                    <a:pt x="221" y="0"/>
                  </a:lnTo>
                  <a:lnTo>
                    <a:pt x="189" y="0"/>
                  </a:lnTo>
                  <a:lnTo>
                    <a:pt x="158" y="0"/>
                  </a:lnTo>
                  <a:lnTo>
                    <a:pt x="126" y="0"/>
                  </a:lnTo>
                  <a:lnTo>
                    <a:pt x="95" y="0"/>
                  </a:lnTo>
                  <a:lnTo>
                    <a:pt x="74" y="22"/>
                  </a:lnTo>
                  <a:lnTo>
                    <a:pt x="42" y="32"/>
                  </a:lnTo>
                  <a:lnTo>
                    <a:pt x="31" y="64"/>
                  </a:lnTo>
                  <a:lnTo>
                    <a:pt x="31" y="95"/>
                  </a:lnTo>
                  <a:lnTo>
                    <a:pt x="21" y="127"/>
                  </a:lnTo>
                  <a:lnTo>
                    <a:pt x="21" y="158"/>
                  </a:lnTo>
                  <a:lnTo>
                    <a:pt x="21" y="190"/>
                  </a:lnTo>
                  <a:lnTo>
                    <a:pt x="21" y="222"/>
                  </a:lnTo>
                  <a:lnTo>
                    <a:pt x="21" y="253"/>
                  </a:lnTo>
                  <a:lnTo>
                    <a:pt x="21" y="295"/>
                  </a:lnTo>
                  <a:lnTo>
                    <a:pt x="10" y="337"/>
                  </a:lnTo>
                  <a:lnTo>
                    <a:pt x="0" y="379"/>
                  </a:lnTo>
                  <a:lnTo>
                    <a:pt x="0" y="401"/>
                  </a:lnTo>
                  <a:lnTo>
                    <a:pt x="0" y="432"/>
                  </a:lnTo>
                  <a:lnTo>
                    <a:pt x="0" y="464"/>
                  </a:lnTo>
                  <a:lnTo>
                    <a:pt x="0" y="495"/>
                  </a:lnTo>
                  <a:lnTo>
                    <a:pt x="0" y="527"/>
                  </a:lnTo>
                  <a:lnTo>
                    <a:pt x="0" y="558"/>
                  </a:lnTo>
                  <a:lnTo>
                    <a:pt x="0" y="580"/>
                  </a:lnTo>
                  <a:lnTo>
                    <a:pt x="0" y="611"/>
                  </a:lnTo>
                  <a:lnTo>
                    <a:pt x="0" y="643"/>
                  </a:lnTo>
                  <a:lnTo>
                    <a:pt x="15" y="655"/>
                  </a:lnTo>
                </a:path>
              </a:pathLst>
            </a:custGeom>
            <a:noFill/>
            <a:ln cap="rnd" w="12700">
              <a:solidFill>
                <a:srgbClr val="f79646">
                  <a:lumMod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Line 31"/>
            <p:cNvSpPr/>
            <p:nvPr/>
          </p:nvSpPr>
          <p:spPr>
            <a:xfrm flipH="1" flipV="1">
              <a:off x="1981080" y="2133360"/>
              <a:ext cx="76320" cy="228600"/>
            </a:xfrm>
            <a:prstGeom prst="line">
              <a:avLst/>
            </a:prstGeom>
            <a:ln w="5080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32"/>
            <p:cNvSpPr/>
            <p:nvPr/>
          </p:nvSpPr>
          <p:spPr>
            <a:xfrm>
              <a:off x="1905120" y="2209680"/>
              <a:ext cx="95040" cy="1677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60" h="106">
                  <a:moveTo>
                    <a:pt x="0" y="0"/>
                  </a:moveTo>
                  <a:lnTo>
                    <a:pt x="17" y="42"/>
                  </a:lnTo>
                  <a:lnTo>
                    <a:pt x="38" y="73"/>
                  </a:lnTo>
                  <a:lnTo>
                    <a:pt x="59" y="105"/>
                  </a:lnTo>
                  <a:lnTo>
                    <a:pt x="48" y="96"/>
                  </a:lnTo>
                </a:path>
              </a:pathLst>
            </a:custGeom>
            <a:noFill/>
            <a:ln cap="rnd" w="50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2666880" y="1322280"/>
              <a:ext cx="182844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lang="ru-RU" sz="36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</a:rPr>
                <a:t>TOOT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34"/>
            <p:cNvSpPr/>
            <p:nvPr/>
          </p:nvSpPr>
          <p:spPr>
            <a:xfrm flipH="1">
              <a:off x="5181480" y="2293920"/>
              <a:ext cx="4419360" cy="105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1" lang="ru-RU" sz="32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Gingival sulcus/ crevice</a:t>
              </a:r>
              <a:r>
                <a:rPr b="1" lang="en-US" sz="32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/FISSU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rc 35"/>
            <p:cNvSpPr/>
            <p:nvPr/>
          </p:nvSpPr>
          <p:spPr>
            <a:xfrm>
              <a:off x="3809880" y="2592360"/>
              <a:ext cx="914040" cy="152352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1523520"/>
                <a:gd name="textAreaBottom" fmla="*/ 1523880 h 15235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85"/>
                    <a:pt x="9647" y="20"/>
                    <a:pt x="21562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85"/>
                    <a:pt x="9647" y="20"/>
                    <a:pt x="21562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700">
              <a:solidFill>
                <a:srgbClr val="f79646">
                  <a:lumMod val="75000"/>
                </a:srgbClr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3733920" y="3646440"/>
              <a:ext cx="1942920" cy="214596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2145960"/>
                <a:gd name="textAreaBottom" fmla="*/ 2146320 h 2145960"/>
              </a:gdLst>
              <a:ahLst/>
              <a:rect l="textAreaLeft" t="textAreaTop" r="textAreaRight" b="textAreaBottom"/>
              <a:pathLst>
                <a:path w="1224" h="1352">
                  <a:moveTo>
                    <a:pt x="0" y="583"/>
                  </a:moveTo>
                  <a:lnTo>
                    <a:pt x="23" y="537"/>
                  </a:lnTo>
                  <a:lnTo>
                    <a:pt x="23" y="505"/>
                  </a:lnTo>
                  <a:lnTo>
                    <a:pt x="44" y="474"/>
                  </a:lnTo>
                  <a:lnTo>
                    <a:pt x="54" y="442"/>
                  </a:lnTo>
                  <a:lnTo>
                    <a:pt x="75" y="410"/>
                  </a:lnTo>
                  <a:lnTo>
                    <a:pt x="86" y="379"/>
                  </a:lnTo>
                  <a:lnTo>
                    <a:pt x="97" y="347"/>
                  </a:lnTo>
                  <a:lnTo>
                    <a:pt x="107" y="316"/>
                  </a:lnTo>
                  <a:lnTo>
                    <a:pt x="128" y="284"/>
                  </a:lnTo>
                  <a:lnTo>
                    <a:pt x="139" y="253"/>
                  </a:lnTo>
                  <a:lnTo>
                    <a:pt x="160" y="231"/>
                  </a:lnTo>
                  <a:lnTo>
                    <a:pt x="181" y="200"/>
                  </a:lnTo>
                  <a:lnTo>
                    <a:pt x="202" y="168"/>
                  </a:lnTo>
                  <a:lnTo>
                    <a:pt x="212" y="137"/>
                  </a:lnTo>
                  <a:lnTo>
                    <a:pt x="244" y="116"/>
                  </a:lnTo>
                  <a:lnTo>
                    <a:pt x="265" y="84"/>
                  </a:lnTo>
                  <a:lnTo>
                    <a:pt x="296" y="63"/>
                  </a:lnTo>
                  <a:lnTo>
                    <a:pt x="318" y="53"/>
                  </a:lnTo>
                  <a:lnTo>
                    <a:pt x="349" y="42"/>
                  </a:lnTo>
                  <a:lnTo>
                    <a:pt x="381" y="31"/>
                  </a:lnTo>
                  <a:lnTo>
                    <a:pt x="412" y="10"/>
                  </a:lnTo>
                  <a:lnTo>
                    <a:pt x="444" y="10"/>
                  </a:lnTo>
                  <a:lnTo>
                    <a:pt x="475" y="0"/>
                  </a:lnTo>
                  <a:lnTo>
                    <a:pt x="507" y="0"/>
                  </a:lnTo>
                  <a:lnTo>
                    <a:pt x="539" y="0"/>
                  </a:lnTo>
                  <a:lnTo>
                    <a:pt x="570" y="0"/>
                  </a:lnTo>
                  <a:lnTo>
                    <a:pt x="602" y="0"/>
                  </a:lnTo>
                  <a:lnTo>
                    <a:pt x="633" y="0"/>
                  </a:lnTo>
                  <a:lnTo>
                    <a:pt x="665" y="10"/>
                  </a:lnTo>
                  <a:lnTo>
                    <a:pt x="686" y="42"/>
                  </a:lnTo>
                  <a:lnTo>
                    <a:pt x="717" y="63"/>
                  </a:lnTo>
                  <a:lnTo>
                    <a:pt x="749" y="84"/>
                  </a:lnTo>
                  <a:lnTo>
                    <a:pt x="781" y="105"/>
                  </a:lnTo>
                  <a:lnTo>
                    <a:pt x="812" y="126"/>
                  </a:lnTo>
                  <a:lnTo>
                    <a:pt x="844" y="147"/>
                  </a:lnTo>
                  <a:lnTo>
                    <a:pt x="865" y="179"/>
                  </a:lnTo>
                  <a:lnTo>
                    <a:pt x="886" y="210"/>
                  </a:lnTo>
                  <a:lnTo>
                    <a:pt x="907" y="242"/>
                  </a:lnTo>
                  <a:lnTo>
                    <a:pt x="928" y="274"/>
                  </a:lnTo>
                  <a:lnTo>
                    <a:pt x="938" y="305"/>
                  </a:lnTo>
                  <a:lnTo>
                    <a:pt x="949" y="337"/>
                  </a:lnTo>
                  <a:lnTo>
                    <a:pt x="970" y="368"/>
                  </a:lnTo>
                  <a:lnTo>
                    <a:pt x="981" y="400"/>
                  </a:lnTo>
                  <a:lnTo>
                    <a:pt x="991" y="432"/>
                  </a:lnTo>
                  <a:lnTo>
                    <a:pt x="1002" y="463"/>
                  </a:lnTo>
                  <a:lnTo>
                    <a:pt x="1012" y="495"/>
                  </a:lnTo>
                  <a:lnTo>
                    <a:pt x="1023" y="526"/>
                  </a:lnTo>
                  <a:lnTo>
                    <a:pt x="1023" y="558"/>
                  </a:lnTo>
                  <a:lnTo>
                    <a:pt x="1023" y="589"/>
                  </a:lnTo>
                  <a:lnTo>
                    <a:pt x="1044" y="621"/>
                  </a:lnTo>
                  <a:lnTo>
                    <a:pt x="1054" y="653"/>
                  </a:lnTo>
                  <a:lnTo>
                    <a:pt x="1065" y="684"/>
                  </a:lnTo>
                  <a:lnTo>
                    <a:pt x="1065" y="716"/>
                  </a:lnTo>
                  <a:lnTo>
                    <a:pt x="1075" y="747"/>
                  </a:lnTo>
                  <a:lnTo>
                    <a:pt x="1086" y="779"/>
                  </a:lnTo>
                  <a:lnTo>
                    <a:pt x="1096" y="811"/>
                  </a:lnTo>
                  <a:lnTo>
                    <a:pt x="1107" y="842"/>
                  </a:lnTo>
                  <a:lnTo>
                    <a:pt x="1117" y="874"/>
                  </a:lnTo>
                  <a:lnTo>
                    <a:pt x="1117" y="905"/>
                  </a:lnTo>
                  <a:lnTo>
                    <a:pt x="1138" y="937"/>
                  </a:lnTo>
                  <a:lnTo>
                    <a:pt x="1138" y="968"/>
                  </a:lnTo>
                  <a:lnTo>
                    <a:pt x="1149" y="1000"/>
                  </a:lnTo>
                  <a:lnTo>
                    <a:pt x="1159" y="1032"/>
                  </a:lnTo>
                  <a:lnTo>
                    <a:pt x="1170" y="1063"/>
                  </a:lnTo>
                  <a:lnTo>
                    <a:pt x="1180" y="1095"/>
                  </a:lnTo>
                  <a:lnTo>
                    <a:pt x="1191" y="1126"/>
                  </a:lnTo>
                  <a:lnTo>
                    <a:pt x="1191" y="1158"/>
                  </a:lnTo>
                  <a:lnTo>
                    <a:pt x="1191" y="1190"/>
                  </a:lnTo>
                  <a:lnTo>
                    <a:pt x="1202" y="1221"/>
                  </a:lnTo>
                  <a:lnTo>
                    <a:pt x="1212" y="1253"/>
                  </a:lnTo>
                  <a:lnTo>
                    <a:pt x="1212" y="1284"/>
                  </a:lnTo>
                  <a:lnTo>
                    <a:pt x="1223" y="1316"/>
                  </a:lnTo>
                  <a:lnTo>
                    <a:pt x="1223" y="1347"/>
                  </a:lnTo>
                  <a:lnTo>
                    <a:pt x="1200" y="1351"/>
                  </a:lnTo>
                </a:path>
              </a:pathLst>
            </a:custGeom>
            <a:noFill/>
            <a:ln cap="rnd" w="2540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85" name="Straight Arrow Connector 38"/>
          <p:cNvCxnSpPr/>
          <p:nvPr/>
        </p:nvCxnSpPr>
        <p:spPr>
          <a:xfrm flipH="1" flipV="1">
            <a:off x="4647960" y="5257800"/>
            <a:ext cx="1753200" cy="53352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25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FACE AND ORAL CAVITY ORGANS DEVELOP FROM MESENCHYME, ECTODERM AND ENDODE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68644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the 3-4-th week the stomatodaeum (oral bay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ctodermal invagination ) is formed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will fuse with the gut through  oropharyngeal membran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1371600" y="0"/>
            <a:ext cx="7321320" cy="70416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7520" bIns="4752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ru-RU" sz="4000" spc="-1" strike="noStrike">
                <a:solidFill>
                  <a:schemeClr val="accent2"/>
                </a:solidFill>
                <a:latin typeface="Calibri"/>
              </a:rPr>
              <a:t>HARD PALATE: Cross-s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1752480" y="685800"/>
            <a:ext cx="5486040" cy="51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accent1"/>
                </a:solidFill>
                <a:latin typeface="Calibri"/>
              </a:rPr>
              <a:t>PALATE BONE   why it is ha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3962520" y="3733920"/>
            <a:ext cx="4647960" cy="57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2. </a:t>
            </a:r>
            <a:r>
              <a:rPr b="1" lang="en-US" sz="3200" spc="-1" strike="noStrike" u="sng">
                <a:solidFill>
                  <a:schemeClr val="accent6">
                    <a:lumMod val="50000"/>
                  </a:schemeClr>
                </a:solidFill>
                <a:uFillTx/>
                <a:latin typeface="Calibri"/>
              </a:rPr>
              <a:t>Palatal s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122"/>
          <p:cNvGrpSpPr/>
          <p:nvPr/>
        </p:nvGrpSpPr>
        <p:grpSpPr>
          <a:xfrm>
            <a:off x="228600" y="969840"/>
            <a:ext cx="8673840" cy="2630520"/>
            <a:chOff x="228600" y="969840"/>
            <a:chExt cx="8673840" cy="2630520"/>
          </a:xfrm>
        </p:grpSpPr>
        <p:sp>
          <p:nvSpPr>
            <p:cNvPr id="790" name="Rectangle 5"/>
            <p:cNvSpPr/>
            <p:nvPr/>
          </p:nvSpPr>
          <p:spPr>
            <a:xfrm>
              <a:off x="228600" y="2362320"/>
              <a:ext cx="8610120" cy="761760"/>
            </a:xfrm>
            <a:prstGeom prst="rect">
              <a:avLst/>
            </a:prstGeom>
            <a:pattFill prst="horz">
              <a:fgClr>
                <a:srgbClr val="99ff99"/>
              </a:fgClr>
              <a:bgClr>
                <a:srgbClr val="4f81bd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Rectangle 6"/>
            <p:cNvSpPr/>
            <p:nvPr/>
          </p:nvSpPr>
          <p:spPr>
            <a:xfrm>
              <a:off x="3352680" y="2895480"/>
              <a:ext cx="1142640" cy="380520"/>
            </a:xfrm>
            <a:prstGeom prst="rect">
              <a:avLst/>
            </a:prstGeom>
            <a:pattFill prst="horz">
              <a:fgClr>
                <a:srgbClr val="99ff99"/>
              </a:fgClr>
              <a:bgClr>
                <a:srgbClr val="4f81bd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2" name="Group 47"/>
            <p:cNvGrpSpPr/>
            <p:nvPr/>
          </p:nvGrpSpPr>
          <p:grpSpPr>
            <a:xfrm>
              <a:off x="228600" y="969840"/>
              <a:ext cx="8573760" cy="1339560"/>
              <a:chOff x="228600" y="969840"/>
              <a:chExt cx="8573760" cy="1339560"/>
            </a:xfrm>
          </p:grpSpPr>
          <p:grpSp>
            <p:nvGrpSpPr>
              <p:cNvPr id="793" name="Group 26"/>
              <p:cNvGrpSpPr/>
              <p:nvPr/>
            </p:nvGrpSpPr>
            <p:grpSpPr>
              <a:xfrm>
                <a:off x="228600" y="969840"/>
                <a:ext cx="4417560" cy="1339560"/>
                <a:chOff x="228600" y="969840"/>
                <a:chExt cx="4417560" cy="1339560"/>
              </a:xfrm>
            </p:grpSpPr>
            <p:grpSp>
              <p:nvGrpSpPr>
                <p:cNvPr id="794" name="Group 13"/>
                <p:cNvGrpSpPr/>
                <p:nvPr/>
              </p:nvGrpSpPr>
              <p:grpSpPr>
                <a:xfrm>
                  <a:off x="379440" y="1797120"/>
                  <a:ext cx="2369880" cy="502560"/>
                  <a:chOff x="379440" y="1797120"/>
                  <a:chExt cx="2369880" cy="502560"/>
                </a:xfrm>
              </p:grpSpPr>
              <p:sp>
                <p:nvSpPr>
                  <p:cNvPr id="795" name="Freeform 7"/>
                  <p:cNvSpPr/>
                  <p:nvPr/>
                </p:nvSpPr>
                <p:spPr>
                  <a:xfrm>
                    <a:off x="1932120" y="1862280"/>
                    <a:ext cx="817200" cy="318600"/>
                  </a:xfrm>
                  <a:custGeom>
                    <a:avLst/>
                    <a:gdLst>
                      <a:gd name="textAreaLeft" fmla="*/ 0 w 817200"/>
                      <a:gd name="textAreaRight" fmla="*/ 817560 w 817200"/>
                      <a:gd name="textAreaTop" fmla="*/ 0 h 318600"/>
                      <a:gd name="textAreaBottom" fmla="*/ 318960 h 318600"/>
                    </a:gdLst>
                    <a:ahLst/>
                    <a:rect l="textAreaLeft" t="textAreaTop" r="textAreaRight" b="textAreaBottom"/>
                    <a:pathLst>
                      <a:path w="515" h="201">
                        <a:moveTo>
                          <a:pt x="514" y="197"/>
                        </a:moveTo>
                        <a:lnTo>
                          <a:pt x="482" y="200"/>
                        </a:lnTo>
                        <a:lnTo>
                          <a:pt x="460" y="200"/>
                        </a:lnTo>
                        <a:lnTo>
                          <a:pt x="414" y="191"/>
                        </a:lnTo>
                        <a:lnTo>
                          <a:pt x="399" y="169"/>
                        </a:lnTo>
                        <a:lnTo>
                          <a:pt x="370" y="154"/>
                        </a:lnTo>
                        <a:lnTo>
                          <a:pt x="347" y="139"/>
                        </a:lnTo>
                        <a:lnTo>
                          <a:pt x="324" y="124"/>
                        </a:lnTo>
                        <a:lnTo>
                          <a:pt x="294" y="109"/>
                        </a:lnTo>
                        <a:lnTo>
                          <a:pt x="233" y="94"/>
                        </a:lnTo>
                        <a:lnTo>
                          <a:pt x="211" y="87"/>
                        </a:lnTo>
                        <a:lnTo>
                          <a:pt x="181" y="71"/>
                        </a:lnTo>
                        <a:lnTo>
                          <a:pt x="120" y="64"/>
                        </a:lnTo>
                        <a:lnTo>
                          <a:pt x="90" y="49"/>
                        </a:lnTo>
                        <a:lnTo>
                          <a:pt x="68" y="41"/>
                        </a:lnTo>
                        <a:lnTo>
                          <a:pt x="46" y="34"/>
                        </a:lnTo>
                        <a:lnTo>
                          <a:pt x="23" y="27"/>
                        </a:lnTo>
                        <a:lnTo>
                          <a:pt x="0" y="19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6" name="Freeform 8"/>
                  <p:cNvSpPr/>
                  <p:nvPr/>
                </p:nvSpPr>
                <p:spPr>
                  <a:xfrm>
                    <a:off x="1946160" y="1809720"/>
                    <a:ext cx="769680" cy="406080"/>
                  </a:xfrm>
                  <a:custGeom>
                    <a:avLst/>
                    <a:gdLst>
                      <a:gd name="textAreaLeft" fmla="*/ 0 w 769680"/>
                      <a:gd name="textAreaRight" fmla="*/ 770040 w 769680"/>
                      <a:gd name="textAreaTop" fmla="*/ 0 h 406080"/>
                      <a:gd name="textAreaBottom" fmla="*/ 406440 h 406080"/>
                    </a:gdLst>
                    <a:ahLst/>
                    <a:rect l="textAreaLeft" t="textAreaTop" r="textAreaRight" b="textAreaBottom"/>
                    <a:pathLst>
                      <a:path w="485" h="256">
                        <a:moveTo>
                          <a:pt x="0" y="255"/>
                        </a:moveTo>
                        <a:lnTo>
                          <a:pt x="19" y="229"/>
                        </a:lnTo>
                        <a:lnTo>
                          <a:pt x="34" y="212"/>
                        </a:lnTo>
                        <a:lnTo>
                          <a:pt x="71" y="185"/>
                        </a:lnTo>
                        <a:lnTo>
                          <a:pt x="98" y="190"/>
                        </a:lnTo>
                        <a:lnTo>
                          <a:pt x="129" y="178"/>
                        </a:lnTo>
                        <a:lnTo>
                          <a:pt x="156" y="172"/>
                        </a:lnTo>
                        <a:lnTo>
                          <a:pt x="183" y="165"/>
                        </a:lnTo>
                        <a:lnTo>
                          <a:pt x="213" y="153"/>
                        </a:lnTo>
                        <a:lnTo>
                          <a:pt x="266" y="120"/>
                        </a:lnTo>
                        <a:lnTo>
                          <a:pt x="286" y="108"/>
                        </a:lnTo>
                        <a:lnTo>
                          <a:pt x="318" y="97"/>
                        </a:lnTo>
                        <a:lnTo>
                          <a:pt x="365" y="58"/>
                        </a:lnTo>
                        <a:lnTo>
                          <a:pt x="397" y="46"/>
                        </a:lnTo>
                        <a:lnTo>
                          <a:pt x="418" y="34"/>
                        </a:lnTo>
                        <a:lnTo>
                          <a:pt x="437" y="23"/>
                        </a:lnTo>
                        <a:lnTo>
                          <a:pt x="459" y="12"/>
                        </a:lnTo>
                        <a:lnTo>
                          <a:pt x="480" y="0"/>
                        </a:lnTo>
                        <a:lnTo>
                          <a:pt x="484" y="25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7" name="Freeform 9"/>
                  <p:cNvSpPr/>
                  <p:nvPr/>
                </p:nvSpPr>
                <p:spPr>
                  <a:xfrm>
                    <a:off x="379440" y="1859040"/>
                    <a:ext cx="1790280" cy="429840"/>
                  </a:xfrm>
                  <a:custGeom>
                    <a:avLst/>
                    <a:gdLst>
                      <a:gd name="textAreaLeft" fmla="*/ 0 w 1790280"/>
                      <a:gd name="textAreaRight" fmla="*/ 1790640 w 1790280"/>
                      <a:gd name="textAreaTop" fmla="*/ 0 h 429840"/>
                      <a:gd name="textAreaBottom" fmla="*/ 430200 h 429840"/>
                    </a:gdLst>
                    <a:ahLst/>
                    <a:rect l="textAreaLeft" t="textAreaTop" r="textAreaRight" b="textAreaBottom"/>
                    <a:pathLst>
                      <a:path w="1128" h="271">
                        <a:moveTo>
                          <a:pt x="1127" y="233"/>
                        </a:moveTo>
                        <a:lnTo>
                          <a:pt x="1060" y="223"/>
                        </a:lnTo>
                        <a:lnTo>
                          <a:pt x="1031" y="202"/>
                        </a:lnTo>
                        <a:lnTo>
                          <a:pt x="1000" y="179"/>
                        </a:lnTo>
                        <a:lnTo>
                          <a:pt x="977" y="172"/>
                        </a:lnTo>
                        <a:lnTo>
                          <a:pt x="955" y="156"/>
                        </a:lnTo>
                        <a:lnTo>
                          <a:pt x="933" y="141"/>
                        </a:lnTo>
                        <a:lnTo>
                          <a:pt x="910" y="126"/>
                        </a:lnTo>
                        <a:lnTo>
                          <a:pt x="857" y="112"/>
                        </a:lnTo>
                        <a:lnTo>
                          <a:pt x="835" y="105"/>
                        </a:lnTo>
                        <a:lnTo>
                          <a:pt x="805" y="89"/>
                        </a:lnTo>
                        <a:lnTo>
                          <a:pt x="775" y="74"/>
                        </a:lnTo>
                        <a:lnTo>
                          <a:pt x="745" y="51"/>
                        </a:lnTo>
                        <a:lnTo>
                          <a:pt x="722" y="37"/>
                        </a:lnTo>
                        <a:lnTo>
                          <a:pt x="699" y="22"/>
                        </a:lnTo>
                        <a:lnTo>
                          <a:pt x="677" y="7"/>
                        </a:lnTo>
                        <a:lnTo>
                          <a:pt x="654" y="0"/>
                        </a:lnTo>
                        <a:lnTo>
                          <a:pt x="631" y="0"/>
                        </a:lnTo>
                        <a:lnTo>
                          <a:pt x="609" y="14"/>
                        </a:lnTo>
                        <a:lnTo>
                          <a:pt x="602" y="37"/>
                        </a:lnTo>
                        <a:lnTo>
                          <a:pt x="579" y="59"/>
                        </a:lnTo>
                        <a:lnTo>
                          <a:pt x="564" y="82"/>
                        </a:lnTo>
                        <a:lnTo>
                          <a:pt x="548" y="105"/>
                        </a:lnTo>
                        <a:lnTo>
                          <a:pt x="533" y="126"/>
                        </a:lnTo>
                        <a:lnTo>
                          <a:pt x="519" y="149"/>
                        </a:lnTo>
                        <a:lnTo>
                          <a:pt x="496" y="164"/>
                        </a:lnTo>
                        <a:lnTo>
                          <a:pt x="481" y="187"/>
                        </a:lnTo>
                        <a:lnTo>
                          <a:pt x="458" y="194"/>
                        </a:lnTo>
                        <a:lnTo>
                          <a:pt x="436" y="216"/>
                        </a:lnTo>
                        <a:lnTo>
                          <a:pt x="406" y="239"/>
                        </a:lnTo>
                        <a:lnTo>
                          <a:pt x="383" y="254"/>
                        </a:lnTo>
                        <a:lnTo>
                          <a:pt x="360" y="261"/>
                        </a:lnTo>
                        <a:lnTo>
                          <a:pt x="338" y="270"/>
                        </a:lnTo>
                        <a:lnTo>
                          <a:pt x="316" y="261"/>
                        </a:lnTo>
                        <a:lnTo>
                          <a:pt x="293" y="239"/>
                        </a:lnTo>
                        <a:lnTo>
                          <a:pt x="270" y="223"/>
                        </a:lnTo>
                        <a:lnTo>
                          <a:pt x="248" y="210"/>
                        </a:lnTo>
                        <a:lnTo>
                          <a:pt x="225" y="194"/>
                        </a:lnTo>
                        <a:lnTo>
                          <a:pt x="202" y="187"/>
                        </a:lnTo>
                        <a:lnTo>
                          <a:pt x="142" y="164"/>
                        </a:lnTo>
                        <a:lnTo>
                          <a:pt x="119" y="149"/>
                        </a:lnTo>
                        <a:lnTo>
                          <a:pt x="104" y="126"/>
                        </a:lnTo>
                        <a:lnTo>
                          <a:pt x="75" y="105"/>
                        </a:lnTo>
                        <a:lnTo>
                          <a:pt x="29" y="59"/>
                        </a:lnTo>
                        <a:lnTo>
                          <a:pt x="7" y="37"/>
                        </a:lnTo>
                        <a:lnTo>
                          <a:pt x="0" y="14"/>
                        </a:lnTo>
                        <a:lnTo>
                          <a:pt x="1" y="2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8" name="Freeform 10"/>
                  <p:cNvSpPr/>
                  <p:nvPr/>
                </p:nvSpPr>
                <p:spPr>
                  <a:xfrm>
                    <a:off x="527040" y="1808280"/>
                    <a:ext cx="1800000" cy="444240"/>
                  </a:xfrm>
                  <a:custGeom>
                    <a:avLst/>
                    <a:gdLst>
                      <a:gd name="textAreaLeft" fmla="*/ 0 w 1800000"/>
                      <a:gd name="textAreaRight" fmla="*/ 1800360 w 1800000"/>
                      <a:gd name="textAreaTop" fmla="*/ 0 h 444240"/>
                      <a:gd name="textAreaBottom" fmla="*/ 444600 h 444240"/>
                    </a:gdLst>
                    <a:ahLst/>
                    <a:rect l="textAreaLeft" t="textAreaTop" r="textAreaRight" b="textAreaBottom"/>
                    <a:pathLst>
                      <a:path w="1134" h="280">
                        <a:moveTo>
                          <a:pt x="1133" y="0"/>
                        </a:moveTo>
                        <a:lnTo>
                          <a:pt x="1095" y="15"/>
                        </a:lnTo>
                        <a:lnTo>
                          <a:pt x="1065" y="22"/>
                        </a:lnTo>
                        <a:lnTo>
                          <a:pt x="1035" y="45"/>
                        </a:lnTo>
                        <a:lnTo>
                          <a:pt x="1013" y="53"/>
                        </a:lnTo>
                        <a:lnTo>
                          <a:pt x="990" y="53"/>
                        </a:lnTo>
                        <a:lnTo>
                          <a:pt x="967" y="53"/>
                        </a:lnTo>
                        <a:lnTo>
                          <a:pt x="945" y="68"/>
                        </a:lnTo>
                        <a:lnTo>
                          <a:pt x="923" y="90"/>
                        </a:lnTo>
                        <a:lnTo>
                          <a:pt x="900" y="105"/>
                        </a:lnTo>
                        <a:lnTo>
                          <a:pt x="870" y="120"/>
                        </a:lnTo>
                        <a:lnTo>
                          <a:pt x="847" y="136"/>
                        </a:lnTo>
                        <a:lnTo>
                          <a:pt x="825" y="150"/>
                        </a:lnTo>
                        <a:lnTo>
                          <a:pt x="795" y="165"/>
                        </a:lnTo>
                        <a:lnTo>
                          <a:pt x="772" y="173"/>
                        </a:lnTo>
                        <a:lnTo>
                          <a:pt x="750" y="180"/>
                        </a:lnTo>
                        <a:lnTo>
                          <a:pt x="728" y="188"/>
                        </a:lnTo>
                        <a:lnTo>
                          <a:pt x="697" y="203"/>
                        </a:lnTo>
                        <a:lnTo>
                          <a:pt x="668" y="211"/>
                        </a:lnTo>
                        <a:lnTo>
                          <a:pt x="645" y="226"/>
                        </a:lnTo>
                        <a:lnTo>
                          <a:pt x="622" y="234"/>
                        </a:lnTo>
                        <a:lnTo>
                          <a:pt x="592" y="241"/>
                        </a:lnTo>
                        <a:lnTo>
                          <a:pt x="570" y="226"/>
                        </a:lnTo>
                        <a:lnTo>
                          <a:pt x="540" y="211"/>
                        </a:lnTo>
                        <a:lnTo>
                          <a:pt x="510" y="196"/>
                        </a:lnTo>
                        <a:lnTo>
                          <a:pt x="487" y="188"/>
                        </a:lnTo>
                        <a:lnTo>
                          <a:pt x="464" y="173"/>
                        </a:lnTo>
                        <a:lnTo>
                          <a:pt x="442" y="165"/>
                        </a:lnTo>
                        <a:lnTo>
                          <a:pt x="420" y="143"/>
                        </a:lnTo>
                        <a:lnTo>
                          <a:pt x="397" y="128"/>
                        </a:lnTo>
                        <a:lnTo>
                          <a:pt x="374" y="113"/>
                        </a:lnTo>
                        <a:lnTo>
                          <a:pt x="352" y="113"/>
                        </a:lnTo>
                        <a:lnTo>
                          <a:pt x="330" y="105"/>
                        </a:lnTo>
                        <a:lnTo>
                          <a:pt x="307" y="75"/>
                        </a:lnTo>
                        <a:lnTo>
                          <a:pt x="299" y="30"/>
                        </a:lnTo>
                        <a:lnTo>
                          <a:pt x="276" y="22"/>
                        </a:lnTo>
                        <a:lnTo>
                          <a:pt x="269" y="45"/>
                        </a:lnTo>
                        <a:lnTo>
                          <a:pt x="247" y="60"/>
                        </a:lnTo>
                        <a:lnTo>
                          <a:pt x="232" y="82"/>
                        </a:lnTo>
                        <a:lnTo>
                          <a:pt x="209" y="105"/>
                        </a:lnTo>
                        <a:lnTo>
                          <a:pt x="180" y="128"/>
                        </a:lnTo>
                        <a:lnTo>
                          <a:pt x="157" y="143"/>
                        </a:lnTo>
                        <a:lnTo>
                          <a:pt x="127" y="173"/>
                        </a:lnTo>
                        <a:lnTo>
                          <a:pt x="97" y="196"/>
                        </a:lnTo>
                        <a:lnTo>
                          <a:pt x="82" y="218"/>
                        </a:lnTo>
                        <a:lnTo>
                          <a:pt x="67" y="241"/>
                        </a:lnTo>
                        <a:lnTo>
                          <a:pt x="44" y="263"/>
                        </a:lnTo>
                        <a:lnTo>
                          <a:pt x="21" y="279"/>
                        </a:lnTo>
                        <a:lnTo>
                          <a:pt x="0" y="279"/>
                        </a:lnTo>
                        <a:lnTo>
                          <a:pt x="10" y="265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9" name="Freeform 11"/>
                  <p:cNvSpPr/>
                  <p:nvPr/>
                </p:nvSpPr>
                <p:spPr>
                  <a:xfrm>
                    <a:off x="942840" y="2124000"/>
                    <a:ext cx="963360" cy="175680"/>
                  </a:xfrm>
                  <a:custGeom>
                    <a:avLst/>
                    <a:gdLst>
                      <a:gd name="textAreaLeft" fmla="*/ 0 w 963360"/>
                      <a:gd name="textAreaRight" fmla="*/ 963720 w 963360"/>
                      <a:gd name="textAreaTop" fmla="*/ 0 h 175680"/>
                      <a:gd name="textAreaBottom" fmla="*/ 176040 h 175680"/>
                    </a:gdLst>
                    <a:ahLst/>
                    <a:rect l="textAreaLeft" t="textAreaTop" r="textAreaRight" b="textAreaBottom"/>
                    <a:pathLst>
                      <a:path w="607" h="111">
                        <a:moveTo>
                          <a:pt x="606" y="66"/>
                        </a:moveTo>
                        <a:lnTo>
                          <a:pt x="570" y="71"/>
                        </a:lnTo>
                        <a:lnTo>
                          <a:pt x="525" y="71"/>
                        </a:lnTo>
                        <a:lnTo>
                          <a:pt x="465" y="71"/>
                        </a:lnTo>
                        <a:lnTo>
                          <a:pt x="442" y="71"/>
                        </a:lnTo>
                        <a:lnTo>
                          <a:pt x="420" y="71"/>
                        </a:lnTo>
                        <a:lnTo>
                          <a:pt x="397" y="71"/>
                        </a:lnTo>
                        <a:lnTo>
                          <a:pt x="374" y="71"/>
                        </a:lnTo>
                        <a:lnTo>
                          <a:pt x="351" y="71"/>
                        </a:lnTo>
                        <a:lnTo>
                          <a:pt x="330" y="71"/>
                        </a:lnTo>
                        <a:lnTo>
                          <a:pt x="307" y="71"/>
                        </a:lnTo>
                        <a:lnTo>
                          <a:pt x="284" y="71"/>
                        </a:lnTo>
                        <a:lnTo>
                          <a:pt x="254" y="71"/>
                        </a:lnTo>
                        <a:lnTo>
                          <a:pt x="232" y="71"/>
                        </a:lnTo>
                        <a:lnTo>
                          <a:pt x="209" y="71"/>
                        </a:lnTo>
                        <a:lnTo>
                          <a:pt x="179" y="87"/>
                        </a:lnTo>
                        <a:lnTo>
                          <a:pt x="157" y="94"/>
                        </a:lnTo>
                        <a:lnTo>
                          <a:pt x="135" y="94"/>
                        </a:lnTo>
                        <a:lnTo>
                          <a:pt x="112" y="110"/>
                        </a:lnTo>
                        <a:lnTo>
                          <a:pt x="89" y="110"/>
                        </a:lnTo>
                        <a:lnTo>
                          <a:pt x="67" y="102"/>
                        </a:lnTo>
                        <a:lnTo>
                          <a:pt x="52" y="80"/>
                        </a:lnTo>
                        <a:lnTo>
                          <a:pt x="29" y="57"/>
                        </a:lnTo>
                        <a:lnTo>
                          <a:pt x="14" y="27"/>
                        </a:lnTo>
                        <a:lnTo>
                          <a:pt x="0" y="4"/>
                        </a:lnTo>
                        <a:lnTo>
                          <a:pt x="12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0" name="Freeform 12"/>
                  <p:cNvSpPr/>
                  <p:nvPr/>
                </p:nvSpPr>
                <p:spPr>
                  <a:xfrm>
                    <a:off x="646200" y="1797120"/>
                    <a:ext cx="1106280" cy="66240"/>
                  </a:xfrm>
                  <a:custGeom>
                    <a:avLst/>
                    <a:gdLst>
                      <a:gd name="textAreaLeft" fmla="*/ 0 w 1106280"/>
                      <a:gd name="textAreaRight" fmla="*/ 1106640 w 1106280"/>
                      <a:gd name="textAreaTop" fmla="*/ 0 h 66240"/>
                      <a:gd name="textAreaBottom" fmla="*/ 66600 h 66240"/>
                    </a:gdLst>
                    <a:ahLst/>
                    <a:rect l="textAreaLeft" t="textAreaTop" r="textAreaRight" b="textAreaBottom"/>
                    <a:pathLst>
                      <a:path w="697" h="42">
                        <a:moveTo>
                          <a:pt x="696" y="41"/>
                        </a:moveTo>
                        <a:lnTo>
                          <a:pt x="661" y="30"/>
                        </a:lnTo>
                        <a:lnTo>
                          <a:pt x="631" y="30"/>
                        </a:lnTo>
                        <a:lnTo>
                          <a:pt x="608" y="30"/>
                        </a:lnTo>
                        <a:lnTo>
                          <a:pt x="578" y="30"/>
                        </a:lnTo>
                        <a:lnTo>
                          <a:pt x="548" y="30"/>
                        </a:lnTo>
                        <a:lnTo>
                          <a:pt x="525" y="30"/>
                        </a:lnTo>
                        <a:lnTo>
                          <a:pt x="502" y="30"/>
                        </a:lnTo>
                        <a:lnTo>
                          <a:pt x="480" y="30"/>
                        </a:lnTo>
                        <a:lnTo>
                          <a:pt x="457" y="30"/>
                        </a:lnTo>
                        <a:lnTo>
                          <a:pt x="435" y="30"/>
                        </a:lnTo>
                        <a:lnTo>
                          <a:pt x="405" y="30"/>
                        </a:lnTo>
                        <a:lnTo>
                          <a:pt x="359" y="30"/>
                        </a:lnTo>
                        <a:lnTo>
                          <a:pt x="337" y="30"/>
                        </a:lnTo>
                        <a:lnTo>
                          <a:pt x="314" y="22"/>
                        </a:lnTo>
                        <a:lnTo>
                          <a:pt x="292" y="14"/>
                        </a:lnTo>
                        <a:lnTo>
                          <a:pt x="240" y="7"/>
                        </a:lnTo>
                        <a:lnTo>
                          <a:pt x="193" y="7"/>
                        </a:lnTo>
                        <a:lnTo>
                          <a:pt x="171" y="0"/>
                        </a:lnTo>
                        <a:lnTo>
                          <a:pt x="149" y="0"/>
                        </a:lnTo>
                        <a:lnTo>
                          <a:pt x="126" y="0"/>
                        </a:lnTo>
                        <a:lnTo>
                          <a:pt x="97" y="0"/>
                        </a:lnTo>
                        <a:lnTo>
                          <a:pt x="51" y="0"/>
                        </a:lnTo>
                        <a:lnTo>
                          <a:pt x="28" y="0"/>
                        </a:lnTo>
                        <a:lnTo>
                          <a:pt x="6" y="0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01" name="Freeform 14"/>
                <p:cNvSpPr/>
                <p:nvPr/>
              </p:nvSpPr>
              <p:spPr>
                <a:xfrm>
                  <a:off x="228600" y="1152360"/>
                  <a:ext cx="218880" cy="1106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1106280"/>
                    <a:gd name="textAreaBottom" fmla="*/ 1106640 h 1106280"/>
                  </a:gdLst>
                  <a:ahLst/>
                  <a:rect l="textAreaLeft" t="textAreaTop" r="textAreaRight" b="textAreaBottom"/>
                  <a:pathLst>
                    <a:path w="138" h="697">
                      <a:moveTo>
                        <a:pt x="20" y="696"/>
                      </a:moveTo>
                      <a:lnTo>
                        <a:pt x="0" y="633"/>
                      </a:lnTo>
                      <a:lnTo>
                        <a:pt x="0" y="588"/>
                      </a:lnTo>
                      <a:lnTo>
                        <a:pt x="5" y="510"/>
                      </a:lnTo>
                      <a:lnTo>
                        <a:pt x="16" y="463"/>
                      </a:lnTo>
                      <a:lnTo>
                        <a:pt x="37" y="426"/>
                      </a:lnTo>
                      <a:lnTo>
                        <a:pt x="49" y="389"/>
                      </a:lnTo>
                      <a:lnTo>
                        <a:pt x="71" y="352"/>
                      </a:lnTo>
                      <a:lnTo>
                        <a:pt x="75" y="319"/>
                      </a:lnTo>
                      <a:lnTo>
                        <a:pt x="96" y="280"/>
                      </a:lnTo>
                      <a:lnTo>
                        <a:pt x="117" y="242"/>
                      </a:lnTo>
                      <a:lnTo>
                        <a:pt x="129" y="205"/>
                      </a:lnTo>
                      <a:lnTo>
                        <a:pt x="133" y="173"/>
                      </a:lnTo>
                      <a:lnTo>
                        <a:pt x="137" y="139"/>
                      </a:lnTo>
                      <a:lnTo>
                        <a:pt x="130" y="108"/>
                      </a:lnTo>
                      <a:lnTo>
                        <a:pt x="124" y="75"/>
                      </a:lnTo>
                      <a:lnTo>
                        <a:pt x="120" y="44"/>
                      </a:lnTo>
                      <a:lnTo>
                        <a:pt x="104" y="15"/>
                      </a:lnTo>
                      <a:lnTo>
                        <a:pt x="101" y="0"/>
                      </a:lnTo>
                    </a:path>
                  </a:pathLst>
                </a:custGeom>
                <a:noFill/>
                <a:ln cap="rnd" w="1270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02" name="Group 17"/>
                <p:cNvGrpSpPr/>
                <p:nvPr/>
              </p:nvGrpSpPr>
              <p:grpSpPr>
                <a:xfrm>
                  <a:off x="2687760" y="1860480"/>
                  <a:ext cx="867600" cy="448920"/>
                  <a:chOff x="2687760" y="1860480"/>
                  <a:chExt cx="867600" cy="448920"/>
                </a:xfrm>
              </p:grpSpPr>
              <p:sp>
                <p:nvSpPr>
                  <p:cNvPr id="803" name="Freeform 15"/>
                  <p:cNvSpPr/>
                  <p:nvPr/>
                </p:nvSpPr>
                <p:spPr>
                  <a:xfrm>
                    <a:off x="2687760" y="1922400"/>
                    <a:ext cx="839520" cy="387000"/>
                  </a:xfrm>
                  <a:custGeom>
                    <a:avLst/>
                    <a:gdLst>
                      <a:gd name="textAreaLeft" fmla="*/ 0 w 839520"/>
                      <a:gd name="textAreaRight" fmla="*/ 839880 w 839520"/>
                      <a:gd name="textAreaTop" fmla="*/ 0 h 387000"/>
                      <a:gd name="textAreaBottom" fmla="*/ 387360 h 387000"/>
                    </a:gdLst>
                    <a:ahLst/>
                    <a:rect l="textAreaLeft" t="textAreaTop" r="textAreaRight" b="textAreaBottom"/>
                    <a:pathLst>
                      <a:path w="529" h="244">
                        <a:moveTo>
                          <a:pt x="528" y="33"/>
                        </a:moveTo>
                        <a:lnTo>
                          <a:pt x="461" y="39"/>
                        </a:lnTo>
                        <a:lnTo>
                          <a:pt x="417" y="54"/>
                        </a:lnTo>
                        <a:lnTo>
                          <a:pt x="394" y="69"/>
                        </a:lnTo>
                        <a:lnTo>
                          <a:pt x="364" y="91"/>
                        </a:lnTo>
                        <a:lnTo>
                          <a:pt x="342" y="114"/>
                        </a:lnTo>
                        <a:lnTo>
                          <a:pt x="319" y="129"/>
                        </a:lnTo>
                        <a:lnTo>
                          <a:pt x="296" y="151"/>
                        </a:lnTo>
                        <a:lnTo>
                          <a:pt x="274" y="175"/>
                        </a:lnTo>
                        <a:lnTo>
                          <a:pt x="252" y="198"/>
                        </a:lnTo>
                        <a:lnTo>
                          <a:pt x="228" y="220"/>
                        </a:lnTo>
                        <a:lnTo>
                          <a:pt x="214" y="243"/>
                        </a:lnTo>
                        <a:lnTo>
                          <a:pt x="192" y="243"/>
                        </a:lnTo>
                        <a:lnTo>
                          <a:pt x="169" y="227"/>
                        </a:lnTo>
                        <a:lnTo>
                          <a:pt x="146" y="205"/>
                        </a:lnTo>
                        <a:lnTo>
                          <a:pt x="123" y="182"/>
                        </a:lnTo>
                        <a:lnTo>
                          <a:pt x="109" y="151"/>
                        </a:lnTo>
                        <a:lnTo>
                          <a:pt x="86" y="122"/>
                        </a:lnTo>
                        <a:lnTo>
                          <a:pt x="71" y="99"/>
                        </a:lnTo>
                        <a:lnTo>
                          <a:pt x="56" y="77"/>
                        </a:lnTo>
                        <a:lnTo>
                          <a:pt x="49" y="54"/>
                        </a:lnTo>
                        <a:lnTo>
                          <a:pt x="27" y="3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4" name="Freeform 16"/>
                  <p:cNvSpPr/>
                  <p:nvPr/>
                </p:nvSpPr>
                <p:spPr>
                  <a:xfrm>
                    <a:off x="3411360" y="1860480"/>
                    <a:ext cx="144000" cy="372600"/>
                  </a:xfrm>
                  <a:custGeom>
                    <a:avLst/>
                    <a:gdLst>
                      <a:gd name="textAreaLeft" fmla="*/ 0 w 144000"/>
                      <a:gd name="textAreaRight" fmla="*/ 144360 w 144000"/>
                      <a:gd name="textAreaTop" fmla="*/ 0 h 372600"/>
                      <a:gd name="textAreaBottom" fmla="*/ 372960 h 372600"/>
                    </a:gdLst>
                    <a:ahLst/>
                    <a:rect l="textAreaLeft" t="textAreaTop" r="textAreaRight" b="textAreaBottom"/>
                    <a:pathLst>
                      <a:path w="91" h="235">
                        <a:moveTo>
                          <a:pt x="0" y="234"/>
                        </a:moveTo>
                        <a:lnTo>
                          <a:pt x="37" y="221"/>
                        </a:lnTo>
                        <a:lnTo>
                          <a:pt x="64" y="203"/>
                        </a:lnTo>
                        <a:lnTo>
                          <a:pt x="72" y="177"/>
                        </a:lnTo>
                        <a:lnTo>
                          <a:pt x="81" y="151"/>
                        </a:lnTo>
                        <a:lnTo>
                          <a:pt x="90" y="124"/>
                        </a:lnTo>
                        <a:lnTo>
                          <a:pt x="90" y="97"/>
                        </a:lnTo>
                        <a:lnTo>
                          <a:pt x="90" y="71"/>
                        </a:lnTo>
                        <a:lnTo>
                          <a:pt x="90" y="44"/>
                        </a:lnTo>
                        <a:lnTo>
                          <a:pt x="81" y="17"/>
                        </a:lnTo>
                        <a:lnTo>
                          <a:pt x="55" y="0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762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05" name="Group 20"/>
                <p:cNvGrpSpPr/>
                <p:nvPr/>
              </p:nvGrpSpPr>
              <p:grpSpPr>
                <a:xfrm>
                  <a:off x="2933640" y="1798560"/>
                  <a:ext cx="869400" cy="449280"/>
                  <a:chOff x="2933640" y="1798560"/>
                  <a:chExt cx="869400" cy="449280"/>
                </a:xfrm>
              </p:grpSpPr>
              <p:sp>
                <p:nvSpPr>
                  <p:cNvPr id="806" name="Freeform 18"/>
                  <p:cNvSpPr/>
                  <p:nvPr/>
                </p:nvSpPr>
                <p:spPr>
                  <a:xfrm>
                    <a:off x="2933640" y="1862280"/>
                    <a:ext cx="840960" cy="385560"/>
                  </a:xfrm>
                  <a:custGeom>
                    <a:avLst/>
                    <a:gdLst>
                      <a:gd name="textAreaLeft" fmla="*/ 0 w 840960"/>
                      <a:gd name="textAreaRight" fmla="*/ 841320 w 840960"/>
                      <a:gd name="textAreaTop" fmla="*/ 0 h 385560"/>
                      <a:gd name="textAreaBottom" fmla="*/ 385920 h 385560"/>
                    </a:gdLst>
                    <a:ahLst/>
                    <a:rect l="textAreaLeft" t="textAreaTop" r="textAreaRight" b="textAreaBottom"/>
                    <a:pathLst>
                      <a:path w="530" h="243">
                        <a:moveTo>
                          <a:pt x="529" y="33"/>
                        </a:moveTo>
                        <a:lnTo>
                          <a:pt x="462" y="38"/>
                        </a:lnTo>
                        <a:lnTo>
                          <a:pt x="418" y="54"/>
                        </a:lnTo>
                        <a:lnTo>
                          <a:pt x="395" y="68"/>
                        </a:lnTo>
                        <a:lnTo>
                          <a:pt x="365" y="91"/>
                        </a:lnTo>
                        <a:lnTo>
                          <a:pt x="342" y="114"/>
                        </a:lnTo>
                        <a:lnTo>
                          <a:pt x="319" y="128"/>
                        </a:lnTo>
                        <a:lnTo>
                          <a:pt x="297" y="151"/>
                        </a:lnTo>
                        <a:lnTo>
                          <a:pt x="275" y="174"/>
                        </a:lnTo>
                        <a:lnTo>
                          <a:pt x="252" y="197"/>
                        </a:lnTo>
                        <a:lnTo>
                          <a:pt x="229" y="219"/>
                        </a:lnTo>
                        <a:lnTo>
                          <a:pt x="214" y="242"/>
                        </a:lnTo>
                        <a:lnTo>
                          <a:pt x="192" y="242"/>
                        </a:lnTo>
                        <a:lnTo>
                          <a:pt x="170" y="226"/>
                        </a:lnTo>
                        <a:lnTo>
                          <a:pt x="146" y="204"/>
                        </a:lnTo>
                        <a:lnTo>
                          <a:pt x="123" y="182"/>
                        </a:lnTo>
                        <a:lnTo>
                          <a:pt x="110" y="151"/>
                        </a:lnTo>
                        <a:lnTo>
                          <a:pt x="86" y="122"/>
                        </a:lnTo>
                        <a:lnTo>
                          <a:pt x="72" y="99"/>
                        </a:lnTo>
                        <a:lnTo>
                          <a:pt x="56" y="76"/>
                        </a:lnTo>
                        <a:lnTo>
                          <a:pt x="49" y="54"/>
                        </a:lnTo>
                        <a:lnTo>
                          <a:pt x="27" y="3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7" name="Freeform 19"/>
                  <p:cNvSpPr/>
                  <p:nvPr/>
                </p:nvSpPr>
                <p:spPr>
                  <a:xfrm>
                    <a:off x="3659040" y="1798560"/>
                    <a:ext cx="144000" cy="371160"/>
                  </a:xfrm>
                  <a:custGeom>
                    <a:avLst/>
                    <a:gdLst>
                      <a:gd name="textAreaLeft" fmla="*/ 0 w 144000"/>
                      <a:gd name="textAreaRight" fmla="*/ 144360 w 144000"/>
                      <a:gd name="textAreaTop" fmla="*/ 0 h 371160"/>
                      <a:gd name="textAreaBottom" fmla="*/ 371520 h 371160"/>
                    </a:gdLst>
                    <a:ahLst/>
                    <a:rect l="textAreaLeft" t="textAreaTop" r="textAreaRight" b="textAreaBottom"/>
                    <a:pathLst>
                      <a:path w="91" h="234">
                        <a:moveTo>
                          <a:pt x="0" y="233"/>
                        </a:moveTo>
                        <a:lnTo>
                          <a:pt x="37" y="220"/>
                        </a:lnTo>
                        <a:lnTo>
                          <a:pt x="64" y="203"/>
                        </a:lnTo>
                        <a:lnTo>
                          <a:pt x="72" y="177"/>
                        </a:lnTo>
                        <a:lnTo>
                          <a:pt x="81" y="150"/>
                        </a:lnTo>
                        <a:lnTo>
                          <a:pt x="90" y="123"/>
                        </a:lnTo>
                        <a:lnTo>
                          <a:pt x="90" y="97"/>
                        </a:lnTo>
                        <a:lnTo>
                          <a:pt x="90" y="71"/>
                        </a:lnTo>
                        <a:lnTo>
                          <a:pt x="90" y="44"/>
                        </a:lnTo>
                        <a:lnTo>
                          <a:pt x="81" y="17"/>
                        </a:lnTo>
                        <a:lnTo>
                          <a:pt x="55" y="0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762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08" name="Freeform 21"/>
                <p:cNvSpPr/>
                <p:nvPr/>
              </p:nvSpPr>
              <p:spPr>
                <a:xfrm>
                  <a:off x="2670120" y="1755720"/>
                  <a:ext cx="1914120" cy="282240"/>
                </a:xfrm>
                <a:custGeom>
                  <a:avLst/>
                  <a:gdLst>
                    <a:gd name="textAreaLeft" fmla="*/ 0 w 1914120"/>
                    <a:gd name="textAreaRight" fmla="*/ 1914480 w 1914120"/>
                    <a:gd name="textAreaTop" fmla="*/ 0 h 282240"/>
                    <a:gd name="textAreaBottom" fmla="*/ 282600 h 282240"/>
                  </a:gdLst>
                  <a:ahLst/>
                  <a:rect l="textAreaLeft" t="textAreaTop" r="textAreaRight" b="textAreaBottom"/>
                  <a:pathLst>
                    <a:path w="1206" h="178">
                      <a:moveTo>
                        <a:pt x="0" y="172"/>
                      </a:moveTo>
                      <a:lnTo>
                        <a:pt x="35" y="177"/>
                      </a:lnTo>
                      <a:lnTo>
                        <a:pt x="97" y="159"/>
                      </a:lnTo>
                      <a:lnTo>
                        <a:pt x="132" y="141"/>
                      </a:lnTo>
                      <a:lnTo>
                        <a:pt x="159" y="132"/>
                      </a:lnTo>
                      <a:lnTo>
                        <a:pt x="194" y="115"/>
                      </a:lnTo>
                      <a:lnTo>
                        <a:pt x="221" y="106"/>
                      </a:lnTo>
                      <a:lnTo>
                        <a:pt x="247" y="88"/>
                      </a:lnTo>
                      <a:lnTo>
                        <a:pt x="273" y="70"/>
                      </a:lnTo>
                      <a:lnTo>
                        <a:pt x="291" y="43"/>
                      </a:lnTo>
                      <a:lnTo>
                        <a:pt x="318" y="25"/>
                      </a:lnTo>
                      <a:lnTo>
                        <a:pt x="344" y="17"/>
                      </a:lnTo>
                      <a:lnTo>
                        <a:pt x="370" y="17"/>
                      </a:lnTo>
                      <a:lnTo>
                        <a:pt x="397" y="8"/>
                      </a:lnTo>
                      <a:lnTo>
                        <a:pt x="424" y="8"/>
                      </a:lnTo>
                      <a:lnTo>
                        <a:pt x="459" y="8"/>
                      </a:lnTo>
                      <a:lnTo>
                        <a:pt x="494" y="0"/>
                      </a:lnTo>
                      <a:lnTo>
                        <a:pt x="521" y="0"/>
                      </a:lnTo>
                      <a:lnTo>
                        <a:pt x="557" y="0"/>
                      </a:lnTo>
                      <a:lnTo>
                        <a:pt x="583" y="0"/>
                      </a:lnTo>
                      <a:lnTo>
                        <a:pt x="609" y="0"/>
                      </a:lnTo>
                      <a:lnTo>
                        <a:pt x="680" y="0"/>
                      </a:lnTo>
                      <a:lnTo>
                        <a:pt x="706" y="0"/>
                      </a:lnTo>
                      <a:lnTo>
                        <a:pt x="733" y="0"/>
                      </a:lnTo>
                      <a:lnTo>
                        <a:pt x="768" y="0"/>
                      </a:lnTo>
                      <a:lnTo>
                        <a:pt x="795" y="0"/>
                      </a:lnTo>
                      <a:lnTo>
                        <a:pt x="830" y="0"/>
                      </a:lnTo>
                      <a:lnTo>
                        <a:pt x="857" y="0"/>
                      </a:lnTo>
                      <a:lnTo>
                        <a:pt x="883" y="8"/>
                      </a:lnTo>
                      <a:lnTo>
                        <a:pt x="936" y="8"/>
                      </a:lnTo>
                      <a:lnTo>
                        <a:pt x="971" y="8"/>
                      </a:lnTo>
                      <a:lnTo>
                        <a:pt x="998" y="17"/>
                      </a:lnTo>
                      <a:lnTo>
                        <a:pt x="1034" y="25"/>
                      </a:lnTo>
                      <a:lnTo>
                        <a:pt x="1060" y="25"/>
                      </a:lnTo>
                      <a:lnTo>
                        <a:pt x="1086" y="25"/>
                      </a:lnTo>
                      <a:lnTo>
                        <a:pt x="1113" y="25"/>
                      </a:lnTo>
                      <a:lnTo>
                        <a:pt x="1140" y="25"/>
                      </a:lnTo>
                      <a:lnTo>
                        <a:pt x="1166" y="25"/>
                      </a:lnTo>
                      <a:lnTo>
                        <a:pt x="1192" y="25"/>
                      </a:lnTo>
                      <a:lnTo>
                        <a:pt x="1205" y="17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9" name="Freeform 22"/>
                <p:cNvSpPr/>
                <p:nvPr/>
              </p:nvSpPr>
              <p:spPr>
                <a:xfrm>
                  <a:off x="2174760" y="2001960"/>
                  <a:ext cx="1915920" cy="282240"/>
                </a:xfrm>
                <a:custGeom>
                  <a:avLst/>
                  <a:gdLst>
                    <a:gd name="textAreaLeft" fmla="*/ 0 w 1915920"/>
                    <a:gd name="textAreaRight" fmla="*/ 1916280 w 1915920"/>
                    <a:gd name="textAreaTop" fmla="*/ 0 h 282240"/>
                    <a:gd name="textAreaBottom" fmla="*/ 282600 h 282240"/>
                  </a:gdLst>
                  <a:ahLst/>
                  <a:rect l="textAreaLeft" t="textAreaTop" r="textAreaRight" b="textAreaBottom"/>
                  <a:pathLst>
                    <a:path w="1207" h="178">
                      <a:moveTo>
                        <a:pt x="1206" y="4"/>
                      </a:moveTo>
                      <a:lnTo>
                        <a:pt x="1170" y="0"/>
                      </a:lnTo>
                      <a:lnTo>
                        <a:pt x="1108" y="17"/>
                      </a:lnTo>
                      <a:lnTo>
                        <a:pt x="1073" y="35"/>
                      </a:lnTo>
                      <a:lnTo>
                        <a:pt x="1046" y="44"/>
                      </a:lnTo>
                      <a:lnTo>
                        <a:pt x="1011" y="61"/>
                      </a:lnTo>
                      <a:lnTo>
                        <a:pt x="984" y="70"/>
                      </a:lnTo>
                      <a:lnTo>
                        <a:pt x="957" y="88"/>
                      </a:lnTo>
                      <a:lnTo>
                        <a:pt x="932" y="106"/>
                      </a:lnTo>
                      <a:lnTo>
                        <a:pt x="914" y="133"/>
                      </a:lnTo>
                      <a:lnTo>
                        <a:pt x="887" y="151"/>
                      </a:lnTo>
                      <a:lnTo>
                        <a:pt x="860" y="159"/>
                      </a:lnTo>
                      <a:lnTo>
                        <a:pt x="834" y="159"/>
                      </a:lnTo>
                      <a:lnTo>
                        <a:pt x="808" y="168"/>
                      </a:lnTo>
                      <a:lnTo>
                        <a:pt x="781" y="168"/>
                      </a:lnTo>
                      <a:lnTo>
                        <a:pt x="745" y="168"/>
                      </a:lnTo>
                      <a:lnTo>
                        <a:pt x="710" y="177"/>
                      </a:lnTo>
                      <a:lnTo>
                        <a:pt x="684" y="177"/>
                      </a:lnTo>
                      <a:lnTo>
                        <a:pt x="648" y="177"/>
                      </a:lnTo>
                      <a:lnTo>
                        <a:pt x="622" y="177"/>
                      </a:lnTo>
                      <a:lnTo>
                        <a:pt x="595" y="177"/>
                      </a:lnTo>
                      <a:lnTo>
                        <a:pt x="525" y="177"/>
                      </a:lnTo>
                      <a:lnTo>
                        <a:pt x="498" y="177"/>
                      </a:lnTo>
                      <a:lnTo>
                        <a:pt x="471" y="177"/>
                      </a:lnTo>
                      <a:lnTo>
                        <a:pt x="436" y="177"/>
                      </a:lnTo>
                      <a:lnTo>
                        <a:pt x="410" y="177"/>
                      </a:lnTo>
                      <a:lnTo>
                        <a:pt x="374" y="177"/>
                      </a:lnTo>
                      <a:lnTo>
                        <a:pt x="347" y="177"/>
                      </a:lnTo>
                      <a:lnTo>
                        <a:pt x="321" y="168"/>
                      </a:lnTo>
                      <a:lnTo>
                        <a:pt x="268" y="168"/>
                      </a:lnTo>
                      <a:lnTo>
                        <a:pt x="233" y="168"/>
                      </a:lnTo>
                      <a:lnTo>
                        <a:pt x="206" y="159"/>
                      </a:lnTo>
                      <a:lnTo>
                        <a:pt x="171" y="151"/>
                      </a:lnTo>
                      <a:lnTo>
                        <a:pt x="145" y="151"/>
                      </a:lnTo>
                      <a:lnTo>
                        <a:pt x="118" y="151"/>
                      </a:lnTo>
                      <a:lnTo>
                        <a:pt x="91" y="151"/>
                      </a:lnTo>
                      <a:lnTo>
                        <a:pt x="64" y="151"/>
                      </a:lnTo>
                      <a:lnTo>
                        <a:pt x="38" y="151"/>
                      </a:lnTo>
                      <a:lnTo>
                        <a:pt x="12" y="151"/>
                      </a:lnTo>
                      <a:lnTo>
                        <a:pt x="0" y="159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0" name="Freeform 23"/>
                <p:cNvSpPr/>
                <p:nvPr/>
              </p:nvSpPr>
              <p:spPr>
                <a:xfrm>
                  <a:off x="3905280" y="1781280"/>
                  <a:ext cx="740880" cy="522000"/>
                </a:xfrm>
                <a:custGeom>
                  <a:avLst/>
                  <a:gdLst>
                    <a:gd name="textAreaLeft" fmla="*/ 0 w 740880"/>
                    <a:gd name="textAreaRight" fmla="*/ 741240 w 740880"/>
                    <a:gd name="textAreaTop" fmla="*/ 0 h 522000"/>
                    <a:gd name="textAreaBottom" fmla="*/ 522360 h 522000"/>
                  </a:gdLst>
                  <a:ahLst/>
                  <a:rect l="textAreaLeft" t="textAreaTop" r="textAreaRight" b="textAreaBottom"/>
                  <a:pathLst>
                    <a:path w="467" h="329">
                      <a:moveTo>
                        <a:pt x="0" y="0"/>
                      </a:moveTo>
                      <a:lnTo>
                        <a:pt x="26" y="35"/>
                      </a:lnTo>
                      <a:lnTo>
                        <a:pt x="44" y="62"/>
                      </a:lnTo>
                      <a:lnTo>
                        <a:pt x="62" y="89"/>
                      </a:lnTo>
                      <a:lnTo>
                        <a:pt x="88" y="98"/>
                      </a:lnTo>
                      <a:lnTo>
                        <a:pt x="105" y="124"/>
                      </a:lnTo>
                      <a:lnTo>
                        <a:pt x="132" y="142"/>
                      </a:lnTo>
                      <a:lnTo>
                        <a:pt x="159" y="168"/>
                      </a:lnTo>
                      <a:lnTo>
                        <a:pt x="177" y="195"/>
                      </a:lnTo>
                      <a:lnTo>
                        <a:pt x="203" y="221"/>
                      </a:lnTo>
                      <a:lnTo>
                        <a:pt x="229" y="239"/>
                      </a:lnTo>
                      <a:lnTo>
                        <a:pt x="265" y="266"/>
                      </a:lnTo>
                      <a:lnTo>
                        <a:pt x="300" y="293"/>
                      </a:lnTo>
                      <a:lnTo>
                        <a:pt x="371" y="310"/>
                      </a:lnTo>
                      <a:lnTo>
                        <a:pt x="397" y="319"/>
                      </a:lnTo>
                      <a:lnTo>
                        <a:pt x="423" y="319"/>
                      </a:lnTo>
                      <a:lnTo>
                        <a:pt x="450" y="328"/>
                      </a:lnTo>
                      <a:lnTo>
                        <a:pt x="466" y="311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1" name="Freeform 24"/>
                <p:cNvSpPr/>
                <p:nvPr/>
              </p:nvSpPr>
              <p:spPr>
                <a:xfrm>
                  <a:off x="3657600" y="1844640"/>
                  <a:ext cx="864720" cy="433080"/>
                </a:xfrm>
                <a:custGeom>
                  <a:avLst/>
                  <a:gdLst>
                    <a:gd name="textAreaLeft" fmla="*/ 0 w 864720"/>
                    <a:gd name="textAreaRight" fmla="*/ 865080 w 864720"/>
                    <a:gd name="textAreaTop" fmla="*/ 0 h 433080"/>
                    <a:gd name="textAreaBottom" fmla="*/ 433440 h 433080"/>
                  </a:gdLst>
                  <a:ahLst/>
                  <a:rect l="textAreaLeft" t="textAreaTop" r="textAreaRight" b="textAreaBottom"/>
                  <a:pathLst>
                    <a:path w="545" h="273">
                      <a:moveTo>
                        <a:pt x="0" y="272"/>
                      </a:moveTo>
                      <a:lnTo>
                        <a:pt x="49" y="270"/>
                      </a:lnTo>
                      <a:lnTo>
                        <a:pt x="76" y="270"/>
                      </a:lnTo>
                      <a:lnTo>
                        <a:pt x="102" y="270"/>
                      </a:lnTo>
                      <a:lnTo>
                        <a:pt x="129" y="270"/>
                      </a:lnTo>
                      <a:lnTo>
                        <a:pt x="164" y="270"/>
                      </a:lnTo>
                      <a:lnTo>
                        <a:pt x="199" y="270"/>
                      </a:lnTo>
                      <a:lnTo>
                        <a:pt x="235" y="270"/>
                      </a:lnTo>
                      <a:lnTo>
                        <a:pt x="261" y="270"/>
                      </a:lnTo>
                      <a:lnTo>
                        <a:pt x="288" y="262"/>
                      </a:lnTo>
                      <a:lnTo>
                        <a:pt x="314" y="235"/>
                      </a:lnTo>
                      <a:lnTo>
                        <a:pt x="340" y="217"/>
                      </a:lnTo>
                      <a:lnTo>
                        <a:pt x="358" y="191"/>
                      </a:lnTo>
                      <a:lnTo>
                        <a:pt x="385" y="173"/>
                      </a:lnTo>
                      <a:lnTo>
                        <a:pt x="412" y="147"/>
                      </a:lnTo>
                      <a:lnTo>
                        <a:pt x="446" y="120"/>
                      </a:lnTo>
                      <a:lnTo>
                        <a:pt x="464" y="93"/>
                      </a:lnTo>
                      <a:lnTo>
                        <a:pt x="482" y="67"/>
                      </a:lnTo>
                      <a:lnTo>
                        <a:pt x="509" y="41"/>
                      </a:lnTo>
                      <a:lnTo>
                        <a:pt x="535" y="14"/>
                      </a:lnTo>
                      <a:lnTo>
                        <a:pt x="544" y="0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2" name="Freeform 25"/>
                <p:cNvSpPr/>
                <p:nvPr/>
              </p:nvSpPr>
              <p:spPr>
                <a:xfrm>
                  <a:off x="509760" y="969840"/>
                  <a:ext cx="198000" cy="1039320"/>
                </a:xfrm>
                <a:custGeom>
                  <a:avLst/>
                  <a:gdLst>
                    <a:gd name="textAreaLeft" fmla="*/ 0 w 198000"/>
                    <a:gd name="textAreaRight" fmla="*/ 198360 w 198000"/>
                    <a:gd name="textAreaTop" fmla="*/ 0 h 1039320"/>
                    <a:gd name="textAreaBottom" fmla="*/ 1039680 h 1039320"/>
                  </a:gdLst>
                  <a:ahLst/>
                  <a:rect l="textAreaLeft" t="textAreaTop" r="textAreaRight" b="textAreaBottom"/>
                  <a:pathLst>
                    <a:path w="125" h="655">
                      <a:moveTo>
                        <a:pt x="0" y="0"/>
                      </a:moveTo>
                      <a:lnTo>
                        <a:pt x="9" y="44"/>
                      </a:lnTo>
                      <a:lnTo>
                        <a:pt x="14" y="75"/>
                      </a:lnTo>
                      <a:lnTo>
                        <a:pt x="20" y="106"/>
                      </a:lnTo>
                      <a:lnTo>
                        <a:pt x="25" y="136"/>
                      </a:lnTo>
                      <a:lnTo>
                        <a:pt x="31" y="166"/>
                      </a:lnTo>
                      <a:lnTo>
                        <a:pt x="36" y="197"/>
                      </a:lnTo>
                      <a:lnTo>
                        <a:pt x="47" y="227"/>
                      </a:lnTo>
                      <a:lnTo>
                        <a:pt x="58" y="257"/>
                      </a:lnTo>
                      <a:lnTo>
                        <a:pt x="64" y="288"/>
                      </a:lnTo>
                      <a:lnTo>
                        <a:pt x="74" y="319"/>
                      </a:lnTo>
                      <a:lnTo>
                        <a:pt x="74" y="349"/>
                      </a:lnTo>
                      <a:lnTo>
                        <a:pt x="80" y="379"/>
                      </a:lnTo>
                      <a:lnTo>
                        <a:pt x="80" y="410"/>
                      </a:lnTo>
                      <a:lnTo>
                        <a:pt x="85" y="440"/>
                      </a:lnTo>
                      <a:lnTo>
                        <a:pt x="85" y="471"/>
                      </a:lnTo>
                      <a:lnTo>
                        <a:pt x="85" y="501"/>
                      </a:lnTo>
                      <a:lnTo>
                        <a:pt x="91" y="532"/>
                      </a:lnTo>
                      <a:lnTo>
                        <a:pt x="96" y="562"/>
                      </a:lnTo>
                      <a:lnTo>
                        <a:pt x="102" y="593"/>
                      </a:lnTo>
                      <a:lnTo>
                        <a:pt x="113" y="623"/>
                      </a:lnTo>
                      <a:lnTo>
                        <a:pt x="124" y="654"/>
                      </a:lnTo>
                      <a:lnTo>
                        <a:pt x="119" y="625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13" name="Group 46"/>
              <p:cNvGrpSpPr/>
              <p:nvPr/>
            </p:nvGrpSpPr>
            <p:grpSpPr>
              <a:xfrm>
                <a:off x="4383000" y="969840"/>
                <a:ext cx="4419360" cy="1339560"/>
                <a:chOff x="4383000" y="969840"/>
                <a:chExt cx="4419360" cy="1339560"/>
              </a:xfrm>
            </p:grpSpPr>
            <p:grpSp>
              <p:nvGrpSpPr>
                <p:cNvPr id="814" name="Group 33"/>
                <p:cNvGrpSpPr/>
                <p:nvPr/>
              </p:nvGrpSpPr>
              <p:grpSpPr>
                <a:xfrm>
                  <a:off x="6280200" y="1795320"/>
                  <a:ext cx="2371320" cy="504360"/>
                  <a:chOff x="6280200" y="1795320"/>
                  <a:chExt cx="2371320" cy="504360"/>
                </a:xfrm>
              </p:grpSpPr>
              <p:sp>
                <p:nvSpPr>
                  <p:cNvPr id="815" name="Freeform 27"/>
                  <p:cNvSpPr/>
                  <p:nvPr/>
                </p:nvSpPr>
                <p:spPr>
                  <a:xfrm>
                    <a:off x="6280200" y="1862280"/>
                    <a:ext cx="817200" cy="318600"/>
                  </a:xfrm>
                  <a:custGeom>
                    <a:avLst/>
                    <a:gdLst>
                      <a:gd name="textAreaLeft" fmla="*/ 0 w 817200"/>
                      <a:gd name="textAreaRight" fmla="*/ 817560 w 817200"/>
                      <a:gd name="textAreaTop" fmla="*/ 0 h 318600"/>
                      <a:gd name="textAreaBottom" fmla="*/ 318960 h 318600"/>
                    </a:gdLst>
                    <a:ahLst/>
                    <a:rect l="textAreaLeft" t="textAreaTop" r="textAreaRight" b="textAreaBottom"/>
                    <a:pathLst>
                      <a:path w="515" h="201">
                        <a:moveTo>
                          <a:pt x="0" y="198"/>
                        </a:moveTo>
                        <a:lnTo>
                          <a:pt x="31" y="200"/>
                        </a:lnTo>
                        <a:lnTo>
                          <a:pt x="53" y="200"/>
                        </a:lnTo>
                        <a:lnTo>
                          <a:pt x="99" y="192"/>
                        </a:lnTo>
                        <a:lnTo>
                          <a:pt x="114" y="169"/>
                        </a:lnTo>
                        <a:lnTo>
                          <a:pt x="143" y="154"/>
                        </a:lnTo>
                        <a:lnTo>
                          <a:pt x="166" y="140"/>
                        </a:lnTo>
                        <a:lnTo>
                          <a:pt x="189" y="124"/>
                        </a:lnTo>
                        <a:lnTo>
                          <a:pt x="219" y="110"/>
                        </a:lnTo>
                        <a:lnTo>
                          <a:pt x="280" y="94"/>
                        </a:lnTo>
                        <a:lnTo>
                          <a:pt x="302" y="87"/>
                        </a:lnTo>
                        <a:lnTo>
                          <a:pt x="333" y="72"/>
                        </a:lnTo>
                        <a:lnTo>
                          <a:pt x="393" y="65"/>
                        </a:lnTo>
                        <a:lnTo>
                          <a:pt x="423" y="49"/>
                        </a:lnTo>
                        <a:lnTo>
                          <a:pt x="445" y="42"/>
                        </a:lnTo>
                        <a:lnTo>
                          <a:pt x="467" y="35"/>
                        </a:lnTo>
                        <a:lnTo>
                          <a:pt x="490" y="27"/>
                        </a:lnTo>
                        <a:lnTo>
                          <a:pt x="514" y="19"/>
                        </a:lnTo>
                        <a:lnTo>
                          <a:pt x="497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6" name="Freeform 28"/>
                  <p:cNvSpPr/>
                  <p:nvPr/>
                </p:nvSpPr>
                <p:spPr>
                  <a:xfrm>
                    <a:off x="6313320" y="1808280"/>
                    <a:ext cx="769680" cy="406080"/>
                  </a:xfrm>
                  <a:custGeom>
                    <a:avLst/>
                    <a:gdLst>
                      <a:gd name="textAreaLeft" fmla="*/ 0 w 769680"/>
                      <a:gd name="textAreaRight" fmla="*/ 770040 w 769680"/>
                      <a:gd name="textAreaTop" fmla="*/ 0 h 406080"/>
                      <a:gd name="textAreaBottom" fmla="*/ 406440 h 406080"/>
                    </a:gdLst>
                    <a:ahLst/>
                    <a:rect l="textAreaLeft" t="textAreaTop" r="textAreaRight" b="textAreaBottom"/>
                    <a:pathLst>
                      <a:path w="485" h="256">
                        <a:moveTo>
                          <a:pt x="484" y="255"/>
                        </a:moveTo>
                        <a:lnTo>
                          <a:pt x="465" y="230"/>
                        </a:lnTo>
                        <a:lnTo>
                          <a:pt x="449" y="213"/>
                        </a:lnTo>
                        <a:lnTo>
                          <a:pt x="413" y="186"/>
                        </a:lnTo>
                        <a:lnTo>
                          <a:pt x="386" y="191"/>
                        </a:lnTo>
                        <a:lnTo>
                          <a:pt x="355" y="179"/>
                        </a:lnTo>
                        <a:lnTo>
                          <a:pt x="327" y="173"/>
                        </a:lnTo>
                        <a:lnTo>
                          <a:pt x="300" y="166"/>
                        </a:lnTo>
                        <a:lnTo>
                          <a:pt x="270" y="154"/>
                        </a:lnTo>
                        <a:lnTo>
                          <a:pt x="218" y="121"/>
                        </a:lnTo>
                        <a:lnTo>
                          <a:pt x="197" y="109"/>
                        </a:lnTo>
                        <a:lnTo>
                          <a:pt x="166" y="98"/>
                        </a:lnTo>
                        <a:lnTo>
                          <a:pt x="119" y="59"/>
                        </a:lnTo>
                        <a:lnTo>
                          <a:pt x="87" y="47"/>
                        </a:lnTo>
                        <a:lnTo>
                          <a:pt x="66" y="35"/>
                        </a:lnTo>
                        <a:lnTo>
                          <a:pt x="46" y="24"/>
                        </a:lnTo>
                        <a:lnTo>
                          <a:pt x="24" y="13"/>
                        </a:lnTo>
                        <a:lnTo>
                          <a:pt x="3" y="0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7" name="Freeform 29"/>
                  <p:cNvSpPr/>
                  <p:nvPr/>
                </p:nvSpPr>
                <p:spPr>
                  <a:xfrm>
                    <a:off x="6861240" y="1859040"/>
                    <a:ext cx="1790280" cy="429840"/>
                  </a:xfrm>
                  <a:custGeom>
                    <a:avLst/>
                    <a:gdLst>
                      <a:gd name="textAreaLeft" fmla="*/ 0 w 1790280"/>
                      <a:gd name="textAreaRight" fmla="*/ 1790640 w 1790280"/>
                      <a:gd name="textAreaTop" fmla="*/ 0 h 429840"/>
                      <a:gd name="textAreaBottom" fmla="*/ 430200 h 429840"/>
                    </a:gdLst>
                    <a:ahLst/>
                    <a:rect l="textAreaLeft" t="textAreaTop" r="textAreaRight" b="textAreaBottom"/>
                    <a:pathLst>
                      <a:path w="1128" h="271">
                        <a:moveTo>
                          <a:pt x="0" y="234"/>
                        </a:moveTo>
                        <a:lnTo>
                          <a:pt x="66" y="224"/>
                        </a:lnTo>
                        <a:lnTo>
                          <a:pt x="95" y="202"/>
                        </a:lnTo>
                        <a:lnTo>
                          <a:pt x="126" y="179"/>
                        </a:lnTo>
                        <a:lnTo>
                          <a:pt x="149" y="172"/>
                        </a:lnTo>
                        <a:lnTo>
                          <a:pt x="171" y="157"/>
                        </a:lnTo>
                        <a:lnTo>
                          <a:pt x="193" y="141"/>
                        </a:lnTo>
                        <a:lnTo>
                          <a:pt x="216" y="127"/>
                        </a:lnTo>
                        <a:lnTo>
                          <a:pt x="269" y="112"/>
                        </a:lnTo>
                        <a:lnTo>
                          <a:pt x="291" y="105"/>
                        </a:lnTo>
                        <a:lnTo>
                          <a:pt x="321" y="90"/>
                        </a:lnTo>
                        <a:lnTo>
                          <a:pt x="351" y="74"/>
                        </a:lnTo>
                        <a:lnTo>
                          <a:pt x="381" y="52"/>
                        </a:lnTo>
                        <a:lnTo>
                          <a:pt x="404" y="37"/>
                        </a:lnTo>
                        <a:lnTo>
                          <a:pt x="427" y="23"/>
                        </a:lnTo>
                        <a:lnTo>
                          <a:pt x="449" y="7"/>
                        </a:lnTo>
                        <a:lnTo>
                          <a:pt x="472" y="0"/>
                        </a:lnTo>
                        <a:lnTo>
                          <a:pt x="495" y="0"/>
                        </a:lnTo>
                        <a:lnTo>
                          <a:pt x="517" y="15"/>
                        </a:lnTo>
                        <a:lnTo>
                          <a:pt x="524" y="37"/>
                        </a:lnTo>
                        <a:lnTo>
                          <a:pt x="547" y="60"/>
                        </a:lnTo>
                        <a:lnTo>
                          <a:pt x="562" y="82"/>
                        </a:lnTo>
                        <a:lnTo>
                          <a:pt x="578" y="105"/>
                        </a:lnTo>
                        <a:lnTo>
                          <a:pt x="593" y="127"/>
                        </a:lnTo>
                        <a:lnTo>
                          <a:pt x="607" y="150"/>
                        </a:lnTo>
                        <a:lnTo>
                          <a:pt x="630" y="165"/>
                        </a:lnTo>
                        <a:lnTo>
                          <a:pt x="645" y="188"/>
                        </a:lnTo>
                        <a:lnTo>
                          <a:pt x="668" y="195"/>
                        </a:lnTo>
                        <a:lnTo>
                          <a:pt x="690" y="217"/>
                        </a:lnTo>
                        <a:lnTo>
                          <a:pt x="720" y="239"/>
                        </a:lnTo>
                        <a:lnTo>
                          <a:pt x="743" y="255"/>
                        </a:lnTo>
                        <a:lnTo>
                          <a:pt x="766" y="262"/>
                        </a:lnTo>
                        <a:lnTo>
                          <a:pt x="788" y="270"/>
                        </a:lnTo>
                        <a:lnTo>
                          <a:pt x="810" y="262"/>
                        </a:lnTo>
                        <a:lnTo>
                          <a:pt x="833" y="239"/>
                        </a:lnTo>
                        <a:lnTo>
                          <a:pt x="856" y="224"/>
                        </a:lnTo>
                        <a:lnTo>
                          <a:pt x="878" y="210"/>
                        </a:lnTo>
                        <a:lnTo>
                          <a:pt x="901" y="195"/>
                        </a:lnTo>
                        <a:lnTo>
                          <a:pt x="924" y="188"/>
                        </a:lnTo>
                        <a:lnTo>
                          <a:pt x="984" y="165"/>
                        </a:lnTo>
                        <a:lnTo>
                          <a:pt x="1007" y="150"/>
                        </a:lnTo>
                        <a:lnTo>
                          <a:pt x="1022" y="127"/>
                        </a:lnTo>
                        <a:lnTo>
                          <a:pt x="1051" y="105"/>
                        </a:lnTo>
                        <a:lnTo>
                          <a:pt x="1097" y="60"/>
                        </a:lnTo>
                        <a:lnTo>
                          <a:pt x="1119" y="37"/>
                        </a:lnTo>
                        <a:lnTo>
                          <a:pt x="1127" y="15"/>
                        </a:lnTo>
                        <a:lnTo>
                          <a:pt x="1125" y="2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8" name="Freeform 30"/>
                  <p:cNvSpPr/>
                  <p:nvPr/>
                </p:nvSpPr>
                <p:spPr>
                  <a:xfrm>
                    <a:off x="6702480" y="1806480"/>
                    <a:ext cx="1800000" cy="444240"/>
                  </a:xfrm>
                  <a:custGeom>
                    <a:avLst/>
                    <a:gdLst>
                      <a:gd name="textAreaLeft" fmla="*/ 0 w 1800000"/>
                      <a:gd name="textAreaRight" fmla="*/ 1800360 w 1800000"/>
                      <a:gd name="textAreaTop" fmla="*/ 0 h 444240"/>
                      <a:gd name="textAreaBottom" fmla="*/ 444600 h 444240"/>
                    </a:gdLst>
                    <a:ahLst/>
                    <a:rect l="textAreaLeft" t="textAreaTop" r="textAreaRight" b="textAreaBottom"/>
                    <a:pathLst>
                      <a:path w="1134" h="280">
                        <a:moveTo>
                          <a:pt x="0" y="0"/>
                        </a:moveTo>
                        <a:lnTo>
                          <a:pt x="37" y="16"/>
                        </a:lnTo>
                        <a:lnTo>
                          <a:pt x="67" y="23"/>
                        </a:lnTo>
                        <a:lnTo>
                          <a:pt x="98" y="46"/>
                        </a:lnTo>
                        <a:lnTo>
                          <a:pt x="120" y="54"/>
                        </a:lnTo>
                        <a:lnTo>
                          <a:pt x="143" y="54"/>
                        </a:lnTo>
                        <a:lnTo>
                          <a:pt x="165" y="54"/>
                        </a:lnTo>
                        <a:lnTo>
                          <a:pt x="188" y="69"/>
                        </a:lnTo>
                        <a:lnTo>
                          <a:pt x="210" y="91"/>
                        </a:lnTo>
                        <a:lnTo>
                          <a:pt x="233" y="106"/>
                        </a:lnTo>
                        <a:lnTo>
                          <a:pt x="262" y="121"/>
                        </a:lnTo>
                        <a:lnTo>
                          <a:pt x="285" y="137"/>
                        </a:lnTo>
                        <a:lnTo>
                          <a:pt x="308" y="151"/>
                        </a:lnTo>
                        <a:lnTo>
                          <a:pt x="338" y="166"/>
                        </a:lnTo>
                        <a:lnTo>
                          <a:pt x="360" y="174"/>
                        </a:lnTo>
                        <a:lnTo>
                          <a:pt x="382" y="181"/>
                        </a:lnTo>
                        <a:lnTo>
                          <a:pt x="405" y="189"/>
                        </a:lnTo>
                        <a:lnTo>
                          <a:pt x="436" y="204"/>
                        </a:lnTo>
                        <a:lnTo>
                          <a:pt x="465" y="212"/>
                        </a:lnTo>
                        <a:lnTo>
                          <a:pt x="488" y="227"/>
                        </a:lnTo>
                        <a:lnTo>
                          <a:pt x="510" y="235"/>
                        </a:lnTo>
                        <a:lnTo>
                          <a:pt x="540" y="242"/>
                        </a:lnTo>
                        <a:lnTo>
                          <a:pt x="563" y="227"/>
                        </a:lnTo>
                        <a:lnTo>
                          <a:pt x="593" y="212"/>
                        </a:lnTo>
                        <a:lnTo>
                          <a:pt x="623" y="197"/>
                        </a:lnTo>
                        <a:lnTo>
                          <a:pt x="646" y="189"/>
                        </a:lnTo>
                        <a:lnTo>
                          <a:pt x="668" y="174"/>
                        </a:lnTo>
                        <a:lnTo>
                          <a:pt x="691" y="166"/>
                        </a:lnTo>
                        <a:lnTo>
                          <a:pt x="713" y="144"/>
                        </a:lnTo>
                        <a:lnTo>
                          <a:pt x="735" y="129"/>
                        </a:lnTo>
                        <a:lnTo>
                          <a:pt x="758" y="114"/>
                        </a:lnTo>
                        <a:lnTo>
                          <a:pt x="781" y="114"/>
                        </a:lnTo>
                        <a:lnTo>
                          <a:pt x="803" y="106"/>
                        </a:lnTo>
                        <a:lnTo>
                          <a:pt x="825" y="76"/>
                        </a:lnTo>
                        <a:lnTo>
                          <a:pt x="833" y="31"/>
                        </a:lnTo>
                        <a:lnTo>
                          <a:pt x="856" y="23"/>
                        </a:lnTo>
                        <a:lnTo>
                          <a:pt x="863" y="46"/>
                        </a:lnTo>
                        <a:lnTo>
                          <a:pt x="885" y="61"/>
                        </a:lnTo>
                        <a:lnTo>
                          <a:pt x="901" y="83"/>
                        </a:lnTo>
                        <a:lnTo>
                          <a:pt x="923" y="106"/>
                        </a:lnTo>
                        <a:lnTo>
                          <a:pt x="952" y="129"/>
                        </a:lnTo>
                        <a:lnTo>
                          <a:pt x="975" y="144"/>
                        </a:lnTo>
                        <a:lnTo>
                          <a:pt x="1006" y="174"/>
                        </a:lnTo>
                        <a:lnTo>
                          <a:pt x="1036" y="197"/>
                        </a:lnTo>
                        <a:lnTo>
                          <a:pt x="1050" y="219"/>
                        </a:lnTo>
                        <a:lnTo>
                          <a:pt x="1066" y="242"/>
                        </a:lnTo>
                        <a:lnTo>
                          <a:pt x="1089" y="264"/>
                        </a:lnTo>
                        <a:lnTo>
                          <a:pt x="1111" y="279"/>
                        </a:lnTo>
                        <a:lnTo>
                          <a:pt x="1133" y="279"/>
                        </a:lnTo>
                        <a:lnTo>
                          <a:pt x="1123" y="266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9" name="Freeform 31"/>
                  <p:cNvSpPr/>
                  <p:nvPr/>
                </p:nvSpPr>
                <p:spPr>
                  <a:xfrm>
                    <a:off x="7122960" y="2124000"/>
                    <a:ext cx="963360" cy="175680"/>
                  </a:xfrm>
                  <a:custGeom>
                    <a:avLst/>
                    <a:gdLst>
                      <a:gd name="textAreaLeft" fmla="*/ 0 w 963360"/>
                      <a:gd name="textAreaRight" fmla="*/ 963720 w 963360"/>
                      <a:gd name="textAreaTop" fmla="*/ 0 h 175680"/>
                      <a:gd name="textAreaBottom" fmla="*/ 176040 h 175680"/>
                    </a:gdLst>
                    <a:ahLst/>
                    <a:rect l="textAreaLeft" t="textAreaTop" r="textAreaRight" b="textAreaBottom"/>
                    <a:pathLst>
                      <a:path w="607" h="111">
                        <a:moveTo>
                          <a:pt x="0" y="66"/>
                        </a:moveTo>
                        <a:lnTo>
                          <a:pt x="35" y="72"/>
                        </a:lnTo>
                        <a:lnTo>
                          <a:pt x="81" y="72"/>
                        </a:lnTo>
                        <a:lnTo>
                          <a:pt x="140" y="72"/>
                        </a:lnTo>
                        <a:lnTo>
                          <a:pt x="163" y="72"/>
                        </a:lnTo>
                        <a:lnTo>
                          <a:pt x="185" y="72"/>
                        </a:lnTo>
                        <a:lnTo>
                          <a:pt x="208" y="72"/>
                        </a:lnTo>
                        <a:lnTo>
                          <a:pt x="231" y="72"/>
                        </a:lnTo>
                        <a:lnTo>
                          <a:pt x="254" y="72"/>
                        </a:lnTo>
                        <a:lnTo>
                          <a:pt x="275" y="72"/>
                        </a:lnTo>
                        <a:lnTo>
                          <a:pt x="298" y="72"/>
                        </a:lnTo>
                        <a:lnTo>
                          <a:pt x="321" y="72"/>
                        </a:lnTo>
                        <a:lnTo>
                          <a:pt x="351" y="72"/>
                        </a:lnTo>
                        <a:lnTo>
                          <a:pt x="373" y="72"/>
                        </a:lnTo>
                        <a:lnTo>
                          <a:pt x="396" y="72"/>
                        </a:lnTo>
                        <a:lnTo>
                          <a:pt x="426" y="87"/>
                        </a:lnTo>
                        <a:lnTo>
                          <a:pt x="448" y="95"/>
                        </a:lnTo>
                        <a:lnTo>
                          <a:pt x="470" y="95"/>
                        </a:lnTo>
                        <a:lnTo>
                          <a:pt x="493" y="110"/>
                        </a:lnTo>
                        <a:lnTo>
                          <a:pt x="516" y="110"/>
                        </a:lnTo>
                        <a:lnTo>
                          <a:pt x="538" y="103"/>
                        </a:lnTo>
                        <a:lnTo>
                          <a:pt x="553" y="80"/>
                        </a:lnTo>
                        <a:lnTo>
                          <a:pt x="576" y="57"/>
                        </a:lnTo>
                        <a:lnTo>
                          <a:pt x="591" y="27"/>
                        </a:lnTo>
                        <a:lnTo>
                          <a:pt x="606" y="5"/>
                        </a:lnTo>
                        <a:lnTo>
                          <a:pt x="593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0" name="Freeform 32"/>
                  <p:cNvSpPr/>
                  <p:nvPr/>
                </p:nvSpPr>
                <p:spPr>
                  <a:xfrm>
                    <a:off x="7277040" y="1795320"/>
                    <a:ext cx="1106280" cy="66240"/>
                  </a:xfrm>
                  <a:custGeom>
                    <a:avLst/>
                    <a:gdLst>
                      <a:gd name="textAreaLeft" fmla="*/ 0 w 1106280"/>
                      <a:gd name="textAreaRight" fmla="*/ 1106640 w 1106280"/>
                      <a:gd name="textAreaTop" fmla="*/ 0 h 66240"/>
                      <a:gd name="textAreaBottom" fmla="*/ 66600 h 66240"/>
                    </a:gdLst>
                    <a:ahLst/>
                    <a:rect l="textAreaLeft" t="textAreaTop" r="textAreaRight" b="textAreaBottom"/>
                    <a:pathLst>
                      <a:path w="697" h="42">
                        <a:moveTo>
                          <a:pt x="0" y="41"/>
                        </a:moveTo>
                        <a:lnTo>
                          <a:pt x="35" y="31"/>
                        </a:lnTo>
                        <a:lnTo>
                          <a:pt x="65" y="31"/>
                        </a:lnTo>
                        <a:lnTo>
                          <a:pt x="88" y="31"/>
                        </a:lnTo>
                        <a:lnTo>
                          <a:pt x="118" y="31"/>
                        </a:lnTo>
                        <a:lnTo>
                          <a:pt x="148" y="31"/>
                        </a:lnTo>
                        <a:lnTo>
                          <a:pt x="170" y="31"/>
                        </a:lnTo>
                        <a:lnTo>
                          <a:pt x="193" y="31"/>
                        </a:lnTo>
                        <a:lnTo>
                          <a:pt x="216" y="31"/>
                        </a:lnTo>
                        <a:lnTo>
                          <a:pt x="238" y="31"/>
                        </a:lnTo>
                        <a:lnTo>
                          <a:pt x="260" y="31"/>
                        </a:lnTo>
                        <a:lnTo>
                          <a:pt x="290" y="31"/>
                        </a:lnTo>
                        <a:lnTo>
                          <a:pt x="337" y="31"/>
                        </a:lnTo>
                        <a:lnTo>
                          <a:pt x="359" y="31"/>
                        </a:lnTo>
                        <a:lnTo>
                          <a:pt x="381" y="23"/>
                        </a:lnTo>
                        <a:lnTo>
                          <a:pt x="404" y="15"/>
                        </a:lnTo>
                        <a:lnTo>
                          <a:pt x="456" y="8"/>
                        </a:lnTo>
                        <a:lnTo>
                          <a:pt x="502" y="8"/>
                        </a:lnTo>
                        <a:lnTo>
                          <a:pt x="524" y="0"/>
                        </a:lnTo>
                        <a:lnTo>
                          <a:pt x="547" y="0"/>
                        </a:lnTo>
                        <a:lnTo>
                          <a:pt x="569" y="0"/>
                        </a:lnTo>
                        <a:lnTo>
                          <a:pt x="599" y="0"/>
                        </a:lnTo>
                        <a:lnTo>
                          <a:pt x="645" y="0"/>
                        </a:lnTo>
                        <a:lnTo>
                          <a:pt x="668" y="0"/>
                        </a:lnTo>
                        <a:lnTo>
                          <a:pt x="690" y="0"/>
                        </a:lnTo>
                        <a:lnTo>
                          <a:pt x="696" y="8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21" name="Freeform 34"/>
                <p:cNvSpPr/>
                <p:nvPr/>
              </p:nvSpPr>
              <p:spPr>
                <a:xfrm>
                  <a:off x="8583480" y="1152360"/>
                  <a:ext cx="218880" cy="1106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1106280"/>
                    <a:gd name="textAreaBottom" fmla="*/ 1106640 h 1106280"/>
                  </a:gdLst>
                  <a:ahLst/>
                  <a:rect l="textAreaLeft" t="textAreaTop" r="textAreaRight" b="textAreaBottom"/>
                  <a:pathLst>
                    <a:path w="138" h="697">
                      <a:moveTo>
                        <a:pt x="116" y="696"/>
                      </a:moveTo>
                      <a:lnTo>
                        <a:pt x="137" y="634"/>
                      </a:lnTo>
                      <a:lnTo>
                        <a:pt x="136" y="589"/>
                      </a:lnTo>
                      <a:lnTo>
                        <a:pt x="131" y="511"/>
                      </a:lnTo>
                      <a:lnTo>
                        <a:pt x="120" y="464"/>
                      </a:lnTo>
                      <a:lnTo>
                        <a:pt x="99" y="427"/>
                      </a:lnTo>
                      <a:lnTo>
                        <a:pt x="87" y="390"/>
                      </a:lnTo>
                      <a:lnTo>
                        <a:pt x="65" y="353"/>
                      </a:lnTo>
                      <a:lnTo>
                        <a:pt x="61" y="320"/>
                      </a:lnTo>
                      <a:lnTo>
                        <a:pt x="40" y="281"/>
                      </a:lnTo>
                      <a:lnTo>
                        <a:pt x="19" y="243"/>
                      </a:lnTo>
                      <a:lnTo>
                        <a:pt x="7" y="206"/>
                      </a:lnTo>
                      <a:lnTo>
                        <a:pt x="3" y="174"/>
                      </a:lnTo>
                      <a:lnTo>
                        <a:pt x="0" y="139"/>
                      </a:lnTo>
                      <a:lnTo>
                        <a:pt x="6" y="108"/>
                      </a:lnTo>
                      <a:lnTo>
                        <a:pt x="12" y="76"/>
                      </a:lnTo>
                      <a:lnTo>
                        <a:pt x="16" y="45"/>
                      </a:lnTo>
                      <a:lnTo>
                        <a:pt x="32" y="15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cap="rnd" w="1270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22" name="Group 37"/>
                <p:cNvGrpSpPr/>
                <p:nvPr/>
              </p:nvGrpSpPr>
              <p:grpSpPr>
                <a:xfrm>
                  <a:off x="5473800" y="1860480"/>
                  <a:ext cx="867960" cy="448920"/>
                  <a:chOff x="5473800" y="1860480"/>
                  <a:chExt cx="867960" cy="448920"/>
                </a:xfrm>
              </p:grpSpPr>
              <p:sp>
                <p:nvSpPr>
                  <p:cNvPr id="823" name="Freeform 35"/>
                  <p:cNvSpPr/>
                  <p:nvPr/>
                </p:nvSpPr>
                <p:spPr>
                  <a:xfrm>
                    <a:off x="5502240" y="1922400"/>
                    <a:ext cx="839520" cy="387000"/>
                  </a:xfrm>
                  <a:custGeom>
                    <a:avLst/>
                    <a:gdLst>
                      <a:gd name="textAreaLeft" fmla="*/ 0 w 839520"/>
                      <a:gd name="textAreaRight" fmla="*/ 839880 w 839520"/>
                      <a:gd name="textAreaTop" fmla="*/ 0 h 387000"/>
                      <a:gd name="textAreaBottom" fmla="*/ 387360 h 387000"/>
                    </a:gdLst>
                    <a:ahLst/>
                    <a:rect l="textAreaLeft" t="textAreaTop" r="textAreaRight" b="textAreaBottom"/>
                    <a:pathLst>
                      <a:path w="529" h="244">
                        <a:moveTo>
                          <a:pt x="0" y="33"/>
                        </a:moveTo>
                        <a:lnTo>
                          <a:pt x="66" y="39"/>
                        </a:lnTo>
                        <a:lnTo>
                          <a:pt x="110" y="54"/>
                        </a:lnTo>
                        <a:lnTo>
                          <a:pt x="133" y="69"/>
                        </a:lnTo>
                        <a:lnTo>
                          <a:pt x="163" y="92"/>
                        </a:lnTo>
                        <a:lnTo>
                          <a:pt x="186" y="114"/>
                        </a:lnTo>
                        <a:lnTo>
                          <a:pt x="208" y="129"/>
                        </a:lnTo>
                        <a:lnTo>
                          <a:pt x="231" y="152"/>
                        </a:lnTo>
                        <a:lnTo>
                          <a:pt x="253" y="175"/>
                        </a:lnTo>
                        <a:lnTo>
                          <a:pt x="275" y="198"/>
                        </a:lnTo>
                        <a:lnTo>
                          <a:pt x="299" y="220"/>
                        </a:lnTo>
                        <a:lnTo>
                          <a:pt x="313" y="243"/>
                        </a:lnTo>
                        <a:lnTo>
                          <a:pt x="335" y="243"/>
                        </a:lnTo>
                        <a:lnTo>
                          <a:pt x="358" y="227"/>
                        </a:lnTo>
                        <a:lnTo>
                          <a:pt x="381" y="206"/>
                        </a:lnTo>
                        <a:lnTo>
                          <a:pt x="404" y="183"/>
                        </a:lnTo>
                        <a:lnTo>
                          <a:pt x="418" y="152"/>
                        </a:lnTo>
                        <a:lnTo>
                          <a:pt x="441" y="123"/>
                        </a:lnTo>
                        <a:lnTo>
                          <a:pt x="456" y="100"/>
                        </a:lnTo>
                        <a:lnTo>
                          <a:pt x="471" y="77"/>
                        </a:lnTo>
                        <a:lnTo>
                          <a:pt x="478" y="54"/>
                        </a:lnTo>
                        <a:lnTo>
                          <a:pt x="500" y="32"/>
                        </a:lnTo>
                        <a:lnTo>
                          <a:pt x="528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4" name="Freeform 36"/>
                  <p:cNvSpPr/>
                  <p:nvPr/>
                </p:nvSpPr>
                <p:spPr>
                  <a:xfrm>
                    <a:off x="5473800" y="1860480"/>
                    <a:ext cx="144000" cy="372600"/>
                  </a:xfrm>
                  <a:custGeom>
                    <a:avLst/>
                    <a:gdLst>
                      <a:gd name="textAreaLeft" fmla="*/ 0 w 144000"/>
                      <a:gd name="textAreaRight" fmla="*/ 144360 w 144000"/>
                      <a:gd name="textAreaTop" fmla="*/ 0 h 372600"/>
                      <a:gd name="textAreaBottom" fmla="*/ 372960 h 372600"/>
                    </a:gdLst>
                    <a:ahLst/>
                    <a:rect l="textAreaLeft" t="textAreaTop" r="textAreaRight" b="textAreaBottom"/>
                    <a:pathLst>
                      <a:path w="91" h="235">
                        <a:moveTo>
                          <a:pt x="90" y="234"/>
                        </a:moveTo>
                        <a:lnTo>
                          <a:pt x="52" y="222"/>
                        </a:lnTo>
                        <a:lnTo>
                          <a:pt x="26" y="204"/>
                        </a:lnTo>
                        <a:lnTo>
                          <a:pt x="17" y="178"/>
                        </a:lnTo>
                        <a:lnTo>
                          <a:pt x="8" y="151"/>
                        </a:lnTo>
                        <a:lnTo>
                          <a:pt x="0" y="124"/>
                        </a:lnTo>
                        <a:lnTo>
                          <a:pt x="0" y="97"/>
                        </a:lnTo>
                        <a:lnTo>
                          <a:pt x="0" y="71"/>
                        </a:lnTo>
                        <a:lnTo>
                          <a:pt x="0" y="45"/>
                        </a:lnTo>
                        <a:lnTo>
                          <a:pt x="8" y="18"/>
                        </a:lnTo>
                        <a:lnTo>
                          <a:pt x="34" y="0"/>
                        </a:lnTo>
                        <a:lnTo>
                          <a:pt x="51" y="0"/>
                        </a:lnTo>
                      </a:path>
                    </a:pathLst>
                  </a:custGeom>
                  <a:noFill/>
                  <a:ln cap="rnd" w="762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25" name="Group 40"/>
                <p:cNvGrpSpPr/>
                <p:nvPr/>
              </p:nvGrpSpPr>
              <p:grpSpPr>
                <a:xfrm>
                  <a:off x="5226120" y="1797120"/>
                  <a:ext cx="869400" cy="450720"/>
                  <a:chOff x="5226120" y="1797120"/>
                  <a:chExt cx="869400" cy="450720"/>
                </a:xfrm>
              </p:grpSpPr>
              <p:sp>
                <p:nvSpPr>
                  <p:cNvPr id="826" name="Freeform 38"/>
                  <p:cNvSpPr/>
                  <p:nvPr/>
                </p:nvSpPr>
                <p:spPr>
                  <a:xfrm>
                    <a:off x="5254560" y="1862280"/>
                    <a:ext cx="840960" cy="385560"/>
                  </a:xfrm>
                  <a:custGeom>
                    <a:avLst/>
                    <a:gdLst>
                      <a:gd name="textAreaLeft" fmla="*/ 0 w 840960"/>
                      <a:gd name="textAreaRight" fmla="*/ 841320 w 840960"/>
                      <a:gd name="textAreaTop" fmla="*/ 0 h 385560"/>
                      <a:gd name="textAreaBottom" fmla="*/ 385920 h 385560"/>
                    </a:gdLst>
                    <a:ahLst/>
                    <a:rect l="textAreaLeft" t="textAreaTop" r="textAreaRight" b="textAreaBottom"/>
                    <a:pathLst>
                      <a:path w="530" h="243">
                        <a:moveTo>
                          <a:pt x="0" y="34"/>
                        </a:moveTo>
                        <a:lnTo>
                          <a:pt x="67" y="39"/>
                        </a:lnTo>
                        <a:lnTo>
                          <a:pt x="111" y="55"/>
                        </a:lnTo>
                        <a:lnTo>
                          <a:pt x="134" y="69"/>
                        </a:lnTo>
                        <a:lnTo>
                          <a:pt x="164" y="92"/>
                        </a:lnTo>
                        <a:lnTo>
                          <a:pt x="186" y="115"/>
                        </a:lnTo>
                        <a:lnTo>
                          <a:pt x="209" y="129"/>
                        </a:lnTo>
                        <a:lnTo>
                          <a:pt x="232" y="152"/>
                        </a:lnTo>
                        <a:lnTo>
                          <a:pt x="254" y="175"/>
                        </a:lnTo>
                        <a:lnTo>
                          <a:pt x="276" y="198"/>
                        </a:lnTo>
                        <a:lnTo>
                          <a:pt x="300" y="220"/>
                        </a:lnTo>
                        <a:lnTo>
                          <a:pt x="314" y="242"/>
                        </a:lnTo>
                        <a:lnTo>
                          <a:pt x="336" y="242"/>
                        </a:lnTo>
                        <a:lnTo>
                          <a:pt x="359" y="227"/>
                        </a:lnTo>
                        <a:lnTo>
                          <a:pt x="382" y="205"/>
                        </a:lnTo>
                        <a:lnTo>
                          <a:pt x="405" y="183"/>
                        </a:lnTo>
                        <a:lnTo>
                          <a:pt x="419" y="152"/>
                        </a:lnTo>
                        <a:lnTo>
                          <a:pt x="442" y="123"/>
                        </a:lnTo>
                        <a:lnTo>
                          <a:pt x="457" y="100"/>
                        </a:lnTo>
                        <a:lnTo>
                          <a:pt x="472" y="77"/>
                        </a:lnTo>
                        <a:lnTo>
                          <a:pt x="480" y="55"/>
                        </a:lnTo>
                        <a:lnTo>
                          <a:pt x="502" y="32"/>
                        </a:lnTo>
                        <a:lnTo>
                          <a:pt x="529" y="0"/>
                        </a:lnTo>
                      </a:path>
                    </a:pathLst>
                  </a:custGeom>
                  <a:noFill/>
                  <a:ln cap="rnd" w="1270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7" name="Freeform 39"/>
                  <p:cNvSpPr/>
                  <p:nvPr/>
                </p:nvSpPr>
                <p:spPr>
                  <a:xfrm>
                    <a:off x="5226120" y="1797120"/>
                    <a:ext cx="144000" cy="371160"/>
                  </a:xfrm>
                  <a:custGeom>
                    <a:avLst/>
                    <a:gdLst>
                      <a:gd name="textAreaLeft" fmla="*/ 0 w 144000"/>
                      <a:gd name="textAreaRight" fmla="*/ 144360 w 144000"/>
                      <a:gd name="textAreaTop" fmla="*/ 0 h 371160"/>
                      <a:gd name="textAreaBottom" fmla="*/ 371520 h 371160"/>
                    </a:gdLst>
                    <a:ahLst/>
                    <a:rect l="textAreaLeft" t="textAreaTop" r="textAreaRight" b="textAreaBottom"/>
                    <a:pathLst>
                      <a:path w="91" h="234">
                        <a:moveTo>
                          <a:pt x="90" y="233"/>
                        </a:moveTo>
                        <a:lnTo>
                          <a:pt x="52" y="221"/>
                        </a:lnTo>
                        <a:lnTo>
                          <a:pt x="26" y="204"/>
                        </a:lnTo>
                        <a:lnTo>
                          <a:pt x="17" y="178"/>
                        </a:lnTo>
                        <a:lnTo>
                          <a:pt x="8" y="151"/>
                        </a:lnTo>
                        <a:lnTo>
                          <a:pt x="0" y="124"/>
                        </a:lnTo>
                        <a:lnTo>
                          <a:pt x="0" y="98"/>
                        </a:lnTo>
                        <a:lnTo>
                          <a:pt x="0" y="72"/>
                        </a:lnTo>
                        <a:lnTo>
                          <a:pt x="0" y="45"/>
                        </a:lnTo>
                        <a:lnTo>
                          <a:pt x="8" y="18"/>
                        </a:lnTo>
                        <a:lnTo>
                          <a:pt x="34" y="0"/>
                        </a:lnTo>
                        <a:lnTo>
                          <a:pt x="51" y="0"/>
                        </a:lnTo>
                      </a:path>
                    </a:pathLst>
                  </a:custGeom>
                  <a:noFill/>
                  <a:ln cap="rnd" w="76200">
                    <a:solidFill>
                      <a:srgbClr val="4f81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28" name="Freeform 41"/>
                <p:cNvSpPr/>
                <p:nvPr/>
              </p:nvSpPr>
              <p:spPr>
                <a:xfrm>
                  <a:off x="4444920" y="1754280"/>
                  <a:ext cx="1914120" cy="282240"/>
                </a:xfrm>
                <a:custGeom>
                  <a:avLst/>
                  <a:gdLst>
                    <a:gd name="textAreaLeft" fmla="*/ 0 w 1914120"/>
                    <a:gd name="textAreaRight" fmla="*/ 1914480 w 1914120"/>
                    <a:gd name="textAreaTop" fmla="*/ 0 h 282240"/>
                    <a:gd name="textAreaBottom" fmla="*/ 282600 h 282240"/>
                  </a:gdLst>
                  <a:ahLst/>
                  <a:rect l="textAreaLeft" t="textAreaTop" r="textAreaRight" b="textAreaBottom"/>
                  <a:pathLst>
                    <a:path w="1206" h="178">
                      <a:moveTo>
                        <a:pt x="1205" y="173"/>
                      </a:moveTo>
                      <a:lnTo>
                        <a:pt x="1170" y="177"/>
                      </a:lnTo>
                      <a:lnTo>
                        <a:pt x="1108" y="160"/>
                      </a:lnTo>
                      <a:lnTo>
                        <a:pt x="1073" y="142"/>
                      </a:lnTo>
                      <a:lnTo>
                        <a:pt x="1046" y="133"/>
                      </a:lnTo>
                      <a:lnTo>
                        <a:pt x="1011" y="116"/>
                      </a:lnTo>
                      <a:lnTo>
                        <a:pt x="984" y="107"/>
                      </a:lnTo>
                      <a:lnTo>
                        <a:pt x="958" y="89"/>
                      </a:lnTo>
                      <a:lnTo>
                        <a:pt x="932" y="71"/>
                      </a:lnTo>
                      <a:lnTo>
                        <a:pt x="914" y="44"/>
                      </a:lnTo>
                      <a:lnTo>
                        <a:pt x="887" y="26"/>
                      </a:lnTo>
                      <a:lnTo>
                        <a:pt x="861" y="18"/>
                      </a:lnTo>
                      <a:lnTo>
                        <a:pt x="835" y="18"/>
                      </a:lnTo>
                      <a:lnTo>
                        <a:pt x="808" y="9"/>
                      </a:lnTo>
                      <a:lnTo>
                        <a:pt x="781" y="9"/>
                      </a:lnTo>
                      <a:lnTo>
                        <a:pt x="746" y="9"/>
                      </a:lnTo>
                      <a:lnTo>
                        <a:pt x="711" y="0"/>
                      </a:lnTo>
                      <a:lnTo>
                        <a:pt x="684" y="0"/>
                      </a:lnTo>
                      <a:lnTo>
                        <a:pt x="648" y="0"/>
                      </a:lnTo>
                      <a:lnTo>
                        <a:pt x="622" y="0"/>
                      </a:lnTo>
                      <a:lnTo>
                        <a:pt x="596" y="0"/>
                      </a:lnTo>
                      <a:lnTo>
                        <a:pt x="525" y="0"/>
                      </a:lnTo>
                      <a:lnTo>
                        <a:pt x="499" y="0"/>
                      </a:lnTo>
                      <a:lnTo>
                        <a:pt x="472" y="0"/>
                      </a:lnTo>
                      <a:lnTo>
                        <a:pt x="437" y="0"/>
                      </a:lnTo>
                      <a:lnTo>
                        <a:pt x="410" y="0"/>
                      </a:lnTo>
                      <a:lnTo>
                        <a:pt x="375" y="0"/>
                      </a:lnTo>
                      <a:lnTo>
                        <a:pt x="348" y="0"/>
                      </a:lnTo>
                      <a:lnTo>
                        <a:pt x="322" y="9"/>
                      </a:lnTo>
                      <a:lnTo>
                        <a:pt x="269" y="9"/>
                      </a:lnTo>
                      <a:lnTo>
                        <a:pt x="234" y="9"/>
                      </a:lnTo>
                      <a:lnTo>
                        <a:pt x="207" y="18"/>
                      </a:lnTo>
                      <a:lnTo>
                        <a:pt x="171" y="26"/>
                      </a:lnTo>
                      <a:lnTo>
                        <a:pt x="145" y="26"/>
                      </a:lnTo>
                      <a:lnTo>
                        <a:pt x="119" y="26"/>
                      </a:lnTo>
                      <a:lnTo>
                        <a:pt x="92" y="26"/>
                      </a:lnTo>
                      <a:lnTo>
                        <a:pt x="65" y="26"/>
                      </a:lnTo>
                      <a:lnTo>
                        <a:pt x="39" y="26"/>
                      </a:lnTo>
                      <a:lnTo>
                        <a:pt x="13" y="26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9" name="Freeform 42"/>
                <p:cNvSpPr/>
                <p:nvPr/>
              </p:nvSpPr>
              <p:spPr>
                <a:xfrm>
                  <a:off x="4938840" y="2000160"/>
                  <a:ext cx="1915920" cy="282240"/>
                </a:xfrm>
                <a:custGeom>
                  <a:avLst/>
                  <a:gdLst>
                    <a:gd name="textAreaLeft" fmla="*/ 0 w 1915920"/>
                    <a:gd name="textAreaRight" fmla="*/ 1916280 w 1915920"/>
                    <a:gd name="textAreaTop" fmla="*/ 0 h 282240"/>
                    <a:gd name="textAreaBottom" fmla="*/ 282600 h 282240"/>
                  </a:gdLst>
                  <a:ahLst/>
                  <a:rect l="textAreaLeft" t="textAreaTop" r="textAreaRight" b="textAreaBottom"/>
                  <a:pathLst>
                    <a:path w="1207" h="178">
                      <a:moveTo>
                        <a:pt x="0" y="5"/>
                      </a:moveTo>
                      <a:lnTo>
                        <a:pt x="36" y="0"/>
                      </a:lnTo>
                      <a:lnTo>
                        <a:pt x="97" y="18"/>
                      </a:lnTo>
                      <a:lnTo>
                        <a:pt x="133" y="36"/>
                      </a:lnTo>
                      <a:lnTo>
                        <a:pt x="160" y="45"/>
                      </a:lnTo>
                      <a:lnTo>
                        <a:pt x="195" y="62"/>
                      </a:lnTo>
                      <a:lnTo>
                        <a:pt x="221" y="71"/>
                      </a:lnTo>
                      <a:lnTo>
                        <a:pt x="248" y="89"/>
                      </a:lnTo>
                      <a:lnTo>
                        <a:pt x="274" y="107"/>
                      </a:lnTo>
                      <a:lnTo>
                        <a:pt x="292" y="134"/>
                      </a:lnTo>
                      <a:lnTo>
                        <a:pt x="319" y="152"/>
                      </a:lnTo>
                      <a:lnTo>
                        <a:pt x="345" y="160"/>
                      </a:lnTo>
                      <a:lnTo>
                        <a:pt x="371" y="160"/>
                      </a:lnTo>
                      <a:lnTo>
                        <a:pt x="398" y="169"/>
                      </a:lnTo>
                      <a:lnTo>
                        <a:pt x="425" y="169"/>
                      </a:lnTo>
                      <a:lnTo>
                        <a:pt x="460" y="169"/>
                      </a:lnTo>
                      <a:lnTo>
                        <a:pt x="495" y="177"/>
                      </a:lnTo>
                      <a:lnTo>
                        <a:pt x="522" y="177"/>
                      </a:lnTo>
                      <a:lnTo>
                        <a:pt x="558" y="177"/>
                      </a:lnTo>
                      <a:lnTo>
                        <a:pt x="584" y="177"/>
                      </a:lnTo>
                      <a:lnTo>
                        <a:pt x="610" y="177"/>
                      </a:lnTo>
                      <a:lnTo>
                        <a:pt x="681" y="177"/>
                      </a:lnTo>
                      <a:lnTo>
                        <a:pt x="708" y="177"/>
                      </a:lnTo>
                      <a:lnTo>
                        <a:pt x="734" y="177"/>
                      </a:lnTo>
                      <a:lnTo>
                        <a:pt x="769" y="177"/>
                      </a:lnTo>
                      <a:lnTo>
                        <a:pt x="796" y="177"/>
                      </a:lnTo>
                      <a:lnTo>
                        <a:pt x="832" y="177"/>
                      </a:lnTo>
                      <a:lnTo>
                        <a:pt x="858" y="177"/>
                      </a:lnTo>
                      <a:lnTo>
                        <a:pt x="884" y="169"/>
                      </a:lnTo>
                      <a:lnTo>
                        <a:pt x="938" y="169"/>
                      </a:lnTo>
                      <a:lnTo>
                        <a:pt x="973" y="169"/>
                      </a:lnTo>
                      <a:lnTo>
                        <a:pt x="999" y="160"/>
                      </a:lnTo>
                      <a:lnTo>
                        <a:pt x="1035" y="152"/>
                      </a:lnTo>
                      <a:lnTo>
                        <a:pt x="1061" y="152"/>
                      </a:lnTo>
                      <a:lnTo>
                        <a:pt x="1088" y="152"/>
                      </a:lnTo>
                      <a:lnTo>
                        <a:pt x="1114" y="152"/>
                      </a:lnTo>
                      <a:lnTo>
                        <a:pt x="1141" y="152"/>
                      </a:lnTo>
                      <a:lnTo>
                        <a:pt x="1167" y="152"/>
                      </a:lnTo>
                      <a:lnTo>
                        <a:pt x="1194" y="152"/>
                      </a:lnTo>
                      <a:lnTo>
                        <a:pt x="1206" y="160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0" name="Freeform 43"/>
                <p:cNvSpPr/>
                <p:nvPr/>
              </p:nvSpPr>
              <p:spPr>
                <a:xfrm>
                  <a:off x="4383000" y="1781280"/>
                  <a:ext cx="740880" cy="522000"/>
                </a:xfrm>
                <a:custGeom>
                  <a:avLst/>
                  <a:gdLst>
                    <a:gd name="textAreaLeft" fmla="*/ 0 w 740880"/>
                    <a:gd name="textAreaRight" fmla="*/ 741240 w 740880"/>
                    <a:gd name="textAreaTop" fmla="*/ 0 h 522000"/>
                    <a:gd name="textAreaBottom" fmla="*/ 522360 h 522000"/>
                  </a:gdLst>
                  <a:ahLst/>
                  <a:rect l="textAreaLeft" t="textAreaTop" r="textAreaRight" b="textAreaBottom"/>
                  <a:pathLst>
                    <a:path w="467" h="329">
                      <a:moveTo>
                        <a:pt x="466" y="0"/>
                      </a:moveTo>
                      <a:lnTo>
                        <a:pt x="439" y="36"/>
                      </a:lnTo>
                      <a:lnTo>
                        <a:pt x="422" y="63"/>
                      </a:lnTo>
                      <a:lnTo>
                        <a:pt x="404" y="89"/>
                      </a:lnTo>
                      <a:lnTo>
                        <a:pt x="378" y="98"/>
                      </a:lnTo>
                      <a:lnTo>
                        <a:pt x="360" y="124"/>
                      </a:lnTo>
                      <a:lnTo>
                        <a:pt x="333" y="142"/>
                      </a:lnTo>
                      <a:lnTo>
                        <a:pt x="307" y="169"/>
                      </a:lnTo>
                      <a:lnTo>
                        <a:pt x="289" y="196"/>
                      </a:lnTo>
                      <a:lnTo>
                        <a:pt x="263" y="222"/>
                      </a:lnTo>
                      <a:lnTo>
                        <a:pt x="236" y="240"/>
                      </a:lnTo>
                      <a:lnTo>
                        <a:pt x="201" y="266"/>
                      </a:lnTo>
                      <a:lnTo>
                        <a:pt x="166" y="293"/>
                      </a:lnTo>
                      <a:lnTo>
                        <a:pt x="95" y="310"/>
                      </a:lnTo>
                      <a:lnTo>
                        <a:pt x="69" y="319"/>
                      </a:lnTo>
                      <a:lnTo>
                        <a:pt x="42" y="319"/>
                      </a:lnTo>
                      <a:lnTo>
                        <a:pt x="15" y="328"/>
                      </a:lnTo>
                      <a:lnTo>
                        <a:pt x="0" y="312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1" name="Freeform 44"/>
                <p:cNvSpPr/>
                <p:nvPr/>
              </p:nvSpPr>
              <p:spPr>
                <a:xfrm>
                  <a:off x="4506840" y="1844640"/>
                  <a:ext cx="864720" cy="433080"/>
                </a:xfrm>
                <a:custGeom>
                  <a:avLst/>
                  <a:gdLst>
                    <a:gd name="textAreaLeft" fmla="*/ 0 w 864720"/>
                    <a:gd name="textAreaRight" fmla="*/ 865080 w 864720"/>
                    <a:gd name="textAreaTop" fmla="*/ 0 h 433080"/>
                    <a:gd name="textAreaBottom" fmla="*/ 433440 h 433080"/>
                  </a:gdLst>
                  <a:ahLst/>
                  <a:rect l="textAreaLeft" t="textAreaTop" r="textAreaRight" b="textAreaBottom"/>
                  <a:pathLst>
                    <a:path w="545" h="273">
                      <a:moveTo>
                        <a:pt x="544" y="272"/>
                      </a:moveTo>
                      <a:lnTo>
                        <a:pt x="495" y="270"/>
                      </a:lnTo>
                      <a:lnTo>
                        <a:pt x="468" y="270"/>
                      </a:lnTo>
                      <a:lnTo>
                        <a:pt x="441" y="270"/>
                      </a:lnTo>
                      <a:lnTo>
                        <a:pt x="414" y="270"/>
                      </a:lnTo>
                      <a:lnTo>
                        <a:pt x="380" y="270"/>
                      </a:lnTo>
                      <a:lnTo>
                        <a:pt x="344" y="270"/>
                      </a:lnTo>
                      <a:lnTo>
                        <a:pt x="308" y="270"/>
                      </a:lnTo>
                      <a:lnTo>
                        <a:pt x="283" y="270"/>
                      </a:lnTo>
                      <a:lnTo>
                        <a:pt x="256" y="262"/>
                      </a:lnTo>
                      <a:lnTo>
                        <a:pt x="229" y="236"/>
                      </a:lnTo>
                      <a:lnTo>
                        <a:pt x="203" y="218"/>
                      </a:lnTo>
                      <a:lnTo>
                        <a:pt x="185" y="191"/>
                      </a:lnTo>
                      <a:lnTo>
                        <a:pt x="159" y="173"/>
                      </a:lnTo>
                      <a:lnTo>
                        <a:pt x="132" y="147"/>
                      </a:lnTo>
                      <a:lnTo>
                        <a:pt x="97" y="121"/>
                      </a:lnTo>
                      <a:lnTo>
                        <a:pt x="79" y="94"/>
                      </a:lnTo>
                      <a:lnTo>
                        <a:pt x="62" y="67"/>
                      </a:lnTo>
                      <a:lnTo>
                        <a:pt x="35" y="41"/>
                      </a:lnTo>
                      <a:lnTo>
                        <a:pt x="8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2" name="Freeform 45"/>
                <p:cNvSpPr/>
                <p:nvPr/>
              </p:nvSpPr>
              <p:spPr>
                <a:xfrm>
                  <a:off x="8321760" y="969840"/>
                  <a:ext cx="198000" cy="1039320"/>
                </a:xfrm>
                <a:custGeom>
                  <a:avLst/>
                  <a:gdLst>
                    <a:gd name="textAreaLeft" fmla="*/ 0 w 198000"/>
                    <a:gd name="textAreaRight" fmla="*/ 198360 w 198000"/>
                    <a:gd name="textAreaTop" fmla="*/ 0 h 1039320"/>
                    <a:gd name="textAreaBottom" fmla="*/ 1039680 h 1039320"/>
                  </a:gdLst>
                  <a:ahLst/>
                  <a:rect l="textAreaLeft" t="textAreaTop" r="textAreaRight" b="textAreaBottom"/>
                  <a:pathLst>
                    <a:path w="125" h="655">
                      <a:moveTo>
                        <a:pt x="124" y="0"/>
                      </a:moveTo>
                      <a:lnTo>
                        <a:pt x="114" y="45"/>
                      </a:lnTo>
                      <a:lnTo>
                        <a:pt x="109" y="76"/>
                      </a:lnTo>
                      <a:lnTo>
                        <a:pt x="103" y="107"/>
                      </a:lnTo>
                      <a:lnTo>
                        <a:pt x="98" y="137"/>
                      </a:lnTo>
                      <a:lnTo>
                        <a:pt x="92" y="167"/>
                      </a:lnTo>
                      <a:lnTo>
                        <a:pt x="87" y="198"/>
                      </a:lnTo>
                      <a:lnTo>
                        <a:pt x="76" y="228"/>
                      </a:lnTo>
                      <a:lnTo>
                        <a:pt x="65" y="258"/>
                      </a:lnTo>
                      <a:lnTo>
                        <a:pt x="60" y="289"/>
                      </a:lnTo>
                      <a:lnTo>
                        <a:pt x="49" y="320"/>
                      </a:lnTo>
                      <a:lnTo>
                        <a:pt x="49" y="350"/>
                      </a:lnTo>
                      <a:lnTo>
                        <a:pt x="44" y="380"/>
                      </a:lnTo>
                      <a:lnTo>
                        <a:pt x="44" y="411"/>
                      </a:lnTo>
                      <a:lnTo>
                        <a:pt x="38" y="441"/>
                      </a:lnTo>
                      <a:lnTo>
                        <a:pt x="38" y="472"/>
                      </a:lnTo>
                      <a:lnTo>
                        <a:pt x="38" y="502"/>
                      </a:lnTo>
                      <a:lnTo>
                        <a:pt x="33" y="533"/>
                      </a:lnTo>
                      <a:lnTo>
                        <a:pt x="27" y="563"/>
                      </a:lnTo>
                      <a:lnTo>
                        <a:pt x="22" y="594"/>
                      </a:lnTo>
                      <a:lnTo>
                        <a:pt x="11" y="624"/>
                      </a:lnTo>
                      <a:lnTo>
                        <a:pt x="0" y="654"/>
                      </a:lnTo>
                      <a:lnTo>
                        <a:pt x="4" y="626"/>
                      </a:lnTo>
                    </a:path>
                  </a:pathLst>
                </a:custGeom>
                <a:noFill/>
                <a:ln cap="rnd" w="1016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33" name="Rectangle 48"/>
            <p:cNvSpPr/>
            <p:nvPr/>
          </p:nvSpPr>
          <p:spPr>
            <a:xfrm>
              <a:off x="228600" y="2286000"/>
              <a:ext cx="8534160" cy="75960"/>
            </a:xfrm>
            <a:prstGeom prst="rect">
              <a:avLst/>
            </a:prstGeom>
            <a:pattFill prst="smCheck">
              <a:fgClr>
                <a:srgbClr val="4f81bd"/>
              </a:fgClr>
              <a:bgClr>
                <a:srgbClr val="ffffff"/>
              </a:bgClr>
            </a:patt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49"/>
            <p:cNvSpPr/>
            <p:nvPr/>
          </p:nvSpPr>
          <p:spPr>
            <a:xfrm>
              <a:off x="247680" y="2664000"/>
              <a:ext cx="8654760" cy="936360"/>
            </a:xfrm>
            <a:custGeom>
              <a:avLst/>
              <a:gdLst>
                <a:gd name="textAreaLeft" fmla="*/ 0 w 8654760"/>
                <a:gd name="textAreaRight" fmla="*/ 8655120 w 86547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5452" h="590">
                  <a:moveTo>
                    <a:pt x="132" y="2"/>
                  </a:moveTo>
                  <a:lnTo>
                    <a:pt x="147" y="52"/>
                  </a:lnTo>
                  <a:lnTo>
                    <a:pt x="168" y="74"/>
                  </a:lnTo>
                  <a:lnTo>
                    <a:pt x="179" y="105"/>
                  </a:lnTo>
                  <a:lnTo>
                    <a:pt x="179" y="137"/>
                  </a:lnTo>
                  <a:lnTo>
                    <a:pt x="200" y="168"/>
                  </a:lnTo>
                  <a:lnTo>
                    <a:pt x="221" y="137"/>
                  </a:lnTo>
                  <a:lnTo>
                    <a:pt x="221" y="105"/>
                  </a:lnTo>
                  <a:lnTo>
                    <a:pt x="242" y="74"/>
                  </a:lnTo>
                  <a:lnTo>
                    <a:pt x="242" y="52"/>
                  </a:lnTo>
                  <a:lnTo>
                    <a:pt x="252" y="21"/>
                  </a:lnTo>
                  <a:lnTo>
                    <a:pt x="263" y="52"/>
                  </a:lnTo>
                  <a:lnTo>
                    <a:pt x="263" y="74"/>
                  </a:lnTo>
                  <a:lnTo>
                    <a:pt x="263" y="105"/>
                  </a:lnTo>
                  <a:lnTo>
                    <a:pt x="273" y="137"/>
                  </a:lnTo>
                  <a:lnTo>
                    <a:pt x="305" y="158"/>
                  </a:lnTo>
                  <a:lnTo>
                    <a:pt x="315" y="126"/>
                  </a:lnTo>
                  <a:lnTo>
                    <a:pt x="315" y="95"/>
                  </a:lnTo>
                  <a:lnTo>
                    <a:pt x="326" y="63"/>
                  </a:lnTo>
                  <a:lnTo>
                    <a:pt x="357" y="42"/>
                  </a:lnTo>
                  <a:lnTo>
                    <a:pt x="389" y="52"/>
                  </a:lnTo>
                  <a:lnTo>
                    <a:pt x="389" y="74"/>
                  </a:lnTo>
                  <a:lnTo>
                    <a:pt x="389" y="105"/>
                  </a:lnTo>
                  <a:lnTo>
                    <a:pt x="389" y="137"/>
                  </a:lnTo>
                  <a:lnTo>
                    <a:pt x="389" y="168"/>
                  </a:lnTo>
                  <a:lnTo>
                    <a:pt x="421" y="179"/>
                  </a:lnTo>
                  <a:lnTo>
                    <a:pt x="431" y="147"/>
                  </a:lnTo>
                  <a:lnTo>
                    <a:pt x="431" y="116"/>
                  </a:lnTo>
                  <a:lnTo>
                    <a:pt x="442" y="84"/>
                  </a:lnTo>
                  <a:lnTo>
                    <a:pt x="463" y="52"/>
                  </a:lnTo>
                  <a:lnTo>
                    <a:pt x="494" y="63"/>
                  </a:lnTo>
                  <a:lnTo>
                    <a:pt x="494" y="95"/>
                  </a:lnTo>
                  <a:lnTo>
                    <a:pt x="494" y="126"/>
                  </a:lnTo>
                  <a:lnTo>
                    <a:pt x="494" y="158"/>
                  </a:lnTo>
                  <a:lnTo>
                    <a:pt x="494" y="189"/>
                  </a:lnTo>
                  <a:lnTo>
                    <a:pt x="526" y="200"/>
                  </a:lnTo>
                  <a:lnTo>
                    <a:pt x="547" y="168"/>
                  </a:lnTo>
                  <a:lnTo>
                    <a:pt x="547" y="137"/>
                  </a:lnTo>
                  <a:lnTo>
                    <a:pt x="547" y="105"/>
                  </a:lnTo>
                  <a:lnTo>
                    <a:pt x="578" y="84"/>
                  </a:lnTo>
                  <a:lnTo>
                    <a:pt x="599" y="116"/>
                  </a:lnTo>
                  <a:lnTo>
                    <a:pt x="599" y="147"/>
                  </a:lnTo>
                  <a:lnTo>
                    <a:pt x="599" y="179"/>
                  </a:lnTo>
                  <a:lnTo>
                    <a:pt x="610" y="210"/>
                  </a:lnTo>
                  <a:lnTo>
                    <a:pt x="642" y="210"/>
                  </a:lnTo>
                  <a:lnTo>
                    <a:pt x="663" y="179"/>
                  </a:lnTo>
                  <a:lnTo>
                    <a:pt x="663" y="147"/>
                  </a:lnTo>
                  <a:lnTo>
                    <a:pt x="673" y="116"/>
                  </a:lnTo>
                  <a:lnTo>
                    <a:pt x="705" y="84"/>
                  </a:lnTo>
                  <a:lnTo>
                    <a:pt x="736" y="74"/>
                  </a:lnTo>
                  <a:lnTo>
                    <a:pt x="747" y="116"/>
                  </a:lnTo>
                  <a:lnTo>
                    <a:pt x="747" y="147"/>
                  </a:lnTo>
                  <a:lnTo>
                    <a:pt x="747" y="179"/>
                  </a:lnTo>
                  <a:lnTo>
                    <a:pt x="778" y="200"/>
                  </a:lnTo>
                  <a:lnTo>
                    <a:pt x="789" y="168"/>
                  </a:lnTo>
                  <a:lnTo>
                    <a:pt x="799" y="137"/>
                  </a:lnTo>
                  <a:lnTo>
                    <a:pt x="820" y="105"/>
                  </a:lnTo>
                  <a:lnTo>
                    <a:pt x="842" y="95"/>
                  </a:lnTo>
                  <a:lnTo>
                    <a:pt x="873" y="95"/>
                  </a:lnTo>
                  <a:lnTo>
                    <a:pt x="873" y="137"/>
                  </a:lnTo>
                  <a:lnTo>
                    <a:pt x="873" y="200"/>
                  </a:lnTo>
                  <a:lnTo>
                    <a:pt x="873" y="231"/>
                  </a:lnTo>
                  <a:lnTo>
                    <a:pt x="905" y="242"/>
                  </a:lnTo>
                  <a:lnTo>
                    <a:pt x="926" y="210"/>
                  </a:lnTo>
                  <a:lnTo>
                    <a:pt x="936" y="179"/>
                  </a:lnTo>
                  <a:lnTo>
                    <a:pt x="947" y="147"/>
                  </a:lnTo>
                  <a:lnTo>
                    <a:pt x="978" y="137"/>
                  </a:lnTo>
                  <a:lnTo>
                    <a:pt x="1010" y="137"/>
                  </a:lnTo>
                  <a:lnTo>
                    <a:pt x="1010" y="179"/>
                  </a:lnTo>
                  <a:lnTo>
                    <a:pt x="1010" y="210"/>
                  </a:lnTo>
                  <a:lnTo>
                    <a:pt x="1020" y="242"/>
                  </a:lnTo>
                  <a:lnTo>
                    <a:pt x="1052" y="231"/>
                  </a:lnTo>
                  <a:lnTo>
                    <a:pt x="1063" y="200"/>
                  </a:lnTo>
                  <a:lnTo>
                    <a:pt x="1063" y="168"/>
                  </a:lnTo>
                  <a:lnTo>
                    <a:pt x="1063" y="137"/>
                  </a:lnTo>
                  <a:lnTo>
                    <a:pt x="1094" y="126"/>
                  </a:lnTo>
                  <a:lnTo>
                    <a:pt x="1136" y="126"/>
                  </a:lnTo>
                  <a:lnTo>
                    <a:pt x="1136" y="168"/>
                  </a:lnTo>
                  <a:lnTo>
                    <a:pt x="1136" y="210"/>
                  </a:lnTo>
                  <a:lnTo>
                    <a:pt x="1136" y="242"/>
                  </a:lnTo>
                  <a:lnTo>
                    <a:pt x="1168" y="242"/>
                  </a:lnTo>
                  <a:lnTo>
                    <a:pt x="1189" y="210"/>
                  </a:lnTo>
                  <a:lnTo>
                    <a:pt x="1189" y="179"/>
                  </a:lnTo>
                  <a:lnTo>
                    <a:pt x="1199" y="147"/>
                  </a:lnTo>
                  <a:lnTo>
                    <a:pt x="1220" y="116"/>
                  </a:lnTo>
                  <a:lnTo>
                    <a:pt x="1252" y="137"/>
                  </a:lnTo>
                  <a:lnTo>
                    <a:pt x="1252" y="168"/>
                  </a:lnTo>
                  <a:lnTo>
                    <a:pt x="1252" y="200"/>
                  </a:lnTo>
                  <a:lnTo>
                    <a:pt x="1252" y="231"/>
                  </a:lnTo>
                  <a:lnTo>
                    <a:pt x="1252" y="253"/>
                  </a:lnTo>
                  <a:lnTo>
                    <a:pt x="1284" y="253"/>
                  </a:lnTo>
                  <a:lnTo>
                    <a:pt x="1294" y="231"/>
                  </a:lnTo>
                  <a:lnTo>
                    <a:pt x="1294" y="200"/>
                  </a:lnTo>
                  <a:lnTo>
                    <a:pt x="1305" y="168"/>
                  </a:lnTo>
                  <a:lnTo>
                    <a:pt x="1315" y="137"/>
                  </a:lnTo>
                  <a:lnTo>
                    <a:pt x="1347" y="137"/>
                  </a:lnTo>
                  <a:lnTo>
                    <a:pt x="1357" y="168"/>
                  </a:lnTo>
                  <a:lnTo>
                    <a:pt x="1357" y="200"/>
                  </a:lnTo>
                  <a:lnTo>
                    <a:pt x="1357" y="231"/>
                  </a:lnTo>
                  <a:lnTo>
                    <a:pt x="1378" y="253"/>
                  </a:lnTo>
                  <a:lnTo>
                    <a:pt x="1410" y="242"/>
                  </a:lnTo>
                  <a:lnTo>
                    <a:pt x="1420" y="210"/>
                  </a:lnTo>
                  <a:lnTo>
                    <a:pt x="1420" y="179"/>
                  </a:lnTo>
                  <a:lnTo>
                    <a:pt x="1431" y="147"/>
                  </a:lnTo>
                  <a:lnTo>
                    <a:pt x="1462" y="137"/>
                  </a:lnTo>
                  <a:lnTo>
                    <a:pt x="1483" y="168"/>
                  </a:lnTo>
                  <a:lnTo>
                    <a:pt x="1483" y="200"/>
                  </a:lnTo>
                  <a:lnTo>
                    <a:pt x="1483" y="231"/>
                  </a:lnTo>
                  <a:lnTo>
                    <a:pt x="1505" y="242"/>
                  </a:lnTo>
                  <a:lnTo>
                    <a:pt x="1536" y="253"/>
                  </a:lnTo>
                  <a:lnTo>
                    <a:pt x="1547" y="231"/>
                  </a:lnTo>
                  <a:lnTo>
                    <a:pt x="1557" y="200"/>
                  </a:lnTo>
                  <a:lnTo>
                    <a:pt x="1568" y="168"/>
                  </a:lnTo>
                  <a:lnTo>
                    <a:pt x="1578" y="137"/>
                  </a:lnTo>
                  <a:lnTo>
                    <a:pt x="1610" y="137"/>
                  </a:lnTo>
                  <a:lnTo>
                    <a:pt x="1620" y="168"/>
                  </a:lnTo>
                  <a:lnTo>
                    <a:pt x="1620" y="200"/>
                  </a:lnTo>
                  <a:lnTo>
                    <a:pt x="1620" y="231"/>
                  </a:lnTo>
                  <a:lnTo>
                    <a:pt x="1620" y="253"/>
                  </a:lnTo>
                  <a:lnTo>
                    <a:pt x="1652" y="263"/>
                  </a:lnTo>
                  <a:lnTo>
                    <a:pt x="1683" y="253"/>
                  </a:lnTo>
                  <a:lnTo>
                    <a:pt x="1683" y="231"/>
                  </a:lnTo>
                  <a:lnTo>
                    <a:pt x="1683" y="200"/>
                  </a:lnTo>
                  <a:lnTo>
                    <a:pt x="1683" y="168"/>
                  </a:lnTo>
                  <a:lnTo>
                    <a:pt x="1726" y="147"/>
                  </a:lnTo>
                  <a:lnTo>
                    <a:pt x="1736" y="179"/>
                  </a:lnTo>
                  <a:lnTo>
                    <a:pt x="1747" y="210"/>
                  </a:lnTo>
                  <a:lnTo>
                    <a:pt x="1747" y="242"/>
                  </a:lnTo>
                  <a:lnTo>
                    <a:pt x="1747" y="274"/>
                  </a:lnTo>
                  <a:lnTo>
                    <a:pt x="1778" y="274"/>
                  </a:lnTo>
                  <a:lnTo>
                    <a:pt x="1789" y="242"/>
                  </a:lnTo>
                  <a:lnTo>
                    <a:pt x="1799" y="210"/>
                  </a:lnTo>
                  <a:lnTo>
                    <a:pt x="1810" y="179"/>
                  </a:lnTo>
                  <a:lnTo>
                    <a:pt x="1841" y="158"/>
                  </a:lnTo>
                  <a:lnTo>
                    <a:pt x="1873" y="158"/>
                  </a:lnTo>
                  <a:lnTo>
                    <a:pt x="1883" y="189"/>
                  </a:lnTo>
                  <a:lnTo>
                    <a:pt x="1883" y="231"/>
                  </a:lnTo>
                  <a:lnTo>
                    <a:pt x="1883" y="253"/>
                  </a:lnTo>
                  <a:lnTo>
                    <a:pt x="1915" y="253"/>
                  </a:lnTo>
                  <a:lnTo>
                    <a:pt x="1936" y="231"/>
                  </a:lnTo>
                  <a:lnTo>
                    <a:pt x="1947" y="200"/>
                  </a:lnTo>
                  <a:lnTo>
                    <a:pt x="1968" y="168"/>
                  </a:lnTo>
                  <a:lnTo>
                    <a:pt x="1999" y="168"/>
                  </a:lnTo>
                  <a:lnTo>
                    <a:pt x="1999" y="200"/>
                  </a:lnTo>
                  <a:lnTo>
                    <a:pt x="1999" y="231"/>
                  </a:lnTo>
                  <a:lnTo>
                    <a:pt x="1999" y="253"/>
                  </a:lnTo>
                  <a:lnTo>
                    <a:pt x="2020" y="284"/>
                  </a:lnTo>
                  <a:lnTo>
                    <a:pt x="2052" y="295"/>
                  </a:lnTo>
                  <a:lnTo>
                    <a:pt x="2073" y="263"/>
                  </a:lnTo>
                  <a:lnTo>
                    <a:pt x="2094" y="231"/>
                  </a:lnTo>
                  <a:lnTo>
                    <a:pt x="2115" y="253"/>
                  </a:lnTo>
                  <a:lnTo>
                    <a:pt x="2115" y="284"/>
                  </a:lnTo>
                  <a:lnTo>
                    <a:pt x="2115" y="316"/>
                  </a:lnTo>
                  <a:lnTo>
                    <a:pt x="2125" y="347"/>
                  </a:lnTo>
                  <a:lnTo>
                    <a:pt x="2157" y="368"/>
                  </a:lnTo>
                  <a:lnTo>
                    <a:pt x="2168" y="337"/>
                  </a:lnTo>
                  <a:lnTo>
                    <a:pt x="2168" y="305"/>
                  </a:lnTo>
                  <a:lnTo>
                    <a:pt x="2199" y="295"/>
                  </a:lnTo>
                  <a:lnTo>
                    <a:pt x="2220" y="326"/>
                  </a:lnTo>
                  <a:lnTo>
                    <a:pt x="2231" y="358"/>
                  </a:lnTo>
                  <a:lnTo>
                    <a:pt x="2262" y="379"/>
                  </a:lnTo>
                  <a:lnTo>
                    <a:pt x="2283" y="347"/>
                  </a:lnTo>
                  <a:lnTo>
                    <a:pt x="2294" y="316"/>
                  </a:lnTo>
                  <a:lnTo>
                    <a:pt x="2325" y="295"/>
                  </a:lnTo>
                  <a:lnTo>
                    <a:pt x="2357" y="326"/>
                  </a:lnTo>
                  <a:lnTo>
                    <a:pt x="2367" y="358"/>
                  </a:lnTo>
                  <a:lnTo>
                    <a:pt x="2389" y="389"/>
                  </a:lnTo>
                  <a:lnTo>
                    <a:pt x="2420" y="410"/>
                  </a:lnTo>
                  <a:lnTo>
                    <a:pt x="2452" y="379"/>
                  </a:lnTo>
                  <a:lnTo>
                    <a:pt x="2452" y="347"/>
                  </a:lnTo>
                  <a:lnTo>
                    <a:pt x="2452" y="316"/>
                  </a:lnTo>
                  <a:lnTo>
                    <a:pt x="2441" y="284"/>
                  </a:lnTo>
                  <a:lnTo>
                    <a:pt x="2483" y="263"/>
                  </a:lnTo>
                  <a:lnTo>
                    <a:pt x="2494" y="295"/>
                  </a:lnTo>
                  <a:lnTo>
                    <a:pt x="2525" y="316"/>
                  </a:lnTo>
                  <a:lnTo>
                    <a:pt x="2536" y="284"/>
                  </a:lnTo>
                  <a:lnTo>
                    <a:pt x="2536" y="253"/>
                  </a:lnTo>
                  <a:lnTo>
                    <a:pt x="2567" y="242"/>
                  </a:lnTo>
                  <a:lnTo>
                    <a:pt x="2599" y="263"/>
                  </a:lnTo>
                  <a:lnTo>
                    <a:pt x="2620" y="295"/>
                  </a:lnTo>
                  <a:lnTo>
                    <a:pt x="2652" y="305"/>
                  </a:lnTo>
                  <a:lnTo>
                    <a:pt x="2662" y="274"/>
                  </a:lnTo>
                  <a:lnTo>
                    <a:pt x="2631" y="253"/>
                  </a:lnTo>
                  <a:lnTo>
                    <a:pt x="2620" y="231"/>
                  </a:lnTo>
                  <a:lnTo>
                    <a:pt x="2610" y="200"/>
                  </a:lnTo>
                  <a:lnTo>
                    <a:pt x="2610" y="168"/>
                  </a:lnTo>
                  <a:lnTo>
                    <a:pt x="2641" y="147"/>
                  </a:lnTo>
                  <a:lnTo>
                    <a:pt x="2683" y="189"/>
                  </a:lnTo>
                  <a:lnTo>
                    <a:pt x="2694" y="221"/>
                  </a:lnTo>
                  <a:lnTo>
                    <a:pt x="2715" y="253"/>
                  </a:lnTo>
                  <a:lnTo>
                    <a:pt x="2746" y="253"/>
                  </a:lnTo>
                  <a:lnTo>
                    <a:pt x="2757" y="231"/>
                  </a:lnTo>
                  <a:lnTo>
                    <a:pt x="2778" y="200"/>
                  </a:lnTo>
                  <a:lnTo>
                    <a:pt x="2788" y="168"/>
                  </a:lnTo>
                  <a:lnTo>
                    <a:pt x="2799" y="137"/>
                  </a:lnTo>
                  <a:lnTo>
                    <a:pt x="2820" y="105"/>
                  </a:lnTo>
                  <a:lnTo>
                    <a:pt x="2852" y="95"/>
                  </a:lnTo>
                  <a:lnTo>
                    <a:pt x="2883" y="116"/>
                  </a:lnTo>
                  <a:lnTo>
                    <a:pt x="2904" y="147"/>
                  </a:lnTo>
                  <a:lnTo>
                    <a:pt x="2904" y="179"/>
                  </a:lnTo>
                  <a:lnTo>
                    <a:pt x="2936" y="200"/>
                  </a:lnTo>
                  <a:lnTo>
                    <a:pt x="2967" y="189"/>
                  </a:lnTo>
                  <a:lnTo>
                    <a:pt x="2978" y="158"/>
                  </a:lnTo>
                  <a:lnTo>
                    <a:pt x="2988" y="126"/>
                  </a:lnTo>
                  <a:lnTo>
                    <a:pt x="3020" y="116"/>
                  </a:lnTo>
                  <a:lnTo>
                    <a:pt x="3041" y="147"/>
                  </a:lnTo>
                  <a:lnTo>
                    <a:pt x="3052" y="179"/>
                  </a:lnTo>
                  <a:lnTo>
                    <a:pt x="3083" y="200"/>
                  </a:lnTo>
                  <a:lnTo>
                    <a:pt x="3115" y="189"/>
                  </a:lnTo>
                  <a:lnTo>
                    <a:pt x="3125" y="158"/>
                  </a:lnTo>
                  <a:lnTo>
                    <a:pt x="3136" y="126"/>
                  </a:lnTo>
                  <a:lnTo>
                    <a:pt x="3157" y="95"/>
                  </a:lnTo>
                  <a:lnTo>
                    <a:pt x="3188" y="137"/>
                  </a:lnTo>
                  <a:lnTo>
                    <a:pt x="3199" y="168"/>
                  </a:lnTo>
                  <a:lnTo>
                    <a:pt x="3209" y="200"/>
                  </a:lnTo>
                  <a:lnTo>
                    <a:pt x="3241" y="210"/>
                  </a:lnTo>
                  <a:lnTo>
                    <a:pt x="3273" y="210"/>
                  </a:lnTo>
                  <a:lnTo>
                    <a:pt x="3294" y="179"/>
                  </a:lnTo>
                  <a:lnTo>
                    <a:pt x="3304" y="147"/>
                  </a:lnTo>
                  <a:lnTo>
                    <a:pt x="3304" y="116"/>
                  </a:lnTo>
                  <a:lnTo>
                    <a:pt x="3336" y="116"/>
                  </a:lnTo>
                  <a:lnTo>
                    <a:pt x="3346" y="147"/>
                  </a:lnTo>
                  <a:lnTo>
                    <a:pt x="3346" y="179"/>
                  </a:lnTo>
                  <a:lnTo>
                    <a:pt x="3357" y="210"/>
                  </a:lnTo>
                  <a:lnTo>
                    <a:pt x="3388" y="221"/>
                  </a:lnTo>
                  <a:lnTo>
                    <a:pt x="3409" y="189"/>
                  </a:lnTo>
                  <a:lnTo>
                    <a:pt x="3409" y="158"/>
                  </a:lnTo>
                  <a:lnTo>
                    <a:pt x="3441" y="137"/>
                  </a:lnTo>
                  <a:lnTo>
                    <a:pt x="3462" y="168"/>
                  </a:lnTo>
                  <a:lnTo>
                    <a:pt x="3462" y="200"/>
                  </a:lnTo>
                  <a:lnTo>
                    <a:pt x="3494" y="210"/>
                  </a:lnTo>
                  <a:lnTo>
                    <a:pt x="3525" y="179"/>
                  </a:lnTo>
                  <a:lnTo>
                    <a:pt x="3525" y="137"/>
                  </a:lnTo>
                  <a:lnTo>
                    <a:pt x="3546" y="105"/>
                  </a:lnTo>
                  <a:lnTo>
                    <a:pt x="3578" y="95"/>
                  </a:lnTo>
                  <a:lnTo>
                    <a:pt x="3578" y="126"/>
                  </a:lnTo>
                  <a:lnTo>
                    <a:pt x="3578" y="158"/>
                  </a:lnTo>
                  <a:lnTo>
                    <a:pt x="3578" y="189"/>
                  </a:lnTo>
                  <a:lnTo>
                    <a:pt x="3578" y="221"/>
                  </a:lnTo>
                  <a:lnTo>
                    <a:pt x="3609" y="242"/>
                  </a:lnTo>
                  <a:lnTo>
                    <a:pt x="3641" y="221"/>
                  </a:lnTo>
                  <a:lnTo>
                    <a:pt x="3662" y="179"/>
                  </a:lnTo>
                  <a:lnTo>
                    <a:pt x="3672" y="147"/>
                  </a:lnTo>
                  <a:lnTo>
                    <a:pt x="3704" y="126"/>
                  </a:lnTo>
                  <a:lnTo>
                    <a:pt x="3704" y="158"/>
                  </a:lnTo>
                  <a:lnTo>
                    <a:pt x="3704" y="189"/>
                  </a:lnTo>
                  <a:lnTo>
                    <a:pt x="3704" y="231"/>
                  </a:lnTo>
                  <a:lnTo>
                    <a:pt x="3715" y="253"/>
                  </a:lnTo>
                  <a:lnTo>
                    <a:pt x="3746" y="253"/>
                  </a:lnTo>
                  <a:lnTo>
                    <a:pt x="3778" y="231"/>
                  </a:lnTo>
                  <a:lnTo>
                    <a:pt x="3799" y="200"/>
                  </a:lnTo>
                  <a:lnTo>
                    <a:pt x="3799" y="168"/>
                  </a:lnTo>
                  <a:lnTo>
                    <a:pt x="3820" y="137"/>
                  </a:lnTo>
                  <a:lnTo>
                    <a:pt x="3851" y="147"/>
                  </a:lnTo>
                  <a:lnTo>
                    <a:pt x="3851" y="189"/>
                  </a:lnTo>
                  <a:lnTo>
                    <a:pt x="3851" y="221"/>
                  </a:lnTo>
                  <a:lnTo>
                    <a:pt x="3883" y="221"/>
                  </a:lnTo>
                  <a:lnTo>
                    <a:pt x="3914" y="189"/>
                  </a:lnTo>
                  <a:lnTo>
                    <a:pt x="3925" y="147"/>
                  </a:lnTo>
                  <a:lnTo>
                    <a:pt x="3946" y="116"/>
                  </a:lnTo>
                  <a:lnTo>
                    <a:pt x="3978" y="137"/>
                  </a:lnTo>
                  <a:lnTo>
                    <a:pt x="3978" y="168"/>
                  </a:lnTo>
                  <a:lnTo>
                    <a:pt x="3988" y="200"/>
                  </a:lnTo>
                  <a:lnTo>
                    <a:pt x="4020" y="200"/>
                  </a:lnTo>
                  <a:lnTo>
                    <a:pt x="4041" y="168"/>
                  </a:lnTo>
                  <a:lnTo>
                    <a:pt x="4062" y="137"/>
                  </a:lnTo>
                  <a:lnTo>
                    <a:pt x="4083" y="105"/>
                  </a:lnTo>
                  <a:lnTo>
                    <a:pt x="4104" y="74"/>
                  </a:lnTo>
                  <a:lnTo>
                    <a:pt x="4135" y="74"/>
                  </a:lnTo>
                  <a:lnTo>
                    <a:pt x="4135" y="105"/>
                  </a:lnTo>
                  <a:lnTo>
                    <a:pt x="4135" y="147"/>
                  </a:lnTo>
                  <a:lnTo>
                    <a:pt x="4135" y="189"/>
                  </a:lnTo>
                  <a:lnTo>
                    <a:pt x="4157" y="189"/>
                  </a:lnTo>
                  <a:lnTo>
                    <a:pt x="4188" y="168"/>
                  </a:lnTo>
                  <a:lnTo>
                    <a:pt x="4188" y="137"/>
                  </a:lnTo>
                  <a:lnTo>
                    <a:pt x="4209" y="95"/>
                  </a:lnTo>
                  <a:lnTo>
                    <a:pt x="4241" y="95"/>
                  </a:lnTo>
                  <a:lnTo>
                    <a:pt x="4262" y="126"/>
                  </a:lnTo>
                  <a:lnTo>
                    <a:pt x="4262" y="158"/>
                  </a:lnTo>
                  <a:lnTo>
                    <a:pt x="4293" y="179"/>
                  </a:lnTo>
                  <a:lnTo>
                    <a:pt x="4314" y="147"/>
                  </a:lnTo>
                  <a:lnTo>
                    <a:pt x="4335" y="116"/>
                  </a:lnTo>
                  <a:lnTo>
                    <a:pt x="4346" y="84"/>
                  </a:lnTo>
                  <a:lnTo>
                    <a:pt x="4367" y="116"/>
                  </a:lnTo>
                  <a:lnTo>
                    <a:pt x="4367" y="147"/>
                  </a:lnTo>
                  <a:lnTo>
                    <a:pt x="4378" y="179"/>
                  </a:lnTo>
                  <a:lnTo>
                    <a:pt x="4409" y="179"/>
                  </a:lnTo>
                  <a:lnTo>
                    <a:pt x="4441" y="158"/>
                  </a:lnTo>
                  <a:lnTo>
                    <a:pt x="4441" y="126"/>
                  </a:lnTo>
                  <a:lnTo>
                    <a:pt x="4441" y="95"/>
                  </a:lnTo>
                  <a:lnTo>
                    <a:pt x="4441" y="63"/>
                  </a:lnTo>
                  <a:lnTo>
                    <a:pt x="4472" y="63"/>
                  </a:lnTo>
                  <a:lnTo>
                    <a:pt x="4472" y="95"/>
                  </a:lnTo>
                  <a:lnTo>
                    <a:pt x="4472" y="126"/>
                  </a:lnTo>
                  <a:lnTo>
                    <a:pt x="4483" y="158"/>
                  </a:lnTo>
                  <a:lnTo>
                    <a:pt x="4514" y="179"/>
                  </a:lnTo>
                  <a:lnTo>
                    <a:pt x="4546" y="168"/>
                  </a:lnTo>
                  <a:lnTo>
                    <a:pt x="4556" y="137"/>
                  </a:lnTo>
                  <a:lnTo>
                    <a:pt x="4567" y="105"/>
                  </a:lnTo>
                  <a:lnTo>
                    <a:pt x="4588" y="74"/>
                  </a:lnTo>
                  <a:lnTo>
                    <a:pt x="4609" y="116"/>
                  </a:lnTo>
                  <a:lnTo>
                    <a:pt x="4609" y="147"/>
                  </a:lnTo>
                  <a:lnTo>
                    <a:pt x="4641" y="168"/>
                  </a:lnTo>
                  <a:lnTo>
                    <a:pt x="4672" y="168"/>
                  </a:lnTo>
                  <a:lnTo>
                    <a:pt x="4672" y="137"/>
                  </a:lnTo>
                  <a:lnTo>
                    <a:pt x="4672" y="105"/>
                  </a:lnTo>
                  <a:lnTo>
                    <a:pt x="4683" y="74"/>
                  </a:lnTo>
                  <a:lnTo>
                    <a:pt x="4714" y="74"/>
                  </a:lnTo>
                  <a:lnTo>
                    <a:pt x="4725" y="105"/>
                  </a:lnTo>
                  <a:lnTo>
                    <a:pt x="4735" y="137"/>
                  </a:lnTo>
                  <a:lnTo>
                    <a:pt x="4767" y="158"/>
                  </a:lnTo>
                  <a:lnTo>
                    <a:pt x="4777" y="126"/>
                  </a:lnTo>
                  <a:lnTo>
                    <a:pt x="4788" y="95"/>
                  </a:lnTo>
                  <a:lnTo>
                    <a:pt x="4788" y="63"/>
                  </a:lnTo>
                  <a:lnTo>
                    <a:pt x="4820" y="42"/>
                  </a:lnTo>
                  <a:lnTo>
                    <a:pt x="4830" y="74"/>
                  </a:lnTo>
                  <a:lnTo>
                    <a:pt x="4841" y="105"/>
                  </a:lnTo>
                  <a:lnTo>
                    <a:pt x="4841" y="137"/>
                  </a:lnTo>
                  <a:lnTo>
                    <a:pt x="4872" y="147"/>
                  </a:lnTo>
                  <a:lnTo>
                    <a:pt x="4904" y="126"/>
                  </a:lnTo>
                  <a:lnTo>
                    <a:pt x="4914" y="95"/>
                  </a:lnTo>
                  <a:lnTo>
                    <a:pt x="4914" y="63"/>
                  </a:lnTo>
                  <a:lnTo>
                    <a:pt x="4914" y="31"/>
                  </a:lnTo>
                  <a:lnTo>
                    <a:pt x="4946" y="21"/>
                  </a:lnTo>
                  <a:lnTo>
                    <a:pt x="4956" y="63"/>
                  </a:lnTo>
                  <a:lnTo>
                    <a:pt x="4967" y="95"/>
                  </a:lnTo>
                  <a:lnTo>
                    <a:pt x="4967" y="126"/>
                  </a:lnTo>
                  <a:lnTo>
                    <a:pt x="4998" y="126"/>
                  </a:lnTo>
                  <a:lnTo>
                    <a:pt x="5019" y="95"/>
                  </a:lnTo>
                  <a:lnTo>
                    <a:pt x="5019" y="63"/>
                  </a:lnTo>
                  <a:lnTo>
                    <a:pt x="5041" y="42"/>
                  </a:lnTo>
                  <a:lnTo>
                    <a:pt x="5072" y="74"/>
                  </a:lnTo>
                  <a:lnTo>
                    <a:pt x="5072" y="105"/>
                  </a:lnTo>
                  <a:lnTo>
                    <a:pt x="5104" y="126"/>
                  </a:lnTo>
                  <a:lnTo>
                    <a:pt x="5114" y="95"/>
                  </a:lnTo>
                  <a:lnTo>
                    <a:pt x="5114" y="63"/>
                  </a:lnTo>
                  <a:lnTo>
                    <a:pt x="5114" y="31"/>
                  </a:lnTo>
                  <a:lnTo>
                    <a:pt x="5146" y="10"/>
                  </a:lnTo>
                  <a:lnTo>
                    <a:pt x="5177" y="42"/>
                  </a:lnTo>
                  <a:lnTo>
                    <a:pt x="5177" y="84"/>
                  </a:lnTo>
                  <a:lnTo>
                    <a:pt x="5177" y="116"/>
                  </a:lnTo>
                  <a:lnTo>
                    <a:pt x="5209" y="126"/>
                  </a:lnTo>
                  <a:lnTo>
                    <a:pt x="5240" y="95"/>
                  </a:lnTo>
                  <a:lnTo>
                    <a:pt x="5251" y="63"/>
                  </a:lnTo>
                  <a:lnTo>
                    <a:pt x="5251" y="31"/>
                  </a:lnTo>
                  <a:lnTo>
                    <a:pt x="5283" y="21"/>
                  </a:lnTo>
                  <a:lnTo>
                    <a:pt x="5304" y="52"/>
                  </a:lnTo>
                  <a:lnTo>
                    <a:pt x="5314" y="74"/>
                  </a:lnTo>
                  <a:lnTo>
                    <a:pt x="5314" y="105"/>
                  </a:lnTo>
                  <a:lnTo>
                    <a:pt x="5314" y="137"/>
                  </a:lnTo>
                  <a:lnTo>
                    <a:pt x="5346" y="147"/>
                  </a:lnTo>
                  <a:lnTo>
                    <a:pt x="5356" y="116"/>
                  </a:lnTo>
                  <a:lnTo>
                    <a:pt x="5367" y="84"/>
                  </a:lnTo>
                  <a:lnTo>
                    <a:pt x="5367" y="52"/>
                  </a:lnTo>
                  <a:lnTo>
                    <a:pt x="5367" y="21"/>
                  </a:lnTo>
                  <a:lnTo>
                    <a:pt x="5398" y="0"/>
                  </a:lnTo>
                  <a:lnTo>
                    <a:pt x="5430" y="0"/>
                  </a:lnTo>
                  <a:lnTo>
                    <a:pt x="5430" y="31"/>
                  </a:lnTo>
                  <a:lnTo>
                    <a:pt x="5440" y="63"/>
                  </a:lnTo>
                  <a:lnTo>
                    <a:pt x="5440" y="95"/>
                  </a:lnTo>
                  <a:lnTo>
                    <a:pt x="5451" y="126"/>
                  </a:lnTo>
                  <a:lnTo>
                    <a:pt x="5451" y="158"/>
                  </a:lnTo>
                  <a:lnTo>
                    <a:pt x="5451" y="189"/>
                  </a:lnTo>
                  <a:lnTo>
                    <a:pt x="5451" y="221"/>
                  </a:lnTo>
                  <a:lnTo>
                    <a:pt x="5451" y="263"/>
                  </a:lnTo>
                  <a:lnTo>
                    <a:pt x="5451" y="295"/>
                  </a:lnTo>
                  <a:lnTo>
                    <a:pt x="5440" y="326"/>
                  </a:lnTo>
                  <a:lnTo>
                    <a:pt x="5440" y="358"/>
                  </a:lnTo>
                  <a:lnTo>
                    <a:pt x="5409" y="368"/>
                  </a:lnTo>
                  <a:lnTo>
                    <a:pt x="5377" y="368"/>
                  </a:lnTo>
                  <a:lnTo>
                    <a:pt x="5346" y="368"/>
                  </a:lnTo>
                  <a:lnTo>
                    <a:pt x="5314" y="368"/>
                  </a:lnTo>
                  <a:lnTo>
                    <a:pt x="5283" y="368"/>
                  </a:lnTo>
                  <a:lnTo>
                    <a:pt x="5251" y="368"/>
                  </a:lnTo>
                  <a:lnTo>
                    <a:pt x="5219" y="368"/>
                  </a:lnTo>
                  <a:lnTo>
                    <a:pt x="5188" y="368"/>
                  </a:lnTo>
                  <a:lnTo>
                    <a:pt x="5125" y="368"/>
                  </a:lnTo>
                  <a:lnTo>
                    <a:pt x="5093" y="368"/>
                  </a:lnTo>
                  <a:lnTo>
                    <a:pt x="5062" y="368"/>
                  </a:lnTo>
                  <a:lnTo>
                    <a:pt x="5030" y="368"/>
                  </a:lnTo>
                  <a:lnTo>
                    <a:pt x="4998" y="368"/>
                  </a:lnTo>
                  <a:lnTo>
                    <a:pt x="4967" y="368"/>
                  </a:lnTo>
                  <a:lnTo>
                    <a:pt x="4935" y="368"/>
                  </a:lnTo>
                  <a:lnTo>
                    <a:pt x="4904" y="379"/>
                  </a:lnTo>
                  <a:lnTo>
                    <a:pt x="4872" y="379"/>
                  </a:lnTo>
                  <a:lnTo>
                    <a:pt x="4841" y="379"/>
                  </a:lnTo>
                  <a:lnTo>
                    <a:pt x="4809" y="379"/>
                  </a:lnTo>
                  <a:lnTo>
                    <a:pt x="4767" y="389"/>
                  </a:lnTo>
                  <a:lnTo>
                    <a:pt x="4735" y="389"/>
                  </a:lnTo>
                  <a:lnTo>
                    <a:pt x="4704" y="389"/>
                  </a:lnTo>
                  <a:lnTo>
                    <a:pt x="4672" y="400"/>
                  </a:lnTo>
                  <a:lnTo>
                    <a:pt x="4641" y="400"/>
                  </a:lnTo>
                  <a:lnTo>
                    <a:pt x="4609" y="410"/>
                  </a:lnTo>
                  <a:lnTo>
                    <a:pt x="4577" y="410"/>
                  </a:lnTo>
                  <a:lnTo>
                    <a:pt x="4546" y="410"/>
                  </a:lnTo>
                  <a:lnTo>
                    <a:pt x="4504" y="410"/>
                  </a:lnTo>
                  <a:lnTo>
                    <a:pt x="4472" y="410"/>
                  </a:lnTo>
                  <a:lnTo>
                    <a:pt x="4441" y="410"/>
                  </a:lnTo>
                  <a:lnTo>
                    <a:pt x="4399" y="410"/>
                  </a:lnTo>
                  <a:lnTo>
                    <a:pt x="4367" y="410"/>
                  </a:lnTo>
                  <a:lnTo>
                    <a:pt x="4335" y="410"/>
                  </a:lnTo>
                  <a:lnTo>
                    <a:pt x="4304" y="410"/>
                  </a:lnTo>
                  <a:lnTo>
                    <a:pt x="4262" y="410"/>
                  </a:lnTo>
                  <a:lnTo>
                    <a:pt x="4230" y="410"/>
                  </a:lnTo>
                  <a:lnTo>
                    <a:pt x="4199" y="410"/>
                  </a:lnTo>
                  <a:lnTo>
                    <a:pt x="4167" y="410"/>
                  </a:lnTo>
                  <a:lnTo>
                    <a:pt x="4135" y="410"/>
                  </a:lnTo>
                  <a:lnTo>
                    <a:pt x="4104" y="410"/>
                  </a:lnTo>
                  <a:lnTo>
                    <a:pt x="4062" y="421"/>
                  </a:lnTo>
                  <a:lnTo>
                    <a:pt x="4030" y="421"/>
                  </a:lnTo>
                  <a:lnTo>
                    <a:pt x="3999" y="421"/>
                  </a:lnTo>
                  <a:lnTo>
                    <a:pt x="3967" y="432"/>
                  </a:lnTo>
                  <a:lnTo>
                    <a:pt x="3936" y="442"/>
                  </a:lnTo>
                  <a:lnTo>
                    <a:pt x="3914" y="442"/>
                  </a:lnTo>
                  <a:lnTo>
                    <a:pt x="3883" y="442"/>
                  </a:lnTo>
                  <a:lnTo>
                    <a:pt x="3851" y="453"/>
                  </a:lnTo>
                  <a:lnTo>
                    <a:pt x="3820" y="453"/>
                  </a:lnTo>
                  <a:lnTo>
                    <a:pt x="3778" y="453"/>
                  </a:lnTo>
                  <a:lnTo>
                    <a:pt x="3746" y="453"/>
                  </a:lnTo>
                  <a:lnTo>
                    <a:pt x="3715" y="453"/>
                  </a:lnTo>
                  <a:lnTo>
                    <a:pt x="3693" y="453"/>
                  </a:lnTo>
                  <a:lnTo>
                    <a:pt x="3662" y="453"/>
                  </a:lnTo>
                  <a:lnTo>
                    <a:pt x="3630" y="453"/>
                  </a:lnTo>
                  <a:lnTo>
                    <a:pt x="3599" y="453"/>
                  </a:lnTo>
                  <a:lnTo>
                    <a:pt x="3567" y="453"/>
                  </a:lnTo>
                  <a:lnTo>
                    <a:pt x="3494" y="453"/>
                  </a:lnTo>
                  <a:lnTo>
                    <a:pt x="3472" y="453"/>
                  </a:lnTo>
                  <a:lnTo>
                    <a:pt x="3441" y="453"/>
                  </a:lnTo>
                  <a:lnTo>
                    <a:pt x="3409" y="442"/>
                  </a:lnTo>
                  <a:lnTo>
                    <a:pt x="3367" y="442"/>
                  </a:lnTo>
                  <a:lnTo>
                    <a:pt x="3325" y="432"/>
                  </a:lnTo>
                  <a:lnTo>
                    <a:pt x="3294" y="432"/>
                  </a:lnTo>
                  <a:lnTo>
                    <a:pt x="3262" y="432"/>
                  </a:lnTo>
                  <a:lnTo>
                    <a:pt x="3230" y="432"/>
                  </a:lnTo>
                  <a:lnTo>
                    <a:pt x="3199" y="432"/>
                  </a:lnTo>
                  <a:lnTo>
                    <a:pt x="3167" y="432"/>
                  </a:lnTo>
                  <a:lnTo>
                    <a:pt x="3136" y="421"/>
                  </a:lnTo>
                  <a:lnTo>
                    <a:pt x="3104" y="421"/>
                  </a:lnTo>
                  <a:lnTo>
                    <a:pt x="3073" y="421"/>
                  </a:lnTo>
                  <a:lnTo>
                    <a:pt x="3041" y="421"/>
                  </a:lnTo>
                  <a:lnTo>
                    <a:pt x="3009" y="421"/>
                  </a:lnTo>
                  <a:lnTo>
                    <a:pt x="2978" y="421"/>
                  </a:lnTo>
                  <a:lnTo>
                    <a:pt x="2946" y="421"/>
                  </a:lnTo>
                  <a:lnTo>
                    <a:pt x="2915" y="421"/>
                  </a:lnTo>
                  <a:lnTo>
                    <a:pt x="2883" y="421"/>
                  </a:lnTo>
                  <a:lnTo>
                    <a:pt x="2852" y="421"/>
                  </a:lnTo>
                  <a:lnTo>
                    <a:pt x="2820" y="432"/>
                  </a:lnTo>
                  <a:lnTo>
                    <a:pt x="2788" y="453"/>
                  </a:lnTo>
                  <a:lnTo>
                    <a:pt x="2757" y="474"/>
                  </a:lnTo>
                  <a:lnTo>
                    <a:pt x="2725" y="495"/>
                  </a:lnTo>
                  <a:lnTo>
                    <a:pt x="2694" y="505"/>
                  </a:lnTo>
                  <a:lnTo>
                    <a:pt x="2652" y="526"/>
                  </a:lnTo>
                  <a:lnTo>
                    <a:pt x="2620" y="547"/>
                  </a:lnTo>
                  <a:lnTo>
                    <a:pt x="2588" y="568"/>
                  </a:lnTo>
                  <a:lnTo>
                    <a:pt x="2557" y="579"/>
                  </a:lnTo>
                  <a:lnTo>
                    <a:pt x="2525" y="589"/>
                  </a:lnTo>
                  <a:lnTo>
                    <a:pt x="2483" y="589"/>
                  </a:lnTo>
                  <a:lnTo>
                    <a:pt x="2452" y="589"/>
                  </a:lnTo>
                  <a:lnTo>
                    <a:pt x="2420" y="589"/>
                  </a:lnTo>
                  <a:lnTo>
                    <a:pt x="2389" y="589"/>
                  </a:lnTo>
                  <a:lnTo>
                    <a:pt x="2367" y="589"/>
                  </a:lnTo>
                  <a:lnTo>
                    <a:pt x="2336" y="589"/>
                  </a:lnTo>
                  <a:lnTo>
                    <a:pt x="2304" y="589"/>
                  </a:lnTo>
                  <a:lnTo>
                    <a:pt x="2273" y="589"/>
                  </a:lnTo>
                  <a:lnTo>
                    <a:pt x="2241" y="589"/>
                  </a:lnTo>
                  <a:lnTo>
                    <a:pt x="2210" y="589"/>
                  </a:lnTo>
                  <a:lnTo>
                    <a:pt x="2178" y="589"/>
                  </a:lnTo>
                  <a:lnTo>
                    <a:pt x="2146" y="589"/>
                  </a:lnTo>
                  <a:lnTo>
                    <a:pt x="2115" y="579"/>
                  </a:lnTo>
                  <a:lnTo>
                    <a:pt x="2083" y="558"/>
                  </a:lnTo>
                  <a:lnTo>
                    <a:pt x="2052" y="547"/>
                  </a:lnTo>
                  <a:lnTo>
                    <a:pt x="2020" y="526"/>
                  </a:lnTo>
                  <a:lnTo>
                    <a:pt x="1989" y="505"/>
                  </a:lnTo>
                  <a:lnTo>
                    <a:pt x="1957" y="484"/>
                  </a:lnTo>
                  <a:lnTo>
                    <a:pt x="1925" y="463"/>
                  </a:lnTo>
                  <a:lnTo>
                    <a:pt x="1894" y="453"/>
                  </a:lnTo>
                  <a:lnTo>
                    <a:pt x="1862" y="432"/>
                  </a:lnTo>
                  <a:lnTo>
                    <a:pt x="1831" y="421"/>
                  </a:lnTo>
                  <a:lnTo>
                    <a:pt x="1799" y="421"/>
                  </a:lnTo>
                  <a:lnTo>
                    <a:pt x="1768" y="421"/>
                  </a:lnTo>
                  <a:lnTo>
                    <a:pt x="1694" y="421"/>
                  </a:lnTo>
                  <a:lnTo>
                    <a:pt x="1652" y="410"/>
                  </a:lnTo>
                  <a:lnTo>
                    <a:pt x="1610" y="410"/>
                  </a:lnTo>
                  <a:lnTo>
                    <a:pt x="1568" y="410"/>
                  </a:lnTo>
                  <a:lnTo>
                    <a:pt x="1526" y="410"/>
                  </a:lnTo>
                  <a:lnTo>
                    <a:pt x="1483" y="410"/>
                  </a:lnTo>
                  <a:lnTo>
                    <a:pt x="1452" y="410"/>
                  </a:lnTo>
                  <a:lnTo>
                    <a:pt x="1420" y="410"/>
                  </a:lnTo>
                  <a:lnTo>
                    <a:pt x="1357" y="410"/>
                  </a:lnTo>
                  <a:lnTo>
                    <a:pt x="1326" y="410"/>
                  </a:lnTo>
                  <a:lnTo>
                    <a:pt x="1284" y="410"/>
                  </a:lnTo>
                  <a:lnTo>
                    <a:pt x="1262" y="410"/>
                  </a:lnTo>
                  <a:lnTo>
                    <a:pt x="1220" y="410"/>
                  </a:lnTo>
                  <a:lnTo>
                    <a:pt x="1189" y="410"/>
                  </a:lnTo>
                  <a:lnTo>
                    <a:pt x="1157" y="410"/>
                  </a:lnTo>
                  <a:lnTo>
                    <a:pt x="1115" y="410"/>
                  </a:lnTo>
                  <a:lnTo>
                    <a:pt x="1041" y="410"/>
                  </a:lnTo>
                  <a:lnTo>
                    <a:pt x="1010" y="410"/>
                  </a:lnTo>
                  <a:lnTo>
                    <a:pt x="978" y="410"/>
                  </a:lnTo>
                  <a:lnTo>
                    <a:pt x="947" y="410"/>
                  </a:lnTo>
                  <a:lnTo>
                    <a:pt x="915" y="410"/>
                  </a:lnTo>
                  <a:lnTo>
                    <a:pt x="884" y="410"/>
                  </a:lnTo>
                  <a:lnTo>
                    <a:pt x="852" y="410"/>
                  </a:lnTo>
                  <a:lnTo>
                    <a:pt x="820" y="400"/>
                  </a:lnTo>
                  <a:lnTo>
                    <a:pt x="789" y="400"/>
                  </a:lnTo>
                  <a:lnTo>
                    <a:pt x="757" y="400"/>
                  </a:lnTo>
                  <a:lnTo>
                    <a:pt x="726" y="389"/>
                  </a:lnTo>
                  <a:lnTo>
                    <a:pt x="684" y="389"/>
                  </a:lnTo>
                  <a:lnTo>
                    <a:pt x="642" y="379"/>
                  </a:lnTo>
                  <a:lnTo>
                    <a:pt x="610" y="368"/>
                  </a:lnTo>
                  <a:lnTo>
                    <a:pt x="578" y="368"/>
                  </a:lnTo>
                  <a:lnTo>
                    <a:pt x="536" y="358"/>
                  </a:lnTo>
                  <a:lnTo>
                    <a:pt x="505" y="358"/>
                  </a:lnTo>
                  <a:lnTo>
                    <a:pt x="473" y="347"/>
                  </a:lnTo>
                  <a:lnTo>
                    <a:pt x="431" y="347"/>
                  </a:lnTo>
                  <a:lnTo>
                    <a:pt x="400" y="347"/>
                  </a:lnTo>
                  <a:lnTo>
                    <a:pt x="378" y="347"/>
                  </a:lnTo>
                  <a:lnTo>
                    <a:pt x="347" y="337"/>
                  </a:lnTo>
                  <a:lnTo>
                    <a:pt x="315" y="337"/>
                  </a:lnTo>
                  <a:lnTo>
                    <a:pt x="252" y="337"/>
                  </a:lnTo>
                  <a:lnTo>
                    <a:pt x="189" y="337"/>
                  </a:lnTo>
                  <a:lnTo>
                    <a:pt x="157" y="326"/>
                  </a:lnTo>
                  <a:lnTo>
                    <a:pt x="126" y="326"/>
                  </a:lnTo>
                  <a:lnTo>
                    <a:pt x="94" y="316"/>
                  </a:lnTo>
                  <a:lnTo>
                    <a:pt x="63" y="305"/>
                  </a:lnTo>
                  <a:lnTo>
                    <a:pt x="31" y="284"/>
                  </a:lnTo>
                  <a:lnTo>
                    <a:pt x="10" y="253"/>
                  </a:lnTo>
                  <a:lnTo>
                    <a:pt x="0" y="231"/>
                  </a:lnTo>
                  <a:lnTo>
                    <a:pt x="0" y="200"/>
                  </a:lnTo>
                  <a:lnTo>
                    <a:pt x="0" y="168"/>
                  </a:lnTo>
                  <a:lnTo>
                    <a:pt x="0" y="137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0" y="52"/>
                  </a:lnTo>
                  <a:lnTo>
                    <a:pt x="0" y="21"/>
                  </a:lnTo>
                  <a:lnTo>
                    <a:pt x="31" y="10"/>
                  </a:lnTo>
                  <a:lnTo>
                    <a:pt x="42" y="42"/>
                  </a:lnTo>
                  <a:lnTo>
                    <a:pt x="42" y="74"/>
                  </a:lnTo>
                  <a:lnTo>
                    <a:pt x="42" y="105"/>
                  </a:lnTo>
                  <a:lnTo>
                    <a:pt x="52" y="137"/>
                  </a:lnTo>
                  <a:lnTo>
                    <a:pt x="73" y="168"/>
                  </a:lnTo>
                  <a:lnTo>
                    <a:pt x="105" y="168"/>
                  </a:lnTo>
                  <a:lnTo>
                    <a:pt x="126" y="137"/>
                  </a:lnTo>
                  <a:lnTo>
                    <a:pt x="136" y="105"/>
                  </a:lnTo>
                  <a:lnTo>
                    <a:pt x="136" y="74"/>
                  </a:lnTo>
                  <a:lnTo>
                    <a:pt x="136" y="52"/>
                  </a:lnTo>
                  <a:lnTo>
                    <a:pt x="132" y="2"/>
                  </a:lnTo>
                  <a:lnTo>
                    <a:pt x="132" y="2"/>
                  </a:lnTo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Oval 50"/>
            <p:cNvSpPr/>
            <p:nvPr/>
          </p:nvSpPr>
          <p:spPr>
            <a:xfrm>
              <a:off x="290196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Oval 51"/>
            <p:cNvSpPr/>
            <p:nvPr/>
          </p:nvSpPr>
          <p:spPr>
            <a:xfrm>
              <a:off x="274968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Oval 52"/>
            <p:cNvSpPr/>
            <p:nvPr/>
          </p:nvSpPr>
          <p:spPr>
            <a:xfrm>
              <a:off x="53964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Oval 53"/>
            <p:cNvSpPr/>
            <p:nvPr/>
          </p:nvSpPr>
          <p:spPr>
            <a:xfrm>
              <a:off x="579744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Oval 54"/>
            <p:cNvSpPr/>
            <p:nvPr/>
          </p:nvSpPr>
          <p:spPr>
            <a:xfrm>
              <a:off x="739764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Oval 55"/>
            <p:cNvSpPr/>
            <p:nvPr/>
          </p:nvSpPr>
          <p:spPr>
            <a:xfrm>
              <a:off x="768240" y="23684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Oval 56"/>
            <p:cNvSpPr/>
            <p:nvPr/>
          </p:nvSpPr>
          <p:spPr>
            <a:xfrm>
              <a:off x="92088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Oval 57"/>
            <p:cNvSpPr/>
            <p:nvPr/>
          </p:nvSpPr>
          <p:spPr>
            <a:xfrm>
              <a:off x="76824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Oval 58"/>
            <p:cNvSpPr/>
            <p:nvPr/>
          </p:nvSpPr>
          <p:spPr>
            <a:xfrm>
              <a:off x="61596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Oval 59"/>
            <p:cNvSpPr/>
            <p:nvPr/>
          </p:nvSpPr>
          <p:spPr>
            <a:xfrm>
              <a:off x="274968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Oval 60"/>
            <p:cNvSpPr/>
            <p:nvPr/>
          </p:nvSpPr>
          <p:spPr>
            <a:xfrm>
              <a:off x="92088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Oval 61"/>
            <p:cNvSpPr/>
            <p:nvPr/>
          </p:nvSpPr>
          <p:spPr>
            <a:xfrm>
              <a:off x="107316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Oval 62"/>
            <p:cNvSpPr/>
            <p:nvPr/>
          </p:nvSpPr>
          <p:spPr>
            <a:xfrm>
              <a:off x="549288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Oval 63"/>
            <p:cNvSpPr/>
            <p:nvPr/>
          </p:nvSpPr>
          <p:spPr>
            <a:xfrm>
              <a:off x="1073160" y="23684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Oval 64"/>
            <p:cNvSpPr/>
            <p:nvPr/>
          </p:nvSpPr>
          <p:spPr>
            <a:xfrm>
              <a:off x="549288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153036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Oval 66"/>
            <p:cNvSpPr/>
            <p:nvPr/>
          </p:nvSpPr>
          <p:spPr>
            <a:xfrm>
              <a:off x="168264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Oval 67"/>
            <p:cNvSpPr/>
            <p:nvPr/>
          </p:nvSpPr>
          <p:spPr>
            <a:xfrm>
              <a:off x="153036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Oval 68"/>
            <p:cNvSpPr/>
            <p:nvPr/>
          </p:nvSpPr>
          <p:spPr>
            <a:xfrm>
              <a:off x="137808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Oval 69"/>
            <p:cNvSpPr/>
            <p:nvPr/>
          </p:nvSpPr>
          <p:spPr>
            <a:xfrm>
              <a:off x="168264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Oval 70"/>
            <p:cNvSpPr/>
            <p:nvPr/>
          </p:nvSpPr>
          <p:spPr>
            <a:xfrm>
              <a:off x="183528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Oval 71"/>
            <p:cNvSpPr/>
            <p:nvPr/>
          </p:nvSpPr>
          <p:spPr>
            <a:xfrm>
              <a:off x="137808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Oval 72"/>
            <p:cNvSpPr/>
            <p:nvPr/>
          </p:nvSpPr>
          <p:spPr>
            <a:xfrm>
              <a:off x="183528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Oval 73"/>
            <p:cNvSpPr/>
            <p:nvPr/>
          </p:nvSpPr>
          <p:spPr>
            <a:xfrm>
              <a:off x="229248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Oval 74"/>
            <p:cNvSpPr/>
            <p:nvPr/>
          </p:nvSpPr>
          <p:spPr>
            <a:xfrm>
              <a:off x="244476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Oval 75"/>
            <p:cNvSpPr/>
            <p:nvPr/>
          </p:nvSpPr>
          <p:spPr>
            <a:xfrm>
              <a:off x="229248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Oval 76"/>
            <p:cNvSpPr/>
            <p:nvPr/>
          </p:nvSpPr>
          <p:spPr>
            <a:xfrm>
              <a:off x="213984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Oval 77"/>
            <p:cNvSpPr/>
            <p:nvPr/>
          </p:nvSpPr>
          <p:spPr>
            <a:xfrm>
              <a:off x="244476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Oval 78"/>
            <p:cNvSpPr/>
            <p:nvPr/>
          </p:nvSpPr>
          <p:spPr>
            <a:xfrm>
              <a:off x="259704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Oval 79"/>
            <p:cNvSpPr/>
            <p:nvPr/>
          </p:nvSpPr>
          <p:spPr>
            <a:xfrm>
              <a:off x="213984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Oval 80"/>
            <p:cNvSpPr/>
            <p:nvPr/>
          </p:nvSpPr>
          <p:spPr>
            <a:xfrm>
              <a:off x="259704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6" name="Group 91"/>
            <p:cNvGrpSpPr/>
            <p:nvPr/>
          </p:nvGrpSpPr>
          <p:grpSpPr>
            <a:xfrm>
              <a:off x="4883040" y="2444760"/>
              <a:ext cx="596520" cy="444240"/>
              <a:chOff x="4883040" y="2444760"/>
              <a:chExt cx="596520" cy="444240"/>
            </a:xfrm>
          </p:grpSpPr>
          <p:sp>
            <p:nvSpPr>
              <p:cNvPr id="867" name="Oval 81"/>
              <p:cNvSpPr/>
              <p:nvPr/>
            </p:nvSpPr>
            <p:spPr>
              <a:xfrm>
                <a:off x="5035680" y="244476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Oval 82"/>
              <p:cNvSpPr/>
              <p:nvPr/>
            </p:nvSpPr>
            <p:spPr>
              <a:xfrm>
                <a:off x="5187960" y="252108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Oval 83"/>
              <p:cNvSpPr/>
              <p:nvPr/>
            </p:nvSpPr>
            <p:spPr>
              <a:xfrm>
                <a:off x="5035680" y="259704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Oval 84"/>
              <p:cNvSpPr/>
              <p:nvPr/>
            </p:nvSpPr>
            <p:spPr>
              <a:xfrm>
                <a:off x="4883040" y="252108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Oval 85"/>
              <p:cNvSpPr/>
              <p:nvPr/>
            </p:nvSpPr>
            <p:spPr>
              <a:xfrm>
                <a:off x="5035680" y="274968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Oval 86"/>
              <p:cNvSpPr/>
              <p:nvPr/>
            </p:nvSpPr>
            <p:spPr>
              <a:xfrm>
                <a:off x="5187960" y="267336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Oval 87"/>
              <p:cNvSpPr/>
              <p:nvPr/>
            </p:nvSpPr>
            <p:spPr>
              <a:xfrm>
                <a:off x="5340240" y="274968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Oval 88"/>
              <p:cNvSpPr/>
              <p:nvPr/>
            </p:nvSpPr>
            <p:spPr>
              <a:xfrm>
                <a:off x="5340240" y="259704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Oval 89"/>
              <p:cNvSpPr/>
              <p:nvPr/>
            </p:nvSpPr>
            <p:spPr>
              <a:xfrm>
                <a:off x="4883040" y="267336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Oval 90"/>
              <p:cNvSpPr/>
              <p:nvPr/>
            </p:nvSpPr>
            <p:spPr>
              <a:xfrm>
                <a:off x="5340240" y="2444760"/>
                <a:ext cx="139320" cy="139320"/>
              </a:xfrm>
              <a:prstGeom prst="ellipse">
                <a:avLst/>
              </a:prstGeom>
              <a:solidFill>
                <a:srgbClr val="99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7" name="Oval 92"/>
            <p:cNvSpPr/>
            <p:nvPr/>
          </p:nvSpPr>
          <p:spPr>
            <a:xfrm>
              <a:off x="694044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Oval 93"/>
            <p:cNvSpPr/>
            <p:nvPr/>
          </p:nvSpPr>
          <p:spPr>
            <a:xfrm>
              <a:off x="709308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Oval 94"/>
            <p:cNvSpPr/>
            <p:nvPr/>
          </p:nvSpPr>
          <p:spPr>
            <a:xfrm>
              <a:off x="694044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Oval 95"/>
            <p:cNvSpPr/>
            <p:nvPr/>
          </p:nvSpPr>
          <p:spPr>
            <a:xfrm>
              <a:off x="678816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Oval 96"/>
            <p:cNvSpPr/>
            <p:nvPr/>
          </p:nvSpPr>
          <p:spPr>
            <a:xfrm>
              <a:off x="709308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Oval 97"/>
            <p:cNvSpPr/>
            <p:nvPr/>
          </p:nvSpPr>
          <p:spPr>
            <a:xfrm>
              <a:off x="724536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Oval 98"/>
            <p:cNvSpPr/>
            <p:nvPr/>
          </p:nvSpPr>
          <p:spPr>
            <a:xfrm>
              <a:off x="678816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Oval 99"/>
            <p:cNvSpPr/>
            <p:nvPr/>
          </p:nvSpPr>
          <p:spPr>
            <a:xfrm>
              <a:off x="724536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Oval 100"/>
            <p:cNvSpPr/>
            <p:nvPr/>
          </p:nvSpPr>
          <p:spPr>
            <a:xfrm>
              <a:off x="625464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Oval 101"/>
            <p:cNvSpPr/>
            <p:nvPr/>
          </p:nvSpPr>
          <p:spPr>
            <a:xfrm>
              <a:off x="610236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Oval 102"/>
            <p:cNvSpPr/>
            <p:nvPr/>
          </p:nvSpPr>
          <p:spPr>
            <a:xfrm>
              <a:off x="595008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Oval 103"/>
            <p:cNvSpPr/>
            <p:nvPr/>
          </p:nvSpPr>
          <p:spPr>
            <a:xfrm>
              <a:off x="610236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Oval 104"/>
            <p:cNvSpPr/>
            <p:nvPr/>
          </p:nvSpPr>
          <p:spPr>
            <a:xfrm>
              <a:off x="625464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Oval 105"/>
            <p:cNvSpPr/>
            <p:nvPr/>
          </p:nvSpPr>
          <p:spPr>
            <a:xfrm>
              <a:off x="6407280" y="26733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Oval 106"/>
            <p:cNvSpPr/>
            <p:nvPr/>
          </p:nvSpPr>
          <p:spPr>
            <a:xfrm>
              <a:off x="640728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Oval 107"/>
            <p:cNvSpPr/>
            <p:nvPr/>
          </p:nvSpPr>
          <p:spPr>
            <a:xfrm>
              <a:off x="595008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Oval 108"/>
            <p:cNvSpPr/>
            <p:nvPr/>
          </p:nvSpPr>
          <p:spPr>
            <a:xfrm>
              <a:off x="7854840" y="23684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Oval 109"/>
            <p:cNvSpPr/>
            <p:nvPr/>
          </p:nvSpPr>
          <p:spPr>
            <a:xfrm>
              <a:off x="800748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Oval 110"/>
            <p:cNvSpPr/>
            <p:nvPr/>
          </p:nvSpPr>
          <p:spPr>
            <a:xfrm>
              <a:off x="785484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Oval 111"/>
            <p:cNvSpPr/>
            <p:nvPr/>
          </p:nvSpPr>
          <p:spPr>
            <a:xfrm>
              <a:off x="7702560" y="244476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Oval 112"/>
            <p:cNvSpPr/>
            <p:nvPr/>
          </p:nvSpPr>
          <p:spPr>
            <a:xfrm>
              <a:off x="8159760" y="252108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Oval 113"/>
            <p:cNvSpPr/>
            <p:nvPr/>
          </p:nvSpPr>
          <p:spPr>
            <a:xfrm>
              <a:off x="7702560" y="25970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Oval 114"/>
            <p:cNvSpPr/>
            <p:nvPr/>
          </p:nvSpPr>
          <p:spPr>
            <a:xfrm>
              <a:off x="8159760" y="2368440"/>
              <a:ext cx="139320" cy="139320"/>
            </a:xfrm>
            <a:prstGeom prst="ellipse">
              <a:avLst/>
            </a:prstGeom>
            <a:solidFill>
              <a:srgbClr val="99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115"/>
            <p:cNvSpPr/>
            <p:nvPr/>
          </p:nvSpPr>
          <p:spPr>
            <a:xfrm>
              <a:off x="3201840" y="2432160"/>
              <a:ext cx="1238040" cy="651960"/>
            </a:xfrm>
            <a:custGeom>
              <a:avLst/>
              <a:gdLst>
                <a:gd name="textAreaLeft" fmla="*/ 0 w 1238040"/>
                <a:gd name="textAreaRight" fmla="*/ 1238400 w 123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780" h="411">
                  <a:moveTo>
                    <a:pt x="287" y="4"/>
                  </a:moveTo>
                  <a:lnTo>
                    <a:pt x="410" y="0"/>
                  </a:lnTo>
                  <a:lnTo>
                    <a:pt x="495" y="0"/>
                  </a:lnTo>
                  <a:lnTo>
                    <a:pt x="558" y="0"/>
                  </a:lnTo>
                  <a:lnTo>
                    <a:pt x="600" y="0"/>
                  </a:lnTo>
                  <a:lnTo>
                    <a:pt x="642" y="0"/>
                  </a:lnTo>
                  <a:lnTo>
                    <a:pt x="600" y="21"/>
                  </a:lnTo>
                  <a:lnTo>
                    <a:pt x="516" y="31"/>
                  </a:lnTo>
                  <a:lnTo>
                    <a:pt x="389" y="42"/>
                  </a:lnTo>
                  <a:lnTo>
                    <a:pt x="221" y="52"/>
                  </a:lnTo>
                  <a:lnTo>
                    <a:pt x="95" y="52"/>
                  </a:lnTo>
                  <a:lnTo>
                    <a:pt x="63" y="63"/>
                  </a:lnTo>
                  <a:lnTo>
                    <a:pt x="0" y="73"/>
                  </a:lnTo>
                  <a:lnTo>
                    <a:pt x="137" y="73"/>
                  </a:lnTo>
                  <a:lnTo>
                    <a:pt x="368" y="84"/>
                  </a:lnTo>
                  <a:lnTo>
                    <a:pt x="579" y="105"/>
                  </a:lnTo>
                  <a:lnTo>
                    <a:pt x="621" y="105"/>
                  </a:lnTo>
                  <a:lnTo>
                    <a:pt x="684" y="105"/>
                  </a:lnTo>
                  <a:lnTo>
                    <a:pt x="716" y="105"/>
                  </a:lnTo>
                  <a:lnTo>
                    <a:pt x="747" y="105"/>
                  </a:lnTo>
                  <a:lnTo>
                    <a:pt x="674" y="126"/>
                  </a:lnTo>
                  <a:lnTo>
                    <a:pt x="568" y="137"/>
                  </a:lnTo>
                  <a:lnTo>
                    <a:pt x="421" y="158"/>
                  </a:lnTo>
                  <a:lnTo>
                    <a:pt x="295" y="168"/>
                  </a:lnTo>
                  <a:lnTo>
                    <a:pt x="147" y="168"/>
                  </a:lnTo>
                  <a:lnTo>
                    <a:pt x="84" y="168"/>
                  </a:lnTo>
                  <a:lnTo>
                    <a:pt x="126" y="168"/>
                  </a:lnTo>
                  <a:lnTo>
                    <a:pt x="232" y="168"/>
                  </a:lnTo>
                  <a:lnTo>
                    <a:pt x="358" y="168"/>
                  </a:lnTo>
                  <a:lnTo>
                    <a:pt x="484" y="179"/>
                  </a:lnTo>
                  <a:lnTo>
                    <a:pt x="589" y="179"/>
                  </a:lnTo>
                  <a:lnTo>
                    <a:pt x="695" y="189"/>
                  </a:lnTo>
                  <a:lnTo>
                    <a:pt x="779" y="189"/>
                  </a:lnTo>
                  <a:lnTo>
                    <a:pt x="716" y="210"/>
                  </a:lnTo>
                  <a:lnTo>
                    <a:pt x="631" y="210"/>
                  </a:lnTo>
                  <a:lnTo>
                    <a:pt x="505" y="231"/>
                  </a:lnTo>
                  <a:lnTo>
                    <a:pt x="337" y="231"/>
                  </a:lnTo>
                  <a:lnTo>
                    <a:pt x="168" y="242"/>
                  </a:lnTo>
                  <a:lnTo>
                    <a:pt x="84" y="242"/>
                  </a:lnTo>
                  <a:lnTo>
                    <a:pt x="116" y="252"/>
                  </a:lnTo>
                  <a:lnTo>
                    <a:pt x="200" y="252"/>
                  </a:lnTo>
                  <a:lnTo>
                    <a:pt x="368" y="273"/>
                  </a:lnTo>
                  <a:lnTo>
                    <a:pt x="558" y="294"/>
                  </a:lnTo>
                  <a:lnTo>
                    <a:pt x="621" y="294"/>
                  </a:lnTo>
                  <a:lnTo>
                    <a:pt x="621" y="316"/>
                  </a:lnTo>
                  <a:lnTo>
                    <a:pt x="558" y="316"/>
                  </a:lnTo>
                  <a:lnTo>
                    <a:pt x="474" y="337"/>
                  </a:lnTo>
                  <a:lnTo>
                    <a:pt x="410" y="337"/>
                  </a:lnTo>
                  <a:lnTo>
                    <a:pt x="368" y="347"/>
                  </a:lnTo>
                  <a:lnTo>
                    <a:pt x="337" y="358"/>
                  </a:lnTo>
                  <a:lnTo>
                    <a:pt x="410" y="379"/>
                  </a:lnTo>
                  <a:lnTo>
                    <a:pt x="432" y="379"/>
                  </a:lnTo>
                  <a:lnTo>
                    <a:pt x="516" y="379"/>
                  </a:lnTo>
                  <a:lnTo>
                    <a:pt x="579" y="379"/>
                  </a:lnTo>
                  <a:lnTo>
                    <a:pt x="516" y="400"/>
                  </a:lnTo>
                  <a:lnTo>
                    <a:pt x="453" y="400"/>
                  </a:lnTo>
                  <a:lnTo>
                    <a:pt x="389" y="410"/>
                  </a:lnTo>
                  <a:lnTo>
                    <a:pt x="305" y="410"/>
                  </a:lnTo>
                  <a:lnTo>
                    <a:pt x="274" y="410"/>
                  </a:lnTo>
                  <a:lnTo>
                    <a:pt x="287" y="388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116"/>
            <p:cNvSpPr/>
            <p:nvPr/>
          </p:nvSpPr>
          <p:spPr>
            <a:xfrm>
              <a:off x="3429000" y="2508120"/>
              <a:ext cx="1238040" cy="651960"/>
            </a:xfrm>
            <a:custGeom>
              <a:avLst/>
              <a:gdLst>
                <a:gd name="textAreaLeft" fmla="*/ 0 w 1238040"/>
                <a:gd name="textAreaRight" fmla="*/ 1238400 w 123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780" h="411">
                  <a:moveTo>
                    <a:pt x="492" y="4"/>
                  </a:moveTo>
                  <a:lnTo>
                    <a:pt x="369" y="0"/>
                  </a:lnTo>
                  <a:lnTo>
                    <a:pt x="284" y="0"/>
                  </a:lnTo>
                  <a:lnTo>
                    <a:pt x="221" y="0"/>
                  </a:lnTo>
                  <a:lnTo>
                    <a:pt x="179" y="0"/>
                  </a:lnTo>
                  <a:lnTo>
                    <a:pt x="137" y="0"/>
                  </a:lnTo>
                  <a:lnTo>
                    <a:pt x="179" y="21"/>
                  </a:lnTo>
                  <a:lnTo>
                    <a:pt x="263" y="31"/>
                  </a:lnTo>
                  <a:lnTo>
                    <a:pt x="390" y="42"/>
                  </a:lnTo>
                  <a:lnTo>
                    <a:pt x="558" y="52"/>
                  </a:lnTo>
                  <a:lnTo>
                    <a:pt x="684" y="52"/>
                  </a:lnTo>
                  <a:lnTo>
                    <a:pt x="716" y="63"/>
                  </a:lnTo>
                  <a:lnTo>
                    <a:pt x="779" y="73"/>
                  </a:lnTo>
                  <a:lnTo>
                    <a:pt x="642" y="73"/>
                  </a:lnTo>
                  <a:lnTo>
                    <a:pt x="411" y="84"/>
                  </a:lnTo>
                  <a:lnTo>
                    <a:pt x="200" y="105"/>
                  </a:lnTo>
                  <a:lnTo>
                    <a:pt x="158" y="105"/>
                  </a:lnTo>
                  <a:lnTo>
                    <a:pt x="95" y="105"/>
                  </a:lnTo>
                  <a:lnTo>
                    <a:pt x="63" y="105"/>
                  </a:lnTo>
                  <a:lnTo>
                    <a:pt x="32" y="105"/>
                  </a:lnTo>
                  <a:lnTo>
                    <a:pt x="105" y="126"/>
                  </a:lnTo>
                  <a:lnTo>
                    <a:pt x="211" y="137"/>
                  </a:lnTo>
                  <a:lnTo>
                    <a:pt x="358" y="158"/>
                  </a:lnTo>
                  <a:lnTo>
                    <a:pt x="484" y="168"/>
                  </a:lnTo>
                  <a:lnTo>
                    <a:pt x="632" y="168"/>
                  </a:lnTo>
                  <a:lnTo>
                    <a:pt x="695" y="168"/>
                  </a:lnTo>
                  <a:lnTo>
                    <a:pt x="653" y="168"/>
                  </a:lnTo>
                  <a:lnTo>
                    <a:pt x="547" y="168"/>
                  </a:lnTo>
                  <a:lnTo>
                    <a:pt x="421" y="168"/>
                  </a:lnTo>
                  <a:lnTo>
                    <a:pt x="295" y="179"/>
                  </a:lnTo>
                  <a:lnTo>
                    <a:pt x="190" y="179"/>
                  </a:lnTo>
                  <a:lnTo>
                    <a:pt x="84" y="189"/>
                  </a:lnTo>
                  <a:lnTo>
                    <a:pt x="0" y="189"/>
                  </a:lnTo>
                  <a:lnTo>
                    <a:pt x="63" y="210"/>
                  </a:lnTo>
                  <a:lnTo>
                    <a:pt x="148" y="210"/>
                  </a:lnTo>
                  <a:lnTo>
                    <a:pt x="274" y="231"/>
                  </a:lnTo>
                  <a:lnTo>
                    <a:pt x="442" y="231"/>
                  </a:lnTo>
                  <a:lnTo>
                    <a:pt x="611" y="242"/>
                  </a:lnTo>
                  <a:lnTo>
                    <a:pt x="695" y="242"/>
                  </a:lnTo>
                  <a:lnTo>
                    <a:pt x="663" y="252"/>
                  </a:lnTo>
                  <a:lnTo>
                    <a:pt x="579" y="252"/>
                  </a:lnTo>
                  <a:lnTo>
                    <a:pt x="411" y="273"/>
                  </a:lnTo>
                  <a:lnTo>
                    <a:pt x="221" y="294"/>
                  </a:lnTo>
                  <a:lnTo>
                    <a:pt x="158" y="294"/>
                  </a:lnTo>
                  <a:lnTo>
                    <a:pt x="158" y="316"/>
                  </a:lnTo>
                  <a:lnTo>
                    <a:pt x="221" y="316"/>
                  </a:lnTo>
                  <a:lnTo>
                    <a:pt x="305" y="337"/>
                  </a:lnTo>
                  <a:lnTo>
                    <a:pt x="369" y="337"/>
                  </a:lnTo>
                  <a:lnTo>
                    <a:pt x="411" y="347"/>
                  </a:lnTo>
                  <a:lnTo>
                    <a:pt x="442" y="358"/>
                  </a:lnTo>
                  <a:lnTo>
                    <a:pt x="369" y="379"/>
                  </a:lnTo>
                  <a:lnTo>
                    <a:pt x="347" y="379"/>
                  </a:lnTo>
                  <a:lnTo>
                    <a:pt x="263" y="379"/>
                  </a:lnTo>
                  <a:lnTo>
                    <a:pt x="200" y="379"/>
                  </a:lnTo>
                  <a:lnTo>
                    <a:pt x="263" y="400"/>
                  </a:lnTo>
                  <a:lnTo>
                    <a:pt x="326" y="400"/>
                  </a:lnTo>
                  <a:lnTo>
                    <a:pt x="390" y="410"/>
                  </a:lnTo>
                  <a:lnTo>
                    <a:pt x="474" y="410"/>
                  </a:lnTo>
                  <a:lnTo>
                    <a:pt x="505" y="410"/>
                  </a:lnTo>
                  <a:lnTo>
                    <a:pt x="492" y="388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117"/>
            <p:cNvSpPr/>
            <p:nvPr/>
          </p:nvSpPr>
          <p:spPr>
            <a:xfrm>
              <a:off x="1230480" y="2362320"/>
              <a:ext cx="101160" cy="5043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64" h="318">
                  <a:moveTo>
                    <a:pt x="41" y="0"/>
                  </a:moveTo>
                  <a:lnTo>
                    <a:pt x="32" y="54"/>
                  </a:lnTo>
                  <a:lnTo>
                    <a:pt x="32" y="96"/>
                  </a:lnTo>
                  <a:lnTo>
                    <a:pt x="32" y="128"/>
                  </a:lnTo>
                  <a:lnTo>
                    <a:pt x="32" y="160"/>
                  </a:lnTo>
                  <a:lnTo>
                    <a:pt x="21" y="191"/>
                  </a:lnTo>
                  <a:lnTo>
                    <a:pt x="11" y="223"/>
                  </a:lnTo>
                  <a:lnTo>
                    <a:pt x="11" y="254"/>
                  </a:lnTo>
                  <a:lnTo>
                    <a:pt x="0" y="286"/>
                  </a:lnTo>
                  <a:lnTo>
                    <a:pt x="0" y="317"/>
                  </a:lnTo>
                  <a:lnTo>
                    <a:pt x="21" y="286"/>
                  </a:lnTo>
                  <a:lnTo>
                    <a:pt x="42" y="254"/>
                  </a:lnTo>
                  <a:lnTo>
                    <a:pt x="42" y="223"/>
                  </a:lnTo>
                  <a:lnTo>
                    <a:pt x="53" y="191"/>
                  </a:lnTo>
                  <a:lnTo>
                    <a:pt x="63" y="160"/>
                  </a:lnTo>
                  <a:lnTo>
                    <a:pt x="63" y="138"/>
                  </a:lnTo>
                  <a:lnTo>
                    <a:pt x="63" y="107"/>
                  </a:lnTo>
                  <a:lnTo>
                    <a:pt x="63" y="75"/>
                  </a:lnTo>
                  <a:lnTo>
                    <a:pt x="63" y="44"/>
                  </a:lnTo>
                  <a:lnTo>
                    <a:pt x="41" y="48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118"/>
            <p:cNvSpPr/>
            <p:nvPr/>
          </p:nvSpPr>
          <p:spPr>
            <a:xfrm>
              <a:off x="2031840" y="2362320"/>
              <a:ext cx="102960" cy="5551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555120"/>
                <a:gd name="textAreaBottom" fmla="*/ 555480 h 555120"/>
              </a:gdLst>
              <a:ahLst/>
              <a:rect l="textAreaLeft" t="textAreaTop" r="textAreaRight" b="textAreaBottom"/>
              <a:pathLst>
                <a:path w="65" h="350">
                  <a:moveTo>
                    <a:pt x="64" y="0"/>
                  </a:moveTo>
                  <a:lnTo>
                    <a:pt x="42" y="44"/>
                  </a:lnTo>
                  <a:lnTo>
                    <a:pt x="42" y="75"/>
                  </a:lnTo>
                  <a:lnTo>
                    <a:pt x="42" y="107"/>
                  </a:lnTo>
                  <a:lnTo>
                    <a:pt x="42" y="138"/>
                  </a:lnTo>
                  <a:lnTo>
                    <a:pt x="42" y="160"/>
                  </a:lnTo>
                  <a:lnTo>
                    <a:pt x="42" y="191"/>
                  </a:lnTo>
                  <a:lnTo>
                    <a:pt x="42" y="223"/>
                  </a:lnTo>
                  <a:lnTo>
                    <a:pt x="32" y="254"/>
                  </a:lnTo>
                  <a:lnTo>
                    <a:pt x="21" y="286"/>
                  </a:lnTo>
                  <a:lnTo>
                    <a:pt x="21" y="317"/>
                  </a:lnTo>
                  <a:lnTo>
                    <a:pt x="21" y="349"/>
                  </a:lnTo>
                  <a:lnTo>
                    <a:pt x="21" y="317"/>
                  </a:lnTo>
                  <a:lnTo>
                    <a:pt x="21" y="286"/>
                  </a:lnTo>
                  <a:lnTo>
                    <a:pt x="21" y="254"/>
                  </a:lnTo>
                  <a:lnTo>
                    <a:pt x="11" y="223"/>
                  </a:lnTo>
                  <a:lnTo>
                    <a:pt x="0" y="191"/>
                  </a:lnTo>
                  <a:lnTo>
                    <a:pt x="0" y="160"/>
                  </a:lnTo>
                  <a:lnTo>
                    <a:pt x="0" y="138"/>
                  </a:lnTo>
                  <a:lnTo>
                    <a:pt x="0" y="107"/>
                  </a:lnTo>
                  <a:lnTo>
                    <a:pt x="0" y="75"/>
                  </a:lnTo>
                  <a:lnTo>
                    <a:pt x="11" y="44"/>
                  </a:lnTo>
                  <a:lnTo>
                    <a:pt x="16" y="0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19"/>
            <p:cNvSpPr/>
            <p:nvPr/>
          </p:nvSpPr>
          <p:spPr>
            <a:xfrm>
              <a:off x="5649840" y="2438280"/>
              <a:ext cx="101160" cy="5043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64" h="318">
                  <a:moveTo>
                    <a:pt x="41" y="0"/>
                  </a:moveTo>
                  <a:lnTo>
                    <a:pt x="32" y="54"/>
                  </a:lnTo>
                  <a:lnTo>
                    <a:pt x="32" y="96"/>
                  </a:lnTo>
                  <a:lnTo>
                    <a:pt x="32" y="128"/>
                  </a:lnTo>
                  <a:lnTo>
                    <a:pt x="32" y="160"/>
                  </a:lnTo>
                  <a:lnTo>
                    <a:pt x="21" y="191"/>
                  </a:lnTo>
                  <a:lnTo>
                    <a:pt x="11" y="223"/>
                  </a:lnTo>
                  <a:lnTo>
                    <a:pt x="11" y="254"/>
                  </a:lnTo>
                  <a:lnTo>
                    <a:pt x="0" y="286"/>
                  </a:lnTo>
                  <a:lnTo>
                    <a:pt x="0" y="317"/>
                  </a:lnTo>
                  <a:lnTo>
                    <a:pt x="21" y="286"/>
                  </a:lnTo>
                  <a:lnTo>
                    <a:pt x="42" y="254"/>
                  </a:lnTo>
                  <a:lnTo>
                    <a:pt x="42" y="223"/>
                  </a:lnTo>
                  <a:lnTo>
                    <a:pt x="53" y="191"/>
                  </a:lnTo>
                  <a:lnTo>
                    <a:pt x="63" y="160"/>
                  </a:lnTo>
                  <a:lnTo>
                    <a:pt x="63" y="138"/>
                  </a:lnTo>
                  <a:lnTo>
                    <a:pt x="63" y="107"/>
                  </a:lnTo>
                  <a:lnTo>
                    <a:pt x="63" y="75"/>
                  </a:lnTo>
                  <a:lnTo>
                    <a:pt x="63" y="44"/>
                  </a:lnTo>
                  <a:lnTo>
                    <a:pt x="41" y="48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120"/>
            <p:cNvSpPr/>
            <p:nvPr/>
          </p:nvSpPr>
          <p:spPr>
            <a:xfrm>
              <a:off x="6638760" y="2362320"/>
              <a:ext cx="101160" cy="5043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64" h="318">
                  <a:moveTo>
                    <a:pt x="22" y="0"/>
                  </a:moveTo>
                  <a:lnTo>
                    <a:pt x="31" y="54"/>
                  </a:lnTo>
                  <a:lnTo>
                    <a:pt x="31" y="96"/>
                  </a:lnTo>
                  <a:lnTo>
                    <a:pt x="31" y="128"/>
                  </a:lnTo>
                  <a:lnTo>
                    <a:pt x="31" y="160"/>
                  </a:lnTo>
                  <a:lnTo>
                    <a:pt x="42" y="191"/>
                  </a:lnTo>
                  <a:lnTo>
                    <a:pt x="52" y="223"/>
                  </a:lnTo>
                  <a:lnTo>
                    <a:pt x="52" y="254"/>
                  </a:lnTo>
                  <a:lnTo>
                    <a:pt x="63" y="286"/>
                  </a:lnTo>
                  <a:lnTo>
                    <a:pt x="63" y="317"/>
                  </a:lnTo>
                  <a:lnTo>
                    <a:pt x="42" y="286"/>
                  </a:lnTo>
                  <a:lnTo>
                    <a:pt x="21" y="254"/>
                  </a:lnTo>
                  <a:lnTo>
                    <a:pt x="21" y="223"/>
                  </a:lnTo>
                  <a:lnTo>
                    <a:pt x="10" y="191"/>
                  </a:lnTo>
                  <a:lnTo>
                    <a:pt x="0" y="160"/>
                  </a:lnTo>
                  <a:lnTo>
                    <a:pt x="0" y="138"/>
                  </a:lnTo>
                  <a:lnTo>
                    <a:pt x="0" y="107"/>
                  </a:lnTo>
                  <a:lnTo>
                    <a:pt x="0" y="75"/>
                  </a:lnTo>
                  <a:lnTo>
                    <a:pt x="0" y="44"/>
                  </a:lnTo>
                  <a:lnTo>
                    <a:pt x="22" y="48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121"/>
            <p:cNvSpPr/>
            <p:nvPr/>
          </p:nvSpPr>
          <p:spPr>
            <a:xfrm>
              <a:off x="7594560" y="2362320"/>
              <a:ext cx="102960" cy="5551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555120"/>
                <a:gd name="textAreaBottom" fmla="*/ 555480 h 555120"/>
              </a:gdLst>
              <a:ahLst/>
              <a:rect l="textAreaLeft" t="textAreaTop" r="textAreaRight" b="textAreaBottom"/>
              <a:pathLst>
                <a:path w="65" h="350">
                  <a:moveTo>
                    <a:pt x="64" y="0"/>
                  </a:moveTo>
                  <a:lnTo>
                    <a:pt x="42" y="44"/>
                  </a:lnTo>
                  <a:lnTo>
                    <a:pt x="42" y="75"/>
                  </a:lnTo>
                  <a:lnTo>
                    <a:pt x="42" y="107"/>
                  </a:lnTo>
                  <a:lnTo>
                    <a:pt x="42" y="138"/>
                  </a:lnTo>
                  <a:lnTo>
                    <a:pt x="42" y="160"/>
                  </a:lnTo>
                  <a:lnTo>
                    <a:pt x="42" y="191"/>
                  </a:lnTo>
                  <a:lnTo>
                    <a:pt x="42" y="223"/>
                  </a:lnTo>
                  <a:lnTo>
                    <a:pt x="32" y="254"/>
                  </a:lnTo>
                  <a:lnTo>
                    <a:pt x="21" y="286"/>
                  </a:lnTo>
                  <a:lnTo>
                    <a:pt x="21" y="317"/>
                  </a:lnTo>
                  <a:lnTo>
                    <a:pt x="21" y="349"/>
                  </a:lnTo>
                  <a:lnTo>
                    <a:pt x="21" y="317"/>
                  </a:lnTo>
                  <a:lnTo>
                    <a:pt x="21" y="286"/>
                  </a:lnTo>
                  <a:lnTo>
                    <a:pt x="21" y="254"/>
                  </a:lnTo>
                  <a:lnTo>
                    <a:pt x="11" y="223"/>
                  </a:lnTo>
                  <a:lnTo>
                    <a:pt x="0" y="191"/>
                  </a:lnTo>
                  <a:lnTo>
                    <a:pt x="0" y="160"/>
                  </a:lnTo>
                  <a:lnTo>
                    <a:pt x="0" y="138"/>
                  </a:lnTo>
                  <a:lnTo>
                    <a:pt x="0" y="107"/>
                  </a:lnTo>
                  <a:lnTo>
                    <a:pt x="0" y="75"/>
                  </a:lnTo>
                  <a:lnTo>
                    <a:pt x="11" y="44"/>
                  </a:lnTo>
                  <a:lnTo>
                    <a:pt x="16" y="0"/>
                  </a:lnTo>
                </a:path>
              </a:pathLst>
            </a:custGeom>
            <a:noFill/>
            <a:ln cap="rnd" w="508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7" name="Line 123"/>
          <p:cNvSpPr/>
          <p:nvPr/>
        </p:nvSpPr>
        <p:spPr>
          <a:xfrm>
            <a:off x="2666880" y="1066680"/>
            <a:ext cx="360" cy="533520"/>
          </a:xfrm>
          <a:prstGeom prst="line">
            <a:avLst/>
          </a:prstGeom>
          <a:ln w="12700">
            <a:solidFill>
              <a:srgbClr val="4f81bd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Line 124"/>
          <p:cNvSpPr/>
          <p:nvPr/>
        </p:nvSpPr>
        <p:spPr>
          <a:xfrm>
            <a:off x="4267080" y="3124080"/>
            <a:ext cx="457200" cy="609480"/>
          </a:xfrm>
          <a:prstGeom prst="line">
            <a:avLst/>
          </a:prstGeom>
          <a:ln w="25400">
            <a:solidFill>
              <a:srgbClr val="f79646">
                <a:lumMod val="50000"/>
              </a:srgbClr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Rectangle 125"/>
          <p:cNvSpPr/>
          <p:nvPr/>
        </p:nvSpPr>
        <p:spPr>
          <a:xfrm>
            <a:off x="5181480" y="5410080"/>
            <a:ext cx="3960360" cy="137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hlink"/>
                </a:solidFill>
                <a:latin typeface="Calibri"/>
              </a:rPr>
              <a:t>STRATIFIED SQUAMOUS EPITHELIUM </a:t>
            </a:r>
            <a:r>
              <a:rPr b="1" lang="en-US" sz="2800" spc="-1" strike="noStrike">
                <a:solidFill>
                  <a:schemeClr val="hlink"/>
                </a:solidFill>
                <a:latin typeface="Calibri"/>
              </a:rPr>
              <a:t>slightly</a:t>
            </a:r>
            <a:r>
              <a:rPr b="1" lang="ru-RU" sz="2800" spc="-1" strike="noStrike">
                <a:solidFill>
                  <a:schemeClr val="hlink"/>
                </a:solidFill>
                <a:latin typeface="Calibri"/>
              </a:rPr>
              <a:t>-kerati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26"/>
          <p:cNvSpPr/>
          <p:nvPr/>
        </p:nvSpPr>
        <p:spPr>
          <a:xfrm>
            <a:off x="6019920" y="1143000"/>
            <a:ext cx="2285640" cy="51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Periost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rc 127"/>
          <p:cNvSpPr/>
          <p:nvPr/>
        </p:nvSpPr>
        <p:spPr>
          <a:xfrm>
            <a:off x="5562720" y="1371600"/>
            <a:ext cx="456840" cy="914040"/>
          </a:xfrm>
          <a:custGeom>
            <a:avLst/>
            <a:gdLst>
              <a:gd name="textAreaLeft" fmla="*/ 0 w 456840"/>
              <a:gd name="textAreaRight" fmla="*/ 457200 w 456840"/>
              <a:gd name="textAreaTop" fmla="*/ 0 h 914040"/>
              <a:gd name="textAreaBottom" fmla="*/ 914400 h 91404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600"/>
                </a:moveTo>
                <a:cubicBezTo>
                  <a:pt x="0" y="9699"/>
                  <a:pt x="9625" y="41"/>
                  <a:pt x="21525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99"/>
                  <a:pt x="9625" y="41"/>
                  <a:pt x="21525" y="0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12700">
            <a:solidFill>
              <a:srgbClr val="f79646">
                <a:lumMod val="50000"/>
              </a:srgbClr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Rectangle 128"/>
          <p:cNvSpPr/>
          <p:nvPr/>
        </p:nvSpPr>
        <p:spPr>
          <a:xfrm>
            <a:off x="74520" y="4268880"/>
            <a:ext cx="4497120" cy="244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1.Fatty zone – </a:t>
            </a:r>
            <a:r>
              <a:rPr b="1" lang="ru-RU" sz="3200" spc="-1" strike="noStrike" u="sng">
                <a:solidFill>
                  <a:srgbClr val="558ed5"/>
                </a:solidFill>
                <a:uFillTx/>
                <a:latin typeface="Calibri"/>
              </a:rPr>
              <a:t>a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. Glandular zone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MUCOU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pos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29"/>
          <p:cNvSpPr/>
          <p:nvPr/>
        </p:nvSpPr>
        <p:spPr>
          <a:xfrm flipH="1">
            <a:off x="1523880" y="3084480"/>
            <a:ext cx="38160" cy="1030320"/>
          </a:xfrm>
          <a:prstGeom prst="line">
            <a:avLst/>
          </a:prstGeom>
          <a:ln>
            <a:solidFill>
              <a:srgbClr val="4bacc6"/>
            </a:solidFill>
            <a:round/>
            <a:headEnd len="lg" type="stealth" w="med"/>
          </a:ln>
        </p:spPr>
        <p:style>
          <a:lnRef idx="3">
            <a:schemeClr val="accent5"/>
          </a:lnRef>
          <a:fillRef idx="0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Arc 133"/>
          <p:cNvSpPr/>
          <p:nvPr/>
        </p:nvSpPr>
        <p:spPr>
          <a:xfrm>
            <a:off x="8534520" y="3352680"/>
            <a:ext cx="151920" cy="1980720"/>
          </a:xfrm>
          <a:custGeom>
            <a:avLst/>
            <a:gdLst>
              <a:gd name="textAreaLeft" fmla="*/ 0 w 151920"/>
              <a:gd name="textAreaRight" fmla="*/ 152280 w 151920"/>
              <a:gd name="textAreaTop" fmla="*/ 0 h 1980720"/>
              <a:gd name="textAreaBottom" fmla="*/ 1981080 h 198072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25400">
            <a:solidFill>
              <a:srgbClr val="0000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Rectangle 134"/>
          <p:cNvSpPr/>
          <p:nvPr/>
        </p:nvSpPr>
        <p:spPr>
          <a:xfrm flipH="1" flipV="1">
            <a:off x="8984520" y="6773760"/>
            <a:ext cx="387000" cy="40032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25"/>
          <p:cNvGrpSpPr/>
          <p:nvPr/>
        </p:nvGrpSpPr>
        <p:grpSpPr>
          <a:xfrm>
            <a:off x="1143000" y="552600"/>
            <a:ext cx="3409560" cy="6300000"/>
            <a:chOff x="1143000" y="552600"/>
            <a:chExt cx="3409560" cy="6300000"/>
          </a:xfrm>
        </p:grpSpPr>
        <p:grpSp>
          <p:nvGrpSpPr>
            <p:cNvPr id="917" name="Group 4"/>
            <p:cNvGrpSpPr/>
            <p:nvPr/>
          </p:nvGrpSpPr>
          <p:grpSpPr>
            <a:xfrm>
              <a:off x="1143000" y="552600"/>
              <a:ext cx="3409560" cy="6300000"/>
              <a:chOff x="1143000" y="552600"/>
              <a:chExt cx="3409560" cy="6300000"/>
            </a:xfrm>
          </p:grpSpPr>
          <p:sp>
            <p:nvSpPr>
              <p:cNvPr id="918" name="Freeform 2"/>
              <p:cNvSpPr/>
              <p:nvPr/>
            </p:nvSpPr>
            <p:spPr>
              <a:xfrm>
                <a:off x="1219320" y="1601640"/>
                <a:ext cx="3236400" cy="5250960"/>
              </a:xfrm>
              <a:custGeom>
                <a:avLst/>
                <a:gdLst>
                  <a:gd name="textAreaLeft" fmla="*/ 0 w 3236400"/>
                  <a:gd name="textAreaRight" fmla="*/ 3236760 w 3236400"/>
                  <a:gd name="textAreaTop" fmla="*/ 0 h 5250960"/>
                  <a:gd name="textAreaBottom" fmla="*/ 5251320 h 5250960"/>
                </a:gdLst>
                <a:ahLst/>
                <a:rect l="textAreaLeft" t="textAreaTop" r="textAreaRight" b="textAreaBottom"/>
                <a:pathLst>
                  <a:path w="2039" h="3308">
                    <a:moveTo>
                      <a:pt x="0" y="479"/>
                    </a:moveTo>
                    <a:lnTo>
                      <a:pt x="41" y="535"/>
                    </a:lnTo>
                    <a:lnTo>
                      <a:pt x="52" y="622"/>
                    </a:lnTo>
                    <a:lnTo>
                      <a:pt x="63" y="688"/>
                    </a:lnTo>
                    <a:lnTo>
                      <a:pt x="96" y="775"/>
                    </a:lnTo>
                    <a:lnTo>
                      <a:pt x="107" y="841"/>
                    </a:lnTo>
                    <a:lnTo>
                      <a:pt x="128" y="884"/>
                    </a:lnTo>
                    <a:lnTo>
                      <a:pt x="139" y="928"/>
                    </a:lnTo>
                    <a:lnTo>
                      <a:pt x="150" y="994"/>
                    </a:lnTo>
                    <a:lnTo>
                      <a:pt x="172" y="1081"/>
                    </a:lnTo>
                    <a:lnTo>
                      <a:pt x="183" y="1125"/>
                    </a:lnTo>
                    <a:lnTo>
                      <a:pt x="183" y="1190"/>
                    </a:lnTo>
                    <a:lnTo>
                      <a:pt x="205" y="1277"/>
                    </a:lnTo>
                    <a:lnTo>
                      <a:pt x="227" y="1365"/>
                    </a:lnTo>
                    <a:lnTo>
                      <a:pt x="238" y="1430"/>
                    </a:lnTo>
                    <a:lnTo>
                      <a:pt x="259" y="1517"/>
                    </a:lnTo>
                    <a:lnTo>
                      <a:pt x="270" y="1583"/>
                    </a:lnTo>
                    <a:lnTo>
                      <a:pt x="292" y="1670"/>
                    </a:lnTo>
                    <a:lnTo>
                      <a:pt x="314" y="1736"/>
                    </a:lnTo>
                    <a:lnTo>
                      <a:pt x="325" y="1801"/>
                    </a:lnTo>
                    <a:lnTo>
                      <a:pt x="347" y="1888"/>
                    </a:lnTo>
                    <a:lnTo>
                      <a:pt x="358" y="1976"/>
                    </a:lnTo>
                    <a:lnTo>
                      <a:pt x="379" y="2063"/>
                    </a:lnTo>
                    <a:lnTo>
                      <a:pt x="390" y="2129"/>
                    </a:lnTo>
                    <a:lnTo>
                      <a:pt x="412" y="2172"/>
                    </a:lnTo>
                    <a:lnTo>
                      <a:pt x="434" y="2260"/>
                    </a:lnTo>
                    <a:lnTo>
                      <a:pt x="445" y="2325"/>
                    </a:lnTo>
                    <a:lnTo>
                      <a:pt x="467" y="2434"/>
                    </a:lnTo>
                    <a:lnTo>
                      <a:pt x="478" y="2500"/>
                    </a:lnTo>
                    <a:lnTo>
                      <a:pt x="488" y="2587"/>
                    </a:lnTo>
                    <a:lnTo>
                      <a:pt x="521" y="2674"/>
                    </a:lnTo>
                    <a:lnTo>
                      <a:pt x="532" y="2718"/>
                    </a:lnTo>
                    <a:lnTo>
                      <a:pt x="543" y="2783"/>
                    </a:lnTo>
                    <a:lnTo>
                      <a:pt x="565" y="2871"/>
                    </a:lnTo>
                    <a:lnTo>
                      <a:pt x="587" y="2958"/>
                    </a:lnTo>
                    <a:lnTo>
                      <a:pt x="598" y="3024"/>
                    </a:lnTo>
                    <a:lnTo>
                      <a:pt x="609" y="3067"/>
                    </a:lnTo>
                    <a:lnTo>
                      <a:pt x="630" y="3100"/>
                    </a:lnTo>
                    <a:lnTo>
                      <a:pt x="652" y="3133"/>
                    </a:lnTo>
                    <a:lnTo>
                      <a:pt x="674" y="3165"/>
                    </a:lnTo>
                    <a:lnTo>
                      <a:pt x="707" y="3198"/>
                    </a:lnTo>
                    <a:lnTo>
                      <a:pt x="729" y="3231"/>
                    </a:lnTo>
                    <a:lnTo>
                      <a:pt x="761" y="3253"/>
                    </a:lnTo>
                    <a:lnTo>
                      <a:pt x="794" y="3275"/>
                    </a:lnTo>
                    <a:lnTo>
                      <a:pt x="827" y="3285"/>
                    </a:lnTo>
                    <a:lnTo>
                      <a:pt x="870" y="3296"/>
                    </a:lnTo>
                    <a:lnTo>
                      <a:pt x="903" y="3307"/>
                    </a:lnTo>
                    <a:lnTo>
                      <a:pt x="936" y="3307"/>
                    </a:lnTo>
                    <a:lnTo>
                      <a:pt x="969" y="3307"/>
                    </a:lnTo>
                    <a:lnTo>
                      <a:pt x="1001" y="3307"/>
                    </a:lnTo>
                    <a:lnTo>
                      <a:pt x="1034" y="3307"/>
                    </a:lnTo>
                    <a:lnTo>
                      <a:pt x="1067" y="3296"/>
                    </a:lnTo>
                    <a:lnTo>
                      <a:pt x="1099" y="3285"/>
                    </a:lnTo>
                    <a:lnTo>
                      <a:pt x="1132" y="3275"/>
                    </a:lnTo>
                    <a:lnTo>
                      <a:pt x="1165" y="3264"/>
                    </a:lnTo>
                    <a:lnTo>
                      <a:pt x="1198" y="3253"/>
                    </a:lnTo>
                    <a:lnTo>
                      <a:pt x="1230" y="3231"/>
                    </a:lnTo>
                    <a:lnTo>
                      <a:pt x="1263" y="3209"/>
                    </a:lnTo>
                    <a:lnTo>
                      <a:pt x="1296" y="3176"/>
                    </a:lnTo>
                    <a:lnTo>
                      <a:pt x="1329" y="3154"/>
                    </a:lnTo>
                    <a:lnTo>
                      <a:pt x="1361" y="3122"/>
                    </a:lnTo>
                    <a:lnTo>
                      <a:pt x="1394" y="3089"/>
                    </a:lnTo>
                    <a:lnTo>
                      <a:pt x="1427" y="3013"/>
                    </a:lnTo>
                    <a:lnTo>
                      <a:pt x="1460" y="2925"/>
                    </a:lnTo>
                    <a:lnTo>
                      <a:pt x="1470" y="2860"/>
                    </a:lnTo>
                    <a:lnTo>
                      <a:pt x="1481" y="2816"/>
                    </a:lnTo>
                    <a:lnTo>
                      <a:pt x="1503" y="2772"/>
                    </a:lnTo>
                    <a:lnTo>
                      <a:pt x="1525" y="2729"/>
                    </a:lnTo>
                    <a:lnTo>
                      <a:pt x="1536" y="2685"/>
                    </a:lnTo>
                    <a:lnTo>
                      <a:pt x="1569" y="2642"/>
                    </a:lnTo>
                    <a:lnTo>
                      <a:pt x="1601" y="2554"/>
                    </a:lnTo>
                    <a:lnTo>
                      <a:pt x="1623" y="2511"/>
                    </a:lnTo>
                    <a:lnTo>
                      <a:pt x="1634" y="2445"/>
                    </a:lnTo>
                    <a:lnTo>
                      <a:pt x="1656" y="2358"/>
                    </a:lnTo>
                    <a:lnTo>
                      <a:pt x="1678" y="2314"/>
                    </a:lnTo>
                    <a:lnTo>
                      <a:pt x="1700" y="2227"/>
                    </a:lnTo>
                    <a:lnTo>
                      <a:pt x="1710" y="2183"/>
                    </a:lnTo>
                    <a:lnTo>
                      <a:pt x="1710" y="2150"/>
                    </a:lnTo>
                    <a:lnTo>
                      <a:pt x="1721" y="2107"/>
                    </a:lnTo>
                    <a:lnTo>
                      <a:pt x="1732" y="2041"/>
                    </a:lnTo>
                    <a:lnTo>
                      <a:pt x="1743" y="1954"/>
                    </a:lnTo>
                    <a:lnTo>
                      <a:pt x="1754" y="1910"/>
                    </a:lnTo>
                    <a:lnTo>
                      <a:pt x="1754" y="1845"/>
                    </a:lnTo>
                    <a:lnTo>
                      <a:pt x="1765" y="1801"/>
                    </a:lnTo>
                    <a:lnTo>
                      <a:pt x="1776" y="1714"/>
                    </a:lnTo>
                    <a:lnTo>
                      <a:pt x="1798" y="1627"/>
                    </a:lnTo>
                    <a:lnTo>
                      <a:pt x="1809" y="1539"/>
                    </a:lnTo>
                    <a:lnTo>
                      <a:pt x="1831" y="1474"/>
                    </a:lnTo>
                    <a:lnTo>
                      <a:pt x="1841" y="1408"/>
                    </a:lnTo>
                    <a:lnTo>
                      <a:pt x="1852" y="1321"/>
                    </a:lnTo>
                    <a:lnTo>
                      <a:pt x="1863" y="1288"/>
                    </a:lnTo>
                    <a:lnTo>
                      <a:pt x="1874" y="1201"/>
                    </a:lnTo>
                    <a:lnTo>
                      <a:pt x="1885" y="1135"/>
                    </a:lnTo>
                    <a:lnTo>
                      <a:pt x="1896" y="1092"/>
                    </a:lnTo>
                    <a:lnTo>
                      <a:pt x="1918" y="1048"/>
                    </a:lnTo>
                    <a:lnTo>
                      <a:pt x="1929" y="1015"/>
                    </a:lnTo>
                    <a:lnTo>
                      <a:pt x="1929" y="972"/>
                    </a:lnTo>
                    <a:lnTo>
                      <a:pt x="1940" y="906"/>
                    </a:lnTo>
                    <a:lnTo>
                      <a:pt x="1951" y="863"/>
                    </a:lnTo>
                    <a:lnTo>
                      <a:pt x="1961" y="819"/>
                    </a:lnTo>
                    <a:lnTo>
                      <a:pt x="1972" y="786"/>
                    </a:lnTo>
                    <a:lnTo>
                      <a:pt x="1983" y="753"/>
                    </a:lnTo>
                    <a:lnTo>
                      <a:pt x="1994" y="721"/>
                    </a:lnTo>
                    <a:lnTo>
                      <a:pt x="2005" y="688"/>
                    </a:lnTo>
                    <a:lnTo>
                      <a:pt x="2005" y="655"/>
                    </a:lnTo>
                    <a:lnTo>
                      <a:pt x="2005" y="622"/>
                    </a:lnTo>
                    <a:lnTo>
                      <a:pt x="2016" y="590"/>
                    </a:lnTo>
                    <a:lnTo>
                      <a:pt x="2016" y="557"/>
                    </a:lnTo>
                    <a:lnTo>
                      <a:pt x="2016" y="524"/>
                    </a:lnTo>
                    <a:lnTo>
                      <a:pt x="2027" y="492"/>
                    </a:lnTo>
                    <a:lnTo>
                      <a:pt x="2027" y="459"/>
                    </a:lnTo>
                    <a:lnTo>
                      <a:pt x="2038" y="426"/>
                    </a:lnTo>
                    <a:lnTo>
                      <a:pt x="2005" y="404"/>
                    </a:lnTo>
                    <a:lnTo>
                      <a:pt x="1972" y="393"/>
                    </a:lnTo>
                    <a:lnTo>
                      <a:pt x="1940" y="371"/>
                    </a:lnTo>
                    <a:lnTo>
                      <a:pt x="1907" y="339"/>
                    </a:lnTo>
                    <a:lnTo>
                      <a:pt x="1874" y="317"/>
                    </a:lnTo>
                    <a:lnTo>
                      <a:pt x="1841" y="295"/>
                    </a:lnTo>
                    <a:lnTo>
                      <a:pt x="1776" y="284"/>
                    </a:lnTo>
                    <a:lnTo>
                      <a:pt x="1732" y="251"/>
                    </a:lnTo>
                    <a:lnTo>
                      <a:pt x="1700" y="241"/>
                    </a:lnTo>
                    <a:lnTo>
                      <a:pt x="1612" y="219"/>
                    </a:lnTo>
                    <a:lnTo>
                      <a:pt x="1580" y="197"/>
                    </a:lnTo>
                    <a:lnTo>
                      <a:pt x="1547" y="186"/>
                    </a:lnTo>
                    <a:lnTo>
                      <a:pt x="1514" y="164"/>
                    </a:lnTo>
                    <a:lnTo>
                      <a:pt x="1481" y="153"/>
                    </a:lnTo>
                    <a:lnTo>
                      <a:pt x="1449" y="131"/>
                    </a:lnTo>
                    <a:lnTo>
                      <a:pt x="1405" y="120"/>
                    </a:lnTo>
                    <a:lnTo>
                      <a:pt x="1372" y="99"/>
                    </a:lnTo>
                    <a:lnTo>
                      <a:pt x="1329" y="88"/>
                    </a:lnTo>
                    <a:lnTo>
                      <a:pt x="1296" y="66"/>
                    </a:lnTo>
                    <a:lnTo>
                      <a:pt x="1230" y="55"/>
                    </a:lnTo>
                    <a:lnTo>
                      <a:pt x="1198" y="44"/>
                    </a:lnTo>
                    <a:lnTo>
                      <a:pt x="1165" y="33"/>
                    </a:lnTo>
                    <a:lnTo>
                      <a:pt x="1132" y="22"/>
                    </a:lnTo>
                    <a:lnTo>
                      <a:pt x="1099" y="11"/>
                    </a:lnTo>
                    <a:lnTo>
                      <a:pt x="1067" y="0"/>
                    </a:lnTo>
                    <a:lnTo>
                      <a:pt x="1034" y="0"/>
                    </a:lnTo>
                    <a:lnTo>
                      <a:pt x="1001" y="0"/>
                    </a:lnTo>
                    <a:lnTo>
                      <a:pt x="969" y="0"/>
                    </a:lnTo>
                    <a:lnTo>
                      <a:pt x="925" y="0"/>
                    </a:lnTo>
                    <a:lnTo>
                      <a:pt x="892" y="11"/>
                    </a:lnTo>
                    <a:lnTo>
                      <a:pt x="859" y="22"/>
                    </a:lnTo>
                    <a:lnTo>
                      <a:pt x="827" y="33"/>
                    </a:lnTo>
                    <a:lnTo>
                      <a:pt x="794" y="44"/>
                    </a:lnTo>
                    <a:lnTo>
                      <a:pt x="750" y="66"/>
                    </a:lnTo>
                    <a:lnTo>
                      <a:pt x="718" y="88"/>
                    </a:lnTo>
                    <a:lnTo>
                      <a:pt x="685" y="110"/>
                    </a:lnTo>
                    <a:lnTo>
                      <a:pt x="652" y="120"/>
                    </a:lnTo>
                    <a:lnTo>
                      <a:pt x="619" y="142"/>
                    </a:lnTo>
                    <a:lnTo>
                      <a:pt x="587" y="153"/>
                    </a:lnTo>
                    <a:lnTo>
                      <a:pt x="554" y="175"/>
                    </a:lnTo>
                    <a:lnTo>
                      <a:pt x="521" y="197"/>
                    </a:lnTo>
                    <a:lnTo>
                      <a:pt x="456" y="208"/>
                    </a:lnTo>
                    <a:lnTo>
                      <a:pt x="379" y="241"/>
                    </a:lnTo>
                    <a:lnTo>
                      <a:pt x="347" y="262"/>
                    </a:lnTo>
                    <a:lnTo>
                      <a:pt x="303" y="284"/>
                    </a:lnTo>
                    <a:lnTo>
                      <a:pt x="270" y="306"/>
                    </a:lnTo>
                    <a:lnTo>
                      <a:pt x="238" y="328"/>
                    </a:lnTo>
                    <a:lnTo>
                      <a:pt x="205" y="328"/>
                    </a:lnTo>
                    <a:lnTo>
                      <a:pt x="172" y="361"/>
                    </a:lnTo>
                    <a:lnTo>
                      <a:pt x="139" y="382"/>
                    </a:lnTo>
                    <a:lnTo>
                      <a:pt x="107" y="393"/>
                    </a:lnTo>
                    <a:lnTo>
                      <a:pt x="74" y="415"/>
                    </a:lnTo>
                    <a:lnTo>
                      <a:pt x="0" y="479"/>
                    </a:lnTo>
                    <a:lnTo>
                      <a:pt x="0" y="479"/>
                    </a:lnTo>
                  </a:path>
                </a:pathLst>
              </a:custGeom>
              <a:pattFill prst="openDmnd">
                <a:fgClr>
                  <a:srgbClr val="ff9966"/>
                </a:fgClr>
                <a:bgClr>
                  <a:srgbClr val="eeece1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3"/>
              <p:cNvSpPr/>
              <p:nvPr/>
            </p:nvSpPr>
            <p:spPr>
              <a:xfrm>
                <a:off x="1143000" y="552600"/>
                <a:ext cx="3409560" cy="1887120"/>
              </a:xfrm>
              <a:custGeom>
                <a:avLst/>
                <a:gdLst>
                  <a:gd name="textAreaLeft" fmla="*/ 0 w 3409560"/>
                  <a:gd name="textAreaRight" fmla="*/ 3409920 w 3409560"/>
                  <a:gd name="textAreaTop" fmla="*/ 0 h 1887120"/>
                  <a:gd name="textAreaBottom" fmla="*/ 1887480 h 1887120"/>
                </a:gdLst>
                <a:ahLst/>
                <a:rect l="textAreaLeft" t="textAreaTop" r="textAreaRight" b="textAreaBottom"/>
                <a:pathLst>
                  <a:path w="2148" h="1189">
                    <a:moveTo>
                      <a:pt x="12" y="1188"/>
                    </a:moveTo>
                    <a:lnTo>
                      <a:pt x="31" y="1135"/>
                    </a:lnTo>
                    <a:lnTo>
                      <a:pt x="31" y="1103"/>
                    </a:lnTo>
                    <a:lnTo>
                      <a:pt x="20" y="1070"/>
                    </a:lnTo>
                    <a:lnTo>
                      <a:pt x="9" y="1037"/>
                    </a:lnTo>
                    <a:lnTo>
                      <a:pt x="0" y="993"/>
                    </a:lnTo>
                    <a:lnTo>
                      <a:pt x="0" y="961"/>
                    </a:lnTo>
                    <a:lnTo>
                      <a:pt x="0" y="895"/>
                    </a:lnTo>
                    <a:lnTo>
                      <a:pt x="0" y="819"/>
                    </a:lnTo>
                    <a:lnTo>
                      <a:pt x="0" y="775"/>
                    </a:lnTo>
                    <a:lnTo>
                      <a:pt x="0" y="742"/>
                    </a:lnTo>
                    <a:lnTo>
                      <a:pt x="0" y="710"/>
                    </a:lnTo>
                    <a:lnTo>
                      <a:pt x="0" y="666"/>
                    </a:lnTo>
                    <a:lnTo>
                      <a:pt x="9" y="633"/>
                    </a:lnTo>
                    <a:lnTo>
                      <a:pt x="9" y="590"/>
                    </a:lnTo>
                    <a:lnTo>
                      <a:pt x="20" y="557"/>
                    </a:lnTo>
                    <a:lnTo>
                      <a:pt x="20" y="513"/>
                    </a:lnTo>
                    <a:lnTo>
                      <a:pt x="20" y="470"/>
                    </a:lnTo>
                    <a:lnTo>
                      <a:pt x="31" y="437"/>
                    </a:lnTo>
                    <a:lnTo>
                      <a:pt x="42" y="404"/>
                    </a:lnTo>
                    <a:lnTo>
                      <a:pt x="53" y="360"/>
                    </a:lnTo>
                    <a:lnTo>
                      <a:pt x="53" y="295"/>
                    </a:lnTo>
                    <a:lnTo>
                      <a:pt x="75" y="251"/>
                    </a:lnTo>
                    <a:lnTo>
                      <a:pt x="97" y="208"/>
                    </a:lnTo>
                    <a:lnTo>
                      <a:pt x="119" y="164"/>
                    </a:lnTo>
                    <a:lnTo>
                      <a:pt x="140" y="131"/>
                    </a:lnTo>
                    <a:lnTo>
                      <a:pt x="183" y="98"/>
                    </a:lnTo>
                    <a:lnTo>
                      <a:pt x="216" y="77"/>
                    </a:lnTo>
                    <a:lnTo>
                      <a:pt x="259" y="55"/>
                    </a:lnTo>
                    <a:lnTo>
                      <a:pt x="292" y="44"/>
                    </a:lnTo>
                    <a:lnTo>
                      <a:pt x="378" y="33"/>
                    </a:lnTo>
                    <a:lnTo>
                      <a:pt x="444" y="22"/>
                    </a:lnTo>
                    <a:lnTo>
                      <a:pt x="508" y="22"/>
                    </a:lnTo>
                    <a:lnTo>
                      <a:pt x="574" y="11"/>
                    </a:lnTo>
                    <a:lnTo>
                      <a:pt x="650" y="11"/>
                    </a:lnTo>
                    <a:lnTo>
                      <a:pt x="726" y="0"/>
                    </a:lnTo>
                    <a:lnTo>
                      <a:pt x="769" y="0"/>
                    </a:lnTo>
                    <a:lnTo>
                      <a:pt x="802" y="0"/>
                    </a:lnTo>
                    <a:lnTo>
                      <a:pt x="834" y="0"/>
                    </a:lnTo>
                    <a:lnTo>
                      <a:pt x="866" y="0"/>
                    </a:lnTo>
                    <a:lnTo>
                      <a:pt x="899" y="0"/>
                    </a:lnTo>
                    <a:lnTo>
                      <a:pt x="932" y="0"/>
                    </a:lnTo>
                    <a:lnTo>
                      <a:pt x="976" y="0"/>
                    </a:lnTo>
                    <a:lnTo>
                      <a:pt x="1007" y="0"/>
                    </a:lnTo>
                    <a:lnTo>
                      <a:pt x="1040" y="0"/>
                    </a:lnTo>
                    <a:lnTo>
                      <a:pt x="1105" y="0"/>
                    </a:lnTo>
                    <a:lnTo>
                      <a:pt x="1170" y="0"/>
                    </a:lnTo>
                    <a:lnTo>
                      <a:pt x="1235" y="0"/>
                    </a:lnTo>
                    <a:lnTo>
                      <a:pt x="1301" y="0"/>
                    </a:lnTo>
                    <a:lnTo>
                      <a:pt x="1365" y="0"/>
                    </a:lnTo>
                    <a:lnTo>
                      <a:pt x="1409" y="0"/>
                    </a:lnTo>
                    <a:lnTo>
                      <a:pt x="1453" y="11"/>
                    </a:lnTo>
                    <a:lnTo>
                      <a:pt x="1495" y="11"/>
                    </a:lnTo>
                    <a:lnTo>
                      <a:pt x="1561" y="11"/>
                    </a:lnTo>
                    <a:lnTo>
                      <a:pt x="1593" y="22"/>
                    </a:lnTo>
                    <a:lnTo>
                      <a:pt x="1626" y="22"/>
                    </a:lnTo>
                    <a:lnTo>
                      <a:pt x="1702" y="22"/>
                    </a:lnTo>
                    <a:lnTo>
                      <a:pt x="1734" y="33"/>
                    </a:lnTo>
                    <a:lnTo>
                      <a:pt x="1778" y="33"/>
                    </a:lnTo>
                    <a:lnTo>
                      <a:pt x="1811" y="44"/>
                    </a:lnTo>
                    <a:lnTo>
                      <a:pt x="1842" y="55"/>
                    </a:lnTo>
                    <a:lnTo>
                      <a:pt x="1886" y="66"/>
                    </a:lnTo>
                    <a:lnTo>
                      <a:pt x="1930" y="77"/>
                    </a:lnTo>
                    <a:lnTo>
                      <a:pt x="1962" y="88"/>
                    </a:lnTo>
                    <a:lnTo>
                      <a:pt x="2005" y="98"/>
                    </a:lnTo>
                    <a:lnTo>
                      <a:pt x="2038" y="109"/>
                    </a:lnTo>
                    <a:lnTo>
                      <a:pt x="2071" y="131"/>
                    </a:lnTo>
                    <a:lnTo>
                      <a:pt x="2092" y="164"/>
                    </a:lnTo>
                    <a:lnTo>
                      <a:pt x="2114" y="208"/>
                    </a:lnTo>
                    <a:lnTo>
                      <a:pt x="2136" y="251"/>
                    </a:lnTo>
                    <a:lnTo>
                      <a:pt x="2136" y="295"/>
                    </a:lnTo>
                    <a:lnTo>
                      <a:pt x="2147" y="339"/>
                    </a:lnTo>
                    <a:lnTo>
                      <a:pt x="2147" y="382"/>
                    </a:lnTo>
                    <a:lnTo>
                      <a:pt x="2147" y="426"/>
                    </a:lnTo>
                    <a:lnTo>
                      <a:pt x="2147" y="491"/>
                    </a:lnTo>
                    <a:lnTo>
                      <a:pt x="2147" y="579"/>
                    </a:lnTo>
                    <a:lnTo>
                      <a:pt x="2147" y="644"/>
                    </a:lnTo>
                    <a:lnTo>
                      <a:pt x="2147" y="677"/>
                    </a:lnTo>
                    <a:lnTo>
                      <a:pt x="2147" y="721"/>
                    </a:lnTo>
                    <a:lnTo>
                      <a:pt x="2147" y="753"/>
                    </a:lnTo>
                    <a:lnTo>
                      <a:pt x="2147" y="786"/>
                    </a:lnTo>
                    <a:lnTo>
                      <a:pt x="2147" y="830"/>
                    </a:lnTo>
                    <a:lnTo>
                      <a:pt x="2147" y="873"/>
                    </a:lnTo>
                    <a:lnTo>
                      <a:pt x="2147" y="917"/>
                    </a:lnTo>
                    <a:lnTo>
                      <a:pt x="2147" y="950"/>
                    </a:lnTo>
                    <a:lnTo>
                      <a:pt x="2147" y="982"/>
                    </a:lnTo>
                    <a:lnTo>
                      <a:pt x="2147" y="1026"/>
                    </a:lnTo>
                    <a:lnTo>
                      <a:pt x="2125" y="1070"/>
                    </a:lnTo>
                    <a:lnTo>
                      <a:pt x="2103" y="1103"/>
                    </a:lnTo>
                    <a:lnTo>
                      <a:pt x="2071" y="1135"/>
                    </a:lnTo>
                    <a:lnTo>
                      <a:pt x="2038" y="1135"/>
                    </a:lnTo>
                    <a:lnTo>
                      <a:pt x="2005" y="1135"/>
                    </a:lnTo>
                    <a:lnTo>
                      <a:pt x="1973" y="1135"/>
                    </a:lnTo>
                    <a:lnTo>
                      <a:pt x="1962" y="1103"/>
                    </a:lnTo>
                    <a:lnTo>
                      <a:pt x="1941" y="1070"/>
                    </a:lnTo>
                    <a:lnTo>
                      <a:pt x="1908" y="1048"/>
                    </a:lnTo>
                    <a:lnTo>
                      <a:pt x="1875" y="1037"/>
                    </a:lnTo>
                    <a:lnTo>
                      <a:pt x="1842" y="1026"/>
                    </a:lnTo>
                    <a:lnTo>
                      <a:pt x="1800" y="1004"/>
                    </a:lnTo>
                    <a:lnTo>
                      <a:pt x="1767" y="982"/>
                    </a:lnTo>
                    <a:lnTo>
                      <a:pt x="1734" y="972"/>
                    </a:lnTo>
                    <a:lnTo>
                      <a:pt x="1702" y="950"/>
                    </a:lnTo>
                    <a:lnTo>
                      <a:pt x="1669" y="939"/>
                    </a:lnTo>
                    <a:lnTo>
                      <a:pt x="1637" y="928"/>
                    </a:lnTo>
                    <a:lnTo>
                      <a:pt x="1604" y="917"/>
                    </a:lnTo>
                    <a:lnTo>
                      <a:pt x="1572" y="906"/>
                    </a:lnTo>
                    <a:lnTo>
                      <a:pt x="1539" y="884"/>
                    </a:lnTo>
                    <a:lnTo>
                      <a:pt x="1506" y="873"/>
                    </a:lnTo>
                    <a:lnTo>
                      <a:pt x="1474" y="862"/>
                    </a:lnTo>
                    <a:lnTo>
                      <a:pt x="1442" y="851"/>
                    </a:lnTo>
                    <a:lnTo>
                      <a:pt x="1409" y="841"/>
                    </a:lnTo>
                    <a:lnTo>
                      <a:pt x="1376" y="841"/>
                    </a:lnTo>
                    <a:lnTo>
                      <a:pt x="1344" y="830"/>
                    </a:lnTo>
                    <a:lnTo>
                      <a:pt x="1312" y="819"/>
                    </a:lnTo>
                    <a:lnTo>
                      <a:pt x="1279" y="808"/>
                    </a:lnTo>
                    <a:lnTo>
                      <a:pt x="1246" y="786"/>
                    </a:lnTo>
                    <a:lnTo>
                      <a:pt x="1214" y="775"/>
                    </a:lnTo>
                    <a:lnTo>
                      <a:pt x="1181" y="764"/>
                    </a:lnTo>
                    <a:lnTo>
                      <a:pt x="1149" y="753"/>
                    </a:lnTo>
                    <a:lnTo>
                      <a:pt x="1116" y="742"/>
                    </a:lnTo>
                    <a:lnTo>
                      <a:pt x="1084" y="731"/>
                    </a:lnTo>
                    <a:lnTo>
                      <a:pt x="1051" y="721"/>
                    </a:lnTo>
                    <a:lnTo>
                      <a:pt x="1018" y="721"/>
                    </a:lnTo>
                    <a:lnTo>
                      <a:pt x="986" y="710"/>
                    </a:lnTo>
                    <a:lnTo>
                      <a:pt x="954" y="710"/>
                    </a:lnTo>
                    <a:lnTo>
                      <a:pt x="921" y="710"/>
                    </a:lnTo>
                    <a:lnTo>
                      <a:pt x="888" y="710"/>
                    </a:lnTo>
                    <a:lnTo>
                      <a:pt x="856" y="710"/>
                    </a:lnTo>
                    <a:lnTo>
                      <a:pt x="824" y="731"/>
                    </a:lnTo>
                    <a:lnTo>
                      <a:pt x="791" y="753"/>
                    </a:lnTo>
                    <a:lnTo>
                      <a:pt x="758" y="764"/>
                    </a:lnTo>
                    <a:lnTo>
                      <a:pt x="726" y="786"/>
                    </a:lnTo>
                    <a:lnTo>
                      <a:pt x="693" y="797"/>
                    </a:lnTo>
                    <a:lnTo>
                      <a:pt x="660" y="808"/>
                    </a:lnTo>
                    <a:lnTo>
                      <a:pt x="628" y="819"/>
                    </a:lnTo>
                    <a:lnTo>
                      <a:pt x="596" y="830"/>
                    </a:lnTo>
                    <a:lnTo>
                      <a:pt x="563" y="851"/>
                    </a:lnTo>
                    <a:lnTo>
                      <a:pt x="530" y="862"/>
                    </a:lnTo>
                    <a:lnTo>
                      <a:pt x="497" y="873"/>
                    </a:lnTo>
                    <a:lnTo>
                      <a:pt x="466" y="895"/>
                    </a:lnTo>
                    <a:lnTo>
                      <a:pt x="433" y="906"/>
                    </a:lnTo>
                    <a:lnTo>
                      <a:pt x="400" y="917"/>
                    </a:lnTo>
                    <a:lnTo>
                      <a:pt x="368" y="939"/>
                    </a:lnTo>
                    <a:lnTo>
                      <a:pt x="335" y="961"/>
                    </a:lnTo>
                    <a:lnTo>
                      <a:pt x="303" y="972"/>
                    </a:lnTo>
                    <a:lnTo>
                      <a:pt x="270" y="993"/>
                    </a:lnTo>
                    <a:lnTo>
                      <a:pt x="238" y="1004"/>
                    </a:lnTo>
                    <a:lnTo>
                      <a:pt x="194" y="1037"/>
                    </a:lnTo>
                    <a:lnTo>
                      <a:pt x="162" y="1048"/>
                    </a:lnTo>
                    <a:lnTo>
                      <a:pt x="140" y="1081"/>
                    </a:lnTo>
                    <a:lnTo>
                      <a:pt x="108" y="1113"/>
                    </a:lnTo>
                    <a:lnTo>
                      <a:pt x="75" y="1135"/>
                    </a:lnTo>
                    <a:lnTo>
                      <a:pt x="12" y="1188"/>
                    </a:lnTo>
                    <a:lnTo>
                      <a:pt x="12" y="1188"/>
                    </a:lnTo>
                  </a:path>
                </a:pathLst>
              </a:custGeom>
              <a:pattFill prst="wdUpDiag">
                <a:fgClr>
                  <a:srgbClr val="ff9966"/>
                </a:fgClr>
                <a:bgClr>
                  <a:srgbClr val="eeece1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20" name="Oval 5"/>
            <p:cNvSpPr/>
            <p:nvPr/>
          </p:nvSpPr>
          <p:spPr>
            <a:xfrm>
              <a:off x="1590840" y="197316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Oval 6"/>
            <p:cNvSpPr/>
            <p:nvPr/>
          </p:nvSpPr>
          <p:spPr>
            <a:xfrm>
              <a:off x="1362240" y="212580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Oval 7"/>
            <p:cNvSpPr/>
            <p:nvPr/>
          </p:nvSpPr>
          <p:spPr>
            <a:xfrm>
              <a:off x="1971720" y="182088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Oval 8"/>
            <p:cNvSpPr/>
            <p:nvPr/>
          </p:nvSpPr>
          <p:spPr>
            <a:xfrm>
              <a:off x="2352600" y="166860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Oval 9"/>
            <p:cNvSpPr/>
            <p:nvPr/>
          </p:nvSpPr>
          <p:spPr>
            <a:xfrm>
              <a:off x="2733840" y="159228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Oval 10"/>
            <p:cNvSpPr/>
            <p:nvPr/>
          </p:nvSpPr>
          <p:spPr>
            <a:xfrm>
              <a:off x="3038400" y="174456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Oval 11"/>
            <p:cNvSpPr/>
            <p:nvPr/>
          </p:nvSpPr>
          <p:spPr>
            <a:xfrm>
              <a:off x="3419640" y="189720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Oval 12"/>
            <p:cNvSpPr/>
            <p:nvPr/>
          </p:nvSpPr>
          <p:spPr>
            <a:xfrm>
              <a:off x="3800520" y="204948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Oval 13"/>
            <p:cNvSpPr/>
            <p:nvPr/>
          </p:nvSpPr>
          <p:spPr>
            <a:xfrm>
              <a:off x="4181400" y="2201760"/>
              <a:ext cx="171000" cy="169560"/>
            </a:xfrm>
            <a:prstGeom prst="ellipse">
              <a:avLst/>
            </a:prstGeom>
            <a:solidFill>
              <a:srgbClr val="ff6633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Oval 14"/>
            <p:cNvSpPr/>
            <p:nvPr/>
          </p:nvSpPr>
          <p:spPr>
            <a:xfrm>
              <a:off x="1914480" y="252396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Oval 15"/>
            <p:cNvSpPr/>
            <p:nvPr/>
          </p:nvSpPr>
          <p:spPr>
            <a:xfrm>
              <a:off x="2676600" y="229536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Oval 16"/>
            <p:cNvSpPr/>
            <p:nvPr/>
          </p:nvSpPr>
          <p:spPr>
            <a:xfrm>
              <a:off x="1990800" y="351468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Oval 17"/>
            <p:cNvSpPr/>
            <p:nvPr/>
          </p:nvSpPr>
          <p:spPr>
            <a:xfrm>
              <a:off x="3133800" y="313380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Oval 18"/>
            <p:cNvSpPr/>
            <p:nvPr/>
          </p:nvSpPr>
          <p:spPr>
            <a:xfrm>
              <a:off x="2676600" y="404820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Oval 19"/>
            <p:cNvSpPr/>
            <p:nvPr/>
          </p:nvSpPr>
          <p:spPr>
            <a:xfrm>
              <a:off x="3819600" y="282888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Oval 20"/>
            <p:cNvSpPr/>
            <p:nvPr/>
          </p:nvSpPr>
          <p:spPr>
            <a:xfrm>
              <a:off x="3514680" y="374328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Oval 21"/>
            <p:cNvSpPr/>
            <p:nvPr/>
          </p:nvSpPr>
          <p:spPr>
            <a:xfrm>
              <a:off x="2371680" y="496260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Oval 22"/>
            <p:cNvSpPr/>
            <p:nvPr/>
          </p:nvSpPr>
          <p:spPr>
            <a:xfrm>
              <a:off x="3286080" y="473400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Oval 23"/>
            <p:cNvSpPr/>
            <p:nvPr/>
          </p:nvSpPr>
          <p:spPr>
            <a:xfrm>
              <a:off x="3133800" y="549576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Oval 24"/>
            <p:cNvSpPr/>
            <p:nvPr/>
          </p:nvSpPr>
          <p:spPr>
            <a:xfrm>
              <a:off x="2600280" y="5800680"/>
              <a:ext cx="132840" cy="132840"/>
            </a:xfrm>
            <a:prstGeom prst="ellipse">
              <a:avLst/>
            </a:prstGeom>
            <a:solidFill>
              <a:srgbClr val="ffff00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0" name="Rectangle 26"/>
          <p:cNvSpPr/>
          <p:nvPr/>
        </p:nvSpPr>
        <p:spPr>
          <a:xfrm>
            <a:off x="4800600" y="76320"/>
            <a:ext cx="4495320" cy="64044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ru-RU" sz="3600" spc="-1" strike="noStrike">
                <a:solidFill>
                  <a:schemeClr val="accent2"/>
                </a:solidFill>
                <a:latin typeface="Calibri"/>
              </a:rPr>
              <a:t>TONGUE  -  dor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val 27"/>
          <p:cNvSpPr/>
          <p:nvPr/>
        </p:nvSpPr>
        <p:spPr>
          <a:xfrm rot="780000">
            <a:off x="4044960" y="1834920"/>
            <a:ext cx="291600" cy="21564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Oval 28"/>
          <p:cNvSpPr/>
          <p:nvPr/>
        </p:nvSpPr>
        <p:spPr>
          <a:xfrm rot="780000">
            <a:off x="3587760" y="1377720"/>
            <a:ext cx="291600" cy="21564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val 29"/>
          <p:cNvSpPr/>
          <p:nvPr/>
        </p:nvSpPr>
        <p:spPr>
          <a:xfrm rot="21000000">
            <a:off x="2901600" y="1301760"/>
            <a:ext cx="291600" cy="21564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Oval 30"/>
          <p:cNvSpPr/>
          <p:nvPr/>
        </p:nvSpPr>
        <p:spPr>
          <a:xfrm rot="21000000">
            <a:off x="1987200" y="1225440"/>
            <a:ext cx="291600" cy="21564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Rectangle 31"/>
          <p:cNvSpPr/>
          <p:nvPr/>
        </p:nvSpPr>
        <p:spPr>
          <a:xfrm flipH="1">
            <a:off x="68400" y="241200"/>
            <a:ext cx="1531440" cy="353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chemeClr val="hlink"/>
                </a:solidFill>
                <a:latin typeface="Calibri"/>
              </a:rPr>
              <a:t>TONS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32"/>
          <p:cNvSpPr/>
          <p:nvPr/>
        </p:nvSpPr>
        <p:spPr>
          <a:xfrm flipH="1" flipV="1">
            <a:off x="990360" y="685800"/>
            <a:ext cx="457200" cy="761760"/>
          </a:xfrm>
          <a:prstGeom prst="line">
            <a:avLst/>
          </a:prstGeom>
          <a:ln w="12700">
            <a:solidFill>
              <a:srgbClr val="0000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Rectangle 33"/>
          <p:cNvSpPr/>
          <p:nvPr/>
        </p:nvSpPr>
        <p:spPr>
          <a:xfrm flipH="1">
            <a:off x="5869080" y="1066680"/>
            <a:ext cx="2970000" cy="105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ff6633"/>
                </a:solidFill>
                <a:latin typeface="Calibri"/>
              </a:rPr>
              <a:t>CIRCUMVALLATE PAP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34"/>
          <p:cNvSpPr/>
          <p:nvPr/>
        </p:nvSpPr>
        <p:spPr>
          <a:xfrm flipV="1">
            <a:off x="4419360" y="2057400"/>
            <a:ext cx="1219320" cy="228600"/>
          </a:xfrm>
          <a:prstGeom prst="line">
            <a:avLst/>
          </a:prstGeom>
          <a:ln>
            <a:solidFill>
              <a:srgbClr val="c0504d"/>
            </a:solidFill>
            <a:round/>
            <a:headEnd len="lg" type="stealth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Rectangle 35"/>
          <p:cNvSpPr/>
          <p:nvPr/>
        </p:nvSpPr>
        <p:spPr>
          <a:xfrm flipH="1">
            <a:off x="4023720" y="4813200"/>
            <a:ext cx="4357080" cy="110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FILIFORM  PAPILL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General s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36"/>
          <p:cNvSpPr/>
          <p:nvPr/>
        </p:nvSpPr>
        <p:spPr>
          <a:xfrm flipH="1">
            <a:off x="4801320" y="3670200"/>
            <a:ext cx="3503160" cy="50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FUNGIFORM PAP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37"/>
          <p:cNvSpPr/>
          <p:nvPr/>
        </p:nvSpPr>
        <p:spPr>
          <a:xfrm>
            <a:off x="3733560" y="3733560"/>
            <a:ext cx="1067040" cy="76320"/>
          </a:xfrm>
          <a:prstGeom prst="line">
            <a:avLst/>
          </a:prstGeom>
          <a:ln>
            <a:solidFill>
              <a:srgbClr val="c0504d"/>
            </a:solidFill>
            <a:round/>
            <a:headEnd len="lg" type="stealth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Arc 38"/>
          <p:cNvSpPr/>
          <p:nvPr/>
        </p:nvSpPr>
        <p:spPr>
          <a:xfrm>
            <a:off x="3733920" y="4191120"/>
            <a:ext cx="2134800" cy="609120"/>
          </a:xfrm>
          <a:custGeom>
            <a:avLst/>
            <a:gdLst>
              <a:gd name="textAreaLeft" fmla="*/ 0 w 2134800"/>
              <a:gd name="textAreaRight" fmla="*/ 2135160 w 2134800"/>
              <a:gd name="textAreaTop" fmla="*/ 0 h 609120"/>
              <a:gd name="textAreaBottom" fmla="*/ 609480 h 609120"/>
            </a:gdLst>
            <a:ahLst/>
            <a:rect l="textAreaLeft" t="textAreaTop" r="textAreaRight" b="textAreaBottom"/>
            <a:pathLst>
              <a:path fill="none" w="21616" h="21600">
                <a:moveTo>
                  <a:pt x="0" y="0"/>
                </a:moveTo>
                <a:cubicBezTo>
                  <a:pt x="5" y="0"/>
                  <a:pt x="10" y="-1"/>
                  <a:pt x="16" y="0"/>
                </a:cubicBezTo>
                <a:cubicBezTo>
                  <a:pt x="11945" y="0"/>
                  <a:pt x="21616" y="9670"/>
                  <a:pt x="21616" y="21600"/>
                </a:cubicBezTo>
              </a:path>
              <a:path stroke="0" w="21616" h="21600">
                <a:moveTo>
                  <a:pt x="0" y="0"/>
                </a:moveTo>
                <a:cubicBezTo>
                  <a:pt x="5" y="0"/>
                  <a:pt x="10" y="-1"/>
                  <a:pt x="16" y="0"/>
                </a:cubicBezTo>
                <a:cubicBezTo>
                  <a:pt x="11945" y="0"/>
                  <a:pt x="21616" y="9670"/>
                  <a:pt x="21616" y="21600"/>
                </a:cubicBezTo>
                <a:lnTo>
                  <a:pt x="16" y="21600"/>
                </a:lnTo>
                <a:close/>
              </a:path>
            </a:pathLst>
          </a:custGeom>
          <a:noFill/>
          <a:ln cap="rnd" w="12700">
            <a:solidFill>
              <a:srgbClr val="ff9999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Arc 39"/>
          <p:cNvSpPr/>
          <p:nvPr/>
        </p:nvSpPr>
        <p:spPr>
          <a:xfrm>
            <a:off x="3276720" y="5410080"/>
            <a:ext cx="2666520" cy="609120"/>
          </a:xfrm>
          <a:custGeom>
            <a:avLst/>
            <a:gdLst>
              <a:gd name="textAreaLeft" fmla="*/ 0 w 2666520"/>
              <a:gd name="textAreaRight" fmla="*/ 2666880 w 2666520"/>
              <a:gd name="textAreaTop" fmla="*/ 0 h 609120"/>
              <a:gd name="textAreaBottom" fmla="*/ 609480 h 60912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700">
            <a:solidFill>
              <a:srgbClr val="ff9999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 useBgFill="1">
        <p:nvSpPr>
          <p:cNvPr id="954" name="Freeform 40"/>
          <p:cNvSpPr/>
          <p:nvPr/>
        </p:nvSpPr>
        <p:spPr>
          <a:xfrm>
            <a:off x="7391520" y="2289240"/>
            <a:ext cx="1523520" cy="850680"/>
          </a:xfrm>
          <a:custGeom>
            <a:avLst/>
            <a:gdLst>
              <a:gd name="textAreaLeft" fmla="*/ 0 w 1523520"/>
              <a:gd name="textAreaRight" fmla="*/ 1523880 w 152352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960" h="536">
                <a:moveTo>
                  <a:pt x="0" y="142"/>
                </a:moveTo>
                <a:lnTo>
                  <a:pt x="44" y="120"/>
                </a:lnTo>
                <a:lnTo>
                  <a:pt x="77" y="120"/>
                </a:lnTo>
                <a:lnTo>
                  <a:pt x="99" y="153"/>
                </a:lnTo>
                <a:lnTo>
                  <a:pt x="109" y="185"/>
                </a:lnTo>
                <a:lnTo>
                  <a:pt x="109" y="218"/>
                </a:lnTo>
                <a:lnTo>
                  <a:pt x="109" y="251"/>
                </a:lnTo>
                <a:lnTo>
                  <a:pt x="109" y="284"/>
                </a:lnTo>
                <a:lnTo>
                  <a:pt x="109" y="316"/>
                </a:lnTo>
                <a:lnTo>
                  <a:pt x="109" y="349"/>
                </a:lnTo>
                <a:lnTo>
                  <a:pt x="109" y="382"/>
                </a:lnTo>
                <a:lnTo>
                  <a:pt x="109" y="415"/>
                </a:lnTo>
                <a:lnTo>
                  <a:pt x="109" y="447"/>
                </a:lnTo>
                <a:lnTo>
                  <a:pt x="120" y="480"/>
                </a:lnTo>
                <a:lnTo>
                  <a:pt x="131" y="513"/>
                </a:lnTo>
                <a:lnTo>
                  <a:pt x="164" y="535"/>
                </a:lnTo>
                <a:lnTo>
                  <a:pt x="175" y="502"/>
                </a:lnTo>
                <a:lnTo>
                  <a:pt x="175" y="469"/>
                </a:lnTo>
                <a:lnTo>
                  <a:pt x="175" y="436"/>
                </a:lnTo>
                <a:lnTo>
                  <a:pt x="175" y="404"/>
                </a:lnTo>
                <a:lnTo>
                  <a:pt x="175" y="371"/>
                </a:lnTo>
                <a:lnTo>
                  <a:pt x="164" y="338"/>
                </a:lnTo>
                <a:lnTo>
                  <a:pt x="153" y="306"/>
                </a:lnTo>
                <a:lnTo>
                  <a:pt x="153" y="273"/>
                </a:lnTo>
                <a:lnTo>
                  <a:pt x="153" y="240"/>
                </a:lnTo>
                <a:lnTo>
                  <a:pt x="153" y="207"/>
                </a:lnTo>
                <a:lnTo>
                  <a:pt x="142" y="175"/>
                </a:lnTo>
                <a:lnTo>
                  <a:pt x="142" y="142"/>
                </a:lnTo>
                <a:lnTo>
                  <a:pt x="131" y="109"/>
                </a:lnTo>
                <a:lnTo>
                  <a:pt x="131" y="76"/>
                </a:lnTo>
                <a:lnTo>
                  <a:pt x="131" y="44"/>
                </a:lnTo>
                <a:lnTo>
                  <a:pt x="164" y="22"/>
                </a:lnTo>
                <a:lnTo>
                  <a:pt x="197" y="11"/>
                </a:lnTo>
                <a:lnTo>
                  <a:pt x="229" y="0"/>
                </a:lnTo>
                <a:lnTo>
                  <a:pt x="262" y="0"/>
                </a:lnTo>
                <a:lnTo>
                  <a:pt x="295" y="0"/>
                </a:lnTo>
                <a:lnTo>
                  <a:pt x="328" y="0"/>
                </a:lnTo>
                <a:lnTo>
                  <a:pt x="371" y="0"/>
                </a:lnTo>
                <a:lnTo>
                  <a:pt x="404" y="0"/>
                </a:lnTo>
                <a:lnTo>
                  <a:pt x="437" y="0"/>
                </a:lnTo>
                <a:lnTo>
                  <a:pt x="502" y="0"/>
                </a:lnTo>
                <a:lnTo>
                  <a:pt x="546" y="0"/>
                </a:lnTo>
                <a:lnTo>
                  <a:pt x="622" y="0"/>
                </a:lnTo>
                <a:lnTo>
                  <a:pt x="655" y="11"/>
                </a:lnTo>
                <a:lnTo>
                  <a:pt x="699" y="11"/>
                </a:lnTo>
                <a:lnTo>
                  <a:pt x="742" y="11"/>
                </a:lnTo>
                <a:lnTo>
                  <a:pt x="775" y="22"/>
                </a:lnTo>
                <a:lnTo>
                  <a:pt x="808" y="22"/>
                </a:lnTo>
                <a:lnTo>
                  <a:pt x="840" y="22"/>
                </a:lnTo>
                <a:lnTo>
                  <a:pt x="873" y="33"/>
                </a:lnTo>
                <a:lnTo>
                  <a:pt x="906" y="33"/>
                </a:lnTo>
                <a:lnTo>
                  <a:pt x="928" y="65"/>
                </a:lnTo>
                <a:lnTo>
                  <a:pt x="939" y="98"/>
                </a:lnTo>
                <a:lnTo>
                  <a:pt x="939" y="131"/>
                </a:lnTo>
                <a:lnTo>
                  <a:pt x="939" y="164"/>
                </a:lnTo>
                <a:lnTo>
                  <a:pt x="939" y="196"/>
                </a:lnTo>
                <a:lnTo>
                  <a:pt x="928" y="229"/>
                </a:lnTo>
                <a:lnTo>
                  <a:pt x="906" y="273"/>
                </a:lnTo>
                <a:lnTo>
                  <a:pt x="895" y="306"/>
                </a:lnTo>
                <a:lnTo>
                  <a:pt x="884" y="338"/>
                </a:lnTo>
                <a:lnTo>
                  <a:pt x="873" y="371"/>
                </a:lnTo>
                <a:lnTo>
                  <a:pt x="862" y="404"/>
                </a:lnTo>
                <a:lnTo>
                  <a:pt x="862" y="436"/>
                </a:lnTo>
                <a:lnTo>
                  <a:pt x="862" y="469"/>
                </a:lnTo>
                <a:lnTo>
                  <a:pt x="862" y="502"/>
                </a:lnTo>
                <a:lnTo>
                  <a:pt x="862" y="535"/>
                </a:lnTo>
                <a:lnTo>
                  <a:pt x="895" y="535"/>
                </a:lnTo>
                <a:lnTo>
                  <a:pt x="928" y="502"/>
                </a:lnTo>
                <a:lnTo>
                  <a:pt x="939" y="469"/>
                </a:lnTo>
                <a:lnTo>
                  <a:pt x="950" y="436"/>
                </a:lnTo>
                <a:lnTo>
                  <a:pt x="950" y="404"/>
                </a:lnTo>
                <a:lnTo>
                  <a:pt x="950" y="371"/>
                </a:lnTo>
                <a:lnTo>
                  <a:pt x="959" y="338"/>
                </a:lnTo>
                <a:lnTo>
                  <a:pt x="959" y="306"/>
                </a:lnTo>
                <a:lnTo>
                  <a:pt x="959" y="273"/>
                </a:lnTo>
                <a:lnTo>
                  <a:pt x="959" y="262"/>
                </a:lnTo>
                <a:lnTo>
                  <a:pt x="959" y="251"/>
                </a:lnTo>
                <a:lnTo>
                  <a:pt x="959" y="240"/>
                </a:lnTo>
                <a:lnTo>
                  <a:pt x="959" y="229"/>
                </a:lnTo>
                <a:lnTo>
                  <a:pt x="959" y="218"/>
                </a:lnTo>
                <a:lnTo>
                  <a:pt x="959" y="207"/>
                </a:lnTo>
                <a:lnTo>
                  <a:pt x="959" y="190"/>
                </a:lnTo>
              </a:path>
            </a:pathLst>
          </a:custGeom>
          <a:ln cap="rnd" w="1270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 useBgFill="1">
        <p:nvSpPr>
          <p:cNvPr id="955" name="Freeform 41"/>
          <p:cNvSpPr/>
          <p:nvPr/>
        </p:nvSpPr>
        <p:spPr>
          <a:xfrm>
            <a:off x="8261280" y="3733920"/>
            <a:ext cx="502920" cy="631440"/>
          </a:xfrm>
          <a:custGeom>
            <a:avLst/>
            <a:gdLst>
              <a:gd name="textAreaLeft" fmla="*/ 0 w 502920"/>
              <a:gd name="textAreaRight" fmla="*/ 503280 w 502920"/>
              <a:gd name="textAreaTop" fmla="*/ 0 h 631440"/>
              <a:gd name="textAreaBottom" fmla="*/ 631800 h 631440"/>
            </a:gdLst>
            <a:ahLst/>
            <a:rect l="textAreaLeft" t="textAreaTop" r="textAreaRight" b="textAreaBottom"/>
            <a:pathLst>
              <a:path w="317" h="398">
                <a:moveTo>
                  <a:pt x="35" y="382"/>
                </a:moveTo>
                <a:lnTo>
                  <a:pt x="27" y="323"/>
                </a:lnTo>
                <a:lnTo>
                  <a:pt x="13" y="285"/>
                </a:lnTo>
                <a:lnTo>
                  <a:pt x="13" y="247"/>
                </a:lnTo>
                <a:lnTo>
                  <a:pt x="13" y="211"/>
                </a:lnTo>
                <a:lnTo>
                  <a:pt x="13" y="174"/>
                </a:lnTo>
                <a:lnTo>
                  <a:pt x="13" y="136"/>
                </a:lnTo>
                <a:lnTo>
                  <a:pt x="0" y="98"/>
                </a:lnTo>
                <a:lnTo>
                  <a:pt x="0" y="62"/>
                </a:lnTo>
                <a:lnTo>
                  <a:pt x="13" y="25"/>
                </a:lnTo>
                <a:lnTo>
                  <a:pt x="55" y="12"/>
                </a:lnTo>
                <a:lnTo>
                  <a:pt x="95" y="0"/>
                </a:lnTo>
                <a:lnTo>
                  <a:pt x="137" y="0"/>
                </a:lnTo>
                <a:lnTo>
                  <a:pt x="178" y="0"/>
                </a:lnTo>
                <a:lnTo>
                  <a:pt x="220" y="0"/>
                </a:lnTo>
                <a:lnTo>
                  <a:pt x="260" y="0"/>
                </a:lnTo>
                <a:lnTo>
                  <a:pt x="302" y="25"/>
                </a:lnTo>
                <a:lnTo>
                  <a:pt x="316" y="62"/>
                </a:lnTo>
                <a:lnTo>
                  <a:pt x="316" y="98"/>
                </a:lnTo>
                <a:lnTo>
                  <a:pt x="316" y="136"/>
                </a:lnTo>
                <a:lnTo>
                  <a:pt x="316" y="174"/>
                </a:lnTo>
                <a:lnTo>
                  <a:pt x="316" y="211"/>
                </a:lnTo>
                <a:lnTo>
                  <a:pt x="316" y="247"/>
                </a:lnTo>
                <a:lnTo>
                  <a:pt x="302" y="285"/>
                </a:lnTo>
                <a:lnTo>
                  <a:pt x="288" y="323"/>
                </a:lnTo>
                <a:lnTo>
                  <a:pt x="274" y="360"/>
                </a:lnTo>
                <a:lnTo>
                  <a:pt x="260" y="397"/>
                </a:lnTo>
                <a:lnTo>
                  <a:pt x="276" y="382"/>
                </a:lnTo>
              </a:path>
            </a:pathLst>
          </a:custGeom>
          <a:ln cap="rnd" w="127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reeform 42"/>
          <p:cNvSpPr/>
          <p:nvPr/>
        </p:nvSpPr>
        <p:spPr>
          <a:xfrm>
            <a:off x="8153280" y="4940280"/>
            <a:ext cx="677520" cy="471240"/>
          </a:xfrm>
          <a:custGeom>
            <a:avLst/>
            <a:gdLst>
              <a:gd name="textAreaLeft" fmla="*/ 0 w 677520"/>
              <a:gd name="textAreaRight" fmla="*/ 677880 w 67752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427" h="297">
                <a:moveTo>
                  <a:pt x="0" y="296"/>
                </a:moveTo>
                <a:lnTo>
                  <a:pt x="0" y="251"/>
                </a:lnTo>
                <a:lnTo>
                  <a:pt x="11" y="218"/>
                </a:lnTo>
                <a:lnTo>
                  <a:pt x="33" y="185"/>
                </a:lnTo>
                <a:lnTo>
                  <a:pt x="55" y="153"/>
                </a:lnTo>
                <a:lnTo>
                  <a:pt x="88" y="120"/>
                </a:lnTo>
                <a:lnTo>
                  <a:pt x="120" y="87"/>
                </a:lnTo>
                <a:lnTo>
                  <a:pt x="153" y="65"/>
                </a:lnTo>
                <a:lnTo>
                  <a:pt x="186" y="33"/>
                </a:lnTo>
                <a:lnTo>
                  <a:pt x="164" y="65"/>
                </a:lnTo>
                <a:lnTo>
                  <a:pt x="142" y="98"/>
                </a:lnTo>
                <a:lnTo>
                  <a:pt x="131" y="131"/>
                </a:lnTo>
                <a:lnTo>
                  <a:pt x="120" y="164"/>
                </a:lnTo>
                <a:lnTo>
                  <a:pt x="109" y="196"/>
                </a:lnTo>
                <a:lnTo>
                  <a:pt x="98" y="229"/>
                </a:lnTo>
                <a:lnTo>
                  <a:pt x="88" y="262"/>
                </a:lnTo>
                <a:lnTo>
                  <a:pt x="77" y="294"/>
                </a:lnTo>
                <a:lnTo>
                  <a:pt x="109" y="284"/>
                </a:lnTo>
                <a:lnTo>
                  <a:pt x="131" y="251"/>
                </a:lnTo>
                <a:lnTo>
                  <a:pt x="164" y="229"/>
                </a:lnTo>
                <a:lnTo>
                  <a:pt x="175" y="196"/>
                </a:lnTo>
                <a:lnTo>
                  <a:pt x="197" y="164"/>
                </a:lnTo>
                <a:lnTo>
                  <a:pt x="218" y="131"/>
                </a:lnTo>
                <a:lnTo>
                  <a:pt x="240" y="98"/>
                </a:lnTo>
                <a:lnTo>
                  <a:pt x="262" y="65"/>
                </a:lnTo>
                <a:lnTo>
                  <a:pt x="295" y="33"/>
                </a:lnTo>
                <a:lnTo>
                  <a:pt x="328" y="0"/>
                </a:lnTo>
                <a:lnTo>
                  <a:pt x="306" y="33"/>
                </a:lnTo>
                <a:lnTo>
                  <a:pt x="295" y="65"/>
                </a:lnTo>
                <a:lnTo>
                  <a:pt x="273" y="98"/>
                </a:lnTo>
                <a:lnTo>
                  <a:pt x="273" y="131"/>
                </a:lnTo>
                <a:lnTo>
                  <a:pt x="262" y="164"/>
                </a:lnTo>
                <a:lnTo>
                  <a:pt x="251" y="196"/>
                </a:lnTo>
                <a:lnTo>
                  <a:pt x="240" y="229"/>
                </a:lnTo>
                <a:lnTo>
                  <a:pt x="229" y="262"/>
                </a:lnTo>
                <a:lnTo>
                  <a:pt x="229" y="294"/>
                </a:lnTo>
                <a:lnTo>
                  <a:pt x="262" y="262"/>
                </a:lnTo>
                <a:lnTo>
                  <a:pt x="284" y="229"/>
                </a:lnTo>
                <a:lnTo>
                  <a:pt x="317" y="196"/>
                </a:lnTo>
                <a:lnTo>
                  <a:pt x="338" y="164"/>
                </a:lnTo>
                <a:lnTo>
                  <a:pt x="349" y="131"/>
                </a:lnTo>
                <a:lnTo>
                  <a:pt x="371" y="98"/>
                </a:lnTo>
                <a:lnTo>
                  <a:pt x="393" y="65"/>
                </a:lnTo>
                <a:lnTo>
                  <a:pt x="404" y="33"/>
                </a:lnTo>
                <a:lnTo>
                  <a:pt x="426" y="65"/>
                </a:lnTo>
                <a:lnTo>
                  <a:pt x="404" y="98"/>
                </a:lnTo>
                <a:lnTo>
                  <a:pt x="404" y="131"/>
                </a:lnTo>
                <a:lnTo>
                  <a:pt x="393" y="164"/>
                </a:lnTo>
                <a:lnTo>
                  <a:pt x="382" y="196"/>
                </a:lnTo>
                <a:lnTo>
                  <a:pt x="371" y="229"/>
                </a:lnTo>
                <a:lnTo>
                  <a:pt x="371" y="262"/>
                </a:lnTo>
                <a:lnTo>
                  <a:pt x="360" y="294"/>
                </a:lnTo>
                <a:lnTo>
                  <a:pt x="384" y="296"/>
                </a:lnTo>
              </a:path>
            </a:pathLst>
          </a:custGeom>
          <a:noFill/>
          <a:ln cap="rnd" w="127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AutoShape 43"/>
          <p:cNvSpPr/>
          <p:nvPr/>
        </p:nvSpPr>
        <p:spPr>
          <a:xfrm>
            <a:off x="7651800" y="2612880"/>
            <a:ext cx="163080" cy="104400"/>
          </a:xfrm>
          <a:prstGeom prst="octagon">
            <a:avLst>
              <a:gd name="adj" fmla="val 29282"/>
            </a:avLst>
          </a:prstGeom>
          <a:solidFill>
            <a:srgbClr val="ff33cc"/>
          </a:solidFill>
          <a:ln w="127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AutoShape 44"/>
          <p:cNvSpPr/>
          <p:nvPr/>
        </p:nvSpPr>
        <p:spPr>
          <a:xfrm>
            <a:off x="7728120" y="2841480"/>
            <a:ext cx="163080" cy="104400"/>
          </a:xfrm>
          <a:prstGeom prst="octagon">
            <a:avLst>
              <a:gd name="adj" fmla="val 29282"/>
            </a:avLst>
          </a:prstGeom>
          <a:solidFill>
            <a:srgbClr val="ff33cc"/>
          </a:solidFill>
          <a:ln w="127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AutoShape 45"/>
          <p:cNvSpPr/>
          <p:nvPr/>
        </p:nvSpPr>
        <p:spPr>
          <a:xfrm>
            <a:off x="8642520" y="2689200"/>
            <a:ext cx="163080" cy="104400"/>
          </a:xfrm>
          <a:prstGeom prst="octagon">
            <a:avLst>
              <a:gd name="adj" fmla="val 29282"/>
            </a:avLst>
          </a:prstGeom>
          <a:solidFill>
            <a:srgbClr val="ff33cc"/>
          </a:solidFill>
          <a:ln w="127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AutoShape 46"/>
          <p:cNvSpPr/>
          <p:nvPr/>
        </p:nvSpPr>
        <p:spPr>
          <a:xfrm rot="5520000">
            <a:off x="8410680" y="3754080"/>
            <a:ext cx="164880" cy="104400"/>
          </a:xfrm>
          <a:prstGeom prst="octagon">
            <a:avLst>
              <a:gd name="adj" fmla="val 29282"/>
            </a:avLst>
          </a:prstGeom>
          <a:solidFill>
            <a:srgbClr val="ff33cc"/>
          </a:solidFill>
          <a:ln w="127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AutoShape 47"/>
          <p:cNvSpPr/>
          <p:nvPr/>
        </p:nvSpPr>
        <p:spPr>
          <a:xfrm flipH="1">
            <a:off x="7450200" y="5715000"/>
            <a:ext cx="168840" cy="126720"/>
          </a:xfrm>
          <a:prstGeom prst="octagon">
            <a:avLst>
              <a:gd name="adj" fmla="val 29282"/>
            </a:avLst>
          </a:prstGeom>
          <a:solidFill>
            <a:srgbClr val="ff33cc"/>
          </a:solidFill>
          <a:ln w="127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Rectangle 48"/>
          <p:cNvSpPr/>
          <p:nvPr/>
        </p:nvSpPr>
        <p:spPr>
          <a:xfrm>
            <a:off x="7372080" y="5726520"/>
            <a:ext cx="1856880" cy="518400"/>
          </a:xfrm>
          <a:prstGeom prst="rect">
            <a:avLst/>
          </a:prstGeom>
          <a:noFill/>
          <a:ln w="127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1800" spc="-1" strike="noStrike">
                <a:solidFill>
                  <a:srgbClr val="ff33cc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33cc"/>
                </a:solidFill>
                <a:latin typeface="Calibri"/>
              </a:rPr>
              <a:t>Taste b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49"/>
          <p:cNvSpPr/>
          <p:nvPr/>
        </p:nvSpPr>
        <p:spPr>
          <a:xfrm>
            <a:off x="5943600" y="2743200"/>
            <a:ext cx="1066320" cy="39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Tr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rc 50"/>
          <p:cNvSpPr/>
          <p:nvPr/>
        </p:nvSpPr>
        <p:spPr>
          <a:xfrm>
            <a:off x="7010280" y="2971800"/>
            <a:ext cx="609120" cy="25200"/>
          </a:xfrm>
          <a:custGeom>
            <a:avLst/>
            <a:gdLst>
              <a:gd name="textAreaLeft" fmla="*/ 0 w 609120"/>
              <a:gd name="textAreaRight" fmla="*/ 609480 w 6091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7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Oval 51"/>
          <p:cNvSpPr/>
          <p:nvPr/>
        </p:nvSpPr>
        <p:spPr>
          <a:xfrm rot="21000000">
            <a:off x="1377720" y="1454040"/>
            <a:ext cx="291600" cy="21564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52"/>
          <p:cNvSpPr/>
          <p:nvPr/>
        </p:nvSpPr>
        <p:spPr>
          <a:xfrm flipH="1">
            <a:off x="3566520" y="6111720"/>
            <a:ext cx="5728680" cy="50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FOLIATE PAPILLAE on the lateral t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53"/>
          <p:cNvSpPr/>
          <p:nvPr/>
        </p:nvSpPr>
        <p:spPr>
          <a:xfrm flipH="1" flipV="1">
            <a:off x="1295280" y="609480"/>
            <a:ext cx="762120" cy="685800"/>
          </a:xfrm>
          <a:prstGeom prst="line">
            <a:avLst/>
          </a:prstGeom>
          <a:ln w="12700">
            <a:solidFill>
              <a:srgbClr val="0000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2"/>
          <p:cNvSpPr/>
          <p:nvPr/>
        </p:nvSpPr>
        <p:spPr>
          <a:xfrm>
            <a:off x="457200" y="76320"/>
            <a:ext cx="8838720" cy="76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 u="sng">
                <a:solidFill>
                  <a:srgbClr val="33ccff"/>
                </a:solidFill>
                <a:uFillTx/>
                <a:latin typeface="Calibri"/>
              </a:rPr>
              <a:t>SALIVARY GLANDS - </a:t>
            </a:r>
            <a:r>
              <a:rPr b="1" lang="ru-RU" sz="4400" spc="-1" strike="noStrike" u="sng">
                <a:solidFill>
                  <a:schemeClr val="hlink"/>
                </a:solidFill>
                <a:uFillTx/>
                <a:latin typeface="Calibri"/>
              </a:rPr>
              <a:t>major</a:t>
            </a:r>
            <a:r>
              <a:rPr b="1" lang="ru-RU" sz="4400" spc="-1" strike="noStrike" u="sng">
                <a:solidFill>
                  <a:srgbClr val="33ccff"/>
                </a:solidFill>
                <a:uFillTx/>
                <a:latin typeface="Calibri"/>
              </a:rPr>
              <a:t> &amp; </a:t>
            </a:r>
            <a:r>
              <a:rPr b="1" lang="ru-RU" sz="4400" spc="-1" strike="noStrike" u="sng">
                <a:solidFill>
                  <a:schemeClr val="accent2"/>
                </a:solidFill>
                <a:uFillTx/>
                <a:latin typeface="Calibri"/>
              </a:rPr>
              <a:t>mi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457200" y="914400"/>
            <a:ext cx="1676160" cy="64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ru-RU" sz="3600" spc="-1" strike="noStrike">
                <a:solidFill>
                  <a:srgbClr val="6699ff"/>
                </a:solidFill>
                <a:latin typeface="Calibri"/>
              </a:rPr>
              <a:t>Parot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4"/>
          <p:cNvSpPr/>
          <p:nvPr/>
        </p:nvSpPr>
        <p:spPr>
          <a:xfrm>
            <a:off x="6400800" y="2514600"/>
            <a:ext cx="2209320" cy="1310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Sub-ling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2743200" y="1676520"/>
            <a:ext cx="3047760" cy="1189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ru-RU" sz="3600" spc="-1" strike="noStrike">
                <a:solidFill>
                  <a:srgbClr val="558ed5"/>
                </a:solidFill>
                <a:latin typeface="Calibri"/>
              </a:rPr>
              <a:t>Sub-mandib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6"/>
          <p:cNvSpPr/>
          <p:nvPr/>
        </p:nvSpPr>
        <p:spPr>
          <a:xfrm>
            <a:off x="685800" y="2820960"/>
            <a:ext cx="6171840" cy="2331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 u="sng">
                <a:solidFill>
                  <a:srgbClr val="17375e"/>
                </a:solidFill>
                <a:uFillTx/>
                <a:latin typeface="Calibri"/>
              </a:rPr>
              <a:t>MI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Labial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.    </a:t>
            </a: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Buccal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Lingual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.  </a:t>
            </a: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Pal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" name="Group 15"/>
          <p:cNvGrpSpPr/>
          <p:nvPr/>
        </p:nvGrpSpPr>
        <p:grpSpPr>
          <a:xfrm>
            <a:off x="685800" y="0"/>
            <a:ext cx="9219600" cy="6377400"/>
            <a:chOff x="685800" y="0"/>
            <a:chExt cx="9219600" cy="6377400"/>
          </a:xfrm>
        </p:grpSpPr>
        <p:sp>
          <p:nvSpPr>
            <p:cNvPr id="974" name="Rectangle 2"/>
            <p:cNvSpPr/>
            <p:nvPr/>
          </p:nvSpPr>
          <p:spPr>
            <a:xfrm>
              <a:off x="685800" y="838080"/>
              <a:ext cx="281916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lang="ru-RU" sz="3600" spc="-1" strike="noStrike">
                  <a:solidFill>
                    <a:srgbClr val="558ed5"/>
                  </a:solidFill>
                  <a:latin typeface="Calibri"/>
                </a:rPr>
                <a:t>PROTEC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3"/>
            <p:cNvSpPr/>
            <p:nvPr/>
          </p:nvSpPr>
          <p:spPr>
            <a:xfrm>
              <a:off x="3581280" y="0"/>
              <a:ext cx="6324120" cy="502236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7520" bIns="4752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</a:pPr>
              <a:r>
                <a:rPr b="1" lang="ru-RU" sz="4000" spc="-1" strike="noStrike" u="sng">
                  <a:solidFill>
                    <a:schemeClr val="accent2"/>
                  </a:solidFill>
                  <a:uFillTx/>
                  <a:latin typeface="Calibri"/>
                </a:rPr>
                <a:t>SALIVA – Function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4"/>
            <p:cNvSpPr/>
            <p:nvPr/>
          </p:nvSpPr>
          <p:spPr>
            <a:xfrm>
              <a:off x="838080" y="2577960"/>
              <a:ext cx="2437920" cy="579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1" lang="ru-RU" sz="32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ALIMENTA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5"/>
            <p:cNvSpPr/>
            <p:nvPr/>
          </p:nvSpPr>
          <p:spPr>
            <a:xfrm>
              <a:off x="3352680" y="2209680"/>
              <a:ext cx="3962160" cy="4615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endPara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endParaRPr>
            </a:p>
          </p:txBody>
        </p:sp>
        <p:sp>
          <p:nvSpPr>
            <p:cNvPr id="978" name="Rectangle 6"/>
            <p:cNvSpPr/>
            <p:nvPr/>
          </p:nvSpPr>
          <p:spPr>
            <a:xfrm>
              <a:off x="3352680" y="2666880"/>
              <a:ext cx="380952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0" lang="ru-RU" sz="36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Mastica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7"/>
            <p:cNvSpPr/>
            <p:nvPr/>
          </p:nvSpPr>
          <p:spPr>
            <a:xfrm flipV="1" rot="10800000">
              <a:off x="4420080" y="4226040"/>
              <a:ext cx="289512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0" lang="ru-RU" sz="36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Swallowi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8"/>
            <p:cNvSpPr/>
            <p:nvPr/>
          </p:nvSpPr>
          <p:spPr>
            <a:xfrm flipV="1" rot="10800000">
              <a:off x="4115160" y="3495600"/>
              <a:ext cx="228564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0" lang="ru-RU" sz="36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Diges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9"/>
            <p:cNvSpPr/>
            <p:nvPr/>
          </p:nvSpPr>
          <p:spPr>
            <a:xfrm>
              <a:off x="1066680" y="4680000"/>
              <a:ext cx="220932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lang="ru-RU" sz="3600" spc="-1" strike="noStrike">
                  <a:solidFill>
                    <a:srgbClr val="558ed5"/>
                  </a:solidFill>
                  <a:latin typeface="Calibri"/>
                </a:rPr>
                <a:t>OTH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10"/>
            <p:cNvSpPr/>
            <p:nvPr/>
          </p:nvSpPr>
          <p:spPr>
            <a:xfrm flipV="1" rot="10800000">
              <a:off x="2895840" y="4959720"/>
              <a:ext cx="2971440" cy="1417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0" lang="ru-RU" sz="3600" spc="-1" strike="noStrike">
                  <a:solidFill>
                    <a:srgbClr val="558ed5"/>
                  </a:solidFill>
                  <a:latin typeface="Calibri"/>
                </a:rPr>
                <a:t>Vocalization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0" lang="ru-RU" sz="3600" spc="-1" strike="noStrike">
                  <a:solidFill>
                    <a:srgbClr val="558ed5"/>
                  </a:solidFill>
                  <a:latin typeface="Calibri"/>
                </a:rPr>
                <a:t>Excre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11"/>
            <p:cNvSpPr/>
            <p:nvPr/>
          </p:nvSpPr>
          <p:spPr>
            <a:xfrm>
              <a:off x="2674800" y="587520"/>
              <a:ext cx="4111200" cy="366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ru-RU" sz="1800" spc="-1" strike="noStrike">
                  <a:solidFill>
                    <a:srgbClr val="ffffcc"/>
                  </a:solidFill>
                  <a:latin typeface="Calibri"/>
                </a:rPr>
                <a:t>Epithelial lubr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12"/>
            <p:cNvSpPr/>
            <p:nvPr/>
          </p:nvSpPr>
          <p:spPr>
            <a:xfrm>
              <a:off x="3505320" y="762120"/>
              <a:ext cx="5790960" cy="6404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0" lang="ru-RU" sz="3600" spc="-1" strike="noStrike">
                  <a:solidFill>
                    <a:srgbClr val="558ed5"/>
                  </a:solidFill>
                  <a:latin typeface="Calibri"/>
                </a:rPr>
                <a:t>Anti-microbial material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3"/>
            <p:cNvSpPr/>
            <p:nvPr/>
          </p:nvSpPr>
          <p:spPr>
            <a:xfrm>
              <a:off x="3581280" y="1349280"/>
              <a:ext cx="5714640" cy="1066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0" lang="ru-RU" sz="3200" spc="-1" strike="noStrike">
                  <a:solidFill>
                    <a:srgbClr val="558ed5"/>
                  </a:solidFill>
                  <a:latin typeface="Calibri"/>
                </a:rPr>
                <a:t>For tooth: Rinsing  Buffering Mineraliz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AutoShape 14"/>
          <p:cNvSpPr/>
          <p:nvPr/>
        </p:nvSpPr>
        <p:spPr>
          <a:xfrm>
            <a:off x="311040" y="920880"/>
            <a:ext cx="291600" cy="367920"/>
          </a:xfrm>
          <a:prstGeom prst="diamond">
            <a:avLst/>
          </a:prstGeom>
          <a:solidFill>
            <a:srgbClr val="ff9900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AutoShape 14"/>
          <p:cNvSpPr/>
          <p:nvPr/>
        </p:nvSpPr>
        <p:spPr>
          <a:xfrm>
            <a:off x="304920" y="2286000"/>
            <a:ext cx="380520" cy="1209240"/>
          </a:xfrm>
          <a:prstGeom prst="diamond">
            <a:avLst/>
          </a:prstGeom>
          <a:solidFill>
            <a:srgbClr val="ff9900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AutoShape 14"/>
          <p:cNvSpPr/>
          <p:nvPr/>
        </p:nvSpPr>
        <p:spPr>
          <a:xfrm flipV="1">
            <a:off x="304920" y="4800600"/>
            <a:ext cx="304560" cy="763200"/>
          </a:xfrm>
          <a:prstGeom prst="diamond">
            <a:avLst/>
          </a:prstGeom>
          <a:solidFill>
            <a:srgbClr val="ff9900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1"/>
          <p:cNvSpPr/>
          <p:nvPr/>
        </p:nvSpPr>
        <p:spPr>
          <a:xfrm>
            <a:off x="304920" y="0"/>
            <a:ext cx="883872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MATERIALS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      </a:t>
            </a:r>
            <a:r>
              <a:rPr b="1" lang="ru-RU" sz="4400" spc="-1" strike="noStrike">
                <a:solidFill>
                  <a:srgbClr val="666633"/>
                </a:solidFill>
                <a:latin typeface="Calibri"/>
              </a:rPr>
              <a:t>Water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       </a:t>
            </a:r>
            <a:r>
              <a:rPr b="1" lang="ru-RU" sz="4400" spc="-1" strike="noStrike">
                <a:solidFill>
                  <a:srgbClr val="990099"/>
                </a:solidFill>
                <a:latin typeface="Calibri"/>
              </a:rPr>
              <a:t>Mucins (glycoproteins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) </a:t>
            </a: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Antibodies IgAs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993300"/>
                </a:solidFill>
                <a:latin typeface="Calibri"/>
              </a:rPr>
              <a:t>Lysozyme Defensins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chemeClr val="accent2"/>
                </a:solidFill>
                <a:latin typeface="Calibri"/>
              </a:rPr>
              <a:t>Ions - tooth miner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ff00cc"/>
                </a:solidFill>
                <a:latin typeface="Calibri"/>
              </a:rPr>
              <a:t>Amylase 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                   </a:t>
            </a:r>
            <a:r>
              <a:rPr b="1" lang="ru-RU" sz="4400" spc="-1" strike="noStrike">
                <a:solidFill>
                  <a:srgbClr val="cc00cc"/>
                </a:solidFill>
                <a:latin typeface="Calibri"/>
              </a:rPr>
              <a:t>Iodine</a:t>
            </a:r>
            <a:r>
              <a:rPr b="1" lang="ru-RU" sz="44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2"/>
          <p:cNvSpPr/>
          <p:nvPr/>
        </p:nvSpPr>
        <p:spPr>
          <a:xfrm>
            <a:off x="1447920" y="0"/>
            <a:ext cx="7086240" cy="57924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chemeClr val="accent2"/>
                </a:solidFill>
                <a:latin typeface="Times New Roman"/>
              </a:rPr>
              <a:t>SCHEME OF SALIVARY 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3"/>
          <p:cNvSpPr/>
          <p:nvPr/>
        </p:nvSpPr>
        <p:spPr>
          <a:xfrm>
            <a:off x="4249800" y="12333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Oval 4"/>
          <p:cNvSpPr/>
          <p:nvPr/>
        </p:nvSpPr>
        <p:spPr>
          <a:xfrm>
            <a:off x="3335400" y="176688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Oval 5"/>
          <p:cNvSpPr/>
          <p:nvPr/>
        </p:nvSpPr>
        <p:spPr>
          <a:xfrm>
            <a:off x="4173480" y="161460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Oval 6"/>
          <p:cNvSpPr/>
          <p:nvPr/>
        </p:nvSpPr>
        <p:spPr>
          <a:xfrm>
            <a:off x="3868560" y="12333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Oval 7"/>
          <p:cNvSpPr/>
          <p:nvPr/>
        </p:nvSpPr>
        <p:spPr>
          <a:xfrm>
            <a:off x="4051440" y="1995480"/>
            <a:ext cx="321840" cy="39816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Oval 8"/>
          <p:cNvSpPr/>
          <p:nvPr/>
        </p:nvSpPr>
        <p:spPr>
          <a:xfrm>
            <a:off x="3335400" y="138600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Oval 9"/>
          <p:cNvSpPr/>
          <p:nvPr/>
        </p:nvSpPr>
        <p:spPr>
          <a:xfrm>
            <a:off x="3632040" y="21081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8" name="Group 18"/>
          <p:cNvGrpSpPr/>
          <p:nvPr/>
        </p:nvGrpSpPr>
        <p:grpSpPr>
          <a:xfrm>
            <a:off x="5119560" y="1231920"/>
            <a:ext cx="1160280" cy="1236240"/>
            <a:chOff x="5119560" y="1231920"/>
            <a:chExt cx="1160280" cy="1236240"/>
          </a:xfrm>
        </p:grpSpPr>
        <p:sp>
          <p:nvSpPr>
            <p:cNvPr id="999" name="Oval 10"/>
            <p:cNvSpPr/>
            <p:nvPr/>
          </p:nvSpPr>
          <p:spPr>
            <a:xfrm>
              <a:off x="5119560" y="211608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Oval 11"/>
            <p:cNvSpPr/>
            <p:nvPr/>
          </p:nvSpPr>
          <p:spPr>
            <a:xfrm>
              <a:off x="5576760" y="173520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Oval 12"/>
            <p:cNvSpPr/>
            <p:nvPr/>
          </p:nvSpPr>
          <p:spPr>
            <a:xfrm>
              <a:off x="5195880" y="173520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Oval 13"/>
            <p:cNvSpPr/>
            <p:nvPr/>
          </p:nvSpPr>
          <p:spPr>
            <a:xfrm>
              <a:off x="5500800" y="211608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Oval 14"/>
            <p:cNvSpPr/>
            <p:nvPr/>
          </p:nvSpPr>
          <p:spPr>
            <a:xfrm>
              <a:off x="5348160" y="1308240"/>
              <a:ext cx="321840" cy="39816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Oval 15"/>
            <p:cNvSpPr/>
            <p:nvPr/>
          </p:nvSpPr>
          <p:spPr>
            <a:xfrm>
              <a:off x="5881680" y="196380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Oval 16"/>
            <p:cNvSpPr/>
            <p:nvPr/>
          </p:nvSpPr>
          <p:spPr>
            <a:xfrm>
              <a:off x="5729400" y="1231920"/>
              <a:ext cx="321840" cy="39816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Oval 17"/>
            <p:cNvSpPr/>
            <p:nvPr/>
          </p:nvSpPr>
          <p:spPr>
            <a:xfrm>
              <a:off x="5958000" y="1536840"/>
              <a:ext cx="321840" cy="39816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7" name="Oval 19"/>
          <p:cNvSpPr/>
          <p:nvPr/>
        </p:nvSpPr>
        <p:spPr>
          <a:xfrm>
            <a:off x="5919840" y="27957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Oval 20"/>
          <p:cNvSpPr/>
          <p:nvPr/>
        </p:nvSpPr>
        <p:spPr>
          <a:xfrm>
            <a:off x="6300720" y="33289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Oval 21"/>
          <p:cNvSpPr/>
          <p:nvPr/>
        </p:nvSpPr>
        <p:spPr>
          <a:xfrm>
            <a:off x="6300720" y="27957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Oval 22"/>
          <p:cNvSpPr/>
          <p:nvPr/>
        </p:nvSpPr>
        <p:spPr>
          <a:xfrm>
            <a:off x="5843520" y="33289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Oval 23"/>
          <p:cNvSpPr/>
          <p:nvPr/>
        </p:nvSpPr>
        <p:spPr>
          <a:xfrm>
            <a:off x="6681960" y="31003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Oval 24"/>
          <p:cNvSpPr/>
          <p:nvPr/>
        </p:nvSpPr>
        <p:spPr>
          <a:xfrm>
            <a:off x="5996160" y="37101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Oval 25"/>
          <p:cNvSpPr/>
          <p:nvPr/>
        </p:nvSpPr>
        <p:spPr>
          <a:xfrm>
            <a:off x="6757920" y="34815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Oval 26"/>
          <p:cNvSpPr/>
          <p:nvPr/>
        </p:nvSpPr>
        <p:spPr>
          <a:xfrm>
            <a:off x="6453360" y="386244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5" name="Group 35"/>
          <p:cNvGrpSpPr/>
          <p:nvPr/>
        </p:nvGrpSpPr>
        <p:grpSpPr>
          <a:xfrm>
            <a:off x="6681960" y="1271520"/>
            <a:ext cx="1236240" cy="1160280"/>
            <a:chOff x="6681960" y="1271520"/>
            <a:chExt cx="1236240" cy="1160280"/>
          </a:xfrm>
        </p:grpSpPr>
        <p:sp>
          <p:nvSpPr>
            <p:cNvPr id="1016" name="Oval 27"/>
            <p:cNvSpPr/>
            <p:nvPr/>
          </p:nvSpPr>
          <p:spPr>
            <a:xfrm>
              <a:off x="6681960" y="127152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Oval 28"/>
            <p:cNvSpPr/>
            <p:nvPr/>
          </p:nvSpPr>
          <p:spPr>
            <a:xfrm>
              <a:off x="7062840" y="172872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Oval 29"/>
            <p:cNvSpPr/>
            <p:nvPr/>
          </p:nvSpPr>
          <p:spPr>
            <a:xfrm>
              <a:off x="7062840" y="134784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Oval 30"/>
            <p:cNvSpPr/>
            <p:nvPr/>
          </p:nvSpPr>
          <p:spPr>
            <a:xfrm>
              <a:off x="6681960" y="165276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Oval 31"/>
            <p:cNvSpPr/>
            <p:nvPr/>
          </p:nvSpPr>
          <p:spPr>
            <a:xfrm>
              <a:off x="7443720" y="1500120"/>
              <a:ext cx="398160" cy="32184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Oval 32"/>
            <p:cNvSpPr/>
            <p:nvPr/>
          </p:nvSpPr>
          <p:spPr>
            <a:xfrm>
              <a:off x="6834240" y="203364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Oval 33"/>
            <p:cNvSpPr/>
            <p:nvPr/>
          </p:nvSpPr>
          <p:spPr>
            <a:xfrm>
              <a:off x="7520040" y="1881360"/>
              <a:ext cx="398160" cy="32184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Oval 34"/>
            <p:cNvSpPr/>
            <p:nvPr/>
          </p:nvSpPr>
          <p:spPr>
            <a:xfrm>
              <a:off x="7215120" y="2109960"/>
              <a:ext cx="398160" cy="32184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4" name="Oval 36"/>
          <p:cNvSpPr/>
          <p:nvPr/>
        </p:nvSpPr>
        <p:spPr>
          <a:xfrm>
            <a:off x="2382840" y="13478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Oval 37"/>
          <p:cNvSpPr/>
          <p:nvPr/>
        </p:nvSpPr>
        <p:spPr>
          <a:xfrm>
            <a:off x="2001960" y="18050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Oval 38"/>
          <p:cNvSpPr/>
          <p:nvPr/>
        </p:nvSpPr>
        <p:spPr>
          <a:xfrm>
            <a:off x="2001960" y="14241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Oval 39"/>
          <p:cNvSpPr/>
          <p:nvPr/>
        </p:nvSpPr>
        <p:spPr>
          <a:xfrm>
            <a:off x="2382840" y="17287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Oval 40"/>
          <p:cNvSpPr/>
          <p:nvPr/>
        </p:nvSpPr>
        <p:spPr>
          <a:xfrm>
            <a:off x="1574640" y="157644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Oval 41"/>
          <p:cNvSpPr/>
          <p:nvPr/>
        </p:nvSpPr>
        <p:spPr>
          <a:xfrm>
            <a:off x="2230560" y="21099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Oval 42"/>
          <p:cNvSpPr/>
          <p:nvPr/>
        </p:nvSpPr>
        <p:spPr>
          <a:xfrm>
            <a:off x="1498680" y="19573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Oval 43"/>
          <p:cNvSpPr/>
          <p:nvPr/>
        </p:nvSpPr>
        <p:spPr>
          <a:xfrm>
            <a:off x="1803240" y="21859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Oval 44"/>
          <p:cNvSpPr/>
          <p:nvPr/>
        </p:nvSpPr>
        <p:spPr>
          <a:xfrm>
            <a:off x="4624560" y="12715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Oval 45"/>
          <p:cNvSpPr/>
          <p:nvPr/>
        </p:nvSpPr>
        <p:spPr>
          <a:xfrm>
            <a:off x="1652760" y="28717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Oval 46"/>
          <p:cNvSpPr/>
          <p:nvPr/>
        </p:nvSpPr>
        <p:spPr>
          <a:xfrm>
            <a:off x="1271520" y="28717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Oval 47"/>
          <p:cNvSpPr/>
          <p:nvPr/>
        </p:nvSpPr>
        <p:spPr>
          <a:xfrm>
            <a:off x="3024360" y="20336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Oval 48"/>
          <p:cNvSpPr/>
          <p:nvPr/>
        </p:nvSpPr>
        <p:spPr>
          <a:xfrm>
            <a:off x="6377040" y="21099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Oval 49"/>
          <p:cNvSpPr/>
          <p:nvPr/>
        </p:nvSpPr>
        <p:spPr>
          <a:xfrm>
            <a:off x="1347840" y="32529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Oval 50"/>
          <p:cNvSpPr/>
          <p:nvPr/>
        </p:nvSpPr>
        <p:spPr>
          <a:xfrm>
            <a:off x="1652760" y="35575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Oval 51"/>
          <p:cNvSpPr/>
          <p:nvPr/>
        </p:nvSpPr>
        <p:spPr>
          <a:xfrm>
            <a:off x="1805040" y="32529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0" name="Group 60"/>
          <p:cNvGrpSpPr/>
          <p:nvPr/>
        </p:nvGrpSpPr>
        <p:grpSpPr>
          <a:xfrm>
            <a:off x="2643120" y="2871720"/>
            <a:ext cx="1236600" cy="1160280"/>
            <a:chOff x="2643120" y="2871720"/>
            <a:chExt cx="1236600" cy="1160280"/>
          </a:xfrm>
        </p:grpSpPr>
        <p:sp>
          <p:nvSpPr>
            <p:cNvPr id="1041" name="Oval 52"/>
            <p:cNvSpPr/>
            <p:nvPr/>
          </p:nvSpPr>
          <p:spPr>
            <a:xfrm>
              <a:off x="2643120" y="287172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Oval 53"/>
            <p:cNvSpPr/>
            <p:nvPr/>
          </p:nvSpPr>
          <p:spPr>
            <a:xfrm>
              <a:off x="3024360" y="332892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Oval 54"/>
            <p:cNvSpPr/>
            <p:nvPr/>
          </p:nvSpPr>
          <p:spPr>
            <a:xfrm>
              <a:off x="3024360" y="294804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Oval 55"/>
            <p:cNvSpPr/>
            <p:nvPr/>
          </p:nvSpPr>
          <p:spPr>
            <a:xfrm>
              <a:off x="2643120" y="325296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Oval 56"/>
            <p:cNvSpPr/>
            <p:nvPr/>
          </p:nvSpPr>
          <p:spPr>
            <a:xfrm>
              <a:off x="3405240" y="3100320"/>
              <a:ext cx="398160" cy="32184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Oval 57"/>
            <p:cNvSpPr/>
            <p:nvPr/>
          </p:nvSpPr>
          <p:spPr>
            <a:xfrm>
              <a:off x="2795760" y="3633840"/>
              <a:ext cx="352080" cy="35208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Oval 58"/>
            <p:cNvSpPr/>
            <p:nvPr/>
          </p:nvSpPr>
          <p:spPr>
            <a:xfrm>
              <a:off x="3481560" y="3481560"/>
              <a:ext cx="398160" cy="32184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Oval 59"/>
            <p:cNvSpPr/>
            <p:nvPr/>
          </p:nvSpPr>
          <p:spPr>
            <a:xfrm>
              <a:off x="3176640" y="3710160"/>
              <a:ext cx="398160" cy="321840"/>
            </a:xfrm>
            <a:prstGeom prst="ellipse">
              <a:avLst/>
            </a:prstGeom>
            <a:pattFill prst="wdUpDiag">
              <a:fgClr>
                <a:srgbClr val="c0504d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9" name="Line 61"/>
          <p:cNvSpPr/>
          <p:nvPr/>
        </p:nvSpPr>
        <p:spPr>
          <a:xfrm>
            <a:off x="4267080" y="2590560"/>
            <a:ext cx="3657600" cy="7632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Line 62"/>
          <p:cNvSpPr/>
          <p:nvPr/>
        </p:nvSpPr>
        <p:spPr>
          <a:xfrm flipV="1">
            <a:off x="4267080" y="2666880"/>
            <a:ext cx="3884400" cy="7632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Line 63"/>
          <p:cNvSpPr/>
          <p:nvPr/>
        </p:nvSpPr>
        <p:spPr>
          <a:xfrm flipH="1" flipV="1">
            <a:off x="198108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Line 64"/>
          <p:cNvSpPr/>
          <p:nvPr/>
        </p:nvSpPr>
        <p:spPr>
          <a:xfrm flipH="1" flipV="1">
            <a:off x="518148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Line 65"/>
          <p:cNvSpPr/>
          <p:nvPr/>
        </p:nvSpPr>
        <p:spPr>
          <a:xfrm flipH="1" flipV="1">
            <a:off x="533376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Line 66"/>
          <p:cNvSpPr/>
          <p:nvPr/>
        </p:nvSpPr>
        <p:spPr>
          <a:xfrm>
            <a:off x="1218960" y="2514600"/>
            <a:ext cx="3048120" cy="360"/>
          </a:xfrm>
          <a:prstGeom prst="line">
            <a:avLst/>
          </a:prstGeom>
          <a:ln w="762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Line 67"/>
          <p:cNvSpPr/>
          <p:nvPr/>
        </p:nvSpPr>
        <p:spPr>
          <a:xfrm>
            <a:off x="4343400" y="2514600"/>
            <a:ext cx="3657600" cy="75960"/>
          </a:xfrm>
          <a:prstGeom prst="line">
            <a:avLst/>
          </a:prstGeom>
          <a:ln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Line 68"/>
          <p:cNvSpPr/>
          <p:nvPr/>
        </p:nvSpPr>
        <p:spPr>
          <a:xfrm flipV="1">
            <a:off x="4267080" y="2743200"/>
            <a:ext cx="3884400" cy="75960"/>
          </a:xfrm>
          <a:prstGeom prst="line">
            <a:avLst/>
          </a:prstGeom>
          <a:ln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Oval 69"/>
          <p:cNvSpPr/>
          <p:nvPr/>
        </p:nvSpPr>
        <p:spPr>
          <a:xfrm>
            <a:off x="8053560" y="271944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Oval 70"/>
          <p:cNvSpPr/>
          <p:nvPr/>
        </p:nvSpPr>
        <p:spPr>
          <a:xfrm>
            <a:off x="4700520" y="21099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Oval 71"/>
          <p:cNvSpPr/>
          <p:nvPr/>
        </p:nvSpPr>
        <p:spPr>
          <a:xfrm>
            <a:off x="4167360" y="28717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Oval 72"/>
          <p:cNvSpPr/>
          <p:nvPr/>
        </p:nvSpPr>
        <p:spPr>
          <a:xfrm>
            <a:off x="4548240" y="29480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Oval 73"/>
          <p:cNvSpPr/>
          <p:nvPr/>
        </p:nvSpPr>
        <p:spPr>
          <a:xfrm>
            <a:off x="4167360" y="32529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Oval 74"/>
          <p:cNvSpPr/>
          <p:nvPr/>
        </p:nvSpPr>
        <p:spPr>
          <a:xfrm>
            <a:off x="4929120" y="31003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Oval 75"/>
          <p:cNvSpPr/>
          <p:nvPr/>
        </p:nvSpPr>
        <p:spPr>
          <a:xfrm>
            <a:off x="4319640" y="36338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Oval 76"/>
          <p:cNvSpPr/>
          <p:nvPr/>
        </p:nvSpPr>
        <p:spPr>
          <a:xfrm>
            <a:off x="5005440" y="34815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Oval 77"/>
          <p:cNvSpPr/>
          <p:nvPr/>
        </p:nvSpPr>
        <p:spPr>
          <a:xfrm>
            <a:off x="4700520" y="371016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Oval 78"/>
          <p:cNvSpPr/>
          <p:nvPr/>
        </p:nvSpPr>
        <p:spPr>
          <a:xfrm>
            <a:off x="7291440" y="27957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Oval 79"/>
          <p:cNvSpPr/>
          <p:nvPr/>
        </p:nvSpPr>
        <p:spPr>
          <a:xfrm>
            <a:off x="8129520" y="31003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Oval 80"/>
          <p:cNvSpPr/>
          <p:nvPr/>
        </p:nvSpPr>
        <p:spPr>
          <a:xfrm>
            <a:off x="7672320" y="28717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Oval 81"/>
          <p:cNvSpPr/>
          <p:nvPr/>
        </p:nvSpPr>
        <p:spPr>
          <a:xfrm>
            <a:off x="7291440" y="31766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Oval 82"/>
          <p:cNvSpPr/>
          <p:nvPr/>
        </p:nvSpPr>
        <p:spPr>
          <a:xfrm>
            <a:off x="7443720" y="35575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Oval 83"/>
          <p:cNvSpPr/>
          <p:nvPr/>
        </p:nvSpPr>
        <p:spPr>
          <a:xfrm>
            <a:off x="8129520" y="363384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Oval 84"/>
          <p:cNvSpPr/>
          <p:nvPr/>
        </p:nvSpPr>
        <p:spPr>
          <a:xfrm>
            <a:off x="7748640" y="37861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Oval 85"/>
          <p:cNvSpPr/>
          <p:nvPr/>
        </p:nvSpPr>
        <p:spPr>
          <a:xfrm>
            <a:off x="8016840" y="219240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Oval 86"/>
          <p:cNvSpPr/>
          <p:nvPr/>
        </p:nvSpPr>
        <p:spPr>
          <a:xfrm>
            <a:off x="8474040" y="18111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Oval 87"/>
          <p:cNvSpPr/>
          <p:nvPr/>
        </p:nvSpPr>
        <p:spPr>
          <a:xfrm>
            <a:off x="8093160" y="18111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Oval 88"/>
          <p:cNvSpPr/>
          <p:nvPr/>
        </p:nvSpPr>
        <p:spPr>
          <a:xfrm>
            <a:off x="8397720" y="219240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Oval 89"/>
          <p:cNvSpPr/>
          <p:nvPr/>
        </p:nvSpPr>
        <p:spPr>
          <a:xfrm>
            <a:off x="8245440" y="1384200"/>
            <a:ext cx="321840" cy="39816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Oval 90"/>
          <p:cNvSpPr/>
          <p:nvPr/>
        </p:nvSpPr>
        <p:spPr>
          <a:xfrm>
            <a:off x="8550360" y="325908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Oval 91"/>
          <p:cNvSpPr/>
          <p:nvPr/>
        </p:nvSpPr>
        <p:spPr>
          <a:xfrm>
            <a:off x="8626320" y="1308240"/>
            <a:ext cx="321840" cy="39816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Oval 92"/>
          <p:cNvSpPr/>
          <p:nvPr/>
        </p:nvSpPr>
        <p:spPr>
          <a:xfrm>
            <a:off x="6951600" y="3822840"/>
            <a:ext cx="321840" cy="39816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Line 93"/>
          <p:cNvSpPr/>
          <p:nvPr/>
        </p:nvSpPr>
        <p:spPr>
          <a:xfrm flipV="1">
            <a:off x="6019560" y="1523880"/>
            <a:ext cx="609840" cy="10666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Line 94"/>
          <p:cNvSpPr/>
          <p:nvPr/>
        </p:nvSpPr>
        <p:spPr>
          <a:xfrm flipV="1">
            <a:off x="7696080" y="1676160"/>
            <a:ext cx="457200" cy="99072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Oval 95"/>
          <p:cNvSpPr/>
          <p:nvPr/>
        </p:nvSpPr>
        <p:spPr>
          <a:xfrm>
            <a:off x="8434440" y="28717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Oval 96"/>
          <p:cNvSpPr/>
          <p:nvPr/>
        </p:nvSpPr>
        <p:spPr>
          <a:xfrm>
            <a:off x="2109960" y="363384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Oval 97"/>
          <p:cNvSpPr/>
          <p:nvPr/>
        </p:nvSpPr>
        <p:spPr>
          <a:xfrm>
            <a:off x="3557520" y="10429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Oval 98"/>
          <p:cNvSpPr/>
          <p:nvPr/>
        </p:nvSpPr>
        <p:spPr>
          <a:xfrm>
            <a:off x="2567160" y="96696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Oval 99"/>
          <p:cNvSpPr/>
          <p:nvPr/>
        </p:nvSpPr>
        <p:spPr>
          <a:xfrm>
            <a:off x="2033640" y="1042920"/>
            <a:ext cx="352080" cy="35208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Oval 100"/>
          <p:cNvSpPr/>
          <p:nvPr/>
        </p:nvSpPr>
        <p:spPr>
          <a:xfrm>
            <a:off x="5157720" y="37861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Oval 101"/>
          <p:cNvSpPr/>
          <p:nvPr/>
        </p:nvSpPr>
        <p:spPr>
          <a:xfrm>
            <a:off x="6072120" y="1271520"/>
            <a:ext cx="398160" cy="321840"/>
          </a:xfrm>
          <a:prstGeom prst="ellipse">
            <a:avLst/>
          </a:prstGeom>
          <a:pattFill prst="wdUpDiag">
            <a:fgClr>
              <a:srgbClr val="c0504d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Line 102"/>
          <p:cNvSpPr/>
          <p:nvPr/>
        </p:nvSpPr>
        <p:spPr>
          <a:xfrm flipH="1" flipV="1">
            <a:off x="358128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Line 103"/>
          <p:cNvSpPr/>
          <p:nvPr/>
        </p:nvSpPr>
        <p:spPr>
          <a:xfrm flipH="1" flipV="1">
            <a:off x="198108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Line 104"/>
          <p:cNvSpPr/>
          <p:nvPr/>
        </p:nvSpPr>
        <p:spPr>
          <a:xfrm flipH="1" flipV="1">
            <a:off x="373356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Line 105"/>
          <p:cNvSpPr/>
          <p:nvPr/>
        </p:nvSpPr>
        <p:spPr>
          <a:xfrm flipH="1" flipV="1">
            <a:off x="2133360" y="2743200"/>
            <a:ext cx="4572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Line 106"/>
          <p:cNvSpPr/>
          <p:nvPr/>
        </p:nvSpPr>
        <p:spPr>
          <a:xfrm flipV="1">
            <a:off x="4343400" y="1752480"/>
            <a:ext cx="6858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Line 107"/>
          <p:cNvSpPr/>
          <p:nvPr/>
        </p:nvSpPr>
        <p:spPr>
          <a:xfrm flipV="1">
            <a:off x="4190760" y="1752480"/>
            <a:ext cx="685800" cy="8380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Line 108"/>
          <p:cNvSpPr/>
          <p:nvPr/>
        </p:nvSpPr>
        <p:spPr>
          <a:xfrm flipV="1">
            <a:off x="2666880" y="1600200"/>
            <a:ext cx="380880" cy="99036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Line 109"/>
          <p:cNvSpPr/>
          <p:nvPr/>
        </p:nvSpPr>
        <p:spPr>
          <a:xfrm flipV="1">
            <a:off x="2819160" y="1600200"/>
            <a:ext cx="381240" cy="99036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Line 110"/>
          <p:cNvSpPr/>
          <p:nvPr/>
        </p:nvSpPr>
        <p:spPr>
          <a:xfrm>
            <a:off x="6858000" y="2666880"/>
            <a:ext cx="609480" cy="1295280"/>
          </a:xfrm>
          <a:prstGeom prst="lin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Freeform 111"/>
          <p:cNvSpPr/>
          <p:nvPr/>
        </p:nvSpPr>
        <p:spPr>
          <a:xfrm>
            <a:off x="1219320" y="847800"/>
            <a:ext cx="7892640" cy="3517560"/>
          </a:xfrm>
          <a:custGeom>
            <a:avLst/>
            <a:gdLst>
              <a:gd name="textAreaLeft" fmla="*/ 0 w 7892640"/>
              <a:gd name="textAreaRight" fmla="*/ 7893000 w 7892640"/>
              <a:gd name="textAreaTop" fmla="*/ 0 h 3517560"/>
              <a:gd name="textAreaBottom" fmla="*/ 3517920 h 3517560"/>
            </a:gdLst>
            <a:ahLst/>
            <a:rect l="textAreaLeft" t="textAreaTop" r="textAreaRight" b="textAreaBottom"/>
            <a:pathLst>
              <a:path w="4972" h="2216">
                <a:moveTo>
                  <a:pt x="48" y="954"/>
                </a:moveTo>
                <a:lnTo>
                  <a:pt x="83" y="906"/>
                </a:lnTo>
                <a:lnTo>
                  <a:pt x="93" y="873"/>
                </a:lnTo>
                <a:lnTo>
                  <a:pt x="93" y="840"/>
                </a:lnTo>
                <a:lnTo>
                  <a:pt x="93" y="807"/>
                </a:lnTo>
                <a:lnTo>
                  <a:pt x="93" y="775"/>
                </a:lnTo>
                <a:lnTo>
                  <a:pt x="93" y="731"/>
                </a:lnTo>
                <a:lnTo>
                  <a:pt x="115" y="698"/>
                </a:lnTo>
                <a:lnTo>
                  <a:pt x="126" y="666"/>
                </a:lnTo>
                <a:lnTo>
                  <a:pt x="148" y="633"/>
                </a:lnTo>
                <a:lnTo>
                  <a:pt x="159" y="600"/>
                </a:lnTo>
                <a:lnTo>
                  <a:pt x="181" y="567"/>
                </a:lnTo>
                <a:lnTo>
                  <a:pt x="192" y="535"/>
                </a:lnTo>
                <a:lnTo>
                  <a:pt x="214" y="502"/>
                </a:lnTo>
                <a:lnTo>
                  <a:pt x="224" y="469"/>
                </a:lnTo>
                <a:lnTo>
                  <a:pt x="257" y="447"/>
                </a:lnTo>
                <a:lnTo>
                  <a:pt x="279" y="415"/>
                </a:lnTo>
                <a:lnTo>
                  <a:pt x="312" y="393"/>
                </a:lnTo>
                <a:lnTo>
                  <a:pt x="344" y="371"/>
                </a:lnTo>
                <a:lnTo>
                  <a:pt x="366" y="338"/>
                </a:lnTo>
                <a:lnTo>
                  <a:pt x="399" y="316"/>
                </a:lnTo>
                <a:lnTo>
                  <a:pt x="421" y="284"/>
                </a:lnTo>
                <a:lnTo>
                  <a:pt x="443" y="251"/>
                </a:lnTo>
                <a:lnTo>
                  <a:pt x="454" y="218"/>
                </a:lnTo>
                <a:lnTo>
                  <a:pt x="475" y="185"/>
                </a:lnTo>
                <a:lnTo>
                  <a:pt x="486" y="153"/>
                </a:lnTo>
                <a:lnTo>
                  <a:pt x="508" y="120"/>
                </a:lnTo>
                <a:lnTo>
                  <a:pt x="541" y="98"/>
                </a:lnTo>
                <a:lnTo>
                  <a:pt x="574" y="76"/>
                </a:lnTo>
                <a:lnTo>
                  <a:pt x="606" y="54"/>
                </a:lnTo>
                <a:lnTo>
                  <a:pt x="639" y="33"/>
                </a:lnTo>
                <a:lnTo>
                  <a:pt x="672" y="22"/>
                </a:lnTo>
                <a:lnTo>
                  <a:pt x="705" y="11"/>
                </a:lnTo>
                <a:lnTo>
                  <a:pt x="737" y="11"/>
                </a:lnTo>
                <a:lnTo>
                  <a:pt x="770" y="0"/>
                </a:lnTo>
                <a:lnTo>
                  <a:pt x="803" y="0"/>
                </a:lnTo>
                <a:lnTo>
                  <a:pt x="835" y="0"/>
                </a:lnTo>
                <a:lnTo>
                  <a:pt x="868" y="0"/>
                </a:lnTo>
                <a:lnTo>
                  <a:pt x="901" y="0"/>
                </a:lnTo>
                <a:lnTo>
                  <a:pt x="934" y="0"/>
                </a:lnTo>
                <a:lnTo>
                  <a:pt x="977" y="0"/>
                </a:lnTo>
                <a:lnTo>
                  <a:pt x="1043" y="0"/>
                </a:lnTo>
                <a:lnTo>
                  <a:pt x="1075" y="11"/>
                </a:lnTo>
                <a:lnTo>
                  <a:pt x="1108" y="22"/>
                </a:lnTo>
                <a:lnTo>
                  <a:pt x="1130" y="54"/>
                </a:lnTo>
                <a:lnTo>
                  <a:pt x="1163" y="87"/>
                </a:lnTo>
                <a:lnTo>
                  <a:pt x="1195" y="109"/>
                </a:lnTo>
                <a:lnTo>
                  <a:pt x="1206" y="142"/>
                </a:lnTo>
                <a:lnTo>
                  <a:pt x="1228" y="174"/>
                </a:lnTo>
                <a:lnTo>
                  <a:pt x="1250" y="207"/>
                </a:lnTo>
                <a:lnTo>
                  <a:pt x="1261" y="240"/>
                </a:lnTo>
                <a:lnTo>
                  <a:pt x="1261" y="273"/>
                </a:lnTo>
                <a:lnTo>
                  <a:pt x="1294" y="262"/>
                </a:lnTo>
                <a:lnTo>
                  <a:pt x="1316" y="229"/>
                </a:lnTo>
                <a:lnTo>
                  <a:pt x="1348" y="196"/>
                </a:lnTo>
                <a:lnTo>
                  <a:pt x="1381" y="174"/>
                </a:lnTo>
                <a:lnTo>
                  <a:pt x="1414" y="164"/>
                </a:lnTo>
                <a:lnTo>
                  <a:pt x="1446" y="131"/>
                </a:lnTo>
                <a:lnTo>
                  <a:pt x="1479" y="120"/>
                </a:lnTo>
                <a:lnTo>
                  <a:pt x="1512" y="109"/>
                </a:lnTo>
                <a:lnTo>
                  <a:pt x="1545" y="98"/>
                </a:lnTo>
                <a:lnTo>
                  <a:pt x="1577" y="87"/>
                </a:lnTo>
                <a:lnTo>
                  <a:pt x="1610" y="87"/>
                </a:lnTo>
                <a:lnTo>
                  <a:pt x="1643" y="76"/>
                </a:lnTo>
                <a:lnTo>
                  <a:pt x="1676" y="76"/>
                </a:lnTo>
                <a:lnTo>
                  <a:pt x="1708" y="76"/>
                </a:lnTo>
                <a:lnTo>
                  <a:pt x="1741" y="76"/>
                </a:lnTo>
                <a:lnTo>
                  <a:pt x="1774" y="65"/>
                </a:lnTo>
                <a:lnTo>
                  <a:pt x="1806" y="65"/>
                </a:lnTo>
                <a:lnTo>
                  <a:pt x="1839" y="65"/>
                </a:lnTo>
                <a:lnTo>
                  <a:pt x="1872" y="65"/>
                </a:lnTo>
                <a:lnTo>
                  <a:pt x="1905" y="65"/>
                </a:lnTo>
                <a:lnTo>
                  <a:pt x="1937" y="65"/>
                </a:lnTo>
                <a:lnTo>
                  <a:pt x="1970" y="65"/>
                </a:lnTo>
                <a:lnTo>
                  <a:pt x="2003" y="65"/>
                </a:lnTo>
                <a:lnTo>
                  <a:pt x="2036" y="65"/>
                </a:lnTo>
                <a:lnTo>
                  <a:pt x="2112" y="65"/>
                </a:lnTo>
                <a:lnTo>
                  <a:pt x="2156" y="65"/>
                </a:lnTo>
                <a:lnTo>
                  <a:pt x="2188" y="65"/>
                </a:lnTo>
                <a:lnTo>
                  <a:pt x="2232" y="65"/>
                </a:lnTo>
                <a:lnTo>
                  <a:pt x="2265" y="87"/>
                </a:lnTo>
                <a:lnTo>
                  <a:pt x="2308" y="98"/>
                </a:lnTo>
                <a:lnTo>
                  <a:pt x="2341" y="109"/>
                </a:lnTo>
                <a:lnTo>
                  <a:pt x="2374" y="131"/>
                </a:lnTo>
                <a:lnTo>
                  <a:pt x="2407" y="164"/>
                </a:lnTo>
                <a:lnTo>
                  <a:pt x="2428" y="196"/>
                </a:lnTo>
                <a:lnTo>
                  <a:pt x="2461" y="218"/>
                </a:lnTo>
                <a:lnTo>
                  <a:pt x="2461" y="251"/>
                </a:lnTo>
                <a:lnTo>
                  <a:pt x="2472" y="284"/>
                </a:lnTo>
                <a:lnTo>
                  <a:pt x="2472" y="316"/>
                </a:lnTo>
                <a:lnTo>
                  <a:pt x="2472" y="349"/>
                </a:lnTo>
                <a:lnTo>
                  <a:pt x="2472" y="382"/>
                </a:lnTo>
                <a:lnTo>
                  <a:pt x="2505" y="393"/>
                </a:lnTo>
                <a:lnTo>
                  <a:pt x="2516" y="360"/>
                </a:lnTo>
                <a:lnTo>
                  <a:pt x="2527" y="327"/>
                </a:lnTo>
                <a:lnTo>
                  <a:pt x="2548" y="295"/>
                </a:lnTo>
                <a:lnTo>
                  <a:pt x="2581" y="262"/>
                </a:lnTo>
                <a:lnTo>
                  <a:pt x="2614" y="229"/>
                </a:lnTo>
                <a:lnTo>
                  <a:pt x="2647" y="207"/>
                </a:lnTo>
                <a:lnTo>
                  <a:pt x="2679" y="185"/>
                </a:lnTo>
                <a:lnTo>
                  <a:pt x="2712" y="164"/>
                </a:lnTo>
                <a:lnTo>
                  <a:pt x="2745" y="164"/>
                </a:lnTo>
                <a:lnTo>
                  <a:pt x="2778" y="153"/>
                </a:lnTo>
                <a:lnTo>
                  <a:pt x="2810" y="142"/>
                </a:lnTo>
                <a:lnTo>
                  <a:pt x="2843" y="131"/>
                </a:lnTo>
                <a:lnTo>
                  <a:pt x="2876" y="131"/>
                </a:lnTo>
                <a:lnTo>
                  <a:pt x="2908" y="120"/>
                </a:lnTo>
                <a:lnTo>
                  <a:pt x="2941" y="120"/>
                </a:lnTo>
                <a:lnTo>
                  <a:pt x="2985" y="120"/>
                </a:lnTo>
                <a:lnTo>
                  <a:pt x="3029" y="120"/>
                </a:lnTo>
                <a:lnTo>
                  <a:pt x="3061" y="120"/>
                </a:lnTo>
                <a:lnTo>
                  <a:pt x="3094" y="120"/>
                </a:lnTo>
                <a:lnTo>
                  <a:pt x="3127" y="131"/>
                </a:lnTo>
                <a:lnTo>
                  <a:pt x="3159" y="142"/>
                </a:lnTo>
                <a:lnTo>
                  <a:pt x="3192" y="153"/>
                </a:lnTo>
                <a:lnTo>
                  <a:pt x="3225" y="174"/>
                </a:lnTo>
                <a:lnTo>
                  <a:pt x="3258" y="185"/>
                </a:lnTo>
                <a:lnTo>
                  <a:pt x="3290" y="207"/>
                </a:lnTo>
                <a:lnTo>
                  <a:pt x="3312" y="240"/>
                </a:lnTo>
                <a:lnTo>
                  <a:pt x="3345" y="273"/>
                </a:lnTo>
                <a:lnTo>
                  <a:pt x="3356" y="305"/>
                </a:lnTo>
                <a:lnTo>
                  <a:pt x="3389" y="316"/>
                </a:lnTo>
                <a:lnTo>
                  <a:pt x="3410" y="284"/>
                </a:lnTo>
                <a:lnTo>
                  <a:pt x="3454" y="251"/>
                </a:lnTo>
                <a:lnTo>
                  <a:pt x="3487" y="240"/>
                </a:lnTo>
                <a:lnTo>
                  <a:pt x="3519" y="229"/>
                </a:lnTo>
                <a:lnTo>
                  <a:pt x="3552" y="229"/>
                </a:lnTo>
                <a:lnTo>
                  <a:pt x="3596" y="218"/>
                </a:lnTo>
                <a:lnTo>
                  <a:pt x="3629" y="218"/>
                </a:lnTo>
                <a:lnTo>
                  <a:pt x="3661" y="218"/>
                </a:lnTo>
                <a:lnTo>
                  <a:pt x="3694" y="218"/>
                </a:lnTo>
                <a:lnTo>
                  <a:pt x="3727" y="218"/>
                </a:lnTo>
                <a:lnTo>
                  <a:pt x="3760" y="218"/>
                </a:lnTo>
                <a:lnTo>
                  <a:pt x="3792" y="218"/>
                </a:lnTo>
                <a:lnTo>
                  <a:pt x="3825" y="218"/>
                </a:lnTo>
                <a:lnTo>
                  <a:pt x="3858" y="218"/>
                </a:lnTo>
                <a:lnTo>
                  <a:pt x="3890" y="218"/>
                </a:lnTo>
                <a:lnTo>
                  <a:pt x="3923" y="218"/>
                </a:lnTo>
                <a:lnTo>
                  <a:pt x="3956" y="218"/>
                </a:lnTo>
                <a:lnTo>
                  <a:pt x="3989" y="218"/>
                </a:lnTo>
                <a:lnTo>
                  <a:pt x="4021" y="229"/>
                </a:lnTo>
                <a:lnTo>
                  <a:pt x="4054" y="240"/>
                </a:lnTo>
                <a:lnTo>
                  <a:pt x="4087" y="251"/>
                </a:lnTo>
                <a:lnTo>
                  <a:pt x="4120" y="262"/>
                </a:lnTo>
                <a:lnTo>
                  <a:pt x="4152" y="284"/>
                </a:lnTo>
                <a:lnTo>
                  <a:pt x="4196" y="316"/>
                </a:lnTo>
                <a:lnTo>
                  <a:pt x="4229" y="349"/>
                </a:lnTo>
                <a:lnTo>
                  <a:pt x="4261" y="371"/>
                </a:lnTo>
                <a:lnTo>
                  <a:pt x="4272" y="404"/>
                </a:lnTo>
                <a:lnTo>
                  <a:pt x="4294" y="436"/>
                </a:lnTo>
                <a:lnTo>
                  <a:pt x="4327" y="447"/>
                </a:lnTo>
                <a:lnTo>
                  <a:pt x="4338" y="415"/>
                </a:lnTo>
                <a:lnTo>
                  <a:pt x="4360" y="382"/>
                </a:lnTo>
                <a:lnTo>
                  <a:pt x="4392" y="349"/>
                </a:lnTo>
                <a:lnTo>
                  <a:pt x="4425" y="316"/>
                </a:lnTo>
                <a:lnTo>
                  <a:pt x="4469" y="295"/>
                </a:lnTo>
                <a:lnTo>
                  <a:pt x="4501" y="262"/>
                </a:lnTo>
                <a:lnTo>
                  <a:pt x="4534" y="251"/>
                </a:lnTo>
                <a:lnTo>
                  <a:pt x="4578" y="229"/>
                </a:lnTo>
                <a:lnTo>
                  <a:pt x="4611" y="218"/>
                </a:lnTo>
                <a:lnTo>
                  <a:pt x="4643" y="207"/>
                </a:lnTo>
                <a:lnTo>
                  <a:pt x="4676" y="196"/>
                </a:lnTo>
                <a:lnTo>
                  <a:pt x="4709" y="196"/>
                </a:lnTo>
                <a:lnTo>
                  <a:pt x="4742" y="196"/>
                </a:lnTo>
                <a:lnTo>
                  <a:pt x="4774" y="196"/>
                </a:lnTo>
                <a:lnTo>
                  <a:pt x="4818" y="196"/>
                </a:lnTo>
                <a:lnTo>
                  <a:pt x="4851" y="218"/>
                </a:lnTo>
                <a:lnTo>
                  <a:pt x="4883" y="240"/>
                </a:lnTo>
                <a:lnTo>
                  <a:pt x="4916" y="262"/>
                </a:lnTo>
                <a:lnTo>
                  <a:pt x="4949" y="295"/>
                </a:lnTo>
                <a:lnTo>
                  <a:pt x="4960" y="327"/>
                </a:lnTo>
                <a:lnTo>
                  <a:pt x="4971" y="360"/>
                </a:lnTo>
                <a:lnTo>
                  <a:pt x="4971" y="393"/>
                </a:lnTo>
                <a:lnTo>
                  <a:pt x="4971" y="425"/>
                </a:lnTo>
                <a:lnTo>
                  <a:pt x="4971" y="458"/>
                </a:lnTo>
                <a:lnTo>
                  <a:pt x="4971" y="491"/>
                </a:lnTo>
                <a:lnTo>
                  <a:pt x="4971" y="535"/>
                </a:lnTo>
                <a:lnTo>
                  <a:pt x="4960" y="567"/>
                </a:lnTo>
                <a:lnTo>
                  <a:pt x="4949" y="611"/>
                </a:lnTo>
                <a:lnTo>
                  <a:pt x="4927" y="644"/>
                </a:lnTo>
                <a:lnTo>
                  <a:pt x="4905" y="731"/>
                </a:lnTo>
                <a:lnTo>
                  <a:pt x="4883" y="775"/>
                </a:lnTo>
                <a:lnTo>
                  <a:pt x="4862" y="818"/>
                </a:lnTo>
                <a:lnTo>
                  <a:pt x="4840" y="862"/>
                </a:lnTo>
                <a:lnTo>
                  <a:pt x="4818" y="906"/>
                </a:lnTo>
                <a:lnTo>
                  <a:pt x="4796" y="949"/>
                </a:lnTo>
                <a:lnTo>
                  <a:pt x="4796" y="982"/>
                </a:lnTo>
                <a:lnTo>
                  <a:pt x="4785" y="1015"/>
                </a:lnTo>
                <a:lnTo>
                  <a:pt x="4763" y="1048"/>
                </a:lnTo>
                <a:lnTo>
                  <a:pt x="4752" y="1080"/>
                </a:lnTo>
                <a:lnTo>
                  <a:pt x="4731" y="1113"/>
                </a:lnTo>
                <a:lnTo>
                  <a:pt x="4698" y="1146"/>
                </a:lnTo>
                <a:lnTo>
                  <a:pt x="4665" y="1179"/>
                </a:lnTo>
                <a:lnTo>
                  <a:pt x="4698" y="1189"/>
                </a:lnTo>
                <a:lnTo>
                  <a:pt x="4731" y="1179"/>
                </a:lnTo>
                <a:lnTo>
                  <a:pt x="4763" y="1189"/>
                </a:lnTo>
                <a:lnTo>
                  <a:pt x="4774" y="1222"/>
                </a:lnTo>
                <a:lnTo>
                  <a:pt x="4785" y="1255"/>
                </a:lnTo>
                <a:lnTo>
                  <a:pt x="4807" y="1288"/>
                </a:lnTo>
                <a:lnTo>
                  <a:pt x="4818" y="1320"/>
                </a:lnTo>
                <a:lnTo>
                  <a:pt x="4840" y="1353"/>
                </a:lnTo>
                <a:lnTo>
                  <a:pt x="4851" y="1386"/>
                </a:lnTo>
                <a:lnTo>
                  <a:pt x="4862" y="1419"/>
                </a:lnTo>
                <a:lnTo>
                  <a:pt x="4862" y="1451"/>
                </a:lnTo>
                <a:lnTo>
                  <a:pt x="4872" y="1484"/>
                </a:lnTo>
                <a:lnTo>
                  <a:pt x="4872" y="1517"/>
                </a:lnTo>
                <a:lnTo>
                  <a:pt x="4872" y="1550"/>
                </a:lnTo>
                <a:lnTo>
                  <a:pt x="4872" y="1582"/>
                </a:lnTo>
                <a:lnTo>
                  <a:pt x="4872" y="1615"/>
                </a:lnTo>
                <a:lnTo>
                  <a:pt x="4872" y="1648"/>
                </a:lnTo>
                <a:lnTo>
                  <a:pt x="4872" y="1681"/>
                </a:lnTo>
                <a:lnTo>
                  <a:pt x="4872" y="1713"/>
                </a:lnTo>
                <a:lnTo>
                  <a:pt x="4862" y="1746"/>
                </a:lnTo>
                <a:lnTo>
                  <a:pt x="4840" y="1779"/>
                </a:lnTo>
                <a:lnTo>
                  <a:pt x="4829" y="1812"/>
                </a:lnTo>
                <a:lnTo>
                  <a:pt x="4807" y="1844"/>
                </a:lnTo>
                <a:lnTo>
                  <a:pt x="4785" y="1877"/>
                </a:lnTo>
                <a:lnTo>
                  <a:pt x="4752" y="1888"/>
                </a:lnTo>
                <a:lnTo>
                  <a:pt x="4731" y="1921"/>
                </a:lnTo>
                <a:lnTo>
                  <a:pt x="4698" y="1953"/>
                </a:lnTo>
                <a:lnTo>
                  <a:pt x="4665" y="1975"/>
                </a:lnTo>
                <a:lnTo>
                  <a:pt x="4632" y="1997"/>
                </a:lnTo>
                <a:lnTo>
                  <a:pt x="4600" y="2019"/>
                </a:lnTo>
                <a:lnTo>
                  <a:pt x="4556" y="2052"/>
                </a:lnTo>
                <a:lnTo>
                  <a:pt x="4523" y="2063"/>
                </a:lnTo>
                <a:lnTo>
                  <a:pt x="4491" y="2084"/>
                </a:lnTo>
                <a:lnTo>
                  <a:pt x="4458" y="2084"/>
                </a:lnTo>
                <a:lnTo>
                  <a:pt x="4425" y="2095"/>
                </a:lnTo>
                <a:lnTo>
                  <a:pt x="4392" y="2106"/>
                </a:lnTo>
                <a:lnTo>
                  <a:pt x="4360" y="2106"/>
                </a:lnTo>
                <a:lnTo>
                  <a:pt x="4316" y="2106"/>
                </a:lnTo>
                <a:lnTo>
                  <a:pt x="4283" y="2106"/>
                </a:lnTo>
                <a:lnTo>
                  <a:pt x="4240" y="2106"/>
                </a:lnTo>
                <a:lnTo>
                  <a:pt x="4207" y="2106"/>
                </a:lnTo>
                <a:lnTo>
                  <a:pt x="4163" y="2106"/>
                </a:lnTo>
                <a:lnTo>
                  <a:pt x="4076" y="2106"/>
                </a:lnTo>
                <a:lnTo>
                  <a:pt x="4043" y="2095"/>
                </a:lnTo>
                <a:lnTo>
                  <a:pt x="4010" y="2073"/>
                </a:lnTo>
                <a:lnTo>
                  <a:pt x="3978" y="2052"/>
                </a:lnTo>
                <a:lnTo>
                  <a:pt x="3956" y="2084"/>
                </a:lnTo>
                <a:lnTo>
                  <a:pt x="3934" y="2117"/>
                </a:lnTo>
                <a:lnTo>
                  <a:pt x="3901" y="2150"/>
                </a:lnTo>
                <a:lnTo>
                  <a:pt x="3858" y="2172"/>
                </a:lnTo>
                <a:lnTo>
                  <a:pt x="3825" y="2183"/>
                </a:lnTo>
                <a:lnTo>
                  <a:pt x="3781" y="2194"/>
                </a:lnTo>
                <a:lnTo>
                  <a:pt x="3749" y="2215"/>
                </a:lnTo>
                <a:lnTo>
                  <a:pt x="3716" y="2215"/>
                </a:lnTo>
                <a:lnTo>
                  <a:pt x="3650" y="2215"/>
                </a:lnTo>
                <a:lnTo>
                  <a:pt x="3585" y="2215"/>
                </a:lnTo>
                <a:lnTo>
                  <a:pt x="3541" y="2215"/>
                </a:lnTo>
                <a:lnTo>
                  <a:pt x="3476" y="2215"/>
                </a:lnTo>
                <a:lnTo>
                  <a:pt x="3410" y="2204"/>
                </a:lnTo>
                <a:lnTo>
                  <a:pt x="3378" y="2194"/>
                </a:lnTo>
                <a:lnTo>
                  <a:pt x="3290" y="2183"/>
                </a:lnTo>
                <a:lnTo>
                  <a:pt x="3258" y="2161"/>
                </a:lnTo>
                <a:lnTo>
                  <a:pt x="3170" y="2150"/>
                </a:lnTo>
                <a:lnTo>
                  <a:pt x="3138" y="2139"/>
                </a:lnTo>
                <a:lnTo>
                  <a:pt x="3105" y="2117"/>
                </a:lnTo>
                <a:lnTo>
                  <a:pt x="3072" y="2095"/>
                </a:lnTo>
                <a:lnTo>
                  <a:pt x="3039" y="2073"/>
                </a:lnTo>
                <a:lnTo>
                  <a:pt x="3007" y="2052"/>
                </a:lnTo>
                <a:lnTo>
                  <a:pt x="2996" y="2019"/>
                </a:lnTo>
                <a:lnTo>
                  <a:pt x="2974" y="1986"/>
                </a:lnTo>
                <a:lnTo>
                  <a:pt x="2952" y="1953"/>
                </a:lnTo>
                <a:lnTo>
                  <a:pt x="2941" y="1921"/>
                </a:lnTo>
                <a:lnTo>
                  <a:pt x="2919" y="1888"/>
                </a:lnTo>
                <a:lnTo>
                  <a:pt x="2908" y="1921"/>
                </a:lnTo>
                <a:lnTo>
                  <a:pt x="2898" y="1953"/>
                </a:lnTo>
                <a:lnTo>
                  <a:pt x="2865" y="1986"/>
                </a:lnTo>
                <a:lnTo>
                  <a:pt x="2832" y="2019"/>
                </a:lnTo>
                <a:lnTo>
                  <a:pt x="2799" y="2052"/>
                </a:lnTo>
                <a:lnTo>
                  <a:pt x="2767" y="2063"/>
                </a:lnTo>
                <a:lnTo>
                  <a:pt x="2734" y="2084"/>
                </a:lnTo>
                <a:lnTo>
                  <a:pt x="2690" y="2095"/>
                </a:lnTo>
                <a:lnTo>
                  <a:pt x="2658" y="2106"/>
                </a:lnTo>
                <a:lnTo>
                  <a:pt x="2625" y="2117"/>
                </a:lnTo>
                <a:lnTo>
                  <a:pt x="2559" y="2117"/>
                </a:lnTo>
                <a:lnTo>
                  <a:pt x="2494" y="2117"/>
                </a:lnTo>
                <a:lnTo>
                  <a:pt x="2461" y="2117"/>
                </a:lnTo>
                <a:lnTo>
                  <a:pt x="2428" y="2117"/>
                </a:lnTo>
                <a:lnTo>
                  <a:pt x="2396" y="2117"/>
                </a:lnTo>
                <a:lnTo>
                  <a:pt x="2363" y="2117"/>
                </a:lnTo>
                <a:lnTo>
                  <a:pt x="2330" y="2117"/>
                </a:lnTo>
                <a:lnTo>
                  <a:pt x="2297" y="2117"/>
                </a:lnTo>
                <a:lnTo>
                  <a:pt x="2254" y="2117"/>
                </a:lnTo>
                <a:lnTo>
                  <a:pt x="2188" y="2117"/>
                </a:lnTo>
                <a:lnTo>
                  <a:pt x="2156" y="2117"/>
                </a:lnTo>
                <a:lnTo>
                  <a:pt x="2079" y="2117"/>
                </a:lnTo>
                <a:lnTo>
                  <a:pt x="1992" y="2117"/>
                </a:lnTo>
                <a:lnTo>
                  <a:pt x="1959" y="2095"/>
                </a:lnTo>
                <a:lnTo>
                  <a:pt x="1916" y="2063"/>
                </a:lnTo>
                <a:lnTo>
                  <a:pt x="1894" y="2030"/>
                </a:lnTo>
                <a:lnTo>
                  <a:pt x="1861" y="1997"/>
                </a:lnTo>
                <a:lnTo>
                  <a:pt x="1828" y="1964"/>
                </a:lnTo>
                <a:lnTo>
                  <a:pt x="1806" y="1932"/>
                </a:lnTo>
                <a:lnTo>
                  <a:pt x="1785" y="1899"/>
                </a:lnTo>
                <a:lnTo>
                  <a:pt x="1741" y="1888"/>
                </a:lnTo>
                <a:lnTo>
                  <a:pt x="1730" y="1921"/>
                </a:lnTo>
                <a:lnTo>
                  <a:pt x="1697" y="1953"/>
                </a:lnTo>
                <a:lnTo>
                  <a:pt x="1676" y="1986"/>
                </a:lnTo>
                <a:lnTo>
                  <a:pt x="1654" y="2019"/>
                </a:lnTo>
                <a:lnTo>
                  <a:pt x="1621" y="2030"/>
                </a:lnTo>
                <a:lnTo>
                  <a:pt x="1588" y="2041"/>
                </a:lnTo>
                <a:lnTo>
                  <a:pt x="1556" y="2052"/>
                </a:lnTo>
                <a:lnTo>
                  <a:pt x="1523" y="2063"/>
                </a:lnTo>
                <a:lnTo>
                  <a:pt x="1479" y="2063"/>
                </a:lnTo>
                <a:lnTo>
                  <a:pt x="1446" y="2063"/>
                </a:lnTo>
                <a:lnTo>
                  <a:pt x="1414" y="2073"/>
                </a:lnTo>
                <a:lnTo>
                  <a:pt x="1381" y="2073"/>
                </a:lnTo>
                <a:lnTo>
                  <a:pt x="1337" y="2073"/>
                </a:lnTo>
                <a:lnTo>
                  <a:pt x="1305" y="2073"/>
                </a:lnTo>
                <a:lnTo>
                  <a:pt x="1261" y="2073"/>
                </a:lnTo>
                <a:lnTo>
                  <a:pt x="1217" y="2073"/>
                </a:lnTo>
                <a:lnTo>
                  <a:pt x="1185" y="2073"/>
                </a:lnTo>
                <a:lnTo>
                  <a:pt x="1152" y="2073"/>
                </a:lnTo>
                <a:lnTo>
                  <a:pt x="1065" y="2063"/>
                </a:lnTo>
                <a:lnTo>
                  <a:pt x="1032" y="2052"/>
                </a:lnTo>
                <a:lnTo>
                  <a:pt x="988" y="2030"/>
                </a:lnTo>
                <a:lnTo>
                  <a:pt x="945" y="2019"/>
                </a:lnTo>
                <a:lnTo>
                  <a:pt x="923" y="1986"/>
                </a:lnTo>
                <a:lnTo>
                  <a:pt x="912" y="1953"/>
                </a:lnTo>
                <a:lnTo>
                  <a:pt x="890" y="1921"/>
                </a:lnTo>
                <a:lnTo>
                  <a:pt x="868" y="1888"/>
                </a:lnTo>
                <a:lnTo>
                  <a:pt x="857" y="1921"/>
                </a:lnTo>
                <a:lnTo>
                  <a:pt x="835" y="1953"/>
                </a:lnTo>
                <a:lnTo>
                  <a:pt x="803" y="1986"/>
                </a:lnTo>
                <a:lnTo>
                  <a:pt x="770" y="2008"/>
                </a:lnTo>
                <a:lnTo>
                  <a:pt x="737" y="2030"/>
                </a:lnTo>
                <a:lnTo>
                  <a:pt x="705" y="2041"/>
                </a:lnTo>
                <a:lnTo>
                  <a:pt x="661" y="2041"/>
                </a:lnTo>
                <a:lnTo>
                  <a:pt x="617" y="2041"/>
                </a:lnTo>
                <a:lnTo>
                  <a:pt x="574" y="2030"/>
                </a:lnTo>
                <a:lnTo>
                  <a:pt x="541" y="2019"/>
                </a:lnTo>
                <a:lnTo>
                  <a:pt x="497" y="1997"/>
                </a:lnTo>
                <a:lnTo>
                  <a:pt x="464" y="1986"/>
                </a:lnTo>
                <a:lnTo>
                  <a:pt x="432" y="1975"/>
                </a:lnTo>
                <a:lnTo>
                  <a:pt x="399" y="1953"/>
                </a:lnTo>
                <a:lnTo>
                  <a:pt x="366" y="1942"/>
                </a:lnTo>
                <a:lnTo>
                  <a:pt x="334" y="1921"/>
                </a:lnTo>
                <a:lnTo>
                  <a:pt x="301" y="1899"/>
                </a:lnTo>
                <a:lnTo>
                  <a:pt x="268" y="1888"/>
                </a:lnTo>
                <a:lnTo>
                  <a:pt x="235" y="1866"/>
                </a:lnTo>
                <a:lnTo>
                  <a:pt x="203" y="1855"/>
                </a:lnTo>
                <a:lnTo>
                  <a:pt x="159" y="1833"/>
                </a:lnTo>
                <a:lnTo>
                  <a:pt x="137" y="1801"/>
                </a:lnTo>
                <a:lnTo>
                  <a:pt x="126" y="1768"/>
                </a:lnTo>
                <a:lnTo>
                  <a:pt x="115" y="1735"/>
                </a:lnTo>
                <a:lnTo>
                  <a:pt x="93" y="1702"/>
                </a:lnTo>
                <a:lnTo>
                  <a:pt x="83" y="1670"/>
                </a:lnTo>
                <a:lnTo>
                  <a:pt x="61" y="1637"/>
                </a:lnTo>
                <a:lnTo>
                  <a:pt x="50" y="1604"/>
                </a:lnTo>
                <a:lnTo>
                  <a:pt x="28" y="1571"/>
                </a:lnTo>
                <a:lnTo>
                  <a:pt x="28" y="1528"/>
                </a:lnTo>
                <a:lnTo>
                  <a:pt x="28" y="1495"/>
                </a:lnTo>
                <a:lnTo>
                  <a:pt x="28" y="1462"/>
                </a:lnTo>
                <a:lnTo>
                  <a:pt x="17" y="1430"/>
                </a:lnTo>
                <a:lnTo>
                  <a:pt x="17" y="1397"/>
                </a:lnTo>
                <a:lnTo>
                  <a:pt x="17" y="1364"/>
                </a:lnTo>
                <a:lnTo>
                  <a:pt x="17" y="1331"/>
                </a:lnTo>
                <a:lnTo>
                  <a:pt x="17" y="1299"/>
                </a:lnTo>
                <a:lnTo>
                  <a:pt x="17" y="1266"/>
                </a:lnTo>
                <a:lnTo>
                  <a:pt x="0" y="1242"/>
                </a:lnTo>
              </a:path>
            </a:pathLst>
          </a:custGeom>
          <a:noFill/>
          <a:ln cap="rnd"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Oval 112"/>
          <p:cNvSpPr/>
          <p:nvPr/>
        </p:nvSpPr>
        <p:spPr>
          <a:xfrm>
            <a:off x="4502160" y="3282840"/>
            <a:ext cx="520200" cy="444240"/>
          </a:xfrm>
          <a:prstGeom prst="ellipse">
            <a:avLst/>
          </a:prstGeom>
          <a:pattFill prst="smCheck">
            <a:fgClr>
              <a:srgbClr val="99ffff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Oval 113"/>
          <p:cNvSpPr/>
          <p:nvPr/>
        </p:nvSpPr>
        <p:spPr>
          <a:xfrm>
            <a:off x="3664080" y="1606680"/>
            <a:ext cx="520200" cy="444240"/>
          </a:xfrm>
          <a:prstGeom prst="ellipse">
            <a:avLst/>
          </a:prstGeom>
          <a:pattFill prst="smCheck">
            <a:fgClr>
              <a:srgbClr val="99ffff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Oval 114"/>
          <p:cNvSpPr/>
          <p:nvPr/>
        </p:nvSpPr>
        <p:spPr>
          <a:xfrm>
            <a:off x="7740720" y="3244680"/>
            <a:ext cx="444240" cy="520200"/>
          </a:xfrm>
          <a:prstGeom prst="ellipse">
            <a:avLst/>
          </a:prstGeom>
          <a:pattFill prst="smCheck">
            <a:fgClr>
              <a:srgbClr val="99ffff"/>
            </a:fgClr>
            <a:bgClr>
              <a:srgbClr val="ffffff"/>
            </a:bgClr>
          </a:patt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Freeform 115"/>
          <p:cNvSpPr/>
          <p:nvPr/>
        </p:nvSpPr>
        <p:spPr>
          <a:xfrm>
            <a:off x="519120" y="1143000"/>
            <a:ext cx="1161720" cy="287604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2876040"/>
              <a:gd name="textAreaBottom" fmla="*/ 2876400 h 2876040"/>
            </a:gdLst>
            <a:ahLst/>
            <a:rect l="textAreaLeft" t="textAreaTop" r="textAreaRight" b="textAreaBottom"/>
            <a:pathLst>
              <a:path w="732" h="1812">
                <a:moveTo>
                  <a:pt x="345" y="0"/>
                </a:moveTo>
                <a:lnTo>
                  <a:pt x="294" y="43"/>
                </a:lnTo>
                <a:lnTo>
                  <a:pt x="262" y="76"/>
                </a:lnTo>
                <a:lnTo>
                  <a:pt x="251" y="109"/>
                </a:lnTo>
                <a:lnTo>
                  <a:pt x="229" y="141"/>
                </a:lnTo>
                <a:lnTo>
                  <a:pt x="196" y="163"/>
                </a:lnTo>
                <a:lnTo>
                  <a:pt x="174" y="196"/>
                </a:lnTo>
                <a:lnTo>
                  <a:pt x="164" y="229"/>
                </a:lnTo>
                <a:lnTo>
                  <a:pt x="142" y="261"/>
                </a:lnTo>
                <a:lnTo>
                  <a:pt x="131" y="294"/>
                </a:lnTo>
                <a:lnTo>
                  <a:pt x="120" y="327"/>
                </a:lnTo>
                <a:lnTo>
                  <a:pt x="87" y="360"/>
                </a:lnTo>
                <a:lnTo>
                  <a:pt x="87" y="392"/>
                </a:lnTo>
                <a:lnTo>
                  <a:pt x="65" y="425"/>
                </a:lnTo>
                <a:lnTo>
                  <a:pt x="54" y="458"/>
                </a:lnTo>
                <a:lnTo>
                  <a:pt x="44" y="491"/>
                </a:lnTo>
                <a:lnTo>
                  <a:pt x="33" y="523"/>
                </a:lnTo>
                <a:lnTo>
                  <a:pt x="33" y="556"/>
                </a:lnTo>
                <a:lnTo>
                  <a:pt x="33" y="589"/>
                </a:lnTo>
                <a:lnTo>
                  <a:pt x="22" y="621"/>
                </a:lnTo>
                <a:lnTo>
                  <a:pt x="22" y="654"/>
                </a:lnTo>
                <a:lnTo>
                  <a:pt x="11" y="687"/>
                </a:lnTo>
                <a:lnTo>
                  <a:pt x="11" y="720"/>
                </a:lnTo>
                <a:lnTo>
                  <a:pt x="0" y="752"/>
                </a:lnTo>
                <a:lnTo>
                  <a:pt x="0" y="796"/>
                </a:lnTo>
                <a:lnTo>
                  <a:pt x="0" y="829"/>
                </a:lnTo>
                <a:lnTo>
                  <a:pt x="0" y="862"/>
                </a:lnTo>
                <a:lnTo>
                  <a:pt x="0" y="894"/>
                </a:lnTo>
                <a:lnTo>
                  <a:pt x="0" y="927"/>
                </a:lnTo>
                <a:lnTo>
                  <a:pt x="0" y="971"/>
                </a:lnTo>
                <a:lnTo>
                  <a:pt x="0" y="1014"/>
                </a:lnTo>
                <a:lnTo>
                  <a:pt x="0" y="1047"/>
                </a:lnTo>
                <a:lnTo>
                  <a:pt x="0" y="1080"/>
                </a:lnTo>
                <a:lnTo>
                  <a:pt x="0" y="1113"/>
                </a:lnTo>
                <a:lnTo>
                  <a:pt x="0" y="1145"/>
                </a:lnTo>
                <a:lnTo>
                  <a:pt x="0" y="1178"/>
                </a:lnTo>
                <a:lnTo>
                  <a:pt x="0" y="1211"/>
                </a:lnTo>
                <a:lnTo>
                  <a:pt x="0" y="1244"/>
                </a:lnTo>
                <a:lnTo>
                  <a:pt x="0" y="1276"/>
                </a:lnTo>
                <a:lnTo>
                  <a:pt x="22" y="1309"/>
                </a:lnTo>
                <a:lnTo>
                  <a:pt x="22" y="1342"/>
                </a:lnTo>
                <a:lnTo>
                  <a:pt x="44" y="1375"/>
                </a:lnTo>
                <a:lnTo>
                  <a:pt x="65" y="1407"/>
                </a:lnTo>
                <a:lnTo>
                  <a:pt x="76" y="1440"/>
                </a:lnTo>
                <a:lnTo>
                  <a:pt x="87" y="1473"/>
                </a:lnTo>
                <a:lnTo>
                  <a:pt x="98" y="1505"/>
                </a:lnTo>
                <a:lnTo>
                  <a:pt x="120" y="1538"/>
                </a:lnTo>
                <a:lnTo>
                  <a:pt x="153" y="1571"/>
                </a:lnTo>
                <a:lnTo>
                  <a:pt x="164" y="1604"/>
                </a:lnTo>
                <a:lnTo>
                  <a:pt x="185" y="1636"/>
                </a:lnTo>
                <a:lnTo>
                  <a:pt x="196" y="1669"/>
                </a:lnTo>
                <a:lnTo>
                  <a:pt x="218" y="1702"/>
                </a:lnTo>
                <a:lnTo>
                  <a:pt x="240" y="1735"/>
                </a:lnTo>
                <a:lnTo>
                  <a:pt x="273" y="1756"/>
                </a:lnTo>
                <a:lnTo>
                  <a:pt x="305" y="1789"/>
                </a:lnTo>
                <a:lnTo>
                  <a:pt x="338" y="1800"/>
                </a:lnTo>
                <a:lnTo>
                  <a:pt x="360" y="1767"/>
                </a:lnTo>
                <a:lnTo>
                  <a:pt x="393" y="1767"/>
                </a:lnTo>
                <a:lnTo>
                  <a:pt x="425" y="1767"/>
                </a:lnTo>
                <a:lnTo>
                  <a:pt x="458" y="1756"/>
                </a:lnTo>
                <a:lnTo>
                  <a:pt x="502" y="1767"/>
                </a:lnTo>
                <a:lnTo>
                  <a:pt x="534" y="1778"/>
                </a:lnTo>
                <a:lnTo>
                  <a:pt x="567" y="1800"/>
                </a:lnTo>
                <a:lnTo>
                  <a:pt x="600" y="1811"/>
                </a:lnTo>
                <a:lnTo>
                  <a:pt x="611" y="1778"/>
                </a:lnTo>
                <a:lnTo>
                  <a:pt x="600" y="1746"/>
                </a:lnTo>
                <a:lnTo>
                  <a:pt x="578" y="1713"/>
                </a:lnTo>
                <a:lnTo>
                  <a:pt x="567" y="1680"/>
                </a:lnTo>
                <a:lnTo>
                  <a:pt x="545" y="1647"/>
                </a:lnTo>
                <a:lnTo>
                  <a:pt x="534" y="1615"/>
                </a:lnTo>
                <a:lnTo>
                  <a:pt x="524" y="1582"/>
                </a:lnTo>
                <a:lnTo>
                  <a:pt x="513" y="1549"/>
                </a:lnTo>
                <a:lnTo>
                  <a:pt x="491" y="1516"/>
                </a:lnTo>
                <a:lnTo>
                  <a:pt x="480" y="1484"/>
                </a:lnTo>
                <a:lnTo>
                  <a:pt x="469" y="1451"/>
                </a:lnTo>
                <a:lnTo>
                  <a:pt x="458" y="1418"/>
                </a:lnTo>
                <a:lnTo>
                  <a:pt x="436" y="1385"/>
                </a:lnTo>
                <a:lnTo>
                  <a:pt x="436" y="1353"/>
                </a:lnTo>
                <a:lnTo>
                  <a:pt x="425" y="1320"/>
                </a:lnTo>
                <a:lnTo>
                  <a:pt x="425" y="1287"/>
                </a:lnTo>
                <a:lnTo>
                  <a:pt x="414" y="1254"/>
                </a:lnTo>
                <a:lnTo>
                  <a:pt x="404" y="1222"/>
                </a:lnTo>
                <a:lnTo>
                  <a:pt x="393" y="1178"/>
                </a:lnTo>
                <a:lnTo>
                  <a:pt x="393" y="1145"/>
                </a:lnTo>
                <a:lnTo>
                  <a:pt x="382" y="1113"/>
                </a:lnTo>
                <a:lnTo>
                  <a:pt x="382" y="1080"/>
                </a:lnTo>
                <a:lnTo>
                  <a:pt x="382" y="1047"/>
                </a:lnTo>
                <a:lnTo>
                  <a:pt x="382" y="1014"/>
                </a:lnTo>
                <a:lnTo>
                  <a:pt x="371" y="982"/>
                </a:lnTo>
                <a:lnTo>
                  <a:pt x="371" y="949"/>
                </a:lnTo>
                <a:lnTo>
                  <a:pt x="371" y="916"/>
                </a:lnTo>
                <a:lnTo>
                  <a:pt x="371" y="872"/>
                </a:lnTo>
                <a:lnTo>
                  <a:pt x="371" y="840"/>
                </a:lnTo>
                <a:lnTo>
                  <a:pt x="371" y="807"/>
                </a:lnTo>
                <a:lnTo>
                  <a:pt x="371" y="774"/>
                </a:lnTo>
                <a:lnTo>
                  <a:pt x="371" y="742"/>
                </a:lnTo>
                <a:lnTo>
                  <a:pt x="371" y="709"/>
                </a:lnTo>
                <a:lnTo>
                  <a:pt x="382" y="676"/>
                </a:lnTo>
                <a:lnTo>
                  <a:pt x="393" y="643"/>
                </a:lnTo>
                <a:lnTo>
                  <a:pt x="414" y="611"/>
                </a:lnTo>
                <a:lnTo>
                  <a:pt x="425" y="578"/>
                </a:lnTo>
                <a:lnTo>
                  <a:pt x="425" y="545"/>
                </a:lnTo>
                <a:lnTo>
                  <a:pt x="436" y="512"/>
                </a:lnTo>
                <a:lnTo>
                  <a:pt x="458" y="480"/>
                </a:lnTo>
                <a:lnTo>
                  <a:pt x="458" y="447"/>
                </a:lnTo>
                <a:lnTo>
                  <a:pt x="469" y="414"/>
                </a:lnTo>
                <a:lnTo>
                  <a:pt x="480" y="381"/>
                </a:lnTo>
                <a:lnTo>
                  <a:pt x="502" y="349"/>
                </a:lnTo>
                <a:lnTo>
                  <a:pt x="524" y="316"/>
                </a:lnTo>
                <a:lnTo>
                  <a:pt x="545" y="283"/>
                </a:lnTo>
                <a:lnTo>
                  <a:pt x="567" y="250"/>
                </a:lnTo>
                <a:lnTo>
                  <a:pt x="589" y="218"/>
                </a:lnTo>
                <a:lnTo>
                  <a:pt x="611" y="185"/>
                </a:lnTo>
                <a:lnTo>
                  <a:pt x="644" y="163"/>
                </a:lnTo>
                <a:lnTo>
                  <a:pt x="676" y="141"/>
                </a:lnTo>
                <a:lnTo>
                  <a:pt x="709" y="119"/>
                </a:lnTo>
                <a:lnTo>
                  <a:pt x="731" y="87"/>
                </a:lnTo>
                <a:lnTo>
                  <a:pt x="698" y="87"/>
                </a:lnTo>
                <a:lnTo>
                  <a:pt x="665" y="87"/>
                </a:lnTo>
                <a:lnTo>
                  <a:pt x="633" y="87"/>
                </a:lnTo>
                <a:lnTo>
                  <a:pt x="600" y="87"/>
                </a:lnTo>
                <a:lnTo>
                  <a:pt x="567" y="87"/>
                </a:lnTo>
                <a:lnTo>
                  <a:pt x="534" y="87"/>
                </a:lnTo>
                <a:lnTo>
                  <a:pt x="491" y="87"/>
                </a:lnTo>
                <a:lnTo>
                  <a:pt x="458" y="76"/>
                </a:lnTo>
                <a:lnTo>
                  <a:pt x="425" y="65"/>
                </a:lnTo>
                <a:lnTo>
                  <a:pt x="393" y="43"/>
                </a:lnTo>
                <a:lnTo>
                  <a:pt x="345" y="0"/>
                </a:lnTo>
                <a:lnTo>
                  <a:pt x="305" y="54"/>
                </a:lnTo>
                <a:lnTo>
                  <a:pt x="273" y="87"/>
                </a:lnTo>
                <a:lnTo>
                  <a:pt x="251" y="119"/>
                </a:lnTo>
                <a:lnTo>
                  <a:pt x="229" y="152"/>
                </a:lnTo>
                <a:lnTo>
                  <a:pt x="207" y="185"/>
                </a:lnTo>
                <a:lnTo>
                  <a:pt x="185" y="218"/>
                </a:lnTo>
                <a:lnTo>
                  <a:pt x="174" y="250"/>
                </a:lnTo>
                <a:lnTo>
                  <a:pt x="153" y="283"/>
                </a:lnTo>
                <a:lnTo>
                  <a:pt x="131" y="316"/>
                </a:lnTo>
                <a:lnTo>
                  <a:pt x="109" y="349"/>
                </a:lnTo>
                <a:lnTo>
                  <a:pt x="87" y="381"/>
                </a:lnTo>
                <a:lnTo>
                  <a:pt x="76" y="414"/>
                </a:lnTo>
                <a:lnTo>
                  <a:pt x="65" y="447"/>
                </a:lnTo>
                <a:lnTo>
                  <a:pt x="54" y="480"/>
                </a:lnTo>
                <a:lnTo>
                  <a:pt x="44" y="512"/>
                </a:lnTo>
                <a:lnTo>
                  <a:pt x="44" y="545"/>
                </a:lnTo>
                <a:lnTo>
                  <a:pt x="9" y="576"/>
                </a:lnTo>
              </a:path>
            </a:pathLst>
          </a:custGeom>
          <a:pattFill prst="ltHorz">
            <a:fgClr>
              <a:srgbClr val="ffcc99"/>
            </a:fgClr>
            <a:bgClr>
              <a:srgbClr val="ffffff"/>
            </a:bgClr>
          </a:pattFill>
          <a:ln cap="rnd" w="5080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Line 116"/>
          <p:cNvSpPr/>
          <p:nvPr/>
        </p:nvSpPr>
        <p:spPr>
          <a:xfrm>
            <a:off x="1066680" y="2590560"/>
            <a:ext cx="3124080" cy="360"/>
          </a:xfrm>
          <a:prstGeom prst="line">
            <a:avLst/>
          </a:prstGeom>
          <a:ln w="762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Line 117"/>
          <p:cNvSpPr/>
          <p:nvPr/>
        </p:nvSpPr>
        <p:spPr>
          <a:xfrm>
            <a:off x="1218960" y="2819160"/>
            <a:ext cx="3048120" cy="360"/>
          </a:xfrm>
          <a:prstGeom prst="line">
            <a:avLst/>
          </a:prstGeom>
          <a:ln w="762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 useBgFill="1">
        <p:nvSpPr>
          <p:cNvPr id="1106" name="Oval 118"/>
          <p:cNvSpPr/>
          <p:nvPr/>
        </p:nvSpPr>
        <p:spPr>
          <a:xfrm>
            <a:off x="900000" y="2576520"/>
            <a:ext cx="183960" cy="182160"/>
          </a:xfrm>
          <a:prstGeom prst="ellipse">
            <a:avLst/>
          </a:prstGeom>
          <a:ln w="508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Line 119"/>
          <p:cNvSpPr/>
          <p:nvPr/>
        </p:nvSpPr>
        <p:spPr>
          <a:xfrm>
            <a:off x="1066680" y="2743200"/>
            <a:ext cx="3200400" cy="360"/>
          </a:xfrm>
          <a:prstGeom prst="line">
            <a:avLst/>
          </a:prstGeom>
          <a:ln w="7620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Freeform 121"/>
          <p:cNvSpPr/>
          <p:nvPr/>
        </p:nvSpPr>
        <p:spPr>
          <a:xfrm>
            <a:off x="6781680" y="2819520"/>
            <a:ext cx="763200" cy="1296720"/>
          </a:xfrm>
          <a:custGeom>
            <a:avLst/>
            <a:gdLst>
              <a:gd name="textAreaLeft" fmla="*/ 0 w 763200"/>
              <a:gd name="textAreaRight" fmla="*/ 763560 w 76320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481" h="817">
                <a:moveTo>
                  <a:pt x="480" y="816"/>
                </a:moveTo>
                <a:lnTo>
                  <a:pt x="430" y="810"/>
                </a:lnTo>
                <a:lnTo>
                  <a:pt x="397" y="788"/>
                </a:lnTo>
                <a:lnTo>
                  <a:pt x="365" y="766"/>
                </a:lnTo>
                <a:lnTo>
                  <a:pt x="354" y="733"/>
                </a:lnTo>
                <a:lnTo>
                  <a:pt x="343" y="700"/>
                </a:lnTo>
                <a:lnTo>
                  <a:pt x="321" y="668"/>
                </a:lnTo>
                <a:lnTo>
                  <a:pt x="310" y="635"/>
                </a:lnTo>
                <a:lnTo>
                  <a:pt x="299" y="602"/>
                </a:lnTo>
                <a:lnTo>
                  <a:pt x="277" y="570"/>
                </a:lnTo>
                <a:lnTo>
                  <a:pt x="266" y="537"/>
                </a:lnTo>
                <a:lnTo>
                  <a:pt x="266" y="504"/>
                </a:lnTo>
                <a:lnTo>
                  <a:pt x="256" y="471"/>
                </a:lnTo>
                <a:lnTo>
                  <a:pt x="256" y="439"/>
                </a:lnTo>
                <a:lnTo>
                  <a:pt x="245" y="406"/>
                </a:lnTo>
                <a:lnTo>
                  <a:pt x="234" y="373"/>
                </a:lnTo>
                <a:lnTo>
                  <a:pt x="223" y="340"/>
                </a:lnTo>
                <a:lnTo>
                  <a:pt x="212" y="308"/>
                </a:lnTo>
                <a:lnTo>
                  <a:pt x="190" y="275"/>
                </a:lnTo>
                <a:lnTo>
                  <a:pt x="179" y="242"/>
                </a:lnTo>
                <a:lnTo>
                  <a:pt x="146" y="209"/>
                </a:lnTo>
                <a:lnTo>
                  <a:pt x="125" y="177"/>
                </a:lnTo>
                <a:lnTo>
                  <a:pt x="92" y="155"/>
                </a:lnTo>
                <a:lnTo>
                  <a:pt x="81" y="122"/>
                </a:lnTo>
                <a:lnTo>
                  <a:pt x="70" y="89"/>
                </a:lnTo>
                <a:lnTo>
                  <a:pt x="37" y="57"/>
                </a:lnTo>
                <a:lnTo>
                  <a:pt x="15" y="24"/>
                </a:lnTo>
                <a:lnTo>
                  <a:pt x="0" y="0"/>
                </a:lnTo>
              </a:path>
            </a:pathLst>
          </a:custGeom>
          <a:noFill/>
          <a:ln cap="rnd" w="254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Rectangle 122"/>
          <p:cNvSpPr/>
          <p:nvPr/>
        </p:nvSpPr>
        <p:spPr>
          <a:xfrm>
            <a:off x="5791320" y="609480"/>
            <a:ext cx="3504960" cy="45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hlink"/>
                </a:solidFill>
                <a:latin typeface="Times New Roman"/>
              </a:rPr>
              <a:t>SECRETORY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23"/>
          <p:cNvSpPr/>
          <p:nvPr/>
        </p:nvSpPr>
        <p:spPr>
          <a:xfrm flipH="1">
            <a:off x="6324480" y="990360"/>
            <a:ext cx="990720" cy="381240"/>
          </a:xfrm>
          <a:prstGeom prst="line">
            <a:avLst/>
          </a:prstGeom>
          <a:ln w="25400">
            <a:solidFill>
              <a:srgbClr val="000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Line 124"/>
          <p:cNvSpPr/>
          <p:nvPr/>
        </p:nvSpPr>
        <p:spPr>
          <a:xfrm flipV="1">
            <a:off x="4038480" y="990360"/>
            <a:ext cx="2590920" cy="685800"/>
          </a:xfrm>
          <a:prstGeom prst="line">
            <a:avLst/>
          </a:prstGeom>
          <a:ln w="25400">
            <a:solidFill>
              <a:srgbClr val="0000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Rectangle 125"/>
          <p:cNvSpPr/>
          <p:nvPr/>
        </p:nvSpPr>
        <p:spPr>
          <a:xfrm>
            <a:off x="7315200" y="4724280"/>
            <a:ext cx="1980720" cy="64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ru-RU" sz="3600" spc="-1" strike="noStrike">
                <a:solidFill>
                  <a:schemeClr val="accent1"/>
                </a:solidFill>
                <a:latin typeface="Times New Roman"/>
              </a:rPr>
              <a:t>Lob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26"/>
          <p:cNvSpPr/>
          <p:nvPr/>
        </p:nvSpPr>
        <p:spPr>
          <a:xfrm flipH="1" rot="5400000">
            <a:off x="7848360" y="3734640"/>
            <a:ext cx="837720" cy="1554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799"/>
              </a:spcBef>
            </a:pPr>
            <a:r>
              <a:rPr b="0" lang="ru-RU" sz="9600" spc="-1" strike="noStrike">
                <a:solidFill>
                  <a:srgbClr val="cbcbcb"/>
                </a:solidFill>
                <a:latin typeface="Times New Roman"/>
              </a:rPr>
              <a:t>}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27"/>
          <p:cNvSpPr/>
          <p:nvPr/>
        </p:nvSpPr>
        <p:spPr>
          <a:xfrm flipV="1">
            <a:off x="1600200" y="2666880"/>
            <a:ext cx="75960" cy="1828800"/>
          </a:xfrm>
          <a:prstGeom prst="line">
            <a:avLst/>
          </a:prstGeom>
          <a:ln w="50800">
            <a:solidFill>
              <a:srgbClr val="ff00cc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128"/>
          <p:cNvSpPr/>
          <p:nvPr/>
        </p:nvSpPr>
        <p:spPr>
          <a:xfrm rot="20520000">
            <a:off x="539640" y="3282840"/>
            <a:ext cx="139320" cy="215640"/>
          </a:xfrm>
          <a:prstGeom prst="ellipse">
            <a:avLst/>
          </a:prstGeom>
          <a:solidFill>
            <a:srgbClr val="ff33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129"/>
          <p:cNvSpPr/>
          <p:nvPr/>
        </p:nvSpPr>
        <p:spPr>
          <a:xfrm rot="20520000">
            <a:off x="691920" y="3511440"/>
            <a:ext cx="139320" cy="215640"/>
          </a:xfrm>
          <a:prstGeom prst="ellipse">
            <a:avLst/>
          </a:prstGeom>
          <a:solidFill>
            <a:srgbClr val="ffff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Freeform 130"/>
          <p:cNvSpPr/>
          <p:nvPr/>
        </p:nvSpPr>
        <p:spPr>
          <a:xfrm>
            <a:off x="5486400" y="2819520"/>
            <a:ext cx="385560" cy="991800"/>
          </a:xfrm>
          <a:custGeom>
            <a:avLst/>
            <a:gdLst>
              <a:gd name="textAreaLeft" fmla="*/ 0 w 385560"/>
              <a:gd name="textAreaRight" fmla="*/ 385920 w 385560"/>
              <a:gd name="textAreaTop" fmla="*/ 0 h 991800"/>
              <a:gd name="textAreaBottom" fmla="*/ 992160 h 991800"/>
            </a:gdLst>
            <a:ahLst/>
            <a:rect l="textAreaLeft" t="textAreaTop" r="textAreaRight" b="textAreaBottom"/>
            <a:pathLst>
              <a:path w="243" h="625">
                <a:moveTo>
                  <a:pt x="0" y="0"/>
                </a:moveTo>
                <a:lnTo>
                  <a:pt x="24" y="46"/>
                </a:lnTo>
                <a:lnTo>
                  <a:pt x="35" y="78"/>
                </a:lnTo>
                <a:lnTo>
                  <a:pt x="57" y="111"/>
                </a:lnTo>
                <a:lnTo>
                  <a:pt x="79" y="144"/>
                </a:lnTo>
                <a:lnTo>
                  <a:pt x="90" y="177"/>
                </a:lnTo>
                <a:lnTo>
                  <a:pt x="100" y="209"/>
                </a:lnTo>
                <a:lnTo>
                  <a:pt x="122" y="242"/>
                </a:lnTo>
                <a:lnTo>
                  <a:pt x="133" y="275"/>
                </a:lnTo>
                <a:lnTo>
                  <a:pt x="166" y="297"/>
                </a:lnTo>
                <a:lnTo>
                  <a:pt x="177" y="329"/>
                </a:lnTo>
                <a:lnTo>
                  <a:pt x="188" y="362"/>
                </a:lnTo>
                <a:lnTo>
                  <a:pt x="210" y="395"/>
                </a:lnTo>
                <a:lnTo>
                  <a:pt x="220" y="428"/>
                </a:lnTo>
                <a:lnTo>
                  <a:pt x="220" y="460"/>
                </a:lnTo>
                <a:lnTo>
                  <a:pt x="231" y="493"/>
                </a:lnTo>
                <a:lnTo>
                  <a:pt x="231" y="526"/>
                </a:lnTo>
                <a:lnTo>
                  <a:pt x="231" y="559"/>
                </a:lnTo>
                <a:lnTo>
                  <a:pt x="242" y="591"/>
                </a:lnTo>
                <a:lnTo>
                  <a:pt x="242" y="624"/>
                </a:lnTo>
                <a:lnTo>
                  <a:pt x="240" y="624"/>
                </a:lnTo>
              </a:path>
            </a:pathLst>
          </a:custGeom>
          <a:noFill/>
          <a:ln cap="rnd" w="127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Line 131"/>
          <p:cNvSpPr/>
          <p:nvPr/>
        </p:nvSpPr>
        <p:spPr>
          <a:xfrm>
            <a:off x="5562360" y="3124080"/>
            <a:ext cx="762120" cy="152280"/>
          </a:xfrm>
          <a:prstGeom prst="line">
            <a:avLst/>
          </a:prstGeom>
          <a:ln w="5080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Line 132"/>
          <p:cNvSpPr/>
          <p:nvPr/>
        </p:nvSpPr>
        <p:spPr>
          <a:xfrm>
            <a:off x="6324480" y="3276360"/>
            <a:ext cx="304920" cy="360"/>
          </a:xfrm>
          <a:prstGeom prst="line">
            <a:avLst/>
          </a:prstGeom>
          <a:ln w="5080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Line 133"/>
          <p:cNvSpPr/>
          <p:nvPr/>
        </p:nvSpPr>
        <p:spPr>
          <a:xfrm>
            <a:off x="6324480" y="3276360"/>
            <a:ext cx="76320" cy="609840"/>
          </a:xfrm>
          <a:prstGeom prst="line">
            <a:avLst/>
          </a:prstGeom>
          <a:ln w="5080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Line 134"/>
          <p:cNvSpPr/>
          <p:nvPr/>
        </p:nvSpPr>
        <p:spPr>
          <a:xfrm>
            <a:off x="6629400" y="3276360"/>
            <a:ext cx="152280" cy="457200"/>
          </a:xfrm>
          <a:prstGeom prst="line">
            <a:avLst/>
          </a:prstGeom>
          <a:ln w="5080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Line 135"/>
          <p:cNvSpPr/>
          <p:nvPr/>
        </p:nvSpPr>
        <p:spPr>
          <a:xfrm>
            <a:off x="6705360" y="3276360"/>
            <a:ext cx="152640" cy="36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Line 136"/>
          <p:cNvSpPr/>
          <p:nvPr/>
        </p:nvSpPr>
        <p:spPr>
          <a:xfrm>
            <a:off x="6781680" y="3733560"/>
            <a:ext cx="304920" cy="30492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Line 137"/>
          <p:cNvSpPr/>
          <p:nvPr/>
        </p:nvSpPr>
        <p:spPr>
          <a:xfrm flipH="1">
            <a:off x="6705360" y="3733560"/>
            <a:ext cx="76320" cy="22860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Line 138"/>
          <p:cNvSpPr/>
          <p:nvPr/>
        </p:nvSpPr>
        <p:spPr>
          <a:xfrm flipV="1">
            <a:off x="6019560" y="3429000"/>
            <a:ext cx="304920" cy="7596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Line 139"/>
          <p:cNvSpPr/>
          <p:nvPr/>
        </p:nvSpPr>
        <p:spPr>
          <a:xfrm>
            <a:off x="6781680" y="3657600"/>
            <a:ext cx="152280" cy="36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Line 140"/>
          <p:cNvSpPr/>
          <p:nvPr/>
        </p:nvSpPr>
        <p:spPr>
          <a:xfrm flipV="1">
            <a:off x="6476760" y="3047760"/>
            <a:ext cx="360" cy="22860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Line 141"/>
          <p:cNvSpPr/>
          <p:nvPr/>
        </p:nvSpPr>
        <p:spPr>
          <a:xfrm flipV="1">
            <a:off x="6095880" y="2895480"/>
            <a:ext cx="360" cy="30492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Line 142"/>
          <p:cNvSpPr/>
          <p:nvPr/>
        </p:nvSpPr>
        <p:spPr>
          <a:xfrm flipV="1">
            <a:off x="6248160" y="3657600"/>
            <a:ext cx="76320" cy="22860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Line 143"/>
          <p:cNvSpPr/>
          <p:nvPr/>
        </p:nvSpPr>
        <p:spPr>
          <a:xfrm>
            <a:off x="6324480" y="3504960"/>
            <a:ext cx="152280" cy="360"/>
          </a:xfrm>
          <a:prstGeom prst="line">
            <a:avLst/>
          </a:prstGeom>
          <a:ln w="508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Rectangle 144"/>
          <p:cNvSpPr/>
          <p:nvPr/>
        </p:nvSpPr>
        <p:spPr>
          <a:xfrm>
            <a:off x="152280" y="4062240"/>
            <a:ext cx="3047760" cy="64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00cc"/>
                </a:solidFill>
                <a:latin typeface="Times New Roman"/>
              </a:rPr>
              <a:t>General</a:t>
            </a:r>
            <a:r>
              <a:rPr b="1" lang="ru-RU" sz="3600" spc="-1" strike="noStrike">
                <a:solidFill>
                  <a:srgbClr val="ff00cc"/>
                </a:solidFill>
                <a:latin typeface="Times New Roman"/>
              </a:rPr>
              <a:t> 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145"/>
          <p:cNvSpPr/>
          <p:nvPr/>
        </p:nvSpPr>
        <p:spPr>
          <a:xfrm>
            <a:off x="992160" y="5029200"/>
            <a:ext cx="3122280" cy="51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chemeClr val="accent2"/>
                </a:solidFill>
                <a:latin typeface="Times New Roman"/>
              </a:rPr>
              <a:t>Interlobular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146"/>
          <p:cNvSpPr/>
          <p:nvPr/>
        </p:nvSpPr>
        <p:spPr>
          <a:xfrm>
            <a:off x="2895480" y="5638680"/>
            <a:ext cx="3061800" cy="51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STRIATED 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147"/>
          <p:cNvSpPr/>
          <p:nvPr/>
        </p:nvSpPr>
        <p:spPr>
          <a:xfrm flipV="1">
            <a:off x="2666880" y="3047760"/>
            <a:ext cx="2666880" cy="1981440"/>
          </a:xfrm>
          <a:prstGeom prst="line">
            <a:avLst/>
          </a:prstGeom>
          <a:ln w="50800">
            <a:solidFill>
              <a:srgbClr val="ff99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Line 148"/>
          <p:cNvSpPr/>
          <p:nvPr/>
        </p:nvSpPr>
        <p:spPr>
          <a:xfrm flipV="1">
            <a:off x="4419360" y="3276360"/>
            <a:ext cx="1828800" cy="2362320"/>
          </a:xfrm>
          <a:prstGeom prst="line">
            <a:avLst/>
          </a:prstGeom>
          <a:ln w="50800">
            <a:solidFill>
              <a:srgbClr val="4f81bd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Rectangle 149"/>
          <p:cNvSpPr/>
          <p:nvPr/>
        </p:nvSpPr>
        <p:spPr>
          <a:xfrm>
            <a:off x="4648320" y="6172200"/>
            <a:ext cx="3825360" cy="518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Intercalated 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150"/>
          <p:cNvSpPr/>
          <p:nvPr/>
        </p:nvSpPr>
        <p:spPr>
          <a:xfrm flipV="1">
            <a:off x="6095880" y="3886200"/>
            <a:ext cx="762120" cy="2286000"/>
          </a:xfrm>
          <a:prstGeom prst="line">
            <a:avLst/>
          </a:prstGeom>
          <a:ln w="12700">
            <a:solidFill>
              <a:srgbClr val="ff99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152"/>
          <p:cNvSpPr/>
          <p:nvPr/>
        </p:nvSpPr>
        <p:spPr>
          <a:xfrm>
            <a:off x="0" y="6324480"/>
            <a:ext cx="3504960" cy="36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See SALIVA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Group 137"/>
          <p:cNvGrpSpPr/>
          <p:nvPr/>
        </p:nvGrpSpPr>
        <p:grpSpPr>
          <a:xfrm>
            <a:off x="19080" y="76320"/>
            <a:ext cx="9070560" cy="6766560"/>
            <a:chOff x="19080" y="76320"/>
            <a:chExt cx="9070560" cy="6766560"/>
          </a:xfrm>
        </p:grpSpPr>
        <p:grpSp>
          <p:nvGrpSpPr>
            <p:cNvPr id="1140" name="Group 39"/>
            <p:cNvGrpSpPr/>
            <p:nvPr/>
          </p:nvGrpSpPr>
          <p:grpSpPr>
            <a:xfrm>
              <a:off x="3052800" y="4255920"/>
              <a:ext cx="5120640" cy="2166480"/>
              <a:chOff x="3052800" y="4255920"/>
              <a:chExt cx="5120640" cy="2166480"/>
            </a:xfrm>
          </p:grpSpPr>
          <p:sp>
            <p:nvSpPr>
              <p:cNvPr id="1141" name="Freeform 2"/>
              <p:cNvSpPr/>
              <p:nvPr/>
            </p:nvSpPr>
            <p:spPr>
              <a:xfrm>
                <a:off x="3738600" y="4464000"/>
                <a:ext cx="745920" cy="69336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470" h="437">
                    <a:moveTo>
                      <a:pt x="11" y="20"/>
                    </a:moveTo>
                    <a:lnTo>
                      <a:pt x="11" y="65"/>
                    </a:lnTo>
                    <a:lnTo>
                      <a:pt x="11" y="131"/>
                    </a:lnTo>
                    <a:lnTo>
                      <a:pt x="11" y="218"/>
                    </a:lnTo>
                    <a:lnTo>
                      <a:pt x="0" y="251"/>
                    </a:lnTo>
                    <a:lnTo>
                      <a:pt x="0" y="284"/>
                    </a:lnTo>
                    <a:lnTo>
                      <a:pt x="0" y="327"/>
                    </a:lnTo>
                    <a:lnTo>
                      <a:pt x="0" y="360"/>
                    </a:lnTo>
                    <a:lnTo>
                      <a:pt x="11" y="393"/>
                    </a:lnTo>
                    <a:lnTo>
                      <a:pt x="44" y="415"/>
                    </a:lnTo>
                    <a:lnTo>
                      <a:pt x="76" y="425"/>
                    </a:lnTo>
                    <a:lnTo>
                      <a:pt x="109" y="436"/>
                    </a:lnTo>
                    <a:lnTo>
                      <a:pt x="142" y="436"/>
                    </a:lnTo>
                    <a:lnTo>
                      <a:pt x="174" y="436"/>
                    </a:lnTo>
                    <a:lnTo>
                      <a:pt x="207" y="436"/>
                    </a:lnTo>
                    <a:lnTo>
                      <a:pt x="240" y="436"/>
                    </a:lnTo>
                    <a:lnTo>
                      <a:pt x="273" y="436"/>
                    </a:lnTo>
                    <a:lnTo>
                      <a:pt x="305" y="436"/>
                    </a:lnTo>
                    <a:lnTo>
                      <a:pt x="382" y="436"/>
                    </a:lnTo>
                    <a:lnTo>
                      <a:pt x="415" y="436"/>
                    </a:lnTo>
                    <a:lnTo>
                      <a:pt x="447" y="436"/>
                    </a:lnTo>
                    <a:lnTo>
                      <a:pt x="458" y="404"/>
                    </a:lnTo>
                    <a:lnTo>
                      <a:pt x="469" y="371"/>
                    </a:lnTo>
                    <a:lnTo>
                      <a:pt x="469" y="338"/>
                    </a:lnTo>
                    <a:lnTo>
                      <a:pt x="469" y="305"/>
                    </a:lnTo>
                    <a:lnTo>
                      <a:pt x="469" y="273"/>
                    </a:lnTo>
                    <a:lnTo>
                      <a:pt x="469" y="240"/>
                    </a:lnTo>
                    <a:lnTo>
                      <a:pt x="469" y="207"/>
                    </a:lnTo>
                    <a:lnTo>
                      <a:pt x="469" y="174"/>
                    </a:lnTo>
                    <a:lnTo>
                      <a:pt x="469" y="142"/>
                    </a:lnTo>
                    <a:lnTo>
                      <a:pt x="469" y="109"/>
                    </a:lnTo>
                    <a:lnTo>
                      <a:pt x="469" y="76"/>
                    </a:lnTo>
                    <a:lnTo>
                      <a:pt x="469" y="43"/>
                    </a:lnTo>
                    <a:lnTo>
                      <a:pt x="469" y="11"/>
                    </a:lnTo>
                    <a:lnTo>
                      <a:pt x="436" y="11"/>
                    </a:lnTo>
                    <a:lnTo>
                      <a:pt x="404" y="11"/>
                    </a:lnTo>
                    <a:lnTo>
                      <a:pt x="371" y="11"/>
                    </a:lnTo>
                    <a:lnTo>
                      <a:pt x="338" y="0"/>
                    </a:lnTo>
                    <a:lnTo>
                      <a:pt x="305" y="0"/>
                    </a:lnTo>
                    <a:lnTo>
                      <a:pt x="273" y="0"/>
                    </a:lnTo>
                    <a:lnTo>
                      <a:pt x="240" y="0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76" y="0"/>
                    </a:lnTo>
                    <a:lnTo>
                      <a:pt x="11" y="20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2" name="Oval 3"/>
              <p:cNvSpPr/>
              <p:nvPr/>
            </p:nvSpPr>
            <p:spPr>
              <a:xfrm>
                <a:off x="3838680" y="4502160"/>
                <a:ext cx="59652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Freeform 4"/>
              <p:cNvSpPr/>
              <p:nvPr/>
            </p:nvSpPr>
            <p:spPr>
              <a:xfrm>
                <a:off x="4424400" y="4464000"/>
                <a:ext cx="745920" cy="69336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470" h="437">
                    <a:moveTo>
                      <a:pt x="11" y="20"/>
                    </a:moveTo>
                    <a:lnTo>
                      <a:pt x="11" y="65"/>
                    </a:lnTo>
                    <a:lnTo>
                      <a:pt x="11" y="131"/>
                    </a:lnTo>
                    <a:lnTo>
                      <a:pt x="11" y="218"/>
                    </a:lnTo>
                    <a:lnTo>
                      <a:pt x="0" y="251"/>
                    </a:lnTo>
                    <a:lnTo>
                      <a:pt x="0" y="284"/>
                    </a:lnTo>
                    <a:lnTo>
                      <a:pt x="0" y="327"/>
                    </a:lnTo>
                    <a:lnTo>
                      <a:pt x="0" y="360"/>
                    </a:lnTo>
                    <a:lnTo>
                      <a:pt x="11" y="393"/>
                    </a:lnTo>
                    <a:lnTo>
                      <a:pt x="44" y="415"/>
                    </a:lnTo>
                    <a:lnTo>
                      <a:pt x="76" y="425"/>
                    </a:lnTo>
                    <a:lnTo>
                      <a:pt x="109" y="436"/>
                    </a:lnTo>
                    <a:lnTo>
                      <a:pt x="142" y="436"/>
                    </a:lnTo>
                    <a:lnTo>
                      <a:pt x="174" y="436"/>
                    </a:lnTo>
                    <a:lnTo>
                      <a:pt x="207" y="436"/>
                    </a:lnTo>
                    <a:lnTo>
                      <a:pt x="240" y="436"/>
                    </a:lnTo>
                    <a:lnTo>
                      <a:pt x="273" y="436"/>
                    </a:lnTo>
                    <a:lnTo>
                      <a:pt x="305" y="436"/>
                    </a:lnTo>
                    <a:lnTo>
                      <a:pt x="382" y="436"/>
                    </a:lnTo>
                    <a:lnTo>
                      <a:pt x="415" y="436"/>
                    </a:lnTo>
                    <a:lnTo>
                      <a:pt x="447" y="436"/>
                    </a:lnTo>
                    <a:lnTo>
                      <a:pt x="458" y="404"/>
                    </a:lnTo>
                    <a:lnTo>
                      <a:pt x="469" y="371"/>
                    </a:lnTo>
                    <a:lnTo>
                      <a:pt x="469" y="338"/>
                    </a:lnTo>
                    <a:lnTo>
                      <a:pt x="469" y="305"/>
                    </a:lnTo>
                    <a:lnTo>
                      <a:pt x="469" y="273"/>
                    </a:lnTo>
                    <a:lnTo>
                      <a:pt x="469" y="240"/>
                    </a:lnTo>
                    <a:lnTo>
                      <a:pt x="469" y="207"/>
                    </a:lnTo>
                    <a:lnTo>
                      <a:pt x="469" y="174"/>
                    </a:lnTo>
                    <a:lnTo>
                      <a:pt x="469" y="142"/>
                    </a:lnTo>
                    <a:lnTo>
                      <a:pt x="469" y="109"/>
                    </a:lnTo>
                    <a:lnTo>
                      <a:pt x="469" y="76"/>
                    </a:lnTo>
                    <a:lnTo>
                      <a:pt x="469" y="43"/>
                    </a:lnTo>
                    <a:lnTo>
                      <a:pt x="469" y="11"/>
                    </a:lnTo>
                    <a:lnTo>
                      <a:pt x="436" y="11"/>
                    </a:lnTo>
                    <a:lnTo>
                      <a:pt x="404" y="11"/>
                    </a:lnTo>
                    <a:lnTo>
                      <a:pt x="371" y="11"/>
                    </a:lnTo>
                    <a:lnTo>
                      <a:pt x="338" y="0"/>
                    </a:lnTo>
                    <a:lnTo>
                      <a:pt x="305" y="0"/>
                    </a:lnTo>
                    <a:lnTo>
                      <a:pt x="273" y="0"/>
                    </a:lnTo>
                    <a:lnTo>
                      <a:pt x="240" y="0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76" y="0"/>
                    </a:lnTo>
                    <a:lnTo>
                      <a:pt x="11" y="20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Oval 5"/>
              <p:cNvSpPr/>
              <p:nvPr/>
            </p:nvSpPr>
            <p:spPr>
              <a:xfrm>
                <a:off x="4524480" y="4502160"/>
                <a:ext cx="59652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Freeform 6"/>
              <p:cNvSpPr/>
              <p:nvPr/>
            </p:nvSpPr>
            <p:spPr>
              <a:xfrm>
                <a:off x="5110200" y="4464000"/>
                <a:ext cx="745920" cy="69336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470" h="437">
                    <a:moveTo>
                      <a:pt x="11" y="20"/>
                    </a:moveTo>
                    <a:lnTo>
                      <a:pt x="11" y="65"/>
                    </a:lnTo>
                    <a:lnTo>
                      <a:pt x="11" y="131"/>
                    </a:lnTo>
                    <a:lnTo>
                      <a:pt x="11" y="218"/>
                    </a:lnTo>
                    <a:lnTo>
                      <a:pt x="0" y="251"/>
                    </a:lnTo>
                    <a:lnTo>
                      <a:pt x="0" y="284"/>
                    </a:lnTo>
                    <a:lnTo>
                      <a:pt x="0" y="327"/>
                    </a:lnTo>
                    <a:lnTo>
                      <a:pt x="0" y="360"/>
                    </a:lnTo>
                    <a:lnTo>
                      <a:pt x="11" y="393"/>
                    </a:lnTo>
                    <a:lnTo>
                      <a:pt x="44" y="415"/>
                    </a:lnTo>
                    <a:lnTo>
                      <a:pt x="76" y="425"/>
                    </a:lnTo>
                    <a:lnTo>
                      <a:pt x="109" y="436"/>
                    </a:lnTo>
                    <a:lnTo>
                      <a:pt x="142" y="436"/>
                    </a:lnTo>
                    <a:lnTo>
                      <a:pt x="174" y="436"/>
                    </a:lnTo>
                    <a:lnTo>
                      <a:pt x="207" y="436"/>
                    </a:lnTo>
                    <a:lnTo>
                      <a:pt x="240" y="436"/>
                    </a:lnTo>
                    <a:lnTo>
                      <a:pt x="273" y="436"/>
                    </a:lnTo>
                    <a:lnTo>
                      <a:pt x="305" y="436"/>
                    </a:lnTo>
                    <a:lnTo>
                      <a:pt x="382" y="436"/>
                    </a:lnTo>
                    <a:lnTo>
                      <a:pt x="415" y="436"/>
                    </a:lnTo>
                    <a:lnTo>
                      <a:pt x="447" y="436"/>
                    </a:lnTo>
                    <a:lnTo>
                      <a:pt x="458" y="404"/>
                    </a:lnTo>
                    <a:lnTo>
                      <a:pt x="469" y="371"/>
                    </a:lnTo>
                    <a:lnTo>
                      <a:pt x="469" y="338"/>
                    </a:lnTo>
                    <a:lnTo>
                      <a:pt x="469" y="305"/>
                    </a:lnTo>
                    <a:lnTo>
                      <a:pt x="469" y="273"/>
                    </a:lnTo>
                    <a:lnTo>
                      <a:pt x="469" y="240"/>
                    </a:lnTo>
                    <a:lnTo>
                      <a:pt x="469" y="207"/>
                    </a:lnTo>
                    <a:lnTo>
                      <a:pt x="469" y="174"/>
                    </a:lnTo>
                    <a:lnTo>
                      <a:pt x="469" y="142"/>
                    </a:lnTo>
                    <a:lnTo>
                      <a:pt x="469" y="109"/>
                    </a:lnTo>
                    <a:lnTo>
                      <a:pt x="469" y="76"/>
                    </a:lnTo>
                    <a:lnTo>
                      <a:pt x="469" y="43"/>
                    </a:lnTo>
                    <a:lnTo>
                      <a:pt x="469" y="11"/>
                    </a:lnTo>
                    <a:lnTo>
                      <a:pt x="436" y="11"/>
                    </a:lnTo>
                    <a:lnTo>
                      <a:pt x="404" y="11"/>
                    </a:lnTo>
                    <a:lnTo>
                      <a:pt x="371" y="11"/>
                    </a:lnTo>
                    <a:lnTo>
                      <a:pt x="338" y="0"/>
                    </a:lnTo>
                    <a:lnTo>
                      <a:pt x="305" y="0"/>
                    </a:lnTo>
                    <a:lnTo>
                      <a:pt x="273" y="0"/>
                    </a:lnTo>
                    <a:lnTo>
                      <a:pt x="240" y="0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76" y="0"/>
                    </a:lnTo>
                    <a:lnTo>
                      <a:pt x="11" y="20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Oval 7"/>
              <p:cNvSpPr/>
              <p:nvPr/>
            </p:nvSpPr>
            <p:spPr>
              <a:xfrm>
                <a:off x="5210280" y="4502160"/>
                <a:ext cx="59652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7" name="Freeform 8"/>
              <p:cNvSpPr/>
              <p:nvPr/>
            </p:nvSpPr>
            <p:spPr>
              <a:xfrm>
                <a:off x="5796000" y="4464000"/>
                <a:ext cx="745920" cy="69336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470" h="437">
                    <a:moveTo>
                      <a:pt x="11" y="20"/>
                    </a:moveTo>
                    <a:lnTo>
                      <a:pt x="11" y="65"/>
                    </a:lnTo>
                    <a:lnTo>
                      <a:pt x="11" y="131"/>
                    </a:lnTo>
                    <a:lnTo>
                      <a:pt x="11" y="218"/>
                    </a:lnTo>
                    <a:lnTo>
                      <a:pt x="0" y="251"/>
                    </a:lnTo>
                    <a:lnTo>
                      <a:pt x="0" y="284"/>
                    </a:lnTo>
                    <a:lnTo>
                      <a:pt x="0" y="327"/>
                    </a:lnTo>
                    <a:lnTo>
                      <a:pt x="0" y="360"/>
                    </a:lnTo>
                    <a:lnTo>
                      <a:pt x="11" y="393"/>
                    </a:lnTo>
                    <a:lnTo>
                      <a:pt x="44" y="415"/>
                    </a:lnTo>
                    <a:lnTo>
                      <a:pt x="76" y="425"/>
                    </a:lnTo>
                    <a:lnTo>
                      <a:pt x="109" y="436"/>
                    </a:lnTo>
                    <a:lnTo>
                      <a:pt x="142" y="436"/>
                    </a:lnTo>
                    <a:lnTo>
                      <a:pt x="174" y="436"/>
                    </a:lnTo>
                    <a:lnTo>
                      <a:pt x="207" y="436"/>
                    </a:lnTo>
                    <a:lnTo>
                      <a:pt x="240" y="436"/>
                    </a:lnTo>
                    <a:lnTo>
                      <a:pt x="273" y="436"/>
                    </a:lnTo>
                    <a:lnTo>
                      <a:pt x="305" y="436"/>
                    </a:lnTo>
                    <a:lnTo>
                      <a:pt x="382" y="436"/>
                    </a:lnTo>
                    <a:lnTo>
                      <a:pt x="415" y="436"/>
                    </a:lnTo>
                    <a:lnTo>
                      <a:pt x="447" y="436"/>
                    </a:lnTo>
                    <a:lnTo>
                      <a:pt x="458" y="404"/>
                    </a:lnTo>
                    <a:lnTo>
                      <a:pt x="469" y="371"/>
                    </a:lnTo>
                    <a:lnTo>
                      <a:pt x="469" y="338"/>
                    </a:lnTo>
                    <a:lnTo>
                      <a:pt x="469" y="305"/>
                    </a:lnTo>
                    <a:lnTo>
                      <a:pt x="469" y="273"/>
                    </a:lnTo>
                    <a:lnTo>
                      <a:pt x="469" y="240"/>
                    </a:lnTo>
                    <a:lnTo>
                      <a:pt x="469" y="207"/>
                    </a:lnTo>
                    <a:lnTo>
                      <a:pt x="469" y="174"/>
                    </a:lnTo>
                    <a:lnTo>
                      <a:pt x="469" y="142"/>
                    </a:lnTo>
                    <a:lnTo>
                      <a:pt x="469" y="109"/>
                    </a:lnTo>
                    <a:lnTo>
                      <a:pt x="469" y="76"/>
                    </a:lnTo>
                    <a:lnTo>
                      <a:pt x="469" y="43"/>
                    </a:lnTo>
                    <a:lnTo>
                      <a:pt x="469" y="11"/>
                    </a:lnTo>
                    <a:lnTo>
                      <a:pt x="436" y="11"/>
                    </a:lnTo>
                    <a:lnTo>
                      <a:pt x="404" y="11"/>
                    </a:lnTo>
                    <a:lnTo>
                      <a:pt x="371" y="11"/>
                    </a:lnTo>
                    <a:lnTo>
                      <a:pt x="338" y="0"/>
                    </a:lnTo>
                    <a:lnTo>
                      <a:pt x="305" y="0"/>
                    </a:lnTo>
                    <a:lnTo>
                      <a:pt x="273" y="0"/>
                    </a:lnTo>
                    <a:lnTo>
                      <a:pt x="240" y="0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76" y="0"/>
                    </a:lnTo>
                    <a:lnTo>
                      <a:pt x="11" y="20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Oval 9"/>
              <p:cNvSpPr/>
              <p:nvPr/>
            </p:nvSpPr>
            <p:spPr>
              <a:xfrm>
                <a:off x="5896080" y="4502160"/>
                <a:ext cx="59652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Freeform 10"/>
              <p:cNvSpPr/>
              <p:nvPr/>
            </p:nvSpPr>
            <p:spPr>
              <a:xfrm>
                <a:off x="3052800" y="4464000"/>
                <a:ext cx="745920" cy="69336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470" h="437">
                    <a:moveTo>
                      <a:pt x="11" y="20"/>
                    </a:moveTo>
                    <a:lnTo>
                      <a:pt x="11" y="65"/>
                    </a:lnTo>
                    <a:lnTo>
                      <a:pt x="11" y="131"/>
                    </a:lnTo>
                    <a:lnTo>
                      <a:pt x="11" y="218"/>
                    </a:lnTo>
                    <a:lnTo>
                      <a:pt x="0" y="251"/>
                    </a:lnTo>
                    <a:lnTo>
                      <a:pt x="0" y="284"/>
                    </a:lnTo>
                    <a:lnTo>
                      <a:pt x="0" y="327"/>
                    </a:lnTo>
                    <a:lnTo>
                      <a:pt x="0" y="360"/>
                    </a:lnTo>
                    <a:lnTo>
                      <a:pt x="11" y="393"/>
                    </a:lnTo>
                    <a:lnTo>
                      <a:pt x="44" y="415"/>
                    </a:lnTo>
                    <a:lnTo>
                      <a:pt x="76" y="425"/>
                    </a:lnTo>
                    <a:lnTo>
                      <a:pt x="109" y="436"/>
                    </a:lnTo>
                    <a:lnTo>
                      <a:pt x="142" y="436"/>
                    </a:lnTo>
                    <a:lnTo>
                      <a:pt x="174" y="436"/>
                    </a:lnTo>
                    <a:lnTo>
                      <a:pt x="207" y="436"/>
                    </a:lnTo>
                    <a:lnTo>
                      <a:pt x="240" y="436"/>
                    </a:lnTo>
                    <a:lnTo>
                      <a:pt x="273" y="436"/>
                    </a:lnTo>
                    <a:lnTo>
                      <a:pt x="305" y="436"/>
                    </a:lnTo>
                    <a:lnTo>
                      <a:pt x="382" y="436"/>
                    </a:lnTo>
                    <a:lnTo>
                      <a:pt x="415" y="436"/>
                    </a:lnTo>
                    <a:lnTo>
                      <a:pt x="447" y="436"/>
                    </a:lnTo>
                    <a:lnTo>
                      <a:pt x="458" y="404"/>
                    </a:lnTo>
                    <a:lnTo>
                      <a:pt x="469" y="371"/>
                    </a:lnTo>
                    <a:lnTo>
                      <a:pt x="469" y="338"/>
                    </a:lnTo>
                    <a:lnTo>
                      <a:pt x="469" y="305"/>
                    </a:lnTo>
                    <a:lnTo>
                      <a:pt x="469" y="273"/>
                    </a:lnTo>
                    <a:lnTo>
                      <a:pt x="469" y="240"/>
                    </a:lnTo>
                    <a:lnTo>
                      <a:pt x="469" y="207"/>
                    </a:lnTo>
                    <a:lnTo>
                      <a:pt x="469" y="174"/>
                    </a:lnTo>
                    <a:lnTo>
                      <a:pt x="469" y="142"/>
                    </a:lnTo>
                    <a:lnTo>
                      <a:pt x="469" y="109"/>
                    </a:lnTo>
                    <a:lnTo>
                      <a:pt x="469" y="76"/>
                    </a:lnTo>
                    <a:lnTo>
                      <a:pt x="469" y="43"/>
                    </a:lnTo>
                    <a:lnTo>
                      <a:pt x="469" y="11"/>
                    </a:lnTo>
                    <a:lnTo>
                      <a:pt x="436" y="11"/>
                    </a:lnTo>
                    <a:lnTo>
                      <a:pt x="404" y="11"/>
                    </a:lnTo>
                    <a:lnTo>
                      <a:pt x="371" y="11"/>
                    </a:lnTo>
                    <a:lnTo>
                      <a:pt x="338" y="0"/>
                    </a:lnTo>
                    <a:lnTo>
                      <a:pt x="305" y="0"/>
                    </a:lnTo>
                    <a:lnTo>
                      <a:pt x="273" y="0"/>
                    </a:lnTo>
                    <a:lnTo>
                      <a:pt x="240" y="0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76" y="0"/>
                    </a:lnTo>
                    <a:lnTo>
                      <a:pt x="11" y="20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Oval 11"/>
              <p:cNvSpPr/>
              <p:nvPr/>
            </p:nvSpPr>
            <p:spPr>
              <a:xfrm>
                <a:off x="3152880" y="4502160"/>
                <a:ext cx="59652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Freeform 12"/>
              <p:cNvSpPr/>
              <p:nvPr/>
            </p:nvSpPr>
            <p:spPr>
              <a:xfrm>
                <a:off x="6481800" y="4464000"/>
                <a:ext cx="745920" cy="69336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470" h="437">
                    <a:moveTo>
                      <a:pt x="11" y="20"/>
                    </a:moveTo>
                    <a:lnTo>
                      <a:pt x="11" y="65"/>
                    </a:lnTo>
                    <a:lnTo>
                      <a:pt x="11" y="131"/>
                    </a:lnTo>
                    <a:lnTo>
                      <a:pt x="11" y="218"/>
                    </a:lnTo>
                    <a:lnTo>
                      <a:pt x="0" y="251"/>
                    </a:lnTo>
                    <a:lnTo>
                      <a:pt x="0" y="284"/>
                    </a:lnTo>
                    <a:lnTo>
                      <a:pt x="0" y="327"/>
                    </a:lnTo>
                    <a:lnTo>
                      <a:pt x="0" y="360"/>
                    </a:lnTo>
                    <a:lnTo>
                      <a:pt x="11" y="393"/>
                    </a:lnTo>
                    <a:lnTo>
                      <a:pt x="44" y="415"/>
                    </a:lnTo>
                    <a:lnTo>
                      <a:pt x="76" y="425"/>
                    </a:lnTo>
                    <a:lnTo>
                      <a:pt x="109" y="436"/>
                    </a:lnTo>
                    <a:lnTo>
                      <a:pt x="142" y="436"/>
                    </a:lnTo>
                    <a:lnTo>
                      <a:pt x="174" y="436"/>
                    </a:lnTo>
                    <a:lnTo>
                      <a:pt x="207" y="436"/>
                    </a:lnTo>
                    <a:lnTo>
                      <a:pt x="240" y="436"/>
                    </a:lnTo>
                    <a:lnTo>
                      <a:pt x="273" y="436"/>
                    </a:lnTo>
                    <a:lnTo>
                      <a:pt x="305" y="436"/>
                    </a:lnTo>
                    <a:lnTo>
                      <a:pt x="382" y="436"/>
                    </a:lnTo>
                    <a:lnTo>
                      <a:pt x="415" y="436"/>
                    </a:lnTo>
                    <a:lnTo>
                      <a:pt x="447" y="436"/>
                    </a:lnTo>
                    <a:lnTo>
                      <a:pt x="458" y="404"/>
                    </a:lnTo>
                    <a:lnTo>
                      <a:pt x="469" y="371"/>
                    </a:lnTo>
                    <a:lnTo>
                      <a:pt x="469" y="338"/>
                    </a:lnTo>
                    <a:lnTo>
                      <a:pt x="469" y="305"/>
                    </a:lnTo>
                    <a:lnTo>
                      <a:pt x="469" y="273"/>
                    </a:lnTo>
                    <a:lnTo>
                      <a:pt x="469" y="240"/>
                    </a:lnTo>
                    <a:lnTo>
                      <a:pt x="469" y="207"/>
                    </a:lnTo>
                    <a:lnTo>
                      <a:pt x="469" y="174"/>
                    </a:lnTo>
                    <a:lnTo>
                      <a:pt x="469" y="142"/>
                    </a:lnTo>
                    <a:lnTo>
                      <a:pt x="469" y="109"/>
                    </a:lnTo>
                    <a:lnTo>
                      <a:pt x="469" y="76"/>
                    </a:lnTo>
                    <a:lnTo>
                      <a:pt x="469" y="43"/>
                    </a:lnTo>
                    <a:lnTo>
                      <a:pt x="469" y="11"/>
                    </a:lnTo>
                    <a:lnTo>
                      <a:pt x="436" y="11"/>
                    </a:lnTo>
                    <a:lnTo>
                      <a:pt x="404" y="11"/>
                    </a:lnTo>
                    <a:lnTo>
                      <a:pt x="371" y="11"/>
                    </a:lnTo>
                    <a:lnTo>
                      <a:pt x="338" y="0"/>
                    </a:lnTo>
                    <a:lnTo>
                      <a:pt x="305" y="0"/>
                    </a:lnTo>
                    <a:lnTo>
                      <a:pt x="273" y="0"/>
                    </a:lnTo>
                    <a:lnTo>
                      <a:pt x="240" y="0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76" y="0"/>
                    </a:lnTo>
                    <a:lnTo>
                      <a:pt x="11" y="20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Oval 13"/>
              <p:cNvSpPr/>
              <p:nvPr/>
            </p:nvSpPr>
            <p:spPr>
              <a:xfrm>
                <a:off x="6581880" y="4502160"/>
                <a:ext cx="59652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53" name="Group 16"/>
              <p:cNvGrpSpPr/>
              <p:nvPr/>
            </p:nvGrpSpPr>
            <p:grpSpPr>
              <a:xfrm>
                <a:off x="3814920" y="5378400"/>
                <a:ext cx="745920" cy="693360"/>
                <a:chOff x="3814920" y="5378400"/>
                <a:chExt cx="745920" cy="693360"/>
              </a:xfrm>
            </p:grpSpPr>
            <p:sp>
              <p:nvSpPr>
                <p:cNvPr id="1154" name="Freeform 14"/>
                <p:cNvSpPr/>
                <p:nvPr/>
              </p:nvSpPr>
              <p:spPr>
                <a:xfrm>
                  <a:off x="3814920" y="5378400"/>
                  <a:ext cx="745920" cy="69336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470" h="437">
                      <a:moveTo>
                        <a:pt x="11" y="416"/>
                      </a:moveTo>
                      <a:lnTo>
                        <a:pt x="11" y="371"/>
                      </a:lnTo>
                      <a:lnTo>
                        <a:pt x="11" y="305"/>
                      </a:lnTo>
                      <a:lnTo>
                        <a:pt x="11" y="218"/>
                      </a:lnTo>
                      <a:lnTo>
                        <a:pt x="0" y="185"/>
                      </a:lnTo>
                      <a:lnTo>
                        <a:pt x="0" y="152"/>
                      </a:lnTo>
                      <a:lnTo>
                        <a:pt x="0" y="109"/>
                      </a:lnTo>
                      <a:lnTo>
                        <a:pt x="0" y="76"/>
                      </a:lnTo>
                      <a:lnTo>
                        <a:pt x="11" y="43"/>
                      </a:lnTo>
                      <a:lnTo>
                        <a:pt x="44" y="21"/>
                      </a:lnTo>
                      <a:lnTo>
                        <a:pt x="76" y="11"/>
                      </a:lnTo>
                      <a:lnTo>
                        <a:pt x="109" y="0"/>
                      </a:lnTo>
                      <a:lnTo>
                        <a:pt x="142" y="0"/>
                      </a:lnTo>
                      <a:lnTo>
                        <a:pt x="174" y="0"/>
                      </a:lnTo>
                      <a:lnTo>
                        <a:pt x="207" y="0"/>
                      </a:lnTo>
                      <a:lnTo>
                        <a:pt x="240" y="0"/>
                      </a:lnTo>
                      <a:lnTo>
                        <a:pt x="273" y="0"/>
                      </a:lnTo>
                      <a:lnTo>
                        <a:pt x="305" y="0"/>
                      </a:lnTo>
                      <a:lnTo>
                        <a:pt x="382" y="0"/>
                      </a:lnTo>
                      <a:lnTo>
                        <a:pt x="415" y="0"/>
                      </a:lnTo>
                      <a:lnTo>
                        <a:pt x="447" y="0"/>
                      </a:lnTo>
                      <a:lnTo>
                        <a:pt x="458" y="32"/>
                      </a:lnTo>
                      <a:lnTo>
                        <a:pt x="469" y="65"/>
                      </a:lnTo>
                      <a:lnTo>
                        <a:pt x="469" y="98"/>
                      </a:lnTo>
                      <a:lnTo>
                        <a:pt x="469" y="131"/>
                      </a:lnTo>
                      <a:lnTo>
                        <a:pt x="469" y="163"/>
                      </a:lnTo>
                      <a:lnTo>
                        <a:pt x="469" y="196"/>
                      </a:lnTo>
                      <a:lnTo>
                        <a:pt x="469" y="229"/>
                      </a:lnTo>
                      <a:lnTo>
                        <a:pt x="469" y="262"/>
                      </a:lnTo>
                      <a:lnTo>
                        <a:pt x="469" y="294"/>
                      </a:lnTo>
                      <a:lnTo>
                        <a:pt x="469" y="327"/>
                      </a:lnTo>
                      <a:lnTo>
                        <a:pt x="469" y="360"/>
                      </a:lnTo>
                      <a:lnTo>
                        <a:pt x="469" y="393"/>
                      </a:lnTo>
                      <a:lnTo>
                        <a:pt x="469" y="425"/>
                      </a:lnTo>
                      <a:lnTo>
                        <a:pt x="436" y="425"/>
                      </a:lnTo>
                      <a:lnTo>
                        <a:pt x="404" y="425"/>
                      </a:lnTo>
                      <a:lnTo>
                        <a:pt x="371" y="425"/>
                      </a:lnTo>
                      <a:lnTo>
                        <a:pt x="338" y="436"/>
                      </a:lnTo>
                      <a:lnTo>
                        <a:pt x="305" y="436"/>
                      </a:lnTo>
                      <a:lnTo>
                        <a:pt x="273" y="436"/>
                      </a:lnTo>
                      <a:lnTo>
                        <a:pt x="240" y="436"/>
                      </a:lnTo>
                      <a:lnTo>
                        <a:pt x="207" y="436"/>
                      </a:lnTo>
                      <a:lnTo>
                        <a:pt x="174" y="436"/>
                      </a:lnTo>
                      <a:lnTo>
                        <a:pt x="142" y="436"/>
                      </a:lnTo>
                      <a:lnTo>
                        <a:pt x="109" y="436"/>
                      </a:lnTo>
                      <a:lnTo>
                        <a:pt x="76" y="436"/>
                      </a:lnTo>
                      <a:lnTo>
                        <a:pt x="11" y="416"/>
                      </a:lnTo>
                      <a:lnTo>
                        <a:pt x="11" y="41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5" name="Oval 15"/>
                <p:cNvSpPr/>
                <p:nvPr/>
              </p:nvSpPr>
              <p:spPr>
                <a:xfrm>
                  <a:off x="3914640" y="5892840"/>
                  <a:ext cx="596520" cy="13932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56" name="Group 19"/>
              <p:cNvGrpSpPr/>
              <p:nvPr/>
            </p:nvGrpSpPr>
            <p:grpSpPr>
              <a:xfrm>
                <a:off x="4500720" y="5378400"/>
                <a:ext cx="745920" cy="693360"/>
                <a:chOff x="4500720" y="5378400"/>
                <a:chExt cx="745920" cy="693360"/>
              </a:xfrm>
            </p:grpSpPr>
            <p:sp>
              <p:nvSpPr>
                <p:cNvPr id="1157" name="Freeform 17"/>
                <p:cNvSpPr/>
                <p:nvPr/>
              </p:nvSpPr>
              <p:spPr>
                <a:xfrm>
                  <a:off x="4500720" y="5378400"/>
                  <a:ext cx="745920" cy="69336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470" h="437">
                      <a:moveTo>
                        <a:pt x="11" y="416"/>
                      </a:moveTo>
                      <a:lnTo>
                        <a:pt x="11" y="371"/>
                      </a:lnTo>
                      <a:lnTo>
                        <a:pt x="11" y="305"/>
                      </a:lnTo>
                      <a:lnTo>
                        <a:pt x="11" y="218"/>
                      </a:lnTo>
                      <a:lnTo>
                        <a:pt x="0" y="185"/>
                      </a:lnTo>
                      <a:lnTo>
                        <a:pt x="0" y="152"/>
                      </a:lnTo>
                      <a:lnTo>
                        <a:pt x="0" y="109"/>
                      </a:lnTo>
                      <a:lnTo>
                        <a:pt x="0" y="76"/>
                      </a:lnTo>
                      <a:lnTo>
                        <a:pt x="11" y="43"/>
                      </a:lnTo>
                      <a:lnTo>
                        <a:pt x="44" y="21"/>
                      </a:lnTo>
                      <a:lnTo>
                        <a:pt x="76" y="11"/>
                      </a:lnTo>
                      <a:lnTo>
                        <a:pt x="109" y="0"/>
                      </a:lnTo>
                      <a:lnTo>
                        <a:pt x="142" y="0"/>
                      </a:lnTo>
                      <a:lnTo>
                        <a:pt x="174" y="0"/>
                      </a:lnTo>
                      <a:lnTo>
                        <a:pt x="207" y="0"/>
                      </a:lnTo>
                      <a:lnTo>
                        <a:pt x="240" y="0"/>
                      </a:lnTo>
                      <a:lnTo>
                        <a:pt x="273" y="0"/>
                      </a:lnTo>
                      <a:lnTo>
                        <a:pt x="305" y="0"/>
                      </a:lnTo>
                      <a:lnTo>
                        <a:pt x="382" y="0"/>
                      </a:lnTo>
                      <a:lnTo>
                        <a:pt x="415" y="0"/>
                      </a:lnTo>
                      <a:lnTo>
                        <a:pt x="447" y="0"/>
                      </a:lnTo>
                      <a:lnTo>
                        <a:pt x="458" y="32"/>
                      </a:lnTo>
                      <a:lnTo>
                        <a:pt x="469" y="65"/>
                      </a:lnTo>
                      <a:lnTo>
                        <a:pt x="469" y="98"/>
                      </a:lnTo>
                      <a:lnTo>
                        <a:pt x="469" y="131"/>
                      </a:lnTo>
                      <a:lnTo>
                        <a:pt x="469" y="163"/>
                      </a:lnTo>
                      <a:lnTo>
                        <a:pt x="469" y="196"/>
                      </a:lnTo>
                      <a:lnTo>
                        <a:pt x="469" y="229"/>
                      </a:lnTo>
                      <a:lnTo>
                        <a:pt x="469" y="262"/>
                      </a:lnTo>
                      <a:lnTo>
                        <a:pt x="469" y="294"/>
                      </a:lnTo>
                      <a:lnTo>
                        <a:pt x="469" y="327"/>
                      </a:lnTo>
                      <a:lnTo>
                        <a:pt x="469" y="360"/>
                      </a:lnTo>
                      <a:lnTo>
                        <a:pt x="469" y="393"/>
                      </a:lnTo>
                      <a:lnTo>
                        <a:pt x="469" y="425"/>
                      </a:lnTo>
                      <a:lnTo>
                        <a:pt x="436" y="425"/>
                      </a:lnTo>
                      <a:lnTo>
                        <a:pt x="404" y="425"/>
                      </a:lnTo>
                      <a:lnTo>
                        <a:pt x="371" y="425"/>
                      </a:lnTo>
                      <a:lnTo>
                        <a:pt x="338" y="436"/>
                      </a:lnTo>
                      <a:lnTo>
                        <a:pt x="305" y="436"/>
                      </a:lnTo>
                      <a:lnTo>
                        <a:pt x="273" y="436"/>
                      </a:lnTo>
                      <a:lnTo>
                        <a:pt x="240" y="436"/>
                      </a:lnTo>
                      <a:lnTo>
                        <a:pt x="207" y="436"/>
                      </a:lnTo>
                      <a:lnTo>
                        <a:pt x="174" y="436"/>
                      </a:lnTo>
                      <a:lnTo>
                        <a:pt x="142" y="436"/>
                      </a:lnTo>
                      <a:lnTo>
                        <a:pt x="109" y="436"/>
                      </a:lnTo>
                      <a:lnTo>
                        <a:pt x="76" y="436"/>
                      </a:lnTo>
                      <a:lnTo>
                        <a:pt x="11" y="416"/>
                      </a:lnTo>
                      <a:lnTo>
                        <a:pt x="11" y="41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8" name="Oval 18"/>
                <p:cNvSpPr/>
                <p:nvPr/>
              </p:nvSpPr>
              <p:spPr>
                <a:xfrm>
                  <a:off x="4600440" y="5892840"/>
                  <a:ext cx="596520" cy="13932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59" name="Group 22"/>
              <p:cNvGrpSpPr/>
              <p:nvPr/>
            </p:nvGrpSpPr>
            <p:grpSpPr>
              <a:xfrm>
                <a:off x="5186520" y="5378400"/>
                <a:ext cx="745920" cy="693360"/>
                <a:chOff x="5186520" y="5378400"/>
                <a:chExt cx="745920" cy="693360"/>
              </a:xfrm>
            </p:grpSpPr>
            <p:sp>
              <p:nvSpPr>
                <p:cNvPr id="1160" name="Freeform 20"/>
                <p:cNvSpPr/>
                <p:nvPr/>
              </p:nvSpPr>
              <p:spPr>
                <a:xfrm>
                  <a:off x="5186520" y="5378400"/>
                  <a:ext cx="745920" cy="69336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470" h="437">
                      <a:moveTo>
                        <a:pt x="11" y="416"/>
                      </a:moveTo>
                      <a:lnTo>
                        <a:pt x="11" y="371"/>
                      </a:lnTo>
                      <a:lnTo>
                        <a:pt x="11" y="305"/>
                      </a:lnTo>
                      <a:lnTo>
                        <a:pt x="11" y="218"/>
                      </a:lnTo>
                      <a:lnTo>
                        <a:pt x="0" y="185"/>
                      </a:lnTo>
                      <a:lnTo>
                        <a:pt x="0" y="152"/>
                      </a:lnTo>
                      <a:lnTo>
                        <a:pt x="0" y="109"/>
                      </a:lnTo>
                      <a:lnTo>
                        <a:pt x="0" y="76"/>
                      </a:lnTo>
                      <a:lnTo>
                        <a:pt x="11" y="43"/>
                      </a:lnTo>
                      <a:lnTo>
                        <a:pt x="44" y="21"/>
                      </a:lnTo>
                      <a:lnTo>
                        <a:pt x="76" y="11"/>
                      </a:lnTo>
                      <a:lnTo>
                        <a:pt x="109" y="0"/>
                      </a:lnTo>
                      <a:lnTo>
                        <a:pt x="142" y="0"/>
                      </a:lnTo>
                      <a:lnTo>
                        <a:pt x="174" y="0"/>
                      </a:lnTo>
                      <a:lnTo>
                        <a:pt x="207" y="0"/>
                      </a:lnTo>
                      <a:lnTo>
                        <a:pt x="240" y="0"/>
                      </a:lnTo>
                      <a:lnTo>
                        <a:pt x="273" y="0"/>
                      </a:lnTo>
                      <a:lnTo>
                        <a:pt x="305" y="0"/>
                      </a:lnTo>
                      <a:lnTo>
                        <a:pt x="382" y="0"/>
                      </a:lnTo>
                      <a:lnTo>
                        <a:pt x="415" y="0"/>
                      </a:lnTo>
                      <a:lnTo>
                        <a:pt x="447" y="0"/>
                      </a:lnTo>
                      <a:lnTo>
                        <a:pt x="458" y="32"/>
                      </a:lnTo>
                      <a:lnTo>
                        <a:pt x="469" y="65"/>
                      </a:lnTo>
                      <a:lnTo>
                        <a:pt x="469" y="98"/>
                      </a:lnTo>
                      <a:lnTo>
                        <a:pt x="469" y="131"/>
                      </a:lnTo>
                      <a:lnTo>
                        <a:pt x="469" y="163"/>
                      </a:lnTo>
                      <a:lnTo>
                        <a:pt x="469" y="196"/>
                      </a:lnTo>
                      <a:lnTo>
                        <a:pt x="469" y="229"/>
                      </a:lnTo>
                      <a:lnTo>
                        <a:pt x="469" y="262"/>
                      </a:lnTo>
                      <a:lnTo>
                        <a:pt x="469" y="294"/>
                      </a:lnTo>
                      <a:lnTo>
                        <a:pt x="469" y="327"/>
                      </a:lnTo>
                      <a:lnTo>
                        <a:pt x="469" y="360"/>
                      </a:lnTo>
                      <a:lnTo>
                        <a:pt x="469" y="393"/>
                      </a:lnTo>
                      <a:lnTo>
                        <a:pt x="469" y="425"/>
                      </a:lnTo>
                      <a:lnTo>
                        <a:pt x="436" y="425"/>
                      </a:lnTo>
                      <a:lnTo>
                        <a:pt x="404" y="425"/>
                      </a:lnTo>
                      <a:lnTo>
                        <a:pt x="371" y="425"/>
                      </a:lnTo>
                      <a:lnTo>
                        <a:pt x="338" y="436"/>
                      </a:lnTo>
                      <a:lnTo>
                        <a:pt x="305" y="436"/>
                      </a:lnTo>
                      <a:lnTo>
                        <a:pt x="273" y="436"/>
                      </a:lnTo>
                      <a:lnTo>
                        <a:pt x="240" y="436"/>
                      </a:lnTo>
                      <a:lnTo>
                        <a:pt x="207" y="436"/>
                      </a:lnTo>
                      <a:lnTo>
                        <a:pt x="174" y="436"/>
                      </a:lnTo>
                      <a:lnTo>
                        <a:pt x="142" y="436"/>
                      </a:lnTo>
                      <a:lnTo>
                        <a:pt x="109" y="436"/>
                      </a:lnTo>
                      <a:lnTo>
                        <a:pt x="76" y="436"/>
                      </a:lnTo>
                      <a:lnTo>
                        <a:pt x="11" y="416"/>
                      </a:lnTo>
                      <a:lnTo>
                        <a:pt x="11" y="41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1" name="Oval 21"/>
                <p:cNvSpPr/>
                <p:nvPr/>
              </p:nvSpPr>
              <p:spPr>
                <a:xfrm>
                  <a:off x="5286240" y="5892840"/>
                  <a:ext cx="596520" cy="13932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62" name="Group 25"/>
              <p:cNvGrpSpPr/>
              <p:nvPr/>
            </p:nvGrpSpPr>
            <p:grpSpPr>
              <a:xfrm>
                <a:off x="5872320" y="5378400"/>
                <a:ext cx="745920" cy="693360"/>
                <a:chOff x="5872320" y="5378400"/>
                <a:chExt cx="745920" cy="693360"/>
              </a:xfrm>
            </p:grpSpPr>
            <p:sp>
              <p:nvSpPr>
                <p:cNvPr id="1163" name="Freeform 23"/>
                <p:cNvSpPr/>
                <p:nvPr/>
              </p:nvSpPr>
              <p:spPr>
                <a:xfrm>
                  <a:off x="5872320" y="5378400"/>
                  <a:ext cx="745920" cy="69336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470" h="437">
                      <a:moveTo>
                        <a:pt x="11" y="416"/>
                      </a:moveTo>
                      <a:lnTo>
                        <a:pt x="11" y="371"/>
                      </a:lnTo>
                      <a:lnTo>
                        <a:pt x="11" y="305"/>
                      </a:lnTo>
                      <a:lnTo>
                        <a:pt x="11" y="218"/>
                      </a:lnTo>
                      <a:lnTo>
                        <a:pt x="0" y="185"/>
                      </a:lnTo>
                      <a:lnTo>
                        <a:pt x="0" y="152"/>
                      </a:lnTo>
                      <a:lnTo>
                        <a:pt x="0" y="109"/>
                      </a:lnTo>
                      <a:lnTo>
                        <a:pt x="0" y="76"/>
                      </a:lnTo>
                      <a:lnTo>
                        <a:pt x="11" y="43"/>
                      </a:lnTo>
                      <a:lnTo>
                        <a:pt x="44" y="21"/>
                      </a:lnTo>
                      <a:lnTo>
                        <a:pt x="76" y="11"/>
                      </a:lnTo>
                      <a:lnTo>
                        <a:pt x="109" y="0"/>
                      </a:lnTo>
                      <a:lnTo>
                        <a:pt x="142" y="0"/>
                      </a:lnTo>
                      <a:lnTo>
                        <a:pt x="174" y="0"/>
                      </a:lnTo>
                      <a:lnTo>
                        <a:pt x="207" y="0"/>
                      </a:lnTo>
                      <a:lnTo>
                        <a:pt x="240" y="0"/>
                      </a:lnTo>
                      <a:lnTo>
                        <a:pt x="273" y="0"/>
                      </a:lnTo>
                      <a:lnTo>
                        <a:pt x="305" y="0"/>
                      </a:lnTo>
                      <a:lnTo>
                        <a:pt x="382" y="0"/>
                      </a:lnTo>
                      <a:lnTo>
                        <a:pt x="415" y="0"/>
                      </a:lnTo>
                      <a:lnTo>
                        <a:pt x="447" y="0"/>
                      </a:lnTo>
                      <a:lnTo>
                        <a:pt x="458" y="32"/>
                      </a:lnTo>
                      <a:lnTo>
                        <a:pt x="469" y="65"/>
                      </a:lnTo>
                      <a:lnTo>
                        <a:pt x="469" y="98"/>
                      </a:lnTo>
                      <a:lnTo>
                        <a:pt x="469" y="131"/>
                      </a:lnTo>
                      <a:lnTo>
                        <a:pt x="469" y="163"/>
                      </a:lnTo>
                      <a:lnTo>
                        <a:pt x="469" y="196"/>
                      </a:lnTo>
                      <a:lnTo>
                        <a:pt x="469" y="229"/>
                      </a:lnTo>
                      <a:lnTo>
                        <a:pt x="469" y="262"/>
                      </a:lnTo>
                      <a:lnTo>
                        <a:pt x="469" y="294"/>
                      </a:lnTo>
                      <a:lnTo>
                        <a:pt x="469" y="327"/>
                      </a:lnTo>
                      <a:lnTo>
                        <a:pt x="469" y="360"/>
                      </a:lnTo>
                      <a:lnTo>
                        <a:pt x="469" y="393"/>
                      </a:lnTo>
                      <a:lnTo>
                        <a:pt x="469" y="425"/>
                      </a:lnTo>
                      <a:lnTo>
                        <a:pt x="436" y="425"/>
                      </a:lnTo>
                      <a:lnTo>
                        <a:pt x="404" y="425"/>
                      </a:lnTo>
                      <a:lnTo>
                        <a:pt x="371" y="425"/>
                      </a:lnTo>
                      <a:lnTo>
                        <a:pt x="338" y="436"/>
                      </a:lnTo>
                      <a:lnTo>
                        <a:pt x="305" y="436"/>
                      </a:lnTo>
                      <a:lnTo>
                        <a:pt x="273" y="436"/>
                      </a:lnTo>
                      <a:lnTo>
                        <a:pt x="240" y="436"/>
                      </a:lnTo>
                      <a:lnTo>
                        <a:pt x="207" y="436"/>
                      </a:lnTo>
                      <a:lnTo>
                        <a:pt x="174" y="436"/>
                      </a:lnTo>
                      <a:lnTo>
                        <a:pt x="142" y="436"/>
                      </a:lnTo>
                      <a:lnTo>
                        <a:pt x="109" y="436"/>
                      </a:lnTo>
                      <a:lnTo>
                        <a:pt x="76" y="436"/>
                      </a:lnTo>
                      <a:lnTo>
                        <a:pt x="11" y="416"/>
                      </a:lnTo>
                      <a:lnTo>
                        <a:pt x="11" y="41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4" name="Oval 24"/>
                <p:cNvSpPr/>
                <p:nvPr/>
              </p:nvSpPr>
              <p:spPr>
                <a:xfrm>
                  <a:off x="5972040" y="5892840"/>
                  <a:ext cx="596520" cy="13932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65" name="Group 28"/>
              <p:cNvGrpSpPr/>
              <p:nvPr/>
            </p:nvGrpSpPr>
            <p:grpSpPr>
              <a:xfrm>
                <a:off x="3129120" y="5378400"/>
                <a:ext cx="745920" cy="693360"/>
                <a:chOff x="3129120" y="5378400"/>
                <a:chExt cx="745920" cy="693360"/>
              </a:xfrm>
            </p:grpSpPr>
            <p:sp>
              <p:nvSpPr>
                <p:cNvPr id="1166" name="Freeform 26"/>
                <p:cNvSpPr/>
                <p:nvPr/>
              </p:nvSpPr>
              <p:spPr>
                <a:xfrm>
                  <a:off x="3129120" y="5378400"/>
                  <a:ext cx="745920" cy="69336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470" h="437">
                      <a:moveTo>
                        <a:pt x="11" y="416"/>
                      </a:moveTo>
                      <a:lnTo>
                        <a:pt x="11" y="371"/>
                      </a:lnTo>
                      <a:lnTo>
                        <a:pt x="11" y="305"/>
                      </a:lnTo>
                      <a:lnTo>
                        <a:pt x="11" y="218"/>
                      </a:lnTo>
                      <a:lnTo>
                        <a:pt x="0" y="185"/>
                      </a:lnTo>
                      <a:lnTo>
                        <a:pt x="0" y="152"/>
                      </a:lnTo>
                      <a:lnTo>
                        <a:pt x="0" y="109"/>
                      </a:lnTo>
                      <a:lnTo>
                        <a:pt x="0" y="76"/>
                      </a:lnTo>
                      <a:lnTo>
                        <a:pt x="11" y="43"/>
                      </a:lnTo>
                      <a:lnTo>
                        <a:pt x="44" y="21"/>
                      </a:lnTo>
                      <a:lnTo>
                        <a:pt x="76" y="11"/>
                      </a:lnTo>
                      <a:lnTo>
                        <a:pt x="109" y="0"/>
                      </a:lnTo>
                      <a:lnTo>
                        <a:pt x="142" y="0"/>
                      </a:lnTo>
                      <a:lnTo>
                        <a:pt x="174" y="0"/>
                      </a:lnTo>
                      <a:lnTo>
                        <a:pt x="207" y="0"/>
                      </a:lnTo>
                      <a:lnTo>
                        <a:pt x="240" y="0"/>
                      </a:lnTo>
                      <a:lnTo>
                        <a:pt x="273" y="0"/>
                      </a:lnTo>
                      <a:lnTo>
                        <a:pt x="305" y="0"/>
                      </a:lnTo>
                      <a:lnTo>
                        <a:pt x="382" y="0"/>
                      </a:lnTo>
                      <a:lnTo>
                        <a:pt x="415" y="0"/>
                      </a:lnTo>
                      <a:lnTo>
                        <a:pt x="447" y="0"/>
                      </a:lnTo>
                      <a:lnTo>
                        <a:pt x="458" y="32"/>
                      </a:lnTo>
                      <a:lnTo>
                        <a:pt x="469" y="65"/>
                      </a:lnTo>
                      <a:lnTo>
                        <a:pt x="469" y="98"/>
                      </a:lnTo>
                      <a:lnTo>
                        <a:pt x="469" y="131"/>
                      </a:lnTo>
                      <a:lnTo>
                        <a:pt x="469" y="163"/>
                      </a:lnTo>
                      <a:lnTo>
                        <a:pt x="469" y="196"/>
                      </a:lnTo>
                      <a:lnTo>
                        <a:pt x="469" y="229"/>
                      </a:lnTo>
                      <a:lnTo>
                        <a:pt x="469" y="262"/>
                      </a:lnTo>
                      <a:lnTo>
                        <a:pt x="469" y="294"/>
                      </a:lnTo>
                      <a:lnTo>
                        <a:pt x="469" y="327"/>
                      </a:lnTo>
                      <a:lnTo>
                        <a:pt x="469" y="360"/>
                      </a:lnTo>
                      <a:lnTo>
                        <a:pt x="469" y="393"/>
                      </a:lnTo>
                      <a:lnTo>
                        <a:pt x="469" y="425"/>
                      </a:lnTo>
                      <a:lnTo>
                        <a:pt x="436" y="425"/>
                      </a:lnTo>
                      <a:lnTo>
                        <a:pt x="404" y="425"/>
                      </a:lnTo>
                      <a:lnTo>
                        <a:pt x="371" y="425"/>
                      </a:lnTo>
                      <a:lnTo>
                        <a:pt x="338" y="436"/>
                      </a:lnTo>
                      <a:lnTo>
                        <a:pt x="305" y="436"/>
                      </a:lnTo>
                      <a:lnTo>
                        <a:pt x="273" y="436"/>
                      </a:lnTo>
                      <a:lnTo>
                        <a:pt x="240" y="436"/>
                      </a:lnTo>
                      <a:lnTo>
                        <a:pt x="207" y="436"/>
                      </a:lnTo>
                      <a:lnTo>
                        <a:pt x="174" y="436"/>
                      </a:lnTo>
                      <a:lnTo>
                        <a:pt x="142" y="436"/>
                      </a:lnTo>
                      <a:lnTo>
                        <a:pt x="109" y="436"/>
                      </a:lnTo>
                      <a:lnTo>
                        <a:pt x="76" y="436"/>
                      </a:lnTo>
                      <a:lnTo>
                        <a:pt x="11" y="416"/>
                      </a:lnTo>
                      <a:lnTo>
                        <a:pt x="11" y="41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7" name="Oval 27"/>
                <p:cNvSpPr/>
                <p:nvPr/>
              </p:nvSpPr>
              <p:spPr>
                <a:xfrm>
                  <a:off x="3228840" y="5892840"/>
                  <a:ext cx="596520" cy="13932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68" name="Group 31"/>
              <p:cNvGrpSpPr/>
              <p:nvPr/>
            </p:nvGrpSpPr>
            <p:grpSpPr>
              <a:xfrm>
                <a:off x="6558120" y="5378400"/>
                <a:ext cx="745920" cy="693360"/>
                <a:chOff x="6558120" y="5378400"/>
                <a:chExt cx="745920" cy="693360"/>
              </a:xfrm>
            </p:grpSpPr>
            <p:sp>
              <p:nvSpPr>
                <p:cNvPr id="1169" name="Freeform 29"/>
                <p:cNvSpPr/>
                <p:nvPr/>
              </p:nvSpPr>
              <p:spPr>
                <a:xfrm>
                  <a:off x="6558120" y="5378400"/>
                  <a:ext cx="745920" cy="69336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693360"/>
                    <a:gd name="textAreaBottom" fmla="*/ 693720 h 693360"/>
                  </a:gdLst>
                  <a:ahLst/>
                  <a:rect l="textAreaLeft" t="textAreaTop" r="textAreaRight" b="textAreaBottom"/>
                  <a:pathLst>
                    <a:path w="470" h="437">
                      <a:moveTo>
                        <a:pt x="11" y="416"/>
                      </a:moveTo>
                      <a:lnTo>
                        <a:pt x="11" y="371"/>
                      </a:lnTo>
                      <a:lnTo>
                        <a:pt x="11" y="305"/>
                      </a:lnTo>
                      <a:lnTo>
                        <a:pt x="11" y="218"/>
                      </a:lnTo>
                      <a:lnTo>
                        <a:pt x="0" y="185"/>
                      </a:lnTo>
                      <a:lnTo>
                        <a:pt x="0" y="152"/>
                      </a:lnTo>
                      <a:lnTo>
                        <a:pt x="0" y="109"/>
                      </a:lnTo>
                      <a:lnTo>
                        <a:pt x="0" y="76"/>
                      </a:lnTo>
                      <a:lnTo>
                        <a:pt x="11" y="43"/>
                      </a:lnTo>
                      <a:lnTo>
                        <a:pt x="44" y="21"/>
                      </a:lnTo>
                      <a:lnTo>
                        <a:pt x="76" y="11"/>
                      </a:lnTo>
                      <a:lnTo>
                        <a:pt x="109" y="0"/>
                      </a:lnTo>
                      <a:lnTo>
                        <a:pt x="142" y="0"/>
                      </a:lnTo>
                      <a:lnTo>
                        <a:pt x="174" y="0"/>
                      </a:lnTo>
                      <a:lnTo>
                        <a:pt x="207" y="0"/>
                      </a:lnTo>
                      <a:lnTo>
                        <a:pt x="240" y="0"/>
                      </a:lnTo>
                      <a:lnTo>
                        <a:pt x="273" y="0"/>
                      </a:lnTo>
                      <a:lnTo>
                        <a:pt x="305" y="0"/>
                      </a:lnTo>
                      <a:lnTo>
                        <a:pt x="382" y="0"/>
                      </a:lnTo>
                      <a:lnTo>
                        <a:pt x="415" y="0"/>
                      </a:lnTo>
                      <a:lnTo>
                        <a:pt x="447" y="0"/>
                      </a:lnTo>
                      <a:lnTo>
                        <a:pt x="458" y="32"/>
                      </a:lnTo>
                      <a:lnTo>
                        <a:pt x="469" y="65"/>
                      </a:lnTo>
                      <a:lnTo>
                        <a:pt x="469" y="98"/>
                      </a:lnTo>
                      <a:lnTo>
                        <a:pt x="469" y="131"/>
                      </a:lnTo>
                      <a:lnTo>
                        <a:pt x="469" y="163"/>
                      </a:lnTo>
                      <a:lnTo>
                        <a:pt x="469" y="196"/>
                      </a:lnTo>
                      <a:lnTo>
                        <a:pt x="469" y="229"/>
                      </a:lnTo>
                      <a:lnTo>
                        <a:pt x="469" y="262"/>
                      </a:lnTo>
                      <a:lnTo>
                        <a:pt x="469" y="294"/>
                      </a:lnTo>
                      <a:lnTo>
                        <a:pt x="469" y="327"/>
                      </a:lnTo>
                      <a:lnTo>
                        <a:pt x="469" y="360"/>
                      </a:lnTo>
                      <a:lnTo>
                        <a:pt x="469" y="393"/>
                      </a:lnTo>
                      <a:lnTo>
                        <a:pt x="469" y="425"/>
                      </a:lnTo>
                      <a:lnTo>
                        <a:pt x="436" y="425"/>
                      </a:lnTo>
                      <a:lnTo>
                        <a:pt x="404" y="425"/>
                      </a:lnTo>
                      <a:lnTo>
                        <a:pt x="371" y="425"/>
                      </a:lnTo>
                      <a:lnTo>
                        <a:pt x="338" y="436"/>
                      </a:lnTo>
                      <a:lnTo>
                        <a:pt x="305" y="436"/>
                      </a:lnTo>
                      <a:lnTo>
                        <a:pt x="273" y="436"/>
                      </a:lnTo>
                      <a:lnTo>
                        <a:pt x="240" y="436"/>
                      </a:lnTo>
                      <a:lnTo>
                        <a:pt x="207" y="436"/>
                      </a:lnTo>
                      <a:lnTo>
                        <a:pt x="174" y="436"/>
                      </a:lnTo>
                      <a:lnTo>
                        <a:pt x="142" y="436"/>
                      </a:lnTo>
                      <a:lnTo>
                        <a:pt x="109" y="436"/>
                      </a:lnTo>
                      <a:lnTo>
                        <a:pt x="76" y="436"/>
                      </a:lnTo>
                      <a:lnTo>
                        <a:pt x="11" y="416"/>
                      </a:lnTo>
                      <a:lnTo>
                        <a:pt x="11" y="41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0" name="Oval 30"/>
                <p:cNvSpPr/>
                <p:nvPr/>
              </p:nvSpPr>
              <p:spPr>
                <a:xfrm>
                  <a:off x="6657840" y="5892840"/>
                  <a:ext cx="596520" cy="13932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71" name="Freeform 32"/>
              <p:cNvSpPr/>
              <p:nvPr/>
            </p:nvSpPr>
            <p:spPr>
              <a:xfrm>
                <a:off x="7219800" y="4495680"/>
                <a:ext cx="711000" cy="839520"/>
              </a:xfrm>
              <a:custGeom>
                <a:avLst/>
                <a:gdLst>
                  <a:gd name="textAreaLeft" fmla="*/ 0 w 711000"/>
                  <a:gd name="textAreaRight" fmla="*/ 711360 w 71100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448" h="529">
                    <a:moveTo>
                      <a:pt x="26" y="0"/>
                    </a:moveTo>
                    <a:lnTo>
                      <a:pt x="76" y="11"/>
                    </a:lnTo>
                    <a:lnTo>
                      <a:pt x="109" y="19"/>
                    </a:lnTo>
                    <a:lnTo>
                      <a:pt x="142" y="29"/>
                    </a:lnTo>
                    <a:lnTo>
                      <a:pt x="185" y="48"/>
                    </a:lnTo>
                    <a:lnTo>
                      <a:pt x="218" y="67"/>
                    </a:lnTo>
                    <a:lnTo>
                      <a:pt x="251" y="86"/>
                    </a:lnTo>
                    <a:lnTo>
                      <a:pt x="284" y="105"/>
                    </a:lnTo>
                    <a:lnTo>
                      <a:pt x="305" y="132"/>
                    </a:lnTo>
                    <a:lnTo>
                      <a:pt x="338" y="161"/>
                    </a:lnTo>
                    <a:lnTo>
                      <a:pt x="360" y="189"/>
                    </a:lnTo>
                    <a:lnTo>
                      <a:pt x="371" y="217"/>
                    </a:lnTo>
                    <a:lnTo>
                      <a:pt x="393" y="245"/>
                    </a:lnTo>
                    <a:lnTo>
                      <a:pt x="415" y="273"/>
                    </a:lnTo>
                    <a:lnTo>
                      <a:pt x="425" y="302"/>
                    </a:lnTo>
                    <a:lnTo>
                      <a:pt x="436" y="330"/>
                    </a:lnTo>
                    <a:lnTo>
                      <a:pt x="447" y="358"/>
                    </a:lnTo>
                    <a:lnTo>
                      <a:pt x="447" y="386"/>
                    </a:lnTo>
                    <a:lnTo>
                      <a:pt x="447" y="415"/>
                    </a:lnTo>
                    <a:lnTo>
                      <a:pt x="447" y="443"/>
                    </a:lnTo>
                    <a:lnTo>
                      <a:pt x="447" y="471"/>
                    </a:lnTo>
                    <a:lnTo>
                      <a:pt x="447" y="499"/>
                    </a:lnTo>
                    <a:lnTo>
                      <a:pt x="415" y="528"/>
                    </a:lnTo>
                    <a:lnTo>
                      <a:pt x="382" y="528"/>
                    </a:lnTo>
                    <a:lnTo>
                      <a:pt x="349" y="528"/>
                    </a:lnTo>
                    <a:lnTo>
                      <a:pt x="316" y="528"/>
                    </a:lnTo>
                    <a:lnTo>
                      <a:pt x="284" y="528"/>
                    </a:lnTo>
                    <a:lnTo>
                      <a:pt x="251" y="528"/>
                    </a:lnTo>
                    <a:lnTo>
                      <a:pt x="218" y="528"/>
                    </a:lnTo>
                    <a:lnTo>
                      <a:pt x="185" y="528"/>
                    </a:lnTo>
                    <a:lnTo>
                      <a:pt x="153" y="509"/>
                    </a:lnTo>
                    <a:lnTo>
                      <a:pt x="142" y="480"/>
                    </a:lnTo>
                    <a:lnTo>
                      <a:pt x="131" y="452"/>
                    </a:lnTo>
                    <a:lnTo>
                      <a:pt x="109" y="424"/>
                    </a:lnTo>
                    <a:lnTo>
                      <a:pt x="98" y="396"/>
                    </a:lnTo>
                    <a:lnTo>
                      <a:pt x="76" y="367"/>
                    </a:lnTo>
                    <a:lnTo>
                      <a:pt x="55" y="340"/>
                    </a:lnTo>
                    <a:lnTo>
                      <a:pt x="33" y="311"/>
                    </a:lnTo>
                    <a:lnTo>
                      <a:pt x="22" y="283"/>
                    </a:lnTo>
                    <a:lnTo>
                      <a:pt x="11" y="254"/>
                    </a:lnTo>
                    <a:lnTo>
                      <a:pt x="0" y="227"/>
                    </a:lnTo>
                    <a:lnTo>
                      <a:pt x="0" y="198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0" y="114"/>
                    </a:lnTo>
                    <a:lnTo>
                      <a:pt x="0" y="86"/>
                    </a:lnTo>
                    <a:lnTo>
                      <a:pt x="0" y="57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Freeform 33"/>
              <p:cNvSpPr/>
              <p:nvPr/>
            </p:nvSpPr>
            <p:spPr>
              <a:xfrm>
                <a:off x="7296120" y="5257800"/>
                <a:ext cx="711000" cy="839520"/>
              </a:xfrm>
              <a:custGeom>
                <a:avLst/>
                <a:gdLst>
                  <a:gd name="textAreaLeft" fmla="*/ 0 w 711000"/>
                  <a:gd name="textAreaRight" fmla="*/ 711360 w 71100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448" h="529">
                    <a:moveTo>
                      <a:pt x="26" y="528"/>
                    </a:moveTo>
                    <a:lnTo>
                      <a:pt x="76" y="516"/>
                    </a:lnTo>
                    <a:lnTo>
                      <a:pt x="109" y="508"/>
                    </a:lnTo>
                    <a:lnTo>
                      <a:pt x="142" y="498"/>
                    </a:lnTo>
                    <a:lnTo>
                      <a:pt x="185" y="479"/>
                    </a:lnTo>
                    <a:lnTo>
                      <a:pt x="218" y="460"/>
                    </a:lnTo>
                    <a:lnTo>
                      <a:pt x="251" y="441"/>
                    </a:lnTo>
                    <a:lnTo>
                      <a:pt x="284" y="422"/>
                    </a:lnTo>
                    <a:lnTo>
                      <a:pt x="305" y="395"/>
                    </a:lnTo>
                    <a:lnTo>
                      <a:pt x="338" y="366"/>
                    </a:lnTo>
                    <a:lnTo>
                      <a:pt x="360" y="338"/>
                    </a:lnTo>
                    <a:lnTo>
                      <a:pt x="371" y="310"/>
                    </a:lnTo>
                    <a:lnTo>
                      <a:pt x="393" y="282"/>
                    </a:lnTo>
                    <a:lnTo>
                      <a:pt x="415" y="254"/>
                    </a:lnTo>
                    <a:lnTo>
                      <a:pt x="425" y="225"/>
                    </a:lnTo>
                    <a:lnTo>
                      <a:pt x="436" y="197"/>
                    </a:lnTo>
                    <a:lnTo>
                      <a:pt x="447" y="169"/>
                    </a:lnTo>
                    <a:lnTo>
                      <a:pt x="447" y="141"/>
                    </a:lnTo>
                    <a:lnTo>
                      <a:pt x="447" y="112"/>
                    </a:lnTo>
                    <a:lnTo>
                      <a:pt x="447" y="84"/>
                    </a:lnTo>
                    <a:lnTo>
                      <a:pt x="447" y="56"/>
                    </a:lnTo>
                    <a:lnTo>
                      <a:pt x="447" y="28"/>
                    </a:lnTo>
                    <a:lnTo>
                      <a:pt x="415" y="0"/>
                    </a:lnTo>
                    <a:lnTo>
                      <a:pt x="382" y="0"/>
                    </a:lnTo>
                    <a:lnTo>
                      <a:pt x="349" y="0"/>
                    </a:lnTo>
                    <a:lnTo>
                      <a:pt x="316" y="0"/>
                    </a:lnTo>
                    <a:lnTo>
                      <a:pt x="284" y="0"/>
                    </a:lnTo>
                    <a:lnTo>
                      <a:pt x="251" y="0"/>
                    </a:lnTo>
                    <a:lnTo>
                      <a:pt x="218" y="0"/>
                    </a:lnTo>
                    <a:lnTo>
                      <a:pt x="185" y="0"/>
                    </a:lnTo>
                    <a:lnTo>
                      <a:pt x="153" y="19"/>
                    </a:lnTo>
                    <a:lnTo>
                      <a:pt x="142" y="47"/>
                    </a:lnTo>
                    <a:lnTo>
                      <a:pt x="131" y="75"/>
                    </a:lnTo>
                    <a:lnTo>
                      <a:pt x="109" y="103"/>
                    </a:lnTo>
                    <a:lnTo>
                      <a:pt x="98" y="131"/>
                    </a:lnTo>
                    <a:lnTo>
                      <a:pt x="76" y="160"/>
                    </a:lnTo>
                    <a:lnTo>
                      <a:pt x="55" y="187"/>
                    </a:lnTo>
                    <a:lnTo>
                      <a:pt x="33" y="216"/>
                    </a:lnTo>
                    <a:lnTo>
                      <a:pt x="22" y="244"/>
                    </a:lnTo>
                    <a:lnTo>
                      <a:pt x="11" y="273"/>
                    </a:lnTo>
                    <a:lnTo>
                      <a:pt x="0" y="300"/>
                    </a:lnTo>
                    <a:lnTo>
                      <a:pt x="0" y="329"/>
                    </a:lnTo>
                    <a:lnTo>
                      <a:pt x="0" y="357"/>
                    </a:lnTo>
                    <a:lnTo>
                      <a:pt x="0" y="385"/>
                    </a:lnTo>
                    <a:lnTo>
                      <a:pt x="0" y="413"/>
                    </a:lnTo>
                    <a:lnTo>
                      <a:pt x="0" y="441"/>
                    </a:lnTo>
                    <a:lnTo>
                      <a:pt x="0" y="470"/>
                    </a:lnTo>
                    <a:lnTo>
                      <a:pt x="26" y="528"/>
                    </a:lnTo>
                    <a:lnTo>
                      <a:pt x="26" y="528"/>
                    </a:lnTo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Oval 34"/>
              <p:cNvSpPr/>
              <p:nvPr/>
            </p:nvSpPr>
            <p:spPr>
              <a:xfrm>
                <a:off x="7419960" y="4883040"/>
                <a:ext cx="291600" cy="2916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Oval 35"/>
              <p:cNvSpPr/>
              <p:nvPr/>
            </p:nvSpPr>
            <p:spPr>
              <a:xfrm rot="2040000">
                <a:off x="7572600" y="5492520"/>
                <a:ext cx="215640" cy="2916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Freeform 36"/>
              <p:cNvSpPr/>
              <p:nvPr/>
            </p:nvSpPr>
            <p:spPr>
              <a:xfrm>
                <a:off x="6111720" y="4324320"/>
                <a:ext cx="1976040" cy="2028600"/>
              </a:xfrm>
              <a:custGeom>
                <a:avLst/>
                <a:gdLst>
                  <a:gd name="textAreaLeft" fmla="*/ 0 w 1976040"/>
                  <a:gd name="textAreaRight" fmla="*/ 1976400 w 1976040"/>
                  <a:gd name="textAreaTop" fmla="*/ 0 h 2028600"/>
                  <a:gd name="textAreaBottom" fmla="*/ 2028960 h 2028600"/>
                </a:gdLst>
                <a:ahLst/>
                <a:rect l="textAreaLeft" t="textAreaTop" r="textAreaRight" b="textAreaBottom"/>
                <a:pathLst>
                  <a:path w="1245" h="1278">
                    <a:moveTo>
                      <a:pt x="52" y="12"/>
                    </a:moveTo>
                    <a:lnTo>
                      <a:pt x="98" y="44"/>
                    </a:lnTo>
                    <a:lnTo>
                      <a:pt x="131" y="55"/>
                    </a:lnTo>
                    <a:lnTo>
                      <a:pt x="163" y="66"/>
                    </a:lnTo>
                    <a:lnTo>
                      <a:pt x="196" y="66"/>
                    </a:lnTo>
                    <a:lnTo>
                      <a:pt x="229" y="77"/>
                    </a:lnTo>
                    <a:lnTo>
                      <a:pt x="262" y="77"/>
                    </a:lnTo>
                    <a:lnTo>
                      <a:pt x="294" y="77"/>
                    </a:lnTo>
                    <a:lnTo>
                      <a:pt x="327" y="77"/>
                    </a:lnTo>
                    <a:lnTo>
                      <a:pt x="360" y="77"/>
                    </a:lnTo>
                    <a:lnTo>
                      <a:pt x="392" y="77"/>
                    </a:lnTo>
                    <a:lnTo>
                      <a:pt x="425" y="77"/>
                    </a:lnTo>
                    <a:lnTo>
                      <a:pt x="458" y="77"/>
                    </a:lnTo>
                    <a:lnTo>
                      <a:pt x="491" y="77"/>
                    </a:lnTo>
                    <a:lnTo>
                      <a:pt x="523" y="77"/>
                    </a:lnTo>
                    <a:lnTo>
                      <a:pt x="556" y="77"/>
                    </a:lnTo>
                    <a:lnTo>
                      <a:pt x="589" y="77"/>
                    </a:lnTo>
                    <a:lnTo>
                      <a:pt x="633" y="88"/>
                    </a:lnTo>
                    <a:lnTo>
                      <a:pt x="665" y="99"/>
                    </a:lnTo>
                    <a:lnTo>
                      <a:pt x="698" y="99"/>
                    </a:lnTo>
                    <a:lnTo>
                      <a:pt x="731" y="110"/>
                    </a:lnTo>
                    <a:lnTo>
                      <a:pt x="763" y="121"/>
                    </a:lnTo>
                    <a:lnTo>
                      <a:pt x="796" y="142"/>
                    </a:lnTo>
                    <a:lnTo>
                      <a:pt x="829" y="153"/>
                    </a:lnTo>
                    <a:lnTo>
                      <a:pt x="862" y="164"/>
                    </a:lnTo>
                    <a:lnTo>
                      <a:pt x="894" y="186"/>
                    </a:lnTo>
                    <a:lnTo>
                      <a:pt x="927" y="197"/>
                    </a:lnTo>
                    <a:lnTo>
                      <a:pt x="971" y="208"/>
                    </a:lnTo>
                    <a:lnTo>
                      <a:pt x="1014" y="230"/>
                    </a:lnTo>
                    <a:lnTo>
                      <a:pt x="1036" y="262"/>
                    </a:lnTo>
                    <a:lnTo>
                      <a:pt x="1069" y="295"/>
                    </a:lnTo>
                    <a:lnTo>
                      <a:pt x="1080" y="328"/>
                    </a:lnTo>
                    <a:lnTo>
                      <a:pt x="1113" y="350"/>
                    </a:lnTo>
                    <a:lnTo>
                      <a:pt x="1123" y="382"/>
                    </a:lnTo>
                    <a:lnTo>
                      <a:pt x="1145" y="415"/>
                    </a:lnTo>
                    <a:lnTo>
                      <a:pt x="1167" y="448"/>
                    </a:lnTo>
                    <a:lnTo>
                      <a:pt x="1167" y="481"/>
                    </a:lnTo>
                    <a:lnTo>
                      <a:pt x="1178" y="513"/>
                    </a:lnTo>
                    <a:lnTo>
                      <a:pt x="1189" y="546"/>
                    </a:lnTo>
                    <a:lnTo>
                      <a:pt x="1200" y="579"/>
                    </a:lnTo>
                    <a:lnTo>
                      <a:pt x="1200" y="612"/>
                    </a:lnTo>
                    <a:lnTo>
                      <a:pt x="1200" y="644"/>
                    </a:lnTo>
                    <a:lnTo>
                      <a:pt x="1200" y="677"/>
                    </a:lnTo>
                    <a:lnTo>
                      <a:pt x="1200" y="710"/>
                    </a:lnTo>
                    <a:lnTo>
                      <a:pt x="1200" y="743"/>
                    </a:lnTo>
                    <a:lnTo>
                      <a:pt x="1200" y="775"/>
                    </a:lnTo>
                    <a:lnTo>
                      <a:pt x="1200" y="808"/>
                    </a:lnTo>
                    <a:lnTo>
                      <a:pt x="1200" y="841"/>
                    </a:lnTo>
                    <a:lnTo>
                      <a:pt x="1178" y="874"/>
                    </a:lnTo>
                    <a:lnTo>
                      <a:pt x="1156" y="906"/>
                    </a:lnTo>
                    <a:lnTo>
                      <a:pt x="1134" y="939"/>
                    </a:lnTo>
                    <a:lnTo>
                      <a:pt x="1102" y="972"/>
                    </a:lnTo>
                    <a:lnTo>
                      <a:pt x="1080" y="1005"/>
                    </a:lnTo>
                    <a:lnTo>
                      <a:pt x="1047" y="1026"/>
                    </a:lnTo>
                    <a:lnTo>
                      <a:pt x="1014" y="1048"/>
                    </a:lnTo>
                    <a:lnTo>
                      <a:pt x="982" y="1070"/>
                    </a:lnTo>
                    <a:lnTo>
                      <a:pt x="949" y="1081"/>
                    </a:lnTo>
                    <a:lnTo>
                      <a:pt x="916" y="1092"/>
                    </a:lnTo>
                    <a:lnTo>
                      <a:pt x="883" y="1103"/>
                    </a:lnTo>
                    <a:lnTo>
                      <a:pt x="851" y="1103"/>
                    </a:lnTo>
                    <a:lnTo>
                      <a:pt x="818" y="1103"/>
                    </a:lnTo>
                    <a:lnTo>
                      <a:pt x="785" y="1103"/>
                    </a:lnTo>
                    <a:lnTo>
                      <a:pt x="753" y="1103"/>
                    </a:lnTo>
                    <a:lnTo>
                      <a:pt x="720" y="1103"/>
                    </a:lnTo>
                    <a:lnTo>
                      <a:pt x="687" y="1103"/>
                    </a:lnTo>
                    <a:lnTo>
                      <a:pt x="654" y="1103"/>
                    </a:lnTo>
                    <a:lnTo>
                      <a:pt x="622" y="1103"/>
                    </a:lnTo>
                    <a:lnTo>
                      <a:pt x="589" y="1103"/>
                    </a:lnTo>
                    <a:lnTo>
                      <a:pt x="556" y="1103"/>
                    </a:lnTo>
                    <a:lnTo>
                      <a:pt x="491" y="1103"/>
                    </a:lnTo>
                    <a:lnTo>
                      <a:pt x="447" y="1103"/>
                    </a:lnTo>
                    <a:lnTo>
                      <a:pt x="414" y="1103"/>
                    </a:lnTo>
                    <a:lnTo>
                      <a:pt x="382" y="1103"/>
                    </a:lnTo>
                    <a:lnTo>
                      <a:pt x="349" y="1103"/>
                    </a:lnTo>
                    <a:lnTo>
                      <a:pt x="316" y="1103"/>
                    </a:lnTo>
                    <a:lnTo>
                      <a:pt x="283" y="1103"/>
                    </a:lnTo>
                    <a:lnTo>
                      <a:pt x="251" y="1103"/>
                    </a:lnTo>
                    <a:lnTo>
                      <a:pt x="218" y="1103"/>
                    </a:lnTo>
                    <a:lnTo>
                      <a:pt x="185" y="1103"/>
                    </a:lnTo>
                    <a:lnTo>
                      <a:pt x="152" y="1103"/>
                    </a:lnTo>
                    <a:lnTo>
                      <a:pt x="120" y="1114"/>
                    </a:lnTo>
                    <a:lnTo>
                      <a:pt x="87" y="1125"/>
                    </a:lnTo>
                    <a:lnTo>
                      <a:pt x="54" y="1125"/>
                    </a:lnTo>
                    <a:lnTo>
                      <a:pt x="22" y="1125"/>
                    </a:lnTo>
                    <a:lnTo>
                      <a:pt x="0" y="1157"/>
                    </a:lnTo>
                    <a:lnTo>
                      <a:pt x="32" y="1179"/>
                    </a:lnTo>
                    <a:lnTo>
                      <a:pt x="76" y="1179"/>
                    </a:lnTo>
                    <a:lnTo>
                      <a:pt x="120" y="1179"/>
                    </a:lnTo>
                    <a:lnTo>
                      <a:pt x="152" y="1179"/>
                    </a:lnTo>
                    <a:lnTo>
                      <a:pt x="185" y="1179"/>
                    </a:lnTo>
                    <a:lnTo>
                      <a:pt x="218" y="1179"/>
                    </a:lnTo>
                    <a:lnTo>
                      <a:pt x="251" y="1179"/>
                    </a:lnTo>
                    <a:lnTo>
                      <a:pt x="283" y="1179"/>
                    </a:lnTo>
                    <a:lnTo>
                      <a:pt x="316" y="1179"/>
                    </a:lnTo>
                    <a:lnTo>
                      <a:pt x="349" y="1190"/>
                    </a:lnTo>
                    <a:lnTo>
                      <a:pt x="382" y="1190"/>
                    </a:lnTo>
                    <a:lnTo>
                      <a:pt x="414" y="1190"/>
                    </a:lnTo>
                    <a:lnTo>
                      <a:pt x="447" y="1190"/>
                    </a:lnTo>
                    <a:lnTo>
                      <a:pt x="480" y="1190"/>
                    </a:lnTo>
                    <a:lnTo>
                      <a:pt x="512" y="1190"/>
                    </a:lnTo>
                    <a:lnTo>
                      <a:pt x="545" y="1201"/>
                    </a:lnTo>
                    <a:lnTo>
                      <a:pt x="578" y="1212"/>
                    </a:lnTo>
                    <a:lnTo>
                      <a:pt x="611" y="1212"/>
                    </a:lnTo>
                    <a:lnTo>
                      <a:pt x="643" y="1223"/>
                    </a:lnTo>
                    <a:lnTo>
                      <a:pt x="676" y="1234"/>
                    </a:lnTo>
                    <a:lnTo>
                      <a:pt x="720" y="1256"/>
                    </a:lnTo>
                    <a:lnTo>
                      <a:pt x="753" y="1266"/>
                    </a:lnTo>
                    <a:lnTo>
                      <a:pt x="785" y="1277"/>
                    </a:lnTo>
                    <a:lnTo>
                      <a:pt x="818" y="1277"/>
                    </a:lnTo>
                    <a:lnTo>
                      <a:pt x="851" y="1277"/>
                    </a:lnTo>
                    <a:lnTo>
                      <a:pt x="883" y="1277"/>
                    </a:lnTo>
                    <a:lnTo>
                      <a:pt x="916" y="1277"/>
                    </a:lnTo>
                    <a:lnTo>
                      <a:pt x="949" y="1277"/>
                    </a:lnTo>
                    <a:lnTo>
                      <a:pt x="982" y="1266"/>
                    </a:lnTo>
                    <a:lnTo>
                      <a:pt x="1014" y="1256"/>
                    </a:lnTo>
                    <a:lnTo>
                      <a:pt x="1047" y="1234"/>
                    </a:lnTo>
                    <a:lnTo>
                      <a:pt x="1080" y="1212"/>
                    </a:lnTo>
                    <a:lnTo>
                      <a:pt x="1102" y="1179"/>
                    </a:lnTo>
                    <a:lnTo>
                      <a:pt x="1123" y="1146"/>
                    </a:lnTo>
                    <a:lnTo>
                      <a:pt x="1134" y="1114"/>
                    </a:lnTo>
                    <a:lnTo>
                      <a:pt x="1156" y="1081"/>
                    </a:lnTo>
                    <a:lnTo>
                      <a:pt x="1167" y="1048"/>
                    </a:lnTo>
                    <a:lnTo>
                      <a:pt x="1178" y="1015"/>
                    </a:lnTo>
                    <a:lnTo>
                      <a:pt x="1200" y="983"/>
                    </a:lnTo>
                    <a:lnTo>
                      <a:pt x="1211" y="950"/>
                    </a:lnTo>
                    <a:lnTo>
                      <a:pt x="1222" y="917"/>
                    </a:lnTo>
                    <a:lnTo>
                      <a:pt x="1233" y="884"/>
                    </a:lnTo>
                    <a:lnTo>
                      <a:pt x="1233" y="852"/>
                    </a:lnTo>
                    <a:lnTo>
                      <a:pt x="1244" y="819"/>
                    </a:lnTo>
                    <a:lnTo>
                      <a:pt x="1244" y="786"/>
                    </a:lnTo>
                    <a:lnTo>
                      <a:pt x="1244" y="754"/>
                    </a:lnTo>
                    <a:lnTo>
                      <a:pt x="1244" y="721"/>
                    </a:lnTo>
                    <a:lnTo>
                      <a:pt x="1244" y="688"/>
                    </a:lnTo>
                    <a:lnTo>
                      <a:pt x="1244" y="655"/>
                    </a:lnTo>
                    <a:lnTo>
                      <a:pt x="1244" y="623"/>
                    </a:lnTo>
                    <a:lnTo>
                      <a:pt x="1244" y="590"/>
                    </a:lnTo>
                    <a:lnTo>
                      <a:pt x="1244" y="557"/>
                    </a:lnTo>
                    <a:lnTo>
                      <a:pt x="1233" y="524"/>
                    </a:lnTo>
                    <a:lnTo>
                      <a:pt x="1233" y="492"/>
                    </a:lnTo>
                    <a:lnTo>
                      <a:pt x="1222" y="459"/>
                    </a:lnTo>
                    <a:lnTo>
                      <a:pt x="1222" y="426"/>
                    </a:lnTo>
                    <a:lnTo>
                      <a:pt x="1211" y="393"/>
                    </a:lnTo>
                    <a:lnTo>
                      <a:pt x="1189" y="361"/>
                    </a:lnTo>
                    <a:lnTo>
                      <a:pt x="1167" y="328"/>
                    </a:lnTo>
                    <a:lnTo>
                      <a:pt x="1145" y="295"/>
                    </a:lnTo>
                    <a:lnTo>
                      <a:pt x="1123" y="262"/>
                    </a:lnTo>
                    <a:lnTo>
                      <a:pt x="1102" y="230"/>
                    </a:lnTo>
                    <a:lnTo>
                      <a:pt x="1080" y="197"/>
                    </a:lnTo>
                    <a:lnTo>
                      <a:pt x="1047" y="175"/>
                    </a:lnTo>
                    <a:lnTo>
                      <a:pt x="1014" y="153"/>
                    </a:lnTo>
                    <a:lnTo>
                      <a:pt x="982" y="131"/>
                    </a:lnTo>
                    <a:lnTo>
                      <a:pt x="949" y="110"/>
                    </a:lnTo>
                    <a:lnTo>
                      <a:pt x="916" y="88"/>
                    </a:lnTo>
                    <a:lnTo>
                      <a:pt x="883" y="66"/>
                    </a:lnTo>
                    <a:lnTo>
                      <a:pt x="851" y="55"/>
                    </a:lnTo>
                    <a:lnTo>
                      <a:pt x="818" y="44"/>
                    </a:lnTo>
                    <a:lnTo>
                      <a:pt x="785" y="44"/>
                    </a:lnTo>
                    <a:lnTo>
                      <a:pt x="753" y="44"/>
                    </a:lnTo>
                    <a:lnTo>
                      <a:pt x="720" y="33"/>
                    </a:lnTo>
                    <a:lnTo>
                      <a:pt x="676" y="33"/>
                    </a:lnTo>
                    <a:lnTo>
                      <a:pt x="633" y="33"/>
                    </a:lnTo>
                    <a:lnTo>
                      <a:pt x="600" y="33"/>
                    </a:lnTo>
                    <a:lnTo>
                      <a:pt x="567" y="33"/>
                    </a:lnTo>
                    <a:lnTo>
                      <a:pt x="534" y="33"/>
                    </a:lnTo>
                    <a:lnTo>
                      <a:pt x="502" y="33"/>
                    </a:lnTo>
                    <a:lnTo>
                      <a:pt x="469" y="22"/>
                    </a:lnTo>
                    <a:lnTo>
                      <a:pt x="436" y="22"/>
                    </a:lnTo>
                    <a:lnTo>
                      <a:pt x="403" y="22"/>
                    </a:lnTo>
                    <a:lnTo>
                      <a:pt x="371" y="22"/>
                    </a:lnTo>
                    <a:lnTo>
                      <a:pt x="338" y="22"/>
                    </a:lnTo>
                    <a:lnTo>
                      <a:pt x="305" y="11"/>
                    </a:lnTo>
                    <a:lnTo>
                      <a:pt x="272" y="11"/>
                    </a:lnTo>
                    <a:lnTo>
                      <a:pt x="240" y="11"/>
                    </a:lnTo>
                    <a:lnTo>
                      <a:pt x="207" y="0"/>
                    </a:lnTo>
                    <a:lnTo>
                      <a:pt x="174" y="0"/>
                    </a:lnTo>
                    <a:lnTo>
                      <a:pt x="142" y="0"/>
                    </a:lnTo>
                    <a:lnTo>
                      <a:pt x="109" y="0"/>
                    </a:lnTo>
                    <a:lnTo>
                      <a:pt x="52" y="12"/>
                    </a:lnTo>
                    <a:lnTo>
                      <a:pt x="52" y="12"/>
                    </a:lnTo>
                  </a:path>
                </a:pathLst>
              </a:custGeom>
              <a:solidFill>
                <a:schemeClr val="accent1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Oval 37"/>
              <p:cNvSpPr/>
              <p:nvPr/>
            </p:nvSpPr>
            <p:spPr>
              <a:xfrm rot="21000000">
                <a:off x="7343640" y="6102360"/>
                <a:ext cx="52020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Freeform 38"/>
              <p:cNvSpPr/>
              <p:nvPr/>
            </p:nvSpPr>
            <p:spPr>
              <a:xfrm>
                <a:off x="3070080" y="4255920"/>
                <a:ext cx="5103360" cy="2166480"/>
              </a:xfrm>
              <a:custGeom>
                <a:avLst/>
                <a:gdLst>
                  <a:gd name="textAreaLeft" fmla="*/ 0 w 5103360"/>
                  <a:gd name="textAreaRight" fmla="*/ 5103720 w 5103360"/>
                  <a:gd name="textAreaTop" fmla="*/ 0 h 2166480"/>
                  <a:gd name="textAreaBottom" fmla="*/ 2166840 h 2166480"/>
                </a:gdLst>
                <a:ahLst/>
                <a:rect l="textAreaLeft" t="textAreaTop" r="textAreaRight" b="textAreaBottom"/>
                <a:pathLst>
                  <a:path w="3215" h="1365">
                    <a:moveTo>
                      <a:pt x="0" y="103"/>
                    </a:moveTo>
                    <a:lnTo>
                      <a:pt x="61" y="98"/>
                    </a:lnTo>
                    <a:lnTo>
                      <a:pt x="94" y="98"/>
                    </a:lnTo>
                    <a:lnTo>
                      <a:pt x="181" y="98"/>
                    </a:lnTo>
                    <a:lnTo>
                      <a:pt x="214" y="98"/>
                    </a:lnTo>
                    <a:lnTo>
                      <a:pt x="246" y="98"/>
                    </a:lnTo>
                    <a:lnTo>
                      <a:pt x="279" y="98"/>
                    </a:lnTo>
                    <a:lnTo>
                      <a:pt x="312" y="98"/>
                    </a:lnTo>
                    <a:lnTo>
                      <a:pt x="377" y="98"/>
                    </a:lnTo>
                    <a:lnTo>
                      <a:pt x="443" y="98"/>
                    </a:lnTo>
                    <a:lnTo>
                      <a:pt x="475" y="98"/>
                    </a:lnTo>
                    <a:lnTo>
                      <a:pt x="508" y="98"/>
                    </a:lnTo>
                    <a:lnTo>
                      <a:pt x="541" y="98"/>
                    </a:lnTo>
                    <a:lnTo>
                      <a:pt x="585" y="98"/>
                    </a:lnTo>
                    <a:lnTo>
                      <a:pt x="617" y="98"/>
                    </a:lnTo>
                    <a:lnTo>
                      <a:pt x="661" y="98"/>
                    </a:lnTo>
                    <a:lnTo>
                      <a:pt x="694" y="87"/>
                    </a:lnTo>
                    <a:lnTo>
                      <a:pt x="726" y="87"/>
                    </a:lnTo>
                    <a:lnTo>
                      <a:pt x="770" y="76"/>
                    </a:lnTo>
                    <a:lnTo>
                      <a:pt x="803" y="76"/>
                    </a:lnTo>
                    <a:lnTo>
                      <a:pt x="846" y="76"/>
                    </a:lnTo>
                    <a:lnTo>
                      <a:pt x="890" y="76"/>
                    </a:lnTo>
                    <a:lnTo>
                      <a:pt x="934" y="76"/>
                    </a:lnTo>
                    <a:lnTo>
                      <a:pt x="977" y="76"/>
                    </a:lnTo>
                    <a:lnTo>
                      <a:pt x="1021" y="76"/>
                    </a:lnTo>
                    <a:lnTo>
                      <a:pt x="1065" y="76"/>
                    </a:lnTo>
                    <a:lnTo>
                      <a:pt x="1108" y="76"/>
                    </a:lnTo>
                    <a:lnTo>
                      <a:pt x="1152" y="76"/>
                    </a:lnTo>
                    <a:lnTo>
                      <a:pt x="1196" y="76"/>
                    </a:lnTo>
                    <a:lnTo>
                      <a:pt x="1283" y="76"/>
                    </a:lnTo>
                    <a:lnTo>
                      <a:pt x="1316" y="76"/>
                    </a:lnTo>
                    <a:lnTo>
                      <a:pt x="1348" y="76"/>
                    </a:lnTo>
                    <a:lnTo>
                      <a:pt x="1381" y="76"/>
                    </a:lnTo>
                    <a:lnTo>
                      <a:pt x="1490" y="87"/>
                    </a:lnTo>
                    <a:lnTo>
                      <a:pt x="1523" y="87"/>
                    </a:lnTo>
                    <a:lnTo>
                      <a:pt x="1567" y="87"/>
                    </a:lnTo>
                    <a:lnTo>
                      <a:pt x="1599" y="87"/>
                    </a:lnTo>
                    <a:lnTo>
                      <a:pt x="1632" y="87"/>
                    </a:lnTo>
                    <a:lnTo>
                      <a:pt x="1676" y="87"/>
                    </a:lnTo>
                    <a:lnTo>
                      <a:pt x="1708" y="87"/>
                    </a:lnTo>
                    <a:lnTo>
                      <a:pt x="1796" y="87"/>
                    </a:lnTo>
                    <a:lnTo>
                      <a:pt x="1861" y="87"/>
                    </a:lnTo>
                    <a:lnTo>
                      <a:pt x="1905" y="87"/>
                    </a:lnTo>
                    <a:lnTo>
                      <a:pt x="1938" y="76"/>
                    </a:lnTo>
                    <a:lnTo>
                      <a:pt x="1981" y="43"/>
                    </a:lnTo>
                    <a:lnTo>
                      <a:pt x="2014" y="22"/>
                    </a:lnTo>
                    <a:lnTo>
                      <a:pt x="2047" y="11"/>
                    </a:lnTo>
                    <a:lnTo>
                      <a:pt x="2090" y="0"/>
                    </a:lnTo>
                    <a:lnTo>
                      <a:pt x="2134" y="0"/>
                    </a:lnTo>
                    <a:lnTo>
                      <a:pt x="2167" y="0"/>
                    </a:lnTo>
                    <a:lnTo>
                      <a:pt x="2199" y="0"/>
                    </a:lnTo>
                    <a:lnTo>
                      <a:pt x="2232" y="0"/>
                    </a:lnTo>
                    <a:lnTo>
                      <a:pt x="2276" y="0"/>
                    </a:lnTo>
                    <a:lnTo>
                      <a:pt x="2308" y="0"/>
                    </a:lnTo>
                    <a:lnTo>
                      <a:pt x="2352" y="0"/>
                    </a:lnTo>
                    <a:lnTo>
                      <a:pt x="2418" y="0"/>
                    </a:lnTo>
                    <a:lnTo>
                      <a:pt x="2505" y="11"/>
                    </a:lnTo>
                    <a:lnTo>
                      <a:pt x="2538" y="11"/>
                    </a:lnTo>
                    <a:lnTo>
                      <a:pt x="2570" y="11"/>
                    </a:lnTo>
                    <a:lnTo>
                      <a:pt x="2603" y="11"/>
                    </a:lnTo>
                    <a:lnTo>
                      <a:pt x="2647" y="22"/>
                    </a:lnTo>
                    <a:lnTo>
                      <a:pt x="2690" y="22"/>
                    </a:lnTo>
                    <a:lnTo>
                      <a:pt x="2734" y="33"/>
                    </a:lnTo>
                    <a:lnTo>
                      <a:pt x="2767" y="43"/>
                    </a:lnTo>
                    <a:lnTo>
                      <a:pt x="2799" y="54"/>
                    </a:lnTo>
                    <a:lnTo>
                      <a:pt x="2832" y="76"/>
                    </a:lnTo>
                    <a:lnTo>
                      <a:pt x="2865" y="98"/>
                    </a:lnTo>
                    <a:lnTo>
                      <a:pt x="2898" y="109"/>
                    </a:lnTo>
                    <a:lnTo>
                      <a:pt x="2930" y="131"/>
                    </a:lnTo>
                    <a:lnTo>
                      <a:pt x="2952" y="164"/>
                    </a:lnTo>
                    <a:lnTo>
                      <a:pt x="2985" y="174"/>
                    </a:lnTo>
                    <a:lnTo>
                      <a:pt x="3007" y="207"/>
                    </a:lnTo>
                    <a:lnTo>
                      <a:pt x="3039" y="229"/>
                    </a:lnTo>
                    <a:lnTo>
                      <a:pt x="3061" y="262"/>
                    </a:lnTo>
                    <a:lnTo>
                      <a:pt x="3094" y="284"/>
                    </a:lnTo>
                    <a:lnTo>
                      <a:pt x="3127" y="316"/>
                    </a:lnTo>
                    <a:lnTo>
                      <a:pt x="3138" y="349"/>
                    </a:lnTo>
                    <a:lnTo>
                      <a:pt x="3160" y="382"/>
                    </a:lnTo>
                    <a:lnTo>
                      <a:pt x="3160" y="415"/>
                    </a:lnTo>
                    <a:lnTo>
                      <a:pt x="3170" y="447"/>
                    </a:lnTo>
                    <a:lnTo>
                      <a:pt x="3181" y="480"/>
                    </a:lnTo>
                    <a:lnTo>
                      <a:pt x="3203" y="513"/>
                    </a:lnTo>
                    <a:lnTo>
                      <a:pt x="3203" y="546"/>
                    </a:lnTo>
                    <a:lnTo>
                      <a:pt x="3214" y="578"/>
                    </a:lnTo>
                    <a:lnTo>
                      <a:pt x="3214" y="611"/>
                    </a:lnTo>
                    <a:lnTo>
                      <a:pt x="3214" y="644"/>
                    </a:lnTo>
                    <a:lnTo>
                      <a:pt x="3214" y="676"/>
                    </a:lnTo>
                    <a:lnTo>
                      <a:pt x="3214" y="709"/>
                    </a:lnTo>
                    <a:lnTo>
                      <a:pt x="3214" y="742"/>
                    </a:lnTo>
                    <a:lnTo>
                      <a:pt x="3214" y="775"/>
                    </a:lnTo>
                    <a:lnTo>
                      <a:pt x="3214" y="807"/>
                    </a:lnTo>
                    <a:lnTo>
                      <a:pt x="3214" y="840"/>
                    </a:lnTo>
                    <a:lnTo>
                      <a:pt x="3214" y="873"/>
                    </a:lnTo>
                    <a:lnTo>
                      <a:pt x="3203" y="906"/>
                    </a:lnTo>
                    <a:lnTo>
                      <a:pt x="3181" y="938"/>
                    </a:lnTo>
                    <a:lnTo>
                      <a:pt x="3170" y="971"/>
                    </a:lnTo>
                    <a:lnTo>
                      <a:pt x="3160" y="1004"/>
                    </a:lnTo>
                    <a:lnTo>
                      <a:pt x="3149" y="1037"/>
                    </a:lnTo>
                    <a:lnTo>
                      <a:pt x="3138" y="1069"/>
                    </a:lnTo>
                    <a:lnTo>
                      <a:pt x="3127" y="1102"/>
                    </a:lnTo>
                    <a:lnTo>
                      <a:pt x="3116" y="1135"/>
                    </a:lnTo>
                    <a:lnTo>
                      <a:pt x="3105" y="1168"/>
                    </a:lnTo>
                    <a:lnTo>
                      <a:pt x="3094" y="1200"/>
                    </a:lnTo>
                    <a:lnTo>
                      <a:pt x="3072" y="1233"/>
                    </a:lnTo>
                    <a:lnTo>
                      <a:pt x="3050" y="1266"/>
                    </a:lnTo>
                    <a:lnTo>
                      <a:pt x="3029" y="1299"/>
                    </a:lnTo>
                    <a:lnTo>
                      <a:pt x="2996" y="1331"/>
                    </a:lnTo>
                    <a:lnTo>
                      <a:pt x="2963" y="1342"/>
                    </a:lnTo>
                    <a:lnTo>
                      <a:pt x="2930" y="1353"/>
                    </a:lnTo>
                    <a:lnTo>
                      <a:pt x="2898" y="1364"/>
                    </a:lnTo>
                    <a:lnTo>
                      <a:pt x="2865" y="1364"/>
                    </a:lnTo>
                    <a:lnTo>
                      <a:pt x="2832" y="1364"/>
                    </a:lnTo>
                    <a:lnTo>
                      <a:pt x="2799" y="1364"/>
                    </a:lnTo>
                    <a:lnTo>
                      <a:pt x="2767" y="1364"/>
                    </a:lnTo>
                    <a:lnTo>
                      <a:pt x="2734" y="1364"/>
                    </a:lnTo>
                    <a:lnTo>
                      <a:pt x="2701" y="1364"/>
                    </a:lnTo>
                    <a:lnTo>
                      <a:pt x="2669" y="1353"/>
                    </a:lnTo>
                    <a:lnTo>
                      <a:pt x="2636" y="1331"/>
                    </a:lnTo>
                    <a:lnTo>
                      <a:pt x="2603" y="1320"/>
                    </a:lnTo>
                    <a:lnTo>
                      <a:pt x="2570" y="1309"/>
                    </a:lnTo>
                    <a:lnTo>
                      <a:pt x="2527" y="1309"/>
                    </a:lnTo>
                    <a:lnTo>
                      <a:pt x="2494" y="1299"/>
                    </a:lnTo>
                    <a:lnTo>
                      <a:pt x="2461" y="1288"/>
                    </a:lnTo>
                    <a:lnTo>
                      <a:pt x="2428" y="1288"/>
                    </a:lnTo>
                    <a:lnTo>
                      <a:pt x="2396" y="1288"/>
                    </a:lnTo>
                    <a:lnTo>
                      <a:pt x="2363" y="1288"/>
                    </a:lnTo>
                    <a:lnTo>
                      <a:pt x="2330" y="1288"/>
                    </a:lnTo>
                    <a:lnTo>
                      <a:pt x="2298" y="1288"/>
                    </a:lnTo>
                    <a:lnTo>
                      <a:pt x="2265" y="1288"/>
                    </a:lnTo>
                    <a:lnTo>
                      <a:pt x="2232" y="1288"/>
                    </a:lnTo>
                    <a:lnTo>
                      <a:pt x="2199" y="1277"/>
                    </a:lnTo>
                    <a:lnTo>
                      <a:pt x="2167" y="1277"/>
                    </a:lnTo>
                    <a:lnTo>
                      <a:pt x="2134" y="1266"/>
                    </a:lnTo>
                    <a:lnTo>
                      <a:pt x="2090" y="1255"/>
                    </a:lnTo>
                    <a:lnTo>
                      <a:pt x="2058" y="1244"/>
                    </a:lnTo>
                    <a:lnTo>
                      <a:pt x="2014" y="1244"/>
                    </a:lnTo>
                    <a:lnTo>
                      <a:pt x="1981" y="1233"/>
                    </a:lnTo>
                    <a:lnTo>
                      <a:pt x="1948" y="1233"/>
                    </a:lnTo>
                    <a:lnTo>
                      <a:pt x="1916" y="1233"/>
                    </a:lnTo>
                    <a:lnTo>
                      <a:pt x="1883" y="1233"/>
                    </a:lnTo>
                    <a:lnTo>
                      <a:pt x="1796" y="1211"/>
                    </a:lnTo>
                    <a:lnTo>
                      <a:pt x="1763" y="1200"/>
                    </a:lnTo>
                    <a:lnTo>
                      <a:pt x="1730" y="1189"/>
                    </a:lnTo>
                    <a:lnTo>
                      <a:pt x="1697" y="1189"/>
                    </a:lnTo>
                    <a:lnTo>
                      <a:pt x="1665" y="1189"/>
                    </a:lnTo>
                    <a:lnTo>
                      <a:pt x="1632" y="1189"/>
                    </a:lnTo>
                    <a:lnTo>
                      <a:pt x="1599" y="1189"/>
                    </a:lnTo>
                    <a:lnTo>
                      <a:pt x="1567" y="1189"/>
                    </a:lnTo>
                    <a:lnTo>
                      <a:pt x="1534" y="1189"/>
                    </a:lnTo>
                    <a:lnTo>
                      <a:pt x="1490" y="1189"/>
                    </a:lnTo>
                    <a:lnTo>
                      <a:pt x="1457" y="1189"/>
                    </a:lnTo>
                    <a:lnTo>
                      <a:pt x="1414" y="1189"/>
                    </a:lnTo>
                    <a:lnTo>
                      <a:pt x="1381" y="1189"/>
                    </a:lnTo>
                    <a:lnTo>
                      <a:pt x="1337" y="1189"/>
                    </a:lnTo>
                    <a:lnTo>
                      <a:pt x="1305" y="1189"/>
                    </a:lnTo>
                    <a:lnTo>
                      <a:pt x="1272" y="1200"/>
                    </a:lnTo>
                    <a:lnTo>
                      <a:pt x="1239" y="1200"/>
                    </a:lnTo>
                    <a:lnTo>
                      <a:pt x="1141" y="1200"/>
                    </a:lnTo>
                    <a:lnTo>
                      <a:pt x="1054" y="1200"/>
                    </a:lnTo>
                    <a:lnTo>
                      <a:pt x="1021" y="1200"/>
                    </a:lnTo>
                    <a:lnTo>
                      <a:pt x="934" y="1200"/>
                    </a:lnTo>
                    <a:lnTo>
                      <a:pt x="901" y="1200"/>
                    </a:lnTo>
                    <a:lnTo>
                      <a:pt x="868" y="1200"/>
                    </a:lnTo>
                    <a:lnTo>
                      <a:pt x="836" y="1200"/>
                    </a:lnTo>
                    <a:lnTo>
                      <a:pt x="792" y="1200"/>
                    </a:lnTo>
                    <a:lnTo>
                      <a:pt x="759" y="1200"/>
                    </a:lnTo>
                    <a:lnTo>
                      <a:pt x="715" y="1200"/>
                    </a:lnTo>
                    <a:lnTo>
                      <a:pt x="683" y="1200"/>
                    </a:lnTo>
                    <a:lnTo>
                      <a:pt x="650" y="1200"/>
                    </a:lnTo>
                    <a:lnTo>
                      <a:pt x="606" y="1200"/>
                    </a:lnTo>
                    <a:lnTo>
                      <a:pt x="574" y="1200"/>
                    </a:lnTo>
                    <a:lnTo>
                      <a:pt x="541" y="1200"/>
                    </a:lnTo>
                    <a:lnTo>
                      <a:pt x="465" y="1200"/>
                    </a:lnTo>
                    <a:lnTo>
                      <a:pt x="421" y="1200"/>
                    </a:lnTo>
                    <a:lnTo>
                      <a:pt x="345" y="1200"/>
                    </a:lnTo>
                    <a:lnTo>
                      <a:pt x="312" y="1200"/>
                    </a:lnTo>
                    <a:lnTo>
                      <a:pt x="279" y="1200"/>
                    </a:lnTo>
                    <a:lnTo>
                      <a:pt x="246" y="1200"/>
                    </a:lnTo>
                    <a:lnTo>
                      <a:pt x="214" y="1200"/>
                    </a:lnTo>
                    <a:lnTo>
                      <a:pt x="181" y="1200"/>
                    </a:lnTo>
                    <a:lnTo>
                      <a:pt x="148" y="1200"/>
                    </a:lnTo>
                    <a:lnTo>
                      <a:pt x="115" y="1200"/>
                    </a:lnTo>
                    <a:lnTo>
                      <a:pt x="83" y="1200"/>
                    </a:lnTo>
                    <a:lnTo>
                      <a:pt x="50" y="1200"/>
                    </a:lnTo>
                    <a:lnTo>
                      <a:pt x="17" y="1200"/>
                    </a:lnTo>
                    <a:lnTo>
                      <a:pt x="48" y="1207"/>
                    </a:lnTo>
                  </a:path>
                </a:pathLst>
              </a:custGeom>
              <a:noFill/>
              <a:ln cap="rnd" w="10160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8" name="Rectangle 40"/>
            <p:cNvSpPr/>
            <p:nvPr/>
          </p:nvSpPr>
          <p:spPr>
            <a:xfrm>
              <a:off x="250920" y="304920"/>
              <a:ext cx="320004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en-US" sz="2800" spc="-1" strike="noStrike">
                  <a:solidFill>
                    <a:srgbClr val="558ed5"/>
                  </a:solidFill>
                  <a:latin typeface="Calibri"/>
                </a:rPr>
                <a:t>2. </a:t>
              </a:r>
              <a:r>
                <a:rPr b="1" lang="ru-RU" sz="2800" spc="-1" strike="noStrike">
                  <a:solidFill>
                    <a:srgbClr val="558ed5"/>
                  </a:solidFill>
                  <a:latin typeface="Calibri"/>
                </a:rPr>
                <a:t>MUCOUS TUB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41"/>
            <p:cNvSpPr/>
            <p:nvPr/>
          </p:nvSpPr>
          <p:spPr>
            <a:xfrm>
              <a:off x="174600" y="3048120"/>
              <a:ext cx="3733560" cy="457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ru-RU" sz="2400" spc="-1" strike="noStrike">
                  <a:solidFill>
                    <a:schemeClr val="accent1"/>
                  </a:solidFill>
                  <a:latin typeface="Calibri"/>
                </a:rPr>
                <a:t>MYOEPITHELIAL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42"/>
            <p:cNvSpPr/>
            <p:nvPr/>
          </p:nvSpPr>
          <p:spPr>
            <a:xfrm>
              <a:off x="2460600" y="6324480"/>
              <a:ext cx="380952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ru-RU" sz="2800" spc="-1" strike="noStrike">
                  <a:solidFill>
                    <a:schemeClr val="hlink"/>
                  </a:solidFill>
                  <a:latin typeface="Calibri"/>
                </a:rPr>
                <a:t>SEROUS DEMI-LU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Group 82"/>
            <p:cNvGrpSpPr/>
            <p:nvPr/>
          </p:nvGrpSpPr>
          <p:grpSpPr>
            <a:xfrm>
              <a:off x="457200" y="812880"/>
              <a:ext cx="4096800" cy="1733040"/>
              <a:chOff x="457200" y="812880"/>
              <a:chExt cx="4096800" cy="1733040"/>
            </a:xfrm>
          </p:grpSpPr>
          <p:sp>
            <p:nvSpPr>
              <p:cNvPr id="1182" name="Freeform 43"/>
              <p:cNvSpPr/>
              <p:nvPr/>
            </p:nvSpPr>
            <p:spPr>
              <a:xfrm>
                <a:off x="1006560" y="979560"/>
                <a:ext cx="596520" cy="55512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376" h="350">
                    <a:moveTo>
                      <a:pt x="8" y="16"/>
                    </a:moveTo>
                    <a:lnTo>
                      <a:pt x="8" y="52"/>
                    </a:lnTo>
                    <a:lnTo>
                      <a:pt x="8" y="104"/>
                    </a:lnTo>
                    <a:lnTo>
                      <a:pt x="8" y="174"/>
                    </a:lnTo>
                    <a:lnTo>
                      <a:pt x="0" y="200"/>
                    </a:lnTo>
                    <a:lnTo>
                      <a:pt x="0" y="227"/>
                    </a:lnTo>
                    <a:lnTo>
                      <a:pt x="0" y="261"/>
                    </a:lnTo>
                    <a:lnTo>
                      <a:pt x="0" y="288"/>
                    </a:lnTo>
                    <a:lnTo>
                      <a:pt x="8" y="314"/>
                    </a:lnTo>
                    <a:lnTo>
                      <a:pt x="35" y="332"/>
                    </a:lnTo>
                    <a:lnTo>
                      <a:pt x="60" y="340"/>
                    </a:lnTo>
                    <a:lnTo>
                      <a:pt x="87" y="349"/>
                    </a:lnTo>
                    <a:lnTo>
                      <a:pt x="113" y="349"/>
                    </a:lnTo>
                    <a:lnTo>
                      <a:pt x="139" y="349"/>
                    </a:lnTo>
                    <a:lnTo>
                      <a:pt x="165" y="349"/>
                    </a:lnTo>
                    <a:lnTo>
                      <a:pt x="191" y="349"/>
                    </a:lnTo>
                    <a:lnTo>
                      <a:pt x="218" y="349"/>
                    </a:lnTo>
                    <a:lnTo>
                      <a:pt x="243" y="349"/>
                    </a:lnTo>
                    <a:lnTo>
                      <a:pt x="305" y="349"/>
                    </a:lnTo>
                    <a:lnTo>
                      <a:pt x="331" y="349"/>
                    </a:lnTo>
                    <a:lnTo>
                      <a:pt x="357" y="349"/>
                    </a:lnTo>
                    <a:lnTo>
                      <a:pt x="366" y="323"/>
                    </a:lnTo>
                    <a:lnTo>
                      <a:pt x="375" y="296"/>
                    </a:lnTo>
                    <a:lnTo>
                      <a:pt x="375" y="270"/>
                    </a:lnTo>
                    <a:lnTo>
                      <a:pt x="375" y="244"/>
                    </a:lnTo>
                    <a:lnTo>
                      <a:pt x="375" y="218"/>
                    </a:lnTo>
                    <a:lnTo>
                      <a:pt x="375" y="192"/>
                    </a:lnTo>
                    <a:lnTo>
                      <a:pt x="375" y="165"/>
                    </a:lnTo>
                    <a:lnTo>
                      <a:pt x="375" y="139"/>
                    </a:lnTo>
                    <a:lnTo>
                      <a:pt x="375" y="113"/>
                    </a:lnTo>
                    <a:lnTo>
                      <a:pt x="375" y="87"/>
                    </a:lnTo>
                    <a:lnTo>
                      <a:pt x="375" y="60"/>
                    </a:lnTo>
                    <a:lnTo>
                      <a:pt x="375" y="34"/>
                    </a:lnTo>
                    <a:lnTo>
                      <a:pt x="375" y="8"/>
                    </a:lnTo>
                    <a:lnTo>
                      <a:pt x="348" y="8"/>
                    </a:lnTo>
                    <a:lnTo>
                      <a:pt x="323" y="8"/>
                    </a:lnTo>
                    <a:lnTo>
                      <a:pt x="296" y="8"/>
                    </a:lnTo>
                    <a:lnTo>
                      <a:pt x="270" y="0"/>
                    </a:lnTo>
                    <a:lnTo>
                      <a:pt x="243" y="0"/>
                    </a:lnTo>
                    <a:lnTo>
                      <a:pt x="218" y="0"/>
                    </a:lnTo>
                    <a:lnTo>
                      <a:pt x="191" y="0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60" y="0"/>
                    </a:lnTo>
                    <a:lnTo>
                      <a:pt x="8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Oval 44"/>
              <p:cNvSpPr/>
              <p:nvPr/>
            </p:nvSpPr>
            <p:spPr>
              <a:xfrm>
                <a:off x="1087560" y="1012680"/>
                <a:ext cx="47448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45"/>
              <p:cNvSpPr/>
              <p:nvPr/>
            </p:nvSpPr>
            <p:spPr>
              <a:xfrm>
                <a:off x="1554120" y="979560"/>
                <a:ext cx="596520" cy="55512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376" h="350">
                    <a:moveTo>
                      <a:pt x="8" y="16"/>
                    </a:moveTo>
                    <a:lnTo>
                      <a:pt x="8" y="52"/>
                    </a:lnTo>
                    <a:lnTo>
                      <a:pt x="8" y="104"/>
                    </a:lnTo>
                    <a:lnTo>
                      <a:pt x="8" y="174"/>
                    </a:lnTo>
                    <a:lnTo>
                      <a:pt x="0" y="200"/>
                    </a:lnTo>
                    <a:lnTo>
                      <a:pt x="0" y="227"/>
                    </a:lnTo>
                    <a:lnTo>
                      <a:pt x="0" y="261"/>
                    </a:lnTo>
                    <a:lnTo>
                      <a:pt x="0" y="288"/>
                    </a:lnTo>
                    <a:lnTo>
                      <a:pt x="8" y="314"/>
                    </a:lnTo>
                    <a:lnTo>
                      <a:pt x="35" y="332"/>
                    </a:lnTo>
                    <a:lnTo>
                      <a:pt x="60" y="340"/>
                    </a:lnTo>
                    <a:lnTo>
                      <a:pt x="87" y="349"/>
                    </a:lnTo>
                    <a:lnTo>
                      <a:pt x="113" y="349"/>
                    </a:lnTo>
                    <a:lnTo>
                      <a:pt x="139" y="349"/>
                    </a:lnTo>
                    <a:lnTo>
                      <a:pt x="165" y="349"/>
                    </a:lnTo>
                    <a:lnTo>
                      <a:pt x="191" y="349"/>
                    </a:lnTo>
                    <a:lnTo>
                      <a:pt x="218" y="349"/>
                    </a:lnTo>
                    <a:lnTo>
                      <a:pt x="243" y="349"/>
                    </a:lnTo>
                    <a:lnTo>
                      <a:pt x="305" y="349"/>
                    </a:lnTo>
                    <a:lnTo>
                      <a:pt x="331" y="349"/>
                    </a:lnTo>
                    <a:lnTo>
                      <a:pt x="357" y="349"/>
                    </a:lnTo>
                    <a:lnTo>
                      <a:pt x="366" y="323"/>
                    </a:lnTo>
                    <a:lnTo>
                      <a:pt x="375" y="296"/>
                    </a:lnTo>
                    <a:lnTo>
                      <a:pt x="375" y="270"/>
                    </a:lnTo>
                    <a:lnTo>
                      <a:pt x="375" y="244"/>
                    </a:lnTo>
                    <a:lnTo>
                      <a:pt x="375" y="218"/>
                    </a:lnTo>
                    <a:lnTo>
                      <a:pt x="375" y="192"/>
                    </a:lnTo>
                    <a:lnTo>
                      <a:pt x="375" y="165"/>
                    </a:lnTo>
                    <a:lnTo>
                      <a:pt x="375" y="139"/>
                    </a:lnTo>
                    <a:lnTo>
                      <a:pt x="375" y="113"/>
                    </a:lnTo>
                    <a:lnTo>
                      <a:pt x="375" y="87"/>
                    </a:lnTo>
                    <a:lnTo>
                      <a:pt x="375" y="60"/>
                    </a:lnTo>
                    <a:lnTo>
                      <a:pt x="375" y="34"/>
                    </a:lnTo>
                    <a:lnTo>
                      <a:pt x="375" y="8"/>
                    </a:lnTo>
                    <a:lnTo>
                      <a:pt x="348" y="8"/>
                    </a:lnTo>
                    <a:lnTo>
                      <a:pt x="323" y="8"/>
                    </a:lnTo>
                    <a:lnTo>
                      <a:pt x="296" y="8"/>
                    </a:lnTo>
                    <a:lnTo>
                      <a:pt x="270" y="0"/>
                    </a:lnTo>
                    <a:lnTo>
                      <a:pt x="243" y="0"/>
                    </a:lnTo>
                    <a:lnTo>
                      <a:pt x="218" y="0"/>
                    </a:lnTo>
                    <a:lnTo>
                      <a:pt x="191" y="0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60" y="0"/>
                    </a:lnTo>
                    <a:lnTo>
                      <a:pt x="8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Oval 46"/>
              <p:cNvSpPr/>
              <p:nvPr/>
            </p:nvSpPr>
            <p:spPr>
              <a:xfrm>
                <a:off x="1635120" y="1012680"/>
                <a:ext cx="47592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Freeform 47"/>
              <p:cNvSpPr/>
              <p:nvPr/>
            </p:nvSpPr>
            <p:spPr>
              <a:xfrm>
                <a:off x="2103480" y="979560"/>
                <a:ext cx="596520" cy="55512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376" h="350">
                    <a:moveTo>
                      <a:pt x="8" y="16"/>
                    </a:moveTo>
                    <a:lnTo>
                      <a:pt x="8" y="52"/>
                    </a:lnTo>
                    <a:lnTo>
                      <a:pt x="8" y="104"/>
                    </a:lnTo>
                    <a:lnTo>
                      <a:pt x="8" y="174"/>
                    </a:lnTo>
                    <a:lnTo>
                      <a:pt x="0" y="200"/>
                    </a:lnTo>
                    <a:lnTo>
                      <a:pt x="0" y="227"/>
                    </a:lnTo>
                    <a:lnTo>
                      <a:pt x="0" y="261"/>
                    </a:lnTo>
                    <a:lnTo>
                      <a:pt x="0" y="288"/>
                    </a:lnTo>
                    <a:lnTo>
                      <a:pt x="8" y="314"/>
                    </a:lnTo>
                    <a:lnTo>
                      <a:pt x="35" y="332"/>
                    </a:lnTo>
                    <a:lnTo>
                      <a:pt x="60" y="340"/>
                    </a:lnTo>
                    <a:lnTo>
                      <a:pt x="87" y="349"/>
                    </a:lnTo>
                    <a:lnTo>
                      <a:pt x="113" y="349"/>
                    </a:lnTo>
                    <a:lnTo>
                      <a:pt x="139" y="349"/>
                    </a:lnTo>
                    <a:lnTo>
                      <a:pt x="165" y="349"/>
                    </a:lnTo>
                    <a:lnTo>
                      <a:pt x="191" y="349"/>
                    </a:lnTo>
                    <a:lnTo>
                      <a:pt x="218" y="349"/>
                    </a:lnTo>
                    <a:lnTo>
                      <a:pt x="243" y="349"/>
                    </a:lnTo>
                    <a:lnTo>
                      <a:pt x="305" y="349"/>
                    </a:lnTo>
                    <a:lnTo>
                      <a:pt x="331" y="349"/>
                    </a:lnTo>
                    <a:lnTo>
                      <a:pt x="357" y="349"/>
                    </a:lnTo>
                    <a:lnTo>
                      <a:pt x="366" y="323"/>
                    </a:lnTo>
                    <a:lnTo>
                      <a:pt x="375" y="296"/>
                    </a:lnTo>
                    <a:lnTo>
                      <a:pt x="375" y="270"/>
                    </a:lnTo>
                    <a:lnTo>
                      <a:pt x="375" y="244"/>
                    </a:lnTo>
                    <a:lnTo>
                      <a:pt x="375" y="218"/>
                    </a:lnTo>
                    <a:lnTo>
                      <a:pt x="375" y="192"/>
                    </a:lnTo>
                    <a:lnTo>
                      <a:pt x="375" y="165"/>
                    </a:lnTo>
                    <a:lnTo>
                      <a:pt x="375" y="139"/>
                    </a:lnTo>
                    <a:lnTo>
                      <a:pt x="375" y="113"/>
                    </a:lnTo>
                    <a:lnTo>
                      <a:pt x="375" y="87"/>
                    </a:lnTo>
                    <a:lnTo>
                      <a:pt x="375" y="60"/>
                    </a:lnTo>
                    <a:lnTo>
                      <a:pt x="375" y="34"/>
                    </a:lnTo>
                    <a:lnTo>
                      <a:pt x="375" y="8"/>
                    </a:lnTo>
                    <a:lnTo>
                      <a:pt x="348" y="8"/>
                    </a:lnTo>
                    <a:lnTo>
                      <a:pt x="323" y="8"/>
                    </a:lnTo>
                    <a:lnTo>
                      <a:pt x="296" y="8"/>
                    </a:lnTo>
                    <a:lnTo>
                      <a:pt x="270" y="0"/>
                    </a:lnTo>
                    <a:lnTo>
                      <a:pt x="243" y="0"/>
                    </a:lnTo>
                    <a:lnTo>
                      <a:pt x="218" y="0"/>
                    </a:lnTo>
                    <a:lnTo>
                      <a:pt x="191" y="0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60" y="0"/>
                    </a:lnTo>
                    <a:lnTo>
                      <a:pt x="8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Oval 48"/>
              <p:cNvSpPr/>
              <p:nvPr/>
            </p:nvSpPr>
            <p:spPr>
              <a:xfrm>
                <a:off x="2184480" y="1012680"/>
                <a:ext cx="47448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Freeform 49"/>
              <p:cNvSpPr/>
              <p:nvPr/>
            </p:nvSpPr>
            <p:spPr>
              <a:xfrm>
                <a:off x="2651040" y="979560"/>
                <a:ext cx="597960" cy="55512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377" h="350">
                    <a:moveTo>
                      <a:pt x="8" y="16"/>
                    </a:moveTo>
                    <a:lnTo>
                      <a:pt x="8" y="52"/>
                    </a:lnTo>
                    <a:lnTo>
                      <a:pt x="8" y="104"/>
                    </a:lnTo>
                    <a:lnTo>
                      <a:pt x="8" y="174"/>
                    </a:lnTo>
                    <a:lnTo>
                      <a:pt x="0" y="200"/>
                    </a:lnTo>
                    <a:lnTo>
                      <a:pt x="0" y="227"/>
                    </a:lnTo>
                    <a:lnTo>
                      <a:pt x="0" y="261"/>
                    </a:lnTo>
                    <a:lnTo>
                      <a:pt x="0" y="288"/>
                    </a:lnTo>
                    <a:lnTo>
                      <a:pt x="8" y="314"/>
                    </a:lnTo>
                    <a:lnTo>
                      <a:pt x="35" y="332"/>
                    </a:lnTo>
                    <a:lnTo>
                      <a:pt x="60" y="340"/>
                    </a:lnTo>
                    <a:lnTo>
                      <a:pt x="87" y="349"/>
                    </a:lnTo>
                    <a:lnTo>
                      <a:pt x="113" y="349"/>
                    </a:lnTo>
                    <a:lnTo>
                      <a:pt x="139" y="349"/>
                    </a:lnTo>
                    <a:lnTo>
                      <a:pt x="165" y="349"/>
                    </a:lnTo>
                    <a:lnTo>
                      <a:pt x="192" y="349"/>
                    </a:lnTo>
                    <a:lnTo>
                      <a:pt x="218" y="349"/>
                    </a:lnTo>
                    <a:lnTo>
                      <a:pt x="244" y="349"/>
                    </a:lnTo>
                    <a:lnTo>
                      <a:pt x="306" y="349"/>
                    </a:lnTo>
                    <a:lnTo>
                      <a:pt x="332" y="349"/>
                    </a:lnTo>
                    <a:lnTo>
                      <a:pt x="358" y="349"/>
                    </a:lnTo>
                    <a:lnTo>
                      <a:pt x="367" y="323"/>
                    </a:lnTo>
                    <a:lnTo>
                      <a:pt x="376" y="296"/>
                    </a:lnTo>
                    <a:lnTo>
                      <a:pt x="376" y="270"/>
                    </a:lnTo>
                    <a:lnTo>
                      <a:pt x="376" y="244"/>
                    </a:lnTo>
                    <a:lnTo>
                      <a:pt x="376" y="218"/>
                    </a:lnTo>
                    <a:lnTo>
                      <a:pt x="376" y="192"/>
                    </a:lnTo>
                    <a:lnTo>
                      <a:pt x="376" y="165"/>
                    </a:lnTo>
                    <a:lnTo>
                      <a:pt x="376" y="139"/>
                    </a:lnTo>
                    <a:lnTo>
                      <a:pt x="376" y="113"/>
                    </a:lnTo>
                    <a:lnTo>
                      <a:pt x="376" y="87"/>
                    </a:lnTo>
                    <a:lnTo>
                      <a:pt x="376" y="60"/>
                    </a:lnTo>
                    <a:lnTo>
                      <a:pt x="376" y="34"/>
                    </a:lnTo>
                    <a:lnTo>
                      <a:pt x="376" y="8"/>
                    </a:lnTo>
                    <a:lnTo>
                      <a:pt x="349" y="8"/>
                    </a:lnTo>
                    <a:lnTo>
                      <a:pt x="323" y="8"/>
                    </a:lnTo>
                    <a:lnTo>
                      <a:pt x="297" y="8"/>
                    </a:lnTo>
                    <a:lnTo>
                      <a:pt x="270" y="0"/>
                    </a:lnTo>
                    <a:lnTo>
                      <a:pt x="244" y="0"/>
                    </a:lnTo>
                    <a:lnTo>
                      <a:pt x="218" y="0"/>
                    </a:lnTo>
                    <a:lnTo>
                      <a:pt x="192" y="0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60" y="0"/>
                    </a:lnTo>
                    <a:lnTo>
                      <a:pt x="8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Oval 50"/>
              <p:cNvSpPr/>
              <p:nvPr/>
            </p:nvSpPr>
            <p:spPr>
              <a:xfrm>
                <a:off x="2733840" y="1012680"/>
                <a:ext cx="47448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51"/>
              <p:cNvSpPr/>
              <p:nvPr/>
            </p:nvSpPr>
            <p:spPr>
              <a:xfrm>
                <a:off x="457200" y="979560"/>
                <a:ext cx="596520" cy="55512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376" h="350">
                    <a:moveTo>
                      <a:pt x="8" y="16"/>
                    </a:moveTo>
                    <a:lnTo>
                      <a:pt x="8" y="52"/>
                    </a:lnTo>
                    <a:lnTo>
                      <a:pt x="8" y="104"/>
                    </a:lnTo>
                    <a:lnTo>
                      <a:pt x="8" y="174"/>
                    </a:lnTo>
                    <a:lnTo>
                      <a:pt x="0" y="200"/>
                    </a:lnTo>
                    <a:lnTo>
                      <a:pt x="0" y="227"/>
                    </a:lnTo>
                    <a:lnTo>
                      <a:pt x="0" y="261"/>
                    </a:lnTo>
                    <a:lnTo>
                      <a:pt x="0" y="288"/>
                    </a:lnTo>
                    <a:lnTo>
                      <a:pt x="8" y="314"/>
                    </a:lnTo>
                    <a:lnTo>
                      <a:pt x="35" y="332"/>
                    </a:lnTo>
                    <a:lnTo>
                      <a:pt x="60" y="340"/>
                    </a:lnTo>
                    <a:lnTo>
                      <a:pt x="87" y="349"/>
                    </a:lnTo>
                    <a:lnTo>
                      <a:pt x="113" y="349"/>
                    </a:lnTo>
                    <a:lnTo>
                      <a:pt x="139" y="349"/>
                    </a:lnTo>
                    <a:lnTo>
                      <a:pt x="165" y="349"/>
                    </a:lnTo>
                    <a:lnTo>
                      <a:pt x="191" y="349"/>
                    </a:lnTo>
                    <a:lnTo>
                      <a:pt x="218" y="349"/>
                    </a:lnTo>
                    <a:lnTo>
                      <a:pt x="243" y="349"/>
                    </a:lnTo>
                    <a:lnTo>
                      <a:pt x="305" y="349"/>
                    </a:lnTo>
                    <a:lnTo>
                      <a:pt x="331" y="349"/>
                    </a:lnTo>
                    <a:lnTo>
                      <a:pt x="357" y="349"/>
                    </a:lnTo>
                    <a:lnTo>
                      <a:pt x="366" y="323"/>
                    </a:lnTo>
                    <a:lnTo>
                      <a:pt x="375" y="296"/>
                    </a:lnTo>
                    <a:lnTo>
                      <a:pt x="375" y="270"/>
                    </a:lnTo>
                    <a:lnTo>
                      <a:pt x="375" y="244"/>
                    </a:lnTo>
                    <a:lnTo>
                      <a:pt x="375" y="218"/>
                    </a:lnTo>
                    <a:lnTo>
                      <a:pt x="375" y="192"/>
                    </a:lnTo>
                    <a:lnTo>
                      <a:pt x="375" y="165"/>
                    </a:lnTo>
                    <a:lnTo>
                      <a:pt x="375" y="139"/>
                    </a:lnTo>
                    <a:lnTo>
                      <a:pt x="375" y="113"/>
                    </a:lnTo>
                    <a:lnTo>
                      <a:pt x="375" y="87"/>
                    </a:lnTo>
                    <a:lnTo>
                      <a:pt x="375" y="60"/>
                    </a:lnTo>
                    <a:lnTo>
                      <a:pt x="375" y="34"/>
                    </a:lnTo>
                    <a:lnTo>
                      <a:pt x="375" y="8"/>
                    </a:lnTo>
                    <a:lnTo>
                      <a:pt x="348" y="8"/>
                    </a:lnTo>
                    <a:lnTo>
                      <a:pt x="323" y="8"/>
                    </a:lnTo>
                    <a:lnTo>
                      <a:pt x="296" y="8"/>
                    </a:lnTo>
                    <a:lnTo>
                      <a:pt x="270" y="0"/>
                    </a:lnTo>
                    <a:lnTo>
                      <a:pt x="243" y="0"/>
                    </a:lnTo>
                    <a:lnTo>
                      <a:pt x="218" y="0"/>
                    </a:lnTo>
                    <a:lnTo>
                      <a:pt x="191" y="0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60" y="0"/>
                    </a:lnTo>
                    <a:lnTo>
                      <a:pt x="8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Oval 52"/>
              <p:cNvSpPr/>
              <p:nvPr/>
            </p:nvSpPr>
            <p:spPr>
              <a:xfrm>
                <a:off x="538200" y="1012680"/>
                <a:ext cx="47448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53"/>
              <p:cNvSpPr/>
              <p:nvPr/>
            </p:nvSpPr>
            <p:spPr>
              <a:xfrm>
                <a:off x="3200400" y="979560"/>
                <a:ext cx="596520" cy="55512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555120"/>
                  <a:gd name="textAreaBottom" fmla="*/ 555480 h 555120"/>
                </a:gdLst>
                <a:ahLst/>
                <a:rect l="textAreaLeft" t="textAreaTop" r="textAreaRight" b="textAreaBottom"/>
                <a:pathLst>
                  <a:path w="376" h="350">
                    <a:moveTo>
                      <a:pt x="8" y="16"/>
                    </a:moveTo>
                    <a:lnTo>
                      <a:pt x="8" y="52"/>
                    </a:lnTo>
                    <a:lnTo>
                      <a:pt x="8" y="104"/>
                    </a:lnTo>
                    <a:lnTo>
                      <a:pt x="8" y="174"/>
                    </a:lnTo>
                    <a:lnTo>
                      <a:pt x="0" y="200"/>
                    </a:lnTo>
                    <a:lnTo>
                      <a:pt x="0" y="227"/>
                    </a:lnTo>
                    <a:lnTo>
                      <a:pt x="0" y="261"/>
                    </a:lnTo>
                    <a:lnTo>
                      <a:pt x="0" y="288"/>
                    </a:lnTo>
                    <a:lnTo>
                      <a:pt x="8" y="314"/>
                    </a:lnTo>
                    <a:lnTo>
                      <a:pt x="35" y="332"/>
                    </a:lnTo>
                    <a:lnTo>
                      <a:pt x="60" y="340"/>
                    </a:lnTo>
                    <a:lnTo>
                      <a:pt x="87" y="349"/>
                    </a:lnTo>
                    <a:lnTo>
                      <a:pt x="113" y="349"/>
                    </a:lnTo>
                    <a:lnTo>
                      <a:pt x="139" y="349"/>
                    </a:lnTo>
                    <a:lnTo>
                      <a:pt x="165" y="349"/>
                    </a:lnTo>
                    <a:lnTo>
                      <a:pt x="191" y="349"/>
                    </a:lnTo>
                    <a:lnTo>
                      <a:pt x="218" y="349"/>
                    </a:lnTo>
                    <a:lnTo>
                      <a:pt x="243" y="349"/>
                    </a:lnTo>
                    <a:lnTo>
                      <a:pt x="305" y="349"/>
                    </a:lnTo>
                    <a:lnTo>
                      <a:pt x="331" y="349"/>
                    </a:lnTo>
                    <a:lnTo>
                      <a:pt x="357" y="349"/>
                    </a:lnTo>
                    <a:lnTo>
                      <a:pt x="366" y="323"/>
                    </a:lnTo>
                    <a:lnTo>
                      <a:pt x="375" y="296"/>
                    </a:lnTo>
                    <a:lnTo>
                      <a:pt x="375" y="270"/>
                    </a:lnTo>
                    <a:lnTo>
                      <a:pt x="375" y="244"/>
                    </a:lnTo>
                    <a:lnTo>
                      <a:pt x="375" y="218"/>
                    </a:lnTo>
                    <a:lnTo>
                      <a:pt x="375" y="192"/>
                    </a:lnTo>
                    <a:lnTo>
                      <a:pt x="375" y="165"/>
                    </a:lnTo>
                    <a:lnTo>
                      <a:pt x="375" y="139"/>
                    </a:lnTo>
                    <a:lnTo>
                      <a:pt x="375" y="113"/>
                    </a:lnTo>
                    <a:lnTo>
                      <a:pt x="375" y="87"/>
                    </a:lnTo>
                    <a:lnTo>
                      <a:pt x="375" y="60"/>
                    </a:lnTo>
                    <a:lnTo>
                      <a:pt x="375" y="34"/>
                    </a:lnTo>
                    <a:lnTo>
                      <a:pt x="375" y="8"/>
                    </a:lnTo>
                    <a:lnTo>
                      <a:pt x="348" y="8"/>
                    </a:lnTo>
                    <a:lnTo>
                      <a:pt x="323" y="8"/>
                    </a:lnTo>
                    <a:lnTo>
                      <a:pt x="296" y="8"/>
                    </a:lnTo>
                    <a:lnTo>
                      <a:pt x="270" y="0"/>
                    </a:lnTo>
                    <a:lnTo>
                      <a:pt x="243" y="0"/>
                    </a:lnTo>
                    <a:lnTo>
                      <a:pt x="218" y="0"/>
                    </a:lnTo>
                    <a:lnTo>
                      <a:pt x="191" y="0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60" y="0"/>
                    </a:lnTo>
                    <a:lnTo>
                      <a:pt x="8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Oval 54"/>
              <p:cNvSpPr/>
              <p:nvPr/>
            </p:nvSpPr>
            <p:spPr>
              <a:xfrm>
                <a:off x="3281400" y="1012680"/>
                <a:ext cx="47448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94" name="Group 57"/>
              <p:cNvGrpSpPr/>
              <p:nvPr/>
            </p:nvGrpSpPr>
            <p:grpSpPr>
              <a:xfrm>
                <a:off x="1066680" y="1709640"/>
                <a:ext cx="596520" cy="555120"/>
                <a:chOff x="1066680" y="1709640"/>
                <a:chExt cx="596520" cy="555120"/>
              </a:xfrm>
            </p:grpSpPr>
            <p:sp>
              <p:nvSpPr>
                <p:cNvPr id="1195" name="Freeform 55"/>
                <p:cNvSpPr/>
                <p:nvPr/>
              </p:nvSpPr>
              <p:spPr>
                <a:xfrm>
                  <a:off x="1066680" y="1709640"/>
                  <a:ext cx="596520" cy="555120"/>
                </a:xfrm>
                <a:custGeom>
                  <a:avLst/>
                  <a:gdLst>
                    <a:gd name="textAreaLeft" fmla="*/ 0 w 596520"/>
                    <a:gd name="textAreaRight" fmla="*/ 596880 w 596520"/>
                    <a:gd name="textAreaTop" fmla="*/ 0 h 555120"/>
                    <a:gd name="textAreaBottom" fmla="*/ 555480 h 555120"/>
                  </a:gdLst>
                  <a:ahLst/>
                  <a:rect l="textAreaLeft" t="textAreaTop" r="textAreaRight" b="textAreaBottom"/>
                  <a:pathLst>
                    <a:path w="376" h="350">
                      <a:moveTo>
                        <a:pt x="8" y="332"/>
                      </a:moveTo>
                      <a:lnTo>
                        <a:pt x="8" y="296"/>
                      </a:lnTo>
                      <a:lnTo>
                        <a:pt x="8" y="244"/>
                      </a:lnTo>
                      <a:lnTo>
                        <a:pt x="8" y="174"/>
                      </a:lnTo>
                      <a:lnTo>
                        <a:pt x="0" y="148"/>
                      </a:lnTo>
                      <a:lnTo>
                        <a:pt x="0" y="121"/>
                      </a:lnTo>
                      <a:lnTo>
                        <a:pt x="0" y="87"/>
                      </a:lnTo>
                      <a:lnTo>
                        <a:pt x="0" y="60"/>
                      </a:lnTo>
                      <a:lnTo>
                        <a:pt x="8" y="34"/>
                      </a:lnTo>
                      <a:lnTo>
                        <a:pt x="35" y="16"/>
                      </a:lnTo>
                      <a:lnTo>
                        <a:pt x="60" y="8"/>
                      </a:lnTo>
                      <a:lnTo>
                        <a:pt x="87" y="0"/>
                      </a:lnTo>
                      <a:lnTo>
                        <a:pt x="113" y="0"/>
                      </a:lnTo>
                      <a:lnTo>
                        <a:pt x="139" y="0"/>
                      </a:lnTo>
                      <a:lnTo>
                        <a:pt x="165" y="0"/>
                      </a:lnTo>
                      <a:lnTo>
                        <a:pt x="191" y="0"/>
                      </a:lnTo>
                      <a:lnTo>
                        <a:pt x="218" y="0"/>
                      </a:lnTo>
                      <a:lnTo>
                        <a:pt x="243" y="0"/>
                      </a:lnTo>
                      <a:lnTo>
                        <a:pt x="305" y="0"/>
                      </a:lnTo>
                      <a:lnTo>
                        <a:pt x="331" y="0"/>
                      </a:lnTo>
                      <a:lnTo>
                        <a:pt x="357" y="0"/>
                      </a:lnTo>
                      <a:lnTo>
                        <a:pt x="366" y="25"/>
                      </a:lnTo>
                      <a:lnTo>
                        <a:pt x="375" y="52"/>
                      </a:lnTo>
                      <a:lnTo>
                        <a:pt x="375" y="78"/>
                      </a:lnTo>
                      <a:lnTo>
                        <a:pt x="375" y="104"/>
                      </a:lnTo>
                      <a:lnTo>
                        <a:pt x="375" y="130"/>
                      </a:lnTo>
                      <a:lnTo>
                        <a:pt x="375" y="156"/>
                      </a:lnTo>
                      <a:lnTo>
                        <a:pt x="375" y="183"/>
                      </a:lnTo>
                      <a:lnTo>
                        <a:pt x="375" y="209"/>
                      </a:lnTo>
                      <a:lnTo>
                        <a:pt x="375" y="235"/>
                      </a:lnTo>
                      <a:lnTo>
                        <a:pt x="375" y="261"/>
                      </a:lnTo>
                      <a:lnTo>
                        <a:pt x="375" y="288"/>
                      </a:lnTo>
                      <a:lnTo>
                        <a:pt x="375" y="314"/>
                      </a:lnTo>
                      <a:lnTo>
                        <a:pt x="375" y="340"/>
                      </a:lnTo>
                      <a:lnTo>
                        <a:pt x="348" y="340"/>
                      </a:lnTo>
                      <a:lnTo>
                        <a:pt x="323" y="340"/>
                      </a:lnTo>
                      <a:lnTo>
                        <a:pt x="296" y="340"/>
                      </a:lnTo>
                      <a:lnTo>
                        <a:pt x="270" y="349"/>
                      </a:lnTo>
                      <a:lnTo>
                        <a:pt x="243" y="349"/>
                      </a:lnTo>
                      <a:lnTo>
                        <a:pt x="218" y="349"/>
                      </a:lnTo>
                      <a:lnTo>
                        <a:pt x="191" y="349"/>
                      </a:lnTo>
                      <a:lnTo>
                        <a:pt x="165" y="349"/>
                      </a:lnTo>
                      <a:lnTo>
                        <a:pt x="139" y="349"/>
                      </a:lnTo>
                      <a:lnTo>
                        <a:pt x="113" y="349"/>
                      </a:lnTo>
                      <a:lnTo>
                        <a:pt x="87" y="349"/>
                      </a:lnTo>
                      <a:lnTo>
                        <a:pt x="60" y="349"/>
                      </a:lnTo>
                      <a:lnTo>
                        <a:pt x="8" y="332"/>
                      </a:lnTo>
                      <a:lnTo>
                        <a:pt x="8" y="332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6" name="Oval 56"/>
                <p:cNvSpPr/>
                <p:nvPr/>
              </p:nvSpPr>
              <p:spPr>
                <a:xfrm>
                  <a:off x="1147680" y="2124000"/>
                  <a:ext cx="47448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97" name="Group 60"/>
              <p:cNvGrpSpPr/>
              <p:nvPr/>
            </p:nvGrpSpPr>
            <p:grpSpPr>
              <a:xfrm>
                <a:off x="1616040" y="1709640"/>
                <a:ext cx="596520" cy="555120"/>
                <a:chOff x="1616040" y="1709640"/>
                <a:chExt cx="596520" cy="555120"/>
              </a:xfrm>
            </p:grpSpPr>
            <p:sp>
              <p:nvSpPr>
                <p:cNvPr id="1198" name="Freeform 58"/>
                <p:cNvSpPr/>
                <p:nvPr/>
              </p:nvSpPr>
              <p:spPr>
                <a:xfrm>
                  <a:off x="1616040" y="1709640"/>
                  <a:ext cx="596520" cy="555120"/>
                </a:xfrm>
                <a:custGeom>
                  <a:avLst/>
                  <a:gdLst>
                    <a:gd name="textAreaLeft" fmla="*/ 0 w 596520"/>
                    <a:gd name="textAreaRight" fmla="*/ 596880 w 596520"/>
                    <a:gd name="textAreaTop" fmla="*/ 0 h 555120"/>
                    <a:gd name="textAreaBottom" fmla="*/ 555480 h 555120"/>
                  </a:gdLst>
                  <a:ahLst/>
                  <a:rect l="textAreaLeft" t="textAreaTop" r="textAreaRight" b="textAreaBottom"/>
                  <a:pathLst>
                    <a:path w="376" h="350">
                      <a:moveTo>
                        <a:pt x="8" y="332"/>
                      </a:moveTo>
                      <a:lnTo>
                        <a:pt x="8" y="296"/>
                      </a:lnTo>
                      <a:lnTo>
                        <a:pt x="8" y="244"/>
                      </a:lnTo>
                      <a:lnTo>
                        <a:pt x="8" y="174"/>
                      </a:lnTo>
                      <a:lnTo>
                        <a:pt x="0" y="148"/>
                      </a:lnTo>
                      <a:lnTo>
                        <a:pt x="0" y="121"/>
                      </a:lnTo>
                      <a:lnTo>
                        <a:pt x="0" y="87"/>
                      </a:lnTo>
                      <a:lnTo>
                        <a:pt x="0" y="60"/>
                      </a:lnTo>
                      <a:lnTo>
                        <a:pt x="8" y="34"/>
                      </a:lnTo>
                      <a:lnTo>
                        <a:pt x="35" y="16"/>
                      </a:lnTo>
                      <a:lnTo>
                        <a:pt x="60" y="8"/>
                      </a:lnTo>
                      <a:lnTo>
                        <a:pt x="87" y="0"/>
                      </a:lnTo>
                      <a:lnTo>
                        <a:pt x="113" y="0"/>
                      </a:lnTo>
                      <a:lnTo>
                        <a:pt x="139" y="0"/>
                      </a:lnTo>
                      <a:lnTo>
                        <a:pt x="165" y="0"/>
                      </a:lnTo>
                      <a:lnTo>
                        <a:pt x="191" y="0"/>
                      </a:lnTo>
                      <a:lnTo>
                        <a:pt x="218" y="0"/>
                      </a:lnTo>
                      <a:lnTo>
                        <a:pt x="243" y="0"/>
                      </a:lnTo>
                      <a:lnTo>
                        <a:pt x="305" y="0"/>
                      </a:lnTo>
                      <a:lnTo>
                        <a:pt x="331" y="0"/>
                      </a:lnTo>
                      <a:lnTo>
                        <a:pt x="357" y="0"/>
                      </a:lnTo>
                      <a:lnTo>
                        <a:pt x="366" y="25"/>
                      </a:lnTo>
                      <a:lnTo>
                        <a:pt x="375" y="52"/>
                      </a:lnTo>
                      <a:lnTo>
                        <a:pt x="375" y="78"/>
                      </a:lnTo>
                      <a:lnTo>
                        <a:pt x="375" y="104"/>
                      </a:lnTo>
                      <a:lnTo>
                        <a:pt x="375" y="130"/>
                      </a:lnTo>
                      <a:lnTo>
                        <a:pt x="375" y="156"/>
                      </a:lnTo>
                      <a:lnTo>
                        <a:pt x="375" y="183"/>
                      </a:lnTo>
                      <a:lnTo>
                        <a:pt x="375" y="209"/>
                      </a:lnTo>
                      <a:lnTo>
                        <a:pt x="375" y="235"/>
                      </a:lnTo>
                      <a:lnTo>
                        <a:pt x="375" y="261"/>
                      </a:lnTo>
                      <a:lnTo>
                        <a:pt x="375" y="288"/>
                      </a:lnTo>
                      <a:lnTo>
                        <a:pt x="375" y="314"/>
                      </a:lnTo>
                      <a:lnTo>
                        <a:pt x="375" y="340"/>
                      </a:lnTo>
                      <a:lnTo>
                        <a:pt x="348" y="340"/>
                      </a:lnTo>
                      <a:lnTo>
                        <a:pt x="323" y="340"/>
                      </a:lnTo>
                      <a:lnTo>
                        <a:pt x="296" y="340"/>
                      </a:lnTo>
                      <a:lnTo>
                        <a:pt x="270" y="349"/>
                      </a:lnTo>
                      <a:lnTo>
                        <a:pt x="243" y="349"/>
                      </a:lnTo>
                      <a:lnTo>
                        <a:pt x="218" y="349"/>
                      </a:lnTo>
                      <a:lnTo>
                        <a:pt x="191" y="349"/>
                      </a:lnTo>
                      <a:lnTo>
                        <a:pt x="165" y="349"/>
                      </a:lnTo>
                      <a:lnTo>
                        <a:pt x="139" y="349"/>
                      </a:lnTo>
                      <a:lnTo>
                        <a:pt x="113" y="349"/>
                      </a:lnTo>
                      <a:lnTo>
                        <a:pt x="87" y="349"/>
                      </a:lnTo>
                      <a:lnTo>
                        <a:pt x="60" y="349"/>
                      </a:lnTo>
                      <a:lnTo>
                        <a:pt x="8" y="332"/>
                      </a:lnTo>
                      <a:lnTo>
                        <a:pt x="8" y="332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9" name="Oval 59"/>
                <p:cNvSpPr/>
                <p:nvPr/>
              </p:nvSpPr>
              <p:spPr>
                <a:xfrm>
                  <a:off x="1697040" y="2124000"/>
                  <a:ext cx="47448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00" name="Group 63"/>
              <p:cNvGrpSpPr/>
              <p:nvPr/>
            </p:nvGrpSpPr>
            <p:grpSpPr>
              <a:xfrm>
                <a:off x="2163600" y="1709640"/>
                <a:ext cx="596520" cy="555120"/>
                <a:chOff x="2163600" y="1709640"/>
                <a:chExt cx="596520" cy="555120"/>
              </a:xfrm>
            </p:grpSpPr>
            <p:sp>
              <p:nvSpPr>
                <p:cNvPr id="1201" name="Freeform 61"/>
                <p:cNvSpPr/>
                <p:nvPr/>
              </p:nvSpPr>
              <p:spPr>
                <a:xfrm>
                  <a:off x="2163600" y="1709640"/>
                  <a:ext cx="596520" cy="555120"/>
                </a:xfrm>
                <a:custGeom>
                  <a:avLst/>
                  <a:gdLst>
                    <a:gd name="textAreaLeft" fmla="*/ 0 w 596520"/>
                    <a:gd name="textAreaRight" fmla="*/ 596880 w 596520"/>
                    <a:gd name="textAreaTop" fmla="*/ 0 h 555120"/>
                    <a:gd name="textAreaBottom" fmla="*/ 555480 h 555120"/>
                  </a:gdLst>
                  <a:ahLst/>
                  <a:rect l="textAreaLeft" t="textAreaTop" r="textAreaRight" b="textAreaBottom"/>
                  <a:pathLst>
                    <a:path w="376" h="350">
                      <a:moveTo>
                        <a:pt x="8" y="332"/>
                      </a:moveTo>
                      <a:lnTo>
                        <a:pt x="8" y="296"/>
                      </a:lnTo>
                      <a:lnTo>
                        <a:pt x="8" y="244"/>
                      </a:lnTo>
                      <a:lnTo>
                        <a:pt x="8" y="174"/>
                      </a:lnTo>
                      <a:lnTo>
                        <a:pt x="0" y="148"/>
                      </a:lnTo>
                      <a:lnTo>
                        <a:pt x="0" y="121"/>
                      </a:lnTo>
                      <a:lnTo>
                        <a:pt x="0" y="87"/>
                      </a:lnTo>
                      <a:lnTo>
                        <a:pt x="0" y="60"/>
                      </a:lnTo>
                      <a:lnTo>
                        <a:pt x="8" y="34"/>
                      </a:lnTo>
                      <a:lnTo>
                        <a:pt x="35" y="16"/>
                      </a:lnTo>
                      <a:lnTo>
                        <a:pt x="60" y="8"/>
                      </a:lnTo>
                      <a:lnTo>
                        <a:pt x="87" y="0"/>
                      </a:lnTo>
                      <a:lnTo>
                        <a:pt x="113" y="0"/>
                      </a:lnTo>
                      <a:lnTo>
                        <a:pt x="139" y="0"/>
                      </a:lnTo>
                      <a:lnTo>
                        <a:pt x="165" y="0"/>
                      </a:lnTo>
                      <a:lnTo>
                        <a:pt x="191" y="0"/>
                      </a:lnTo>
                      <a:lnTo>
                        <a:pt x="218" y="0"/>
                      </a:lnTo>
                      <a:lnTo>
                        <a:pt x="243" y="0"/>
                      </a:lnTo>
                      <a:lnTo>
                        <a:pt x="305" y="0"/>
                      </a:lnTo>
                      <a:lnTo>
                        <a:pt x="331" y="0"/>
                      </a:lnTo>
                      <a:lnTo>
                        <a:pt x="357" y="0"/>
                      </a:lnTo>
                      <a:lnTo>
                        <a:pt x="366" y="25"/>
                      </a:lnTo>
                      <a:lnTo>
                        <a:pt x="375" y="52"/>
                      </a:lnTo>
                      <a:lnTo>
                        <a:pt x="375" y="78"/>
                      </a:lnTo>
                      <a:lnTo>
                        <a:pt x="375" y="104"/>
                      </a:lnTo>
                      <a:lnTo>
                        <a:pt x="375" y="130"/>
                      </a:lnTo>
                      <a:lnTo>
                        <a:pt x="375" y="156"/>
                      </a:lnTo>
                      <a:lnTo>
                        <a:pt x="375" y="183"/>
                      </a:lnTo>
                      <a:lnTo>
                        <a:pt x="375" y="209"/>
                      </a:lnTo>
                      <a:lnTo>
                        <a:pt x="375" y="235"/>
                      </a:lnTo>
                      <a:lnTo>
                        <a:pt x="375" y="261"/>
                      </a:lnTo>
                      <a:lnTo>
                        <a:pt x="375" y="288"/>
                      </a:lnTo>
                      <a:lnTo>
                        <a:pt x="375" y="314"/>
                      </a:lnTo>
                      <a:lnTo>
                        <a:pt x="375" y="340"/>
                      </a:lnTo>
                      <a:lnTo>
                        <a:pt x="348" y="340"/>
                      </a:lnTo>
                      <a:lnTo>
                        <a:pt x="323" y="340"/>
                      </a:lnTo>
                      <a:lnTo>
                        <a:pt x="296" y="340"/>
                      </a:lnTo>
                      <a:lnTo>
                        <a:pt x="270" y="349"/>
                      </a:lnTo>
                      <a:lnTo>
                        <a:pt x="243" y="349"/>
                      </a:lnTo>
                      <a:lnTo>
                        <a:pt x="218" y="349"/>
                      </a:lnTo>
                      <a:lnTo>
                        <a:pt x="191" y="349"/>
                      </a:lnTo>
                      <a:lnTo>
                        <a:pt x="165" y="349"/>
                      </a:lnTo>
                      <a:lnTo>
                        <a:pt x="139" y="349"/>
                      </a:lnTo>
                      <a:lnTo>
                        <a:pt x="113" y="349"/>
                      </a:lnTo>
                      <a:lnTo>
                        <a:pt x="87" y="349"/>
                      </a:lnTo>
                      <a:lnTo>
                        <a:pt x="60" y="349"/>
                      </a:lnTo>
                      <a:lnTo>
                        <a:pt x="8" y="332"/>
                      </a:lnTo>
                      <a:lnTo>
                        <a:pt x="8" y="332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2" name="Oval 62"/>
                <p:cNvSpPr/>
                <p:nvPr/>
              </p:nvSpPr>
              <p:spPr>
                <a:xfrm>
                  <a:off x="2244600" y="2124000"/>
                  <a:ext cx="47592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03" name="Group 66"/>
              <p:cNvGrpSpPr/>
              <p:nvPr/>
            </p:nvGrpSpPr>
            <p:grpSpPr>
              <a:xfrm>
                <a:off x="2712960" y="1709640"/>
                <a:ext cx="596520" cy="555120"/>
                <a:chOff x="2712960" y="1709640"/>
                <a:chExt cx="596520" cy="555120"/>
              </a:xfrm>
            </p:grpSpPr>
            <p:sp>
              <p:nvSpPr>
                <p:cNvPr id="1204" name="Freeform 64"/>
                <p:cNvSpPr/>
                <p:nvPr/>
              </p:nvSpPr>
              <p:spPr>
                <a:xfrm>
                  <a:off x="2712960" y="1709640"/>
                  <a:ext cx="596520" cy="555120"/>
                </a:xfrm>
                <a:custGeom>
                  <a:avLst/>
                  <a:gdLst>
                    <a:gd name="textAreaLeft" fmla="*/ 0 w 596520"/>
                    <a:gd name="textAreaRight" fmla="*/ 596880 w 596520"/>
                    <a:gd name="textAreaTop" fmla="*/ 0 h 555120"/>
                    <a:gd name="textAreaBottom" fmla="*/ 555480 h 555120"/>
                  </a:gdLst>
                  <a:ahLst/>
                  <a:rect l="textAreaLeft" t="textAreaTop" r="textAreaRight" b="textAreaBottom"/>
                  <a:pathLst>
                    <a:path w="376" h="350">
                      <a:moveTo>
                        <a:pt x="8" y="332"/>
                      </a:moveTo>
                      <a:lnTo>
                        <a:pt x="8" y="296"/>
                      </a:lnTo>
                      <a:lnTo>
                        <a:pt x="8" y="244"/>
                      </a:lnTo>
                      <a:lnTo>
                        <a:pt x="8" y="174"/>
                      </a:lnTo>
                      <a:lnTo>
                        <a:pt x="0" y="148"/>
                      </a:lnTo>
                      <a:lnTo>
                        <a:pt x="0" y="121"/>
                      </a:lnTo>
                      <a:lnTo>
                        <a:pt x="0" y="87"/>
                      </a:lnTo>
                      <a:lnTo>
                        <a:pt x="0" y="60"/>
                      </a:lnTo>
                      <a:lnTo>
                        <a:pt x="8" y="34"/>
                      </a:lnTo>
                      <a:lnTo>
                        <a:pt x="35" y="16"/>
                      </a:lnTo>
                      <a:lnTo>
                        <a:pt x="60" y="8"/>
                      </a:lnTo>
                      <a:lnTo>
                        <a:pt x="87" y="0"/>
                      </a:lnTo>
                      <a:lnTo>
                        <a:pt x="113" y="0"/>
                      </a:lnTo>
                      <a:lnTo>
                        <a:pt x="139" y="0"/>
                      </a:lnTo>
                      <a:lnTo>
                        <a:pt x="165" y="0"/>
                      </a:lnTo>
                      <a:lnTo>
                        <a:pt x="191" y="0"/>
                      </a:lnTo>
                      <a:lnTo>
                        <a:pt x="218" y="0"/>
                      </a:lnTo>
                      <a:lnTo>
                        <a:pt x="243" y="0"/>
                      </a:lnTo>
                      <a:lnTo>
                        <a:pt x="305" y="0"/>
                      </a:lnTo>
                      <a:lnTo>
                        <a:pt x="331" y="0"/>
                      </a:lnTo>
                      <a:lnTo>
                        <a:pt x="357" y="0"/>
                      </a:lnTo>
                      <a:lnTo>
                        <a:pt x="366" y="25"/>
                      </a:lnTo>
                      <a:lnTo>
                        <a:pt x="375" y="52"/>
                      </a:lnTo>
                      <a:lnTo>
                        <a:pt x="375" y="78"/>
                      </a:lnTo>
                      <a:lnTo>
                        <a:pt x="375" y="104"/>
                      </a:lnTo>
                      <a:lnTo>
                        <a:pt x="375" y="130"/>
                      </a:lnTo>
                      <a:lnTo>
                        <a:pt x="375" y="156"/>
                      </a:lnTo>
                      <a:lnTo>
                        <a:pt x="375" y="183"/>
                      </a:lnTo>
                      <a:lnTo>
                        <a:pt x="375" y="209"/>
                      </a:lnTo>
                      <a:lnTo>
                        <a:pt x="375" y="235"/>
                      </a:lnTo>
                      <a:lnTo>
                        <a:pt x="375" y="261"/>
                      </a:lnTo>
                      <a:lnTo>
                        <a:pt x="375" y="288"/>
                      </a:lnTo>
                      <a:lnTo>
                        <a:pt x="375" y="314"/>
                      </a:lnTo>
                      <a:lnTo>
                        <a:pt x="375" y="340"/>
                      </a:lnTo>
                      <a:lnTo>
                        <a:pt x="348" y="340"/>
                      </a:lnTo>
                      <a:lnTo>
                        <a:pt x="323" y="340"/>
                      </a:lnTo>
                      <a:lnTo>
                        <a:pt x="296" y="340"/>
                      </a:lnTo>
                      <a:lnTo>
                        <a:pt x="270" y="349"/>
                      </a:lnTo>
                      <a:lnTo>
                        <a:pt x="243" y="349"/>
                      </a:lnTo>
                      <a:lnTo>
                        <a:pt x="218" y="349"/>
                      </a:lnTo>
                      <a:lnTo>
                        <a:pt x="191" y="349"/>
                      </a:lnTo>
                      <a:lnTo>
                        <a:pt x="165" y="349"/>
                      </a:lnTo>
                      <a:lnTo>
                        <a:pt x="139" y="349"/>
                      </a:lnTo>
                      <a:lnTo>
                        <a:pt x="113" y="349"/>
                      </a:lnTo>
                      <a:lnTo>
                        <a:pt x="87" y="349"/>
                      </a:lnTo>
                      <a:lnTo>
                        <a:pt x="60" y="349"/>
                      </a:lnTo>
                      <a:lnTo>
                        <a:pt x="8" y="332"/>
                      </a:lnTo>
                      <a:lnTo>
                        <a:pt x="8" y="332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5" name="Oval 65"/>
                <p:cNvSpPr/>
                <p:nvPr/>
              </p:nvSpPr>
              <p:spPr>
                <a:xfrm>
                  <a:off x="2793960" y="2124000"/>
                  <a:ext cx="47448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06" name="Group 69"/>
              <p:cNvGrpSpPr/>
              <p:nvPr/>
            </p:nvGrpSpPr>
            <p:grpSpPr>
              <a:xfrm>
                <a:off x="517680" y="1709640"/>
                <a:ext cx="597960" cy="555120"/>
                <a:chOff x="517680" y="1709640"/>
                <a:chExt cx="597960" cy="555120"/>
              </a:xfrm>
            </p:grpSpPr>
            <p:sp>
              <p:nvSpPr>
                <p:cNvPr id="1207" name="Freeform 67"/>
                <p:cNvSpPr/>
                <p:nvPr/>
              </p:nvSpPr>
              <p:spPr>
                <a:xfrm>
                  <a:off x="517680" y="1709640"/>
                  <a:ext cx="597960" cy="555120"/>
                </a:xfrm>
                <a:custGeom>
                  <a:avLst/>
                  <a:gdLst>
                    <a:gd name="textAreaLeft" fmla="*/ 0 w 597960"/>
                    <a:gd name="textAreaRight" fmla="*/ 598320 w 597960"/>
                    <a:gd name="textAreaTop" fmla="*/ 0 h 555120"/>
                    <a:gd name="textAreaBottom" fmla="*/ 555480 h 555120"/>
                  </a:gdLst>
                  <a:ahLst/>
                  <a:rect l="textAreaLeft" t="textAreaTop" r="textAreaRight" b="textAreaBottom"/>
                  <a:pathLst>
                    <a:path w="377" h="350">
                      <a:moveTo>
                        <a:pt x="8" y="332"/>
                      </a:moveTo>
                      <a:lnTo>
                        <a:pt x="8" y="296"/>
                      </a:lnTo>
                      <a:lnTo>
                        <a:pt x="8" y="244"/>
                      </a:lnTo>
                      <a:lnTo>
                        <a:pt x="8" y="174"/>
                      </a:lnTo>
                      <a:lnTo>
                        <a:pt x="0" y="148"/>
                      </a:lnTo>
                      <a:lnTo>
                        <a:pt x="0" y="121"/>
                      </a:lnTo>
                      <a:lnTo>
                        <a:pt x="0" y="87"/>
                      </a:lnTo>
                      <a:lnTo>
                        <a:pt x="0" y="60"/>
                      </a:lnTo>
                      <a:lnTo>
                        <a:pt x="8" y="34"/>
                      </a:lnTo>
                      <a:lnTo>
                        <a:pt x="35" y="16"/>
                      </a:lnTo>
                      <a:lnTo>
                        <a:pt x="60" y="8"/>
                      </a:lnTo>
                      <a:lnTo>
                        <a:pt x="87" y="0"/>
                      </a:lnTo>
                      <a:lnTo>
                        <a:pt x="113" y="0"/>
                      </a:lnTo>
                      <a:lnTo>
                        <a:pt x="139" y="0"/>
                      </a:lnTo>
                      <a:lnTo>
                        <a:pt x="165" y="0"/>
                      </a:lnTo>
                      <a:lnTo>
                        <a:pt x="192" y="0"/>
                      </a:lnTo>
                      <a:lnTo>
                        <a:pt x="218" y="0"/>
                      </a:lnTo>
                      <a:lnTo>
                        <a:pt x="244" y="0"/>
                      </a:lnTo>
                      <a:lnTo>
                        <a:pt x="306" y="0"/>
                      </a:lnTo>
                      <a:lnTo>
                        <a:pt x="332" y="0"/>
                      </a:lnTo>
                      <a:lnTo>
                        <a:pt x="358" y="0"/>
                      </a:lnTo>
                      <a:lnTo>
                        <a:pt x="367" y="25"/>
                      </a:lnTo>
                      <a:lnTo>
                        <a:pt x="376" y="52"/>
                      </a:lnTo>
                      <a:lnTo>
                        <a:pt x="376" y="78"/>
                      </a:lnTo>
                      <a:lnTo>
                        <a:pt x="376" y="104"/>
                      </a:lnTo>
                      <a:lnTo>
                        <a:pt x="376" y="130"/>
                      </a:lnTo>
                      <a:lnTo>
                        <a:pt x="376" y="156"/>
                      </a:lnTo>
                      <a:lnTo>
                        <a:pt x="376" y="183"/>
                      </a:lnTo>
                      <a:lnTo>
                        <a:pt x="376" y="209"/>
                      </a:lnTo>
                      <a:lnTo>
                        <a:pt x="376" y="235"/>
                      </a:lnTo>
                      <a:lnTo>
                        <a:pt x="376" y="261"/>
                      </a:lnTo>
                      <a:lnTo>
                        <a:pt x="376" y="288"/>
                      </a:lnTo>
                      <a:lnTo>
                        <a:pt x="376" y="314"/>
                      </a:lnTo>
                      <a:lnTo>
                        <a:pt x="376" y="340"/>
                      </a:lnTo>
                      <a:lnTo>
                        <a:pt x="349" y="340"/>
                      </a:lnTo>
                      <a:lnTo>
                        <a:pt x="323" y="340"/>
                      </a:lnTo>
                      <a:lnTo>
                        <a:pt x="297" y="340"/>
                      </a:lnTo>
                      <a:lnTo>
                        <a:pt x="270" y="349"/>
                      </a:lnTo>
                      <a:lnTo>
                        <a:pt x="244" y="349"/>
                      </a:lnTo>
                      <a:lnTo>
                        <a:pt x="218" y="349"/>
                      </a:lnTo>
                      <a:lnTo>
                        <a:pt x="192" y="349"/>
                      </a:lnTo>
                      <a:lnTo>
                        <a:pt x="165" y="349"/>
                      </a:lnTo>
                      <a:lnTo>
                        <a:pt x="139" y="349"/>
                      </a:lnTo>
                      <a:lnTo>
                        <a:pt x="113" y="349"/>
                      </a:lnTo>
                      <a:lnTo>
                        <a:pt x="87" y="349"/>
                      </a:lnTo>
                      <a:lnTo>
                        <a:pt x="60" y="349"/>
                      </a:lnTo>
                      <a:lnTo>
                        <a:pt x="8" y="332"/>
                      </a:lnTo>
                      <a:lnTo>
                        <a:pt x="8" y="332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8" name="Oval 68"/>
                <p:cNvSpPr/>
                <p:nvPr/>
              </p:nvSpPr>
              <p:spPr>
                <a:xfrm>
                  <a:off x="600120" y="2124000"/>
                  <a:ext cx="47448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09" name="Group 72"/>
              <p:cNvGrpSpPr/>
              <p:nvPr/>
            </p:nvGrpSpPr>
            <p:grpSpPr>
              <a:xfrm>
                <a:off x="3260880" y="1709640"/>
                <a:ext cx="597960" cy="555120"/>
                <a:chOff x="3260880" y="1709640"/>
                <a:chExt cx="597960" cy="555120"/>
              </a:xfrm>
            </p:grpSpPr>
            <p:sp>
              <p:nvSpPr>
                <p:cNvPr id="1210" name="Freeform 70"/>
                <p:cNvSpPr/>
                <p:nvPr/>
              </p:nvSpPr>
              <p:spPr>
                <a:xfrm>
                  <a:off x="3260880" y="1709640"/>
                  <a:ext cx="597960" cy="555120"/>
                </a:xfrm>
                <a:custGeom>
                  <a:avLst/>
                  <a:gdLst>
                    <a:gd name="textAreaLeft" fmla="*/ 0 w 597960"/>
                    <a:gd name="textAreaRight" fmla="*/ 598320 w 597960"/>
                    <a:gd name="textAreaTop" fmla="*/ 0 h 555120"/>
                    <a:gd name="textAreaBottom" fmla="*/ 555480 h 555120"/>
                  </a:gdLst>
                  <a:ahLst/>
                  <a:rect l="textAreaLeft" t="textAreaTop" r="textAreaRight" b="textAreaBottom"/>
                  <a:pathLst>
                    <a:path w="377" h="350">
                      <a:moveTo>
                        <a:pt x="8" y="332"/>
                      </a:moveTo>
                      <a:lnTo>
                        <a:pt x="8" y="296"/>
                      </a:lnTo>
                      <a:lnTo>
                        <a:pt x="8" y="244"/>
                      </a:lnTo>
                      <a:lnTo>
                        <a:pt x="8" y="174"/>
                      </a:lnTo>
                      <a:lnTo>
                        <a:pt x="0" y="148"/>
                      </a:lnTo>
                      <a:lnTo>
                        <a:pt x="0" y="121"/>
                      </a:lnTo>
                      <a:lnTo>
                        <a:pt x="0" y="87"/>
                      </a:lnTo>
                      <a:lnTo>
                        <a:pt x="0" y="60"/>
                      </a:lnTo>
                      <a:lnTo>
                        <a:pt x="8" y="34"/>
                      </a:lnTo>
                      <a:lnTo>
                        <a:pt x="35" y="16"/>
                      </a:lnTo>
                      <a:lnTo>
                        <a:pt x="60" y="8"/>
                      </a:lnTo>
                      <a:lnTo>
                        <a:pt x="87" y="0"/>
                      </a:lnTo>
                      <a:lnTo>
                        <a:pt x="113" y="0"/>
                      </a:lnTo>
                      <a:lnTo>
                        <a:pt x="139" y="0"/>
                      </a:lnTo>
                      <a:lnTo>
                        <a:pt x="165" y="0"/>
                      </a:lnTo>
                      <a:lnTo>
                        <a:pt x="192" y="0"/>
                      </a:lnTo>
                      <a:lnTo>
                        <a:pt x="218" y="0"/>
                      </a:lnTo>
                      <a:lnTo>
                        <a:pt x="244" y="0"/>
                      </a:lnTo>
                      <a:lnTo>
                        <a:pt x="306" y="0"/>
                      </a:lnTo>
                      <a:lnTo>
                        <a:pt x="332" y="0"/>
                      </a:lnTo>
                      <a:lnTo>
                        <a:pt x="358" y="0"/>
                      </a:lnTo>
                      <a:lnTo>
                        <a:pt x="367" y="25"/>
                      </a:lnTo>
                      <a:lnTo>
                        <a:pt x="376" y="52"/>
                      </a:lnTo>
                      <a:lnTo>
                        <a:pt x="376" y="78"/>
                      </a:lnTo>
                      <a:lnTo>
                        <a:pt x="376" y="104"/>
                      </a:lnTo>
                      <a:lnTo>
                        <a:pt x="376" y="130"/>
                      </a:lnTo>
                      <a:lnTo>
                        <a:pt x="376" y="156"/>
                      </a:lnTo>
                      <a:lnTo>
                        <a:pt x="376" y="183"/>
                      </a:lnTo>
                      <a:lnTo>
                        <a:pt x="376" y="209"/>
                      </a:lnTo>
                      <a:lnTo>
                        <a:pt x="376" y="235"/>
                      </a:lnTo>
                      <a:lnTo>
                        <a:pt x="376" y="261"/>
                      </a:lnTo>
                      <a:lnTo>
                        <a:pt x="376" y="288"/>
                      </a:lnTo>
                      <a:lnTo>
                        <a:pt x="376" y="314"/>
                      </a:lnTo>
                      <a:lnTo>
                        <a:pt x="376" y="340"/>
                      </a:lnTo>
                      <a:lnTo>
                        <a:pt x="349" y="340"/>
                      </a:lnTo>
                      <a:lnTo>
                        <a:pt x="323" y="340"/>
                      </a:lnTo>
                      <a:lnTo>
                        <a:pt x="297" y="340"/>
                      </a:lnTo>
                      <a:lnTo>
                        <a:pt x="270" y="349"/>
                      </a:lnTo>
                      <a:lnTo>
                        <a:pt x="244" y="349"/>
                      </a:lnTo>
                      <a:lnTo>
                        <a:pt x="218" y="349"/>
                      </a:lnTo>
                      <a:lnTo>
                        <a:pt x="192" y="349"/>
                      </a:lnTo>
                      <a:lnTo>
                        <a:pt x="165" y="349"/>
                      </a:lnTo>
                      <a:lnTo>
                        <a:pt x="139" y="349"/>
                      </a:lnTo>
                      <a:lnTo>
                        <a:pt x="113" y="349"/>
                      </a:lnTo>
                      <a:lnTo>
                        <a:pt x="87" y="349"/>
                      </a:lnTo>
                      <a:lnTo>
                        <a:pt x="60" y="349"/>
                      </a:lnTo>
                      <a:lnTo>
                        <a:pt x="8" y="332"/>
                      </a:lnTo>
                      <a:lnTo>
                        <a:pt x="8" y="332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1" name="Oval 71"/>
                <p:cNvSpPr/>
                <p:nvPr/>
              </p:nvSpPr>
              <p:spPr>
                <a:xfrm>
                  <a:off x="3343320" y="2124000"/>
                  <a:ext cx="47448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12" name="Freeform 73"/>
              <p:cNvSpPr/>
              <p:nvPr/>
            </p:nvSpPr>
            <p:spPr>
              <a:xfrm>
                <a:off x="2903400" y="868320"/>
                <a:ext cx="1580760" cy="1623600"/>
              </a:xfrm>
              <a:custGeom>
                <a:avLst/>
                <a:gdLst>
                  <a:gd name="textAreaLeft" fmla="*/ 0 w 1580760"/>
                  <a:gd name="textAreaRight" fmla="*/ 1581120 w 1580760"/>
                  <a:gd name="textAreaTop" fmla="*/ 0 h 1623600"/>
                  <a:gd name="textAreaBottom" fmla="*/ 1623960 h 1623600"/>
                </a:gdLst>
                <a:ahLst/>
                <a:rect l="textAreaLeft" t="textAreaTop" r="textAreaRight" b="textAreaBottom"/>
                <a:pathLst>
                  <a:path w="996" h="1023">
                    <a:moveTo>
                      <a:pt x="41" y="9"/>
                    </a:moveTo>
                    <a:lnTo>
                      <a:pt x="78" y="35"/>
                    </a:lnTo>
                    <a:lnTo>
                      <a:pt x="104" y="44"/>
                    </a:lnTo>
                    <a:lnTo>
                      <a:pt x="130" y="52"/>
                    </a:lnTo>
                    <a:lnTo>
                      <a:pt x="156" y="52"/>
                    </a:lnTo>
                    <a:lnTo>
                      <a:pt x="183" y="61"/>
                    </a:lnTo>
                    <a:lnTo>
                      <a:pt x="209" y="61"/>
                    </a:lnTo>
                    <a:lnTo>
                      <a:pt x="235" y="61"/>
                    </a:lnTo>
                    <a:lnTo>
                      <a:pt x="261" y="61"/>
                    </a:lnTo>
                    <a:lnTo>
                      <a:pt x="287" y="61"/>
                    </a:lnTo>
                    <a:lnTo>
                      <a:pt x="313" y="61"/>
                    </a:lnTo>
                    <a:lnTo>
                      <a:pt x="339" y="61"/>
                    </a:lnTo>
                    <a:lnTo>
                      <a:pt x="366" y="61"/>
                    </a:lnTo>
                    <a:lnTo>
                      <a:pt x="392" y="61"/>
                    </a:lnTo>
                    <a:lnTo>
                      <a:pt x="418" y="61"/>
                    </a:lnTo>
                    <a:lnTo>
                      <a:pt x="444" y="61"/>
                    </a:lnTo>
                    <a:lnTo>
                      <a:pt x="471" y="61"/>
                    </a:lnTo>
                    <a:lnTo>
                      <a:pt x="506" y="70"/>
                    </a:lnTo>
                    <a:lnTo>
                      <a:pt x="531" y="79"/>
                    </a:lnTo>
                    <a:lnTo>
                      <a:pt x="558" y="79"/>
                    </a:lnTo>
                    <a:lnTo>
                      <a:pt x="584" y="88"/>
                    </a:lnTo>
                    <a:lnTo>
                      <a:pt x="610" y="96"/>
                    </a:lnTo>
                    <a:lnTo>
                      <a:pt x="636" y="113"/>
                    </a:lnTo>
                    <a:lnTo>
                      <a:pt x="663" y="122"/>
                    </a:lnTo>
                    <a:lnTo>
                      <a:pt x="689" y="131"/>
                    </a:lnTo>
                    <a:lnTo>
                      <a:pt x="715" y="148"/>
                    </a:lnTo>
                    <a:lnTo>
                      <a:pt x="741" y="157"/>
                    </a:lnTo>
                    <a:lnTo>
                      <a:pt x="776" y="166"/>
                    </a:lnTo>
                    <a:lnTo>
                      <a:pt x="811" y="184"/>
                    </a:lnTo>
                    <a:lnTo>
                      <a:pt x="828" y="209"/>
                    </a:lnTo>
                    <a:lnTo>
                      <a:pt x="855" y="236"/>
                    </a:lnTo>
                    <a:lnTo>
                      <a:pt x="863" y="262"/>
                    </a:lnTo>
                    <a:lnTo>
                      <a:pt x="890" y="280"/>
                    </a:lnTo>
                    <a:lnTo>
                      <a:pt x="898" y="305"/>
                    </a:lnTo>
                    <a:lnTo>
                      <a:pt x="915" y="332"/>
                    </a:lnTo>
                    <a:lnTo>
                      <a:pt x="933" y="358"/>
                    </a:lnTo>
                    <a:lnTo>
                      <a:pt x="933" y="384"/>
                    </a:lnTo>
                    <a:lnTo>
                      <a:pt x="942" y="410"/>
                    </a:lnTo>
                    <a:lnTo>
                      <a:pt x="951" y="436"/>
                    </a:lnTo>
                    <a:lnTo>
                      <a:pt x="959" y="463"/>
                    </a:lnTo>
                    <a:lnTo>
                      <a:pt x="959" y="489"/>
                    </a:lnTo>
                    <a:lnTo>
                      <a:pt x="959" y="515"/>
                    </a:lnTo>
                    <a:lnTo>
                      <a:pt x="959" y="541"/>
                    </a:lnTo>
                    <a:lnTo>
                      <a:pt x="959" y="568"/>
                    </a:lnTo>
                    <a:lnTo>
                      <a:pt x="959" y="594"/>
                    </a:lnTo>
                    <a:lnTo>
                      <a:pt x="959" y="620"/>
                    </a:lnTo>
                    <a:lnTo>
                      <a:pt x="959" y="646"/>
                    </a:lnTo>
                    <a:lnTo>
                      <a:pt x="959" y="673"/>
                    </a:lnTo>
                    <a:lnTo>
                      <a:pt x="942" y="699"/>
                    </a:lnTo>
                    <a:lnTo>
                      <a:pt x="924" y="725"/>
                    </a:lnTo>
                    <a:lnTo>
                      <a:pt x="907" y="751"/>
                    </a:lnTo>
                    <a:lnTo>
                      <a:pt x="881" y="777"/>
                    </a:lnTo>
                    <a:lnTo>
                      <a:pt x="863" y="804"/>
                    </a:lnTo>
                    <a:lnTo>
                      <a:pt x="837" y="821"/>
                    </a:lnTo>
                    <a:lnTo>
                      <a:pt x="811" y="838"/>
                    </a:lnTo>
                    <a:lnTo>
                      <a:pt x="785" y="856"/>
                    </a:lnTo>
                    <a:lnTo>
                      <a:pt x="759" y="865"/>
                    </a:lnTo>
                    <a:lnTo>
                      <a:pt x="732" y="873"/>
                    </a:lnTo>
                    <a:lnTo>
                      <a:pt x="706" y="882"/>
                    </a:lnTo>
                    <a:lnTo>
                      <a:pt x="680" y="882"/>
                    </a:lnTo>
                    <a:lnTo>
                      <a:pt x="654" y="882"/>
                    </a:lnTo>
                    <a:lnTo>
                      <a:pt x="627" y="882"/>
                    </a:lnTo>
                    <a:lnTo>
                      <a:pt x="602" y="882"/>
                    </a:lnTo>
                    <a:lnTo>
                      <a:pt x="575" y="882"/>
                    </a:lnTo>
                    <a:lnTo>
                      <a:pt x="549" y="882"/>
                    </a:lnTo>
                    <a:lnTo>
                      <a:pt x="523" y="882"/>
                    </a:lnTo>
                    <a:lnTo>
                      <a:pt x="497" y="882"/>
                    </a:lnTo>
                    <a:lnTo>
                      <a:pt x="471" y="882"/>
                    </a:lnTo>
                    <a:lnTo>
                      <a:pt x="444" y="882"/>
                    </a:lnTo>
                    <a:lnTo>
                      <a:pt x="392" y="882"/>
                    </a:lnTo>
                    <a:lnTo>
                      <a:pt x="357" y="882"/>
                    </a:lnTo>
                    <a:lnTo>
                      <a:pt x="331" y="882"/>
                    </a:lnTo>
                    <a:lnTo>
                      <a:pt x="305" y="882"/>
                    </a:lnTo>
                    <a:lnTo>
                      <a:pt x="279" y="882"/>
                    </a:lnTo>
                    <a:lnTo>
                      <a:pt x="252" y="882"/>
                    </a:lnTo>
                    <a:lnTo>
                      <a:pt x="226" y="882"/>
                    </a:lnTo>
                    <a:lnTo>
                      <a:pt x="200" y="882"/>
                    </a:lnTo>
                    <a:lnTo>
                      <a:pt x="174" y="882"/>
                    </a:lnTo>
                    <a:lnTo>
                      <a:pt x="147" y="882"/>
                    </a:lnTo>
                    <a:lnTo>
                      <a:pt x="121" y="882"/>
                    </a:lnTo>
                    <a:lnTo>
                      <a:pt x="95" y="891"/>
                    </a:lnTo>
                    <a:lnTo>
                      <a:pt x="69" y="900"/>
                    </a:lnTo>
                    <a:lnTo>
                      <a:pt x="43" y="900"/>
                    </a:lnTo>
                    <a:lnTo>
                      <a:pt x="17" y="900"/>
                    </a:lnTo>
                    <a:lnTo>
                      <a:pt x="0" y="925"/>
                    </a:lnTo>
                    <a:lnTo>
                      <a:pt x="25" y="943"/>
                    </a:lnTo>
                    <a:lnTo>
                      <a:pt x="60" y="943"/>
                    </a:lnTo>
                    <a:lnTo>
                      <a:pt x="95" y="943"/>
                    </a:lnTo>
                    <a:lnTo>
                      <a:pt x="121" y="943"/>
                    </a:lnTo>
                    <a:lnTo>
                      <a:pt x="147" y="943"/>
                    </a:lnTo>
                    <a:lnTo>
                      <a:pt x="174" y="943"/>
                    </a:lnTo>
                    <a:lnTo>
                      <a:pt x="200" y="943"/>
                    </a:lnTo>
                    <a:lnTo>
                      <a:pt x="226" y="943"/>
                    </a:lnTo>
                    <a:lnTo>
                      <a:pt x="252" y="943"/>
                    </a:lnTo>
                    <a:lnTo>
                      <a:pt x="279" y="952"/>
                    </a:lnTo>
                    <a:lnTo>
                      <a:pt x="305" y="952"/>
                    </a:lnTo>
                    <a:lnTo>
                      <a:pt x="331" y="952"/>
                    </a:lnTo>
                    <a:lnTo>
                      <a:pt x="357" y="952"/>
                    </a:lnTo>
                    <a:lnTo>
                      <a:pt x="383" y="952"/>
                    </a:lnTo>
                    <a:lnTo>
                      <a:pt x="409" y="952"/>
                    </a:lnTo>
                    <a:lnTo>
                      <a:pt x="435" y="961"/>
                    </a:lnTo>
                    <a:lnTo>
                      <a:pt x="462" y="969"/>
                    </a:lnTo>
                    <a:lnTo>
                      <a:pt x="488" y="969"/>
                    </a:lnTo>
                    <a:lnTo>
                      <a:pt x="514" y="978"/>
                    </a:lnTo>
                    <a:lnTo>
                      <a:pt x="540" y="987"/>
                    </a:lnTo>
                    <a:lnTo>
                      <a:pt x="575" y="1005"/>
                    </a:lnTo>
                    <a:lnTo>
                      <a:pt x="602" y="1013"/>
                    </a:lnTo>
                    <a:lnTo>
                      <a:pt x="627" y="1022"/>
                    </a:lnTo>
                    <a:lnTo>
                      <a:pt x="654" y="1022"/>
                    </a:lnTo>
                    <a:lnTo>
                      <a:pt x="680" y="1022"/>
                    </a:lnTo>
                    <a:lnTo>
                      <a:pt x="706" y="1022"/>
                    </a:lnTo>
                    <a:lnTo>
                      <a:pt x="732" y="1022"/>
                    </a:lnTo>
                    <a:lnTo>
                      <a:pt x="759" y="1022"/>
                    </a:lnTo>
                    <a:lnTo>
                      <a:pt x="785" y="1013"/>
                    </a:lnTo>
                    <a:lnTo>
                      <a:pt x="811" y="1005"/>
                    </a:lnTo>
                    <a:lnTo>
                      <a:pt x="837" y="987"/>
                    </a:lnTo>
                    <a:lnTo>
                      <a:pt x="863" y="969"/>
                    </a:lnTo>
                    <a:lnTo>
                      <a:pt x="881" y="943"/>
                    </a:lnTo>
                    <a:lnTo>
                      <a:pt x="898" y="917"/>
                    </a:lnTo>
                    <a:lnTo>
                      <a:pt x="907" y="891"/>
                    </a:lnTo>
                    <a:lnTo>
                      <a:pt x="924" y="865"/>
                    </a:lnTo>
                    <a:lnTo>
                      <a:pt x="933" y="838"/>
                    </a:lnTo>
                    <a:lnTo>
                      <a:pt x="942" y="812"/>
                    </a:lnTo>
                    <a:lnTo>
                      <a:pt x="959" y="786"/>
                    </a:lnTo>
                    <a:lnTo>
                      <a:pt x="968" y="760"/>
                    </a:lnTo>
                    <a:lnTo>
                      <a:pt x="977" y="733"/>
                    </a:lnTo>
                    <a:lnTo>
                      <a:pt x="986" y="707"/>
                    </a:lnTo>
                    <a:lnTo>
                      <a:pt x="986" y="681"/>
                    </a:lnTo>
                    <a:lnTo>
                      <a:pt x="995" y="655"/>
                    </a:lnTo>
                    <a:lnTo>
                      <a:pt x="995" y="629"/>
                    </a:lnTo>
                    <a:lnTo>
                      <a:pt x="995" y="603"/>
                    </a:lnTo>
                    <a:lnTo>
                      <a:pt x="995" y="577"/>
                    </a:lnTo>
                    <a:lnTo>
                      <a:pt x="995" y="550"/>
                    </a:lnTo>
                    <a:lnTo>
                      <a:pt x="995" y="524"/>
                    </a:lnTo>
                    <a:lnTo>
                      <a:pt x="995" y="498"/>
                    </a:lnTo>
                    <a:lnTo>
                      <a:pt x="995" y="472"/>
                    </a:lnTo>
                    <a:lnTo>
                      <a:pt x="995" y="445"/>
                    </a:lnTo>
                    <a:lnTo>
                      <a:pt x="986" y="419"/>
                    </a:lnTo>
                    <a:lnTo>
                      <a:pt x="986" y="393"/>
                    </a:lnTo>
                    <a:lnTo>
                      <a:pt x="977" y="367"/>
                    </a:lnTo>
                    <a:lnTo>
                      <a:pt x="977" y="340"/>
                    </a:lnTo>
                    <a:lnTo>
                      <a:pt x="968" y="314"/>
                    </a:lnTo>
                    <a:lnTo>
                      <a:pt x="951" y="288"/>
                    </a:lnTo>
                    <a:lnTo>
                      <a:pt x="933" y="262"/>
                    </a:lnTo>
                    <a:lnTo>
                      <a:pt x="915" y="236"/>
                    </a:lnTo>
                    <a:lnTo>
                      <a:pt x="898" y="209"/>
                    </a:lnTo>
                    <a:lnTo>
                      <a:pt x="881" y="184"/>
                    </a:lnTo>
                    <a:lnTo>
                      <a:pt x="863" y="157"/>
                    </a:lnTo>
                    <a:lnTo>
                      <a:pt x="837" y="140"/>
                    </a:lnTo>
                    <a:lnTo>
                      <a:pt x="811" y="122"/>
                    </a:lnTo>
                    <a:lnTo>
                      <a:pt x="785" y="104"/>
                    </a:lnTo>
                    <a:lnTo>
                      <a:pt x="759" y="88"/>
                    </a:lnTo>
                    <a:lnTo>
                      <a:pt x="732" y="70"/>
                    </a:lnTo>
                    <a:lnTo>
                      <a:pt x="706" y="52"/>
                    </a:lnTo>
                    <a:lnTo>
                      <a:pt x="680" y="44"/>
                    </a:lnTo>
                    <a:lnTo>
                      <a:pt x="654" y="35"/>
                    </a:lnTo>
                    <a:lnTo>
                      <a:pt x="627" y="35"/>
                    </a:lnTo>
                    <a:lnTo>
                      <a:pt x="602" y="35"/>
                    </a:lnTo>
                    <a:lnTo>
                      <a:pt x="575" y="26"/>
                    </a:lnTo>
                    <a:lnTo>
                      <a:pt x="540" y="26"/>
                    </a:lnTo>
                    <a:lnTo>
                      <a:pt x="506" y="26"/>
                    </a:lnTo>
                    <a:lnTo>
                      <a:pt x="479" y="26"/>
                    </a:lnTo>
                    <a:lnTo>
                      <a:pt x="453" y="26"/>
                    </a:lnTo>
                    <a:lnTo>
                      <a:pt x="427" y="26"/>
                    </a:lnTo>
                    <a:lnTo>
                      <a:pt x="401" y="26"/>
                    </a:lnTo>
                    <a:lnTo>
                      <a:pt x="375" y="17"/>
                    </a:lnTo>
                    <a:lnTo>
                      <a:pt x="348" y="17"/>
                    </a:lnTo>
                    <a:lnTo>
                      <a:pt x="322" y="17"/>
                    </a:lnTo>
                    <a:lnTo>
                      <a:pt x="296" y="17"/>
                    </a:lnTo>
                    <a:lnTo>
                      <a:pt x="270" y="17"/>
                    </a:lnTo>
                    <a:lnTo>
                      <a:pt x="243" y="8"/>
                    </a:lnTo>
                    <a:lnTo>
                      <a:pt x="217" y="8"/>
                    </a:lnTo>
                    <a:lnTo>
                      <a:pt x="191" y="8"/>
                    </a:lnTo>
                    <a:lnTo>
                      <a:pt x="165" y="0"/>
                    </a:lnTo>
                    <a:lnTo>
                      <a:pt x="139" y="0"/>
                    </a:lnTo>
                    <a:lnTo>
                      <a:pt x="113" y="0"/>
                    </a:lnTo>
                    <a:lnTo>
                      <a:pt x="87" y="0"/>
                    </a:lnTo>
                    <a:lnTo>
                      <a:pt x="41" y="9"/>
                    </a:lnTo>
                    <a:lnTo>
                      <a:pt x="41" y="9"/>
                    </a:lnTo>
                  </a:path>
                </a:pathLst>
              </a:custGeom>
              <a:solidFill>
                <a:schemeClr val="accent1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Oval 74"/>
              <p:cNvSpPr/>
              <p:nvPr/>
            </p:nvSpPr>
            <p:spPr>
              <a:xfrm rot="21000000">
                <a:off x="3890880" y="2292120"/>
                <a:ext cx="414000" cy="109080"/>
              </a:xfrm>
              <a:prstGeom prst="ellipse">
                <a:avLst/>
              </a:prstGeom>
              <a:solidFill>
                <a:srgbClr val="6699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Freeform 75"/>
              <p:cNvSpPr/>
              <p:nvPr/>
            </p:nvSpPr>
            <p:spPr>
              <a:xfrm>
                <a:off x="469800" y="812880"/>
                <a:ext cx="4084200" cy="1733040"/>
              </a:xfrm>
              <a:custGeom>
                <a:avLst/>
                <a:gdLst>
                  <a:gd name="textAreaLeft" fmla="*/ 0 w 4084200"/>
                  <a:gd name="textAreaRight" fmla="*/ 4084560 w 4084200"/>
                  <a:gd name="textAreaTop" fmla="*/ 0 h 1733040"/>
                  <a:gd name="textAreaBottom" fmla="*/ 1733400 h 1733040"/>
                </a:gdLst>
                <a:ahLst/>
                <a:rect l="textAreaLeft" t="textAreaTop" r="textAreaRight" b="textAreaBottom"/>
                <a:pathLst>
                  <a:path w="2573" h="1092">
                    <a:moveTo>
                      <a:pt x="0" y="82"/>
                    </a:moveTo>
                    <a:lnTo>
                      <a:pt x="48" y="78"/>
                    </a:lnTo>
                    <a:lnTo>
                      <a:pt x="75" y="78"/>
                    </a:lnTo>
                    <a:lnTo>
                      <a:pt x="144" y="78"/>
                    </a:lnTo>
                    <a:lnTo>
                      <a:pt x="171" y="78"/>
                    </a:lnTo>
                    <a:lnTo>
                      <a:pt x="196" y="78"/>
                    </a:lnTo>
                    <a:lnTo>
                      <a:pt x="223" y="78"/>
                    </a:lnTo>
                    <a:lnTo>
                      <a:pt x="249" y="78"/>
                    </a:lnTo>
                    <a:lnTo>
                      <a:pt x="301" y="78"/>
                    </a:lnTo>
                    <a:lnTo>
                      <a:pt x="354" y="78"/>
                    </a:lnTo>
                    <a:lnTo>
                      <a:pt x="380" y="78"/>
                    </a:lnTo>
                    <a:lnTo>
                      <a:pt x="406" y="78"/>
                    </a:lnTo>
                    <a:lnTo>
                      <a:pt x="432" y="78"/>
                    </a:lnTo>
                    <a:lnTo>
                      <a:pt x="468" y="78"/>
                    </a:lnTo>
                    <a:lnTo>
                      <a:pt x="493" y="78"/>
                    </a:lnTo>
                    <a:lnTo>
                      <a:pt x="528" y="78"/>
                    </a:lnTo>
                    <a:lnTo>
                      <a:pt x="555" y="69"/>
                    </a:lnTo>
                    <a:lnTo>
                      <a:pt x="580" y="69"/>
                    </a:lnTo>
                    <a:lnTo>
                      <a:pt x="616" y="60"/>
                    </a:lnTo>
                    <a:lnTo>
                      <a:pt x="642" y="60"/>
                    </a:lnTo>
                    <a:lnTo>
                      <a:pt x="677" y="60"/>
                    </a:lnTo>
                    <a:lnTo>
                      <a:pt x="712" y="60"/>
                    </a:lnTo>
                    <a:lnTo>
                      <a:pt x="747" y="60"/>
                    </a:lnTo>
                    <a:lnTo>
                      <a:pt x="781" y="60"/>
                    </a:lnTo>
                    <a:lnTo>
                      <a:pt x="817" y="60"/>
                    </a:lnTo>
                    <a:lnTo>
                      <a:pt x="852" y="60"/>
                    </a:lnTo>
                    <a:lnTo>
                      <a:pt x="886" y="60"/>
                    </a:lnTo>
                    <a:lnTo>
                      <a:pt x="921" y="60"/>
                    </a:lnTo>
                    <a:lnTo>
                      <a:pt x="957" y="60"/>
                    </a:lnTo>
                    <a:lnTo>
                      <a:pt x="1026" y="60"/>
                    </a:lnTo>
                    <a:lnTo>
                      <a:pt x="1053" y="60"/>
                    </a:lnTo>
                    <a:lnTo>
                      <a:pt x="1078" y="60"/>
                    </a:lnTo>
                    <a:lnTo>
                      <a:pt x="1105" y="60"/>
                    </a:lnTo>
                    <a:lnTo>
                      <a:pt x="1192" y="69"/>
                    </a:lnTo>
                    <a:lnTo>
                      <a:pt x="1218" y="69"/>
                    </a:lnTo>
                    <a:lnTo>
                      <a:pt x="1253" y="69"/>
                    </a:lnTo>
                    <a:lnTo>
                      <a:pt x="1279" y="69"/>
                    </a:lnTo>
                    <a:lnTo>
                      <a:pt x="1306" y="69"/>
                    </a:lnTo>
                    <a:lnTo>
                      <a:pt x="1341" y="69"/>
                    </a:lnTo>
                    <a:lnTo>
                      <a:pt x="1366" y="69"/>
                    </a:lnTo>
                    <a:lnTo>
                      <a:pt x="1437" y="69"/>
                    </a:lnTo>
                    <a:lnTo>
                      <a:pt x="1489" y="69"/>
                    </a:lnTo>
                    <a:lnTo>
                      <a:pt x="1524" y="69"/>
                    </a:lnTo>
                    <a:lnTo>
                      <a:pt x="1550" y="60"/>
                    </a:lnTo>
                    <a:lnTo>
                      <a:pt x="1585" y="34"/>
                    </a:lnTo>
                    <a:lnTo>
                      <a:pt x="1611" y="17"/>
                    </a:lnTo>
                    <a:lnTo>
                      <a:pt x="1638" y="8"/>
                    </a:lnTo>
                    <a:lnTo>
                      <a:pt x="1672" y="0"/>
                    </a:lnTo>
                    <a:lnTo>
                      <a:pt x="1707" y="0"/>
                    </a:lnTo>
                    <a:lnTo>
                      <a:pt x="1734" y="0"/>
                    </a:lnTo>
                    <a:lnTo>
                      <a:pt x="1759" y="0"/>
                    </a:lnTo>
                    <a:lnTo>
                      <a:pt x="1786" y="0"/>
                    </a:lnTo>
                    <a:lnTo>
                      <a:pt x="1821" y="0"/>
                    </a:lnTo>
                    <a:lnTo>
                      <a:pt x="1846" y="0"/>
                    </a:lnTo>
                    <a:lnTo>
                      <a:pt x="1882" y="0"/>
                    </a:lnTo>
                    <a:lnTo>
                      <a:pt x="1935" y="0"/>
                    </a:lnTo>
                    <a:lnTo>
                      <a:pt x="2004" y="8"/>
                    </a:lnTo>
                    <a:lnTo>
                      <a:pt x="2031" y="8"/>
                    </a:lnTo>
                    <a:lnTo>
                      <a:pt x="2056" y="8"/>
                    </a:lnTo>
                    <a:lnTo>
                      <a:pt x="2083" y="8"/>
                    </a:lnTo>
                    <a:lnTo>
                      <a:pt x="2118" y="17"/>
                    </a:lnTo>
                    <a:lnTo>
                      <a:pt x="2152" y="17"/>
                    </a:lnTo>
                    <a:lnTo>
                      <a:pt x="2187" y="26"/>
                    </a:lnTo>
                    <a:lnTo>
                      <a:pt x="2214" y="34"/>
                    </a:lnTo>
                    <a:lnTo>
                      <a:pt x="2239" y="43"/>
                    </a:lnTo>
                    <a:lnTo>
                      <a:pt x="2266" y="60"/>
                    </a:lnTo>
                    <a:lnTo>
                      <a:pt x="2292" y="78"/>
                    </a:lnTo>
                    <a:lnTo>
                      <a:pt x="2319" y="87"/>
                    </a:lnTo>
                    <a:lnTo>
                      <a:pt x="2344" y="104"/>
                    </a:lnTo>
                    <a:lnTo>
                      <a:pt x="2362" y="131"/>
                    </a:lnTo>
                    <a:lnTo>
                      <a:pt x="2388" y="139"/>
                    </a:lnTo>
                    <a:lnTo>
                      <a:pt x="2406" y="165"/>
                    </a:lnTo>
                    <a:lnTo>
                      <a:pt x="2431" y="183"/>
                    </a:lnTo>
                    <a:lnTo>
                      <a:pt x="2449" y="209"/>
                    </a:lnTo>
                    <a:lnTo>
                      <a:pt x="2475" y="227"/>
                    </a:lnTo>
                    <a:lnTo>
                      <a:pt x="2502" y="252"/>
                    </a:lnTo>
                    <a:lnTo>
                      <a:pt x="2511" y="279"/>
                    </a:lnTo>
                    <a:lnTo>
                      <a:pt x="2528" y="305"/>
                    </a:lnTo>
                    <a:lnTo>
                      <a:pt x="2528" y="331"/>
                    </a:lnTo>
                    <a:lnTo>
                      <a:pt x="2536" y="357"/>
                    </a:lnTo>
                    <a:lnTo>
                      <a:pt x="2545" y="383"/>
                    </a:lnTo>
                    <a:lnTo>
                      <a:pt x="2563" y="410"/>
                    </a:lnTo>
                    <a:lnTo>
                      <a:pt x="2563" y="436"/>
                    </a:lnTo>
                    <a:lnTo>
                      <a:pt x="2572" y="462"/>
                    </a:lnTo>
                    <a:lnTo>
                      <a:pt x="2572" y="488"/>
                    </a:lnTo>
                    <a:lnTo>
                      <a:pt x="2572" y="515"/>
                    </a:lnTo>
                    <a:lnTo>
                      <a:pt x="2572" y="540"/>
                    </a:lnTo>
                    <a:lnTo>
                      <a:pt x="2572" y="567"/>
                    </a:lnTo>
                    <a:lnTo>
                      <a:pt x="2572" y="593"/>
                    </a:lnTo>
                    <a:lnTo>
                      <a:pt x="2572" y="619"/>
                    </a:lnTo>
                    <a:lnTo>
                      <a:pt x="2572" y="645"/>
                    </a:lnTo>
                    <a:lnTo>
                      <a:pt x="2572" y="671"/>
                    </a:lnTo>
                    <a:lnTo>
                      <a:pt x="2572" y="698"/>
                    </a:lnTo>
                    <a:lnTo>
                      <a:pt x="2563" y="724"/>
                    </a:lnTo>
                    <a:lnTo>
                      <a:pt x="2545" y="750"/>
                    </a:lnTo>
                    <a:lnTo>
                      <a:pt x="2536" y="776"/>
                    </a:lnTo>
                    <a:lnTo>
                      <a:pt x="2528" y="803"/>
                    </a:lnTo>
                    <a:lnTo>
                      <a:pt x="2519" y="829"/>
                    </a:lnTo>
                    <a:lnTo>
                      <a:pt x="2511" y="855"/>
                    </a:lnTo>
                    <a:lnTo>
                      <a:pt x="2502" y="881"/>
                    </a:lnTo>
                    <a:lnTo>
                      <a:pt x="2493" y="907"/>
                    </a:lnTo>
                    <a:lnTo>
                      <a:pt x="2484" y="934"/>
                    </a:lnTo>
                    <a:lnTo>
                      <a:pt x="2475" y="959"/>
                    </a:lnTo>
                    <a:lnTo>
                      <a:pt x="2458" y="986"/>
                    </a:lnTo>
                    <a:lnTo>
                      <a:pt x="2440" y="1012"/>
                    </a:lnTo>
                    <a:lnTo>
                      <a:pt x="2423" y="1039"/>
                    </a:lnTo>
                    <a:lnTo>
                      <a:pt x="2397" y="1064"/>
                    </a:lnTo>
                    <a:lnTo>
                      <a:pt x="2371" y="1073"/>
                    </a:lnTo>
                    <a:lnTo>
                      <a:pt x="2344" y="1082"/>
                    </a:lnTo>
                    <a:lnTo>
                      <a:pt x="2319" y="1091"/>
                    </a:lnTo>
                    <a:lnTo>
                      <a:pt x="2292" y="1091"/>
                    </a:lnTo>
                    <a:lnTo>
                      <a:pt x="2266" y="1091"/>
                    </a:lnTo>
                    <a:lnTo>
                      <a:pt x="2239" y="1091"/>
                    </a:lnTo>
                    <a:lnTo>
                      <a:pt x="2214" y="1091"/>
                    </a:lnTo>
                    <a:lnTo>
                      <a:pt x="2187" y="1091"/>
                    </a:lnTo>
                    <a:lnTo>
                      <a:pt x="2161" y="1091"/>
                    </a:lnTo>
                    <a:lnTo>
                      <a:pt x="2135" y="1082"/>
                    </a:lnTo>
                    <a:lnTo>
                      <a:pt x="2109" y="1064"/>
                    </a:lnTo>
                    <a:lnTo>
                      <a:pt x="2083" y="1055"/>
                    </a:lnTo>
                    <a:lnTo>
                      <a:pt x="2056" y="1047"/>
                    </a:lnTo>
                    <a:lnTo>
                      <a:pt x="2022" y="1047"/>
                    </a:lnTo>
                    <a:lnTo>
                      <a:pt x="1995" y="1039"/>
                    </a:lnTo>
                    <a:lnTo>
                      <a:pt x="1969" y="1030"/>
                    </a:lnTo>
                    <a:lnTo>
                      <a:pt x="1943" y="1030"/>
                    </a:lnTo>
                    <a:lnTo>
                      <a:pt x="1917" y="1030"/>
                    </a:lnTo>
                    <a:lnTo>
                      <a:pt x="1890" y="1030"/>
                    </a:lnTo>
                    <a:lnTo>
                      <a:pt x="1864" y="1030"/>
                    </a:lnTo>
                    <a:lnTo>
                      <a:pt x="1838" y="1030"/>
                    </a:lnTo>
                    <a:lnTo>
                      <a:pt x="1812" y="1030"/>
                    </a:lnTo>
                    <a:lnTo>
                      <a:pt x="1786" y="1030"/>
                    </a:lnTo>
                    <a:lnTo>
                      <a:pt x="1759" y="1021"/>
                    </a:lnTo>
                    <a:lnTo>
                      <a:pt x="1734" y="1021"/>
                    </a:lnTo>
                    <a:lnTo>
                      <a:pt x="1707" y="1012"/>
                    </a:lnTo>
                    <a:lnTo>
                      <a:pt x="1672" y="1003"/>
                    </a:lnTo>
                    <a:lnTo>
                      <a:pt x="1646" y="995"/>
                    </a:lnTo>
                    <a:lnTo>
                      <a:pt x="1611" y="995"/>
                    </a:lnTo>
                    <a:lnTo>
                      <a:pt x="1585" y="986"/>
                    </a:lnTo>
                    <a:lnTo>
                      <a:pt x="1558" y="986"/>
                    </a:lnTo>
                    <a:lnTo>
                      <a:pt x="1533" y="986"/>
                    </a:lnTo>
                    <a:lnTo>
                      <a:pt x="1506" y="986"/>
                    </a:lnTo>
                    <a:lnTo>
                      <a:pt x="1437" y="968"/>
                    </a:lnTo>
                    <a:lnTo>
                      <a:pt x="1410" y="959"/>
                    </a:lnTo>
                    <a:lnTo>
                      <a:pt x="1384" y="951"/>
                    </a:lnTo>
                    <a:lnTo>
                      <a:pt x="1358" y="951"/>
                    </a:lnTo>
                    <a:lnTo>
                      <a:pt x="1332" y="951"/>
                    </a:lnTo>
                    <a:lnTo>
                      <a:pt x="1306" y="951"/>
                    </a:lnTo>
                    <a:lnTo>
                      <a:pt x="1279" y="951"/>
                    </a:lnTo>
                    <a:lnTo>
                      <a:pt x="1253" y="951"/>
                    </a:lnTo>
                    <a:lnTo>
                      <a:pt x="1227" y="951"/>
                    </a:lnTo>
                    <a:lnTo>
                      <a:pt x="1192" y="951"/>
                    </a:lnTo>
                    <a:lnTo>
                      <a:pt x="1165" y="951"/>
                    </a:lnTo>
                    <a:lnTo>
                      <a:pt x="1131" y="951"/>
                    </a:lnTo>
                    <a:lnTo>
                      <a:pt x="1105" y="951"/>
                    </a:lnTo>
                    <a:lnTo>
                      <a:pt x="1069" y="951"/>
                    </a:lnTo>
                    <a:lnTo>
                      <a:pt x="1044" y="951"/>
                    </a:lnTo>
                    <a:lnTo>
                      <a:pt x="1017" y="959"/>
                    </a:lnTo>
                    <a:lnTo>
                      <a:pt x="991" y="959"/>
                    </a:lnTo>
                    <a:lnTo>
                      <a:pt x="913" y="959"/>
                    </a:lnTo>
                    <a:lnTo>
                      <a:pt x="843" y="959"/>
                    </a:lnTo>
                    <a:lnTo>
                      <a:pt x="817" y="959"/>
                    </a:lnTo>
                    <a:lnTo>
                      <a:pt x="747" y="959"/>
                    </a:lnTo>
                    <a:lnTo>
                      <a:pt x="721" y="959"/>
                    </a:lnTo>
                    <a:lnTo>
                      <a:pt x="694" y="959"/>
                    </a:lnTo>
                    <a:lnTo>
                      <a:pt x="669" y="959"/>
                    </a:lnTo>
                    <a:lnTo>
                      <a:pt x="633" y="959"/>
                    </a:lnTo>
                    <a:lnTo>
                      <a:pt x="607" y="959"/>
                    </a:lnTo>
                    <a:lnTo>
                      <a:pt x="572" y="959"/>
                    </a:lnTo>
                    <a:lnTo>
                      <a:pt x="546" y="959"/>
                    </a:lnTo>
                    <a:lnTo>
                      <a:pt x="520" y="959"/>
                    </a:lnTo>
                    <a:lnTo>
                      <a:pt x="484" y="959"/>
                    </a:lnTo>
                    <a:lnTo>
                      <a:pt x="459" y="959"/>
                    </a:lnTo>
                    <a:lnTo>
                      <a:pt x="432" y="959"/>
                    </a:lnTo>
                    <a:lnTo>
                      <a:pt x="372" y="959"/>
                    </a:lnTo>
                    <a:lnTo>
                      <a:pt x="336" y="959"/>
                    </a:lnTo>
                    <a:lnTo>
                      <a:pt x="276" y="959"/>
                    </a:lnTo>
                    <a:lnTo>
                      <a:pt x="249" y="959"/>
                    </a:lnTo>
                    <a:lnTo>
                      <a:pt x="223" y="959"/>
                    </a:lnTo>
                    <a:lnTo>
                      <a:pt x="196" y="959"/>
                    </a:lnTo>
                    <a:lnTo>
                      <a:pt x="171" y="959"/>
                    </a:lnTo>
                    <a:lnTo>
                      <a:pt x="144" y="959"/>
                    </a:lnTo>
                    <a:lnTo>
                      <a:pt x="118" y="959"/>
                    </a:lnTo>
                    <a:lnTo>
                      <a:pt x="92" y="959"/>
                    </a:lnTo>
                    <a:lnTo>
                      <a:pt x="66" y="959"/>
                    </a:lnTo>
                    <a:lnTo>
                      <a:pt x="40" y="959"/>
                    </a:lnTo>
                    <a:lnTo>
                      <a:pt x="13" y="959"/>
                    </a:lnTo>
                    <a:lnTo>
                      <a:pt x="38" y="965"/>
                    </a:lnTo>
                  </a:path>
                </a:pathLst>
              </a:custGeom>
              <a:noFill/>
              <a:ln cap="rnd" w="10160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76"/>
              <p:cNvSpPr/>
              <p:nvPr/>
            </p:nvSpPr>
            <p:spPr>
              <a:xfrm>
                <a:off x="3768840" y="1006560"/>
                <a:ext cx="555120" cy="549000"/>
              </a:xfrm>
              <a:custGeom>
                <a:avLst/>
                <a:gdLst>
                  <a:gd name="textAreaLeft" fmla="*/ 0 w 555120"/>
                  <a:gd name="textAreaRight" fmla="*/ 555480 w 555120"/>
                  <a:gd name="textAreaTop" fmla="*/ 0 h 549000"/>
                  <a:gd name="textAreaBottom" fmla="*/ 549360 h 549000"/>
                </a:gdLst>
                <a:ahLst/>
                <a:rect l="textAreaLeft" t="textAreaTop" r="textAreaRight" b="textAreaBottom"/>
                <a:pathLst>
                  <a:path w="350" h="346">
                    <a:moveTo>
                      <a:pt x="26" y="0"/>
                    </a:moveTo>
                    <a:lnTo>
                      <a:pt x="26" y="40"/>
                    </a:lnTo>
                    <a:lnTo>
                      <a:pt x="26" y="65"/>
                    </a:lnTo>
                    <a:lnTo>
                      <a:pt x="26" y="92"/>
                    </a:lnTo>
                    <a:lnTo>
                      <a:pt x="26" y="118"/>
                    </a:lnTo>
                    <a:lnTo>
                      <a:pt x="26" y="144"/>
                    </a:lnTo>
                    <a:lnTo>
                      <a:pt x="17" y="179"/>
                    </a:lnTo>
                    <a:lnTo>
                      <a:pt x="8" y="205"/>
                    </a:lnTo>
                    <a:lnTo>
                      <a:pt x="0" y="232"/>
                    </a:lnTo>
                    <a:lnTo>
                      <a:pt x="0" y="257"/>
                    </a:lnTo>
                    <a:lnTo>
                      <a:pt x="0" y="284"/>
                    </a:lnTo>
                    <a:lnTo>
                      <a:pt x="0" y="310"/>
                    </a:lnTo>
                    <a:lnTo>
                      <a:pt x="0" y="336"/>
                    </a:lnTo>
                    <a:lnTo>
                      <a:pt x="26" y="345"/>
                    </a:lnTo>
                    <a:lnTo>
                      <a:pt x="52" y="345"/>
                    </a:lnTo>
                    <a:lnTo>
                      <a:pt x="78" y="345"/>
                    </a:lnTo>
                    <a:lnTo>
                      <a:pt x="104" y="345"/>
                    </a:lnTo>
                    <a:lnTo>
                      <a:pt x="130" y="336"/>
                    </a:lnTo>
                    <a:lnTo>
                      <a:pt x="157" y="319"/>
                    </a:lnTo>
                    <a:lnTo>
                      <a:pt x="191" y="301"/>
                    </a:lnTo>
                    <a:lnTo>
                      <a:pt x="218" y="301"/>
                    </a:lnTo>
                    <a:lnTo>
                      <a:pt x="253" y="301"/>
                    </a:lnTo>
                    <a:lnTo>
                      <a:pt x="278" y="301"/>
                    </a:lnTo>
                    <a:lnTo>
                      <a:pt x="305" y="284"/>
                    </a:lnTo>
                    <a:lnTo>
                      <a:pt x="331" y="275"/>
                    </a:lnTo>
                    <a:lnTo>
                      <a:pt x="349" y="248"/>
                    </a:lnTo>
                    <a:lnTo>
                      <a:pt x="349" y="223"/>
                    </a:lnTo>
                    <a:lnTo>
                      <a:pt x="322" y="205"/>
                    </a:lnTo>
                    <a:lnTo>
                      <a:pt x="313" y="179"/>
                    </a:lnTo>
                    <a:lnTo>
                      <a:pt x="305" y="152"/>
                    </a:lnTo>
                    <a:lnTo>
                      <a:pt x="296" y="127"/>
                    </a:lnTo>
                    <a:lnTo>
                      <a:pt x="278" y="100"/>
                    </a:lnTo>
                    <a:lnTo>
                      <a:pt x="253" y="83"/>
                    </a:lnTo>
                    <a:lnTo>
                      <a:pt x="226" y="74"/>
                    </a:lnTo>
                    <a:lnTo>
                      <a:pt x="200" y="65"/>
                    </a:lnTo>
                    <a:lnTo>
                      <a:pt x="174" y="48"/>
                    </a:lnTo>
                    <a:lnTo>
                      <a:pt x="148" y="40"/>
                    </a:lnTo>
                    <a:lnTo>
                      <a:pt x="122" y="31"/>
                    </a:lnTo>
                    <a:lnTo>
                      <a:pt x="95" y="22"/>
                    </a:lnTo>
                    <a:lnTo>
                      <a:pt x="70" y="4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Freeform 77"/>
              <p:cNvSpPr/>
              <p:nvPr/>
            </p:nvSpPr>
            <p:spPr>
              <a:xfrm>
                <a:off x="3870360" y="1414440"/>
                <a:ext cx="550440" cy="583920"/>
              </a:xfrm>
              <a:custGeom>
                <a:avLst/>
                <a:gdLst>
                  <a:gd name="textAreaLeft" fmla="*/ 0 w 550440"/>
                  <a:gd name="textAreaRight" fmla="*/ 550800 w 550440"/>
                  <a:gd name="textAreaTop" fmla="*/ 0 h 583920"/>
                  <a:gd name="textAreaBottom" fmla="*/ 584280 h 583920"/>
                </a:gdLst>
                <a:ahLst/>
                <a:rect l="textAreaLeft" t="textAreaTop" r="textAreaRight" b="textAreaBottom"/>
                <a:pathLst>
                  <a:path w="347" h="368">
                    <a:moveTo>
                      <a:pt x="0" y="87"/>
                    </a:moveTo>
                    <a:lnTo>
                      <a:pt x="40" y="87"/>
                    </a:lnTo>
                    <a:lnTo>
                      <a:pt x="66" y="70"/>
                    </a:lnTo>
                    <a:lnTo>
                      <a:pt x="92" y="61"/>
                    </a:lnTo>
                    <a:lnTo>
                      <a:pt x="118" y="61"/>
                    </a:lnTo>
                    <a:lnTo>
                      <a:pt x="144" y="52"/>
                    </a:lnTo>
                    <a:lnTo>
                      <a:pt x="171" y="43"/>
                    </a:lnTo>
                    <a:lnTo>
                      <a:pt x="197" y="43"/>
                    </a:lnTo>
                    <a:lnTo>
                      <a:pt x="223" y="35"/>
                    </a:lnTo>
                    <a:lnTo>
                      <a:pt x="249" y="26"/>
                    </a:lnTo>
                    <a:lnTo>
                      <a:pt x="276" y="8"/>
                    </a:lnTo>
                    <a:lnTo>
                      <a:pt x="301" y="0"/>
                    </a:lnTo>
                    <a:lnTo>
                      <a:pt x="301" y="26"/>
                    </a:lnTo>
                    <a:lnTo>
                      <a:pt x="310" y="52"/>
                    </a:lnTo>
                    <a:lnTo>
                      <a:pt x="328" y="79"/>
                    </a:lnTo>
                    <a:lnTo>
                      <a:pt x="346" y="104"/>
                    </a:lnTo>
                    <a:lnTo>
                      <a:pt x="346" y="131"/>
                    </a:lnTo>
                    <a:lnTo>
                      <a:pt x="346" y="157"/>
                    </a:lnTo>
                    <a:lnTo>
                      <a:pt x="346" y="183"/>
                    </a:lnTo>
                    <a:lnTo>
                      <a:pt x="346" y="209"/>
                    </a:lnTo>
                    <a:lnTo>
                      <a:pt x="346" y="235"/>
                    </a:lnTo>
                    <a:lnTo>
                      <a:pt x="346" y="262"/>
                    </a:lnTo>
                    <a:lnTo>
                      <a:pt x="346" y="288"/>
                    </a:lnTo>
                    <a:lnTo>
                      <a:pt x="346" y="314"/>
                    </a:lnTo>
                    <a:lnTo>
                      <a:pt x="346" y="340"/>
                    </a:lnTo>
                    <a:lnTo>
                      <a:pt x="328" y="367"/>
                    </a:lnTo>
                    <a:lnTo>
                      <a:pt x="301" y="367"/>
                    </a:lnTo>
                    <a:lnTo>
                      <a:pt x="276" y="367"/>
                    </a:lnTo>
                    <a:lnTo>
                      <a:pt x="249" y="358"/>
                    </a:lnTo>
                    <a:lnTo>
                      <a:pt x="223" y="331"/>
                    </a:lnTo>
                    <a:lnTo>
                      <a:pt x="197" y="305"/>
                    </a:lnTo>
                    <a:lnTo>
                      <a:pt x="171" y="288"/>
                    </a:lnTo>
                    <a:lnTo>
                      <a:pt x="144" y="271"/>
                    </a:lnTo>
                    <a:lnTo>
                      <a:pt x="118" y="253"/>
                    </a:lnTo>
                    <a:lnTo>
                      <a:pt x="92" y="235"/>
                    </a:lnTo>
                    <a:lnTo>
                      <a:pt x="66" y="218"/>
                    </a:lnTo>
                    <a:lnTo>
                      <a:pt x="40" y="200"/>
                    </a:lnTo>
                    <a:lnTo>
                      <a:pt x="22" y="175"/>
                    </a:lnTo>
                    <a:lnTo>
                      <a:pt x="5" y="148"/>
                    </a:lnTo>
                    <a:lnTo>
                      <a:pt x="0" y="87"/>
                    </a:lnTo>
                    <a:lnTo>
                      <a:pt x="0" y="8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Freeform 78"/>
              <p:cNvSpPr/>
              <p:nvPr/>
            </p:nvSpPr>
            <p:spPr>
              <a:xfrm>
                <a:off x="3836880" y="1717560"/>
                <a:ext cx="528120" cy="571320"/>
              </a:xfrm>
              <a:custGeom>
                <a:avLst/>
                <a:gdLst>
                  <a:gd name="textAreaLeft" fmla="*/ 0 w 528120"/>
                  <a:gd name="textAreaRight" fmla="*/ 528480 w 52812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333" h="360">
                    <a:moveTo>
                      <a:pt x="20" y="11"/>
                    </a:moveTo>
                    <a:lnTo>
                      <a:pt x="60" y="0"/>
                    </a:lnTo>
                    <a:lnTo>
                      <a:pt x="87" y="8"/>
                    </a:lnTo>
                    <a:lnTo>
                      <a:pt x="113" y="26"/>
                    </a:lnTo>
                    <a:lnTo>
                      <a:pt x="139" y="52"/>
                    </a:lnTo>
                    <a:lnTo>
                      <a:pt x="166" y="70"/>
                    </a:lnTo>
                    <a:lnTo>
                      <a:pt x="192" y="88"/>
                    </a:lnTo>
                    <a:lnTo>
                      <a:pt x="218" y="104"/>
                    </a:lnTo>
                    <a:lnTo>
                      <a:pt x="244" y="122"/>
                    </a:lnTo>
                    <a:lnTo>
                      <a:pt x="262" y="149"/>
                    </a:lnTo>
                    <a:lnTo>
                      <a:pt x="288" y="166"/>
                    </a:lnTo>
                    <a:lnTo>
                      <a:pt x="315" y="175"/>
                    </a:lnTo>
                    <a:lnTo>
                      <a:pt x="332" y="201"/>
                    </a:lnTo>
                    <a:lnTo>
                      <a:pt x="315" y="227"/>
                    </a:lnTo>
                    <a:lnTo>
                      <a:pt x="288" y="245"/>
                    </a:lnTo>
                    <a:lnTo>
                      <a:pt x="262" y="271"/>
                    </a:lnTo>
                    <a:lnTo>
                      <a:pt x="235" y="289"/>
                    </a:lnTo>
                    <a:lnTo>
                      <a:pt x="210" y="306"/>
                    </a:lnTo>
                    <a:lnTo>
                      <a:pt x="183" y="323"/>
                    </a:lnTo>
                    <a:lnTo>
                      <a:pt x="157" y="341"/>
                    </a:lnTo>
                    <a:lnTo>
                      <a:pt x="130" y="350"/>
                    </a:lnTo>
                    <a:lnTo>
                      <a:pt x="105" y="350"/>
                    </a:lnTo>
                    <a:lnTo>
                      <a:pt x="78" y="359"/>
                    </a:lnTo>
                    <a:lnTo>
                      <a:pt x="52" y="359"/>
                    </a:lnTo>
                    <a:lnTo>
                      <a:pt x="26" y="359"/>
                    </a:lnTo>
                    <a:lnTo>
                      <a:pt x="8" y="332"/>
                    </a:lnTo>
                    <a:lnTo>
                      <a:pt x="0" y="306"/>
                    </a:lnTo>
                    <a:lnTo>
                      <a:pt x="0" y="280"/>
                    </a:lnTo>
                    <a:lnTo>
                      <a:pt x="0" y="254"/>
                    </a:lnTo>
                    <a:lnTo>
                      <a:pt x="0" y="227"/>
                    </a:lnTo>
                    <a:lnTo>
                      <a:pt x="0" y="201"/>
                    </a:lnTo>
                    <a:lnTo>
                      <a:pt x="0" y="175"/>
                    </a:lnTo>
                    <a:lnTo>
                      <a:pt x="0" y="149"/>
                    </a:lnTo>
                    <a:lnTo>
                      <a:pt x="0" y="122"/>
                    </a:lnTo>
                    <a:lnTo>
                      <a:pt x="8" y="96"/>
                    </a:lnTo>
                    <a:lnTo>
                      <a:pt x="17" y="70"/>
                    </a:lnTo>
                    <a:lnTo>
                      <a:pt x="20" y="11"/>
                    </a:lnTo>
                    <a:lnTo>
                      <a:pt x="20" y="11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eeec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Oval 79"/>
              <p:cNvSpPr/>
              <p:nvPr/>
            </p:nvSpPr>
            <p:spPr>
              <a:xfrm rot="19860000">
                <a:off x="3890520" y="2109600"/>
                <a:ext cx="474480" cy="1090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Oval 80"/>
              <p:cNvSpPr/>
              <p:nvPr/>
            </p:nvSpPr>
            <p:spPr>
              <a:xfrm rot="2100000">
                <a:off x="3890880" y="1133280"/>
                <a:ext cx="474480" cy="1108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Oval 81"/>
              <p:cNvSpPr/>
              <p:nvPr/>
            </p:nvSpPr>
            <p:spPr>
              <a:xfrm rot="5580000">
                <a:off x="4135320" y="1743120"/>
                <a:ext cx="474480" cy="1108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21" name="Rectangle 83"/>
            <p:cNvSpPr/>
            <p:nvPr/>
          </p:nvSpPr>
          <p:spPr>
            <a:xfrm>
              <a:off x="19080" y="2133720"/>
              <a:ext cx="68688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0" lang="ru-RU" sz="2800" spc="-1" strike="noStrike">
                  <a:solidFill>
                    <a:srgbClr val="ffcccc"/>
                  </a:solidFill>
                  <a:latin typeface="Calibri"/>
                </a:rPr>
                <a:t>B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2" name="Group 129"/>
            <p:cNvGrpSpPr/>
            <p:nvPr/>
          </p:nvGrpSpPr>
          <p:grpSpPr>
            <a:xfrm>
              <a:off x="6040440" y="457200"/>
              <a:ext cx="2620800" cy="3302640"/>
              <a:chOff x="6040440" y="457200"/>
              <a:chExt cx="2620800" cy="3302640"/>
            </a:xfrm>
          </p:grpSpPr>
          <p:sp useBgFill="1">
            <p:nvSpPr>
              <p:cNvPr id="1223" name="Oval 84"/>
              <p:cNvSpPr/>
              <p:nvPr/>
            </p:nvSpPr>
            <p:spPr>
              <a:xfrm>
                <a:off x="6040440" y="1257480"/>
                <a:ext cx="2587320" cy="2450880"/>
              </a:xfrm>
              <a:prstGeom prst="ellipse">
                <a:avLst/>
              </a:prstGeom>
              <a:ln w="12700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Line 85"/>
              <p:cNvSpPr/>
              <p:nvPr/>
            </p:nvSpPr>
            <p:spPr>
              <a:xfrm>
                <a:off x="6725880" y="533160"/>
                <a:ext cx="360" cy="876240"/>
              </a:xfrm>
              <a:prstGeom prst="line">
                <a:avLst/>
              </a:prstGeom>
              <a:ln w="5080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Line 86"/>
              <p:cNvSpPr/>
              <p:nvPr/>
            </p:nvSpPr>
            <p:spPr>
              <a:xfrm>
                <a:off x="7945200" y="457200"/>
                <a:ext cx="360" cy="952200"/>
              </a:xfrm>
              <a:prstGeom prst="line">
                <a:avLst/>
              </a:prstGeom>
              <a:ln w="5080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AutoShape 87"/>
              <p:cNvSpPr/>
              <p:nvPr/>
            </p:nvSpPr>
            <p:spPr>
              <a:xfrm flipH="1" flipV="1" rot="16440000">
                <a:off x="8011800" y="2238120"/>
                <a:ext cx="628200" cy="627840"/>
              </a:xfrm>
              <a:custGeom>
                <a:avLst/>
                <a:gdLst>
                  <a:gd name="textAreaLeft" fmla="*/ 130680 w 628200"/>
                  <a:gd name="textAreaRight" fmla="*/ 497520 w 628200"/>
                  <a:gd name="textAreaTop" fmla="*/ 130680 h 627840"/>
                  <a:gd name="textAreaBottom" fmla="*/ 497160 h 627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Oval 88"/>
              <p:cNvSpPr/>
              <p:nvPr/>
            </p:nvSpPr>
            <p:spPr>
              <a:xfrm rot="5640000">
                <a:off x="8196480" y="2422080"/>
                <a:ext cx="259920" cy="2599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AutoShape 89"/>
              <p:cNvSpPr/>
              <p:nvPr/>
            </p:nvSpPr>
            <p:spPr>
              <a:xfrm flipH="1" flipV="1" rot="7980000">
                <a:off x="6351840" y="156852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Oval 90"/>
              <p:cNvSpPr/>
              <p:nvPr/>
            </p:nvSpPr>
            <p:spPr>
              <a:xfrm rot="18780000">
                <a:off x="6525720" y="174312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AutoShape 91"/>
              <p:cNvSpPr/>
              <p:nvPr/>
            </p:nvSpPr>
            <p:spPr>
              <a:xfrm flipH="1" flipV="1" rot="6360000">
                <a:off x="6123240" y="194940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Oval 92"/>
              <p:cNvSpPr/>
              <p:nvPr/>
            </p:nvSpPr>
            <p:spPr>
              <a:xfrm rot="17160000">
                <a:off x="6297480" y="212400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AutoShape 93"/>
              <p:cNvSpPr/>
              <p:nvPr/>
            </p:nvSpPr>
            <p:spPr>
              <a:xfrm flipH="1" flipV="1" rot="19140000">
                <a:off x="7646760" y="294012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3" name="Oval 94"/>
              <p:cNvSpPr/>
              <p:nvPr/>
            </p:nvSpPr>
            <p:spPr>
              <a:xfrm rot="8340000">
                <a:off x="7821720" y="311472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4" name="AutoShape 95"/>
              <p:cNvSpPr/>
              <p:nvPr/>
            </p:nvSpPr>
            <p:spPr>
              <a:xfrm flipH="1" flipV="1" rot="18000000">
                <a:off x="7951680" y="263556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Oval 96"/>
              <p:cNvSpPr/>
              <p:nvPr/>
            </p:nvSpPr>
            <p:spPr>
              <a:xfrm rot="7200000">
                <a:off x="8126640" y="280980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AutoShape 97"/>
              <p:cNvSpPr/>
              <p:nvPr/>
            </p:nvSpPr>
            <p:spPr>
              <a:xfrm flipH="1" flipV="1" rot="14700000">
                <a:off x="7951320" y="1873080"/>
                <a:ext cx="596520" cy="59616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160"/>
                  <a:gd name="textAreaBottom" fmla="*/ 471960 h 59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7" name="Oval 98"/>
              <p:cNvSpPr/>
              <p:nvPr/>
            </p:nvSpPr>
            <p:spPr>
              <a:xfrm rot="3900000">
                <a:off x="8126640" y="204732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8" name="AutoShape 99"/>
              <p:cNvSpPr/>
              <p:nvPr/>
            </p:nvSpPr>
            <p:spPr>
              <a:xfrm flipH="1" flipV="1" rot="13020000">
                <a:off x="7647120" y="156816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Oval 100"/>
              <p:cNvSpPr/>
              <p:nvPr/>
            </p:nvSpPr>
            <p:spPr>
              <a:xfrm rot="2220000">
                <a:off x="7821720" y="174276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AutoShape 101"/>
              <p:cNvSpPr/>
              <p:nvPr/>
            </p:nvSpPr>
            <p:spPr>
              <a:xfrm flipH="1" flipV="1" rot="20640000">
                <a:off x="7265880" y="309240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1" name="Oval 102"/>
              <p:cNvSpPr/>
              <p:nvPr/>
            </p:nvSpPr>
            <p:spPr>
              <a:xfrm rot="9840000">
                <a:off x="7440840" y="326700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AutoShape 103"/>
              <p:cNvSpPr/>
              <p:nvPr/>
            </p:nvSpPr>
            <p:spPr>
              <a:xfrm flipH="1" flipV="1" rot="480000">
                <a:off x="6881760" y="3089160"/>
                <a:ext cx="603000" cy="603000"/>
              </a:xfrm>
              <a:custGeom>
                <a:avLst/>
                <a:gdLst>
                  <a:gd name="textAreaLeft" fmla="*/ 125640 w 603000"/>
                  <a:gd name="textAreaRight" fmla="*/ 477360 w 603000"/>
                  <a:gd name="textAreaTop" fmla="*/ 125640 h 603000"/>
                  <a:gd name="textAreaBottom" fmla="*/ 477360 h 60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Oval 104"/>
              <p:cNvSpPr/>
              <p:nvPr/>
            </p:nvSpPr>
            <p:spPr>
              <a:xfrm rot="11280000">
                <a:off x="7059960" y="326736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AutoShape 105"/>
              <p:cNvSpPr/>
              <p:nvPr/>
            </p:nvSpPr>
            <p:spPr>
              <a:xfrm flipH="1" flipV="1" rot="1800000">
                <a:off x="6579000" y="3006720"/>
                <a:ext cx="596520" cy="542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13040 h 542520"/>
                  <a:gd name="textAreaBottom" fmla="*/ 429480 h 542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Oval 106"/>
              <p:cNvSpPr/>
              <p:nvPr/>
            </p:nvSpPr>
            <p:spPr>
              <a:xfrm rot="12600000">
                <a:off x="6755040" y="3165840"/>
                <a:ext cx="247320" cy="225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AutoShape 107"/>
              <p:cNvSpPr/>
              <p:nvPr/>
            </p:nvSpPr>
            <p:spPr>
              <a:xfrm flipH="1" flipV="1" rot="3600000">
                <a:off x="6275160" y="2710080"/>
                <a:ext cx="596520" cy="59724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7240"/>
                  <a:gd name="textAreaBottom" fmla="*/ 473040 h 59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Oval 108"/>
              <p:cNvSpPr/>
              <p:nvPr/>
            </p:nvSpPr>
            <p:spPr>
              <a:xfrm rot="14400000">
                <a:off x="6446880" y="2882880"/>
                <a:ext cx="253800" cy="2538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AutoShape 109"/>
              <p:cNvSpPr/>
              <p:nvPr/>
            </p:nvSpPr>
            <p:spPr>
              <a:xfrm flipH="1" flipV="1" rot="5220000">
                <a:off x="6123240" y="2329560"/>
                <a:ext cx="596520" cy="596520"/>
              </a:xfrm>
              <a:custGeom>
                <a:avLst/>
                <a:gdLst>
                  <a:gd name="textAreaLeft" fmla="*/ 124200 w 596520"/>
                  <a:gd name="textAreaRight" fmla="*/ 472320 w 596520"/>
                  <a:gd name="textAreaTop" fmla="*/ 124200 h 596520"/>
                  <a:gd name="textAreaBottom" fmla="*/ 472320 h 59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Oval 110"/>
              <p:cNvSpPr/>
              <p:nvPr/>
            </p:nvSpPr>
            <p:spPr>
              <a:xfrm rot="16020000">
                <a:off x="6297480" y="2505240"/>
                <a:ext cx="247320" cy="247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AutoShape 111"/>
              <p:cNvSpPr/>
              <p:nvPr/>
            </p:nvSpPr>
            <p:spPr>
              <a:xfrm>
                <a:off x="7532640" y="844560"/>
                <a:ext cx="364680" cy="364680"/>
              </a:xfrm>
              <a:prstGeom prst="roundRect">
                <a:avLst>
                  <a:gd name="adj" fmla="val 12495"/>
                </a:avLst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Oval 112"/>
              <p:cNvSpPr/>
              <p:nvPr/>
            </p:nvSpPr>
            <p:spPr>
              <a:xfrm rot="5280000">
                <a:off x="7666560" y="977760"/>
                <a:ext cx="225000" cy="22500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52" name="Group 115"/>
              <p:cNvGrpSpPr/>
              <p:nvPr/>
            </p:nvGrpSpPr>
            <p:grpSpPr>
              <a:xfrm>
                <a:off x="7532640" y="539640"/>
                <a:ext cx="364680" cy="364680"/>
                <a:chOff x="7532640" y="539640"/>
                <a:chExt cx="364680" cy="364680"/>
              </a:xfrm>
            </p:grpSpPr>
            <p:sp>
              <p:nvSpPr>
                <p:cNvPr id="1253" name="AutoShape 113"/>
                <p:cNvSpPr/>
                <p:nvPr/>
              </p:nvSpPr>
              <p:spPr>
                <a:xfrm>
                  <a:off x="7532640" y="539640"/>
                  <a:ext cx="364680" cy="36468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4" name="Oval 114"/>
                <p:cNvSpPr/>
                <p:nvPr/>
              </p:nvSpPr>
              <p:spPr>
                <a:xfrm rot="5280000">
                  <a:off x="7666560" y="672840"/>
                  <a:ext cx="225000" cy="22500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55" name="AutoShape 116"/>
              <p:cNvSpPr/>
              <p:nvPr/>
            </p:nvSpPr>
            <p:spPr>
              <a:xfrm>
                <a:off x="7532640" y="1149480"/>
                <a:ext cx="364680" cy="364680"/>
              </a:xfrm>
              <a:prstGeom prst="roundRect">
                <a:avLst>
                  <a:gd name="adj" fmla="val 12495"/>
                </a:avLst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Oval 117"/>
              <p:cNvSpPr/>
              <p:nvPr/>
            </p:nvSpPr>
            <p:spPr>
              <a:xfrm rot="5280000">
                <a:off x="7666560" y="1282320"/>
                <a:ext cx="225000" cy="22500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57" name="Group 120"/>
              <p:cNvGrpSpPr/>
              <p:nvPr/>
            </p:nvGrpSpPr>
            <p:grpSpPr>
              <a:xfrm>
                <a:off x="6769800" y="539640"/>
                <a:ext cx="365400" cy="364680"/>
                <a:chOff x="6769800" y="539640"/>
                <a:chExt cx="365400" cy="364680"/>
              </a:xfrm>
            </p:grpSpPr>
            <p:sp>
              <p:nvSpPr>
                <p:cNvPr id="1258" name="AutoShape 118"/>
                <p:cNvSpPr/>
                <p:nvPr/>
              </p:nvSpPr>
              <p:spPr>
                <a:xfrm>
                  <a:off x="6770520" y="539640"/>
                  <a:ext cx="364680" cy="36468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9" name="Oval 119"/>
                <p:cNvSpPr/>
                <p:nvPr/>
              </p:nvSpPr>
              <p:spPr>
                <a:xfrm flipH="1" rot="16320000">
                  <a:off x="6773400" y="672840"/>
                  <a:ext cx="225000" cy="22500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60" name="AutoShape 121"/>
              <p:cNvSpPr/>
              <p:nvPr/>
            </p:nvSpPr>
            <p:spPr>
              <a:xfrm>
                <a:off x="6770520" y="844560"/>
                <a:ext cx="364680" cy="364680"/>
              </a:xfrm>
              <a:prstGeom prst="roundRect">
                <a:avLst>
                  <a:gd name="adj" fmla="val 12495"/>
                </a:avLst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Oval 122"/>
              <p:cNvSpPr/>
              <p:nvPr/>
            </p:nvSpPr>
            <p:spPr>
              <a:xfrm flipH="1" rot="16320000">
                <a:off x="6773400" y="977760"/>
                <a:ext cx="225000" cy="22500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AutoShape 123"/>
              <p:cNvSpPr/>
              <p:nvPr/>
            </p:nvSpPr>
            <p:spPr>
              <a:xfrm>
                <a:off x="6770520" y="1149480"/>
                <a:ext cx="364680" cy="364680"/>
              </a:xfrm>
              <a:prstGeom prst="roundRect">
                <a:avLst>
                  <a:gd name="adj" fmla="val 12495"/>
                </a:avLst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Oval 124"/>
              <p:cNvSpPr/>
              <p:nvPr/>
            </p:nvSpPr>
            <p:spPr>
              <a:xfrm flipH="1" rot="16320000">
                <a:off x="6773400" y="1282320"/>
                <a:ext cx="225000" cy="22500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Line 125"/>
              <p:cNvSpPr/>
              <p:nvPr/>
            </p:nvSpPr>
            <p:spPr>
              <a:xfrm>
                <a:off x="7107120" y="1295280"/>
                <a:ext cx="457200" cy="360"/>
              </a:xfrm>
              <a:prstGeom prst="line">
                <a:avLst/>
              </a:prstGeom>
              <a:ln w="12700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Line 126"/>
              <p:cNvSpPr/>
              <p:nvPr/>
            </p:nvSpPr>
            <p:spPr>
              <a:xfrm>
                <a:off x="7107120" y="1218960"/>
                <a:ext cx="457200" cy="360"/>
              </a:xfrm>
              <a:prstGeom prst="line">
                <a:avLst/>
              </a:prstGeom>
              <a:ln w="12700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Freeform 127"/>
              <p:cNvSpPr/>
              <p:nvPr/>
            </p:nvSpPr>
            <p:spPr>
              <a:xfrm>
                <a:off x="6651720" y="1447920"/>
                <a:ext cx="469440" cy="48240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482400"/>
                  <a:gd name="textAreaBottom" fmla="*/ 482760 h 482400"/>
                </a:gdLst>
                <a:ahLst/>
                <a:rect l="textAreaLeft" t="textAreaTop" r="textAreaRight" b="textAreaBottom"/>
                <a:pathLst>
                  <a:path w="296" h="304">
                    <a:moveTo>
                      <a:pt x="0" y="0"/>
                    </a:moveTo>
                    <a:lnTo>
                      <a:pt x="44" y="19"/>
                    </a:lnTo>
                    <a:lnTo>
                      <a:pt x="77" y="19"/>
                    </a:lnTo>
                    <a:lnTo>
                      <a:pt x="109" y="19"/>
                    </a:lnTo>
                    <a:lnTo>
                      <a:pt x="142" y="19"/>
                    </a:lnTo>
                    <a:lnTo>
                      <a:pt x="186" y="30"/>
                    </a:lnTo>
                    <a:lnTo>
                      <a:pt x="218" y="30"/>
                    </a:lnTo>
                    <a:lnTo>
                      <a:pt x="251" y="30"/>
                    </a:lnTo>
                    <a:lnTo>
                      <a:pt x="284" y="41"/>
                    </a:lnTo>
                    <a:lnTo>
                      <a:pt x="295" y="74"/>
                    </a:lnTo>
                    <a:lnTo>
                      <a:pt x="284" y="106"/>
                    </a:lnTo>
                    <a:lnTo>
                      <a:pt x="262" y="139"/>
                    </a:lnTo>
                    <a:lnTo>
                      <a:pt x="240" y="172"/>
                    </a:lnTo>
                    <a:lnTo>
                      <a:pt x="229" y="205"/>
                    </a:lnTo>
                    <a:lnTo>
                      <a:pt x="218" y="237"/>
                    </a:lnTo>
                    <a:lnTo>
                      <a:pt x="218" y="270"/>
                    </a:lnTo>
                    <a:lnTo>
                      <a:pt x="207" y="303"/>
                    </a:lnTo>
                    <a:lnTo>
                      <a:pt x="175" y="303"/>
                    </a:lnTo>
                    <a:lnTo>
                      <a:pt x="153" y="270"/>
                    </a:lnTo>
                    <a:lnTo>
                      <a:pt x="142" y="237"/>
                    </a:lnTo>
                    <a:lnTo>
                      <a:pt x="120" y="205"/>
                    </a:lnTo>
                    <a:lnTo>
                      <a:pt x="98" y="172"/>
                    </a:lnTo>
                    <a:lnTo>
                      <a:pt x="66" y="150"/>
                    </a:lnTo>
                    <a:lnTo>
                      <a:pt x="44" y="117"/>
                    </a:lnTo>
                    <a:lnTo>
                      <a:pt x="22" y="84"/>
                    </a:lnTo>
                    <a:lnTo>
                      <a:pt x="11" y="5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128"/>
              <p:cNvSpPr/>
              <p:nvPr/>
            </p:nvSpPr>
            <p:spPr>
              <a:xfrm>
                <a:off x="7566120" y="1495440"/>
                <a:ext cx="282240" cy="520200"/>
              </a:xfrm>
              <a:custGeom>
                <a:avLst/>
                <a:gdLst>
                  <a:gd name="textAreaLeft" fmla="*/ 0 w 282240"/>
                  <a:gd name="textAreaRight" fmla="*/ 282600 w 282240"/>
                  <a:gd name="textAreaTop" fmla="*/ 0 h 520200"/>
                  <a:gd name="textAreaBottom" fmla="*/ 520560 h 520200"/>
                </a:gdLst>
                <a:ahLst/>
                <a:rect l="textAreaLeft" t="textAreaTop" r="textAreaRight" b="textAreaBottom"/>
                <a:pathLst>
                  <a:path w="178" h="328">
                    <a:moveTo>
                      <a:pt x="0" y="18"/>
                    </a:moveTo>
                    <a:lnTo>
                      <a:pt x="57" y="0"/>
                    </a:lnTo>
                    <a:lnTo>
                      <a:pt x="90" y="0"/>
                    </a:lnTo>
                    <a:lnTo>
                      <a:pt x="122" y="0"/>
                    </a:lnTo>
                    <a:lnTo>
                      <a:pt x="155" y="0"/>
                    </a:lnTo>
                    <a:lnTo>
                      <a:pt x="177" y="33"/>
                    </a:lnTo>
                    <a:lnTo>
                      <a:pt x="177" y="65"/>
                    </a:lnTo>
                    <a:lnTo>
                      <a:pt x="166" y="109"/>
                    </a:lnTo>
                    <a:lnTo>
                      <a:pt x="155" y="142"/>
                    </a:lnTo>
                    <a:lnTo>
                      <a:pt x="133" y="175"/>
                    </a:lnTo>
                    <a:lnTo>
                      <a:pt x="133" y="207"/>
                    </a:lnTo>
                    <a:lnTo>
                      <a:pt x="112" y="240"/>
                    </a:lnTo>
                    <a:lnTo>
                      <a:pt x="90" y="284"/>
                    </a:lnTo>
                    <a:lnTo>
                      <a:pt x="79" y="316"/>
                    </a:lnTo>
                    <a:lnTo>
                      <a:pt x="46" y="327"/>
                    </a:lnTo>
                    <a:lnTo>
                      <a:pt x="35" y="295"/>
                    </a:lnTo>
                    <a:lnTo>
                      <a:pt x="35" y="262"/>
                    </a:lnTo>
                    <a:lnTo>
                      <a:pt x="35" y="229"/>
                    </a:lnTo>
                    <a:lnTo>
                      <a:pt x="35" y="196"/>
                    </a:lnTo>
                    <a:lnTo>
                      <a:pt x="24" y="164"/>
                    </a:lnTo>
                    <a:lnTo>
                      <a:pt x="24" y="131"/>
                    </a:lnTo>
                    <a:lnTo>
                      <a:pt x="13" y="98"/>
                    </a:lnTo>
                    <a:lnTo>
                      <a:pt x="2" y="65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68" name="Rectangle 130"/>
            <p:cNvSpPr/>
            <p:nvPr/>
          </p:nvSpPr>
          <p:spPr>
            <a:xfrm>
              <a:off x="5659560" y="76320"/>
              <a:ext cx="343008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en-US" sz="2800" spc="-1" strike="noStrike">
                  <a:solidFill>
                    <a:srgbClr val="558ed5"/>
                  </a:solidFill>
                  <a:latin typeface="Calibri"/>
                </a:rPr>
                <a:t>1. </a:t>
              </a:r>
              <a:r>
                <a:rPr b="1" lang="ru-RU" sz="2800" spc="-1" strike="noStrike">
                  <a:solidFill>
                    <a:srgbClr val="558ed5"/>
                  </a:solidFill>
                  <a:latin typeface="Calibri"/>
                </a:rPr>
                <a:t>SEROUS ALVEOLU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31"/>
            <p:cNvSpPr/>
            <p:nvPr/>
          </p:nvSpPr>
          <p:spPr>
            <a:xfrm>
              <a:off x="631800" y="5105520"/>
              <a:ext cx="259056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en-US" sz="2800" spc="-1" strike="noStrike">
                  <a:solidFill>
                    <a:srgbClr val="558ed5"/>
                  </a:solidFill>
                  <a:latin typeface="Calibri"/>
                </a:rPr>
                <a:t>3. MIXED UNI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132"/>
            <p:cNvSpPr/>
            <p:nvPr/>
          </p:nvSpPr>
          <p:spPr>
            <a:xfrm>
              <a:off x="1546200" y="5715000"/>
              <a:ext cx="1142640" cy="366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w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Arc 133"/>
            <p:cNvSpPr/>
            <p:nvPr/>
          </p:nvSpPr>
          <p:spPr>
            <a:xfrm>
              <a:off x="5743440" y="5715000"/>
              <a:ext cx="1746000" cy="914040"/>
            </a:xfrm>
            <a:custGeom>
              <a:avLst/>
              <a:gdLst>
                <a:gd name="textAreaLeft" fmla="*/ 0 w 1746000"/>
                <a:gd name="textAreaRight" fmla="*/ 1746360 w 174600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fill="none" w="23573" h="21600">
                  <a:moveTo>
                    <a:pt x="23573" y="0"/>
                  </a:moveTo>
                  <a:cubicBezTo>
                    <a:pt x="23573" y="11929"/>
                    <a:pt x="13902" y="21600"/>
                    <a:pt x="1973" y="21600"/>
                  </a:cubicBezTo>
                  <a:cubicBezTo>
                    <a:pt x="1314" y="21600"/>
                    <a:pt x="655" y="21569"/>
                    <a:pt x="0" y="21509"/>
                  </a:cubicBezTo>
                </a:path>
                <a:path stroke="0" w="23573" h="21600">
                  <a:moveTo>
                    <a:pt x="23573" y="0"/>
                  </a:moveTo>
                  <a:cubicBezTo>
                    <a:pt x="23573" y="11929"/>
                    <a:pt x="13902" y="21600"/>
                    <a:pt x="1973" y="21600"/>
                  </a:cubicBezTo>
                  <a:cubicBezTo>
                    <a:pt x="1314" y="21600"/>
                    <a:pt x="655" y="21569"/>
                    <a:pt x="0" y="21509"/>
                  </a:cubicBezTo>
                  <a:lnTo>
                    <a:pt x="1973" y="0"/>
                  </a:lnTo>
                  <a:close/>
                </a:path>
              </a:pathLst>
            </a:custGeom>
            <a:noFill/>
            <a:ln cap="rnd" w="25400">
              <a:solidFill>
                <a:srgbClr val="ffff00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Arc 134"/>
            <p:cNvSpPr/>
            <p:nvPr/>
          </p:nvSpPr>
          <p:spPr>
            <a:xfrm>
              <a:off x="7413480" y="533520"/>
              <a:ext cx="914040" cy="213336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133360"/>
                <a:gd name="textAreaBottom" fmla="*/ 2133720 h 2133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cap="rnd" w="127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Line 135"/>
            <p:cNvSpPr/>
            <p:nvPr/>
          </p:nvSpPr>
          <p:spPr>
            <a:xfrm flipV="1">
              <a:off x="3146400" y="2286000"/>
              <a:ext cx="457200" cy="761760"/>
            </a:xfrm>
            <a:prstGeom prst="line">
              <a:avLst/>
            </a:prstGeom>
            <a:ln>
              <a:solidFill>
                <a:srgbClr val="4f81bd"/>
              </a:solidFill>
              <a:round/>
              <a:tailEnd len="lg" type="stealth" w="med"/>
            </a:ln>
          </p:spPr>
          <p:style>
            <a:lnRef idx="3">
              <a:schemeClr val="accent1"/>
            </a:lnRef>
            <a:fillRef idx="0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Line 136"/>
            <p:cNvSpPr/>
            <p:nvPr/>
          </p:nvSpPr>
          <p:spPr>
            <a:xfrm>
              <a:off x="3527280" y="3276360"/>
              <a:ext cx="2895480" cy="1067040"/>
            </a:xfrm>
            <a:prstGeom prst="line">
              <a:avLst/>
            </a:prstGeom>
            <a:ln>
              <a:solidFill>
                <a:srgbClr val="4f81bd"/>
              </a:solidFill>
              <a:round/>
              <a:tailEnd len="lg" type="stealth" w="med"/>
            </a:ln>
          </p:spPr>
          <p:style>
            <a:lnRef idx="3">
              <a:schemeClr val="accent1"/>
            </a:lnRef>
            <a:fillRef idx="0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Group 628"/>
          <p:cNvGrpSpPr/>
          <p:nvPr/>
        </p:nvGrpSpPr>
        <p:grpSpPr>
          <a:xfrm>
            <a:off x="0" y="0"/>
            <a:ext cx="9107280" cy="6766920"/>
            <a:chOff x="0" y="0"/>
            <a:chExt cx="9107280" cy="6766920"/>
          </a:xfrm>
        </p:grpSpPr>
        <p:sp>
          <p:nvSpPr>
            <p:cNvPr id="1276" name="Rectangle 2"/>
            <p:cNvSpPr/>
            <p:nvPr/>
          </p:nvSpPr>
          <p:spPr>
            <a:xfrm>
              <a:off x="2362320" y="0"/>
              <a:ext cx="6744960" cy="64044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lang="ru-RU" sz="3600" spc="-1" strike="noStrike">
                  <a:solidFill>
                    <a:schemeClr val="accent2"/>
                  </a:solidFill>
                  <a:latin typeface="Calibri"/>
                </a:rPr>
                <a:t>PAROTID GLAND</a:t>
              </a:r>
              <a:r>
                <a:rPr b="1" lang="en-US" sz="3600" spc="-1" strike="noStrike">
                  <a:solidFill>
                    <a:schemeClr val="accent2"/>
                  </a:solidFill>
                  <a:latin typeface="Calibri"/>
                </a:rPr>
                <a:t> (serous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Group 618"/>
            <p:cNvGrpSpPr/>
            <p:nvPr/>
          </p:nvGrpSpPr>
          <p:grpSpPr>
            <a:xfrm>
              <a:off x="2340720" y="717480"/>
              <a:ext cx="6765840" cy="5707080"/>
              <a:chOff x="2340720" y="717480"/>
              <a:chExt cx="6765840" cy="5707080"/>
            </a:xfrm>
          </p:grpSpPr>
          <p:grpSp>
            <p:nvGrpSpPr>
              <p:cNvPr id="1278" name="Group 48"/>
              <p:cNvGrpSpPr/>
              <p:nvPr/>
            </p:nvGrpSpPr>
            <p:grpSpPr>
              <a:xfrm>
                <a:off x="4865400" y="5190480"/>
                <a:ext cx="1471320" cy="1200240"/>
                <a:chOff x="4865400" y="5190480"/>
                <a:chExt cx="1471320" cy="1200240"/>
              </a:xfrm>
            </p:grpSpPr>
            <p:sp useBgFill="1">
              <p:nvSpPr>
                <p:cNvPr id="1279" name="Oval 3"/>
                <p:cNvSpPr/>
                <p:nvPr/>
              </p:nvSpPr>
              <p:spPr>
                <a:xfrm rot="16560000">
                  <a:off x="5216400" y="5274000"/>
                  <a:ext cx="1096560" cy="1034640"/>
                </a:xfrm>
                <a:prstGeom prst="ellipse">
                  <a:avLst/>
                </a:prstGeom>
                <a:ln w="1270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0" name="Line 4"/>
                <p:cNvSpPr/>
                <p:nvPr/>
              </p:nvSpPr>
              <p:spPr>
                <a:xfrm>
                  <a:off x="4865400" y="5970240"/>
                  <a:ext cx="390600" cy="41400"/>
                </a:xfrm>
                <a:prstGeom prst="line">
                  <a:avLst/>
                </a:prstGeom>
                <a:ln w="508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1" name="Line 5"/>
                <p:cNvSpPr/>
                <p:nvPr/>
              </p:nvSpPr>
              <p:spPr>
                <a:xfrm>
                  <a:off x="4889160" y="5422680"/>
                  <a:ext cx="425520" cy="42840"/>
                </a:xfrm>
                <a:prstGeom prst="line">
                  <a:avLst/>
                </a:prstGeom>
                <a:ln w="508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2" name="AutoShape 6"/>
                <p:cNvSpPr/>
                <p:nvPr/>
              </p:nvSpPr>
              <p:spPr>
                <a:xfrm flipH="1" flipV="1" rot="11400000">
                  <a:off x="5703840" y="5212080"/>
                  <a:ext cx="277560" cy="275760"/>
                </a:xfrm>
                <a:custGeom>
                  <a:avLst/>
                  <a:gdLst>
                    <a:gd name="textAreaLeft" fmla="*/ 57600 w 277560"/>
                    <a:gd name="textAreaRight" fmla="*/ 219960 w 277560"/>
                    <a:gd name="textAreaTop" fmla="*/ 57240 h 275760"/>
                    <a:gd name="textAreaBottom" fmla="*/ 218520 h 27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3" name="Oval 7"/>
                <p:cNvSpPr/>
                <p:nvPr/>
              </p:nvSpPr>
              <p:spPr>
                <a:xfrm rot="600000">
                  <a:off x="5787720" y="5295600"/>
                  <a:ext cx="110880" cy="1108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4" name="AutoShape 8"/>
                <p:cNvSpPr/>
                <p:nvPr/>
              </p:nvSpPr>
              <p:spPr>
                <a:xfrm flipH="1" flipV="1" rot="2940000">
                  <a:off x="5326920" y="5937120"/>
                  <a:ext cx="259920" cy="261720"/>
                </a:xfrm>
                <a:custGeom>
                  <a:avLst/>
                  <a:gdLst>
                    <a:gd name="textAreaLeft" fmla="*/ 54000 w 259920"/>
                    <a:gd name="textAreaRight" fmla="*/ 205920 w 259920"/>
                    <a:gd name="textAreaTop" fmla="*/ 54360 h 261720"/>
                    <a:gd name="textAreaBottom" fmla="*/ 207360 h 261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5" name="Oval 9"/>
                <p:cNvSpPr/>
                <p:nvPr/>
              </p:nvSpPr>
              <p:spPr>
                <a:xfrm rot="13740000">
                  <a:off x="5405400" y="6015600"/>
                  <a:ext cx="10440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6" name="AutoShape 10"/>
                <p:cNvSpPr/>
                <p:nvPr/>
              </p:nvSpPr>
              <p:spPr>
                <a:xfrm flipH="1" flipV="1" rot="1320000">
                  <a:off x="5486400" y="605772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7" name="Oval 11"/>
                <p:cNvSpPr/>
                <p:nvPr/>
              </p:nvSpPr>
              <p:spPr>
                <a:xfrm rot="12120000">
                  <a:off x="5564520" y="6135840"/>
                  <a:ext cx="10584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8" name="AutoShape 12"/>
                <p:cNvSpPr/>
                <p:nvPr/>
              </p:nvSpPr>
              <p:spPr>
                <a:xfrm flipH="1" flipV="1" rot="14100000">
                  <a:off x="6001560" y="5420880"/>
                  <a:ext cx="261720" cy="26172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360 h 261720"/>
                    <a:gd name="textAreaBottom" fmla="*/ 207360 h 261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9" name="Oval 13"/>
                <p:cNvSpPr/>
                <p:nvPr/>
              </p:nvSpPr>
              <p:spPr>
                <a:xfrm rot="3300000">
                  <a:off x="6081840" y="550044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0" name="AutoShape 14"/>
                <p:cNvSpPr/>
                <p:nvPr/>
              </p:nvSpPr>
              <p:spPr>
                <a:xfrm flipH="1" flipV="1" rot="12960000">
                  <a:off x="5879520" y="5272200"/>
                  <a:ext cx="263160" cy="261720"/>
                </a:xfrm>
                <a:custGeom>
                  <a:avLst/>
                  <a:gdLst>
                    <a:gd name="textAreaLeft" fmla="*/ 54720 w 263160"/>
                    <a:gd name="textAreaRight" fmla="*/ 208440 w 263160"/>
                    <a:gd name="textAreaTop" fmla="*/ 54360 h 261720"/>
                    <a:gd name="textAreaBottom" fmla="*/ 207360 h 261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1" name="Oval 15"/>
                <p:cNvSpPr/>
                <p:nvPr/>
              </p:nvSpPr>
              <p:spPr>
                <a:xfrm rot="2160000">
                  <a:off x="5956200" y="5349600"/>
                  <a:ext cx="10584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2" name="AutoShape 16"/>
                <p:cNvSpPr/>
                <p:nvPr/>
              </p:nvSpPr>
              <p:spPr>
                <a:xfrm flipH="1" flipV="1" rot="9660000">
                  <a:off x="5538600" y="523584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3" name="Oval 17"/>
                <p:cNvSpPr/>
                <p:nvPr/>
              </p:nvSpPr>
              <p:spPr>
                <a:xfrm rot="20460000">
                  <a:off x="5616360" y="5315040"/>
                  <a:ext cx="104400" cy="10296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4" name="AutoShape 18"/>
                <p:cNvSpPr/>
                <p:nvPr/>
              </p:nvSpPr>
              <p:spPr>
                <a:xfrm flipH="1" flipV="1" rot="7980000">
                  <a:off x="5388120" y="5356800"/>
                  <a:ext cx="259920" cy="263520"/>
                </a:xfrm>
                <a:custGeom>
                  <a:avLst/>
                  <a:gdLst>
                    <a:gd name="textAreaLeft" fmla="*/ 54000 w 259920"/>
                    <a:gd name="textAreaRight" fmla="*/ 205920 w 259920"/>
                    <a:gd name="textAreaTop" fmla="*/ 54720 h 263520"/>
                    <a:gd name="textAreaBottom" fmla="*/ 208800 h 26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5" name="Oval 19"/>
                <p:cNvSpPr/>
                <p:nvPr/>
              </p:nvSpPr>
              <p:spPr>
                <a:xfrm rot="18780000">
                  <a:off x="5465520" y="5435640"/>
                  <a:ext cx="10584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6" name="AutoShape 20"/>
                <p:cNvSpPr/>
                <p:nvPr/>
              </p:nvSpPr>
              <p:spPr>
                <a:xfrm flipH="1" flipV="1" rot="15600000">
                  <a:off x="6051240" y="560016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7" name="Oval 21"/>
                <p:cNvSpPr/>
                <p:nvPr/>
              </p:nvSpPr>
              <p:spPr>
                <a:xfrm rot="4800000">
                  <a:off x="6129360" y="567828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8" name="AutoShape 22"/>
                <p:cNvSpPr/>
                <p:nvPr/>
              </p:nvSpPr>
              <p:spPr>
                <a:xfrm flipH="1" flipV="1" rot="17040000">
                  <a:off x="6031800" y="5770800"/>
                  <a:ext cx="264600" cy="263160"/>
                </a:xfrm>
                <a:custGeom>
                  <a:avLst/>
                  <a:gdLst>
                    <a:gd name="textAreaLeft" fmla="*/ 55080 w 264600"/>
                    <a:gd name="textAreaRight" fmla="*/ 209520 w 26460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9" name="Oval 23"/>
                <p:cNvSpPr/>
                <p:nvPr/>
              </p:nvSpPr>
              <p:spPr>
                <a:xfrm rot="6240000">
                  <a:off x="6112080" y="5848560"/>
                  <a:ext cx="10440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0" name="AutoShape 24"/>
                <p:cNvSpPr/>
                <p:nvPr/>
              </p:nvSpPr>
              <p:spPr>
                <a:xfrm flipH="1" flipV="1" rot="18360000">
                  <a:off x="5968080" y="5913360"/>
                  <a:ext cx="261720" cy="23760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49320 h 237600"/>
                    <a:gd name="textAreaBottom" fmla="*/ 188280 h 23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1" name="Oval 25"/>
                <p:cNvSpPr/>
                <p:nvPr/>
              </p:nvSpPr>
              <p:spPr>
                <a:xfrm rot="7560000">
                  <a:off x="6046920" y="5984640"/>
                  <a:ext cx="105840" cy="950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2" name="AutoShape 26"/>
                <p:cNvSpPr/>
                <p:nvPr/>
              </p:nvSpPr>
              <p:spPr>
                <a:xfrm flipH="1" flipV="1" rot="20160000">
                  <a:off x="5834880" y="602280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3" name="Oval 27"/>
                <p:cNvSpPr/>
                <p:nvPr/>
              </p:nvSpPr>
              <p:spPr>
                <a:xfrm rot="9360000">
                  <a:off x="5913720" y="6102720"/>
                  <a:ext cx="10440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4" name="AutoShape 28"/>
                <p:cNvSpPr/>
                <p:nvPr/>
              </p:nvSpPr>
              <p:spPr>
                <a:xfrm flipH="1" flipV="1" rot="180000">
                  <a:off x="5657760" y="6075360"/>
                  <a:ext cx="259920" cy="263160"/>
                </a:xfrm>
                <a:custGeom>
                  <a:avLst/>
                  <a:gdLst>
                    <a:gd name="textAreaLeft" fmla="*/ 54000 w 259920"/>
                    <a:gd name="textAreaRight" fmla="*/ 205920 w 2599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5" name="Oval 29"/>
                <p:cNvSpPr/>
                <p:nvPr/>
              </p:nvSpPr>
              <p:spPr>
                <a:xfrm rot="10980000">
                  <a:off x="5735880" y="615492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6" name="AutoShape 30"/>
                <p:cNvSpPr/>
                <p:nvPr/>
              </p:nvSpPr>
              <p:spPr>
                <a:xfrm rot="16560000">
                  <a:off x="5054400" y="5473440"/>
                  <a:ext cx="156960" cy="15696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7" name="Oval 31"/>
                <p:cNvSpPr/>
                <p:nvPr/>
              </p:nvSpPr>
              <p:spPr>
                <a:xfrm rot="240000">
                  <a:off x="5114880" y="5479560"/>
                  <a:ext cx="95040" cy="9324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08" name="Group 34"/>
                <p:cNvGrpSpPr/>
                <p:nvPr/>
              </p:nvGrpSpPr>
              <p:grpSpPr>
                <a:xfrm>
                  <a:off x="4908600" y="5451840"/>
                  <a:ext cx="172440" cy="172800"/>
                  <a:chOff x="4908600" y="5451840"/>
                  <a:chExt cx="172440" cy="172800"/>
                </a:xfrm>
              </p:grpSpPr>
              <p:sp>
                <p:nvSpPr>
                  <p:cNvPr id="1309" name="AutoShape 32"/>
                  <p:cNvSpPr/>
                  <p:nvPr/>
                </p:nvSpPr>
                <p:spPr>
                  <a:xfrm rot="16560000">
                    <a:off x="4916160" y="5459400"/>
                    <a:ext cx="156960" cy="15696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0" name="Oval 33"/>
                  <p:cNvSpPr/>
                  <p:nvPr/>
                </p:nvSpPr>
                <p:spPr>
                  <a:xfrm rot="240000">
                    <a:off x="4978080" y="5463720"/>
                    <a:ext cx="95040" cy="95040"/>
                  </a:xfrm>
                  <a:prstGeom prst="ellipse">
                    <a:avLst/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311" name="AutoShape 35"/>
                <p:cNvSpPr/>
                <p:nvPr/>
              </p:nvSpPr>
              <p:spPr>
                <a:xfrm rot="16560000">
                  <a:off x="5187600" y="5486760"/>
                  <a:ext cx="158400" cy="15840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2" name="Oval 36"/>
                <p:cNvSpPr/>
                <p:nvPr/>
              </p:nvSpPr>
              <p:spPr>
                <a:xfrm rot="240000">
                  <a:off x="5249520" y="5493960"/>
                  <a:ext cx="95040" cy="9324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13" name="Group 39"/>
                <p:cNvGrpSpPr/>
                <p:nvPr/>
              </p:nvGrpSpPr>
              <p:grpSpPr>
                <a:xfrm>
                  <a:off x="4872960" y="5793840"/>
                  <a:ext cx="172440" cy="171720"/>
                  <a:chOff x="4872960" y="5793840"/>
                  <a:chExt cx="172440" cy="171720"/>
                </a:xfrm>
              </p:grpSpPr>
              <p:sp>
                <p:nvSpPr>
                  <p:cNvPr id="1314" name="AutoShape 37"/>
                  <p:cNvSpPr/>
                  <p:nvPr/>
                </p:nvSpPr>
                <p:spPr>
                  <a:xfrm rot="16560000">
                    <a:off x="4881240" y="5800680"/>
                    <a:ext cx="155160" cy="15696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5" name="Oval 38"/>
                  <p:cNvSpPr/>
                  <p:nvPr/>
                </p:nvSpPr>
                <p:spPr>
                  <a:xfrm flipH="1" rot="11280000">
                    <a:off x="4936680" y="5862960"/>
                    <a:ext cx="93240" cy="96480"/>
                  </a:xfrm>
                  <a:prstGeom prst="ellipse">
                    <a:avLst/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316" name="AutoShape 40"/>
                <p:cNvSpPr/>
                <p:nvPr/>
              </p:nvSpPr>
              <p:spPr>
                <a:xfrm rot="16560000">
                  <a:off x="5017680" y="5815080"/>
                  <a:ext cx="156960" cy="15840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7" name="Oval 41"/>
                <p:cNvSpPr/>
                <p:nvPr/>
              </p:nvSpPr>
              <p:spPr>
                <a:xfrm flipH="1" rot="11280000">
                  <a:off x="5072040" y="5878080"/>
                  <a:ext cx="95040" cy="9540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8" name="AutoShape 42"/>
                <p:cNvSpPr/>
                <p:nvPr/>
              </p:nvSpPr>
              <p:spPr>
                <a:xfrm rot="16560000">
                  <a:off x="5152680" y="5829480"/>
                  <a:ext cx="158400" cy="15840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9" name="Oval 43"/>
                <p:cNvSpPr/>
                <p:nvPr/>
              </p:nvSpPr>
              <p:spPr>
                <a:xfrm flipH="1" rot="11280000">
                  <a:off x="5209560" y="5894280"/>
                  <a:ext cx="96480" cy="9324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0" name="Line 44"/>
                <p:cNvSpPr/>
                <p:nvPr/>
              </p:nvSpPr>
              <p:spPr>
                <a:xfrm flipV="1">
                  <a:off x="5224320" y="5632200"/>
                  <a:ext cx="20520" cy="204840"/>
                </a:xfrm>
                <a:prstGeom prst="line">
                  <a:avLst/>
                </a:prstGeom>
                <a:ln w="12700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1" name="Line 45"/>
                <p:cNvSpPr/>
                <p:nvPr/>
              </p:nvSpPr>
              <p:spPr>
                <a:xfrm flipV="1">
                  <a:off x="5189400" y="5627520"/>
                  <a:ext cx="22320" cy="204840"/>
                </a:xfrm>
                <a:prstGeom prst="line">
                  <a:avLst/>
                </a:prstGeom>
                <a:ln w="12700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2" name="Freeform 46"/>
                <p:cNvSpPr/>
                <p:nvPr/>
              </p:nvSpPr>
              <p:spPr>
                <a:xfrm>
                  <a:off x="5270400" y="5843520"/>
                  <a:ext cx="232920" cy="205920"/>
                </a:xfrm>
                <a:custGeom>
                  <a:avLst/>
                  <a:gdLst>
                    <a:gd name="textAreaLeft" fmla="*/ 0 w 232920"/>
                    <a:gd name="textAreaRight" fmla="*/ 233280 w 23292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47" h="130">
                      <a:moveTo>
                        <a:pt x="0" y="129"/>
                      </a:moveTo>
                      <a:lnTo>
                        <a:pt x="10" y="110"/>
                      </a:lnTo>
                      <a:lnTo>
                        <a:pt x="12" y="94"/>
                      </a:lnTo>
                      <a:lnTo>
                        <a:pt x="14" y="81"/>
                      </a:lnTo>
                      <a:lnTo>
                        <a:pt x="15" y="65"/>
                      </a:lnTo>
                      <a:lnTo>
                        <a:pt x="22" y="46"/>
                      </a:lnTo>
                      <a:lnTo>
                        <a:pt x="23" y="32"/>
                      </a:lnTo>
                      <a:lnTo>
                        <a:pt x="25" y="17"/>
                      </a:lnTo>
                      <a:lnTo>
                        <a:pt x="31" y="3"/>
                      </a:lnTo>
                      <a:lnTo>
                        <a:pt x="47" y="0"/>
                      </a:lnTo>
                      <a:lnTo>
                        <a:pt x="61" y="6"/>
                      </a:lnTo>
                      <a:lnTo>
                        <a:pt x="74" y="18"/>
                      </a:lnTo>
                      <a:lnTo>
                        <a:pt x="89" y="28"/>
                      </a:lnTo>
                      <a:lnTo>
                        <a:pt x="102" y="36"/>
                      </a:lnTo>
                      <a:lnTo>
                        <a:pt x="117" y="42"/>
                      </a:lnTo>
                      <a:lnTo>
                        <a:pt x="132" y="44"/>
                      </a:lnTo>
                      <a:lnTo>
                        <a:pt x="146" y="50"/>
                      </a:lnTo>
                      <a:lnTo>
                        <a:pt x="145" y="64"/>
                      </a:lnTo>
                      <a:lnTo>
                        <a:pt x="128" y="73"/>
                      </a:lnTo>
                      <a:lnTo>
                        <a:pt x="113" y="75"/>
                      </a:lnTo>
                      <a:lnTo>
                        <a:pt x="98" y="84"/>
                      </a:lnTo>
                      <a:lnTo>
                        <a:pt x="82" y="92"/>
                      </a:lnTo>
                      <a:lnTo>
                        <a:pt x="70" y="106"/>
                      </a:lnTo>
                      <a:lnTo>
                        <a:pt x="54" y="113"/>
                      </a:lnTo>
                      <a:lnTo>
                        <a:pt x="39" y="122"/>
                      </a:lnTo>
                      <a:lnTo>
                        <a:pt x="24" y="126"/>
                      </a:lnTo>
                      <a:lnTo>
                        <a:pt x="0" y="129"/>
                      </a:lnTo>
                      <a:lnTo>
                        <a:pt x="0" y="129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3" name="Freeform 47"/>
                <p:cNvSpPr/>
                <p:nvPr/>
              </p:nvSpPr>
              <p:spPr>
                <a:xfrm>
                  <a:off x="5338800" y="5518080"/>
                  <a:ext cx="234720" cy="126720"/>
                </a:xfrm>
                <a:custGeom>
                  <a:avLst/>
                  <a:gdLst>
                    <a:gd name="textAreaLeft" fmla="*/ 0 w 234720"/>
                    <a:gd name="textAreaRight" fmla="*/ 235080 w 23472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148" h="80">
                      <a:moveTo>
                        <a:pt x="5" y="77"/>
                      </a:moveTo>
                      <a:lnTo>
                        <a:pt x="0" y="51"/>
                      </a:lnTo>
                      <a:lnTo>
                        <a:pt x="1" y="36"/>
                      </a:lnTo>
                      <a:lnTo>
                        <a:pt x="3" y="21"/>
                      </a:lnTo>
                      <a:lnTo>
                        <a:pt x="4" y="8"/>
                      </a:lnTo>
                      <a:lnTo>
                        <a:pt x="20" y="0"/>
                      </a:lnTo>
                      <a:lnTo>
                        <a:pt x="35" y="0"/>
                      </a:lnTo>
                      <a:lnTo>
                        <a:pt x="54" y="8"/>
                      </a:lnTo>
                      <a:lnTo>
                        <a:pt x="68" y="14"/>
                      </a:lnTo>
                      <a:lnTo>
                        <a:pt x="82" y="26"/>
                      </a:lnTo>
                      <a:lnTo>
                        <a:pt x="96" y="26"/>
                      </a:lnTo>
                      <a:lnTo>
                        <a:pt x="110" y="37"/>
                      </a:lnTo>
                      <a:lnTo>
                        <a:pt x="129" y="49"/>
                      </a:lnTo>
                      <a:lnTo>
                        <a:pt x="143" y="56"/>
                      </a:lnTo>
                      <a:lnTo>
                        <a:pt x="147" y="70"/>
                      </a:lnTo>
                      <a:lnTo>
                        <a:pt x="131" y="75"/>
                      </a:lnTo>
                      <a:lnTo>
                        <a:pt x="117" y="73"/>
                      </a:lnTo>
                      <a:lnTo>
                        <a:pt x="101" y="71"/>
                      </a:lnTo>
                      <a:lnTo>
                        <a:pt x="87" y="70"/>
                      </a:lnTo>
                      <a:lnTo>
                        <a:pt x="72" y="73"/>
                      </a:lnTo>
                      <a:lnTo>
                        <a:pt x="56" y="71"/>
                      </a:lnTo>
                      <a:lnTo>
                        <a:pt x="42" y="74"/>
                      </a:lnTo>
                      <a:lnTo>
                        <a:pt x="27" y="79"/>
                      </a:lnTo>
                      <a:lnTo>
                        <a:pt x="5" y="77"/>
                      </a:lnTo>
                      <a:lnTo>
                        <a:pt x="5" y="77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24" name="Group 78"/>
              <p:cNvGrpSpPr/>
              <p:nvPr/>
            </p:nvGrpSpPr>
            <p:grpSpPr>
              <a:xfrm>
                <a:off x="6413760" y="5304600"/>
                <a:ext cx="1164960" cy="1119960"/>
                <a:chOff x="6413760" y="5304600"/>
                <a:chExt cx="1164960" cy="1119960"/>
              </a:xfrm>
            </p:grpSpPr>
            <p:sp useBgFill="1">
              <p:nvSpPr>
                <p:cNvPr id="1325" name="Oval 49"/>
                <p:cNvSpPr/>
                <p:nvPr/>
              </p:nvSpPr>
              <p:spPr>
                <a:xfrm>
                  <a:off x="6438960" y="5338800"/>
                  <a:ext cx="1093320" cy="1033200"/>
                </a:xfrm>
                <a:prstGeom prst="ellipse">
                  <a:avLst/>
                </a:prstGeom>
                <a:ln w="1270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6" name="AutoShape 50"/>
                <p:cNvSpPr/>
                <p:nvPr/>
              </p:nvSpPr>
              <p:spPr>
                <a:xfrm flipH="1" flipV="1" rot="16440000">
                  <a:off x="7268040" y="5686560"/>
                  <a:ext cx="242640" cy="361440"/>
                </a:xfrm>
                <a:custGeom>
                  <a:avLst/>
                  <a:gdLst>
                    <a:gd name="textAreaLeft" fmla="*/ 50400 w 242640"/>
                    <a:gd name="textAreaRight" fmla="*/ 192240 w 242640"/>
                    <a:gd name="textAreaTop" fmla="*/ 75240 h 361440"/>
                    <a:gd name="textAreaBottom" fmla="*/ 286200 h 36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7" name="Oval 51"/>
                <p:cNvSpPr/>
                <p:nvPr/>
              </p:nvSpPr>
              <p:spPr>
                <a:xfrm rot="5640000">
                  <a:off x="7377480" y="5830560"/>
                  <a:ext cx="109080" cy="1108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8" name="AutoShape 52"/>
                <p:cNvSpPr/>
                <p:nvPr/>
              </p:nvSpPr>
              <p:spPr>
                <a:xfrm flipH="1" flipV="1" rot="7980000">
                  <a:off x="6580080" y="5439600"/>
                  <a:ext cx="245880" cy="342720"/>
                </a:xfrm>
                <a:custGeom>
                  <a:avLst/>
                  <a:gdLst>
                    <a:gd name="textAreaLeft" fmla="*/ 51120 w 245880"/>
                    <a:gd name="textAreaRight" fmla="*/ 194760 w 245880"/>
                    <a:gd name="textAreaTop" fmla="*/ 71280 h 342720"/>
                    <a:gd name="textAreaBottom" fmla="*/ 271440 h 342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9" name="Oval 53"/>
                <p:cNvSpPr/>
                <p:nvPr/>
              </p:nvSpPr>
              <p:spPr>
                <a:xfrm rot="18780000">
                  <a:off x="6625800" y="5526000"/>
                  <a:ext cx="10296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0" name="AutoShape 54"/>
                <p:cNvSpPr/>
                <p:nvPr/>
              </p:nvSpPr>
              <p:spPr>
                <a:xfrm flipH="1" flipV="1" rot="6360000">
                  <a:off x="6532200" y="5555520"/>
                  <a:ext cx="258480" cy="442440"/>
                </a:xfrm>
                <a:custGeom>
                  <a:avLst/>
                  <a:gdLst>
                    <a:gd name="textAreaLeft" fmla="*/ 53640 w 258480"/>
                    <a:gd name="textAreaRight" fmla="*/ 204840 w 258480"/>
                    <a:gd name="textAreaTop" fmla="*/ 92160 h 442440"/>
                    <a:gd name="textAreaBottom" fmla="*/ 350280 h 442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1" name="Oval 55"/>
                <p:cNvSpPr/>
                <p:nvPr/>
              </p:nvSpPr>
              <p:spPr>
                <a:xfrm rot="17160000">
                  <a:off x="6522840" y="569772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2" name="AutoShape 56"/>
                <p:cNvSpPr/>
                <p:nvPr/>
              </p:nvSpPr>
              <p:spPr>
                <a:xfrm flipH="1" flipV="1" rot="19140000">
                  <a:off x="7184520" y="5886360"/>
                  <a:ext cx="137880" cy="416880"/>
                </a:xfrm>
                <a:custGeom>
                  <a:avLst/>
                  <a:gdLst>
                    <a:gd name="textAreaLeft" fmla="*/ 28440 w 137880"/>
                    <a:gd name="textAreaRight" fmla="*/ 109080 w 137880"/>
                    <a:gd name="textAreaTop" fmla="*/ 86760 h 416880"/>
                    <a:gd name="textAreaBottom" fmla="*/ 330120 h 416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3" name="AutoShape 57"/>
                <p:cNvSpPr/>
                <p:nvPr/>
              </p:nvSpPr>
              <p:spPr>
                <a:xfrm flipH="1" flipV="1" rot="18000000">
                  <a:off x="7234920" y="5783400"/>
                  <a:ext cx="167760" cy="490320"/>
                </a:xfrm>
                <a:custGeom>
                  <a:avLst/>
                  <a:gdLst>
                    <a:gd name="textAreaLeft" fmla="*/ 34920 w 167760"/>
                    <a:gd name="textAreaRight" fmla="*/ 132840 w 167760"/>
                    <a:gd name="textAreaTop" fmla="*/ 101880 h 490320"/>
                    <a:gd name="textAreaBottom" fmla="*/ 388440 h 490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4" name="Oval 58"/>
                <p:cNvSpPr/>
                <p:nvPr/>
              </p:nvSpPr>
              <p:spPr>
                <a:xfrm rot="7200000">
                  <a:off x="7345440" y="600552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5" name="AutoShape 59"/>
                <p:cNvSpPr/>
                <p:nvPr/>
              </p:nvSpPr>
              <p:spPr>
                <a:xfrm flipH="1" flipV="1" rot="14700000">
                  <a:off x="7221960" y="5527080"/>
                  <a:ext cx="217440" cy="388440"/>
                </a:xfrm>
                <a:custGeom>
                  <a:avLst/>
                  <a:gdLst>
                    <a:gd name="textAreaLeft" fmla="*/ 45360 w 217440"/>
                    <a:gd name="textAreaRight" fmla="*/ 172080 w 217440"/>
                    <a:gd name="textAreaTop" fmla="*/ 80640 h 388440"/>
                    <a:gd name="textAreaBottom" fmla="*/ 307440 h 388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6" name="Oval 60"/>
                <p:cNvSpPr/>
                <p:nvPr/>
              </p:nvSpPr>
              <p:spPr>
                <a:xfrm rot="3900000">
                  <a:off x="7345440" y="566244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7" name="AutoShape 61"/>
                <p:cNvSpPr/>
                <p:nvPr/>
              </p:nvSpPr>
              <p:spPr>
                <a:xfrm flipH="1" flipV="1" rot="13020000">
                  <a:off x="7081920" y="5426280"/>
                  <a:ext cx="244080" cy="429840"/>
                </a:xfrm>
                <a:custGeom>
                  <a:avLst/>
                  <a:gdLst>
                    <a:gd name="textAreaLeft" fmla="*/ 50760 w 244080"/>
                    <a:gd name="textAreaRight" fmla="*/ 193320 w 244080"/>
                    <a:gd name="textAreaTop" fmla="*/ 89280 h 429840"/>
                    <a:gd name="textAreaBottom" fmla="*/ 340560 h 429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8" name="AutoShape 62"/>
                <p:cNvSpPr/>
                <p:nvPr/>
              </p:nvSpPr>
              <p:spPr>
                <a:xfrm flipH="1" flipV="1" rot="20640000">
                  <a:off x="6926760" y="5931720"/>
                  <a:ext cx="355320" cy="452160"/>
                </a:xfrm>
                <a:custGeom>
                  <a:avLst/>
                  <a:gdLst>
                    <a:gd name="textAreaLeft" fmla="*/ 73800 w 355320"/>
                    <a:gd name="textAreaRight" fmla="*/ 281520 w 355320"/>
                    <a:gd name="textAreaTop" fmla="*/ 93960 h 452160"/>
                    <a:gd name="textAreaBottom" fmla="*/ 358200 h 452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9" name="Oval 63"/>
                <p:cNvSpPr/>
                <p:nvPr/>
              </p:nvSpPr>
              <p:spPr>
                <a:xfrm rot="9840000">
                  <a:off x="7037640" y="621216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0" name="AutoShape 64"/>
                <p:cNvSpPr/>
                <p:nvPr/>
              </p:nvSpPr>
              <p:spPr>
                <a:xfrm flipH="1" flipV="1" rot="480000">
                  <a:off x="6791760" y="6030000"/>
                  <a:ext cx="302760" cy="367920"/>
                </a:xfrm>
                <a:custGeom>
                  <a:avLst/>
                  <a:gdLst>
                    <a:gd name="textAreaLeft" fmla="*/ 63000 w 302760"/>
                    <a:gd name="textAreaRight" fmla="*/ 239760 w 302760"/>
                    <a:gd name="textAreaTop" fmla="*/ 76680 h 367920"/>
                    <a:gd name="textAreaBottom" fmla="*/ 291240 h 367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1" name="AutoShape 65"/>
                <p:cNvSpPr/>
                <p:nvPr/>
              </p:nvSpPr>
              <p:spPr>
                <a:xfrm flipH="1" flipV="1" rot="1800000">
                  <a:off x="6649920" y="6094440"/>
                  <a:ext cx="262080" cy="236160"/>
                </a:xfrm>
                <a:custGeom>
                  <a:avLst/>
                  <a:gdLst>
                    <a:gd name="textAreaLeft" fmla="*/ 54360 w 262080"/>
                    <a:gd name="textAreaRight" fmla="*/ 207720 w 262080"/>
                    <a:gd name="textAreaTop" fmla="*/ 48960 h 236160"/>
                    <a:gd name="textAreaBottom" fmla="*/ 187200 h 236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2" name="Oval 66"/>
                <p:cNvSpPr/>
                <p:nvPr/>
              </p:nvSpPr>
              <p:spPr>
                <a:xfrm rot="12600000">
                  <a:off x="6728040" y="6166080"/>
                  <a:ext cx="104400" cy="932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3" name="AutoShape 67"/>
                <p:cNvSpPr/>
                <p:nvPr/>
              </p:nvSpPr>
              <p:spPr>
                <a:xfrm flipH="1" flipV="1" rot="3600000">
                  <a:off x="6603120" y="5847480"/>
                  <a:ext cx="236160" cy="428400"/>
                </a:xfrm>
                <a:custGeom>
                  <a:avLst/>
                  <a:gdLst>
                    <a:gd name="textAreaLeft" fmla="*/ 48960 w 236160"/>
                    <a:gd name="textAreaRight" fmla="*/ 187200 w 236160"/>
                    <a:gd name="textAreaTop" fmla="*/ 89280 h 428400"/>
                    <a:gd name="textAreaBottom" fmla="*/ 339120 h 42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4" name="AutoShape 68"/>
                <p:cNvSpPr/>
                <p:nvPr/>
              </p:nvSpPr>
              <p:spPr>
                <a:xfrm flipH="1" flipV="1" rot="5220000">
                  <a:off x="6485760" y="5677920"/>
                  <a:ext cx="325080" cy="412560"/>
                </a:xfrm>
                <a:custGeom>
                  <a:avLst/>
                  <a:gdLst>
                    <a:gd name="textAreaLeft" fmla="*/ 67680 w 325080"/>
                    <a:gd name="textAreaRight" fmla="*/ 257400 w 325080"/>
                    <a:gd name="textAreaTop" fmla="*/ 85680 h 412560"/>
                    <a:gd name="textAreaBottom" fmla="*/ 326880 h 412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5" name="Oval 69"/>
                <p:cNvSpPr/>
                <p:nvPr/>
              </p:nvSpPr>
              <p:spPr>
                <a:xfrm rot="16020000">
                  <a:off x="6559200" y="5816520"/>
                  <a:ext cx="115560" cy="190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6" name="Freeform 70"/>
                <p:cNvSpPr/>
                <p:nvPr/>
              </p:nvSpPr>
              <p:spPr>
                <a:xfrm>
                  <a:off x="7091280" y="5410080"/>
                  <a:ext cx="126720" cy="23616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236160"/>
                    <a:gd name="textAreaBottom" fmla="*/ 236520 h 236160"/>
                  </a:gdLst>
                  <a:ahLst/>
                  <a:rect l="textAreaLeft" t="textAreaTop" r="textAreaRight" b="textAreaBottom"/>
                  <a:pathLst>
                    <a:path w="80" h="149">
                      <a:moveTo>
                        <a:pt x="0" y="8"/>
                      </a:moveTo>
                      <a:lnTo>
                        <a:pt x="25" y="0"/>
                      </a:lnTo>
                      <a:lnTo>
                        <a:pt x="40" y="0"/>
                      </a:lnTo>
                      <a:lnTo>
                        <a:pt x="54" y="0"/>
                      </a:lnTo>
                      <a:lnTo>
                        <a:pt x="69" y="0"/>
                      </a:lnTo>
                      <a:lnTo>
                        <a:pt x="79" y="14"/>
                      </a:lnTo>
                      <a:lnTo>
                        <a:pt x="79" y="29"/>
                      </a:lnTo>
                      <a:lnTo>
                        <a:pt x="74" y="49"/>
                      </a:lnTo>
                      <a:lnTo>
                        <a:pt x="69" y="64"/>
                      </a:lnTo>
                      <a:lnTo>
                        <a:pt x="59" y="79"/>
                      </a:lnTo>
                      <a:lnTo>
                        <a:pt x="59" y="93"/>
                      </a:lnTo>
                      <a:lnTo>
                        <a:pt x="49" y="108"/>
                      </a:lnTo>
                      <a:lnTo>
                        <a:pt x="40" y="128"/>
                      </a:lnTo>
                      <a:lnTo>
                        <a:pt x="35" y="143"/>
                      </a:lnTo>
                      <a:lnTo>
                        <a:pt x="20" y="148"/>
                      </a:lnTo>
                      <a:lnTo>
                        <a:pt x="15" y="133"/>
                      </a:lnTo>
                      <a:lnTo>
                        <a:pt x="15" y="118"/>
                      </a:lnTo>
                      <a:lnTo>
                        <a:pt x="15" y="103"/>
                      </a:lnTo>
                      <a:lnTo>
                        <a:pt x="15" y="88"/>
                      </a:lnTo>
                      <a:lnTo>
                        <a:pt x="10" y="74"/>
                      </a:lnTo>
                      <a:lnTo>
                        <a:pt x="10" y="59"/>
                      </a:lnTo>
                      <a:lnTo>
                        <a:pt x="5" y="44"/>
                      </a:lnTo>
                      <a:lnTo>
                        <a:pt x="0" y="29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7" name="Freeform 71"/>
                <p:cNvSpPr/>
                <p:nvPr/>
              </p:nvSpPr>
              <p:spPr>
                <a:xfrm>
                  <a:off x="6678720" y="5389560"/>
                  <a:ext cx="212400" cy="218880"/>
                </a:xfrm>
                <a:custGeom>
                  <a:avLst/>
                  <a:gdLst>
                    <a:gd name="textAreaLeft" fmla="*/ 0 w 212400"/>
                    <a:gd name="textAreaRight" fmla="*/ 212760 w 21240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134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34" y="8"/>
                      </a:lnTo>
                      <a:lnTo>
                        <a:pt x="49" y="8"/>
                      </a:lnTo>
                      <a:lnTo>
                        <a:pt x="64" y="8"/>
                      </a:lnTo>
                      <a:lnTo>
                        <a:pt x="83" y="13"/>
                      </a:lnTo>
                      <a:lnTo>
                        <a:pt x="98" y="13"/>
                      </a:lnTo>
                      <a:lnTo>
                        <a:pt x="113" y="13"/>
                      </a:lnTo>
                      <a:lnTo>
                        <a:pt x="128" y="18"/>
                      </a:lnTo>
                      <a:lnTo>
                        <a:pt x="133" y="33"/>
                      </a:lnTo>
                      <a:lnTo>
                        <a:pt x="128" y="47"/>
                      </a:lnTo>
                      <a:lnTo>
                        <a:pt x="118" y="62"/>
                      </a:lnTo>
                      <a:lnTo>
                        <a:pt x="108" y="77"/>
                      </a:lnTo>
                      <a:lnTo>
                        <a:pt x="103" y="92"/>
                      </a:lnTo>
                      <a:lnTo>
                        <a:pt x="98" y="107"/>
                      </a:lnTo>
                      <a:lnTo>
                        <a:pt x="98" y="122"/>
                      </a:lnTo>
                      <a:lnTo>
                        <a:pt x="93" y="137"/>
                      </a:lnTo>
                      <a:lnTo>
                        <a:pt x="78" y="137"/>
                      </a:lnTo>
                      <a:lnTo>
                        <a:pt x="68" y="122"/>
                      </a:lnTo>
                      <a:lnTo>
                        <a:pt x="64" y="107"/>
                      </a:lnTo>
                      <a:lnTo>
                        <a:pt x="54" y="92"/>
                      </a:lnTo>
                      <a:lnTo>
                        <a:pt x="44" y="77"/>
                      </a:lnTo>
                      <a:lnTo>
                        <a:pt x="29" y="67"/>
                      </a:lnTo>
                      <a:lnTo>
                        <a:pt x="19" y="52"/>
                      </a:lnTo>
                      <a:lnTo>
                        <a:pt x="9" y="37"/>
                      </a:lnTo>
                      <a:lnTo>
                        <a:pt x="4" y="2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48" name="Group 74"/>
                <p:cNvGrpSpPr/>
                <p:nvPr/>
              </p:nvGrpSpPr>
              <p:grpSpPr>
                <a:xfrm>
                  <a:off x="6832440" y="5304600"/>
                  <a:ext cx="361800" cy="384480"/>
                  <a:chOff x="6832440" y="5304600"/>
                  <a:chExt cx="361800" cy="384480"/>
                </a:xfrm>
              </p:grpSpPr>
              <p:sp>
                <p:nvSpPr>
                  <p:cNvPr id="1349" name="AutoShape 72"/>
                  <p:cNvSpPr/>
                  <p:nvPr/>
                </p:nvSpPr>
                <p:spPr>
                  <a:xfrm flipH="1" flipV="1" rot="12180000">
                    <a:off x="6881400" y="5343480"/>
                    <a:ext cx="263160" cy="30600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63720 h 306000"/>
                      <a:gd name="textAreaBottom" fmla="*/ 242280 h 306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50" name="Oval 73"/>
                  <p:cNvSpPr/>
                  <p:nvPr/>
                </p:nvSpPr>
                <p:spPr>
                  <a:xfrm rot="1380000">
                    <a:off x="6960960" y="5433480"/>
                    <a:ext cx="104400" cy="1249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351" name="Group 77"/>
                <p:cNvGrpSpPr/>
                <p:nvPr/>
              </p:nvGrpSpPr>
              <p:grpSpPr>
                <a:xfrm>
                  <a:off x="6731640" y="5331960"/>
                  <a:ext cx="324360" cy="432360"/>
                  <a:chOff x="6731640" y="5331960"/>
                  <a:chExt cx="324360" cy="432360"/>
                </a:xfrm>
              </p:grpSpPr>
              <p:sp>
                <p:nvSpPr>
                  <p:cNvPr id="1352" name="AutoShape 75"/>
                  <p:cNvSpPr/>
                  <p:nvPr/>
                </p:nvSpPr>
                <p:spPr>
                  <a:xfrm flipV="1" rot="10560000">
                    <a:off x="6745320" y="5340960"/>
                    <a:ext cx="296640" cy="412920"/>
                  </a:xfrm>
                  <a:custGeom>
                    <a:avLst/>
                    <a:gdLst>
                      <a:gd name="textAreaLeft" fmla="*/ 61560 w 296640"/>
                      <a:gd name="textAreaRight" fmla="*/ 235080 w 296640"/>
                      <a:gd name="textAreaTop" fmla="*/ 86040 h 412920"/>
                      <a:gd name="textAreaBottom" fmla="*/ 326880 h 412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53" name="Oval 76"/>
                  <p:cNvSpPr/>
                  <p:nvPr/>
                </p:nvSpPr>
                <p:spPr>
                  <a:xfrm flipH="1" rot="21360000">
                    <a:off x="6833160" y="5463720"/>
                    <a:ext cx="118800" cy="166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354" name="Freeform 79"/>
              <p:cNvSpPr/>
              <p:nvPr/>
            </p:nvSpPr>
            <p:spPr>
              <a:xfrm>
                <a:off x="4313160" y="1017720"/>
                <a:ext cx="3557160" cy="5376600"/>
              </a:xfrm>
              <a:custGeom>
                <a:avLst/>
                <a:gdLst>
                  <a:gd name="textAreaLeft" fmla="*/ 0 w 3557160"/>
                  <a:gd name="textAreaRight" fmla="*/ 3557520 w 3557160"/>
                  <a:gd name="textAreaTop" fmla="*/ 0 h 5376600"/>
                  <a:gd name="textAreaBottom" fmla="*/ 5376960 h 5376600"/>
                </a:gdLst>
                <a:ahLst/>
                <a:rect l="textAreaLeft" t="textAreaTop" r="textAreaRight" b="textAreaBottom"/>
                <a:pathLst>
                  <a:path w="2241" h="3387">
                    <a:moveTo>
                      <a:pt x="0" y="14"/>
                    </a:moveTo>
                    <a:lnTo>
                      <a:pt x="39" y="0"/>
                    </a:lnTo>
                    <a:lnTo>
                      <a:pt x="98" y="0"/>
                    </a:lnTo>
                    <a:lnTo>
                      <a:pt x="137" y="0"/>
                    </a:lnTo>
                    <a:lnTo>
                      <a:pt x="196" y="9"/>
                    </a:lnTo>
                    <a:lnTo>
                      <a:pt x="255" y="9"/>
                    </a:lnTo>
                    <a:lnTo>
                      <a:pt x="334" y="39"/>
                    </a:lnTo>
                    <a:lnTo>
                      <a:pt x="373" y="68"/>
                    </a:lnTo>
                    <a:lnTo>
                      <a:pt x="402" y="88"/>
                    </a:lnTo>
                    <a:lnTo>
                      <a:pt x="432" y="117"/>
                    </a:lnTo>
                    <a:lnTo>
                      <a:pt x="471" y="157"/>
                    </a:lnTo>
                    <a:lnTo>
                      <a:pt x="510" y="186"/>
                    </a:lnTo>
                    <a:lnTo>
                      <a:pt x="550" y="226"/>
                    </a:lnTo>
                    <a:lnTo>
                      <a:pt x="589" y="245"/>
                    </a:lnTo>
                    <a:lnTo>
                      <a:pt x="668" y="285"/>
                    </a:lnTo>
                    <a:lnTo>
                      <a:pt x="726" y="294"/>
                    </a:lnTo>
                    <a:lnTo>
                      <a:pt x="766" y="324"/>
                    </a:lnTo>
                    <a:lnTo>
                      <a:pt x="795" y="344"/>
                    </a:lnTo>
                    <a:lnTo>
                      <a:pt x="864" y="363"/>
                    </a:lnTo>
                    <a:lnTo>
                      <a:pt x="942" y="393"/>
                    </a:lnTo>
                    <a:lnTo>
                      <a:pt x="1002" y="393"/>
                    </a:lnTo>
                    <a:lnTo>
                      <a:pt x="1080" y="402"/>
                    </a:lnTo>
                    <a:lnTo>
                      <a:pt x="1120" y="412"/>
                    </a:lnTo>
                    <a:lnTo>
                      <a:pt x="1178" y="422"/>
                    </a:lnTo>
                    <a:lnTo>
                      <a:pt x="1237" y="432"/>
                    </a:lnTo>
                    <a:lnTo>
                      <a:pt x="1296" y="442"/>
                    </a:lnTo>
                    <a:lnTo>
                      <a:pt x="1326" y="461"/>
                    </a:lnTo>
                    <a:lnTo>
                      <a:pt x="1365" y="471"/>
                    </a:lnTo>
                    <a:lnTo>
                      <a:pt x="1424" y="481"/>
                    </a:lnTo>
                    <a:lnTo>
                      <a:pt x="1463" y="511"/>
                    </a:lnTo>
                    <a:lnTo>
                      <a:pt x="1492" y="540"/>
                    </a:lnTo>
                    <a:lnTo>
                      <a:pt x="1522" y="579"/>
                    </a:lnTo>
                    <a:lnTo>
                      <a:pt x="1552" y="619"/>
                    </a:lnTo>
                    <a:lnTo>
                      <a:pt x="1581" y="658"/>
                    </a:lnTo>
                    <a:lnTo>
                      <a:pt x="1590" y="688"/>
                    </a:lnTo>
                    <a:lnTo>
                      <a:pt x="1620" y="727"/>
                    </a:lnTo>
                    <a:lnTo>
                      <a:pt x="1640" y="766"/>
                    </a:lnTo>
                    <a:lnTo>
                      <a:pt x="1670" y="796"/>
                    </a:lnTo>
                    <a:lnTo>
                      <a:pt x="1689" y="825"/>
                    </a:lnTo>
                    <a:lnTo>
                      <a:pt x="1708" y="855"/>
                    </a:lnTo>
                    <a:lnTo>
                      <a:pt x="1748" y="884"/>
                    </a:lnTo>
                    <a:lnTo>
                      <a:pt x="1778" y="914"/>
                    </a:lnTo>
                    <a:lnTo>
                      <a:pt x="1816" y="943"/>
                    </a:lnTo>
                    <a:lnTo>
                      <a:pt x="1856" y="982"/>
                    </a:lnTo>
                    <a:lnTo>
                      <a:pt x="1896" y="1012"/>
                    </a:lnTo>
                    <a:lnTo>
                      <a:pt x="1924" y="1032"/>
                    </a:lnTo>
                    <a:lnTo>
                      <a:pt x="1954" y="1061"/>
                    </a:lnTo>
                    <a:lnTo>
                      <a:pt x="1984" y="1090"/>
                    </a:lnTo>
                    <a:lnTo>
                      <a:pt x="2014" y="1110"/>
                    </a:lnTo>
                    <a:lnTo>
                      <a:pt x="2032" y="1149"/>
                    </a:lnTo>
                    <a:lnTo>
                      <a:pt x="2062" y="1179"/>
                    </a:lnTo>
                    <a:lnTo>
                      <a:pt x="2092" y="1218"/>
                    </a:lnTo>
                    <a:lnTo>
                      <a:pt x="2112" y="1258"/>
                    </a:lnTo>
                    <a:lnTo>
                      <a:pt x="2131" y="1297"/>
                    </a:lnTo>
                    <a:lnTo>
                      <a:pt x="2150" y="1326"/>
                    </a:lnTo>
                    <a:lnTo>
                      <a:pt x="2170" y="1366"/>
                    </a:lnTo>
                    <a:lnTo>
                      <a:pt x="2190" y="1405"/>
                    </a:lnTo>
                    <a:lnTo>
                      <a:pt x="2200" y="1444"/>
                    </a:lnTo>
                    <a:lnTo>
                      <a:pt x="2210" y="1484"/>
                    </a:lnTo>
                    <a:lnTo>
                      <a:pt x="2220" y="1562"/>
                    </a:lnTo>
                    <a:lnTo>
                      <a:pt x="2220" y="1641"/>
                    </a:lnTo>
                    <a:lnTo>
                      <a:pt x="2220" y="1680"/>
                    </a:lnTo>
                    <a:lnTo>
                      <a:pt x="2220" y="1710"/>
                    </a:lnTo>
                    <a:lnTo>
                      <a:pt x="2230" y="1749"/>
                    </a:lnTo>
                    <a:lnTo>
                      <a:pt x="2240" y="1788"/>
                    </a:lnTo>
                    <a:lnTo>
                      <a:pt x="2240" y="1828"/>
                    </a:lnTo>
                    <a:lnTo>
                      <a:pt x="2240" y="1867"/>
                    </a:lnTo>
                    <a:lnTo>
                      <a:pt x="2240" y="1946"/>
                    </a:lnTo>
                    <a:lnTo>
                      <a:pt x="2240" y="2024"/>
                    </a:lnTo>
                    <a:lnTo>
                      <a:pt x="2240" y="2083"/>
                    </a:lnTo>
                    <a:lnTo>
                      <a:pt x="2240" y="2162"/>
                    </a:lnTo>
                    <a:lnTo>
                      <a:pt x="2240" y="2201"/>
                    </a:lnTo>
                    <a:lnTo>
                      <a:pt x="2240" y="2230"/>
                    </a:lnTo>
                    <a:lnTo>
                      <a:pt x="2240" y="2260"/>
                    </a:lnTo>
                    <a:lnTo>
                      <a:pt x="2240" y="2299"/>
                    </a:lnTo>
                    <a:lnTo>
                      <a:pt x="2240" y="2378"/>
                    </a:lnTo>
                    <a:lnTo>
                      <a:pt x="2230" y="2456"/>
                    </a:lnTo>
                    <a:lnTo>
                      <a:pt x="2220" y="2555"/>
                    </a:lnTo>
                    <a:lnTo>
                      <a:pt x="2210" y="2653"/>
                    </a:lnTo>
                    <a:lnTo>
                      <a:pt x="2200" y="2752"/>
                    </a:lnTo>
                    <a:lnTo>
                      <a:pt x="2200" y="2810"/>
                    </a:lnTo>
                    <a:lnTo>
                      <a:pt x="2200" y="2869"/>
                    </a:lnTo>
                    <a:lnTo>
                      <a:pt x="2190" y="2899"/>
                    </a:lnTo>
                    <a:lnTo>
                      <a:pt x="2190" y="2928"/>
                    </a:lnTo>
                    <a:lnTo>
                      <a:pt x="2190" y="2968"/>
                    </a:lnTo>
                    <a:lnTo>
                      <a:pt x="2190" y="3007"/>
                    </a:lnTo>
                    <a:lnTo>
                      <a:pt x="2180" y="3036"/>
                    </a:lnTo>
                    <a:lnTo>
                      <a:pt x="2180" y="3076"/>
                    </a:lnTo>
                    <a:lnTo>
                      <a:pt x="2180" y="3105"/>
                    </a:lnTo>
                    <a:lnTo>
                      <a:pt x="2170" y="3134"/>
                    </a:lnTo>
                    <a:lnTo>
                      <a:pt x="2170" y="3164"/>
                    </a:lnTo>
                    <a:lnTo>
                      <a:pt x="2170" y="3194"/>
                    </a:lnTo>
                    <a:lnTo>
                      <a:pt x="2160" y="3252"/>
                    </a:lnTo>
                    <a:lnTo>
                      <a:pt x="2160" y="3312"/>
                    </a:lnTo>
                    <a:lnTo>
                      <a:pt x="2150" y="3341"/>
                    </a:lnTo>
                    <a:lnTo>
                      <a:pt x="2150" y="3370"/>
                    </a:lnTo>
                    <a:lnTo>
                      <a:pt x="2160" y="3386"/>
                    </a:lnTo>
                  </a:path>
                </a:pathLst>
              </a:custGeom>
              <a:noFill/>
              <a:ln cap="rnd" w="508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5" name="Freeform 80"/>
              <p:cNvSpPr/>
              <p:nvPr/>
            </p:nvSpPr>
            <p:spPr>
              <a:xfrm>
                <a:off x="4246560" y="1109520"/>
                <a:ext cx="3795480" cy="5306760"/>
              </a:xfrm>
              <a:custGeom>
                <a:avLst/>
                <a:gdLst>
                  <a:gd name="textAreaLeft" fmla="*/ 0 w 3795480"/>
                  <a:gd name="textAreaRight" fmla="*/ 3795840 w 3795480"/>
                  <a:gd name="textAreaTop" fmla="*/ 0 h 5306760"/>
                  <a:gd name="textAreaBottom" fmla="*/ 5307120 h 5306760"/>
                </a:gdLst>
                <a:ahLst/>
                <a:rect l="textAreaLeft" t="textAreaTop" r="textAreaRight" b="textAreaBottom"/>
                <a:pathLst>
                  <a:path w="2391" h="3343">
                    <a:moveTo>
                      <a:pt x="0" y="0"/>
                    </a:moveTo>
                    <a:lnTo>
                      <a:pt x="43" y="1"/>
                    </a:lnTo>
                    <a:lnTo>
                      <a:pt x="82" y="1"/>
                    </a:lnTo>
                    <a:lnTo>
                      <a:pt x="111" y="10"/>
                    </a:lnTo>
                    <a:lnTo>
                      <a:pt x="141" y="20"/>
                    </a:lnTo>
                    <a:lnTo>
                      <a:pt x="170" y="20"/>
                    </a:lnTo>
                    <a:lnTo>
                      <a:pt x="199" y="30"/>
                    </a:lnTo>
                    <a:lnTo>
                      <a:pt x="278" y="40"/>
                    </a:lnTo>
                    <a:lnTo>
                      <a:pt x="308" y="40"/>
                    </a:lnTo>
                    <a:lnTo>
                      <a:pt x="337" y="50"/>
                    </a:lnTo>
                    <a:lnTo>
                      <a:pt x="377" y="60"/>
                    </a:lnTo>
                    <a:lnTo>
                      <a:pt x="406" y="60"/>
                    </a:lnTo>
                    <a:lnTo>
                      <a:pt x="435" y="70"/>
                    </a:lnTo>
                    <a:lnTo>
                      <a:pt x="465" y="70"/>
                    </a:lnTo>
                    <a:lnTo>
                      <a:pt x="494" y="80"/>
                    </a:lnTo>
                    <a:lnTo>
                      <a:pt x="524" y="90"/>
                    </a:lnTo>
                    <a:lnTo>
                      <a:pt x="563" y="99"/>
                    </a:lnTo>
                    <a:lnTo>
                      <a:pt x="622" y="109"/>
                    </a:lnTo>
                    <a:lnTo>
                      <a:pt x="661" y="118"/>
                    </a:lnTo>
                    <a:lnTo>
                      <a:pt x="700" y="138"/>
                    </a:lnTo>
                    <a:lnTo>
                      <a:pt x="730" y="138"/>
                    </a:lnTo>
                    <a:lnTo>
                      <a:pt x="769" y="148"/>
                    </a:lnTo>
                    <a:lnTo>
                      <a:pt x="799" y="158"/>
                    </a:lnTo>
                    <a:lnTo>
                      <a:pt x="858" y="168"/>
                    </a:lnTo>
                    <a:lnTo>
                      <a:pt x="916" y="178"/>
                    </a:lnTo>
                    <a:lnTo>
                      <a:pt x="946" y="188"/>
                    </a:lnTo>
                    <a:lnTo>
                      <a:pt x="985" y="198"/>
                    </a:lnTo>
                    <a:lnTo>
                      <a:pt x="1024" y="217"/>
                    </a:lnTo>
                    <a:lnTo>
                      <a:pt x="1054" y="217"/>
                    </a:lnTo>
                    <a:lnTo>
                      <a:pt x="1093" y="236"/>
                    </a:lnTo>
                    <a:lnTo>
                      <a:pt x="1123" y="246"/>
                    </a:lnTo>
                    <a:lnTo>
                      <a:pt x="1182" y="256"/>
                    </a:lnTo>
                    <a:lnTo>
                      <a:pt x="1211" y="266"/>
                    </a:lnTo>
                    <a:lnTo>
                      <a:pt x="1290" y="286"/>
                    </a:lnTo>
                    <a:lnTo>
                      <a:pt x="1329" y="306"/>
                    </a:lnTo>
                    <a:lnTo>
                      <a:pt x="1388" y="316"/>
                    </a:lnTo>
                    <a:lnTo>
                      <a:pt x="1427" y="335"/>
                    </a:lnTo>
                    <a:lnTo>
                      <a:pt x="1456" y="344"/>
                    </a:lnTo>
                    <a:lnTo>
                      <a:pt x="1516" y="354"/>
                    </a:lnTo>
                    <a:lnTo>
                      <a:pt x="1574" y="364"/>
                    </a:lnTo>
                    <a:lnTo>
                      <a:pt x="1604" y="374"/>
                    </a:lnTo>
                    <a:lnTo>
                      <a:pt x="1643" y="394"/>
                    </a:lnTo>
                    <a:lnTo>
                      <a:pt x="1672" y="414"/>
                    </a:lnTo>
                    <a:lnTo>
                      <a:pt x="1712" y="443"/>
                    </a:lnTo>
                    <a:lnTo>
                      <a:pt x="1741" y="472"/>
                    </a:lnTo>
                    <a:lnTo>
                      <a:pt x="1761" y="512"/>
                    </a:lnTo>
                    <a:lnTo>
                      <a:pt x="1790" y="551"/>
                    </a:lnTo>
                    <a:lnTo>
                      <a:pt x="1820" y="590"/>
                    </a:lnTo>
                    <a:lnTo>
                      <a:pt x="1830" y="620"/>
                    </a:lnTo>
                    <a:lnTo>
                      <a:pt x="1859" y="650"/>
                    </a:lnTo>
                    <a:lnTo>
                      <a:pt x="1878" y="679"/>
                    </a:lnTo>
                    <a:lnTo>
                      <a:pt x="1898" y="708"/>
                    </a:lnTo>
                    <a:lnTo>
                      <a:pt x="1928" y="738"/>
                    </a:lnTo>
                    <a:lnTo>
                      <a:pt x="1938" y="767"/>
                    </a:lnTo>
                    <a:lnTo>
                      <a:pt x="1958" y="797"/>
                    </a:lnTo>
                    <a:lnTo>
                      <a:pt x="1986" y="836"/>
                    </a:lnTo>
                    <a:lnTo>
                      <a:pt x="2016" y="866"/>
                    </a:lnTo>
                    <a:lnTo>
                      <a:pt x="2046" y="895"/>
                    </a:lnTo>
                    <a:lnTo>
                      <a:pt x="2075" y="924"/>
                    </a:lnTo>
                    <a:lnTo>
                      <a:pt x="2114" y="954"/>
                    </a:lnTo>
                    <a:lnTo>
                      <a:pt x="2144" y="993"/>
                    </a:lnTo>
                    <a:lnTo>
                      <a:pt x="2174" y="1023"/>
                    </a:lnTo>
                    <a:lnTo>
                      <a:pt x="2212" y="1062"/>
                    </a:lnTo>
                    <a:lnTo>
                      <a:pt x="2242" y="1101"/>
                    </a:lnTo>
                    <a:lnTo>
                      <a:pt x="2272" y="1131"/>
                    </a:lnTo>
                    <a:lnTo>
                      <a:pt x="2291" y="1160"/>
                    </a:lnTo>
                    <a:lnTo>
                      <a:pt x="2310" y="1190"/>
                    </a:lnTo>
                    <a:lnTo>
                      <a:pt x="2340" y="1229"/>
                    </a:lnTo>
                    <a:lnTo>
                      <a:pt x="2360" y="1258"/>
                    </a:lnTo>
                    <a:lnTo>
                      <a:pt x="2370" y="1288"/>
                    </a:lnTo>
                    <a:lnTo>
                      <a:pt x="2370" y="1327"/>
                    </a:lnTo>
                    <a:lnTo>
                      <a:pt x="2380" y="1357"/>
                    </a:lnTo>
                    <a:lnTo>
                      <a:pt x="2380" y="1386"/>
                    </a:lnTo>
                    <a:lnTo>
                      <a:pt x="2380" y="1416"/>
                    </a:lnTo>
                    <a:lnTo>
                      <a:pt x="2390" y="1455"/>
                    </a:lnTo>
                    <a:lnTo>
                      <a:pt x="2390" y="1484"/>
                    </a:lnTo>
                    <a:lnTo>
                      <a:pt x="2390" y="1514"/>
                    </a:lnTo>
                    <a:lnTo>
                      <a:pt x="2390" y="1544"/>
                    </a:lnTo>
                    <a:lnTo>
                      <a:pt x="2390" y="1573"/>
                    </a:lnTo>
                    <a:lnTo>
                      <a:pt x="2380" y="1602"/>
                    </a:lnTo>
                    <a:lnTo>
                      <a:pt x="2360" y="1642"/>
                    </a:lnTo>
                    <a:lnTo>
                      <a:pt x="2350" y="1671"/>
                    </a:lnTo>
                    <a:lnTo>
                      <a:pt x="2330" y="1701"/>
                    </a:lnTo>
                    <a:lnTo>
                      <a:pt x="2310" y="1730"/>
                    </a:lnTo>
                    <a:lnTo>
                      <a:pt x="2291" y="1770"/>
                    </a:lnTo>
                    <a:lnTo>
                      <a:pt x="2262" y="1809"/>
                    </a:lnTo>
                    <a:lnTo>
                      <a:pt x="2262" y="1838"/>
                    </a:lnTo>
                    <a:lnTo>
                      <a:pt x="2252" y="1868"/>
                    </a:lnTo>
                    <a:lnTo>
                      <a:pt x="2242" y="1897"/>
                    </a:lnTo>
                    <a:lnTo>
                      <a:pt x="2232" y="1927"/>
                    </a:lnTo>
                    <a:lnTo>
                      <a:pt x="2222" y="1956"/>
                    </a:lnTo>
                    <a:lnTo>
                      <a:pt x="2222" y="1986"/>
                    </a:lnTo>
                    <a:lnTo>
                      <a:pt x="2222" y="2015"/>
                    </a:lnTo>
                    <a:lnTo>
                      <a:pt x="2222" y="2045"/>
                    </a:lnTo>
                    <a:lnTo>
                      <a:pt x="2222" y="2074"/>
                    </a:lnTo>
                    <a:lnTo>
                      <a:pt x="2222" y="2104"/>
                    </a:lnTo>
                    <a:lnTo>
                      <a:pt x="2222" y="2133"/>
                    </a:lnTo>
                    <a:lnTo>
                      <a:pt x="2222" y="2192"/>
                    </a:lnTo>
                    <a:lnTo>
                      <a:pt x="2222" y="2221"/>
                    </a:lnTo>
                    <a:lnTo>
                      <a:pt x="2222" y="2251"/>
                    </a:lnTo>
                    <a:lnTo>
                      <a:pt x="2212" y="2290"/>
                    </a:lnTo>
                    <a:lnTo>
                      <a:pt x="2212" y="2320"/>
                    </a:lnTo>
                    <a:lnTo>
                      <a:pt x="2212" y="2349"/>
                    </a:lnTo>
                    <a:lnTo>
                      <a:pt x="2202" y="2389"/>
                    </a:lnTo>
                    <a:lnTo>
                      <a:pt x="2202" y="2418"/>
                    </a:lnTo>
                    <a:lnTo>
                      <a:pt x="2202" y="2497"/>
                    </a:lnTo>
                    <a:lnTo>
                      <a:pt x="2192" y="2556"/>
                    </a:lnTo>
                    <a:lnTo>
                      <a:pt x="2192" y="2615"/>
                    </a:lnTo>
                    <a:lnTo>
                      <a:pt x="2183" y="2644"/>
                    </a:lnTo>
                    <a:lnTo>
                      <a:pt x="2183" y="2673"/>
                    </a:lnTo>
                    <a:lnTo>
                      <a:pt x="2183" y="2703"/>
                    </a:lnTo>
                    <a:lnTo>
                      <a:pt x="2174" y="2733"/>
                    </a:lnTo>
                    <a:lnTo>
                      <a:pt x="2174" y="2762"/>
                    </a:lnTo>
                    <a:lnTo>
                      <a:pt x="2174" y="2791"/>
                    </a:lnTo>
                    <a:lnTo>
                      <a:pt x="2164" y="2821"/>
                    </a:lnTo>
                    <a:lnTo>
                      <a:pt x="2164" y="2850"/>
                    </a:lnTo>
                    <a:lnTo>
                      <a:pt x="2144" y="2880"/>
                    </a:lnTo>
                    <a:lnTo>
                      <a:pt x="2144" y="2909"/>
                    </a:lnTo>
                    <a:lnTo>
                      <a:pt x="2144" y="2949"/>
                    </a:lnTo>
                    <a:lnTo>
                      <a:pt x="2144" y="3007"/>
                    </a:lnTo>
                    <a:lnTo>
                      <a:pt x="2134" y="3047"/>
                    </a:lnTo>
                    <a:lnTo>
                      <a:pt x="2134" y="3076"/>
                    </a:lnTo>
                    <a:lnTo>
                      <a:pt x="2124" y="3116"/>
                    </a:lnTo>
                    <a:lnTo>
                      <a:pt x="2124" y="3194"/>
                    </a:lnTo>
                    <a:lnTo>
                      <a:pt x="2114" y="3253"/>
                    </a:lnTo>
                    <a:lnTo>
                      <a:pt x="2104" y="3312"/>
                    </a:lnTo>
                    <a:lnTo>
                      <a:pt x="2104" y="3342"/>
                    </a:lnTo>
                    <a:lnTo>
                      <a:pt x="2116" y="3327"/>
                    </a:lnTo>
                  </a:path>
                </a:pathLst>
              </a:custGeom>
              <a:noFill/>
              <a:ln cap="rnd" w="508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56" name="Group 617"/>
              <p:cNvGrpSpPr/>
              <p:nvPr/>
            </p:nvGrpSpPr>
            <p:grpSpPr>
              <a:xfrm>
                <a:off x="2340720" y="717480"/>
                <a:ext cx="6765840" cy="5630400"/>
                <a:chOff x="2340720" y="717480"/>
                <a:chExt cx="6765840" cy="5630400"/>
              </a:xfrm>
            </p:grpSpPr>
            <p:grpSp>
              <p:nvGrpSpPr>
                <p:cNvPr id="1357" name="Group 310"/>
                <p:cNvGrpSpPr/>
                <p:nvPr/>
              </p:nvGrpSpPr>
              <p:grpSpPr>
                <a:xfrm>
                  <a:off x="2830320" y="4213080"/>
                  <a:ext cx="1486080" cy="1556280"/>
                  <a:chOff x="2830320" y="4213080"/>
                  <a:chExt cx="1486080" cy="1556280"/>
                </a:xfrm>
              </p:grpSpPr>
              <p:sp useBgFill="1">
                <p:nvSpPr>
                  <p:cNvPr id="1358" name="Oval 81"/>
                  <p:cNvSpPr/>
                  <p:nvPr/>
                </p:nvSpPr>
                <p:spPr>
                  <a:xfrm>
                    <a:off x="2871720" y="4255920"/>
                    <a:ext cx="1393560" cy="1453680"/>
                  </a:xfrm>
                  <a:prstGeom prst="ellipse">
                    <a:avLst/>
                  </a:prstGeom>
                  <a:ln w="101600">
                    <a:solidFill>
                      <a:srgbClr val="ff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359" name="Group 233"/>
                  <p:cNvGrpSpPr/>
                  <p:nvPr/>
                </p:nvGrpSpPr>
                <p:grpSpPr>
                  <a:xfrm>
                    <a:off x="2830320" y="4240440"/>
                    <a:ext cx="1486080" cy="1528920"/>
                    <a:chOff x="2830320" y="4240440"/>
                    <a:chExt cx="1486080" cy="1528920"/>
                  </a:xfrm>
                </p:grpSpPr>
                <p:grpSp>
                  <p:nvGrpSpPr>
                    <p:cNvPr id="1360" name="Group 91"/>
                    <p:cNvGrpSpPr/>
                    <p:nvPr/>
                  </p:nvGrpSpPr>
                  <p:grpSpPr>
                    <a:xfrm>
                      <a:off x="3382920" y="4240440"/>
                      <a:ext cx="347400" cy="414000"/>
                      <a:chOff x="3382920" y="4240440"/>
                      <a:chExt cx="347400" cy="414000"/>
                    </a:xfrm>
                  </p:grpSpPr>
                  <p:sp>
                    <p:nvSpPr>
                      <p:cNvPr id="1361" name="AutoShape 82"/>
                      <p:cNvSpPr/>
                      <p:nvPr/>
                    </p:nvSpPr>
                    <p:spPr>
                      <a:xfrm flipH="1" flipV="1" rot="10800000">
                        <a:off x="3382560" y="4240440"/>
                        <a:ext cx="347400" cy="382320"/>
                      </a:xfrm>
                      <a:custGeom>
                        <a:avLst/>
                        <a:gdLst>
                          <a:gd name="textAreaLeft" fmla="*/ 72360 w 347400"/>
                          <a:gd name="textAreaRight" fmla="*/ 275040 w 347400"/>
                          <a:gd name="textAreaTop" fmla="*/ 79560 h 382320"/>
                          <a:gd name="textAreaBottom" fmla="*/ 302760 h 3823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362" name="Group 90"/>
                      <p:cNvGrpSpPr/>
                      <p:nvPr/>
                    </p:nvGrpSpPr>
                    <p:grpSpPr>
                      <a:xfrm>
                        <a:off x="3487680" y="4587840"/>
                        <a:ext cx="136800" cy="66600"/>
                        <a:chOff x="3487680" y="4587840"/>
                        <a:chExt cx="136800" cy="66600"/>
                      </a:xfrm>
                    </p:grpSpPr>
                    <p:sp>
                      <p:nvSpPr>
                        <p:cNvPr id="1363" name="Line 83"/>
                        <p:cNvSpPr/>
                        <p:nvPr/>
                      </p:nvSpPr>
                      <p:spPr>
                        <a:xfrm>
                          <a:off x="348768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4" name="Line 84"/>
                        <p:cNvSpPr/>
                        <p:nvPr/>
                      </p:nvSpPr>
                      <p:spPr>
                        <a:xfrm>
                          <a:off x="352260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5" name="Line 85"/>
                        <p:cNvSpPr/>
                        <p:nvPr/>
                      </p:nvSpPr>
                      <p:spPr>
                        <a:xfrm>
                          <a:off x="35557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6" name="Line 86"/>
                        <p:cNvSpPr/>
                        <p:nvPr/>
                      </p:nvSpPr>
                      <p:spPr>
                        <a:xfrm>
                          <a:off x="35557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7" name="Line 87"/>
                        <p:cNvSpPr/>
                        <p:nvPr/>
                      </p:nvSpPr>
                      <p:spPr>
                        <a:xfrm>
                          <a:off x="359064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8" name="Line 88"/>
                        <p:cNvSpPr/>
                        <p:nvPr/>
                      </p:nvSpPr>
                      <p:spPr>
                        <a:xfrm>
                          <a:off x="36241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69" name="Line 89"/>
                        <p:cNvSpPr/>
                        <p:nvPr/>
                      </p:nvSpPr>
                      <p:spPr>
                        <a:xfrm>
                          <a:off x="36241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70" name="Group 101"/>
                    <p:cNvGrpSpPr/>
                    <p:nvPr/>
                  </p:nvGrpSpPr>
                  <p:grpSpPr>
                    <a:xfrm>
                      <a:off x="3568680" y="4256640"/>
                      <a:ext cx="470160" cy="488160"/>
                      <a:chOff x="3568680" y="4256640"/>
                      <a:chExt cx="470160" cy="488160"/>
                    </a:xfrm>
                  </p:grpSpPr>
                  <p:sp>
                    <p:nvSpPr>
                      <p:cNvPr id="1371" name="AutoShape 92"/>
                      <p:cNvSpPr/>
                      <p:nvPr/>
                    </p:nvSpPr>
                    <p:spPr>
                      <a:xfrm flipH="1" flipV="1" rot="12240000">
                        <a:off x="3630960" y="4310280"/>
                        <a:ext cx="345600" cy="38052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9200 h 380520"/>
                          <a:gd name="textAreaBottom" fmla="*/ 301320 h 38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372" name="Group 100"/>
                      <p:cNvGrpSpPr/>
                      <p:nvPr/>
                    </p:nvGrpSpPr>
                    <p:grpSpPr>
                      <a:xfrm>
                        <a:off x="3651120" y="4617720"/>
                        <a:ext cx="152280" cy="119160"/>
                        <a:chOff x="3651120" y="4617720"/>
                        <a:chExt cx="152280" cy="119160"/>
                      </a:xfrm>
                    </p:grpSpPr>
                    <p:sp>
                      <p:nvSpPr>
                        <p:cNvPr id="1373" name="Line 93"/>
                        <p:cNvSpPr/>
                        <p:nvPr/>
                      </p:nvSpPr>
                      <p:spPr>
                        <a:xfrm flipH="1">
                          <a:off x="3651120" y="4617720"/>
                          <a:ext cx="27000" cy="61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920" bIns="16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4" name="Line 94"/>
                        <p:cNvSpPr/>
                        <p:nvPr/>
                      </p:nvSpPr>
                      <p:spPr>
                        <a:xfrm flipH="1">
                          <a:off x="3679560" y="4630680"/>
                          <a:ext cx="28800" cy="60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5" name="Line 95"/>
                        <p:cNvSpPr/>
                        <p:nvPr/>
                      </p:nvSpPr>
                      <p:spPr>
                        <a:xfrm flipH="1">
                          <a:off x="3711240" y="4644720"/>
                          <a:ext cx="28800" cy="637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720" bIns="187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6" name="Line 96"/>
                        <p:cNvSpPr/>
                        <p:nvPr/>
                      </p:nvSpPr>
                      <p:spPr>
                        <a:xfrm flipH="1">
                          <a:off x="3711240" y="4644720"/>
                          <a:ext cx="28800" cy="637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720" bIns="187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7" name="Line 97"/>
                        <p:cNvSpPr/>
                        <p:nvPr/>
                      </p:nvSpPr>
                      <p:spPr>
                        <a:xfrm flipH="1">
                          <a:off x="3743280" y="4659120"/>
                          <a:ext cx="28440" cy="633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360" bIns="183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8" name="Line 98"/>
                        <p:cNvSpPr/>
                        <p:nvPr/>
                      </p:nvSpPr>
                      <p:spPr>
                        <a:xfrm flipH="1">
                          <a:off x="3774960" y="4671720"/>
                          <a:ext cx="28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79" name="Line 99"/>
                        <p:cNvSpPr/>
                        <p:nvPr/>
                      </p:nvSpPr>
                      <p:spPr>
                        <a:xfrm flipH="1">
                          <a:off x="3774960" y="4671720"/>
                          <a:ext cx="28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80" name="Group 111"/>
                    <p:cNvGrpSpPr/>
                    <p:nvPr/>
                  </p:nvGrpSpPr>
                  <p:grpSpPr>
                    <a:xfrm>
                      <a:off x="3726000" y="4385520"/>
                      <a:ext cx="514080" cy="512280"/>
                      <a:chOff x="3726000" y="4385520"/>
                      <a:chExt cx="514080" cy="512280"/>
                    </a:xfrm>
                  </p:grpSpPr>
                  <p:sp>
                    <p:nvSpPr>
                      <p:cNvPr id="1381" name="AutoShape 102"/>
                      <p:cNvSpPr/>
                      <p:nvPr/>
                    </p:nvSpPr>
                    <p:spPr>
                      <a:xfrm flipH="1" flipV="1" rot="13620000">
                        <a:off x="3809880" y="4450680"/>
                        <a:ext cx="345600" cy="38052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9200 h 380520"/>
                          <a:gd name="textAreaBottom" fmla="*/ 301320 h 38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382" name="Group 110"/>
                      <p:cNvGrpSpPr/>
                      <p:nvPr/>
                    </p:nvGrpSpPr>
                    <p:grpSpPr>
                      <a:xfrm>
                        <a:off x="3768480" y="4697280"/>
                        <a:ext cx="146160" cy="149040"/>
                        <a:chOff x="3768480" y="4697280"/>
                        <a:chExt cx="146160" cy="149040"/>
                      </a:xfrm>
                    </p:grpSpPr>
                    <p:sp>
                      <p:nvSpPr>
                        <p:cNvPr id="1383" name="Line 103"/>
                        <p:cNvSpPr/>
                        <p:nvPr/>
                      </p:nvSpPr>
                      <p:spPr>
                        <a:xfrm flipH="1">
                          <a:off x="3768480" y="4697280"/>
                          <a:ext cx="54000" cy="493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" bIns="43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4" name="Line 104"/>
                        <p:cNvSpPr/>
                        <p:nvPr/>
                      </p:nvSpPr>
                      <p:spPr>
                        <a:xfrm flipH="1">
                          <a:off x="3794040" y="4722480"/>
                          <a:ext cx="52200" cy="47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" bIns="2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5" name="Line 105"/>
                        <p:cNvSpPr/>
                        <p:nvPr/>
                      </p:nvSpPr>
                      <p:spPr>
                        <a:xfrm flipH="1">
                          <a:off x="3816000" y="4749480"/>
                          <a:ext cx="49320" cy="46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6" name="Line 106"/>
                        <p:cNvSpPr/>
                        <p:nvPr/>
                      </p:nvSpPr>
                      <p:spPr>
                        <a:xfrm flipH="1">
                          <a:off x="3816000" y="4749480"/>
                          <a:ext cx="49320" cy="46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7" name="Line 107"/>
                        <p:cNvSpPr/>
                        <p:nvPr/>
                      </p:nvSpPr>
                      <p:spPr>
                        <a:xfrm flipH="1">
                          <a:off x="3840120" y="4776480"/>
                          <a:ext cx="48960" cy="46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8" name="Line 108"/>
                        <p:cNvSpPr/>
                        <p:nvPr/>
                      </p:nvSpPr>
                      <p:spPr>
                        <a:xfrm flipH="1">
                          <a:off x="3865320" y="4798800"/>
                          <a:ext cx="49320" cy="475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89" name="Line 109"/>
                        <p:cNvSpPr/>
                        <p:nvPr/>
                      </p:nvSpPr>
                      <p:spPr>
                        <a:xfrm flipH="1">
                          <a:off x="3865320" y="4798800"/>
                          <a:ext cx="49320" cy="475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390" name="Group 121"/>
                    <p:cNvGrpSpPr/>
                    <p:nvPr/>
                  </p:nvGrpSpPr>
                  <p:grpSpPr>
                    <a:xfrm>
                      <a:off x="3850920" y="4629240"/>
                      <a:ext cx="465480" cy="439920"/>
                      <a:chOff x="3850920" y="4629240"/>
                      <a:chExt cx="465480" cy="439920"/>
                    </a:xfrm>
                  </p:grpSpPr>
                  <p:sp>
                    <p:nvSpPr>
                      <p:cNvPr id="1391" name="AutoShape 112"/>
                      <p:cNvSpPr/>
                      <p:nvPr/>
                    </p:nvSpPr>
                    <p:spPr>
                      <a:xfrm flipH="1" flipV="1" rot="15180000">
                        <a:off x="3912120" y="4659480"/>
                        <a:ext cx="344160" cy="379080"/>
                      </a:xfrm>
                      <a:custGeom>
                        <a:avLst/>
                        <a:gdLst>
                          <a:gd name="textAreaLeft" fmla="*/ 71640 w 344160"/>
                          <a:gd name="textAreaRight" fmla="*/ 272520 w 344160"/>
                          <a:gd name="textAreaTop" fmla="*/ 78840 h 379080"/>
                          <a:gd name="textAreaBottom" fmla="*/ 300240 h 37908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392" name="Group 120"/>
                      <p:cNvGrpSpPr/>
                      <p:nvPr/>
                    </p:nvGrpSpPr>
                    <p:grpSpPr>
                      <a:xfrm>
                        <a:off x="3850920" y="4830480"/>
                        <a:ext cx="105120" cy="150840"/>
                        <a:chOff x="3850920" y="4830480"/>
                        <a:chExt cx="105120" cy="150840"/>
                      </a:xfrm>
                    </p:grpSpPr>
                    <p:sp>
                      <p:nvSpPr>
                        <p:cNvPr id="1393" name="Line 113"/>
                        <p:cNvSpPr/>
                        <p:nvPr/>
                      </p:nvSpPr>
                      <p:spPr>
                        <a:xfrm flipH="1">
                          <a:off x="3850920" y="4830480"/>
                          <a:ext cx="6840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4" name="Line 114"/>
                        <p:cNvSpPr/>
                        <p:nvPr/>
                      </p:nvSpPr>
                      <p:spPr>
                        <a:xfrm flipH="1">
                          <a:off x="3859200" y="4863960"/>
                          <a:ext cx="6480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5" name="Line 115"/>
                        <p:cNvSpPr/>
                        <p:nvPr/>
                      </p:nvSpPr>
                      <p:spPr>
                        <a:xfrm flipH="1">
                          <a:off x="3868560" y="4897080"/>
                          <a:ext cx="68400" cy="20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6" name="Line 116"/>
                        <p:cNvSpPr/>
                        <p:nvPr/>
                      </p:nvSpPr>
                      <p:spPr>
                        <a:xfrm flipH="1">
                          <a:off x="3868560" y="4897080"/>
                          <a:ext cx="68400" cy="20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7" name="Line 117"/>
                        <p:cNvSpPr/>
                        <p:nvPr/>
                      </p:nvSpPr>
                      <p:spPr>
                        <a:xfrm flipH="1">
                          <a:off x="3881160" y="4930560"/>
                          <a:ext cx="65160" cy="205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8" name="Line 118"/>
                        <p:cNvSpPr/>
                        <p:nvPr/>
                      </p:nvSpPr>
                      <p:spPr>
                        <a:xfrm flipH="1">
                          <a:off x="3889080" y="4962240"/>
                          <a:ext cx="6696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399" name="Line 119"/>
                        <p:cNvSpPr/>
                        <p:nvPr/>
                      </p:nvSpPr>
                      <p:spPr>
                        <a:xfrm flipH="1">
                          <a:off x="3889080" y="4962240"/>
                          <a:ext cx="6696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00" name="Group 131"/>
                    <p:cNvGrpSpPr/>
                    <p:nvPr/>
                  </p:nvGrpSpPr>
                  <p:grpSpPr>
                    <a:xfrm>
                      <a:off x="3852720" y="4901400"/>
                      <a:ext cx="439200" cy="381960"/>
                      <a:chOff x="3852720" y="4901400"/>
                      <a:chExt cx="439200" cy="381960"/>
                    </a:xfrm>
                  </p:grpSpPr>
                  <p:sp>
                    <p:nvSpPr>
                      <p:cNvPr id="1401" name="AutoShape 122"/>
                      <p:cNvSpPr/>
                      <p:nvPr/>
                    </p:nvSpPr>
                    <p:spPr>
                      <a:xfrm flipH="1" flipV="1" rot="16560000">
                        <a:off x="3912120" y="4901760"/>
                        <a:ext cx="344160" cy="380520"/>
                      </a:xfrm>
                      <a:custGeom>
                        <a:avLst/>
                        <a:gdLst>
                          <a:gd name="textAreaLeft" fmla="*/ 71640 w 344160"/>
                          <a:gd name="textAreaRight" fmla="*/ 272520 w 344160"/>
                          <a:gd name="textAreaTop" fmla="*/ 79200 h 380520"/>
                          <a:gd name="textAreaBottom" fmla="*/ 301320 h 38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402" name="Group 130"/>
                      <p:cNvGrpSpPr/>
                      <p:nvPr/>
                    </p:nvGrpSpPr>
                    <p:grpSpPr>
                      <a:xfrm>
                        <a:off x="3852720" y="5000400"/>
                        <a:ext cx="87120" cy="146160"/>
                        <a:chOff x="3852720" y="5000400"/>
                        <a:chExt cx="87120" cy="146160"/>
                      </a:xfrm>
                    </p:grpSpPr>
                    <p:sp>
                      <p:nvSpPr>
                        <p:cNvPr id="1403" name="Line 123"/>
                        <p:cNvSpPr/>
                        <p:nvPr/>
                      </p:nvSpPr>
                      <p:spPr>
                        <a:xfrm flipH="1" flipV="1">
                          <a:off x="3868560" y="5000400"/>
                          <a:ext cx="7128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4" name="Line 124"/>
                        <p:cNvSpPr/>
                        <p:nvPr/>
                      </p:nvSpPr>
                      <p:spPr>
                        <a:xfrm flipH="1" flipV="1">
                          <a:off x="3865320" y="5035320"/>
                          <a:ext cx="6660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5" name="Line 125"/>
                        <p:cNvSpPr/>
                        <p:nvPr/>
                      </p:nvSpPr>
                      <p:spPr>
                        <a:xfrm flipH="1" flipV="1">
                          <a:off x="3860640" y="5068800"/>
                          <a:ext cx="6840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6" name="Line 126"/>
                        <p:cNvSpPr/>
                        <p:nvPr/>
                      </p:nvSpPr>
                      <p:spPr>
                        <a:xfrm flipH="1" flipV="1">
                          <a:off x="3860640" y="5068800"/>
                          <a:ext cx="6840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7" name="Line 127"/>
                        <p:cNvSpPr/>
                        <p:nvPr/>
                      </p:nvSpPr>
                      <p:spPr>
                        <a:xfrm flipH="1" flipV="1">
                          <a:off x="3857400" y="5103720"/>
                          <a:ext cx="68400" cy="6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8" name="Line 128"/>
                        <p:cNvSpPr/>
                        <p:nvPr/>
                      </p:nvSpPr>
                      <p:spPr>
                        <a:xfrm flipH="1" flipV="1">
                          <a:off x="3852720" y="5138640"/>
                          <a:ext cx="6984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09" name="Line 129"/>
                        <p:cNvSpPr/>
                        <p:nvPr/>
                      </p:nvSpPr>
                      <p:spPr>
                        <a:xfrm flipH="1" flipV="1">
                          <a:off x="3852720" y="5138640"/>
                          <a:ext cx="6984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10" name="Group 141"/>
                    <p:cNvGrpSpPr/>
                    <p:nvPr/>
                  </p:nvGrpSpPr>
                  <p:grpSpPr>
                    <a:xfrm>
                      <a:off x="3763080" y="5051160"/>
                      <a:ext cx="507960" cy="498600"/>
                      <a:chOff x="3763080" y="5051160"/>
                      <a:chExt cx="507960" cy="498600"/>
                    </a:xfrm>
                  </p:grpSpPr>
                  <p:sp>
                    <p:nvSpPr>
                      <p:cNvPr id="1411" name="AutoShape 132"/>
                      <p:cNvSpPr/>
                      <p:nvPr/>
                    </p:nvSpPr>
                    <p:spPr>
                      <a:xfrm flipH="1" flipV="1" rot="18180000">
                        <a:off x="3843000" y="5109840"/>
                        <a:ext cx="347400" cy="380160"/>
                      </a:xfrm>
                      <a:custGeom>
                        <a:avLst/>
                        <a:gdLst>
                          <a:gd name="textAreaLeft" fmla="*/ 72360 w 347400"/>
                          <a:gd name="textAreaRight" fmla="*/ 275040 w 347400"/>
                          <a:gd name="textAreaTop" fmla="*/ 79200 h 380160"/>
                          <a:gd name="textAreaBottom" fmla="*/ 300960 h 380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412" name="Group 140"/>
                      <p:cNvGrpSpPr/>
                      <p:nvPr/>
                    </p:nvGrpSpPr>
                    <p:grpSpPr>
                      <a:xfrm>
                        <a:off x="3790800" y="5119560"/>
                        <a:ext cx="133200" cy="154080"/>
                        <a:chOff x="3790800" y="5119560"/>
                        <a:chExt cx="133200" cy="154080"/>
                      </a:xfrm>
                    </p:grpSpPr>
                    <p:sp>
                      <p:nvSpPr>
                        <p:cNvPr id="1413" name="Line 133"/>
                        <p:cNvSpPr/>
                        <p:nvPr/>
                      </p:nvSpPr>
                      <p:spPr>
                        <a:xfrm flipH="1" flipV="1">
                          <a:off x="3865320" y="5119560"/>
                          <a:ext cx="58680" cy="39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4" name="Line 134"/>
                        <p:cNvSpPr/>
                        <p:nvPr/>
                      </p:nvSpPr>
                      <p:spPr>
                        <a:xfrm flipH="1" flipV="1">
                          <a:off x="3846240" y="5148000"/>
                          <a:ext cx="55800" cy="39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5" name="Line 135"/>
                        <p:cNvSpPr/>
                        <p:nvPr/>
                      </p:nvSpPr>
                      <p:spPr>
                        <a:xfrm flipH="1" flipV="1">
                          <a:off x="3828960" y="5178240"/>
                          <a:ext cx="57240" cy="363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6" name="Line 136"/>
                        <p:cNvSpPr/>
                        <p:nvPr/>
                      </p:nvSpPr>
                      <p:spPr>
                        <a:xfrm flipH="1" flipV="1">
                          <a:off x="3828960" y="5178240"/>
                          <a:ext cx="57240" cy="363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7" name="Line 137"/>
                        <p:cNvSpPr/>
                        <p:nvPr/>
                      </p:nvSpPr>
                      <p:spPr>
                        <a:xfrm flipH="1" flipV="1">
                          <a:off x="3809880" y="5206680"/>
                          <a:ext cx="57240" cy="38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8" name="Line 138"/>
                        <p:cNvSpPr/>
                        <p:nvPr/>
                      </p:nvSpPr>
                      <p:spPr>
                        <a:xfrm flipH="1" flipV="1">
                          <a:off x="3790800" y="5235480"/>
                          <a:ext cx="58680" cy="38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19" name="Line 139"/>
                        <p:cNvSpPr/>
                        <p:nvPr/>
                      </p:nvSpPr>
                      <p:spPr>
                        <a:xfrm flipH="1" flipV="1">
                          <a:off x="3790800" y="5235480"/>
                          <a:ext cx="58680" cy="38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20" name="Group 151"/>
                    <p:cNvGrpSpPr/>
                    <p:nvPr/>
                  </p:nvGrpSpPr>
                  <p:grpSpPr>
                    <a:xfrm>
                      <a:off x="3598920" y="5221440"/>
                      <a:ext cx="491040" cy="502560"/>
                      <a:chOff x="3598920" y="5221440"/>
                      <a:chExt cx="491040" cy="502560"/>
                    </a:xfrm>
                  </p:grpSpPr>
                  <p:sp>
                    <p:nvSpPr>
                      <p:cNvPr id="1421" name="AutoShape 142"/>
                      <p:cNvSpPr/>
                      <p:nvPr/>
                    </p:nvSpPr>
                    <p:spPr>
                      <a:xfrm flipH="1" flipV="1" rot="19740000">
                        <a:off x="3671640" y="5283360"/>
                        <a:ext cx="345600" cy="37872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8840 h 378720"/>
                          <a:gd name="textAreaBottom" fmla="*/ 299880 h 378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422" name="Group 150"/>
                      <p:cNvGrpSpPr/>
                      <p:nvPr/>
                    </p:nvGrpSpPr>
                    <p:grpSpPr>
                      <a:xfrm>
                        <a:off x="3666960" y="5244840"/>
                        <a:ext cx="155520" cy="131760"/>
                        <a:chOff x="3666960" y="5244840"/>
                        <a:chExt cx="155520" cy="131760"/>
                      </a:xfrm>
                    </p:grpSpPr>
                    <p:sp>
                      <p:nvSpPr>
                        <p:cNvPr id="1423" name="Line 143"/>
                        <p:cNvSpPr/>
                        <p:nvPr/>
                      </p:nvSpPr>
                      <p:spPr>
                        <a:xfrm flipH="1" flipV="1">
                          <a:off x="3786120" y="5244840"/>
                          <a:ext cx="36360" cy="586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4" name="Line 144"/>
                        <p:cNvSpPr/>
                        <p:nvPr/>
                      </p:nvSpPr>
                      <p:spPr>
                        <a:xfrm flipH="1" flipV="1">
                          <a:off x="3757320" y="5263920"/>
                          <a:ext cx="33480" cy="586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5" name="Line 145"/>
                        <p:cNvSpPr/>
                        <p:nvPr/>
                      </p:nvSpPr>
                      <p:spPr>
                        <a:xfrm flipH="1" flipV="1">
                          <a:off x="3728880" y="5281560"/>
                          <a:ext cx="34920" cy="56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6" name="Line 146"/>
                        <p:cNvSpPr/>
                        <p:nvPr/>
                      </p:nvSpPr>
                      <p:spPr>
                        <a:xfrm flipH="1" flipV="1">
                          <a:off x="3728880" y="5281560"/>
                          <a:ext cx="34920" cy="56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7" name="Line 147"/>
                        <p:cNvSpPr/>
                        <p:nvPr/>
                      </p:nvSpPr>
                      <p:spPr>
                        <a:xfrm flipH="1" flipV="1">
                          <a:off x="3695400" y="5297400"/>
                          <a:ext cx="36720" cy="586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8" name="Line 148"/>
                        <p:cNvSpPr/>
                        <p:nvPr/>
                      </p:nvSpPr>
                      <p:spPr>
                        <a:xfrm flipH="1" flipV="1">
                          <a:off x="3666960" y="5316480"/>
                          <a:ext cx="36360" cy="60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29" name="Line 149"/>
                        <p:cNvSpPr/>
                        <p:nvPr/>
                      </p:nvSpPr>
                      <p:spPr>
                        <a:xfrm flipH="1" flipV="1">
                          <a:off x="3666960" y="5316480"/>
                          <a:ext cx="36360" cy="60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30" name="Group 161"/>
                    <p:cNvGrpSpPr/>
                    <p:nvPr/>
                  </p:nvGrpSpPr>
                  <p:grpSpPr>
                    <a:xfrm>
                      <a:off x="3450960" y="5311440"/>
                      <a:ext cx="371520" cy="433800"/>
                      <a:chOff x="3450960" y="5311440"/>
                      <a:chExt cx="371520" cy="433800"/>
                    </a:xfrm>
                  </p:grpSpPr>
                  <p:sp>
                    <p:nvSpPr>
                      <p:cNvPr id="1431" name="AutoShape 152"/>
                      <p:cNvSpPr/>
                      <p:nvPr/>
                    </p:nvSpPr>
                    <p:spPr>
                      <a:xfrm flipH="1" flipV="1" rot="21360000">
                        <a:off x="3463920" y="5349960"/>
                        <a:ext cx="345600" cy="38376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9920 h 383760"/>
                          <a:gd name="textAreaBottom" fmla="*/ 303840 h 3837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432" name="Group 160"/>
                      <p:cNvGrpSpPr/>
                      <p:nvPr/>
                    </p:nvGrpSpPr>
                    <p:grpSpPr>
                      <a:xfrm>
                        <a:off x="3551040" y="5311440"/>
                        <a:ext cx="141480" cy="79560"/>
                        <a:chOff x="3551040" y="5311440"/>
                        <a:chExt cx="141480" cy="79560"/>
                      </a:xfrm>
                    </p:grpSpPr>
                    <p:sp>
                      <p:nvSpPr>
                        <p:cNvPr id="1433" name="Line 153"/>
                        <p:cNvSpPr/>
                        <p:nvPr/>
                      </p:nvSpPr>
                      <p:spPr>
                        <a:xfrm flipH="1" flipV="1">
                          <a:off x="3687480" y="5311440"/>
                          <a:ext cx="5040" cy="7164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640" bIns="266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4" name="Line 154"/>
                        <p:cNvSpPr/>
                        <p:nvPr/>
                      </p:nvSpPr>
                      <p:spPr>
                        <a:xfrm flipH="1" flipV="1">
                          <a:off x="3654360" y="5316480"/>
                          <a:ext cx="612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5" name="Line 155"/>
                        <p:cNvSpPr/>
                        <p:nvPr/>
                      </p:nvSpPr>
                      <p:spPr>
                        <a:xfrm flipH="1" flipV="1">
                          <a:off x="3620880" y="5321160"/>
                          <a:ext cx="1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6" name="Line 156"/>
                        <p:cNvSpPr/>
                        <p:nvPr/>
                      </p:nvSpPr>
                      <p:spPr>
                        <a:xfrm flipH="1" flipV="1">
                          <a:off x="3620880" y="5321160"/>
                          <a:ext cx="1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7" name="Line 157"/>
                        <p:cNvSpPr/>
                        <p:nvPr/>
                      </p:nvSpPr>
                      <p:spPr>
                        <a:xfrm flipH="1" flipV="1">
                          <a:off x="3585960" y="5319360"/>
                          <a:ext cx="3240" cy="684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8" name="Line 158"/>
                        <p:cNvSpPr/>
                        <p:nvPr/>
                      </p:nvSpPr>
                      <p:spPr>
                        <a:xfrm flipH="1" flipV="1">
                          <a:off x="3551040" y="5322600"/>
                          <a:ext cx="4680" cy="684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439" name="Line 159"/>
                        <p:cNvSpPr/>
                        <p:nvPr/>
                      </p:nvSpPr>
                      <p:spPr>
                        <a:xfrm flipH="1" flipV="1">
                          <a:off x="3551040" y="5322600"/>
                          <a:ext cx="4680" cy="684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440" name="Group 222"/>
                    <p:cNvGrpSpPr/>
                    <p:nvPr/>
                  </p:nvGrpSpPr>
                  <p:grpSpPr>
                    <a:xfrm>
                      <a:off x="2830320" y="4256640"/>
                      <a:ext cx="751680" cy="1468440"/>
                      <a:chOff x="2830320" y="4256640"/>
                      <a:chExt cx="751680" cy="1468440"/>
                    </a:xfrm>
                  </p:grpSpPr>
                  <p:grpSp>
                    <p:nvGrpSpPr>
                      <p:cNvPr id="1441" name="Group 171"/>
                      <p:cNvGrpSpPr/>
                      <p:nvPr/>
                    </p:nvGrpSpPr>
                    <p:grpSpPr>
                      <a:xfrm>
                        <a:off x="3111480" y="4256640"/>
                        <a:ext cx="470520" cy="488160"/>
                        <a:chOff x="3111480" y="4256640"/>
                        <a:chExt cx="470520" cy="488160"/>
                      </a:xfrm>
                    </p:grpSpPr>
                    <p:sp>
                      <p:nvSpPr>
                        <p:cNvPr id="1442" name="AutoShape 162"/>
                        <p:cNvSpPr/>
                        <p:nvPr/>
                      </p:nvSpPr>
                      <p:spPr>
                        <a:xfrm flipV="1" rot="9360000">
                          <a:off x="3173760" y="4310280"/>
                          <a:ext cx="345600" cy="380520"/>
                        </a:xfrm>
                        <a:custGeom>
                          <a:avLst/>
                          <a:gdLst>
                            <a:gd name="textAreaLeft" fmla="*/ 72000 w 345600"/>
                            <a:gd name="textAreaRight" fmla="*/ 273600 w 345600"/>
                            <a:gd name="textAreaTop" fmla="*/ 79200 h 380520"/>
                            <a:gd name="textAreaBottom" fmla="*/ 301320 h 380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443" name="Group 170"/>
                        <p:cNvGrpSpPr/>
                        <p:nvPr/>
                      </p:nvGrpSpPr>
                      <p:grpSpPr>
                        <a:xfrm>
                          <a:off x="3346200" y="4617720"/>
                          <a:ext cx="154080" cy="119160"/>
                          <a:chOff x="3346200" y="4617720"/>
                          <a:chExt cx="154080" cy="119160"/>
                        </a:xfrm>
                      </p:grpSpPr>
                      <p:sp>
                        <p:nvSpPr>
                          <p:cNvPr id="1444" name="Line 163"/>
                          <p:cNvSpPr/>
                          <p:nvPr/>
                        </p:nvSpPr>
                        <p:spPr>
                          <a:xfrm>
                            <a:off x="3471840" y="4617720"/>
                            <a:ext cx="28440" cy="61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6920" bIns="16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45" name="Line 164"/>
                          <p:cNvSpPr/>
                          <p:nvPr/>
                        </p:nvSpPr>
                        <p:spPr>
                          <a:xfrm>
                            <a:off x="3441600" y="4630680"/>
                            <a:ext cx="27000" cy="60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46" name="Line 165"/>
                          <p:cNvSpPr/>
                          <p:nvPr/>
                        </p:nvSpPr>
                        <p:spPr>
                          <a:xfrm>
                            <a:off x="3408120" y="4644720"/>
                            <a:ext cx="28800" cy="637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720" bIns="187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47" name="Line 166"/>
                          <p:cNvSpPr/>
                          <p:nvPr/>
                        </p:nvSpPr>
                        <p:spPr>
                          <a:xfrm>
                            <a:off x="3408120" y="4644720"/>
                            <a:ext cx="28800" cy="637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720" bIns="187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48" name="Line 167"/>
                          <p:cNvSpPr/>
                          <p:nvPr/>
                        </p:nvSpPr>
                        <p:spPr>
                          <a:xfrm>
                            <a:off x="3379680" y="4659120"/>
                            <a:ext cx="27000" cy="633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360" bIns="1836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49" name="Line 168"/>
                          <p:cNvSpPr/>
                          <p:nvPr/>
                        </p:nvSpPr>
                        <p:spPr>
                          <a:xfrm>
                            <a:off x="3346200" y="4671720"/>
                            <a:ext cx="27000" cy="65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160" bIns="2016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0" name="Line 169"/>
                          <p:cNvSpPr/>
                          <p:nvPr/>
                        </p:nvSpPr>
                        <p:spPr>
                          <a:xfrm>
                            <a:off x="3346200" y="4671720"/>
                            <a:ext cx="27000" cy="65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160" bIns="2016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51" name="Group 181"/>
                      <p:cNvGrpSpPr/>
                      <p:nvPr/>
                    </p:nvGrpSpPr>
                    <p:grpSpPr>
                      <a:xfrm>
                        <a:off x="2909520" y="4386600"/>
                        <a:ext cx="513000" cy="511200"/>
                        <a:chOff x="2909520" y="4386600"/>
                        <a:chExt cx="513000" cy="511200"/>
                      </a:xfrm>
                    </p:grpSpPr>
                    <p:sp>
                      <p:nvSpPr>
                        <p:cNvPr id="1452" name="AutoShape 172"/>
                        <p:cNvSpPr/>
                        <p:nvPr/>
                      </p:nvSpPr>
                      <p:spPr>
                        <a:xfrm flipV="1" rot="7980000">
                          <a:off x="2993760" y="4451760"/>
                          <a:ext cx="344160" cy="380520"/>
                        </a:xfrm>
                        <a:custGeom>
                          <a:avLst/>
                          <a:gdLst>
                            <a:gd name="textAreaLeft" fmla="*/ 71640 w 344160"/>
                            <a:gd name="textAreaRight" fmla="*/ 272520 w 344160"/>
                            <a:gd name="textAreaTop" fmla="*/ 79200 h 380520"/>
                            <a:gd name="textAreaBottom" fmla="*/ 301320 h 380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453" name="Group 180"/>
                        <p:cNvGrpSpPr/>
                        <p:nvPr/>
                      </p:nvGrpSpPr>
                      <p:grpSpPr>
                        <a:xfrm>
                          <a:off x="3232080" y="4697280"/>
                          <a:ext cx="147600" cy="149040"/>
                          <a:chOff x="3232080" y="4697280"/>
                          <a:chExt cx="147600" cy="149040"/>
                        </a:xfrm>
                      </p:grpSpPr>
                      <p:sp>
                        <p:nvSpPr>
                          <p:cNvPr id="1454" name="Line 173"/>
                          <p:cNvSpPr/>
                          <p:nvPr/>
                        </p:nvSpPr>
                        <p:spPr>
                          <a:xfrm>
                            <a:off x="3327120" y="4697280"/>
                            <a:ext cx="52560" cy="493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" bIns="43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5" name="Line 174"/>
                          <p:cNvSpPr/>
                          <p:nvPr/>
                        </p:nvSpPr>
                        <p:spPr>
                          <a:xfrm>
                            <a:off x="3300120" y="4722480"/>
                            <a:ext cx="52560" cy="47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80" bIns="2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6" name="Line 175"/>
                          <p:cNvSpPr/>
                          <p:nvPr/>
                        </p:nvSpPr>
                        <p:spPr>
                          <a:xfrm>
                            <a:off x="3278160" y="4749480"/>
                            <a:ext cx="48960" cy="46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7" name="Line 176"/>
                          <p:cNvSpPr/>
                          <p:nvPr/>
                        </p:nvSpPr>
                        <p:spPr>
                          <a:xfrm>
                            <a:off x="3278160" y="4749480"/>
                            <a:ext cx="48960" cy="46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8" name="Line 177"/>
                          <p:cNvSpPr/>
                          <p:nvPr/>
                        </p:nvSpPr>
                        <p:spPr>
                          <a:xfrm>
                            <a:off x="3254040" y="4776480"/>
                            <a:ext cx="52560" cy="46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59" name="Line 178"/>
                          <p:cNvSpPr/>
                          <p:nvPr/>
                        </p:nvSpPr>
                        <p:spPr>
                          <a:xfrm>
                            <a:off x="3232080" y="4798800"/>
                            <a:ext cx="50760" cy="475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0" name="Line 179"/>
                          <p:cNvSpPr/>
                          <p:nvPr/>
                        </p:nvSpPr>
                        <p:spPr>
                          <a:xfrm>
                            <a:off x="3232080" y="4798800"/>
                            <a:ext cx="50760" cy="475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61" name="Group 191"/>
                      <p:cNvGrpSpPr/>
                      <p:nvPr/>
                    </p:nvGrpSpPr>
                    <p:grpSpPr>
                      <a:xfrm>
                        <a:off x="2830320" y="4628520"/>
                        <a:ext cx="466560" cy="441360"/>
                        <a:chOff x="2830320" y="4628520"/>
                        <a:chExt cx="466560" cy="441360"/>
                      </a:xfrm>
                    </p:grpSpPr>
                    <p:sp>
                      <p:nvSpPr>
                        <p:cNvPr id="1462" name="AutoShape 182"/>
                        <p:cNvSpPr/>
                        <p:nvPr/>
                      </p:nvSpPr>
                      <p:spPr>
                        <a:xfrm flipV="1" rot="6420000">
                          <a:off x="2889000" y="4659480"/>
                          <a:ext cx="345600" cy="379080"/>
                        </a:xfrm>
                        <a:custGeom>
                          <a:avLst/>
                          <a:gdLst>
                            <a:gd name="textAreaLeft" fmla="*/ 72000 w 345600"/>
                            <a:gd name="textAreaRight" fmla="*/ 273600 w 345600"/>
                            <a:gd name="textAreaTop" fmla="*/ 78840 h 379080"/>
                            <a:gd name="textAreaBottom" fmla="*/ 300240 h 3790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463" name="Group 190"/>
                        <p:cNvGrpSpPr/>
                        <p:nvPr/>
                      </p:nvGrpSpPr>
                      <p:grpSpPr>
                        <a:xfrm>
                          <a:off x="3190680" y="4830480"/>
                          <a:ext cx="106200" cy="150840"/>
                          <a:chOff x="3190680" y="4830480"/>
                          <a:chExt cx="106200" cy="150840"/>
                        </a:xfrm>
                      </p:grpSpPr>
                      <p:sp>
                        <p:nvSpPr>
                          <p:cNvPr id="1464" name="Line 183"/>
                          <p:cNvSpPr/>
                          <p:nvPr/>
                        </p:nvSpPr>
                        <p:spPr>
                          <a:xfrm>
                            <a:off x="3228840" y="4830480"/>
                            <a:ext cx="6804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5" name="Line 184"/>
                          <p:cNvSpPr/>
                          <p:nvPr/>
                        </p:nvSpPr>
                        <p:spPr>
                          <a:xfrm>
                            <a:off x="3219120" y="4863960"/>
                            <a:ext cx="6516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6" name="Line 185"/>
                          <p:cNvSpPr/>
                          <p:nvPr/>
                        </p:nvSpPr>
                        <p:spPr>
                          <a:xfrm>
                            <a:off x="3209760" y="4897080"/>
                            <a:ext cx="65160" cy="20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7" name="Line 186"/>
                          <p:cNvSpPr/>
                          <p:nvPr/>
                        </p:nvSpPr>
                        <p:spPr>
                          <a:xfrm>
                            <a:off x="3209760" y="4897080"/>
                            <a:ext cx="65160" cy="20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8" name="Line 187"/>
                          <p:cNvSpPr/>
                          <p:nvPr/>
                        </p:nvSpPr>
                        <p:spPr>
                          <a:xfrm>
                            <a:off x="3200400" y="4930560"/>
                            <a:ext cx="64800" cy="205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69" name="Line 188"/>
                          <p:cNvSpPr/>
                          <p:nvPr/>
                        </p:nvSpPr>
                        <p:spPr>
                          <a:xfrm>
                            <a:off x="3190680" y="4962240"/>
                            <a:ext cx="6336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0" name="Line 189"/>
                          <p:cNvSpPr/>
                          <p:nvPr/>
                        </p:nvSpPr>
                        <p:spPr>
                          <a:xfrm>
                            <a:off x="3190680" y="4962240"/>
                            <a:ext cx="6336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71" name="Group 201"/>
                      <p:cNvGrpSpPr/>
                      <p:nvPr/>
                    </p:nvGrpSpPr>
                    <p:grpSpPr>
                      <a:xfrm>
                        <a:off x="2854800" y="4900680"/>
                        <a:ext cx="437400" cy="383400"/>
                        <a:chOff x="2854800" y="4900680"/>
                        <a:chExt cx="437400" cy="383400"/>
                      </a:xfrm>
                    </p:grpSpPr>
                    <p:sp>
                      <p:nvSpPr>
                        <p:cNvPr id="1472" name="AutoShape 192"/>
                        <p:cNvSpPr/>
                        <p:nvPr/>
                      </p:nvSpPr>
                      <p:spPr>
                        <a:xfrm flipV="1" rot="5040000">
                          <a:off x="2889360" y="4901400"/>
                          <a:ext cx="345600" cy="380880"/>
                        </a:xfrm>
                        <a:custGeom>
                          <a:avLst/>
                          <a:gdLst>
                            <a:gd name="textAreaLeft" fmla="*/ 72000 w 345600"/>
                            <a:gd name="textAreaRight" fmla="*/ 273600 w 345600"/>
                            <a:gd name="textAreaTop" fmla="*/ 79200 h 380880"/>
                            <a:gd name="textAreaBottom" fmla="*/ 301680 h 3808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473" name="Group 200"/>
                        <p:cNvGrpSpPr/>
                        <p:nvPr/>
                      </p:nvGrpSpPr>
                      <p:grpSpPr>
                        <a:xfrm>
                          <a:off x="3208320" y="5000400"/>
                          <a:ext cx="83880" cy="146160"/>
                          <a:chOff x="3208320" y="5000400"/>
                          <a:chExt cx="83880" cy="146160"/>
                        </a:xfrm>
                      </p:grpSpPr>
                      <p:sp>
                        <p:nvSpPr>
                          <p:cNvPr id="1474" name="Line 193"/>
                          <p:cNvSpPr/>
                          <p:nvPr/>
                        </p:nvSpPr>
                        <p:spPr>
                          <a:xfrm flipV="1">
                            <a:off x="3208320" y="5000400"/>
                            <a:ext cx="7128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5" name="Line 194"/>
                          <p:cNvSpPr/>
                          <p:nvPr/>
                        </p:nvSpPr>
                        <p:spPr>
                          <a:xfrm flipV="1">
                            <a:off x="3209760" y="5035320"/>
                            <a:ext cx="7128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6" name="Line 195"/>
                          <p:cNvSpPr/>
                          <p:nvPr/>
                        </p:nvSpPr>
                        <p:spPr>
                          <a:xfrm flipV="1">
                            <a:off x="3217680" y="5068800"/>
                            <a:ext cx="6660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7" name="Line 196"/>
                          <p:cNvSpPr/>
                          <p:nvPr/>
                        </p:nvSpPr>
                        <p:spPr>
                          <a:xfrm flipV="1">
                            <a:off x="3217680" y="5068800"/>
                            <a:ext cx="6660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8" name="Line 197"/>
                          <p:cNvSpPr/>
                          <p:nvPr/>
                        </p:nvSpPr>
                        <p:spPr>
                          <a:xfrm flipV="1">
                            <a:off x="3220920" y="5103720"/>
                            <a:ext cx="68040" cy="6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79" name="Line 198"/>
                          <p:cNvSpPr/>
                          <p:nvPr/>
                        </p:nvSpPr>
                        <p:spPr>
                          <a:xfrm flipV="1">
                            <a:off x="3222360" y="5138640"/>
                            <a:ext cx="6984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0" name="Line 199"/>
                          <p:cNvSpPr/>
                          <p:nvPr/>
                        </p:nvSpPr>
                        <p:spPr>
                          <a:xfrm flipV="1">
                            <a:off x="3222360" y="5138640"/>
                            <a:ext cx="6984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81" name="Group 211"/>
                      <p:cNvGrpSpPr/>
                      <p:nvPr/>
                    </p:nvGrpSpPr>
                    <p:grpSpPr>
                      <a:xfrm>
                        <a:off x="2877840" y="5052600"/>
                        <a:ext cx="506520" cy="496080"/>
                        <a:chOff x="2877840" y="5052600"/>
                        <a:chExt cx="506520" cy="496080"/>
                      </a:xfrm>
                    </p:grpSpPr>
                    <p:sp>
                      <p:nvSpPr>
                        <p:cNvPr id="1482" name="AutoShape 202"/>
                        <p:cNvSpPr/>
                        <p:nvPr/>
                      </p:nvSpPr>
                      <p:spPr>
                        <a:xfrm flipV="1" rot="3420000">
                          <a:off x="2958840" y="5110200"/>
                          <a:ext cx="344160" cy="380520"/>
                        </a:xfrm>
                        <a:custGeom>
                          <a:avLst/>
                          <a:gdLst>
                            <a:gd name="textAreaLeft" fmla="*/ 71640 w 344160"/>
                            <a:gd name="textAreaRight" fmla="*/ 272520 w 344160"/>
                            <a:gd name="textAreaTop" fmla="*/ 79200 h 380520"/>
                            <a:gd name="textAreaBottom" fmla="*/ 301320 h 380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483" name="Group 210"/>
                        <p:cNvGrpSpPr/>
                        <p:nvPr/>
                      </p:nvGrpSpPr>
                      <p:grpSpPr>
                        <a:xfrm>
                          <a:off x="3224160" y="5119560"/>
                          <a:ext cx="131760" cy="154080"/>
                          <a:chOff x="3224160" y="5119560"/>
                          <a:chExt cx="131760" cy="154080"/>
                        </a:xfrm>
                      </p:grpSpPr>
                      <p:sp>
                        <p:nvSpPr>
                          <p:cNvPr id="1484" name="Line 203"/>
                          <p:cNvSpPr/>
                          <p:nvPr/>
                        </p:nvSpPr>
                        <p:spPr>
                          <a:xfrm flipV="1">
                            <a:off x="3224160" y="5119560"/>
                            <a:ext cx="60120" cy="3960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5" name="Line 204"/>
                          <p:cNvSpPr/>
                          <p:nvPr/>
                        </p:nvSpPr>
                        <p:spPr>
                          <a:xfrm flipV="1">
                            <a:off x="3243240" y="5148000"/>
                            <a:ext cx="56880" cy="3960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6" name="Line 205"/>
                          <p:cNvSpPr/>
                          <p:nvPr/>
                        </p:nvSpPr>
                        <p:spPr>
                          <a:xfrm flipV="1">
                            <a:off x="3263760" y="5178240"/>
                            <a:ext cx="57240" cy="363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7" name="Line 206"/>
                          <p:cNvSpPr/>
                          <p:nvPr/>
                        </p:nvSpPr>
                        <p:spPr>
                          <a:xfrm flipV="1">
                            <a:off x="3263760" y="5178240"/>
                            <a:ext cx="57240" cy="363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8" name="Line 207"/>
                          <p:cNvSpPr/>
                          <p:nvPr/>
                        </p:nvSpPr>
                        <p:spPr>
                          <a:xfrm flipV="1">
                            <a:off x="3282840" y="5206680"/>
                            <a:ext cx="57240" cy="38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89" name="Line 208"/>
                          <p:cNvSpPr/>
                          <p:nvPr/>
                        </p:nvSpPr>
                        <p:spPr>
                          <a:xfrm flipV="1">
                            <a:off x="3298680" y="5235480"/>
                            <a:ext cx="57240" cy="38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0" name="Line 209"/>
                          <p:cNvSpPr/>
                          <p:nvPr/>
                        </p:nvSpPr>
                        <p:spPr>
                          <a:xfrm flipV="1">
                            <a:off x="3298680" y="5235480"/>
                            <a:ext cx="57240" cy="38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91" name="Group 221"/>
                      <p:cNvGrpSpPr/>
                      <p:nvPr/>
                    </p:nvGrpSpPr>
                    <p:grpSpPr>
                      <a:xfrm>
                        <a:off x="3059280" y="5221080"/>
                        <a:ext cx="493200" cy="504000"/>
                        <a:chOff x="3059280" y="5221080"/>
                        <a:chExt cx="493200" cy="504000"/>
                      </a:xfrm>
                    </p:grpSpPr>
                    <p:sp>
                      <p:nvSpPr>
                        <p:cNvPr id="1492" name="AutoShape 212"/>
                        <p:cNvSpPr/>
                        <p:nvPr/>
                      </p:nvSpPr>
                      <p:spPr>
                        <a:xfrm flipV="1" rot="1860000">
                          <a:off x="3132000" y="5283360"/>
                          <a:ext cx="347400" cy="379440"/>
                        </a:xfrm>
                        <a:custGeom>
                          <a:avLst/>
                          <a:gdLst>
                            <a:gd name="textAreaLeft" fmla="*/ 72360 w 347400"/>
                            <a:gd name="textAreaRight" fmla="*/ 275040 w 347400"/>
                            <a:gd name="textAreaTop" fmla="*/ 78840 h 379440"/>
                            <a:gd name="textAreaBottom" fmla="*/ 300600 h 3794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1493" name="Group 220"/>
                        <p:cNvGrpSpPr/>
                        <p:nvPr/>
                      </p:nvGrpSpPr>
                      <p:grpSpPr>
                        <a:xfrm>
                          <a:off x="3323880" y="5244840"/>
                          <a:ext cx="154080" cy="131760"/>
                          <a:chOff x="3323880" y="5244840"/>
                          <a:chExt cx="154080" cy="131760"/>
                        </a:xfrm>
                      </p:grpSpPr>
                      <p:sp>
                        <p:nvSpPr>
                          <p:cNvPr id="1494" name="Line 213"/>
                          <p:cNvSpPr/>
                          <p:nvPr/>
                        </p:nvSpPr>
                        <p:spPr>
                          <a:xfrm flipV="1">
                            <a:off x="3323880" y="5244840"/>
                            <a:ext cx="36720" cy="586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5" name="Line 214"/>
                          <p:cNvSpPr/>
                          <p:nvPr/>
                        </p:nvSpPr>
                        <p:spPr>
                          <a:xfrm flipV="1">
                            <a:off x="3354120" y="5263920"/>
                            <a:ext cx="36720" cy="586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6" name="Line 215"/>
                          <p:cNvSpPr/>
                          <p:nvPr/>
                        </p:nvSpPr>
                        <p:spPr>
                          <a:xfrm flipV="1">
                            <a:off x="3382920" y="5281560"/>
                            <a:ext cx="36360" cy="56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880" bIns="11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7" name="Line 216"/>
                          <p:cNvSpPr/>
                          <p:nvPr/>
                        </p:nvSpPr>
                        <p:spPr>
                          <a:xfrm flipV="1">
                            <a:off x="3382920" y="5281560"/>
                            <a:ext cx="36360" cy="56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880" bIns="11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8" name="Line 217"/>
                          <p:cNvSpPr/>
                          <p:nvPr/>
                        </p:nvSpPr>
                        <p:spPr>
                          <a:xfrm flipV="1">
                            <a:off x="3414600" y="5297400"/>
                            <a:ext cx="33120" cy="586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499" name="Line 218"/>
                          <p:cNvSpPr/>
                          <p:nvPr/>
                        </p:nvSpPr>
                        <p:spPr>
                          <a:xfrm flipV="1">
                            <a:off x="3441600" y="5316480"/>
                            <a:ext cx="36360" cy="60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1500" name="Line 219"/>
                          <p:cNvSpPr/>
                          <p:nvPr/>
                        </p:nvSpPr>
                        <p:spPr>
                          <a:xfrm flipV="1">
                            <a:off x="3441600" y="5316480"/>
                            <a:ext cx="36360" cy="60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501" name="Group 232"/>
                    <p:cNvGrpSpPr/>
                    <p:nvPr/>
                  </p:nvGrpSpPr>
                  <p:grpSpPr>
                    <a:xfrm>
                      <a:off x="3279600" y="5308560"/>
                      <a:ext cx="428040" cy="460800"/>
                      <a:chOff x="3279600" y="5308560"/>
                      <a:chExt cx="428040" cy="460800"/>
                    </a:xfrm>
                  </p:grpSpPr>
                  <p:sp>
                    <p:nvSpPr>
                      <p:cNvPr id="1502" name="AutoShape 223"/>
                      <p:cNvSpPr/>
                      <p:nvPr/>
                    </p:nvSpPr>
                    <p:spPr>
                      <a:xfrm flipH="1" flipV="1" rot="840000">
                        <a:off x="3320280" y="5349600"/>
                        <a:ext cx="345240" cy="383760"/>
                      </a:xfrm>
                      <a:custGeom>
                        <a:avLst/>
                        <a:gdLst>
                          <a:gd name="textAreaLeft" fmla="*/ 71640 w 345240"/>
                          <a:gd name="textAreaRight" fmla="*/ 273240 w 345240"/>
                          <a:gd name="textAreaTop" fmla="*/ 79920 h 383760"/>
                          <a:gd name="textAreaBottom" fmla="*/ 303840 h 3837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503" name="Group 231"/>
                      <p:cNvGrpSpPr/>
                      <p:nvPr/>
                    </p:nvGrpSpPr>
                    <p:grpSpPr>
                      <a:xfrm>
                        <a:off x="3463920" y="5308560"/>
                        <a:ext cx="152280" cy="99720"/>
                        <a:chOff x="3463920" y="5308560"/>
                        <a:chExt cx="152280" cy="99720"/>
                      </a:xfrm>
                    </p:grpSpPr>
                    <p:sp>
                      <p:nvSpPr>
                        <p:cNvPr id="1504" name="Line 224"/>
                        <p:cNvSpPr/>
                        <p:nvPr/>
                      </p:nvSpPr>
                      <p:spPr>
                        <a:xfrm flipV="1">
                          <a:off x="3595680" y="5338440"/>
                          <a:ext cx="20520" cy="6984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4840" bIns="24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05" name="Line 225"/>
                        <p:cNvSpPr/>
                        <p:nvPr/>
                      </p:nvSpPr>
                      <p:spPr>
                        <a:xfrm flipV="1">
                          <a:off x="3563640" y="5332320"/>
                          <a:ext cx="15840" cy="6804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06" name="Line 226"/>
                        <p:cNvSpPr/>
                        <p:nvPr/>
                      </p:nvSpPr>
                      <p:spPr>
                        <a:xfrm flipV="1">
                          <a:off x="3531960" y="5322600"/>
                          <a:ext cx="15840" cy="669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07" name="Line 227"/>
                        <p:cNvSpPr/>
                        <p:nvPr/>
                      </p:nvSpPr>
                      <p:spPr>
                        <a:xfrm flipV="1">
                          <a:off x="3531960" y="5322600"/>
                          <a:ext cx="15840" cy="669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08" name="Line 228"/>
                        <p:cNvSpPr/>
                        <p:nvPr/>
                      </p:nvSpPr>
                      <p:spPr>
                        <a:xfrm flipV="1">
                          <a:off x="3497040" y="5313240"/>
                          <a:ext cx="1584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09" name="Line 229"/>
                        <p:cNvSpPr/>
                        <p:nvPr/>
                      </p:nvSpPr>
                      <p:spPr>
                        <a:xfrm flipV="1">
                          <a:off x="3463920" y="5308560"/>
                          <a:ext cx="1584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510" name="Line 230"/>
                        <p:cNvSpPr/>
                        <p:nvPr/>
                      </p:nvSpPr>
                      <p:spPr>
                        <a:xfrm flipV="1">
                          <a:off x="3463920" y="5308560"/>
                          <a:ext cx="1584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511" name="Oval 234"/>
                  <p:cNvSpPr/>
                  <p:nvPr/>
                </p:nvSpPr>
                <p:spPr>
                  <a:xfrm>
                    <a:off x="3559320" y="431316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512" name="Group 237"/>
                  <p:cNvGrpSpPr/>
                  <p:nvPr/>
                </p:nvGrpSpPr>
                <p:grpSpPr>
                  <a:xfrm>
                    <a:off x="3106800" y="4506840"/>
                    <a:ext cx="898200" cy="987120"/>
                    <a:chOff x="3106800" y="4506840"/>
                    <a:chExt cx="898200" cy="987120"/>
                  </a:xfrm>
                </p:grpSpPr>
                <p:sp useBgFill="1">
                  <p:nvSpPr>
                    <p:cNvPr id="1513" name="Oval 235"/>
                    <p:cNvSpPr/>
                    <p:nvPr/>
                  </p:nvSpPr>
                  <p:spPr>
                    <a:xfrm>
                      <a:off x="3106800" y="4506840"/>
                      <a:ext cx="898200" cy="987120"/>
                    </a:xfrm>
                    <a:prstGeom prst="ellips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 useBgFill="1">
                  <p:nvSpPr>
                    <p:cNvPr id="1514" name="Oval 236"/>
                    <p:cNvSpPr/>
                    <p:nvPr/>
                  </p:nvSpPr>
                  <p:spPr>
                    <a:xfrm>
                      <a:off x="3251160" y="4665600"/>
                      <a:ext cx="609120" cy="667800"/>
                    </a:xfrm>
                    <a:prstGeom prst="ellips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515" name="Oval 238"/>
                  <p:cNvSpPr/>
                  <p:nvPr/>
                </p:nvSpPr>
                <p:spPr>
                  <a:xfrm>
                    <a:off x="4078440" y="4799160"/>
                    <a:ext cx="131400" cy="1281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16" name="Line 239"/>
                  <p:cNvSpPr/>
                  <p:nvPr/>
                </p:nvSpPr>
                <p:spPr>
                  <a:xfrm>
                    <a:off x="3179520" y="4627440"/>
                    <a:ext cx="23760" cy="3960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17" name="Line 240"/>
                  <p:cNvSpPr/>
                  <p:nvPr/>
                </p:nvSpPr>
                <p:spPr>
                  <a:xfrm flipV="1">
                    <a:off x="3362040" y="5483160"/>
                    <a:ext cx="5040" cy="5220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18" name="Line 241"/>
                  <p:cNvSpPr/>
                  <p:nvPr/>
                </p:nvSpPr>
                <p:spPr>
                  <a:xfrm flipV="1">
                    <a:off x="3970080" y="4732200"/>
                    <a:ext cx="34920" cy="3492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19" name="Line 242"/>
                  <p:cNvSpPr/>
                  <p:nvPr/>
                </p:nvSpPr>
                <p:spPr>
                  <a:xfrm flipV="1">
                    <a:off x="3105000" y="5251320"/>
                    <a:ext cx="33480" cy="3492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0" name="Line 243"/>
                  <p:cNvSpPr/>
                  <p:nvPr/>
                </p:nvSpPr>
                <p:spPr>
                  <a:xfrm flipH="1" flipV="1">
                    <a:off x="3936960" y="5286240"/>
                    <a:ext cx="34920" cy="3492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1" name="Line 244"/>
                  <p:cNvSpPr/>
                  <p:nvPr/>
                </p:nvSpPr>
                <p:spPr>
                  <a:xfrm flipH="1">
                    <a:off x="3889080" y="4970160"/>
                    <a:ext cx="66960" cy="20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2" name="Line 245"/>
                  <p:cNvSpPr/>
                  <p:nvPr/>
                </p:nvSpPr>
                <p:spPr>
                  <a:xfrm>
                    <a:off x="3244680" y="4321080"/>
                    <a:ext cx="34920" cy="1000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3" name="Line 246"/>
                  <p:cNvSpPr/>
                  <p:nvPr/>
                </p:nvSpPr>
                <p:spPr>
                  <a:xfrm>
                    <a:off x="3311280" y="4286160"/>
                    <a:ext cx="36720" cy="1029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4" name="Line 247"/>
                  <p:cNvSpPr/>
                  <p:nvPr/>
                </p:nvSpPr>
                <p:spPr>
                  <a:xfrm>
                    <a:off x="3382920" y="4248000"/>
                    <a:ext cx="349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5" name="Line 248"/>
                  <p:cNvSpPr/>
                  <p:nvPr/>
                </p:nvSpPr>
                <p:spPr>
                  <a:xfrm>
                    <a:off x="3450960" y="4213080"/>
                    <a:ext cx="31680" cy="1062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6" name="Line 249"/>
                  <p:cNvSpPr/>
                  <p:nvPr/>
                </p:nvSpPr>
                <p:spPr>
                  <a:xfrm>
                    <a:off x="3522600" y="4214520"/>
                    <a:ext cx="360" cy="716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7" name="Line 250"/>
                  <p:cNvSpPr/>
                  <p:nvPr/>
                </p:nvSpPr>
                <p:spPr>
                  <a:xfrm flipH="1">
                    <a:off x="3589200" y="4213080"/>
                    <a:ext cx="33120" cy="1062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8" name="Line 251"/>
                  <p:cNvSpPr/>
                  <p:nvPr/>
                </p:nvSpPr>
                <p:spPr>
                  <a:xfrm flipH="1">
                    <a:off x="3657600" y="4213080"/>
                    <a:ext cx="36360" cy="1062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29" name="Line 252"/>
                  <p:cNvSpPr/>
                  <p:nvPr/>
                </p:nvSpPr>
                <p:spPr>
                  <a:xfrm>
                    <a:off x="3728880" y="5595840"/>
                    <a:ext cx="349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0" name="Line 253"/>
                  <p:cNvSpPr/>
                  <p:nvPr/>
                </p:nvSpPr>
                <p:spPr>
                  <a:xfrm>
                    <a:off x="3797280" y="5564160"/>
                    <a:ext cx="34920" cy="1015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1" name="Line 254"/>
                  <p:cNvSpPr/>
                  <p:nvPr/>
                </p:nvSpPr>
                <p:spPr>
                  <a:xfrm>
                    <a:off x="3968640" y="5492520"/>
                    <a:ext cx="6984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2" name="Line 255"/>
                  <p:cNvSpPr/>
                  <p:nvPr/>
                </p:nvSpPr>
                <p:spPr>
                  <a:xfrm>
                    <a:off x="3867120" y="5562360"/>
                    <a:ext cx="3492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3" name="Line 256"/>
                  <p:cNvSpPr/>
                  <p:nvPr/>
                </p:nvSpPr>
                <p:spPr>
                  <a:xfrm>
                    <a:off x="3933720" y="5527440"/>
                    <a:ext cx="3492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4" name="Line 257"/>
                  <p:cNvSpPr/>
                  <p:nvPr/>
                </p:nvSpPr>
                <p:spPr>
                  <a:xfrm flipH="1" flipV="1">
                    <a:off x="4003560" y="5424480"/>
                    <a:ext cx="6984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5" name="Line 258"/>
                  <p:cNvSpPr/>
                  <p:nvPr/>
                </p:nvSpPr>
                <p:spPr>
                  <a:xfrm>
                    <a:off x="3138480" y="4389120"/>
                    <a:ext cx="3636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6" name="Line 259"/>
                  <p:cNvSpPr/>
                  <p:nvPr/>
                </p:nvSpPr>
                <p:spPr>
                  <a:xfrm>
                    <a:off x="3174840" y="4352760"/>
                    <a:ext cx="3348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7" name="Line 260"/>
                  <p:cNvSpPr/>
                  <p:nvPr/>
                </p:nvSpPr>
                <p:spPr>
                  <a:xfrm>
                    <a:off x="3071520" y="4421160"/>
                    <a:ext cx="6696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8" name="Line 261"/>
                  <p:cNvSpPr/>
                  <p:nvPr/>
                </p:nvSpPr>
                <p:spPr>
                  <a:xfrm>
                    <a:off x="3036600" y="4491000"/>
                    <a:ext cx="6840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39" name="Line 262"/>
                  <p:cNvSpPr/>
                  <p:nvPr/>
                </p:nvSpPr>
                <p:spPr>
                  <a:xfrm>
                    <a:off x="3001680" y="4527360"/>
                    <a:ext cx="6984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0" name="Line 263"/>
                  <p:cNvSpPr/>
                  <p:nvPr/>
                </p:nvSpPr>
                <p:spPr>
                  <a:xfrm>
                    <a:off x="2965320" y="4560840"/>
                    <a:ext cx="10620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1" name="Line 264"/>
                  <p:cNvSpPr/>
                  <p:nvPr/>
                </p:nvSpPr>
                <p:spPr>
                  <a:xfrm>
                    <a:off x="2931840" y="4632120"/>
                    <a:ext cx="6984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2" name="Line 265"/>
                  <p:cNvSpPr/>
                  <p:nvPr/>
                </p:nvSpPr>
                <p:spPr>
                  <a:xfrm>
                    <a:off x="4108320" y="5319360"/>
                    <a:ext cx="1029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3" name="Line 266"/>
                  <p:cNvSpPr/>
                  <p:nvPr/>
                </p:nvSpPr>
                <p:spPr>
                  <a:xfrm>
                    <a:off x="2896920" y="4698720"/>
                    <a:ext cx="1047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4" name="Line 267"/>
                  <p:cNvSpPr/>
                  <p:nvPr/>
                </p:nvSpPr>
                <p:spPr>
                  <a:xfrm>
                    <a:off x="4141440" y="5251320"/>
                    <a:ext cx="10512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5" name="Line 268"/>
                  <p:cNvSpPr/>
                  <p:nvPr/>
                </p:nvSpPr>
                <p:spPr>
                  <a:xfrm>
                    <a:off x="4141440" y="5181480"/>
                    <a:ext cx="1051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6" name="Line 269"/>
                  <p:cNvSpPr/>
                  <p:nvPr/>
                </p:nvSpPr>
                <p:spPr>
                  <a:xfrm>
                    <a:off x="4176360" y="5111640"/>
                    <a:ext cx="1033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7" name="Line 270"/>
                  <p:cNvSpPr/>
                  <p:nvPr/>
                </p:nvSpPr>
                <p:spPr>
                  <a:xfrm flipV="1">
                    <a:off x="4176360" y="4767120"/>
                    <a:ext cx="103320" cy="36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8" name="Line 271"/>
                  <p:cNvSpPr/>
                  <p:nvPr/>
                </p:nvSpPr>
                <p:spPr>
                  <a:xfrm flipV="1">
                    <a:off x="4211280" y="4838400"/>
                    <a:ext cx="6840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49" name="Line 272"/>
                  <p:cNvSpPr/>
                  <p:nvPr/>
                </p:nvSpPr>
                <p:spPr>
                  <a:xfrm flipV="1">
                    <a:off x="4141440" y="4698720"/>
                    <a:ext cx="10512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0" name="Line 273"/>
                  <p:cNvSpPr/>
                  <p:nvPr/>
                </p:nvSpPr>
                <p:spPr>
                  <a:xfrm flipV="1">
                    <a:off x="4140000" y="4630680"/>
                    <a:ext cx="71280" cy="666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1" name="Line 274"/>
                  <p:cNvSpPr/>
                  <p:nvPr/>
                </p:nvSpPr>
                <p:spPr>
                  <a:xfrm flipV="1">
                    <a:off x="3762360" y="4248000"/>
                    <a:ext cx="331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2" name="Line 275"/>
                  <p:cNvSpPr/>
                  <p:nvPr/>
                </p:nvSpPr>
                <p:spPr>
                  <a:xfrm flipV="1">
                    <a:off x="3795480" y="4319280"/>
                    <a:ext cx="6984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3" name="Line 276"/>
                  <p:cNvSpPr/>
                  <p:nvPr/>
                </p:nvSpPr>
                <p:spPr>
                  <a:xfrm flipV="1">
                    <a:off x="3900240" y="4352760"/>
                    <a:ext cx="6840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4" name="Line 277"/>
                  <p:cNvSpPr/>
                  <p:nvPr/>
                </p:nvSpPr>
                <p:spPr>
                  <a:xfrm flipV="1">
                    <a:off x="3968640" y="4421160"/>
                    <a:ext cx="6984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5" name="Line 278"/>
                  <p:cNvSpPr/>
                  <p:nvPr/>
                </p:nvSpPr>
                <p:spPr>
                  <a:xfrm flipV="1">
                    <a:off x="4003560" y="4491000"/>
                    <a:ext cx="10476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6" name="Line 279"/>
                  <p:cNvSpPr/>
                  <p:nvPr/>
                </p:nvSpPr>
                <p:spPr>
                  <a:xfrm flipV="1">
                    <a:off x="2896920" y="5181480"/>
                    <a:ext cx="104760" cy="36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7" name="Line 280"/>
                  <p:cNvSpPr/>
                  <p:nvPr/>
                </p:nvSpPr>
                <p:spPr>
                  <a:xfrm flipV="1">
                    <a:off x="4108320" y="4593960"/>
                    <a:ext cx="66600" cy="367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8" name="Line 281"/>
                  <p:cNvSpPr/>
                  <p:nvPr/>
                </p:nvSpPr>
                <p:spPr>
                  <a:xfrm>
                    <a:off x="2896920" y="4767120"/>
                    <a:ext cx="104760" cy="36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9" name="Line 282"/>
                  <p:cNvSpPr/>
                  <p:nvPr/>
                </p:nvSpPr>
                <p:spPr>
                  <a:xfrm>
                    <a:off x="2865240" y="483696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0" name="Line 283"/>
                  <p:cNvSpPr/>
                  <p:nvPr/>
                </p:nvSpPr>
                <p:spPr>
                  <a:xfrm>
                    <a:off x="2865240" y="490536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1" name="Line 284"/>
                  <p:cNvSpPr/>
                  <p:nvPr/>
                </p:nvSpPr>
                <p:spPr>
                  <a:xfrm>
                    <a:off x="2865240" y="497340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2" name="Line 285"/>
                  <p:cNvSpPr/>
                  <p:nvPr/>
                </p:nvSpPr>
                <p:spPr>
                  <a:xfrm>
                    <a:off x="2865240" y="5078160"/>
                    <a:ext cx="6660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3" name="Line 286"/>
                  <p:cNvSpPr/>
                  <p:nvPr/>
                </p:nvSpPr>
                <p:spPr>
                  <a:xfrm>
                    <a:off x="2865240" y="514656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4" name="Line 287"/>
                  <p:cNvSpPr/>
                  <p:nvPr/>
                </p:nvSpPr>
                <p:spPr>
                  <a:xfrm flipV="1">
                    <a:off x="2896920" y="5251320"/>
                    <a:ext cx="1047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5" name="Line 288"/>
                  <p:cNvSpPr/>
                  <p:nvPr/>
                </p:nvSpPr>
                <p:spPr>
                  <a:xfrm flipV="1">
                    <a:off x="2933640" y="5319360"/>
                    <a:ext cx="1047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6" name="Line 289"/>
                  <p:cNvSpPr/>
                  <p:nvPr/>
                </p:nvSpPr>
                <p:spPr>
                  <a:xfrm flipV="1">
                    <a:off x="3001680" y="5391000"/>
                    <a:ext cx="6984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7" name="Line 290"/>
                  <p:cNvSpPr/>
                  <p:nvPr/>
                </p:nvSpPr>
                <p:spPr>
                  <a:xfrm flipV="1">
                    <a:off x="3036600" y="5424480"/>
                    <a:ext cx="6840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8" name="Line 291"/>
                  <p:cNvSpPr/>
                  <p:nvPr/>
                </p:nvSpPr>
                <p:spPr>
                  <a:xfrm flipV="1">
                    <a:off x="3071520" y="5492520"/>
                    <a:ext cx="6696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9" name="Line 292"/>
                  <p:cNvSpPr/>
                  <p:nvPr/>
                </p:nvSpPr>
                <p:spPr>
                  <a:xfrm flipV="1">
                    <a:off x="3138480" y="5564160"/>
                    <a:ext cx="36360" cy="331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0" name="Line 293"/>
                  <p:cNvSpPr/>
                  <p:nvPr/>
                </p:nvSpPr>
                <p:spPr>
                  <a:xfrm flipH="1" flipV="1">
                    <a:off x="3657600" y="5597280"/>
                    <a:ext cx="36360" cy="1396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1" name="Line 294"/>
                  <p:cNvSpPr/>
                  <p:nvPr/>
                </p:nvSpPr>
                <p:spPr>
                  <a:xfrm flipV="1">
                    <a:off x="3590640" y="5630760"/>
                    <a:ext cx="36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2" name="Line 295"/>
                  <p:cNvSpPr/>
                  <p:nvPr/>
                </p:nvSpPr>
                <p:spPr>
                  <a:xfrm flipV="1">
                    <a:off x="3278160" y="5595840"/>
                    <a:ext cx="33120" cy="680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3" name="Line 296"/>
                  <p:cNvSpPr/>
                  <p:nvPr/>
                </p:nvSpPr>
                <p:spPr>
                  <a:xfrm flipV="1">
                    <a:off x="3348000" y="5632200"/>
                    <a:ext cx="3312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4" name="Line 297"/>
                  <p:cNvSpPr/>
                  <p:nvPr/>
                </p:nvSpPr>
                <p:spPr>
                  <a:xfrm flipV="1">
                    <a:off x="3416040" y="5632200"/>
                    <a:ext cx="3348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5" name="Line 298"/>
                  <p:cNvSpPr/>
                  <p:nvPr/>
                </p:nvSpPr>
                <p:spPr>
                  <a:xfrm flipV="1">
                    <a:off x="3485880" y="5630760"/>
                    <a:ext cx="367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6" name="Line 299"/>
                  <p:cNvSpPr/>
                  <p:nvPr/>
                </p:nvSpPr>
                <p:spPr>
                  <a:xfrm>
                    <a:off x="4211280" y="4973400"/>
                    <a:ext cx="1033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7" name="Line 300"/>
                  <p:cNvSpPr/>
                  <p:nvPr/>
                </p:nvSpPr>
                <p:spPr>
                  <a:xfrm>
                    <a:off x="4211280" y="5043240"/>
                    <a:ext cx="6840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8" name="Line 301"/>
                  <p:cNvSpPr/>
                  <p:nvPr/>
                </p:nvSpPr>
                <p:spPr>
                  <a:xfrm flipV="1">
                    <a:off x="4211280" y="4906800"/>
                    <a:ext cx="6840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9" name="Oval 302"/>
                  <p:cNvSpPr/>
                  <p:nvPr/>
                </p:nvSpPr>
                <p:spPr>
                  <a:xfrm>
                    <a:off x="3246480" y="4384800"/>
                    <a:ext cx="131400" cy="1281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0" name="Oval 303"/>
                  <p:cNvSpPr/>
                  <p:nvPr/>
                </p:nvSpPr>
                <p:spPr>
                  <a:xfrm>
                    <a:off x="3903840" y="448632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1" name="Oval 304"/>
                  <p:cNvSpPr/>
                  <p:nvPr/>
                </p:nvSpPr>
                <p:spPr>
                  <a:xfrm>
                    <a:off x="4043520" y="5178600"/>
                    <a:ext cx="131400" cy="1281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2" name="Oval 305"/>
                  <p:cNvSpPr/>
                  <p:nvPr/>
                </p:nvSpPr>
                <p:spPr>
                  <a:xfrm>
                    <a:off x="3836880" y="545472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3" name="Oval 306"/>
                  <p:cNvSpPr/>
                  <p:nvPr/>
                </p:nvSpPr>
                <p:spPr>
                  <a:xfrm>
                    <a:off x="3457440" y="5557680"/>
                    <a:ext cx="12996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4" name="Oval 307"/>
                  <p:cNvSpPr/>
                  <p:nvPr/>
                </p:nvSpPr>
                <p:spPr>
                  <a:xfrm>
                    <a:off x="3111480" y="5418000"/>
                    <a:ext cx="131400" cy="13140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5" name="Oval 308"/>
                  <p:cNvSpPr/>
                  <p:nvPr/>
                </p:nvSpPr>
                <p:spPr>
                  <a:xfrm>
                    <a:off x="2971800" y="4694400"/>
                    <a:ext cx="131400" cy="13140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6" name="Oval 309"/>
                  <p:cNvSpPr/>
                  <p:nvPr/>
                </p:nvSpPr>
                <p:spPr>
                  <a:xfrm>
                    <a:off x="2938320" y="507348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587" name="Group 340"/>
                <p:cNvGrpSpPr/>
                <p:nvPr/>
              </p:nvGrpSpPr>
              <p:grpSpPr>
                <a:xfrm>
                  <a:off x="5520600" y="1792440"/>
                  <a:ext cx="1172520" cy="1128600"/>
                  <a:chOff x="5520600" y="1792440"/>
                  <a:chExt cx="1172520" cy="1128600"/>
                </a:xfrm>
              </p:grpSpPr>
              <p:sp useBgFill="1">
                <p:nvSpPr>
                  <p:cNvPr id="1588" name="Oval 311"/>
                  <p:cNvSpPr/>
                  <p:nvPr/>
                </p:nvSpPr>
                <p:spPr>
                  <a:xfrm>
                    <a:off x="5543640" y="1827360"/>
                    <a:ext cx="110448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89" name="AutoShape 312"/>
                  <p:cNvSpPr/>
                  <p:nvPr/>
                </p:nvSpPr>
                <p:spPr>
                  <a:xfrm flipH="1" flipV="1" rot="16440000">
                    <a:off x="6382440" y="2179800"/>
                    <a:ext cx="242640" cy="361440"/>
                  </a:xfrm>
                  <a:custGeom>
                    <a:avLst/>
                    <a:gdLst>
                      <a:gd name="textAreaLeft" fmla="*/ 50400 w 242640"/>
                      <a:gd name="textAreaRight" fmla="*/ 192240 w 242640"/>
                      <a:gd name="textAreaTop" fmla="*/ 75240 h 361440"/>
                      <a:gd name="textAreaBottom" fmla="*/ 286200 h 361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0" name="Oval 313"/>
                  <p:cNvSpPr/>
                  <p:nvPr/>
                </p:nvSpPr>
                <p:spPr>
                  <a:xfrm rot="5640000">
                    <a:off x="6491160" y="2325240"/>
                    <a:ext cx="11232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1" name="AutoShape 314"/>
                  <p:cNvSpPr/>
                  <p:nvPr/>
                </p:nvSpPr>
                <p:spPr>
                  <a:xfrm flipH="1" flipV="1" rot="7980000">
                    <a:off x="5689800" y="1929960"/>
                    <a:ext cx="245880" cy="34560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2000 h 345600"/>
                      <a:gd name="textAreaBottom" fmla="*/ 273600 h 345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2" name="Oval 315"/>
                  <p:cNvSpPr/>
                  <p:nvPr/>
                </p:nvSpPr>
                <p:spPr>
                  <a:xfrm rot="18780000">
                    <a:off x="5733720" y="201780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3" name="AutoShape 316"/>
                  <p:cNvSpPr/>
                  <p:nvPr/>
                </p:nvSpPr>
                <p:spPr>
                  <a:xfrm flipH="1" flipV="1" rot="6360000">
                    <a:off x="5640120" y="20455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4" name="Oval 317"/>
                  <p:cNvSpPr/>
                  <p:nvPr/>
                </p:nvSpPr>
                <p:spPr>
                  <a:xfrm rot="17160000">
                    <a:off x="5630760" y="218952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5" name="AutoShape 318"/>
                  <p:cNvSpPr/>
                  <p:nvPr/>
                </p:nvSpPr>
                <p:spPr>
                  <a:xfrm flipH="1" flipV="1" rot="19140000">
                    <a:off x="6298920" y="237960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6" name="AutoShape 319"/>
                  <p:cNvSpPr/>
                  <p:nvPr/>
                </p:nvSpPr>
                <p:spPr>
                  <a:xfrm flipH="1" flipV="1" rot="18000000">
                    <a:off x="6348960" y="2275200"/>
                    <a:ext cx="167760" cy="496440"/>
                  </a:xfrm>
                  <a:custGeom>
                    <a:avLst/>
                    <a:gdLst>
                      <a:gd name="textAreaLeft" fmla="*/ 34920 w 167760"/>
                      <a:gd name="textAreaRight" fmla="*/ 132840 w 167760"/>
                      <a:gd name="textAreaTop" fmla="*/ 103320 h 496440"/>
                      <a:gd name="textAreaBottom" fmla="*/ 393120 h 49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7" name="Oval 320"/>
                  <p:cNvSpPr/>
                  <p:nvPr/>
                </p:nvSpPr>
                <p:spPr>
                  <a:xfrm rot="7200000">
                    <a:off x="6458400" y="249876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8" name="AutoShape 321"/>
                  <p:cNvSpPr/>
                  <p:nvPr/>
                </p:nvSpPr>
                <p:spPr>
                  <a:xfrm flipH="1" flipV="1" rot="14700000">
                    <a:off x="6334560" y="2017440"/>
                    <a:ext cx="218880" cy="39492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2080 h 394920"/>
                      <a:gd name="textAreaBottom" fmla="*/ 312840 h 394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9" name="Oval 322"/>
                  <p:cNvSpPr/>
                  <p:nvPr/>
                </p:nvSpPr>
                <p:spPr>
                  <a:xfrm rot="3900000">
                    <a:off x="6458040" y="215388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0" name="AutoShape 323"/>
                  <p:cNvSpPr/>
                  <p:nvPr/>
                </p:nvSpPr>
                <p:spPr>
                  <a:xfrm flipH="1" flipV="1" rot="13020000">
                    <a:off x="6194520" y="1918080"/>
                    <a:ext cx="245880" cy="4312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1" name="AutoShape 324"/>
                  <p:cNvSpPr/>
                  <p:nvPr/>
                </p:nvSpPr>
                <p:spPr>
                  <a:xfrm flipH="1" flipV="1" rot="20640000">
                    <a:off x="6039720" y="2424960"/>
                    <a:ext cx="356760" cy="455400"/>
                  </a:xfrm>
                  <a:custGeom>
                    <a:avLst/>
                    <a:gdLst>
                      <a:gd name="textAreaLeft" fmla="*/ 74160 w 356760"/>
                      <a:gd name="textAreaRight" fmla="*/ 282600 w 35676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2" name="Oval 325"/>
                  <p:cNvSpPr/>
                  <p:nvPr/>
                </p:nvSpPr>
                <p:spPr>
                  <a:xfrm rot="9840000">
                    <a:off x="6148800" y="270720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3" name="AutoShape 326"/>
                  <p:cNvSpPr/>
                  <p:nvPr/>
                </p:nvSpPr>
                <p:spPr>
                  <a:xfrm flipH="1" flipV="1" rot="480000">
                    <a:off x="5904000" y="2525400"/>
                    <a:ext cx="302760" cy="371160"/>
                  </a:xfrm>
                  <a:custGeom>
                    <a:avLst/>
                    <a:gdLst>
                      <a:gd name="textAreaLeft" fmla="*/ 63000 w 302760"/>
                      <a:gd name="textAreaRight" fmla="*/ 239760 w 302760"/>
                      <a:gd name="textAreaTop" fmla="*/ 77040 h 371160"/>
                      <a:gd name="textAreaBottom" fmla="*/ 293760 h 371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4" name="AutoShape 327"/>
                  <p:cNvSpPr/>
                  <p:nvPr/>
                </p:nvSpPr>
                <p:spPr>
                  <a:xfrm flipH="1" flipV="1" rot="1800000">
                    <a:off x="5758920" y="2588400"/>
                    <a:ext cx="262080" cy="239040"/>
                  </a:xfrm>
                  <a:custGeom>
                    <a:avLst/>
                    <a:gdLst>
                      <a:gd name="textAreaLeft" fmla="*/ 54360 w 262080"/>
                      <a:gd name="textAreaRight" fmla="*/ 207720 w 262080"/>
                      <a:gd name="textAreaTop" fmla="*/ 49680 h 239040"/>
                      <a:gd name="textAreaBottom" fmla="*/ 189360 h 239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5" name="Oval 328"/>
                  <p:cNvSpPr/>
                  <p:nvPr/>
                </p:nvSpPr>
                <p:spPr>
                  <a:xfrm rot="12600000">
                    <a:off x="5838840" y="2660760"/>
                    <a:ext cx="104400" cy="964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6" name="AutoShape 329"/>
                  <p:cNvSpPr/>
                  <p:nvPr/>
                </p:nvSpPr>
                <p:spPr>
                  <a:xfrm flipH="1" flipV="1" rot="3600000">
                    <a:off x="5712120" y="2341440"/>
                    <a:ext cx="237600" cy="4312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7" name="AutoShape 330"/>
                  <p:cNvSpPr/>
                  <p:nvPr/>
                </p:nvSpPr>
                <p:spPr>
                  <a:xfrm flipH="1" flipV="1" rot="5220000">
                    <a:off x="5595120" y="2169720"/>
                    <a:ext cx="325080" cy="414000"/>
                  </a:xfrm>
                  <a:custGeom>
                    <a:avLst/>
                    <a:gdLst>
                      <a:gd name="textAreaLeft" fmla="*/ 67680 w 325080"/>
                      <a:gd name="textAreaRight" fmla="*/ 257400 w 325080"/>
                      <a:gd name="textAreaTop" fmla="*/ 86040 h 414000"/>
                      <a:gd name="textAreaBottom" fmla="*/ 327960 h 41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8" name="Oval 331"/>
                  <p:cNvSpPr/>
                  <p:nvPr/>
                </p:nvSpPr>
                <p:spPr>
                  <a:xfrm rot="16020000">
                    <a:off x="5667120" y="2311560"/>
                    <a:ext cx="117000" cy="190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9" name="Freeform 332"/>
                  <p:cNvSpPr/>
                  <p:nvPr/>
                </p:nvSpPr>
                <p:spPr>
                  <a:xfrm>
                    <a:off x="6203880" y="1898640"/>
                    <a:ext cx="126720" cy="2361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80" h="149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4"/>
                        </a:lnTo>
                        <a:lnTo>
                          <a:pt x="79" y="29"/>
                        </a:lnTo>
                        <a:lnTo>
                          <a:pt x="74" y="49"/>
                        </a:lnTo>
                        <a:lnTo>
                          <a:pt x="69" y="64"/>
                        </a:lnTo>
                        <a:lnTo>
                          <a:pt x="59" y="79"/>
                        </a:lnTo>
                        <a:lnTo>
                          <a:pt x="59" y="93"/>
                        </a:lnTo>
                        <a:lnTo>
                          <a:pt x="49" y="108"/>
                        </a:lnTo>
                        <a:lnTo>
                          <a:pt x="40" y="128"/>
                        </a:lnTo>
                        <a:lnTo>
                          <a:pt x="35" y="143"/>
                        </a:lnTo>
                        <a:lnTo>
                          <a:pt x="20" y="148"/>
                        </a:lnTo>
                        <a:lnTo>
                          <a:pt x="15" y="133"/>
                        </a:lnTo>
                        <a:lnTo>
                          <a:pt x="15" y="118"/>
                        </a:lnTo>
                        <a:lnTo>
                          <a:pt x="15" y="103"/>
                        </a:lnTo>
                        <a:lnTo>
                          <a:pt x="15" y="88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10" name="Freeform 333"/>
                  <p:cNvSpPr/>
                  <p:nvPr/>
                </p:nvSpPr>
                <p:spPr>
                  <a:xfrm>
                    <a:off x="5791320" y="1878120"/>
                    <a:ext cx="210600" cy="218880"/>
                  </a:xfrm>
                  <a:custGeom>
                    <a:avLst/>
                    <a:gdLst>
                      <a:gd name="textAreaLeft" fmla="*/ 0 w 210600"/>
                      <a:gd name="textAreaRight" fmla="*/ 210960 w 2106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33" h="138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8" y="8"/>
                        </a:lnTo>
                        <a:lnTo>
                          <a:pt x="63" y="8"/>
                        </a:lnTo>
                        <a:lnTo>
                          <a:pt x="83" y="13"/>
                        </a:lnTo>
                        <a:lnTo>
                          <a:pt x="97" y="13"/>
                        </a:lnTo>
                        <a:lnTo>
                          <a:pt x="112" y="13"/>
                        </a:lnTo>
                        <a:lnTo>
                          <a:pt x="127" y="18"/>
                        </a:lnTo>
                        <a:lnTo>
                          <a:pt x="132" y="33"/>
                        </a:lnTo>
                        <a:lnTo>
                          <a:pt x="127" y="47"/>
                        </a:lnTo>
                        <a:lnTo>
                          <a:pt x="117" y="62"/>
                        </a:lnTo>
                        <a:lnTo>
                          <a:pt x="107" y="77"/>
                        </a:lnTo>
                        <a:lnTo>
                          <a:pt x="102" y="92"/>
                        </a:lnTo>
                        <a:lnTo>
                          <a:pt x="97" y="107"/>
                        </a:lnTo>
                        <a:lnTo>
                          <a:pt x="97" y="122"/>
                        </a:lnTo>
                        <a:lnTo>
                          <a:pt x="92" y="137"/>
                        </a:lnTo>
                        <a:lnTo>
                          <a:pt x="78" y="137"/>
                        </a:lnTo>
                        <a:lnTo>
                          <a:pt x="68" y="122"/>
                        </a:lnTo>
                        <a:lnTo>
                          <a:pt x="63" y="107"/>
                        </a:lnTo>
                        <a:lnTo>
                          <a:pt x="53" y="92"/>
                        </a:lnTo>
                        <a:lnTo>
                          <a:pt x="43" y="77"/>
                        </a:lnTo>
                        <a:lnTo>
                          <a:pt x="29" y="67"/>
                        </a:lnTo>
                        <a:lnTo>
                          <a:pt x="19" y="52"/>
                        </a:lnTo>
                        <a:lnTo>
                          <a:pt x="9" y="37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11" name="Group 336"/>
                  <p:cNvGrpSpPr/>
                  <p:nvPr/>
                </p:nvGrpSpPr>
                <p:grpSpPr>
                  <a:xfrm>
                    <a:off x="5941440" y="1792440"/>
                    <a:ext cx="366120" cy="388800"/>
                    <a:chOff x="5941440" y="1792440"/>
                    <a:chExt cx="366120" cy="388800"/>
                  </a:xfrm>
                </p:grpSpPr>
                <p:sp>
                  <p:nvSpPr>
                    <p:cNvPr id="1612" name="AutoShape 334"/>
                    <p:cNvSpPr/>
                    <p:nvPr/>
                  </p:nvSpPr>
                  <p:spPr>
                    <a:xfrm flipH="1" flipV="1" rot="12180000">
                      <a:off x="5990760" y="1832040"/>
                      <a:ext cx="266400" cy="3092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13" name="Oval 335"/>
                    <p:cNvSpPr/>
                    <p:nvPr/>
                  </p:nvSpPr>
                  <p:spPr>
                    <a:xfrm rot="1380000">
                      <a:off x="6070680" y="1923840"/>
                      <a:ext cx="10764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614" name="Group 339"/>
                  <p:cNvGrpSpPr/>
                  <p:nvPr/>
                </p:nvGrpSpPr>
                <p:grpSpPr>
                  <a:xfrm>
                    <a:off x="5841000" y="1820880"/>
                    <a:ext cx="327960" cy="437040"/>
                    <a:chOff x="5841000" y="1820880"/>
                    <a:chExt cx="327960" cy="437040"/>
                  </a:xfrm>
                </p:grpSpPr>
                <p:sp>
                  <p:nvSpPr>
                    <p:cNvPr id="1615" name="AutoShape 337"/>
                    <p:cNvSpPr/>
                    <p:nvPr/>
                  </p:nvSpPr>
                  <p:spPr>
                    <a:xfrm flipV="1" rot="10560000">
                      <a:off x="5855040" y="1830600"/>
                      <a:ext cx="299520" cy="417240"/>
                    </a:xfrm>
                    <a:custGeom>
                      <a:avLst/>
                      <a:gdLst>
                        <a:gd name="textAreaLeft" fmla="*/ 62280 w 299520"/>
                        <a:gd name="textAreaRight" fmla="*/ 237240 w 299520"/>
                        <a:gd name="textAreaTop" fmla="*/ 86760 h 417240"/>
                        <a:gd name="textAreaBottom" fmla="*/ 330480 h 417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16" name="Oval 338"/>
                    <p:cNvSpPr/>
                    <p:nvPr/>
                  </p:nvSpPr>
                  <p:spPr>
                    <a:xfrm flipH="1" rot="21360000">
                      <a:off x="5943600" y="1953720"/>
                      <a:ext cx="12024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617" name="Group 370"/>
                <p:cNvGrpSpPr/>
                <p:nvPr/>
              </p:nvGrpSpPr>
              <p:grpSpPr>
                <a:xfrm>
                  <a:off x="4277520" y="2276280"/>
                  <a:ext cx="1172160" cy="1130400"/>
                  <a:chOff x="4277520" y="2276280"/>
                  <a:chExt cx="1172160" cy="1130400"/>
                </a:xfrm>
              </p:grpSpPr>
              <p:sp useBgFill="1">
                <p:nvSpPr>
                  <p:cNvPr id="1618" name="Oval 341"/>
                  <p:cNvSpPr/>
                  <p:nvPr/>
                </p:nvSpPr>
                <p:spPr>
                  <a:xfrm>
                    <a:off x="4300560" y="2311560"/>
                    <a:ext cx="110448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19" name="AutoShape 342"/>
                  <p:cNvSpPr/>
                  <p:nvPr/>
                </p:nvSpPr>
                <p:spPr>
                  <a:xfrm flipH="1" flipV="1" rot="16440000">
                    <a:off x="5136120" y="2663280"/>
                    <a:ext cx="245880" cy="36324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5600 h 363240"/>
                      <a:gd name="textAreaBottom" fmla="*/ 287640 h 363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0" name="Oval 343"/>
                  <p:cNvSpPr/>
                  <p:nvPr/>
                </p:nvSpPr>
                <p:spPr>
                  <a:xfrm rot="5640000">
                    <a:off x="5248440" y="2806560"/>
                    <a:ext cx="110880" cy="110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1" name="AutoShape 344"/>
                  <p:cNvSpPr/>
                  <p:nvPr/>
                </p:nvSpPr>
                <p:spPr>
                  <a:xfrm flipH="1" flipV="1" rot="7980000">
                    <a:off x="4443480" y="2412360"/>
                    <a:ext cx="247320" cy="34452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4520"/>
                      <a:gd name="textAreaBottom" fmla="*/ 272880 h 344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2" name="Oval 345"/>
                  <p:cNvSpPr/>
                  <p:nvPr/>
                </p:nvSpPr>
                <p:spPr>
                  <a:xfrm rot="18780000">
                    <a:off x="4488840" y="249876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3" name="AutoShape 346"/>
                  <p:cNvSpPr/>
                  <p:nvPr/>
                </p:nvSpPr>
                <p:spPr>
                  <a:xfrm flipH="1" flipV="1" rot="6360000">
                    <a:off x="4397040" y="25297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4" name="Oval 347"/>
                  <p:cNvSpPr/>
                  <p:nvPr/>
                </p:nvSpPr>
                <p:spPr>
                  <a:xfrm rot="17160000">
                    <a:off x="4385880" y="2671920"/>
                    <a:ext cx="10440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5" name="AutoShape 348"/>
                  <p:cNvSpPr/>
                  <p:nvPr/>
                </p:nvSpPr>
                <p:spPr>
                  <a:xfrm flipH="1" flipV="1" rot="19140000">
                    <a:off x="5055840" y="286380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6" name="AutoShape 349"/>
                  <p:cNvSpPr/>
                  <p:nvPr/>
                </p:nvSpPr>
                <p:spPr>
                  <a:xfrm flipH="1" flipV="1" rot="18000000">
                    <a:off x="5105160" y="2759040"/>
                    <a:ext cx="167760" cy="498240"/>
                  </a:xfrm>
                  <a:custGeom>
                    <a:avLst/>
                    <a:gdLst>
                      <a:gd name="textAreaLeft" fmla="*/ 34920 w 167760"/>
                      <a:gd name="textAreaRight" fmla="*/ 132840 w 167760"/>
                      <a:gd name="textAreaTop" fmla="*/ 103680 h 498240"/>
                      <a:gd name="textAreaBottom" fmla="*/ 394560 h 49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7" name="Oval 350"/>
                  <p:cNvSpPr/>
                  <p:nvPr/>
                </p:nvSpPr>
                <p:spPr>
                  <a:xfrm rot="7200000">
                    <a:off x="5215320" y="298440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8" name="AutoShape 351"/>
                  <p:cNvSpPr/>
                  <p:nvPr/>
                </p:nvSpPr>
                <p:spPr>
                  <a:xfrm flipH="1" flipV="1" rot="14700000">
                    <a:off x="5090040" y="2500560"/>
                    <a:ext cx="220320" cy="39636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2440 h 396360"/>
                      <a:gd name="textAreaBottom" fmla="*/ 313920 h 39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9" name="Oval 352"/>
                  <p:cNvSpPr/>
                  <p:nvPr/>
                </p:nvSpPr>
                <p:spPr>
                  <a:xfrm rot="3900000">
                    <a:off x="5214960" y="263988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0" name="AutoShape 353"/>
                  <p:cNvSpPr/>
                  <p:nvPr/>
                </p:nvSpPr>
                <p:spPr>
                  <a:xfrm flipH="1" flipV="1" rot="13020000">
                    <a:off x="4947480" y="2398680"/>
                    <a:ext cx="247320" cy="4348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360 h 434880"/>
                      <a:gd name="textAreaBottom" fmla="*/ 344520 h 434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1" name="AutoShape 354"/>
                  <p:cNvSpPr/>
                  <p:nvPr/>
                </p:nvSpPr>
                <p:spPr>
                  <a:xfrm flipH="1" flipV="1" rot="20640000">
                    <a:off x="4795200" y="2923920"/>
                    <a:ext cx="261720" cy="45540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2" name="Oval 355"/>
                  <p:cNvSpPr/>
                  <p:nvPr/>
                </p:nvSpPr>
                <p:spPr>
                  <a:xfrm rot="9840000">
                    <a:off x="4903920" y="319104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3" name="AutoShape 356"/>
                  <p:cNvSpPr/>
                  <p:nvPr/>
                </p:nvSpPr>
                <p:spPr>
                  <a:xfrm flipH="1" flipV="1" rot="480000">
                    <a:off x="4656960" y="3009600"/>
                    <a:ext cx="304560" cy="36936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680 h 369360"/>
                      <a:gd name="textAreaBottom" fmla="*/ 292680 h 369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4" name="AutoShape 357"/>
                  <p:cNvSpPr/>
                  <p:nvPr/>
                </p:nvSpPr>
                <p:spPr>
                  <a:xfrm flipH="1" flipV="1" rot="1800000">
                    <a:off x="4514040" y="3073320"/>
                    <a:ext cx="263160" cy="24048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50040 h 240480"/>
                      <a:gd name="textAreaBottom" fmla="*/ 190440 h 240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5" name="Oval 358"/>
                  <p:cNvSpPr/>
                  <p:nvPr/>
                </p:nvSpPr>
                <p:spPr>
                  <a:xfrm rot="12600000">
                    <a:off x="4594320" y="3146760"/>
                    <a:ext cx="10440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6" name="AutoShape 359"/>
                  <p:cNvSpPr/>
                  <p:nvPr/>
                </p:nvSpPr>
                <p:spPr>
                  <a:xfrm flipH="1" flipV="1" rot="3600000">
                    <a:off x="4468320" y="2824920"/>
                    <a:ext cx="236160" cy="4312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7" name="AutoShape 360"/>
                  <p:cNvSpPr/>
                  <p:nvPr/>
                </p:nvSpPr>
                <p:spPr>
                  <a:xfrm flipH="1" flipV="1" rot="5220000">
                    <a:off x="4349160" y="2653920"/>
                    <a:ext cx="326520" cy="415440"/>
                  </a:xfrm>
                  <a:custGeom>
                    <a:avLst/>
                    <a:gdLst>
                      <a:gd name="textAreaLeft" fmla="*/ 68040 w 326520"/>
                      <a:gd name="textAreaRight" fmla="*/ 258480 w 326520"/>
                      <a:gd name="textAreaTop" fmla="*/ 86400 h 415440"/>
                      <a:gd name="textAreaBottom" fmla="*/ 329040 h 415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8" name="Oval 361"/>
                  <p:cNvSpPr/>
                  <p:nvPr/>
                </p:nvSpPr>
                <p:spPr>
                  <a:xfrm rot="16020000">
                    <a:off x="4424400" y="2794320"/>
                    <a:ext cx="115560" cy="191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9" name="Freeform 362"/>
                  <p:cNvSpPr/>
                  <p:nvPr/>
                </p:nvSpPr>
                <p:spPr>
                  <a:xfrm>
                    <a:off x="4959360" y="2382840"/>
                    <a:ext cx="126720" cy="23940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0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5"/>
                        </a:lnTo>
                        <a:lnTo>
                          <a:pt x="79" y="29"/>
                        </a:lnTo>
                        <a:lnTo>
                          <a:pt x="74" y="50"/>
                        </a:lnTo>
                        <a:lnTo>
                          <a:pt x="69" y="65"/>
                        </a:lnTo>
                        <a:lnTo>
                          <a:pt x="59" y="80"/>
                        </a:lnTo>
                        <a:lnTo>
                          <a:pt x="59" y="94"/>
                        </a:lnTo>
                        <a:lnTo>
                          <a:pt x="49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40" name="Freeform 363"/>
                  <p:cNvSpPr/>
                  <p:nvPr/>
                </p:nvSpPr>
                <p:spPr>
                  <a:xfrm>
                    <a:off x="4545000" y="2362320"/>
                    <a:ext cx="212400" cy="21888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34" h="138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3"/>
                        </a:lnTo>
                        <a:lnTo>
                          <a:pt x="128" y="47"/>
                        </a:lnTo>
                        <a:lnTo>
                          <a:pt x="118" y="62"/>
                        </a:lnTo>
                        <a:lnTo>
                          <a:pt x="108" y="77"/>
                        </a:lnTo>
                        <a:lnTo>
                          <a:pt x="103" y="92"/>
                        </a:lnTo>
                        <a:lnTo>
                          <a:pt x="98" y="107"/>
                        </a:lnTo>
                        <a:lnTo>
                          <a:pt x="98" y="122"/>
                        </a:lnTo>
                        <a:lnTo>
                          <a:pt x="93" y="137"/>
                        </a:lnTo>
                        <a:lnTo>
                          <a:pt x="78" y="137"/>
                        </a:lnTo>
                        <a:lnTo>
                          <a:pt x="68" y="122"/>
                        </a:lnTo>
                        <a:lnTo>
                          <a:pt x="64" y="107"/>
                        </a:lnTo>
                        <a:lnTo>
                          <a:pt x="54" y="92"/>
                        </a:lnTo>
                        <a:lnTo>
                          <a:pt x="44" y="77"/>
                        </a:lnTo>
                        <a:lnTo>
                          <a:pt x="29" y="67"/>
                        </a:lnTo>
                        <a:lnTo>
                          <a:pt x="19" y="52"/>
                        </a:lnTo>
                        <a:lnTo>
                          <a:pt x="9" y="37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41" name="Group 366"/>
                  <p:cNvGrpSpPr/>
                  <p:nvPr/>
                </p:nvGrpSpPr>
                <p:grpSpPr>
                  <a:xfrm>
                    <a:off x="4696920" y="2276280"/>
                    <a:ext cx="367920" cy="390600"/>
                    <a:chOff x="4696920" y="2276280"/>
                    <a:chExt cx="367920" cy="390600"/>
                  </a:xfrm>
                </p:grpSpPr>
                <p:sp>
                  <p:nvSpPr>
                    <p:cNvPr id="1642" name="AutoShape 364"/>
                    <p:cNvSpPr/>
                    <p:nvPr/>
                  </p:nvSpPr>
                  <p:spPr>
                    <a:xfrm flipH="1" flipV="1" rot="12180000">
                      <a:off x="4746960" y="2315520"/>
                      <a:ext cx="267840" cy="310680"/>
                    </a:xfrm>
                    <a:custGeom>
                      <a:avLst/>
                      <a:gdLst>
                        <a:gd name="textAreaLeft" fmla="*/ 55800 w 267840"/>
                        <a:gd name="textAreaRight" fmla="*/ 212040 w 267840"/>
                        <a:gd name="textAreaTop" fmla="*/ 64440 h 310680"/>
                        <a:gd name="textAreaBottom" fmla="*/ 245880 h 3106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43" name="Oval 365"/>
                    <p:cNvSpPr/>
                    <p:nvPr/>
                  </p:nvSpPr>
                  <p:spPr>
                    <a:xfrm rot="1380000">
                      <a:off x="4829040" y="2408040"/>
                      <a:ext cx="104400" cy="1249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644" name="Group 369"/>
                  <p:cNvGrpSpPr/>
                  <p:nvPr/>
                </p:nvGrpSpPr>
                <p:grpSpPr>
                  <a:xfrm>
                    <a:off x="4597920" y="2304720"/>
                    <a:ext cx="324720" cy="433800"/>
                    <a:chOff x="4597920" y="2304720"/>
                    <a:chExt cx="324720" cy="433800"/>
                  </a:xfrm>
                </p:grpSpPr>
                <p:sp>
                  <p:nvSpPr>
                    <p:cNvPr id="1645" name="AutoShape 367"/>
                    <p:cNvSpPr/>
                    <p:nvPr/>
                  </p:nvSpPr>
                  <p:spPr>
                    <a:xfrm flipV="1" rot="10560000">
                      <a:off x="4611600" y="2313720"/>
                      <a:ext cx="296640" cy="41436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040 h 414360"/>
                        <a:gd name="textAreaBottom" fmla="*/ 327960 h 414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46" name="Oval 368"/>
                    <p:cNvSpPr/>
                    <p:nvPr/>
                  </p:nvSpPr>
                  <p:spPr>
                    <a:xfrm flipH="1" rot="21360000">
                      <a:off x="4700160" y="2438280"/>
                      <a:ext cx="11700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647" name="Group 400"/>
                <p:cNvGrpSpPr/>
                <p:nvPr/>
              </p:nvGrpSpPr>
              <p:grpSpPr>
                <a:xfrm>
                  <a:off x="3033000" y="2136960"/>
                  <a:ext cx="1171440" cy="1131120"/>
                  <a:chOff x="3033000" y="2136960"/>
                  <a:chExt cx="1171440" cy="1131120"/>
                </a:xfrm>
              </p:grpSpPr>
              <p:sp useBgFill="1">
                <p:nvSpPr>
                  <p:cNvPr id="1648" name="Oval 371"/>
                  <p:cNvSpPr/>
                  <p:nvPr/>
                </p:nvSpPr>
                <p:spPr>
                  <a:xfrm>
                    <a:off x="3057480" y="2173320"/>
                    <a:ext cx="1103040" cy="10411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49" name="AutoShape 372"/>
                  <p:cNvSpPr/>
                  <p:nvPr/>
                </p:nvSpPr>
                <p:spPr>
                  <a:xfrm flipH="1" flipV="1" rot="16440000">
                    <a:off x="3893040" y="2525760"/>
                    <a:ext cx="244080" cy="36144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240 h 361440"/>
                      <a:gd name="textAreaBottom" fmla="*/ 286200 h 361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0" name="Oval 373"/>
                  <p:cNvSpPr/>
                  <p:nvPr/>
                </p:nvSpPr>
                <p:spPr>
                  <a:xfrm rot="5640000">
                    <a:off x="4003560" y="2669760"/>
                    <a:ext cx="110880" cy="110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1" name="AutoShape 374"/>
                  <p:cNvSpPr/>
                  <p:nvPr/>
                </p:nvSpPr>
                <p:spPr>
                  <a:xfrm flipH="1" flipV="1" rot="7980000">
                    <a:off x="3200400" y="2274480"/>
                    <a:ext cx="245880" cy="34776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2360 h 347760"/>
                      <a:gd name="textAreaBottom" fmla="*/ 275400 h 3477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2" name="Oval 375"/>
                  <p:cNvSpPr/>
                  <p:nvPr/>
                </p:nvSpPr>
                <p:spPr>
                  <a:xfrm rot="18780000">
                    <a:off x="3244320" y="236196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3" name="AutoShape 376"/>
                  <p:cNvSpPr/>
                  <p:nvPr/>
                </p:nvSpPr>
                <p:spPr>
                  <a:xfrm flipH="1" flipV="1" rot="6360000">
                    <a:off x="3152520" y="239148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4" name="Oval 377"/>
                  <p:cNvSpPr/>
                  <p:nvPr/>
                </p:nvSpPr>
                <p:spPr>
                  <a:xfrm rot="17160000">
                    <a:off x="3143160" y="253404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5" name="AutoShape 378"/>
                  <p:cNvSpPr/>
                  <p:nvPr/>
                </p:nvSpPr>
                <p:spPr>
                  <a:xfrm flipH="1" flipV="1" rot="19140000">
                    <a:off x="3809880" y="272556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6" name="AutoShape 379"/>
                  <p:cNvSpPr/>
                  <p:nvPr/>
                </p:nvSpPr>
                <p:spPr>
                  <a:xfrm flipH="1" flipV="1" rot="18000000">
                    <a:off x="3858840" y="2620800"/>
                    <a:ext cx="171000" cy="494640"/>
                  </a:xfrm>
                  <a:custGeom>
                    <a:avLst/>
                    <a:gdLst>
                      <a:gd name="textAreaLeft" fmla="*/ 35640 w 171000"/>
                      <a:gd name="textAreaRight" fmla="*/ 135360 w 171000"/>
                      <a:gd name="textAreaTop" fmla="*/ 102960 h 494640"/>
                      <a:gd name="textAreaBottom" fmla="*/ 391680 h 49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7" name="Oval 380"/>
                  <p:cNvSpPr/>
                  <p:nvPr/>
                </p:nvSpPr>
                <p:spPr>
                  <a:xfrm rot="7200000">
                    <a:off x="3972240" y="284652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8" name="AutoShape 381"/>
                  <p:cNvSpPr/>
                  <p:nvPr/>
                </p:nvSpPr>
                <p:spPr>
                  <a:xfrm flipH="1" flipV="1" rot="14700000">
                    <a:off x="3846240" y="2363400"/>
                    <a:ext cx="220320" cy="39348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59" name="Oval 382"/>
                  <p:cNvSpPr/>
                  <p:nvPr/>
                </p:nvSpPr>
                <p:spPr>
                  <a:xfrm rot="3900000">
                    <a:off x="3972240" y="249840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0" name="AutoShape 383"/>
                  <p:cNvSpPr/>
                  <p:nvPr/>
                </p:nvSpPr>
                <p:spPr>
                  <a:xfrm flipH="1" flipV="1" rot="13020000">
                    <a:off x="3704400" y="2260800"/>
                    <a:ext cx="245880" cy="4330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1" name="AutoShape 384"/>
                  <p:cNvSpPr/>
                  <p:nvPr/>
                </p:nvSpPr>
                <p:spPr>
                  <a:xfrm flipH="1" flipV="1" rot="20640000">
                    <a:off x="3550320" y="2784960"/>
                    <a:ext cx="259920" cy="45540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2" name="Oval 385"/>
                  <p:cNvSpPr/>
                  <p:nvPr/>
                </p:nvSpPr>
                <p:spPr>
                  <a:xfrm rot="9840000">
                    <a:off x="3659400" y="305316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3" name="AutoShape 386"/>
                  <p:cNvSpPr/>
                  <p:nvPr/>
                </p:nvSpPr>
                <p:spPr>
                  <a:xfrm flipH="1" flipV="1" rot="480000">
                    <a:off x="3414600" y="2871000"/>
                    <a:ext cx="302760" cy="369360"/>
                  </a:xfrm>
                  <a:custGeom>
                    <a:avLst/>
                    <a:gdLst>
                      <a:gd name="textAreaLeft" fmla="*/ 63000 w 302760"/>
                      <a:gd name="textAreaRight" fmla="*/ 239760 w 302760"/>
                      <a:gd name="textAreaTop" fmla="*/ 76680 h 369360"/>
                      <a:gd name="textAreaBottom" fmla="*/ 292680 h 369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4" name="AutoShape 387"/>
                  <p:cNvSpPr/>
                  <p:nvPr/>
                </p:nvSpPr>
                <p:spPr>
                  <a:xfrm flipH="1" flipV="1" rot="1800000">
                    <a:off x="3269160" y="2935800"/>
                    <a:ext cx="263160" cy="23760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49320 h 237600"/>
                      <a:gd name="textAreaBottom" fmla="*/ 188280 h 23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5" name="Oval 388"/>
                  <p:cNvSpPr/>
                  <p:nvPr/>
                </p:nvSpPr>
                <p:spPr>
                  <a:xfrm rot="12600000">
                    <a:off x="3349800" y="3008520"/>
                    <a:ext cx="1058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6" name="AutoShape 389"/>
                  <p:cNvSpPr/>
                  <p:nvPr/>
                </p:nvSpPr>
                <p:spPr>
                  <a:xfrm flipH="1" flipV="1" rot="3600000">
                    <a:off x="3225240" y="2685240"/>
                    <a:ext cx="236160" cy="4312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7" name="AutoShape 390"/>
                  <p:cNvSpPr/>
                  <p:nvPr/>
                </p:nvSpPr>
                <p:spPr>
                  <a:xfrm flipH="1" flipV="1" rot="5220000">
                    <a:off x="3106080" y="2515680"/>
                    <a:ext cx="325080" cy="415440"/>
                  </a:xfrm>
                  <a:custGeom>
                    <a:avLst/>
                    <a:gdLst>
                      <a:gd name="textAreaLeft" fmla="*/ 67680 w 325080"/>
                      <a:gd name="textAreaRight" fmla="*/ 257400 w 325080"/>
                      <a:gd name="textAreaTop" fmla="*/ 86400 h 415440"/>
                      <a:gd name="textAreaBottom" fmla="*/ 329040 h 415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8" name="Oval 391"/>
                  <p:cNvSpPr/>
                  <p:nvPr/>
                </p:nvSpPr>
                <p:spPr>
                  <a:xfrm rot="16020000">
                    <a:off x="3179520" y="2656080"/>
                    <a:ext cx="115560" cy="190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9" name="Freeform 392"/>
                  <p:cNvSpPr/>
                  <p:nvPr/>
                </p:nvSpPr>
                <p:spPr>
                  <a:xfrm>
                    <a:off x="3713040" y="2246400"/>
                    <a:ext cx="126720" cy="2361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80" h="149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4"/>
                        </a:lnTo>
                        <a:lnTo>
                          <a:pt x="79" y="29"/>
                        </a:lnTo>
                        <a:lnTo>
                          <a:pt x="74" y="49"/>
                        </a:lnTo>
                        <a:lnTo>
                          <a:pt x="69" y="64"/>
                        </a:lnTo>
                        <a:lnTo>
                          <a:pt x="59" y="79"/>
                        </a:lnTo>
                        <a:lnTo>
                          <a:pt x="59" y="93"/>
                        </a:lnTo>
                        <a:lnTo>
                          <a:pt x="49" y="108"/>
                        </a:lnTo>
                        <a:lnTo>
                          <a:pt x="40" y="128"/>
                        </a:lnTo>
                        <a:lnTo>
                          <a:pt x="35" y="143"/>
                        </a:lnTo>
                        <a:lnTo>
                          <a:pt x="20" y="148"/>
                        </a:lnTo>
                        <a:lnTo>
                          <a:pt x="15" y="133"/>
                        </a:lnTo>
                        <a:lnTo>
                          <a:pt x="15" y="118"/>
                        </a:lnTo>
                        <a:lnTo>
                          <a:pt x="15" y="103"/>
                        </a:lnTo>
                        <a:lnTo>
                          <a:pt x="15" y="88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70" name="Freeform 393"/>
                  <p:cNvSpPr/>
                  <p:nvPr/>
                </p:nvSpPr>
                <p:spPr>
                  <a:xfrm>
                    <a:off x="3297240" y="2222640"/>
                    <a:ext cx="212400" cy="21888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34" h="138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3"/>
                        </a:lnTo>
                        <a:lnTo>
                          <a:pt x="128" y="47"/>
                        </a:lnTo>
                        <a:lnTo>
                          <a:pt x="118" y="62"/>
                        </a:lnTo>
                        <a:lnTo>
                          <a:pt x="108" y="77"/>
                        </a:lnTo>
                        <a:lnTo>
                          <a:pt x="103" y="92"/>
                        </a:lnTo>
                        <a:lnTo>
                          <a:pt x="98" y="107"/>
                        </a:lnTo>
                        <a:lnTo>
                          <a:pt x="98" y="122"/>
                        </a:lnTo>
                        <a:lnTo>
                          <a:pt x="93" y="137"/>
                        </a:lnTo>
                        <a:lnTo>
                          <a:pt x="78" y="137"/>
                        </a:lnTo>
                        <a:lnTo>
                          <a:pt x="68" y="122"/>
                        </a:lnTo>
                        <a:lnTo>
                          <a:pt x="64" y="107"/>
                        </a:lnTo>
                        <a:lnTo>
                          <a:pt x="54" y="92"/>
                        </a:lnTo>
                        <a:lnTo>
                          <a:pt x="44" y="77"/>
                        </a:lnTo>
                        <a:lnTo>
                          <a:pt x="29" y="67"/>
                        </a:lnTo>
                        <a:lnTo>
                          <a:pt x="19" y="52"/>
                        </a:lnTo>
                        <a:lnTo>
                          <a:pt x="9" y="37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71" name="Group 396"/>
                  <p:cNvGrpSpPr/>
                  <p:nvPr/>
                </p:nvGrpSpPr>
                <p:grpSpPr>
                  <a:xfrm>
                    <a:off x="3453840" y="2136960"/>
                    <a:ext cx="366120" cy="388800"/>
                    <a:chOff x="3453840" y="2136960"/>
                    <a:chExt cx="366120" cy="388800"/>
                  </a:xfrm>
                </p:grpSpPr>
                <p:sp>
                  <p:nvSpPr>
                    <p:cNvPr id="1672" name="AutoShape 394"/>
                    <p:cNvSpPr/>
                    <p:nvPr/>
                  </p:nvSpPr>
                  <p:spPr>
                    <a:xfrm flipH="1" flipV="1" rot="12180000">
                      <a:off x="3503160" y="2176560"/>
                      <a:ext cx="266400" cy="3092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73" name="Oval 395"/>
                    <p:cNvSpPr/>
                    <p:nvPr/>
                  </p:nvSpPr>
                  <p:spPr>
                    <a:xfrm rot="1380000">
                      <a:off x="3586320" y="2268000"/>
                      <a:ext cx="10116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674" name="Group 399"/>
                  <p:cNvGrpSpPr/>
                  <p:nvPr/>
                </p:nvGrpSpPr>
                <p:grpSpPr>
                  <a:xfrm>
                    <a:off x="3353040" y="2165400"/>
                    <a:ext cx="326520" cy="438480"/>
                    <a:chOff x="3353040" y="2165400"/>
                    <a:chExt cx="326520" cy="438480"/>
                  </a:xfrm>
                </p:grpSpPr>
                <p:sp>
                  <p:nvSpPr>
                    <p:cNvPr id="1675" name="AutoShape 397"/>
                    <p:cNvSpPr/>
                    <p:nvPr/>
                  </p:nvSpPr>
                  <p:spPr>
                    <a:xfrm flipV="1" rot="10560000">
                      <a:off x="3367080" y="2175120"/>
                      <a:ext cx="298080" cy="41868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7120 h 418680"/>
                        <a:gd name="textAreaBottom" fmla="*/ 331560 h 4186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76" name="Oval 398"/>
                    <p:cNvSpPr/>
                    <p:nvPr/>
                  </p:nvSpPr>
                  <p:spPr>
                    <a:xfrm flipH="1" rot="21360000">
                      <a:off x="3457080" y="2298240"/>
                      <a:ext cx="11700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677" name="Group 430"/>
                <p:cNvGrpSpPr/>
                <p:nvPr/>
              </p:nvGrpSpPr>
              <p:grpSpPr>
                <a:xfrm>
                  <a:off x="2340720" y="3175560"/>
                  <a:ext cx="1173600" cy="1129680"/>
                  <a:chOff x="2340720" y="3175560"/>
                  <a:chExt cx="1173600" cy="1129680"/>
                </a:xfrm>
              </p:grpSpPr>
              <p:sp useBgFill="1">
                <p:nvSpPr>
                  <p:cNvPr id="1678" name="Oval 401"/>
                  <p:cNvSpPr/>
                  <p:nvPr/>
                </p:nvSpPr>
                <p:spPr>
                  <a:xfrm>
                    <a:off x="2365200" y="3211560"/>
                    <a:ext cx="1104480" cy="10411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79" name="AutoShape 402"/>
                  <p:cNvSpPr/>
                  <p:nvPr/>
                </p:nvSpPr>
                <p:spPr>
                  <a:xfrm flipH="1" flipV="1" rot="16440000">
                    <a:off x="3201480" y="3560040"/>
                    <a:ext cx="244080" cy="3643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960 h 364320"/>
                      <a:gd name="textAreaBottom" fmla="*/ 288360 h 364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0" name="Oval 403"/>
                  <p:cNvSpPr/>
                  <p:nvPr/>
                </p:nvSpPr>
                <p:spPr>
                  <a:xfrm rot="5640000">
                    <a:off x="3314880" y="3706920"/>
                    <a:ext cx="10764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1" name="AutoShape 404"/>
                  <p:cNvSpPr/>
                  <p:nvPr/>
                </p:nvSpPr>
                <p:spPr>
                  <a:xfrm flipH="1" flipV="1" rot="7980000">
                    <a:off x="2507760" y="3311280"/>
                    <a:ext cx="247320" cy="34524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2" name="Oval 405"/>
                  <p:cNvSpPr/>
                  <p:nvPr/>
                </p:nvSpPr>
                <p:spPr>
                  <a:xfrm rot="18780000">
                    <a:off x="2553840" y="339876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3" name="AutoShape 406"/>
                  <p:cNvSpPr/>
                  <p:nvPr/>
                </p:nvSpPr>
                <p:spPr>
                  <a:xfrm flipH="1" flipV="1" rot="6360000">
                    <a:off x="2460240" y="342648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4" name="Oval 407"/>
                  <p:cNvSpPr/>
                  <p:nvPr/>
                </p:nvSpPr>
                <p:spPr>
                  <a:xfrm rot="17160000">
                    <a:off x="2450880" y="357048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5" name="AutoShape 408"/>
                  <p:cNvSpPr/>
                  <p:nvPr/>
                </p:nvSpPr>
                <p:spPr>
                  <a:xfrm flipH="1" flipV="1" rot="19140000">
                    <a:off x="3117600" y="3760560"/>
                    <a:ext cx="139320" cy="423720"/>
                  </a:xfrm>
                  <a:custGeom>
                    <a:avLst/>
                    <a:gdLst>
                      <a:gd name="textAreaLeft" fmla="*/ 28800 w 139320"/>
                      <a:gd name="textAreaRight" fmla="*/ 110520 w 139320"/>
                      <a:gd name="textAreaTop" fmla="*/ 88200 h 423720"/>
                      <a:gd name="textAreaBottom" fmla="*/ 335520 h 423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6" name="AutoShape 409"/>
                  <p:cNvSpPr/>
                  <p:nvPr/>
                </p:nvSpPr>
                <p:spPr>
                  <a:xfrm flipH="1" flipV="1" rot="18000000">
                    <a:off x="3169800" y="3657600"/>
                    <a:ext cx="169560" cy="495000"/>
                  </a:xfrm>
                  <a:custGeom>
                    <a:avLst/>
                    <a:gdLst>
                      <a:gd name="textAreaLeft" fmla="*/ 35280 w 169560"/>
                      <a:gd name="textAreaRight" fmla="*/ 134280 w 169560"/>
                      <a:gd name="textAreaTop" fmla="*/ 102960 h 495000"/>
                      <a:gd name="textAreaBottom" fmla="*/ 392040 h 495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7" name="Oval 410"/>
                  <p:cNvSpPr/>
                  <p:nvPr/>
                </p:nvSpPr>
                <p:spPr>
                  <a:xfrm rot="7200000">
                    <a:off x="3279960" y="388296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8" name="AutoShape 411"/>
                  <p:cNvSpPr/>
                  <p:nvPr/>
                </p:nvSpPr>
                <p:spPr>
                  <a:xfrm flipH="1" flipV="1" rot="14700000">
                    <a:off x="3155760" y="3398040"/>
                    <a:ext cx="218880" cy="39348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9" name="Oval 412"/>
                  <p:cNvSpPr/>
                  <p:nvPr/>
                </p:nvSpPr>
                <p:spPr>
                  <a:xfrm rot="3900000">
                    <a:off x="3279960" y="3534840"/>
                    <a:ext cx="10584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0" name="AutoShape 413"/>
                  <p:cNvSpPr/>
                  <p:nvPr/>
                </p:nvSpPr>
                <p:spPr>
                  <a:xfrm flipH="1" flipV="1" rot="13020000">
                    <a:off x="3014640" y="3299040"/>
                    <a:ext cx="244080" cy="42984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89280 h 429840"/>
                      <a:gd name="textAreaBottom" fmla="*/ 340560 h 429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1" name="AutoShape 414"/>
                  <p:cNvSpPr/>
                  <p:nvPr/>
                </p:nvSpPr>
                <p:spPr>
                  <a:xfrm flipH="1" flipV="1" rot="20640000">
                    <a:off x="2858760" y="3822480"/>
                    <a:ext cx="261720" cy="45540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2" name="Oval 415"/>
                  <p:cNvSpPr/>
                  <p:nvPr/>
                </p:nvSpPr>
                <p:spPr>
                  <a:xfrm rot="9840000">
                    <a:off x="2969280" y="408960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3" name="AutoShape 416"/>
                  <p:cNvSpPr/>
                  <p:nvPr/>
                </p:nvSpPr>
                <p:spPr>
                  <a:xfrm flipH="1" flipV="1" rot="480000">
                    <a:off x="2722320" y="3909960"/>
                    <a:ext cx="304560" cy="36792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680 h 367920"/>
                      <a:gd name="textAreaBottom" fmla="*/ 291240 h 367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4" name="AutoShape 417"/>
                  <p:cNvSpPr/>
                  <p:nvPr/>
                </p:nvSpPr>
                <p:spPr>
                  <a:xfrm flipH="1" flipV="1" rot="1800000">
                    <a:off x="2577240" y="3971160"/>
                    <a:ext cx="264960" cy="239040"/>
                  </a:xfrm>
                  <a:custGeom>
                    <a:avLst/>
                    <a:gdLst>
                      <a:gd name="textAreaLeft" fmla="*/ 55080 w 264960"/>
                      <a:gd name="textAreaRight" fmla="*/ 209880 w 264960"/>
                      <a:gd name="textAreaTop" fmla="*/ 49680 h 239040"/>
                      <a:gd name="textAreaBottom" fmla="*/ 189360 h 239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5" name="Oval 418"/>
                  <p:cNvSpPr/>
                  <p:nvPr/>
                </p:nvSpPr>
                <p:spPr>
                  <a:xfrm rot="12600000">
                    <a:off x="2657520" y="4043520"/>
                    <a:ext cx="105840" cy="964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6" name="AutoShape 419"/>
                  <p:cNvSpPr/>
                  <p:nvPr/>
                </p:nvSpPr>
                <p:spPr>
                  <a:xfrm flipH="1" flipV="1" rot="3600000">
                    <a:off x="2533680" y="3723120"/>
                    <a:ext cx="237600" cy="4330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7" name="AutoShape 420"/>
                  <p:cNvSpPr/>
                  <p:nvPr/>
                </p:nvSpPr>
                <p:spPr>
                  <a:xfrm flipH="1" flipV="1" rot="5220000">
                    <a:off x="2414880" y="355212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8" name="Oval 421"/>
                  <p:cNvSpPr/>
                  <p:nvPr/>
                </p:nvSpPr>
                <p:spPr>
                  <a:xfrm rot="16020000">
                    <a:off x="2487240" y="3694320"/>
                    <a:ext cx="115560" cy="188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99" name="Freeform 422"/>
                  <p:cNvSpPr/>
                  <p:nvPr/>
                </p:nvSpPr>
                <p:spPr>
                  <a:xfrm>
                    <a:off x="3022560" y="3281400"/>
                    <a:ext cx="128160" cy="2394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1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50"/>
                        </a:lnTo>
                        <a:lnTo>
                          <a:pt x="70" y="65"/>
                        </a:lnTo>
                        <a:lnTo>
                          <a:pt x="60" y="80"/>
                        </a:lnTo>
                        <a:lnTo>
                          <a:pt x="60" y="94"/>
                        </a:lnTo>
                        <a:lnTo>
                          <a:pt x="50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00" name="Freeform 423"/>
                  <p:cNvSpPr/>
                  <p:nvPr/>
                </p:nvSpPr>
                <p:spPr>
                  <a:xfrm>
                    <a:off x="2606760" y="3257640"/>
                    <a:ext cx="213840" cy="22356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3560"/>
                      <a:gd name="textAreaBottom" fmla="*/ 223920 h 223560"/>
                    </a:gdLst>
                    <a:ahLst/>
                    <a:rect l="textAreaLeft" t="textAreaTop" r="textAreaRight" b="textAreaBottom"/>
                    <a:pathLst>
                      <a:path w="135" h="141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4"/>
                        </a:lnTo>
                        <a:lnTo>
                          <a:pt x="129" y="48"/>
                        </a:lnTo>
                        <a:lnTo>
                          <a:pt x="119" y="64"/>
                        </a:lnTo>
                        <a:lnTo>
                          <a:pt x="109" y="79"/>
                        </a:lnTo>
                        <a:lnTo>
                          <a:pt x="104" y="94"/>
                        </a:lnTo>
                        <a:lnTo>
                          <a:pt x="99" y="109"/>
                        </a:lnTo>
                        <a:lnTo>
                          <a:pt x="99" y="124"/>
                        </a:lnTo>
                        <a:lnTo>
                          <a:pt x="94" y="140"/>
                        </a:lnTo>
                        <a:lnTo>
                          <a:pt x="79" y="140"/>
                        </a:lnTo>
                        <a:lnTo>
                          <a:pt x="69" y="124"/>
                        </a:lnTo>
                        <a:lnTo>
                          <a:pt x="64" y="109"/>
                        </a:lnTo>
                        <a:lnTo>
                          <a:pt x="54" y="94"/>
                        </a:lnTo>
                        <a:lnTo>
                          <a:pt x="44" y="79"/>
                        </a:lnTo>
                        <a:lnTo>
                          <a:pt x="29" y="69"/>
                        </a:lnTo>
                        <a:lnTo>
                          <a:pt x="19" y="54"/>
                        </a:lnTo>
                        <a:lnTo>
                          <a:pt x="9" y="38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701" name="Group 426"/>
                  <p:cNvGrpSpPr/>
                  <p:nvPr/>
                </p:nvGrpSpPr>
                <p:grpSpPr>
                  <a:xfrm>
                    <a:off x="2763720" y="3175560"/>
                    <a:ext cx="363600" cy="386280"/>
                    <a:chOff x="2763720" y="3175560"/>
                    <a:chExt cx="363600" cy="386280"/>
                  </a:xfrm>
                </p:grpSpPr>
                <p:sp>
                  <p:nvSpPr>
                    <p:cNvPr id="1702" name="AutoShape 424"/>
                    <p:cNvSpPr/>
                    <p:nvPr/>
                  </p:nvSpPr>
                  <p:spPr>
                    <a:xfrm flipH="1" flipV="1" rot="12180000">
                      <a:off x="2813040" y="3214440"/>
                      <a:ext cx="264600" cy="307440"/>
                    </a:xfrm>
                    <a:custGeom>
                      <a:avLst/>
                      <a:gdLst>
                        <a:gd name="textAreaLeft" fmla="*/ 55080 w 264600"/>
                        <a:gd name="textAreaRight" fmla="*/ 209520 w 2646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03" name="Oval 425"/>
                    <p:cNvSpPr/>
                    <p:nvPr/>
                  </p:nvSpPr>
                  <p:spPr>
                    <a:xfrm rot="1380000">
                      <a:off x="2894040" y="3306600"/>
                      <a:ext cx="102960" cy="12348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480" bIns="42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04" name="Group 429"/>
                  <p:cNvGrpSpPr/>
                  <p:nvPr/>
                </p:nvGrpSpPr>
                <p:grpSpPr>
                  <a:xfrm>
                    <a:off x="2661120" y="3203280"/>
                    <a:ext cx="326520" cy="435240"/>
                    <a:chOff x="2661120" y="3203280"/>
                    <a:chExt cx="326520" cy="435240"/>
                  </a:xfrm>
                </p:grpSpPr>
                <p:sp>
                  <p:nvSpPr>
                    <p:cNvPr id="1705" name="AutoShape 427"/>
                    <p:cNvSpPr/>
                    <p:nvPr/>
                  </p:nvSpPr>
                  <p:spPr>
                    <a:xfrm flipV="1" rot="10560000">
                      <a:off x="2675160" y="3212640"/>
                      <a:ext cx="298080" cy="41544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6400 h 415440"/>
                        <a:gd name="textAreaBottom" fmla="*/ 329040 h 41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06" name="Oval 428"/>
                    <p:cNvSpPr/>
                    <p:nvPr/>
                  </p:nvSpPr>
                  <p:spPr>
                    <a:xfrm flipH="1" rot="21360000">
                      <a:off x="2765160" y="333648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707" name="Group 460"/>
                <p:cNvGrpSpPr/>
                <p:nvPr/>
              </p:nvGrpSpPr>
              <p:grpSpPr>
                <a:xfrm>
                  <a:off x="5245920" y="3061080"/>
                  <a:ext cx="1170720" cy="1131120"/>
                  <a:chOff x="5245920" y="3061080"/>
                  <a:chExt cx="1170720" cy="1131120"/>
                </a:xfrm>
              </p:grpSpPr>
              <p:sp useBgFill="1">
                <p:nvSpPr>
                  <p:cNvPr id="1708" name="Oval 431"/>
                  <p:cNvSpPr/>
                  <p:nvPr/>
                </p:nvSpPr>
                <p:spPr>
                  <a:xfrm>
                    <a:off x="5270400" y="3095640"/>
                    <a:ext cx="110304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09" name="AutoShape 432"/>
                  <p:cNvSpPr/>
                  <p:nvPr/>
                </p:nvSpPr>
                <p:spPr>
                  <a:xfrm flipH="1" flipV="1" rot="16440000">
                    <a:off x="6104520" y="3449160"/>
                    <a:ext cx="245880" cy="36144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5240 h 361440"/>
                      <a:gd name="textAreaBottom" fmla="*/ 286200 h 361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0" name="Oval 433"/>
                  <p:cNvSpPr/>
                  <p:nvPr/>
                </p:nvSpPr>
                <p:spPr>
                  <a:xfrm rot="5640000">
                    <a:off x="6213600" y="3592440"/>
                    <a:ext cx="11232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1" name="AutoShape 434"/>
                  <p:cNvSpPr/>
                  <p:nvPr/>
                </p:nvSpPr>
                <p:spPr>
                  <a:xfrm flipH="1" flipV="1" rot="7980000">
                    <a:off x="5411880" y="3198240"/>
                    <a:ext cx="247320" cy="34452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4520"/>
                      <a:gd name="textAreaBottom" fmla="*/ 272880 h 344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2" name="Oval 435"/>
                  <p:cNvSpPr/>
                  <p:nvPr/>
                </p:nvSpPr>
                <p:spPr>
                  <a:xfrm rot="18780000">
                    <a:off x="5457600" y="328464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3" name="AutoShape 436"/>
                  <p:cNvSpPr/>
                  <p:nvPr/>
                </p:nvSpPr>
                <p:spPr>
                  <a:xfrm flipH="1" flipV="1" rot="6360000">
                    <a:off x="5365440" y="331380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4" name="Oval 437"/>
                  <p:cNvSpPr/>
                  <p:nvPr/>
                </p:nvSpPr>
                <p:spPr>
                  <a:xfrm rot="17160000">
                    <a:off x="5354280" y="345780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5" name="AutoShape 438"/>
                  <p:cNvSpPr/>
                  <p:nvPr/>
                </p:nvSpPr>
                <p:spPr>
                  <a:xfrm flipH="1" flipV="1" rot="19140000">
                    <a:off x="6022800" y="364788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6" name="AutoShape 439"/>
                  <p:cNvSpPr/>
                  <p:nvPr/>
                </p:nvSpPr>
                <p:spPr>
                  <a:xfrm flipH="1" flipV="1" rot="18000000">
                    <a:off x="6069600" y="3543120"/>
                    <a:ext cx="172800" cy="498240"/>
                  </a:xfrm>
                  <a:custGeom>
                    <a:avLst/>
                    <a:gdLst>
                      <a:gd name="textAreaLeft" fmla="*/ 36000 w 172800"/>
                      <a:gd name="textAreaRight" fmla="*/ 136800 w 172800"/>
                      <a:gd name="textAreaTop" fmla="*/ 103680 h 498240"/>
                      <a:gd name="textAreaBottom" fmla="*/ 394560 h 49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7" name="Oval 440"/>
                  <p:cNvSpPr/>
                  <p:nvPr/>
                </p:nvSpPr>
                <p:spPr>
                  <a:xfrm rot="7200000">
                    <a:off x="6184800" y="3768840"/>
                    <a:ext cx="10296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8" name="AutoShape 441"/>
                  <p:cNvSpPr/>
                  <p:nvPr/>
                </p:nvSpPr>
                <p:spPr>
                  <a:xfrm flipH="1" flipV="1" rot="14700000">
                    <a:off x="6058440" y="3286440"/>
                    <a:ext cx="220320" cy="39492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2080 h 394920"/>
                      <a:gd name="textAreaBottom" fmla="*/ 312840 h 394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19" name="Oval 442"/>
                  <p:cNvSpPr/>
                  <p:nvPr/>
                </p:nvSpPr>
                <p:spPr>
                  <a:xfrm rot="3900000">
                    <a:off x="6185160" y="3423960"/>
                    <a:ext cx="10296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0" name="AutoShape 443"/>
                  <p:cNvSpPr/>
                  <p:nvPr/>
                </p:nvSpPr>
                <p:spPr>
                  <a:xfrm flipH="1" flipV="1" rot="13020000">
                    <a:off x="5916240" y="3184920"/>
                    <a:ext cx="247320" cy="4330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1" name="AutoShape 444"/>
                  <p:cNvSpPr/>
                  <p:nvPr/>
                </p:nvSpPr>
                <p:spPr>
                  <a:xfrm flipH="1" flipV="1" rot="20640000">
                    <a:off x="5763240" y="3709800"/>
                    <a:ext cx="258480" cy="455400"/>
                  </a:xfrm>
                  <a:custGeom>
                    <a:avLst/>
                    <a:gdLst>
                      <a:gd name="textAreaLeft" fmla="*/ 53640 w 258480"/>
                      <a:gd name="textAreaRight" fmla="*/ 204840 w 25848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2" name="Oval 445"/>
                  <p:cNvSpPr/>
                  <p:nvPr/>
                </p:nvSpPr>
                <p:spPr>
                  <a:xfrm rot="9840000">
                    <a:off x="5872680" y="397548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3" name="AutoShape 446"/>
                  <p:cNvSpPr/>
                  <p:nvPr/>
                </p:nvSpPr>
                <p:spPr>
                  <a:xfrm flipH="1" flipV="1" rot="480000">
                    <a:off x="5627520" y="3794040"/>
                    <a:ext cx="302760" cy="371160"/>
                  </a:xfrm>
                  <a:custGeom>
                    <a:avLst/>
                    <a:gdLst>
                      <a:gd name="textAreaLeft" fmla="*/ 63000 w 302760"/>
                      <a:gd name="textAreaRight" fmla="*/ 239760 w 302760"/>
                      <a:gd name="textAreaTop" fmla="*/ 77040 h 371160"/>
                      <a:gd name="textAreaBottom" fmla="*/ 293760 h 371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4" name="AutoShape 447"/>
                  <p:cNvSpPr/>
                  <p:nvPr/>
                </p:nvSpPr>
                <p:spPr>
                  <a:xfrm flipH="1" flipV="1" rot="1800000">
                    <a:off x="5482440" y="3857760"/>
                    <a:ext cx="263160" cy="24048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50040 h 240480"/>
                      <a:gd name="textAreaBottom" fmla="*/ 190440 h 240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5" name="Oval 448"/>
                  <p:cNvSpPr/>
                  <p:nvPr/>
                </p:nvSpPr>
                <p:spPr>
                  <a:xfrm rot="12600000">
                    <a:off x="5559480" y="3930480"/>
                    <a:ext cx="1076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6" name="AutoShape 449"/>
                  <p:cNvSpPr/>
                  <p:nvPr/>
                </p:nvSpPr>
                <p:spPr>
                  <a:xfrm flipH="1" flipV="1" rot="3600000">
                    <a:off x="5436720" y="3610440"/>
                    <a:ext cx="236160" cy="4312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7" name="AutoShape 450"/>
                  <p:cNvSpPr/>
                  <p:nvPr/>
                </p:nvSpPr>
                <p:spPr>
                  <a:xfrm flipH="1" flipV="1" rot="5220000">
                    <a:off x="5316840" y="343944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8" name="Oval 451"/>
                  <p:cNvSpPr/>
                  <p:nvPr/>
                </p:nvSpPr>
                <p:spPr>
                  <a:xfrm rot="16020000">
                    <a:off x="5392800" y="3578400"/>
                    <a:ext cx="115560" cy="193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29" name="Freeform 452"/>
                  <p:cNvSpPr/>
                  <p:nvPr/>
                </p:nvSpPr>
                <p:spPr>
                  <a:xfrm>
                    <a:off x="5925960" y="3165480"/>
                    <a:ext cx="128160" cy="24264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42640"/>
                      <a:gd name="textAreaBottom" fmla="*/ 243000 h 242640"/>
                    </a:gdLst>
                    <a:ahLst/>
                    <a:rect l="textAreaLeft" t="textAreaTop" r="textAreaRight" b="textAreaBottom"/>
                    <a:pathLst>
                      <a:path w="81" h="153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30"/>
                        </a:lnTo>
                        <a:lnTo>
                          <a:pt x="75" y="50"/>
                        </a:lnTo>
                        <a:lnTo>
                          <a:pt x="70" y="66"/>
                        </a:lnTo>
                        <a:lnTo>
                          <a:pt x="60" y="81"/>
                        </a:lnTo>
                        <a:lnTo>
                          <a:pt x="60" y="96"/>
                        </a:lnTo>
                        <a:lnTo>
                          <a:pt x="50" y="111"/>
                        </a:lnTo>
                        <a:lnTo>
                          <a:pt x="40" y="132"/>
                        </a:lnTo>
                        <a:lnTo>
                          <a:pt x="35" y="146"/>
                        </a:lnTo>
                        <a:lnTo>
                          <a:pt x="20" y="152"/>
                        </a:lnTo>
                        <a:lnTo>
                          <a:pt x="15" y="137"/>
                        </a:lnTo>
                        <a:lnTo>
                          <a:pt x="15" y="121"/>
                        </a:lnTo>
                        <a:lnTo>
                          <a:pt x="15" y="106"/>
                        </a:lnTo>
                        <a:lnTo>
                          <a:pt x="15" y="91"/>
                        </a:lnTo>
                        <a:lnTo>
                          <a:pt x="10" y="76"/>
                        </a:lnTo>
                        <a:lnTo>
                          <a:pt x="10" y="60"/>
                        </a:lnTo>
                        <a:lnTo>
                          <a:pt x="5" y="45"/>
                        </a:lnTo>
                        <a:lnTo>
                          <a:pt x="0" y="3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30" name="Freeform 453"/>
                  <p:cNvSpPr/>
                  <p:nvPr/>
                </p:nvSpPr>
                <p:spPr>
                  <a:xfrm>
                    <a:off x="5513400" y="3146400"/>
                    <a:ext cx="212400" cy="22032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4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3"/>
                        </a:lnTo>
                        <a:lnTo>
                          <a:pt x="128" y="48"/>
                        </a:lnTo>
                        <a:lnTo>
                          <a:pt x="118" y="63"/>
                        </a:lnTo>
                        <a:lnTo>
                          <a:pt x="108" y="78"/>
                        </a:lnTo>
                        <a:lnTo>
                          <a:pt x="103" y="93"/>
                        </a:lnTo>
                        <a:lnTo>
                          <a:pt x="98" y="107"/>
                        </a:lnTo>
                        <a:lnTo>
                          <a:pt x="98" y="122"/>
                        </a:lnTo>
                        <a:lnTo>
                          <a:pt x="93" y="138"/>
                        </a:lnTo>
                        <a:lnTo>
                          <a:pt x="78" y="138"/>
                        </a:lnTo>
                        <a:lnTo>
                          <a:pt x="68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731" name="Group 456"/>
                  <p:cNvGrpSpPr/>
                  <p:nvPr/>
                </p:nvGrpSpPr>
                <p:grpSpPr>
                  <a:xfrm>
                    <a:off x="5666760" y="3061080"/>
                    <a:ext cx="366480" cy="390240"/>
                    <a:chOff x="5666760" y="3061080"/>
                    <a:chExt cx="366480" cy="390240"/>
                  </a:xfrm>
                </p:grpSpPr>
                <p:sp>
                  <p:nvSpPr>
                    <p:cNvPr id="1732" name="AutoShape 454"/>
                    <p:cNvSpPr/>
                    <p:nvPr/>
                  </p:nvSpPr>
                  <p:spPr>
                    <a:xfrm flipH="1" flipV="1" rot="12180000">
                      <a:off x="5716800" y="3099960"/>
                      <a:ext cx="266400" cy="31068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10680"/>
                        <a:gd name="textAreaBottom" fmla="*/ 245880 h 3106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33" name="Oval 455"/>
                    <p:cNvSpPr/>
                    <p:nvPr/>
                  </p:nvSpPr>
                  <p:spPr>
                    <a:xfrm rot="1380000">
                      <a:off x="5795640" y="3192120"/>
                      <a:ext cx="10440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34" name="Group 459"/>
                  <p:cNvGrpSpPr/>
                  <p:nvPr/>
                </p:nvGrpSpPr>
                <p:grpSpPr>
                  <a:xfrm>
                    <a:off x="5564520" y="3088800"/>
                    <a:ext cx="324720" cy="435240"/>
                    <a:chOff x="5564520" y="3088800"/>
                    <a:chExt cx="324720" cy="435240"/>
                  </a:xfrm>
                </p:grpSpPr>
                <p:sp>
                  <p:nvSpPr>
                    <p:cNvPr id="1735" name="AutoShape 457"/>
                    <p:cNvSpPr/>
                    <p:nvPr/>
                  </p:nvSpPr>
                  <p:spPr>
                    <a:xfrm flipV="1" rot="10560000">
                      <a:off x="5578200" y="3097800"/>
                      <a:ext cx="296640" cy="4158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400 h 415800"/>
                        <a:gd name="textAreaBottom" fmla="*/ 329400 h 41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36" name="Oval 458"/>
                    <p:cNvSpPr/>
                    <p:nvPr/>
                  </p:nvSpPr>
                  <p:spPr>
                    <a:xfrm flipH="1" rot="21360000">
                      <a:off x="5667120" y="322380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737" name="Group 490"/>
                <p:cNvGrpSpPr/>
                <p:nvPr/>
              </p:nvGrpSpPr>
              <p:grpSpPr>
                <a:xfrm>
                  <a:off x="3586320" y="3175200"/>
                  <a:ext cx="1172880" cy="1129680"/>
                  <a:chOff x="3586320" y="3175200"/>
                  <a:chExt cx="1172880" cy="1129680"/>
                </a:xfrm>
              </p:grpSpPr>
              <p:sp useBgFill="1">
                <p:nvSpPr>
                  <p:cNvPr id="1738" name="Oval 461"/>
                  <p:cNvSpPr/>
                  <p:nvPr/>
                </p:nvSpPr>
                <p:spPr>
                  <a:xfrm>
                    <a:off x="3608280" y="3211560"/>
                    <a:ext cx="1106280" cy="10411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39" name="AutoShape 462"/>
                  <p:cNvSpPr/>
                  <p:nvPr/>
                </p:nvSpPr>
                <p:spPr>
                  <a:xfrm flipH="1" flipV="1" rot="16440000">
                    <a:off x="4446360" y="3560040"/>
                    <a:ext cx="244080" cy="3643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960 h 364320"/>
                      <a:gd name="textAreaBottom" fmla="*/ 288360 h 364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0" name="Oval 463"/>
                  <p:cNvSpPr/>
                  <p:nvPr/>
                </p:nvSpPr>
                <p:spPr>
                  <a:xfrm rot="5640000">
                    <a:off x="4557960" y="3706560"/>
                    <a:ext cx="11088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1" name="AutoShape 464"/>
                  <p:cNvSpPr/>
                  <p:nvPr/>
                </p:nvSpPr>
                <p:spPr>
                  <a:xfrm flipH="1" flipV="1" rot="7980000">
                    <a:off x="3751200" y="3311280"/>
                    <a:ext cx="248760" cy="345240"/>
                  </a:xfrm>
                  <a:custGeom>
                    <a:avLst/>
                    <a:gdLst>
                      <a:gd name="textAreaLeft" fmla="*/ 51840 w 248760"/>
                      <a:gd name="textAreaRight" fmla="*/ 196920 w 24876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2" name="Oval 465"/>
                  <p:cNvSpPr/>
                  <p:nvPr/>
                </p:nvSpPr>
                <p:spPr>
                  <a:xfrm rot="18780000">
                    <a:off x="3800160" y="339876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3" name="AutoShape 466"/>
                  <p:cNvSpPr/>
                  <p:nvPr/>
                </p:nvSpPr>
                <p:spPr>
                  <a:xfrm flipH="1" flipV="1" rot="6360000">
                    <a:off x="3705480" y="3427560"/>
                    <a:ext cx="261720" cy="44568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4" name="Oval 467"/>
                  <p:cNvSpPr/>
                  <p:nvPr/>
                </p:nvSpPr>
                <p:spPr>
                  <a:xfrm rot="17160000">
                    <a:off x="3693600" y="357048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5" name="AutoShape 468"/>
                  <p:cNvSpPr/>
                  <p:nvPr/>
                </p:nvSpPr>
                <p:spPr>
                  <a:xfrm flipH="1" flipV="1" rot="19140000">
                    <a:off x="4363560" y="3760200"/>
                    <a:ext cx="137880" cy="42336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8200 h 423360"/>
                      <a:gd name="textAreaBottom" fmla="*/ 335160 h 423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6" name="AutoShape 469"/>
                  <p:cNvSpPr/>
                  <p:nvPr/>
                </p:nvSpPr>
                <p:spPr>
                  <a:xfrm flipH="1" flipV="1" rot="18000000">
                    <a:off x="4414680" y="3657600"/>
                    <a:ext cx="167760" cy="495000"/>
                  </a:xfrm>
                  <a:custGeom>
                    <a:avLst/>
                    <a:gdLst>
                      <a:gd name="textAreaLeft" fmla="*/ 34920 w 167760"/>
                      <a:gd name="textAreaRight" fmla="*/ 132840 w 167760"/>
                      <a:gd name="textAreaTop" fmla="*/ 102960 h 495000"/>
                      <a:gd name="textAreaBottom" fmla="*/ 392040 h 495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7" name="Oval 470"/>
                  <p:cNvSpPr/>
                  <p:nvPr/>
                </p:nvSpPr>
                <p:spPr>
                  <a:xfrm rot="7200000">
                    <a:off x="4524480" y="388296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8" name="AutoShape 471"/>
                  <p:cNvSpPr/>
                  <p:nvPr/>
                </p:nvSpPr>
                <p:spPr>
                  <a:xfrm flipH="1" flipV="1" rot="14700000">
                    <a:off x="4400280" y="3398760"/>
                    <a:ext cx="217440" cy="393480"/>
                  </a:xfrm>
                  <a:custGeom>
                    <a:avLst/>
                    <a:gdLst>
                      <a:gd name="textAreaLeft" fmla="*/ 45360 w 217440"/>
                      <a:gd name="textAreaRight" fmla="*/ 172080 w 21744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9" name="Oval 472"/>
                  <p:cNvSpPr/>
                  <p:nvPr/>
                </p:nvSpPr>
                <p:spPr>
                  <a:xfrm rot="3900000">
                    <a:off x="4524480" y="3534840"/>
                    <a:ext cx="10584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0" name="AutoShape 473"/>
                  <p:cNvSpPr/>
                  <p:nvPr/>
                </p:nvSpPr>
                <p:spPr>
                  <a:xfrm flipH="1" flipV="1" rot="13020000">
                    <a:off x="4257720" y="3298320"/>
                    <a:ext cx="245880" cy="42984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89280 h 429840"/>
                      <a:gd name="textAreaBottom" fmla="*/ 340560 h 429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1" name="AutoShape 474"/>
                  <p:cNvSpPr/>
                  <p:nvPr/>
                </p:nvSpPr>
                <p:spPr>
                  <a:xfrm flipH="1" flipV="1" rot="20640000">
                    <a:off x="4104360" y="3821760"/>
                    <a:ext cx="259920" cy="45540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2" name="Oval 475"/>
                  <p:cNvSpPr/>
                  <p:nvPr/>
                </p:nvSpPr>
                <p:spPr>
                  <a:xfrm rot="9840000">
                    <a:off x="4215240" y="4089960"/>
                    <a:ext cx="10296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3" name="AutoShape 476"/>
                  <p:cNvSpPr/>
                  <p:nvPr/>
                </p:nvSpPr>
                <p:spPr>
                  <a:xfrm flipH="1" flipV="1" rot="480000">
                    <a:off x="3966840" y="3909960"/>
                    <a:ext cx="306000" cy="367920"/>
                  </a:xfrm>
                  <a:custGeom>
                    <a:avLst/>
                    <a:gdLst>
                      <a:gd name="textAreaLeft" fmla="*/ 63720 w 306000"/>
                      <a:gd name="textAreaRight" fmla="*/ 242280 w 306000"/>
                      <a:gd name="textAreaTop" fmla="*/ 76680 h 367920"/>
                      <a:gd name="textAreaBottom" fmla="*/ 291240 h 367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4" name="AutoShape 477"/>
                  <p:cNvSpPr/>
                  <p:nvPr/>
                </p:nvSpPr>
                <p:spPr>
                  <a:xfrm flipH="1" flipV="1" rot="1800000">
                    <a:off x="3823560" y="3971160"/>
                    <a:ext cx="263160" cy="23904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49680 h 239040"/>
                      <a:gd name="textAreaBottom" fmla="*/ 189360 h 239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5" name="Oval 478"/>
                  <p:cNvSpPr/>
                  <p:nvPr/>
                </p:nvSpPr>
                <p:spPr>
                  <a:xfrm rot="12600000">
                    <a:off x="3902040" y="4043520"/>
                    <a:ext cx="104400" cy="964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6" name="AutoShape 479"/>
                  <p:cNvSpPr/>
                  <p:nvPr/>
                </p:nvSpPr>
                <p:spPr>
                  <a:xfrm flipH="1" flipV="1" rot="3600000">
                    <a:off x="3776400" y="3723120"/>
                    <a:ext cx="237600" cy="4330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7" name="AutoShape 480"/>
                  <p:cNvSpPr/>
                  <p:nvPr/>
                </p:nvSpPr>
                <p:spPr>
                  <a:xfrm flipH="1" flipV="1" rot="5220000">
                    <a:off x="3657600" y="355212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8" name="Oval 481"/>
                  <p:cNvSpPr/>
                  <p:nvPr/>
                </p:nvSpPr>
                <p:spPr>
                  <a:xfrm rot="16020000">
                    <a:off x="3730680" y="3694320"/>
                    <a:ext cx="118800" cy="188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9" name="Freeform 482"/>
                  <p:cNvSpPr/>
                  <p:nvPr/>
                </p:nvSpPr>
                <p:spPr>
                  <a:xfrm>
                    <a:off x="4267080" y="3281400"/>
                    <a:ext cx="128160" cy="2394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1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50"/>
                        </a:lnTo>
                        <a:lnTo>
                          <a:pt x="70" y="65"/>
                        </a:lnTo>
                        <a:lnTo>
                          <a:pt x="60" y="80"/>
                        </a:lnTo>
                        <a:lnTo>
                          <a:pt x="60" y="94"/>
                        </a:lnTo>
                        <a:lnTo>
                          <a:pt x="50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60" name="Freeform 483"/>
                  <p:cNvSpPr/>
                  <p:nvPr/>
                </p:nvSpPr>
                <p:spPr>
                  <a:xfrm>
                    <a:off x="3852720" y="3257640"/>
                    <a:ext cx="212400" cy="22356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23560"/>
                      <a:gd name="textAreaBottom" fmla="*/ 223920 h 223560"/>
                    </a:gdLst>
                    <a:ahLst/>
                    <a:rect l="textAreaLeft" t="textAreaTop" r="textAreaRight" b="textAreaBottom"/>
                    <a:pathLst>
                      <a:path w="134" h="141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4"/>
                        </a:lnTo>
                        <a:lnTo>
                          <a:pt x="128" y="48"/>
                        </a:lnTo>
                        <a:lnTo>
                          <a:pt x="118" y="64"/>
                        </a:lnTo>
                        <a:lnTo>
                          <a:pt x="108" y="79"/>
                        </a:lnTo>
                        <a:lnTo>
                          <a:pt x="103" y="94"/>
                        </a:lnTo>
                        <a:lnTo>
                          <a:pt x="98" y="109"/>
                        </a:lnTo>
                        <a:lnTo>
                          <a:pt x="98" y="124"/>
                        </a:lnTo>
                        <a:lnTo>
                          <a:pt x="93" y="140"/>
                        </a:lnTo>
                        <a:lnTo>
                          <a:pt x="78" y="140"/>
                        </a:lnTo>
                        <a:lnTo>
                          <a:pt x="68" y="124"/>
                        </a:lnTo>
                        <a:lnTo>
                          <a:pt x="64" y="109"/>
                        </a:lnTo>
                        <a:lnTo>
                          <a:pt x="54" y="94"/>
                        </a:lnTo>
                        <a:lnTo>
                          <a:pt x="44" y="79"/>
                        </a:lnTo>
                        <a:lnTo>
                          <a:pt x="29" y="69"/>
                        </a:lnTo>
                        <a:lnTo>
                          <a:pt x="19" y="54"/>
                        </a:lnTo>
                        <a:lnTo>
                          <a:pt x="9" y="38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761" name="Group 486"/>
                  <p:cNvGrpSpPr/>
                  <p:nvPr/>
                </p:nvGrpSpPr>
                <p:grpSpPr>
                  <a:xfrm>
                    <a:off x="4006440" y="3175200"/>
                    <a:ext cx="365400" cy="387000"/>
                    <a:chOff x="4006440" y="3175200"/>
                    <a:chExt cx="365400" cy="387000"/>
                  </a:xfrm>
                </p:grpSpPr>
                <p:sp>
                  <p:nvSpPr>
                    <p:cNvPr id="1762" name="AutoShape 484"/>
                    <p:cNvSpPr/>
                    <p:nvPr/>
                  </p:nvSpPr>
                  <p:spPr>
                    <a:xfrm flipH="1" flipV="1" rot="12180000">
                      <a:off x="4055400" y="3214440"/>
                      <a:ext cx="266400" cy="3074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63" name="Oval 485"/>
                    <p:cNvSpPr/>
                    <p:nvPr/>
                  </p:nvSpPr>
                  <p:spPr>
                    <a:xfrm rot="1380000">
                      <a:off x="4137120" y="3306240"/>
                      <a:ext cx="105840" cy="12348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480" bIns="42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64" name="Group 489"/>
                  <p:cNvGrpSpPr/>
                  <p:nvPr/>
                </p:nvGrpSpPr>
                <p:grpSpPr>
                  <a:xfrm>
                    <a:off x="3905640" y="3203280"/>
                    <a:ext cx="326520" cy="435240"/>
                    <a:chOff x="3905640" y="3203280"/>
                    <a:chExt cx="326520" cy="435240"/>
                  </a:xfrm>
                </p:grpSpPr>
                <p:sp>
                  <p:nvSpPr>
                    <p:cNvPr id="1765" name="AutoShape 487"/>
                    <p:cNvSpPr/>
                    <p:nvPr/>
                  </p:nvSpPr>
                  <p:spPr>
                    <a:xfrm flipV="1" rot="10560000">
                      <a:off x="3919680" y="3212640"/>
                      <a:ext cx="298080" cy="41544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6400 h 415440"/>
                        <a:gd name="textAreaBottom" fmla="*/ 329040 h 41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66" name="Oval 488"/>
                    <p:cNvSpPr/>
                    <p:nvPr/>
                  </p:nvSpPr>
                  <p:spPr>
                    <a:xfrm flipH="1" rot="21360000">
                      <a:off x="4010040" y="333648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767" name="Group 520"/>
                <p:cNvGrpSpPr/>
                <p:nvPr/>
              </p:nvGrpSpPr>
              <p:grpSpPr>
                <a:xfrm>
                  <a:off x="4481640" y="4143960"/>
                  <a:ext cx="1175040" cy="1129320"/>
                  <a:chOff x="4481640" y="4143960"/>
                  <a:chExt cx="1175040" cy="1129320"/>
                </a:xfrm>
              </p:grpSpPr>
              <p:sp useBgFill="1">
                <p:nvSpPr>
                  <p:cNvPr id="1768" name="Oval 491"/>
                  <p:cNvSpPr/>
                  <p:nvPr/>
                </p:nvSpPr>
                <p:spPr>
                  <a:xfrm>
                    <a:off x="4505400" y="4176720"/>
                    <a:ext cx="110448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69" name="AutoShape 492"/>
                  <p:cNvSpPr/>
                  <p:nvPr/>
                </p:nvSpPr>
                <p:spPr>
                  <a:xfrm flipH="1" flipV="1" rot="16440000">
                    <a:off x="5343120" y="4527720"/>
                    <a:ext cx="244080" cy="3661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6320 h 366120"/>
                      <a:gd name="textAreaBottom" fmla="*/ 289800 h 366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0" name="Oval 493"/>
                  <p:cNvSpPr/>
                  <p:nvPr/>
                </p:nvSpPr>
                <p:spPr>
                  <a:xfrm rot="5640000">
                    <a:off x="5451480" y="4673520"/>
                    <a:ext cx="110880" cy="112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1" name="AutoShape 494"/>
                  <p:cNvSpPr/>
                  <p:nvPr/>
                </p:nvSpPr>
                <p:spPr>
                  <a:xfrm flipH="1" flipV="1" rot="7980000">
                    <a:off x="4647960" y="4279680"/>
                    <a:ext cx="248760" cy="345240"/>
                  </a:xfrm>
                  <a:custGeom>
                    <a:avLst/>
                    <a:gdLst>
                      <a:gd name="textAreaLeft" fmla="*/ 51840 w 248760"/>
                      <a:gd name="textAreaRight" fmla="*/ 196920 w 24876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2" name="Oval 495"/>
                  <p:cNvSpPr/>
                  <p:nvPr/>
                </p:nvSpPr>
                <p:spPr>
                  <a:xfrm rot="18780000">
                    <a:off x="4695480" y="4367160"/>
                    <a:ext cx="10296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3" name="AutoShape 496"/>
                  <p:cNvSpPr/>
                  <p:nvPr/>
                </p:nvSpPr>
                <p:spPr>
                  <a:xfrm flipH="1" flipV="1" rot="6360000">
                    <a:off x="4600800" y="4397760"/>
                    <a:ext cx="261720" cy="44568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4" name="Oval 497"/>
                  <p:cNvSpPr/>
                  <p:nvPr/>
                </p:nvSpPr>
                <p:spPr>
                  <a:xfrm rot="17160000">
                    <a:off x="4590720" y="454032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5" name="AutoShape 498"/>
                  <p:cNvSpPr/>
                  <p:nvPr/>
                </p:nvSpPr>
                <p:spPr>
                  <a:xfrm flipH="1" flipV="1" rot="19140000">
                    <a:off x="5257080" y="4729320"/>
                    <a:ext cx="139320" cy="421920"/>
                  </a:xfrm>
                  <a:custGeom>
                    <a:avLst/>
                    <a:gdLst>
                      <a:gd name="textAreaLeft" fmla="*/ 28800 w 139320"/>
                      <a:gd name="textAreaRight" fmla="*/ 110520 w 13932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6" name="AutoShape 499"/>
                  <p:cNvSpPr/>
                  <p:nvPr/>
                </p:nvSpPr>
                <p:spPr>
                  <a:xfrm flipH="1" flipV="1" rot="18000000">
                    <a:off x="5308200" y="4625640"/>
                    <a:ext cx="171000" cy="494640"/>
                  </a:xfrm>
                  <a:custGeom>
                    <a:avLst/>
                    <a:gdLst>
                      <a:gd name="textAreaLeft" fmla="*/ 35640 w 171000"/>
                      <a:gd name="textAreaRight" fmla="*/ 135360 w 171000"/>
                      <a:gd name="textAreaTop" fmla="*/ 102960 h 494640"/>
                      <a:gd name="textAreaBottom" fmla="*/ 391680 h 49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7" name="Oval 500"/>
                  <p:cNvSpPr/>
                  <p:nvPr/>
                </p:nvSpPr>
                <p:spPr>
                  <a:xfrm rot="7200000">
                    <a:off x="5421600" y="484992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8" name="AutoShape 501"/>
                  <p:cNvSpPr/>
                  <p:nvPr/>
                </p:nvSpPr>
                <p:spPr>
                  <a:xfrm flipH="1" flipV="1" rot="14700000">
                    <a:off x="5296680" y="4368240"/>
                    <a:ext cx="218880" cy="39168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1360 h 391680"/>
                      <a:gd name="textAreaBottom" fmla="*/ 310320 h 391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9" name="Oval 502"/>
                  <p:cNvSpPr/>
                  <p:nvPr/>
                </p:nvSpPr>
                <p:spPr>
                  <a:xfrm rot="3900000">
                    <a:off x="5421240" y="450504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0" name="AutoShape 503"/>
                  <p:cNvSpPr/>
                  <p:nvPr/>
                </p:nvSpPr>
                <p:spPr>
                  <a:xfrm flipH="1" flipV="1" rot="13020000">
                    <a:off x="5153760" y="4265640"/>
                    <a:ext cx="247320" cy="4348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360 h 434880"/>
                      <a:gd name="textAreaBottom" fmla="*/ 344520 h 434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1" name="AutoShape 504"/>
                  <p:cNvSpPr/>
                  <p:nvPr/>
                </p:nvSpPr>
                <p:spPr>
                  <a:xfrm flipH="1" flipV="1" rot="20640000">
                    <a:off x="4999680" y="4790880"/>
                    <a:ext cx="258480" cy="455400"/>
                  </a:xfrm>
                  <a:custGeom>
                    <a:avLst/>
                    <a:gdLst>
                      <a:gd name="textAreaLeft" fmla="*/ 53640 w 258480"/>
                      <a:gd name="textAreaRight" fmla="*/ 204840 w 25848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2" name="Oval 505"/>
                  <p:cNvSpPr/>
                  <p:nvPr/>
                </p:nvSpPr>
                <p:spPr>
                  <a:xfrm rot="9840000">
                    <a:off x="5109120" y="5058000"/>
                    <a:ext cx="10584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3" name="AutoShape 506"/>
                  <p:cNvSpPr/>
                  <p:nvPr/>
                </p:nvSpPr>
                <p:spPr>
                  <a:xfrm flipH="1" flipV="1" rot="480000">
                    <a:off x="4861800" y="4874400"/>
                    <a:ext cx="306000" cy="371160"/>
                  </a:xfrm>
                  <a:custGeom>
                    <a:avLst/>
                    <a:gdLst>
                      <a:gd name="textAreaLeft" fmla="*/ 63720 w 306000"/>
                      <a:gd name="textAreaRight" fmla="*/ 242280 w 306000"/>
                      <a:gd name="textAreaTop" fmla="*/ 77040 h 371160"/>
                      <a:gd name="textAreaBottom" fmla="*/ 293760 h 371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4" name="AutoShape 507"/>
                  <p:cNvSpPr/>
                  <p:nvPr/>
                </p:nvSpPr>
                <p:spPr>
                  <a:xfrm flipH="1" flipV="1" rot="1800000">
                    <a:off x="4717440" y="4938480"/>
                    <a:ext cx="266400" cy="237600"/>
                  </a:xfrm>
                  <a:custGeom>
                    <a:avLst/>
                    <a:gdLst>
                      <a:gd name="textAreaLeft" fmla="*/ 55440 w 266400"/>
                      <a:gd name="textAreaRight" fmla="*/ 210960 w 266400"/>
                      <a:gd name="textAreaTop" fmla="*/ 49320 h 237600"/>
                      <a:gd name="textAreaBottom" fmla="*/ 188280 h 23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5" name="Oval 508"/>
                  <p:cNvSpPr/>
                  <p:nvPr/>
                </p:nvSpPr>
                <p:spPr>
                  <a:xfrm rot="12600000">
                    <a:off x="4799160" y="5010480"/>
                    <a:ext cx="10440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6" name="AutoShape 509"/>
                  <p:cNvSpPr/>
                  <p:nvPr/>
                </p:nvSpPr>
                <p:spPr>
                  <a:xfrm flipH="1" flipV="1" rot="3600000">
                    <a:off x="4673880" y="4692600"/>
                    <a:ext cx="237600" cy="4312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7" name="AutoShape 510"/>
                  <p:cNvSpPr/>
                  <p:nvPr/>
                </p:nvSpPr>
                <p:spPr>
                  <a:xfrm flipH="1" flipV="1" rot="5220000">
                    <a:off x="4555440" y="4520880"/>
                    <a:ext cx="325080" cy="414000"/>
                  </a:xfrm>
                  <a:custGeom>
                    <a:avLst/>
                    <a:gdLst>
                      <a:gd name="textAreaLeft" fmla="*/ 67680 w 325080"/>
                      <a:gd name="textAreaRight" fmla="*/ 257400 w 325080"/>
                      <a:gd name="textAreaTop" fmla="*/ 86040 h 414000"/>
                      <a:gd name="textAreaBottom" fmla="*/ 327960 h 41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8" name="Oval 511"/>
                  <p:cNvSpPr/>
                  <p:nvPr/>
                </p:nvSpPr>
                <p:spPr>
                  <a:xfrm rot="16020000">
                    <a:off x="4629240" y="4659480"/>
                    <a:ext cx="115560" cy="193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9" name="Freeform 512"/>
                  <p:cNvSpPr/>
                  <p:nvPr/>
                </p:nvSpPr>
                <p:spPr>
                  <a:xfrm>
                    <a:off x="5164200" y="4249800"/>
                    <a:ext cx="128160" cy="2394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1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50"/>
                        </a:lnTo>
                        <a:lnTo>
                          <a:pt x="70" y="65"/>
                        </a:lnTo>
                        <a:lnTo>
                          <a:pt x="60" y="80"/>
                        </a:lnTo>
                        <a:lnTo>
                          <a:pt x="60" y="94"/>
                        </a:lnTo>
                        <a:lnTo>
                          <a:pt x="50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0" name="Freeform 513"/>
                  <p:cNvSpPr/>
                  <p:nvPr/>
                </p:nvSpPr>
                <p:spPr>
                  <a:xfrm>
                    <a:off x="4746600" y="4229280"/>
                    <a:ext cx="213840" cy="22032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5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3"/>
                        </a:lnTo>
                        <a:lnTo>
                          <a:pt x="99" y="107"/>
                        </a:lnTo>
                        <a:lnTo>
                          <a:pt x="99" y="122"/>
                        </a:lnTo>
                        <a:lnTo>
                          <a:pt x="94" y="138"/>
                        </a:lnTo>
                        <a:lnTo>
                          <a:pt x="79" y="138"/>
                        </a:lnTo>
                        <a:lnTo>
                          <a:pt x="69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791" name="Group 516"/>
                  <p:cNvGrpSpPr/>
                  <p:nvPr/>
                </p:nvGrpSpPr>
                <p:grpSpPr>
                  <a:xfrm>
                    <a:off x="4903200" y="4143960"/>
                    <a:ext cx="364320" cy="388080"/>
                    <a:chOff x="4903200" y="4143960"/>
                    <a:chExt cx="364320" cy="388080"/>
                  </a:xfrm>
                </p:grpSpPr>
                <p:sp>
                  <p:nvSpPr>
                    <p:cNvPr id="1792" name="AutoShape 514"/>
                    <p:cNvSpPr/>
                    <p:nvPr/>
                  </p:nvSpPr>
                  <p:spPr>
                    <a:xfrm flipH="1" flipV="1" rot="12180000">
                      <a:off x="4952880" y="4182480"/>
                      <a:ext cx="264600" cy="309240"/>
                    </a:xfrm>
                    <a:custGeom>
                      <a:avLst/>
                      <a:gdLst>
                        <a:gd name="textAreaLeft" fmla="*/ 55080 w 264600"/>
                        <a:gd name="textAreaRight" fmla="*/ 209520 w 2646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93" name="Oval 515"/>
                    <p:cNvSpPr/>
                    <p:nvPr/>
                  </p:nvSpPr>
                  <p:spPr>
                    <a:xfrm rot="1380000">
                      <a:off x="5033880" y="4273200"/>
                      <a:ext cx="10440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94" name="Group 519"/>
                  <p:cNvGrpSpPr/>
                  <p:nvPr/>
                </p:nvGrpSpPr>
                <p:grpSpPr>
                  <a:xfrm>
                    <a:off x="4802760" y="4171680"/>
                    <a:ext cx="326520" cy="435240"/>
                    <a:chOff x="4802760" y="4171680"/>
                    <a:chExt cx="326520" cy="435240"/>
                  </a:xfrm>
                </p:grpSpPr>
                <p:sp>
                  <p:nvSpPr>
                    <p:cNvPr id="1795" name="AutoShape 517"/>
                    <p:cNvSpPr/>
                    <p:nvPr/>
                  </p:nvSpPr>
                  <p:spPr>
                    <a:xfrm flipV="1" rot="10560000">
                      <a:off x="4816800" y="4181040"/>
                      <a:ext cx="298080" cy="41544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6400 h 415440"/>
                        <a:gd name="textAreaBottom" fmla="*/ 329040 h 41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96" name="Oval 518"/>
                    <p:cNvSpPr/>
                    <p:nvPr/>
                  </p:nvSpPr>
                  <p:spPr>
                    <a:xfrm flipH="1" rot="21360000">
                      <a:off x="4902840" y="4304880"/>
                      <a:ext cx="120240" cy="1663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797" name="Group 550"/>
                <p:cNvGrpSpPr/>
                <p:nvPr/>
              </p:nvGrpSpPr>
              <p:grpSpPr>
                <a:xfrm>
                  <a:off x="6489000" y="2760840"/>
                  <a:ext cx="1174320" cy="1128960"/>
                  <a:chOff x="6489000" y="2760840"/>
                  <a:chExt cx="1174320" cy="1128960"/>
                </a:xfrm>
              </p:grpSpPr>
              <p:sp useBgFill="1">
                <p:nvSpPr>
                  <p:cNvPr id="1798" name="Oval 521"/>
                  <p:cNvSpPr/>
                  <p:nvPr/>
                </p:nvSpPr>
                <p:spPr>
                  <a:xfrm>
                    <a:off x="6513480" y="2795760"/>
                    <a:ext cx="110304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9" name="AutoShape 522"/>
                  <p:cNvSpPr/>
                  <p:nvPr/>
                </p:nvSpPr>
                <p:spPr>
                  <a:xfrm flipH="1" flipV="1" rot="16440000">
                    <a:off x="7349400" y="3147120"/>
                    <a:ext cx="245880" cy="36396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5600 h 363960"/>
                      <a:gd name="textAreaBottom" fmla="*/ 288360 h 36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0" name="Oval 523"/>
                  <p:cNvSpPr/>
                  <p:nvPr/>
                </p:nvSpPr>
                <p:spPr>
                  <a:xfrm rot="5640000">
                    <a:off x="7458480" y="3290760"/>
                    <a:ext cx="112320" cy="112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1" name="AutoShape 524"/>
                  <p:cNvSpPr/>
                  <p:nvPr/>
                </p:nvSpPr>
                <p:spPr>
                  <a:xfrm flipH="1" flipV="1" rot="7980000">
                    <a:off x="6656040" y="2896920"/>
                    <a:ext cx="247320" cy="34524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2" name="Oval 525"/>
                  <p:cNvSpPr/>
                  <p:nvPr/>
                </p:nvSpPr>
                <p:spPr>
                  <a:xfrm rot="18780000">
                    <a:off x="6700320" y="298440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3" name="AutoShape 526"/>
                  <p:cNvSpPr/>
                  <p:nvPr/>
                </p:nvSpPr>
                <p:spPr>
                  <a:xfrm flipH="1" flipV="1" rot="6360000">
                    <a:off x="6608520" y="30121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4" name="Oval 527"/>
                  <p:cNvSpPr/>
                  <p:nvPr/>
                </p:nvSpPr>
                <p:spPr>
                  <a:xfrm rot="17160000">
                    <a:off x="6599160" y="315612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5" name="AutoShape 528"/>
                  <p:cNvSpPr/>
                  <p:nvPr/>
                </p:nvSpPr>
                <p:spPr>
                  <a:xfrm flipH="1" flipV="1" rot="19140000">
                    <a:off x="7265520" y="3345840"/>
                    <a:ext cx="137880" cy="42336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8200 h 423360"/>
                      <a:gd name="textAreaBottom" fmla="*/ 335160 h 423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6" name="AutoShape 529"/>
                  <p:cNvSpPr/>
                  <p:nvPr/>
                </p:nvSpPr>
                <p:spPr>
                  <a:xfrm flipH="1" flipV="1" rot="18000000">
                    <a:off x="7316640" y="3243240"/>
                    <a:ext cx="169560" cy="495000"/>
                  </a:xfrm>
                  <a:custGeom>
                    <a:avLst/>
                    <a:gdLst>
                      <a:gd name="textAreaLeft" fmla="*/ 35280 w 169560"/>
                      <a:gd name="textAreaRight" fmla="*/ 134280 w 169560"/>
                      <a:gd name="textAreaTop" fmla="*/ 102960 h 495000"/>
                      <a:gd name="textAreaBottom" fmla="*/ 392040 h 495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7" name="Oval 530"/>
                  <p:cNvSpPr/>
                  <p:nvPr/>
                </p:nvSpPr>
                <p:spPr>
                  <a:xfrm rot="7200000">
                    <a:off x="7427880" y="3468600"/>
                    <a:ext cx="10440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8" name="AutoShape 531"/>
                  <p:cNvSpPr/>
                  <p:nvPr/>
                </p:nvSpPr>
                <p:spPr>
                  <a:xfrm flipH="1" flipV="1" rot="14700000">
                    <a:off x="7303680" y="2983680"/>
                    <a:ext cx="218880" cy="39348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9" name="Oval 532"/>
                  <p:cNvSpPr/>
                  <p:nvPr/>
                </p:nvSpPr>
                <p:spPr>
                  <a:xfrm rot="3900000">
                    <a:off x="7427880" y="312228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0" name="AutoShape 533"/>
                  <p:cNvSpPr/>
                  <p:nvPr/>
                </p:nvSpPr>
                <p:spPr>
                  <a:xfrm flipH="1" flipV="1" rot="13020000">
                    <a:off x="7161120" y="2885040"/>
                    <a:ext cx="245880" cy="4312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1" name="AutoShape 534"/>
                  <p:cNvSpPr/>
                  <p:nvPr/>
                </p:nvSpPr>
                <p:spPr>
                  <a:xfrm flipH="1" flipV="1" rot="20640000">
                    <a:off x="7007040" y="3395880"/>
                    <a:ext cx="356760" cy="453600"/>
                  </a:xfrm>
                  <a:custGeom>
                    <a:avLst/>
                    <a:gdLst>
                      <a:gd name="textAreaLeft" fmla="*/ 74160 w 356760"/>
                      <a:gd name="textAreaRight" fmla="*/ 282600 w 356760"/>
                      <a:gd name="textAreaTop" fmla="*/ 94320 h 453600"/>
                      <a:gd name="textAreaBottom" fmla="*/ 359280 h 453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2" name="Oval 535"/>
                  <p:cNvSpPr/>
                  <p:nvPr/>
                </p:nvSpPr>
                <p:spPr>
                  <a:xfrm rot="9840000">
                    <a:off x="7115400" y="367524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3" name="AutoShape 536"/>
                  <p:cNvSpPr/>
                  <p:nvPr/>
                </p:nvSpPr>
                <p:spPr>
                  <a:xfrm flipH="1" flipV="1" rot="480000">
                    <a:off x="6869880" y="3493800"/>
                    <a:ext cx="304560" cy="36936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680 h 369360"/>
                      <a:gd name="textAreaBottom" fmla="*/ 292680 h 369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4" name="AutoShape 537"/>
                  <p:cNvSpPr/>
                  <p:nvPr/>
                </p:nvSpPr>
                <p:spPr>
                  <a:xfrm flipH="1" flipV="1" rot="1800000">
                    <a:off x="6726240" y="3556080"/>
                    <a:ext cx="264960" cy="240840"/>
                  </a:xfrm>
                  <a:custGeom>
                    <a:avLst/>
                    <a:gdLst>
                      <a:gd name="textAreaLeft" fmla="*/ 55080 w 264960"/>
                      <a:gd name="textAreaRight" fmla="*/ 209880 w 264960"/>
                      <a:gd name="textAreaTop" fmla="*/ 50040 h 240840"/>
                      <a:gd name="textAreaBottom" fmla="*/ 190800 h 240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5" name="Oval 538"/>
                  <p:cNvSpPr/>
                  <p:nvPr/>
                </p:nvSpPr>
                <p:spPr>
                  <a:xfrm rot="12600000">
                    <a:off x="6805800" y="3629160"/>
                    <a:ext cx="1058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6" name="AutoShape 539"/>
                  <p:cNvSpPr/>
                  <p:nvPr/>
                </p:nvSpPr>
                <p:spPr>
                  <a:xfrm flipH="1" flipV="1" rot="3600000">
                    <a:off x="6681960" y="3309840"/>
                    <a:ext cx="236160" cy="4330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7" name="AutoShape 540"/>
                  <p:cNvSpPr/>
                  <p:nvPr/>
                </p:nvSpPr>
                <p:spPr>
                  <a:xfrm flipH="1" flipV="1" rot="5220000">
                    <a:off x="6562800" y="3138120"/>
                    <a:ext cx="326520" cy="417240"/>
                  </a:xfrm>
                  <a:custGeom>
                    <a:avLst/>
                    <a:gdLst>
                      <a:gd name="textAreaLeft" fmla="*/ 68040 w 326520"/>
                      <a:gd name="textAreaRight" fmla="*/ 258480 w 326520"/>
                      <a:gd name="textAreaTop" fmla="*/ 86760 h 417240"/>
                      <a:gd name="textAreaBottom" fmla="*/ 330480 h 417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8" name="Oval 541"/>
                  <p:cNvSpPr/>
                  <p:nvPr/>
                </p:nvSpPr>
                <p:spPr>
                  <a:xfrm rot="16020000">
                    <a:off x="6635880" y="3278520"/>
                    <a:ext cx="117000" cy="191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9" name="Freeform 542"/>
                  <p:cNvSpPr/>
                  <p:nvPr/>
                </p:nvSpPr>
                <p:spPr>
                  <a:xfrm>
                    <a:off x="7170840" y="2865600"/>
                    <a:ext cx="128160" cy="2376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7600"/>
                      <a:gd name="textAreaBottom" fmla="*/ 237960 h 237600"/>
                    </a:gdLst>
                    <a:ahLst/>
                    <a:rect l="textAreaLeft" t="textAreaTop" r="textAreaRight" b="textAreaBottom"/>
                    <a:pathLst>
                      <a:path w="81" h="150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49"/>
                        </a:lnTo>
                        <a:lnTo>
                          <a:pt x="70" y="64"/>
                        </a:lnTo>
                        <a:lnTo>
                          <a:pt x="60" y="79"/>
                        </a:lnTo>
                        <a:lnTo>
                          <a:pt x="60" y="94"/>
                        </a:lnTo>
                        <a:lnTo>
                          <a:pt x="50" y="109"/>
                        </a:lnTo>
                        <a:lnTo>
                          <a:pt x="40" y="129"/>
                        </a:lnTo>
                        <a:lnTo>
                          <a:pt x="35" y="143"/>
                        </a:lnTo>
                        <a:lnTo>
                          <a:pt x="20" y="149"/>
                        </a:lnTo>
                        <a:lnTo>
                          <a:pt x="15" y="134"/>
                        </a:lnTo>
                        <a:lnTo>
                          <a:pt x="15" y="119"/>
                        </a:lnTo>
                        <a:lnTo>
                          <a:pt x="15" y="104"/>
                        </a:lnTo>
                        <a:lnTo>
                          <a:pt x="15" y="89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0" name="Freeform 543"/>
                  <p:cNvSpPr/>
                  <p:nvPr/>
                </p:nvSpPr>
                <p:spPr>
                  <a:xfrm>
                    <a:off x="6754680" y="2843280"/>
                    <a:ext cx="215640" cy="221760"/>
                  </a:xfrm>
                  <a:custGeom>
                    <a:avLst/>
                    <a:gdLst>
                      <a:gd name="textAreaLeft" fmla="*/ 0 w 215640"/>
                      <a:gd name="textAreaRight" fmla="*/ 216000 w 215640"/>
                      <a:gd name="textAreaTop" fmla="*/ 0 h 221760"/>
                      <a:gd name="textAreaBottom" fmla="*/ 222120 h 221760"/>
                    </a:gdLst>
                    <a:ahLst/>
                    <a:rect l="textAreaLeft" t="textAreaTop" r="textAreaRight" b="textAreaBottom"/>
                    <a:pathLst>
                      <a:path w="136" h="140">
                        <a:moveTo>
                          <a:pt x="0" y="0"/>
                        </a:moveTo>
                        <a:lnTo>
                          <a:pt x="20" y="8"/>
                        </a:lnTo>
                        <a:lnTo>
                          <a:pt x="35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5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5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4"/>
                        </a:lnTo>
                        <a:lnTo>
                          <a:pt x="99" y="108"/>
                        </a:lnTo>
                        <a:lnTo>
                          <a:pt x="99" y="123"/>
                        </a:lnTo>
                        <a:lnTo>
                          <a:pt x="94" y="139"/>
                        </a:lnTo>
                        <a:lnTo>
                          <a:pt x="80" y="139"/>
                        </a:lnTo>
                        <a:lnTo>
                          <a:pt x="70" y="123"/>
                        </a:lnTo>
                        <a:lnTo>
                          <a:pt x="64" y="108"/>
                        </a:lnTo>
                        <a:lnTo>
                          <a:pt x="54" y="94"/>
                        </a:lnTo>
                        <a:lnTo>
                          <a:pt x="44" y="78"/>
                        </a:lnTo>
                        <a:lnTo>
                          <a:pt x="30" y="68"/>
                        </a:lnTo>
                        <a:lnTo>
                          <a:pt x="20" y="53"/>
                        </a:lnTo>
                        <a:lnTo>
                          <a:pt x="10" y="38"/>
                        </a:lnTo>
                        <a:lnTo>
                          <a:pt x="5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21" name="Group 546"/>
                  <p:cNvGrpSpPr/>
                  <p:nvPr/>
                </p:nvGrpSpPr>
                <p:grpSpPr>
                  <a:xfrm>
                    <a:off x="6909840" y="2760840"/>
                    <a:ext cx="366120" cy="388800"/>
                    <a:chOff x="6909840" y="2760840"/>
                    <a:chExt cx="366120" cy="388800"/>
                  </a:xfrm>
                </p:grpSpPr>
                <p:sp>
                  <p:nvSpPr>
                    <p:cNvPr id="1822" name="AutoShape 544"/>
                    <p:cNvSpPr/>
                    <p:nvPr/>
                  </p:nvSpPr>
                  <p:spPr>
                    <a:xfrm flipH="1" flipV="1" rot="12180000">
                      <a:off x="6959160" y="2800440"/>
                      <a:ext cx="266400" cy="3092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23" name="Oval 545"/>
                    <p:cNvSpPr/>
                    <p:nvPr/>
                  </p:nvSpPr>
                  <p:spPr>
                    <a:xfrm rot="1380000">
                      <a:off x="7041960" y="2892240"/>
                      <a:ext cx="102960" cy="1249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24" name="Group 549"/>
                  <p:cNvGrpSpPr/>
                  <p:nvPr/>
                </p:nvGrpSpPr>
                <p:grpSpPr>
                  <a:xfrm>
                    <a:off x="6810840" y="2788920"/>
                    <a:ext cx="324720" cy="435240"/>
                    <a:chOff x="6810840" y="2788920"/>
                    <a:chExt cx="324720" cy="435240"/>
                  </a:xfrm>
                </p:grpSpPr>
                <p:sp>
                  <p:nvSpPr>
                    <p:cNvPr id="1825" name="AutoShape 547"/>
                    <p:cNvSpPr/>
                    <p:nvPr/>
                  </p:nvSpPr>
                  <p:spPr>
                    <a:xfrm flipV="1" rot="10560000">
                      <a:off x="6824520" y="2797920"/>
                      <a:ext cx="296640" cy="4158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400 h 415800"/>
                        <a:gd name="textAreaBottom" fmla="*/ 329400 h 41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26" name="Oval 548"/>
                    <p:cNvSpPr/>
                    <p:nvPr/>
                  </p:nvSpPr>
                  <p:spPr>
                    <a:xfrm flipH="1" rot="21360000">
                      <a:off x="6910920" y="2922120"/>
                      <a:ext cx="118800" cy="1663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827" name="Group 580"/>
                <p:cNvGrpSpPr/>
                <p:nvPr/>
              </p:nvGrpSpPr>
              <p:grpSpPr>
                <a:xfrm>
                  <a:off x="6280200" y="4074120"/>
                  <a:ext cx="1175760" cy="1127160"/>
                  <a:chOff x="6280200" y="4074120"/>
                  <a:chExt cx="1175760" cy="1127160"/>
                </a:xfrm>
              </p:grpSpPr>
              <p:sp useBgFill="1">
                <p:nvSpPr>
                  <p:cNvPr id="1828" name="Oval 551"/>
                  <p:cNvSpPr/>
                  <p:nvPr/>
                </p:nvSpPr>
                <p:spPr>
                  <a:xfrm>
                    <a:off x="6305400" y="4110120"/>
                    <a:ext cx="1104480" cy="103788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9" name="AutoShape 552"/>
                  <p:cNvSpPr/>
                  <p:nvPr/>
                </p:nvSpPr>
                <p:spPr>
                  <a:xfrm flipH="1" flipV="1" rot="16440000">
                    <a:off x="7141680" y="4458960"/>
                    <a:ext cx="245880" cy="36612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6320 h 366120"/>
                      <a:gd name="textAreaBottom" fmla="*/ 289800 h 366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0" name="Oval 553"/>
                  <p:cNvSpPr/>
                  <p:nvPr/>
                </p:nvSpPr>
                <p:spPr>
                  <a:xfrm rot="5640000">
                    <a:off x="7251840" y="4605120"/>
                    <a:ext cx="110880" cy="110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1" name="AutoShape 554"/>
                  <p:cNvSpPr/>
                  <p:nvPr/>
                </p:nvSpPr>
                <p:spPr>
                  <a:xfrm flipH="1" flipV="1" rot="7980000">
                    <a:off x="6448320" y="4211280"/>
                    <a:ext cx="248760" cy="345240"/>
                  </a:xfrm>
                  <a:custGeom>
                    <a:avLst/>
                    <a:gdLst>
                      <a:gd name="textAreaLeft" fmla="*/ 51840 w 248760"/>
                      <a:gd name="textAreaRight" fmla="*/ 196920 w 24876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2" name="Oval 555"/>
                  <p:cNvSpPr/>
                  <p:nvPr/>
                </p:nvSpPr>
                <p:spPr>
                  <a:xfrm rot="18780000">
                    <a:off x="6494400" y="4299120"/>
                    <a:ext cx="10440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3" name="AutoShape 556"/>
                  <p:cNvSpPr/>
                  <p:nvPr/>
                </p:nvSpPr>
                <p:spPr>
                  <a:xfrm flipH="1" flipV="1" rot="6360000">
                    <a:off x="6399360" y="4327920"/>
                    <a:ext cx="261720" cy="44568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4" name="Oval 557"/>
                  <p:cNvSpPr/>
                  <p:nvPr/>
                </p:nvSpPr>
                <p:spPr>
                  <a:xfrm rot="17160000">
                    <a:off x="6391080" y="4470480"/>
                    <a:ext cx="10440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5" name="AutoShape 558"/>
                  <p:cNvSpPr/>
                  <p:nvPr/>
                </p:nvSpPr>
                <p:spPr>
                  <a:xfrm flipH="1" flipV="1" rot="19140000">
                    <a:off x="7057080" y="4659480"/>
                    <a:ext cx="139320" cy="421920"/>
                  </a:xfrm>
                  <a:custGeom>
                    <a:avLst/>
                    <a:gdLst>
                      <a:gd name="textAreaLeft" fmla="*/ 28800 w 139320"/>
                      <a:gd name="textAreaRight" fmla="*/ 110520 w 13932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6" name="AutoShape 559"/>
                  <p:cNvSpPr/>
                  <p:nvPr/>
                </p:nvSpPr>
                <p:spPr>
                  <a:xfrm flipH="1" flipV="1" rot="18000000">
                    <a:off x="7110000" y="4557240"/>
                    <a:ext cx="169560" cy="493200"/>
                  </a:xfrm>
                  <a:custGeom>
                    <a:avLst/>
                    <a:gdLst>
                      <a:gd name="textAreaLeft" fmla="*/ 35280 w 169560"/>
                      <a:gd name="textAreaRight" fmla="*/ 134280 w 169560"/>
                      <a:gd name="textAreaTop" fmla="*/ 102600 h 493200"/>
                      <a:gd name="textAreaBottom" fmla="*/ 390600 h 493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7" name="Oval 560"/>
                  <p:cNvSpPr/>
                  <p:nvPr/>
                </p:nvSpPr>
                <p:spPr>
                  <a:xfrm rot="7200000">
                    <a:off x="7221960" y="478188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8" name="AutoShape 561"/>
                  <p:cNvSpPr/>
                  <p:nvPr/>
                </p:nvSpPr>
                <p:spPr>
                  <a:xfrm flipH="1" flipV="1" rot="14700000">
                    <a:off x="7096680" y="4299120"/>
                    <a:ext cx="217440" cy="391680"/>
                  </a:xfrm>
                  <a:custGeom>
                    <a:avLst/>
                    <a:gdLst>
                      <a:gd name="textAreaLeft" fmla="*/ 45360 w 217440"/>
                      <a:gd name="textAreaRight" fmla="*/ 172080 w 217440"/>
                      <a:gd name="textAreaTop" fmla="*/ 81360 h 391680"/>
                      <a:gd name="textAreaBottom" fmla="*/ 310320 h 391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9" name="Oval 562"/>
                  <p:cNvSpPr/>
                  <p:nvPr/>
                </p:nvSpPr>
                <p:spPr>
                  <a:xfrm rot="3900000">
                    <a:off x="7221960" y="443376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0" name="AutoShape 563"/>
                  <p:cNvSpPr/>
                  <p:nvPr/>
                </p:nvSpPr>
                <p:spPr>
                  <a:xfrm flipH="1" flipV="1" rot="13020000">
                    <a:off x="6953760" y="4197600"/>
                    <a:ext cx="245880" cy="4330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1" name="AutoShape 564"/>
                  <p:cNvSpPr/>
                  <p:nvPr/>
                </p:nvSpPr>
                <p:spPr>
                  <a:xfrm flipH="1" flipV="1" rot="20640000">
                    <a:off x="6799320" y="4707720"/>
                    <a:ext cx="358560" cy="452520"/>
                  </a:xfrm>
                  <a:custGeom>
                    <a:avLst/>
                    <a:gdLst>
                      <a:gd name="textAreaLeft" fmla="*/ 74520 w 358560"/>
                      <a:gd name="textAreaRight" fmla="*/ 284040 w 358560"/>
                      <a:gd name="textAreaTop" fmla="*/ 94320 h 452520"/>
                      <a:gd name="textAreaBottom" fmla="*/ 358200 h 452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2" name="Oval 565"/>
                  <p:cNvSpPr/>
                  <p:nvPr/>
                </p:nvSpPr>
                <p:spPr>
                  <a:xfrm rot="9840000">
                    <a:off x="6909120" y="4986360"/>
                    <a:ext cx="10440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3" name="AutoShape 566"/>
                  <p:cNvSpPr/>
                  <p:nvPr/>
                </p:nvSpPr>
                <p:spPr>
                  <a:xfrm flipH="1" flipV="1" rot="480000">
                    <a:off x="6662160" y="4808520"/>
                    <a:ext cx="306000" cy="366480"/>
                  </a:xfrm>
                  <a:custGeom>
                    <a:avLst/>
                    <a:gdLst>
                      <a:gd name="textAreaLeft" fmla="*/ 63720 w 306000"/>
                      <a:gd name="textAreaRight" fmla="*/ 242280 w 306000"/>
                      <a:gd name="textAreaTop" fmla="*/ 76320 h 366480"/>
                      <a:gd name="textAreaBottom" fmla="*/ 29016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4" name="AutoShape 567"/>
                  <p:cNvSpPr/>
                  <p:nvPr/>
                </p:nvSpPr>
                <p:spPr>
                  <a:xfrm flipH="1" flipV="1" rot="1800000">
                    <a:off x="6517440" y="4871880"/>
                    <a:ext cx="266400" cy="236160"/>
                  </a:xfrm>
                  <a:custGeom>
                    <a:avLst/>
                    <a:gdLst>
                      <a:gd name="textAreaLeft" fmla="*/ 55440 w 266400"/>
                      <a:gd name="textAreaRight" fmla="*/ 210960 w 266400"/>
                      <a:gd name="textAreaTop" fmla="*/ 48960 h 236160"/>
                      <a:gd name="textAreaBottom" fmla="*/ 187200 h 236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5" name="Oval 568"/>
                  <p:cNvSpPr/>
                  <p:nvPr/>
                </p:nvSpPr>
                <p:spPr>
                  <a:xfrm rot="12600000">
                    <a:off x="6599520" y="4942080"/>
                    <a:ext cx="10440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6" name="AutoShape 569"/>
                  <p:cNvSpPr/>
                  <p:nvPr/>
                </p:nvSpPr>
                <p:spPr>
                  <a:xfrm flipH="1" flipV="1" rot="3600000">
                    <a:off x="6471720" y="4622040"/>
                    <a:ext cx="239400" cy="429840"/>
                  </a:xfrm>
                  <a:custGeom>
                    <a:avLst/>
                    <a:gdLst>
                      <a:gd name="textAreaLeft" fmla="*/ 49680 w 239400"/>
                      <a:gd name="textAreaRight" fmla="*/ 189720 w 239400"/>
                      <a:gd name="textAreaTop" fmla="*/ 89280 h 429840"/>
                      <a:gd name="textAreaBottom" fmla="*/ 340560 h 429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7" name="AutoShape 570"/>
                  <p:cNvSpPr/>
                  <p:nvPr/>
                </p:nvSpPr>
                <p:spPr>
                  <a:xfrm flipH="1" flipV="1" rot="5220000">
                    <a:off x="6356520" y="4451040"/>
                    <a:ext cx="326520" cy="417240"/>
                  </a:xfrm>
                  <a:custGeom>
                    <a:avLst/>
                    <a:gdLst>
                      <a:gd name="textAreaLeft" fmla="*/ 68040 w 326520"/>
                      <a:gd name="textAreaRight" fmla="*/ 258480 w 326520"/>
                      <a:gd name="textAreaTop" fmla="*/ 86760 h 417240"/>
                      <a:gd name="textAreaBottom" fmla="*/ 330480 h 417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8" name="Oval 571"/>
                  <p:cNvSpPr/>
                  <p:nvPr/>
                </p:nvSpPr>
                <p:spPr>
                  <a:xfrm rot="16020000">
                    <a:off x="6427800" y="4592880"/>
                    <a:ext cx="117000" cy="188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9" name="Freeform 572"/>
                  <p:cNvSpPr/>
                  <p:nvPr/>
                </p:nvSpPr>
                <p:spPr>
                  <a:xfrm>
                    <a:off x="6964200" y="4181400"/>
                    <a:ext cx="129960" cy="237600"/>
                  </a:xfrm>
                  <a:custGeom>
                    <a:avLst/>
                    <a:gdLst>
                      <a:gd name="textAreaLeft" fmla="*/ 0 w 129960"/>
                      <a:gd name="textAreaRight" fmla="*/ 130320 w 129960"/>
                      <a:gd name="textAreaTop" fmla="*/ 0 h 237600"/>
                      <a:gd name="textAreaBottom" fmla="*/ 237960 h 237600"/>
                    </a:gdLst>
                    <a:ahLst/>
                    <a:rect l="textAreaLeft" t="textAreaTop" r="textAreaRight" b="textAreaBottom"/>
                    <a:pathLst>
                      <a:path w="82" h="150">
                        <a:moveTo>
                          <a:pt x="0" y="8"/>
                        </a:moveTo>
                        <a:lnTo>
                          <a:pt x="26" y="0"/>
                        </a:lnTo>
                        <a:lnTo>
                          <a:pt x="41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1" y="15"/>
                        </a:lnTo>
                        <a:lnTo>
                          <a:pt x="81" y="29"/>
                        </a:lnTo>
                        <a:lnTo>
                          <a:pt x="75" y="49"/>
                        </a:lnTo>
                        <a:lnTo>
                          <a:pt x="70" y="64"/>
                        </a:lnTo>
                        <a:lnTo>
                          <a:pt x="60" y="79"/>
                        </a:lnTo>
                        <a:lnTo>
                          <a:pt x="60" y="94"/>
                        </a:lnTo>
                        <a:lnTo>
                          <a:pt x="51" y="109"/>
                        </a:lnTo>
                        <a:lnTo>
                          <a:pt x="41" y="129"/>
                        </a:lnTo>
                        <a:lnTo>
                          <a:pt x="36" y="143"/>
                        </a:lnTo>
                        <a:lnTo>
                          <a:pt x="21" y="149"/>
                        </a:lnTo>
                        <a:lnTo>
                          <a:pt x="16" y="134"/>
                        </a:lnTo>
                        <a:lnTo>
                          <a:pt x="16" y="119"/>
                        </a:lnTo>
                        <a:lnTo>
                          <a:pt x="16" y="104"/>
                        </a:lnTo>
                        <a:lnTo>
                          <a:pt x="16" y="89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50" name="Freeform 573"/>
                  <p:cNvSpPr/>
                  <p:nvPr/>
                </p:nvSpPr>
                <p:spPr>
                  <a:xfrm>
                    <a:off x="6550200" y="4160880"/>
                    <a:ext cx="213840" cy="22032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5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3"/>
                        </a:lnTo>
                        <a:lnTo>
                          <a:pt x="99" y="107"/>
                        </a:lnTo>
                        <a:lnTo>
                          <a:pt x="99" y="122"/>
                        </a:lnTo>
                        <a:lnTo>
                          <a:pt x="94" y="138"/>
                        </a:lnTo>
                        <a:lnTo>
                          <a:pt x="79" y="138"/>
                        </a:lnTo>
                        <a:lnTo>
                          <a:pt x="69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51" name="Group 576"/>
                  <p:cNvGrpSpPr/>
                  <p:nvPr/>
                </p:nvGrpSpPr>
                <p:grpSpPr>
                  <a:xfrm>
                    <a:off x="6703920" y="4074120"/>
                    <a:ext cx="363600" cy="386280"/>
                    <a:chOff x="6703920" y="4074120"/>
                    <a:chExt cx="363600" cy="386280"/>
                  </a:xfrm>
                </p:grpSpPr>
                <p:sp>
                  <p:nvSpPr>
                    <p:cNvPr id="1852" name="AutoShape 574"/>
                    <p:cNvSpPr/>
                    <p:nvPr/>
                  </p:nvSpPr>
                  <p:spPr>
                    <a:xfrm flipH="1" flipV="1" rot="12180000">
                      <a:off x="6753240" y="4113000"/>
                      <a:ext cx="264600" cy="307440"/>
                    </a:xfrm>
                    <a:custGeom>
                      <a:avLst/>
                      <a:gdLst>
                        <a:gd name="textAreaLeft" fmla="*/ 55080 w 264600"/>
                        <a:gd name="textAreaRight" fmla="*/ 209520 w 2646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53" name="Oval 575"/>
                    <p:cNvSpPr/>
                    <p:nvPr/>
                  </p:nvSpPr>
                  <p:spPr>
                    <a:xfrm rot="1380000">
                      <a:off x="6832440" y="4204800"/>
                      <a:ext cx="105840" cy="12348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480" bIns="42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54" name="Group 579"/>
                  <p:cNvGrpSpPr/>
                  <p:nvPr/>
                </p:nvGrpSpPr>
                <p:grpSpPr>
                  <a:xfrm>
                    <a:off x="6602760" y="4101840"/>
                    <a:ext cx="324720" cy="437040"/>
                    <a:chOff x="6602760" y="4101840"/>
                    <a:chExt cx="324720" cy="437040"/>
                  </a:xfrm>
                </p:grpSpPr>
                <p:sp>
                  <p:nvSpPr>
                    <p:cNvPr id="1855" name="AutoShape 577"/>
                    <p:cNvSpPr/>
                    <p:nvPr/>
                  </p:nvSpPr>
                  <p:spPr>
                    <a:xfrm flipV="1" rot="10560000">
                      <a:off x="6616800" y="4111200"/>
                      <a:ext cx="296640" cy="4176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760 h 417600"/>
                        <a:gd name="textAreaBottom" fmla="*/ 330840 h 4176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56" name="Oval 578"/>
                    <p:cNvSpPr/>
                    <p:nvPr/>
                  </p:nvSpPr>
                  <p:spPr>
                    <a:xfrm flipH="1" rot="21360000">
                      <a:off x="6705360" y="423504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857" name="Group 610"/>
                <p:cNvGrpSpPr/>
                <p:nvPr/>
              </p:nvGrpSpPr>
              <p:grpSpPr>
                <a:xfrm>
                  <a:off x="3863160" y="1241640"/>
                  <a:ext cx="1173600" cy="1127160"/>
                  <a:chOff x="3863160" y="1241640"/>
                  <a:chExt cx="1173600" cy="1127160"/>
                </a:xfrm>
              </p:grpSpPr>
              <p:sp useBgFill="1">
                <p:nvSpPr>
                  <p:cNvPr id="1858" name="Oval 581"/>
                  <p:cNvSpPr/>
                  <p:nvPr/>
                </p:nvSpPr>
                <p:spPr>
                  <a:xfrm>
                    <a:off x="3886200" y="1276200"/>
                    <a:ext cx="1104480" cy="10393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59" name="AutoShape 582"/>
                  <p:cNvSpPr/>
                  <p:nvPr/>
                </p:nvSpPr>
                <p:spPr>
                  <a:xfrm flipH="1" flipV="1" rot="16440000">
                    <a:off x="4723920" y="1625040"/>
                    <a:ext cx="244080" cy="3643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960 h 364320"/>
                      <a:gd name="textAreaBottom" fmla="*/ 288360 h 364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0" name="Oval 583"/>
                  <p:cNvSpPr/>
                  <p:nvPr/>
                </p:nvSpPr>
                <p:spPr>
                  <a:xfrm rot="5640000">
                    <a:off x="4830840" y="1773000"/>
                    <a:ext cx="11232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1" name="AutoShape 584"/>
                  <p:cNvSpPr/>
                  <p:nvPr/>
                </p:nvSpPr>
                <p:spPr>
                  <a:xfrm flipH="1" flipV="1" rot="7980000">
                    <a:off x="4028760" y="1377720"/>
                    <a:ext cx="247320" cy="34704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2360 h 347040"/>
                      <a:gd name="textAreaBottom" fmla="*/ 274680 h 347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2" name="Oval 585"/>
                  <p:cNvSpPr/>
                  <p:nvPr/>
                </p:nvSpPr>
                <p:spPr>
                  <a:xfrm rot="18780000">
                    <a:off x="4074840" y="146376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3" name="AutoShape 586"/>
                  <p:cNvSpPr/>
                  <p:nvPr/>
                </p:nvSpPr>
                <p:spPr>
                  <a:xfrm flipH="1" flipV="1" rot="6360000">
                    <a:off x="3982680" y="14947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4" name="Oval 587"/>
                  <p:cNvSpPr/>
                  <p:nvPr/>
                </p:nvSpPr>
                <p:spPr>
                  <a:xfrm rot="17160000">
                    <a:off x="3971880" y="163548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5" name="AutoShape 588"/>
                  <p:cNvSpPr/>
                  <p:nvPr/>
                </p:nvSpPr>
                <p:spPr>
                  <a:xfrm flipH="1" flipV="1" rot="19140000">
                    <a:off x="4639680" y="1827360"/>
                    <a:ext cx="137880" cy="4201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480 h 420120"/>
                      <a:gd name="textAreaBottom" fmla="*/ 332640 h 420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6" name="AutoShape 589"/>
                  <p:cNvSpPr/>
                  <p:nvPr/>
                </p:nvSpPr>
                <p:spPr>
                  <a:xfrm flipH="1" flipV="1" rot="18000000">
                    <a:off x="4689360" y="1722240"/>
                    <a:ext cx="171000" cy="494640"/>
                  </a:xfrm>
                  <a:custGeom>
                    <a:avLst/>
                    <a:gdLst>
                      <a:gd name="textAreaLeft" fmla="*/ 35640 w 171000"/>
                      <a:gd name="textAreaRight" fmla="*/ 135360 w 171000"/>
                      <a:gd name="textAreaTop" fmla="*/ 102960 h 494640"/>
                      <a:gd name="textAreaBottom" fmla="*/ 391680 h 49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7" name="Oval 590"/>
                  <p:cNvSpPr/>
                  <p:nvPr/>
                </p:nvSpPr>
                <p:spPr>
                  <a:xfrm rot="7200000">
                    <a:off x="4800960" y="194796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8" name="AutoShape 591"/>
                  <p:cNvSpPr/>
                  <p:nvPr/>
                </p:nvSpPr>
                <p:spPr>
                  <a:xfrm flipH="1" flipV="1" rot="14700000">
                    <a:off x="4676400" y="1464840"/>
                    <a:ext cx="220320" cy="39348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9" name="Oval 592"/>
                  <p:cNvSpPr/>
                  <p:nvPr/>
                </p:nvSpPr>
                <p:spPr>
                  <a:xfrm rot="3900000">
                    <a:off x="4800960" y="160164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0" name="AutoShape 593"/>
                  <p:cNvSpPr/>
                  <p:nvPr/>
                </p:nvSpPr>
                <p:spPr>
                  <a:xfrm flipH="1" flipV="1" rot="13020000">
                    <a:off x="4533120" y="1361880"/>
                    <a:ext cx="247320" cy="4348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360 h 434880"/>
                      <a:gd name="textAreaBottom" fmla="*/ 344520 h 434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1" name="AutoShape 594"/>
                  <p:cNvSpPr/>
                  <p:nvPr/>
                </p:nvSpPr>
                <p:spPr>
                  <a:xfrm flipH="1" flipV="1" rot="20640000">
                    <a:off x="4379040" y="1872720"/>
                    <a:ext cx="356760" cy="455400"/>
                  </a:xfrm>
                  <a:custGeom>
                    <a:avLst/>
                    <a:gdLst>
                      <a:gd name="textAreaLeft" fmla="*/ 74160 w 356760"/>
                      <a:gd name="textAreaRight" fmla="*/ 282600 w 35676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2" name="Oval 595"/>
                  <p:cNvSpPr/>
                  <p:nvPr/>
                </p:nvSpPr>
                <p:spPr>
                  <a:xfrm rot="9840000">
                    <a:off x="4489560" y="215424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3" name="AutoShape 596"/>
                  <p:cNvSpPr/>
                  <p:nvPr/>
                </p:nvSpPr>
                <p:spPr>
                  <a:xfrm flipH="1" flipV="1" rot="480000">
                    <a:off x="4242960" y="1974960"/>
                    <a:ext cx="304560" cy="36648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320 h 366480"/>
                      <a:gd name="textAreaBottom" fmla="*/ 29016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4" name="AutoShape 597"/>
                  <p:cNvSpPr/>
                  <p:nvPr/>
                </p:nvSpPr>
                <p:spPr>
                  <a:xfrm flipH="1" flipV="1" rot="1800000">
                    <a:off x="4099680" y="2037240"/>
                    <a:ext cx="263160" cy="23760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49320 h 237600"/>
                      <a:gd name="textAreaBottom" fmla="*/ 188280 h 23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5" name="Oval 598"/>
                  <p:cNvSpPr/>
                  <p:nvPr/>
                </p:nvSpPr>
                <p:spPr>
                  <a:xfrm rot="12600000">
                    <a:off x="4178520" y="2109960"/>
                    <a:ext cx="1058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6" name="AutoShape 599"/>
                  <p:cNvSpPr/>
                  <p:nvPr/>
                </p:nvSpPr>
                <p:spPr>
                  <a:xfrm flipH="1" flipV="1" rot="3600000">
                    <a:off x="4054320" y="1786320"/>
                    <a:ext cx="237600" cy="4330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7" name="AutoShape 600"/>
                  <p:cNvSpPr/>
                  <p:nvPr/>
                </p:nvSpPr>
                <p:spPr>
                  <a:xfrm flipH="1" flipV="1" rot="5220000">
                    <a:off x="3935520" y="161676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8" name="Oval 601"/>
                  <p:cNvSpPr/>
                  <p:nvPr/>
                </p:nvSpPr>
                <p:spPr>
                  <a:xfrm rot="16020000">
                    <a:off x="4010040" y="1757520"/>
                    <a:ext cx="115560" cy="191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9" name="Freeform 602"/>
                  <p:cNvSpPr/>
                  <p:nvPr/>
                </p:nvSpPr>
                <p:spPr>
                  <a:xfrm>
                    <a:off x="4543560" y="1347840"/>
                    <a:ext cx="126720" cy="2361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80" h="149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4"/>
                        </a:lnTo>
                        <a:lnTo>
                          <a:pt x="79" y="29"/>
                        </a:lnTo>
                        <a:lnTo>
                          <a:pt x="74" y="49"/>
                        </a:lnTo>
                        <a:lnTo>
                          <a:pt x="69" y="64"/>
                        </a:lnTo>
                        <a:lnTo>
                          <a:pt x="59" y="79"/>
                        </a:lnTo>
                        <a:lnTo>
                          <a:pt x="59" y="93"/>
                        </a:lnTo>
                        <a:lnTo>
                          <a:pt x="49" y="108"/>
                        </a:lnTo>
                        <a:lnTo>
                          <a:pt x="40" y="128"/>
                        </a:lnTo>
                        <a:lnTo>
                          <a:pt x="35" y="143"/>
                        </a:lnTo>
                        <a:lnTo>
                          <a:pt x="20" y="148"/>
                        </a:lnTo>
                        <a:lnTo>
                          <a:pt x="15" y="133"/>
                        </a:lnTo>
                        <a:lnTo>
                          <a:pt x="15" y="118"/>
                        </a:lnTo>
                        <a:lnTo>
                          <a:pt x="15" y="103"/>
                        </a:lnTo>
                        <a:lnTo>
                          <a:pt x="15" y="88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80" name="Freeform 603"/>
                  <p:cNvSpPr/>
                  <p:nvPr/>
                </p:nvSpPr>
                <p:spPr>
                  <a:xfrm>
                    <a:off x="4127400" y="1325520"/>
                    <a:ext cx="213840" cy="22032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5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3"/>
                        </a:lnTo>
                        <a:lnTo>
                          <a:pt x="99" y="107"/>
                        </a:lnTo>
                        <a:lnTo>
                          <a:pt x="99" y="122"/>
                        </a:lnTo>
                        <a:lnTo>
                          <a:pt x="94" y="138"/>
                        </a:lnTo>
                        <a:lnTo>
                          <a:pt x="79" y="138"/>
                        </a:lnTo>
                        <a:lnTo>
                          <a:pt x="69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81" name="Group 606"/>
                  <p:cNvGrpSpPr/>
                  <p:nvPr/>
                </p:nvGrpSpPr>
                <p:grpSpPr>
                  <a:xfrm>
                    <a:off x="4284360" y="1241640"/>
                    <a:ext cx="365400" cy="387000"/>
                    <a:chOff x="4284360" y="1241640"/>
                    <a:chExt cx="365400" cy="387000"/>
                  </a:xfrm>
                </p:grpSpPr>
                <p:sp>
                  <p:nvSpPr>
                    <p:cNvPr id="1882" name="AutoShape 604"/>
                    <p:cNvSpPr/>
                    <p:nvPr/>
                  </p:nvSpPr>
                  <p:spPr>
                    <a:xfrm flipH="1" flipV="1" rot="12180000">
                      <a:off x="4333320" y="1280880"/>
                      <a:ext cx="266400" cy="3074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3" name="Oval 605"/>
                    <p:cNvSpPr/>
                    <p:nvPr/>
                  </p:nvSpPr>
                  <p:spPr>
                    <a:xfrm rot="1380000">
                      <a:off x="4414680" y="1371600"/>
                      <a:ext cx="102960" cy="1249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84" name="Group 609"/>
                  <p:cNvGrpSpPr/>
                  <p:nvPr/>
                </p:nvGrpSpPr>
                <p:grpSpPr>
                  <a:xfrm>
                    <a:off x="4183560" y="1269720"/>
                    <a:ext cx="324720" cy="435240"/>
                    <a:chOff x="4183560" y="1269720"/>
                    <a:chExt cx="324720" cy="435240"/>
                  </a:xfrm>
                </p:grpSpPr>
                <p:sp>
                  <p:nvSpPr>
                    <p:cNvPr id="1885" name="AutoShape 607"/>
                    <p:cNvSpPr/>
                    <p:nvPr/>
                  </p:nvSpPr>
                  <p:spPr>
                    <a:xfrm flipV="1" rot="10560000">
                      <a:off x="4197240" y="1278720"/>
                      <a:ext cx="296640" cy="4158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400 h 415800"/>
                        <a:gd name="textAreaBottom" fmla="*/ 329400 h 41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6" name="Oval 608"/>
                    <p:cNvSpPr/>
                    <p:nvPr/>
                  </p:nvSpPr>
                  <p:spPr>
                    <a:xfrm flipH="1" rot="21360000">
                      <a:off x="4285800" y="1401480"/>
                      <a:ext cx="11700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887" name="Group 613"/>
                <p:cNvGrpSpPr/>
                <p:nvPr/>
              </p:nvGrpSpPr>
              <p:grpSpPr>
                <a:xfrm>
                  <a:off x="6462000" y="717480"/>
                  <a:ext cx="2644560" cy="2685600"/>
                  <a:chOff x="6462000" y="717480"/>
                  <a:chExt cx="2644560" cy="2685600"/>
                </a:xfrm>
              </p:grpSpPr>
              <p:sp>
                <p:nvSpPr>
                  <p:cNvPr id="1888" name="Oval 611"/>
                  <p:cNvSpPr/>
                  <p:nvPr/>
                </p:nvSpPr>
                <p:spPr>
                  <a:xfrm rot="2760000">
                    <a:off x="6427800" y="1531440"/>
                    <a:ext cx="2712600" cy="1056960"/>
                  </a:xfrm>
                  <a:prstGeom prst="ellipse">
                    <a:avLst/>
                  </a:prstGeom>
                  <a:pattFill prst="smGrid">
                    <a:fgClr>
                      <a:srgbClr val="eeece1"/>
                    </a:fgClr>
                    <a:bgClr>
                      <a:srgbClr val="cc0000"/>
                    </a:bgClr>
                  </a:pattFill>
                  <a:ln w="508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 useBgFill="1">
                <p:nvSpPr>
                  <p:cNvPr id="1889" name="Oval 612"/>
                  <p:cNvSpPr/>
                  <p:nvPr/>
                </p:nvSpPr>
                <p:spPr>
                  <a:xfrm rot="2760000">
                    <a:off x="6710400" y="1769760"/>
                    <a:ext cx="2144520" cy="483840"/>
                  </a:xfrm>
                  <a:prstGeom prst="ellips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890" name="Freeform 614"/>
                <p:cNvSpPr/>
                <p:nvPr/>
              </p:nvSpPr>
              <p:spPr>
                <a:xfrm>
                  <a:off x="4718160" y="876240"/>
                  <a:ext cx="4222440" cy="5471640"/>
                </a:xfrm>
                <a:custGeom>
                  <a:avLst/>
                  <a:gdLst>
                    <a:gd name="textAreaLeft" fmla="*/ 0 w 4222440"/>
                    <a:gd name="textAreaRight" fmla="*/ 4222800 w 4222440"/>
                    <a:gd name="textAreaTop" fmla="*/ 0 h 5471640"/>
                    <a:gd name="textAreaBottom" fmla="*/ 5472000 h 5471640"/>
                  </a:gdLst>
                  <a:ahLst/>
                  <a:rect l="textAreaLeft" t="textAreaTop" r="textAreaRight" b="textAreaBottom"/>
                  <a:pathLst>
                    <a:path w="2660" h="3447">
                      <a:moveTo>
                        <a:pt x="0" y="6"/>
                      </a:moveTo>
                      <a:lnTo>
                        <a:pt x="45" y="0"/>
                      </a:lnTo>
                      <a:lnTo>
                        <a:pt x="75" y="0"/>
                      </a:lnTo>
                      <a:lnTo>
                        <a:pt x="134" y="0"/>
                      </a:lnTo>
                      <a:lnTo>
                        <a:pt x="194" y="19"/>
                      </a:lnTo>
                      <a:lnTo>
                        <a:pt x="273" y="29"/>
                      </a:lnTo>
                      <a:lnTo>
                        <a:pt x="303" y="48"/>
                      </a:lnTo>
                      <a:lnTo>
                        <a:pt x="332" y="58"/>
                      </a:lnTo>
                      <a:lnTo>
                        <a:pt x="361" y="68"/>
                      </a:lnTo>
                      <a:lnTo>
                        <a:pt x="391" y="78"/>
                      </a:lnTo>
                      <a:lnTo>
                        <a:pt x="470" y="88"/>
                      </a:lnTo>
                      <a:lnTo>
                        <a:pt x="530" y="98"/>
                      </a:lnTo>
                      <a:lnTo>
                        <a:pt x="609" y="118"/>
                      </a:lnTo>
                      <a:lnTo>
                        <a:pt x="669" y="128"/>
                      </a:lnTo>
                      <a:lnTo>
                        <a:pt x="768" y="138"/>
                      </a:lnTo>
                      <a:lnTo>
                        <a:pt x="807" y="147"/>
                      </a:lnTo>
                      <a:lnTo>
                        <a:pt x="847" y="157"/>
                      </a:lnTo>
                      <a:lnTo>
                        <a:pt x="877" y="157"/>
                      </a:lnTo>
                      <a:lnTo>
                        <a:pt x="906" y="157"/>
                      </a:lnTo>
                      <a:lnTo>
                        <a:pt x="936" y="157"/>
                      </a:lnTo>
                      <a:lnTo>
                        <a:pt x="966" y="157"/>
                      </a:lnTo>
                      <a:lnTo>
                        <a:pt x="1025" y="147"/>
                      </a:lnTo>
                      <a:lnTo>
                        <a:pt x="1094" y="128"/>
                      </a:lnTo>
                      <a:lnTo>
                        <a:pt x="1133" y="108"/>
                      </a:lnTo>
                      <a:lnTo>
                        <a:pt x="1173" y="98"/>
                      </a:lnTo>
                      <a:lnTo>
                        <a:pt x="1242" y="78"/>
                      </a:lnTo>
                      <a:lnTo>
                        <a:pt x="1272" y="58"/>
                      </a:lnTo>
                      <a:lnTo>
                        <a:pt x="1302" y="39"/>
                      </a:lnTo>
                      <a:lnTo>
                        <a:pt x="1332" y="29"/>
                      </a:lnTo>
                      <a:lnTo>
                        <a:pt x="1361" y="19"/>
                      </a:lnTo>
                      <a:lnTo>
                        <a:pt x="1401" y="9"/>
                      </a:lnTo>
                      <a:lnTo>
                        <a:pt x="1470" y="9"/>
                      </a:lnTo>
                      <a:lnTo>
                        <a:pt x="1510" y="9"/>
                      </a:lnTo>
                      <a:lnTo>
                        <a:pt x="1550" y="9"/>
                      </a:lnTo>
                      <a:lnTo>
                        <a:pt x="1579" y="9"/>
                      </a:lnTo>
                      <a:lnTo>
                        <a:pt x="1619" y="19"/>
                      </a:lnTo>
                      <a:lnTo>
                        <a:pt x="1659" y="39"/>
                      </a:lnTo>
                      <a:lnTo>
                        <a:pt x="1688" y="48"/>
                      </a:lnTo>
                      <a:lnTo>
                        <a:pt x="1718" y="58"/>
                      </a:lnTo>
                      <a:lnTo>
                        <a:pt x="1758" y="78"/>
                      </a:lnTo>
                      <a:lnTo>
                        <a:pt x="1787" y="98"/>
                      </a:lnTo>
                      <a:lnTo>
                        <a:pt x="1827" y="118"/>
                      </a:lnTo>
                      <a:lnTo>
                        <a:pt x="1896" y="138"/>
                      </a:lnTo>
                      <a:lnTo>
                        <a:pt x="1925" y="167"/>
                      </a:lnTo>
                      <a:lnTo>
                        <a:pt x="2005" y="197"/>
                      </a:lnTo>
                      <a:lnTo>
                        <a:pt x="2074" y="227"/>
                      </a:lnTo>
                      <a:lnTo>
                        <a:pt x="2114" y="256"/>
                      </a:lnTo>
                      <a:lnTo>
                        <a:pt x="2143" y="286"/>
                      </a:lnTo>
                      <a:lnTo>
                        <a:pt x="2173" y="296"/>
                      </a:lnTo>
                      <a:lnTo>
                        <a:pt x="2203" y="316"/>
                      </a:lnTo>
                      <a:lnTo>
                        <a:pt x="2232" y="336"/>
                      </a:lnTo>
                      <a:lnTo>
                        <a:pt x="2252" y="366"/>
                      </a:lnTo>
                      <a:lnTo>
                        <a:pt x="2282" y="395"/>
                      </a:lnTo>
                      <a:lnTo>
                        <a:pt x="2302" y="425"/>
                      </a:lnTo>
                      <a:lnTo>
                        <a:pt x="2322" y="455"/>
                      </a:lnTo>
                      <a:lnTo>
                        <a:pt x="2341" y="494"/>
                      </a:lnTo>
                      <a:lnTo>
                        <a:pt x="2371" y="534"/>
                      </a:lnTo>
                      <a:lnTo>
                        <a:pt x="2391" y="564"/>
                      </a:lnTo>
                      <a:lnTo>
                        <a:pt x="2411" y="594"/>
                      </a:lnTo>
                      <a:lnTo>
                        <a:pt x="2431" y="623"/>
                      </a:lnTo>
                      <a:lnTo>
                        <a:pt x="2450" y="653"/>
                      </a:lnTo>
                      <a:lnTo>
                        <a:pt x="2480" y="683"/>
                      </a:lnTo>
                      <a:lnTo>
                        <a:pt x="2490" y="712"/>
                      </a:lnTo>
                      <a:lnTo>
                        <a:pt x="2520" y="741"/>
                      </a:lnTo>
                      <a:lnTo>
                        <a:pt x="2540" y="771"/>
                      </a:lnTo>
                      <a:lnTo>
                        <a:pt x="2550" y="801"/>
                      </a:lnTo>
                      <a:lnTo>
                        <a:pt x="2560" y="830"/>
                      </a:lnTo>
                      <a:lnTo>
                        <a:pt x="2569" y="860"/>
                      </a:lnTo>
                      <a:lnTo>
                        <a:pt x="2579" y="890"/>
                      </a:lnTo>
                      <a:lnTo>
                        <a:pt x="2599" y="920"/>
                      </a:lnTo>
                      <a:lnTo>
                        <a:pt x="2599" y="949"/>
                      </a:lnTo>
                      <a:lnTo>
                        <a:pt x="2609" y="979"/>
                      </a:lnTo>
                      <a:lnTo>
                        <a:pt x="2609" y="1009"/>
                      </a:lnTo>
                      <a:lnTo>
                        <a:pt x="2619" y="1039"/>
                      </a:lnTo>
                      <a:lnTo>
                        <a:pt x="2629" y="1068"/>
                      </a:lnTo>
                      <a:lnTo>
                        <a:pt x="2639" y="1098"/>
                      </a:lnTo>
                      <a:lnTo>
                        <a:pt x="2649" y="1128"/>
                      </a:lnTo>
                      <a:lnTo>
                        <a:pt x="2659" y="1158"/>
                      </a:lnTo>
                      <a:lnTo>
                        <a:pt x="2659" y="1187"/>
                      </a:lnTo>
                      <a:lnTo>
                        <a:pt x="2659" y="1217"/>
                      </a:lnTo>
                      <a:lnTo>
                        <a:pt x="2659" y="1247"/>
                      </a:lnTo>
                      <a:lnTo>
                        <a:pt x="2659" y="1277"/>
                      </a:lnTo>
                      <a:lnTo>
                        <a:pt x="2659" y="1306"/>
                      </a:lnTo>
                      <a:lnTo>
                        <a:pt x="2659" y="1336"/>
                      </a:lnTo>
                      <a:lnTo>
                        <a:pt x="2649" y="1366"/>
                      </a:lnTo>
                      <a:lnTo>
                        <a:pt x="2639" y="1395"/>
                      </a:lnTo>
                      <a:lnTo>
                        <a:pt x="2629" y="1425"/>
                      </a:lnTo>
                      <a:lnTo>
                        <a:pt x="2609" y="1454"/>
                      </a:lnTo>
                      <a:lnTo>
                        <a:pt x="2589" y="1484"/>
                      </a:lnTo>
                      <a:lnTo>
                        <a:pt x="2569" y="1553"/>
                      </a:lnTo>
                      <a:lnTo>
                        <a:pt x="2550" y="1632"/>
                      </a:lnTo>
                      <a:lnTo>
                        <a:pt x="2530" y="1771"/>
                      </a:lnTo>
                      <a:lnTo>
                        <a:pt x="2450" y="1930"/>
                      </a:lnTo>
                      <a:lnTo>
                        <a:pt x="2391" y="2069"/>
                      </a:lnTo>
                      <a:lnTo>
                        <a:pt x="2371" y="2226"/>
                      </a:lnTo>
                      <a:lnTo>
                        <a:pt x="2312" y="2325"/>
                      </a:lnTo>
                      <a:lnTo>
                        <a:pt x="2302" y="2385"/>
                      </a:lnTo>
                      <a:lnTo>
                        <a:pt x="2282" y="2415"/>
                      </a:lnTo>
                      <a:lnTo>
                        <a:pt x="2272" y="2444"/>
                      </a:lnTo>
                      <a:lnTo>
                        <a:pt x="2262" y="2474"/>
                      </a:lnTo>
                      <a:lnTo>
                        <a:pt x="2242" y="2553"/>
                      </a:lnTo>
                      <a:lnTo>
                        <a:pt x="2223" y="2593"/>
                      </a:lnTo>
                      <a:lnTo>
                        <a:pt x="2203" y="2633"/>
                      </a:lnTo>
                      <a:lnTo>
                        <a:pt x="2183" y="2732"/>
                      </a:lnTo>
                      <a:lnTo>
                        <a:pt x="2173" y="2791"/>
                      </a:lnTo>
                      <a:lnTo>
                        <a:pt x="2163" y="2850"/>
                      </a:lnTo>
                      <a:lnTo>
                        <a:pt x="2153" y="2929"/>
                      </a:lnTo>
                      <a:lnTo>
                        <a:pt x="2143" y="3008"/>
                      </a:lnTo>
                      <a:lnTo>
                        <a:pt x="2123" y="3088"/>
                      </a:lnTo>
                      <a:lnTo>
                        <a:pt x="2114" y="3147"/>
                      </a:lnTo>
                      <a:lnTo>
                        <a:pt x="2114" y="3207"/>
                      </a:lnTo>
                      <a:lnTo>
                        <a:pt x="2104" y="3246"/>
                      </a:lnTo>
                      <a:lnTo>
                        <a:pt x="2094" y="3276"/>
                      </a:lnTo>
                      <a:lnTo>
                        <a:pt x="2084" y="3306"/>
                      </a:lnTo>
                      <a:lnTo>
                        <a:pt x="2074" y="3336"/>
                      </a:lnTo>
                      <a:lnTo>
                        <a:pt x="2074" y="3365"/>
                      </a:lnTo>
                      <a:lnTo>
                        <a:pt x="2064" y="3405"/>
                      </a:lnTo>
                      <a:lnTo>
                        <a:pt x="2054" y="3435"/>
                      </a:lnTo>
                      <a:lnTo>
                        <a:pt x="2046" y="3446"/>
                      </a:lnTo>
                    </a:path>
                  </a:pathLst>
                </a:custGeom>
                <a:noFill/>
                <a:ln cap="rnd" w="508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1" name="Freeform 615"/>
                <p:cNvSpPr/>
                <p:nvPr/>
              </p:nvSpPr>
              <p:spPr>
                <a:xfrm>
                  <a:off x="7897680" y="3233880"/>
                  <a:ext cx="585360" cy="304452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3044520"/>
                    <a:gd name="textAreaBottom" fmla="*/ 3044880 h 3044520"/>
                  </a:gdLst>
                  <a:ahLst/>
                  <a:rect l="textAreaLeft" t="textAreaTop" r="textAreaRight" b="textAreaBottom"/>
                  <a:pathLst>
                    <a:path w="369" h="1918">
                      <a:moveTo>
                        <a:pt x="0" y="1917"/>
                      </a:moveTo>
                      <a:lnTo>
                        <a:pt x="31" y="1869"/>
                      </a:lnTo>
                      <a:lnTo>
                        <a:pt x="41" y="1840"/>
                      </a:lnTo>
                      <a:lnTo>
                        <a:pt x="41" y="1810"/>
                      </a:lnTo>
                      <a:lnTo>
                        <a:pt x="51" y="1780"/>
                      </a:lnTo>
                      <a:lnTo>
                        <a:pt x="51" y="1750"/>
                      </a:lnTo>
                      <a:lnTo>
                        <a:pt x="51" y="1721"/>
                      </a:lnTo>
                      <a:lnTo>
                        <a:pt x="51" y="1691"/>
                      </a:lnTo>
                      <a:lnTo>
                        <a:pt x="51" y="1661"/>
                      </a:lnTo>
                      <a:lnTo>
                        <a:pt x="51" y="1622"/>
                      </a:lnTo>
                      <a:lnTo>
                        <a:pt x="51" y="1592"/>
                      </a:lnTo>
                      <a:lnTo>
                        <a:pt x="51" y="1553"/>
                      </a:lnTo>
                      <a:lnTo>
                        <a:pt x="61" y="1523"/>
                      </a:lnTo>
                      <a:lnTo>
                        <a:pt x="61" y="1484"/>
                      </a:lnTo>
                      <a:lnTo>
                        <a:pt x="61" y="1424"/>
                      </a:lnTo>
                      <a:lnTo>
                        <a:pt x="71" y="1385"/>
                      </a:lnTo>
                      <a:lnTo>
                        <a:pt x="81" y="1345"/>
                      </a:lnTo>
                      <a:lnTo>
                        <a:pt x="91" y="1286"/>
                      </a:lnTo>
                      <a:lnTo>
                        <a:pt x="91" y="1226"/>
                      </a:lnTo>
                      <a:lnTo>
                        <a:pt x="91" y="1167"/>
                      </a:lnTo>
                      <a:lnTo>
                        <a:pt x="101" y="1127"/>
                      </a:lnTo>
                      <a:lnTo>
                        <a:pt x="111" y="1067"/>
                      </a:lnTo>
                      <a:lnTo>
                        <a:pt x="130" y="1028"/>
                      </a:lnTo>
                      <a:lnTo>
                        <a:pt x="140" y="968"/>
                      </a:lnTo>
                      <a:lnTo>
                        <a:pt x="150" y="909"/>
                      </a:lnTo>
                      <a:lnTo>
                        <a:pt x="160" y="869"/>
                      </a:lnTo>
                      <a:lnTo>
                        <a:pt x="170" y="830"/>
                      </a:lnTo>
                      <a:lnTo>
                        <a:pt x="190" y="790"/>
                      </a:lnTo>
                      <a:lnTo>
                        <a:pt x="200" y="760"/>
                      </a:lnTo>
                      <a:lnTo>
                        <a:pt x="210" y="720"/>
                      </a:lnTo>
                      <a:lnTo>
                        <a:pt x="220" y="661"/>
                      </a:lnTo>
                      <a:lnTo>
                        <a:pt x="239" y="621"/>
                      </a:lnTo>
                      <a:lnTo>
                        <a:pt x="249" y="582"/>
                      </a:lnTo>
                      <a:lnTo>
                        <a:pt x="259" y="542"/>
                      </a:lnTo>
                      <a:lnTo>
                        <a:pt x="269" y="512"/>
                      </a:lnTo>
                      <a:lnTo>
                        <a:pt x="279" y="483"/>
                      </a:lnTo>
                      <a:lnTo>
                        <a:pt x="289" y="443"/>
                      </a:lnTo>
                      <a:lnTo>
                        <a:pt x="299" y="403"/>
                      </a:lnTo>
                      <a:lnTo>
                        <a:pt x="309" y="373"/>
                      </a:lnTo>
                      <a:lnTo>
                        <a:pt x="319" y="314"/>
                      </a:lnTo>
                      <a:lnTo>
                        <a:pt x="329" y="275"/>
                      </a:lnTo>
                      <a:lnTo>
                        <a:pt x="338" y="245"/>
                      </a:lnTo>
                      <a:lnTo>
                        <a:pt x="348" y="216"/>
                      </a:lnTo>
                      <a:lnTo>
                        <a:pt x="358" y="186"/>
                      </a:lnTo>
                      <a:lnTo>
                        <a:pt x="368" y="156"/>
                      </a:lnTo>
                      <a:lnTo>
                        <a:pt x="368" y="127"/>
                      </a:lnTo>
                      <a:lnTo>
                        <a:pt x="368" y="97"/>
                      </a:lnTo>
                      <a:lnTo>
                        <a:pt x="368" y="67"/>
                      </a:lnTo>
                      <a:lnTo>
                        <a:pt x="368" y="37"/>
                      </a:lnTo>
                      <a:lnTo>
                        <a:pt x="368" y="8"/>
                      </a:lnTo>
                      <a:lnTo>
                        <a:pt x="348" y="0"/>
                      </a:lnTo>
                    </a:path>
                  </a:pathLst>
                </a:custGeom>
                <a:noFill/>
                <a:ln cap="rnd" w="508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2" name="Freeform 616"/>
                <p:cNvSpPr/>
                <p:nvPr/>
              </p:nvSpPr>
              <p:spPr>
                <a:xfrm>
                  <a:off x="4929120" y="1022400"/>
                  <a:ext cx="1794960" cy="309240"/>
                </a:xfrm>
                <a:custGeom>
                  <a:avLst/>
                  <a:gdLst>
                    <a:gd name="textAreaLeft" fmla="*/ 0 w 1794960"/>
                    <a:gd name="textAreaRight" fmla="*/ 1795320 w 1794960"/>
                    <a:gd name="textAreaTop" fmla="*/ 0 h 309240"/>
                    <a:gd name="textAreaBottom" fmla="*/ 309600 h 309240"/>
                  </a:gdLst>
                  <a:ahLst/>
                  <a:rect l="textAreaLeft" t="textAreaTop" r="textAreaRight" b="textAreaBottom"/>
                  <a:pathLst>
                    <a:path w="1131" h="195">
                      <a:moveTo>
                        <a:pt x="1130" y="174"/>
                      </a:moveTo>
                      <a:lnTo>
                        <a:pt x="1071" y="194"/>
                      </a:lnTo>
                      <a:lnTo>
                        <a:pt x="1041" y="194"/>
                      </a:lnTo>
                      <a:lnTo>
                        <a:pt x="982" y="194"/>
                      </a:lnTo>
                      <a:lnTo>
                        <a:pt x="942" y="194"/>
                      </a:lnTo>
                      <a:lnTo>
                        <a:pt x="902" y="194"/>
                      </a:lnTo>
                      <a:lnTo>
                        <a:pt x="873" y="194"/>
                      </a:lnTo>
                      <a:lnTo>
                        <a:pt x="794" y="194"/>
                      </a:lnTo>
                      <a:lnTo>
                        <a:pt x="764" y="194"/>
                      </a:lnTo>
                      <a:lnTo>
                        <a:pt x="735" y="194"/>
                      </a:lnTo>
                      <a:lnTo>
                        <a:pt x="705" y="194"/>
                      </a:lnTo>
                      <a:lnTo>
                        <a:pt x="675" y="183"/>
                      </a:lnTo>
                      <a:lnTo>
                        <a:pt x="636" y="183"/>
                      </a:lnTo>
                      <a:lnTo>
                        <a:pt x="606" y="173"/>
                      </a:lnTo>
                      <a:lnTo>
                        <a:pt x="566" y="154"/>
                      </a:lnTo>
                      <a:lnTo>
                        <a:pt x="537" y="154"/>
                      </a:lnTo>
                      <a:lnTo>
                        <a:pt x="507" y="144"/>
                      </a:lnTo>
                      <a:lnTo>
                        <a:pt x="468" y="134"/>
                      </a:lnTo>
                      <a:lnTo>
                        <a:pt x="409" y="124"/>
                      </a:lnTo>
                      <a:lnTo>
                        <a:pt x="379" y="114"/>
                      </a:lnTo>
                      <a:lnTo>
                        <a:pt x="339" y="104"/>
                      </a:lnTo>
                      <a:lnTo>
                        <a:pt x="310" y="104"/>
                      </a:lnTo>
                      <a:lnTo>
                        <a:pt x="280" y="94"/>
                      </a:lnTo>
                      <a:lnTo>
                        <a:pt x="250" y="94"/>
                      </a:lnTo>
                      <a:lnTo>
                        <a:pt x="220" y="94"/>
                      </a:lnTo>
                      <a:lnTo>
                        <a:pt x="191" y="74"/>
                      </a:lnTo>
                      <a:lnTo>
                        <a:pt x="152" y="64"/>
                      </a:lnTo>
                      <a:lnTo>
                        <a:pt x="122" y="64"/>
                      </a:lnTo>
                      <a:lnTo>
                        <a:pt x="93" y="45"/>
                      </a:lnTo>
                      <a:lnTo>
                        <a:pt x="63" y="35"/>
                      </a:lnTo>
                      <a:lnTo>
                        <a:pt x="33" y="15"/>
                      </a:lnTo>
                      <a:lnTo>
                        <a:pt x="3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8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893" name="Rectangle 619"/>
            <p:cNvSpPr/>
            <p:nvPr/>
          </p:nvSpPr>
          <p:spPr>
            <a:xfrm>
              <a:off x="0" y="2438280"/>
              <a:ext cx="2971440" cy="579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0" lang="ru-RU" sz="3200" spc="-1" strike="noStrike" u="sng">
                  <a:solidFill>
                    <a:schemeClr val="hlink"/>
                  </a:solidFill>
                  <a:uFillTx/>
                  <a:latin typeface="Calibri"/>
                </a:rPr>
                <a:t>SEROUS ACIN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620"/>
            <p:cNvSpPr/>
            <p:nvPr/>
          </p:nvSpPr>
          <p:spPr>
            <a:xfrm>
              <a:off x="152280" y="4572000"/>
              <a:ext cx="297144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0" lang="en-US" sz="2800" spc="-1" strike="noStrike">
                  <a:solidFill>
                    <a:srgbClr val="ff3399"/>
                  </a:solidFill>
                  <a:latin typeface="Calibri"/>
                </a:rPr>
                <a:t>STRIATED  </a:t>
              </a: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DU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621"/>
            <p:cNvSpPr/>
            <p:nvPr/>
          </p:nvSpPr>
          <p:spPr>
            <a:xfrm>
              <a:off x="609480" y="6248520"/>
              <a:ext cx="388584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0" lang="ru-RU" sz="2800" spc="-1" strike="noStrike">
                  <a:solidFill>
                    <a:srgbClr val="558ed5"/>
                  </a:solidFill>
                  <a:latin typeface="Calibri"/>
                </a:rPr>
                <a:t>INTERCALATED DU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Arc 622"/>
            <p:cNvSpPr/>
            <p:nvPr/>
          </p:nvSpPr>
          <p:spPr>
            <a:xfrm>
              <a:off x="3581280" y="5715000"/>
              <a:ext cx="1447560" cy="60912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80"/>
                    <a:pt x="9656" y="13"/>
                    <a:pt x="21576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80"/>
                    <a:pt x="9656" y="13"/>
                    <a:pt x="2157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700">
              <a:solidFill>
                <a:srgbClr val="4bacc6">
                  <a:lumMod val="75000"/>
                </a:srgbClr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7" name="Line 623"/>
            <p:cNvSpPr/>
            <p:nvPr/>
          </p:nvSpPr>
          <p:spPr>
            <a:xfrm>
              <a:off x="1295280" y="5148000"/>
              <a:ext cx="1485720" cy="208080"/>
            </a:xfrm>
            <a:prstGeom prst="line">
              <a:avLst/>
            </a:prstGeom>
            <a:ln w="12700">
              <a:solidFill>
                <a:srgbClr val="ff3399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8" name="Arc 624"/>
            <p:cNvSpPr/>
            <p:nvPr/>
          </p:nvSpPr>
          <p:spPr>
            <a:xfrm>
              <a:off x="1066680" y="2819520"/>
              <a:ext cx="1294920" cy="837720"/>
            </a:xfrm>
            <a:custGeom>
              <a:avLst/>
              <a:gdLst>
                <a:gd name="textAreaLeft" fmla="*/ 0 w 1294920"/>
                <a:gd name="textAreaRight" fmla="*/ 1295280 w 1294920"/>
                <a:gd name="textAreaTop" fmla="*/ 0 h 837720"/>
                <a:gd name="textAreaBottom" fmla="*/ 838080 h 8377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700">
              <a:solidFill>
                <a:srgbClr val="0000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9" name="Arc 625"/>
            <p:cNvSpPr/>
            <p:nvPr/>
          </p:nvSpPr>
          <p:spPr>
            <a:xfrm>
              <a:off x="1523880" y="2286000"/>
              <a:ext cx="1447560" cy="15192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80"/>
                    <a:pt x="9656" y="13"/>
                    <a:pt x="21576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80"/>
                    <a:pt x="9656" y="13"/>
                    <a:pt x="2157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70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0" name="Rectangle 626"/>
            <p:cNvSpPr/>
            <p:nvPr/>
          </p:nvSpPr>
          <p:spPr>
            <a:xfrm>
              <a:off x="304920" y="685800"/>
              <a:ext cx="3580920" cy="518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0" lang="ru-RU" sz="2800" spc="-1" strike="noStrike">
                  <a:solidFill>
                    <a:srgbClr val="ff9966"/>
                  </a:solidFill>
                  <a:latin typeface="Calibri"/>
                </a:rPr>
                <a:t>INTER LOBULAR DU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Arc 627"/>
            <p:cNvSpPr/>
            <p:nvPr/>
          </p:nvSpPr>
          <p:spPr>
            <a:xfrm>
              <a:off x="3789360" y="876240"/>
              <a:ext cx="3677760" cy="649080"/>
            </a:xfrm>
            <a:custGeom>
              <a:avLst/>
              <a:gdLst>
                <a:gd name="textAreaLeft" fmla="*/ 0 w 3677760"/>
                <a:gd name="textAreaRight" fmla="*/ 3678120 w 367776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fill="none" w="21610" h="21600">
                  <a:moveTo>
                    <a:pt x="0" y="0"/>
                  </a:moveTo>
                  <a:cubicBezTo>
                    <a:pt x="3" y="0"/>
                    <a:pt x="6" y="-1"/>
                    <a:pt x="10" y="0"/>
                  </a:cubicBezTo>
                  <a:cubicBezTo>
                    <a:pt x="11939" y="0"/>
                    <a:pt x="21610" y="9670"/>
                    <a:pt x="21610" y="21600"/>
                  </a:cubicBezTo>
                </a:path>
                <a:path stroke="0" w="21610" h="21600">
                  <a:moveTo>
                    <a:pt x="0" y="0"/>
                  </a:moveTo>
                  <a:cubicBezTo>
                    <a:pt x="3" y="0"/>
                    <a:pt x="6" y="-1"/>
                    <a:pt x="10" y="0"/>
                  </a:cubicBezTo>
                  <a:cubicBezTo>
                    <a:pt x="11939" y="0"/>
                    <a:pt x="21610" y="9670"/>
                    <a:pt x="21610" y="21600"/>
                  </a:cubicBezTo>
                  <a:lnTo>
                    <a:pt x="10" y="21600"/>
                  </a:lnTo>
                  <a:close/>
                </a:path>
              </a:pathLst>
            </a:custGeom>
            <a:noFill/>
            <a:ln cap="rnd" w="25400">
              <a:solidFill>
                <a:srgbClr val="ff9966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2" name="Group 667"/>
          <p:cNvGrpSpPr/>
          <p:nvPr/>
        </p:nvGrpSpPr>
        <p:grpSpPr>
          <a:xfrm>
            <a:off x="0" y="0"/>
            <a:ext cx="9295920" cy="6424560"/>
            <a:chOff x="0" y="0"/>
            <a:chExt cx="9295920" cy="6424560"/>
          </a:xfrm>
        </p:grpSpPr>
        <p:sp>
          <p:nvSpPr>
            <p:cNvPr id="1903" name="Rectangle 2"/>
            <p:cNvSpPr/>
            <p:nvPr/>
          </p:nvSpPr>
          <p:spPr>
            <a:xfrm>
              <a:off x="2057400" y="0"/>
              <a:ext cx="7238520" cy="579240"/>
            </a:xfrm>
            <a:prstGeom prst="rect">
              <a:avLst/>
            </a:prstGeom>
            <a:solidFill>
              <a:srgbClr val="ffffcc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1" lang="ru-RU" sz="3200" spc="-1" strike="noStrike">
                  <a:solidFill>
                    <a:schemeClr val="accent2"/>
                  </a:solidFill>
                  <a:latin typeface="Calibri"/>
                </a:rPr>
                <a:t>SUBMANDIBULAR GLAND</a:t>
              </a:r>
              <a:r>
                <a:rPr b="1" lang="en-US" sz="3200" spc="-1" strike="noStrike">
                  <a:solidFill>
                    <a:schemeClr val="accent2"/>
                  </a:solidFill>
                  <a:latin typeface="Calibri"/>
                </a:rPr>
                <a:t> (sero-mucous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4" name="Group 618"/>
            <p:cNvGrpSpPr/>
            <p:nvPr/>
          </p:nvGrpSpPr>
          <p:grpSpPr>
            <a:xfrm>
              <a:off x="2340720" y="717480"/>
              <a:ext cx="6765840" cy="5707080"/>
              <a:chOff x="2340720" y="717480"/>
              <a:chExt cx="6765840" cy="5707080"/>
            </a:xfrm>
          </p:grpSpPr>
          <p:grpSp>
            <p:nvGrpSpPr>
              <p:cNvPr id="1905" name="Group 48"/>
              <p:cNvGrpSpPr/>
              <p:nvPr/>
            </p:nvGrpSpPr>
            <p:grpSpPr>
              <a:xfrm>
                <a:off x="4865400" y="5190480"/>
                <a:ext cx="1471320" cy="1200240"/>
                <a:chOff x="4865400" y="5190480"/>
                <a:chExt cx="1471320" cy="1200240"/>
              </a:xfrm>
            </p:grpSpPr>
            <p:sp useBgFill="1">
              <p:nvSpPr>
                <p:cNvPr id="1906" name="Oval 3"/>
                <p:cNvSpPr/>
                <p:nvPr/>
              </p:nvSpPr>
              <p:spPr>
                <a:xfrm rot="16560000">
                  <a:off x="5216400" y="5274000"/>
                  <a:ext cx="1096560" cy="1034640"/>
                </a:xfrm>
                <a:prstGeom prst="ellipse">
                  <a:avLst/>
                </a:prstGeom>
                <a:ln w="1270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7" name="Line 4"/>
                <p:cNvSpPr/>
                <p:nvPr/>
              </p:nvSpPr>
              <p:spPr>
                <a:xfrm>
                  <a:off x="4865400" y="5970240"/>
                  <a:ext cx="390600" cy="41400"/>
                </a:xfrm>
                <a:prstGeom prst="line">
                  <a:avLst/>
                </a:prstGeom>
                <a:ln w="508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8" name="Line 5"/>
                <p:cNvSpPr/>
                <p:nvPr/>
              </p:nvSpPr>
              <p:spPr>
                <a:xfrm>
                  <a:off x="4889160" y="5422680"/>
                  <a:ext cx="425520" cy="42840"/>
                </a:xfrm>
                <a:prstGeom prst="line">
                  <a:avLst/>
                </a:prstGeom>
                <a:ln w="508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9" name="AutoShape 6"/>
                <p:cNvSpPr/>
                <p:nvPr/>
              </p:nvSpPr>
              <p:spPr>
                <a:xfrm flipH="1" flipV="1" rot="11400000">
                  <a:off x="5703840" y="5212080"/>
                  <a:ext cx="277560" cy="275760"/>
                </a:xfrm>
                <a:custGeom>
                  <a:avLst/>
                  <a:gdLst>
                    <a:gd name="textAreaLeft" fmla="*/ 57600 w 277560"/>
                    <a:gd name="textAreaRight" fmla="*/ 219960 w 277560"/>
                    <a:gd name="textAreaTop" fmla="*/ 57240 h 275760"/>
                    <a:gd name="textAreaBottom" fmla="*/ 218520 h 275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0" name="Oval 7"/>
                <p:cNvSpPr/>
                <p:nvPr/>
              </p:nvSpPr>
              <p:spPr>
                <a:xfrm rot="600000">
                  <a:off x="5787720" y="5295600"/>
                  <a:ext cx="110880" cy="1108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1" name="AutoShape 8"/>
                <p:cNvSpPr/>
                <p:nvPr/>
              </p:nvSpPr>
              <p:spPr>
                <a:xfrm flipH="1" flipV="1" rot="2940000">
                  <a:off x="5326920" y="5937120"/>
                  <a:ext cx="259920" cy="261720"/>
                </a:xfrm>
                <a:custGeom>
                  <a:avLst/>
                  <a:gdLst>
                    <a:gd name="textAreaLeft" fmla="*/ 54000 w 259920"/>
                    <a:gd name="textAreaRight" fmla="*/ 205920 w 259920"/>
                    <a:gd name="textAreaTop" fmla="*/ 54360 h 261720"/>
                    <a:gd name="textAreaBottom" fmla="*/ 207360 h 261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2" name="Oval 9"/>
                <p:cNvSpPr/>
                <p:nvPr/>
              </p:nvSpPr>
              <p:spPr>
                <a:xfrm rot="13740000">
                  <a:off x="5405400" y="6015600"/>
                  <a:ext cx="10440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3" name="AutoShape 10"/>
                <p:cNvSpPr/>
                <p:nvPr/>
              </p:nvSpPr>
              <p:spPr>
                <a:xfrm flipH="1" flipV="1" rot="1320000">
                  <a:off x="5486400" y="605772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4" name="Oval 11"/>
                <p:cNvSpPr/>
                <p:nvPr/>
              </p:nvSpPr>
              <p:spPr>
                <a:xfrm rot="12120000">
                  <a:off x="5564520" y="6135840"/>
                  <a:ext cx="10584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5" name="AutoShape 12"/>
                <p:cNvSpPr/>
                <p:nvPr/>
              </p:nvSpPr>
              <p:spPr>
                <a:xfrm flipH="1" flipV="1" rot="14100000">
                  <a:off x="6001560" y="5420880"/>
                  <a:ext cx="261720" cy="26172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360 h 261720"/>
                    <a:gd name="textAreaBottom" fmla="*/ 207360 h 261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6" name="Oval 13"/>
                <p:cNvSpPr/>
                <p:nvPr/>
              </p:nvSpPr>
              <p:spPr>
                <a:xfrm rot="3300000">
                  <a:off x="6081840" y="550044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7" name="AutoShape 14"/>
                <p:cNvSpPr/>
                <p:nvPr/>
              </p:nvSpPr>
              <p:spPr>
                <a:xfrm flipH="1" flipV="1" rot="12960000">
                  <a:off x="5879520" y="5272200"/>
                  <a:ext cx="263160" cy="261720"/>
                </a:xfrm>
                <a:custGeom>
                  <a:avLst/>
                  <a:gdLst>
                    <a:gd name="textAreaLeft" fmla="*/ 54720 w 263160"/>
                    <a:gd name="textAreaRight" fmla="*/ 208440 w 263160"/>
                    <a:gd name="textAreaTop" fmla="*/ 54360 h 261720"/>
                    <a:gd name="textAreaBottom" fmla="*/ 207360 h 261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8" name="Oval 15"/>
                <p:cNvSpPr/>
                <p:nvPr/>
              </p:nvSpPr>
              <p:spPr>
                <a:xfrm rot="2160000">
                  <a:off x="5956200" y="5349600"/>
                  <a:ext cx="10584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9" name="AutoShape 16"/>
                <p:cNvSpPr/>
                <p:nvPr/>
              </p:nvSpPr>
              <p:spPr>
                <a:xfrm flipH="1" flipV="1" rot="9660000">
                  <a:off x="5538600" y="523584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0" name="Oval 17"/>
                <p:cNvSpPr/>
                <p:nvPr/>
              </p:nvSpPr>
              <p:spPr>
                <a:xfrm rot="20460000">
                  <a:off x="5616360" y="5315040"/>
                  <a:ext cx="104400" cy="10296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1" name="AutoShape 18"/>
                <p:cNvSpPr/>
                <p:nvPr/>
              </p:nvSpPr>
              <p:spPr>
                <a:xfrm flipH="1" flipV="1" rot="7980000">
                  <a:off x="5388120" y="5356800"/>
                  <a:ext cx="259920" cy="263520"/>
                </a:xfrm>
                <a:custGeom>
                  <a:avLst/>
                  <a:gdLst>
                    <a:gd name="textAreaLeft" fmla="*/ 54000 w 259920"/>
                    <a:gd name="textAreaRight" fmla="*/ 205920 w 259920"/>
                    <a:gd name="textAreaTop" fmla="*/ 54720 h 263520"/>
                    <a:gd name="textAreaBottom" fmla="*/ 208800 h 26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2" name="Oval 19"/>
                <p:cNvSpPr/>
                <p:nvPr/>
              </p:nvSpPr>
              <p:spPr>
                <a:xfrm rot="18780000">
                  <a:off x="5465520" y="5435640"/>
                  <a:ext cx="10584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3" name="AutoShape 20"/>
                <p:cNvSpPr/>
                <p:nvPr/>
              </p:nvSpPr>
              <p:spPr>
                <a:xfrm flipH="1" flipV="1" rot="15600000">
                  <a:off x="6051240" y="560016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4" name="Oval 21"/>
                <p:cNvSpPr/>
                <p:nvPr/>
              </p:nvSpPr>
              <p:spPr>
                <a:xfrm rot="4800000">
                  <a:off x="6129360" y="567828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5" name="AutoShape 22"/>
                <p:cNvSpPr/>
                <p:nvPr/>
              </p:nvSpPr>
              <p:spPr>
                <a:xfrm flipH="1" flipV="1" rot="17040000">
                  <a:off x="6031800" y="5770800"/>
                  <a:ext cx="264600" cy="263160"/>
                </a:xfrm>
                <a:custGeom>
                  <a:avLst/>
                  <a:gdLst>
                    <a:gd name="textAreaLeft" fmla="*/ 55080 w 264600"/>
                    <a:gd name="textAreaRight" fmla="*/ 209520 w 26460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6" name="Oval 23"/>
                <p:cNvSpPr/>
                <p:nvPr/>
              </p:nvSpPr>
              <p:spPr>
                <a:xfrm rot="6240000">
                  <a:off x="6112080" y="5848560"/>
                  <a:ext cx="104400" cy="1058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7" name="AutoShape 24"/>
                <p:cNvSpPr/>
                <p:nvPr/>
              </p:nvSpPr>
              <p:spPr>
                <a:xfrm flipH="1" flipV="1" rot="18360000">
                  <a:off x="5968080" y="5913360"/>
                  <a:ext cx="261720" cy="23760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49320 h 237600"/>
                    <a:gd name="textAreaBottom" fmla="*/ 188280 h 23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8" name="Oval 25"/>
                <p:cNvSpPr/>
                <p:nvPr/>
              </p:nvSpPr>
              <p:spPr>
                <a:xfrm rot="7560000">
                  <a:off x="6046920" y="5984640"/>
                  <a:ext cx="105840" cy="950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9" name="AutoShape 26"/>
                <p:cNvSpPr/>
                <p:nvPr/>
              </p:nvSpPr>
              <p:spPr>
                <a:xfrm flipH="1" flipV="1" rot="20160000">
                  <a:off x="5834880" y="6022800"/>
                  <a:ext cx="261720" cy="263160"/>
                </a:xfrm>
                <a:custGeom>
                  <a:avLst/>
                  <a:gdLst>
                    <a:gd name="textAreaLeft" fmla="*/ 54360 w 261720"/>
                    <a:gd name="textAreaRight" fmla="*/ 207360 w 2617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0" name="Oval 27"/>
                <p:cNvSpPr/>
                <p:nvPr/>
              </p:nvSpPr>
              <p:spPr>
                <a:xfrm rot="9360000">
                  <a:off x="5913720" y="6102720"/>
                  <a:ext cx="104400" cy="109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1" name="AutoShape 28"/>
                <p:cNvSpPr/>
                <p:nvPr/>
              </p:nvSpPr>
              <p:spPr>
                <a:xfrm flipH="1" flipV="1" rot="180000">
                  <a:off x="5657760" y="6075360"/>
                  <a:ext cx="259920" cy="263160"/>
                </a:xfrm>
                <a:custGeom>
                  <a:avLst/>
                  <a:gdLst>
                    <a:gd name="textAreaLeft" fmla="*/ 54000 w 259920"/>
                    <a:gd name="textAreaRight" fmla="*/ 205920 w 259920"/>
                    <a:gd name="textAreaTop" fmla="*/ 54720 h 263160"/>
                    <a:gd name="textAreaBottom" fmla="*/ 208440 h 26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2" name="Oval 29"/>
                <p:cNvSpPr/>
                <p:nvPr/>
              </p:nvSpPr>
              <p:spPr>
                <a:xfrm rot="10980000">
                  <a:off x="5735880" y="615492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3" name="AutoShape 30"/>
                <p:cNvSpPr/>
                <p:nvPr/>
              </p:nvSpPr>
              <p:spPr>
                <a:xfrm rot="16560000">
                  <a:off x="5054400" y="5473440"/>
                  <a:ext cx="156960" cy="15696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4" name="Oval 31"/>
                <p:cNvSpPr/>
                <p:nvPr/>
              </p:nvSpPr>
              <p:spPr>
                <a:xfrm rot="240000">
                  <a:off x="5114880" y="5479560"/>
                  <a:ext cx="95040" cy="9324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35" name="Group 34"/>
                <p:cNvGrpSpPr/>
                <p:nvPr/>
              </p:nvGrpSpPr>
              <p:grpSpPr>
                <a:xfrm>
                  <a:off x="4908600" y="5451840"/>
                  <a:ext cx="172440" cy="172800"/>
                  <a:chOff x="4908600" y="5451840"/>
                  <a:chExt cx="172440" cy="172800"/>
                </a:xfrm>
              </p:grpSpPr>
              <p:sp>
                <p:nvSpPr>
                  <p:cNvPr id="1936" name="AutoShape 32"/>
                  <p:cNvSpPr/>
                  <p:nvPr/>
                </p:nvSpPr>
                <p:spPr>
                  <a:xfrm rot="16560000">
                    <a:off x="4916160" y="5459400"/>
                    <a:ext cx="156960" cy="15696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37" name="Oval 33"/>
                  <p:cNvSpPr/>
                  <p:nvPr/>
                </p:nvSpPr>
                <p:spPr>
                  <a:xfrm rot="240000">
                    <a:off x="4978080" y="5463720"/>
                    <a:ext cx="95040" cy="95040"/>
                  </a:xfrm>
                  <a:prstGeom prst="ellipse">
                    <a:avLst/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38" name="AutoShape 35"/>
                <p:cNvSpPr/>
                <p:nvPr/>
              </p:nvSpPr>
              <p:spPr>
                <a:xfrm rot="16560000">
                  <a:off x="5187600" y="5486760"/>
                  <a:ext cx="158400" cy="15840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9" name="Oval 36"/>
                <p:cNvSpPr/>
                <p:nvPr/>
              </p:nvSpPr>
              <p:spPr>
                <a:xfrm rot="240000">
                  <a:off x="5249520" y="5493960"/>
                  <a:ext cx="95040" cy="9324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40" name="Group 39"/>
                <p:cNvGrpSpPr/>
                <p:nvPr/>
              </p:nvGrpSpPr>
              <p:grpSpPr>
                <a:xfrm>
                  <a:off x="4872960" y="5793840"/>
                  <a:ext cx="172440" cy="171720"/>
                  <a:chOff x="4872960" y="5793840"/>
                  <a:chExt cx="172440" cy="171720"/>
                </a:xfrm>
              </p:grpSpPr>
              <p:sp>
                <p:nvSpPr>
                  <p:cNvPr id="1941" name="AutoShape 37"/>
                  <p:cNvSpPr/>
                  <p:nvPr/>
                </p:nvSpPr>
                <p:spPr>
                  <a:xfrm rot="16560000">
                    <a:off x="4881240" y="5800680"/>
                    <a:ext cx="155160" cy="15696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42" name="Oval 38"/>
                  <p:cNvSpPr/>
                  <p:nvPr/>
                </p:nvSpPr>
                <p:spPr>
                  <a:xfrm flipH="1" rot="11280000">
                    <a:off x="4936680" y="5862960"/>
                    <a:ext cx="93240" cy="96480"/>
                  </a:xfrm>
                  <a:prstGeom prst="ellipse">
                    <a:avLst/>
                  </a:prstGeom>
                  <a:solidFill>
                    <a:schemeClr val="hlink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43" name="AutoShape 40"/>
                <p:cNvSpPr/>
                <p:nvPr/>
              </p:nvSpPr>
              <p:spPr>
                <a:xfrm rot="16560000">
                  <a:off x="5017680" y="5815080"/>
                  <a:ext cx="156960" cy="15840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4" name="Oval 41"/>
                <p:cNvSpPr/>
                <p:nvPr/>
              </p:nvSpPr>
              <p:spPr>
                <a:xfrm flipH="1" rot="11280000">
                  <a:off x="5072040" y="5878080"/>
                  <a:ext cx="95040" cy="9540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5" name="AutoShape 42"/>
                <p:cNvSpPr/>
                <p:nvPr/>
              </p:nvSpPr>
              <p:spPr>
                <a:xfrm rot="16560000">
                  <a:off x="5152680" y="5829480"/>
                  <a:ext cx="158400" cy="158400"/>
                </a:xfrm>
                <a:prstGeom prst="roundRect">
                  <a:avLst>
                    <a:gd name="adj" fmla="val 12495"/>
                  </a:avLst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6" name="Oval 43"/>
                <p:cNvSpPr/>
                <p:nvPr/>
              </p:nvSpPr>
              <p:spPr>
                <a:xfrm flipH="1" rot="11280000">
                  <a:off x="5209560" y="5894280"/>
                  <a:ext cx="96480" cy="93240"/>
                </a:xfrm>
                <a:prstGeom prst="ellipse">
                  <a:avLst/>
                </a:prstGeom>
                <a:solidFill>
                  <a:schemeClr val="hlink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7" name="Line 44"/>
                <p:cNvSpPr/>
                <p:nvPr/>
              </p:nvSpPr>
              <p:spPr>
                <a:xfrm flipV="1">
                  <a:off x="5224320" y="5632200"/>
                  <a:ext cx="20520" cy="204840"/>
                </a:xfrm>
                <a:prstGeom prst="line">
                  <a:avLst/>
                </a:prstGeom>
                <a:ln w="12700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8" name="Line 45"/>
                <p:cNvSpPr/>
                <p:nvPr/>
              </p:nvSpPr>
              <p:spPr>
                <a:xfrm flipV="1">
                  <a:off x="5189400" y="5627520"/>
                  <a:ext cx="22320" cy="204840"/>
                </a:xfrm>
                <a:prstGeom prst="line">
                  <a:avLst/>
                </a:prstGeom>
                <a:ln w="12700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9" name="Freeform 46"/>
                <p:cNvSpPr/>
                <p:nvPr/>
              </p:nvSpPr>
              <p:spPr>
                <a:xfrm>
                  <a:off x="5270400" y="5843520"/>
                  <a:ext cx="232920" cy="205920"/>
                </a:xfrm>
                <a:custGeom>
                  <a:avLst/>
                  <a:gdLst>
                    <a:gd name="textAreaLeft" fmla="*/ 0 w 232920"/>
                    <a:gd name="textAreaRight" fmla="*/ 233280 w 23292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147" h="130">
                      <a:moveTo>
                        <a:pt x="0" y="129"/>
                      </a:moveTo>
                      <a:lnTo>
                        <a:pt x="10" y="110"/>
                      </a:lnTo>
                      <a:lnTo>
                        <a:pt x="12" y="94"/>
                      </a:lnTo>
                      <a:lnTo>
                        <a:pt x="14" y="81"/>
                      </a:lnTo>
                      <a:lnTo>
                        <a:pt x="15" y="65"/>
                      </a:lnTo>
                      <a:lnTo>
                        <a:pt x="22" y="46"/>
                      </a:lnTo>
                      <a:lnTo>
                        <a:pt x="23" y="32"/>
                      </a:lnTo>
                      <a:lnTo>
                        <a:pt x="25" y="17"/>
                      </a:lnTo>
                      <a:lnTo>
                        <a:pt x="31" y="3"/>
                      </a:lnTo>
                      <a:lnTo>
                        <a:pt x="47" y="0"/>
                      </a:lnTo>
                      <a:lnTo>
                        <a:pt x="61" y="6"/>
                      </a:lnTo>
                      <a:lnTo>
                        <a:pt x="74" y="18"/>
                      </a:lnTo>
                      <a:lnTo>
                        <a:pt x="89" y="28"/>
                      </a:lnTo>
                      <a:lnTo>
                        <a:pt x="102" y="36"/>
                      </a:lnTo>
                      <a:lnTo>
                        <a:pt x="117" y="42"/>
                      </a:lnTo>
                      <a:lnTo>
                        <a:pt x="132" y="44"/>
                      </a:lnTo>
                      <a:lnTo>
                        <a:pt x="146" y="50"/>
                      </a:lnTo>
                      <a:lnTo>
                        <a:pt x="145" y="64"/>
                      </a:lnTo>
                      <a:lnTo>
                        <a:pt x="128" y="73"/>
                      </a:lnTo>
                      <a:lnTo>
                        <a:pt x="113" y="75"/>
                      </a:lnTo>
                      <a:lnTo>
                        <a:pt x="98" y="84"/>
                      </a:lnTo>
                      <a:lnTo>
                        <a:pt x="82" y="92"/>
                      </a:lnTo>
                      <a:lnTo>
                        <a:pt x="70" y="106"/>
                      </a:lnTo>
                      <a:lnTo>
                        <a:pt x="54" y="113"/>
                      </a:lnTo>
                      <a:lnTo>
                        <a:pt x="39" y="122"/>
                      </a:lnTo>
                      <a:lnTo>
                        <a:pt x="24" y="126"/>
                      </a:lnTo>
                      <a:lnTo>
                        <a:pt x="0" y="129"/>
                      </a:lnTo>
                      <a:lnTo>
                        <a:pt x="0" y="129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0" name="Freeform 47"/>
                <p:cNvSpPr/>
                <p:nvPr/>
              </p:nvSpPr>
              <p:spPr>
                <a:xfrm>
                  <a:off x="5338800" y="5518080"/>
                  <a:ext cx="234720" cy="126720"/>
                </a:xfrm>
                <a:custGeom>
                  <a:avLst/>
                  <a:gdLst>
                    <a:gd name="textAreaLeft" fmla="*/ 0 w 234720"/>
                    <a:gd name="textAreaRight" fmla="*/ 235080 w 234720"/>
                    <a:gd name="textAreaTop" fmla="*/ 0 h 126720"/>
                    <a:gd name="textAreaBottom" fmla="*/ 127080 h 126720"/>
                  </a:gdLst>
                  <a:ahLst/>
                  <a:rect l="textAreaLeft" t="textAreaTop" r="textAreaRight" b="textAreaBottom"/>
                  <a:pathLst>
                    <a:path w="148" h="80">
                      <a:moveTo>
                        <a:pt x="5" y="77"/>
                      </a:moveTo>
                      <a:lnTo>
                        <a:pt x="0" y="51"/>
                      </a:lnTo>
                      <a:lnTo>
                        <a:pt x="1" y="36"/>
                      </a:lnTo>
                      <a:lnTo>
                        <a:pt x="3" y="21"/>
                      </a:lnTo>
                      <a:lnTo>
                        <a:pt x="4" y="8"/>
                      </a:lnTo>
                      <a:lnTo>
                        <a:pt x="20" y="0"/>
                      </a:lnTo>
                      <a:lnTo>
                        <a:pt x="35" y="0"/>
                      </a:lnTo>
                      <a:lnTo>
                        <a:pt x="54" y="8"/>
                      </a:lnTo>
                      <a:lnTo>
                        <a:pt x="68" y="14"/>
                      </a:lnTo>
                      <a:lnTo>
                        <a:pt x="82" y="26"/>
                      </a:lnTo>
                      <a:lnTo>
                        <a:pt x="96" y="26"/>
                      </a:lnTo>
                      <a:lnTo>
                        <a:pt x="110" y="37"/>
                      </a:lnTo>
                      <a:lnTo>
                        <a:pt x="129" y="49"/>
                      </a:lnTo>
                      <a:lnTo>
                        <a:pt x="143" y="56"/>
                      </a:lnTo>
                      <a:lnTo>
                        <a:pt x="147" y="70"/>
                      </a:lnTo>
                      <a:lnTo>
                        <a:pt x="131" y="75"/>
                      </a:lnTo>
                      <a:lnTo>
                        <a:pt x="117" y="73"/>
                      </a:lnTo>
                      <a:lnTo>
                        <a:pt x="101" y="71"/>
                      </a:lnTo>
                      <a:lnTo>
                        <a:pt x="87" y="70"/>
                      </a:lnTo>
                      <a:lnTo>
                        <a:pt x="72" y="73"/>
                      </a:lnTo>
                      <a:lnTo>
                        <a:pt x="56" y="71"/>
                      </a:lnTo>
                      <a:lnTo>
                        <a:pt x="42" y="74"/>
                      </a:lnTo>
                      <a:lnTo>
                        <a:pt x="27" y="79"/>
                      </a:lnTo>
                      <a:lnTo>
                        <a:pt x="5" y="77"/>
                      </a:lnTo>
                      <a:lnTo>
                        <a:pt x="5" y="77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51" name="Group 78"/>
              <p:cNvGrpSpPr/>
              <p:nvPr/>
            </p:nvGrpSpPr>
            <p:grpSpPr>
              <a:xfrm>
                <a:off x="6413760" y="5304600"/>
                <a:ext cx="1164960" cy="1119960"/>
                <a:chOff x="6413760" y="5304600"/>
                <a:chExt cx="1164960" cy="1119960"/>
              </a:xfrm>
            </p:grpSpPr>
            <p:sp useBgFill="1">
              <p:nvSpPr>
                <p:cNvPr id="1952" name="Oval 49"/>
                <p:cNvSpPr/>
                <p:nvPr/>
              </p:nvSpPr>
              <p:spPr>
                <a:xfrm>
                  <a:off x="6438960" y="5338800"/>
                  <a:ext cx="1093320" cy="1033200"/>
                </a:xfrm>
                <a:prstGeom prst="ellipse">
                  <a:avLst/>
                </a:prstGeom>
                <a:ln w="127000">
                  <a:solidFill>
                    <a:srgbClr val="ffcc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3" name="AutoShape 50"/>
                <p:cNvSpPr/>
                <p:nvPr/>
              </p:nvSpPr>
              <p:spPr>
                <a:xfrm flipH="1" flipV="1" rot="16440000">
                  <a:off x="7268040" y="5686560"/>
                  <a:ext cx="242640" cy="361440"/>
                </a:xfrm>
                <a:custGeom>
                  <a:avLst/>
                  <a:gdLst>
                    <a:gd name="textAreaLeft" fmla="*/ 50400 w 242640"/>
                    <a:gd name="textAreaRight" fmla="*/ 192240 w 242640"/>
                    <a:gd name="textAreaTop" fmla="*/ 75240 h 361440"/>
                    <a:gd name="textAreaBottom" fmla="*/ 286200 h 36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4" name="Oval 51"/>
                <p:cNvSpPr/>
                <p:nvPr/>
              </p:nvSpPr>
              <p:spPr>
                <a:xfrm rot="5640000">
                  <a:off x="7377480" y="5830560"/>
                  <a:ext cx="109080" cy="1108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5" name="AutoShape 52"/>
                <p:cNvSpPr/>
                <p:nvPr/>
              </p:nvSpPr>
              <p:spPr>
                <a:xfrm flipH="1" flipV="1" rot="7980000">
                  <a:off x="6580080" y="5439600"/>
                  <a:ext cx="245880" cy="342720"/>
                </a:xfrm>
                <a:custGeom>
                  <a:avLst/>
                  <a:gdLst>
                    <a:gd name="textAreaLeft" fmla="*/ 51120 w 245880"/>
                    <a:gd name="textAreaRight" fmla="*/ 194760 w 245880"/>
                    <a:gd name="textAreaTop" fmla="*/ 71280 h 342720"/>
                    <a:gd name="textAreaBottom" fmla="*/ 271440 h 342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6" name="Oval 53"/>
                <p:cNvSpPr/>
                <p:nvPr/>
              </p:nvSpPr>
              <p:spPr>
                <a:xfrm rot="18780000">
                  <a:off x="6625800" y="5526000"/>
                  <a:ext cx="10296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7" name="AutoShape 54"/>
                <p:cNvSpPr/>
                <p:nvPr/>
              </p:nvSpPr>
              <p:spPr>
                <a:xfrm flipH="1" flipV="1" rot="6360000">
                  <a:off x="6532200" y="5555520"/>
                  <a:ext cx="258480" cy="442440"/>
                </a:xfrm>
                <a:custGeom>
                  <a:avLst/>
                  <a:gdLst>
                    <a:gd name="textAreaLeft" fmla="*/ 53640 w 258480"/>
                    <a:gd name="textAreaRight" fmla="*/ 204840 w 258480"/>
                    <a:gd name="textAreaTop" fmla="*/ 92160 h 442440"/>
                    <a:gd name="textAreaBottom" fmla="*/ 350280 h 442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8" name="Oval 55"/>
                <p:cNvSpPr/>
                <p:nvPr/>
              </p:nvSpPr>
              <p:spPr>
                <a:xfrm rot="17160000">
                  <a:off x="6522840" y="569772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9" name="AutoShape 56"/>
                <p:cNvSpPr/>
                <p:nvPr/>
              </p:nvSpPr>
              <p:spPr>
                <a:xfrm flipH="1" flipV="1" rot="19140000">
                  <a:off x="7184520" y="5886360"/>
                  <a:ext cx="137880" cy="416880"/>
                </a:xfrm>
                <a:custGeom>
                  <a:avLst/>
                  <a:gdLst>
                    <a:gd name="textAreaLeft" fmla="*/ 28440 w 137880"/>
                    <a:gd name="textAreaRight" fmla="*/ 109080 w 137880"/>
                    <a:gd name="textAreaTop" fmla="*/ 86760 h 416880"/>
                    <a:gd name="textAreaBottom" fmla="*/ 330120 h 416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0" name="AutoShape 57"/>
                <p:cNvSpPr/>
                <p:nvPr/>
              </p:nvSpPr>
              <p:spPr>
                <a:xfrm flipH="1" flipV="1" rot="18000000">
                  <a:off x="7234920" y="5783400"/>
                  <a:ext cx="167760" cy="490320"/>
                </a:xfrm>
                <a:custGeom>
                  <a:avLst/>
                  <a:gdLst>
                    <a:gd name="textAreaLeft" fmla="*/ 34920 w 167760"/>
                    <a:gd name="textAreaRight" fmla="*/ 132840 w 167760"/>
                    <a:gd name="textAreaTop" fmla="*/ 101880 h 490320"/>
                    <a:gd name="textAreaBottom" fmla="*/ 388440 h 490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1" name="Oval 58"/>
                <p:cNvSpPr/>
                <p:nvPr/>
              </p:nvSpPr>
              <p:spPr>
                <a:xfrm rot="7200000">
                  <a:off x="7345440" y="600552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2" name="AutoShape 59"/>
                <p:cNvSpPr/>
                <p:nvPr/>
              </p:nvSpPr>
              <p:spPr>
                <a:xfrm flipH="1" flipV="1" rot="14700000">
                  <a:off x="7221960" y="5527080"/>
                  <a:ext cx="217440" cy="388440"/>
                </a:xfrm>
                <a:custGeom>
                  <a:avLst/>
                  <a:gdLst>
                    <a:gd name="textAreaLeft" fmla="*/ 45360 w 217440"/>
                    <a:gd name="textAreaRight" fmla="*/ 172080 w 217440"/>
                    <a:gd name="textAreaTop" fmla="*/ 80640 h 388440"/>
                    <a:gd name="textAreaBottom" fmla="*/ 307440 h 388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3" name="Oval 60"/>
                <p:cNvSpPr/>
                <p:nvPr/>
              </p:nvSpPr>
              <p:spPr>
                <a:xfrm rot="3900000">
                  <a:off x="7345440" y="566244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4" name="AutoShape 61"/>
                <p:cNvSpPr/>
                <p:nvPr/>
              </p:nvSpPr>
              <p:spPr>
                <a:xfrm flipH="1" flipV="1" rot="13020000">
                  <a:off x="7081920" y="5426280"/>
                  <a:ext cx="244080" cy="429840"/>
                </a:xfrm>
                <a:custGeom>
                  <a:avLst/>
                  <a:gdLst>
                    <a:gd name="textAreaLeft" fmla="*/ 50760 w 244080"/>
                    <a:gd name="textAreaRight" fmla="*/ 193320 w 244080"/>
                    <a:gd name="textAreaTop" fmla="*/ 89280 h 429840"/>
                    <a:gd name="textAreaBottom" fmla="*/ 340560 h 429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5" name="AutoShape 62"/>
                <p:cNvSpPr/>
                <p:nvPr/>
              </p:nvSpPr>
              <p:spPr>
                <a:xfrm flipH="1" flipV="1" rot="20640000">
                  <a:off x="6926760" y="5931720"/>
                  <a:ext cx="355320" cy="452160"/>
                </a:xfrm>
                <a:custGeom>
                  <a:avLst/>
                  <a:gdLst>
                    <a:gd name="textAreaLeft" fmla="*/ 73800 w 355320"/>
                    <a:gd name="textAreaRight" fmla="*/ 281520 w 355320"/>
                    <a:gd name="textAreaTop" fmla="*/ 93960 h 452160"/>
                    <a:gd name="textAreaBottom" fmla="*/ 358200 h 452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6" name="Oval 63"/>
                <p:cNvSpPr/>
                <p:nvPr/>
              </p:nvSpPr>
              <p:spPr>
                <a:xfrm rot="9840000">
                  <a:off x="7037640" y="6212160"/>
                  <a:ext cx="104400" cy="1044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7" name="AutoShape 64"/>
                <p:cNvSpPr/>
                <p:nvPr/>
              </p:nvSpPr>
              <p:spPr>
                <a:xfrm flipH="1" flipV="1" rot="480000">
                  <a:off x="6791760" y="6030000"/>
                  <a:ext cx="302760" cy="367920"/>
                </a:xfrm>
                <a:custGeom>
                  <a:avLst/>
                  <a:gdLst>
                    <a:gd name="textAreaLeft" fmla="*/ 63000 w 302760"/>
                    <a:gd name="textAreaRight" fmla="*/ 239760 w 302760"/>
                    <a:gd name="textAreaTop" fmla="*/ 76680 h 367920"/>
                    <a:gd name="textAreaBottom" fmla="*/ 291240 h 367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8" name="AutoShape 65"/>
                <p:cNvSpPr/>
                <p:nvPr/>
              </p:nvSpPr>
              <p:spPr>
                <a:xfrm flipH="1" flipV="1" rot="1800000">
                  <a:off x="6649920" y="6094440"/>
                  <a:ext cx="262080" cy="236160"/>
                </a:xfrm>
                <a:custGeom>
                  <a:avLst/>
                  <a:gdLst>
                    <a:gd name="textAreaLeft" fmla="*/ 54360 w 262080"/>
                    <a:gd name="textAreaRight" fmla="*/ 207720 w 262080"/>
                    <a:gd name="textAreaTop" fmla="*/ 48960 h 236160"/>
                    <a:gd name="textAreaBottom" fmla="*/ 187200 h 236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9" name="Oval 66"/>
                <p:cNvSpPr/>
                <p:nvPr/>
              </p:nvSpPr>
              <p:spPr>
                <a:xfrm rot="12600000">
                  <a:off x="6728040" y="6166080"/>
                  <a:ext cx="104400" cy="932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0" name="AutoShape 67"/>
                <p:cNvSpPr/>
                <p:nvPr/>
              </p:nvSpPr>
              <p:spPr>
                <a:xfrm flipH="1" flipV="1" rot="3600000">
                  <a:off x="6603120" y="5847480"/>
                  <a:ext cx="236160" cy="428400"/>
                </a:xfrm>
                <a:custGeom>
                  <a:avLst/>
                  <a:gdLst>
                    <a:gd name="textAreaLeft" fmla="*/ 48960 w 236160"/>
                    <a:gd name="textAreaRight" fmla="*/ 187200 w 236160"/>
                    <a:gd name="textAreaTop" fmla="*/ 89280 h 428400"/>
                    <a:gd name="textAreaBottom" fmla="*/ 339120 h 428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1" name="AutoShape 68"/>
                <p:cNvSpPr/>
                <p:nvPr/>
              </p:nvSpPr>
              <p:spPr>
                <a:xfrm flipH="1" flipV="1" rot="5220000">
                  <a:off x="6485760" y="5677920"/>
                  <a:ext cx="325080" cy="412560"/>
                </a:xfrm>
                <a:custGeom>
                  <a:avLst/>
                  <a:gdLst>
                    <a:gd name="textAreaLeft" fmla="*/ 67680 w 325080"/>
                    <a:gd name="textAreaRight" fmla="*/ 257400 w 325080"/>
                    <a:gd name="textAreaTop" fmla="*/ 85680 h 412560"/>
                    <a:gd name="textAreaBottom" fmla="*/ 326880 h 412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w="127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2" name="Oval 69"/>
                <p:cNvSpPr/>
                <p:nvPr/>
              </p:nvSpPr>
              <p:spPr>
                <a:xfrm rot="16020000">
                  <a:off x="6559200" y="5816520"/>
                  <a:ext cx="115560" cy="19008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3" name="Freeform 70"/>
                <p:cNvSpPr/>
                <p:nvPr/>
              </p:nvSpPr>
              <p:spPr>
                <a:xfrm>
                  <a:off x="7091280" y="5410080"/>
                  <a:ext cx="126720" cy="23616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236160"/>
                    <a:gd name="textAreaBottom" fmla="*/ 236520 h 236160"/>
                  </a:gdLst>
                  <a:ahLst/>
                  <a:rect l="textAreaLeft" t="textAreaTop" r="textAreaRight" b="textAreaBottom"/>
                  <a:pathLst>
                    <a:path w="80" h="149">
                      <a:moveTo>
                        <a:pt x="0" y="8"/>
                      </a:moveTo>
                      <a:lnTo>
                        <a:pt x="25" y="0"/>
                      </a:lnTo>
                      <a:lnTo>
                        <a:pt x="40" y="0"/>
                      </a:lnTo>
                      <a:lnTo>
                        <a:pt x="54" y="0"/>
                      </a:lnTo>
                      <a:lnTo>
                        <a:pt x="69" y="0"/>
                      </a:lnTo>
                      <a:lnTo>
                        <a:pt x="79" y="14"/>
                      </a:lnTo>
                      <a:lnTo>
                        <a:pt x="79" y="29"/>
                      </a:lnTo>
                      <a:lnTo>
                        <a:pt x="74" y="49"/>
                      </a:lnTo>
                      <a:lnTo>
                        <a:pt x="69" y="64"/>
                      </a:lnTo>
                      <a:lnTo>
                        <a:pt x="59" y="79"/>
                      </a:lnTo>
                      <a:lnTo>
                        <a:pt x="59" y="93"/>
                      </a:lnTo>
                      <a:lnTo>
                        <a:pt x="49" y="108"/>
                      </a:lnTo>
                      <a:lnTo>
                        <a:pt x="40" y="128"/>
                      </a:lnTo>
                      <a:lnTo>
                        <a:pt x="35" y="143"/>
                      </a:lnTo>
                      <a:lnTo>
                        <a:pt x="20" y="148"/>
                      </a:lnTo>
                      <a:lnTo>
                        <a:pt x="15" y="133"/>
                      </a:lnTo>
                      <a:lnTo>
                        <a:pt x="15" y="118"/>
                      </a:lnTo>
                      <a:lnTo>
                        <a:pt x="15" y="103"/>
                      </a:lnTo>
                      <a:lnTo>
                        <a:pt x="15" y="88"/>
                      </a:lnTo>
                      <a:lnTo>
                        <a:pt x="10" y="74"/>
                      </a:lnTo>
                      <a:lnTo>
                        <a:pt x="10" y="59"/>
                      </a:lnTo>
                      <a:lnTo>
                        <a:pt x="5" y="44"/>
                      </a:lnTo>
                      <a:lnTo>
                        <a:pt x="0" y="29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4" name="Freeform 71"/>
                <p:cNvSpPr/>
                <p:nvPr/>
              </p:nvSpPr>
              <p:spPr>
                <a:xfrm>
                  <a:off x="6678720" y="5389560"/>
                  <a:ext cx="212400" cy="218880"/>
                </a:xfrm>
                <a:custGeom>
                  <a:avLst/>
                  <a:gdLst>
                    <a:gd name="textAreaLeft" fmla="*/ 0 w 212400"/>
                    <a:gd name="textAreaRight" fmla="*/ 212760 w 21240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134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34" y="8"/>
                      </a:lnTo>
                      <a:lnTo>
                        <a:pt x="49" y="8"/>
                      </a:lnTo>
                      <a:lnTo>
                        <a:pt x="64" y="8"/>
                      </a:lnTo>
                      <a:lnTo>
                        <a:pt x="83" y="13"/>
                      </a:lnTo>
                      <a:lnTo>
                        <a:pt x="98" y="13"/>
                      </a:lnTo>
                      <a:lnTo>
                        <a:pt x="113" y="13"/>
                      </a:lnTo>
                      <a:lnTo>
                        <a:pt x="128" y="18"/>
                      </a:lnTo>
                      <a:lnTo>
                        <a:pt x="133" y="33"/>
                      </a:lnTo>
                      <a:lnTo>
                        <a:pt x="128" y="47"/>
                      </a:lnTo>
                      <a:lnTo>
                        <a:pt x="118" y="62"/>
                      </a:lnTo>
                      <a:lnTo>
                        <a:pt x="108" y="77"/>
                      </a:lnTo>
                      <a:lnTo>
                        <a:pt x="103" y="92"/>
                      </a:lnTo>
                      <a:lnTo>
                        <a:pt x="98" y="107"/>
                      </a:lnTo>
                      <a:lnTo>
                        <a:pt x="98" y="122"/>
                      </a:lnTo>
                      <a:lnTo>
                        <a:pt x="93" y="137"/>
                      </a:lnTo>
                      <a:lnTo>
                        <a:pt x="78" y="137"/>
                      </a:lnTo>
                      <a:lnTo>
                        <a:pt x="68" y="122"/>
                      </a:lnTo>
                      <a:lnTo>
                        <a:pt x="64" y="107"/>
                      </a:lnTo>
                      <a:lnTo>
                        <a:pt x="54" y="92"/>
                      </a:lnTo>
                      <a:lnTo>
                        <a:pt x="44" y="77"/>
                      </a:lnTo>
                      <a:lnTo>
                        <a:pt x="29" y="67"/>
                      </a:lnTo>
                      <a:lnTo>
                        <a:pt x="19" y="52"/>
                      </a:lnTo>
                      <a:lnTo>
                        <a:pt x="9" y="37"/>
                      </a:lnTo>
                      <a:lnTo>
                        <a:pt x="4" y="2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pattFill prst="openDmnd">
                  <a:fgClr>
                    <a:srgbClr val="0066cc"/>
                  </a:fgClr>
                  <a:bgClr>
                    <a:srgbClr val="ffffff"/>
                  </a:bgClr>
                </a:patt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75" name="Group 74"/>
                <p:cNvGrpSpPr/>
                <p:nvPr/>
              </p:nvGrpSpPr>
              <p:grpSpPr>
                <a:xfrm>
                  <a:off x="6832440" y="5304600"/>
                  <a:ext cx="361800" cy="384480"/>
                  <a:chOff x="6832440" y="5304600"/>
                  <a:chExt cx="361800" cy="384480"/>
                </a:xfrm>
              </p:grpSpPr>
              <p:sp>
                <p:nvSpPr>
                  <p:cNvPr id="1976" name="AutoShape 72"/>
                  <p:cNvSpPr/>
                  <p:nvPr/>
                </p:nvSpPr>
                <p:spPr>
                  <a:xfrm flipH="1" flipV="1" rot="12180000">
                    <a:off x="6881400" y="5343480"/>
                    <a:ext cx="263160" cy="30600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63720 h 306000"/>
                      <a:gd name="textAreaBottom" fmla="*/ 242280 h 306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7" name="Oval 73"/>
                  <p:cNvSpPr/>
                  <p:nvPr/>
                </p:nvSpPr>
                <p:spPr>
                  <a:xfrm rot="1380000">
                    <a:off x="6960960" y="5433480"/>
                    <a:ext cx="104400" cy="1249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978" name="Group 77"/>
                <p:cNvGrpSpPr/>
                <p:nvPr/>
              </p:nvGrpSpPr>
              <p:grpSpPr>
                <a:xfrm>
                  <a:off x="6731640" y="5331960"/>
                  <a:ext cx="324360" cy="432360"/>
                  <a:chOff x="6731640" y="5331960"/>
                  <a:chExt cx="324360" cy="432360"/>
                </a:xfrm>
              </p:grpSpPr>
              <p:sp>
                <p:nvSpPr>
                  <p:cNvPr id="1979" name="AutoShape 75"/>
                  <p:cNvSpPr/>
                  <p:nvPr/>
                </p:nvSpPr>
                <p:spPr>
                  <a:xfrm flipV="1" rot="10560000">
                    <a:off x="6745320" y="5340960"/>
                    <a:ext cx="296640" cy="412920"/>
                  </a:xfrm>
                  <a:custGeom>
                    <a:avLst/>
                    <a:gdLst>
                      <a:gd name="textAreaLeft" fmla="*/ 61560 w 296640"/>
                      <a:gd name="textAreaRight" fmla="*/ 235080 w 296640"/>
                      <a:gd name="textAreaTop" fmla="*/ 86040 h 412920"/>
                      <a:gd name="textAreaBottom" fmla="*/ 326880 h 412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80" name="Oval 76"/>
                  <p:cNvSpPr/>
                  <p:nvPr/>
                </p:nvSpPr>
                <p:spPr>
                  <a:xfrm flipH="1" rot="21360000">
                    <a:off x="6833160" y="5463720"/>
                    <a:ext cx="118800" cy="166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981" name="Freeform 79"/>
              <p:cNvSpPr/>
              <p:nvPr/>
            </p:nvSpPr>
            <p:spPr>
              <a:xfrm>
                <a:off x="4313160" y="1017720"/>
                <a:ext cx="3557160" cy="5376600"/>
              </a:xfrm>
              <a:custGeom>
                <a:avLst/>
                <a:gdLst>
                  <a:gd name="textAreaLeft" fmla="*/ 0 w 3557160"/>
                  <a:gd name="textAreaRight" fmla="*/ 3557520 w 3557160"/>
                  <a:gd name="textAreaTop" fmla="*/ 0 h 5376600"/>
                  <a:gd name="textAreaBottom" fmla="*/ 5376960 h 5376600"/>
                </a:gdLst>
                <a:ahLst/>
                <a:rect l="textAreaLeft" t="textAreaTop" r="textAreaRight" b="textAreaBottom"/>
                <a:pathLst>
                  <a:path w="2241" h="3387">
                    <a:moveTo>
                      <a:pt x="0" y="14"/>
                    </a:moveTo>
                    <a:lnTo>
                      <a:pt x="39" y="0"/>
                    </a:lnTo>
                    <a:lnTo>
                      <a:pt x="98" y="0"/>
                    </a:lnTo>
                    <a:lnTo>
                      <a:pt x="137" y="0"/>
                    </a:lnTo>
                    <a:lnTo>
                      <a:pt x="196" y="9"/>
                    </a:lnTo>
                    <a:lnTo>
                      <a:pt x="255" y="9"/>
                    </a:lnTo>
                    <a:lnTo>
                      <a:pt x="334" y="39"/>
                    </a:lnTo>
                    <a:lnTo>
                      <a:pt x="373" y="68"/>
                    </a:lnTo>
                    <a:lnTo>
                      <a:pt x="402" y="88"/>
                    </a:lnTo>
                    <a:lnTo>
                      <a:pt x="432" y="117"/>
                    </a:lnTo>
                    <a:lnTo>
                      <a:pt x="471" y="157"/>
                    </a:lnTo>
                    <a:lnTo>
                      <a:pt x="510" y="186"/>
                    </a:lnTo>
                    <a:lnTo>
                      <a:pt x="550" y="226"/>
                    </a:lnTo>
                    <a:lnTo>
                      <a:pt x="589" y="245"/>
                    </a:lnTo>
                    <a:lnTo>
                      <a:pt x="668" y="285"/>
                    </a:lnTo>
                    <a:lnTo>
                      <a:pt x="726" y="294"/>
                    </a:lnTo>
                    <a:lnTo>
                      <a:pt x="766" y="324"/>
                    </a:lnTo>
                    <a:lnTo>
                      <a:pt x="795" y="344"/>
                    </a:lnTo>
                    <a:lnTo>
                      <a:pt x="864" y="363"/>
                    </a:lnTo>
                    <a:lnTo>
                      <a:pt x="942" y="393"/>
                    </a:lnTo>
                    <a:lnTo>
                      <a:pt x="1002" y="393"/>
                    </a:lnTo>
                    <a:lnTo>
                      <a:pt x="1080" y="402"/>
                    </a:lnTo>
                    <a:lnTo>
                      <a:pt x="1120" y="412"/>
                    </a:lnTo>
                    <a:lnTo>
                      <a:pt x="1178" y="422"/>
                    </a:lnTo>
                    <a:lnTo>
                      <a:pt x="1237" y="432"/>
                    </a:lnTo>
                    <a:lnTo>
                      <a:pt x="1296" y="442"/>
                    </a:lnTo>
                    <a:lnTo>
                      <a:pt x="1326" y="461"/>
                    </a:lnTo>
                    <a:lnTo>
                      <a:pt x="1365" y="471"/>
                    </a:lnTo>
                    <a:lnTo>
                      <a:pt x="1424" y="481"/>
                    </a:lnTo>
                    <a:lnTo>
                      <a:pt x="1463" y="511"/>
                    </a:lnTo>
                    <a:lnTo>
                      <a:pt x="1492" y="540"/>
                    </a:lnTo>
                    <a:lnTo>
                      <a:pt x="1522" y="579"/>
                    </a:lnTo>
                    <a:lnTo>
                      <a:pt x="1552" y="619"/>
                    </a:lnTo>
                    <a:lnTo>
                      <a:pt x="1581" y="658"/>
                    </a:lnTo>
                    <a:lnTo>
                      <a:pt x="1590" y="688"/>
                    </a:lnTo>
                    <a:lnTo>
                      <a:pt x="1620" y="727"/>
                    </a:lnTo>
                    <a:lnTo>
                      <a:pt x="1640" y="766"/>
                    </a:lnTo>
                    <a:lnTo>
                      <a:pt x="1670" y="796"/>
                    </a:lnTo>
                    <a:lnTo>
                      <a:pt x="1689" y="825"/>
                    </a:lnTo>
                    <a:lnTo>
                      <a:pt x="1708" y="855"/>
                    </a:lnTo>
                    <a:lnTo>
                      <a:pt x="1748" y="884"/>
                    </a:lnTo>
                    <a:lnTo>
                      <a:pt x="1778" y="914"/>
                    </a:lnTo>
                    <a:lnTo>
                      <a:pt x="1816" y="943"/>
                    </a:lnTo>
                    <a:lnTo>
                      <a:pt x="1856" y="982"/>
                    </a:lnTo>
                    <a:lnTo>
                      <a:pt x="1896" y="1012"/>
                    </a:lnTo>
                    <a:lnTo>
                      <a:pt x="1924" y="1032"/>
                    </a:lnTo>
                    <a:lnTo>
                      <a:pt x="1954" y="1061"/>
                    </a:lnTo>
                    <a:lnTo>
                      <a:pt x="1984" y="1090"/>
                    </a:lnTo>
                    <a:lnTo>
                      <a:pt x="2014" y="1110"/>
                    </a:lnTo>
                    <a:lnTo>
                      <a:pt x="2032" y="1149"/>
                    </a:lnTo>
                    <a:lnTo>
                      <a:pt x="2062" y="1179"/>
                    </a:lnTo>
                    <a:lnTo>
                      <a:pt x="2092" y="1218"/>
                    </a:lnTo>
                    <a:lnTo>
                      <a:pt x="2112" y="1258"/>
                    </a:lnTo>
                    <a:lnTo>
                      <a:pt x="2131" y="1297"/>
                    </a:lnTo>
                    <a:lnTo>
                      <a:pt x="2150" y="1326"/>
                    </a:lnTo>
                    <a:lnTo>
                      <a:pt x="2170" y="1366"/>
                    </a:lnTo>
                    <a:lnTo>
                      <a:pt x="2190" y="1405"/>
                    </a:lnTo>
                    <a:lnTo>
                      <a:pt x="2200" y="1444"/>
                    </a:lnTo>
                    <a:lnTo>
                      <a:pt x="2210" y="1484"/>
                    </a:lnTo>
                    <a:lnTo>
                      <a:pt x="2220" y="1562"/>
                    </a:lnTo>
                    <a:lnTo>
                      <a:pt x="2220" y="1641"/>
                    </a:lnTo>
                    <a:lnTo>
                      <a:pt x="2220" y="1680"/>
                    </a:lnTo>
                    <a:lnTo>
                      <a:pt x="2220" y="1710"/>
                    </a:lnTo>
                    <a:lnTo>
                      <a:pt x="2230" y="1749"/>
                    </a:lnTo>
                    <a:lnTo>
                      <a:pt x="2240" y="1788"/>
                    </a:lnTo>
                    <a:lnTo>
                      <a:pt x="2240" y="1828"/>
                    </a:lnTo>
                    <a:lnTo>
                      <a:pt x="2240" y="1867"/>
                    </a:lnTo>
                    <a:lnTo>
                      <a:pt x="2240" y="1946"/>
                    </a:lnTo>
                    <a:lnTo>
                      <a:pt x="2240" y="2024"/>
                    </a:lnTo>
                    <a:lnTo>
                      <a:pt x="2240" y="2083"/>
                    </a:lnTo>
                    <a:lnTo>
                      <a:pt x="2240" y="2162"/>
                    </a:lnTo>
                    <a:lnTo>
                      <a:pt x="2240" y="2201"/>
                    </a:lnTo>
                    <a:lnTo>
                      <a:pt x="2240" y="2230"/>
                    </a:lnTo>
                    <a:lnTo>
                      <a:pt x="2240" y="2260"/>
                    </a:lnTo>
                    <a:lnTo>
                      <a:pt x="2240" y="2299"/>
                    </a:lnTo>
                    <a:lnTo>
                      <a:pt x="2240" y="2378"/>
                    </a:lnTo>
                    <a:lnTo>
                      <a:pt x="2230" y="2456"/>
                    </a:lnTo>
                    <a:lnTo>
                      <a:pt x="2220" y="2555"/>
                    </a:lnTo>
                    <a:lnTo>
                      <a:pt x="2210" y="2653"/>
                    </a:lnTo>
                    <a:lnTo>
                      <a:pt x="2200" y="2752"/>
                    </a:lnTo>
                    <a:lnTo>
                      <a:pt x="2200" y="2810"/>
                    </a:lnTo>
                    <a:lnTo>
                      <a:pt x="2200" y="2869"/>
                    </a:lnTo>
                    <a:lnTo>
                      <a:pt x="2190" y="2899"/>
                    </a:lnTo>
                    <a:lnTo>
                      <a:pt x="2190" y="2928"/>
                    </a:lnTo>
                    <a:lnTo>
                      <a:pt x="2190" y="2968"/>
                    </a:lnTo>
                    <a:lnTo>
                      <a:pt x="2190" y="3007"/>
                    </a:lnTo>
                    <a:lnTo>
                      <a:pt x="2180" y="3036"/>
                    </a:lnTo>
                    <a:lnTo>
                      <a:pt x="2180" y="3076"/>
                    </a:lnTo>
                    <a:lnTo>
                      <a:pt x="2180" y="3105"/>
                    </a:lnTo>
                    <a:lnTo>
                      <a:pt x="2170" y="3134"/>
                    </a:lnTo>
                    <a:lnTo>
                      <a:pt x="2170" y="3164"/>
                    </a:lnTo>
                    <a:lnTo>
                      <a:pt x="2170" y="3194"/>
                    </a:lnTo>
                    <a:lnTo>
                      <a:pt x="2160" y="3252"/>
                    </a:lnTo>
                    <a:lnTo>
                      <a:pt x="2160" y="3312"/>
                    </a:lnTo>
                    <a:lnTo>
                      <a:pt x="2150" y="3341"/>
                    </a:lnTo>
                    <a:lnTo>
                      <a:pt x="2150" y="3370"/>
                    </a:lnTo>
                    <a:lnTo>
                      <a:pt x="2160" y="3386"/>
                    </a:lnTo>
                  </a:path>
                </a:pathLst>
              </a:custGeom>
              <a:noFill/>
              <a:ln cap="rnd" w="508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2" name="Freeform 80"/>
              <p:cNvSpPr/>
              <p:nvPr/>
            </p:nvSpPr>
            <p:spPr>
              <a:xfrm>
                <a:off x="4246560" y="1109520"/>
                <a:ext cx="3795480" cy="5306760"/>
              </a:xfrm>
              <a:custGeom>
                <a:avLst/>
                <a:gdLst>
                  <a:gd name="textAreaLeft" fmla="*/ 0 w 3795480"/>
                  <a:gd name="textAreaRight" fmla="*/ 3795840 w 3795480"/>
                  <a:gd name="textAreaTop" fmla="*/ 0 h 5306760"/>
                  <a:gd name="textAreaBottom" fmla="*/ 5307120 h 5306760"/>
                </a:gdLst>
                <a:ahLst/>
                <a:rect l="textAreaLeft" t="textAreaTop" r="textAreaRight" b="textAreaBottom"/>
                <a:pathLst>
                  <a:path w="2391" h="3343">
                    <a:moveTo>
                      <a:pt x="0" y="0"/>
                    </a:moveTo>
                    <a:lnTo>
                      <a:pt x="43" y="1"/>
                    </a:lnTo>
                    <a:lnTo>
                      <a:pt x="82" y="1"/>
                    </a:lnTo>
                    <a:lnTo>
                      <a:pt x="111" y="10"/>
                    </a:lnTo>
                    <a:lnTo>
                      <a:pt x="141" y="20"/>
                    </a:lnTo>
                    <a:lnTo>
                      <a:pt x="170" y="20"/>
                    </a:lnTo>
                    <a:lnTo>
                      <a:pt x="199" y="30"/>
                    </a:lnTo>
                    <a:lnTo>
                      <a:pt x="278" y="40"/>
                    </a:lnTo>
                    <a:lnTo>
                      <a:pt x="308" y="40"/>
                    </a:lnTo>
                    <a:lnTo>
                      <a:pt x="337" y="50"/>
                    </a:lnTo>
                    <a:lnTo>
                      <a:pt x="377" y="60"/>
                    </a:lnTo>
                    <a:lnTo>
                      <a:pt x="406" y="60"/>
                    </a:lnTo>
                    <a:lnTo>
                      <a:pt x="435" y="70"/>
                    </a:lnTo>
                    <a:lnTo>
                      <a:pt x="465" y="70"/>
                    </a:lnTo>
                    <a:lnTo>
                      <a:pt x="494" y="80"/>
                    </a:lnTo>
                    <a:lnTo>
                      <a:pt x="524" y="90"/>
                    </a:lnTo>
                    <a:lnTo>
                      <a:pt x="563" y="99"/>
                    </a:lnTo>
                    <a:lnTo>
                      <a:pt x="622" y="109"/>
                    </a:lnTo>
                    <a:lnTo>
                      <a:pt x="661" y="118"/>
                    </a:lnTo>
                    <a:lnTo>
                      <a:pt x="700" y="138"/>
                    </a:lnTo>
                    <a:lnTo>
                      <a:pt x="730" y="138"/>
                    </a:lnTo>
                    <a:lnTo>
                      <a:pt x="769" y="148"/>
                    </a:lnTo>
                    <a:lnTo>
                      <a:pt x="799" y="158"/>
                    </a:lnTo>
                    <a:lnTo>
                      <a:pt x="858" y="168"/>
                    </a:lnTo>
                    <a:lnTo>
                      <a:pt x="916" y="178"/>
                    </a:lnTo>
                    <a:lnTo>
                      <a:pt x="946" y="188"/>
                    </a:lnTo>
                    <a:lnTo>
                      <a:pt x="985" y="198"/>
                    </a:lnTo>
                    <a:lnTo>
                      <a:pt x="1024" y="217"/>
                    </a:lnTo>
                    <a:lnTo>
                      <a:pt x="1054" y="217"/>
                    </a:lnTo>
                    <a:lnTo>
                      <a:pt x="1093" y="236"/>
                    </a:lnTo>
                    <a:lnTo>
                      <a:pt x="1123" y="246"/>
                    </a:lnTo>
                    <a:lnTo>
                      <a:pt x="1182" y="256"/>
                    </a:lnTo>
                    <a:lnTo>
                      <a:pt x="1211" y="266"/>
                    </a:lnTo>
                    <a:lnTo>
                      <a:pt x="1290" y="286"/>
                    </a:lnTo>
                    <a:lnTo>
                      <a:pt x="1329" y="306"/>
                    </a:lnTo>
                    <a:lnTo>
                      <a:pt x="1388" y="316"/>
                    </a:lnTo>
                    <a:lnTo>
                      <a:pt x="1427" y="335"/>
                    </a:lnTo>
                    <a:lnTo>
                      <a:pt x="1456" y="344"/>
                    </a:lnTo>
                    <a:lnTo>
                      <a:pt x="1516" y="354"/>
                    </a:lnTo>
                    <a:lnTo>
                      <a:pt x="1574" y="364"/>
                    </a:lnTo>
                    <a:lnTo>
                      <a:pt x="1604" y="374"/>
                    </a:lnTo>
                    <a:lnTo>
                      <a:pt x="1643" y="394"/>
                    </a:lnTo>
                    <a:lnTo>
                      <a:pt x="1672" y="414"/>
                    </a:lnTo>
                    <a:lnTo>
                      <a:pt x="1712" y="443"/>
                    </a:lnTo>
                    <a:lnTo>
                      <a:pt x="1741" y="472"/>
                    </a:lnTo>
                    <a:lnTo>
                      <a:pt x="1761" y="512"/>
                    </a:lnTo>
                    <a:lnTo>
                      <a:pt x="1790" y="551"/>
                    </a:lnTo>
                    <a:lnTo>
                      <a:pt x="1820" y="590"/>
                    </a:lnTo>
                    <a:lnTo>
                      <a:pt x="1830" y="620"/>
                    </a:lnTo>
                    <a:lnTo>
                      <a:pt x="1859" y="650"/>
                    </a:lnTo>
                    <a:lnTo>
                      <a:pt x="1878" y="679"/>
                    </a:lnTo>
                    <a:lnTo>
                      <a:pt x="1898" y="708"/>
                    </a:lnTo>
                    <a:lnTo>
                      <a:pt x="1928" y="738"/>
                    </a:lnTo>
                    <a:lnTo>
                      <a:pt x="1938" y="767"/>
                    </a:lnTo>
                    <a:lnTo>
                      <a:pt x="1958" y="797"/>
                    </a:lnTo>
                    <a:lnTo>
                      <a:pt x="1986" y="836"/>
                    </a:lnTo>
                    <a:lnTo>
                      <a:pt x="2016" y="866"/>
                    </a:lnTo>
                    <a:lnTo>
                      <a:pt x="2046" y="895"/>
                    </a:lnTo>
                    <a:lnTo>
                      <a:pt x="2075" y="924"/>
                    </a:lnTo>
                    <a:lnTo>
                      <a:pt x="2114" y="954"/>
                    </a:lnTo>
                    <a:lnTo>
                      <a:pt x="2144" y="993"/>
                    </a:lnTo>
                    <a:lnTo>
                      <a:pt x="2174" y="1023"/>
                    </a:lnTo>
                    <a:lnTo>
                      <a:pt x="2212" y="1062"/>
                    </a:lnTo>
                    <a:lnTo>
                      <a:pt x="2242" y="1101"/>
                    </a:lnTo>
                    <a:lnTo>
                      <a:pt x="2272" y="1131"/>
                    </a:lnTo>
                    <a:lnTo>
                      <a:pt x="2291" y="1160"/>
                    </a:lnTo>
                    <a:lnTo>
                      <a:pt x="2310" y="1190"/>
                    </a:lnTo>
                    <a:lnTo>
                      <a:pt x="2340" y="1229"/>
                    </a:lnTo>
                    <a:lnTo>
                      <a:pt x="2360" y="1258"/>
                    </a:lnTo>
                    <a:lnTo>
                      <a:pt x="2370" y="1288"/>
                    </a:lnTo>
                    <a:lnTo>
                      <a:pt x="2370" y="1327"/>
                    </a:lnTo>
                    <a:lnTo>
                      <a:pt x="2380" y="1357"/>
                    </a:lnTo>
                    <a:lnTo>
                      <a:pt x="2380" y="1386"/>
                    </a:lnTo>
                    <a:lnTo>
                      <a:pt x="2380" y="1416"/>
                    </a:lnTo>
                    <a:lnTo>
                      <a:pt x="2390" y="1455"/>
                    </a:lnTo>
                    <a:lnTo>
                      <a:pt x="2390" y="1484"/>
                    </a:lnTo>
                    <a:lnTo>
                      <a:pt x="2390" y="1514"/>
                    </a:lnTo>
                    <a:lnTo>
                      <a:pt x="2390" y="1544"/>
                    </a:lnTo>
                    <a:lnTo>
                      <a:pt x="2390" y="1573"/>
                    </a:lnTo>
                    <a:lnTo>
                      <a:pt x="2380" y="1602"/>
                    </a:lnTo>
                    <a:lnTo>
                      <a:pt x="2360" y="1642"/>
                    </a:lnTo>
                    <a:lnTo>
                      <a:pt x="2350" y="1671"/>
                    </a:lnTo>
                    <a:lnTo>
                      <a:pt x="2330" y="1701"/>
                    </a:lnTo>
                    <a:lnTo>
                      <a:pt x="2310" y="1730"/>
                    </a:lnTo>
                    <a:lnTo>
                      <a:pt x="2291" y="1770"/>
                    </a:lnTo>
                    <a:lnTo>
                      <a:pt x="2262" y="1809"/>
                    </a:lnTo>
                    <a:lnTo>
                      <a:pt x="2262" y="1838"/>
                    </a:lnTo>
                    <a:lnTo>
                      <a:pt x="2252" y="1868"/>
                    </a:lnTo>
                    <a:lnTo>
                      <a:pt x="2242" y="1897"/>
                    </a:lnTo>
                    <a:lnTo>
                      <a:pt x="2232" y="1927"/>
                    </a:lnTo>
                    <a:lnTo>
                      <a:pt x="2222" y="1956"/>
                    </a:lnTo>
                    <a:lnTo>
                      <a:pt x="2222" y="1986"/>
                    </a:lnTo>
                    <a:lnTo>
                      <a:pt x="2222" y="2015"/>
                    </a:lnTo>
                    <a:lnTo>
                      <a:pt x="2222" y="2045"/>
                    </a:lnTo>
                    <a:lnTo>
                      <a:pt x="2222" y="2074"/>
                    </a:lnTo>
                    <a:lnTo>
                      <a:pt x="2222" y="2104"/>
                    </a:lnTo>
                    <a:lnTo>
                      <a:pt x="2222" y="2133"/>
                    </a:lnTo>
                    <a:lnTo>
                      <a:pt x="2222" y="2192"/>
                    </a:lnTo>
                    <a:lnTo>
                      <a:pt x="2222" y="2221"/>
                    </a:lnTo>
                    <a:lnTo>
                      <a:pt x="2222" y="2251"/>
                    </a:lnTo>
                    <a:lnTo>
                      <a:pt x="2212" y="2290"/>
                    </a:lnTo>
                    <a:lnTo>
                      <a:pt x="2212" y="2320"/>
                    </a:lnTo>
                    <a:lnTo>
                      <a:pt x="2212" y="2349"/>
                    </a:lnTo>
                    <a:lnTo>
                      <a:pt x="2202" y="2389"/>
                    </a:lnTo>
                    <a:lnTo>
                      <a:pt x="2202" y="2418"/>
                    </a:lnTo>
                    <a:lnTo>
                      <a:pt x="2202" y="2497"/>
                    </a:lnTo>
                    <a:lnTo>
                      <a:pt x="2192" y="2556"/>
                    </a:lnTo>
                    <a:lnTo>
                      <a:pt x="2192" y="2615"/>
                    </a:lnTo>
                    <a:lnTo>
                      <a:pt x="2183" y="2644"/>
                    </a:lnTo>
                    <a:lnTo>
                      <a:pt x="2183" y="2673"/>
                    </a:lnTo>
                    <a:lnTo>
                      <a:pt x="2183" y="2703"/>
                    </a:lnTo>
                    <a:lnTo>
                      <a:pt x="2174" y="2733"/>
                    </a:lnTo>
                    <a:lnTo>
                      <a:pt x="2174" y="2762"/>
                    </a:lnTo>
                    <a:lnTo>
                      <a:pt x="2174" y="2791"/>
                    </a:lnTo>
                    <a:lnTo>
                      <a:pt x="2164" y="2821"/>
                    </a:lnTo>
                    <a:lnTo>
                      <a:pt x="2164" y="2850"/>
                    </a:lnTo>
                    <a:lnTo>
                      <a:pt x="2144" y="2880"/>
                    </a:lnTo>
                    <a:lnTo>
                      <a:pt x="2144" y="2909"/>
                    </a:lnTo>
                    <a:lnTo>
                      <a:pt x="2144" y="2949"/>
                    </a:lnTo>
                    <a:lnTo>
                      <a:pt x="2144" y="3007"/>
                    </a:lnTo>
                    <a:lnTo>
                      <a:pt x="2134" y="3047"/>
                    </a:lnTo>
                    <a:lnTo>
                      <a:pt x="2134" y="3076"/>
                    </a:lnTo>
                    <a:lnTo>
                      <a:pt x="2124" y="3116"/>
                    </a:lnTo>
                    <a:lnTo>
                      <a:pt x="2124" y="3194"/>
                    </a:lnTo>
                    <a:lnTo>
                      <a:pt x="2114" y="3253"/>
                    </a:lnTo>
                    <a:lnTo>
                      <a:pt x="2104" y="3312"/>
                    </a:lnTo>
                    <a:lnTo>
                      <a:pt x="2104" y="3342"/>
                    </a:lnTo>
                    <a:lnTo>
                      <a:pt x="2116" y="3327"/>
                    </a:lnTo>
                  </a:path>
                </a:pathLst>
              </a:custGeom>
              <a:noFill/>
              <a:ln cap="rnd" w="5080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83" name="Group 617"/>
              <p:cNvGrpSpPr/>
              <p:nvPr/>
            </p:nvGrpSpPr>
            <p:grpSpPr>
              <a:xfrm>
                <a:off x="2340720" y="717480"/>
                <a:ext cx="6765840" cy="5630400"/>
                <a:chOff x="2340720" y="717480"/>
                <a:chExt cx="6765840" cy="5630400"/>
              </a:xfrm>
            </p:grpSpPr>
            <p:grpSp>
              <p:nvGrpSpPr>
                <p:cNvPr id="1984" name="Group 310"/>
                <p:cNvGrpSpPr/>
                <p:nvPr/>
              </p:nvGrpSpPr>
              <p:grpSpPr>
                <a:xfrm>
                  <a:off x="2830320" y="4213080"/>
                  <a:ext cx="1486080" cy="1556280"/>
                  <a:chOff x="2830320" y="4213080"/>
                  <a:chExt cx="1486080" cy="1556280"/>
                </a:xfrm>
              </p:grpSpPr>
              <p:sp useBgFill="1">
                <p:nvSpPr>
                  <p:cNvPr id="1985" name="Oval 81"/>
                  <p:cNvSpPr/>
                  <p:nvPr/>
                </p:nvSpPr>
                <p:spPr>
                  <a:xfrm>
                    <a:off x="2871720" y="4255920"/>
                    <a:ext cx="1393560" cy="1453680"/>
                  </a:xfrm>
                  <a:prstGeom prst="ellipse">
                    <a:avLst/>
                  </a:prstGeom>
                  <a:ln w="101600">
                    <a:solidFill>
                      <a:srgbClr val="ff99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986" name="Group 233"/>
                  <p:cNvGrpSpPr/>
                  <p:nvPr/>
                </p:nvGrpSpPr>
                <p:grpSpPr>
                  <a:xfrm>
                    <a:off x="2830320" y="4240440"/>
                    <a:ext cx="1486080" cy="1528920"/>
                    <a:chOff x="2830320" y="4240440"/>
                    <a:chExt cx="1486080" cy="1528920"/>
                  </a:xfrm>
                </p:grpSpPr>
                <p:grpSp>
                  <p:nvGrpSpPr>
                    <p:cNvPr id="1987" name="Group 91"/>
                    <p:cNvGrpSpPr/>
                    <p:nvPr/>
                  </p:nvGrpSpPr>
                  <p:grpSpPr>
                    <a:xfrm>
                      <a:off x="3382920" y="4240440"/>
                      <a:ext cx="347400" cy="414000"/>
                      <a:chOff x="3382920" y="4240440"/>
                      <a:chExt cx="347400" cy="414000"/>
                    </a:xfrm>
                  </p:grpSpPr>
                  <p:sp>
                    <p:nvSpPr>
                      <p:cNvPr id="1988" name="AutoShape 82"/>
                      <p:cNvSpPr/>
                      <p:nvPr/>
                    </p:nvSpPr>
                    <p:spPr>
                      <a:xfrm flipH="1" flipV="1" rot="10800000">
                        <a:off x="3382560" y="4240440"/>
                        <a:ext cx="347400" cy="382320"/>
                      </a:xfrm>
                      <a:custGeom>
                        <a:avLst/>
                        <a:gdLst>
                          <a:gd name="textAreaLeft" fmla="*/ 72360 w 347400"/>
                          <a:gd name="textAreaRight" fmla="*/ 275040 w 347400"/>
                          <a:gd name="textAreaTop" fmla="*/ 79560 h 382320"/>
                          <a:gd name="textAreaBottom" fmla="*/ 302760 h 3823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989" name="Group 90"/>
                      <p:cNvGrpSpPr/>
                      <p:nvPr/>
                    </p:nvGrpSpPr>
                    <p:grpSpPr>
                      <a:xfrm>
                        <a:off x="3487680" y="4587840"/>
                        <a:ext cx="136800" cy="66600"/>
                        <a:chOff x="3487680" y="4587840"/>
                        <a:chExt cx="136800" cy="66600"/>
                      </a:xfrm>
                    </p:grpSpPr>
                    <p:sp>
                      <p:nvSpPr>
                        <p:cNvPr id="1990" name="Line 83"/>
                        <p:cNvSpPr/>
                        <p:nvPr/>
                      </p:nvSpPr>
                      <p:spPr>
                        <a:xfrm>
                          <a:off x="348768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991" name="Line 84"/>
                        <p:cNvSpPr/>
                        <p:nvPr/>
                      </p:nvSpPr>
                      <p:spPr>
                        <a:xfrm>
                          <a:off x="352260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992" name="Line 85"/>
                        <p:cNvSpPr/>
                        <p:nvPr/>
                      </p:nvSpPr>
                      <p:spPr>
                        <a:xfrm>
                          <a:off x="35557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993" name="Line 86"/>
                        <p:cNvSpPr/>
                        <p:nvPr/>
                      </p:nvSpPr>
                      <p:spPr>
                        <a:xfrm>
                          <a:off x="35557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994" name="Line 87"/>
                        <p:cNvSpPr/>
                        <p:nvPr/>
                      </p:nvSpPr>
                      <p:spPr>
                        <a:xfrm>
                          <a:off x="359064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995" name="Line 88"/>
                        <p:cNvSpPr/>
                        <p:nvPr/>
                      </p:nvSpPr>
                      <p:spPr>
                        <a:xfrm>
                          <a:off x="36241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996" name="Line 89"/>
                        <p:cNvSpPr/>
                        <p:nvPr/>
                      </p:nvSpPr>
                      <p:spPr>
                        <a:xfrm>
                          <a:off x="3624120" y="4587840"/>
                          <a:ext cx="36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997" name="Group 101"/>
                    <p:cNvGrpSpPr/>
                    <p:nvPr/>
                  </p:nvGrpSpPr>
                  <p:grpSpPr>
                    <a:xfrm>
                      <a:off x="3568680" y="4256640"/>
                      <a:ext cx="470160" cy="488160"/>
                      <a:chOff x="3568680" y="4256640"/>
                      <a:chExt cx="470160" cy="488160"/>
                    </a:xfrm>
                  </p:grpSpPr>
                  <p:sp>
                    <p:nvSpPr>
                      <p:cNvPr id="1998" name="AutoShape 92"/>
                      <p:cNvSpPr/>
                      <p:nvPr/>
                    </p:nvSpPr>
                    <p:spPr>
                      <a:xfrm flipH="1" flipV="1" rot="12240000">
                        <a:off x="3630960" y="4310280"/>
                        <a:ext cx="345600" cy="38052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9200 h 380520"/>
                          <a:gd name="textAreaBottom" fmla="*/ 301320 h 38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1999" name="Group 100"/>
                      <p:cNvGrpSpPr/>
                      <p:nvPr/>
                    </p:nvGrpSpPr>
                    <p:grpSpPr>
                      <a:xfrm>
                        <a:off x="3651120" y="4617720"/>
                        <a:ext cx="152280" cy="119160"/>
                        <a:chOff x="3651120" y="4617720"/>
                        <a:chExt cx="152280" cy="119160"/>
                      </a:xfrm>
                    </p:grpSpPr>
                    <p:sp>
                      <p:nvSpPr>
                        <p:cNvPr id="2000" name="Line 93"/>
                        <p:cNvSpPr/>
                        <p:nvPr/>
                      </p:nvSpPr>
                      <p:spPr>
                        <a:xfrm flipH="1">
                          <a:off x="3651120" y="4617720"/>
                          <a:ext cx="27000" cy="61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920" bIns="16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01" name="Line 94"/>
                        <p:cNvSpPr/>
                        <p:nvPr/>
                      </p:nvSpPr>
                      <p:spPr>
                        <a:xfrm flipH="1">
                          <a:off x="3679560" y="4630680"/>
                          <a:ext cx="28800" cy="60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02" name="Line 95"/>
                        <p:cNvSpPr/>
                        <p:nvPr/>
                      </p:nvSpPr>
                      <p:spPr>
                        <a:xfrm flipH="1">
                          <a:off x="3711240" y="4644720"/>
                          <a:ext cx="28800" cy="637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720" bIns="187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03" name="Line 96"/>
                        <p:cNvSpPr/>
                        <p:nvPr/>
                      </p:nvSpPr>
                      <p:spPr>
                        <a:xfrm flipH="1">
                          <a:off x="3711240" y="4644720"/>
                          <a:ext cx="28800" cy="637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720" bIns="187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04" name="Line 97"/>
                        <p:cNvSpPr/>
                        <p:nvPr/>
                      </p:nvSpPr>
                      <p:spPr>
                        <a:xfrm flipH="1">
                          <a:off x="3743280" y="4659120"/>
                          <a:ext cx="28440" cy="633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360" bIns="183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05" name="Line 98"/>
                        <p:cNvSpPr/>
                        <p:nvPr/>
                      </p:nvSpPr>
                      <p:spPr>
                        <a:xfrm flipH="1">
                          <a:off x="3774960" y="4671720"/>
                          <a:ext cx="28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06" name="Line 99"/>
                        <p:cNvSpPr/>
                        <p:nvPr/>
                      </p:nvSpPr>
                      <p:spPr>
                        <a:xfrm flipH="1">
                          <a:off x="3774960" y="4671720"/>
                          <a:ext cx="28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07" name="Group 111"/>
                    <p:cNvGrpSpPr/>
                    <p:nvPr/>
                  </p:nvGrpSpPr>
                  <p:grpSpPr>
                    <a:xfrm>
                      <a:off x="3726000" y="4385520"/>
                      <a:ext cx="514080" cy="512280"/>
                      <a:chOff x="3726000" y="4385520"/>
                      <a:chExt cx="514080" cy="512280"/>
                    </a:xfrm>
                  </p:grpSpPr>
                  <p:sp>
                    <p:nvSpPr>
                      <p:cNvPr id="2008" name="AutoShape 102"/>
                      <p:cNvSpPr/>
                      <p:nvPr/>
                    </p:nvSpPr>
                    <p:spPr>
                      <a:xfrm flipH="1" flipV="1" rot="13620000">
                        <a:off x="3809880" y="4450680"/>
                        <a:ext cx="345600" cy="38052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9200 h 380520"/>
                          <a:gd name="textAreaBottom" fmla="*/ 301320 h 38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009" name="Group 110"/>
                      <p:cNvGrpSpPr/>
                      <p:nvPr/>
                    </p:nvGrpSpPr>
                    <p:grpSpPr>
                      <a:xfrm>
                        <a:off x="3768480" y="4697280"/>
                        <a:ext cx="146160" cy="149040"/>
                        <a:chOff x="3768480" y="4697280"/>
                        <a:chExt cx="146160" cy="149040"/>
                      </a:xfrm>
                    </p:grpSpPr>
                    <p:sp>
                      <p:nvSpPr>
                        <p:cNvPr id="2010" name="Line 103"/>
                        <p:cNvSpPr/>
                        <p:nvPr/>
                      </p:nvSpPr>
                      <p:spPr>
                        <a:xfrm flipH="1">
                          <a:off x="3768480" y="4697280"/>
                          <a:ext cx="54000" cy="493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" bIns="43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11" name="Line 104"/>
                        <p:cNvSpPr/>
                        <p:nvPr/>
                      </p:nvSpPr>
                      <p:spPr>
                        <a:xfrm flipH="1">
                          <a:off x="3794040" y="4722480"/>
                          <a:ext cx="52200" cy="47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80" bIns="2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12" name="Line 105"/>
                        <p:cNvSpPr/>
                        <p:nvPr/>
                      </p:nvSpPr>
                      <p:spPr>
                        <a:xfrm flipH="1">
                          <a:off x="3816000" y="4749480"/>
                          <a:ext cx="49320" cy="46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13" name="Line 106"/>
                        <p:cNvSpPr/>
                        <p:nvPr/>
                      </p:nvSpPr>
                      <p:spPr>
                        <a:xfrm flipH="1">
                          <a:off x="3816000" y="4749480"/>
                          <a:ext cx="49320" cy="46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14" name="Line 107"/>
                        <p:cNvSpPr/>
                        <p:nvPr/>
                      </p:nvSpPr>
                      <p:spPr>
                        <a:xfrm flipH="1">
                          <a:off x="3840120" y="4776480"/>
                          <a:ext cx="48960" cy="46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15" name="Line 108"/>
                        <p:cNvSpPr/>
                        <p:nvPr/>
                      </p:nvSpPr>
                      <p:spPr>
                        <a:xfrm flipH="1">
                          <a:off x="3865320" y="4798800"/>
                          <a:ext cx="49320" cy="475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16" name="Line 109"/>
                        <p:cNvSpPr/>
                        <p:nvPr/>
                      </p:nvSpPr>
                      <p:spPr>
                        <a:xfrm flipH="1">
                          <a:off x="3865320" y="4798800"/>
                          <a:ext cx="49320" cy="475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17" name="Group 121"/>
                    <p:cNvGrpSpPr/>
                    <p:nvPr/>
                  </p:nvGrpSpPr>
                  <p:grpSpPr>
                    <a:xfrm>
                      <a:off x="3850920" y="4629240"/>
                      <a:ext cx="465480" cy="439920"/>
                      <a:chOff x="3850920" y="4629240"/>
                      <a:chExt cx="465480" cy="439920"/>
                    </a:xfrm>
                  </p:grpSpPr>
                  <p:sp>
                    <p:nvSpPr>
                      <p:cNvPr id="2018" name="AutoShape 112"/>
                      <p:cNvSpPr/>
                      <p:nvPr/>
                    </p:nvSpPr>
                    <p:spPr>
                      <a:xfrm flipH="1" flipV="1" rot="15180000">
                        <a:off x="3912120" y="4659480"/>
                        <a:ext cx="344160" cy="379080"/>
                      </a:xfrm>
                      <a:custGeom>
                        <a:avLst/>
                        <a:gdLst>
                          <a:gd name="textAreaLeft" fmla="*/ 71640 w 344160"/>
                          <a:gd name="textAreaRight" fmla="*/ 272520 w 344160"/>
                          <a:gd name="textAreaTop" fmla="*/ 78840 h 379080"/>
                          <a:gd name="textAreaBottom" fmla="*/ 300240 h 37908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019" name="Group 120"/>
                      <p:cNvGrpSpPr/>
                      <p:nvPr/>
                    </p:nvGrpSpPr>
                    <p:grpSpPr>
                      <a:xfrm>
                        <a:off x="3850920" y="4830480"/>
                        <a:ext cx="105120" cy="150840"/>
                        <a:chOff x="3850920" y="4830480"/>
                        <a:chExt cx="105120" cy="150840"/>
                      </a:xfrm>
                    </p:grpSpPr>
                    <p:sp>
                      <p:nvSpPr>
                        <p:cNvPr id="2020" name="Line 113"/>
                        <p:cNvSpPr/>
                        <p:nvPr/>
                      </p:nvSpPr>
                      <p:spPr>
                        <a:xfrm flipH="1">
                          <a:off x="3850920" y="4830480"/>
                          <a:ext cx="6840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21" name="Line 114"/>
                        <p:cNvSpPr/>
                        <p:nvPr/>
                      </p:nvSpPr>
                      <p:spPr>
                        <a:xfrm flipH="1">
                          <a:off x="3859200" y="4863960"/>
                          <a:ext cx="6480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22" name="Line 115"/>
                        <p:cNvSpPr/>
                        <p:nvPr/>
                      </p:nvSpPr>
                      <p:spPr>
                        <a:xfrm flipH="1">
                          <a:off x="3868560" y="4897080"/>
                          <a:ext cx="68400" cy="20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23" name="Line 116"/>
                        <p:cNvSpPr/>
                        <p:nvPr/>
                      </p:nvSpPr>
                      <p:spPr>
                        <a:xfrm flipH="1">
                          <a:off x="3868560" y="4897080"/>
                          <a:ext cx="68400" cy="20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24" name="Line 117"/>
                        <p:cNvSpPr/>
                        <p:nvPr/>
                      </p:nvSpPr>
                      <p:spPr>
                        <a:xfrm flipH="1">
                          <a:off x="3881160" y="4930560"/>
                          <a:ext cx="65160" cy="205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25" name="Line 118"/>
                        <p:cNvSpPr/>
                        <p:nvPr/>
                      </p:nvSpPr>
                      <p:spPr>
                        <a:xfrm flipH="1">
                          <a:off x="3889080" y="4962240"/>
                          <a:ext cx="6696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26" name="Line 119"/>
                        <p:cNvSpPr/>
                        <p:nvPr/>
                      </p:nvSpPr>
                      <p:spPr>
                        <a:xfrm flipH="1">
                          <a:off x="3889080" y="4962240"/>
                          <a:ext cx="66960" cy="190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27" name="Group 131"/>
                    <p:cNvGrpSpPr/>
                    <p:nvPr/>
                  </p:nvGrpSpPr>
                  <p:grpSpPr>
                    <a:xfrm>
                      <a:off x="3852720" y="4901400"/>
                      <a:ext cx="439200" cy="381960"/>
                      <a:chOff x="3852720" y="4901400"/>
                      <a:chExt cx="439200" cy="381960"/>
                    </a:xfrm>
                  </p:grpSpPr>
                  <p:sp>
                    <p:nvSpPr>
                      <p:cNvPr id="2028" name="AutoShape 122"/>
                      <p:cNvSpPr/>
                      <p:nvPr/>
                    </p:nvSpPr>
                    <p:spPr>
                      <a:xfrm flipH="1" flipV="1" rot="16560000">
                        <a:off x="3912120" y="4901760"/>
                        <a:ext cx="344160" cy="380520"/>
                      </a:xfrm>
                      <a:custGeom>
                        <a:avLst/>
                        <a:gdLst>
                          <a:gd name="textAreaLeft" fmla="*/ 71640 w 344160"/>
                          <a:gd name="textAreaRight" fmla="*/ 272520 w 344160"/>
                          <a:gd name="textAreaTop" fmla="*/ 79200 h 380520"/>
                          <a:gd name="textAreaBottom" fmla="*/ 301320 h 3805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029" name="Group 130"/>
                      <p:cNvGrpSpPr/>
                      <p:nvPr/>
                    </p:nvGrpSpPr>
                    <p:grpSpPr>
                      <a:xfrm>
                        <a:off x="3852720" y="5000400"/>
                        <a:ext cx="87120" cy="146160"/>
                        <a:chOff x="3852720" y="5000400"/>
                        <a:chExt cx="87120" cy="146160"/>
                      </a:xfrm>
                    </p:grpSpPr>
                    <p:sp>
                      <p:nvSpPr>
                        <p:cNvPr id="2030" name="Line 123"/>
                        <p:cNvSpPr/>
                        <p:nvPr/>
                      </p:nvSpPr>
                      <p:spPr>
                        <a:xfrm flipH="1" flipV="1">
                          <a:off x="3868560" y="5000400"/>
                          <a:ext cx="7128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31" name="Line 124"/>
                        <p:cNvSpPr/>
                        <p:nvPr/>
                      </p:nvSpPr>
                      <p:spPr>
                        <a:xfrm flipH="1" flipV="1">
                          <a:off x="3865320" y="5035320"/>
                          <a:ext cx="6660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32" name="Line 125"/>
                        <p:cNvSpPr/>
                        <p:nvPr/>
                      </p:nvSpPr>
                      <p:spPr>
                        <a:xfrm flipH="1" flipV="1">
                          <a:off x="3860640" y="5068800"/>
                          <a:ext cx="6840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33" name="Line 126"/>
                        <p:cNvSpPr/>
                        <p:nvPr/>
                      </p:nvSpPr>
                      <p:spPr>
                        <a:xfrm flipH="1" flipV="1">
                          <a:off x="3860640" y="5068800"/>
                          <a:ext cx="6840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34" name="Line 127"/>
                        <p:cNvSpPr/>
                        <p:nvPr/>
                      </p:nvSpPr>
                      <p:spPr>
                        <a:xfrm flipH="1" flipV="1">
                          <a:off x="3857400" y="5103720"/>
                          <a:ext cx="68400" cy="6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35" name="Line 128"/>
                        <p:cNvSpPr/>
                        <p:nvPr/>
                      </p:nvSpPr>
                      <p:spPr>
                        <a:xfrm flipH="1" flipV="1">
                          <a:off x="3852720" y="5138640"/>
                          <a:ext cx="6984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36" name="Line 129"/>
                        <p:cNvSpPr/>
                        <p:nvPr/>
                      </p:nvSpPr>
                      <p:spPr>
                        <a:xfrm flipH="1" flipV="1">
                          <a:off x="3852720" y="5138640"/>
                          <a:ext cx="69840" cy="79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37" name="Group 141"/>
                    <p:cNvGrpSpPr/>
                    <p:nvPr/>
                  </p:nvGrpSpPr>
                  <p:grpSpPr>
                    <a:xfrm>
                      <a:off x="3763080" y="5051160"/>
                      <a:ext cx="507960" cy="498600"/>
                      <a:chOff x="3763080" y="5051160"/>
                      <a:chExt cx="507960" cy="498600"/>
                    </a:xfrm>
                  </p:grpSpPr>
                  <p:sp>
                    <p:nvSpPr>
                      <p:cNvPr id="2038" name="AutoShape 132"/>
                      <p:cNvSpPr/>
                      <p:nvPr/>
                    </p:nvSpPr>
                    <p:spPr>
                      <a:xfrm flipH="1" flipV="1" rot="18180000">
                        <a:off x="3843000" y="5109840"/>
                        <a:ext cx="347400" cy="380160"/>
                      </a:xfrm>
                      <a:custGeom>
                        <a:avLst/>
                        <a:gdLst>
                          <a:gd name="textAreaLeft" fmla="*/ 72360 w 347400"/>
                          <a:gd name="textAreaRight" fmla="*/ 275040 w 347400"/>
                          <a:gd name="textAreaTop" fmla="*/ 79200 h 380160"/>
                          <a:gd name="textAreaBottom" fmla="*/ 300960 h 3801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039" name="Group 140"/>
                      <p:cNvGrpSpPr/>
                      <p:nvPr/>
                    </p:nvGrpSpPr>
                    <p:grpSpPr>
                      <a:xfrm>
                        <a:off x="3790800" y="5119560"/>
                        <a:ext cx="133200" cy="154080"/>
                        <a:chOff x="3790800" y="5119560"/>
                        <a:chExt cx="133200" cy="154080"/>
                      </a:xfrm>
                    </p:grpSpPr>
                    <p:sp>
                      <p:nvSpPr>
                        <p:cNvPr id="2040" name="Line 133"/>
                        <p:cNvSpPr/>
                        <p:nvPr/>
                      </p:nvSpPr>
                      <p:spPr>
                        <a:xfrm flipH="1" flipV="1">
                          <a:off x="3865320" y="5119560"/>
                          <a:ext cx="58680" cy="39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41" name="Line 134"/>
                        <p:cNvSpPr/>
                        <p:nvPr/>
                      </p:nvSpPr>
                      <p:spPr>
                        <a:xfrm flipH="1" flipV="1">
                          <a:off x="3846240" y="5148000"/>
                          <a:ext cx="55800" cy="39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42" name="Line 135"/>
                        <p:cNvSpPr/>
                        <p:nvPr/>
                      </p:nvSpPr>
                      <p:spPr>
                        <a:xfrm flipH="1" flipV="1">
                          <a:off x="3828960" y="5178240"/>
                          <a:ext cx="57240" cy="363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43" name="Line 136"/>
                        <p:cNvSpPr/>
                        <p:nvPr/>
                      </p:nvSpPr>
                      <p:spPr>
                        <a:xfrm flipH="1" flipV="1">
                          <a:off x="3828960" y="5178240"/>
                          <a:ext cx="57240" cy="363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44" name="Line 137"/>
                        <p:cNvSpPr/>
                        <p:nvPr/>
                      </p:nvSpPr>
                      <p:spPr>
                        <a:xfrm flipH="1" flipV="1">
                          <a:off x="3809880" y="5206680"/>
                          <a:ext cx="57240" cy="38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45" name="Line 138"/>
                        <p:cNvSpPr/>
                        <p:nvPr/>
                      </p:nvSpPr>
                      <p:spPr>
                        <a:xfrm flipH="1" flipV="1">
                          <a:off x="3790800" y="5235480"/>
                          <a:ext cx="58680" cy="38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46" name="Line 139"/>
                        <p:cNvSpPr/>
                        <p:nvPr/>
                      </p:nvSpPr>
                      <p:spPr>
                        <a:xfrm flipH="1" flipV="1">
                          <a:off x="3790800" y="5235480"/>
                          <a:ext cx="58680" cy="38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47" name="Group 151"/>
                    <p:cNvGrpSpPr/>
                    <p:nvPr/>
                  </p:nvGrpSpPr>
                  <p:grpSpPr>
                    <a:xfrm>
                      <a:off x="3598920" y="5221440"/>
                      <a:ext cx="491040" cy="502560"/>
                      <a:chOff x="3598920" y="5221440"/>
                      <a:chExt cx="491040" cy="502560"/>
                    </a:xfrm>
                  </p:grpSpPr>
                  <p:sp>
                    <p:nvSpPr>
                      <p:cNvPr id="2048" name="AutoShape 142"/>
                      <p:cNvSpPr/>
                      <p:nvPr/>
                    </p:nvSpPr>
                    <p:spPr>
                      <a:xfrm flipH="1" flipV="1" rot="19740000">
                        <a:off x="3671640" y="5283360"/>
                        <a:ext cx="345600" cy="37872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8840 h 378720"/>
                          <a:gd name="textAreaBottom" fmla="*/ 299880 h 378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049" name="Group 150"/>
                      <p:cNvGrpSpPr/>
                      <p:nvPr/>
                    </p:nvGrpSpPr>
                    <p:grpSpPr>
                      <a:xfrm>
                        <a:off x="3666960" y="5244840"/>
                        <a:ext cx="155520" cy="131760"/>
                        <a:chOff x="3666960" y="5244840"/>
                        <a:chExt cx="155520" cy="131760"/>
                      </a:xfrm>
                    </p:grpSpPr>
                    <p:sp>
                      <p:nvSpPr>
                        <p:cNvPr id="2050" name="Line 143"/>
                        <p:cNvSpPr/>
                        <p:nvPr/>
                      </p:nvSpPr>
                      <p:spPr>
                        <a:xfrm flipH="1" flipV="1">
                          <a:off x="3786120" y="5244840"/>
                          <a:ext cx="36360" cy="586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51" name="Line 144"/>
                        <p:cNvSpPr/>
                        <p:nvPr/>
                      </p:nvSpPr>
                      <p:spPr>
                        <a:xfrm flipH="1" flipV="1">
                          <a:off x="3757320" y="5263920"/>
                          <a:ext cx="33480" cy="586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52" name="Line 145"/>
                        <p:cNvSpPr/>
                        <p:nvPr/>
                      </p:nvSpPr>
                      <p:spPr>
                        <a:xfrm flipH="1" flipV="1">
                          <a:off x="3728880" y="5281560"/>
                          <a:ext cx="34920" cy="56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53" name="Line 146"/>
                        <p:cNvSpPr/>
                        <p:nvPr/>
                      </p:nvSpPr>
                      <p:spPr>
                        <a:xfrm flipH="1" flipV="1">
                          <a:off x="3728880" y="5281560"/>
                          <a:ext cx="34920" cy="568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54" name="Line 147"/>
                        <p:cNvSpPr/>
                        <p:nvPr/>
                      </p:nvSpPr>
                      <p:spPr>
                        <a:xfrm flipH="1" flipV="1">
                          <a:off x="3695400" y="5297400"/>
                          <a:ext cx="36720" cy="5868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55" name="Line 148"/>
                        <p:cNvSpPr/>
                        <p:nvPr/>
                      </p:nvSpPr>
                      <p:spPr>
                        <a:xfrm flipH="1" flipV="1">
                          <a:off x="3666960" y="5316480"/>
                          <a:ext cx="36360" cy="60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56" name="Line 149"/>
                        <p:cNvSpPr/>
                        <p:nvPr/>
                      </p:nvSpPr>
                      <p:spPr>
                        <a:xfrm flipH="1" flipV="1">
                          <a:off x="3666960" y="5316480"/>
                          <a:ext cx="36360" cy="6012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57" name="Group 161"/>
                    <p:cNvGrpSpPr/>
                    <p:nvPr/>
                  </p:nvGrpSpPr>
                  <p:grpSpPr>
                    <a:xfrm>
                      <a:off x="3450960" y="5311440"/>
                      <a:ext cx="371520" cy="433800"/>
                      <a:chOff x="3450960" y="5311440"/>
                      <a:chExt cx="371520" cy="433800"/>
                    </a:xfrm>
                  </p:grpSpPr>
                  <p:sp>
                    <p:nvSpPr>
                      <p:cNvPr id="2058" name="AutoShape 152"/>
                      <p:cNvSpPr/>
                      <p:nvPr/>
                    </p:nvSpPr>
                    <p:spPr>
                      <a:xfrm flipH="1" flipV="1" rot="21360000">
                        <a:off x="3463920" y="5349960"/>
                        <a:ext cx="345600" cy="383760"/>
                      </a:xfrm>
                      <a:custGeom>
                        <a:avLst/>
                        <a:gdLst>
                          <a:gd name="textAreaLeft" fmla="*/ 72000 w 345600"/>
                          <a:gd name="textAreaRight" fmla="*/ 273600 w 345600"/>
                          <a:gd name="textAreaTop" fmla="*/ 79920 h 383760"/>
                          <a:gd name="textAreaBottom" fmla="*/ 303840 h 3837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059" name="Group 160"/>
                      <p:cNvGrpSpPr/>
                      <p:nvPr/>
                    </p:nvGrpSpPr>
                    <p:grpSpPr>
                      <a:xfrm>
                        <a:off x="3551040" y="5311440"/>
                        <a:ext cx="141480" cy="79560"/>
                        <a:chOff x="3551040" y="5311440"/>
                        <a:chExt cx="141480" cy="79560"/>
                      </a:xfrm>
                    </p:grpSpPr>
                    <p:sp>
                      <p:nvSpPr>
                        <p:cNvPr id="2060" name="Line 153"/>
                        <p:cNvSpPr/>
                        <p:nvPr/>
                      </p:nvSpPr>
                      <p:spPr>
                        <a:xfrm flipH="1" flipV="1">
                          <a:off x="3687480" y="5311440"/>
                          <a:ext cx="5040" cy="7164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640" bIns="266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61" name="Line 154"/>
                        <p:cNvSpPr/>
                        <p:nvPr/>
                      </p:nvSpPr>
                      <p:spPr>
                        <a:xfrm flipH="1" flipV="1">
                          <a:off x="3654360" y="5316480"/>
                          <a:ext cx="612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62" name="Line 155"/>
                        <p:cNvSpPr/>
                        <p:nvPr/>
                      </p:nvSpPr>
                      <p:spPr>
                        <a:xfrm flipH="1" flipV="1">
                          <a:off x="3620880" y="5321160"/>
                          <a:ext cx="1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63" name="Line 156"/>
                        <p:cNvSpPr/>
                        <p:nvPr/>
                      </p:nvSpPr>
                      <p:spPr>
                        <a:xfrm flipH="1" flipV="1">
                          <a:off x="3620880" y="5321160"/>
                          <a:ext cx="1440" cy="651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64" name="Line 157"/>
                        <p:cNvSpPr/>
                        <p:nvPr/>
                      </p:nvSpPr>
                      <p:spPr>
                        <a:xfrm flipH="1" flipV="1">
                          <a:off x="3585960" y="5319360"/>
                          <a:ext cx="3240" cy="684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65" name="Line 158"/>
                        <p:cNvSpPr/>
                        <p:nvPr/>
                      </p:nvSpPr>
                      <p:spPr>
                        <a:xfrm flipH="1" flipV="1">
                          <a:off x="3551040" y="5322600"/>
                          <a:ext cx="4680" cy="684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066" name="Line 159"/>
                        <p:cNvSpPr/>
                        <p:nvPr/>
                      </p:nvSpPr>
                      <p:spPr>
                        <a:xfrm flipH="1" flipV="1">
                          <a:off x="3551040" y="5322600"/>
                          <a:ext cx="4680" cy="684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067" name="Group 222"/>
                    <p:cNvGrpSpPr/>
                    <p:nvPr/>
                  </p:nvGrpSpPr>
                  <p:grpSpPr>
                    <a:xfrm>
                      <a:off x="2830320" y="4256640"/>
                      <a:ext cx="751680" cy="1468440"/>
                      <a:chOff x="2830320" y="4256640"/>
                      <a:chExt cx="751680" cy="1468440"/>
                    </a:xfrm>
                  </p:grpSpPr>
                  <p:grpSp>
                    <p:nvGrpSpPr>
                      <p:cNvPr id="2068" name="Group 171"/>
                      <p:cNvGrpSpPr/>
                      <p:nvPr/>
                    </p:nvGrpSpPr>
                    <p:grpSpPr>
                      <a:xfrm>
                        <a:off x="3111480" y="4256640"/>
                        <a:ext cx="470520" cy="488160"/>
                        <a:chOff x="3111480" y="4256640"/>
                        <a:chExt cx="470520" cy="488160"/>
                      </a:xfrm>
                    </p:grpSpPr>
                    <p:sp>
                      <p:nvSpPr>
                        <p:cNvPr id="2069" name="AutoShape 162"/>
                        <p:cNvSpPr/>
                        <p:nvPr/>
                      </p:nvSpPr>
                      <p:spPr>
                        <a:xfrm flipV="1" rot="9360000">
                          <a:off x="3173760" y="4310280"/>
                          <a:ext cx="345600" cy="380520"/>
                        </a:xfrm>
                        <a:custGeom>
                          <a:avLst/>
                          <a:gdLst>
                            <a:gd name="textAreaLeft" fmla="*/ 72000 w 345600"/>
                            <a:gd name="textAreaRight" fmla="*/ 273600 w 345600"/>
                            <a:gd name="textAreaTop" fmla="*/ 79200 h 380520"/>
                            <a:gd name="textAreaBottom" fmla="*/ 301320 h 380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070" name="Group 170"/>
                        <p:cNvGrpSpPr/>
                        <p:nvPr/>
                      </p:nvGrpSpPr>
                      <p:grpSpPr>
                        <a:xfrm>
                          <a:off x="3346200" y="4617720"/>
                          <a:ext cx="154080" cy="119160"/>
                          <a:chOff x="3346200" y="4617720"/>
                          <a:chExt cx="154080" cy="119160"/>
                        </a:xfrm>
                      </p:grpSpPr>
                      <p:sp>
                        <p:nvSpPr>
                          <p:cNvPr id="2071" name="Line 163"/>
                          <p:cNvSpPr/>
                          <p:nvPr/>
                        </p:nvSpPr>
                        <p:spPr>
                          <a:xfrm>
                            <a:off x="3471840" y="4617720"/>
                            <a:ext cx="28440" cy="61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6920" bIns="16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72" name="Line 164"/>
                          <p:cNvSpPr/>
                          <p:nvPr/>
                        </p:nvSpPr>
                        <p:spPr>
                          <a:xfrm>
                            <a:off x="3441600" y="4630680"/>
                            <a:ext cx="27000" cy="60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73" name="Line 165"/>
                          <p:cNvSpPr/>
                          <p:nvPr/>
                        </p:nvSpPr>
                        <p:spPr>
                          <a:xfrm>
                            <a:off x="3408120" y="4644720"/>
                            <a:ext cx="28800" cy="637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720" bIns="187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74" name="Line 166"/>
                          <p:cNvSpPr/>
                          <p:nvPr/>
                        </p:nvSpPr>
                        <p:spPr>
                          <a:xfrm>
                            <a:off x="3408120" y="4644720"/>
                            <a:ext cx="28800" cy="637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720" bIns="187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75" name="Line 167"/>
                          <p:cNvSpPr/>
                          <p:nvPr/>
                        </p:nvSpPr>
                        <p:spPr>
                          <a:xfrm>
                            <a:off x="3379680" y="4659120"/>
                            <a:ext cx="27000" cy="633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360" bIns="1836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76" name="Line 168"/>
                          <p:cNvSpPr/>
                          <p:nvPr/>
                        </p:nvSpPr>
                        <p:spPr>
                          <a:xfrm>
                            <a:off x="3346200" y="4671720"/>
                            <a:ext cx="27000" cy="65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160" bIns="2016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77" name="Line 169"/>
                          <p:cNvSpPr/>
                          <p:nvPr/>
                        </p:nvSpPr>
                        <p:spPr>
                          <a:xfrm>
                            <a:off x="3346200" y="4671720"/>
                            <a:ext cx="27000" cy="65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160" bIns="2016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078" name="Group 181"/>
                      <p:cNvGrpSpPr/>
                      <p:nvPr/>
                    </p:nvGrpSpPr>
                    <p:grpSpPr>
                      <a:xfrm>
                        <a:off x="2909520" y="4386600"/>
                        <a:ext cx="513000" cy="511200"/>
                        <a:chOff x="2909520" y="4386600"/>
                        <a:chExt cx="513000" cy="511200"/>
                      </a:xfrm>
                    </p:grpSpPr>
                    <p:sp>
                      <p:nvSpPr>
                        <p:cNvPr id="2079" name="AutoShape 172"/>
                        <p:cNvSpPr/>
                        <p:nvPr/>
                      </p:nvSpPr>
                      <p:spPr>
                        <a:xfrm flipV="1" rot="7980000">
                          <a:off x="2993760" y="4451760"/>
                          <a:ext cx="344160" cy="380520"/>
                        </a:xfrm>
                        <a:custGeom>
                          <a:avLst/>
                          <a:gdLst>
                            <a:gd name="textAreaLeft" fmla="*/ 71640 w 344160"/>
                            <a:gd name="textAreaRight" fmla="*/ 272520 w 344160"/>
                            <a:gd name="textAreaTop" fmla="*/ 79200 h 380520"/>
                            <a:gd name="textAreaBottom" fmla="*/ 301320 h 380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080" name="Group 180"/>
                        <p:cNvGrpSpPr/>
                        <p:nvPr/>
                      </p:nvGrpSpPr>
                      <p:grpSpPr>
                        <a:xfrm>
                          <a:off x="3232080" y="4697280"/>
                          <a:ext cx="147600" cy="149040"/>
                          <a:chOff x="3232080" y="4697280"/>
                          <a:chExt cx="147600" cy="149040"/>
                        </a:xfrm>
                      </p:grpSpPr>
                      <p:sp>
                        <p:nvSpPr>
                          <p:cNvPr id="2081" name="Line 173"/>
                          <p:cNvSpPr/>
                          <p:nvPr/>
                        </p:nvSpPr>
                        <p:spPr>
                          <a:xfrm>
                            <a:off x="3327120" y="4697280"/>
                            <a:ext cx="52560" cy="493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" bIns="43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82" name="Line 174"/>
                          <p:cNvSpPr/>
                          <p:nvPr/>
                        </p:nvSpPr>
                        <p:spPr>
                          <a:xfrm>
                            <a:off x="3300120" y="4722480"/>
                            <a:ext cx="52560" cy="47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80" bIns="2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83" name="Line 175"/>
                          <p:cNvSpPr/>
                          <p:nvPr/>
                        </p:nvSpPr>
                        <p:spPr>
                          <a:xfrm>
                            <a:off x="3278160" y="4749480"/>
                            <a:ext cx="48960" cy="46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84" name="Line 176"/>
                          <p:cNvSpPr/>
                          <p:nvPr/>
                        </p:nvSpPr>
                        <p:spPr>
                          <a:xfrm>
                            <a:off x="3278160" y="4749480"/>
                            <a:ext cx="48960" cy="46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85" name="Line 177"/>
                          <p:cNvSpPr/>
                          <p:nvPr/>
                        </p:nvSpPr>
                        <p:spPr>
                          <a:xfrm>
                            <a:off x="3254040" y="4776480"/>
                            <a:ext cx="52560" cy="46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80" bIns="1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86" name="Line 178"/>
                          <p:cNvSpPr/>
                          <p:nvPr/>
                        </p:nvSpPr>
                        <p:spPr>
                          <a:xfrm>
                            <a:off x="3232080" y="4798800"/>
                            <a:ext cx="50760" cy="475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87" name="Line 179"/>
                          <p:cNvSpPr/>
                          <p:nvPr/>
                        </p:nvSpPr>
                        <p:spPr>
                          <a:xfrm>
                            <a:off x="3232080" y="4798800"/>
                            <a:ext cx="50760" cy="475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088" name="Group 191"/>
                      <p:cNvGrpSpPr/>
                      <p:nvPr/>
                    </p:nvGrpSpPr>
                    <p:grpSpPr>
                      <a:xfrm>
                        <a:off x="2830320" y="4628520"/>
                        <a:ext cx="466560" cy="441360"/>
                        <a:chOff x="2830320" y="4628520"/>
                        <a:chExt cx="466560" cy="441360"/>
                      </a:xfrm>
                    </p:grpSpPr>
                    <p:sp>
                      <p:nvSpPr>
                        <p:cNvPr id="2089" name="AutoShape 182"/>
                        <p:cNvSpPr/>
                        <p:nvPr/>
                      </p:nvSpPr>
                      <p:spPr>
                        <a:xfrm flipV="1" rot="6420000">
                          <a:off x="2889000" y="4659480"/>
                          <a:ext cx="345600" cy="379080"/>
                        </a:xfrm>
                        <a:custGeom>
                          <a:avLst/>
                          <a:gdLst>
                            <a:gd name="textAreaLeft" fmla="*/ 72000 w 345600"/>
                            <a:gd name="textAreaRight" fmla="*/ 273600 w 345600"/>
                            <a:gd name="textAreaTop" fmla="*/ 78840 h 379080"/>
                            <a:gd name="textAreaBottom" fmla="*/ 300240 h 3790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090" name="Group 190"/>
                        <p:cNvGrpSpPr/>
                        <p:nvPr/>
                      </p:nvGrpSpPr>
                      <p:grpSpPr>
                        <a:xfrm>
                          <a:off x="3190680" y="4830480"/>
                          <a:ext cx="106200" cy="150840"/>
                          <a:chOff x="3190680" y="4830480"/>
                          <a:chExt cx="106200" cy="150840"/>
                        </a:xfrm>
                      </p:grpSpPr>
                      <p:sp>
                        <p:nvSpPr>
                          <p:cNvPr id="2091" name="Line 183"/>
                          <p:cNvSpPr/>
                          <p:nvPr/>
                        </p:nvSpPr>
                        <p:spPr>
                          <a:xfrm>
                            <a:off x="3228840" y="4830480"/>
                            <a:ext cx="6804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92" name="Line 184"/>
                          <p:cNvSpPr/>
                          <p:nvPr/>
                        </p:nvSpPr>
                        <p:spPr>
                          <a:xfrm>
                            <a:off x="3219120" y="4863960"/>
                            <a:ext cx="6516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93" name="Line 185"/>
                          <p:cNvSpPr/>
                          <p:nvPr/>
                        </p:nvSpPr>
                        <p:spPr>
                          <a:xfrm>
                            <a:off x="3209760" y="4897080"/>
                            <a:ext cx="65160" cy="20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94" name="Line 186"/>
                          <p:cNvSpPr/>
                          <p:nvPr/>
                        </p:nvSpPr>
                        <p:spPr>
                          <a:xfrm>
                            <a:off x="3209760" y="4897080"/>
                            <a:ext cx="65160" cy="20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95" name="Line 187"/>
                          <p:cNvSpPr/>
                          <p:nvPr/>
                        </p:nvSpPr>
                        <p:spPr>
                          <a:xfrm>
                            <a:off x="3200400" y="4930560"/>
                            <a:ext cx="64800" cy="205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96" name="Line 188"/>
                          <p:cNvSpPr/>
                          <p:nvPr/>
                        </p:nvSpPr>
                        <p:spPr>
                          <a:xfrm>
                            <a:off x="3190680" y="4962240"/>
                            <a:ext cx="6336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097" name="Line 189"/>
                          <p:cNvSpPr/>
                          <p:nvPr/>
                        </p:nvSpPr>
                        <p:spPr>
                          <a:xfrm>
                            <a:off x="3190680" y="4962240"/>
                            <a:ext cx="63360" cy="190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098" name="Group 201"/>
                      <p:cNvGrpSpPr/>
                      <p:nvPr/>
                    </p:nvGrpSpPr>
                    <p:grpSpPr>
                      <a:xfrm>
                        <a:off x="2854800" y="4900680"/>
                        <a:ext cx="437400" cy="383400"/>
                        <a:chOff x="2854800" y="4900680"/>
                        <a:chExt cx="437400" cy="383400"/>
                      </a:xfrm>
                    </p:grpSpPr>
                    <p:sp>
                      <p:nvSpPr>
                        <p:cNvPr id="2099" name="AutoShape 192"/>
                        <p:cNvSpPr/>
                        <p:nvPr/>
                      </p:nvSpPr>
                      <p:spPr>
                        <a:xfrm flipV="1" rot="5040000">
                          <a:off x="2889360" y="4901400"/>
                          <a:ext cx="345600" cy="380880"/>
                        </a:xfrm>
                        <a:custGeom>
                          <a:avLst/>
                          <a:gdLst>
                            <a:gd name="textAreaLeft" fmla="*/ 72000 w 345600"/>
                            <a:gd name="textAreaRight" fmla="*/ 273600 w 345600"/>
                            <a:gd name="textAreaTop" fmla="*/ 79200 h 380880"/>
                            <a:gd name="textAreaBottom" fmla="*/ 301680 h 3808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100" name="Group 200"/>
                        <p:cNvGrpSpPr/>
                        <p:nvPr/>
                      </p:nvGrpSpPr>
                      <p:grpSpPr>
                        <a:xfrm>
                          <a:off x="3208320" y="5000400"/>
                          <a:ext cx="83880" cy="146160"/>
                          <a:chOff x="3208320" y="5000400"/>
                          <a:chExt cx="83880" cy="146160"/>
                        </a:xfrm>
                      </p:grpSpPr>
                      <p:sp>
                        <p:nvSpPr>
                          <p:cNvPr id="2101" name="Line 193"/>
                          <p:cNvSpPr/>
                          <p:nvPr/>
                        </p:nvSpPr>
                        <p:spPr>
                          <a:xfrm flipV="1">
                            <a:off x="3208320" y="5000400"/>
                            <a:ext cx="7128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02" name="Line 194"/>
                          <p:cNvSpPr/>
                          <p:nvPr/>
                        </p:nvSpPr>
                        <p:spPr>
                          <a:xfrm flipV="1">
                            <a:off x="3209760" y="5035320"/>
                            <a:ext cx="7128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03" name="Line 195"/>
                          <p:cNvSpPr/>
                          <p:nvPr/>
                        </p:nvSpPr>
                        <p:spPr>
                          <a:xfrm flipV="1">
                            <a:off x="3217680" y="5068800"/>
                            <a:ext cx="6660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04" name="Line 196"/>
                          <p:cNvSpPr/>
                          <p:nvPr/>
                        </p:nvSpPr>
                        <p:spPr>
                          <a:xfrm flipV="1">
                            <a:off x="3217680" y="5068800"/>
                            <a:ext cx="6660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05" name="Line 197"/>
                          <p:cNvSpPr/>
                          <p:nvPr/>
                        </p:nvSpPr>
                        <p:spPr>
                          <a:xfrm flipV="1">
                            <a:off x="3220920" y="5103720"/>
                            <a:ext cx="68040" cy="6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06" name="Line 198"/>
                          <p:cNvSpPr/>
                          <p:nvPr/>
                        </p:nvSpPr>
                        <p:spPr>
                          <a:xfrm flipV="1">
                            <a:off x="3222360" y="5138640"/>
                            <a:ext cx="6984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07" name="Line 199"/>
                          <p:cNvSpPr/>
                          <p:nvPr/>
                        </p:nvSpPr>
                        <p:spPr>
                          <a:xfrm flipV="1">
                            <a:off x="3222360" y="5138640"/>
                            <a:ext cx="69840" cy="79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108" name="Group 211"/>
                      <p:cNvGrpSpPr/>
                      <p:nvPr/>
                    </p:nvGrpSpPr>
                    <p:grpSpPr>
                      <a:xfrm>
                        <a:off x="2877840" y="5052600"/>
                        <a:ext cx="506520" cy="496080"/>
                        <a:chOff x="2877840" y="5052600"/>
                        <a:chExt cx="506520" cy="496080"/>
                      </a:xfrm>
                    </p:grpSpPr>
                    <p:sp>
                      <p:nvSpPr>
                        <p:cNvPr id="2109" name="AutoShape 202"/>
                        <p:cNvSpPr/>
                        <p:nvPr/>
                      </p:nvSpPr>
                      <p:spPr>
                        <a:xfrm flipV="1" rot="3420000">
                          <a:off x="2958840" y="5110200"/>
                          <a:ext cx="344160" cy="380520"/>
                        </a:xfrm>
                        <a:custGeom>
                          <a:avLst/>
                          <a:gdLst>
                            <a:gd name="textAreaLeft" fmla="*/ 71640 w 344160"/>
                            <a:gd name="textAreaRight" fmla="*/ 272520 w 344160"/>
                            <a:gd name="textAreaTop" fmla="*/ 79200 h 380520"/>
                            <a:gd name="textAreaBottom" fmla="*/ 301320 h 3805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110" name="Group 210"/>
                        <p:cNvGrpSpPr/>
                        <p:nvPr/>
                      </p:nvGrpSpPr>
                      <p:grpSpPr>
                        <a:xfrm>
                          <a:off x="3224160" y="5119560"/>
                          <a:ext cx="131760" cy="154080"/>
                          <a:chOff x="3224160" y="5119560"/>
                          <a:chExt cx="131760" cy="154080"/>
                        </a:xfrm>
                      </p:grpSpPr>
                      <p:sp>
                        <p:nvSpPr>
                          <p:cNvPr id="2111" name="Line 203"/>
                          <p:cNvSpPr/>
                          <p:nvPr/>
                        </p:nvSpPr>
                        <p:spPr>
                          <a:xfrm flipV="1">
                            <a:off x="3224160" y="5119560"/>
                            <a:ext cx="60120" cy="3960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12" name="Line 204"/>
                          <p:cNvSpPr/>
                          <p:nvPr/>
                        </p:nvSpPr>
                        <p:spPr>
                          <a:xfrm flipV="1">
                            <a:off x="3243240" y="5148000"/>
                            <a:ext cx="56880" cy="3960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13" name="Line 205"/>
                          <p:cNvSpPr/>
                          <p:nvPr/>
                        </p:nvSpPr>
                        <p:spPr>
                          <a:xfrm flipV="1">
                            <a:off x="3263760" y="5178240"/>
                            <a:ext cx="57240" cy="363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14" name="Line 206"/>
                          <p:cNvSpPr/>
                          <p:nvPr/>
                        </p:nvSpPr>
                        <p:spPr>
                          <a:xfrm flipV="1">
                            <a:off x="3263760" y="5178240"/>
                            <a:ext cx="57240" cy="363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15" name="Line 207"/>
                          <p:cNvSpPr/>
                          <p:nvPr/>
                        </p:nvSpPr>
                        <p:spPr>
                          <a:xfrm flipV="1">
                            <a:off x="3282840" y="5206680"/>
                            <a:ext cx="57240" cy="38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16" name="Line 208"/>
                          <p:cNvSpPr/>
                          <p:nvPr/>
                        </p:nvSpPr>
                        <p:spPr>
                          <a:xfrm flipV="1">
                            <a:off x="3298680" y="5235480"/>
                            <a:ext cx="57240" cy="38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17" name="Line 209"/>
                          <p:cNvSpPr/>
                          <p:nvPr/>
                        </p:nvSpPr>
                        <p:spPr>
                          <a:xfrm flipV="1">
                            <a:off x="3298680" y="5235480"/>
                            <a:ext cx="57240" cy="3816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118" name="Group 221"/>
                      <p:cNvGrpSpPr/>
                      <p:nvPr/>
                    </p:nvGrpSpPr>
                    <p:grpSpPr>
                      <a:xfrm>
                        <a:off x="3059280" y="5221080"/>
                        <a:ext cx="493200" cy="504000"/>
                        <a:chOff x="3059280" y="5221080"/>
                        <a:chExt cx="493200" cy="504000"/>
                      </a:xfrm>
                    </p:grpSpPr>
                    <p:sp>
                      <p:nvSpPr>
                        <p:cNvPr id="2119" name="AutoShape 212"/>
                        <p:cNvSpPr/>
                        <p:nvPr/>
                      </p:nvSpPr>
                      <p:spPr>
                        <a:xfrm flipV="1" rot="1860000">
                          <a:off x="3132000" y="5283360"/>
                          <a:ext cx="347400" cy="379440"/>
                        </a:xfrm>
                        <a:custGeom>
                          <a:avLst/>
                          <a:gdLst>
                            <a:gd name="textAreaLeft" fmla="*/ 72360 w 347400"/>
                            <a:gd name="textAreaRight" fmla="*/ 275040 w 347400"/>
                            <a:gd name="textAreaTop" fmla="*/ 78840 h 379440"/>
                            <a:gd name="textAreaBottom" fmla="*/ 300600 h 3794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lnTo>
                                <a:pt x="5399" y="21600"/>
                              </a:lnTo>
                              <a:lnTo>
                                <a:pt x="16201" y="21600"/>
                              </a:lnTo>
                              <a:lnTo>
                                <a:pt x="2160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699"/>
                        </a:solidFill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000" bIns="450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120" name="Group 220"/>
                        <p:cNvGrpSpPr/>
                        <p:nvPr/>
                      </p:nvGrpSpPr>
                      <p:grpSpPr>
                        <a:xfrm>
                          <a:off x="3323880" y="5244840"/>
                          <a:ext cx="154080" cy="131760"/>
                          <a:chOff x="3323880" y="5244840"/>
                          <a:chExt cx="154080" cy="131760"/>
                        </a:xfrm>
                      </p:grpSpPr>
                      <p:sp>
                        <p:nvSpPr>
                          <p:cNvPr id="2121" name="Line 213"/>
                          <p:cNvSpPr/>
                          <p:nvPr/>
                        </p:nvSpPr>
                        <p:spPr>
                          <a:xfrm flipV="1">
                            <a:off x="3323880" y="5244840"/>
                            <a:ext cx="36720" cy="586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22" name="Line 214"/>
                          <p:cNvSpPr/>
                          <p:nvPr/>
                        </p:nvSpPr>
                        <p:spPr>
                          <a:xfrm flipV="1">
                            <a:off x="3354120" y="5263920"/>
                            <a:ext cx="36720" cy="586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23" name="Line 215"/>
                          <p:cNvSpPr/>
                          <p:nvPr/>
                        </p:nvSpPr>
                        <p:spPr>
                          <a:xfrm flipV="1">
                            <a:off x="3382920" y="5281560"/>
                            <a:ext cx="36360" cy="56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880" bIns="11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24" name="Line 216"/>
                          <p:cNvSpPr/>
                          <p:nvPr/>
                        </p:nvSpPr>
                        <p:spPr>
                          <a:xfrm flipV="1">
                            <a:off x="3382920" y="5281560"/>
                            <a:ext cx="36360" cy="568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1880" bIns="118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25" name="Line 217"/>
                          <p:cNvSpPr/>
                          <p:nvPr/>
                        </p:nvSpPr>
                        <p:spPr>
                          <a:xfrm flipV="1">
                            <a:off x="3414600" y="5297400"/>
                            <a:ext cx="33120" cy="5868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26" name="Line 218"/>
                          <p:cNvSpPr/>
                          <p:nvPr/>
                        </p:nvSpPr>
                        <p:spPr>
                          <a:xfrm flipV="1">
                            <a:off x="3441600" y="5316480"/>
                            <a:ext cx="36360" cy="60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127" name="Line 219"/>
                          <p:cNvSpPr/>
                          <p:nvPr/>
                        </p:nvSpPr>
                        <p:spPr>
                          <a:xfrm flipV="1">
                            <a:off x="3441600" y="5316480"/>
                            <a:ext cx="36360" cy="60120"/>
                          </a:xfrm>
                          <a:prstGeom prst="line">
                            <a:avLst/>
                          </a:prstGeom>
                          <a:ln w="9525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 anchorCtr="1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128" name="Group 232"/>
                    <p:cNvGrpSpPr/>
                    <p:nvPr/>
                  </p:nvGrpSpPr>
                  <p:grpSpPr>
                    <a:xfrm>
                      <a:off x="3279600" y="5308560"/>
                      <a:ext cx="428040" cy="460800"/>
                      <a:chOff x="3279600" y="5308560"/>
                      <a:chExt cx="428040" cy="460800"/>
                    </a:xfrm>
                  </p:grpSpPr>
                  <p:sp>
                    <p:nvSpPr>
                      <p:cNvPr id="2129" name="AutoShape 223"/>
                      <p:cNvSpPr/>
                      <p:nvPr/>
                    </p:nvSpPr>
                    <p:spPr>
                      <a:xfrm flipH="1" flipV="1" rot="840000">
                        <a:off x="3320280" y="5349600"/>
                        <a:ext cx="345240" cy="383760"/>
                      </a:xfrm>
                      <a:custGeom>
                        <a:avLst/>
                        <a:gdLst>
                          <a:gd name="textAreaLeft" fmla="*/ 71640 w 345240"/>
                          <a:gd name="textAreaRight" fmla="*/ 273240 w 345240"/>
                          <a:gd name="textAreaTop" fmla="*/ 79920 h 383760"/>
                          <a:gd name="textAreaBottom" fmla="*/ 303840 h 3837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5399" y="21600"/>
                            </a:lnTo>
                            <a:lnTo>
                              <a:pt x="16201" y="21600"/>
                            </a:lnTo>
                            <a:lnTo>
                              <a:pt x="21600" y="0"/>
                            </a:lnTo>
                            <a:close/>
                          </a:path>
                        </a:pathLst>
                      </a:custGeom>
                      <a:solidFill>
                        <a:srgbClr val="ff6699"/>
                      </a:solidFill>
                      <a:ln w="9525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130" name="Group 231"/>
                      <p:cNvGrpSpPr/>
                      <p:nvPr/>
                    </p:nvGrpSpPr>
                    <p:grpSpPr>
                      <a:xfrm>
                        <a:off x="3463920" y="5308560"/>
                        <a:ext cx="152280" cy="99720"/>
                        <a:chOff x="3463920" y="5308560"/>
                        <a:chExt cx="152280" cy="99720"/>
                      </a:xfrm>
                    </p:grpSpPr>
                    <p:sp>
                      <p:nvSpPr>
                        <p:cNvPr id="2131" name="Line 224"/>
                        <p:cNvSpPr/>
                        <p:nvPr/>
                      </p:nvSpPr>
                      <p:spPr>
                        <a:xfrm flipV="1">
                          <a:off x="3595680" y="5338440"/>
                          <a:ext cx="20520" cy="6984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4840" bIns="248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132" name="Line 225"/>
                        <p:cNvSpPr/>
                        <p:nvPr/>
                      </p:nvSpPr>
                      <p:spPr>
                        <a:xfrm flipV="1">
                          <a:off x="3563640" y="5332320"/>
                          <a:ext cx="15840" cy="6804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133" name="Line 226"/>
                        <p:cNvSpPr/>
                        <p:nvPr/>
                      </p:nvSpPr>
                      <p:spPr>
                        <a:xfrm flipV="1">
                          <a:off x="3531960" y="5322600"/>
                          <a:ext cx="15840" cy="669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134" name="Line 227"/>
                        <p:cNvSpPr/>
                        <p:nvPr/>
                      </p:nvSpPr>
                      <p:spPr>
                        <a:xfrm flipV="1">
                          <a:off x="3531960" y="5322600"/>
                          <a:ext cx="15840" cy="6696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135" name="Line 228"/>
                        <p:cNvSpPr/>
                        <p:nvPr/>
                      </p:nvSpPr>
                      <p:spPr>
                        <a:xfrm flipV="1">
                          <a:off x="3497040" y="5313240"/>
                          <a:ext cx="1584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136" name="Line 229"/>
                        <p:cNvSpPr/>
                        <p:nvPr/>
                      </p:nvSpPr>
                      <p:spPr>
                        <a:xfrm flipV="1">
                          <a:off x="3463920" y="5308560"/>
                          <a:ext cx="1584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137" name="Line 230"/>
                        <p:cNvSpPr/>
                        <p:nvPr/>
                      </p:nvSpPr>
                      <p:spPr>
                        <a:xfrm flipV="1">
                          <a:off x="3463920" y="5308560"/>
                          <a:ext cx="15840" cy="66600"/>
                        </a:xfrm>
                        <a:prstGeom prst="line">
                          <a:avLst/>
                        </a:prstGeom>
                        <a:ln w="9525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 anchorCtr="1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2138" name="Oval 234"/>
                  <p:cNvSpPr/>
                  <p:nvPr/>
                </p:nvSpPr>
                <p:spPr>
                  <a:xfrm>
                    <a:off x="3559320" y="431316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139" name="Group 237"/>
                  <p:cNvGrpSpPr/>
                  <p:nvPr/>
                </p:nvGrpSpPr>
                <p:grpSpPr>
                  <a:xfrm>
                    <a:off x="3106800" y="4506840"/>
                    <a:ext cx="898200" cy="987120"/>
                    <a:chOff x="3106800" y="4506840"/>
                    <a:chExt cx="898200" cy="987120"/>
                  </a:xfrm>
                </p:grpSpPr>
                <p:sp useBgFill="1">
                  <p:nvSpPr>
                    <p:cNvPr id="2140" name="Oval 235"/>
                    <p:cNvSpPr/>
                    <p:nvPr/>
                  </p:nvSpPr>
                  <p:spPr>
                    <a:xfrm>
                      <a:off x="3106800" y="4506840"/>
                      <a:ext cx="898200" cy="987120"/>
                    </a:xfrm>
                    <a:prstGeom prst="ellips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 useBgFill="1">
                  <p:nvSpPr>
                    <p:cNvPr id="2141" name="Oval 236"/>
                    <p:cNvSpPr/>
                    <p:nvPr/>
                  </p:nvSpPr>
                  <p:spPr>
                    <a:xfrm>
                      <a:off x="3251160" y="4665600"/>
                      <a:ext cx="609120" cy="667800"/>
                    </a:xfrm>
                    <a:prstGeom prst="ellips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2142" name="Oval 238"/>
                  <p:cNvSpPr/>
                  <p:nvPr/>
                </p:nvSpPr>
                <p:spPr>
                  <a:xfrm>
                    <a:off x="4078440" y="4799160"/>
                    <a:ext cx="131400" cy="1281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3" name="Line 239"/>
                  <p:cNvSpPr/>
                  <p:nvPr/>
                </p:nvSpPr>
                <p:spPr>
                  <a:xfrm>
                    <a:off x="3179520" y="4627440"/>
                    <a:ext cx="23760" cy="3960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4" name="Line 240"/>
                  <p:cNvSpPr/>
                  <p:nvPr/>
                </p:nvSpPr>
                <p:spPr>
                  <a:xfrm flipV="1">
                    <a:off x="3362040" y="5483160"/>
                    <a:ext cx="5040" cy="5220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5" name="Line 241"/>
                  <p:cNvSpPr/>
                  <p:nvPr/>
                </p:nvSpPr>
                <p:spPr>
                  <a:xfrm flipV="1">
                    <a:off x="3970080" y="4732200"/>
                    <a:ext cx="34920" cy="3492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6" name="Line 242"/>
                  <p:cNvSpPr/>
                  <p:nvPr/>
                </p:nvSpPr>
                <p:spPr>
                  <a:xfrm flipV="1">
                    <a:off x="3105000" y="5251320"/>
                    <a:ext cx="33480" cy="3492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7" name="Line 243"/>
                  <p:cNvSpPr/>
                  <p:nvPr/>
                </p:nvSpPr>
                <p:spPr>
                  <a:xfrm flipH="1" flipV="1">
                    <a:off x="3936960" y="5286240"/>
                    <a:ext cx="34920" cy="34920"/>
                  </a:xfrm>
                  <a:prstGeom prst="line">
                    <a:avLst/>
                  </a:prstGeom>
                  <a:ln w="50800">
                    <a:solidFill>
                      <a:srgbClr val="ff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8" name="Line 244"/>
                  <p:cNvSpPr/>
                  <p:nvPr/>
                </p:nvSpPr>
                <p:spPr>
                  <a:xfrm flipH="1">
                    <a:off x="3889080" y="4970160"/>
                    <a:ext cx="66960" cy="20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49" name="Line 245"/>
                  <p:cNvSpPr/>
                  <p:nvPr/>
                </p:nvSpPr>
                <p:spPr>
                  <a:xfrm>
                    <a:off x="3244680" y="4321080"/>
                    <a:ext cx="34920" cy="1000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0" name="Line 246"/>
                  <p:cNvSpPr/>
                  <p:nvPr/>
                </p:nvSpPr>
                <p:spPr>
                  <a:xfrm>
                    <a:off x="3311280" y="4286160"/>
                    <a:ext cx="36720" cy="1029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1" name="Line 247"/>
                  <p:cNvSpPr/>
                  <p:nvPr/>
                </p:nvSpPr>
                <p:spPr>
                  <a:xfrm>
                    <a:off x="3382920" y="4248000"/>
                    <a:ext cx="349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2" name="Line 248"/>
                  <p:cNvSpPr/>
                  <p:nvPr/>
                </p:nvSpPr>
                <p:spPr>
                  <a:xfrm>
                    <a:off x="3450960" y="4213080"/>
                    <a:ext cx="31680" cy="1062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3" name="Line 249"/>
                  <p:cNvSpPr/>
                  <p:nvPr/>
                </p:nvSpPr>
                <p:spPr>
                  <a:xfrm>
                    <a:off x="3522600" y="4214520"/>
                    <a:ext cx="360" cy="716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4" name="Line 250"/>
                  <p:cNvSpPr/>
                  <p:nvPr/>
                </p:nvSpPr>
                <p:spPr>
                  <a:xfrm flipH="1">
                    <a:off x="3589200" y="4213080"/>
                    <a:ext cx="33120" cy="1062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5" name="Line 251"/>
                  <p:cNvSpPr/>
                  <p:nvPr/>
                </p:nvSpPr>
                <p:spPr>
                  <a:xfrm flipH="1">
                    <a:off x="3657600" y="4213080"/>
                    <a:ext cx="36360" cy="1062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6" name="Line 252"/>
                  <p:cNvSpPr/>
                  <p:nvPr/>
                </p:nvSpPr>
                <p:spPr>
                  <a:xfrm>
                    <a:off x="3728880" y="5595840"/>
                    <a:ext cx="349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7" name="Line 253"/>
                  <p:cNvSpPr/>
                  <p:nvPr/>
                </p:nvSpPr>
                <p:spPr>
                  <a:xfrm>
                    <a:off x="3797280" y="5564160"/>
                    <a:ext cx="34920" cy="1015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8" name="Line 254"/>
                  <p:cNvSpPr/>
                  <p:nvPr/>
                </p:nvSpPr>
                <p:spPr>
                  <a:xfrm>
                    <a:off x="3968640" y="5492520"/>
                    <a:ext cx="6984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9" name="Line 255"/>
                  <p:cNvSpPr/>
                  <p:nvPr/>
                </p:nvSpPr>
                <p:spPr>
                  <a:xfrm>
                    <a:off x="3867120" y="5562360"/>
                    <a:ext cx="3492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0" name="Line 256"/>
                  <p:cNvSpPr/>
                  <p:nvPr/>
                </p:nvSpPr>
                <p:spPr>
                  <a:xfrm>
                    <a:off x="3933720" y="5527440"/>
                    <a:ext cx="3492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1" name="Line 257"/>
                  <p:cNvSpPr/>
                  <p:nvPr/>
                </p:nvSpPr>
                <p:spPr>
                  <a:xfrm flipH="1" flipV="1">
                    <a:off x="4003560" y="5424480"/>
                    <a:ext cx="6984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2" name="Line 258"/>
                  <p:cNvSpPr/>
                  <p:nvPr/>
                </p:nvSpPr>
                <p:spPr>
                  <a:xfrm>
                    <a:off x="3138480" y="4389120"/>
                    <a:ext cx="3636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3" name="Line 259"/>
                  <p:cNvSpPr/>
                  <p:nvPr/>
                </p:nvSpPr>
                <p:spPr>
                  <a:xfrm>
                    <a:off x="3174840" y="4352760"/>
                    <a:ext cx="3348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4" name="Line 260"/>
                  <p:cNvSpPr/>
                  <p:nvPr/>
                </p:nvSpPr>
                <p:spPr>
                  <a:xfrm>
                    <a:off x="3071520" y="4421160"/>
                    <a:ext cx="6696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5" name="Line 261"/>
                  <p:cNvSpPr/>
                  <p:nvPr/>
                </p:nvSpPr>
                <p:spPr>
                  <a:xfrm>
                    <a:off x="3036600" y="4491000"/>
                    <a:ext cx="6840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6" name="Line 262"/>
                  <p:cNvSpPr/>
                  <p:nvPr/>
                </p:nvSpPr>
                <p:spPr>
                  <a:xfrm>
                    <a:off x="3001680" y="4527360"/>
                    <a:ext cx="6984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7" name="Line 263"/>
                  <p:cNvSpPr/>
                  <p:nvPr/>
                </p:nvSpPr>
                <p:spPr>
                  <a:xfrm>
                    <a:off x="2965320" y="4560840"/>
                    <a:ext cx="10620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8" name="Line 264"/>
                  <p:cNvSpPr/>
                  <p:nvPr/>
                </p:nvSpPr>
                <p:spPr>
                  <a:xfrm>
                    <a:off x="2931840" y="4632120"/>
                    <a:ext cx="6984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69" name="Line 265"/>
                  <p:cNvSpPr/>
                  <p:nvPr/>
                </p:nvSpPr>
                <p:spPr>
                  <a:xfrm>
                    <a:off x="4108320" y="5319360"/>
                    <a:ext cx="1029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0" name="Line 266"/>
                  <p:cNvSpPr/>
                  <p:nvPr/>
                </p:nvSpPr>
                <p:spPr>
                  <a:xfrm>
                    <a:off x="2896920" y="4698720"/>
                    <a:ext cx="1047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1" name="Line 267"/>
                  <p:cNvSpPr/>
                  <p:nvPr/>
                </p:nvSpPr>
                <p:spPr>
                  <a:xfrm>
                    <a:off x="4141440" y="5251320"/>
                    <a:ext cx="10512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2" name="Line 268"/>
                  <p:cNvSpPr/>
                  <p:nvPr/>
                </p:nvSpPr>
                <p:spPr>
                  <a:xfrm>
                    <a:off x="4141440" y="5181480"/>
                    <a:ext cx="1051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3" name="Line 269"/>
                  <p:cNvSpPr/>
                  <p:nvPr/>
                </p:nvSpPr>
                <p:spPr>
                  <a:xfrm>
                    <a:off x="4176360" y="5111640"/>
                    <a:ext cx="1033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4" name="Line 270"/>
                  <p:cNvSpPr/>
                  <p:nvPr/>
                </p:nvSpPr>
                <p:spPr>
                  <a:xfrm flipV="1">
                    <a:off x="4176360" y="4767120"/>
                    <a:ext cx="103320" cy="36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5" name="Line 271"/>
                  <p:cNvSpPr/>
                  <p:nvPr/>
                </p:nvSpPr>
                <p:spPr>
                  <a:xfrm flipV="1">
                    <a:off x="4211280" y="4838400"/>
                    <a:ext cx="6840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6" name="Line 272"/>
                  <p:cNvSpPr/>
                  <p:nvPr/>
                </p:nvSpPr>
                <p:spPr>
                  <a:xfrm flipV="1">
                    <a:off x="4141440" y="4698720"/>
                    <a:ext cx="10512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7" name="Line 273"/>
                  <p:cNvSpPr/>
                  <p:nvPr/>
                </p:nvSpPr>
                <p:spPr>
                  <a:xfrm flipV="1">
                    <a:off x="4140000" y="4630680"/>
                    <a:ext cx="71280" cy="666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8" name="Line 274"/>
                  <p:cNvSpPr/>
                  <p:nvPr/>
                </p:nvSpPr>
                <p:spPr>
                  <a:xfrm flipV="1">
                    <a:off x="3762360" y="4248000"/>
                    <a:ext cx="331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79" name="Line 275"/>
                  <p:cNvSpPr/>
                  <p:nvPr/>
                </p:nvSpPr>
                <p:spPr>
                  <a:xfrm flipV="1">
                    <a:off x="3795480" y="4319280"/>
                    <a:ext cx="6984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0" name="Line 276"/>
                  <p:cNvSpPr/>
                  <p:nvPr/>
                </p:nvSpPr>
                <p:spPr>
                  <a:xfrm flipV="1">
                    <a:off x="3900240" y="4352760"/>
                    <a:ext cx="68400" cy="6840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1" name="Line 277"/>
                  <p:cNvSpPr/>
                  <p:nvPr/>
                </p:nvSpPr>
                <p:spPr>
                  <a:xfrm flipV="1">
                    <a:off x="3968640" y="4421160"/>
                    <a:ext cx="6984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2" name="Line 278"/>
                  <p:cNvSpPr/>
                  <p:nvPr/>
                </p:nvSpPr>
                <p:spPr>
                  <a:xfrm flipV="1">
                    <a:off x="4003560" y="4491000"/>
                    <a:ext cx="10476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3" name="Line 279"/>
                  <p:cNvSpPr/>
                  <p:nvPr/>
                </p:nvSpPr>
                <p:spPr>
                  <a:xfrm flipV="1">
                    <a:off x="2896920" y="5181480"/>
                    <a:ext cx="104760" cy="36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4" name="Line 280"/>
                  <p:cNvSpPr/>
                  <p:nvPr/>
                </p:nvSpPr>
                <p:spPr>
                  <a:xfrm flipV="1">
                    <a:off x="4108320" y="4593960"/>
                    <a:ext cx="66600" cy="367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5" name="Line 281"/>
                  <p:cNvSpPr/>
                  <p:nvPr/>
                </p:nvSpPr>
                <p:spPr>
                  <a:xfrm>
                    <a:off x="2896920" y="4767120"/>
                    <a:ext cx="104760" cy="36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6" name="Line 282"/>
                  <p:cNvSpPr/>
                  <p:nvPr/>
                </p:nvSpPr>
                <p:spPr>
                  <a:xfrm>
                    <a:off x="2865240" y="483696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7" name="Line 283"/>
                  <p:cNvSpPr/>
                  <p:nvPr/>
                </p:nvSpPr>
                <p:spPr>
                  <a:xfrm>
                    <a:off x="2865240" y="490536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8" name="Line 284"/>
                  <p:cNvSpPr/>
                  <p:nvPr/>
                </p:nvSpPr>
                <p:spPr>
                  <a:xfrm>
                    <a:off x="2865240" y="497340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9" name="Line 285"/>
                  <p:cNvSpPr/>
                  <p:nvPr/>
                </p:nvSpPr>
                <p:spPr>
                  <a:xfrm>
                    <a:off x="2865240" y="5078160"/>
                    <a:ext cx="6660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0" name="Line 286"/>
                  <p:cNvSpPr/>
                  <p:nvPr/>
                </p:nvSpPr>
                <p:spPr>
                  <a:xfrm>
                    <a:off x="2865240" y="5146560"/>
                    <a:ext cx="1015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1" name="Line 287"/>
                  <p:cNvSpPr/>
                  <p:nvPr/>
                </p:nvSpPr>
                <p:spPr>
                  <a:xfrm flipV="1">
                    <a:off x="2896920" y="5251320"/>
                    <a:ext cx="1047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2" name="Line 288"/>
                  <p:cNvSpPr/>
                  <p:nvPr/>
                </p:nvSpPr>
                <p:spPr>
                  <a:xfrm flipV="1">
                    <a:off x="2933640" y="5319360"/>
                    <a:ext cx="104760" cy="349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3" name="Line 289"/>
                  <p:cNvSpPr/>
                  <p:nvPr/>
                </p:nvSpPr>
                <p:spPr>
                  <a:xfrm flipV="1">
                    <a:off x="3001680" y="5391000"/>
                    <a:ext cx="6984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4" name="Line 290"/>
                  <p:cNvSpPr/>
                  <p:nvPr/>
                </p:nvSpPr>
                <p:spPr>
                  <a:xfrm flipV="1">
                    <a:off x="3036600" y="5424480"/>
                    <a:ext cx="6840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5" name="Line 291"/>
                  <p:cNvSpPr/>
                  <p:nvPr/>
                </p:nvSpPr>
                <p:spPr>
                  <a:xfrm flipV="1">
                    <a:off x="3071520" y="5492520"/>
                    <a:ext cx="6696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6" name="Line 292"/>
                  <p:cNvSpPr/>
                  <p:nvPr/>
                </p:nvSpPr>
                <p:spPr>
                  <a:xfrm flipV="1">
                    <a:off x="3138480" y="5564160"/>
                    <a:ext cx="36360" cy="3312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7" name="Line 293"/>
                  <p:cNvSpPr/>
                  <p:nvPr/>
                </p:nvSpPr>
                <p:spPr>
                  <a:xfrm flipH="1" flipV="1">
                    <a:off x="3657600" y="5597280"/>
                    <a:ext cx="36360" cy="1396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8" name="Line 294"/>
                  <p:cNvSpPr/>
                  <p:nvPr/>
                </p:nvSpPr>
                <p:spPr>
                  <a:xfrm flipV="1">
                    <a:off x="3590640" y="5630760"/>
                    <a:ext cx="36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99" name="Line 295"/>
                  <p:cNvSpPr/>
                  <p:nvPr/>
                </p:nvSpPr>
                <p:spPr>
                  <a:xfrm flipV="1">
                    <a:off x="3278160" y="5595840"/>
                    <a:ext cx="33120" cy="680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0" name="Line 296"/>
                  <p:cNvSpPr/>
                  <p:nvPr/>
                </p:nvSpPr>
                <p:spPr>
                  <a:xfrm flipV="1">
                    <a:off x="3348000" y="5632200"/>
                    <a:ext cx="3312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1" name="Line 297"/>
                  <p:cNvSpPr/>
                  <p:nvPr/>
                </p:nvSpPr>
                <p:spPr>
                  <a:xfrm flipV="1">
                    <a:off x="3416040" y="5632200"/>
                    <a:ext cx="33480" cy="6984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2" name="Line 298"/>
                  <p:cNvSpPr/>
                  <p:nvPr/>
                </p:nvSpPr>
                <p:spPr>
                  <a:xfrm flipV="1">
                    <a:off x="3485880" y="5630760"/>
                    <a:ext cx="36720" cy="1047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3" name="Line 299"/>
                  <p:cNvSpPr/>
                  <p:nvPr/>
                </p:nvSpPr>
                <p:spPr>
                  <a:xfrm>
                    <a:off x="4211280" y="4973400"/>
                    <a:ext cx="10332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4" name="Line 300"/>
                  <p:cNvSpPr/>
                  <p:nvPr/>
                </p:nvSpPr>
                <p:spPr>
                  <a:xfrm>
                    <a:off x="4211280" y="5043240"/>
                    <a:ext cx="68400" cy="36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5" name="Line 301"/>
                  <p:cNvSpPr/>
                  <p:nvPr/>
                </p:nvSpPr>
                <p:spPr>
                  <a:xfrm flipV="1">
                    <a:off x="4211280" y="4906800"/>
                    <a:ext cx="68400" cy="33480"/>
                  </a:xfrm>
                  <a:prstGeom prst="line">
                    <a:avLst/>
                  </a:prstGeom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6" name="Oval 302"/>
                  <p:cNvSpPr/>
                  <p:nvPr/>
                </p:nvSpPr>
                <p:spPr>
                  <a:xfrm>
                    <a:off x="3246480" y="4384800"/>
                    <a:ext cx="131400" cy="1281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7" name="Oval 303"/>
                  <p:cNvSpPr/>
                  <p:nvPr/>
                </p:nvSpPr>
                <p:spPr>
                  <a:xfrm>
                    <a:off x="3903840" y="448632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8" name="Oval 304"/>
                  <p:cNvSpPr/>
                  <p:nvPr/>
                </p:nvSpPr>
                <p:spPr>
                  <a:xfrm>
                    <a:off x="4043520" y="5178600"/>
                    <a:ext cx="131400" cy="1281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09" name="Oval 305"/>
                  <p:cNvSpPr/>
                  <p:nvPr/>
                </p:nvSpPr>
                <p:spPr>
                  <a:xfrm>
                    <a:off x="3836880" y="545472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0" name="Oval 306"/>
                  <p:cNvSpPr/>
                  <p:nvPr/>
                </p:nvSpPr>
                <p:spPr>
                  <a:xfrm>
                    <a:off x="3457440" y="5557680"/>
                    <a:ext cx="12996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1" name="Oval 307"/>
                  <p:cNvSpPr/>
                  <p:nvPr/>
                </p:nvSpPr>
                <p:spPr>
                  <a:xfrm>
                    <a:off x="3111480" y="5418000"/>
                    <a:ext cx="131400" cy="13140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2" name="Oval 308"/>
                  <p:cNvSpPr/>
                  <p:nvPr/>
                </p:nvSpPr>
                <p:spPr>
                  <a:xfrm>
                    <a:off x="2971800" y="4694400"/>
                    <a:ext cx="131400" cy="13140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3" name="Oval 309"/>
                  <p:cNvSpPr/>
                  <p:nvPr/>
                </p:nvSpPr>
                <p:spPr>
                  <a:xfrm>
                    <a:off x="2938320" y="5073480"/>
                    <a:ext cx="131400" cy="129960"/>
                  </a:xfrm>
                  <a:prstGeom prst="ellipse">
                    <a:avLst/>
                  </a:prstGeom>
                  <a:solidFill>
                    <a:srgbClr val="ff6699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214" name="Group 340"/>
                <p:cNvGrpSpPr/>
                <p:nvPr/>
              </p:nvGrpSpPr>
              <p:grpSpPr>
                <a:xfrm>
                  <a:off x="5520600" y="1792440"/>
                  <a:ext cx="1172520" cy="1128600"/>
                  <a:chOff x="5520600" y="1792440"/>
                  <a:chExt cx="1172520" cy="1128600"/>
                </a:xfrm>
              </p:grpSpPr>
              <p:sp useBgFill="1">
                <p:nvSpPr>
                  <p:cNvPr id="2215" name="Oval 311"/>
                  <p:cNvSpPr/>
                  <p:nvPr/>
                </p:nvSpPr>
                <p:spPr>
                  <a:xfrm>
                    <a:off x="5543640" y="1827360"/>
                    <a:ext cx="110448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6" name="AutoShape 312"/>
                  <p:cNvSpPr/>
                  <p:nvPr/>
                </p:nvSpPr>
                <p:spPr>
                  <a:xfrm flipH="1" flipV="1" rot="16440000">
                    <a:off x="6382440" y="2179800"/>
                    <a:ext cx="242640" cy="361440"/>
                  </a:xfrm>
                  <a:custGeom>
                    <a:avLst/>
                    <a:gdLst>
                      <a:gd name="textAreaLeft" fmla="*/ 50400 w 242640"/>
                      <a:gd name="textAreaRight" fmla="*/ 192240 w 242640"/>
                      <a:gd name="textAreaTop" fmla="*/ 75240 h 361440"/>
                      <a:gd name="textAreaBottom" fmla="*/ 286200 h 361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7" name="Oval 313"/>
                  <p:cNvSpPr/>
                  <p:nvPr/>
                </p:nvSpPr>
                <p:spPr>
                  <a:xfrm rot="5640000">
                    <a:off x="6491160" y="2325240"/>
                    <a:ext cx="11232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8" name="AutoShape 314"/>
                  <p:cNvSpPr/>
                  <p:nvPr/>
                </p:nvSpPr>
                <p:spPr>
                  <a:xfrm flipH="1" flipV="1" rot="7980000">
                    <a:off x="5689800" y="1929960"/>
                    <a:ext cx="245880" cy="34560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2000 h 345600"/>
                      <a:gd name="textAreaBottom" fmla="*/ 273600 h 345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9" name="Oval 315"/>
                  <p:cNvSpPr/>
                  <p:nvPr/>
                </p:nvSpPr>
                <p:spPr>
                  <a:xfrm rot="18780000">
                    <a:off x="5733720" y="201780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0" name="AutoShape 316"/>
                  <p:cNvSpPr/>
                  <p:nvPr/>
                </p:nvSpPr>
                <p:spPr>
                  <a:xfrm flipH="1" flipV="1" rot="6360000">
                    <a:off x="5640120" y="20455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1" name="Oval 317"/>
                  <p:cNvSpPr/>
                  <p:nvPr/>
                </p:nvSpPr>
                <p:spPr>
                  <a:xfrm rot="17160000">
                    <a:off x="5630760" y="218952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2" name="AutoShape 318"/>
                  <p:cNvSpPr/>
                  <p:nvPr/>
                </p:nvSpPr>
                <p:spPr>
                  <a:xfrm flipH="1" flipV="1" rot="19140000">
                    <a:off x="6298920" y="237960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3" name="AutoShape 319"/>
                  <p:cNvSpPr/>
                  <p:nvPr/>
                </p:nvSpPr>
                <p:spPr>
                  <a:xfrm flipH="1" flipV="1" rot="18000000">
                    <a:off x="6348960" y="2275200"/>
                    <a:ext cx="167760" cy="496440"/>
                  </a:xfrm>
                  <a:custGeom>
                    <a:avLst/>
                    <a:gdLst>
                      <a:gd name="textAreaLeft" fmla="*/ 34920 w 167760"/>
                      <a:gd name="textAreaRight" fmla="*/ 132840 w 167760"/>
                      <a:gd name="textAreaTop" fmla="*/ 103320 h 496440"/>
                      <a:gd name="textAreaBottom" fmla="*/ 393120 h 496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4" name="Oval 320"/>
                  <p:cNvSpPr/>
                  <p:nvPr/>
                </p:nvSpPr>
                <p:spPr>
                  <a:xfrm rot="7200000">
                    <a:off x="6458400" y="249876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5" name="AutoShape 321"/>
                  <p:cNvSpPr/>
                  <p:nvPr/>
                </p:nvSpPr>
                <p:spPr>
                  <a:xfrm flipH="1" flipV="1" rot="14700000">
                    <a:off x="6334560" y="2017440"/>
                    <a:ext cx="218880" cy="39492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2080 h 394920"/>
                      <a:gd name="textAreaBottom" fmla="*/ 312840 h 394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6" name="Oval 322"/>
                  <p:cNvSpPr/>
                  <p:nvPr/>
                </p:nvSpPr>
                <p:spPr>
                  <a:xfrm rot="3900000">
                    <a:off x="6458040" y="215388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7" name="AutoShape 323"/>
                  <p:cNvSpPr/>
                  <p:nvPr/>
                </p:nvSpPr>
                <p:spPr>
                  <a:xfrm flipH="1" flipV="1" rot="13020000">
                    <a:off x="6194520" y="1918080"/>
                    <a:ext cx="245880" cy="4312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8" name="AutoShape 324"/>
                  <p:cNvSpPr/>
                  <p:nvPr/>
                </p:nvSpPr>
                <p:spPr>
                  <a:xfrm flipH="1" flipV="1" rot="20640000">
                    <a:off x="6039720" y="2424960"/>
                    <a:ext cx="356760" cy="455400"/>
                  </a:xfrm>
                  <a:custGeom>
                    <a:avLst/>
                    <a:gdLst>
                      <a:gd name="textAreaLeft" fmla="*/ 74160 w 356760"/>
                      <a:gd name="textAreaRight" fmla="*/ 282600 w 35676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29" name="Oval 325"/>
                  <p:cNvSpPr/>
                  <p:nvPr/>
                </p:nvSpPr>
                <p:spPr>
                  <a:xfrm rot="9840000">
                    <a:off x="6148800" y="270720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0" name="AutoShape 326"/>
                  <p:cNvSpPr/>
                  <p:nvPr/>
                </p:nvSpPr>
                <p:spPr>
                  <a:xfrm flipH="1" flipV="1" rot="480000">
                    <a:off x="5904000" y="2525400"/>
                    <a:ext cx="302760" cy="371160"/>
                  </a:xfrm>
                  <a:custGeom>
                    <a:avLst/>
                    <a:gdLst>
                      <a:gd name="textAreaLeft" fmla="*/ 63000 w 302760"/>
                      <a:gd name="textAreaRight" fmla="*/ 239760 w 302760"/>
                      <a:gd name="textAreaTop" fmla="*/ 77040 h 371160"/>
                      <a:gd name="textAreaBottom" fmla="*/ 293760 h 371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1" name="AutoShape 327"/>
                  <p:cNvSpPr/>
                  <p:nvPr/>
                </p:nvSpPr>
                <p:spPr>
                  <a:xfrm flipH="1" flipV="1" rot="1800000">
                    <a:off x="5758920" y="2588400"/>
                    <a:ext cx="262080" cy="239040"/>
                  </a:xfrm>
                  <a:custGeom>
                    <a:avLst/>
                    <a:gdLst>
                      <a:gd name="textAreaLeft" fmla="*/ 54360 w 262080"/>
                      <a:gd name="textAreaRight" fmla="*/ 207720 w 262080"/>
                      <a:gd name="textAreaTop" fmla="*/ 49680 h 239040"/>
                      <a:gd name="textAreaBottom" fmla="*/ 189360 h 239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2" name="Oval 328"/>
                  <p:cNvSpPr/>
                  <p:nvPr/>
                </p:nvSpPr>
                <p:spPr>
                  <a:xfrm rot="12600000">
                    <a:off x="5838840" y="2660760"/>
                    <a:ext cx="104400" cy="964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3" name="AutoShape 329"/>
                  <p:cNvSpPr/>
                  <p:nvPr/>
                </p:nvSpPr>
                <p:spPr>
                  <a:xfrm flipH="1" flipV="1" rot="3600000">
                    <a:off x="5712120" y="2341440"/>
                    <a:ext cx="237600" cy="4312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4" name="AutoShape 330"/>
                  <p:cNvSpPr/>
                  <p:nvPr/>
                </p:nvSpPr>
                <p:spPr>
                  <a:xfrm flipH="1" flipV="1" rot="5220000">
                    <a:off x="5595120" y="2169720"/>
                    <a:ext cx="325080" cy="414000"/>
                  </a:xfrm>
                  <a:custGeom>
                    <a:avLst/>
                    <a:gdLst>
                      <a:gd name="textAreaLeft" fmla="*/ 67680 w 325080"/>
                      <a:gd name="textAreaRight" fmla="*/ 257400 w 325080"/>
                      <a:gd name="textAreaTop" fmla="*/ 86040 h 414000"/>
                      <a:gd name="textAreaBottom" fmla="*/ 327960 h 41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5" name="Oval 331"/>
                  <p:cNvSpPr/>
                  <p:nvPr/>
                </p:nvSpPr>
                <p:spPr>
                  <a:xfrm rot="16020000">
                    <a:off x="5667120" y="2311560"/>
                    <a:ext cx="117000" cy="190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6" name="Freeform 332"/>
                  <p:cNvSpPr/>
                  <p:nvPr/>
                </p:nvSpPr>
                <p:spPr>
                  <a:xfrm>
                    <a:off x="6203880" y="1898640"/>
                    <a:ext cx="126720" cy="2361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80" h="149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4"/>
                        </a:lnTo>
                        <a:lnTo>
                          <a:pt x="79" y="29"/>
                        </a:lnTo>
                        <a:lnTo>
                          <a:pt x="74" y="49"/>
                        </a:lnTo>
                        <a:lnTo>
                          <a:pt x="69" y="64"/>
                        </a:lnTo>
                        <a:lnTo>
                          <a:pt x="59" y="79"/>
                        </a:lnTo>
                        <a:lnTo>
                          <a:pt x="59" y="93"/>
                        </a:lnTo>
                        <a:lnTo>
                          <a:pt x="49" y="108"/>
                        </a:lnTo>
                        <a:lnTo>
                          <a:pt x="40" y="128"/>
                        </a:lnTo>
                        <a:lnTo>
                          <a:pt x="35" y="143"/>
                        </a:lnTo>
                        <a:lnTo>
                          <a:pt x="20" y="148"/>
                        </a:lnTo>
                        <a:lnTo>
                          <a:pt x="15" y="133"/>
                        </a:lnTo>
                        <a:lnTo>
                          <a:pt x="15" y="118"/>
                        </a:lnTo>
                        <a:lnTo>
                          <a:pt x="15" y="103"/>
                        </a:lnTo>
                        <a:lnTo>
                          <a:pt x="15" y="88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37" name="Freeform 333"/>
                  <p:cNvSpPr/>
                  <p:nvPr/>
                </p:nvSpPr>
                <p:spPr>
                  <a:xfrm>
                    <a:off x="5791320" y="1878120"/>
                    <a:ext cx="210600" cy="218880"/>
                  </a:xfrm>
                  <a:custGeom>
                    <a:avLst/>
                    <a:gdLst>
                      <a:gd name="textAreaLeft" fmla="*/ 0 w 210600"/>
                      <a:gd name="textAreaRight" fmla="*/ 210960 w 2106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33" h="138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8" y="8"/>
                        </a:lnTo>
                        <a:lnTo>
                          <a:pt x="63" y="8"/>
                        </a:lnTo>
                        <a:lnTo>
                          <a:pt x="83" y="13"/>
                        </a:lnTo>
                        <a:lnTo>
                          <a:pt x="97" y="13"/>
                        </a:lnTo>
                        <a:lnTo>
                          <a:pt x="112" y="13"/>
                        </a:lnTo>
                        <a:lnTo>
                          <a:pt x="127" y="18"/>
                        </a:lnTo>
                        <a:lnTo>
                          <a:pt x="132" y="33"/>
                        </a:lnTo>
                        <a:lnTo>
                          <a:pt x="127" y="47"/>
                        </a:lnTo>
                        <a:lnTo>
                          <a:pt x="117" y="62"/>
                        </a:lnTo>
                        <a:lnTo>
                          <a:pt x="107" y="77"/>
                        </a:lnTo>
                        <a:lnTo>
                          <a:pt x="102" y="92"/>
                        </a:lnTo>
                        <a:lnTo>
                          <a:pt x="97" y="107"/>
                        </a:lnTo>
                        <a:lnTo>
                          <a:pt x="97" y="122"/>
                        </a:lnTo>
                        <a:lnTo>
                          <a:pt x="92" y="137"/>
                        </a:lnTo>
                        <a:lnTo>
                          <a:pt x="78" y="137"/>
                        </a:lnTo>
                        <a:lnTo>
                          <a:pt x="68" y="122"/>
                        </a:lnTo>
                        <a:lnTo>
                          <a:pt x="63" y="107"/>
                        </a:lnTo>
                        <a:lnTo>
                          <a:pt x="53" y="92"/>
                        </a:lnTo>
                        <a:lnTo>
                          <a:pt x="43" y="77"/>
                        </a:lnTo>
                        <a:lnTo>
                          <a:pt x="29" y="67"/>
                        </a:lnTo>
                        <a:lnTo>
                          <a:pt x="19" y="52"/>
                        </a:lnTo>
                        <a:lnTo>
                          <a:pt x="9" y="37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238" name="Group 336"/>
                  <p:cNvGrpSpPr/>
                  <p:nvPr/>
                </p:nvGrpSpPr>
                <p:grpSpPr>
                  <a:xfrm>
                    <a:off x="5941440" y="1792440"/>
                    <a:ext cx="366120" cy="388800"/>
                    <a:chOff x="5941440" y="1792440"/>
                    <a:chExt cx="366120" cy="388800"/>
                  </a:xfrm>
                </p:grpSpPr>
                <p:sp>
                  <p:nvSpPr>
                    <p:cNvPr id="2239" name="AutoShape 334"/>
                    <p:cNvSpPr/>
                    <p:nvPr/>
                  </p:nvSpPr>
                  <p:spPr>
                    <a:xfrm flipH="1" flipV="1" rot="12180000">
                      <a:off x="5990760" y="1832040"/>
                      <a:ext cx="266400" cy="3092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40" name="Oval 335"/>
                    <p:cNvSpPr/>
                    <p:nvPr/>
                  </p:nvSpPr>
                  <p:spPr>
                    <a:xfrm rot="1380000">
                      <a:off x="6070680" y="1923840"/>
                      <a:ext cx="10764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41" name="Group 339"/>
                  <p:cNvGrpSpPr/>
                  <p:nvPr/>
                </p:nvGrpSpPr>
                <p:grpSpPr>
                  <a:xfrm>
                    <a:off x="5841000" y="1820880"/>
                    <a:ext cx="327960" cy="437040"/>
                    <a:chOff x="5841000" y="1820880"/>
                    <a:chExt cx="327960" cy="437040"/>
                  </a:xfrm>
                </p:grpSpPr>
                <p:sp>
                  <p:nvSpPr>
                    <p:cNvPr id="2242" name="AutoShape 337"/>
                    <p:cNvSpPr/>
                    <p:nvPr/>
                  </p:nvSpPr>
                  <p:spPr>
                    <a:xfrm flipV="1" rot="10560000">
                      <a:off x="5855040" y="1830600"/>
                      <a:ext cx="299520" cy="417240"/>
                    </a:xfrm>
                    <a:custGeom>
                      <a:avLst/>
                      <a:gdLst>
                        <a:gd name="textAreaLeft" fmla="*/ 62280 w 299520"/>
                        <a:gd name="textAreaRight" fmla="*/ 237240 w 299520"/>
                        <a:gd name="textAreaTop" fmla="*/ 86760 h 417240"/>
                        <a:gd name="textAreaBottom" fmla="*/ 330480 h 417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43" name="Oval 338"/>
                    <p:cNvSpPr/>
                    <p:nvPr/>
                  </p:nvSpPr>
                  <p:spPr>
                    <a:xfrm flipH="1" rot="21360000">
                      <a:off x="5943600" y="1953720"/>
                      <a:ext cx="12024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244" name="Group 370"/>
                <p:cNvGrpSpPr/>
                <p:nvPr/>
              </p:nvGrpSpPr>
              <p:grpSpPr>
                <a:xfrm>
                  <a:off x="4277520" y="2276280"/>
                  <a:ext cx="1172160" cy="1130400"/>
                  <a:chOff x="4277520" y="2276280"/>
                  <a:chExt cx="1172160" cy="1130400"/>
                </a:xfrm>
              </p:grpSpPr>
              <p:sp useBgFill="1">
                <p:nvSpPr>
                  <p:cNvPr id="2245" name="Oval 341"/>
                  <p:cNvSpPr/>
                  <p:nvPr/>
                </p:nvSpPr>
                <p:spPr>
                  <a:xfrm>
                    <a:off x="4300560" y="2311560"/>
                    <a:ext cx="110448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6" name="AutoShape 342"/>
                  <p:cNvSpPr/>
                  <p:nvPr/>
                </p:nvSpPr>
                <p:spPr>
                  <a:xfrm flipH="1" flipV="1" rot="16440000">
                    <a:off x="5136120" y="2663280"/>
                    <a:ext cx="245880" cy="36324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5600 h 363240"/>
                      <a:gd name="textAreaBottom" fmla="*/ 287640 h 363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7" name="Oval 343"/>
                  <p:cNvSpPr/>
                  <p:nvPr/>
                </p:nvSpPr>
                <p:spPr>
                  <a:xfrm rot="5640000">
                    <a:off x="5248440" y="2806560"/>
                    <a:ext cx="110880" cy="110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8" name="AutoShape 344"/>
                  <p:cNvSpPr/>
                  <p:nvPr/>
                </p:nvSpPr>
                <p:spPr>
                  <a:xfrm flipH="1" flipV="1" rot="7980000">
                    <a:off x="4443480" y="2412360"/>
                    <a:ext cx="247320" cy="34452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4520"/>
                      <a:gd name="textAreaBottom" fmla="*/ 272880 h 344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49" name="Oval 345"/>
                  <p:cNvSpPr/>
                  <p:nvPr/>
                </p:nvSpPr>
                <p:spPr>
                  <a:xfrm rot="18780000">
                    <a:off x="4488840" y="249876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0" name="AutoShape 346"/>
                  <p:cNvSpPr/>
                  <p:nvPr/>
                </p:nvSpPr>
                <p:spPr>
                  <a:xfrm flipH="1" flipV="1" rot="6360000">
                    <a:off x="4397040" y="25297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1" name="Oval 347"/>
                  <p:cNvSpPr/>
                  <p:nvPr/>
                </p:nvSpPr>
                <p:spPr>
                  <a:xfrm rot="17160000">
                    <a:off x="4385880" y="2671920"/>
                    <a:ext cx="10440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2" name="AutoShape 348"/>
                  <p:cNvSpPr/>
                  <p:nvPr/>
                </p:nvSpPr>
                <p:spPr>
                  <a:xfrm flipH="1" flipV="1" rot="19140000">
                    <a:off x="5055840" y="286380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3" name="AutoShape 349"/>
                  <p:cNvSpPr/>
                  <p:nvPr/>
                </p:nvSpPr>
                <p:spPr>
                  <a:xfrm flipH="1" flipV="1" rot="18000000">
                    <a:off x="5105160" y="2759040"/>
                    <a:ext cx="167760" cy="498240"/>
                  </a:xfrm>
                  <a:custGeom>
                    <a:avLst/>
                    <a:gdLst>
                      <a:gd name="textAreaLeft" fmla="*/ 34920 w 167760"/>
                      <a:gd name="textAreaRight" fmla="*/ 132840 w 167760"/>
                      <a:gd name="textAreaTop" fmla="*/ 103680 h 498240"/>
                      <a:gd name="textAreaBottom" fmla="*/ 394560 h 49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4" name="Oval 350"/>
                  <p:cNvSpPr/>
                  <p:nvPr/>
                </p:nvSpPr>
                <p:spPr>
                  <a:xfrm rot="7200000">
                    <a:off x="5215320" y="298440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5" name="AutoShape 351"/>
                  <p:cNvSpPr/>
                  <p:nvPr/>
                </p:nvSpPr>
                <p:spPr>
                  <a:xfrm flipH="1" flipV="1" rot="14700000">
                    <a:off x="5090040" y="2500560"/>
                    <a:ext cx="220320" cy="39636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2440 h 396360"/>
                      <a:gd name="textAreaBottom" fmla="*/ 313920 h 396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6" name="Oval 352"/>
                  <p:cNvSpPr/>
                  <p:nvPr/>
                </p:nvSpPr>
                <p:spPr>
                  <a:xfrm rot="3900000">
                    <a:off x="5214960" y="263988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7" name="AutoShape 353"/>
                  <p:cNvSpPr/>
                  <p:nvPr/>
                </p:nvSpPr>
                <p:spPr>
                  <a:xfrm flipH="1" flipV="1" rot="13020000">
                    <a:off x="4947480" y="2398680"/>
                    <a:ext cx="247320" cy="4348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360 h 434880"/>
                      <a:gd name="textAreaBottom" fmla="*/ 344520 h 434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8" name="AutoShape 354"/>
                  <p:cNvSpPr/>
                  <p:nvPr/>
                </p:nvSpPr>
                <p:spPr>
                  <a:xfrm flipH="1" flipV="1" rot="20640000">
                    <a:off x="4795200" y="2923920"/>
                    <a:ext cx="261720" cy="45540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9" name="Oval 355"/>
                  <p:cNvSpPr/>
                  <p:nvPr/>
                </p:nvSpPr>
                <p:spPr>
                  <a:xfrm rot="9840000">
                    <a:off x="4903920" y="319104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0" name="AutoShape 356"/>
                  <p:cNvSpPr/>
                  <p:nvPr/>
                </p:nvSpPr>
                <p:spPr>
                  <a:xfrm flipH="1" flipV="1" rot="480000">
                    <a:off x="4656960" y="3009600"/>
                    <a:ext cx="304560" cy="36936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680 h 369360"/>
                      <a:gd name="textAreaBottom" fmla="*/ 292680 h 369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1" name="AutoShape 357"/>
                  <p:cNvSpPr/>
                  <p:nvPr/>
                </p:nvSpPr>
                <p:spPr>
                  <a:xfrm flipH="1" flipV="1" rot="1800000">
                    <a:off x="4514040" y="3073320"/>
                    <a:ext cx="263160" cy="24048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50040 h 240480"/>
                      <a:gd name="textAreaBottom" fmla="*/ 190440 h 240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2" name="Oval 358"/>
                  <p:cNvSpPr/>
                  <p:nvPr/>
                </p:nvSpPr>
                <p:spPr>
                  <a:xfrm rot="12600000">
                    <a:off x="4594320" y="3146760"/>
                    <a:ext cx="10440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3" name="AutoShape 359"/>
                  <p:cNvSpPr/>
                  <p:nvPr/>
                </p:nvSpPr>
                <p:spPr>
                  <a:xfrm flipH="1" flipV="1" rot="3600000">
                    <a:off x="4468320" y="2824920"/>
                    <a:ext cx="236160" cy="4312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4" name="AutoShape 360"/>
                  <p:cNvSpPr/>
                  <p:nvPr/>
                </p:nvSpPr>
                <p:spPr>
                  <a:xfrm flipH="1" flipV="1" rot="5220000">
                    <a:off x="4349160" y="2653920"/>
                    <a:ext cx="326520" cy="415440"/>
                  </a:xfrm>
                  <a:custGeom>
                    <a:avLst/>
                    <a:gdLst>
                      <a:gd name="textAreaLeft" fmla="*/ 68040 w 326520"/>
                      <a:gd name="textAreaRight" fmla="*/ 258480 w 326520"/>
                      <a:gd name="textAreaTop" fmla="*/ 86400 h 415440"/>
                      <a:gd name="textAreaBottom" fmla="*/ 329040 h 415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5" name="Oval 361"/>
                  <p:cNvSpPr/>
                  <p:nvPr/>
                </p:nvSpPr>
                <p:spPr>
                  <a:xfrm rot="16020000">
                    <a:off x="4424400" y="2794320"/>
                    <a:ext cx="115560" cy="191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6" name="Freeform 362"/>
                  <p:cNvSpPr/>
                  <p:nvPr/>
                </p:nvSpPr>
                <p:spPr>
                  <a:xfrm>
                    <a:off x="4959360" y="2382840"/>
                    <a:ext cx="126720" cy="23940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0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5"/>
                        </a:lnTo>
                        <a:lnTo>
                          <a:pt x="79" y="29"/>
                        </a:lnTo>
                        <a:lnTo>
                          <a:pt x="74" y="50"/>
                        </a:lnTo>
                        <a:lnTo>
                          <a:pt x="69" y="65"/>
                        </a:lnTo>
                        <a:lnTo>
                          <a:pt x="59" y="80"/>
                        </a:lnTo>
                        <a:lnTo>
                          <a:pt x="59" y="94"/>
                        </a:lnTo>
                        <a:lnTo>
                          <a:pt x="49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7" name="Freeform 363"/>
                  <p:cNvSpPr/>
                  <p:nvPr/>
                </p:nvSpPr>
                <p:spPr>
                  <a:xfrm>
                    <a:off x="4545000" y="2362320"/>
                    <a:ext cx="212400" cy="21888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34" h="138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3"/>
                        </a:lnTo>
                        <a:lnTo>
                          <a:pt x="128" y="47"/>
                        </a:lnTo>
                        <a:lnTo>
                          <a:pt x="118" y="62"/>
                        </a:lnTo>
                        <a:lnTo>
                          <a:pt x="108" y="77"/>
                        </a:lnTo>
                        <a:lnTo>
                          <a:pt x="103" y="92"/>
                        </a:lnTo>
                        <a:lnTo>
                          <a:pt x="98" y="107"/>
                        </a:lnTo>
                        <a:lnTo>
                          <a:pt x="98" y="122"/>
                        </a:lnTo>
                        <a:lnTo>
                          <a:pt x="93" y="137"/>
                        </a:lnTo>
                        <a:lnTo>
                          <a:pt x="78" y="137"/>
                        </a:lnTo>
                        <a:lnTo>
                          <a:pt x="68" y="122"/>
                        </a:lnTo>
                        <a:lnTo>
                          <a:pt x="64" y="107"/>
                        </a:lnTo>
                        <a:lnTo>
                          <a:pt x="54" y="92"/>
                        </a:lnTo>
                        <a:lnTo>
                          <a:pt x="44" y="77"/>
                        </a:lnTo>
                        <a:lnTo>
                          <a:pt x="29" y="67"/>
                        </a:lnTo>
                        <a:lnTo>
                          <a:pt x="19" y="52"/>
                        </a:lnTo>
                        <a:lnTo>
                          <a:pt x="9" y="37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268" name="Group 366"/>
                  <p:cNvGrpSpPr/>
                  <p:nvPr/>
                </p:nvGrpSpPr>
                <p:grpSpPr>
                  <a:xfrm>
                    <a:off x="4696920" y="2276280"/>
                    <a:ext cx="367920" cy="390600"/>
                    <a:chOff x="4696920" y="2276280"/>
                    <a:chExt cx="367920" cy="390600"/>
                  </a:xfrm>
                </p:grpSpPr>
                <p:sp>
                  <p:nvSpPr>
                    <p:cNvPr id="2269" name="AutoShape 364"/>
                    <p:cNvSpPr/>
                    <p:nvPr/>
                  </p:nvSpPr>
                  <p:spPr>
                    <a:xfrm flipH="1" flipV="1" rot="12180000">
                      <a:off x="4746960" y="2315520"/>
                      <a:ext cx="267840" cy="310680"/>
                    </a:xfrm>
                    <a:custGeom>
                      <a:avLst/>
                      <a:gdLst>
                        <a:gd name="textAreaLeft" fmla="*/ 55800 w 267840"/>
                        <a:gd name="textAreaRight" fmla="*/ 212040 w 267840"/>
                        <a:gd name="textAreaTop" fmla="*/ 64440 h 310680"/>
                        <a:gd name="textAreaBottom" fmla="*/ 245880 h 3106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70" name="Oval 365"/>
                    <p:cNvSpPr/>
                    <p:nvPr/>
                  </p:nvSpPr>
                  <p:spPr>
                    <a:xfrm rot="1380000">
                      <a:off x="4829040" y="2408040"/>
                      <a:ext cx="104400" cy="1249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271" name="Group 369"/>
                  <p:cNvGrpSpPr/>
                  <p:nvPr/>
                </p:nvGrpSpPr>
                <p:grpSpPr>
                  <a:xfrm>
                    <a:off x="4597920" y="2304720"/>
                    <a:ext cx="324720" cy="433800"/>
                    <a:chOff x="4597920" y="2304720"/>
                    <a:chExt cx="324720" cy="433800"/>
                  </a:xfrm>
                </p:grpSpPr>
                <p:sp>
                  <p:nvSpPr>
                    <p:cNvPr id="2272" name="AutoShape 367"/>
                    <p:cNvSpPr/>
                    <p:nvPr/>
                  </p:nvSpPr>
                  <p:spPr>
                    <a:xfrm flipV="1" rot="10560000">
                      <a:off x="4611600" y="2313720"/>
                      <a:ext cx="296640" cy="41436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040 h 414360"/>
                        <a:gd name="textAreaBottom" fmla="*/ 327960 h 414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273" name="Oval 368"/>
                    <p:cNvSpPr/>
                    <p:nvPr/>
                  </p:nvSpPr>
                  <p:spPr>
                    <a:xfrm flipH="1" rot="21360000">
                      <a:off x="4700160" y="2438280"/>
                      <a:ext cx="11700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274" name="Group 400"/>
                <p:cNvGrpSpPr/>
                <p:nvPr/>
              </p:nvGrpSpPr>
              <p:grpSpPr>
                <a:xfrm>
                  <a:off x="3033000" y="2136960"/>
                  <a:ext cx="1171440" cy="1131120"/>
                  <a:chOff x="3033000" y="2136960"/>
                  <a:chExt cx="1171440" cy="1131120"/>
                </a:xfrm>
              </p:grpSpPr>
              <p:sp useBgFill="1">
                <p:nvSpPr>
                  <p:cNvPr id="2275" name="Oval 371"/>
                  <p:cNvSpPr/>
                  <p:nvPr/>
                </p:nvSpPr>
                <p:spPr>
                  <a:xfrm>
                    <a:off x="3057480" y="2173320"/>
                    <a:ext cx="1103040" cy="10411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6" name="AutoShape 372"/>
                  <p:cNvSpPr/>
                  <p:nvPr/>
                </p:nvSpPr>
                <p:spPr>
                  <a:xfrm flipH="1" flipV="1" rot="16440000">
                    <a:off x="3893040" y="2525760"/>
                    <a:ext cx="244080" cy="36144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240 h 361440"/>
                      <a:gd name="textAreaBottom" fmla="*/ 286200 h 361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7" name="Oval 373"/>
                  <p:cNvSpPr/>
                  <p:nvPr/>
                </p:nvSpPr>
                <p:spPr>
                  <a:xfrm rot="5640000">
                    <a:off x="4003560" y="2669760"/>
                    <a:ext cx="110880" cy="110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8" name="AutoShape 374"/>
                  <p:cNvSpPr/>
                  <p:nvPr/>
                </p:nvSpPr>
                <p:spPr>
                  <a:xfrm flipH="1" flipV="1" rot="7980000">
                    <a:off x="3200400" y="2274480"/>
                    <a:ext cx="245880" cy="34776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2360 h 347760"/>
                      <a:gd name="textAreaBottom" fmla="*/ 275400 h 3477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9" name="Oval 375"/>
                  <p:cNvSpPr/>
                  <p:nvPr/>
                </p:nvSpPr>
                <p:spPr>
                  <a:xfrm rot="18780000">
                    <a:off x="3244320" y="236196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0" name="AutoShape 376"/>
                  <p:cNvSpPr/>
                  <p:nvPr/>
                </p:nvSpPr>
                <p:spPr>
                  <a:xfrm flipH="1" flipV="1" rot="6360000">
                    <a:off x="3152520" y="239148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1" name="Oval 377"/>
                  <p:cNvSpPr/>
                  <p:nvPr/>
                </p:nvSpPr>
                <p:spPr>
                  <a:xfrm rot="17160000">
                    <a:off x="3143160" y="253404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2" name="AutoShape 378"/>
                  <p:cNvSpPr/>
                  <p:nvPr/>
                </p:nvSpPr>
                <p:spPr>
                  <a:xfrm flipH="1" flipV="1" rot="19140000">
                    <a:off x="3809880" y="272556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3" name="AutoShape 379"/>
                  <p:cNvSpPr/>
                  <p:nvPr/>
                </p:nvSpPr>
                <p:spPr>
                  <a:xfrm flipH="1" flipV="1" rot="18000000">
                    <a:off x="3858840" y="2620800"/>
                    <a:ext cx="171000" cy="494640"/>
                  </a:xfrm>
                  <a:custGeom>
                    <a:avLst/>
                    <a:gdLst>
                      <a:gd name="textAreaLeft" fmla="*/ 35640 w 171000"/>
                      <a:gd name="textAreaRight" fmla="*/ 135360 w 171000"/>
                      <a:gd name="textAreaTop" fmla="*/ 102960 h 494640"/>
                      <a:gd name="textAreaBottom" fmla="*/ 391680 h 49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4" name="Oval 380"/>
                  <p:cNvSpPr/>
                  <p:nvPr/>
                </p:nvSpPr>
                <p:spPr>
                  <a:xfrm rot="7200000">
                    <a:off x="3972240" y="284652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5" name="AutoShape 381"/>
                  <p:cNvSpPr/>
                  <p:nvPr/>
                </p:nvSpPr>
                <p:spPr>
                  <a:xfrm flipH="1" flipV="1" rot="14700000">
                    <a:off x="3846240" y="2363400"/>
                    <a:ext cx="220320" cy="39348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6" name="Oval 382"/>
                  <p:cNvSpPr/>
                  <p:nvPr/>
                </p:nvSpPr>
                <p:spPr>
                  <a:xfrm rot="3900000">
                    <a:off x="3972240" y="249840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7" name="AutoShape 383"/>
                  <p:cNvSpPr/>
                  <p:nvPr/>
                </p:nvSpPr>
                <p:spPr>
                  <a:xfrm flipH="1" flipV="1" rot="13020000">
                    <a:off x="3704400" y="2260800"/>
                    <a:ext cx="245880" cy="4330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8" name="AutoShape 384"/>
                  <p:cNvSpPr/>
                  <p:nvPr/>
                </p:nvSpPr>
                <p:spPr>
                  <a:xfrm flipH="1" flipV="1" rot="20640000">
                    <a:off x="3550320" y="2784960"/>
                    <a:ext cx="259920" cy="45540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9" name="Oval 385"/>
                  <p:cNvSpPr/>
                  <p:nvPr/>
                </p:nvSpPr>
                <p:spPr>
                  <a:xfrm rot="9840000">
                    <a:off x="3659400" y="305316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0" name="AutoShape 386"/>
                  <p:cNvSpPr/>
                  <p:nvPr/>
                </p:nvSpPr>
                <p:spPr>
                  <a:xfrm flipH="1" flipV="1" rot="480000">
                    <a:off x="3414600" y="2871000"/>
                    <a:ext cx="302760" cy="369360"/>
                  </a:xfrm>
                  <a:custGeom>
                    <a:avLst/>
                    <a:gdLst>
                      <a:gd name="textAreaLeft" fmla="*/ 63000 w 302760"/>
                      <a:gd name="textAreaRight" fmla="*/ 239760 w 302760"/>
                      <a:gd name="textAreaTop" fmla="*/ 76680 h 369360"/>
                      <a:gd name="textAreaBottom" fmla="*/ 292680 h 369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1" name="AutoShape 387"/>
                  <p:cNvSpPr/>
                  <p:nvPr/>
                </p:nvSpPr>
                <p:spPr>
                  <a:xfrm flipH="1" flipV="1" rot="1800000">
                    <a:off x="3269160" y="2935800"/>
                    <a:ext cx="263160" cy="23760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49320 h 237600"/>
                      <a:gd name="textAreaBottom" fmla="*/ 188280 h 23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2" name="Oval 388"/>
                  <p:cNvSpPr/>
                  <p:nvPr/>
                </p:nvSpPr>
                <p:spPr>
                  <a:xfrm rot="12600000">
                    <a:off x="3349800" y="3008520"/>
                    <a:ext cx="1058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3" name="AutoShape 389"/>
                  <p:cNvSpPr/>
                  <p:nvPr/>
                </p:nvSpPr>
                <p:spPr>
                  <a:xfrm flipH="1" flipV="1" rot="3600000">
                    <a:off x="3225240" y="2685240"/>
                    <a:ext cx="236160" cy="4312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4" name="AutoShape 390"/>
                  <p:cNvSpPr/>
                  <p:nvPr/>
                </p:nvSpPr>
                <p:spPr>
                  <a:xfrm flipH="1" flipV="1" rot="5220000">
                    <a:off x="3106080" y="2515680"/>
                    <a:ext cx="325080" cy="415440"/>
                  </a:xfrm>
                  <a:custGeom>
                    <a:avLst/>
                    <a:gdLst>
                      <a:gd name="textAreaLeft" fmla="*/ 67680 w 325080"/>
                      <a:gd name="textAreaRight" fmla="*/ 257400 w 325080"/>
                      <a:gd name="textAreaTop" fmla="*/ 86400 h 415440"/>
                      <a:gd name="textAreaBottom" fmla="*/ 329040 h 415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5" name="Oval 391"/>
                  <p:cNvSpPr/>
                  <p:nvPr/>
                </p:nvSpPr>
                <p:spPr>
                  <a:xfrm rot="16020000">
                    <a:off x="3179520" y="2656080"/>
                    <a:ext cx="115560" cy="190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6" name="Freeform 392"/>
                  <p:cNvSpPr/>
                  <p:nvPr/>
                </p:nvSpPr>
                <p:spPr>
                  <a:xfrm>
                    <a:off x="3713040" y="2246400"/>
                    <a:ext cx="126720" cy="2361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80" h="149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4"/>
                        </a:lnTo>
                        <a:lnTo>
                          <a:pt x="79" y="29"/>
                        </a:lnTo>
                        <a:lnTo>
                          <a:pt x="74" y="49"/>
                        </a:lnTo>
                        <a:lnTo>
                          <a:pt x="69" y="64"/>
                        </a:lnTo>
                        <a:lnTo>
                          <a:pt x="59" y="79"/>
                        </a:lnTo>
                        <a:lnTo>
                          <a:pt x="59" y="93"/>
                        </a:lnTo>
                        <a:lnTo>
                          <a:pt x="49" y="108"/>
                        </a:lnTo>
                        <a:lnTo>
                          <a:pt x="40" y="128"/>
                        </a:lnTo>
                        <a:lnTo>
                          <a:pt x="35" y="143"/>
                        </a:lnTo>
                        <a:lnTo>
                          <a:pt x="20" y="148"/>
                        </a:lnTo>
                        <a:lnTo>
                          <a:pt x="15" y="133"/>
                        </a:lnTo>
                        <a:lnTo>
                          <a:pt x="15" y="118"/>
                        </a:lnTo>
                        <a:lnTo>
                          <a:pt x="15" y="103"/>
                        </a:lnTo>
                        <a:lnTo>
                          <a:pt x="15" y="88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7" name="Freeform 393"/>
                  <p:cNvSpPr/>
                  <p:nvPr/>
                </p:nvSpPr>
                <p:spPr>
                  <a:xfrm>
                    <a:off x="3297240" y="2222640"/>
                    <a:ext cx="212400" cy="21888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34" h="138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3"/>
                        </a:lnTo>
                        <a:lnTo>
                          <a:pt x="128" y="47"/>
                        </a:lnTo>
                        <a:lnTo>
                          <a:pt x="118" y="62"/>
                        </a:lnTo>
                        <a:lnTo>
                          <a:pt x="108" y="77"/>
                        </a:lnTo>
                        <a:lnTo>
                          <a:pt x="103" y="92"/>
                        </a:lnTo>
                        <a:lnTo>
                          <a:pt x="98" y="107"/>
                        </a:lnTo>
                        <a:lnTo>
                          <a:pt x="98" y="122"/>
                        </a:lnTo>
                        <a:lnTo>
                          <a:pt x="93" y="137"/>
                        </a:lnTo>
                        <a:lnTo>
                          <a:pt x="78" y="137"/>
                        </a:lnTo>
                        <a:lnTo>
                          <a:pt x="68" y="122"/>
                        </a:lnTo>
                        <a:lnTo>
                          <a:pt x="64" y="107"/>
                        </a:lnTo>
                        <a:lnTo>
                          <a:pt x="54" y="92"/>
                        </a:lnTo>
                        <a:lnTo>
                          <a:pt x="44" y="77"/>
                        </a:lnTo>
                        <a:lnTo>
                          <a:pt x="29" y="67"/>
                        </a:lnTo>
                        <a:lnTo>
                          <a:pt x="19" y="52"/>
                        </a:lnTo>
                        <a:lnTo>
                          <a:pt x="9" y="37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298" name="Group 396"/>
                  <p:cNvGrpSpPr/>
                  <p:nvPr/>
                </p:nvGrpSpPr>
                <p:grpSpPr>
                  <a:xfrm>
                    <a:off x="3453840" y="2136960"/>
                    <a:ext cx="366120" cy="388800"/>
                    <a:chOff x="3453840" y="2136960"/>
                    <a:chExt cx="366120" cy="388800"/>
                  </a:xfrm>
                </p:grpSpPr>
                <p:sp>
                  <p:nvSpPr>
                    <p:cNvPr id="2299" name="AutoShape 394"/>
                    <p:cNvSpPr/>
                    <p:nvPr/>
                  </p:nvSpPr>
                  <p:spPr>
                    <a:xfrm flipH="1" flipV="1" rot="12180000">
                      <a:off x="3503160" y="2176560"/>
                      <a:ext cx="266400" cy="3092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00" name="Oval 395"/>
                    <p:cNvSpPr/>
                    <p:nvPr/>
                  </p:nvSpPr>
                  <p:spPr>
                    <a:xfrm rot="1380000">
                      <a:off x="3586320" y="2268000"/>
                      <a:ext cx="10116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01" name="Group 399"/>
                  <p:cNvGrpSpPr/>
                  <p:nvPr/>
                </p:nvGrpSpPr>
                <p:grpSpPr>
                  <a:xfrm>
                    <a:off x="3353040" y="2165400"/>
                    <a:ext cx="326520" cy="438480"/>
                    <a:chOff x="3353040" y="2165400"/>
                    <a:chExt cx="326520" cy="438480"/>
                  </a:xfrm>
                </p:grpSpPr>
                <p:sp>
                  <p:nvSpPr>
                    <p:cNvPr id="2302" name="AutoShape 397"/>
                    <p:cNvSpPr/>
                    <p:nvPr/>
                  </p:nvSpPr>
                  <p:spPr>
                    <a:xfrm flipV="1" rot="10560000">
                      <a:off x="3367080" y="2175120"/>
                      <a:ext cx="298080" cy="41868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7120 h 418680"/>
                        <a:gd name="textAreaBottom" fmla="*/ 331560 h 4186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03" name="Oval 398"/>
                    <p:cNvSpPr/>
                    <p:nvPr/>
                  </p:nvSpPr>
                  <p:spPr>
                    <a:xfrm flipH="1" rot="21360000">
                      <a:off x="3457080" y="2298240"/>
                      <a:ext cx="11700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304" name="Group 430"/>
                <p:cNvGrpSpPr/>
                <p:nvPr/>
              </p:nvGrpSpPr>
              <p:grpSpPr>
                <a:xfrm>
                  <a:off x="2340720" y="3175560"/>
                  <a:ext cx="1173600" cy="1129680"/>
                  <a:chOff x="2340720" y="3175560"/>
                  <a:chExt cx="1173600" cy="1129680"/>
                </a:xfrm>
              </p:grpSpPr>
              <p:sp useBgFill="1">
                <p:nvSpPr>
                  <p:cNvPr id="2305" name="Oval 401"/>
                  <p:cNvSpPr/>
                  <p:nvPr/>
                </p:nvSpPr>
                <p:spPr>
                  <a:xfrm>
                    <a:off x="2365200" y="3211560"/>
                    <a:ext cx="1104480" cy="10411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6" name="AutoShape 402"/>
                  <p:cNvSpPr/>
                  <p:nvPr/>
                </p:nvSpPr>
                <p:spPr>
                  <a:xfrm flipH="1" flipV="1" rot="16440000">
                    <a:off x="3201480" y="3560040"/>
                    <a:ext cx="244080" cy="3643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960 h 364320"/>
                      <a:gd name="textAreaBottom" fmla="*/ 288360 h 364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7" name="Oval 403"/>
                  <p:cNvSpPr/>
                  <p:nvPr/>
                </p:nvSpPr>
                <p:spPr>
                  <a:xfrm rot="5640000">
                    <a:off x="3314880" y="3706920"/>
                    <a:ext cx="10764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8" name="AutoShape 404"/>
                  <p:cNvSpPr/>
                  <p:nvPr/>
                </p:nvSpPr>
                <p:spPr>
                  <a:xfrm flipH="1" flipV="1" rot="7980000">
                    <a:off x="2507760" y="3311280"/>
                    <a:ext cx="247320" cy="34524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9" name="Oval 405"/>
                  <p:cNvSpPr/>
                  <p:nvPr/>
                </p:nvSpPr>
                <p:spPr>
                  <a:xfrm rot="18780000">
                    <a:off x="2553840" y="339876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0" name="AutoShape 406"/>
                  <p:cNvSpPr/>
                  <p:nvPr/>
                </p:nvSpPr>
                <p:spPr>
                  <a:xfrm flipH="1" flipV="1" rot="6360000">
                    <a:off x="2460240" y="342648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1" name="Oval 407"/>
                  <p:cNvSpPr/>
                  <p:nvPr/>
                </p:nvSpPr>
                <p:spPr>
                  <a:xfrm rot="17160000">
                    <a:off x="2450880" y="357048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2" name="AutoShape 408"/>
                  <p:cNvSpPr/>
                  <p:nvPr/>
                </p:nvSpPr>
                <p:spPr>
                  <a:xfrm flipH="1" flipV="1" rot="19140000">
                    <a:off x="3117600" y="3760560"/>
                    <a:ext cx="139320" cy="423720"/>
                  </a:xfrm>
                  <a:custGeom>
                    <a:avLst/>
                    <a:gdLst>
                      <a:gd name="textAreaLeft" fmla="*/ 28800 w 139320"/>
                      <a:gd name="textAreaRight" fmla="*/ 110520 w 139320"/>
                      <a:gd name="textAreaTop" fmla="*/ 88200 h 423720"/>
                      <a:gd name="textAreaBottom" fmla="*/ 335520 h 423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3" name="AutoShape 409"/>
                  <p:cNvSpPr/>
                  <p:nvPr/>
                </p:nvSpPr>
                <p:spPr>
                  <a:xfrm flipH="1" flipV="1" rot="18000000">
                    <a:off x="3169800" y="3657600"/>
                    <a:ext cx="169560" cy="495000"/>
                  </a:xfrm>
                  <a:custGeom>
                    <a:avLst/>
                    <a:gdLst>
                      <a:gd name="textAreaLeft" fmla="*/ 35280 w 169560"/>
                      <a:gd name="textAreaRight" fmla="*/ 134280 w 169560"/>
                      <a:gd name="textAreaTop" fmla="*/ 102960 h 495000"/>
                      <a:gd name="textAreaBottom" fmla="*/ 392040 h 495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4" name="Oval 410"/>
                  <p:cNvSpPr/>
                  <p:nvPr/>
                </p:nvSpPr>
                <p:spPr>
                  <a:xfrm rot="7200000">
                    <a:off x="3279960" y="388296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5" name="AutoShape 411"/>
                  <p:cNvSpPr/>
                  <p:nvPr/>
                </p:nvSpPr>
                <p:spPr>
                  <a:xfrm flipH="1" flipV="1" rot="14700000">
                    <a:off x="3155760" y="3398040"/>
                    <a:ext cx="218880" cy="39348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6" name="Oval 412"/>
                  <p:cNvSpPr/>
                  <p:nvPr/>
                </p:nvSpPr>
                <p:spPr>
                  <a:xfrm rot="3900000">
                    <a:off x="3279960" y="3534840"/>
                    <a:ext cx="10584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7" name="AutoShape 413"/>
                  <p:cNvSpPr/>
                  <p:nvPr/>
                </p:nvSpPr>
                <p:spPr>
                  <a:xfrm flipH="1" flipV="1" rot="13020000">
                    <a:off x="3014640" y="3299040"/>
                    <a:ext cx="244080" cy="42984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89280 h 429840"/>
                      <a:gd name="textAreaBottom" fmla="*/ 340560 h 429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8" name="AutoShape 414"/>
                  <p:cNvSpPr/>
                  <p:nvPr/>
                </p:nvSpPr>
                <p:spPr>
                  <a:xfrm flipH="1" flipV="1" rot="20640000">
                    <a:off x="2858760" y="3822480"/>
                    <a:ext cx="261720" cy="45540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9" name="Oval 415"/>
                  <p:cNvSpPr/>
                  <p:nvPr/>
                </p:nvSpPr>
                <p:spPr>
                  <a:xfrm rot="9840000">
                    <a:off x="2969280" y="408960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0" name="AutoShape 416"/>
                  <p:cNvSpPr/>
                  <p:nvPr/>
                </p:nvSpPr>
                <p:spPr>
                  <a:xfrm flipH="1" flipV="1" rot="480000">
                    <a:off x="2722320" y="3909960"/>
                    <a:ext cx="304560" cy="36792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680 h 367920"/>
                      <a:gd name="textAreaBottom" fmla="*/ 291240 h 367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1" name="AutoShape 417"/>
                  <p:cNvSpPr/>
                  <p:nvPr/>
                </p:nvSpPr>
                <p:spPr>
                  <a:xfrm flipH="1" flipV="1" rot="1800000">
                    <a:off x="2577240" y="3971160"/>
                    <a:ext cx="264960" cy="239040"/>
                  </a:xfrm>
                  <a:custGeom>
                    <a:avLst/>
                    <a:gdLst>
                      <a:gd name="textAreaLeft" fmla="*/ 55080 w 264960"/>
                      <a:gd name="textAreaRight" fmla="*/ 209880 w 264960"/>
                      <a:gd name="textAreaTop" fmla="*/ 49680 h 239040"/>
                      <a:gd name="textAreaBottom" fmla="*/ 189360 h 239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2" name="Oval 418"/>
                  <p:cNvSpPr/>
                  <p:nvPr/>
                </p:nvSpPr>
                <p:spPr>
                  <a:xfrm rot="12600000">
                    <a:off x="2657520" y="4043520"/>
                    <a:ext cx="105840" cy="964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3" name="AutoShape 419"/>
                  <p:cNvSpPr/>
                  <p:nvPr/>
                </p:nvSpPr>
                <p:spPr>
                  <a:xfrm flipH="1" flipV="1" rot="3600000">
                    <a:off x="2533680" y="3723120"/>
                    <a:ext cx="237600" cy="4330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4" name="AutoShape 420"/>
                  <p:cNvSpPr/>
                  <p:nvPr/>
                </p:nvSpPr>
                <p:spPr>
                  <a:xfrm flipH="1" flipV="1" rot="5220000">
                    <a:off x="2414880" y="355212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5" name="Oval 421"/>
                  <p:cNvSpPr/>
                  <p:nvPr/>
                </p:nvSpPr>
                <p:spPr>
                  <a:xfrm rot="16020000">
                    <a:off x="2487240" y="3694320"/>
                    <a:ext cx="115560" cy="188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6" name="Freeform 422"/>
                  <p:cNvSpPr/>
                  <p:nvPr/>
                </p:nvSpPr>
                <p:spPr>
                  <a:xfrm>
                    <a:off x="3022560" y="3281400"/>
                    <a:ext cx="128160" cy="2394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1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50"/>
                        </a:lnTo>
                        <a:lnTo>
                          <a:pt x="70" y="65"/>
                        </a:lnTo>
                        <a:lnTo>
                          <a:pt x="60" y="80"/>
                        </a:lnTo>
                        <a:lnTo>
                          <a:pt x="60" y="94"/>
                        </a:lnTo>
                        <a:lnTo>
                          <a:pt x="50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7" name="Freeform 423"/>
                  <p:cNvSpPr/>
                  <p:nvPr/>
                </p:nvSpPr>
                <p:spPr>
                  <a:xfrm>
                    <a:off x="2606760" y="3257640"/>
                    <a:ext cx="213840" cy="22356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3560"/>
                      <a:gd name="textAreaBottom" fmla="*/ 223920 h 223560"/>
                    </a:gdLst>
                    <a:ahLst/>
                    <a:rect l="textAreaLeft" t="textAreaTop" r="textAreaRight" b="textAreaBottom"/>
                    <a:pathLst>
                      <a:path w="135" h="141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4"/>
                        </a:lnTo>
                        <a:lnTo>
                          <a:pt x="129" y="48"/>
                        </a:lnTo>
                        <a:lnTo>
                          <a:pt x="119" y="64"/>
                        </a:lnTo>
                        <a:lnTo>
                          <a:pt x="109" y="79"/>
                        </a:lnTo>
                        <a:lnTo>
                          <a:pt x="104" y="94"/>
                        </a:lnTo>
                        <a:lnTo>
                          <a:pt x="99" y="109"/>
                        </a:lnTo>
                        <a:lnTo>
                          <a:pt x="99" y="124"/>
                        </a:lnTo>
                        <a:lnTo>
                          <a:pt x="94" y="140"/>
                        </a:lnTo>
                        <a:lnTo>
                          <a:pt x="79" y="140"/>
                        </a:lnTo>
                        <a:lnTo>
                          <a:pt x="69" y="124"/>
                        </a:lnTo>
                        <a:lnTo>
                          <a:pt x="64" y="109"/>
                        </a:lnTo>
                        <a:lnTo>
                          <a:pt x="54" y="94"/>
                        </a:lnTo>
                        <a:lnTo>
                          <a:pt x="44" y="79"/>
                        </a:lnTo>
                        <a:lnTo>
                          <a:pt x="29" y="69"/>
                        </a:lnTo>
                        <a:lnTo>
                          <a:pt x="19" y="54"/>
                        </a:lnTo>
                        <a:lnTo>
                          <a:pt x="9" y="38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328" name="Group 426"/>
                  <p:cNvGrpSpPr/>
                  <p:nvPr/>
                </p:nvGrpSpPr>
                <p:grpSpPr>
                  <a:xfrm>
                    <a:off x="2763720" y="3175560"/>
                    <a:ext cx="363600" cy="386280"/>
                    <a:chOff x="2763720" y="3175560"/>
                    <a:chExt cx="363600" cy="386280"/>
                  </a:xfrm>
                </p:grpSpPr>
                <p:sp>
                  <p:nvSpPr>
                    <p:cNvPr id="2329" name="AutoShape 424"/>
                    <p:cNvSpPr/>
                    <p:nvPr/>
                  </p:nvSpPr>
                  <p:spPr>
                    <a:xfrm flipH="1" flipV="1" rot="12180000">
                      <a:off x="2813040" y="3214440"/>
                      <a:ext cx="264600" cy="307440"/>
                    </a:xfrm>
                    <a:custGeom>
                      <a:avLst/>
                      <a:gdLst>
                        <a:gd name="textAreaLeft" fmla="*/ 55080 w 264600"/>
                        <a:gd name="textAreaRight" fmla="*/ 209520 w 2646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30" name="Oval 425"/>
                    <p:cNvSpPr/>
                    <p:nvPr/>
                  </p:nvSpPr>
                  <p:spPr>
                    <a:xfrm rot="1380000">
                      <a:off x="2894040" y="3306600"/>
                      <a:ext cx="102960" cy="12348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480" bIns="42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31" name="Group 429"/>
                  <p:cNvGrpSpPr/>
                  <p:nvPr/>
                </p:nvGrpSpPr>
                <p:grpSpPr>
                  <a:xfrm>
                    <a:off x="2661120" y="3203280"/>
                    <a:ext cx="326520" cy="435240"/>
                    <a:chOff x="2661120" y="3203280"/>
                    <a:chExt cx="326520" cy="435240"/>
                  </a:xfrm>
                </p:grpSpPr>
                <p:sp>
                  <p:nvSpPr>
                    <p:cNvPr id="2332" name="AutoShape 427"/>
                    <p:cNvSpPr/>
                    <p:nvPr/>
                  </p:nvSpPr>
                  <p:spPr>
                    <a:xfrm flipV="1" rot="10560000">
                      <a:off x="2675160" y="3212640"/>
                      <a:ext cx="298080" cy="41544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6400 h 415440"/>
                        <a:gd name="textAreaBottom" fmla="*/ 329040 h 41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33" name="Oval 428"/>
                    <p:cNvSpPr/>
                    <p:nvPr/>
                  </p:nvSpPr>
                  <p:spPr>
                    <a:xfrm flipH="1" rot="21360000">
                      <a:off x="2765160" y="333648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334" name="Group 460"/>
                <p:cNvGrpSpPr/>
                <p:nvPr/>
              </p:nvGrpSpPr>
              <p:grpSpPr>
                <a:xfrm>
                  <a:off x="5245920" y="3061080"/>
                  <a:ext cx="1170720" cy="1131120"/>
                  <a:chOff x="5245920" y="3061080"/>
                  <a:chExt cx="1170720" cy="1131120"/>
                </a:xfrm>
              </p:grpSpPr>
              <p:sp useBgFill="1">
                <p:nvSpPr>
                  <p:cNvPr id="2335" name="Oval 431"/>
                  <p:cNvSpPr/>
                  <p:nvPr/>
                </p:nvSpPr>
                <p:spPr>
                  <a:xfrm>
                    <a:off x="5270400" y="3095640"/>
                    <a:ext cx="110304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6" name="AutoShape 432"/>
                  <p:cNvSpPr/>
                  <p:nvPr/>
                </p:nvSpPr>
                <p:spPr>
                  <a:xfrm flipH="1" flipV="1" rot="16440000">
                    <a:off x="6104520" y="3449160"/>
                    <a:ext cx="245880" cy="36144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5240 h 361440"/>
                      <a:gd name="textAreaBottom" fmla="*/ 286200 h 361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7" name="Oval 433"/>
                  <p:cNvSpPr/>
                  <p:nvPr/>
                </p:nvSpPr>
                <p:spPr>
                  <a:xfrm rot="5640000">
                    <a:off x="6213600" y="3592440"/>
                    <a:ext cx="11232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8" name="AutoShape 434"/>
                  <p:cNvSpPr/>
                  <p:nvPr/>
                </p:nvSpPr>
                <p:spPr>
                  <a:xfrm flipH="1" flipV="1" rot="7980000">
                    <a:off x="5411880" y="3198240"/>
                    <a:ext cx="247320" cy="34452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4520"/>
                      <a:gd name="textAreaBottom" fmla="*/ 272880 h 344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9" name="Oval 435"/>
                  <p:cNvSpPr/>
                  <p:nvPr/>
                </p:nvSpPr>
                <p:spPr>
                  <a:xfrm rot="18780000">
                    <a:off x="5457600" y="328464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0" name="AutoShape 436"/>
                  <p:cNvSpPr/>
                  <p:nvPr/>
                </p:nvSpPr>
                <p:spPr>
                  <a:xfrm flipH="1" flipV="1" rot="6360000">
                    <a:off x="5365440" y="331380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1" name="Oval 437"/>
                  <p:cNvSpPr/>
                  <p:nvPr/>
                </p:nvSpPr>
                <p:spPr>
                  <a:xfrm rot="17160000">
                    <a:off x="5354280" y="345780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2" name="AutoShape 438"/>
                  <p:cNvSpPr/>
                  <p:nvPr/>
                </p:nvSpPr>
                <p:spPr>
                  <a:xfrm flipH="1" flipV="1" rot="19140000">
                    <a:off x="6022800" y="3647880"/>
                    <a:ext cx="137880" cy="4219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3" name="AutoShape 439"/>
                  <p:cNvSpPr/>
                  <p:nvPr/>
                </p:nvSpPr>
                <p:spPr>
                  <a:xfrm flipH="1" flipV="1" rot="18000000">
                    <a:off x="6069600" y="3543120"/>
                    <a:ext cx="172800" cy="498240"/>
                  </a:xfrm>
                  <a:custGeom>
                    <a:avLst/>
                    <a:gdLst>
                      <a:gd name="textAreaLeft" fmla="*/ 36000 w 172800"/>
                      <a:gd name="textAreaRight" fmla="*/ 136800 w 172800"/>
                      <a:gd name="textAreaTop" fmla="*/ 103680 h 498240"/>
                      <a:gd name="textAreaBottom" fmla="*/ 394560 h 49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4" name="Oval 440"/>
                  <p:cNvSpPr/>
                  <p:nvPr/>
                </p:nvSpPr>
                <p:spPr>
                  <a:xfrm rot="7200000">
                    <a:off x="6184800" y="3768840"/>
                    <a:ext cx="10296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5" name="AutoShape 441"/>
                  <p:cNvSpPr/>
                  <p:nvPr/>
                </p:nvSpPr>
                <p:spPr>
                  <a:xfrm flipH="1" flipV="1" rot="14700000">
                    <a:off x="6058440" y="3286440"/>
                    <a:ext cx="220320" cy="39492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2080 h 394920"/>
                      <a:gd name="textAreaBottom" fmla="*/ 312840 h 394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6" name="Oval 442"/>
                  <p:cNvSpPr/>
                  <p:nvPr/>
                </p:nvSpPr>
                <p:spPr>
                  <a:xfrm rot="3900000">
                    <a:off x="6185160" y="3423960"/>
                    <a:ext cx="10296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7" name="AutoShape 443"/>
                  <p:cNvSpPr/>
                  <p:nvPr/>
                </p:nvSpPr>
                <p:spPr>
                  <a:xfrm flipH="1" flipV="1" rot="13020000">
                    <a:off x="5916240" y="3184920"/>
                    <a:ext cx="247320" cy="4330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8" name="AutoShape 444"/>
                  <p:cNvSpPr/>
                  <p:nvPr/>
                </p:nvSpPr>
                <p:spPr>
                  <a:xfrm flipH="1" flipV="1" rot="20640000">
                    <a:off x="5763240" y="3709800"/>
                    <a:ext cx="258480" cy="455400"/>
                  </a:xfrm>
                  <a:custGeom>
                    <a:avLst/>
                    <a:gdLst>
                      <a:gd name="textAreaLeft" fmla="*/ 53640 w 258480"/>
                      <a:gd name="textAreaRight" fmla="*/ 204840 w 25848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9" name="Oval 445"/>
                  <p:cNvSpPr/>
                  <p:nvPr/>
                </p:nvSpPr>
                <p:spPr>
                  <a:xfrm rot="9840000">
                    <a:off x="5872680" y="397548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0" name="AutoShape 446"/>
                  <p:cNvSpPr/>
                  <p:nvPr/>
                </p:nvSpPr>
                <p:spPr>
                  <a:xfrm flipH="1" flipV="1" rot="480000">
                    <a:off x="5627520" y="3794040"/>
                    <a:ext cx="302760" cy="371160"/>
                  </a:xfrm>
                  <a:custGeom>
                    <a:avLst/>
                    <a:gdLst>
                      <a:gd name="textAreaLeft" fmla="*/ 63000 w 302760"/>
                      <a:gd name="textAreaRight" fmla="*/ 239760 w 302760"/>
                      <a:gd name="textAreaTop" fmla="*/ 77040 h 371160"/>
                      <a:gd name="textAreaBottom" fmla="*/ 293760 h 371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1" name="AutoShape 447"/>
                  <p:cNvSpPr/>
                  <p:nvPr/>
                </p:nvSpPr>
                <p:spPr>
                  <a:xfrm flipH="1" flipV="1" rot="1800000">
                    <a:off x="5482440" y="3857760"/>
                    <a:ext cx="263160" cy="24048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50040 h 240480"/>
                      <a:gd name="textAreaBottom" fmla="*/ 190440 h 240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2" name="Oval 448"/>
                  <p:cNvSpPr/>
                  <p:nvPr/>
                </p:nvSpPr>
                <p:spPr>
                  <a:xfrm rot="12600000">
                    <a:off x="5559480" y="3930480"/>
                    <a:ext cx="1076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3" name="AutoShape 449"/>
                  <p:cNvSpPr/>
                  <p:nvPr/>
                </p:nvSpPr>
                <p:spPr>
                  <a:xfrm flipH="1" flipV="1" rot="3600000">
                    <a:off x="5436720" y="3610440"/>
                    <a:ext cx="236160" cy="4312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4" name="AutoShape 450"/>
                  <p:cNvSpPr/>
                  <p:nvPr/>
                </p:nvSpPr>
                <p:spPr>
                  <a:xfrm flipH="1" flipV="1" rot="5220000">
                    <a:off x="5316840" y="343944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5" name="Oval 451"/>
                  <p:cNvSpPr/>
                  <p:nvPr/>
                </p:nvSpPr>
                <p:spPr>
                  <a:xfrm rot="16020000">
                    <a:off x="5392800" y="3578400"/>
                    <a:ext cx="115560" cy="193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6" name="Freeform 452"/>
                  <p:cNvSpPr/>
                  <p:nvPr/>
                </p:nvSpPr>
                <p:spPr>
                  <a:xfrm>
                    <a:off x="5925960" y="3165480"/>
                    <a:ext cx="128160" cy="24264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42640"/>
                      <a:gd name="textAreaBottom" fmla="*/ 243000 h 242640"/>
                    </a:gdLst>
                    <a:ahLst/>
                    <a:rect l="textAreaLeft" t="textAreaTop" r="textAreaRight" b="textAreaBottom"/>
                    <a:pathLst>
                      <a:path w="81" h="153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30"/>
                        </a:lnTo>
                        <a:lnTo>
                          <a:pt x="75" y="50"/>
                        </a:lnTo>
                        <a:lnTo>
                          <a:pt x="70" y="66"/>
                        </a:lnTo>
                        <a:lnTo>
                          <a:pt x="60" y="81"/>
                        </a:lnTo>
                        <a:lnTo>
                          <a:pt x="60" y="96"/>
                        </a:lnTo>
                        <a:lnTo>
                          <a:pt x="50" y="111"/>
                        </a:lnTo>
                        <a:lnTo>
                          <a:pt x="40" y="132"/>
                        </a:lnTo>
                        <a:lnTo>
                          <a:pt x="35" y="146"/>
                        </a:lnTo>
                        <a:lnTo>
                          <a:pt x="20" y="152"/>
                        </a:lnTo>
                        <a:lnTo>
                          <a:pt x="15" y="137"/>
                        </a:lnTo>
                        <a:lnTo>
                          <a:pt x="15" y="121"/>
                        </a:lnTo>
                        <a:lnTo>
                          <a:pt x="15" y="106"/>
                        </a:lnTo>
                        <a:lnTo>
                          <a:pt x="15" y="91"/>
                        </a:lnTo>
                        <a:lnTo>
                          <a:pt x="10" y="76"/>
                        </a:lnTo>
                        <a:lnTo>
                          <a:pt x="10" y="60"/>
                        </a:lnTo>
                        <a:lnTo>
                          <a:pt x="5" y="45"/>
                        </a:lnTo>
                        <a:lnTo>
                          <a:pt x="0" y="3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7" name="Freeform 453"/>
                  <p:cNvSpPr/>
                  <p:nvPr/>
                </p:nvSpPr>
                <p:spPr>
                  <a:xfrm>
                    <a:off x="5513400" y="3146400"/>
                    <a:ext cx="212400" cy="22032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4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3"/>
                        </a:lnTo>
                        <a:lnTo>
                          <a:pt x="128" y="48"/>
                        </a:lnTo>
                        <a:lnTo>
                          <a:pt x="118" y="63"/>
                        </a:lnTo>
                        <a:lnTo>
                          <a:pt x="108" y="78"/>
                        </a:lnTo>
                        <a:lnTo>
                          <a:pt x="103" y="93"/>
                        </a:lnTo>
                        <a:lnTo>
                          <a:pt x="98" y="107"/>
                        </a:lnTo>
                        <a:lnTo>
                          <a:pt x="98" y="122"/>
                        </a:lnTo>
                        <a:lnTo>
                          <a:pt x="93" y="138"/>
                        </a:lnTo>
                        <a:lnTo>
                          <a:pt x="78" y="138"/>
                        </a:lnTo>
                        <a:lnTo>
                          <a:pt x="68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358" name="Group 456"/>
                  <p:cNvGrpSpPr/>
                  <p:nvPr/>
                </p:nvGrpSpPr>
                <p:grpSpPr>
                  <a:xfrm>
                    <a:off x="5666760" y="3061080"/>
                    <a:ext cx="366480" cy="390240"/>
                    <a:chOff x="5666760" y="3061080"/>
                    <a:chExt cx="366480" cy="390240"/>
                  </a:xfrm>
                </p:grpSpPr>
                <p:sp>
                  <p:nvSpPr>
                    <p:cNvPr id="2359" name="AutoShape 454"/>
                    <p:cNvSpPr/>
                    <p:nvPr/>
                  </p:nvSpPr>
                  <p:spPr>
                    <a:xfrm flipH="1" flipV="1" rot="12180000">
                      <a:off x="5716800" y="3099960"/>
                      <a:ext cx="266400" cy="31068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10680"/>
                        <a:gd name="textAreaBottom" fmla="*/ 245880 h 3106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60" name="Oval 455"/>
                    <p:cNvSpPr/>
                    <p:nvPr/>
                  </p:nvSpPr>
                  <p:spPr>
                    <a:xfrm rot="1380000">
                      <a:off x="5795640" y="3192120"/>
                      <a:ext cx="10440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61" name="Group 459"/>
                  <p:cNvGrpSpPr/>
                  <p:nvPr/>
                </p:nvGrpSpPr>
                <p:grpSpPr>
                  <a:xfrm>
                    <a:off x="5564520" y="3088800"/>
                    <a:ext cx="324720" cy="435240"/>
                    <a:chOff x="5564520" y="3088800"/>
                    <a:chExt cx="324720" cy="435240"/>
                  </a:xfrm>
                </p:grpSpPr>
                <p:sp>
                  <p:nvSpPr>
                    <p:cNvPr id="2362" name="AutoShape 457"/>
                    <p:cNvSpPr/>
                    <p:nvPr/>
                  </p:nvSpPr>
                  <p:spPr>
                    <a:xfrm flipV="1" rot="10560000">
                      <a:off x="5578200" y="3097800"/>
                      <a:ext cx="296640" cy="4158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400 h 415800"/>
                        <a:gd name="textAreaBottom" fmla="*/ 329400 h 41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63" name="Oval 458"/>
                    <p:cNvSpPr/>
                    <p:nvPr/>
                  </p:nvSpPr>
                  <p:spPr>
                    <a:xfrm flipH="1" rot="21360000">
                      <a:off x="5667120" y="322380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364" name="Group 490"/>
                <p:cNvGrpSpPr/>
                <p:nvPr/>
              </p:nvGrpSpPr>
              <p:grpSpPr>
                <a:xfrm>
                  <a:off x="3586320" y="3175200"/>
                  <a:ext cx="1172880" cy="1129680"/>
                  <a:chOff x="3586320" y="3175200"/>
                  <a:chExt cx="1172880" cy="1129680"/>
                </a:xfrm>
              </p:grpSpPr>
              <p:sp useBgFill="1">
                <p:nvSpPr>
                  <p:cNvPr id="2365" name="Oval 461"/>
                  <p:cNvSpPr/>
                  <p:nvPr/>
                </p:nvSpPr>
                <p:spPr>
                  <a:xfrm>
                    <a:off x="3608280" y="3211560"/>
                    <a:ext cx="1106280" cy="10411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66" name="AutoShape 462"/>
                  <p:cNvSpPr/>
                  <p:nvPr/>
                </p:nvSpPr>
                <p:spPr>
                  <a:xfrm flipH="1" flipV="1" rot="16440000">
                    <a:off x="4446360" y="3560040"/>
                    <a:ext cx="244080" cy="3643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960 h 364320"/>
                      <a:gd name="textAreaBottom" fmla="*/ 288360 h 364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67" name="Oval 463"/>
                  <p:cNvSpPr/>
                  <p:nvPr/>
                </p:nvSpPr>
                <p:spPr>
                  <a:xfrm rot="5640000">
                    <a:off x="4557960" y="3706560"/>
                    <a:ext cx="11088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68" name="AutoShape 464"/>
                  <p:cNvSpPr/>
                  <p:nvPr/>
                </p:nvSpPr>
                <p:spPr>
                  <a:xfrm flipH="1" flipV="1" rot="7980000">
                    <a:off x="3751200" y="3311280"/>
                    <a:ext cx="248760" cy="345240"/>
                  </a:xfrm>
                  <a:custGeom>
                    <a:avLst/>
                    <a:gdLst>
                      <a:gd name="textAreaLeft" fmla="*/ 51840 w 248760"/>
                      <a:gd name="textAreaRight" fmla="*/ 196920 w 24876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69" name="Oval 465"/>
                  <p:cNvSpPr/>
                  <p:nvPr/>
                </p:nvSpPr>
                <p:spPr>
                  <a:xfrm rot="18780000">
                    <a:off x="3800160" y="339876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0" name="AutoShape 466"/>
                  <p:cNvSpPr/>
                  <p:nvPr/>
                </p:nvSpPr>
                <p:spPr>
                  <a:xfrm flipH="1" flipV="1" rot="6360000">
                    <a:off x="3705480" y="3427560"/>
                    <a:ext cx="261720" cy="44568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1" name="Oval 467"/>
                  <p:cNvSpPr/>
                  <p:nvPr/>
                </p:nvSpPr>
                <p:spPr>
                  <a:xfrm rot="17160000">
                    <a:off x="3693600" y="3570480"/>
                    <a:ext cx="1058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2" name="AutoShape 468"/>
                  <p:cNvSpPr/>
                  <p:nvPr/>
                </p:nvSpPr>
                <p:spPr>
                  <a:xfrm flipH="1" flipV="1" rot="19140000">
                    <a:off x="4363560" y="3760200"/>
                    <a:ext cx="137880" cy="42336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8200 h 423360"/>
                      <a:gd name="textAreaBottom" fmla="*/ 335160 h 423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3" name="AutoShape 469"/>
                  <p:cNvSpPr/>
                  <p:nvPr/>
                </p:nvSpPr>
                <p:spPr>
                  <a:xfrm flipH="1" flipV="1" rot="18000000">
                    <a:off x="4414680" y="3657600"/>
                    <a:ext cx="167760" cy="495000"/>
                  </a:xfrm>
                  <a:custGeom>
                    <a:avLst/>
                    <a:gdLst>
                      <a:gd name="textAreaLeft" fmla="*/ 34920 w 167760"/>
                      <a:gd name="textAreaRight" fmla="*/ 132840 w 167760"/>
                      <a:gd name="textAreaTop" fmla="*/ 102960 h 495000"/>
                      <a:gd name="textAreaBottom" fmla="*/ 392040 h 495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4" name="Oval 470"/>
                  <p:cNvSpPr/>
                  <p:nvPr/>
                </p:nvSpPr>
                <p:spPr>
                  <a:xfrm rot="7200000">
                    <a:off x="4524480" y="388296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5" name="AutoShape 471"/>
                  <p:cNvSpPr/>
                  <p:nvPr/>
                </p:nvSpPr>
                <p:spPr>
                  <a:xfrm flipH="1" flipV="1" rot="14700000">
                    <a:off x="4400280" y="3398760"/>
                    <a:ext cx="217440" cy="393480"/>
                  </a:xfrm>
                  <a:custGeom>
                    <a:avLst/>
                    <a:gdLst>
                      <a:gd name="textAreaLeft" fmla="*/ 45360 w 217440"/>
                      <a:gd name="textAreaRight" fmla="*/ 172080 w 21744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6" name="Oval 472"/>
                  <p:cNvSpPr/>
                  <p:nvPr/>
                </p:nvSpPr>
                <p:spPr>
                  <a:xfrm rot="3900000">
                    <a:off x="4524480" y="3534840"/>
                    <a:ext cx="10584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7" name="AutoShape 473"/>
                  <p:cNvSpPr/>
                  <p:nvPr/>
                </p:nvSpPr>
                <p:spPr>
                  <a:xfrm flipH="1" flipV="1" rot="13020000">
                    <a:off x="4257720" y="3298320"/>
                    <a:ext cx="245880" cy="42984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89280 h 429840"/>
                      <a:gd name="textAreaBottom" fmla="*/ 340560 h 429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8" name="AutoShape 474"/>
                  <p:cNvSpPr/>
                  <p:nvPr/>
                </p:nvSpPr>
                <p:spPr>
                  <a:xfrm flipH="1" flipV="1" rot="20640000">
                    <a:off x="4104360" y="3821760"/>
                    <a:ext cx="259920" cy="45540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9" name="Oval 475"/>
                  <p:cNvSpPr/>
                  <p:nvPr/>
                </p:nvSpPr>
                <p:spPr>
                  <a:xfrm rot="9840000">
                    <a:off x="4215240" y="4089960"/>
                    <a:ext cx="10296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0" name="AutoShape 476"/>
                  <p:cNvSpPr/>
                  <p:nvPr/>
                </p:nvSpPr>
                <p:spPr>
                  <a:xfrm flipH="1" flipV="1" rot="480000">
                    <a:off x="3966840" y="3909960"/>
                    <a:ext cx="306000" cy="367920"/>
                  </a:xfrm>
                  <a:custGeom>
                    <a:avLst/>
                    <a:gdLst>
                      <a:gd name="textAreaLeft" fmla="*/ 63720 w 306000"/>
                      <a:gd name="textAreaRight" fmla="*/ 242280 w 306000"/>
                      <a:gd name="textAreaTop" fmla="*/ 76680 h 367920"/>
                      <a:gd name="textAreaBottom" fmla="*/ 291240 h 367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1" name="AutoShape 477"/>
                  <p:cNvSpPr/>
                  <p:nvPr/>
                </p:nvSpPr>
                <p:spPr>
                  <a:xfrm flipH="1" flipV="1" rot="1800000">
                    <a:off x="3823560" y="3971160"/>
                    <a:ext cx="263160" cy="23904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49680 h 239040"/>
                      <a:gd name="textAreaBottom" fmla="*/ 189360 h 239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2" name="Oval 478"/>
                  <p:cNvSpPr/>
                  <p:nvPr/>
                </p:nvSpPr>
                <p:spPr>
                  <a:xfrm rot="12600000">
                    <a:off x="3902040" y="4043520"/>
                    <a:ext cx="104400" cy="964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3" name="AutoShape 479"/>
                  <p:cNvSpPr/>
                  <p:nvPr/>
                </p:nvSpPr>
                <p:spPr>
                  <a:xfrm flipH="1" flipV="1" rot="3600000">
                    <a:off x="3776400" y="3723120"/>
                    <a:ext cx="237600" cy="4330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4" name="AutoShape 480"/>
                  <p:cNvSpPr/>
                  <p:nvPr/>
                </p:nvSpPr>
                <p:spPr>
                  <a:xfrm flipH="1" flipV="1" rot="5220000">
                    <a:off x="3657600" y="355212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5" name="Oval 481"/>
                  <p:cNvSpPr/>
                  <p:nvPr/>
                </p:nvSpPr>
                <p:spPr>
                  <a:xfrm rot="16020000">
                    <a:off x="3730680" y="3694320"/>
                    <a:ext cx="118800" cy="188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6" name="Freeform 482"/>
                  <p:cNvSpPr/>
                  <p:nvPr/>
                </p:nvSpPr>
                <p:spPr>
                  <a:xfrm>
                    <a:off x="4267080" y="3281400"/>
                    <a:ext cx="128160" cy="2394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1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50"/>
                        </a:lnTo>
                        <a:lnTo>
                          <a:pt x="70" y="65"/>
                        </a:lnTo>
                        <a:lnTo>
                          <a:pt x="60" y="80"/>
                        </a:lnTo>
                        <a:lnTo>
                          <a:pt x="60" y="94"/>
                        </a:lnTo>
                        <a:lnTo>
                          <a:pt x="50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7" name="Freeform 483"/>
                  <p:cNvSpPr/>
                  <p:nvPr/>
                </p:nvSpPr>
                <p:spPr>
                  <a:xfrm>
                    <a:off x="3852720" y="3257640"/>
                    <a:ext cx="212400" cy="223560"/>
                  </a:xfrm>
                  <a:custGeom>
                    <a:avLst/>
                    <a:gdLst>
                      <a:gd name="textAreaLeft" fmla="*/ 0 w 212400"/>
                      <a:gd name="textAreaRight" fmla="*/ 212760 w 212400"/>
                      <a:gd name="textAreaTop" fmla="*/ 0 h 223560"/>
                      <a:gd name="textAreaBottom" fmla="*/ 223920 h 223560"/>
                    </a:gdLst>
                    <a:ahLst/>
                    <a:rect l="textAreaLeft" t="textAreaTop" r="textAreaRight" b="textAreaBottom"/>
                    <a:pathLst>
                      <a:path w="134" h="141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3" y="13"/>
                        </a:lnTo>
                        <a:lnTo>
                          <a:pt x="98" y="13"/>
                        </a:lnTo>
                        <a:lnTo>
                          <a:pt x="113" y="13"/>
                        </a:lnTo>
                        <a:lnTo>
                          <a:pt x="128" y="18"/>
                        </a:lnTo>
                        <a:lnTo>
                          <a:pt x="133" y="34"/>
                        </a:lnTo>
                        <a:lnTo>
                          <a:pt x="128" y="48"/>
                        </a:lnTo>
                        <a:lnTo>
                          <a:pt x="118" y="64"/>
                        </a:lnTo>
                        <a:lnTo>
                          <a:pt x="108" y="79"/>
                        </a:lnTo>
                        <a:lnTo>
                          <a:pt x="103" y="94"/>
                        </a:lnTo>
                        <a:lnTo>
                          <a:pt x="98" y="109"/>
                        </a:lnTo>
                        <a:lnTo>
                          <a:pt x="98" y="124"/>
                        </a:lnTo>
                        <a:lnTo>
                          <a:pt x="93" y="140"/>
                        </a:lnTo>
                        <a:lnTo>
                          <a:pt x="78" y="140"/>
                        </a:lnTo>
                        <a:lnTo>
                          <a:pt x="68" y="124"/>
                        </a:lnTo>
                        <a:lnTo>
                          <a:pt x="64" y="109"/>
                        </a:lnTo>
                        <a:lnTo>
                          <a:pt x="54" y="94"/>
                        </a:lnTo>
                        <a:lnTo>
                          <a:pt x="44" y="79"/>
                        </a:lnTo>
                        <a:lnTo>
                          <a:pt x="29" y="69"/>
                        </a:lnTo>
                        <a:lnTo>
                          <a:pt x="19" y="54"/>
                        </a:lnTo>
                        <a:lnTo>
                          <a:pt x="9" y="38"/>
                        </a:lnTo>
                        <a:lnTo>
                          <a:pt x="4" y="2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388" name="Group 486"/>
                  <p:cNvGrpSpPr/>
                  <p:nvPr/>
                </p:nvGrpSpPr>
                <p:grpSpPr>
                  <a:xfrm>
                    <a:off x="4006440" y="3175200"/>
                    <a:ext cx="365400" cy="387000"/>
                    <a:chOff x="4006440" y="3175200"/>
                    <a:chExt cx="365400" cy="387000"/>
                  </a:xfrm>
                </p:grpSpPr>
                <p:sp>
                  <p:nvSpPr>
                    <p:cNvPr id="2389" name="AutoShape 484"/>
                    <p:cNvSpPr/>
                    <p:nvPr/>
                  </p:nvSpPr>
                  <p:spPr>
                    <a:xfrm flipH="1" flipV="1" rot="12180000">
                      <a:off x="4055400" y="3214440"/>
                      <a:ext cx="266400" cy="3074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90" name="Oval 485"/>
                    <p:cNvSpPr/>
                    <p:nvPr/>
                  </p:nvSpPr>
                  <p:spPr>
                    <a:xfrm rot="1380000">
                      <a:off x="4137120" y="3306240"/>
                      <a:ext cx="105840" cy="12348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480" bIns="42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391" name="Group 489"/>
                  <p:cNvGrpSpPr/>
                  <p:nvPr/>
                </p:nvGrpSpPr>
                <p:grpSpPr>
                  <a:xfrm>
                    <a:off x="3905640" y="3203280"/>
                    <a:ext cx="326520" cy="435240"/>
                    <a:chOff x="3905640" y="3203280"/>
                    <a:chExt cx="326520" cy="435240"/>
                  </a:xfrm>
                </p:grpSpPr>
                <p:sp>
                  <p:nvSpPr>
                    <p:cNvPr id="2392" name="AutoShape 487"/>
                    <p:cNvSpPr/>
                    <p:nvPr/>
                  </p:nvSpPr>
                  <p:spPr>
                    <a:xfrm flipV="1" rot="10560000">
                      <a:off x="3919680" y="3212640"/>
                      <a:ext cx="298080" cy="41544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6400 h 415440"/>
                        <a:gd name="textAreaBottom" fmla="*/ 329040 h 41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393" name="Oval 488"/>
                    <p:cNvSpPr/>
                    <p:nvPr/>
                  </p:nvSpPr>
                  <p:spPr>
                    <a:xfrm flipH="1" rot="21360000">
                      <a:off x="4010040" y="333648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394" name="Group 520"/>
                <p:cNvGrpSpPr/>
                <p:nvPr/>
              </p:nvGrpSpPr>
              <p:grpSpPr>
                <a:xfrm>
                  <a:off x="4481640" y="4143960"/>
                  <a:ext cx="1175040" cy="1129320"/>
                  <a:chOff x="4481640" y="4143960"/>
                  <a:chExt cx="1175040" cy="1129320"/>
                </a:xfrm>
              </p:grpSpPr>
              <p:sp useBgFill="1">
                <p:nvSpPr>
                  <p:cNvPr id="2395" name="Oval 491"/>
                  <p:cNvSpPr/>
                  <p:nvPr/>
                </p:nvSpPr>
                <p:spPr>
                  <a:xfrm>
                    <a:off x="4505400" y="4176720"/>
                    <a:ext cx="110448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96" name="AutoShape 492"/>
                  <p:cNvSpPr/>
                  <p:nvPr/>
                </p:nvSpPr>
                <p:spPr>
                  <a:xfrm flipH="1" flipV="1" rot="16440000">
                    <a:off x="5343120" y="4527720"/>
                    <a:ext cx="244080" cy="3661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6320 h 366120"/>
                      <a:gd name="textAreaBottom" fmla="*/ 289800 h 366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97" name="Oval 493"/>
                  <p:cNvSpPr/>
                  <p:nvPr/>
                </p:nvSpPr>
                <p:spPr>
                  <a:xfrm rot="5640000">
                    <a:off x="5451480" y="4673520"/>
                    <a:ext cx="110880" cy="112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98" name="AutoShape 494"/>
                  <p:cNvSpPr/>
                  <p:nvPr/>
                </p:nvSpPr>
                <p:spPr>
                  <a:xfrm flipH="1" flipV="1" rot="7980000">
                    <a:off x="4647960" y="4279680"/>
                    <a:ext cx="248760" cy="345240"/>
                  </a:xfrm>
                  <a:custGeom>
                    <a:avLst/>
                    <a:gdLst>
                      <a:gd name="textAreaLeft" fmla="*/ 51840 w 248760"/>
                      <a:gd name="textAreaRight" fmla="*/ 196920 w 24876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99" name="Oval 495"/>
                  <p:cNvSpPr/>
                  <p:nvPr/>
                </p:nvSpPr>
                <p:spPr>
                  <a:xfrm rot="18780000">
                    <a:off x="4695480" y="4367160"/>
                    <a:ext cx="10296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0" name="AutoShape 496"/>
                  <p:cNvSpPr/>
                  <p:nvPr/>
                </p:nvSpPr>
                <p:spPr>
                  <a:xfrm flipH="1" flipV="1" rot="6360000">
                    <a:off x="4600800" y="4397760"/>
                    <a:ext cx="261720" cy="44568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1" name="Oval 497"/>
                  <p:cNvSpPr/>
                  <p:nvPr/>
                </p:nvSpPr>
                <p:spPr>
                  <a:xfrm rot="17160000">
                    <a:off x="4590720" y="4540320"/>
                    <a:ext cx="10584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2" name="AutoShape 498"/>
                  <p:cNvSpPr/>
                  <p:nvPr/>
                </p:nvSpPr>
                <p:spPr>
                  <a:xfrm flipH="1" flipV="1" rot="19140000">
                    <a:off x="5257080" y="4729320"/>
                    <a:ext cx="139320" cy="421920"/>
                  </a:xfrm>
                  <a:custGeom>
                    <a:avLst/>
                    <a:gdLst>
                      <a:gd name="textAreaLeft" fmla="*/ 28800 w 139320"/>
                      <a:gd name="textAreaRight" fmla="*/ 110520 w 13932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3" name="AutoShape 499"/>
                  <p:cNvSpPr/>
                  <p:nvPr/>
                </p:nvSpPr>
                <p:spPr>
                  <a:xfrm flipH="1" flipV="1" rot="18000000">
                    <a:off x="5308200" y="4625640"/>
                    <a:ext cx="171000" cy="494640"/>
                  </a:xfrm>
                  <a:custGeom>
                    <a:avLst/>
                    <a:gdLst>
                      <a:gd name="textAreaLeft" fmla="*/ 35640 w 171000"/>
                      <a:gd name="textAreaRight" fmla="*/ 135360 w 171000"/>
                      <a:gd name="textAreaTop" fmla="*/ 102960 h 494640"/>
                      <a:gd name="textAreaBottom" fmla="*/ 391680 h 49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4" name="Oval 500"/>
                  <p:cNvSpPr/>
                  <p:nvPr/>
                </p:nvSpPr>
                <p:spPr>
                  <a:xfrm rot="7200000">
                    <a:off x="5421600" y="484992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5" name="AutoShape 501"/>
                  <p:cNvSpPr/>
                  <p:nvPr/>
                </p:nvSpPr>
                <p:spPr>
                  <a:xfrm flipH="1" flipV="1" rot="14700000">
                    <a:off x="5296680" y="4368240"/>
                    <a:ext cx="218880" cy="39168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1360 h 391680"/>
                      <a:gd name="textAreaBottom" fmla="*/ 310320 h 391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6" name="Oval 502"/>
                  <p:cNvSpPr/>
                  <p:nvPr/>
                </p:nvSpPr>
                <p:spPr>
                  <a:xfrm rot="3900000">
                    <a:off x="5421240" y="450504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7" name="AutoShape 503"/>
                  <p:cNvSpPr/>
                  <p:nvPr/>
                </p:nvSpPr>
                <p:spPr>
                  <a:xfrm flipH="1" flipV="1" rot="13020000">
                    <a:off x="5153760" y="4265640"/>
                    <a:ext cx="247320" cy="4348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360 h 434880"/>
                      <a:gd name="textAreaBottom" fmla="*/ 344520 h 434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8" name="AutoShape 504"/>
                  <p:cNvSpPr/>
                  <p:nvPr/>
                </p:nvSpPr>
                <p:spPr>
                  <a:xfrm flipH="1" flipV="1" rot="20640000">
                    <a:off x="4999680" y="4790880"/>
                    <a:ext cx="258480" cy="455400"/>
                  </a:xfrm>
                  <a:custGeom>
                    <a:avLst/>
                    <a:gdLst>
                      <a:gd name="textAreaLeft" fmla="*/ 53640 w 258480"/>
                      <a:gd name="textAreaRight" fmla="*/ 204840 w 25848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9" name="Oval 505"/>
                  <p:cNvSpPr/>
                  <p:nvPr/>
                </p:nvSpPr>
                <p:spPr>
                  <a:xfrm rot="9840000">
                    <a:off x="5109120" y="5058000"/>
                    <a:ext cx="10584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0" name="AutoShape 506"/>
                  <p:cNvSpPr/>
                  <p:nvPr/>
                </p:nvSpPr>
                <p:spPr>
                  <a:xfrm flipH="1" flipV="1" rot="480000">
                    <a:off x="4861800" y="4874400"/>
                    <a:ext cx="306000" cy="371160"/>
                  </a:xfrm>
                  <a:custGeom>
                    <a:avLst/>
                    <a:gdLst>
                      <a:gd name="textAreaLeft" fmla="*/ 63720 w 306000"/>
                      <a:gd name="textAreaRight" fmla="*/ 242280 w 306000"/>
                      <a:gd name="textAreaTop" fmla="*/ 77040 h 371160"/>
                      <a:gd name="textAreaBottom" fmla="*/ 293760 h 371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1" name="AutoShape 507"/>
                  <p:cNvSpPr/>
                  <p:nvPr/>
                </p:nvSpPr>
                <p:spPr>
                  <a:xfrm flipH="1" flipV="1" rot="1800000">
                    <a:off x="4717440" y="4938480"/>
                    <a:ext cx="266400" cy="237600"/>
                  </a:xfrm>
                  <a:custGeom>
                    <a:avLst/>
                    <a:gdLst>
                      <a:gd name="textAreaLeft" fmla="*/ 55440 w 266400"/>
                      <a:gd name="textAreaRight" fmla="*/ 210960 w 266400"/>
                      <a:gd name="textAreaTop" fmla="*/ 49320 h 237600"/>
                      <a:gd name="textAreaBottom" fmla="*/ 188280 h 23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2" name="Oval 508"/>
                  <p:cNvSpPr/>
                  <p:nvPr/>
                </p:nvSpPr>
                <p:spPr>
                  <a:xfrm rot="12600000">
                    <a:off x="4799160" y="5010480"/>
                    <a:ext cx="10440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3" name="AutoShape 509"/>
                  <p:cNvSpPr/>
                  <p:nvPr/>
                </p:nvSpPr>
                <p:spPr>
                  <a:xfrm flipH="1" flipV="1" rot="3600000">
                    <a:off x="4673880" y="4692600"/>
                    <a:ext cx="237600" cy="4312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4" name="AutoShape 510"/>
                  <p:cNvSpPr/>
                  <p:nvPr/>
                </p:nvSpPr>
                <p:spPr>
                  <a:xfrm flipH="1" flipV="1" rot="5220000">
                    <a:off x="4555440" y="4520880"/>
                    <a:ext cx="325080" cy="414000"/>
                  </a:xfrm>
                  <a:custGeom>
                    <a:avLst/>
                    <a:gdLst>
                      <a:gd name="textAreaLeft" fmla="*/ 67680 w 325080"/>
                      <a:gd name="textAreaRight" fmla="*/ 257400 w 325080"/>
                      <a:gd name="textAreaTop" fmla="*/ 86040 h 414000"/>
                      <a:gd name="textAreaBottom" fmla="*/ 327960 h 41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5" name="Oval 511"/>
                  <p:cNvSpPr/>
                  <p:nvPr/>
                </p:nvSpPr>
                <p:spPr>
                  <a:xfrm rot="16020000">
                    <a:off x="4629240" y="4659480"/>
                    <a:ext cx="115560" cy="193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6" name="Freeform 512"/>
                  <p:cNvSpPr/>
                  <p:nvPr/>
                </p:nvSpPr>
                <p:spPr>
                  <a:xfrm>
                    <a:off x="5164200" y="4249800"/>
                    <a:ext cx="128160" cy="2394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9400"/>
                      <a:gd name="textAreaBottom" fmla="*/ 239760 h 239400"/>
                    </a:gdLst>
                    <a:ahLst/>
                    <a:rect l="textAreaLeft" t="textAreaTop" r="textAreaRight" b="textAreaBottom"/>
                    <a:pathLst>
                      <a:path w="81" h="151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50"/>
                        </a:lnTo>
                        <a:lnTo>
                          <a:pt x="70" y="65"/>
                        </a:lnTo>
                        <a:lnTo>
                          <a:pt x="60" y="80"/>
                        </a:lnTo>
                        <a:lnTo>
                          <a:pt x="60" y="94"/>
                        </a:lnTo>
                        <a:lnTo>
                          <a:pt x="50" y="110"/>
                        </a:lnTo>
                        <a:lnTo>
                          <a:pt x="40" y="130"/>
                        </a:lnTo>
                        <a:lnTo>
                          <a:pt x="35" y="144"/>
                        </a:lnTo>
                        <a:lnTo>
                          <a:pt x="20" y="150"/>
                        </a:lnTo>
                        <a:lnTo>
                          <a:pt x="15" y="135"/>
                        </a:lnTo>
                        <a:lnTo>
                          <a:pt x="15" y="120"/>
                        </a:lnTo>
                        <a:lnTo>
                          <a:pt x="15" y="105"/>
                        </a:lnTo>
                        <a:lnTo>
                          <a:pt x="15" y="89"/>
                        </a:lnTo>
                        <a:lnTo>
                          <a:pt x="10" y="75"/>
                        </a:lnTo>
                        <a:lnTo>
                          <a:pt x="10" y="60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17" name="Freeform 513"/>
                  <p:cNvSpPr/>
                  <p:nvPr/>
                </p:nvSpPr>
                <p:spPr>
                  <a:xfrm>
                    <a:off x="4746600" y="4229280"/>
                    <a:ext cx="213840" cy="22032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5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3"/>
                        </a:lnTo>
                        <a:lnTo>
                          <a:pt x="99" y="107"/>
                        </a:lnTo>
                        <a:lnTo>
                          <a:pt x="99" y="122"/>
                        </a:lnTo>
                        <a:lnTo>
                          <a:pt x="94" y="138"/>
                        </a:lnTo>
                        <a:lnTo>
                          <a:pt x="79" y="138"/>
                        </a:lnTo>
                        <a:lnTo>
                          <a:pt x="69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418" name="Group 516"/>
                  <p:cNvGrpSpPr/>
                  <p:nvPr/>
                </p:nvGrpSpPr>
                <p:grpSpPr>
                  <a:xfrm>
                    <a:off x="4903200" y="4143960"/>
                    <a:ext cx="364320" cy="388080"/>
                    <a:chOff x="4903200" y="4143960"/>
                    <a:chExt cx="364320" cy="388080"/>
                  </a:xfrm>
                </p:grpSpPr>
                <p:sp>
                  <p:nvSpPr>
                    <p:cNvPr id="2419" name="AutoShape 514"/>
                    <p:cNvSpPr/>
                    <p:nvPr/>
                  </p:nvSpPr>
                  <p:spPr>
                    <a:xfrm flipH="1" flipV="1" rot="12180000">
                      <a:off x="4952880" y="4182480"/>
                      <a:ext cx="264600" cy="309240"/>
                    </a:xfrm>
                    <a:custGeom>
                      <a:avLst/>
                      <a:gdLst>
                        <a:gd name="textAreaLeft" fmla="*/ 55080 w 264600"/>
                        <a:gd name="textAreaRight" fmla="*/ 209520 w 2646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20" name="Oval 515"/>
                    <p:cNvSpPr/>
                    <p:nvPr/>
                  </p:nvSpPr>
                  <p:spPr>
                    <a:xfrm rot="1380000">
                      <a:off x="5033880" y="4273200"/>
                      <a:ext cx="104400" cy="1267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21" name="Group 519"/>
                  <p:cNvGrpSpPr/>
                  <p:nvPr/>
                </p:nvGrpSpPr>
                <p:grpSpPr>
                  <a:xfrm>
                    <a:off x="4802760" y="4171680"/>
                    <a:ext cx="326520" cy="435240"/>
                    <a:chOff x="4802760" y="4171680"/>
                    <a:chExt cx="326520" cy="435240"/>
                  </a:xfrm>
                </p:grpSpPr>
                <p:sp>
                  <p:nvSpPr>
                    <p:cNvPr id="2422" name="AutoShape 517"/>
                    <p:cNvSpPr/>
                    <p:nvPr/>
                  </p:nvSpPr>
                  <p:spPr>
                    <a:xfrm flipV="1" rot="10560000">
                      <a:off x="4816800" y="4181040"/>
                      <a:ext cx="298080" cy="415440"/>
                    </a:xfrm>
                    <a:custGeom>
                      <a:avLst/>
                      <a:gdLst>
                        <a:gd name="textAreaLeft" fmla="*/ 61920 w 298080"/>
                        <a:gd name="textAreaRight" fmla="*/ 236160 w 298080"/>
                        <a:gd name="textAreaTop" fmla="*/ 86400 h 415440"/>
                        <a:gd name="textAreaBottom" fmla="*/ 329040 h 415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23" name="Oval 518"/>
                    <p:cNvSpPr/>
                    <p:nvPr/>
                  </p:nvSpPr>
                  <p:spPr>
                    <a:xfrm flipH="1" rot="21360000">
                      <a:off x="4902840" y="4304880"/>
                      <a:ext cx="120240" cy="1663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424" name="Group 550"/>
                <p:cNvGrpSpPr/>
                <p:nvPr/>
              </p:nvGrpSpPr>
              <p:grpSpPr>
                <a:xfrm>
                  <a:off x="6489000" y="2760840"/>
                  <a:ext cx="1174320" cy="1128960"/>
                  <a:chOff x="6489000" y="2760840"/>
                  <a:chExt cx="1174320" cy="1128960"/>
                </a:xfrm>
              </p:grpSpPr>
              <p:sp useBgFill="1">
                <p:nvSpPr>
                  <p:cNvPr id="2425" name="Oval 521"/>
                  <p:cNvSpPr/>
                  <p:nvPr/>
                </p:nvSpPr>
                <p:spPr>
                  <a:xfrm>
                    <a:off x="6513480" y="2795760"/>
                    <a:ext cx="1103040" cy="104256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26" name="AutoShape 522"/>
                  <p:cNvSpPr/>
                  <p:nvPr/>
                </p:nvSpPr>
                <p:spPr>
                  <a:xfrm flipH="1" flipV="1" rot="16440000">
                    <a:off x="7349400" y="3147120"/>
                    <a:ext cx="245880" cy="36396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5600 h 363960"/>
                      <a:gd name="textAreaBottom" fmla="*/ 288360 h 36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27" name="Oval 523"/>
                  <p:cNvSpPr/>
                  <p:nvPr/>
                </p:nvSpPr>
                <p:spPr>
                  <a:xfrm rot="5640000">
                    <a:off x="7458480" y="3290760"/>
                    <a:ext cx="112320" cy="11232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28" name="AutoShape 524"/>
                  <p:cNvSpPr/>
                  <p:nvPr/>
                </p:nvSpPr>
                <p:spPr>
                  <a:xfrm flipH="1" flipV="1" rot="7980000">
                    <a:off x="6656040" y="2896920"/>
                    <a:ext cx="247320" cy="34524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29" name="Oval 525"/>
                  <p:cNvSpPr/>
                  <p:nvPr/>
                </p:nvSpPr>
                <p:spPr>
                  <a:xfrm rot="18780000">
                    <a:off x="6700320" y="298440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0" name="AutoShape 526"/>
                  <p:cNvSpPr/>
                  <p:nvPr/>
                </p:nvSpPr>
                <p:spPr>
                  <a:xfrm flipH="1" flipV="1" rot="6360000">
                    <a:off x="6608520" y="30121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1" name="Oval 527"/>
                  <p:cNvSpPr/>
                  <p:nvPr/>
                </p:nvSpPr>
                <p:spPr>
                  <a:xfrm rot="17160000">
                    <a:off x="6599160" y="315612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2" name="AutoShape 528"/>
                  <p:cNvSpPr/>
                  <p:nvPr/>
                </p:nvSpPr>
                <p:spPr>
                  <a:xfrm flipH="1" flipV="1" rot="19140000">
                    <a:off x="7265520" y="3345840"/>
                    <a:ext cx="137880" cy="42336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8200 h 423360"/>
                      <a:gd name="textAreaBottom" fmla="*/ 335160 h 423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3" name="AutoShape 529"/>
                  <p:cNvSpPr/>
                  <p:nvPr/>
                </p:nvSpPr>
                <p:spPr>
                  <a:xfrm flipH="1" flipV="1" rot="18000000">
                    <a:off x="7316640" y="3243240"/>
                    <a:ext cx="169560" cy="495000"/>
                  </a:xfrm>
                  <a:custGeom>
                    <a:avLst/>
                    <a:gdLst>
                      <a:gd name="textAreaLeft" fmla="*/ 35280 w 169560"/>
                      <a:gd name="textAreaRight" fmla="*/ 134280 w 169560"/>
                      <a:gd name="textAreaTop" fmla="*/ 102960 h 495000"/>
                      <a:gd name="textAreaBottom" fmla="*/ 392040 h 495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4" name="Oval 530"/>
                  <p:cNvSpPr/>
                  <p:nvPr/>
                </p:nvSpPr>
                <p:spPr>
                  <a:xfrm rot="7200000">
                    <a:off x="7427880" y="3468600"/>
                    <a:ext cx="10440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5" name="AutoShape 531"/>
                  <p:cNvSpPr/>
                  <p:nvPr/>
                </p:nvSpPr>
                <p:spPr>
                  <a:xfrm flipH="1" flipV="1" rot="14700000">
                    <a:off x="7303680" y="2983680"/>
                    <a:ext cx="218880" cy="393480"/>
                  </a:xfrm>
                  <a:custGeom>
                    <a:avLst/>
                    <a:gdLst>
                      <a:gd name="textAreaLeft" fmla="*/ 45360 w 218880"/>
                      <a:gd name="textAreaRight" fmla="*/ 173520 w 21888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6" name="Oval 532"/>
                  <p:cNvSpPr/>
                  <p:nvPr/>
                </p:nvSpPr>
                <p:spPr>
                  <a:xfrm rot="3900000">
                    <a:off x="7427880" y="3122280"/>
                    <a:ext cx="104400" cy="10440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7" name="AutoShape 533"/>
                  <p:cNvSpPr/>
                  <p:nvPr/>
                </p:nvSpPr>
                <p:spPr>
                  <a:xfrm flipH="1" flipV="1" rot="13020000">
                    <a:off x="7161120" y="2885040"/>
                    <a:ext cx="245880" cy="4312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89640 h 431280"/>
                      <a:gd name="textAreaBottom" fmla="*/ 341640 h 431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8" name="AutoShape 534"/>
                  <p:cNvSpPr/>
                  <p:nvPr/>
                </p:nvSpPr>
                <p:spPr>
                  <a:xfrm flipH="1" flipV="1" rot="20640000">
                    <a:off x="7007040" y="3395880"/>
                    <a:ext cx="356760" cy="453600"/>
                  </a:xfrm>
                  <a:custGeom>
                    <a:avLst/>
                    <a:gdLst>
                      <a:gd name="textAreaLeft" fmla="*/ 74160 w 356760"/>
                      <a:gd name="textAreaRight" fmla="*/ 282600 w 356760"/>
                      <a:gd name="textAreaTop" fmla="*/ 94320 h 453600"/>
                      <a:gd name="textAreaBottom" fmla="*/ 359280 h 453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39" name="Oval 535"/>
                  <p:cNvSpPr/>
                  <p:nvPr/>
                </p:nvSpPr>
                <p:spPr>
                  <a:xfrm rot="9840000">
                    <a:off x="7115400" y="367524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0" name="AutoShape 536"/>
                  <p:cNvSpPr/>
                  <p:nvPr/>
                </p:nvSpPr>
                <p:spPr>
                  <a:xfrm flipH="1" flipV="1" rot="480000">
                    <a:off x="6869880" y="3493800"/>
                    <a:ext cx="304560" cy="36936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680 h 369360"/>
                      <a:gd name="textAreaBottom" fmla="*/ 292680 h 369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1" name="AutoShape 537"/>
                  <p:cNvSpPr/>
                  <p:nvPr/>
                </p:nvSpPr>
                <p:spPr>
                  <a:xfrm flipH="1" flipV="1" rot="1800000">
                    <a:off x="6726240" y="3556080"/>
                    <a:ext cx="264960" cy="240840"/>
                  </a:xfrm>
                  <a:custGeom>
                    <a:avLst/>
                    <a:gdLst>
                      <a:gd name="textAreaLeft" fmla="*/ 55080 w 264960"/>
                      <a:gd name="textAreaRight" fmla="*/ 209880 w 264960"/>
                      <a:gd name="textAreaTop" fmla="*/ 50040 h 240840"/>
                      <a:gd name="textAreaBottom" fmla="*/ 190800 h 240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2" name="Oval 538"/>
                  <p:cNvSpPr/>
                  <p:nvPr/>
                </p:nvSpPr>
                <p:spPr>
                  <a:xfrm rot="12600000">
                    <a:off x="6805800" y="3629160"/>
                    <a:ext cx="1058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3" name="AutoShape 539"/>
                  <p:cNvSpPr/>
                  <p:nvPr/>
                </p:nvSpPr>
                <p:spPr>
                  <a:xfrm flipH="1" flipV="1" rot="3600000">
                    <a:off x="6681960" y="3309840"/>
                    <a:ext cx="236160" cy="433080"/>
                  </a:xfrm>
                  <a:custGeom>
                    <a:avLst/>
                    <a:gdLst>
                      <a:gd name="textAreaLeft" fmla="*/ 48960 w 236160"/>
                      <a:gd name="textAreaRight" fmla="*/ 187200 w 23616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4" name="AutoShape 540"/>
                  <p:cNvSpPr/>
                  <p:nvPr/>
                </p:nvSpPr>
                <p:spPr>
                  <a:xfrm flipH="1" flipV="1" rot="5220000">
                    <a:off x="6562800" y="3138120"/>
                    <a:ext cx="326520" cy="417240"/>
                  </a:xfrm>
                  <a:custGeom>
                    <a:avLst/>
                    <a:gdLst>
                      <a:gd name="textAreaLeft" fmla="*/ 68040 w 326520"/>
                      <a:gd name="textAreaRight" fmla="*/ 258480 w 326520"/>
                      <a:gd name="textAreaTop" fmla="*/ 86760 h 417240"/>
                      <a:gd name="textAreaBottom" fmla="*/ 330480 h 417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5" name="Oval 541"/>
                  <p:cNvSpPr/>
                  <p:nvPr/>
                </p:nvSpPr>
                <p:spPr>
                  <a:xfrm rot="16020000">
                    <a:off x="6635880" y="3278520"/>
                    <a:ext cx="117000" cy="191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6" name="Freeform 542"/>
                  <p:cNvSpPr/>
                  <p:nvPr/>
                </p:nvSpPr>
                <p:spPr>
                  <a:xfrm>
                    <a:off x="7170840" y="2865600"/>
                    <a:ext cx="128160" cy="237600"/>
                  </a:xfrm>
                  <a:custGeom>
                    <a:avLst/>
                    <a:gdLst>
                      <a:gd name="textAreaLeft" fmla="*/ 0 w 128160"/>
                      <a:gd name="textAreaRight" fmla="*/ 128520 w 128160"/>
                      <a:gd name="textAreaTop" fmla="*/ 0 h 237600"/>
                      <a:gd name="textAreaBottom" fmla="*/ 237960 h 237600"/>
                    </a:gdLst>
                    <a:ahLst/>
                    <a:rect l="textAreaLeft" t="textAreaTop" r="textAreaRight" b="textAreaBottom"/>
                    <a:pathLst>
                      <a:path w="81" h="150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0" y="15"/>
                        </a:lnTo>
                        <a:lnTo>
                          <a:pt x="80" y="29"/>
                        </a:lnTo>
                        <a:lnTo>
                          <a:pt x="75" y="49"/>
                        </a:lnTo>
                        <a:lnTo>
                          <a:pt x="70" y="64"/>
                        </a:lnTo>
                        <a:lnTo>
                          <a:pt x="60" y="79"/>
                        </a:lnTo>
                        <a:lnTo>
                          <a:pt x="60" y="94"/>
                        </a:lnTo>
                        <a:lnTo>
                          <a:pt x="50" y="109"/>
                        </a:lnTo>
                        <a:lnTo>
                          <a:pt x="40" y="129"/>
                        </a:lnTo>
                        <a:lnTo>
                          <a:pt x="35" y="143"/>
                        </a:lnTo>
                        <a:lnTo>
                          <a:pt x="20" y="149"/>
                        </a:lnTo>
                        <a:lnTo>
                          <a:pt x="15" y="134"/>
                        </a:lnTo>
                        <a:lnTo>
                          <a:pt x="15" y="119"/>
                        </a:lnTo>
                        <a:lnTo>
                          <a:pt x="15" y="104"/>
                        </a:lnTo>
                        <a:lnTo>
                          <a:pt x="15" y="89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47" name="Freeform 543"/>
                  <p:cNvSpPr/>
                  <p:nvPr/>
                </p:nvSpPr>
                <p:spPr>
                  <a:xfrm>
                    <a:off x="6754680" y="2843280"/>
                    <a:ext cx="215640" cy="221760"/>
                  </a:xfrm>
                  <a:custGeom>
                    <a:avLst/>
                    <a:gdLst>
                      <a:gd name="textAreaLeft" fmla="*/ 0 w 215640"/>
                      <a:gd name="textAreaRight" fmla="*/ 216000 w 215640"/>
                      <a:gd name="textAreaTop" fmla="*/ 0 h 221760"/>
                      <a:gd name="textAreaBottom" fmla="*/ 222120 h 221760"/>
                    </a:gdLst>
                    <a:ahLst/>
                    <a:rect l="textAreaLeft" t="textAreaTop" r="textAreaRight" b="textAreaBottom"/>
                    <a:pathLst>
                      <a:path w="136" h="140">
                        <a:moveTo>
                          <a:pt x="0" y="0"/>
                        </a:moveTo>
                        <a:lnTo>
                          <a:pt x="20" y="8"/>
                        </a:lnTo>
                        <a:lnTo>
                          <a:pt x="35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5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5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4"/>
                        </a:lnTo>
                        <a:lnTo>
                          <a:pt x="99" y="108"/>
                        </a:lnTo>
                        <a:lnTo>
                          <a:pt x="99" y="123"/>
                        </a:lnTo>
                        <a:lnTo>
                          <a:pt x="94" y="139"/>
                        </a:lnTo>
                        <a:lnTo>
                          <a:pt x="80" y="139"/>
                        </a:lnTo>
                        <a:lnTo>
                          <a:pt x="70" y="123"/>
                        </a:lnTo>
                        <a:lnTo>
                          <a:pt x="64" y="108"/>
                        </a:lnTo>
                        <a:lnTo>
                          <a:pt x="54" y="94"/>
                        </a:lnTo>
                        <a:lnTo>
                          <a:pt x="44" y="78"/>
                        </a:lnTo>
                        <a:lnTo>
                          <a:pt x="30" y="68"/>
                        </a:lnTo>
                        <a:lnTo>
                          <a:pt x="20" y="53"/>
                        </a:lnTo>
                        <a:lnTo>
                          <a:pt x="10" y="38"/>
                        </a:lnTo>
                        <a:lnTo>
                          <a:pt x="5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448" name="Group 546"/>
                  <p:cNvGrpSpPr/>
                  <p:nvPr/>
                </p:nvGrpSpPr>
                <p:grpSpPr>
                  <a:xfrm>
                    <a:off x="6909840" y="2760840"/>
                    <a:ext cx="366120" cy="388800"/>
                    <a:chOff x="6909840" y="2760840"/>
                    <a:chExt cx="366120" cy="388800"/>
                  </a:xfrm>
                </p:grpSpPr>
                <p:sp>
                  <p:nvSpPr>
                    <p:cNvPr id="2449" name="AutoShape 544"/>
                    <p:cNvSpPr/>
                    <p:nvPr/>
                  </p:nvSpPr>
                  <p:spPr>
                    <a:xfrm flipH="1" flipV="1" rot="12180000">
                      <a:off x="6959160" y="2800440"/>
                      <a:ext cx="266400" cy="3092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440 h 309240"/>
                        <a:gd name="textAreaBottom" fmla="*/ 244800 h 309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50" name="Oval 545"/>
                    <p:cNvSpPr/>
                    <p:nvPr/>
                  </p:nvSpPr>
                  <p:spPr>
                    <a:xfrm rot="1380000">
                      <a:off x="7041960" y="2892240"/>
                      <a:ext cx="102960" cy="1249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51" name="Group 549"/>
                  <p:cNvGrpSpPr/>
                  <p:nvPr/>
                </p:nvGrpSpPr>
                <p:grpSpPr>
                  <a:xfrm>
                    <a:off x="6810840" y="2788920"/>
                    <a:ext cx="324720" cy="435240"/>
                    <a:chOff x="6810840" y="2788920"/>
                    <a:chExt cx="324720" cy="435240"/>
                  </a:xfrm>
                </p:grpSpPr>
                <p:sp>
                  <p:nvSpPr>
                    <p:cNvPr id="2452" name="AutoShape 547"/>
                    <p:cNvSpPr/>
                    <p:nvPr/>
                  </p:nvSpPr>
                  <p:spPr>
                    <a:xfrm flipV="1" rot="10560000">
                      <a:off x="6824520" y="2797920"/>
                      <a:ext cx="296640" cy="4158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400 h 415800"/>
                        <a:gd name="textAreaBottom" fmla="*/ 329400 h 41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53" name="Oval 548"/>
                    <p:cNvSpPr/>
                    <p:nvPr/>
                  </p:nvSpPr>
                  <p:spPr>
                    <a:xfrm flipH="1" rot="21360000">
                      <a:off x="6910920" y="2922120"/>
                      <a:ext cx="118800" cy="1663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454" name="Group 580"/>
                <p:cNvGrpSpPr/>
                <p:nvPr/>
              </p:nvGrpSpPr>
              <p:grpSpPr>
                <a:xfrm>
                  <a:off x="6280200" y="4074120"/>
                  <a:ext cx="1175760" cy="1127160"/>
                  <a:chOff x="6280200" y="4074120"/>
                  <a:chExt cx="1175760" cy="1127160"/>
                </a:xfrm>
              </p:grpSpPr>
              <p:sp useBgFill="1">
                <p:nvSpPr>
                  <p:cNvPr id="2455" name="Oval 551"/>
                  <p:cNvSpPr/>
                  <p:nvPr/>
                </p:nvSpPr>
                <p:spPr>
                  <a:xfrm>
                    <a:off x="6305400" y="4110120"/>
                    <a:ext cx="1104480" cy="103788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56" name="AutoShape 552"/>
                  <p:cNvSpPr/>
                  <p:nvPr/>
                </p:nvSpPr>
                <p:spPr>
                  <a:xfrm flipH="1" flipV="1" rot="16440000">
                    <a:off x="7141680" y="4458960"/>
                    <a:ext cx="245880" cy="36612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76320 h 366120"/>
                      <a:gd name="textAreaBottom" fmla="*/ 289800 h 366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57" name="Oval 553"/>
                  <p:cNvSpPr/>
                  <p:nvPr/>
                </p:nvSpPr>
                <p:spPr>
                  <a:xfrm rot="5640000">
                    <a:off x="7251840" y="4605120"/>
                    <a:ext cx="110880" cy="110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58" name="AutoShape 554"/>
                  <p:cNvSpPr/>
                  <p:nvPr/>
                </p:nvSpPr>
                <p:spPr>
                  <a:xfrm flipH="1" flipV="1" rot="7980000">
                    <a:off x="6448320" y="4211280"/>
                    <a:ext cx="248760" cy="345240"/>
                  </a:xfrm>
                  <a:custGeom>
                    <a:avLst/>
                    <a:gdLst>
                      <a:gd name="textAreaLeft" fmla="*/ 51840 w 248760"/>
                      <a:gd name="textAreaRight" fmla="*/ 196920 w 248760"/>
                      <a:gd name="textAreaTop" fmla="*/ 71640 h 345240"/>
                      <a:gd name="textAreaBottom" fmla="*/ 273240 h 345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59" name="Oval 555"/>
                  <p:cNvSpPr/>
                  <p:nvPr/>
                </p:nvSpPr>
                <p:spPr>
                  <a:xfrm rot="18780000">
                    <a:off x="6494400" y="4299120"/>
                    <a:ext cx="10440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0" name="AutoShape 556"/>
                  <p:cNvSpPr/>
                  <p:nvPr/>
                </p:nvSpPr>
                <p:spPr>
                  <a:xfrm flipH="1" flipV="1" rot="6360000">
                    <a:off x="6399360" y="4327920"/>
                    <a:ext cx="261720" cy="445680"/>
                  </a:xfrm>
                  <a:custGeom>
                    <a:avLst/>
                    <a:gdLst>
                      <a:gd name="textAreaLeft" fmla="*/ 54360 w 261720"/>
                      <a:gd name="textAreaRight" fmla="*/ 207360 w 2617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1" name="Oval 557"/>
                  <p:cNvSpPr/>
                  <p:nvPr/>
                </p:nvSpPr>
                <p:spPr>
                  <a:xfrm rot="17160000">
                    <a:off x="6391080" y="4470480"/>
                    <a:ext cx="104400" cy="10296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2" name="AutoShape 558"/>
                  <p:cNvSpPr/>
                  <p:nvPr/>
                </p:nvSpPr>
                <p:spPr>
                  <a:xfrm flipH="1" flipV="1" rot="19140000">
                    <a:off x="7057080" y="4659480"/>
                    <a:ext cx="139320" cy="421920"/>
                  </a:xfrm>
                  <a:custGeom>
                    <a:avLst/>
                    <a:gdLst>
                      <a:gd name="textAreaLeft" fmla="*/ 28800 w 139320"/>
                      <a:gd name="textAreaRight" fmla="*/ 110520 w 139320"/>
                      <a:gd name="textAreaTop" fmla="*/ 87840 h 421920"/>
                      <a:gd name="textAreaBottom" fmla="*/ 334080 h 421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3" name="AutoShape 559"/>
                  <p:cNvSpPr/>
                  <p:nvPr/>
                </p:nvSpPr>
                <p:spPr>
                  <a:xfrm flipH="1" flipV="1" rot="18000000">
                    <a:off x="7110000" y="4557240"/>
                    <a:ext cx="169560" cy="493200"/>
                  </a:xfrm>
                  <a:custGeom>
                    <a:avLst/>
                    <a:gdLst>
                      <a:gd name="textAreaLeft" fmla="*/ 35280 w 169560"/>
                      <a:gd name="textAreaRight" fmla="*/ 134280 w 169560"/>
                      <a:gd name="textAreaTop" fmla="*/ 102600 h 493200"/>
                      <a:gd name="textAreaBottom" fmla="*/ 390600 h 493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4" name="Oval 560"/>
                  <p:cNvSpPr/>
                  <p:nvPr/>
                </p:nvSpPr>
                <p:spPr>
                  <a:xfrm rot="7200000">
                    <a:off x="7221960" y="478188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5" name="AutoShape 561"/>
                  <p:cNvSpPr/>
                  <p:nvPr/>
                </p:nvSpPr>
                <p:spPr>
                  <a:xfrm flipH="1" flipV="1" rot="14700000">
                    <a:off x="7096680" y="4299120"/>
                    <a:ext cx="217440" cy="391680"/>
                  </a:xfrm>
                  <a:custGeom>
                    <a:avLst/>
                    <a:gdLst>
                      <a:gd name="textAreaLeft" fmla="*/ 45360 w 217440"/>
                      <a:gd name="textAreaRight" fmla="*/ 172080 w 217440"/>
                      <a:gd name="textAreaTop" fmla="*/ 81360 h 391680"/>
                      <a:gd name="textAreaBottom" fmla="*/ 310320 h 391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6" name="Oval 562"/>
                  <p:cNvSpPr/>
                  <p:nvPr/>
                </p:nvSpPr>
                <p:spPr>
                  <a:xfrm rot="3900000">
                    <a:off x="7221960" y="443376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7" name="AutoShape 563"/>
                  <p:cNvSpPr/>
                  <p:nvPr/>
                </p:nvSpPr>
                <p:spPr>
                  <a:xfrm flipH="1" flipV="1" rot="13020000">
                    <a:off x="6953760" y="4197600"/>
                    <a:ext cx="245880" cy="433080"/>
                  </a:xfrm>
                  <a:custGeom>
                    <a:avLst/>
                    <a:gdLst>
                      <a:gd name="textAreaLeft" fmla="*/ 51120 w 245880"/>
                      <a:gd name="textAreaRight" fmla="*/ 194760 w 24588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8" name="AutoShape 564"/>
                  <p:cNvSpPr/>
                  <p:nvPr/>
                </p:nvSpPr>
                <p:spPr>
                  <a:xfrm flipH="1" flipV="1" rot="20640000">
                    <a:off x="6799320" y="4707720"/>
                    <a:ext cx="358560" cy="452520"/>
                  </a:xfrm>
                  <a:custGeom>
                    <a:avLst/>
                    <a:gdLst>
                      <a:gd name="textAreaLeft" fmla="*/ 74520 w 358560"/>
                      <a:gd name="textAreaRight" fmla="*/ 284040 w 358560"/>
                      <a:gd name="textAreaTop" fmla="*/ 94320 h 452520"/>
                      <a:gd name="textAreaBottom" fmla="*/ 358200 h 452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69" name="Oval 565"/>
                  <p:cNvSpPr/>
                  <p:nvPr/>
                </p:nvSpPr>
                <p:spPr>
                  <a:xfrm rot="9840000">
                    <a:off x="6909120" y="4986360"/>
                    <a:ext cx="104400" cy="107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0" name="AutoShape 566"/>
                  <p:cNvSpPr/>
                  <p:nvPr/>
                </p:nvSpPr>
                <p:spPr>
                  <a:xfrm flipH="1" flipV="1" rot="480000">
                    <a:off x="6662160" y="4808520"/>
                    <a:ext cx="306000" cy="366480"/>
                  </a:xfrm>
                  <a:custGeom>
                    <a:avLst/>
                    <a:gdLst>
                      <a:gd name="textAreaLeft" fmla="*/ 63720 w 306000"/>
                      <a:gd name="textAreaRight" fmla="*/ 242280 w 306000"/>
                      <a:gd name="textAreaTop" fmla="*/ 76320 h 366480"/>
                      <a:gd name="textAreaBottom" fmla="*/ 29016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1" name="AutoShape 567"/>
                  <p:cNvSpPr/>
                  <p:nvPr/>
                </p:nvSpPr>
                <p:spPr>
                  <a:xfrm flipH="1" flipV="1" rot="1800000">
                    <a:off x="6517440" y="4871880"/>
                    <a:ext cx="266400" cy="236160"/>
                  </a:xfrm>
                  <a:custGeom>
                    <a:avLst/>
                    <a:gdLst>
                      <a:gd name="textAreaLeft" fmla="*/ 55440 w 266400"/>
                      <a:gd name="textAreaRight" fmla="*/ 210960 w 266400"/>
                      <a:gd name="textAreaTop" fmla="*/ 48960 h 236160"/>
                      <a:gd name="textAreaBottom" fmla="*/ 187200 h 236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2" name="Oval 568"/>
                  <p:cNvSpPr/>
                  <p:nvPr/>
                </p:nvSpPr>
                <p:spPr>
                  <a:xfrm rot="12600000">
                    <a:off x="6599520" y="4942080"/>
                    <a:ext cx="10440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3" name="AutoShape 569"/>
                  <p:cNvSpPr/>
                  <p:nvPr/>
                </p:nvSpPr>
                <p:spPr>
                  <a:xfrm flipH="1" flipV="1" rot="3600000">
                    <a:off x="6471720" y="4622040"/>
                    <a:ext cx="239400" cy="429840"/>
                  </a:xfrm>
                  <a:custGeom>
                    <a:avLst/>
                    <a:gdLst>
                      <a:gd name="textAreaLeft" fmla="*/ 49680 w 239400"/>
                      <a:gd name="textAreaRight" fmla="*/ 189720 w 239400"/>
                      <a:gd name="textAreaTop" fmla="*/ 89280 h 429840"/>
                      <a:gd name="textAreaBottom" fmla="*/ 340560 h 429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4" name="AutoShape 570"/>
                  <p:cNvSpPr/>
                  <p:nvPr/>
                </p:nvSpPr>
                <p:spPr>
                  <a:xfrm flipH="1" flipV="1" rot="5220000">
                    <a:off x="6356520" y="4451040"/>
                    <a:ext cx="326520" cy="417240"/>
                  </a:xfrm>
                  <a:custGeom>
                    <a:avLst/>
                    <a:gdLst>
                      <a:gd name="textAreaLeft" fmla="*/ 68040 w 326520"/>
                      <a:gd name="textAreaRight" fmla="*/ 258480 w 326520"/>
                      <a:gd name="textAreaTop" fmla="*/ 86760 h 417240"/>
                      <a:gd name="textAreaBottom" fmla="*/ 330480 h 417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5" name="Oval 571"/>
                  <p:cNvSpPr/>
                  <p:nvPr/>
                </p:nvSpPr>
                <p:spPr>
                  <a:xfrm rot="16020000">
                    <a:off x="6427800" y="4592880"/>
                    <a:ext cx="117000" cy="1886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6" name="Freeform 572"/>
                  <p:cNvSpPr/>
                  <p:nvPr/>
                </p:nvSpPr>
                <p:spPr>
                  <a:xfrm>
                    <a:off x="6964200" y="4181400"/>
                    <a:ext cx="129960" cy="237600"/>
                  </a:xfrm>
                  <a:custGeom>
                    <a:avLst/>
                    <a:gdLst>
                      <a:gd name="textAreaLeft" fmla="*/ 0 w 129960"/>
                      <a:gd name="textAreaRight" fmla="*/ 130320 w 129960"/>
                      <a:gd name="textAreaTop" fmla="*/ 0 h 237600"/>
                      <a:gd name="textAreaBottom" fmla="*/ 237960 h 237600"/>
                    </a:gdLst>
                    <a:ahLst/>
                    <a:rect l="textAreaLeft" t="textAreaTop" r="textAreaRight" b="textAreaBottom"/>
                    <a:pathLst>
                      <a:path w="82" h="150">
                        <a:moveTo>
                          <a:pt x="0" y="8"/>
                        </a:moveTo>
                        <a:lnTo>
                          <a:pt x="26" y="0"/>
                        </a:lnTo>
                        <a:lnTo>
                          <a:pt x="41" y="0"/>
                        </a:lnTo>
                        <a:lnTo>
                          <a:pt x="55" y="0"/>
                        </a:lnTo>
                        <a:lnTo>
                          <a:pt x="70" y="0"/>
                        </a:lnTo>
                        <a:lnTo>
                          <a:pt x="81" y="15"/>
                        </a:lnTo>
                        <a:lnTo>
                          <a:pt x="81" y="29"/>
                        </a:lnTo>
                        <a:lnTo>
                          <a:pt x="75" y="49"/>
                        </a:lnTo>
                        <a:lnTo>
                          <a:pt x="70" y="64"/>
                        </a:lnTo>
                        <a:lnTo>
                          <a:pt x="60" y="79"/>
                        </a:lnTo>
                        <a:lnTo>
                          <a:pt x="60" y="94"/>
                        </a:lnTo>
                        <a:lnTo>
                          <a:pt x="51" y="109"/>
                        </a:lnTo>
                        <a:lnTo>
                          <a:pt x="41" y="129"/>
                        </a:lnTo>
                        <a:lnTo>
                          <a:pt x="36" y="143"/>
                        </a:lnTo>
                        <a:lnTo>
                          <a:pt x="21" y="149"/>
                        </a:lnTo>
                        <a:lnTo>
                          <a:pt x="16" y="134"/>
                        </a:lnTo>
                        <a:lnTo>
                          <a:pt x="16" y="119"/>
                        </a:lnTo>
                        <a:lnTo>
                          <a:pt x="16" y="104"/>
                        </a:lnTo>
                        <a:lnTo>
                          <a:pt x="16" y="89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77" name="Freeform 573"/>
                  <p:cNvSpPr/>
                  <p:nvPr/>
                </p:nvSpPr>
                <p:spPr>
                  <a:xfrm>
                    <a:off x="6550200" y="4160880"/>
                    <a:ext cx="213840" cy="22032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5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3"/>
                        </a:lnTo>
                        <a:lnTo>
                          <a:pt x="99" y="107"/>
                        </a:lnTo>
                        <a:lnTo>
                          <a:pt x="99" y="122"/>
                        </a:lnTo>
                        <a:lnTo>
                          <a:pt x="94" y="138"/>
                        </a:lnTo>
                        <a:lnTo>
                          <a:pt x="79" y="138"/>
                        </a:lnTo>
                        <a:lnTo>
                          <a:pt x="69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478" name="Group 576"/>
                  <p:cNvGrpSpPr/>
                  <p:nvPr/>
                </p:nvGrpSpPr>
                <p:grpSpPr>
                  <a:xfrm>
                    <a:off x="6703920" y="4074120"/>
                    <a:ext cx="363600" cy="386280"/>
                    <a:chOff x="6703920" y="4074120"/>
                    <a:chExt cx="363600" cy="386280"/>
                  </a:xfrm>
                </p:grpSpPr>
                <p:sp>
                  <p:nvSpPr>
                    <p:cNvPr id="2479" name="AutoShape 574"/>
                    <p:cNvSpPr/>
                    <p:nvPr/>
                  </p:nvSpPr>
                  <p:spPr>
                    <a:xfrm flipH="1" flipV="1" rot="12180000">
                      <a:off x="6753240" y="4113000"/>
                      <a:ext cx="264600" cy="307440"/>
                    </a:xfrm>
                    <a:custGeom>
                      <a:avLst/>
                      <a:gdLst>
                        <a:gd name="textAreaLeft" fmla="*/ 55080 w 264600"/>
                        <a:gd name="textAreaRight" fmla="*/ 209520 w 2646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80" name="Oval 575"/>
                    <p:cNvSpPr/>
                    <p:nvPr/>
                  </p:nvSpPr>
                  <p:spPr>
                    <a:xfrm rot="1380000">
                      <a:off x="6832440" y="4204800"/>
                      <a:ext cx="105840" cy="12348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480" bIns="42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481" name="Group 579"/>
                  <p:cNvGrpSpPr/>
                  <p:nvPr/>
                </p:nvGrpSpPr>
                <p:grpSpPr>
                  <a:xfrm>
                    <a:off x="6602760" y="4101840"/>
                    <a:ext cx="324720" cy="437040"/>
                    <a:chOff x="6602760" y="4101840"/>
                    <a:chExt cx="324720" cy="437040"/>
                  </a:xfrm>
                </p:grpSpPr>
                <p:sp>
                  <p:nvSpPr>
                    <p:cNvPr id="2482" name="AutoShape 577"/>
                    <p:cNvSpPr/>
                    <p:nvPr/>
                  </p:nvSpPr>
                  <p:spPr>
                    <a:xfrm flipV="1" rot="10560000">
                      <a:off x="6616800" y="4111200"/>
                      <a:ext cx="296640" cy="4176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760 h 417600"/>
                        <a:gd name="textAreaBottom" fmla="*/ 330840 h 4176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483" name="Oval 578"/>
                    <p:cNvSpPr/>
                    <p:nvPr/>
                  </p:nvSpPr>
                  <p:spPr>
                    <a:xfrm flipH="1" rot="21360000">
                      <a:off x="6705360" y="4235040"/>
                      <a:ext cx="118800" cy="1677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484" name="Group 610"/>
                <p:cNvGrpSpPr/>
                <p:nvPr/>
              </p:nvGrpSpPr>
              <p:grpSpPr>
                <a:xfrm>
                  <a:off x="3863160" y="1241640"/>
                  <a:ext cx="1173600" cy="1127160"/>
                  <a:chOff x="3863160" y="1241640"/>
                  <a:chExt cx="1173600" cy="1127160"/>
                </a:xfrm>
              </p:grpSpPr>
              <p:sp useBgFill="1">
                <p:nvSpPr>
                  <p:cNvPr id="2485" name="Oval 581"/>
                  <p:cNvSpPr/>
                  <p:nvPr/>
                </p:nvSpPr>
                <p:spPr>
                  <a:xfrm>
                    <a:off x="3886200" y="1276200"/>
                    <a:ext cx="1104480" cy="1039320"/>
                  </a:xfrm>
                  <a:prstGeom prst="ellipse">
                    <a:avLst/>
                  </a:prstGeom>
                  <a:ln w="1270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86" name="AutoShape 582"/>
                  <p:cNvSpPr/>
                  <p:nvPr/>
                </p:nvSpPr>
                <p:spPr>
                  <a:xfrm flipH="1" flipV="1" rot="16440000">
                    <a:off x="4723920" y="1625040"/>
                    <a:ext cx="244080" cy="364320"/>
                  </a:xfrm>
                  <a:custGeom>
                    <a:avLst/>
                    <a:gdLst>
                      <a:gd name="textAreaLeft" fmla="*/ 50760 w 244080"/>
                      <a:gd name="textAreaRight" fmla="*/ 193320 w 244080"/>
                      <a:gd name="textAreaTop" fmla="*/ 75960 h 364320"/>
                      <a:gd name="textAreaBottom" fmla="*/ 288360 h 364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87" name="Oval 583"/>
                  <p:cNvSpPr/>
                  <p:nvPr/>
                </p:nvSpPr>
                <p:spPr>
                  <a:xfrm rot="5640000">
                    <a:off x="4830840" y="1773000"/>
                    <a:ext cx="112320" cy="1090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88" name="AutoShape 584"/>
                  <p:cNvSpPr/>
                  <p:nvPr/>
                </p:nvSpPr>
                <p:spPr>
                  <a:xfrm flipH="1" flipV="1" rot="7980000">
                    <a:off x="4028760" y="1377720"/>
                    <a:ext cx="247320" cy="34704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72360 h 347040"/>
                      <a:gd name="textAreaBottom" fmla="*/ 274680 h 347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89" name="Oval 585"/>
                  <p:cNvSpPr/>
                  <p:nvPr/>
                </p:nvSpPr>
                <p:spPr>
                  <a:xfrm rot="18780000">
                    <a:off x="4074840" y="146376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0" name="AutoShape 586"/>
                  <p:cNvSpPr/>
                  <p:nvPr/>
                </p:nvSpPr>
                <p:spPr>
                  <a:xfrm flipH="1" flipV="1" rot="6360000">
                    <a:off x="3982680" y="1494720"/>
                    <a:ext cx="259920" cy="445680"/>
                  </a:xfrm>
                  <a:custGeom>
                    <a:avLst/>
                    <a:gdLst>
                      <a:gd name="textAreaLeft" fmla="*/ 54000 w 259920"/>
                      <a:gd name="textAreaRight" fmla="*/ 205920 w 259920"/>
                      <a:gd name="textAreaTop" fmla="*/ 92880 h 445680"/>
                      <a:gd name="textAreaBottom" fmla="*/ 352800 h 445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1" name="Oval 587"/>
                  <p:cNvSpPr/>
                  <p:nvPr/>
                </p:nvSpPr>
                <p:spPr>
                  <a:xfrm rot="17160000">
                    <a:off x="3971880" y="163548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2" name="AutoShape 588"/>
                  <p:cNvSpPr/>
                  <p:nvPr/>
                </p:nvSpPr>
                <p:spPr>
                  <a:xfrm flipH="1" flipV="1" rot="19140000">
                    <a:off x="4639680" y="1827360"/>
                    <a:ext cx="137880" cy="420120"/>
                  </a:xfrm>
                  <a:custGeom>
                    <a:avLst/>
                    <a:gdLst>
                      <a:gd name="textAreaLeft" fmla="*/ 28440 w 137880"/>
                      <a:gd name="textAreaRight" fmla="*/ 109080 w 137880"/>
                      <a:gd name="textAreaTop" fmla="*/ 87480 h 420120"/>
                      <a:gd name="textAreaBottom" fmla="*/ 332640 h 420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3" name="AutoShape 589"/>
                  <p:cNvSpPr/>
                  <p:nvPr/>
                </p:nvSpPr>
                <p:spPr>
                  <a:xfrm flipH="1" flipV="1" rot="18000000">
                    <a:off x="4689360" y="1722240"/>
                    <a:ext cx="171000" cy="494640"/>
                  </a:xfrm>
                  <a:custGeom>
                    <a:avLst/>
                    <a:gdLst>
                      <a:gd name="textAreaLeft" fmla="*/ 35640 w 171000"/>
                      <a:gd name="textAreaRight" fmla="*/ 135360 w 171000"/>
                      <a:gd name="textAreaTop" fmla="*/ 102960 h 494640"/>
                      <a:gd name="textAreaBottom" fmla="*/ 391680 h 494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4" name="Oval 590"/>
                  <p:cNvSpPr/>
                  <p:nvPr/>
                </p:nvSpPr>
                <p:spPr>
                  <a:xfrm rot="7200000">
                    <a:off x="4800960" y="194796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5" name="AutoShape 591"/>
                  <p:cNvSpPr/>
                  <p:nvPr/>
                </p:nvSpPr>
                <p:spPr>
                  <a:xfrm flipH="1" flipV="1" rot="14700000">
                    <a:off x="4676400" y="1464840"/>
                    <a:ext cx="220320" cy="393480"/>
                  </a:xfrm>
                  <a:custGeom>
                    <a:avLst/>
                    <a:gdLst>
                      <a:gd name="textAreaLeft" fmla="*/ 45720 w 220320"/>
                      <a:gd name="textAreaRight" fmla="*/ 174600 w 220320"/>
                      <a:gd name="textAreaTop" fmla="*/ 81720 h 393480"/>
                      <a:gd name="textAreaBottom" fmla="*/ 311760 h 39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6" name="Oval 592"/>
                  <p:cNvSpPr/>
                  <p:nvPr/>
                </p:nvSpPr>
                <p:spPr>
                  <a:xfrm rot="3900000">
                    <a:off x="4800960" y="1601640"/>
                    <a:ext cx="10440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7" name="AutoShape 593"/>
                  <p:cNvSpPr/>
                  <p:nvPr/>
                </p:nvSpPr>
                <p:spPr>
                  <a:xfrm flipH="1" flipV="1" rot="13020000">
                    <a:off x="4533120" y="1361880"/>
                    <a:ext cx="247320" cy="434880"/>
                  </a:xfrm>
                  <a:custGeom>
                    <a:avLst/>
                    <a:gdLst>
                      <a:gd name="textAreaLeft" fmla="*/ 51480 w 247320"/>
                      <a:gd name="textAreaRight" fmla="*/ 195840 w 247320"/>
                      <a:gd name="textAreaTop" fmla="*/ 90360 h 434880"/>
                      <a:gd name="textAreaBottom" fmla="*/ 344520 h 434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8" name="AutoShape 594"/>
                  <p:cNvSpPr/>
                  <p:nvPr/>
                </p:nvSpPr>
                <p:spPr>
                  <a:xfrm flipH="1" flipV="1" rot="20640000">
                    <a:off x="4379040" y="1872720"/>
                    <a:ext cx="356760" cy="455400"/>
                  </a:xfrm>
                  <a:custGeom>
                    <a:avLst/>
                    <a:gdLst>
                      <a:gd name="textAreaLeft" fmla="*/ 74160 w 356760"/>
                      <a:gd name="textAreaRight" fmla="*/ 282600 w 356760"/>
                      <a:gd name="textAreaTop" fmla="*/ 94680 h 455400"/>
                      <a:gd name="textAreaBottom" fmla="*/ 360720 h 455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99" name="Oval 595"/>
                  <p:cNvSpPr/>
                  <p:nvPr/>
                </p:nvSpPr>
                <p:spPr>
                  <a:xfrm rot="9840000">
                    <a:off x="4489560" y="2154240"/>
                    <a:ext cx="107640" cy="1058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0" name="AutoShape 596"/>
                  <p:cNvSpPr/>
                  <p:nvPr/>
                </p:nvSpPr>
                <p:spPr>
                  <a:xfrm flipH="1" flipV="1" rot="480000">
                    <a:off x="4242960" y="1974960"/>
                    <a:ext cx="304560" cy="366480"/>
                  </a:xfrm>
                  <a:custGeom>
                    <a:avLst/>
                    <a:gdLst>
                      <a:gd name="textAreaLeft" fmla="*/ 63360 w 304560"/>
                      <a:gd name="textAreaRight" fmla="*/ 241200 w 304560"/>
                      <a:gd name="textAreaTop" fmla="*/ 76320 h 366480"/>
                      <a:gd name="textAreaBottom" fmla="*/ 290160 h 366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1" name="AutoShape 597"/>
                  <p:cNvSpPr/>
                  <p:nvPr/>
                </p:nvSpPr>
                <p:spPr>
                  <a:xfrm flipH="1" flipV="1" rot="1800000">
                    <a:off x="4099680" y="2037240"/>
                    <a:ext cx="263160" cy="237600"/>
                  </a:xfrm>
                  <a:custGeom>
                    <a:avLst/>
                    <a:gdLst>
                      <a:gd name="textAreaLeft" fmla="*/ 54720 w 263160"/>
                      <a:gd name="textAreaRight" fmla="*/ 208440 w 263160"/>
                      <a:gd name="textAreaTop" fmla="*/ 49320 h 237600"/>
                      <a:gd name="textAreaBottom" fmla="*/ 188280 h 237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2" name="Oval 598"/>
                  <p:cNvSpPr/>
                  <p:nvPr/>
                </p:nvSpPr>
                <p:spPr>
                  <a:xfrm rot="12600000">
                    <a:off x="4178520" y="2109960"/>
                    <a:ext cx="105840" cy="9504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3" name="AutoShape 599"/>
                  <p:cNvSpPr/>
                  <p:nvPr/>
                </p:nvSpPr>
                <p:spPr>
                  <a:xfrm flipH="1" flipV="1" rot="3600000">
                    <a:off x="4054320" y="1786320"/>
                    <a:ext cx="237600" cy="433080"/>
                  </a:xfrm>
                  <a:custGeom>
                    <a:avLst/>
                    <a:gdLst>
                      <a:gd name="textAreaLeft" fmla="*/ 49320 w 237600"/>
                      <a:gd name="textAreaRight" fmla="*/ 188280 w 237600"/>
                      <a:gd name="textAreaTop" fmla="*/ 90000 h 433080"/>
                      <a:gd name="textAreaBottom" fmla="*/ 343080 h 433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4" name="AutoShape 600"/>
                  <p:cNvSpPr/>
                  <p:nvPr/>
                </p:nvSpPr>
                <p:spPr>
                  <a:xfrm flipH="1" flipV="1" rot="5220000">
                    <a:off x="3935520" y="1616760"/>
                    <a:ext cx="328320" cy="415800"/>
                  </a:xfrm>
                  <a:custGeom>
                    <a:avLst/>
                    <a:gdLst>
                      <a:gd name="textAreaLeft" fmla="*/ 68400 w 328320"/>
                      <a:gd name="textAreaRight" fmla="*/ 259920 w 328320"/>
                      <a:gd name="textAreaTop" fmla="*/ 86400 h 415800"/>
                      <a:gd name="textAreaBottom" fmla="*/ 329400 h 415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w="127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5" name="Oval 601"/>
                  <p:cNvSpPr/>
                  <p:nvPr/>
                </p:nvSpPr>
                <p:spPr>
                  <a:xfrm rot="16020000">
                    <a:off x="4010040" y="1757520"/>
                    <a:ext cx="115560" cy="191880"/>
                  </a:xfrm>
                  <a:prstGeom prst="ellipse">
                    <a:avLst/>
                  </a:prstGeom>
                  <a:solidFill>
                    <a:schemeClr val="accent2"/>
                  </a:solidFill>
                  <a:ln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6" name="Freeform 602"/>
                  <p:cNvSpPr/>
                  <p:nvPr/>
                </p:nvSpPr>
                <p:spPr>
                  <a:xfrm>
                    <a:off x="4543560" y="1347840"/>
                    <a:ext cx="126720" cy="2361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80" h="149">
                        <a:moveTo>
                          <a:pt x="0" y="8"/>
                        </a:moveTo>
                        <a:lnTo>
                          <a:pt x="25" y="0"/>
                        </a:lnTo>
                        <a:lnTo>
                          <a:pt x="40" y="0"/>
                        </a:ln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9" y="14"/>
                        </a:lnTo>
                        <a:lnTo>
                          <a:pt x="79" y="29"/>
                        </a:lnTo>
                        <a:lnTo>
                          <a:pt x="74" y="49"/>
                        </a:lnTo>
                        <a:lnTo>
                          <a:pt x="69" y="64"/>
                        </a:lnTo>
                        <a:lnTo>
                          <a:pt x="59" y="79"/>
                        </a:lnTo>
                        <a:lnTo>
                          <a:pt x="59" y="93"/>
                        </a:lnTo>
                        <a:lnTo>
                          <a:pt x="49" y="108"/>
                        </a:lnTo>
                        <a:lnTo>
                          <a:pt x="40" y="128"/>
                        </a:lnTo>
                        <a:lnTo>
                          <a:pt x="35" y="143"/>
                        </a:lnTo>
                        <a:lnTo>
                          <a:pt x="20" y="148"/>
                        </a:lnTo>
                        <a:lnTo>
                          <a:pt x="15" y="133"/>
                        </a:lnTo>
                        <a:lnTo>
                          <a:pt x="15" y="118"/>
                        </a:lnTo>
                        <a:lnTo>
                          <a:pt x="15" y="103"/>
                        </a:lnTo>
                        <a:lnTo>
                          <a:pt x="15" y="88"/>
                        </a:lnTo>
                        <a:lnTo>
                          <a:pt x="10" y="74"/>
                        </a:lnTo>
                        <a:lnTo>
                          <a:pt x="10" y="59"/>
                        </a:lnTo>
                        <a:lnTo>
                          <a:pt x="5" y="44"/>
                        </a:lnTo>
                        <a:lnTo>
                          <a:pt x="0" y="29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07" name="Freeform 603"/>
                  <p:cNvSpPr/>
                  <p:nvPr/>
                </p:nvSpPr>
                <p:spPr>
                  <a:xfrm>
                    <a:off x="4127400" y="1325520"/>
                    <a:ext cx="213840" cy="220320"/>
                  </a:xfrm>
                  <a:custGeom>
                    <a:avLst/>
                    <a:gdLst>
                      <a:gd name="textAreaLeft" fmla="*/ 0 w 213840"/>
                      <a:gd name="textAreaRight" fmla="*/ 214200 w 21384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135" h="139">
                        <a:moveTo>
                          <a:pt x="0" y="0"/>
                        </a:moveTo>
                        <a:lnTo>
                          <a:pt x="19" y="8"/>
                        </a:lnTo>
                        <a:lnTo>
                          <a:pt x="34" y="8"/>
                        </a:lnTo>
                        <a:lnTo>
                          <a:pt x="49" y="8"/>
                        </a:lnTo>
                        <a:lnTo>
                          <a:pt x="64" y="8"/>
                        </a:lnTo>
                        <a:lnTo>
                          <a:pt x="84" y="13"/>
                        </a:lnTo>
                        <a:lnTo>
                          <a:pt x="99" y="13"/>
                        </a:lnTo>
                        <a:lnTo>
                          <a:pt x="114" y="13"/>
                        </a:lnTo>
                        <a:lnTo>
                          <a:pt x="129" y="18"/>
                        </a:lnTo>
                        <a:lnTo>
                          <a:pt x="134" y="33"/>
                        </a:lnTo>
                        <a:lnTo>
                          <a:pt x="129" y="48"/>
                        </a:lnTo>
                        <a:lnTo>
                          <a:pt x="119" y="63"/>
                        </a:lnTo>
                        <a:lnTo>
                          <a:pt x="109" y="78"/>
                        </a:lnTo>
                        <a:lnTo>
                          <a:pt x="104" y="93"/>
                        </a:lnTo>
                        <a:lnTo>
                          <a:pt x="99" y="107"/>
                        </a:lnTo>
                        <a:lnTo>
                          <a:pt x="99" y="122"/>
                        </a:lnTo>
                        <a:lnTo>
                          <a:pt x="94" y="138"/>
                        </a:lnTo>
                        <a:lnTo>
                          <a:pt x="79" y="138"/>
                        </a:lnTo>
                        <a:lnTo>
                          <a:pt x="69" y="122"/>
                        </a:lnTo>
                        <a:lnTo>
                          <a:pt x="64" y="107"/>
                        </a:lnTo>
                        <a:lnTo>
                          <a:pt x="54" y="93"/>
                        </a:lnTo>
                        <a:lnTo>
                          <a:pt x="44" y="78"/>
                        </a:lnTo>
                        <a:lnTo>
                          <a:pt x="29" y="68"/>
                        </a:lnTo>
                        <a:lnTo>
                          <a:pt x="19" y="53"/>
                        </a:lnTo>
                        <a:lnTo>
                          <a:pt x="9" y="38"/>
                        </a:lnTo>
                        <a:lnTo>
                          <a:pt x="4" y="2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pattFill prst="openDmnd">
                    <a:fgClr>
                      <a:srgbClr val="0066cc"/>
                    </a:fgClr>
                    <a:bgClr>
                      <a:srgbClr val="ffffff"/>
                    </a:bgClr>
                  </a:pattFill>
                  <a:ln cap="rnd" w="127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508" name="Group 606"/>
                  <p:cNvGrpSpPr/>
                  <p:nvPr/>
                </p:nvGrpSpPr>
                <p:grpSpPr>
                  <a:xfrm>
                    <a:off x="4284360" y="1241640"/>
                    <a:ext cx="365400" cy="387000"/>
                    <a:chOff x="4284360" y="1241640"/>
                    <a:chExt cx="365400" cy="387000"/>
                  </a:xfrm>
                </p:grpSpPr>
                <p:sp>
                  <p:nvSpPr>
                    <p:cNvPr id="2509" name="AutoShape 604"/>
                    <p:cNvSpPr/>
                    <p:nvPr/>
                  </p:nvSpPr>
                  <p:spPr>
                    <a:xfrm flipH="1" flipV="1" rot="12180000">
                      <a:off x="4333320" y="1280880"/>
                      <a:ext cx="266400" cy="307440"/>
                    </a:xfrm>
                    <a:custGeom>
                      <a:avLst/>
                      <a:gdLst>
                        <a:gd name="textAreaLeft" fmla="*/ 55440 w 266400"/>
                        <a:gd name="textAreaRight" fmla="*/ 210960 w 266400"/>
                        <a:gd name="textAreaTop" fmla="*/ 64080 h 307440"/>
                        <a:gd name="textAreaBottom" fmla="*/ 243360 h 307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10" name="Oval 605"/>
                    <p:cNvSpPr/>
                    <p:nvPr/>
                  </p:nvSpPr>
                  <p:spPr>
                    <a:xfrm rot="1380000">
                      <a:off x="4414680" y="1371600"/>
                      <a:ext cx="102960" cy="12492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511" name="Group 609"/>
                  <p:cNvGrpSpPr/>
                  <p:nvPr/>
                </p:nvGrpSpPr>
                <p:grpSpPr>
                  <a:xfrm>
                    <a:off x="4183560" y="1269720"/>
                    <a:ext cx="324720" cy="435240"/>
                    <a:chOff x="4183560" y="1269720"/>
                    <a:chExt cx="324720" cy="435240"/>
                  </a:xfrm>
                </p:grpSpPr>
                <p:sp>
                  <p:nvSpPr>
                    <p:cNvPr id="2512" name="AutoShape 607"/>
                    <p:cNvSpPr/>
                    <p:nvPr/>
                  </p:nvSpPr>
                  <p:spPr>
                    <a:xfrm flipV="1" rot="10560000">
                      <a:off x="4197240" y="1278720"/>
                      <a:ext cx="296640" cy="415800"/>
                    </a:xfrm>
                    <a:custGeom>
                      <a:avLst/>
                      <a:gdLst>
                        <a:gd name="textAreaLeft" fmla="*/ 61560 w 296640"/>
                        <a:gd name="textAreaRight" fmla="*/ 235080 w 296640"/>
                        <a:gd name="textAreaTop" fmla="*/ 86400 h 415800"/>
                        <a:gd name="textAreaBottom" fmla="*/ 329400 h 4158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5399" y="21600"/>
                          </a:lnTo>
                          <a:lnTo>
                            <a:pt x="16201" y="21600"/>
                          </a:lnTo>
                          <a:lnTo>
                            <a:pt x="21600" y="0"/>
                          </a:lnTo>
                          <a:close/>
                        </a:path>
                      </a:pathLst>
                    </a:custGeom>
                    <a:pattFill prst="openDmnd">
                      <a:fgClr>
                        <a:srgbClr val="0066cc"/>
                      </a:fgClr>
                      <a:bgClr>
                        <a:srgbClr val="ffffff"/>
                      </a:bgClr>
                    </a:pattFill>
                    <a:ln w="127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513" name="Oval 608"/>
                    <p:cNvSpPr/>
                    <p:nvPr/>
                  </p:nvSpPr>
                  <p:spPr>
                    <a:xfrm flipH="1" rot="21360000">
                      <a:off x="4285800" y="1401480"/>
                      <a:ext cx="117000" cy="169560"/>
                    </a:xfrm>
                    <a:prstGeom prst="ellipse">
                      <a:avLst/>
                    </a:prstGeom>
                    <a:solidFill>
                      <a:schemeClr val="accent2"/>
                    </a:solidFill>
                    <a:ln w="127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514" name="Group 613"/>
                <p:cNvGrpSpPr/>
                <p:nvPr/>
              </p:nvGrpSpPr>
              <p:grpSpPr>
                <a:xfrm>
                  <a:off x="6462000" y="717480"/>
                  <a:ext cx="2644560" cy="2685600"/>
                  <a:chOff x="6462000" y="717480"/>
                  <a:chExt cx="2644560" cy="2685600"/>
                </a:xfrm>
              </p:grpSpPr>
              <p:sp>
                <p:nvSpPr>
                  <p:cNvPr id="2515" name="Oval 611"/>
                  <p:cNvSpPr/>
                  <p:nvPr/>
                </p:nvSpPr>
                <p:spPr>
                  <a:xfrm rot="2760000">
                    <a:off x="6427800" y="1531440"/>
                    <a:ext cx="2712600" cy="1056960"/>
                  </a:xfrm>
                  <a:prstGeom prst="ellipse">
                    <a:avLst/>
                  </a:prstGeom>
                  <a:pattFill prst="smGrid">
                    <a:fgClr>
                      <a:srgbClr val="eeece1"/>
                    </a:fgClr>
                    <a:bgClr>
                      <a:srgbClr val="cc0000"/>
                    </a:bgClr>
                  </a:pattFill>
                  <a:ln w="5080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 useBgFill="1">
                <p:nvSpPr>
                  <p:cNvPr id="2516" name="Oval 612"/>
                  <p:cNvSpPr/>
                  <p:nvPr/>
                </p:nvSpPr>
                <p:spPr>
                  <a:xfrm rot="2760000">
                    <a:off x="6710400" y="1769760"/>
                    <a:ext cx="2144520" cy="483840"/>
                  </a:xfrm>
                  <a:prstGeom prst="ellips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517" name="Freeform 614"/>
                <p:cNvSpPr/>
                <p:nvPr/>
              </p:nvSpPr>
              <p:spPr>
                <a:xfrm>
                  <a:off x="4718160" y="876240"/>
                  <a:ext cx="4222440" cy="5471640"/>
                </a:xfrm>
                <a:custGeom>
                  <a:avLst/>
                  <a:gdLst>
                    <a:gd name="textAreaLeft" fmla="*/ 0 w 4222440"/>
                    <a:gd name="textAreaRight" fmla="*/ 4222800 w 4222440"/>
                    <a:gd name="textAreaTop" fmla="*/ 0 h 5471640"/>
                    <a:gd name="textAreaBottom" fmla="*/ 5472000 h 5471640"/>
                  </a:gdLst>
                  <a:ahLst/>
                  <a:rect l="textAreaLeft" t="textAreaTop" r="textAreaRight" b="textAreaBottom"/>
                  <a:pathLst>
                    <a:path w="2660" h="3447">
                      <a:moveTo>
                        <a:pt x="0" y="6"/>
                      </a:moveTo>
                      <a:lnTo>
                        <a:pt x="45" y="0"/>
                      </a:lnTo>
                      <a:lnTo>
                        <a:pt x="75" y="0"/>
                      </a:lnTo>
                      <a:lnTo>
                        <a:pt x="134" y="0"/>
                      </a:lnTo>
                      <a:lnTo>
                        <a:pt x="194" y="19"/>
                      </a:lnTo>
                      <a:lnTo>
                        <a:pt x="273" y="29"/>
                      </a:lnTo>
                      <a:lnTo>
                        <a:pt x="303" y="48"/>
                      </a:lnTo>
                      <a:lnTo>
                        <a:pt x="332" y="58"/>
                      </a:lnTo>
                      <a:lnTo>
                        <a:pt x="361" y="68"/>
                      </a:lnTo>
                      <a:lnTo>
                        <a:pt x="391" y="78"/>
                      </a:lnTo>
                      <a:lnTo>
                        <a:pt x="470" y="88"/>
                      </a:lnTo>
                      <a:lnTo>
                        <a:pt x="530" y="98"/>
                      </a:lnTo>
                      <a:lnTo>
                        <a:pt x="609" y="118"/>
                      </a:lnTo>
                      <a:lnTo>
                        <a:pt x="669" y="128"/>
                      </a:lnTo>
                      <a:lnTo>
                        <a:pt x="768" y="138"/>
                      </a:lnTo>
                      <a:lnTo>
                        <a:pt x="807" y="147"/>
                      </a:lnTo>
                      <a:lnTo>
                        <a:pt x="847" y="157"/>
                      </a:lnTo>
                      <a:lnTo>
                        <a:pt x="877" y="157"/>
                      </a:lnTo>
                      <a:lnTo>
                        <a:pt x="906" y="157"/>
                      </a:lnTo>
                      <a:lnTo>
                        <a:pt x="936" y="157"/>
                      </a:lnTo>
                      <a:lnTo>
                        <a:pt x="966" y="157"/>
                      </a:lnTo>
                      <a:lnTo>
                        <a:pt x="1025" y="147"/>
                      </a:lnTo>
                      <a:lnTo>
                        <a:pt x="1094" y="128"/>
                      </a:lnTo>
                      <a:lnTo>
                        <a:pt x="1133" y="108"/>
                      </a:lnTo>
                      <a:lnTo>
                        <a:pt x="1173" y="98"/>
                      </a:lnTo>
                      <a:lnTo>
                        <a:pt x="1242" y="78"/>
                      </a:lnTo>
                      <a:lnTo>
                        <a:pt x="1272" y="58"/>
                      </a:lnTo>
                      <a:lnTo>
                        <a:pt x="1302" y="39"/>
                      </a:lnTo>
                      <a:lnTo>
                        <a:pt x="1332" y="29"/>
                      </a:lnTo>
                      <a:lnTo>
                        <a:pt x="1361" y="19"/>
                      </a:lnTo>
                      <a:lnTo>
                        <a:pt x="1401" y="9"/>
                      </a:lnTo>
                      <a:lnTo>
                        <a:pt x="1470" y="9"/>
                      </a:lnTo>
                      <a:lnTo>
                        <a:pt x="1510" y="9"/>
                      </a:lnTo>
                      <a:lnTo>
                        <a:pt x="1550" y="9"/>
                      </a:lnTo>
                      <a:lnTo>
                        <a:pt x="1579" y="9"/>
                      </a:lnTo>
                      <a:lnTo>
                        <a:pt x="1619" y="19"/>
                      </a:lnTo>
                      <a:lnTo>
                        <a:pt x="1659" y="39"/>
                      </a:lnTo>
                      <a:lnTo>
                        <a:pt x="1688" y="48"/>
                      </a:lnTo>
                      <a:lnTo>
                        <a:pt x="1718" y="58"/>
                      </a:lnTo>
                      <a:lnTo>
                        <a:pt x="1758" y="78"/>
                      </a:lnTo>
                      <a:lnTo>
                        <a:pt x="1787" y="98"/>
                      </a:lnTo>
                      <a:lnTo>
                        <a:pt x="1827" y="118"/>
                      </a:lnTo>
                      <a:lnTo>
                        <a:pt x="1896" y="138"/>
                      </a:lnTo>
                      <a:lnTo>
                        <a:pt x="1925" y="167"/>
                      </a:lnTo>
                      <a:lnTo>
                        <a:pt x="2005" y="197"/>
                      </a:lnTo>
                      <a:lnTo>
                        <a:pt x="2074" y="227"/>
                      </a:lnTo>
                      <a:lnTo>
                        <a:pt x="2114" y="256"/>
                      </a:lnTo>
                      <a:lnTo>
                        <a:pt x="2143" y="286"/>
                      </a:lnTo>
                      <a:lnTo>
                        <a:pt x="2173" y="296"/>
                      </a:lnTo>
                      <a:lnTo>
                        <a:pt x="2203" y="316"/>
                      </a:lnTo>
                      <a:lnTo>
                        <a:pt x="2232" y="336"/>
                      </a:lnTo>
                      <a:lnTo>
                        <a:pt x="2252" y="366"/>
                      </a:lnTo>
                      <a:lnTo>
                        <a:pt x="2282" y="395"/>
                      </a:lnTo>
                      <a:lnTo>
                        <a:pt x="2302" y="425"/>
                      </a:lnTo>
                      <a:lnTo>
                        <a:pt x="2322" y="455"/>
                      </a:lnTo>
                      <a:lnTo>
                        <a:pt x="2341" y="494"/>
                      </a:lnTo>
                      <a:lnTo>
                        <a:pt x="2371" y="534"/>
                      </a:lnTo>
                      <a:lnTo>
                        <a:pt x="2391" y="564"/>
                      </a:lnTo>
                      <a:lnTo>
                        <a:pt x="2411" y="594"/>
                      </a:lnTo>
                      <a:lnTo>
                        <a:pt x="2431" y="623"/>
                      </a:lnTo>
                      <a:lnTo>
                        <a:pt x="2450" y="653"/>
                      </a:lnTo>
                      <a:lnTo>
                        <a:pt x="2480" y="683"/>
                      </a:lnTo>
                      <a:lnTo>
                        <a:pt x="2490" y="712"/>
                      </a:lnTo>
                      <a:lnTo>
                        <a:pt x="2520" y="741"/>
                      </a:lnTo>
                      <a:lnTo>
                        <a:pt x="2540" y="771"/>
                      </a:lnTo>
                      <a:lnTo>
                        <a:pt x="2550" y="801"/>
                      </a:lnTo>
                      <a:lnTo>
                        <a:pt x="2560" y="830"/>
                      </a:lnTo>
                      <a:lnTo>
                        <a:pt x="2569" y="860"/>
                      </a:lnTo>
                      <a:lnTo>
                        <a:pt x="2579" y="890"/>
                      </a:lnTo>
                      <a:lnTo>
                        <a:pt x="2599" y="920"/>
                      </a:lnTo>
                      <a:lnTo>
                        <a:pt x="2599" y="949"/>
                      </a:lnTo>
                      <a:lnTo>
                        <a:pt x="2609" y="979"/>
                      </a:lnTo>
                      <a:lnTo>
                        <a:pt x="2609" y="1009"/>
                      </a:lnTo>
                      <a:lnTo>
                        <a:pt x="2619" y="1039"/>
                      </a:lnTo>
                      <a:lnTo>
                        <a:pt x="2629" y="1068"/>
                      </a:lnTo>
                      <a:lnTo>
                        <a:pt x="2639" y="1098"/>
                      </a:lnTo>
                      <a:lnTo>
                        <a:pt x="2649" y="1128"/>
                      </a:lnTo>
                      <a:lnTo>
                        <a:pt x="2659" y="1158"/>
                      </a:lnTo>
                      <a:lnTo>
                        <a:pt x="2659" y="1187"/>
                      </a:lnTo>
                      <a:lnTo>
                        <a:pt x="2659" y="1217"/>
                      </a:lnTo>
                      <a:lnTo>
                        <a:pt x="2659" y="1247"/>
                      </a:lnTo>
                      <a:lnTo>
                        <a:pt x="2659" y="1277"/>
                      </a:lnTo>
                      <a:lnTo>
                        <a:pt x="2659" y="1306"/>
                      </a:lnTo>
                      <a:lnTo>
                        <a:pt x="2659" y="1336"/>
                      </a:lnTo>
                      <a:lnTo>
                        <a:pt x="2649" y="1366"/>
                      </a:lnTo>
                      <a:lnTo>
                        <a:pt x="2639" y="1395"/>
                      </a:lnTo>
                      <a:lnTo>
                        <a:pt x="2629" y="1425"/>
                      </a:lnTo>
                      <a:lnTo>
                        <a:pt x="2609" y="1454"/>
                      </a:lnTo>
                      <a:lnTo>
                        <a:pt x="2589" y="1484"/>
                      </a:lnTo>
                      <a:lnTo>
                        <a:pt x="2569" y="1553"/>
                      </a:lnTo>
                      <a:lnTo>
                        <a:pt x="2550" y="1632"/>
                      </a:lnTo>
                      <a:lnTo>
                        <a:pt x="2530" y="1771"/>
                      </a:lnTo>
                      <a:lnTo>
                        <a:pt x="2450" y="1930"/>
                      </a:lnTo>
                      <a:lnTo>
                        <a:pt x="2391" y="2069"/>
                      </a:lnTo>
                      <a:lnTo>
                        <a:pt x="2371" y="2226"/>
                      </a:lnTo>
                      <a:lnTo>
                        <a:pt x="2312" y="2325"/>
                      </a:lnTo>
                      <a:lnTo>
                        <a:pt x="2302" y="2385"/>
                      </a:lnTo>
                      <a:lnTo>
                        <a:pt x="2282" y="2415"/>
                      </a:lnTo>
                      <a:lnTo>
                        <a:pt x="2272" y="2444"/>
                      </a:lnTo>
                      <a:lnTo>
                        <a:pt x="2262" y="2474"/>
                      </a:lnTo>
                      <a:lnTo>
                        <a:pt x="2242" y="2553"/>
                      </a:lnTo>
                      <a:lnTo>
                        <a:pt x="2223" y="2593"/>
                      </a:lnTo>
                      <a:lnTo>
                        <a:pt x="2203" y="2633"/>
                      </a:lnTo>
                      <a:lnTo>
                        <a:pt x="2183" y="2732"/>
                      </a:lnTo>
                      <a:lnTo>
                        <a:pt x="2173" y="2791"/>
                      </a:lnTo>
                      <a:lnTo>
                        <a:pt x="2163" y="2850"/>
                      </a:lnTo>
                      <a:lnTo>
                        <a:pt x="2153" y="2929"/>
                      </a:lnTo>
                      <a:lnTo>
                        <a:pt x="2143" y="3008"/>
                      </a:lnTo>
                      <a:lnTo>
                        <a:pt x="2123" y="3088"/>
                      </a:lnTo>
                      <a:lnTo>
                        <a:pt x="2114" y="3147"/>
                      </a:lnTo>
                      <a:lnTo>
                        <a:pt x="2114" y="3207"/>
                      </a:lnTo>
                      <a:lnTo>
                        <a:pt x="2104" y="3246"/>
                      </a:lnTo>
                      <a:lnTo>
                        <a:pt x="2094" y="3276"/>
                      </a:lnTo>
                      <a:lnTo>
                        <a:pt x="2084" y="3306"/>
                      </a:lnTo>
                      <a:lnTo>
                        <a:pt x="2074" y="3336"/>
                      </a:lnTo>
                      <a:lnTo>
                        <a:pt x="2074" y="3365"/>
                      </a:lnTo>
                      <a:lnTo>
                        <a:pt x="2064" y="3405"/>
                      </a:lnTo>
                      <a:lnTo>
                        <a:pt x="2054" y="3435"/>
                      </a:lnTo>
                      <a:lnTo>
                        <a:pt x="2046" y="3446"/>
                      </a:lnTo>
                    </a:path>
                  </a:pathLst>
                </a:custGeom>
                <a:noFill/>
                <a:ln cap="rnd" w="508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8" name="Freeform 615"/>
                <p:cNvSpPr/>
                <p:nvPr/>
              </p:nvSpPr>
              <p:spPr>
                <a:xfrm>
                  <a:off x="7897680" y="3233880"/>
                  <a:ext cx="585360" cy="304452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3044520"/>
                    <a:gd name="textAreaBottom" fmla="*/ 3044880 h 3044520"/>
                  </a:gdLst>
                  <a:ahLst/>
                  <a:rect l="textAreaLeft" t="textAreaTop" r="textAreaRight" b="textAreaBottom"/>
                  <a:pathLst>
                    <a:path w="369" h="1918">
                      <a:moveTo>
                        <a:pt x="0" y="1917"/>
                      </a:moveTo>
                      <a:lnTo>
                        <a:pt x="31" y="1869"/>
                      </a:lnTo>
                      <a:lnTo>
                        <a:pt x="41" y="1840"/>
                      </a:lnTo>
                      <a:lnTo>
                        <a:pt x="41" y="1810"/>
                      </a:lnTo>
                      <a:lnTo>
                        <a:pt x="51" y="1780"/>
                      </a:lnTo>
                      <a:lnTo>
                        <a:pt x="51" y="1750"/>
                      </a:lnTo>
                      <a:lnTo>
                        <a:pt x="51" y="1721"/>
                      </a:lnTo>
                      <a:lnTo>
                        <a:pt x="51" y="1691"/>
                      </a:lnTo>
                      <a:lnTo>
                        <a:pt x="51" y="1661"/>
                      </a:lnTo>
                      <a:lnTo>
                        <a:pt x="51" y="1622"/>
                      </a:lnTo>
                      <a:lnTo>
                        <a:pt x="51" y="1592"/>
                      </a:lnTo>
                      <a:lnTo>
                        <a:pt x="51" y="1553"/>
                      </a:lnTo>
                      <a:lnTo>
                        <a:pt x="61" y="1523"/>
                      </a:lnTo>
                      <a:lnTo>
                        <a:pt x="61" y="1484"/>
                      </a:lnTo>
                      <a:lnTo>
                        <a:pt x="61" y="1424"/>
                      </a:lnTo>
                      <a:lnTo>
                        <a:pt x="71" y="1385"/>
                      </a:lnTo>
                      <a:lnTo>
                        <a:pt x="81" y="1345"/>
                      </a:lnTo>
                      <a:lnTo>
                        <a:pt x="91" y="1286"/>
                      </a:lnTo>
                      <a:lnTo>
                        <a:pt x="91" y="1226"/>
                      </a:lnTo>
                      <a:lnTo>
                        <a:pt x="91" y="1167"/>
                      </a:lnTo>
                      <a:lnTo>
                        <a:pt x="101" y="1127"/>
                      </a:lnTo>
                      <a:lnTo>
                        <a:pt x="111" y="1067"/>
                      </a:lnTo>
                      <a:lnTo>
                        <a:pt x="130" y="1028"/>
                      </a:lnTo>
                      <a:lnTo>
                        <a:pt x="140" y="968"/>
                      </a:lnTo>
                      <a:lnTo>
                        <a:pt x="150" y="909"/>
                      </a:lnTo>
                      <a:lnTo>
                        <a:pt x="160" y="869"/>
                      </a:lnTo>
                      <a:lnTo>
                        <a:pt x="170" y="830"/>
                      </a:lnTo>
                      <a:lnTo>
                        <a:pt x="190" y="790"/>
                      </a:lnTo>
                      <a:lnTo>
                        <a:pt x="200" y="760"/>
                      </a:lnTo>
                      <a:lnTo>
                        <a:pt x="210" y="720"/>
                      </a:lnTo>
                      <a:lnTo>
                        <a:pt x="220" y="661"/>
                      </a:lnTo>
                      <a:lnTo>
                        <a:pt x="239" y="621"/>
                      </a:lnTo>
                      <a:lnTo>
                        <a:pt x="249" y="582"/>
                      </a:lnTo>
                      <a:lnTo>
                        <a:pt x="259" y="542"/>
                      </a:lnTo>
                      <a:lnTo>
                        <a:pt x="269" y="512"/>
                      </a:lnTo>
                      <a:lnTo>
                        <a:pt x="279" y="483"/>
                      </a:lnTo>
                      <a:lnTo>
                        <a:pt x="289" y="443"/>
                      </a:lnTo>
                      <a:lnTo>
                        <a:pt x="299" y="403"/>
                      </a:lnTo>
                      <a:lnTo>
                        <a:pt x="309" y="373"/>
                      </a:lnTo>
                      <a:lnTo>
                        <a:pt x="319" y="314"/>
                      </a:lnTo>
                      <a:lnTo>
                        <a:pt x="329" y="275"/>
                      </a:lnTo>
                      <a:lnTo>
                        <a:pt x="338" y="245"/>
                      </a:lnTo>
                      <a:lnTo>
                        <a:pt x="348" y="216"/>
                      </a:lnTo>
                      <a:lnTo>
                        <a:pt x="358" y="186"/>
                      </a:lnTo>
                      <a:lnTo>
                        <a:pt x="368" y="156"/>
                      </a:lnTo>
                      <a:lnTo>
                        <a:pt x="368" y="127"/>
                      </a:lnTo>
                      <a:lnTo>
                        <a:pt x="368" y="97"/>
                      </a:lnTo>
                      <a:lnTo>
                        <a:pt x="368" y="67"/>
                      </a:lnTo>
                      <a:lnTo>
                        <a:pt x="368" y="37"/>
                      </a:lnTo>
                      <a:lnTo>
                        <a:pt x="368" y="8"/>
                      </a:lnTo>
                      <a:lnTo>
                        <a:pt x="348" y="0"/>
                      </a:lnTo>
                    </a:path>
                  </a:pathLst>
                </a:custGeom>
                <a:noFill/>
                <a:ln cap="rnd" w="508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9" name="Freeform 616"/>
                <p:cNvSpPr/>
                <p:nvPr/>
              </p:nvSpPr>
              <p:spPr>
                <a:xfrm>
                  <a:off x="4929120" y="1022400"/>
                  <a:ext cx="1794960" cy="309240"/>
                </a:xfrm>
                <a:custGeom>
                  <a:avLst/>
                  <a:gdLst>
                    <a:gd name="textAreaLeft" fmla="*/ 0 w 1794960"/>
                    <a:gd name="textAreaRight" fmla="*/ 1795320 w 1794960"/>
                    <a:gd name="textAreaTop" fmla="*/ 0 h 309240"/>
                    <a:gd name="textAreaBottom" fmla="*/ 309600 h 309240"/>
                  </a:gdLst>
                  <a:ahLst/>
                  <a:rect l="textAreaLeft" t="textAreaTop" r="textAreaRight" b="textAreaBottom"/>
                  <a:pathLst>
                    <a:path w="1131" h="195">
                      <a:moveTo>
                        <a:pt x="1130" y="174"/>
                      </a:moveTo>
                      <a:lnTo>
                        <a:pt x="1071" y="194"/>
                      </a:lnTo>
                      <a:lnTo>
                        <a:pt x="1041" y="194"/>
                      </a:lnTo>
                      <a:lnTo>
                        <a:pt x="982" y="194"/>
                      </a:lnTo>
                      <a:lnTo>
                        <a:pt x="942" y="194"/>
                      </a:lnTo>
                      <a:lnTo>
                        <a:pt x="902" y="194"/>
                      </a:lnTo>
                      <a:lnTo>
                        <a:pt x="873" y="194"/>
                      </a:lnTo>
                      <a:lnTo>
                        <a:pt x="794" y="194"/>
                      </a:lnTo>
                      <a:lnTo>
                        <a:pt x="764" y="194"/>
                      </a:lnTo>
                      <a:lnTo>
                        <a:pt x="735" y="194"/>
                      </a:lnTo>
                      <a:lnTo>
                        <a:pt x="705" y="194"/>
                      </a:lnTo>
                      <a:lnTo>
                        <a:pt x="675" y="183"/>
                      </a:lnTo>
                      <a:lnTo>
                        <a:pt x="636" y="183"/>
                      </a:lnTo>
                      <a:lnTo>
                        <a:pt x="606" y="173"/>
                      </a:lnTo>
                      <a:lnTo>
                        <a:pt x="566" y="154"/>
                      </a:lnTo>
                      <a:lnTo>
                        <a:pt x="537" y="154"/>
                      </a:lnTo>
                      <a:lnTo>
                        <a:pt x="507" y="144"/>
                      </a:lnTo>
                      <a:lnTo>
                        <a:pt x="468" y="134"/>
                      </a:lnTo>
                      <a:lnTo>
                        <a:pt x="409" y="124"/>
                      </a:lnTo>
                      <a:lnTo>
                        <a:pt x="379" y="114"/>
                      </a:lnTo>
                      <a:lnTo>
                        <a:pt x="339" y="104"/>
                      </a:lnTo>
                      <a:lnTo>
                        <a:pt x="310" y="104"/>
                      </a:lnTo>
                      <a:lnTo>
                        <a:pt x="280" y="94"/>
                      </a:lnTo>
                      <a:lnTo>
                        <a:pt x="250" y="94"/>
                      </a:lnTo>
                      <a:lnTo>
                        <a:pt x="220" y="94"/>
                      </a:lnTo>
                      <a:lnTo>
                        <a:pt x="191" y="74"/>
                      </a:lnTo>
                      <a:lnTo>
                        <a:pt x="152" y="64"/>
                      </a:lnTo>
                      <a:lnTo>
                        <a:pt x="122" y="64"/>
                      </a:lnTo>
                      <a:lnTo>
                        <a:pt x="93" y="45"/>
                      </a:lnTo>
                      <a:lnTo>
                        <a:pt x="63" y="35"/>
                      </a:lnTo>
                      <a:lnTo>
                        <a:pt x="33" y="15"/>
                      </a:lnTo>
                      <a:lnTo>
                        <a:pt x="3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800">
                  <a:solidFill>
                    <a:srgbClr val="4f81b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20" name="Rectangle 619"/>
            <p:cNvSpPr/>
            <p:nvPr/>
          </p:nvSpPr>
          <p:spPr>
            <a:xfrm>
              <a:off x="0" y="5105520"/>
              <a:ext cx="2437920" cy="457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ru-RU" sz="2400" spc="-1" strike="noStrike" u="sng">
                  <a:solidFill>
                    <a:schemeClr val="hlink"/>
                  </a:solidFill>
                  <a:uFillTx/>
                  <a:latin typeface="Calibri"/>
                </a:rPr>
                <a:t>SEROUS ACI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Rectangle 620"/>
            <p:cNvSpPr/>
            <p:nvPr/>
          </p:nvSpPr>
          <p:spPr>
            <a:xfrm>
              <a:off x="2057400" y="5943600"/>
              <a:ext cx="2971440" cy="366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ru-RU" sz="1800" spc="-1" strike="noStrike">
                  <a:solidFill>
                    <a:srgbClr val="ff3399"/>
                  </a:solidFill>
                  <a:latin typeface="Calibri"/>
                </a:rPr>
                <a:t>INTRA LOBULAR 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Line 621"/>
            <p:cNvSpPr/>
            <p:nvPr/>
          </p:nvSpPr>
          <p:spPr>
            <a:xfrm flipV="1">
              <a:off x="2438280" y="5410080"/>
              <a:ext cx="457200" cy="533520"/>
            </a:xfrm>
            <a:prstGeom prst="line">
              <a:avLst/>
            </a:prstGeom>
            <a:ln w="12700">
              <a:solidFill>
                <a:srgbClr val="ff3399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3" name="Rectangle 622"/>
            <p:cNvSpPr/>
            <p:nvPr/>
          </p:nvSpPr>
          <p:spPr>
            <a:xfrm>
              <a:off x="304920" y="685800"/>
              <a:ext cx="3580920" cy="366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ru-RU" sz="1800" spc="-1" strike="noStrike">
                  <a:solidFill>
                    <a:srgbClr val="ff9966"/>
                  </a:solidFill>
                  <a:latin typeface="Calibri"/>
                </a:rPr>
                <a:t>INTER LOBULAR 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Arc 623"/>
            <p:cNvSpPr/>
            <p:nvPr/>
          </p:nvSpPr>
          <p:spPr>
            <a:xfrm>
              <a:off x="3960720" y="763560"/>
              <a:ext cx="3506400" cy="761760"/>
            </a:xfrm>
            <a:custGeom>
              <a:avLst/>
              <a:gdLst>
                <a:gd name="textAreaLeft" fmla="*/ 0 w 3506400"/>
                <a:gd name="textAreaRight" fmla="*/ 3506760 w 35064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fill="none" w="21610" h="21600">
                  <a:moveTo>
                    <a:pt x="0" y="0"/>
                  </a:moveTo>
                  <a:cubicBezTo>
                    <a:pt x="3" y="0"/>
                    <a:pt x="6" y="-1"/>
                    <a:pt x="10" y="0"/>
                  </a:cubicBezTo>
                  <a:cubicBezTo>
                    <a:pt x="11939" y="0"/>
                    <a:pt x="21610" y="9670"/>
                    <a:pt x="21610" y="21600"/>
                  </a:cubicBezTo>
                </a:path>
                <a:path stroke="0" w="21610" h="21600">
                  <a:moveTo>
                    <a:pt x="0" y="0"/>
                  </a:moveTo>
                  <a:cubicBezTo>
                    <a:pt x="3" y="0"/>
                    <a:pt x="6" y="-1"/>
                    <a:pt x="10" y="0"/>
                  </a:cubicBezTo>
                  <a:cubicBezTo>
                    <a:pt x="11939" y="0"/>
                    <a:pt x="21610" y="9670"/>
                    <a:pt x="21610" y="21600"/>
                  </a:cubicBezTo>
                  <a:lnTo>
                    <a:pt x="10" y="21600"/>
                  </a:lnTo>
                  <a:close/>
                </a:path>
              </a:pathLst>
            </a:custGeom>
            <a:noFill/>
            <a:ln cap="rnd" w="25400">
              <a:solidFill>
                <a:srgbClr val="ff9966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25" name="Group 661"/>
            <p:cNvGrpSpPr/>
            <p:nvPr/>
          </p:nvGrpSpPr>
          <p:grpSpPr>
            <a:xfrm>
              <a:off x="115920" y="1744560"/>
              <a:ext cx="2468160" cy="2087280"/>
              <a:chOff x="115920" y="1744560"/>
              <a:chExt cx="2468160" cy="2087280"/>
            </a:xfrm>
          </p:grpSpPr>
          <p:sp>
            <p:nvSpPr>
              <p:cNvPr id="2526" name="Freeform 624"/>
              <p:cNvSpPr/>
              <p:nvPr/>
            </p:nvSpPr>
            <p:spPr>
              <a:xfrm>
                <a:off x="1549440" y="3154320"/>
                <a:ext cx="471240" cy="4633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463320"/>
                  <a:gd name="textAreaBottom" fmla="*/ 463680 h 463320"/>
                </a:gdLst>
                <a:ahLst/>
                <a:rect l="textAreaLeft" t="textAreaTop" r="textAreaRight" b="textAreaBottom"/>
                <a:pathLst>
                  <a:path w="297" h="292">
                    <a:moveTo>
                      <a:pt x="197" y="291"/>
                    </a:moveTo>
                    <a:lnTo>
                      <a:pt x="209" y="273"/>
                    </a:lnTo>
                    <a:lnTo>
                      <a:pt x="227" y="245"/>
                    </a:lnTo>
                    <a:lnTo>
                      <a:pt x="249" y="207"/>
                    </a:lnTo>
                    <a:lnTo>
                      <a:pt x="263" y="196"/>
                    </a:lnTo>
                    <a:lnTo>
                      <a:pt x="272" y="182"/>
                    </a:lnTo>
                    <a:lnTo>
                      <a:pt x="283" y="165"/>
                    </a:lnTo>
                    <a:lnTo>
                      <a:pt x="292" y="150"/>
                    </a:lnTo>
                    <a:lnTo>
                      <a:pt x="296" y="134"/>
                    </a:lnTo>
                    <a:lnTo>
                      <a:pt x="287" y="116"/>
                    </a:lnTo>
                    <a:lnTo>
                      <a:pt x="276" y="102"/>
                    </a:lnTo>
                    <a:lnTo>
                      <a:pt x="266" y="89"/>
                    </a:lnTo>
                    <a:lnTo>
                      <a:pt x="253" y="81"/>
                    </a:lnTo>
                    <a:lnTo>
                      <a:pt x="238" y="71"/>
                    </a:lnTo>
                    <a:lnTo>
                      <a:pt x="223" y="63"/>
                    </a:lnTo>
                    <a:lnTo>
                      <a:pt x="210" y="55"/>
                    </a:lnTo>
                    <a:lnTo>
                      <a:pt x="196" y="45"/>
                    </a:lnTo>
                    <a:lnTo>
                      <a:pt x="183" y="37"/>
                    </a:lnTo>
                    <a:lnTo>
                      <a:pt x="150" y="17"/>
                    </a:lnTo>
                    <a:lnTo>
                      <a:pt x="136" y="8"/>
                    </a:lnTo>
                    <a:lnTo>
                      <a:pt x="122" y="0"/>
                    </a:lnTo>
                    <a:lnTo>
                      <a:pt x="109" y="11"/>
                    </a:lnTo>
                    <a:lnTo>
                      <a:pt x="95" y="22"/>
                    </a:lnTo>
                    <a:lnTo>
                      <a:pt x="87" y="35"/>
                    </a:lnTo>
                    <a:lnTo>
                      <a:pt x="77" y="49"/>
                    </a:lnTo>
                    <a:lnTo>
                      <a:pt x="70" y="62"/>
                    </a:lnTo>
                    <a:lnTo>
                      <a:pt x="61" y="76"/>
                    </a:lnTo>
                    <a:lnTo>
                      <a:pt x="52" y="91"/>
                    </a:lnTo>
                    <a:lnTo>
                      <a:pt x="44" y="104"/>
                    </a:lnTo>
                    <a:lnTo>
                      <a:pt x="36" y="119"/>
                    </a:lnTo>
                    <a:lnTo>
                      <a:pt x="26" y="132"/>
                    </a:lnTo>
                    <a:lnTo>
                      <a:pt x="17" y="146"/>
                    </a:lnTo>
                    <a:lnTo>
                      <a:pt x="8" y="160"/>
                    </a:lnTo>
                    <a:lnTo>
                      <a:pt x="0" y="173"/>
                    </a:lnTo>
                    <a:lnTo>
                      <a:pt x="14" y="183"/>
                    </a:lnTo>
                    <a:lnTo>
                      <a:pt x="27" y="192"/>
                    </a:lnTo>
                    <a:lnTo>
                      <a:pt x="42" y="199"/>
                    </a:lnTo>
                    <a:lnTo>
                      <a:pt x="53" y="213"/>
                    </a:lnTo>
                    <a:lnTo>
                      <a:pt x="67" y="222"/>
                    </a:lnTo>
                    <a:lnTo>
                      <a:pt x="80" y="230"/>
                    </a:lnTo>
                    <a:lnTo>
                      <a:pt x="95" y="239"/>
                    </a:lnTo>
                    <a:lnTo>
                      <a:pt x="108" y="249"/>
                    </a:lnTo>
                    <a:lnTo>
                      <a:pt x="122" y="257"/>
                    </a:lnTo>
                    <a:lnTo>
                      <a:pt x="135" y="265"/>
                    </a:lnTo>
                    <a:lnTo>
                      <a:pt x="150" y="275"/>
                    </a:lnTo>
                    <a:lnTo>
                      <a:pt x="165" y="283"/>
                    </a:lnTo>
                    <a:lnTo>
                      <a:pt x="197" y="291"/>
                    </a:lnTo>
                    <a:lnTo>
                      <a:pt x="197" y="291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7" name="Oval 625"/>
              <p:cNvSpPr/>
              <p:nvPr/>
            </p:nvSpPr>
            <p:spPr>
              <a:xfrm rot="12720000">
                <a:off x="1573560" y="3449880"/>
                <a:ext cx="2916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8" name="Freeform 626"/>
              <p:cNvSpPr/>
              <p:nvPr/>
            </p:nvSpPr>
            <p:spPr>
              <a:xfrm>
                <a:off x="1258920" y="2973240"/>
                <a:ext cx="469440" cy="46476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296" h="293">
                    <a:moveTo>
                      <a:pt x="197" y="292"/>
                    </a:moveTo>
                    <a:lnTo>
                      <a:pt x="209" y="272"/>
                    </a:lnTo>
                    <a:lnTo>
                      <a:pt x="226" y="244"/>
                    </a:lnTo>
                    <a:lnTo>
                      <a:pt x="250" y="208"/>
                    </a:lnTo>
                    <a:lnTo>
                      <a:pt x="263" y="196"/>
                    </a:lnTo>
                    <a:lnTo>
                      <a:pt x="272" y="183"/>
                    </a:lnTo>
                    <a:lnTo>
                      <a:pt x="284" y="164"/>
                    </a:lnTo>
                    <a:lnTo>
                      <a:pt x="292" y="150"/>
                    </a:lnTo>
                    <a:lnTo>
                      <a:pt x="295" y="133"/>
                    </a:lnTo>
                    <a:lnTo>
                      <a:pt x="288" y="115"/>
                    </a:lnTo>
                    <a:lnTo>
                      <a:pt x="277" y="102"/>
                    </a:lnTo>
                    <a:lnTo>
                      <a:pt x="265" y="89"/>
                    </a:lnTo>
                    <a:lnTo>
                      <a:pt x="251" y="79"/>
                    </a:lnTo>
                    <a:lnTo>
                      <a:pt x="238" y="72"/>
                    </a:lnTo>
                    <a:lnTo>
                      <a:pt x="224" y="63"/>
                    </a:lnTo>
                    <a:lnTo>
                      <a:pt x="210" y="54"/>
                    </a:lnTo>
                    <a:lnTo>
                      <a:pt x="197" y="46"/>
                    </a:lnTo>
                    <a:lnTo>
                      <a:pt x="182" y="37"/>
                    </a:lnTo>
                    <a:lnTo>
                      <a:pt x="150" y="16"/>
                    </a:lnTo>
                    <a:lnTo>
                      <a:pt x="136" y="8"/>
                    </a:lnTo>
                    <a:lnTo>
                      <a:pt x="121" y="0"/>
                    </a:lnTo>
                    <a:lnTo>
                      <a:pt x="110" y="10"/>
                    </a:lnTo>
                    <a:lnTo>
                      <a:pt x="96" y="21"/>
                    </a:lnTo>
                    <a:lnTo>
                      <a:pt x="86" y="35"/>
                    </a:lnTo>
                    <a:lnTo>
                      <a:pt x="78" y="48"/>
                    </a:lnTo>
                    <a:lnTo>
                      <a:pt x="70" y="62"/>
                    </a:lnTo>
                    <a:lnTo>
                      <a:pt x="60" y="77"/>
                    </a:lnTo>
                    <a:lnTo>
                      <a:pt x="52" y="90"/>
                    </a:lnTo>
                    <a:lnTo>
                      <a:pt x="44" y="105"/>
                    </a:lnTo>
                    <a:lnTo>
                      <a:pt x="35" y="118"/>
                    </a:lnTo>
                    <a:lnTo>
                      <a:pt x="27" y="132"/>
                    </a:lnTo>
                    <a:lnTo>
                      <a:pt x="17" y="146"/>
                    </a:lnTo>
                    <a:lnTo>
                      <a:pt x="8" y="160"/>
                    </a:lnTo>
                    <a:lnTo>
                      <a:pt x="0" y="174"/>
                    </a:lnTo>
                    <a:lnTo>
                      <a:pt x="14" y="182"/>
                    </a:lnTo>
                    <a:lnTo>
                      <a:pt x="27" y="191"/>
                    </a:lnTo>
                    <a:lnTo>
                      <a:pt x="42" y="200"/>
                    </a:lnTo>
                    <a:lnTo>
                      <a:pt x="53" y="213"/>
                    </a:lnTo>
                    <a:lnTo>
                      <a:pt x="67" y="221"/>
                    </a:lnTo>
                    <a:lnTo>
                      <a:pt x="80" y="230"/>
                    </a:lnTo>
                    <a:lnTo>
                      <a:pt x="94" y="240"/>
                    </a:lnTo>
                    <a:lnTo>
                      <a:pt x="109" y="248"/>
                    </a:lnTo>
                    <a:lnTo>
                      <a:pt x="123" y="256"/>
                    </a:lnTo>
                    <a:lnTo>
                      <a:pt x="137" y="265"/>
                    </a:lnTo>
                    <a:lnTo>
                      <a:pt x="150" y="273"/>
                    </a:lnTo>
                    <a:lnTo>
                      <a:pt x="164" y="282"/>
                    </a:lnTo>
                    <a:lnTo>
                      <a:pt x="197" y="292"/>
                    </a:lnTo>
                    <a:lnTo>
                      <a:pt x="197" y="292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9" name="Oval 627"/>
              <p:cNvSpPr/>
              <p:nvPr/>
            </p:nvSpPr>
            <p:spPr>
              <a:xfrm rot="12720000">
                <a:off x="1281240" y="3270240"/>
                <a:ext cx="294840" cy="648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0" name="Freeform 628"/>
              <p:cNvSpPr/>
              <p:nvPr/>
            </p:nvSpPr>
            <p:spPr>
              <a:xfrm>
                <a:off x="966960" y="2789280"/>
                <a:ext cx="472680" cy="46620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298" h="294">
                    <a:moveTo>
                      <a:pt x="198" y="293"/>
                    </a:moveTo>
                    <a:lnTo>
                      <a:pt x="209" y="274"/>
                    </a:lnTo>
                    <a:lnTo>
                      <a:pt x="228" y="245"/>
                    </a:lnTo>
                    <a:lnTo>
                      <a:pt x="250" y="209"/>
                    </a:lnTo>
                    <a:lnTo>
                      <a:pt x="264" y="197"/>
                    </a:lnTo>
                    <a:lnTo>
                      <a:pt x="273" y="184"/>
                    </a:lnTo>
                    <a:lnTo>
                      <a:pt x="283" y="165"/>
                    </a:lnTo>
                    <a:lnTo>
                      <a:pt x="293" y="151"/>
                    </a:lnTo>
                    <a:lnTo>
                      <a:pt x="297" y="135"/>
                    </a:lnTo>
                    <a:lnTo>
                      <a:pt x="288" y="117"/>
                    </a:lnTo>
                    <a:lnTo>
                      <a:pt x="278" y="104"/>
                    </a:lnTo>
                    <a:lnTo>
                      <a:pt x="266" y="90"/>
                    </a:lnTo>
                    <a:lnTo>
                      <a:pt x="253" y="82"/>
                    </a:lnTo>
                    <a:lnTo>
                      <a:pt x="239" y="72"/>
                    </a:lnTo>
                    <a:lnTo>
                      <a:pt x="226" y="64"/>
                    </a:lnTo>
                    <a:lnTo>
                      <a:pt x="210" y="56"/>
                    </a:lnTo>
                    <a:lnTo>
                      <a:pt x="196" y="46"/>
                    </a:lnTo>
                    <a:lnTo>
                      <a:pt x="183" y="38"/>
                    </a:lnTo>
                    <a:lnTo>
                      <a:pt x="150" y="18"/>
                    </a:lnTo>
                    <a:lnTo>
                      <a:pt x="136" y="8"/>
                    </a:lnTo>
                    <a:lnTo>
                      <a:pt x="123" y="0"/>
                    </a:lnTo>
                    <a:lnTo>
                      <a:pt x="110" y="11"/>
                    </a:lnTo>
                    <a:lnTo>
                      <a:pt x="96" y="22"/>
                    </a:lnTo>
                    <a:lnTo>
                      <a:pt x="88" y="36"/>
                    </a:lnTo>
                    <a:lnTo>
                      <a:pt x="79" y="51"/>
                    </a:lnTo>
                    <a:lnTo>
                      <a:pt x="70" y="64"/>
                    </a:lnTo>
                    <a:lnTo>
                      <a:pt x="62" y="78"/>
                    </a:lnTo>
                    <a:lnTo>
                      <a:pt x="53" y="92"/>
                    </a:lnTo>
                    <a:lnTo>
                      <a:pt x="44" y="105"/>
                    </a:lnTo>
                    <a:lnTo>
                      <a:pt x="35" y="120"/>
                    </a:lnTo>
                    <a:lnTo>
                      <a:pt x="26" y="133"/>
                    </a:lnTo>
                    <a:lnTo>
                      <a:pt x="19" y="148"/>
                    </a:lnTo>
                    <a:lnTo>
                      <a:pt x="9" y="162"/>
                    </a:lnTo>
                    <a:lnTo>
                      <a:pt x="0" y="175"/>
                    </a:lnTo>
                    <a:lnTo>
                      <a:pt x="16" y="183"/>
                    </a:lnTo>
                    <a:lnTo>
                      <a:pt x="29" y="192"/>
                    </a:lnTo>
                    <a:lnTo>
                      <a:pt x="43" y="200"/>
                    </a:lnTo>
                    <a:lnTo>
                      <a:pt x="54" y="215"/>
                    </a:lnTo>
                    <a:lnTo>
                      <a:pt x="68" y="223"/>
                    </a:lnTo>
                    <a:lnTo>
                      <a:pt x="81" y="232"/>
                    </a:lnTo>
                    <a:lnTo>
                      <a:pt x="95" y="240"/>
                    </a:lnTo>
                    <a:lnTo>
                      <a:pt x="109" y="250"/>
                    </a:lnTo>
                    <a:lnTo>
                      <a:pt x="123" y="258"/>
                    </a:lnTo>
                    <a:lnTo>
                      <a:pt x="138" y="266"/>
                    </a:lnTo>
                    <a:lnTo>
                      <a:pt x="151" y="275"/>
                    </a:lnTo>
                    <a:lnTo>
                      <a:pt x="165" y="284"/>
                    </a:lnTo>
                    <a:lnTo>
                      <a:pt x="198" y="293"/>
                    </a:lnTo>
                    <a:lnTo>
                      <a:pt x="198" y="29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1" name="Oval 629"/>
              <p:cNvSpPr/>
              <p:nvPr/>
            </p:nvSpPr>
            <p:spPr>
              <a:xfrm rot="12720000">
                <a:off x="992160" y="3087720"/>
                <a:ext cx="2934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2" name="Freeform 630"/>
              <p:cNvSpPr/>
              <p:nvPr/>
            </p:nvSpPr>
            <p:spPr>
              <a:xfrm>
                <a:off x="676440" y="2606760"/>
                <a:ext cx="472680" cy="46620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298" h="294">
                    <a:moveTo>
                      <a:pt x="198" y="293"/>
                    </a:moveTo>
                    <a:lnTo>
                      <a:pt x="209" y="274"/>
                    </a:lnTo>
                    <a:lnTo>
                      <a:pt x="227" y="247"/>
                    </a:lnTo>
                    <a:lnTo>
                      <a:pt x="250" y="209"/>
                    </a:lnTo>
                    <a:lnTo>
                      <a:pt x="264" y="198"/>
                    </a:lnTo>
                    <a:lnTo>
                      <a:pt x="272" y="184"/>
                    </a:lnTo>
                    <a:lnTo>
                      <a:pt x="284" y="166"/>
                    </a:lnTo>
                    <a:lnTo>
                      <a:pt x="292" y="152"/>
                    </a:lnTo>
                    <a:lnTo>
                      <a:pt x="297" y="135"/>
                    </a:lnTo>
                    <a:lnTo>
                      <a:pt x="288" y="116"/>
                    </a:lnTo>
                    <a:lnTo>
                      <a:pt x="277" y="104"/>
                    </a:lnTo>
                    <a:lnTo>
                      <a:pt x="266" y="91"/>
                    </a:lnTo>
                    <a:lnTo>
                      <a:pt x="253" y="82"/>
                    </a:lnTo>
                    <a:lnTo>
                      <a:pt x="238" y="74"/>
                    </a:lnTo>
                    <a:lnTo>
                      <a:pt x="225" y="64"/>
                    </a:lnTo>
                    <a:lnTo>
                      <a:pt x="210" y="56"/>
                    </a:lnTo>
                    <a:lnTo>
                      <a:pt x="196" y="48"/>
                    </a:lnTo>
                    <a:lnTo>
                      <a:pt x="183" y="38"/>
                    </a:lnTo>
                    <a:lnTo>
                      <a:pt x="150" y="18"/>
                    </a:lnTo>
                    <a:lnTo>
                      <a:pt x="137" y="10"/>
                    </a:lnTo>
                    <a:lnTo>
                      <a:pt x="123" y="0"/>
                    </a:lnTo>
                    <a:lnTo>
                      <a:pt x="110" y="11"/>
                    </a:lnTo>
                    <a:lnTo>
                      <a:pt x="96" y="23"/>
                    </a:lnTo>
                    <a:lnTo>
                      <a:pt x="87" y="37"/>
                    </a:lnTo>
                    <a:lnTo>
                      <a:pt x="78" y="50"/>
                    </a:lnTo>
                    <a:lnTo>
                      <a:pt x="70" y="64"/>
                    </a:lnTo>
                    <a:lnTo>
                      <a:pt x="62" y="78"/>
                    </a:lnTo>
                    <a:lnTo>
                      <a:pt x="52" y="93"/>
                    </a:lnTo>
                    <a:lnTo>
                      <a:pt x="44" y="106"/>
                    </a:lnTo>
                    <a:lnTo>
                      <a:pt x="36" y="120"/>
                    </a:lnTo>
                    <a:lnTo>
                      <a:pt x="26" y="134"/>
                    </a:lnTo>
                    <a:lnTo>
                      <a:pt x="18" y="147"/>
                    </a:lnTo>
                    <a:lnTo>
                      <a:pt x="10" y="162"/>
                    </a:lnTo>
                    <a:lnTo>
                      <a:pt x="0" y="176"/>
                    </a:lnTo>
                    <a:lnTo>
                      <a:pt x="15" y="184"/>
                    </a:lnTo>
                    <a:lnTo>
                      <a:pt x="28" y="192"/>
                    </a:lnTo>
                    <a:lnTo>
                      <a:pt x="43" y="202"/>
                    </a:lnTo>
                    <a:lnTo>
                      <a:pt x="53" y="215"/>
                    </a:lnTo>
                    <a:lnTo>
                      <a:pt x="67" y="224"/>
                    </a:lnTo>
                    <a:lnTo>
                      <a:pt x="82" y="232"/>
                    </a:lnTo>
                    <a:lnTo>
                      <a:pt x="95" y="241"/>
                    </a:lnTo>
                    <a:lnTo>
                      <a:pt x="109" y="249"/>
                    </a:lnTo>
                    <a:lnTo>
                      <a:pt x="123" y="258"/>
                    </a:lnTo>
                    <a:lnTo>
                      <a:pt x="136" y="267"/>
                    </a:lnTo>
                    <a:lnTo>
                      <a:pt x="150" y="276"/>
                    </a:lnTo>
                    <a:lnTo>
                      <a:pt x="165" y="284"/>
                    </a:lnTo>
                    <a:lnTo>
                      <a:pt x="198" y="293"/>
                    </a:lnTo>
                    <a:lnTo>
                      <a:pt x="198" y="29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3" name="Oval 631"/>
              <p:cNvSpPr/>
              <p:nvPr/>
            </p:nvSpPr>
            <p:spPr>
              <a:xfrm rot="12720000">
                <a:off x="702000" y="2905200"/>
                <a:ext cx="2916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4" name="Freeform 632"/>
              <p:cNvSpPr/>
              <p:nvPr/>
            </p:nvSpPr>
            <p:spPr>
              <a:xfrm>
                <a:off x="1839960" y="3335400"/>
                <a:ext cx="471240" cy="46620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297" h="294">
                    <a:moveTo>
                      <a:pt x="197" y="293"/>
                    </a:moveTo>
                    <a:lnTo>
                      <a:pt x="209" y="273"/>
                    </a:lnTo>
                    <a:lnTo>
                      <a:pt x="227" y="245"/>
                    </a:lnTo>
                    <a:lnTo>
                      <a:pt x="250" y="209"/>
                    </a:lnTo>
                    <a:lnTo>
                      <a:pt x="263" y="198"/>
                    </a:lnTo>
                    <a:lnTo>
                      <a:pt x="272" y="183"/>
                    </a:lnTo>
                    <a:lnTo>
                      <a:pt x="283" y="164"/>
                    </a:lnTo>
                    <a:lnTo>
                      <a:pt x="292" y="151"/>
                    </a:lnTo>
                    <a:lnTo>
                      <a:pt x="296" y="134"/>
                    </a:lnTo>
                    <a:lnTo>
                      <a:pt x="287" y="115"/>
                    </a:lnTo>
                    <a:lnTo>
                      <a:pt x="278" y="103"/>
                    </a:lnTo>
                    <a:lnTo>
                      <a:pt x="266" y="90"/>
                    </a:lnTo>
                    <a:lnTo>
                      <a:pt x="252" y="81"/>
                    </a:lnTo>
                    <a:lnTo>
                      <a:pt x="238" y="73"/>
                    </a:lnTo>
                    <a:lnTo>
                      <a:pt x="224" y="64"/>
                    </a:lnTo>
                    <a:lnTo>
                      <a:pt x="210" y="54"/>
                    </a:lnTo>
                    <a:lnTo>
                      <a:pt x="196" y="46"/>
                    </a:lnTo>
                    <a:lnTo>
                      <a:pt x="183" y="37"/>
                    </a:lnTo>
                    <a:lnTo>
                      <a:pt x="149" y="17"/>
                    </a:lnTo>
                    <a:lnTo>
                      <a:pt x="135" y="8"/>
                    </a:lnTo>
                    <a:lnTo>
                      <a:pt x="122" y="0"/>
                    </a:lnTo>
                    <a:lnTo>
                      <a:pt x="109" y="10"/>
                    </a:lnTo>
                    <a:lnTo>
                      <a:pt x="95" y="21"/>
                    </a:lnTo>
                    <a:lnTo>
                      <a:pt x="87" y="35"/>
                    </a:lnTo>
                    <a:lnTo>
                      <a:pt x="78" y="50"/>
                    </a:lnTo>
                    <a:lnTo>
                      <a:pt x="70" y="63"/>
                    </a:lnTo>
                    <a:lnTo>
                      <a:pt x="61" y="78"/>
                    </a:lnTo>
                    <a:lnTo>
                      <a:pt x="53" y="91"/>
                    </a:lnTo>
                    <a:lnTo>
                      <a:pt x="44" y="105"/>
                    </a:lnTo>
                    <a:lnTo>
                      <a:pt x="35" y="118"/>
                    </a:lnTo>
                    <a:lnTo>
                      <a:pt x="26" y="132"/>
                    </a:lnTo>
                    <a:lnTo>
                      <a:pt x="17" y="147"/>
                    </a:lnTo>
                    <a:lnTo>
                      <a:pt x="9" y="161"/>
                    </a:lnTo>
                    <a:lnTo>
                      <a:pt x="0" y="175"/>
                    </a:lnTo>
                    <a:lnTo>
                      <a:pt x="14" y="183"/>
                    </a:lnTo>
                    <a:lnTo>
                      <a:pt x="28" y="192"/>
                    </a:lnTo>
                    <a:lnTo>
                      <a:pt x="42" y="201"/>
                    </a:lnTo>
                    <a:lnTo>
                      <a:pt x="53" y="214"/>
                    </a:lnTo>
                    <a:lnTo>
                      <a:pt x="68" y="223"/>
                    </a:lnTo>
                    <a:lnTo>
                      <a:pt x="81" y="231"/>
                    </a:lnTo>
                    <a:lnTo>
                      <a:pt x="95" y="240"/>
                    </a:lnTo>
                    <a:lnTo>
                      <a:pt x="108" y="248"/>
                    </a:lnTo>
                    <a:lnTo>
                      <a:pt x="122" y="257"/>
                    </a:lnTo>
                    <a:lnTo>
                      <a:pt x="136" y="266"/>
                    </a:lnTo>
                    <a:lnTo>
                      <a:pt x="151" y="274"/>
                    </a:lnTo>
                    <a:lnTo>
                      <a:pt x="165" y="283"/>
                    </a:lnTo>
                    <a:lnTo>
                      <a:pt x="197" y="293"/>
                    </a:lnTo>
                    <a:lnTo>
                      <a:pt x="197" y="29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5" name="Oval 633"/>
              <p:cNvSpPr/>
              <p:nvPr/>
            </p:nvSpPr>
            <p:spPr>
              <a:xfrm rot="12720000">
                <a:off x="1865160" y="3635280"/>
                <a:ext cx="293400" cy="648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6" name="Freeform 634"/>
              <p:cNvSpPr/>
              <p:nvPr/>
            </p:nvSpPr>
            <p:spPr>
              <a:xfrm>
                <a:off x="387360" y="2427120"/>
                <a:ext cx="469440" cy="46332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463320"/>
                  <a:gd name="textAreaBottom" fmla="*/ 463680 h 463320"/>
                </a:gdLst>
                <a:ahLst/>
                <a:rect l="textAreaLeft" t="textAreaTop" r="textAreaRight" b="textAreaBottom"/>
                <a:pathLst>
                  <a:path w="296" h="292">
                    <a:moveTo>
                      <a:pt x="196" y="291"/>
                    </a:moveTo>
                    <a:lnTo>
                      <a:pt x="209" y="272"/>
                    </a:lnTo>
                    <a:lnTo>
                      <a:pt x="226" y="245"/>
                    </a:lnTo>
                    <a:lnTo>
                      <a:pt x="249" y="208"/>
                    </a:lnTo>
                    <a:lnTo>
                      <a:pt x="262" y="196"/>
                    </a:lnTo>
                    <a:lnTo>
                      <a:pt x="271" y="183"/>
                    </a:lnTo>
                    <a:lnTo>
                      <a:pt x="283" y="165"/>
                    </a:lnTo>
                    <a:lnTo>
                      <a:pt x="291" y="151"/>
                    </a:lnTo>
                    <a:lnTo>
                      <a:pt x="295" y="133"/>
                    </a:lnTo>
                    <a:lnTo>
                      <a:pt x="288" y="116"/>
                    </a:lnTo>
                    <a:lnTo>
                      <a:pt x="276" y="103"/>
                    </a:lnTo>
                    <a:lnTo>
                      <a:pt x="265" y="89"/>
                    </a:lnTo>
                    <a:lnTo>
                      <a:pt x="251" y="81"/>
                    </a:lnTo>
                    <a:lnTo>
                      <a:pt x="238" y="72"/>
                    </a:lnTo>
                    <a:lnTo>
                      <a:pt x="224" y="63"/>
                    </a:lnTo>
                    <a:lnTo>
                      <a:pt x="210" y="55"/>
                    </a:lnTo>
                    <a:lnTo>
                      <a:pt x="196" y="46"/>
                    </a:lnTo>
                    <a:lnTo>
                      <a:pt x="182" y="38"/>
                    </a:lnTo>
                    <a:lnTo>
                      <a:pt x="149" y="17"/>
                    </a:lnTo>
                    <a:lnTo>
                      <a:pt x="136" y="8"/>
                    </a:lnTo>
                    <a:lnTo>
                      <a:pt x="121" y="0"/>
                    </a:lnTo>
                    <a:lnTo>
                      <a:pt x="109" y="11"/>
                    </a:lnTo>
                    <a:lnTo>
                      <a:pt x="95" y="21"/>
                    </a:lnTo>
                    <a:lnTo>
                      <a:pt x="87" y="35"/>
                    </a:lnTo>
                    <a:lnTo>
                      <a:pt x="77" y="49"/>
                    </a:lnTo>
                    <a:lnTo>
                      <a:pt x="69" y="63"/>
                    </a:lnTo>
                    <a:lnTo>
                      <a:pt x="60" y="76"/>
                    </a:lnTo>
                    <a:lnTo>
                      <a:pt x="51" y="91"/>
                    </a:lnTo>
                    <a:lnTo>
                      <a:pt x="43" y="105"/>
                    </a:lnTo>
                    <a:lnTo>
                      <a:pt x="34" y="118"/>
                    </a:lnTo>
                    <a:lnTo>
                      <a:pt x="26" y="133"/>
                    </a:lnTo>
                    <a:lnTo>
                      <a:pt x="16" y="146"/>
                    </a:lnTo>
                    <a:lnTo>
                      <a:pt x="7" y="160"/>
                    </a:lnTo>
                    <a:lnTo>
                      <a:pt x="0" y="173"/>
                    </a:lnTo>
                    <a:lnTo>
                      <a:pt x="14" y="183"/>
                    </a:lnTo>
                    <a:lnTo>
                      <a:pt x="27" y="191"/>
                    </a:lnTo>
                    <a:lnTo>
                      <a:pt x="41" y="200"/>
                    </a:lnTo>
                    <a:lnTo>
                      <a:pt x="52" y="213"/>
                    </a:lnTo>
                    <a:lnTo>
                      <a:pt x="66" y="222"/>
                    </a:lnTo>
                    <a:lnTo>
                      <a:pt x="79" y="231"/>
                    </a:lnTo>
                    <a:lnTo>
                      <a:pt x="94" y="240"/>
                    </a:lnTo>
                    <a:lnTo>
                      <a:pt x="109" y="248"/>
                    </a:lnTo>
                    <a:lnTo>
                      <a:pt x="122" y="257"/>
                    </a:lnTo>
                    <a:lnTo>
                      <a:pt x="136" y="265"/>
                    </a:lnTo>
                    <a:lnTo>
                      <a:pt x="150" y="275"/>
                    </a:lnTo>
                    <a:lnTo>
                      <a:pt x="163" y="283"/>
                    </a:lnTo>
                    <a:lnTo>
                      <a:pt x="196" y="291"/>
                    </a:lnTo>
                    <a:lnTo>
                      <a:pt x="196" y="291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7" name="Oval 635"/>
              <p:cNvSpPr/>
              <p:nvPr/>
            </p:nvSpPr>
            <p:spPr>
              <a:xfrm rot="12720000">
                <a:off x="409320" y="2721240"/>
                <a:ext cx="2934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538" name="Group 638"/>
              <p:cNvGrpSpPr/>
              <p:nvPr/>
            </p:nvGrpSpPr>
            <p:grpSpPr>
              <a:xfrm>
                <a:off x="1768320" y="2744640"/>
                <a:ext cx="472680" cy="452160"/>
                <a:chOff x="1768320" y="2744640"/>
                <a:chExt cx="472680" cy="452160"/>
              </a:xfrm>
            </p:grpSpPr>
            <p:sp>
              <p:nvSpPr>
                <p:cNvPr id="2539" name="Freeform 636"/>
                <p:cNvSpPr/>
                <p:nvPr/>
              </p:nvSpPr>
              <p:spPr>
                <a:xfrm>
                  <a:off x="1768320" y="2744640"/>
                  <a:ext cx="472680" cy="452160"/>
                </a:xfrm>
                <a:custGeom>
                  <a:avLst/>
                  <a:gdLst>
                    <a:gd name="textAreaLeft" fmla="*/ 0 w 472680"/>
                    <a:gd name="textAreaRight" fmla="*/ 473040 w 472680"/>
                    <a:gd name="textAreaTop" fmla="*/ 0 h 452160"/>
                    <a:gd name="textAreaBottom" fmla="*/ 452520 h 452160"/>
                  </a:gdLst>
                  <a:ahLst/>
                  <a:rect l="textAreaLeft" t="textAreaTop" r="textAreaRight" b="textAreaBottom"/>
                  <a:pathLst>
                    <a:path w="298" h="285">
                      <a:moveTo>
                        <a:pt x="297" y="125"/>
                      </a:moveTo>
                      <a:lnTo>
                        <a:pt x="285" y="145"/>
                      </a:lnTo>
                      <a:lnTo>
                        <a:pt x="266" y="172"/>
                      </a:lnTo>
                      <a:lnTo>
                        <a:pt x="244" y="209"/>
                      </a:lnTo>
                      <a:lnTo>
                        <a:pt x="240" y="226"/>
                      </a:lnTo>
                      <a:lnTo>
                        <a:pt x="231" y="240"/>
                      </a:lnTo>
                      <a:lnTo>
                        <a:pt x="220" y="258"/>
                      </a:lnTo>
                      <a:lnTo>
                        <a:pt x="211" y="273"/>
                      </a:lnTo>
                      <a:lnTo>
                        <a:pt x="197" y="283"/>
                      </a:lnTo>
                      <a:lnTo>
                        <a:pt x="178" y="284"/>
                      </a:lnTo>
                      <a:lnTo>
                        <a:pt x="162" y="280"/>
                      </a:lnTo>
                      <a:lnTo>
                        <a:pt x="145" y="276"/>
                      </a:lnTo>
                      <a:lnTo>
                        <a:pt x="131" y="266"/>
                      </a:lnTo>
                      <a:lnTo>
                        <a:pt x="117" y="258"/>
                      </a:lnTo>
                      <a:lnTo>
                        <a:pt x="103" y="250"/>
                      </a:lnTo>
                      <a:lnTo>
                        <a:pt x="89" y="241"/>
                      </a:lnTo>
                      <a:lnTo>
                        <a:pt x="75" y="231"/>
                      </a:lnTo>
                      <a:lnTo>
                        <a:pt x="61" y="222"/>
                      </a:lnTo>
                      <a:lnTo>
                        <a:pt x="28" y="203"/>
                      </a:lnTo>
                      <a:lnTo>
                        <a:pt x="14" y="194"/>
                      </a:lnTo>
                      <a:lnTo>
                        <a:pt x="0" y="186"/>
                      </a:lnTo>
                      <a:lnTo>
                        <a:pt x="4" y="169"/>
                      </a:lnTo>
                      <a:lnTo>
                        <a:pt x="8" y="152"/>
                      </a:lnTo>
                      <a:lnTo>
                        <a:pt x="18" y="138"/>
                      </a:lnTo>
                      <a:lnTo>
                        <a:pt x="27" y="124"/>
                      </a:lnTo>
                      <a:lnTo>
                        <a:pt x="35" y="111"/>
                      </a:lnTo>
                      <a:lnTo>
                        <a:pt x="43" y="97"/>
                      </a:lnTo>
                      <a:lnTo>
                        <a:pt x="52" y="83"/>
                      </a:lnTo>
                      <a:lnTo>
                        <a:pt x="61" y="68"/>
                      </a:lnTo>
                      <a:lnTo>
                        <a:pt x="69" y="55"/>
                      </a:lnTo>
                      <a:lnTo>
                        <a:pt x="78" y="41"/>
                      </a:lnTo>
                      <a:lnTo>
                        <a:pt x="87" y="27"/>
                      </a:lnTo>
                      <a:lnTo>
                        <a:pt x="96" y="14"/>
                      </a:lnTo>
                      <a:lnTo>
                        <a:pt x="104" y="0"/>
                      </a:lnTo>
                      <a:lnTo>
                        <a:pt x="118" y="8"/>
                      </a:lnTo>
                      <a:lnTo>
                        <a:pt x="131" y="17"/>
                      </a:lnTo>
                      <a:lnTo>
                        <a:pt x="145" y="25"/>
                      </a:lnTo>
                      <a:lnTo>
                        <a:pt x="162" y="29"/>
                      </a:lnTo>
                      <a:lnTo>
                        <a:pt x="176" y="38"/>
                      </a:lnTo>
                      <a:lnTo>
                        <a:pt x="191" y="47"/>
                      </a:lnTo>
                      <a:lnTo>
                        <a:pt x="204" y="56"/>
                      </a:lnTo>
                      <a:lnTo>
                        <a:pt x="218" y="64"/>
                      </a:lnTo>
                      <a:lnTo>
                        <a:pt x="233" y="73"/>
                      </a:lnTo>
                      <a:lnTo>
                        <a:pt x="246" y="82"/>
                      </a:lnTo>
                      <a:lnTo>
                        <a:pt x="260" y="90"/>
                      </a:lnTo>
                      <a:lnTo>
                        <a:pt x="273" y="99"/>
                      </a:lnTo>
                      <a:lnTo>
                        <a:pt x="297" y="125"/>
                      </a:lnTo>
                      <a:lnTo>
                        <a:pt x="297" y="125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0" name="Oval 637"/>
                <p:cNvSpPr/>
                <p:nvPr/>
              </p:nvSpPr>
              <p:spPr>
                <a:xfrm rot="12720000">
                  <a:off x="1908000" y="2842200"/>
                  <a:ext cx="293400" cy="662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41" name="Group 641"/>
              <p:cNvGrpSpPr/>
              <p:nvPr/>
            </p:nvGrpSpPr>
            <p:grpSpPr>
              <a:xfrm>
                <a:off x="1479600" y="2562120"/>
                <a:ext cx="471240" cy="452160"/>
                <a:chOff x="1479600" y="2562120"/>
                <a:chExt cx="471240" cy="452160"/>
              </a:xfrm>
            </p:grpSpPr>
            <p:sp>
              <p:nvSpPr>
                <p:cNvPr id="2542" name="Freeform 639"/>
                <p:cNvSpPr/>
                <p:nvPr/>
              </p:nvSpPr>
              <p:spPr>
                <a:xfrm>
                  <a:off x="1479600" y="2562120"/>
                  <a:ext cx="471240" cy="452160"/>
                </a:xfrm>
                <a:custGeom>
                  <a:avLst/>
                  <a:gdLst>
                    <a:gd name="textAreaLeft" fmla="*/ 0 w 471240"/>
                    <a:gd name="textAreaRight" fmla="*/ 471600 w 471240"/>
                    <a:gd name="textAreaTop" fmla="*/ 0 h 452160"/>
                    <a:gd name="textAreaBottom" fmla="*/ 452520 h 452160"/>
                  </a:gdLst>
                  <a:ahLst/>
                  <a:rect l="textAreaLeft" t="textAreaTop" r="textAreaRight" b="textAreaBottom"/>
                  <a:pathLst>
                    <a:path w="297" h="285">
                      <a:moveTo>
                        <a:pt x="296" y="125"/>
                      </a:moveTo>
                      <a:lnTo>
                        <a:pt x="283" y="144"/>
                      </a:lnTo>
                      <a:lnTo>
                        <a:pt x="266" y="172"/>
                      </a:lnTo>
                      <a:lnTo>
                        <a:pt x="242" y="210"/>
                      </a:lnTo>
                      <a:lnTo>
                        <a:pt x="238" y="226"/>
                      </a:lnTo>
                      <a:lnTo>
                        <a:pt x="230" y="239"/>
                      </a:lnTo>
                      <a:lnTo>
                        <a:pt x="218" y="258"/>
                      </a:lnTo>
                      <a:lnTo>
                        <a:pt x="210" y="273"/>
                      </a:lnTo>
                      <a:lnTo>
                        <a:pt x="196" y="284"/>
                      </a:lnTo>
                      <a:lnTo>
                        <a:pt x="177" y="283"/>
                      </a:lnTo>
                      <a:lnTo>
                        <a:pt x="160" y="280"/>
                      </a:lnTo>
                      <a:lnTo>
                        <a:pt x="144" y="275"/>
                      </a:lnTo>
                      <a:lnTo>
                        <a:pt x="129" y="267"/>
                      </a:lnTo>
                      <a:lnTo>
                        <a:pt x="116" y="258"/>
                      </a:lnTo>
                      <a:lnTo>
                        <a:pt x="101" y="250"/>
                      </a:lnTo>
                      <a:lnTo>
                        <a:pt x="87" y="241"/>
                      </a:lnTo>
                      <a:lnTo>
                        <a:pt x="74" y="232"/>
                      </a:lnTo>
                      <a:lnTo>
                        <a:pt x="60" y="224"/>
                      </a:lnTo>
                      <a:lnTo>
                        <a:pt x="28" y="203"/>
                      </a:lnTo>
                      <a:lnTo>
                        <a:pt x="13" y="194"/>
                      </a:lnTo>
                      <a:lnTo>
                        <a:pt x="0" y="186"/>
                      </a:lnTo>
                      <a:lnTo>
                        <a:pt x="4" y="169"/>
                      </a:lnTo>
                      <a:lnTo>
                        <a:pt x="8" y="153"/>
                      </a:lnTo>
                      <a:lnTo>
                        <a:pt x="17" y="139"/>
                      </a:lnTo>
                      <a:lnTo>
                        <a:pt x="24" y="125"/>
                      </a:lnTo>
                      <a:lnTo>
                        <a:pt x="34" y="110"/>
                      </a:lnTo>
                      <a:lnTo>
                        <a:pt x="42" y="97"/>
                      </a:lnTo>
                      <a:lnTo>
                        <a:pt x="51" y="83"/>
                      </a:lnTo>
                      <a:lnTo>
                        <a:pt x="60" y="69"/>
                      </a:lnTo>
                      <a:lnTo>
                        <a:pt x="68" y="56"/>
                      </a:lnTo>
                      <a:lnTo>
                        <a:pt x="78" y="41"/>
                      </a:lnTo>
                      <a:lnTo>
                        <a:pt x="86" y="28"/>
                      </a:lnTo>
                      <a:lnTo>
                        <a:pt x="94" y="13"/>
                      </a:lnTo>
                      <a:lnTo>
                        <a:pt x="103" y="0"/>
                      </a:lnTo>
                      <a:lnTo>
                        <a:pt x="117" y="9"/>
                      </a:lnTo>
                      <a:lnTo>
                        <a:pt x="130" y="18"/>
                      </a:lnTo>
                      <a:lnTo>
                        <a:pt x="145" y="26"/>
                      </a:lnTo>
                      <a:lnTo>
                        <a:pt x="162" y="30"/>
                      </a:lnTo>
                      <a:lnTo>
                        <a:pt x="176" y="39"/>
                      </a:lnTo>
                      <a:lnTo>
                        <a:pt x="189" y="47"/>
                      </a:lnTo>
                      <a:lnTo>
                        <a:pt x="203" y="56"/>
                      </a:lnTo>
                      <a:lnTo>
                        <a:pt x="217" y="65"/>
                      </a:lnTo>
                      <a:lnTo>
                        <a:pt x="232" y="73"/>
                      </a:lnTo>
                      <a:lnTo>
                        <a:pt x="245" y="81"/>
                      </a:lnTo>
                      <a:lnTo>
                        <a:pt x="259" y="91"/>
                      </a:lnTo>
                      <a:lnTo>
                        <a:pt x="273" y="100"/>
                      </a:lnTo>
                      <a:lnTo>
                        <a:pt x="296" y="125"/>
                      </a:lnTo>
                      <a:lnTo>
                        <a:pt x="296" y="125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3" name="Oval 640"/>
                <p:cNvSpPr/>
                <p:nvPr/>
              </p:nvSpPr>
              <p:spPr>
                <a:xfrm rot="12720000">
                  <a:off x="1617480" y="2660760"/>
                  <a:ext cx="294840" cy="648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44" name="Group 644"/>
              <p:cNvGrpSpPr/>
              <p:nvPr/>
            </p:nvGrpSpPr>
            <p:grpSpPr>
              <a:xfrm>
                <a:off x="1187280" y="2381400"/>
                <a:ext cx="471240" cy="452160"/>
                <a:chOff x="1187280" y="2381400"/>
                <a:chExt cx="471240" cy="452160"/>
              </a:xfrm>
            </p:grpSpPr>
            <p:sp>
              <p:nvSpPr>
                <p:cNvPr id="2545" name="Freeform 642"/>
                <p:cNvSpPr/>
                <p:nvPr/>
              </p:nvSpPr>
              <p:spPr>
                <a:xfrm>
                  <a:off x="1187280" y="2381400"/>
                  <a:ext cx="471240" cy="452160"/>
                </a:xfrm>
                <a:custGeom>
                  <a:avLst/>
                  <a:gdLst>
                    <a:gd name="textAreaLeft" fmla="*/ 0 w 471240"/>
                    <a:gd name="textAreaRight" fmla="*/ 471600 w 471240"/>
                    <a:gd name="textAreaTop" fmla="*/ 0 h 452160"/>
                    <a:gd name="textAreaBottom" fmla="*/ 452520 h 452160"/>
                  </a:gdLst>
                  <a:ahLst/>
                  <a:rect l="textAreaLeft" t="textAreaTop" r="textAreaRight" b="textAreaBottom"/>
                  <a:pathLst>
                    <a:path w="297" h="285">
                      <a:moveTo>
                        <a:pt x="296" y="125"/>
                      </a:moveTo>
                      <a:lnTo>
                        <a:pt x="283" y="144"/>
                      </a:lnTo>
                      <a:lnTo>
                        <a:pt x="267" y="172"/>
                      </a:lnTo>
                      <a:lnTo>
                        <a:pt x="243" y="209"/>
                      </a:lnTo>
                      <a:lnTo>
                        <a:pt x="239" y="226"/>
                      </a:lnTo>
                      <a:lnTo>
                        <a:pt x="231" y="240"/>
                      </a:lnTo>
                      <a:lnTo>
                        <a:pt x="220" y="257"/>
                      </a:lnTo>
                      <a:lnTo>
                        <a:pt x="210" y="271"/>
                      </a:lnTo>
                      <a:lnTo>
                        <a:pt x="197" y="283"/>
                      </a:lnTo>
                      <a:lnTo>
                        <a:pt x="178" y="284"/>
                      </a:lnTo>
                      <a:lnTo>
                        <a:pt x="161" y="280"/>
                      </a:lnTo>
                      <a:lnTo>
                        <a:pt x="144" y="276"/>
                      </a:lnTo>
                      <a:lnTo>
                        <a:pt x="130" y="266"/>
                      </a:lnTo>
                      <a:lnTo>
                        <a:pt x="117" y="258"/>
                      </a:lnTo>
                      <a:lnTo>
                        <a:pt x="102" y="250"/>
                      </a:lnTo>
                      <a:lnTo>
                        <a:pt x="88" y="240"/>
                      </a:lnTo>
                      <a:lnTo>
                        <a:pt x="75" y="232"/>
                      </a:lnTo>
                      <a:lnTo>
                        <a:pt x="60" y="223"/>
                      </a:lnTo>
                      <a:lnTo>
                        <a:pt x="29" y="202"/>
                      </a:lnTo>
                      <a:lnTo>
                        <a:pt x="14" y="195"/>
                      </a:lnTo>
                      <a:lnTo>
                        <a:pt x="0" y="185"/>
                      </a:lnTo>
                      <a:lnTo>
                        <a:pt x="4" y="169"/>
                      </a:lnTo>
                      <a:lnTo>
                        <a:pt x="8" y="152"/>
                      </a:lnTo>
                      <a:lnTo>
                        <a:pt x="17" y="138"/>
                      </a:lnTo>
                      <a:lnTo>
                        <a:pt x="26" y="124"/>
                      </a:lnTo>
                      <a:lnTo>
                        <a:pt x="35" y="111"/>
                      </a:lnTo>
                      <a:lnTo>
                        <a:pt x="43" y="97"/>
                      </a:lnTo>
                      <a:lnTo>
                        <a:pt x="51" y="83"/>
                      </a:lnTo>
                      <a:lnTo>
                        <a:pt x="61" y="69"/>
                      </a:lnTo>
                      <a:lnTo>
                        <a:pt x="70" y="55"/>
                      </a:lnTo>
                      <a:lnTo>
                        <a:pt x="77" y="41"/>
                      </a:lnTo>
                      <a:lnTo>
                        <a:pt x="87" y="27"/>
                      </a:lnTo>
                      <a:lnTo>
                        <a:pt x="96" y="13"/>
                      </a:lnTo>
                      <a:lnTo>
                        <a:pt x="103" y="0"/>
                      </a:lnTo>
                      <a:lnTo>
                        <a:pt x="118" y="8"/>
                      </a:lnTo>
                      <a:lnTo>
                        <a:pt x="132" y="16"/>
                      </a:lnTo>
                      <a:lnTo>
                        <a:pt x="146" y="26"/>
                      </a:lnTo>
                      <a:lnTo>
                        <a:pt x="163" y="30"/>
                      </a:lnTo>
                      <a:lnTo>
                        <a:pt x="176" y="38"/>
                      </a:lnTo>
                      <a:lnTo>
                        <a:pt x="190" y="47"/>
                      </a:lnTo>
                      <a:lnTo>
                        <a:pt x="203" y="56"/>
                      </a:lnTo>
                      <a:lnTo>
                        <a:pt x="218" y="64"/>
                      </a:lnTo>
                      <a:lnTo>
                        <a:pt x="232" y="73"/>
                      </a:lnTo>
                      <a:lnTo>
                        <a:pt x="246" y="82"/>
                      </a:lnTo>
                      <a:lnTo>
                        <a:pt x="260" y="90"/>
                      </a:lnTo>
                      <a:lnTo>
                        <a:pt x="274" y="99"/>
                      </a:lnTo>
                      <a:lnTo>
                        <a:pt x="296" y="125"/>
                      </a:lnTo>
                      <a:lnTo>
                        <a:pt x="296" y="125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6" name="Oval 643"/>
                <p:cNvSpPr/>
                <p:nvPr/>
              </p:nvSpPr>
              <p:spPr>
                <a:xfrm rot="12720000">
                  <a:off x="1328760" y="2478240"/>
                  <a:ext cx="293400" cy="680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47" name="Group 647"/>
              <p:cNvGrpSpPr/>
              <p:nvPr/>
            </p:nvGrpSpPr>
            <p:grpSpPr>
              <a:xfrm>
                <a:off x="898560" y="2198520"/>
                <a:ext cx="469440" cy="452160"/>
                <a:chOff x="898560" y="2198520"/>
                <a:chExt cx="469440" cy="452160"/>
              </a:xfrm>
            </p:grpSpPr>
            <p:sp>
              <p:nvSpPr>
                <p:cNvPr id="2548" name="Freeform 645"/>
                <p:cNvSpPr/>
                <p:nvPr/>
              </p:nvSpPr>
              <p:spPr>
                <a:xfrm>
                  <a:off x="898560" y="2198520"/>
                  <a:ext cx="469440" cy="452160"/>
                </a:xfrm>
                <a:custGeom>
                  <a:avLst/>
                  <a:gdLst>
                    <a:gd name="textAreaLeft" fmla="*/ 0 w 469440"/>
                    <a:gd name="textAreaRight" fmla="*/ 469800 w 469440"/>
                    <a:gd name="textAreaTop" fmla="*/ 0 h 452160"/>
                    <a:gd name="textAreaBottom" fmla="*/ 452520 h 452160"/>
                  </a:gdLst>
                  <a:ahLst/>
                  <a:rect l="textAreaLeft" t="textAreaTop" r="textAreaRight" b="textAreaBottom"/>
                  <a:pathLst>
                    <a:path w="296" h="285">
                      <a:moveTo>
                        <a:pt x="295" y="125"/>
                      </a:moveTo>
                      <a:lnTo>
                        <a:pt x="283" y="145"/>
                      </a:lnTo>
                      <a:lnTo>
                        <a:pt x="265" y="172"/>
                      </a:lnTo>
                      <a:lnTo>
                        <a:pt x="242" y="210"/>
                      </a:lnTo>
                      <a:lnTo>
                        <a:pt x="239" y="227"/>
                      </a:lnTo>
                      <a:lnTo>
                        <a:pt x="229" y="240"/>
                      </a:lnTo>
                      <a:lnTo>
                        <a:pt x="219" y="259"/>
                      </a:lnTo>
                      <a:lnTo>
                        <a:pt x="210" y="272"/>
                      </a:lnTo>
                      <a:lnTo>
                        <a:pt x="195" y="284"/>
                      </a:lnTo>
                      <a:lnTo>
                        <a:pt x="176" y="284"/>
                      </a:lnTo>
                      <a:lnTo>
                        <a:pt x="160" y="280"/>
                      </a:lnTo>
                      <a:lnTo>
                        <a:pt x="143" y="276"/>
                      </a:lnTo>
                      <a:lnTo>
                        <a:pt x="129" y="267"/>
                      </a:lnTo>
                      <a:lnTo>
                        <a:pt x="116" y="258"/>
                      </a:lnTo>
                      <a:lnTo>
                        <a:pt x="101" y="249"/>
                      </a:lnTo>
                      <a:lnTo>
                        <a:pt x="87" y="242"/>
                      </a:lnTo>
                      <a:lnTo>
                        <a:pt x="73" y="233"/>
                      </a:lnTo>
                      <a:lnTo>
                        <a:pt x="60" y="224"/>
                      </a:lnTo>
                      <a:lnTo>
                        <a:pt x="27" y="204"/>
                      </a:lnTo>
                      <a:lnTo>
                        <a:pt x="13" y="194"/>
                      </a:lnTo>
                      <a:lnTo>
                        <a:pt x="0" y="186"/>
                      </a:lnTo>
                      <a:lnTo>
                        <a:pt x="3" y="170"/>
                      </a:lnTo>
                      <a:lnTo>
                        <a:pt x="7" y="152"/>
                      </a:lnTo>
                      <a:lnTo>
                        <a:pt x="16" y="138"/>
                      </a:lnTo>
                      <a:lnTo>
                        <a:pt x="25" y="124"/>
                      </a:lnTo>
                      <a:lnTo>
                        <a:pt x="33" y="111"/>
                      </a:lnTo>
                      <a:lnTo>
                        <a:pt x="42" y="97"/>
                      </a:lnTo>
                      <a:lnTo>
                        <a:pt x="51" y="83"/>
                      </a:lnTo>
                      <a:lnTo>
                        <a:pt x="59" y="69"/>
                      </a:lnTo>
                      <a:lnTo>
                        <a:pt x="68" y="55"/>
                      </a:lnTo>
                      <a:lnTo>
                        <a:pt x="77" y="41"/>
                      </a:lnTo>
                      <a:lnTo>
                        <a:pt x="85" y="27"/>
                      </a:lnTo>
                      <a:lnTo>
                        <a:pt x="95" y="13"/>
                      </a:lnTo>
                      <a:lnTo>
                        <a:pt x="102" y="0"/>
                      </a:lnTo>
                      <a:lnTo>
                        <a:pt x="117" y="8"/>
                      </a:lnTo>
                      <a:lnTo>
                        <a:pt x="130" y="17"/>
                      </a:lnTo>
                      <a:lnTo>
                        <a:pt x="145" y="26"/>
                      </a:lnTo>
                      <a:lnTo>
                        <a:pt x="161" y="30"/>
                      </a:lnTo>
                      <a:lnTo>
                        <a:pt x="175" y="39"/>
                      </a:lnTo>
                      <a:lnTo>
                        <a:pt x="189" y="48"/>
                      </a:lnTo>
                      <a:lnTo>
                        <a:pt x="203" y="56"/>
                      </a:lnTo>
                      <a:lnTo>
                        <a:pt x="217" y="65"/>
                      </a:lnTo>
                      <a:lnTo>
                        <a:pt x="231" y="74"/>
                      </a:lnTo>
                      <a:lnTo>
                        <a:pt x="244" y="82"/>
                      </a:lnTo>
                      <a:lnTo>
                        <a:pt x="258" y="91"/>
                      </a:lnTo>
                      <a:lnTo>
                        <a:pt x="273" y="100"/>
                      </a:lnTo>
                      <a:lnTo>
                        <a:pt x="295" y="125"/>
                      </a:lnTo>
                      <a:lnTo>
                        <a:pt x="295" y="125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9" name="Oval 646"/>
                <p:cNvSpPr/>
                <p:nvPr/>
              </p:nvSpPr>
              <p:spPr>
                <a:xfrm rot="12720000">
                  <a:off x="1036440" y="2293920"/>
                  <a:ext cx="293400" cy="680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50" name="Group 650"/>
              <p:cNvGrpSpPr/>
              <p:nvPr/>
            </p:nvGrpSpPr>
            <p:grpSpPr>
              <a:xfrm>
                <a:off x="2060640" y="2925720"/>
                <a:ext cx="469440" cy="450360"/>
                <a:chOff x="2060640" y="2925720"/>
                <a:chExt cx="469440" cy="450360"/>
              </a:xfrm>
            </p:grpSpPr>
            <p:sp>
              <p:nvSpPr>
                <p:cNvPr id="2551" name="Freeform 648"/>
                <p:cNvSpPr/>
                <p:nvPr/>
              </p:nvSpPr>
              <p:spPr>
                <a:xfrm>
                  <a:off x="2060640" y="2925720"/>
                  <a:ext cx="469440" cy="450360"/>
                </a:xfrm>
                <a:custGeom>
                  <a:avLst/>
                  <a:gdLst>
                    <a:gd name="textAreaLeft" fmla="*/ 0 w 469440"/>
                    <a:gd name="textAreaRight" fmla="*/ 469800 w 469440"/>
                    <a:gd name="textAreaTop" fmla="*/ 0 h 450360"/>
                    <a:gd name="textAreaBottom" fmla="*/ 450720 h 450360"/>
                  </a:gdLst>
                  <a:ahLst/>
                  <a:rect l="textAreaLeft" t="textAreaTop" r="textAreaRight" b="textAreaBottom"/>
                  <a:pathLst>
                    <a:path w="296" h="284">
                      <a:moveTo>
                        <a:pt x="295" y="125"/>
                      </a:moveTo>
                      <a:lnTo>
                        <a:pt x="283" y="144"/>
                      </a:lnTo>
                      <a:lnTo>
                        <a:pt x="266" y="173"/>
                      </a:lnTo>
                      <a:lnTo>
                        <a:pt x="243" y="209"/>
                      </a:lnTo>
                      <a:lnTo>
                        <a:pt x="239" y="226"/>
                      </a:lnTo>
                      <a:lnTo>
                        <a:pt x="231" y="240"/>
                      </a:lnTo>
                      <a:lnTo>
                        <a:pt x="219" y="258"/>
                      </a:lnTo>
                      <a:lnTo>
                        <a:pt x="209" y="272"/>
                      </a:lnTo>
                      <a:lnTo>
                        <a:pt x="197" y="283"/>
                      </a:lnTo>
                      <a:lnTo>
                        <a:pt x="177" y="283"/>
                      </a:lnTo>
                      <a:lnTo>
                        <a:pt x="161" y="279"/>
                      </a:lnTo>
                      <a:lnTo>
                        <a:pt x="144" y="275"/>
                      </a:lnTo>
                      <a:lnTo>
                        <a:pt x="129" y="267"/>
                      </a:lnTo>
                      <a:lnTo>
                        <a:pt x="116" y="258"/>
                      </a:lnTo>
                      <a:lnTo>
                        <a:pt x="102" y="249"/>
                      </a:lnTo>
                      <a:lnTo>
                        <a:pt x="88" y="241"/>
                      </a:lnTo>
                      <a:lnTo>
                        <a:pt x="75" y="232"/>
                      </a:lnTo>
                      <a:lnTo>
                        <a:pt x="60" y="224"/>
                      </a:lnTo>
                      <a:lnTo>
                        <a:pt x="28" y="204"/>
                      </a:lnTo>
                      <a:lnTo>
                        <a:pt x="13" y="194"/>
                      </a:lnTo>
                      <a:lnTo>
                        <a:pt x="0" y="186"/>
                      </a:lnTo>
                      <a:lnTo>
                        <a:pt x="4" y="169"/>
                      </a:lnTo>
                      <a:lnTo>
                        <a:pt x="7" y="152"/>
                      </a:lnTo>
                      <a:lnTo>
                        <a:pt x="16" y="139"/>
                      </a:lnTo>
                      <a:lnTo>
                        <a:pt x="26" y="124"/>
                      </a:lnTo>
                      <a:lnTo>
                        <a:pt x="34" y="110"/>
                      </a:lnTo>
                      <a:lnTo>
                        <a:pt x="43" y="97"/>
                      </a:lnTo>
                      <a:lnTo>
                        <a:pt x="51" y="83"/>
                      </a:lnTo>
                      <a:lnTo>
                        <a:pt x="59" y="69"/>
                      </a:lnTo>
                      <a:lnTo>
                        <a:pt x="68" y="55"/>
                      </a:lnTo>
                      <a:lnTo>
                        <a:pt x="77" y="41"/>
                      </a:lnTo>
                      <a:lnTo>
                        <a:pt x="86" y="27"/>
                      </a:lnTo>
                      <a:lnTo>
                        <a:pt x="95" y="13"/>
                      </a:lnTo>
                      <a:lnTo>
                        <a:pt x="103" y="0"/>
                      </a:lnTo>
                      <a:lnTo>
                        <a:pt x="117" y="9"/>
                      </a:lnTo>
                      <a:lnTo>
                        <a:pt x="131" y="17"/>
                      </a:lnTo>
                      <a:lnTo>
                        <a:pt x="144" y="25"/>
                      </a:lnTo>
                      <a:lnTo>
                        <a:pt x="163" y="30"/>
                      </a:lnTo>
                      <a:lnTo>
                        <a:pt x="176" y="39"/>
                      </a:lnTo>
                      <a:lnTo>
                        <a:pt x="190" y="47"/>
                      </a:lnTo>
                      <a:lnTo>
                        <a:pt x="203" y="56"/>
                      </a:lnTo>
                      <a:lnTo>
                        <a:pt x="217" y="66"/>
                      </a:lnTo>
                      <a:lnTo>
                        <a:pt x="232" y="73"/>
                      </a:lnTo>
                      <a:lnTo>
                        <a:pt x="245" y="82"/>
                      </a:lnTo>
                      <a:lnTo>
                        <a:pt x="260" y="91"/>
                      </a:lnTo>
                      <a:lnTo>
                        <a:pt x="273" y="99"/>
                      </a:lnTo>
                      <a:lnTo>
                        <a:pt x="295" y="125"/>
                      </a:lnTo>
                      <a:lnTo>
                        <a:pt x="295" y="125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2" name="Oval 649"/>
                <p:cNvSpPr/>
                <p:nvPr/>
              </p:nvSpPr>
              <p:spPr>
                <a:xfrm rot="12720000">
                  <a:off x="2199960" y="3022560"/>
                  <a:ext cx="293400" cy="6804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53" name="Group 653"/>
              <p:cNvGrpSpPr/>
              <p:nvPr/>
            </p:nvGrpSpPr>
            <p:grpSpPr>
              <a:xfrm>
                <a:off x="608040" y="2016000"/>
                <a:ext cx="469440" cy="453600"/>
                <a:chOff x="608040" y="2016000"/>
                <a:chExt cx="469440" cy="453600"/>
              </a:xfrm>
            </p:grpSpPr>
            <p:sp>
              <p:nvSpPr>
                <p:cNvPr id="2554" name="Freeform 651"/>
                <p:cNvSpPr/>
                <p:nvPr/>
              </p:nvSpPr>
              <p:spPr>
                <a:xfrm>
                  <a:off x="608040" y="2016000"/>
                  <a:ext cx="469440" cy="453600"/>
                </a:xfrm>
                <a:custGeom>
                  <a:avLst/>
                  <a:gdLst>
                    <a:gd name="textAreaLeft" fmla="*/ 0 w 469440"/>
                    <a:gd name="textAreaRight" fmla="*/ 469800 w 469440"/>
                    <a:gd name="textAreaTop" fmla="*/ 0 h 453600"/>
                    <a:gd name="textAreaBottom" fmla="*/ 453960 h 453600"/>
                  </a:gdLst>
                  <a:ahLst/>
                  <a:rect l="textAreaLeft" t="textAreaTop" r="textAreaRight" b="textAreaBottom"/>
                  <a:pathLst>
                    <a:path w="296" h="286">
                      <a:moveTo>
                        <a:pt x="295" y="126"/>
                      </a:moveTo>
                      <a:lnTo>
                        <a:pt x="282" y="145"/>
                      </a:lnTo>
                      <a:lnTo>
                        <a:pt x="265" y="173"/>
                      </a:lnTo>
                      <a:lnTo>
                        <a:pt x="242" y="210"/>
                      </a:lnTo>
                      <a:lnTo>
                        <a:pt x="237" y="227"/>
                      </a:lnTo>
                      <a:lnTo>
                        <a:pt x="230" y="241"/>
                      </a:lnTo>
                      <a:lnTo>
                        <a:pt x="218" y="259"/>
                      </a:lnTo>
                      <a:lnTo>
                        <a:pt x="210" y="273"/>
                      </a:lnTo>
                      <a:lnTo>
                        <a:pt x="195" y="284"/>
                      </a:lnTo>
                      <a:lnTo>
                        <a:pt x="176" y="285"/>
                      </a:lnTo>
                      <a:lnTo>
                        <a:pt x="159" y="281"/>
                      </a:lnTo>
                      <a:lnTo>
                        <a:pt x="143" y="276"/>
                      </a:lnTo>
                      <a:lnTo>
                        <a:pt x="129" y="267"/>
                      </a:lnTo>
                      <a:lnTo>
                        <a:pt x="115" y="259"/>
                      </a:lnTo>
                      <a:lnTo>
                        <a:pt x="101" y="250"/>
                      </a:lnTo>
                      <a:lnTo>
                        <a:pt x="87" y="242"/>
                      </a:lnTo>
                      <a:lnTo>
                        <a:pt x="73" y="233"/>
                      </a:lnTo>
                      <a:lnTo>
                        <a:pt x="59" y="224"/>
                      </a:lnTo>
                      <a:lnTo>
                        <a:pt x="27" y="204"/>
                      </a:lnTo>
                      <a:lnTo>
                        <a:pt x="13" y="195"/>
                      </a:lnTo>
                      <a:lnTo>
                        <a:pt x="0" y="186"/>
                      </a:lnTo>
                      <a:lnTo>
                        <a:pt x="3" y="170"/>
                      </a:lnTo>
                      <a:lnTo>
                        <a:pt x="8" y="153"/>
                      </a:lnTo>
                      <a:lnTo>
                        <a:pt x="16" y="139"/>
                      </a:lnTo>
                      <a:lnTo>
                        <a:pt x="25" y="126"/>
                      </a:lnTo>
                      <a:lnTo>
                        <a:pt x="33" y="112"/>
                      </a:lnTo>
                      <a:lnTo>
                        <a:pt x="41" y="98"/>
                      </a:lnTo>
                      <a:lnTo>
                        <a:pt x="51" y="83"/>
                      </a:lnTo>
                      <a:lnTo>
                        <a:pt x="59" y="69"/>
                      </a:lnTo>
                      <a:lnTo>
                        <a:pt x="68" y="56"/>
                      </a:lnTo>
                      <a:lnTo>
                        <a:pt x="77" y="42"/>
                      </a:lnTo>
                      <a:lnTo>
                        <a:pt x="85" y="29"/>
                      </a:lnTo>
                      <a:lnTo>
                        <a:pt x="94" y="14"/>
                      </a:lnTo>
                      <a:lnTo>
                        <a:pt x="103" y="0"/>
                      </a:lnTo>
                      <a:lnTo>
                        <a:pt x="117" y="9"/>
                      </a:lnTo>
                      <a:lnTo>
                        <a:pt x="130" y="18"/>
                      </a:lnTo>
                      <a:lnTo>
                        <a:pt x="144" y="27"/>
                      </a:lnTo>
                      <a:lnTo>
                        <a:pt x="161" y="31"/>
                      </a:lnTo>
                      <a:lnTo>
                        <a:pt x="175" y="40"/>
                      </a:lnTo>
                      <a:lnTo>
                        <a:pt x="188" y="48"/>
                      </a:lnTo>
                      <a:lnTo>
                        <a:pt x="203" y="57"/>
                      </a:lnTo>
                      <a:lnTo>
                        <a:pt x="217" y="65"/>
                      </a:lnTo>
                      <a:lnTo>
                        <a:pt x="231" y="74"/>
                      </a:lnTo>
                      <a:lnTo>
                        <a:pt x="244" y="83"/>
                      </a:lnTo>
                      <a:lnTo>
                        <a:pt x="258" y="92"/>
                      </a:lnTo>
                      <a:lnTo>
                        <a:pt x="272" y="100"/>
                      </a:lnTo>
                      <a:lnTo>
                        <a:pt x="295" y="126"/>
                      </a:lnTo>
                      <a:lnTo>
                        <a:pt x="295" y="126"/>
                      </a:lnTo>
                    </a:path>
                  </a:pathLst>
                </a:custGeom>
                <a:solidFill>
                  <a:srgbClr val="cbcbcb"/>
                </a:solidFill>
                <a:ln cap="rnd"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5" name="Oval 652"/>
                <p:cNvSpPr/>
                <p:nvPr/>
              </p:nvSpPr>
              <p:spPr>
                <a:xfrm rot="12720000">
                  <a:off x="746280" y="2116440"/>
                  <a:ext cx="293400" cy="63000"/>
                </a:xfrm>
                <a:prstGeom prst="ellipse">
                  <a:avLst/>
                </a:prstGeom>
                <a:solidFill>
                  <a:schemeClr val="accent2"/>
                </a:solidFill>
                <a:ln w="127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556" name="Freeform 654"/>
              <p:cNvSpPr/>
              <p:nvPr/>
            </p:nvSpPr>
            <p:spPr>
              <a:xfrm>
                <a:off x="228600" y="2170080"/>
                <a:ext cx="277560" cy="51876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175" h="327">
                    <a:moveTo>
                      <a:pt x="92" y="326"/>
                    </a:moveTo>
                    <a:lnTo>
                      <a:pt x="75" y="308"/>
                    </a:lnTo>
                    <a:lnTo>
                      <a:pt x="64" y="295"/>
                    </a:lnTo>
                    <a:lnTo>
                      <a:pt x="52" y="283"/>
                    </a:lnTo>
                    <a:lnTo>
                      <a:pt x="38" y="264"/>
                    </a:lnTo>
                    <a:lnTo>
                      <a:pt x="29" y="247"/>
                    </a:lnTo>
                    <a:lnTo>
                      <a:pt x="20" y="230"/>
                    </a:lnTo>
                    <a:lnTo>
                      <a:pt x="11" y="213"/>
                    </a:lnTo>
                    <a:lnTo>
                      <a:pt x="9" y="196"/>
                    </a:lnTo>
                    <a:lnTo>
                      <a:pt x="4" y="176"/>
                    </a:lnTo>
                    <a:lnTo>
                      <a:pt x="1" y="158"/>
                    </a:lnTo>
                    <a:lnTo>
                      <a:pt x="5" y="143"/>
                    </a:lnTo>
                    <a:lnTo>
                      <a:pt x="2" y="125"/>
                    </a:lnTo>
                    <a:lnTo>
                      <a:pt x="0" y="108"/>
                    </a:lnTo>
                    <a:lnTo>
                      <a:pt x="3" y="93"/>
                    </a:lnTo>
                    <a:lnTo>
                      <a:pt x="8" y="77"/>
                    </a:lnTo>
                    <a:lnTo>
                      <a:pt x="9" y="63"/>
                    </a:lnTo>
                    <a:lnTo>
                      <a:pt x="16" y="51"/>
                    </a:lnTo>
                    <a:lnTo>
                      <a:pt x="25" y="39"/>
                    </a:lnTo>
                    <a:lnTo>
                      <a:pt x="33" y="27"/>
                    </a:lnTo>
                    <a:lnTo>
                      <a:pt x="39" y="15"/>
                    </a:lnTo>
                    <a:lnTo>
                      <a:pt x="47" y="3"/>
                    </a:lnTo>
                    <a:lnTo>
                      <a:pt x="68" y="0"/>
                    </a:lnTo>
                    <a:lnTo>
                      <a:pt x="82" y="9"/>
                    </a:lnTo>
                    <a:lnTo>
                      <a:pt x="96" y="17"/>
                    </a:lnTo>
                    <a:lnTo>
                      <a:pt x="109" y="26"/>
                    </a:lnTo>
                    <a:lnTo>
                      <a:pt x="123" y="34"/>
                    </a:lnTo>
                    <a:lnTo>
                      <a:pt x="137" y="42"/>
                    </a:lnTo>
                    <a:lnTo>
                      <a:pt x="151" y="52"/>
                    </a:lnTo>
                    <a:lnTo>
                      <a:pt x="166" y="60"/>
                    </a:lnTo>
                    <a:lnTo>
                      <a:pt x="174" y="76"/>
                    </a:lnTo>
                    <a:lnTo>
                      <a:pt x="172" y="92"/>
                    </a:lnTo>
                    <a:lnTo>
                      <a:pt x="168" y="107"/>
                    </a:lnTo>
                    <a:lnTo>
                      <a:pt x="169" y="124"/>
                    </a:lnTo>
                    <a:lnTo>
                      <a:pt x="167" y="139"/>
                    </a:lnTo>
                    <a:lnTo>
                      <a:pt x="168" y="156"/>
                    </a:lnTo>
                    <a:lnTo>
                      <a:pt x="171" y="174"/>
                    </a:lnTo>
                    <a:lnTo>
                      <a:pt x="173" y="192"/>
                    </a:lnTo>
                    <a:lnTo>
                      <a:pt x="170" y="207"/>
                    </a:lnTo>
                    <a:lnTo>
                      <a:pt x="167" y="222"/>
                    </a:lnTo>
                    <a:lnTo>
                      <a:pt x="164" y="237"/>
                    </a:lnTo>
                    <a:lnTo>
                      <a:pt x="157" y="249"/>
                    </a:lnTo>
                    <a:lnTo>
                      <a:pt x="149" y="261"/>
                    </a:lnTo>
                    <a:lnTo>
                      <a:pt x="142" y="272"/>
                    </a:lnTo>
                    <a:lnTo>
                      <a:pt x="135" y="284"/>
                    </a:lnTo>
                    <a:lnTo>
                      <a:pt x="127" y="296"/>
                    </a:lnTo>
                    <a:lnTo>
                      <a:pt x="119" y="310"/>
                    </a:lnTo>
                    <a:lnTo>
                      <a:pt x="92" y="326"/>
                    </a:lnTo>
                    <a:lnTo>
                      <a:pt x="92" y="326"/>
                    </a:lnTo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7" name="Freeform 655"/>
              <p:cNvSpPr/>
              <p:nvPr/>
            </p:nvSpPr>
            <p:spPr>
              <a:xfrm>
                <a:off x="274680" y="1952640"/>
                <a:ext cx="493200" cy="32832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311" h="207">
                    <a:moveTo>
                      <a:pt x="310" y="23"/>
                    </a:moveTo>
                    <a:lnTo>
                      <a:pt x="285" y="15"/>
                    </a:lnTo>
                    <a:lnTo>
                      <a:pt x="270" y="10"/>
                    </a:lnTo>
                    <a:lnTo>
                      <a:pt x="253" y="5"/>
                    </a:lnTo>
                    <a:lnTo>
                      <a:pt x="231" y="2"/>
                    </a:lnTo>
                    <a:lnTo>
                      <a:pt x="211" y="0"/>
                    </a:lnTo>
                    <a:lnTo>
                      <a:pt x="193" y="1"/>
                    </a:lnTo>
                    <a:lnTo>
                      <a:pt x="174" y="0"/>
                    </a:lnTo>
                    <a:lnTo>
                      <a:pt x="157" y="6"/>
                    </a:lnTo>
                    <a:lnTo>
                      <a:pt x="136" y="9"/>
                    </a:lnTo>
                    <a:lnTo>
                      <a:pt x="118" y="16"/>
                    </a:lnTo>
                    <a:lnTo>
                      <a:pt x="106" y="25"/>
                    </a:lnTo>
                    <a:lnTo>
                      <a:pt x="90" y="31"/>
                    </a:lnTo>
                    <a:lnTo>
                      <a:pt x="74" y="37"/>
                    </a:lnTo>
                    <a:lnTo>
                      <a:pt x="62" y="47"/>
                    </a:lnTo>
                    <a:lnTo>
                      <a:pt x="50" y="56"/>
                    </a:lnTo>
                    <a:lnTo>
                      <a:pt x="38" y="64"/>
                    </a:lnTo>
                    <a:lnTo>
                      <a:pt x="30" y="76"/>
                    </a:lnTo>
                    <a:lnTo>
                      <a:pt x="22" y="89"/>
                    </a:lnTo>
                    <a:lnTo>
                      <a:pt x="14" y="100"/>
                    </a:lnTo>
                    <a:lnTo>
                      <a:pt x="6" y="112"/>
                    </a:lnTo>
                    <a:lnTo>
                      <a:pt x="0" y="124"/>
                    </a:lnTo>
                    <a:lnTo>
                      <a:pt x="5" y="145"/>
                    </a:lnTo>
                    <a:lnTo>
                      <a:pt x="20" y="153"/>
                    </a:lnTo>
                    <a:lnTo>
                      <a:pt x="35" y="162"/>
                    </a:lnTo>
                    <a:lnTo>
                      <a:pt x="48" y="171"/>
                    </a:lnTo>
                    <a:lnTo>
                      <a:pt x="62" y="179"/>
                    </a:lnTo>
                    <a:lnTo>
                      <a:pt x="75" y="187"/>
                    </a:lnTo>
                    <a:lnTo>
                      <a:pt x="89" y="196"/>
                    </a:lnTo>
                    <a:lnTo>
                      <a:pt x="103" y="205"/>
                    </a:lnTo>
                    <a:lnTo>
                      <a:pt x="122" y="206"/>
                    </a:lnTo>
                    <a:lnTo>
                      <a:pt x="134" y="197"/>
                    </a:lnTo>
                    <a:lnTo>
                      <a:pt x="146" y="188"/>
                    </a:lnTo>
                    <a:lnTo>
                      <a:pt x="163" y="182"/>
                    </a:lnTo>
                    <a:lnTo>
                      <a:pt x="174" y="172"/>
                    </a:lnTo>
                    <a:lnTo>
                      <a:pt x="191" y="166"/>
                    </a:lnTo>
                    <a:lnTo>
                      <a:pt x="208" y="160"/>
                    </a:lnTo>
                    <a:lnTo>
                      <a:pt x="225" y="154"/>
                    </a:lnTo>
                    <a:lnTo>
                      <a:pt x="237" y="144"/>
                    </a:lnTo>
                    <a:lnTo>
                      <a:pt x="250" y="135"/>
                    </a:lnTo>
                    <a:lnTo>
                      <a:pt x="261" y="126"/>
                    </a:lnTo>
                    <a:lnTo>
                      <a:pt x="270" y="114"/>
                    </a:lnTo>
                    <a:lnTo>
                      <a:pt x="276" y="102"/>
                    </a:lnTo>
                    <a:lnTo>
                      <a:pt x="283" y="91"/>
                    </a:lnTo>
                    <a:lnTo>
                      <a:pt x="290" y="79"/>
                    </a:lnTo>
                    <a:lnTo>
                      <a:pt x="298" y="67"/>
                    </a:lnTo>
                    <a:lnTo>
                      <a:pt x="305" y="54"/>
                    </a:lnTo>
                    <a:lnTo>
                      <a:pt x="310" y="23"/>
                    </a:lnTo>
                    <a:lnTo>
                      <a:pt x="310" y="23"/>
                    </a:lnTo>
                  </a:path>
                </a:pathLst>
              </a:custGeom>
              <a:pattFill prst="openDmnd">
                <a:fgClr>
                  <a:srgbClr val="0066cc"/>
                </a:fgClr>
                <a:bgClr>
                  <a:srgbClr val="ffffff"/>
                </a:bgClr>
              </a:patt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8" name="Oval 656"/>
              <p:cNvSpPr/>
              <p:nvPr/>
            </p:nvSpPr>
            <p:spPr>
              <a:xfrm rot="12720000">
                <a:off x="314640" y="2313360"/>
                <a:ext cx="140760" cy="139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9" name="Oval 657"/>
              <p:cNvSpPr/>
              <p:nvPr/>
            </p:nvSpPr>
            <p:spPr>
              <a:xfrm rot="14760000">
                <a:off x="450720" y="2021040"/>
                <a:ext cx="99720" cy="142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0" name="Freeform 658"/>
              <p:cNvSpPr/>
              <p:nvPr/>
            </p:nvSpPr>
            <p:spPr>
              <a:xfrm>
                <a:off x="168120" y="1793880"/>
                <a:ext cx="1136160" cy="1242720"/>
              </a:xfrm>
              <a:custGeom>
                <a:avLst/>
                <a:gdLst>
                  <a:gd name="textAreaLeft" fmla="*/ 0 w 1136160"/>
                  <a:gd name="textAreaRight" fmla="*/ 1136520 w 1136160"/>
                  <a:gd name="textAreaTop" fmla="*/ 0 h 1242720"/>
                  <a:gd name="textAreaBottom" fmla="*/ 1243080 h 1242720"/>
                </a:gdLst>
                <a:ahLst/>
                <a:rect l="textAreaLeft" t="textAreaTop" r="textAreaRight" b="textAreaBottom"/>
                <a:pathLst>
                  <a:path w="716" h="783">
                    <a:moveTo>
                      <a:pt x="390" y="782"/>
                    </a:moveTo>
                    <a:lnTo>
                      <a:pt x="379" y="756"/>
                    </a:lnTo>
                    <a:lnTo>
                      <a:pt x="368" y="743"/>
                    </a:lnTo>
                    <a:lnTo>
                      <a:pt x="356" y="730"/>
                    </a:lnTo>
                    <a:lnTo>
                      <a:pt x="343" y="721"/>
                    </a:lnTo>
                    <a:lnTo>
                      <a:pt x="332" y="707"/>
                    </a:lnTo>
                    <a:lnTo>
                      <a:pt x="318" y="698"/>
                    </a:lnTo>
                    <a:lnTo>
                      <a:pt x="304" y="690"/>
                    </a:lnTo>
                    <a:lnTo>
                      <a:pt x="291" y="681"/>
                    </a:lnTo>
                    <a:lnTo>
                      <a:pt x="277" y="673"/>
                    </a:lnTo>
                    <a:lnTo>
                      <a:pt x="264" y="664"/>
                    </a:lnTo>
                    <a:lnTo>
                      <a:pt x="249" y="655"/>
                    </a:lnTo>
                    <a:lnTo>
                      <a:pt x="234" y="647"/>
                    </a:lnTo>
                    <a:lnTo>
                      <a:pt x="221" y="638"/>
                    </a:lnTo>
                    <a:lnTo>
                      <a:pt x="207" y="629"/>
                    </a:lnTo>
                    <a:lnTo>
                      <a:pt x="194" y="621"/>
                    </a:lnTo>
                    <a:lnTo>
                      <a:pt x="180" y="611"/>
                    </a:lnTo>
                    <a:lnTo>
                      <a:pt x="164" y="596"/>
                    </a:lnTo>
                    <a:lnTo>
                      <a:pt x="153" y="582"/>
                    </a:lnTo>
                    <a:lnTo>
                      <a:pt x="139" y="574"/>
                    </a:lnTo>
                    <a:lnTo>
                      <a:pt x="127" y="560"/>
                    </a:lnTo>
                    <a:lnTo>
                      <a:pt x="117" y="547"/>
                    </a:lnTo>
                    <a:lnTo>
                      <a:pt x="109" y="529"/>
                    </a:lnTo>
                    <a:lnTo>
                      <a:pt x="98" y="517"/>
                    </a:lnTo>
                    <a:lnTo>
                      <a:pt x="87" y="503"/>
                    </a:lnTo>
                    <a:lnTo>
                      <a:pt x="80" y="486"/>
                    </a:lnTo>
                    <a:lnTo>
                      <a:pt x="68" y="471"/>
                    </a:lnTo>
                    <a:lnTo>
                      <a:pt x="53" y="456"/>
                    </a:lnTo>
                    <a:lnTo>
                      <a:pt x="40" y="435"/>
                    </a:lnTo>
                    <a:lnTo>
                      <a:pt x="40" y="415"/>
                    </a:lnTo>
                    <a:lnTo>
                      <a:pt x="34" y="392"/>
                    </a:lnTo>
                    <a:lnTo>
                      <a:pt x="38" y="376"/>
                    </a:lnTo>
                    <a:lnTo>
                      <a:pt x="30" y="357"/>
                    </a:lnTo>
                    <a:lnTo>
                      <a:pt x="34" y="341"/>
                    </a:lnTo>
                    <a:lnTo>
                      <a:pt x="33" y="321"/>
                    </a:lnTo>
                    <a:lnTo>
                      <a:pt x="33" y="302"/>
                    </a:lnTo>
                    <a:lnTo>
                      <a:pt x="42" y="288"/>
                    </a:lnTo>
                    <a:lnTo>
                      <a:pt x="45" y="271"/>
                    </a:lnTo>
                    <a:lnTo>
                      <a:pt x="50" y="254"/>
                    </a:lnTo>
                    <a:lnTo>
                      <a:pt x="53" y="237"/>
                    </a:lnTo>
                    <a:lnTo>
                      <a:pt x="62" y="224"/>
                    </a:lnTo>
                    <a:lnTo>
                      <a:pt x="71" y="210"/>
                    </a:lnTo>
                    <a:lnTo>
                      <a:pt x="79" y="196"/>
                    </a:lnTo>
                    <a:lnTo>
                      <a:pt x="88" y="182"/>
                    </a:lnTo>
                    <a:lnTo>
                      <a:pt x="97" y="168"/>
                    </a:lnTo>
                    <a:lnTo>
                      <a:pt x="106" y="155"/>
                    </a:lnTo>
                    <a:lnTo>
                      <a:pt x="114" y="140"/>
                    </a:lnTo>
                    <a:lnTo>
                      <a:pt x="122" y="127"/>
                    </a:lnTo>
                    <a:lnTo>
                      <a:pt x="141" y="117"/>
                    </a:lnTo>
                    <a:lnTo>
                      <a:pt x="158" y="110"/>
                    </a:lnTo>
                    <a:lnTo>
                      <a:pt x="177" y="102"/>
                    </a:lnTo>
                    <a:lnTo>
                      <a:pt x="199" y="97"/>
                    </a:lnTo>
                    <a:lnTo>
                      <a:pt x="217" y="89"/>
                    </a:lnTo>
                    <a:lnTo>
                      <a:pt x="237" y="89"/>
                    </a:lnTo>
                    <a:lnTo>
                      <a:pt x="257" y="88"/>
                    </a:lnTo>
                    <a:lnTo>
                      <a:pt x="276" y="87"/>
                    </a:lnTo>
                    <a:lnTo>
                      <a:pt x="292" y="92"/>
                    </a:lnTo>
                    <a:lnTo>
                      <a:pt x="310" y="96"/>
                    </a:lnTo>
                    <a:lnTo>
                      <a:pt x="326" y="100"/>
                    </a:lnTo>
                    <a:lnTo>
                      <a:pt x="341" y="108"/>
                    </a:lnTo>
                    <a:lnTo>
                      <a:pt x="354" y="116"/>
                    </a:lnTo>
                    <a:lnTo>
                      <a:pt x="368" y="126"/>
                    </a:lnTo>
                    <a:lnTo>
                      <a:pt x="381" y="133"/>
                    </a:lnTo>
                    <a:lnTo>
                      <a:pt x="395" y="144"/>
                    </a:lnTo>
                    <a:lnTo>
                      <a:pt x="410" y="151"/>
                    </a:lnTo>
                    <a:lnTo>
                      <a:pt x="423" y="159"/>
                    </a:lnTo>
                    <a:lnTo>
                      <a:pt x="438" y="169"/>
                    </a:lnTo>
                    <a:lnTo>
                      <a:pt x="451" y="177"/>
                    </a:lnTo>
                    <a:lnTo>
                      <a:pt x="465" y="186"/>
                    </a:lnTo>
                    <a:lnTo>
                      <a:pt x="492" y="203"/>
                    </a:lnTo>
                    <a:lnTo>
                      <a:pt x="511" y="215"/>
                    </a:lnTo>
                    <a:lnTo>
                      <a:pt x="526" y="224"/>
                    </a:lnTo>
                    <a:lnTo>
                      <a:pt x="539" y="232"/>
                    </a:lnTo>
                    <a:lnTo>
                      <a:pt x="553" y="241"/>
                    </a:lnTo>
                    <a:lnTo>
                      <a:pt x="567" y="249"/>
                    </a:lnTo>
                    <a:lnTo>
                      <a:pt x="581" y="258"/>
                    </a:lnTo>
                    <a:lnTo>
                      <a:pt x="594" y="267"/>
                    </a:lnTo>
                    <a:lnTo>
                      <a:pt x="608" y="276"/>
                    </a:lnTo>
                    <a:lnTo>
                      <a:pt x="623" y="284"/>
                    </a:lnTo>
                    <a:lnTo>
                      <a:pt x="636" y="293"/>
                    </a:lnTo>
                    <a:lnTo>
                      <a:pt x="653" y="297"/>
                    </a:lnTo>
                    <a:lnTo>
                      <a:pt x="670" y="301"/>
                    </a:lnTo>
                    <a:lnTo>
                      <a:pt x="684" y="310"/>
                    </a:lnTo>
                    <a:lnTo>
                      <a:pt x="697" y="318"/>
                    </a:lnTo>
                    <a:lnTo>
                      <a:pt x="715" y="310"/>
                    </a:lnTo>
                    <a:lnTo>
                      <a:pt x="707" y="293"/>
                    </a:lnTo>
                    <a:lnTo>
                      <a:pt x="688" y="281"/>
                    </a:lnTo>
                    <a:lnTo>
                      <a:pt x="671" y="270"/>
                    </a:lnTo>
                    <a:lnTo>
                      <a:pt x="657" y="261"/>
                    </a:lnTo>
                    <a:lnTo>
                      <a:pt x="643" y="252"/>
                    </a:lnTo>
                    <a:lnTo>
                      <a:pt x="629" y="243"/>
                    </a:lnTo>
                    <a:lnTo>
                      <a:pt x="614" y="235"/>
                    </a:lnTo>
                    <a:lnTo>
                      <a:pt x="601" y="226"/>
                    </a:lnTo>
                    <a:lnTo>
                      <a:pt x="587" y="218"/>
                    </a:lnTo>
                    <a:lnTo>
                      <a:pt x="576" y="204"/>
                    </a:lnTo>
                    <a:lnTo>
                      <a:pt x="562" y="196"/>
                    </a:lnTo>
                    <a:lnTo>
                      <a:pt x="549" y="186"/>
                    </a:lnTo>
                    <a:lnTo>
                      <a:pt x="535" y="178"/>
                    </a:lnTo>
                    <a:lnTo>
                      <a:pt x="520" y="169"/>
                    </a:lnTo>
                    <a:lnTo>
                      <a:pt x="507" y="161"/>
                    </a:lnTo>
                    <a:lnTo>
                      <a:pt x="495" y="146"/>
                    </a:lnTo>
                    <a:lnTo>
                      <a:pt x="484" y="135"/>
                    </a:lnTo>
                    <a:lnTo>
                      <a:pt x="471" y="125"/>
                    </a:lnTo>
                    <a:lnTo>
                      <a:pt x="460" y="112"/>
                    </a:lnTo>
                    <a:lnTo>
                      <a:pt x="449" y="100"/>
                    </a:lnTo>
                    <a:lnTo>
                      <a:pt x="436" y="78"/>
                    </a:lnTo>
                    <a:lnTo>
                      <a:pt x="425" y="64"/>
                    </a:lnTo>
                    <a:lnTo>
                      <a:pt x="414" y="52"/>
                    </a:lnTo>
                    <a:lnTo>
                      <a:pt x="400" y="43"/>
                    </a:lnTo>
                    <a:lnTo>
                      <a:pt x="386" y="34"/>
                    </a:lnTo>
                    <a:lnTo>
                      <a:pt x="373" y="26"/>
                    </a:lnTo>
                    <a:lnTo>
                      <a:pt x="359" y="17"/>
                    </a:lnTo>
                    <a:lnTo>
                      <a:pt x="345" y="9"/>
                    </a:lnTo>
                    <a:lnTo>
                      <a:pt x="328" y="5"/>
                    </a:lnTo>
                    <a:lnTo>
                      <a:pt x="311" y="0"/>
                    </a:lnTo>
                    <a:lnTo>
                      <a:pt x="292" y="1"/>
                    </a:lnTo>
                    <a:lnTo>
                      <a:pt x="271" y="1"/>
                    </a:lnTo>
                    <a:lnTo>
                      <a:pt x="254" y="9"/>
                    </a:lnTo>
                    <a:lnTo>
                      <a:pt x="237" y="18"/>
                    </a:lnTo>
                    <a:lnTo>
                      <a:pt x="223" y="29"/>
                    </a:lnTo>
                    <a:lnTo>
                      <a:pt x="206" y="36"/>
                    </a:lnTo>
                    <a:lnTo>
                      <a:pt x="191" y="48"/>
                    </a:lnTo>
                    <a:lnTo>
                      <a:pt x="178" y="58"/>
                    </a:lnTo>
                    <a:lnTo>
                      <a:pt x="160" y="67"/>
                    </a:lnTo>
                    <a:lnTo>
                      <a:pt x="147" y="77"/>
                    </a:lnTo>
                    <a:lnTo>
                      <a:pt x="134" y="89"/>
                    </a:lnTo>
                    <a:lnTo>
                      <a:pt x="120" y="100"/>
                    </a:lnTo>
                    <a:lnTo>
                      <a:pt x="111" y="113"/>
                    </a:lnTo>
                    <a:lnTo>
                      <a:pt x="99" y="124"/>
                    </a:lnTo>
                    <a:lnTo>
                      <a:pt x="89" y="138"/>
                    </a:lnTo>
                    <a:lnTo>
                      <a:pt x="81" y="151"/>
                    </a:lnTo>
                    <a:lnTo>
                      <a:pt x="72" y="165"/>
                    </a:lnTo>
                    <a:lnTo>
                      <a:pt x="63" y="179"/>
                    </a:lnTo>
                    <a:lnTo>
                      <a:pt x="55" y="193"/>
                    </a:lnTo>
                    <a:lnTo>
                      <a:pt x="47" y="207"/>
                    </a:lnTo>
                    <a:lnTo>
                      <a:pt x="38" y="221"/>
                    </a:lnTo>
                    <a:lnTo>
                      <a:pt x="29" y="235"/>
                    </a:lnTo>
                    <a:lnTo>
                      <a:pt x="25" y="251"/>
                    </a:lnTo>
                    <a:lnTo>
                      <a:pt x="16" y="266"/>
                    </a:lnTo>
                    <a:lnTo>
                      <a:pt x="13" y="283"/>
                    </a:lnTo>
                    <a:lnTo>
                      <a:pt x="4" y="296"/>
                    </a:lnTo>
                    <a:lnTo>
                      <a:pt x="0" y="313"/>
                    </a:lnTo>
                    <a:lnTo>
                      <a:pt x="0" y="332"/>
                    </a:lnTo>
                    <a:lnTo>
                      <a:pt x="2" y="353"/>
                    </a:lnTo>
                    <a:lnTo>
                      <a:pt x="1" y="372"/>
                    </a:lnTo>
                    <a:lnTo>
                      <a:pt x="2" y="392"/>
                    </a:lnTo>
                    <a:lnTo>
                      <a:pt x="2" y="411"/>
                    </a:lnTo>
                    <a:lnTo>
                      <a:pt x="2" y="431"/>
                    </a:lnTo>
                    <a:lnTo>
                      <a:pt x="11" y="450"/>
                    </a:lnTo>
                    <a:lnTo>
                      <a:pt x="19" y="467"/>
                    </a:lnTo>
                    <a:lnTo>
                      <a:pt x="27" y="485"/>
                    </a:lnTo>
                    <a:lnTo>
                      <a:pt x="35" y="502"/>
                    </a:lnTo>
                    <a:lnTo>
                      <a:pt x="44" y="521"/>
                    </a:lnTo>
                    <a:lnTo>
                      <a:pt x="52" y="538"/>
                    </a:lnTo>
                    <a:lnTo>
                      <a:pt x="63" y="552"/>
                    </a:lnTo>
                    <a:lnTo>
                      <a:pt x="73" y="565"/>
                    </a:lnTo>
                    <a:lnTo>
                      <a:pt x="89" y="574"/>
                    </a:lnTo>
                    <a:lnTo>
                      <a:pt x="102" y="583"/>
                    </a:lnTo>
                    <a:lnTo>
                      <a:pt x="112" y="595"/>
                    </a:lnTo>
                    <a:lnTo>
                      <a:pt x="131" y="607"/>
                    </a:lnTo>
                    <a:lnTo>
                      <a:pt x="149" y="619"/>
                    </a:lnTo>
                    <a:lnTo>
                      <a:pt x="164" y="628"/>
                    </a:lnTo>
                    <a:lnTo>
                      <a:pt x="177" y="637"/>
                    </a:lnTo>
                    <a:lnTo>
                      <a:pt x="192" y="645"/>
                    </a:lnTo>
                    <a:lnTo>
                      <a:pt x="205" y="653"/>
                    </a:lnTo>
                    <a:lnTo>
                      <a:pt x="216" y="666"/>
                    </a:lnTo>
                    <a:lnTo>
                      <a:pt x="230" y="676"/>
                    </a:lnTo>
                    <a:lnTo>
                      <a:pt x="244" y="685"/>
                    </a:lnTo>
                    <a:lnTo>
                      <a:pt x="257" y="693"/>
                    </a:lnTo>
                    <a:lnTo>
                      <a:pt x="271" y="702"/>
                    </a:lnTo>
                    <a:lnTo>
                      <a:pt x="282" y="715"/>
                    </a:lnTo>
                    <a:lnTo>
                      <a:pt x="296" y="724"/>
                    </a:lnTo>
                    <a:lnTo>
                      <a:pt x="310" y="733"/>
                    </a:lnTo>
                    <a:lnTo>
                      <a:pt x="321" y="746"/>
                    </a:lnTo>
                    <a:lnTo>
                      <a:pt x="335" y="754"/>
                    </a:lnTo>
                    <a:lnTo>
                      <a:pt x="348" y="763"/>
                    </a:lnTo>
                    <a:lnTo>
                      <a:pt x="363" y="771"/>
                    </a:lnTo>
                    <a:lnTo>
                      <a:pt x="390" y="782"/>
                    </a:lnTo>
                    <a:lnTo>
                      <a:pt x="390" y="782"/>
                    </a:lnTo>
                  </a:path>
                </a:pathLst>
              </a:custGeom>
              <a:solidFill>
                <a:schemeClr val="accent1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1" name="Oval 659"/>
              <p:cNvSpPr/>
              <p:nvPr/>
            </p:nvSpPr>
            <p:spPr>
              <a:xfrm rot="12120000">
                <a:off x="544680" y="1855800"/>
                <a:ext cx="25668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2" name="Freeform 660"/>
              <p:cNvSpPr/>
              <p:nvPr/>
            </p:nvSpPr>
            <p:spPr>
              <a:xfrm>
                <a:off x="115920" y="1744560"/>
                <a:ext cx="2468160" cy="2087280"/>
              </a:xfrm>
              <a:custGeom>
                <a:avLst/>
                <a:gdLst>
                  <a:gd name="textAreaLeft" fmla="*/ 0 w 2468160"/>
                  <a:gd name="textAreaRight" fmla="*/ 2468520 w 2468160"/>
                  <a:gd name="textAreaTop" fmla="*/ 0 h 2087280"/>
                  <a:gd name="textAreaBottom" fmla="*/ 2087640 h 2087280"/>
                </a:gdLst>
                <a:ahLst/>
                <a:rect l="textAreaLeft" t="textAreaTop" r="textAreaRight" b="textAreaBottom"/>
                <a:pathLst>
                  <a:path w="1555" h="1315">
                    <a:moveTo>
                      <a:pt x="1270" y="1314"/>
                    </a:moveTo>
                    <a:lnTo>
                      <a:pt x="1244" y="1301"/>
                    </a:lnTo>
                    <a:lnTo>
                      <a:pt x="1229" y="1291"/>
                    </a:lnTo>
                    <a:lnTo>
                      <a:pt x="1192" y="1270"/>
                    </a:lnTo>
                    <a:lnTo>
                      <a:pt x="1178" y="1261"/>
                    </a:lnTo>
                    <a:lnTo>
                      <a:pt x="1165" y="1252"/>
                    </a:lnTo>
                    <a:lnTo>
                      <a:pt x="1151" y="1243"/>
                    </a:lnTo>
                    <a:lnTo>
                      <a:pt x="1137" y="1234"/>
                    </a:lnTo>
                    <a:lnTo>
                      <a:pt x="1109" y="1217"/>
                    </a:lnTo>
                    <a:lnTo>
                      <a:pt x="1081" y="1201"/>
                    </a:lnTo>
                    <a:lnTo>
                      <a:pt x="1068" y="1191"/>
                    </a:lnTo>
                    <a:lnTo>
                      <a:pt x="1054" y="1182"/>
                    </a:lnTo>
                    <a:lnTo>
                      <a:pt x="1040" y="1173"/>
                    </a:lnTo>
                    <a:lnTo>
                      <a:pt x="1021" y="1163"/>
                    </a:lnTo>
                    <a:lnTo>
                      <a:pt x="1008" y="1153"/>
                    </a:lnTo>
                    <a:lnTo>
                      <a:pt x="988" y="1141"/>
                    </a:lnTo>
                    <a:lnTo>
                      <a:pt x="972" y="1137"/>
                    </a:lnTo>
                    <a:lnTo>
                      <a:pt x="958" y="1129"/>
                    </a:lnTo>
                    <a:lnTo>
                      <a:pt x="937" y="1123"/>
                    </a:lnTo>
                    <a:lnTo>
                      <a:pt x="923" y="1113"/>
                    </a:lnTo>
                    <a:lnTo>
                      <a:pt x="905" y="1102"/>
                    </a:lnTo>
                    <a:lnTo>
                      <a:pt x="885" y="1091"/>
                    </a:lnTo>
                    <a:lnTo>
                      <a:pt x="867" y="1079"/>
                    </a:lnTo>
                    <a:lnTo>
                      <a:pt x="849" y="1068"/>
                    </a:lnTo>
                    <a:lnTo>
                      <a:pt x="831" y="1056"/>
                    </a:lnTo>
                    <a:lnTo>
                      <a:pt x="812" y="1043"/>
                    </a:lnTo>
                    <a:lnTo>
                      <a:pt x="793" y="1032"/>
                    </a:lnTo>
                    <a:lnTo>
                      <a:pt x="775" y="1022"/>
                    </a:lnTo>
                    <a:lnTo>
                      <a:pt x="755" y="1009"/>
                    </a:lnTo>
                    <a:lnTo>
                      <a:pt x="719" y="986"/>
                    </a:lnTo>
                    <a:lnTo>
                      <a:pt x="705" y="978"/>
                    </a:lnTo>
                    <a:lnTo>
                      <a:pt x="691" y="969"/>
                    </a:lnTo>
                    <a:lnTo>
                      <a:pt x="678" y="961"/>
                    </a:lnTo>
                    <a:lnTo>
                      <a:pt x="635" y="927"/>
                    </a:lnTo>
                    <a:lnTo>
                      <a:pt x="620" y="919"/>
                    </a:lnTo>
                    <a:lnTo>
                      <a:pt x="602" y="906"/>
                    </a:lnTo>
                    <a:lnTo>
                      <a:pt x="588" y="897"/>
                    </a:lnTo>
                    <a:lnTo>
                      <a:pt x="573" y="889"/>
                    </a:lnTo>
                    <a:lnTo>
                      <a:pt x="555" y="878"/>
                    </a:lnTo>
                    <a:lnTo>
                      <a:pt x="542" y="869"/>
                    </a:lnTo>
                    <a:lnTo>
                      <a:pt x="505" y="845"/>
                    </a:lnTo>
                    <a:lnTo>
                      <a:pt x="476" y="829"/>
                    </a:lnTo>
                    <a:lnTo>
                      <a:pt x="458" y="817"/>
                    </a:lnTo>
                    <a:lnTo>
                      <a:pt x="441" y="813"/>
                    </a:lnTo>
                    <a:lnTo>
                      <a:pt x="414" y="815"/>
                    </a:lnTo>
                    <a:lnTo>
                      <a:pt x="395" y="815"/>
                    </a:lnTo>
                    <a:lnTo>
                      <a:pt x="378" y="811"/>
                    </a:lnTo>
                    <a:lnTo>
                      <a:pt x="357" y="805"/>
                    </a:lnTo>
                    <a:lnTo>
                      <a:pt x="338" y="792"/>
                    </a:lnTo>
                    <a:lnTo>
                      <a:pt x="324" y="784"/>
                    </a:lnTo>
                    <a:lnTo>
                      <a:pt x="311" y="775"/>
                    </a:lnTo>
                    <a:lnTo>
                      <a:pt x="297" y="767"/>
                    </a:lnTo>
                    <a:lnTo>
                      <a:pt x="278" y="756"/>
                    </a:lnTo>
                    <a:lnTo>
                      <a:pt x="264" y="747"/>
                    </a:lnTo>
                    <a:lnTo>
                      <a:pt x="245" y="735"/>
                    </a:lnTo>
                    <a:lnTo>
                      <a:pt x="218" y="717"/>
                    </a:lnTo>
                    <a:lnTo>
                      <a:pt x="183" y="689"/>
                    </a:lnTo>
                    <a:lnTo>
                      <a:pt x="169" y="681"/>
                    </a:lnTo>
                    <a:lnTo>
                      <a:pt x="155" y="673"/>
                    </a:lnTo>
                    <a:lnTo>
                      <a:pt x="142" y="664"/>
                    </a:lnTo>
                    <a:lnTo>
                      <a:pt x="126" y="647"/>
                    </a:lnTo>
                    <a:lnTo>
                      <a:pt x="107" y="636"/>
                    </a:lnTo>
                    <a:lnTo>
                      <a:pt x="92" y="620"/>
                    </a:lnTo>
                    <a:lnTo>
                      <a:pt x="80" y="607"/>
                    </a:lnTo>
                    <a:lnTo>
                      <a:pt x="70" y="594"/>
                    </a:lnTo>
                    <a:lnTo>
                      <a:pt x="61" y="575"/>
                    </a:lnTo>
                    <a:lnTo>
                      <a:pt x="53" y="558"/>
                    </a:lnTo>
                    <a:lnTo>
                      <a:pt x="43" y="544"/>
                    </a:lnTo>
                    <a:lnTo>
                      <a:pt x="35" y="526"/>
                    </a:lnTo>
                    <a:lnTo>
                      <a:pt x="35" y="506"/>
                    </a:lnTo>
                    <a:lnTo>
                      <a:pt x="23" y="493"/>
                    </a:lnTo>
                    <a:lnTo>
                      <a:pt x="22" y="474"/>
                    </a:lnTo>
                    <a:lnTo>
                      <a:pt x="16" y="456"/>
                    </a:lnTo>
                    <a:lnTo>
                      <a:pt x="14" y="436"/>
                    </a:lnTo>
                    <a:lnTo>
                      <a:pt x="6" y="418"/>
                    </a:lnTo>
                    <a:lnTo>
                      <a:pt x="0" y="396"/>
                    </a:lnTo>
                    <a:lnTo>
                      <a:pt x="5" y="379"/>
                    </a:lnTo>
                    <a:lnTo>
                      <a:pt x="4" y="359"/>
                    </a:lnTo>
                    <a:lnTo>
                      <a:pt x="13" y="345"/>
                    </a:lnTo>
                    <a:lnTo>
                      <a:pt x="17" y="329"/>
                    </a:lnTo>
                    <a:lnTo>
                      <a:pt x="21" y="312"/>
                    </a:lnTo>
                    <a:lnTo>
                      <a:pt x="21" y="293"/>
                    </a:lnTo>
                    <a:lnTo>
                      <a:pt x="29" y="278"/>
                    </a:lnTo>
                    <a:lnTo>
                      <a:pt x="33" y="261"/>
                    </a:lnTo>
                    <a:lnTo>
                      <a:pt x="41" y="247"/>
                    </a:lnTo>
                    <a:lnTo>
                      <a:pt x="51" y="234"/>
                    </a:lnTo>
                    <a:lnTo>
                      <a:pt x="59" y="220"/>
                    </a:lnTo>
                    <a:lnTo>
                      <a:pt x="68" y="207"/>
                    </a:lnTo>
                    <a:lnTo>
                      <a:pt x="77" y="192"/>
                    </a:lnTo>
                    <a:lnTo>
                      <a:pt x="85" y="177"/>
                    </a:lnTo>
                    <a:lnTo>
                      <a:pt x="94" y="164"/>
                    </a:lnTo>
                    <a:lnTo>
                      <a:pt x="102" y="150"/>
                    </a:lnTo>
                    <a:lnTo>
                      <a:pt x="110" y="137"/>
                    </a:lnTo>
                    <a:lnTo>
                      <a:pt x="125" y="125"/>
                    </a:lnTo>
                    <a:lnTo>
                      <a:pt x="142" y="117"/>
                    </a:lnTo>
                    <a:lnTo>
                      <a:pt x="156" y="106"/>
                    </a:lnTo>
                    <a:lnTo>
                      <a:pt x="169" y="96"/>
                    </a:lnTo>
                    <a:lnTo>
                      <a:pt x="181" y="84"/>
                    </a:lnTo>
                    <a:lnTo>
                      <a:pt x="195" y="74"/>
                    </a:lnTo>
                    <a:lnTo>
                      <a:pt x="209" y="61"/>
                    </a:lnTo>
                    <a:lnTo>
                      <a:pt x="222" y="51"/>
                    </a:lnTo>
                    <a:lnTo>
                      <a:pt x="235" y="40"/>
                    </a:lnTo>
                    <a:lnTo>
                      <a:pt x="248" y="29"/>
                    </a:lnTo>
                    <a:lnTo>
                      <a:pt x="266" y="21"/>
                    </a:lnTo>
                    <a:lnTo>
                      <a:pt x="285" y="13"/>
                    </a:lnTo>
                    <a:lnTo>
                      <a:pt x="302" y="5"/>
                    </a:lnTo>
                    <a:lnTo>
                      <a:pt x="324" y="0"/>
                    </a:lnTo>
                    <a:lnTo>
                      <a:pt x="342" y="5"/>
                    </a:lnTo>
                    <a:lnTo>
                      <a:pt x="359" y="9"/>
                    </a:lnTo>
                    <a:lnTo>
                      <a:pt x="375" y="13"/>
                    </a:lnTo>
                    <a:lnTo>
                      <a:pt x="389" y="21"/>
                    </a:lnTo>
                    <a:lnTo>
                      <a:pt x="402" y="30"/>
                    </a:lnTo>
                    <a:lnTo>
                      <a:pt x="418" y="39"/>
                    </a:lnTo>
                    <a:lnTo>
                      <a:pt x="431" y="46"/>
                    </a:lnTo>
                    <a:lnTo>
                      <a:pt x="445" y="56"/>
                    </a:lnTo>
                    <a:lnTo>
                      <a:pt x="459" y="64"/>
                    </a:lnTo>
                    <a:lnTo>
                      <a:pt x="470" y="78"/>
                    </a:lnTo>
                    <a:lnTo>
                      <a:pt x="477" y="95"/>
                    </a:lnTo>
                    <a:lnTo>
                      <a:pt x="489" y="109"/>
                    </a:lnTo>
                    <a:lnTo>
                      <a:pt x="500" y="122"/>
                    </a:lnTo>
                    <a:lnTo>
                      <a:pt x="518" y="133"/>
                    </a:lnTo>
                    <a:lnTo>
                      <a:pt x="530" y="146"/>
                    </a:lnTo>
                    <a:lnTo>
                      <a:pt x="540" y="161"/>
                    </a:lnTo>
                    <a:lnTo>
                      <a:pt x="555" y="169"/>
                    </a:lnTo>
                    <a:lnTo>
                      <a:pt x="568" y="178"/>
                    </a:lnTo>
                    <a:lnTo>
                      <a:pt x="582" y="186"/>
                    </a:lnTo>
                    <a:lnTo>
                      <a:pt x="596" y="194"/>
                    </a:lnTo>
                    <a:lnTo>
                      <a:pt x="609" y="204"/>
                    </a:lnTo>
                    <a:lnTo>
                      <a:pt x="623" y="212"/>
                    </a:lnTo>
                    <a:lnTo>
                      <a:pt x="638" y="221"/>
                    </a:lnTo>
                    <a:lnTo>
                      <a:pt x="649" y="234"/>
                    </a:lnTo>
                    <a:lnTo>
                      <a:pt x="662" y="242"/>
                    </a:lnTo>
                    <a:lnTo>
                      <a:pt x="673" y="255"/>
                    </a:lnTo>
                    <a:lnTo>
                      <a:pt x="689" y="272"/>
                    </a:lnTo>
                    <a:lnTo>
                      <a:pt x="700" y="286"/>
                    </a:lnTo>
                    <a:lnTo>
                      <a:pt x="718" y="297"/>
                    </a:lnTo>
                    <a:lnTo>
                      <a:pt x="729" y="311"/>
                    </a:lnTo>
                    <a:lnTo>
                      <a:pt x="743" y="320"/>
                    </a:lnTo>
                    <a:lnTo>
                      <a:pt x="757" y="329"/>
                    </a:lnTo>
                    <a:lnTo>
                      <a:pt x="772" y="337"/>
                    </a:lnTo>
                    <a:lnTo>
                      <a:pt x="802" y="368"/>
                    </a:lnTo>
                    <a:lnTo>
                      <a:pt x="813" y="382"/>
                    </a:lnTo>
                    <a:lnTo>
                      <a:pt x="824" y="396"/>
                    </a:lnTo>
                    <a:lnTo>
                      <a:pt x="838" y="405"/>
                    </a:lnTo>
                    <a:lnTo>
                      <a:pt x="852" y="413"/>
                    </a:lnTo>
                    <a:lnTo>
                      <a:pt x="866" y="422"/>
                    </a:lnTo>
                    <a:lnTo>
                      <a:pt x="880" y="430"/>
                    </a:lnTo>
                    <a:lnTo>
                      <a:pt x="893" y="440"/>
                    </a:lnTo>
                    <a:lnTo>
                      <a:pt x="908" y="447"/>
                    </a:lnTo>
                    <a:lnTo>
                      <a:pt x="927" y="460"/>
                    </a:lnTo>
                    <a:lnTo>
                      <a:pt x="940" y="468"/>
                    </a:lnTo>
                    <a:lnTo>
                      <a:pt x="959" y="480"/>
                    </a:lnTo>
                    <a:lnTo>
                      <a:pt x="972" y="489"/>
                    </a:lnTo>
                    <a:lnTo>
                      <a:pt x="992" y="500"/>
                    </a:lnTo>
                    <a:lnTo>
                      <a:pt x="1005" y="508"/>
                    </a:lnTo>
                    <a:lnTo>
                      <a:pt x="1022" y="513"/>
                    </a:lnTo>
                    <a:lnTo>
                      <a:pt x="1036" y="521"/>
                    </a:lnTo>
                    <a:lnTo>
                      <a:pt x="1077" y="547"/>
                    </a:lnTo>
                    <a:lnTo>
                      <a:pt x="1115" y="571"/>
                    </a:lnTo>
                    <a:lnTo>
                      <a:pt x="1128" y="579"/>
                    </a:lnTo>
                    <a:lnTo>
                      <a:pt x="1165" y="602"/>
                    </a:lnTo>
                    <a:lnTo>
                      <a:pt x="1179" y="611"/>
                    </a:lnTo>
                    <a:lnTo>
                      <a:pt x="1193" y="620"/>
                    </a:lnTo>
                    <a:lnTo>
                      <a:pt x="1207" y="628"/>
                    </a:lnTo>
                    <a:lnTo>
                      <a:pt x="1225" y="640"/>
                    </a:lnTo>
                    <a:lnTo>
                      <a:pt x="1239" y="649"/>
                    </a:lnTo>
                    <a:lnTo>
                      <a:pt x="1258" y="660"/>
                    </a:lnTo>
                    <a:lnTo>
                      <a:pt x="1272" y="669"/>
                    </a:lnTo>
                    <a:lnTo>
                      <a:pt x="1285" y="678"/>
                    </a:lnTo>
                    <a:lnTo>
                      <a:pt x="1305" y="690"/>
                    </a:lnTo>
                    <a:lnTo>
                      <a:pt x="1318" y="697"/>
                    </a:lnTo>
                    <a:lnTo>
                      <a:pt x="1332" y="706"/>
                    </a:lnTo>
                    <a:lnTo>
                      <a:pt x="1364" y="727"/>
                    </a:lnTo>
                    <a:lnTo>
                      <a:pt x="1382" y="738"/>
                    </a:lnTo>
                    <a:lnTo>
                      <a:pt x="1416" y="758"/>
                    </a:lnTo>
                    <a:lnTo>
                      <a:pt x="1429" y="767"/>
                    </a:lnTo>
                    <a:lnTo>
                      <a:pt x="1443" y="775"/>
                    </a:lnTo>
                    <a:lnTo>
                      <a:pt x="1457" y="785"/>
                    </a:lnTo>
                    <a:lnTo>
                      <a:pt x="1470" y="793"/>
                    </a:lnTo>
                    <a:lnTo>
                      <a:pt x="1485" y="802"/>
                    </a:lnTo>
                    <a:lnTo>
                      <a:pt x="1498" y="811"/>
                    </a:lnTo>
                    <a:lnTo>
                      <a:pt x="1513" y="819"/>
                    </a:lnTo>
                    <a:lnTo>
                      <a:pt x="1526" y="828"/>
                    </a:lnTo>
                    <a:lnTo>
                      <a:pt x="1540" y="836"/>
                    </a:lnTo>
                    <a:lnTo>
                      <a:pt x="1554" y="845"/>
                    </a:lnTo>
                    <a:lnTo>
                      <a:pt x="1542" y="835"/>
                    </a:lnTo>
                  </a:path>
                </a:pathLst>
              </a:custGeom>
              <a:noFill/>
              <a:ln cap="rnd" w="10160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63" name="Line 662"/>
            <p:cNvSpPr/>
            <p:nvPr/>
          </p:nvSpPr>
          <p:spPr>
            <a:xfrm flipV="1">
              <a:off x="990360" y="4038480"/>
              <a:ext cx="1295640" cy="914400"/>
            </a:xfrm>
            <a:prstGeom prst="line">
              <a:avLst/>
            </a:prstGeom>
            <a:ln w="1270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4" name="Rectangle 663"/>
            <p:cNvSpPr/>
            <p:nvPr/>
          </p:nvSpPr>
          <p:spPr>
            <a:xfrm>
              <a:off x="1295280" y="1143000"/>
              <a:ext cx="2437920" cy="975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ru-RU" sz="2400" spc="-1" strike="noStrike" u="sng">
                  <a:solidFill>
                    <a:srgbClr val="ff0000"/>
                  </a:solidFill>
                  <a:uFillTx/>
                  <a:latin typeface="Calibri"/>
                </a:rPr>
                <a:t>A FEW MIX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alibri"/>
                </a:rPr>
                <a:t>un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Arc 664"/>
            <p:cNvSpPr/>
            <p:nvPr/>
          </p:nvSpPr>
          <p:spPr>
            <a:xfrm>
              <a:off x="1905120" y="2209680"/>
              <a:ext cx="456840" cy="30456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cap="rnd" w="127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6" name="Rectangle 665"/>
            <p:cNvSpPr/>
            <p:nvPr/>
          </p:nvSpPr>
          <p:spPr>
            <a:xfrm>
              <a:off x="0" y="3733920"/>
              <a:ext cx="1904760" cy="701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chemeClr val="hlink"/>
                  </a:solidFill>
                  <a:latin typeface="Calibri"/>
                </a:rPr>
                <a:t>SEROUS </a:t>
              </a:r>
              <a:r>
                <a:rPr b="1" lang="ru-RU" sz="2000" spc="-1" strike="noStrike">
                  <a:solidFill>
                    <a:srgbClr val="558ed5"/>
                  </a:solidFill>
                  <a:latin typeface="Calibri"/>
                </a:rPr>
                <a:t>demilu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Line 666"/>
            <p:cNvSpPr/>
            <p:nvPr/>
          </p:nvSpPr>
          <p:spPr>
            <a:xfrm flipV="1">
              <a:off x="380880" y="2590560"/>
              <a:ext cx="360" cy="1067040"/>
            </a:xfrm>
            <a:prstGeom prst="line">
              <a:avLst/>
            </a:prstGeom>
            <a:ln w="25400">
              <a:solidFill>
                <a:srgbClr val="4bacc6">
                  <a:lumMod val="75000"/>
                </a:srgbClr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Rectangle 2"/>
          <p:cNvSpPr/>
          <p:nvPr/>
        </p:nvSpPr>
        <p:spPr>
          <a:xfrm>
            <a:off x="2362320" y="0"/>
            <a:ext cx="6400440" cy="579240"/>
          </a:xfrm>
          <a:prstGeom prst="rect">
            <a:avLst/>
          </a:prstGeom>
          <a:solidFill>
            <a:srgbClr val="fff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SUBLINGUAL  GLAND</a:t>
            </a:r>
            <a:r>
              <a:rPr b="1" lang="en-US" sz="3200" spc="-1" strike="noStrike">
                <a:solidFill>
                  <a:schemeClr val="accent2"/>
                </a:solidFill>
                <a:latin typeface="Calibri"/>
              </a:rPr>
              <a:t> (muco-sero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Freeform 3"/>
          <p:cNvSpPr/>
          <p:nvPr/>
        </p:nvSpPr>
        <p:spPr>
          <a:xfrm>
            <a:off x="4313160" y="1017720"/>
            <a:ext cx="3557160" cy="5376600"/>
          </a:xfrm>
          <a:custGeom>
            <a:avLst/>
            <a:gdLst>
              <a:gd name="textAreaLeft" fmla="*/ 0 w 3557160"/>
              <a:gd name="textAreaRight" fmla="*/ 3557520 w 3557160"/>
              <a:gd name="textAreaTop" fmla="*/ 0 h 5376600"/>
              <a:gd name="textAreaBottom" fmla="*/ 5376960 h 5376600"/>
            </a:gdLst>
            <a:ahLst/>
            <a:rect l="textAreaLeft" t="textAreaTop" r="textAreaRight" b="textAreaBottom"/>
            <a:pathLst>
              <a:path w="2241" h="3387">
                <a:moveTo>
                  <a:pt x="0" y="14"/>
                </a:moveTo>
                <a:lnTo>
                  <a:pt x="39" y="0"/>
                </a:lnTo>
                <a:lnTo>
                  <a:pt x="98" y="0"/>
                </a:lnTo>
                <a:lnTo>
                  <a:pt x="137" y="0"/>
                </a:lnTo>
                <a:lnTo>
                  <a:pt x="196" y="9"/>
                </a:lnTo>
                <a:lnTo>
                  <a:pt x="255" y="9"/>
                </a:lnTo>
                <a:lnTo>
                  <a:pt x="334" y="39"/>
                </a:lnTo>
                <a:lnTo>
                  <a:pt x="373" y="68"/>
                </a:lnTo>
                <a:lnTo>
                  <a:pt x="402" y="88"/>
                </a:lnTo>
                <a:lnTo>
                  <a:pt x="432" y="117"/>
                </a:lnTo>
                <a:lnTo>
                  <a:pt x="471" y="157"/>
                </a:lnTo>
                <a:lnTo>
                  <a:pt x="510" y="186"/>
                </a:lnTo>
                <a:lnTo>
                  <a:pt x="550" y="226"/>
                </a:lnTo>
                <a:lnTo>
                  <a:pt x="589" y="245"/>
                </a:lnTo>
                <a:lnTo>
                  <a:pt x="668" y="285"/>
                </a:lnTo>
                <a:lnTo>
                  <a:pt x="726" y="294"/>
                </a:lnTo>
                <a:lnTo>
                  <a:pt x="766" y="324"/>
                </a:lnTo>
                <a:lnTo>
                  <a:pt x="795" y="344"/>
                </a:lnTo>
                <a:lnTo>
                  <a:pt x="864" y="363"/>
                </a:lnTo>
                <a:lnTo>
                  <a:pt x="942" y="393"/>
                </a:lnTo>
                <a:lnTo>
                  <a:pt x="1002" y="393"/>
                </a:lnTo>
                <a:lnTo>
                  <a:pt x="1080" y="402"/>
                </a:lnTo>
                <a:lnTo>
                  <a:pt x="1120" y="412"/>
                </a:lnTo>
                <a:lnTo>
                  <a:pt x="1178" y="422"/>
                </a:lnTo>
                <a:lnTo>
                  <a:pt x="1237" y="432"/>
                </a:lnTo>
                <a:lnTo>
                  <a:pt x="1296" y="442"/>
                </a:lnTo>
                <a:lnTo>
                  <a:pt x="1326" y="461"/>
                </a:lnTo>
                <a:lnTo>
                  <a:pt x="1365" y="471"/>
                </a:lnTo>
                <a:lnTo>
                  <a:pt x="1424" y="481"/>
                </a:lnTo>
                <a:lnTo>
                  <a:pt x="1463" y="511"/>
                </a:lnTo>
                <a:lnTo>
                  <a:pt x="1492" y="540"/>
                </a:lnTo>
                <a:lnTo>
                  <a:pt x="1522" y="579"/>
                </a:lnTo>
                <a:lnTo>
                  <a:pt x="1552" y="619"/>
                </a:lnTo>
                <a:lnTo>
                  <a:pt x="1581" y="658"/>
                </a:lnTo>
                <a:lnTo>
                  <a:pt x="1590" y="688"/>
                </a:lnTo>
                <a:lnTo>
                  <a:pt x="1620" y="727"/>
                </a:lnTo>
                <a:lnTo>
                  <a:pt x="1640" y="766"/>
                </a:lnTo>
                <a:lnTo>
                  <a:pt x="1670" y="796"/>
                </a:lnTo>
                <a:lnTo>
                  <a:pt x="1689" y="825"/>
                </a:lnTo>
                <a:lnTo>
                  <a:pt x="1708" y="855"/>
                </a:lnTo>
                <a:lnTo>
                  <a:pt x="1748" y="884"/>
                </a:lnTo>
                <a:lnTo>
                  <a:pt x="1778" y="914"/>
                </a:lnTo>
                <a:lnTo>
                  <a:pt x="1816" y="943"/>
                </a:lnTo>
                <a:lnTo>
                  <a:pt x="1856" y="982"/>
                </a:lnTo>
                <a:lnTo>
                  <a:pt x="1896" y="1012"/>
                </a:lnTo>
                <a:lnTo>
                  <a:pt x="1924" y="1032"/>
                </a:lnTo>
                <a:lnTo>
                  <a:pt x="1954" y="1061"/>
                </a:lnTo>
                <a:lnTo>
                  <a:pt x="1984" y="1090"/>
                </a:lnTo>
                <a:lnTo>
                  <a:pt x="2014" y="1110"/>
                </a:lnTo>
                <a:lnTo>
                  <a:pt x="2032" y="1149"/>
                </a:lnTo>
                <a:lnTo>
                  <a:pt x="2062" y="1179"/>
                </a:lnTo>
                <a:lnTo>
                  <a:pt x="2092" y="1218"/>
                </a:lnTo>
                <a:lnTo>
                  <a:pt x="2112" y="1258"/>
                </a:lnTo>
                <a:lnTo>
                  <a:pt x="2131" y="1297"/>
                </a:lnTo>
                <a:lnTo>
                  <a:pt x="2150" y="1326"/>
                </a:lnTo>
                <a:lnTo>
                  <a:pt x="2170" y="1366"/>
                </a:lnTo>
                <a:lnTo>
                  <a:pt x="2190" y="1405"/>
                </a:lnTo>
                <a:lnTo>
                  <a:pt x="2200" y="1444"/>
                </a:lnTo>
                <a:lnTo>
                  <a:pt x="2210" y="1484"/>
                </a:lnTo>
                <a:lnTo>
                  <a:pt x="2220" y="1562"/>
                </a:lnTo>
                <a:lnTo>
                  <a:pt x="2220" y="1641"/>
                </a:lnTo>
                <a:lnTo>
                  <a:pt x="2220" y="1680"/>
                </a:lnTo>
                <a:lnTo>
                  <a:pt x="2220" y="1710"/>
                </a:lnTo>
                <a:lnTo>
                  <a:pt x="2230" y="1749"/>
                </a:lnTo>
                <a:lnTo>
                  <a:pt x="2240" y="1788"/>
                </a:lnTo>
                <a:lnTo>
                  <a:pt x="2240" y="1828"/>
                </a:lnTo>
                <a:lnTo>
                  <a:pt x="2240" y="1867"/>
                </a:lnTo>
                <a:lnTo>
                  <a:pt x="2240" y="1946"/>
                </a:lnTo>
                <a:lnTo>
                  <a:pt x="2240" y="2024"/>
                </a:lnTo>
                <a:lnTo>
                  <a:pt x="2240" y="2083"/>
                </a:lnTo>
                <a:lnTo>
                  <a:pt x="2240" y="2162"/>
                </a:lnTo>
                <a:lnTo>
                  <a:pt x="2240" y="2201"/>
                </a:lnTo>
                <a:lnTo>
                  <a:pt x="2240" y="2230"/>
                </a:lnTo>
                <a:lnTo>
                  <a:pt x="2240" y="2260"/>
                </a:lnTo>
                <a:lnTo>
                  <a:pt x="2240" y="2299"/>
                </a:lnTo>
                <a:lnTo>
                  <a:pt x="2240" y="2378"/>
                </a:lnTo>
                <a:lnTo>
                  <a:pt x="2230" y="2456"/>
                </a:lnTo>
                <a:lnTo>
                  <a:pt x="2220" y="2555"/>
                </a:lnTo>
                <a:lnTo>
                  <a:pt x="2210" y="2653"/>
                </a:lnTo>
                <a:lnTo>
                  <a:pt x="2200" y="2752"/>
                </a:lnTo>
                <a:lnTo>
                  <a:pt x="2200" y="2810"/>
                </a:lnTo>
                <a:lnTo>
                  <a:pt x="2200" y="2869"/>
                </a:lnTo>
                <a:lnTo>
                  <a:pt x="2190" y="2899"/>
                </a:lnTo>
                <a:lnTo>
                  <a:pt x="2190" y="2928"/>
                </a:lnTo>
                <a:lnTo>
                  <a:pt x="2190" y="2968"/>
                </a:lnTo>
                <a:lnTo>
                  <a:pt x="2190" y="3007"/>
                </a:lnTo>
                <a:lnTo>
                  <a:pt x="2180" y="3036"/>
                </a:lnTo>
                <a:lnTo>
                  <a:pt x="2180" y="3076"/>
                </a:lnTo>
                <a:lnTo>
                  <a:pt x="2180" y="3105"/>
                </a:lnTo>
                <a:lnTo>
                  <a:pt x="2170" y="3134"/>
                </a:lnTo>
                <a:lnTo>
                  <a:pt x="2170" y="3164"/>
                </a:lnTo>
                <a:lnTo>
                  <a:pt x="2170" y="3194"/>
                </a:lnTo>
                <a:lnTo>
                  <a:pt x="2160" y="3252"/>
                </a:lnTo>
                <a:lnTo>
                  <a:pt x="2160" y="3312"/>
                </a:lnTo>
                <a:lnTo>
                  <a:pt x="2150" y="3341"/>
                </a:lnTo>
                <a:lnTo>
                  <a:pt x="2150" y="3370"/>
                </a:lnTo>
                <a:lnTo>
                  <a:pt x="2160" y="3386"/>
                </a:lnTo>
              </a:path>
            </a:pathLst>
          </a:custGeom>
          <a:noFill/>
          <a:ln cap="rnd"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Freeform 4"/>
          <p:cNvSpPr/>
          <p:nvPr/>
        </p:nvSpPr>
        <p:spPr>
          <a:xfrm>
            <a:off x="4246560" y="1109520"/>
            <a:ext cx="3795480" cy="5306760"/>
          </a:xfrm>
          <a:custGeom>
            <a:avLst/>
            <a:gdLst>
              <a:gd name="textAreaLeft" fmla="*/ 0 w 3795480"/>
              <a:gd name="textAreaRight" fmla="*/ 3795840 w 3795480"/>
              <a:gd name="textAreaTop" fmla="*/ 0 h 5306760"/>
              <a:gd name="textAreaBottom" fmla="*/ 5307120 h 5306760"/>
            </a:gdLst>
            <a:ahLst/>
            <a:rect l="textAreaLeft" t="textAreaTop" r="textAreaRight" b="textAreaBottom"/>
            <a:pathLst>
              <a:path w="2391" h="3343">
                <a:moveTo>
                  <a:pt x="0" y="0"/>
                </a:moveTo>
                <a:lnTo>
                  <a:pt x="43" y="1"/>
                </a:lnTo>
                <a:lnTo>
                  <a:pt x="82" y="1"/>
                </a:lnTo>
                <a:lnTo>
                  <a:pt x="111" y="10"/>
                </a:lnTo>
                <a:lnTo>
                  <a:pt x="141" y="20"/>
                </a:lnTo>
                <a:lnTo>
                  <a:pt x="170" y="20"/>
                </a:lnTo>
                <a:lnTo>
                  <a:pt x="199" y="30"/>
                </a:lnTo>
                <a:lnTo>
                  <a:pt x="278" y="40"/>
                </a:lnTo>
                <a:lnTo>
                  <a:pt x="308" y="40"/>
                </a:lnTo>
                <a:lnTo>
                  <a:pt x="337" y="50"/>
                </a:lnTo>
                <a:lnTo>
                  <a:pt x="377" y="60"/>
                </a:lnTo>
                <a:lnTo>
                  <a:pt x="406" y="60"/>
                </a:lnTo>
                <a:lnTo>
                  <a:pt x="435" y="70"/>
                </a:lnTo>
                <a:lnTo>
                  <a:pt x="465" y="70"/>
                </a:lnTo>
                <a:lnTo>
                  <a:pt x="494" y="80"/>
                </a:lnTo>
                <a:lnTo>
                  <a:pt x="524" y="90"/>
                </a:lnTo>
                <a:lnTo>
                  <a:pt x="563" y="99"/>
                </a:lnTo>
                <a:lnTo>
                  <a:pt x="622" y="109"/>
                </a:lnTo>
                <a:lnTo>
                  <a:pt x="661" y="118"/>
                </a:lnTo>
                <a:lnTo>
                  <a:pt x="700" y="138"/>
                </a:lnTo>
                <a:lnTo>
                  <a:pt x="730" y="138"/>
                </a:lnTo>
                <a:lnTo>
                  <a:pt x="769" y="148"/>
                </a:lnTo>
                <a:lnTo>
                  <a:pt x="799" y="158"/>
                </a:lnTo>
                <a:lnTo>
                  <a:pt x="858" y="168"/>
                </a:lnTo>
                <a:lnTo>
                  <a:pt x="916" y="178"/>
                </a:lnTo>
                <a:lnTo>
                  <a:pt x="946" y="188"/>
                </a:lnTo>
                <a:lnTo>
                  <a:pt x="985" y="198"/>
                </a:lnTo>
                <a:lnTo>
                  <a:pt x="1024" y="217"/>
                </a:lnTo>
                <a:lnTo>
                  <a:pt x="1054" y="217"/>
                </a:lnTo>
                <a:lnTo>
                  <a:pt x="1093" y="236"/>
                </a:lnTo>
                <a:lnTo>
                  <a:pt x="1123" y="246"/>
                </a:lnTo>
                <a:lnTo>
                  <a:pt x="1182" y="256"/>
                </a:lnTo>
                <a:lnTo>
                  <a:pt x="1211" y="266"/>
                </a:lnTo>
                <a:lnTo>
                  <a:pt x="1290" y="286"/>
                </a:lnTo>
                <a:lnTo>
                  <a:pt x="1329" y="306"/>
                </a:lnTo>
                <a:lnTo>
                  <a:pt x="1388" y="316"/>
                </a:lnTo>
                <a:lnTo>
                  <a:pt x="1427" y="335"/>
                </a:lnTo>
                <a:lnTo>
                  <a:pt x="1456" y="344"/>
                </a:lnTo>
                <a:lnTo>
                  <a:pt x="1516" y="354"/>
                </a:lnTo>
                <a:lnTo>
                  <a:pt x="1574" y="364"/>
                </a:lnTo>
                <a:lnTo>
                  <a:pt x="1604" y="374"/>
                </a:lnTo>
                <a:lnTo>
                  <a:pt x="1643" y="394"/>
                </a:lnTo>
                <a:lnTo>
                  <a:pt x="1672" y="414"/>
                </a:lnTo>
                <a:lnTo>
                  <a:pt x="1712" y="443"/>
                </a:lnTo>
                <a:lnTo>
                  <a:pt x="1741" y="472"/>
                </a:lnTo>
                <a:lnTo>
                  <a:pt x="1761" y="512"/>
                </a:lnTo>
                <a:lnTo>
                  <a:pt x="1790" y="551"/>
                </a:lnTo>
                <a:lnTo>
                  <a:pt x="1820" y="590"/>
                </a:lnTo>
                <a:lnTo>
                  <a:pt x="1830" y="620"/>
                </a:lnTo>
                <a:lnTo>
                  <a:pt x="1859" y="650"/>
                </a:lnTo>
                <a:lnTo>
                  <a:pt x="1878" y="679"/>
                </a:lnTo>
                <a:lnTo>
                  <a:pt x="1898" y="708"/>
                </a:lnTo>
                <a:lnTo>
                  <a:pt x="1928" y="738"/>
                </a:lnTo>
                <a:lnTo>
                  <a:pt x="1938" y="767"/>
                </a:lnTo>
                <a:lnTo>
                  <a:pt x="1958" y="797"/>
                </a:lnTo>
                <a:lnTo>
                  <a:pt x="1986" y="836"/>
                </a:lnTo>
                <a:lnTo>
                  <a:pt x="2016" y="866"/>
                </a:lnTo>
                <a:lnTo>
                  <a:pt x="2046" y="895"/>
                </a:lnTo>
                <a:lnTo>
                  <a:pt x="2075" y="924"/>
                </a:lnTo>
                <a:lnTo>
                  <a:pt x="2114" y="954"/>
                </a:lnTo>
                <a:lnTo>
                  <a:pt x="2144" y="993"/>
                </a:lnTo>
                <a:lnTo>
                  <a:pt x="2174" y="1023"/>
                </a:lnTo>
                <a:lnTo>
                  <a:pt x="2212" y="1062"/>
                </a:lnTo>
                <a:lnTo>
                  <a:pt x="2242" y="1101"/>
                </a:lnTo>
                <a:lnTo>
                  <a:pt x="2272" y="1131"/>
                </a:lnTo>
                <a:lnTo>
                  <a:pt x="2291" y="1160"/>
                </a:lnTo>
                <a:lnTo>
                  <a:pt x="2310" y="1190"/>
                </a:lnTo>
                <a:lnTo>
                  <a:pt x="2340" y="1229"/>
                </a:lnTo>
                <a:lnTo>
                  <a:pt x="2360" y="1258"/>
                </a:lnTo>
                <a:lnTo>
                  <a:pt x="2370" y="1288"/>
                </a:lnTo>
                <a:lnTo>
                  <a:pt x="2370" y="1327"/>
                </a:lnTo>
                <a:lnTo>
                  <a:pt x="2380" y="1357"/>
                </a:lnTo>
                <a:lnTo>
                  <a:pt x="2380" y="1386"/>
                </a:lnTo>
                <a:lnTo>
                  <a:pt x="2380" y="1416"/>
                </a:lnTo>
                <a:lnTo>
                  <a:pt x="2390" y="1455"/>
                </a:lnTo>
                <a:lnTo>
                  <a:pt x="2390" y="1484"/>
                </a:lnTo>
                <a:lnTo>
                  <a:pt x="2390" y="1514"/>
                </a:lnTo>
                <a:lnTo>
                  <a:pt x="2390" y="1544"/>
                </a:lnTo>
                <a:lnTo>
                  <a:pt x="2390" y="1573"/>
                </a:lnTo>
                <a:lnTo>
                  <a:pt x="2380" y="1602"/>
                </a:lnTo>
                <a:lnTo>
                  <a:pt x="2360" y="1642"/>
                </a:lnTo>
                <a:lnTo>
                  <a:pt x="2350" y="1671"/>
                </a:lnTo>
                <a:lnTo>
                  <a:pt x="2330" y="1701"/>
                </a:lnTo>
                <a:lnTo>
                  <a:pt x="2310" y="1730"/>
                </a:lnTo>
                <a:lnTo>
                  <a:pt x="2291" y="1770"/>
                </a:lnTo>
                <a:lnTo>
                  <a:pt x="2262" y="1809"/>
                </a:lnTo>
                <a:lnTo>
                  <a:pt x="2262" y="1838"/>
                </a:lnTo>
                <a:lnTo>
                  <a:pt x="2252" y="1868"/>
                </a:lnTo>
                <a:lnTo>
                  <a:pt x="2242" y="1897"/>
                </a:lnTo>
                <a:lnTo>
                  <a:pt x="2232" y="1927"/>
                </a:lnTo>
                <a:lnTo>
                  <a:pt x="2222" y="1956"/>
                </a:lnTo>
                <a:lnTo>
                  <a:pt x="2222" y="1986"/>
                </a:lnTo>
                <a:lnTo>
                  <a:pt x="2222" y="2015"/>
                </a:lnTo>
                <a:lnTo>
                  <a:pt x="2222" y="2045"/>
                </a:lnTo>
                <a:lnTo>
                  <a:pt x="2222" y="2074"/>
                </a:lnTo>
                <a:lnTo>
                  <a:pt x="2222" y="2104"/>
                </a:lnTo>
                <a:lnTo>
                  <a:pt x="2222" y="2133"/>
                </a:lnTo>
                <a:lnTo>
                  <a:pt x="2222" y="2192"/>
                </a:lnTo>
                <a:lnTo>
                  <a:pt x="2222" y="2221"/>
                </a:lnTo>
                <a:lnTo>
                  <a:pt x="2222" y="2251"/>
                </a:lnTo>
                <a:lnTo>
                  <a:pt x="2212" y="2290"/>
                </a:lnTo>
                <a:lnTo>
                  <a:pt x="2212" y="2320"/>
                </a:lnTo>
                <a:lnTo>
                  <a:pt x="2212" y="2349"/>
                </a:lnTo>
                <a:lnTo>
                  <a:pt x="2202" y="2389"/>
                </a:lnTo>
                <a:lnTo>
                  <a:pt x="2202" y="2418"/>
                </a:lnTo>
                <a:lnTo>
                  <a:pt x="2202" y="2497"/>
                </a:lnTo>
                <a:lnTo>
                  <a:pt x="2192" y="2556"/>
                </a:lnTo>
                <a:lnTo>
                  <a:pt x="2192" y="2615"/>
                </a:lnTo>
                <a:lnTo>
                  <a:pt x="2183" y="2644"/>
                </a:lnTo>
                <a:lnTo>
                  <a:pt x="2183" y="2673"/>
                </a:lnTo>
                <a:lnTo>
                  <a:pt x="2183" y="2703"/>
                </a:lnTo>
                <a:lnTo>
                  <a:pt x="2174" y="2733"/>
                </a:lnTo>
                <a:lnTo>
                  <a:pt x="2174" y="2762"/>
                </a:lnTo>
                <a:lnTo>
                  <a:pt x="2174" y="2791"/>
                </a:lnTo>
                <a:lnTo>
                  <a:pt x="2164" y="2821"/>
                </a:lnTo>
                <a:lnTo>
                  <a:pt x="2164" y="2850"/>
                </a:lnTo>
                <a:lnTo>
                  <a:pt x="2144" y="2880"/>
                </a:lnTo>
                <a:lnTo>
                  <a:pt x="2144" y="2909"/>
                </a:lnTo>
                <a:lnTo>
                  <a:pt x="2144" y="2949"/>
                </a:lnTo>
                <a:lnTo>
                  <a:pt x="2144" y="3007"/>
                </a:lnTo>
                <a:lnTo>
                  <a:pt x="2134" y="3047"/>
                </a:lnTo>
                <a:lnTo>
                  <a:pt x="2134" y="3076"/>
                </a:lnTo>
                <a:lnTo>
                  <a:pt x="2124" y="3116"/>
                </a:lnTo>
                <a:lnTo>
                  <a:pt x="2124" y="3194"/>
                </a:lnTo>
                <a:lnTo>
                  <a:pt x="2114" y="3253"/>
                </a:lnTo>
                <a:lnTo>
                  <a:pt x="2104" y="3312"/>
                </a:lnTo>
                <a:lnTo>
                  <a:pt x="2104" y="3342"/>
                </a:lnTo>
                <a:lnTo>
                  <a:pt x="2116" y="3327"/>
                </a:lnTo>
              </a:path>
            </a:pathLst>
          </a:custGeom>
          <a:noFill/>
          <a:ln cap="rnd"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1" name="Group 234"/>
          <p:cNvGrpSpPr/>
          <p:nvPr/>
        </p:nvGrpSpPr>
        <p:grpSpPr>
          <a:xfrm>
            <a:off x="2830320" y="4213080"/>
            <a:ext cx="1486080" cy="1556280"/>
            <a:chOff x="2830320" y="4213080"/>
            <a:chExt cx="1486080" cy="1556280"/>
          </a:xfrm>
        </p:grpSpPr>
        <p:sp useBgFill="1">
          <p:nvSpPr>
            <p:cNvPr id="2572" name="Oval 5"/>
            <p:cNvSpPr/>
            <p:nvPr/>
          </p:nvSpPr>
          <p:spPr>
            <a:xfrm>
              <a:off x="2871720" y="4255920"/>
              <a:ext cx="1393560" cy="1453680"/>
            </a:xfrm>
            <a:prstGeom prst="ellipse">
              <a:avLst/>
            </a:prstGeom>
            <a:ln w="101600">
              <a:solidFill>
                <a:srgbClr val="ff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73" name="Group 157"/>
            <p:cNvGrpSpPr/>
            <p:nvPr/>
          </p:nvGrpSpPr>
          <p:grpSpPr>
            <a:xfrm>
              <a:off x="2830320" y="4240440"/>
              <a:ext cx="1486080" cy="1528920"/>
              <a:chOff x="2830320" y="4240440"/>
              <a:chExt cx="1486080" cy="1528920"/>
            </a:xfrm>
          </p:grpSpPr>
          <p:grpSp>
            <p:nvGrpSpPr>
              <p:cNvPr id="2574" name="Group 15"/>
              <p:cNvGrpSpPr/>
              <p:nvPr/>
            </p:nvGrpSpPr>
            <p:grpSpPr>
              <a:xfrm>
                <a:off x="3382920" y="4240440"/>
                <a:ext cx="347400" cy="414000"/>
                <a:chOff x="3382920" y="4240440"/>
                <a:chExt cx="347400" cy="414000"/>
              </a:xfrm>
            </p:grpSpPr>
            <p:sp>
              <p:nvSpPr>
                <p:cNvPr id="2575" name="AutoShape 6"/>
                <p:cNvSpPr/>
                <p:nvPr/>
              </p:nvSpPr>
              <p:spPr>
                <a:xfrm flipH="1" flipV="1" rot="10800000">
                  <a:off x="3382560" y="4240440"/>
                  <a:ext cx="347400" cy="382320"/>
                </a:xfrm>
                <a:custGeom>
                  <a:avLst/>
                  <a:gdLst>
                    <a:gd name="textAreaLeft" fmla="*/ 72360 w 347400"/>
                    <a:gd name="textAreaRight" fmla="*/ 275040 w 347400"/>
                    <a:gd name="textAreaTop" fmla="*/ 79560 h 382320"/>
                    <a:gd name="textAreaBottom" fmla="*/ 302760 h 382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576" name="Group 14"/>
                <p:cNvGrpSpPr/>
                <p:nvPr/>
              </p:nvGrpSpPr>
              <p:grpSpPr>
                <a:xfrm>
                  <a:off x="3487680" y="4587840"/>
                  <a:ext cx="136800" cy="66600"/>
                  <a:chOff x="3487680" y="4587840"/>
                  <a:chExt cx="136800" cy="66600"/>
                </a:xfrm>
              </p:grpSpPr>
              <p:sp>
                <p:nvSpPr>
                  <p:cNvPr id="2577" name="Line 7"/>
                  <p:cNvSpPr/>
                  <p:nvPr/>
                </p:nvSpPr>
                <p:spPr>
                  <a:xfrm>
                    <a:off x="348768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78" name="Line 8"/>
                  <p:cNvSpPr/>
                  <p:nvPr/>
                </p:nvSpPr>
                <p:spPr>
                  <a:xfrm>
                    <a:off x="352260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79" name="Line 9"/>
                  <p:cNvSpPr/>
                  <p:nvPr/>
                </p:nvSpPr>
                <p:spPr>
                  <a:xfrm>
                    <a:off x="355572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0" name="Line 10"/>
                  <p:cNvSpPr/>
                  <p:nvPr/>
                </p:nvSpPr>
                <p:spPr>
                  <a:xfrm>
                    <a:off x="355572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1" name="Line 11"/>
                  <p:cNvSpPr/>
                  <p:nvPr/>
                </p:nvSpPr>
                <p:spPr>
                  <a:xfrm>
                    <a:off x="359064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2" name="Line 12"/>
                  <p:cNvSpPr/>
                  <p:nvPr/>
                </p:nvSpPr>
                <p:spPr>
                  <a:xfrm>
                    <a:off x="362412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3" name="Line 13"/>
                  <p:cNvSpPr/>
                  <p:nvPr/>
                </p:nvSpPr>
                <p:spPr>
                  <a:xfrm>
                    <a:off x="3624120" y="4587840"/>
                    <a:ext cx="36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584" name="Group 25"/>
              <p:cNvGrpSpPr/>
              <p:nvPr/>
            </p:nvGrpSpPr>
            <p:grpSpPr>
              <a:xfrm>
                <a:off x="3568680" y="4256640"/>
                <a:ext cx="470160" cy="488160"/>
                <a:chOff x="3568680" y="4256640"/>
                <a:chExt cx="470160" cy="488160"/>
              </a:xfrm>
            </p:grpSpPr>
            <p:sp>
              <p:nvSpPr>
                <p:cNvPr id="2585" name="AutoShape 16"/>
                <p:cNvSpPr/>
                <p:nvPr/>
              </p:nvSpPr>
              <p:spPr>
                <a:xfrm flipH="1" flipV="1" rot="12240000">
                  <a:off x="3630960" y="4310280"/>
                  <a:ext cx="345600" cy="380520"/>
                </a:xfrm>
                <a:custGeom>
                  <a:avLst/>
                  <a:gdLst>
                    <a:gd name="textAreaLeft" fmla="*/ 72000 w 345600"/>
                    <a:gd name="textAreaRight" fmla="*/ 273600 w 345600"/>
                    <a:gd name="textAreaTop" fmla="*/ 79200 h 380520"/>
                    <a:gd name="textAreaBottom" fmla="*/ 301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586" name="Group 24"/>
                <p:cNvGrpSpPr/>
                <p:nvPr/>
              </p:nvGrpSpPr>
              <p:grpSpPr>
                <a:xfrm>
                  <a:off x="3651120" y="4617720"/>
                  <a:ext cx="152280" cy="119160"/>
                  <a:chOff x="3651120" y="4617720"/>
                  <a:chExt cx="152280" cy="119160"/>
                </a:xfrm>
              </p:grpSpPr>
              <p:sp>
                <p:nvSpPr>
                  <p:cNvPr id="2587" name="Line 17"/>
                  <p:cNvSpPr/>
                  <p:nvPr/>
                </p:nvSpPr>
                <p:spPr>
                  <a:xfrm flipH="1">
                    <a:off x="3651120" y="4617720"/>
                    <a:ext cx="27000" cy="61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8" name="Line 18"/>
                  <p:cNvSpPr/>
                  <p:nvPr/>
                </p:nvSpPr>
                <p:spPr>
                  <a:xfrm flipH="1">
                    <a:off x="3679560" y="4630680"/>
                    <a:ext cx="28800" cy="601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89" name="Line 19"/>
                  <p:cNvSpPr/>
                  <p:nvPr/>
                </p:nvSpPr>
                <p:spPr>
                  <a:xfrm flipH="1">
                    <a:off x="3711240" y="4644720"/>
                    <a:ext cx="28800" cy="637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0" name="Line 20"/>
                  <p:cNvSpPr/>
                  <p:nvPr/>
                </p:nvSpPr>
                <p:spPr>
                  <a:xfrm flipH="1">
                    <a:off x="3711240" y="4644720"/>
                    <a:ext cx="28800" cy="637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1" name="Line 21"/>
                  <p:cNvSpPr/>
                  <p:nvPr/>
                </p:nvSpPr>
                <p:spPr>
                  <a:xfrm flipH="1">
                    <a:off x="3743280" y="4659120"/>
                    <a:ext cx="28440" cy="633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2" name="Line 22"/>
                  <p:cNvSpPr/>
                  <p:nvPr/>
                </p:nvSpPr>
                <p:spPr>
                  <a:xfrm flipH="1">
                    <a:off x="3774960" y="4671720"/>
                    <a:ext cx="28440" cy="65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3" name="Line 23"/>
                  <p:cNvSpPr/>
                  <p:nvPr/>
                </p:nvSpPr>
                <p:spPr>
                  <a:xfrm flipH="1">
                    <a:off x="3774960" y="4671720"/>
                    <a:ext cx="28440" cy="65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594" name="Group 35"/>
              <p:cNvGrpSpPr/>
              <p:nvPr/>
            </p:nvGrpSpPr>
            <p:grpSpPr>
              <a:xfrm>
                <a:off x="3726000" y="4385520"/>
                <a:ext cx="514080" cy="512280"/>
                <a:chOff x="3726000" y="4385520"/>
                <a:chExt cx="514080" cy="512280"/>
              </a:xfrm>
            </p:grpSpPr>
            <p:sp>
              <p:nvSpPr>
                <p:cNvPr id="2595" name="AutoShape 26"/>
                <p:cNvSpPr/>
                <p:nvPr/>
              </p:nvSpPr>
              <p:spPr>
                <a:xfrm flipH="1" flipV="1" rot="13620000">
                  <a:off x="3809880" y="4450680"/>
                  <a:ext cx="345600" cy="380520"/>
                </a:xfrm>
                <a:custGeom>
                  <a:avLst/>
                  <a:gdLst>
                    <a:gd name="textAreaLeft" fmla="*/ 72000 w 345600"/>
                    <a:gd name="textAreaRight" fmla="*/ 273600 w 345600"/>
                    <a:gd name="textAreaTop" fmla="*/ 79200 h 380520"/>
                    <a:gd name="textAreaBottom" fmla="*/ 301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596" name="Group 34"/>
                <p:cNvGrpSpPr/>
                <p:nvPr/>
              </p:nvGrpSpPr>
              <p:grpSpPr>
                <a:xfrm>
                  <a:off x="3768480" y="4697280"/>
                  <a:ext cx="146160" cy="149040"/>
                  <a:chOff x="3768480" y="4697280"/>
                  <a:chExt cx="146160" cy="149040"/>
                </a:xfrm>
              </p:grpSpPr>
              <p:sp>
                <p:nvSpPr>
                  <p:cNvPr id="2597" name="Line 27"/>
                  <p:cNvSpPr/>
                  <p:nvPr/>
                </p:nvSpPr>
                <p:spPr>
                  <a:xfrm flipH="1">
                    <a:off x="3768480" y="4697280"/>
                    <a:ext cx="54000" cy="493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8" name="Line 28"/>
                  <p:cNvSpPr/>
                  <p:nvPr/>
                </p:nvSpPr>
                <p:spPr>
                  <a:xfrm flipH="1">
                    <a:off x="3794040" y="4722480"/>
                    <a:ext cx="52200" cy="47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599" name="Line 29"/>
                  <p:cNvSpPr/>
                  <p:nvPr/>
                </p:nvSpPr>
                <p:spPr>
                  <a:xfrm flipH="1">
                    <a:off x="3816000" y="4749480"/>
                    <a:ext cx="49320" cy="46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0" name="Line 30"/>
                  <p:cNvSpPr/>
                  <p:nvPr/>
                </p:nvSpPr>
                <p:spPr>
                  <a:xfrm flipH="1">
                    <a:off x="3816000" y="4749480"/>
                    <a:ext cx="49320" cy="46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1" name="Line 31"/>
                  <p:cNvSpPr/>
                  <p:nvPr/>
                </p:nvSpPr>
                <p:spPr>
                  <a:xfrm flipH="1">
                    <a:off x="3840120" y="4776480"/>
                    <a:ext cx="48960" cy="46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2" name="Line 32"/>
                  <p:cNvSpPr/>
                  <p:nvPr/>
                </p:nvSpPr>
                <p:spPr>
                  <a:xfrm flipH="1">
                    <a:off x="3865320" y="4798800"/>
                    <a:ext cx="49320" cy="475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3" name="Line 33"/>
                  <p:cNvSpPr/>
                  <p:nvPr/>
                </p:nvSpPr>
                <p:spPr>
                  <a:xfrm flipH="1">
                    <a:off x="3865320" y="4798800"/>
                    <a:ext cx="49320" cy="475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04" name="Group 45"/>
              <p:cNvGrpSpPr/>
              <p:nvPr/>
            </p:nvGrpSpPr>
            <p:grpSpPr>
              <a:xfrm>
                <a:off x="3850920" y="4629240"/>
                <a:ext cx="465480" cy="439920"/>
                <a:chOff x="3850920" y="4629240"/>
                <a:chExt cx="465480" cy="439920"/>
              </a:xfrm>
            </p:grpSpPr>
            <p:sp>
              <p:nvSpPr>
                <p:cNvPr id="2605" name="AutoShape 36"/>
                <p:cNvSpPr/>
                <p:nvPr/>
              </p:nvSpPr>
              <p:spPr>
                <a:xfrm flipH="1" flipV="1" rot="15180000">
                  <a:off x="3912120" y="4659480"/>
                  <a:ext cx="344160" cy="379080"/>
                </a:xfrm>
                <a:custGeom>
                  <a:avLst/>
                  <a:gdLst>
                    <a:gd name="textAreaLeft" fmla="*/ 71640 w 344160"/>
                    <a:gd name="textAreaRight" fmla="*/ 272520 w 344160"/>
                    <a:gd name="textAreaTop" fmla="*/ 78840 h 379080"/>
                    <a:gd name="textAreaBottom" fmla="*/ 300240 h 379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606" name="Group 44"/>
                <p:cNvGrpSpPr/>
                <p:nvPr/>
              </p:nvGrpSpPr>
              <p:grpSpPr>
                <a:xfrm>
                  <a:off x="3850920" y="4830480"/>
                  <a:ext cx="105120" cy="150840"/>
                  <a:chOff x="3850920" y="4830480"/>
                  <a:chExt cx="105120" cy="150840"/>
                </a:xfrm>
              </p:grpSpPr>
              <p:sp>
                <p:nvSpPr>
                  <p:cNvPr id="2607" name="Line 37"/>
                  <p:cNvSpPr/>
                  <p:nvPr/>
                </p:nvSpPr>
                <p:spPr>
                  <a:xfrm flipH="1">
                    <a:off x="3850920" y="4830480"/>
                    <a:ext cx="68400" cy="19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8" name="Line 38"/>
                  <p:cNvSpPr/>
                  <p:nvPr/>
                </p:nvSpPr>
                <p:spPr>
                  <a:xfrm flipH="1">
                    <a:off x="3859200" y="4863960"/>
                    <a:ext cx="64800" cy="19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9" name="Line 39"/>
                  <p:cNvSpPr/>
                  <p:nvPr/>
                </p:nvSpPr>
                <p:spPr>
                  <a:xfrm flipH="1">
                    <a:off x="3868560" y="4897080"/>
                    <a:ext cx="68400" cy="20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0" name="Line 40"/>
                  <p:cNvSpPr/>
                  <p:nvPr/>
                </p:nvSpPr>
                <p:spPr>
                  <a:xfrm flipH="1">
                    <a:off x="3868560" y="4897080"/>
                    <a:ext cx="68400" cy="20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1" name="Line 41"/>
                  <p:cNvSpPr/>
                  <p:nvPr/>
                </p:nvSpPr>
                <p:spPr>
                  <a:xfrm flipH="1">
                    <a:off x="3881160" y="4930560"/>
                    <a:ext cx="65160" cy="205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2" name="Line 42"/>
                  <p:cNvSpPr/>
                  <p:nvPr/>
                </p:nvSpPr>
                <p:spPr>
                  <a:xfrm flipH="1">
                    <a:off x="3889080" y="4962240"/>
                    <a:ext cx="66960" cy="19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3" name="Line 43"/>
                  <p:cNvSpPr/>
                  <p:nvPr/>
                </p:nvSpPr>
                <p:spPr>
                  <a:xfrm flipH="1">
                    <a:off x="3889080" y="4962240"/>
                    <a:ext cx="66960" cy="190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14" name="Group 55"/>
              <p:cNvGrpSpPr/>
              <p:nvPr/>
            </p:nvGrpSpPr>
            <p:grpSpPr>
              <a:xfrm>
                <a:off x="3852720" y="4901400"/>
                <a:ext cx="439200" cy="381960"/>
                <a:chOff x="3852720" y="4901400"/>
                <a:chExt cx="439200" cy="381960"/>
              </a:xfrm>
            </p:grpSpPr>
            <p:sp>
              <p:nvSpPr>
                <p:cNvPr id="2615" name="AutoShape 46"/>
                <p:cNvSpPr/>
                <p:nvPr/>
              </p:nvSpPr>
              <p:spPr>
                <a:xfrm flipH="1" flipV="1" rot="16560000">
                  <a:off x="3912120" y="4901760"/>
                  <a:ext cx="344160" cy="380520"/>
                </a:xfrm>
                <a:custGeom>
                  <a:avLst/>
                  <a:gdLst>
                    <a:gd name="textAreaLeft" fmla="*/ 71640 w 344160"/>
                    <a:gd name="textAreaRight" fmla="*/ 272520 w 344160"/>
                    <a:gd name="textAreaTop" fmla="*/ 79200 h 380520"/>
                    <a:gd name="textAreaBottom" fmla="*/ 301320 h 380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616" name="Group 54"/>
                <p:cNvGrpSpPr/>
                <p:nvPr/>
              </p:nvGrpSpPr>
              <p:grpSpPr>
                <a:xfrm>
                  <a:off x="3852720" y="5000400"/>
                  <a:ext cx="87120" cy="146160"/>
                  <a:chOff x="3852720" y="5000400"/>
                  <a:chExt cx="87120" cy="146160"/>
                </a:xfrm>
              </p:grpSpPr>
              <p:sp>
                <p:nvSpPr>
                  <p:cNvPr id="2617" name="Line 47"/>
                  <p:cNvSpPr/>
                  <p:nvPr/>
                </p:nvSpPr>
                <p:spPr>
                  <a:xfrm flipH="1" flipV="1">
                    <a:off x="3868560" y="5000400"/>
                    <a:ext cx="71280" cy="7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8" name="Line 48"/>
                  <p:cNvSpPr/>
                  <p:nvPr/>
                </p:nvSpPr>
                <p:spPr>
                  <a:xfrm flipH="1" flipV="1">
                    <a:off x="3865320" y="5035320"/>
                    <a:ext cx="66600" cy="7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9" name="Line 49"/>
                  <p:cNvSpPr/>
                  <p:nvPr/>
                </p:nvSpPr>
                <p:spPr>
                  <a:xfrm flipH="1" flipV="1">
                    <a:off x="3860640" y="5068800"/>
                    <a:ext cx="68400" cy="7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0" name="Line 50"/>
                  <p:cNvSpPr/>
                  <p:nvPr/>
                </p:nvSpPr>
                <p:spPr>
                  <a:xfrm flipH="1" flipV="1">
                    <a:off x="3860640" y="5068800"/>
                    <a:ext cx="68400" cy="7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1" name="Line 51"/>
                  <p:cNvSpPr/>
                  <p:nvPr/>
                </p:nvSpPr>
                <p:spPr>
                  <a:xfrm flipH="1" flipV="1">
                    <a:off x="3857400" y="5103720"/>
                    <a:ext cx="68400" cy="61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2" name="Line 52"/>
                  <p:cNvSpPr/>
                  <p:nvPr/>
                </p:nvSpPr>
                <p:spPr>
                  <a:xfrm flipH="1" flipV="1">
                    <a:off x="3852720" y="5138640"/>
                    <a:ext cx="69840" cy="7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3" name="Line 53"/>
                  <p:cNvSpPr/>
                  <p:nvPr/>
                </p:nvSpPr>
                <p:spPr>
                  <a:xfrm flipH="1" flipV="1">
                    <a:off x="3852720" y="5138640"/>
                    <a:ext cx="69840" cy="79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24" name="Group 65"/>
              <p:cNvGrpSpPr/>
              <p:nvPr/>
            </p:nvGrpSpPr>
            <p:grpSpPr>
              <a:xfrm>
                <a:off x="3763080" y="5051160"/>
                <a:ext cx="507960" cy="498600"/>
                <a:chOff x="3763080" y="5051160"/>
                <a:chExt cx="507960" cy="498600"/>
              </a:xfrm>
            </p:grpSpPr>
            <p:sp>
              <p:nvSpPr>
                <p:cNvPr id="2625" name="AutoShape 56"/>
                <p:cNvSpPr/>
                <p:nvPr/>
              </p:nvSpPr>
              <p:spPr>
                <a:xfrm flipH="1" flipV="1" rot="18180000">
                  <a:off x="3843000" y="5109840"/>
                  <a:ext cx="347400" cy="380160"/>
                </a:xfrm>
                <a:custGeom>
                  <a:avLst/>
                  <a:gdLst>
                    <a:gd name="textAreaLeft" fmla="*/ 72360 w 347400"/>
                    <a:gd name="textAreaRight" fmla="*/ 275040 w 347400"/>
                    <a:gd name="textAreaTop" fmla="*/ 79200 h 380160"/>
                    <a:gd name="textAreaBottom" fmla="*/ 300960 h 380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626" name="Group 64"/>
                <p:cNvGrpSpPr/>
                <p:nvPr/>
              </p:nvGrpSpPr>
              <p:grpSpPr>
                <a:xfrm>
                  <a:off x="3790800" y="5119560"/>
                  <a:ext cx="133200" cy="154080"/>
                  <a:chOff x="3790800" y="5119560"/>
                  <a:chExt cx="133200" cy="154080"/>
                </a:xfrm>
              </p:grpSpPr>
              <p:sp>
                <p:nvSpPr>
                  <p:cNvPr id="2627" name="Line 57"/>
                  <p:cNvSpPr/>
                  <p:nvPr/>
                </p:nvSpPr>
                <p:spPr>
                  <a:xfrm flipH="1" flipV="1">
                    <a:off x="3865320" y="5119560"/>
                    <a:ext cx="58680" cy="39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8" name="Line 58"/>
                  <p:cNvSpPr/>
                  <p:nvPr/>
                </p:nvSpPr>
                <p:spPr>
                  <a:xfrm flipH="1" flipV="1">
                    <a:off x="3846240" y="5148000"/>
                    <a:ext cx="55800" cy="39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9" name="Line 59"/>
                  <p:cNvSpPr/>
                  <p:nvPr/>
                </p:nvSpPr>
                <p:spPr>
                  <a:xfrm flipH="1" flipV="1">
                    <a:off x="3828960" y="5178240"/>
                    <a:ext cx="57240" cy="363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0" name="Line 60"/>
                  <p:cNvSpPr/>
                  <p:nvPr/>
                </p:nvSpPr>
                <p:spPr>
                  <a:xfrm flipH="1" flipV="1">
                    <a:off x="3828960" y="5178240"/>
                    <a:ext cx="57240" cy="363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1" name="Line 61"/>
                  <p:cNvSpPr/>
                  <p:nvPr/>
                </p:nvSpPr>
                <p:spPr>
                  <a:xfrm flipH="1" flipV="1">
                    <a:off x="3809880" y="5206680"/>
                    <a:ext cx="57240" cy="38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2" name="Line 62"/>
                  <p:cNvSpPr/>
                  <p:nvPr/>
                </p:nvSpPr>
                <p:spPr>
                  <a:xfrm flipH="1" flipV="1">
                    <a:off x="3790800" y="5235480"/>
                    <a:ext cx="58680" cy="38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3" name="Line 63"/>
                  <p:cNvSpPr/>
                  <p:nvPr/>
                </p:nvSpPr>
                <p:spPr>
                  <a:xfrm flipH="1" flipV="1">
                    <a:off x="3790800" y="5235480"/>
                    <a:ext cx="58680" cy="38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34" name="Group 75"/>
              <p:cNvGrpSpPr/>
              <p:nvPr/>
            </p:nvGrpSpPr>
            <p:grpSpPr>
              <a:xfrm>
                <a:off x="3598920" y="5221440"/>
                <a:ext cx="491040" cy="502560"/>
                <a:chOff x="3598920" y="5221440"/>
                <a:chExt cx="491040" cy="502560"/>
              </a:xfrm>
            </p:grpSpPr>
            <p:sp>
              <p:nvSpPr>
                <p:cNvPr id="2635" name="AutoShape 66"/>
                <p:cNvSpPr/>
                <p:nvPr/>
              </p:nvSpPr>
              <p:spPr>
                <a:xfrm flipH="1" flipV="1" rot="19740000">
                  <a:off x="3671640" y="5283360"/>
                  <a:ext cx="345600" cy="378720"/>
                </a:xfrm>
                <a:custGeom>
                  <a:avLst/>
                  <a:gdLst>
                    <a:gd name="textAreaLeft" fmla="*/ 72000 w 345600"/>
                    <a:gd name="textAreaRight" fmla="*/ 273600 w 345600"/>
                    <a:gd name="textAreaTop" fmla="*/ 78840 h 378720"/>
                    <a:gd name="textAreaBottom" fmla="*/ 299880 h 378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636" name="Group 74"/>
                <p:cNvGrpSpPr/>
                <p:nvPr/>
              </p:nvGrpSpPr>
              <p:grpSpPr>
                <a:xfrm>
                  <a:off x="3666960" y="5244840"/>
                  <a:ext cx="155520" cy="131760"/>
                  <a:chOff x="3666960" y="5244840"/>
                  <a:chExt cx="155520" cy="131760"/>
                </a:xfrm>
              </p:grpSpPr>
              <p:sp>
                <p:nvSpPr>
                  <p:cNvPr id="2637" name="Line 67"/>
                  <p:cNvSpPr/>
                  <p:nvPr/>
                </p:nvSpPr>
                <p:spPr>
                  <a:xfrm flipH="1" flipV="1">
                    <a:off x="3786120" y="5244840"/>
                    <a:ext cx="36360" cy="586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8" name="Line 68"/>
                  <p:cNvSpPr/>
                  <p:nvPr/>
                </p:nvSpPr>
                <p:spPr>
                  <a:xfrm flipH="1" flipV="1">
                    <a:off x="3757320" y="5263920"/>
                    <a:ext cx="33480" cy="586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9" name="Line 69"/>
                  <p:cNvSpPr/>
                  <p:nvPr/>
                </p:nvSpPr>
                <p:spPr>
                  <a:xfrm flipH="1" flipV="1">
                    <a:off x="3728880" y="5281560"/>
                    <a:ext cx="34920" cy="56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0" name="Line 70"/>
                  <p:cNvSpPr/>
                  <p:nvPr/>
                </p:nvSpPr>
                <p:spPr>
                  <a:xfrm flipH="1" flipV="1">
                    <a:off x="3728880" y="5281560"/>
                    <a:ext cx="34920" cy="568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1" name="Line 71"/>
                  <p:cNvSpPr/>
                  <p:nvPr/>
                </p:nvSpPr>
                <p:spPr>
                  <a:xfrm flipH="1" flipV="1">
                    <a:off x="3695400" y="5297400"/>
                    <a:ext cx="36720" cy="5868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2" name="Line 72"/>
                  <p:cNvSpPr/>
                  <p:nvPr/>
                </p:nvSpPr>
                <p:spPr>
                  <a:xfrm flipH="1" flipV="1">
                    <a:off x="3666960" y="5316480"/>
                    <a:ext cx="36360" cy="601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3" name="Line 73"/>
                  <p:cNvSpPr/>
                  <p:nvPr/>
                </p:nvSpPr>
                <p:spPr>
                  <a:xfrm flipH="1" flipV="1">
                    <a:off x="3666960" y="5316480"/>
                    <a:ext cx="36360" cy="6012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44" name="Group 85"/>
              <p:cNvGrpSpPr/>
              <p:nvPr/>
            </p:nvGrpSpPr>
            <p:grpSpPr>
              <a:xfrm>
                <a:off x="3450960" y="5311440"/>
                <a:ext cx="371520" cy="433800"/>
                <a:chOff x="3450960" y="5311440"/>
                <a:chExt cx="371520" cy="433800"/>
              </a:xfrm>
            </p:grpSpPr>
            <p:sp>
              <p:nvSpPr>
                <p:cNvPr id="2645" name="AutoShape 76"/>
                <p:cNvSpPr/>
                <p:nvPr/>
              </p:nvSpPr>
              <p:spPr>
                <a:xfrm flipH="1" flipV="1" rot="21360000">
                  <a:off x="3463920" y="5349960"/>
                  <a:ext cx="345600" cy="383760"/>
                </a:xfrm>
                <a:custGeom>
                  <a:avLst/>
                  <a:gdLst>
                    <a:gd name="textAreaLeft" fmla="*/ 72000 w 345600"/>
                    <a:gd name="textAreaRight" fmla="*/ 273600 w 345600"/>
                    <a:gd name="textAreaTop" fmla="*/ 79920 h 383760"/>
                    <a:gd name="textAreaBottom" fmla="*/ 303840 h 38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646" name="Group 84"/>
                <p:cNvGrpSpPr/>
                <p:nvPr/>
              </p:nvGrpSpPr>
              <p:grpSpPr>
                <a:xfrm>
                  <a:off x="3551040" y="5311440"/>
                  <a:ext cx="141480" cy="79560"/>
                  <a:chOff x="3551040" y="5311440"/>
                  <a:chExt cx="141480" cy="79560"/>
                </a:xfrm>
              </p:grpSpPr>
              <p:sp>
                <p:nvSpPr>
                  <p:cNvPr id="2647" name="Line 77"/>
                  <p:cNvSpPr/>
                  <p:nvPr/>
                </p:nvSpPr>
                <p:spPr>
                  <a:xfrm flipH="1" flipV="1">
                    <a:off x="3687480" y="5311440"/>
                    <a:ext cx="5040" cy="7164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8" name="Line 78"/>
                  <p:cNvSpPr/>
                  <p:nvPr/>
                </p:nvSpPr>
                <p:spPr>
                  <a:xfrm flipH="1" flipV="1">
                    <a:off x="3654360" y="5316480"/>
                    <a:ext cx="612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9" name="Line 79"/>
                  <p:cNvSpPr/>
                  <p:nvPr/>
                </p:nvSpPr>
                <p:spPr>
                  <a:xfrm flipH="1" flipV="1">
                    <a:off x="3620880" y="5321160"/>
                    <a:ext cx="1440" cy="65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50" name="Line 80"/>
                  <p:cNvSpPr/>
                  <p:nvPr/>
                </p:nvSpPr>
                <p:spPr>
                  <a:xfrm flipH="1" flipV="1">
                    <a:off x="3620880" y="5321160"/>
                    <a:ext cx="1440" cy="651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51" name="Line 81"/>
                  <p:cNvSpPr/>
                  <p:nvPr/>
                </p:nvSpPr>
                <p:spPr>
                  <a:xfrm flipH="1" flipV="1">
                    <a:off x="3585960" y="5319360"/>
                    <a:ext cx="3240" cy="684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52" name="Line 82"/>
                  <p:cNvSpPr/>
                  <p:nvPr/>
                </p:nvSpPr>
                <p:spPr>
                  <a:xfrm flipH="1" flipV="1">
                    <a:off x="3551040" y="5322600"/>
                    <a:ext cx="4680" cy="684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53" name="Line 83"/>
                  <p:cNvSpPr/>
                  <p:nvPr/>
                </p:nvSpPr>
                <p:spPr>
                  <a:xfrm flipH="1" flipV="1">
                    <a:off x="3551040" y="5322600"/>
                    <a:ext cx="4680" cy="684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654" name="Group 146"/>
              <p:cNvGrpSpPr/>
              <p:nvPr/>
            </p:nvGrpSpPr>
            <p:grpSpPr>
              <a:xfrm>
                <a:off x="2830320" y="4256640"/>
                <a:ext cx="751680" cy="1468440"/>
                <a:chOff x="2830320" y="4256640"/>
                <a:chExt cx="751680" cy="1468440"/>
              </a:xfrm>
            </p:grpSpPr>
            <p:grpSp>
              <p:nvGrpSpPr>
                <p:cNvPr id="2655" name="Group 95"/>
                <p:cNvGrpSpPr/>
                <p:nvPr/>
              </p:nvGrpSpPr>
              <p:grpSpPr>
                <a:xfrm>
                  <a:off x="3111480" y="4256640"/>
                  <a:ext cx="470520" cy="488160"/>
                  <a:chOff x="3111480" y="4256640"/>
                  <a:chExt cx="470520" cy="488160"/>
                </a:xfrm>
              </p:grpSpPr>
              <p:sp>
                <p:nvSpPr>
                  <p:cNvPr id="2656" name="AutoShape 86"/>
                  <p:cNvSpPr/>
                  <p:nvPr/>
                </p:nvSpPr>
                <p:spPr>
                  <a:xfrm flipV="1" rot="9360000">
                    <a:off x="3173760" y="4310280"/>
                    <a:ext cx="345600" cy="380520"/>
                  </a:xfrm>
                  <a:custGeom>
                    <a:avLst/>
                    <a:gdLst>
                      <a:gd name="textAreaLeft" fmla="*/ 72000 w 345600"/>
                      <a:gd name="textAreaRight" fmla="*/ 273600 w 345600"/>
                      <a:gd name="textAreaTop" fmla="*/ 79200 h 380520"/>
                      <a:gd name="textAreaBottom" fmla="*/ 301320 h 38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657" name="Group 94"/>
                  <p:cNvGrpSpPr/>
                  <p:nvPr/>
                </p:nvGrpSpPr>
                <p:grpSpPr>
                  <a:xfrm>
                    <a:off x="3346200" y="4617720"/>
                    <a:ext cx="154080" cy="119160"/>
                    <a:chOff x="3346200" y="4617720"/>
                    <a:chExt cx="154080" cy="119160"/>
                  </a:xfrm>
                </p:grpSpPr>
                <p:sp>
                  <p:nvSpPr>
                    <p:cNvPr id="2658" name="Line 87"/>
                    <p:cNvSpPr/>
                    <p:nvPr/>
                  </p:nvSpPr>
                  <p:spPr>
                    <a:xfrm>
                      <a:off x="3471840" y="4617720"/>
                      <a:ext cx="28440" cy="61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59" name="Line 88"/>
                    <p:cNvSpPr/>
                    <p:nvPr/>
                  </p:nvSpPr>
                  <p:spPr>
                    <a:xfrm>
                      <a:off x="3441600" y="4630680"/>
                      <a:ext cx="27000" cy="601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60" name="Line 89"/>
                    <p:cNvSpPr/>
                    <p:nvPr/>
                  </p:nvSpPr>
                  <p:spPr>
                    <a:xfrm>
                      <a:off x="3408120" y="4644720"/>
                      <a:ext cx="28800" cy="637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61" name="Line 90"/>
                    <p:cNvSpPr/>
                    <p:nvPr/>
                  </p:nvSpPr>
                  <p:spPr>
                    <a:xfrm>
                      <a:off x="3408120" y="4644720"/>
                      <a:ext cx="28800" cy="637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62" name="Line 91"/>
                    <p:cNvSpPr/>
                    <p:nvPr/>
                  </p:nvSpPr>
                  <p:spPr>
                    <a:xfrm>
                      <a:off x="3379680" y="4659120"/>
                      <a:ext cx="27000" cy="633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63" name="Line 92"/>
                    <p:cNvSpPr/>
                    <p:nvPr/>
                  </p:nvSpPr>
                  <p:spPr>
                    <a:xfrm>
                      <a:off x="3346200" y="4671720"/>
                      <a:ext cx="27000" cy="651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64" name="Line 93"/>
                    <p:cNvSpPr/>
                    <p:nvPr/>
                  </p:nvSpPr>
                  <p:spPr>
                    <a:xfrm>
                      <a:off x="3346200" y="4671720"/>
                      <a:ext cx="27000" cy="651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665" name="Group 105"/>
                <p:cNvGrpSpPr/>
                <p:nvPr/>
              </p:nvGrpSpPr>
              <p:grpSpPr>
                <a:xfrm>
                  <a:off x="2909520" y="4386600"/>
                  <a:ext cx="513000" cy="511200"/>
                  <a:chOff x="2909520" y="4386600"/>
                  <a:chExt cx="513000" cy="511200"/>
                </a:xfrm>
              </p:grpSpPr>
              <p:sp>
                <p:nvSpPr>
                  <p:cNvPr id="2666" name="AutoShape 96"/>
                  <p:cNvSpPr/>
                  <p:nvPr/>
                </p:nvSpPr>
                <p:spPr>
                  <a:xfrm flipV="1" rot="7980000">
                    <a:off x="2993760" y="4451760"/>
                    <a:ext cx="344160" cy="380520"/>
                  </a:xfrm>
                  <a:custGeom>
                    <a:avLst/>
                    <a:gdLst>
                      <a:gd name="textAreaLeft" fmla="*/ 71640 w 344160"/>
                      <a:gd name="textAreaRight" fmla="*/ 272520 w 344160"/>
                      <a:gd name="textAreaTop" fmla="*/ 79200 h 380520"/>
                      <a:gd name="textAreaBottom" fmla="*/ 301320 h 38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667" name="Group 104"/>
                  <p:cNvGrpSpPr/>
                  <p:nvPr/>
                </p:nvGrpSpPr>
                <p:grpSpPr>
                  <a:xfrm>
                    <a:off x="3232080" y="4697280"/>
                    <a:ext cx="147600" cy="149040"/>
                    <a:chOff x="3232080" y="4697280"/>
                    <a:chExt cx="147600" cy="149040"/>
                  </a:xfrm>
                </p:grpSpPr>
                <p:sp>
                  <p:nvSpPr>
                    <p:cNvPr id="2668" name="Line 97"/>
                    <p:cNvSpPr/>
                    <p:nvPr/>
                  </p:nvSpPr>
                  <p:spPr>
                    <a:xfrm>
                      <a:off x="3327120" y="4697280"/>
                      <a:ext cx="52560" cy="493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69" name="Line 98"/>
                    <p:cNvSpPr/>
                    <p:nvPr/>
                  </p:nvSpPr>
                  <p:spPr>
                    <a:xfrm>
                      <a:off x="3300120" y="4722480"/>
                      <a:ext cx="52560" cy="478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70" name="Line 99"/>
                    <p:cNvSpPr/>
                    <p:nvPr/>
                  </p:nvSpPr>
                  <p:spPr>
                    <a:xfrm>
                      <a:off x="3278160" y="4749480"/>
                      <a:ext cx="48960" cy="46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71" name="Line 100"/>
                    <p:cNvSpPr/>
                    <p:nvPr/>
                  </p:nvSpPr>
                  <p:spPr>
                    <a:xfrm>
                      <a:off x="3278160" y="4749480"/>
                      <a:ext cx="48960" cy="46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72" name="Line 101"/>
                    <p:cNvSpPr/>
                    <p:nvPr/>
                  </p:nvSpPr>
                  <p:spPr>
                    <a:xfrm>
                      <a:off x="3254040" y="4776480"/>
                      <a:ext cx="52560" cy="46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73" name="Line 102"/>
                    <p:cNvSpPr/>
                    <p:nvPr/>
                  </p:nvSpPr>
                  <p:spPr>
                    <a:xfrm>
                      <a:off x="3232080" y="4798800"/>
                      <a:ext cx="50760" cy="475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74" name="Line 103"/>
                    <p:cNvSpPr/>
                    <p:nvPr/>
                  </p:nvSpPr>
                  <p:spPr>
                    <a:xfrm>
                      <a:off x="3232080" y="4798800"/>
                      <a:ext cx="50760" cy="475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675" name="Group 115"/>
                <p:cNvGrpSpPr/>
                <p:nvPr/>
              </p:nvGrpSpPr>
              <p:grpSpPr>
                <a:xfrm>
                  <a:off x="2830320" y="4628520"/>
                  <a:ext cx="466560" cy="441360"/>
                  <a:chOff x="2830320" y="4628520"/>
                  <a:chExt cx="466560" cy="441360"/>
                </a:xfrm>
              </p:grpSpPr>
              <p:sp>
                <p:nvSpPr>
                  <p:cNvPr id="2676" name="AutoShape 106"/>
                  <p:cNvSpPr/>
                  <p:nvPr/>
                </p:nvSpPr>
                <p:spPr>
                  <a:xfrm flipV="1" rot="6420000">
                    <a:off x="2889000" y="4659480"/>
                    <a:ext cx="345600" cy="379080"/>
                  </a:xfrm>
                  <a:custGeom>
                    <a:avLst/>
                    <a:gdLst>
                      <a:gd name="textAreaLeft" fmla="*/ 72000 w 345600"/>
                      <a:gd name="textAreaRight" fmla="*/ 273600 w 345600"/>
                      <a:gd name="textAreaTop" fmla="*/ 78840 h 379080"/>
                      <a:gd name="textAreaBottom" fmla="*/ 300240 h 379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677" name="Group 114"/>
                  <p:cNvGrpSpPr/>
                  <p:nvPr/>
                </p:nvGrpSpPr>
                <p:grpSpPr>
                  <a:xfrm>
                    <a:off x="3190680" y="4830480"/>
                    <a:ext cx="106200" cy="150840"/>
                    <a:chOff x="3190680" y="4830480"/>
                    <a:chExt cx="106200" cy="150840"/>
                  </a:xfrm>
                </p:grpSpPr>
                <p:sp>
                  <p:nvSpPr>
                    <p:cNvPr id="2678" name="Line 107"/>
                    <p:cNvSpPr/>
                    <p:nvPr/>
                  </p:nvSpPr>
                  <p:spPr>
                    <a:xfrm>
                      <a:off x="3228840" y="4830480"/>
                      <a:ext cx="68040" cy="19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79" name="Line 108"/>
                    <p:cNvSpPr/>
                    <p:nvPr/>
                  </p:nvSpPr>
                  <p:spPr>
                    <a:xfrm>
                      <a:off x="3219120" y="4863960"/>
                      <a:ext cx="65160" cy="19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0" name="Line 109"/>
                    <p:cNvSpPr/>
                    <p:nvPr/>
                  </p:nvSpPr>
                  <p:spPr>
                    <a:xfrm>
                      <a:off x="3209760" y="4897080"/>
                      <a:ext cx="65160" cy="208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1" name="Line 110"/>
                    <p:cNvSpPr/>
                    <p:nvPr/>
                  </p:nvSpPr>
                  <p:spPr>
                    <a:xfrm>
                      <a:off x="3209760" y="4897080"/>
                      <a:ext cx="65160" cy="208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2" name="Line 111"/>
                    <p:cNvSpPr/>
                    <p:nvPr/>
                  </p:nvSpPr>
                  <p:spPr>
                    <a:xfrm>
                      <a:off x="3200400" y="4930560"/>
                      <a:ext cx="64800" cy="205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3" name="Line 112"/>
                    <p:cNvSpPr/>
                    <p:nvPr/>
                  </p:nvSpPr>
                  <p:spPr>
                    <a:xfrm>
                      <a:off x="3190680" y="4962240"/>
                      <a:ext cx="63360" cy="19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4" name="Line 113"/>
                    <p:cNvSpPr/>
                    <p:nvPr/>
                  </p:nvSpPr>
                  <p:spPr>
                    <a:xfrm>
                      <a:off x="3190680" y="4962240"/>
                      <a:ext cx="63360" cy="190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685" name="Group 125"/>
                <p:cNvGrpSpPr/>
                <p:nvPr/>
              </p:nvGrpSpPr>
              <p:grpSpPr>
                <a:xfrm>
                  <a:off x="2854800" y="4900680"/>
                  <a:ext cx="437400" cy="383400"/>
                  <a:chOff x="2854800" y="4900680"/>
                  <a:chExt cx="437400" cy="383400"/>
                </a:xfrm>
              </p:grpSpPr>
              <p:sp>
                <p:nvSpPr>
                  <p:cNvPr id="2686" name="AutoShape 116"/>
                  <p:cNvSpPr/>
                  <p:nvPr/>
                </p:nvSpPr>
                <p:spPr>
                  <a:xfrm flipV="1" rot="5040000">
                    <a:off x="2889360" y="4901400"/>
                    <a:ext cx="345600" cy="380880"/>
                  </a:xfrm>
                  <a:custGeom>
                    <a:avLst/>
                    <a:gdLst>
                      <a:gd name="textAreaLeft" fmla="*/ 72000 w 345600"/>
                      <a:gd name="textAreaRight" fmla="*/ 273600 w 345600"/>
                      <a:gd name="textAreaTop" fmla="*/ 79200 h 380880"/>
                      <a:gd name="textAreaBottom" fmla="*/ 30168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687" name="Group 124"/>
                  <p:cNvGrpSpPr/>
                  <p:nvPr/>
                </p:nvGrpSpPr>
                <p:grpSpPr>
                  <a:xfrm>
                    <a:off x="3208320" y="5000400"/>
                    <a:ext cx="83880" cy="146160"/>
                    <a:chOff x="3208320" y="5000400"/>
                    <a:chExt cx="83880" cy="146160"/>
                  </a:xfrm>
                </p:grpSpPr>
                <p:sp>
                  <p:nvSpPr>
                    <p:cNvPr id="2688" name="Line 117"/>
                    <p:cNvSpPr/>
                    <p:nvPr/>
                  </p:nvSpPr>
                  <p:spPr>
                    <a:xfrm flipV="1">
                      <a:off x="3208320" y="5000400"/>
                      <a:ext cx="71280" cy="7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89" name="Line 118"/>
                    <p:cNvSpPr/>
                    <p:nvPr/>
                  </p:nvSpPr>
                  <p:spPr>
                    <a:xfrm flipV="1">
                      <a:off x="3209760" y="5035320"/>
                      <a:ext cx="71280" cy="7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90" name="Line 119"/>
                    <p:cNvSpPr/>
                    <p:nvPr/>
                  </p:nvSpPr>
                  <p:spPr>
                    <a:xfrm flipV="1">
                      <a:off x="3217680" y="5068800"/>
                      <a:ext cx="66600" cy="7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91" name="Line 120"/>
                    <p:cNvSpPr/>
                    <p:nvPr/>
                  </p:nvSpPr>
                  <p:spPr>
                    <a:xfrm flipV="1">
                      <a:off x="3217680" y="5068800"/>
                      <a:ext cx="66600" cy="7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92" name="Line 121"/>
                    <p:cNvSpPr/>
                    <p:nvPr/>
                  </p:nvSpPr>
                  <p:spPr>
                    <a:xfrm flipV="1">
                      <a:off x="3220920" y="5103720"/>
                      <a:ext cx="68040" cy="61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93" name="Line 122"/>
                    <p:cNvSpPr/>
                    <p:nvPr/>
                  </p:nvSpPr>
                  <p:spPr>
                    <a:xfrm flipV="1">
                      <a:off x="3222360" y="5138640"/>
                      <a:ext cx="69840" cy="7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94" name="Line 123"/>
                    <p:cNvSpPr/>
                    <p:nvPr/>
                  </p:nvSpPr>
                  <p:spPr>
                    <a:xfrm flipV="1">
                      <a:off x="3222360" y="5138640"/>
                      <a:ext cx="69840" cy="79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695" name="Group 135"/>
                <p:cNvGrpSpPr/>
                <p:nvPr/>
              </p:nvGrpSpPr>
              <p:grpSpPr>
                <a:xfrm>
                  <a:off x="2877840" y="5052600"/>
                  <a:ext cx="506520" cy="496080"/>
                  <a:chOff x="2877840" y="5052600"/>
                  <a:chExt cx="506520" cy="496080"/>
                </a:xfrm>
              </p:grpSpPr>
              <p:sp>
                <p:nvSpPr>
                  <p:cNvPr id="2696" name="AutoShape 126"/>
                  <p:cNvSpPr/>
                  <p:nvPr/>
                </p:nvSpPr>
                <p:spPr>
                  <a:xfrm flipV="1" rot="3420000">
                    <a:off x="2958840" y="5110200"/>
                    <a:ext cx="344160" cy="380520"/>
                  </a:xfrm>
                  <a:custGeom>
                    <a:avLst/>
                    <a:gdLst>
                      <a:gd name="textAreaLeft" fmla="*/ 71640 w 344160"/>
                      <a:gd name="textAreaRight" fmla="*/ 272520 w 344160"/>
                      <a:gd name="textAreaTop" fmla="*/ 79200 h 380520"/>
                      <a:gd name="textAreaBottom" fmla="*/ 301320 h 38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697" name="Group 134"/>
                  <p:cNvGrpSpPr/>
                  <p:nvPr/>
                </p:nvGrpSpPr>
                <p:grpSpPr>
                  <a:xfrm>
                    <a:off x="3224160" y="5119560"/>
                    <a:ext cx="131760" cy="154080"/>
                    <a:chOff x="3224160" y="5119560"/>
                    <a:chExt cx="131760" cy="154080"/>
                  </a:xfrm>
                </p:grpSpPr>
                <p:sp>
                  <p:nvSpPr>
                    <p:cNvPr id="2698" name="Line 127"/>
                    <p:cNvSpPr/>
                    <p:nvPr/>
                  </p:nvSpPr>
                  <p:spPr>
                    <a:xfrm flipV="1">
                      <a:off x="3224160" y="5119560"/>
                      <a:ext cx="60120" cy="3960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699" name="Line 128"/>
                    <p:cNvSpPr/>
                    <p:nvPr/>
                  </p:nvSpPr>
                  <p:spPr>
                    <a:xfrm flipV="1">
                      <a:off x="3243240" y="5148000"/>
                      <a:ext cx="56880" cy="3960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0" name="Line 129"/>
                    <p:cNvSpPr/>
                    <p:nvPr/>
                  </p:nvSpPr>
                  <p:spPr>
                    <a:xfrm flipV="1">
                      <a:off x="3263760" y="5178240"/>
                      <a:ext cx="57240" cy="363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1" name="Line 130"/>
                    <p:cNvSpPr/>
                    <p:nvPr/>
                  </p:nvSpPr>
                  <p:spPr>
                    <a:xfrm flipV="1">
                      <a:off x="3263760" y="5178240"/>
                      <a:ext cx="57240" cy="363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2" name="Line 131"/>
                    <p:cNvSpPr/>
                    <p:nvPr/>
                  </p:nvSpPr>
                  <p:spPr>
                    <a:xfrm flipV="1">
                      <a:off x="3282840" y="5206680"/>
                      <a:ext cx="57240" cy="381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3" name="Line 132"/>
                    <p:cNvSpPr/>
                    <p:nvPr/>
                  </p:nvSpPr>
                  <p:spPr>
                    <a:xfrm flipV="1">
                      <a:off x="3298680" y="5235480"/>
                      <a:ext cx="57240" cy="381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4" name="Line 133"/>
                    <p:cNvSpPr/>
                    <p:nvPr/>
                  </p:nvSpPr>
                  <p:spPr>
                    <a:xfrm flipV="1">
                      <a:off x="3298680" y="5235480"/>
                      <a:ext cx="57240" cy="3816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705" name="Group 145"/>
                <p:cNvGrpSpPr/>
                <p:nvPr/>
              </p:nvGrpSpPr>
              <p:grpSpPr>
                <a:xfrm>
                  <a:off x="3059280" y="5221080"/>
                  <a:ext cx="493200" cy="504000"/>
                  <a:chOff x="3059280" y="5221080"/>
                  <a:chExt cx="493200" cy="504000"/>
                </a:xfrm>
              </p:grpSpPr>
              <p:sp>
                <p:nvSpPr>
                  <p:cNvPr id="2706" name="AutoShape 136"/>
                  <p:cNvSpPr/>
                  <p:nvPr/>
                </p:nvSpPr>
                <p:spPr>
                  <a:xfrm flipV="1" rot="1860000">
                    <a:off x="3132000" y="5283360"/>
                    <a:ext cx="347400" cy="379440"/>
                  </a:xfrm>
                  <a:custGeom>
                    <a:avLst/>
                    <a:gdLst>
                      <a:gd name="textAreaLeft" fmla="*/ 72360 w 347400"/>
                      <a:gd name="textAreaRight" fmla="*/ 275040 w 347400"/>
                      <a:gd name="textAreaTop" fmla="*/ 78840 h 379440"/>
                      <a:gd name="textAreaBottom" fmla="*/ 300600 h 379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399" y="21600"/>
                        </a:lnTo>
                        <a:lnTo>
                          <a:pt x="16201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2707" name="Group 144"/>
                  <p:cNvGrpSpPr/>
                  <p:nvPr/>
                </p:nvGrpSpPr>
                <p:grpSpPr>
                  <a:xfrm>
                    <a:off x="3323880" y="5244840"/>
                    <a:ext cx="154080" cy="131760"/>
                    <a:chOff x="3323880" y="5244840"/>
                    <a:chExt cx="154080" cy="131760"/>
                  </a:xfrm>
                </p:grpSpPr>
                <p:sp>
                  <p:nvSpPr>
                    <p:cNvPr id="2708" name="Line 137"/>
                    <p:cNvSpPr/>
                    <p:nvPr/>
                  </p:nvSpPr>
                  <p:spPr>
                    <a:xfrm flipV="1">
                      <a:off x="3323880" y="5244840"/>
                      <a:ext cx="36720" cy="586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09" name="Line 138"/>
                    <p:cNvSpPr/>
                    <p:nvPr/>
                  </p:nvSpPr>
                  <p:spPr>
                    <a:xfrm flipV="1">
                      <a:off x="3354120" y="5263920"/>
                      <a:ext cx="36720" cy="586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0" name="Line 139"/>
                    <p:cNvSpPr/>
                    <p:nvPr/>
                  </p:nvSpPr>
                  <p:spPr>
                    <a:xfrm flipV="1">
                      <a:off x="3382920" y="5281560"/>
                      <a:ext cx="36360" cy="568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1" name="Line 140"/>
                    <p:cNvSpPr/>
                    <p:nvPr/>
                  </p:nvSpPr>
                  <p:spPr>
                    <a:xfrm flipV="1">
                      <a:off x="3382920" y="5281560"/>
                      <a:ext cx="36360" cy="568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2" name="Line 141"/>
                    <p:cNvSpPr/>
                    <p:nvPr/>
                  </p:nvSpPr>
                  <p:spPr>
                    <a:xfrm flipV="1">
                      <a:off x="3414600" y="5297400"/>
                      <a:ext cx="33120" cy="5868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3" name="Line 142"/>
                    <p:cNvSpPr/>
                    <p:nvPr/>
                  </p:nvSpPr>
                  <p:spPr>
                    <a:xfrm flipV="1">
                      <a:off x="3441600" y="5316480"/>
                      <a:ext cx="36360" cy="601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14" name="Line 143"/>
                    <p:cNvSpPr/>
                    <p:nvPr/>
                  </p:nvSpPr>
                  <p:spPr>
                    <a:xfrm flipV="1">
                      <a:off x="3441600" y="5316480"/>
                      <a:ext cx="36360" cy="60120"/>
                    </a:xfrm>
                    <a:prstGeom prst="line">
                      <a:avLst/>
                    </a:prstGeom>
                    <a:ln w="9525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2715" name="Group 156"/>
              <p:cNvGrpSpPr/>
              <p:nvPr/>
            </p:nvGrpSpPr>
            <p:grpSpPr>
              <a:xfrm>
                <a:off x="3279600" y="5308560"/>
                <a:ext cx="428040" cy="460800"/>
                <a:chOff x="3279600" y="5308560"/>
                <a:chExt cx="428040" cy="460800"/>
              </a:xfrm>
            </p:grpSpPr>
            <p:sp>
              <p:nvSpPr>
                <p:cNvPr id="2716" name="AutoShape 147"/>
                <p:cNvSpPr/>
                <p:nvPr/>
              </p:nvSpPr>
              <p:spPr>
                <a:xfrm flipH="1" flipV="1" rot="840000">
                  <a:off x="3320280" y="5349600"/>
                  <a:ext cx="345240" cy="383760"/>
                </a:xfrm>
                <a:custGeom>
                  <a:avLst/>
                  <a:gdLst>
                    <a:gd name="textAreaLeft" fmla="*/ 71640 w 345240"/>
                    <a:gd name="textAreaRight" fmla="*/ 273240 w 345240"/>
                    <a:gd name="textAreaTop" fmla="*/ 79920 h 383760"/>
                    <a:gd name="textAreaBottom" fmla="*/ 303840 h 38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399" y="21600"/>
                      </a:lnTo>
                      <a:lnTo>
                        <a:pt x="16201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717" name="Group 155"/>
                <p:cNvGrpSpPr/>
                <p:nvPr/>
              </p:nvGrpSpPr>
              <p:grpSpPr>
                <a:xfrm>
                  <a:off x="3463920" y="5308560"/>
                  <a:ext cx="152280" cy="99720"/>
                  <a:chOff x="3463920" y="5308560"/>
                  <a:chExt cx="152280" cy="99720"/>
                </a:xfrm>
              </p:grpSpPr>
              <p:sp>
                <p:nvSpPr>
                  <p:cNvPr id="2718" name="Line 148"/>
                  <p:cNvSpPr/>
                  <p:nvPr/>
                </p:nvSpPr>
                <p:spPr>
                  <a:xfrm flipV="1">
                    <a:off x="3595680" y="5338440"/>
                    <a:ext cx="20520" cy="6984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19" name="Line 149"/>
                  <p:cNvSpPr/>
                  <p:nvPr/>
                </p:nvSpPr>
                <p:spPr>
                  <a:xfrm flipV="1">
                    <a:off x="3563640" y="5332320"/>
                    <a:ext cx="15840" cy="6804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0" name="Line 150"/>
                  <p:cNvSpPr/>
                  <p:nvPr/>
                </p:nvSpPr>
                <p:spPr>
                  <a:xfrm flipV="1">
                    <a:off x="3531960" y="5322600"/>
                    <a:ext cx="15840" cy="669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1" name="Line 151"/>
                  <p:cNvSpPr/>
                  <p:nvPr/>
                </p:nvSpPr>
                <p:spPr>
                  <a:xfrm flipV="1">
                    <a:off x="3531960" y="5322600"/>
                    <a:ext cx="15840" cy="6696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2" name="Line 152"/>
                  <p:cNvSpPr/>
                  <p:nvPr/>
                </p:nvSpPr>
                <p:spPr>
                  <a:xfrm flipV="1">
                    <a:off x="3497040" y="5313240"/>
                    <a:ext cx="1584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3" name="Line 153"/>
                  <p:cNvSpPr/>
                  <p:nvPr/>
                </p:nvSpPr>
                <p:spPr>
                  <a:xfrm flipV="1">
                    <a:off x="3463920" y="5308560"/>
                    <a:ext cx="1584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4" name="Line 154"/>
                  <p:cNvSpPr/>
                  <p:nvPr/>
                </p:nvSpPr>
                <p:spPr>
                  <a:xfrm flipV="1">
                    <a:off x="3463920" y="5308560"/>
                    <a:ext cx="15840" cy="66600"/>
                  </a:xfrm>
                  <a:prstGeom prst="line">
                    <a:avLst/>
                  </a:prstGeom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sp>
          <p:nvSpPr>
            <p:cNvPr id="2725" name="Oval 158"/>
            <p:cNvSpPr/>
            <p:nvPr/>
          </p:nvSpPr>
          <p:spPr>
            <a:xfrm>
              <a:off x="3559320" y="4313160"/>
              <a:ext cx="131400" cy="1299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26" name="Group 161"/>
            <p:cNvGrpSpPr/>
            <p:nvPr/>
          </p:nvGrpSpPr>
          <p:grpSpPr>
            <a:xfrm>
              <a:off x="3106800" y="4506840"/>
              <a:ext cx="898200" cy="987120"/>
              <a:chOff x="3106800" y="4506840"/>
              <a:chExt cx="898200" cy="987120"/>
            </a:xfrm>
          </p:grpSpPr>
          <p:sp useBgFill="1">
            <p:nvSpPr>
              <p:cNvPr id="2727" name="Oval 159"/>
              <p:cNvSpPr/>
              <p:nvPr/>
            </p:nvSpPr>
            <p:spPr>
              <a:xfrm>
                <a:off x="3106800" y="4506840"/>
                <a:ext cx="898200" cy="987120"/>
              </a:xfrm>
              <a:prstGeom prst="ellips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 useBgFill="1">
            <p:nvSpPr>
              <p:cNvPr id="2728" name="Oval 160"/>
              <p:cNvSpPr/>
              <p:nvPr/>
            </p:nvSpPr>
            <p:spPr>
              <a:xfrm>
                <a:off x="3251160" y="4665600"/>
                <a:ext cx="609120" cy="667800"/>
              </a:xfrm>
              <a:prstGeom prst="ellips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29" name="Oval 162"/>
            <p:cNvSpPr/>
            <p:nvPr/>
          </p:nvSpPr>
          <p:spPr>
            <a:xfrm>
              <a:off x="4078440" y="4799160"/>
              <a:ext cx="131400" cy="1281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0" name="Line 163"/>
            <p:cNvSpPr/>
            <p:nvPr/>
          </p:nvSpPr>
          <p:spPr>
            <a:xfrm>
              <a:off x="3179520" y="4627440"/>
              <a:ext cx="23760" cy="39600"/>
            </a:xfrm>
            <a:prstGeom prst="line">
              <a:avLst/>
            </a:prstGeom>
            <a:ln w="508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1" name="Line 164"/>
            <p:cNvSpPr/>
            <p:nvPr/>
          </p:nvSpPr>
          <p:spPr>
            <a:xfrm flipV="1">
              <a:off x="3362040" y="5483160"/>
              <a:ext cx="5040" cy="52200"/>
            </a:xfrm>
            <a:prstGeom prst="line">
              <a:avLst/>
            </a:prstGeom>
            <a:ln w="508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2" name="Line 165"/>
            <p:cNvSpPr/>
            <p:nvPr/>
          </p:nvSpPr>
          <p:spPr>
            <a:xfrm flipV="1">
              <a:off x="3970080" y="4732200"/>
              <a:ext cx="34920" cy="34920"/>
            </a:xfrm>
            <a:prstGeom prst="line">
              <a:avLst/>
            </a:prstGeom>
            <a:ln w="508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3" name="Line 166"/>
            <p:cNvSpPr/>
            <p:nvPr/>
          </p:nvSpPr>
          <p:spPr>
            <a:xfrm flipV="1">
              <a:off x="3105000" y="5251320"/>
              <a:ext cx="33480" cy="34920"/>
            </a:xfrm>
            <a:prstGeom prst="line">
              <a:avLst/>
            </a:prstGeom>
            <a:ln w="508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4" name="Line 167"/>
            <p:cNvSpPr/>
            <p:nvPr/>
          </p:nvSpPr>
          <p:spPr>
            <a:xfrm flipH="1" flipV="1">
              <a:off x="3936960" y="5286240"/>
              <a:ext cx="34920" cy="34920"/>
            </a:xfrm>
            <a:prstGeom prst="line">
              <a:avLst/>
            </a:prstGeom>
            <a:ln w="5080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5" name="Line 168"/>
            <p:cNvSpPr/>
            <p:nvPr/>
          </p:nvSpPr>
          <p:spPr>
            <a:xfrm flipH="1">
              <a:off x="3889080" y="4970160"/>
              <a:ext cx="66960" cy="20880"/>
            </a:xfrm>
            <a:prstGeom prst="line">
              <a:avLst/>
            </a:pr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6" name="Line 169"/>
            <p:cNvSpPr/>
            <p:nvPr/>
          </p:nvSpPr>
          <p:spPr>
            <a:xfrm>
              <a:off x="3244680" y="4321080"/>
              <a:ext cx="34920" cy="1000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7" name="Line 170"/>
            <p:cNvSpPr/>
            <p:nvPr/>
          </p:nvSpPr>
          <p:spPr>
            <a:xfrm>
              <a:off x="3311280" y="4286160"/>
              <a:ext cx="36720" cy="1029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8" name="Line 171"/>
            <p:cNvSpPr/>
            <p:nvPr/>
          </p:nvSpPr>
          <p:spPr>
            <a:xfrm>
              <a:off x="3382920" y="4248000"/>
              <a:ext cx="34920" cy="1047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9" name="Line 172"/>
            <p:cNvSpPr/>
            <p:nvPr/>
          </p:nvSpPr>
          <p:spPr>
            <a:xfrm>
              <a:off x="3450960" y="4213080"/>
              <a:ext cx="31680" cy="1062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0" name="Line 173"/>
            <p:cNvSpPr/>
            <p:nvPr/>
          </p:nvSpPr>
          <p:spPr>
            <a:xfrm>
              <a:off x="3522600" y="4214520"/>
              <a:ext cx="360" cy="716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1" name="Line 174"/>
            <p:cNvSpPr/>
            <p:nvPr/>
          </p:nvSpPr>
          <p:spPr>
            <a:xfrm flipH="1">
              <a:off x="3589200" y="4213080"/>
              <a:ext cx="33120" cy="1062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2" name="Line 175"/>
            <p:cNvSpPr/>
            <p:nvPr/>
          </p:nvSpPr>
          <p:spPr>
            <a:xfrm flipH="1">
              <a:off x="3657600" y="4213080"/>
              <a:ext cx="36360" cy="1062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3" name="Line 176"/>
            <p:cNvSpPr/>
            <p:nvPr/>
          </p:nvSpPr>
          <p:spPr>
            <a:xfrm>
              <a:off x="3728880" y="5595840"/>
              <a:ext cx="34920" cy="1047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4" name="Line 177"/>
            <p:cNvSpPr/>
            <p:nvPr/>
          </p:nvSpPr>
          <p:spPr>
            <a:xfrm>
              <a:off x="3797280" y="5564160"/>
              <a:ext cx="34920" cy="1015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5" name="Line 178"/>
            <p:cNvSpPr/>
            <p:nvPr/>
          </p:nvSpPr>
          <p:spPr>
            <a:xfrm>
              <a:off x="3968640" y="5492520"/>
              <a:ext cx="6984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6" name="Line 179"/>
            <p:cNvSpPr/>
            <p:nvPr/>
          </p:nvSpPr>
          <p:spPr>
            <a:xfrm>
              <a:off x="3867120" y="5562360"/>
              <a:ext cx="34920" cy="684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7" name="Line 180"/>
            <p:cNvSpPr/>
            <p:nvPr/>
          </p:nvSpPr>
          <p:spPr>
            <a:xfrm>
              <a:off x="3933720" y="5527440"/>
              <a:ext cx="34920" cy="684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8" name="Line 181"/>
            <p:cNvSpPr/>
            <p:nvPr/>
          </p:nvSpPr>
          <p:spPr>
            <a:xfrm flipH="1" flipV="1">
              <a:off x="4003560" y="5424480"/>
              <a:ext cx="6984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9" name="Line 182"/>
            <p:cNvSpPr/>
            <p:nvPr/>
          </p:nvSpPr>
          <p:spPr>
            <a:xfrm>
              <a:off x="3138480" y="4389120"/>
              <a:ext cx="36360" cy="684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0" name="Line 183"/>
            <p:cNvSpPr/>
            <p:nvPr/>
          </p:nvSpPr>
          <p:spPr>
            <a:xfrm>
              <a:off x="3174840" y="4352760"/>
              <a:ext cx="33480" cy="684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1" name="Line 184"/>
            <p:cNvSpPr/>
            <p:nvPr/>
          </p:nvSpPr>
          <p:spPr>
            <a:xfrm>
              <a:off x="3071520" y="4421160"/>
              <a:ext cx="6696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2" name="Line 185"/>
            <p:cNvSpPr/>
            <p:nvPr/>
          </p:nvSpPr>
          <p:spPr>
            <a:xfrm>
              <a:off x="3036600" y="4491000"/>
              <a:ext cx="6840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3" name="Line 186"/>
            <p:cNvSpPr/>
            <p:nvPr/>
          </p:nvSpPr>
          <p:spPr>
            <a:xfrm>
              <a:off x="3001680" y="4527360"/>
              <a:ext cx="6984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4" name="Line 187"/>
            <p:cNvSpPr/>
            <p:nvPr/>
          </p:nvSpPr>
          <p:spPr>
            <a:xfrm>
              <a:off x="2965320" y="4560840"/>
              <a:ext cx="10620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5" name="Line 188"/>
            <p:cNvSpPr/>
            <p:nvPr/>
          </p:nvSpPr>
          <p:spPr>
            <a:xfrm>
              <a:off x="2931840" y="4632120"/>
              <a:ext cx="69840" cy="334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6" name="Line 189"/>
            <p:cNvSpPr/>
            <p:nvPr/>
          </p:nvSpPr>
          <p:spPr>
            <a:xfrm>
              <a:off x="4108320" y="5319360"/>
              <a:ext cx="10296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7" name="Line 190"/>
            <p:cNvSpPr/>
            <p:nvPr/>
          </p:nvSpPr>
          <p:spPr>
            <a:xfrm>
              <a:off x="2896920" y="4698720"/>
              <a:ext cx="10476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8" name="Line 191"/>
            <p:cNvSpPr/>
            <p:nvPr/>
          </p:nvSpPr>
          <p:spPr>
            <a:xfrm>
              <a:off x="4141440" y="5251320"/>
              <a:ext cx="10512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9" name="Line 192"/>
            <p:cNvSpPr/>
            <p:nvPr/>
          </p:nvSpPr>
          <p:spPr>
            <a:xfrm>
              <a:off x="4141440" y="5181480"/>
              <a:ext cx="1051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0" name="Line 193"/>
            <p:cNvSpPr/>
            <p:nvPr/>
          </p:nvSpPr>
          <p:spPr>
            <a:xfrm>
              <a:off x="4176360" y="5111640"/>
              <a:ext cx="1033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1" name="Line 194"/>
            <p:cNvSpPr/>
            <p:nvPr/>
          </p:nvSpPr>
          <p:spPr>
            <a:xfrm flipV="1">
              <a:off x="4176360" y="4767120"/>
              <a:ext cx="103320" cy="36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2" name="Line 195"/>
            <p:cNvSpPr/>
            <p:nvPr/>
          </p:nvSpPr>
          <p:spPr>
            <a:xfrm flipV="1">
              <a:off x="4211280" y="4838400"/>
              <a:ext cx="68400" cy="334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3" name="Line 196"/>
            <p:cNvSpPr/>
            <p:nvPr/>
          </p:nvSpPr>
          <p:spPr>
            <a:xfrm flipV="1">
              <a:off x="4141440" y="4698720"/>
              <a:ext cx="10512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4" name="Line 197"/>
            <p:cNvSpPr/>
            <p:nvPr/>
          </p:nvSpPr>
          <p:spPr>
            <a:xfrm flipV="1">
              <a:off x="4140000" y="4630680"/>
              <a:ext cx="71280" cy="666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5" name="Line 198"/>
            <p:cNvSpPr/>
            <p:nvPr/>
          </p:nvSpPr>
          <p:spPr>
            <a:xfrm flipV="1">
              <a:off x="3762360" y="4248000"/>
              <a:ext cx="33120" cy="1047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6" name="Line 199"/>
            <p:cNvSpPr/>
            <p:nvPr/>
          </p:nvSpPr>
          <p:spPr>
            <a:xfrm flipV="1">
              <a:off x="3795480" y="4319280"/>
              <a:ext cx="69840" cy="684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7" name="Line 200"/>
            <p:cNvSpPr/>
            <p:nvPr/>
          </p:nvSpPr>
          <p:spPr>
            <a:xfrm flipV="1">
              <a:off x="3900240" y="4352760"/>
              <a:ext cx="68400" cy="684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8" name="Line 201"/>
            <p:cNvSpPr/>
            <p:nvPr/>
          </p:nvSpPr>
          <p:spPr>
            <a:xfrm flipV="1">
              <a:off x="3968640" y="4421160"/>
              <a:ext cx="6984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9" name="Line 202"/>
            <p:cNvSpPr/>
            <p:nvPr/>
          </p:nvSpPr>
          <p:spPr>
            <a:xfrm flipV="1">
              <a:off x="4003560" y="4491000"/>
              <a:ext cx="10476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0" name="Line 203"/>
            <p:cNvSpPr/>
            <p:nvPr/>
          </p:nvSpPr>
          <p:spPr>
            <a:xfrm flipV="1">
              <a:off x="2896920" y="5181480"/>
              <a:ext cx="104760" cy="36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1" name="Line 204"/>
            <p:cNvSpPr/>
            <p:nvPr/>
          </p:nvSpPr>
          <p:spPr>
            <a:xfrm flipV="1">
              <a:off x="4108320" y="4593960"/>
              <a:ext cx="66600" cy="367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2" name="Line 205"/>
            <p:cNvSpPr/>
            <p:nvPr/>
          </p:nvSpPr>
          <p:spPr>
            <a:xfrm>
              <a:off x="2896920" y="4767120"/>
              <a:ext cx="104760" cy="36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3" name="Line 206"/>
            <p:cNvSpPr/>
            <p:nvPr/>
          </p:nvSpPr>
          <p:spPr>
            <a:xfrm>
              <a:off x="2865240" y="4836960"/>
              <a:ext cx="1015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4" name="Line 207"/>
            <p:cNvSpPr/>
            <p:nvPr/>
          </p:nvSpPr>
          <p:spPr>
            <a:xfrm>
              <a:off x="2865240" y="4905360"/>
              <a:ext cx="1015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5" name="Line 208"/>
            <p:cNvSpPr/>
            <p:nvPr/>
          </p:nvSpPr>
          <p:spPr>
            <a:xfrm>
              <a:off x="2865240" y="4973400"/>
              <a:ext cx="1015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6" name="Line 209"/>
            <p:cNvSpPr/>
            <p:nvPr/>
          </p:nvSpPr>
          <p:spPr>
            <a:xfrm>
              <a:off x="2865240" y="5078160"/>
              <a:ext cx="666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7" name="Line 210"/>
            <p:cNvSpPr/>
            <p:nvPr/>
          </p:nvSpPr>
          <p:spPr>
            <a:xfrm>
              <a:off x="2865240" y="5146560"/>
              <a:ext cx="1015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8" name="Line 211"/>
            <p:cNvSpPr/>
            <p:nvPr/>
          </p:nvSpPr>
          <p:spPr>
            <a:xfrm flipV="1">
              <a:off x="2896920" y="5251320"/>
              <a:ext cx="10476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9" name="Line 212"/>
            <p:cNvSpPr/>
            <p:nvPr/>
          </p:nvSpPr>
          <p:spPr>
            <a:xfrm flipV="1">
              <a:off x="2933640" y="5319360"/>
              <a:ext cx="104760" cy="349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0" name="Line 213"/>
            <p:cNvSpPr/>
            <p:nvPr/>
          </p:nvSpPr>
          <p:spPr>
            <a:xfrm flipV="1">
              <a:off x="3001680" y="5391000"/>
              <a:ext cx="69840" cy="334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1" name="Line 214"/>
            <p:cNvSpPr/>
            <p:nvPr/>
          </p:nvSpPr>
          <p:spPr>
            <a:xfrm flipV="1">
              <a:off x="3036600" y="5424480"/>
              <a:ext cx="6840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2" name="Line 215"/>
            <p:cNvSpPr/>
            <p:nvPr/>
          </p:nvSpPr>
          <p:spPr>
            <a:xfrm flipV="1">
              <a:off x="3071520" y="5492520"/>
              <a:ext cx="6696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Line 216"/>
            <p:cNvSpPr/>
            <p:nvPr/>
          </p:nvSpPr>
          <p:spPr>
            <a:xfrm flipV="1">
              <a:off x="3138480" y="5564160"/>
              <a:ext cx="36360" cy="331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Line 217"/>
            <p:cNvSpPr/>
            <p:nvPr/>
          </p:nvSpPr>
          <p:spPr>
            <a:xfrm flipH="1" flipV="1">
              <a:off x="3657600" y="5597280"/>
              <a:ext cx="36360" cy="1396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Line 218"/>
            <p:cNvSpPr/>
            <p:nvPr/>
          </p:nvSpPr>
          <p:spPr>
            <a:xfrm flipV="1">
              <a:off x="3590640" y="5630760"/>
              <a:ext cx="360" cy="1047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Line 219"/>
            <p:cNvSpPr/>
            <p:nvPr/>
          </p:nvSpPr>
          <p:spPr>
            <a:xfrm flipV="1">
              <a:off x="3278160" y="5595840"/>
              <a:ext cx="33120" cy="680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7" name="Line 220"/>
            <p:cNvSpPr/>
            <p:nvPr/>
          </p:nvSpPr>
          <p:spPr>
            <a:xfrm flipV="1">
              <a:off x="3348000" y="5632200"/>
              <a:ext cx="3312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8" name="Line 221"/>
            <p:cNvSpPr/>
            <p:nvPr/>
          </p:nvSpPr>
          <p:spPr>
            <a:xfrm flipV="1">
              <a:off x="3416040" y="5632200"/>
              <a:ext cx="33480" cy="69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Line 222"/>
            <p:cNvSpPr/>
            <p:nvPr/>
          </p:nvSpPr>
          <p:spPr>
            <a:xfrm flipV="1">
              <a:off x="3485880" y="5630760"/>
              <a:ext cx="36720" cy="1047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Line 223"/>
            <p:cNvSpPr/>
            <p:nvPr/>
          </p:nvSpPr>
          <p:spPr>
            <a:xfrm>
              <a:off x="4211280" y="4973400"/>
              <a:ext cx="10332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1" name="Line 224"/>
            <p:cNvSpPr/>
            <p:nvPr/>
          </p:nvSpPr>
          <p:spPr>
            <a:xfrm>
              <a:off x="4211280" y="5043240"/>
              <a:ext cx="684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2" name="Line 225"/>
            <p:cNvSpPr/>
            <p:nvPr/>
          </p:nvSpPr>
          <p:spPr>
            <a:xfrm flipV="1">
              <a:off x="4211280" y="4906800"/>
              <a:ext cx="68400" cy="334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3" name="Oval 226"/>
            <p:cNvSpPr/>
            <p:nvPr/>
          </p:nvSpPr>
          <p:spPr>
            <a:xfrm>
              <a:off x="3246480" y="4384800"/>
              <a:ext cx="131400" cy="1281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4" name="Oval 227"/>
            <p:cNvSpPr/>
            <p:nvPr/>
          </p:nvSpPr>
          <p:spPr>
            <a:xfrm>
              <a:off x="3903840" y="4486320"/>
              <a:ext cx="131400" cy="1299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Oval 228"/>
            <p:cNvSpPr/>
            <p:nvPr/>
          </p:nvSpPr>
          <p:spPr>
            <a:xfrm>
              <a:off x="4043520" y="5178600"/>
              <a:ext cx="131400" cy="1281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Oval 229"/>
            <p:cNvSpPr/>
            <p:nvPr/>
          </p:nvSpPr>
          <p:spPr>
            <a:xfrm>
              <a:off x="3836880" y="5454720"/>
              <a:ext cx="131400" cy="1299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7" name="Oval 230"/>
            <p:cNvSpPr/>
            <p:nvPr/>
          </p:nvSpPr>
          <p:spPr>
            <a:xfrm>
              <a:off x="3457440" y="5557680"/>
              <a:ext cx="129960" cy="1299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8" name="Oval 231"/>
            <p:cNvSpPr/>
            <p:nvPr/>
          </p:nvSpPr>
          <p:spPr>
            <a:xfrm>
              <a:off x="3111480" y="5418000"/>
              <a:ext cx="131400" cy="13140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9" name="Oval 232"/>
            <p:cNvSpPr/>
            <p:nvPr/>
          </p:nvSpPr>
          <p:spPr>
            <a:xfrm>
              <a:off x="2971800" y="4694400"/>
              <a:ext cx="131400" cy="13140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0" name="Oval 233"/>
            <p:cNvSpPr/>
            <p:nvPr/>
          </p:nvSpPr>
          <p:spPr>
            <a:xfrm>
              <a:off x="2938320" y="5073480"/>
              <a:ext cx="131400" cy="129960"/>
            </a:xfrm>
            <a:prstGeom prst="ellipse">
              <a:avLst/>
            </a:prstGeom>
            <a:solidFill>
              <a:srgbClr val="ff6699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1" name="Group 237"/>
          <p:cNvGrpSpPr/>
          <p:nvPr/>
        </p:nvGrpSpPr>
        <p:grpSpPr>
          <a:xfrm>
            <a:off x="6462000" y="717480"/>
            <a:ext cx="2644560" cy="2685600"/>
            <a:chOff x="6462000" y="717480"/>
            <a:chExt cx="2644560" cy="2685600"/>
          </a:xfrm>
        </p:grpSpPr>
        <p:sp>
          <p:nvSpPr>
            <p:cNvPr id="2802" name="Oval 235"/>
            <p:cNvSpPr/>
            <p:nvPr/>
          </p:nvSpPr>
          <p:spPr>
            <a:xfrm rot="2760000">
              <a:off x="6427800" y="1531440"/>
              <a:ext cx="2712600" cy="1056960"/>
            </a:xfrm>
            <a:prstGeom prst="ellipse">
              <a:avLst/>
            </a:prstGeom>
            <a:pattFill prst="smGrid">
              <a:fgClr>
                <a:srgbClr val="eeece1"/>
              </a:fgClr>
              <a:bgClr>
                <a:srgbClr val="cc0000"/>
              </a:bgClr>
            </a:pattFill>
            <a:ln w="508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 useBgFill="1">
          <p:nvSpPr>
            <p:cNvPr id="2803" name="Oval 236"/>
            <p:cNvSpPr/>
            <p:nvPr/>
          </p:nvSpPr>
          <p:spPr>
            <a:xfrm rot="2760000">
              <a:off x="6710400" y="1769760"/>
              <a:ext cx="2144520" cy="483840"/>
            </a:xfrm>
            <a:prstGeom prst="ellipse">
              <a:avLst/>
            </a:pr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4" name="Freeform 238"/>
          <p:cNvSpPr/>
          <p:nvPr/>
        </p:nvSpPr>
        <p:spPr>
          <a:xfrm>
            <a:off x="4718160" y="876240"/>
            <a:ext cx="4222440" cy="5471640"/>
          </a:xfrm>
          <a:custGeom>
            <a:avLst/>
            <a:gdLst>
              <a:gd name="textAreaLeft" fmla="*/ 0 w 4222440"/>
              <a:gd name="textAreaRight" fmla="*/ 4222800 w 4222440"/>
              <a:gd name="textAreaTop" fmla="*/ 0 h 5471640"/>
              <a:gd name="textAreaBottom" fmla="*/ 5472000 h 5471640"/>
            </a:gdLst>
            <a:ahLst/>
            <a:rect l="textAreaLeft" t="textAreaTop" r="textAreaRight" b="textAreaBottom"/>
            <a:pathLst>
              <a:path w="2660" h="3447">
                <a:moveTo>
                  <a:pt x="0" y="6"/>
                </a:moveTo>
                <a:lnTo>
                  <a:pt x="45" y="0"/>
                </a:lnTo>
                <a:lnTo>
                  <a:pt x="75" y="0"/>
                </a:lnTo>
                <a:lnTo>
                  <a:pt x="134" y="0"/>
                </a:lnTo>
                <a:lnTo>
                  <a:pt x="194" y="19"/>
                </a:lnTo>
                <a:lnTo>
                  <a:pt x="273" y="29"/>
                </a:lnTo>
                <a:lnTo>
                  <a:pt x="303" y="48"/>
                </a:lnTo>
                <a:lnTo>
                  <a:pt x="332" y="58"/>
                </a:lnTo>
                <a:lnTo>
                  <a:pt x="361" y="68"/>
                </a:lnTo>
                <a:lnTo>
                  <a:pt x="391" y="78"/>
                </a:lnTo>
                <a:lnTo>
                  <a:pt x="470" y="88"/>
                </a:lnTo>
                <a:lnTo>
                  <a:pt x="530" y="98"/>
                </a:lnTo>
                <a:lnTo>
                  <a:pt x="609" y="118"/>
                </a:lnTo>
                <a:lnTo>
                  <a:pt x="669" y="128"/>
                </a:lnTo>
                <a:lnTo>
                  <a:pt x="768" y="138"/>
                </a:lnTo>
                <a:lnTo>
                  <a:pt x="807" y="147"/>
                </a:lnTo>
                <a:lnTo>
                  <a:pt x="847" y="157"/>
                </a:lnTo>
                <a:lnTo>
                  <a:pt x="877" y="157"/>
                </a:lnTo>
                <a:lnTo>
                  <a:pt x="906" y="157"/>
                </a:lnTo>
                <a:lnTo>
                  <a:pt x="936" y="157"/>
                </a:lnTo>
                <a:lnTo>
                  <a:pt x="966" y="157"/>
                </a:lnTo>
                <a:lnTo>
                  <a:pt x="1025" y="147"/>
                </a:lnTo>
                <a:lnTo>
                  <a:pt x="1094" y="128"/>
                </a:lnTo>
                <a:lnTo>
                  <a:pt x="1133" y="108"/>
                </a:lnTo>
                <a:lnTo>
                  <a:pt x="1173" y="98"/>
                </a:lnTo>
                <a:lnTo>
                  <a:pt x="1242" y="78"/>
                </a:lnTo>
                <a:lnTo>
                  <a:pt x="1272" y="58"/>
                </a:lnTo>
                <a:lnTo>
                  <a:pt x="1302" y="39"/>
                </a:lnTo>
                <a:lnTo>
                  <a:pt x="1332" y="29"/>
                </a:lnTo>
                <a:lnTo>
                  <a:pt x="1361" y="19"/>
                </a:lnTo>
                <a:lnTo>
                  <a:pt x="1401" y="9"/>
                </a:lnTo>
                <a:lnTo>
                  <a:pt x="1470" y="9"/>
                </a:lnTo>
                <a:lnTo>
                  <a:pt x="1510" y="9"/>
                </a:lnTo>
                <a:lnTo>
                  <a:pt x="1550" y="9"/>
                </a:lnTo>
                <a:lnTo>
                  <a:pt x="1579" y="9"/>
                </a:lnTo>
                <a:lnTo>
                  <a:pt x="1619" y="19"/>
                </a:lnTo>
                <a:lnTo>
                  <a:pt x="1659" y="39"/>
                </a:lnTo>
                <a:lnTo>
                  <a:pt x="1688" y="48"/>
                </a:lnTo>
                <a:lnTo>
                  <a:pt x="1718" y="58"/>
                </a:lnTo>
                <a:lnTo>
                  <a:pt x="1758" y="78"/>
                </a:lnTo>
                <a:lnTo>
                  <a:pt x="1787" y="98"/>
                </a:lnTo>
                <a:lnTo>
                  <a:pt x="1827" y="118"/>
                </a:lnTo>
                <a:lnTo>
                  <a:pt x="1896" y="138"/>
                </a:lnTo>
                <a:lnTo>
                  <a:pt x="1925" y="167"/>
                </a:lnTo>
                <a:lnTo>
                  <a:pt x="2005" y="197"/>
                </a:lnTo>
                <a:lnTo>
                  <a:pt x="2074" y="227"/>
                </a:lnTo>
                <a:lnTo>
                  <a:pt x="2114" y="256"/>
                </a:lnTo>
                <a:lnTo>
                  <a:pt x="2143" y="286"/>
                </a:lnTo>
                <a:lnTo>
                  <a:pt x="2173" y="296"/>
                </a:lnTo>
                <a:lnTo>
                  <a:pt x="2203" y="316"/>
                </a:lnTo>
                <a:lnTo>
                  <a:pt x="2232" y="336"/>
                </a:lnTo>
                <a:lnTo>
                  <a:pt x="2252" y="366"/>
                </a:lnTo>
                <a:lnTo>
                  <a:pt x="2282" y="395"/>
                </a:lnTo>
                <a:lnTo>
                  <a:pt x="2302" y="425"/>
                </a:lnTo>
                <a:lnTo>
                  <a:pt x="2322" y="455"/>
                </a:lnTo>
                <a:lnTo>
                  <a:pt x="2341" y="494"/>
                </a:lnTo>
                <a:lnTo>
                  <a:pt x="2371" y="534"/>
                </a:lnTo>
                <a:lnTo>
                  <a:pt x="2391" y="564"/>
                </a:lnTo>
                <a:lnTo>
                  <a:pt x="2411" y="594"/>
                </a:lnTo>
                <a:lnTo>
                  <a:pt x="2431" y="623"/>
                </a:lnTo>
                <a:lnTo>
                  <a:pt x="2450" y="653"/>
                </a:lnTo>
                <a:lnTo>
                  <a:pt x="2480" y="683"/>
                </a:lnTo>
                <a:lnTo>
                  <a:pt x="2490" y="712"/>
                </a:lnTo>
                <a:lnTo>
                  <a:pt x="2520" y="741"/>
                </a:lnTo>
                <a:lnTo>
                  <a:pt x="2540" y="771"/>
                </a:lnTo>
                <a:lnTo>
                  <a:pt x="2550" y="801"/>
                </a:lnTo>
                <a:lnTo>
                  <a:pt x="2560" y="830"/>
                </a:lnTo>
                <a:lnTo>
                  <a:pt x="2569" y="860"/>
                </a:lnTo>
                <a:lnTo>
                  <a:pt x="2579" y="890"/>
                </a:lnTo>
                <a:lnTo>
                  <a:pt x="2599" y="920"/>
                </a:lnTo>
                <a:lnTo>
                  <a:pt x="2599" y="949"/>
                </a:lnTo>
                <a:lnTo>
                  <a:pt x="2609" y="979"/>
                </a:lnTo>
                <a:lnTo>
                  <a:pt x="2609" y="1009"/>
                </a:lnTo>
                <a:lnTo>
                  <a:pt x="2619" y="1039"/>
                </a:lnTo>
                <a:lnTo>
                  <a:pt x="2629" y="1068"/>
                </a:lnTo>
                <a:lnTo>
                  <a:pt x="2639" y="1098"/>
                </a:lnTo>
                <a:lnTo>
                  <a:pt x="2649" y="1128"/>
                </a:lnTo>
                <a:lnTo>
                  <a:pt x="2659" y="1158"/>
                </a:lnTo>
                <a:lnTo>
                  <a:pt x="2659" y="1187"/>
                </a:lnTo>
                <a:lnTo>
                  <a:pt x="2659" y="1217"/>
                </a:lnTo>
                <a:lnTo>
                  <a:pt x="2659" y="1247"/>
                </a:lnTo>
                <a:lnTo>
                  <a:pt x="2659" y="1277"/>
                </a:lnTo>
                <a:lnTo>
                  <a:pt x="2659" y="1306"/>
                </a:lnTo>
                <a:lnTo>
                  <a:pt x="2659" y="1336"/>
                </a:lnTo>
                <a:lnTo>
                  <a:pt x="2649" y="1366"/>
                </a:lnTo>
                <a:lnTo>
                  <a:pt x="2639" y="1395"/>
                </a:lnTo>
                <a:lnTo>
                  <a:pt x="2629" y="1425"/>
                </a:lnTo>
                <a:lnTo>
                  <a:pt x="2609" y="1454"/>
                </a:lnTo>
                <a:lnTo>
                  <a:pt x="2589" y="1484"/>
                </a:lnTo>
                <a:lnTo>
                  <a:pt x="2569" y="1553"/>
                </a:lnTo>
                <a:lnTo>
                  <a:pt x="2550" y="1632"/>
                </a:lnTo>
                <a:lnTo>
                  <a:pt x="2530" y="1771"/>
                </a:lnTo>
                <a:lnTo>
                  <a:pt x="2450" y="1930"/>
                </a:lnTo>
                <a:lnTo>
                  <a:pt x="2391" y="2069"/>
                </a:lnTo>
                <a:lnTo>
                  <a:pt x="2371" y="2226"/>
                </a:lnTo>
                <a:lnTo>
                  <a:pt x="2312" y="2325"/>
                </a:lnTo>
                <a:lnTo>
                  <a:pt x="2302" y="2385"/>
                </a:lnTo>
                <a:lnTo>
                  <a:pt x="2282" y="2415"/>
                </a:lnTo>
                <a:lnTo>
                  <a:pt x="2272" y="2444"/>
                </a:lnTo>
                <a:lnTo>
                  <a:pt x="2262" y="2474"/>
                </a:lnTo>
                <a:lnTo>
                  <a:pt x="2242" y="2553"/>
                </a:lnTo>
                <a:lnTo>
                  <a:pt x="2223" y="2593"/>
                </a:lnTo>
                <a:lnTo>
                  <a:pt x="2203" y="2633"/>
                </a:lnTo>
                <a:lnTo>
                  <a:pt x="2183" y="2732"/>
                </a:lnTo>
                <a:lnTo>
                  <a:pt x="2173" y="2791"/>
                </a:lnTo>
                <a:lnTo>
                  <a:pt x="2163" y="2850"/>
                </a:lnTo>
                <a:lnTo>
                  <a:pt x="2153" y="2929"/>
                </a:lnTo>
                <a:lnTo>
                  <a:pt x="2143" y="3008"/>
                </a:lnTo>
                <a:lnTo>
                  <a:pt x="2123" y="3088"/>
                </a:lnTo>
                <a:lnTo>
                  <a:pt x="2114" y="3147"/>
                </a:lnTo>
                <a:lnTo>
                  <a:pt x="2114" y="3207"/>
                </a:lnTo>
                <a:lnTo>
                  <a:pt x="2104" y="3246"/>
                </a:lnTo>
                <a:lnTo>
                  <a:pt x="2094" y="3276"/>
                </a:lnTo>
                <a:lnTo>
                  <a:pt x="2084" y="3306"/>
                </a:lnTo>
                <a:lnTo>
                  <a:pt x="2074" y="3336"/>
                </a:lnTo>
                <a:lnTo>
                  <a:pt x="2074" y="3365"/>
                </a:lnTo>
                <a:lnTo>
                  <a:pt x="2064" y="3405"/>
                </a:lnTo>
                <a:lnTo>
                  <a:pt x="2054" y="3435"/>
                </a:lnTo>
                <a:lnTo>
                  <a:pt x="2046" y="3446"/>
                </a:lnTo>
              </a:path>
            </a:pathLst>
          </a:custGeom>
          <a:noFill/>
          <a:ln cap="rnd"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Freeform 239"/>
          <p:cNvSpPr/>
          <p:nvPr/>
        </p:nvSpPr>
        <p:spPr>
          <a:xfrm>
            <a:off x="7897680" y="3233880"/>
            <a:ext cx="585360" cy="3044520"/>
          </a:xfrm>
          <a:custGeom>
            <a:avLst/>
            <a:gdLst>
              <a:gd name="textAreaLeft" fmla="*/ 0 w 585360"/>
              <a:gd name="textAreaRight" fmla="*/ 585720 w 585360"/>
              <a:gd name="textAreaTop" fmla="*/ 0 h 3044520"/>
              <a:gd name="textAreaBottom" fmla="*/ 3044880 h 3044520"/>
            </a:gdLst>
            <a:ahLst/>
            <a:rect l="textAreaLeft" t="textAreaTop" r="textAreaRight" b="textAreaBottom"/>
            <a:pathLst>
              <a:path w="369" h="1918">
                <a:moveTo>
                  <a:pt x="0" y="1917"/>
                </a:moveTo>
                <a:lnTo>
                  <a:pt x="31" y="1869"/>
                </a:lnTo>
                <a:lnTo>
                  <a:pt x="41" y="1840"/>
                </a:lnTo>
                <a:lnTo>
                  <a:pt x="41" y="1810"/>
                </a:lnTo>
                <a:lnTo>
                  <a:pt x="51" y="1780"/>
                </a:lnTo>
                <a:lnTo>
                  <a:pt x="51" y="1750"/>
                </a:lnTo>
                <a:lnTo>
                  <a:pt x="51" y="1721"/>
                </a:lnTo>
                <a:lnTo>
                  <a:pt x="51" y="1691"/>
                </a:lnTo>
                <a:lnTo>
                  <a:pt x="51" y="1661"/>
                </a:lnTo>
                <a:lnTo>
                  <a:pt x="51" y="1622"/>
                </a:lnTo>
                <a:lnTo>
                  <a:pt x="51" y="1592"/>
                </a:lnTo>
                <a:lnTo>
                  <a:pt x="51" y="1553"/>
                </a:lnTo>
                <a:lnTo>
                  <a:pt x="61" y="1523"/>
                </a:lnTo>
                <a:lnTo>
                  <a:pt x="61" y="1484"/>
                </a:lnTo>
                <a:lnTo>
                  <a:pt x="61" y="1424"/>
                </a:lnTo>
                <a:lnTo>
                  <a:pt x="71" y="1385"/>
                </a:lnTo>
                <a:lnTo>
                  <a:pt x="81" y="1345"/>
                </a:lnTo>
                <a:lnTo>
                  <a:pt x="91" y="1286"/>
                </a:lnTo>
                <a:lnTo>
                  <a:pt x="91" y="1226"/>
                </a:lnTo>
                <a:lnTo>
                  <a:pt x="91" y="1167"/>
                </a:lnTo>
                <a:lnTo>
                  <a:pt x="101" y="1127"/>
                </a:lnTo>
                <a:lnTo>
                  <a:pt x="111" y="1067"/>
                </a:lnTo>
                <a:lnTo>
                  <a:pt x="130" y="1028"/>
                </a:lnTo>
                <a:lnTo>
                  <a:pt x="140" y="968"/>
                </a:lnTo>
                <a:lnTo>
                  <a:pt x="150" y="909"/>
                </a:lnTo>
                <a:lnTo>
                  <a:pt x="160" y="869"/>
                </a:lnTo>
                <a:lnTo>
                  <a:pt x="170" y="830"/>
                </a:lnTo>
                <a:lnTo>
                  <a:pt x="190" y="790"/>
                </a:lnTo>
                <a:lnTo>
                  <a:pt x="200" y="760"/>
                </a:lnTo>
                <a:lnTo>
                  <a:pt x="210" y="720"/>
                </a:lnTo>
                <a:lnTo>
                  <a:pt x="220" y="661"/>
                </a:lnTo>
                <a:lnTo>
                  <a:pt x="239" y="621"/>
                </a:lnTo>
                <a:lnTo>
                  <a:pt x="249" y="582"/>
                </a:lnTo>
                <a:lnTo>
                  <a:pt x="259" y="542"/>
                </a:lnTo>
                <a:lnTo>
                  <a:pt x="269" y="512"/>
                </a:lnTo>
                <a:lnTo>
                  <a:pt x="279" y="483"/>
                </a:lnTo>
                <a:lnTo>
                  <a:pt x="289" y="443"/>
                </a:lnTo>
                <a:lnTo>
                  <a:pt x="299" y="403"/>
                </a:lnTo>
                <a:lnTo>
                  <a:pt x="309" y="373"/>
                </a:lnTo>
                <a:lnTo>
                  <a:pt x="319" y="314"/>
                </a:lnTo>
                <a:lnTo>
                  <a:pt x="329" y="275"/>
                </a:lnTo>
                <a:lnTo>
                  <a:pt x="338" y="245"/>
                </a:lnTo>
                <a:lnTo>
                  <a:pt x="348" y="216"/>
                </a:lnTo>
                <a:lnTo>
                  <a:pt x="358" y="186"/>
                </a:lnTo>
                <a:lnTo>
                  <a:pt x="368" y="156"/>
                </a:lnTo>
                <a:lnTo>
                  <a:pt x="368" y="127"/>
                </a:lnTo>
                <a:lnTo>
                  <a:pt x="368" y="97"/>
                </a:lnTo>
                <a:lnTo>
                  <a:pt x="368" y="67"/>
                </a:lnTo>
                <a:lnTo>
                  <a:pt x="368" y="37"/>
                </a:lnTo>
                <a:lnTo>
                  <a:pt x="368" y="8"/>
                </a:lnTo>
                <a:lnTo>
                  <a:pt x="348" y="0"/>
                </a:lnTo>
              </a:path>
            </a:pathLst>
          </a:custGeom>
          <a:noFill/>
          <a:ln cap="rnd"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6" name="Freeform 240"/>
          <p:cNvSpPr/>
          <p:nvPr/>
        </p:nvSpPr>
        <p:spPr>
          <a:xfrm>
            <a:off x="4929120" y="1022400"/>
            <a:ext cx="1794960" cy="309240"/>
          </a:xfrm>
          <a:custGeom>
            <a:avLst/>
            <a:gdLst>
              <a:gd name="textAreaLeft" fmla="*/ 0 w 1794960"/>
              <a:gd name="textAreaRight" fmla="*/ 1795320 w 1794960"/>
              <a:gd name="textAreaTop" fmla="*/ 0 h 309240"/>
              <a:gd name="textAreaBottom" fmla="*/ 309600 h 309240"/>
            </a:gdLst>
            <a:ahLst/>
            <a:rect l="textAreaLeft" t="textAreaTop" r="textAreaRight" b="textAreaBottom"/>
            <a:pathLst>
              <a:path w="1131" h="195">
                <a:moveTo>
                  <a:pt x="1130" y="174"/>
                </a:moveTo>
                <a:lnTo>
                  <a:pt x="1071" y="194"/>
                </a:lnTo>
                <a:lnTo>
                  <a:pt x="1041" y="194"/>
                </a:lnTo>
                <a:lnTo>
                  <a:pt x="982" y="194"/>
                </a:lnTo>
                <a:lnTo>
                  <a:pt x="942" y="194"/>
                </a:lnTo>
                <a:lnTo>
                  <a:pt x="902" y="194"/>
                </a:lnTo>
                <a:lnTo>
                  <a:pt x="873" y="194"/>
                </a:lnTo>
                <a:lnTo>
                  <a:pt x="794" y="194"/>
                </a:lnTo>
                <a:lnTo>
                  <a:pt x="764" y="194"/>
                </a:lnTo>
                <a:lnTo>
                  <a:pt x="735" y="194"/>
                </a:lnTo>
                <a:lnTo>
                  <a:pt x="705" y="194"/>
                </a:lnTo>
                <a:lnTo>
                  <a:pt x="675" y="183"/>
                </a:lnTo>
                <a:lnTo>
                  <a:pt x="636" y="183"/>
                </a:lnTo>
                <a:lnTo>
                  <a:pt x="606" y="173"/>
                </a:lnTo>
                <a:lnTo>
                  <a:pt x="566" y="154"/>
                </a:lnTo>
                <a:lnTo>
                  <a:pt x="537" y="154"/>
                </a:lnTo>
                <a:lnTo>
                  <a:pt x="507" y="144"/>
                </a:lnTo>
                <a:lnTo>
                  <a:pt x="468" y="134"/>
                </a:lnTo>
                <a:lnTo>
                  <a:pt x="409" y="124"/>
                </a:lnTo>
                <a:lnTo>
                  <a:pt x="379" y="114"/>
                </a:lnTo>
                <a:lnTo>
                  <a:pt x="339" y="104"/>
                </a:lnTo>
                <a:lnTo>
                  <a:pt x="310" y="104"/>
                </a:lnTo>
                <a:lnTo>
                  <a:pt x="280" y="94"/>
                </a:lnTo>
                <a:lnTo>
                  <a:pt x="250" y="94"/>
                </a:lnTo>
                <a:lnTo>
                  <a:pt x="220" y="94"/>
                </a:lnTo>
                <a:lnTo>
                  <a:pt x="191" y="74"/>
                </a:lnTo>
                <a:lnTo>
                  <a:pt x="152" y="64"/>
                </a:lnTo>
                <a:lnTo>
                  <a:pt x="122" y="64"/>
                </a:lnTo>
                <a:lnTo>
                  <a:pt x="93" y="45"/>
                </a:lnTo>
                <a:lnTo>
                  <a:pt x="63" y="35"/>
                </a:lnTo>
                <a:lnTo>
                  <a:pt x="33" y="15"/>
                </a:lnTo>
                <a:lnTo>
                  <a:pt x="3" y="5"/>
                </a:lnTo>
                <a:lnTo>
                  <a:pt x="0" y="0"/>
                </a:lnTo>
              </a:path>
            </a:pathLst>
          </a:custGeom>
          <a:noFill/>
          <a:ln cap="rnd" w="5080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Rectangle 241"/>
          <p:cNvSpPr/>
          <p:nvPr/>
        </p:nvSpPr>
        <p:spPr>
          <a:xfrm>
            <a:off x="2057400" y="5943600"/>
            <a:ext cx="2971440" cy="36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ff3399"/>
                </a:solidFill>
                <a:latin typeface="Calibri"/>
              </a:rPr>
              <a:t>STRIATED </a:t>
            </a:r>
            <a:r>
              <a:rPr b="0" lang="ru-RU" sz="1800" spc="-1" strike="noStrike">
                <a:solidFill>
                  <a:srgbClr val="ff3399"/>
                </a:solidFill>
                <a:latin typeface="Calibri"/>
              </a:rPr>
              <a:t>DUCT   (f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Line 242"/>
          <p:cNvSpPr/>
          <p:nvPr/>
        </p:nvSpPr>
        <p:spPr>
          <a:xfrm flipV="1">
            <a:off x="2438280" y="5410080"/>
            <a:ext cx="457200" cy="533520"/>
          </a:xfrm>
          <a:prstGeom prst="line">
            <a:avLst/>
          </a:prstGeom>
          <a:ln w="12700">
            <a:solidFill>
              <a:srgbClr val="ff3399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Rectangle 243"/>
          <p:cNvSpPr/>
          <p:nvPr/>
        </p:nvSpPr>
        <p:spPr>
          <a:xfrm>
            <a:off x="304920" y="685800"/>
            <a:ext cx="3580920" cy="36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ff9966"/>
                </a:solidFill>
                <a:latin typeface="Calibri"/>
              </a:rPr>
              <a:t>INTER LOBULAR 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Arc 244"/>
          <p:cNvSpPr/>
          <p:nvPr/>
        </p:nvSpPr>
        <p:spPr>
          <a:xfrm>
            <a:off x="3960720" y="763560"/>
            <a:ext cx="3506400" cy="761760"/>
          </a:xfrm>
          <a:custGeom>
            <a:avLst/>
            <a:gdLst>
              <a:gd name="textAreaLeft" fmla="*/ 0 w 3506400"/>
              <a:gd name="textAreaRight" fmla="*/ 3506760 w 35064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fill="none" w="21610" h="21600">
                <a:moveTo>
                  <a:pt x="0" y="0"/>
                </a:moveTo>
                <a:cubicBezTo>
                  <a:pt x="3" y="0"/>
                  <a:pt x="6" y="-1"/>
                  <a:pt x="10" y="0"/>
                </a:cubicBezTo>
                <a:cubicBezTo>
                  <a:pt x="11939" y="0"/>
                  <a:pt x="21610" y="9670"/>
                  <a:pt x="21610" y="21600"/>
                </a:cubicBezTo>
              </a:path>
              <a:path stroke="0" w="21610" h="21600">
                <a:moveTo>
                  <a:pt x="0" y="0"/>
                </a:moveTo>
                <a:cubicBezTo>
                  <a:pt x="3" y="0"/>
                  <a:pt x="6" y="-1"/>
                  <a:pt x="10" y="0"/>
                </a:cubicBezTo>
                <a:cubicBezTo>
                  <a:pt x="11939" y="0"/>
                  <a:pt x="21610" y="9670"/>
                  <a:pt x="21610" y="21600"/>
                </a:cubicBezTo>
                <a:lnTo>
                  <a:pt x="10" y="21600"/>
                </a:lnTo>
                <a:close/>
              </a:path>
            </a:pathLst>
          </a:custGeom>
          <a:noFill/>
          <a:ln cap="rnd" w="25400">
            <a:solidFill>
              <a:srgbClr val="ff9966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11" name="Group 282"/>
          <p:cNvGrpSpPr/>
          <p:nvPr/>
        </p:nvGrpSpPr>
        <p:grpSpPr>
          <a:xfrm>
            <a:off x="115920" y="1744560"/>
            <a:ext cx="2468160" cy="2087280"/>
            <a:chOff x="115920" y="1744560"/>
            <a:chExt cx="2468160" cy="2087280"/>
          </a:xfrm>
        </p:grpSpPr>
        <p:sp>
          <p:nvSpPr>
            <p:cNvPr id="2812" name="Freeform 245"/>
            <p:cNvSpPr/>
            <p:nvPr/>
          </p:nvSpPr>
          <p:spPr>
            <a:xfrm>
              <a:off x="1549440" y="3154320"/>
              <a:ext cx="471240" cy="46332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97" h="292">
                  <a:moveTo>
                    <a:pt x="197" y="291"/>
                  </a:moveTo>
                  <a:lnTo>
                    <a:pt x="209" y="273"/>
                  </a:lnTo>
                  <a:lnTo>
                    <a:pt x="227" y="245"/>
                  </a:lnTo>
                  <a:lnTo>
                    <a:pt x="249" y="207"/>
                  </a:lnTo>
                  <a:lnTo>
                    <a:pt x="263" y="196"/>
                  </a:lnTo>
                  <a:lnTo>
                    <a:pt x="272" y="182"/>
                  </a:lnTo>
                  <a:lnTo>
                    <a:pt x="283" y="165"/>
                  </a:lnTo>
                  <a:lnTo>
                    <a:pt x="292" y="150"/>
                  </a:lnTo>
                  <a:lnTo>
                    <a:pt x="296" y="134"/>
                  </a:lnTo>
                  <a:lnTo>
                    <a:pt x="287" y="116"/>
                  </a:lnTo>
                  <a:lnTo>
                    <a:pt x="276" y="102"/>
                  </a:lnTo>
                  <a:lnTo>
                    <a:pt x="266" y="89"/>
                  </a:lnTo>
                  <a:lnTo>
                    <a:pt x="253" y="81"/>
                  </a:lnTo>
                  <a:lnTo>
                    <a:pt x="238" y="71"/>
                  </a:lnTo>
                  <a:lnTo>
                    <a:pt x="223" y="63"/>
                  </a:lnTo>
                  <a:lnTo>
                    <a:pt x="210" y="55"/>
                  </a:lnTo>
                  <a:lnTo>
                    <a:pt x="196" y="45"/>
                  </a:lnTo>
                  <a:lnTo>
                    <a:pt x="183" y="37"/>
                  </a:lnTo>
                  <a:lnTo>
                    <a:pt x="150" y="17"/>
                  </a:lnTo>
                  <a:lnTo>
                    <a:pt x="136" y="8"/>
                  </a:lnTo>
                  <a:lnTo>
                    <a:pt x="122" y="0"/>
                  </a:lnTo>
                  <a:lnTo>
                    <a:pt x="109" y="11"/>
                  </a:lnTo>
                  <a:lnTo>
                    <a:pt x="95" y="22"/>
                  </a:lnTo>
                  <a:lnTo>
                    <a:pt x="87" y="35"/>
                  </a:lnTo>
                  <a:lnTo>
                    <a:pt x="77" y="49"/>
                  </a:lnTo>
                  <a:lnTo>
                    <a:pt x="70" y="62"/>
                  </a:lnTo>
                  <a:lnTo>
                    <a:pt x="61" y="76"/>
                  </a:lnTo>
                  <a:lnTo>
                    <a:pt x="52" y="91"/>
                  </a:lnTo>
                  <a:lnTo>
                    <a:pt x="44" y="104"/>
                  </a:lnTo>
                  <a:lnTo>
                    <a:pt x="36" y="119"/>
                  </a:lnTo>
                  <a:lnTo>
                    <a:pt x="26" y="132"/>
                  </a:lnTo>
                  <a:lnTo>
                    <a:pt x="17" y="146"/>
                  </a:lnTo>
                  <a:lnTo>
                    <a:pt x="8" y="160"/>
                  </a:lnTo>
                  <a:lnTo>
                    <a:pt x="0" y="173"/>
                  </a:lnTo>
                  <a:lnTo>
                    <a:pt x="14" y="183"/>
                  </a:lnTo>
                  <a:lnTo>
                    <a:pt x="27" y="192"/>
                  </a:lnTo>
                  <a:lnTo>
                    <a:pt x="42" y="199"/>
                  </a:lnTo>
                  <a:lnTo>
                    <a:pt x="53" y="213"/>
                  </a:lnTo>
                  <a:lnTo>
                    <a:pt x="67" y="222"/>
                  </a:lnTo>
                  <a:lnTo>
                    <a:pt x="80" y="230"/>
                  </a:lnTo>
                  <a:lnTo>
                    <a:pt x="95" y="239"/>
                  </a:lnTo>
                  <a:lnTo>
                    <a:pt x="108" y="249"/>
                  </a:lnTo>
                  <a:lnTo>
                    <a:pt x="122" y="257"/>
                  </a:lnTo>
                  <a:lnTo>
                    <a:pt x="135" y="265"/>
                  </a:lnTo>
                  <a:lnTo>
                    <a:pt x="150" y="275"/>
                  </a:lnTo>
                  <a:lnTo>
                    <a:pt x="165" y="283"/>
                  </a:lnTo>
                  <a:lnTo>
                    <a:pt x="197" y="291"/>
                  </a:lnTo>
                  <a:lnTo>
                    <a:pt x="197" y="291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3" name="Oval 246"/>
            <p:cNvSpPr/>
            <p:nvPr/>
          </p:nvSpPr>
          <p:spPr>
            <a:xfrm rot="12720000">
              <a:off x="1573560" y="3449880"/>
              <a:ext cx="291600" cy="68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4" name="Freeform 247"/>
            <p:cNvSpPr/>
            <p:nvPr/>
          </p:nvSpPr>
          <p:spPr>
            <a:xfrm>
              <a:off x="1258920" y="2973240"/>
              <a:ext cx="469440" cy="46476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296" h="293">
                  <a:moveTo>
                    <a:pt x="197" y="292"/>
                  </a:moveTo>
                  <a:lnTo>
                    <a:pt x="209" y="272"/>
                  </a:lnTo>
                  <a:lnTo>
                    <a:pt x="226" y="244"/>
                  </a:lnTo>
                  <a:lnTo>
                    <a:pt x="250" y="208"/>
                  </a:lnTo>
                  <a:lnTo>
                    <a:pt x="263" y="196"/>
                  </a:lnTo>
                  <a:lnTo>
                    <a:pt x="272" y="183"/>
                  </a:lnTo>
                  <a:lnTo>
                    <a:pt x="284" y="164"/>
                  </a:lnTo>
                  <a:lnTo>
                    <a:pt x="292" y="150"/>
                  </a:lnTo>
                  <a:lnTo>
                    <a:pt x="295" y="133"/>
                  </a:lnTo>
                  <a:lnTo>
                    <a:pt x="288" y="115"/>
                  </a:lnTo>
                  <a:lnTo>
                    <a:pt x="277" y="102"/>
                  </a:lnTo>
                  <a:lnTo>
                    <a:pt x="265" y="89"/>
                  </a:lnTo>
                  <a:lnTo>
                    <a:pt x="251" y="79"/>
                  </a:lnTo>
                  <a:lnTo>
                    <a:pt x="238" y="72"/>
                  </a:lnTo>
                  <a:lnTo>
                    <a:pt x="224" y="63"/>
                  </a:lnTo>
                  <a:lnTo>
                    <a:pt x="210" y="54"/>
                  </a:lnTo>
                  <a:lnTo>
                    <a:pt x="197" y="46"/>
                  </a:lnTo>
                  <a:lnTo>
                    <a:pt x="182" y="37"/>
                  </a:lnTo>
                  <a:lnTo>
                    <a:pt x="150" y="16"/>
                  </a:lnTo>
                  <a:lnTo>
                    <a:pt x="136" y="8"/>
                  </a:lnTo>
                  <a:lnTo>
                    <a:pt x="121" y="0"/>
                  </a:lnTo>
                  <a:lnTo>
                    <a:pt x="110" y="10"/>
                  </a:lnTo>
                  <a:lnTo>
                    <a:pt x="96" y="21"/>
                  </a:lnTo>
                  <a:lnTo>
                    <a:pt x="86" y="35"/>
                  </a:lnTo>
                  <a:lnTo>
                    <a:pt x="78" y="48"/>
                  </a:lnTo>
                  <a:lnTo>
                    <a:pt x="70" y="62"/>
                  </a:lnTo>
                  <a:lnTo>
                    <a:pt x="60" y="77"/>
                  </a:lnTo>
                  <a:lnTo>
                    <a:pt x="52" y="90"/>
                  </a:lnTo>
                  <a:lnTo>
                    <a:pt x="44" y="105"/>
                  </a:lnTo>
                  <a:lnTo>
                    <a:pt x="35" y="118"/>
                  </a:lnTo>
                  <a:lnTo>
                    <a:pt x="27" y="132"/>
                  </a:lnTo>
                  <a:lnTo>
                    <a:pt x="17" y="146"/>
                  </a:lnTo>
                  <a:lnTo>
                    <a:pt x="8" y="160"/>
                  </a:lnTo>
                  <a:lnTo>
                    <a:pt x="0" y="174"/>
                  </a:lnTo>
                  <a:lnTo>
                    <a:pt x="14" y="182"/>
                  </a:lnTo>
                  <a:lnTo>
                    <a:pt x="27" y="191"/>
                  </a:lnTo>
                  <a:lnTo>
                    <a:pt x="42" y="200"/>
                  </a:lnTo>
                  <a:lnTo>
                    <a:pt x="53" y="213"/>
                  </a:lnTo>
                  <a:lnTo>
                    <a:pt x="67" y="221"/>
                  </a:lnTo>
                  <a:lnTo>
                    <a:pt x="80" y="230"/>
                  </a:lnTo>
                  <a:lnTo>
                    <a:pt x="94" y="240"/>
                  </a:lnTo>
                  <a:lnTo>
                    <a:pt x="109" y="248"/>
                  </a:lnTo>
                  <a:lnTo>
                    <a:pt x="123" y="256"/>
                  </a:lnTo>
                  <a:lnTo>
                    <a:pt x="137" y="265"/>
                  </a:lnTo>
                  <a:lnTo>
                    <a:pt x="150" y="273"/>
                  </a:lnTo>
                  <a:lnTo>
                    <a:pt x="164" y="282"/>
                  </a:lnTo>
                  <a:lnTo>
                    <a:pt x="197" y="292"/>
                  </a:lnTo>
                  <a:lnTo>
                    <a:pt x="197" y="292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5" name="Oval 248"/>
            <p:cNvSpPr/>
            <p:nvPr/>
          </p:nvSpPr>
          <p:spPr>
            <a:xfrm rot="12720000">
              <a:off x="1281240" y="3270240"/>
              <a:ext cx="294840" cy="6480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6" name="Freeform 249"/>
            <p:cNvSpPr/>
            <p:nvPr/>
          </p:nvSpPr>
          <p:spPr>
            <a:xfrm>
              <a:off x="966960" y="2789280"/>
              <a:ext cx="472680" cy="46620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98" h="294">
                  <a:moveTo>
                    <a:pt x="198" y="293"/>
                  </a:moveTo>
                  <a:lnTo>
                    <a:pt x="209" y="274"/>
                  </a:lnTo>
                  <a:lnTo>
                    <a:pt x="228" y="245"/>
                  </a:lnTo>
                  <a:lnTo>
                    <a:pt x="250" y="209"/>
                  </a:lnTo>
                  <a:lnTo>
                    <a:pt x="264" y="197"/>
                  </a:lnTo>
                  <a:lnTo>
                    <a:pt x="273" y="184"/>
                  </a:lnTo>
                  <a:lnTo>
                    <a:pt x="283" y="165"/>
                  </a:lnTo>
                  <a:lnTo>
                    <a:pt x="293" y="151"/>
                  </a:lnTo>
                  <a:lnTo>
                    <a:pt x="297" y="135"/>
                  </a:lnTo>
                  <a:lnTo>
                    <a:pt x="288" y="117"/>
                  </a:lnTo>
                  <a:lnTo>
                    <a:pt x="278" y="104"/>
                  </a:lnTo>
                  <a:lnTo>
                    <a:pt x="266" y="90"/>
                  </a:lnTo>
                  <a:lnTo>
                    <a:pt x="253" y="82"/>
                  </a:lnTo>
                  <a:lnTo>
                    <a:pt x="239" y="72"/>
                  </a:lnTo>
                  <a:lnTo>
                    <a:pt x="226" y="64"/>
                  </a:lnTo>
                  <a:lnTo>
                    <a:pt x="210" y="56"/>
                  </a:lnTo>
                  <a:lnTo>
                    <a:pt x="196" y="46"/>
                  </a:lnTo>
                  <a:lnTo>
                    <a:pt x="183" y="38"/>
                  </a:lnTo>
                  <a:lnTo>
                    <a:pt x="150" y="18"/>
                  </a:lnTo>
                  <a:lnTo>
                    <a:pt x="136" y="8"/>
                  </a:lnTo>
                  <a:lnTo>
                    <a:pt x="123" y="0"/>
                  </a:lnTo>
                  <a:lnTo>
                    <a:pt x="110" y="11"/>
                  </a:lnTo>
                  <a:lnTo>
                    <a:pt x="96" y="22"/>
                  </a:lnTo>
                  <a:lnTo>
                    <a:pt x="88" y="36"/>
                  </a:lnTo>
                  <a:lnTo>
                    <a:pt x="79" y="51"/>
                  </a:lnTo>
                  <a:lnTo>
                    <a:pt x="70" y="64"/>
                  </a:lnTo>
                  <a:lnTo>
                    <a:pt x="62" y="78"/>
                  </a:lnTo>
                  <a:lnTo>
                    <a:pt x="53" y="92"/>
                  </a:lnTo>
                  <a:lnTo>
                    <a:pt x="44" y="105"/>
                  </a:lnTo>
                  <a:lnTo>
                    <a:pt x="35" y="120"/>
                  </a:lnTo>
                  <a:lnTo>
                    <a:pt x="26" y="133"/>
                  </a:lnTo>
                  <a:lnTo>
                    <a:pt x="19" y="148"/>
                  </a:lnTo>
                  <a:lnTo>
                    <a:pt x="9" y="162"/>
                  </a:lnTo>
                  <a:lnTo>
                    <a:pt x="0" y="175"/>
                  </a:lnTo>
                  <a:lnTo>
                    <a:pt x="16" y="183"/>
                  </a:lnTo>
                  <a:lnTo>
                    <a:pt x="29" y="192"/>
                  </a:lnTo>
                  <a:lnTo>
                    <a:pt x="43" y="200"/>
                  </a:lnTo>
                  <a:lnTo>
                    <a:pt x="54" y="215"/>
                  </a:lnTo>
                  <a:lnTo>
                    <a:pt x="68" y="223"/>
                  </a:lnTo>
                  <a:lnTo>
                    <a:pt x="81" y="232"/>
                  </a:lnTo>
                  <a:lnTo>
                    <a:pt x="95" y="240"/>
                  </a:lnTo>
                  <a:lnTo>
                    <a:pt x="109" y="250"/>
                  </a:lnTo>
                  <a:lnTo>
                    <a:pt x="123" y="258"/>
                  </a:lnTo>
                  <a:lnTo>
                    <a:pt x="138" y="266"/>
                  </a:lnTo>
                  <a:lnTo>
                    <a:pt x="151" y="275"/>
                  </a:lnTo>
                  <a:lnTo>
                    <a:pt x="165" y="284"/>
                  </a:lnTo>
                  <a:lnTo>
                    <a:pt x="198" y="293"/>
                  </a:lnTo>
                  <a:lnTo>
                    <a:pt x="198" y="293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7" name="Oval 250"/>
            <p:cNvSpPr/>
            <p:nvPr/>
          </p:nvSpPr>
          <p:spPr>
            <a:xfrm rot="12720000">
              <a:off x="992160" y="3087720"/>
              <a:ext cx="293400" cy="68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8" name="Freeform 251"/>
            <p:cNvSpPr/>
            <p:nvPr/>
          </p:nvSpPr>
          <p:spPr>
            <a:xfrm>
              <a:off x="676440" y="2606760"/>
              <a:ext cx="472680" cy="46620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98" h="294">
                  <a:moveTo>
                    <a:pt x="198" y="293"/>
                  </a:moveTo>
                  <a:lnTo>
                    <a:pt x="209" y="274"/>
                  </a:lnTo>
                  <a:lnTo>
                    <a:pt x="227" y="247"/>
                  </a:lnTo>
                  <a:lnTo>
                    <a:pt x="250" y="209"/>
                  </a:lnTo>
                  <a:lnTo>
                    <a:pt x="264" y="198"/>
                  </a:lnTo>
                  <a:lnTo>
                    <a:pt x="272" y="184"/>
                  </a:lnTo>
                  <a:lnTo>
                    <a:pt x="284" y="166"/>
                  </a:lnTo>
                  <a:lnTo>
                    <a:pt x="292" y="152"/>
                  </a:lnTo>
                  <a:lnTo>
                    <a:pt x="297" y="135"/>
                  </a:lnTo>
                  <a:lnTo>
                    <a:pt x="288" y="116"/>
                  </a:lnTo>
                  <a:lnTo>
                    <a:pt x="277" y="104"/>
                  </a:lnTo>
                  <a:lnTo>
                    <a:pt x="266" y="91"/>
                  </a:lnTo>
                  <a:lnTo>
                    <a:pt x="253" y="82"/>
                  </a:lnTo>
                  <a:lnTo>
                    <a:pt x="238" y="74"/>
                  </a:lnTo>
                  <a:lnTo>
                    <a:pt x="225" y="64"/>
                  </a:lnTo>
                  <a:lnTo>
                    <a:pt x="210" y="56"/>
                  </a:lnTo>
                  <a:lnTo>
                    <a:pt x="196" y="48"/>
                  </a:lnTo>
                  <a:lnTo>
                    <a:pt x="183" y="38"/>
                  </a:lnTo>
                  <a:lnTo>
                    <a:pt x="150" y="18"/>
                  </a:lnTo>
                  <a:lnTo>
                    <a:pt x="137" y="10"/>
                  </a:lnTo>
                  <a:lnTo>
                    <a:pt x="123" y="0"/>
                  </a:lnTo>
                  <a:lnTo>
                    <a:pt x="110" y="11"/>
                  </a:lnTo>
                  <a:lnTo>
                    <a:pt x="96" y="23"/>
                  </a:lnTo>
                  <a:lnTo>
                    <a:pt x="87" y="37"/>
                  </a:lnTo>
                  <a:lnTo>
                    <a:pt x="78" y="50"/>
                  </a:lnTo>
                  <a:lnTo>
                    <a:pt x="70" y="64"/>
                  </a:lnTo>
                  <a:lnTo>
                    <a:pt x="62" y="78"/>
                  </a:lnTo>
                  <a:lnTo>
                    <a:pt x="52" y="93"/>
                  </a:lnTo>
                  <a:lnTo>
                    <a:pt x="44" y="106"/>
                  </a:lnTo>
                  <a:lnTo>
                    <a:pt x="36" y="120"/>
                  </a:lnTo>
                  <a:lnTo>
                    <a:pt x="26" y="134"/>
                  </a:lnTo>
                  <a:lnTo>
                    <a:pt x="18" y="147"/>
                  </a:lnTo>
                  <a:lnTo>
                    <a:pt x="10" y="162"/>
                  </a:lnTo>
                  <a:lnTo>
                    <a:pt x="0" y="176"/>
                  </a:lnTo>
                  <a:lnTo>
                    <a:pt x="15" y="184"/>
                  </a:lnTo>
                  <a:lnTo>
                    <a:pt x="28" y="192"/>
                  </a:lnTo>
                  <a:lnTo>
                    <a:pt x="43" y="202"/>
                  </a:lnTo>
                  <a:lnTo>
                    <a:pt x="53" y="215"/>
                  </a:lnTo>
                  <a:lnTo>
                    <a:pt x="67" y="224"/>
                  </a:lnTo>
                  <a:lnTo>
                    <a:pt x="82" y="232"/>
                  </a:lnTo>
                  <a:lnTo>
                    <a:pt x="95" y="241"/>
                  </a:lnTo>
                  <a:lnTo>
                    <a:pt x="109" y="249"/>
                  </a:lnTo>
                  <a:lnTo>
                    <a:pt x="123" y="258"/>
                  </a:lnTo>
                  <a:lnTo>
                    <a:pt x="136" y="267"/>
                  </a:lnTo>
                  <a:lnTo>
                    <a:pt x="150" y="276"/>
                  </a:lnTo>
                  <a:lnTo>
                    <a:pt x="165" y="284"/>
                  </a:lnTo>
                  <a:lnTo>
                    <a:pt x="198" y="293"/>
                  </a:lnTo>
                  <a:lnTo>
                    <a:pt x="198" y="293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9" name="Oval 252"/>
            <p:cNvSpPr/>
            <p:nvPr/>
          </p:nvSpPr>
          <p:spPr>
            <a:xfrm rot="12720000">
              <a:off x="702000" y="2905200"/>
              <a:ext cx="291600" cy="68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0" name="Freeform 253"/>
            <p:cNvSpPr/>
            <p:nvPr/>
          </p:nvSpPr>
          <p:spPr>
            <a:xfrm>
              <a:off x="1839960" y="3335400"/>
              <a:ext cx="471240" cy="4662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97" h="294">
                  <a:moveTo>
                    <a:pt x="197" y="293"/>
                  </a:moveTo>
                  <a:lnTo>
                    <a:pt x="209" y="273"/>
                  </a:lnTo>
                  <a:lnTo>
                    <a:pt x="227" y="245"/>
                  </a:lnTo>
                  <a:lnTo>
                    <a:pt x="250" y="209"/>
                  </a:lnTo>
                  <a:lnTo>
                    <a:pt x="263" y="198"/>
                  </a:lnTo>
                  <a:lnTo>
                    <a:pt x="272" y="183"/>
                  </a:lnTo>
                  <a:lnTo>
                    <a:pt x="283" y="164"/>
                  </a:lnTo>
                  <a:lnTo>
                    <a:pt x="292" y="151"/>
                  </a:lnTo>
                  <a:lnTo>
                    <a:pt x="296" y="134"/>
                  </a:lnTo>
                  <a:lnTo>
                    <a:pt x="287" y="115"/>
                  </a:lnTo>
                  <a:lnTo>
                    <a:pt x="278" y="103"/>
                  </a:lnTo>
                  <a:lnTo>
                    <a:pt x="266" y="90"/>
                  </a:lnTo>
                  <a:lnTo>
                    <a:pt x="252" y="81"/>
                  </a:lnTo>
                  <a:lnTo>
                    <a:pt x="238" y="73"/>
                  </a:lnTo>
                  <a:lnTo>
                    <a:pt x="224" y="64"/>
                  </a:lnTo>
                  <a:lnTo>
                    <a:pt x="210" y="54"/>
                  </a:lnTo>
                  <a:lnTo>
                    <a:pt x="196" y="46"/>
                  </a:lnTo>
                  <a:lnTo>
                    <a:pt x="183" y="37"/>
                  </a:lnTo>
                  <a:lnTo>
                    <a:pt x="149" y="17"/>
                  </a:lnTo>
                  <a:lnTo>
                    <a:pt x="135" y="8"/>
                  </a:lnTo>
                  <a:lnTo>
                    <a:pt x="122" y="0"/>
                  </a:lnTo>
                  <a:lnTo>
                    <a:pt x="109" y="10"/>
                  </a:lnTo>
                  <a:lnTo>
                    <a:pt x="95" y="21"/>
                  </a:lnTo>
                  <a:lnTo>
                    <a:pt x="87" y="35"/>
                  </a:lnTo>
                  <a:lnTo>
                    <a:pt x="78" y="50"/>
                  </a:lnTo>
                  <a:lnTo>
                    <a:pt x="70" y="63"/>
                  </a:lnTo>
                  <a:lnTo>
                    <a:pt x="61" y="78"/>
                  </a:lnTo>
                  <a:lnTo>
                    <a:pt x="53" y="91"/>
                  </a:lnTo>
                  <a:lnTo>
                    <a:pt x="44" y="105"/>
                  </a:lnTo>
                  <a:lnTo>
                    <a:pt x="35" y="118"/>
                  </a:lnTo>
                  <a:lnTo>
                    <a:pt x="26" y="132"/>
                  </a:lnTo>
                  <a:lnTo>
                    <a:pt x="17" y="147"/>
                  </a:lnTo>
                  <a:lnTo>
                    <a:pt x="9" y="161"/>
                  </a:lnTo>
                  <a:lnTo>
                    <a:pt x="0" y="175"/>
                  </a:lnTo>
                  <a:lnTo>
                    <a:pt x="14" y="183"/>
                  </a:lnTo>
                  <a:lnTo>
                    <a:pt x="28" y="192"/>
                  </a:lnTo>
                  <a:lnTo>
                    <a:pt x="42" y="201"/>
                  </a:lnTo>
                  <a:lnTo>
                    <a:pt x="53" y="214"/>
                  </a:lnTo>
                  <a:lnTo>
                    <a:pt x="68" y="223"/>
                  </a:lnTo>
                  <a:lnTo>
                    <a:pt x="81" y="231"/>
                  </a:lnTo>
                  <a:lnTo>
                    <a:pt x="95" y="240"/>
                  </a:lnTo>
                  <a:lnTo>
                    <a:pt x="108" y="248"/>
                  </a:lnTo>
                  <a:lnTo>
                    <a:pt x="122" y="257"/>
                  </a:lnTo>
                  <a:lnTo>
                    <a:pt x="136" y="266"/>
                  </a:lnTo>
                  <a:lnTo>
                    <a:pt x="151" y="274"/>
                  </a:lnTo>
                  <a:lnTo>
                    <a:pt x="165" y="283"/>
                  </a:lnTo>
                  <a:lnTo>
                    <a:pt x="197" y="293"/>
                  </a:lnTo>
                  <a:lnTo>
                    <a:pt x="197" y="293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1" name="Oval 254"/>
            <p:cNvSpPr/>
            <p:nvPr/>
          </p:nvSpPr>
          <p:spPr>
            <a:xfrm rot="12720000">
              <a:off x="1865160" y="3635280"/>
              <a:ext cx="293400" cy="6480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2" name="Freeform 255"/>
            <p:cNvSpPr/>
            <p:nvPr/>
          </p:nvSpPr>
          <p:spPr>
            <a:xfrm>
              <a:off x="387360" y="2427120"/>
              <a:ext cx="469440" cy="4633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96" h="292">
                  <a:moveTo>
                    <a:pt x="196" y="291"/>
                  </a:moveTo>
                  <a:lnTo>
                    <a:pt x="209" y="272"/>
                  </a:lnTo>
                  <a:lnTo>
                    <a:pt x="226" y="245"/>
                  </a:lnTo>
                  <a:lnTo>
                    <a:pt x="249" y="208"/>
                  </a:lnTo>
                  <a:lnTo>
                    <a:pt x="262" y="196"/>
                  </a:lnTo>
                  <a:lnTo>
                    <a:pt x="271" y="183"/>
                  </a:lnTo>
                  <a:lnTo>
                    <a:pt x="283" y="165"/>
                  </a:lnTo>
                  <a:lnTo>
                    <a:pt x="291" y="151"/>
                  </a:lnTo>
                  <a:lnTo>
                    <a:pt x="295" y="133"/>
                  </a:lnTo>
                  <a:lnTo>
                    <a:pt x="288" y="116"/>
                  </a:lnTo>
                  <a:lnTo>
                    <a:pt x="276" y="103"/>
                  </a:lnTo>
                  <a:lnTo>
                    <a:pt x="265" y="89"/>
                  </a:lnTo>
                  <a:lnTo>
                    <a:pt x="251" y="81"/>
                  </a:lnTo>
                  <a:lnTo>
                    <a:pt x="238" y="72"/>
                  </a:lnTo>
                  <a:lnTo>
                    <a:pt x="224" y="63"/>
                  </a:lnTo>
                  <a:lnTo>
                    <a:pt x="210" y="55"/>
                  </a:lnTo>
                  <a:lnTo>
                    <a:pt x="196" y="46"/>
                  </a:lnTo>
                  <a:lnTo>
                    <a:pt x="182" y="38"/>
                  </a:lnTo>
                  <a:lnTo>
                    <a:pt x="149" y="17"/>
                  </a:lnTo>
                  <a:lnTo>
                    <a:pt x="136" y="8"/>
                  </a:lnTo>
                  <a:lnTo>
                    <a:pt x="121" y="0"/>
                  </a:lnTo>
                  <a:lnTo>
                    <a:pt x="109" y="11"/>
                  </a:lnTo>
                  <a:lnTo>
                    <a:pt x="95" y="21"/>
                  </a:lnTo>
                  <a:lnTo>
                    <a:pt x="87" y="35"/>
                  </a:lnTo>
                  <a:lnTo>
                    <a:pt x="77" y="49"/>
                  </a:lnTo>
                  <a:lnTo>
                    <a:pt x="69" y="63"/>
                  </a:lnTo>
                  <a:lnTo>
                    <a:pt x="60" y="76"/>
                  </a:lnTo>
                  <a:lnTo>
                    <a:pt x="51" y="91"/>
                  </a:lnTo>
                  <a:lnTo>
                    <a:pt x="43" y="105"/>
                  </a:lnTo>
                  <a:lnTo>
                    <a:pt x="34" y="118"/>
                  </a:lnTo>
                  <a:lnTo>
                    <a:pt x="26" y="133"/>
                  </a:lnTo>
                  <a:lnTo>
                    <a:pt x="16" y="146"/>
                  </a:lnTo>
                  <a:lnTo>
                    <a:pt x="7" y="160"/>
                  </a:lnTo>
                  <a:lnTo>
                    <a:pt x="0" y="173"/>
                  </a:lnTo>
                  <a:lnTo>
                    <a:pt x="14" y="183"/>
                  </a:lnTo>
                  <a:lnTo>
                    <a:pt x="27" y="191"/>
                  </a:lnTo>
                  <a:lnTo>
                    <a:pt x="41" y="200"/>
                  </a:lnTo>
                  <a:lnTo>
                    <a:pt x="52" y="213"/>
                  </a:lnTo>
                  <a:lnTo>
                    <a:pt x="66" y="222"/>
                  </a:lnTo>
                  <a:lnTo>
                    <a:pt x="79" y="231"/>
                  </a:lnTo>
                  <a:lnTo>
                    <a:pt x="94" y="240"/>
                  </a:lnTo>
                  <a:lnTo>
                    <a:pt x="109" y="248"/>
                  </a:lnTo>
                  <a:lnTo>
                    <a:pt x="122" y="257"/>
                  </a:lnTo>
                  <a:lnTo>
                    <a:pt x="136" y="265"/>
                  </a:lnTo>
                  <a:lnTo>
                    <a:pt x="150" y="275"/>
                  </a:lnTo>
                  <a:lnTo>
                    <a:pt x="163" y="283"/>
                  </a:lnTo>
                  <a:lnTo>
                    <a:pt x="196" y="291"/>
                  </a:lnTo>
                  <a:lnTo>
                    <a:pt x="196" y="291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3" name="Oval 256"/>
            <p:cNvSpPr/>
            <p:nvPr/>
          </p:nvSpPr>
          <p:spPr>
            <a:xfrm rot="12720000">
              <a:off x="409320" y="2721240"/>
              <a:ext cx="293400" cy="68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4" name="Group 259"/>
            <p:cNvGrpSpPr/>
            <p:nvPr/>
          </p:nvGrpSpPr>
          <p:grpSpPr>
            <a:xfrm>
              <a:off x="1768320" y="2744640"/>
              <a:ext cx="472680" cy="452160"/>
              <a:chOff x="1768320" y="2744640"/>
              <a:chExt cx="472680" cy="452160"/>
            </a:xfrm>
          </p:grpSpPr>
          <p:sp>
            <p:nvSpPr>
              <p:cNvPr id="2825" name="Freeform 257"/>
              <p:cNvSpPr/>
              <p:nvPr/>
            </p:nvSpPr>
            <p:spPr>
              <a:xfrm>
                <a:off x="1768320" y="2744640"/>
                <a:ext cx="472680" cy="45216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98" h="285">
                    <a:moveTo>
                      <a:pt x="297" y="125"/>
                    </a:moveTo>
                    <a:lnTo>
                      <a:pt x="285" y="145"/>
                    </a:lnTo>
                    <a:lnTo>
                      <a:pt x="266" y="172"/>
                    </a:lnTo>
                    <a:lnTo>
                      <a:pt x="244" y="209"/>
                    </a:lnTo>
                    <a:lnTo>
                      <a:pt x="240" y="226"/>
                    </a:lnTo>
                    <a:lnTo>
                      <a:pt x="231" y="240"/>
                    </a:lnTo>
                    <a:lnTo>
                      <a:pt x="220" y="258"/>
                    </a:lnTo>
                    <a:lnTo>
                      <a:pt x="211" y="273"/>
                    </a:lnTo>
                    <a:lnTo>
                      <a:pt x="197" y="283"/>
                    </a:lnTo>
                    <a:lnTo>
                      <a:pt x="178" y="284"/>
                    </a:lnTo>
                    <a:lnTo>
                      <a:pt x="162" y="280"/>
                    </a:lnTo>
                    <a:lnTo>
                      <a:pt x="145" y="276"/>
                    </a:lnTo>
                    <a:lnTo>
                      <a:pt x="131" y="266"/>
                    </a:lnTo>
                    <a:lnTo>
                      <a:pt x="117" y="258"/>
                    </a:lnTo>
                    <a:lnTo>
                      <a:pt x="103" y="250"/>
                    </a:lnTo>
                    <a:lnTo>
                      <a:pt x="89" y="241"/>
                    </a:lnTo>
                    <a:lnTo>
                      <a:pt x="75" y="231"/>
                    </a:lnTo>
                    <a:lnTo>
                      <a:pt x="61" y="222"/>
                    </a:lnTo>
                    <a:lnTo>
                      <a:pt x="28" y="203"/>
                    </a:lnTo>
                    <a:lnTo>
                      <a:pt x="14" y="194"/>
                    </a:lnTo>
                    <a:lnTo>
                      <a:pt x="0" y="186"/>
                    </a:lnTo>
                    <a:lnTo>
                      <a:pt x="4" y="169"/>
                    </a:lnTo>
                    <a:lnTo>
                      <a:pt x="8" y="152"/>
                    </a:lnTo>
                    <a:lnTo>
                      <a:pt x="18" y="138"/>
                    </a:lnTo>
                    <a:lnTo>
                      <a:pt x="27" y="124"/>
                    </a:lnTo>
                    <a:lnTo>
                      <a:pt x="35" y="111"/>
                    </a:lnTo>
                    <a:lnTo>
                      <a:pt x="43" y="97"/>
                    </a:lnTo>
                    <a:lnTo>
                      <a:pt x="52" y="83"/>
                    </a:lnTo>
                    <a:lnTo>
                      <a:pt x="61" y="68"/>
                    </a:lnTo>
                    <a:lnTo>
                      <a:pt x="69" y="55"/>
                    </a:lnTo>
                    <a:lnTo>
                      <a:pt x="78" y="41"/>
                    </a:lnTo>
                    <a:lnTo>
                      <a:pt x="87" y="27"/>
                    </a:lnTo>
                    <a:lnTo>
                      <a:pt x="96" y="14"/>
                    </a:lnTo>
                    <a:lnTo>
                      <a:pt x="104" y="0"/>
                    </a:lnTo>
                    <a:lnTo>
                      <a:pt x="118" y="8"/>
                    </a:lnTo>
                    <a:lnTo>
                      <a:pt x="131" y="17"/>
                    </a:lnTo>
                    <a:lnTo>
                      <a:pt x="145" y="25"/>
                    </a:lnTo>
                    <a:lnTo>
                      <a:pt x="162" y="29"/>
                    </a:lnTo>
                    <a:lnTo>
                      <a:pt x="176" y="38"/>
                    </a:lnTo>
                    <a:lnTo>
                      <a:pt x="191" y="47"/>
                    </a:lnTo>
                    <a:lnTo>
                      <a:pt x="204" y="56"/>
                    </a:lnTo>
                    <a:lnTo>
                      <a:pt x="218" y="64"/>
                    </a:lnTo>
                    <a:lnTo>
                      <a:pt x="233" y="73"/>
                    </a:lnTo>
                    <a:lnTo>
                      <a:pt x="246" y="82"/>
                    </a:lnTo>
                    <a:lnTo>
                      <a:pt x="260" y="90"/>
                    </a:lnTo>
                    <a:lnTo>
                      <a:pt x="273" y="99"/>
                    </a:lnTo>
                    <a:lnTo>
                      <a:pt x="297" y="125"/>
                    </a:lnTo>
                    <a:lnTo>
                      <a:pt x="297" y="12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6" name="Oval 258"/>
              <p:cNvSpPr/>
              <p:nvPr/>
            </p:nvSpPr>
            <p:spPr>
              <a:xfrm rot="12720000">
                <a:off x="1908000" y="2842200"/>
                <a:ext cx="2934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27" name="Group 262"/>
            <p:cNvGrpSpPr/>
            <p:nvPr/>
          </p:nvGrpSpPr>
          <p:grpSpPr>
            <a:xfrm>
              <a:off x="1479600" y="2562120"/>
              <a:ext cx="471240" cy="452160"/>
              <a:chOff x="1479600" y="2562120"/>
              <a:chExt cx="471240" cy="452160"/>
            </a:xfrm>
          </p:grpSpPr>
          <p:sp>
            <p:nvSpPr>
              <p:cNvPr id="2828" name="Freeform 260"/>
              <p:cNvSpPr/>
              <p:nvPr/>
            </p:nvSpPr>
            <p:spPr>
              <a:xfrm>
                <a:off x="1479600" y="2562120"/>
                <a:ext cx="471240" cy="45216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97" h="285">
                    <a:moveTo>
                      <a:pt x="296" y="125"/>
                    </a:moveTo>
                    <a:lnTo>
                      <a:pt x="283" y="144"/>
                    </a:lnTo>
                    <a:lnTo>
                      <a:pt x="266" y="172"/>
                    </a:lnTo>
                    <a:lnTo>
                      <a:pt x="242" y="210"/>
                    </a:lnTo>
                    <a:lnTo>
                      <a:pt x="238" y="226"/>
                    </a:lnTo>
                    <a:lnTo>
                      <a:pt x="230" y="239"/>
                    </a:lnTo>
                    <a:lnTo>
                      <a:pt x="218" y="258"/>
                    </a:lnTo>
                    <a:lnTo>
                      <a:pt x="210" y="273"/>
                    </a:lnTo>
                    <a:lnTo>
                      <a:pt x="196" y="284"/>
                    </a:lnTo>
                    <a:lnTo>
                      <a:pt x="177" y="283"/>
                    </a:lnTo>
                    <a:lnTo>
                      <a:pt x="160" y="280"/>
                    </a:lnTo>
                    <a:lnTo>
                      <a:pt x="144" y="275"/>
                    </a:lnTo>
                    <a:lnTo>
                      <a:pt x="129" y="267"/>
                    </a:lnTo>
                    <a:lnTo>
                      <a:pt x="116" y="258"/>
                    </a:lnTo>
                    <a:lnTo>
                      <a:pt x="101" y="250"/>
                    </a:lnTo>
                    <a:lnTo>
                      <a:pt x="87" y="241"/>
                    </a:lnTo>
                    <a:lnTo>
                      <a:pt x="74" y="232"/>
                    </a:lnTo>
                    <a:lnTo>
                      <a:pt x="60" y="224"/>
                    </a:lnTo>
                    <a:lnTo>
                      <a:pt x="28" y="203"/>
                    </a:lnTo>
                    <a:lnTo>
                      <a:pt x="13" y="194"/>
                    </a:lnTo>
                    <a:lnTo>
                      <a:pt x="0" y="186"/>
                    </a:lnTo>
                    <a:lnTo>
                      <a:pt x="4" y="169"/>
                    </a:lnTo>
                    <a:lnTo>
                      <a:pt x="8" y="153"/>
                    </a:lnTo>
                    <a:lnTo>
                      <a:pt x="17" y="139"/>
                    </a:lnTo>
                    <a:lnTo>
                      <a:pt x="24" y="125"/>
                    </a:lnTo>
                    <a:lnTo>
                      <a:pt x="34" y="110"/>
                    </a:lnTo>
                    <a:lnTo>
                      <a:pt x="42" y="97"/>
                    </a:lnTo>
                    <a:lnTo>
                      <a:pt x="51" y="83"/>
                    </a:lnTo>
                    <a:lnTo>
                      <a:pt x="60" y="69"/>
                    </a:lnTo>
                    <a:lnTo>
                      <a:pt x="68" y="56"/>
                    </a:lnTo>
                    <a:lnTo>
                      <a:pt x="78" y="41"/>
                    </a:lnTo>
                    <a:lnTo>
                      <a:pt x="86" y="28"/>
                    </a:lnTo>
                    <a:lnTo>
                      <a:pt x="94" y="13"/>
                    </a:lnTo>
                    <a:lnTo>
                      <a:pt x="103" y="0"/>
                    </a:lnTo>
                    <a:lnTo>
                      <a:pt x="117" y="9"/>
                    </a:lnTo>
                    <a:lnTo>
                      <a:pt x="130" y="18"/>
                    </a:lnTo>
                    <a:lnTo>
                      <a:pt x="145" y="26"/>
                    </a:lnTo>
                    <a:lnTo>
                      <a:pt x="162" y="30"/>
                    </a:lnTo>
                    <a:lnTo>
                      <a:pt x="176" y="39"/>
                    </a:lnTo>
                    <a:lnTo>
                      <a:pt x="189" y="47"/>
                    </a:lnTo>
                    <a:lnTo>
                      <a:pt x="203" y="56"/>
                    </a:lnTo>
                    <a:lnTo>
                      <a:pt x="217" y="65"/>
                    </a:lnTo>
                    <a:lnTo>
                      <a:pt x="232" y="73"/>
                    </a:lnTo>
                    <a:lnTo>
                      <a:pt x="245" y="81"/>
                    </a:lnTo>
                    <a:lnTo>
                      <a:pt x="259" y="91"/>
                    </a:lnTo>
                    <a:lnTo>
                      <a:pt x="273" y="100"/>
                    </a:lnTo>
                    <a:lnTo>
                      <a:pt x="296" y="125"/>
                    </a:lnTo>
                    <a:lnTo>
                      <a:pt x="296" y="12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9" name="Oval 261"/>
              <p:cNvSpPr/>
              <p:nvPr/>
            </p:nvSpPr>
            <p:spPr>
              <a:xfrm rot="12720000">
                <a:off x="1617480" y="2660760"/>
                <a:ext cx="294840" cy="648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30" name="Group 265"/>
            <p:cNvGrpSpPr/>
            <p:nvPr/>
          </p:nvGrpSpPr>
          <p:grpSpPr>
            <a:xfrm>
              <a:off x="1187280" y="2381400"/>
              <a:ext cx="471240" cy="452160"/>
              <a:chOff x="1187280" y="2381400"/>
              <a:chExt cx="471240" cy="452160"/>
            </a:xfrm>
          </p:grpSpPr>
          <p:sp>
            <p:nvSpPr>
              <p:cNvPr id="2831" name="Freeform 263"/>
              <p:cNvSpPr/>
              <p:nvPr/>
            </p:nvSpPr>
            <p:spPr>
              <a:xfrm>
                <a:off x="1187280" y="2381400"/>
                <a:ext cx="471240" cy="45216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97" h="285">
                    <a:moveTo>
                      <a:pt x="296" y="125"/>
                    </a:moveTo>
                    <a:lnTo>
                      <a:pt x="283" y="144"/>
                    </a:lnTo>
                    <a:lnTo>
                      <a:pt x="267" y="172"/>
                    </a:lnTo>
                    <a:lnTo>
                      <a:pt x="243" y="209"/>
                    </a:lnTo>
                    <a:lnTo>
                      <a:pt x="239" y="226"/>
                    </a:lnTo>
                    <a:lnTo>
                      <a:pt x="231" y="240"/>
                    </a:lnTo>
                    <a:lnTo>
                      <a:pt x="220" y="257"/>
                    </a:lnTo>
                    <a:lnTo>
                      <a:pt x="210" y="271"/>
                    </a:lnTo>
                    <a:lnTo>
                      <a:pt x="197" y="283"/>
                    </a:lnTo>
                    <a:lnTo>
                      <a:pt x="178" y="284"/>
                    </a:lnTo>
                    <a:lnTo>
                      <a:pt x="161" y="280"/>
                    </a:lnTo>
                    <a:lnTo>
                      <a:pt x="144" y="276"/>
                    </a:lnTo>
                    <a:lnTo>
                      <a:pt x="130" y="266"/>
                    </a:lnTo>
                    <a:lnTo>
                      <a:pt x="117" y="258"/>
                    </a:lnTo>
                    <a:lnTo>
                      <a:pt x="102" y="250"/>
                    </a:lnTo>
                    <a:lnTo>
                      <a:pt x="88" y="240"/>
                    </a:lnTo>
                    <a:lnTo>
                      <a:pt x="75" y="232"/>
                    </a:lnTo>
                    <a:lnTo>
                      <a:pt x="60" y="223"/>
                    </a:lnTo>
                    <a:lnTo>
                      <a:pt x="29" y="202"/>
                    </a:lnTo>
                    <a:lnTo>
                      <a:pt x="14" y="195"/>
                    </a:lnTo>
                    <a:lnTo>
                      <a:pt x="0" y="185"/>
                    </a:lnTo>
                    <a:lnTo>
                      <a:pt x="4" y="169"/>
                    </a:lnTo>
                    <a:lnTo>
                      <a:pt x="8" y="152"/>
                    </a:lnTo>
                    <a:lnTo>
                      <a:pt x="17" y="138"/>
                    </a:lnTo>
                    <a:lnTo>
                      <a:pt x="26" y="124"/>
                    </a:lnTo>
                    <a:lnTo>
                      <a:pt x="35" y="111"/>
                    </a:lnTo>
                    <a:lnTo>
                      <a:pt x="43" y="97"/>
                    </a:lnTo>
                    <a:lnTo>
                      <a:pt x="51" y="83"/>
                    </a:lnTo>
                    <a:lnTo>
                      <a:pt x="61" y="69"/>
                    </a:lnTo>
                    <a:lnTo>
                      <a:pt x="70" y="55"/>
                    </a:lnTo>
                    <a:lnTo>
                      <a:pt x="77" y="41"/>
                    </a:lnTo>
                    <a:lnTo>
                      <a:pt x="87" y="27"/>
                    </a:lnTo>
                    <a:lnTo>
                      <a:pt x="96" y="13"/>
                    </a:lnTo>
                    <a:lnTo>
                      <a:pt x="103" y="0"/>
                    </a:lnTo>
                    <a:lnTo>
                      <a:pt x="118" y="8"/>
                    </a:lnTo>
                    <a:lnTo>
                      <a:pt x="132" y="16"/>
                    </a:lnTo>
                    <a:lnTo>
                      <a:pt x="146" y="26"/>
                    </a:lnTo>
                    <a:lnTo>
                      <a:pt x="163" y="30"/>
                    </a:lnTo>
                    <a:lnTo>
                      <a:pt x="176" y="38"/>
                    </a:lnTo>
                    <a:lnTo>
                      <a:pt x="190" y="47"/>
                    </a:lnTo>
                    <a:lnTo>
                      <a:pt x="203" y="56"/>
                    </a:lnTo>
                    <a:lnTo>
                      <a:pt x="218" y="64"/>
                    </a:lnTo>
                    <a:lnTo>
                      <a:pt x="232" y="73"/>
                    </a:lnTo>
                    <a:lnTo>
                      <a:pt x="246" y="82"/>
                    </a:lnTo>
                    <a:lnTo>
                      <a:pt x="260" y="90"/>
                    </a:lnTo>
                    <a:lnTo>
                      <a:pt x="274" y="99"/>
                    </a:lnTo>
                    <a:lnTo>
                      <a:pt x="296" y="125"/>
                    </a:lnTo>
                    <a:lnTo>
                      <a:pt x="296" y="12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2" name="Oval 264"/>
              <p:cNvSpPr/>
              <p:nvPr/>
            </p:nvSpPr>
            <p:spPr>
              <a:xfrm rot="12720000">
                <a:off x="1328760" y="2478240"/>
                <a:ext cx="2934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33" name="Group 268"/>
            <p:cNvGrpSpPr/>
            <p:nvPr/>
          </p:nvGrpSpPr>
          <p:grpSpPr>
            <a:xfrm>
              <a:off x="898560" y="2198520"/>
              <a:ext cx="469440" cy="452160"/>
              <a:chOff x="898560" y="2198520"/>
              <a:chExt cx="469440" cy="452160"/>
            </a:xfrm>
          </p:grpSpPr>
          <p:sp>
            <p:nvSpPr>
              <p:cNvPr id="2834" name="Freeform 266"/>
              <p:cNvSpPr/>
              <p:nvPr/>
            </p:nvSpPr>
            <p:spPr>
              <a:xfrm>
                <a:off x="898560" y="2198520"/>
                <a:ext cx="469440" cy="45216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96" h="285">
                    <a:moveTo>
                      <a:pt x="295" y="125"/>
                    </a:moveTo>
                    <a:lnTo>
                      <a:pt x="283" y="145"/>
                    </a:lnTo>
                    <a:lnTo>
                      <a:pt x="265" y="172"/>
                    </a:lnTo>
                    <a:lnTo>
                      <a:pt x="242" y="210"/>
                    </a:lnTo>
                    <a:lnTo>
                      <a:pt x="239" y="227"/>
                    </a:lnTo>
                    <a:lnTo>
                      <a:pt x="229" y="240"/>
                    </a:lnTo>
                    <a:lnTo>
                      <a:pt x="219" y="259"/>
                    </a:lnTo>
                    <a:lnTo>
                      <a:pt x="210" y="272"/>
                    </a:lnTo>
                    <a:lnTo>
                      <a:pt x="195" y="284"/>
                    </a:lnTo>
                    <a:lnTo>
                      <a:pt x="176" y="284"/>
                    </a:lnTo>
                    <a:lnTo>
                      <a:pt x="160" y="280"/>
                    </a:lnTo>
                    <a:lnTo>
                      <a:pt x="143" y="276"/>
                    </a:lnTo>
                    <a:lnTo>
                      <a:pt x="129" y="267"/>
                    </a:lnTo>
                    <a:lnTo>
                      <a:pt x="116" y="258"/>
                    </a:lnTo>
                    <a:lnTo>
                      <a:pt x="101" y="249"/>
                    </a:lnTo>
                    <a:lnTo>
                      <a:pt x="87" y="242"/>
                    </a:lnTo>
                    <a:lnTo>
                      <a:pt x="73" y="233"/>
                    </a:lnTo>
                    <a:lnTo>
                      <a:pt x="60" y="224"/>
                    </a:lnTo>
                    <a:lnTo>
                      <a:pt x="27" y="204"/>
                    </a:lnTo>
                    <a:lnTo>
                      <a:pt x="13" y="194"/>
                    </a:lnTo>
                    <a:lnTo>
                      <a:pt x="0" y="186"/>
                    </a:lnTo>
                    <a:lnTo>
                      <a:pt x="3" y="170"/>
                    </a:lnTo>
                    <a:lnTo>
                      <a:pt x="7" y="152"/>
                    </a:lnTo>
                    <a:lnTo>
                      <a:pt x="16" y="138"/>
                    </a:lnTo>
                    <a:lnTo>
                      <a:pt x="25" y="124"/>
                    </a:lnTo>
                    <a:lnTo>
                      <a:pt x="33" y="111"/>
                    </a:lnTo>
                    <a:lnTo>
                      <a:pt x="42" y="97"/>
                    </a:lnTo>
                    <a:lnTo>
                      <a:pt x="51" y="83"/>
                    </a:lnTo>
                    <a:lnTo>
                      <a:pt x="59" y="69"/>
                    </a:lnTo>
                    <a:lnTo>
                      <a:pt x="68" y="55"/>
                    </a:lnTo>
                    <a:lnTo>
                      <a:pt x="77" y="41"/>
                    </a:lnTo>
                    <a:lnTo>
                      <a:pt x="85" y="27"/>
                    </a:lnTo>
                    <a:lnTo>
                      <a:pt x="95" y="13"/>
                    </a:lnTo>
                    <a:lnTo>
                      <a:pt x="102" y="0"/>
                    </a:lnTo>
                    <a:lnTo>
                      <a:pt x="117" y="8"/>
                    </a:lnTo>
                    <a:lnTo>
                      <a:pt x="130" y="17"/>
                    </a:lnTo>
                    <a:lnTo>
                      <a:pt x="145" y="26"/>
                    </a:lnTo>
                    <a:lnTo>
                      <a:pt x="161" y="30"/>
                    </a:lnTo>
                    <a:lnTo>
                      <a:pt x="175" y="39"/>
                    </a:lnTo>
                    <a:lnTo>
                      <a:pt x="189" y="48"/>
                    </a:lnTo>
                    <a:lnTo>
                      <a:pt x="203" y="56"/>
                    </a:lnTo>
                    <a:lnTo>
                      <a:pt x="217" y="65"/>
                    </a:lnTo>
                    <a:lnTo>
                      <a:pt x="231" y="74"/>
                    </a:lnTo>
                    <a:lnTo>
                      <a:pt x="244" y="82"/>
                    </a:lnTo>
                    <a:lnTo>
                      <a:pt x="258" y="91"/>
                    </a:lnTo>
                    <a:lnTo>
                      <a:pt x="273" y="100"/>
                    </a:lnTo>
                    <a:lnTo>
                      <a:pt x="295" y="125"/>
                    </a:lnTo>
                    <a:lnTo>
                      <a:pt x="295" y="12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5" name="Oval 267"/>
              <p:cNvSpPr/>
              <p:nvPr/>
            </p:nvSpPr>
            <p:spPr>
              <a:xfrm rot="12720000">
                <a:off x="1036440" y="2293920"/>
                <a:ext cx="2934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36" name="Group 271"/>
            <p:cNvGrpSpPr/>
            <p:nvPr/>
          </p:nvGrpSpPr>
          <p:grpSpPr>
            <a:xfrm>
              <a:off x="2060640" y="2925720"/>
              <a:ext cx="469440" cy="450360"/>
              <a:chOff x="2060640" y="2925720"/>
              <a:chExt cx="469440" cy="450360"/>
            </a:xfrm>
          </p:grpSpPr>
          <p:sp>
            <p:nvSpPr>
              <p:cNvPr id="2837" name="Freeform 269"/>
              <p:cNvSpPr/>
              <p:nvPr/>
            </p:nvSpPr>
            <p:spPr>
              <a:xfrm>
                <a:off x="2060640" y="2925720"/>
                <a:ext cx="469440" cy="45036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450360"/>
                  <a:gd name="textAreaBottom" fmla="*/ 450720 h 450360"/>
                </a:gdLst>
                <a:ahLst/>
                <a:rect l="textAreaLeft" t="textAreaTop" r="textAreaRight" b="textAreaBottom"/>
                <a:pathLst>
                  <a:path w="296" h="284">
                    <a:moveTo>
                      <a:pt x="295" y="125"/>
                    </a:moveTo>
                    <a:lnTo>
                      <a:pt x="283" y="144"/>
                    </a:lnTo>
                    <a:lnTo>
                      <a:pt x="266" y="173"/>
                    </a:lnTo>
                    <a:lnTo>
                      <a:pt x="243" y="209"/>
                    </a:lnTo>
                    <a:lnTo>
                      <a:pt x="239" y="226"/>
                    </a:lnTo>
                    <a:lnTo>
                      <a:pt x="231" y="240"/>
                    </a:lnTo>
                    <a:lnTo>
                      <a:pt x="219" y="258"/>
                    </a:lnTo>
                    <a:lnTo>
                      <a:pt x="209" y="272"/>
                    </a:lnTo>
                    <a:lnTo>
                      <a:pt x="197" y="283"/>
                    </a:lnTo>
                    <a:lnTo>
                      <a:pt x="177" y="283"/>
                    </a:lnTo>
                    <a:lnTo>
                      <a:pt x="161" y="279"/>
                    </a:lnTo>
                    <a:lnTo>
                      <a:pt x="144" y="275"/>
                    </a:lnTo>
                    <a:lnTo>
                      <a:pt x="129" y="267"/>
                    </a:lnTo>
                    <a:lnTo>
                      <a:pt x="116" y="258"/>
                    </a:lnTo>
                    <a:lnTo>
                      <a:pt x="102" y="249"/>
                    </a:lnTo>
                    <a:lnTo>
                      <a:pt x="88" y="241"/>
                    </a:lnTo>
                    <a:lnTo>
                      <a:pt x="75" y="232"/>
                    </a:lnTo>
                    <a:lnTo>
                      <a:pt x="60" y="224"/>
                    </a:lnTo>
                    <a:lnTo>
                      <a:pt x="28" y="204"/>
                    </a:lnTo>
                    <a:lnTo>
                      <a:pt x="13" y="194"/>
                    </a:lnTo>
                    <a:lnTo>
                      <a:pt x="0" y="186"/>
                    </a:lnTo>
                    <a:lnTo>
                      <a:pt x="4" y="169"/>
                    </a:lnTo>
                    <a:lnTo>
                      <a:pt x="7" y="152"/>
                    </a:lnTo>
                    <a:lnTo>
                      <a:pt x="16" y="139"/>
                    </a:lnTo>
                    <a:lnTo>
                      <a:pt x="26" y="124"/>
                    </a:lnTo>
                    <a:lnTo>
                      <a:pt x="34" y="110"/>
                    </a:lnTo>
                    <a:lnTo>
                      <a:pt x="43" y="97"/>
                    </a:lnTo>
                    <a:lnTo>
                      <a:pt x="51" y="83"/>
                    </a:lnTo>
                    <a:lnTo>
                      <a:pt x="59" y="69"/>
                    </a:lnTo>
                    <a:lnTo>
                      <a:pt x="68" y="55"/>
                    </a:lnTo>
                    <a:lnTo>
                      <a:pt x="77" y="41"/>
                    </a:lnTo>
                    <a:lnTo>
                      <a:pt x="86" y="27"/>
                    </a:lnTo>
                    <a:lnTo>
                      <a:pt x="95" y="13"/>
                    </a:lnTo>
                    <a:lnTo>
                      <a:pt x="103" y="0"/>
                    </a:lnTo>
                    <a:lnTo>
                      <a:pt x="117" y="9"/>
                    </a:lnTo>
                    <a:lnTo>
                      <a:pt x="131" y="17"/>
                    </a:lnTo>
                    <a:lnTo>
                      <a:pt x="144" y="25"/>
                    </a:lnTo>
                    <a:lnTo>
                      <a:pt x="163" y="30"/>
                    </a:lnTo>
                    <a:lnTo>
                      <a:pt x="176" y="39"/>
                    </a:lnTo>
                    <a:lnTo>
                      <a:pt x="190" y="47"/>
                    </a:lnTo>
                    <a:lnTo>
                      <a:pt x="203" y="56"/>
                    </a:lnTo>
                    <a:lnTo>
                      <a:pt x="217" y="66"/>
                    </a:lnTo>
                    <a:lnTo>
                      <a:pt x="232" y="73"/>
                    </a:lnTo>
                    <a:lnTo>
                      <a:pt x="245" y="82"/>
                    </a:lnTo>
                    <a:lnTo>
                      <a:pt x="260" y="91"/>
                    </a:lnTo>
                    <a:lnTo>
                      <a:pt x="273" y="99"/>
                    </a:lnTo>
                    <a:lnTo>
                      <a:pt x="295" y="125"/>
                    </a:lnTo>
                    <a:lnTo>
                      <a:pt x="295" y="12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8" name="Oval 270"/>
              <p:cNvSpPr/>
              <p:nvPr/>
            </p:nvSpPr>
            <p:spPr>
              <a:xfrm rot="12720000">
                <a:off x="2199960" y="3022560"/>
                <a:ext cx="29340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39" name="Group 274"/>
            <p:cNvGrpSpPr/>
            <p:nvPr/>
          </p:nvGrpSpPr>
          <p:grpSpPr>
            <a:xfrm>
              <a:off x="608040" y="2016000"/>
              <a:ext cx="469440" cy="453600"/>
              <a:chOff x="608040" y="2016000"/>
              <a:chExt cx="469440" cy="453600"/>
            </a:xfrm>
          </p:grpSpPr>
          <p:sp>
            <p:nvSpPr>
              <p:cNvPr id="2840" name="Freeform 272"/>
              <p:cNvSpPr/>
              <p:nvPr/>
            </p:nvSpPr>
            <p:spPr>
              <a:xfrm>
                <a:off x="608040" y="2016000"/>
                <a:ext cx="469440" cy="45360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453600"/>
                  <a:gd name="textAreaBottom" fmla="*/ 453960 h 453600"/>
                </a:gdLst>
                <a:ahLst/>
                <a:rect l="textAreaLeft" t="textAreaTop" r="textAreaRight" b="textAreaBottom"/>
                <a:pathLst>
                  <a:path w="296" h="286">
                    <a:moveTo>
                      <a:pt x="295" y="126"/>
                    </a:moveTo>
                    <a:lnTo>
                      <a:pt x="282" y="145"/>
                    </a:lnTo>
                    <a:lnTo>
                      <a:pt x="265" y="173"/>
                    </a:lnTo>
                    <a:lnTo>
                      <a:pt x="242" y="210"/>
                    </a:lnTo>
                    <a:lnTo>
                      <a:pt x="237" y="227"/>
                    </a:lnTo>
                    <a:lnTo>
                      <a:pt x="230" y="241"/>
                    </a:lnTo>
                    <a:lnTo>
                      <a:pt x="218" y="259"/>
                    </a:lnTo>
                    <a:lnTo>
                      <a:pt x="210" y="273"/>
                    </a:lnTo>
                    <a:lnTo>
                      <a:pt x="195" y="284"/>
                    </a:lnTo>
                    <a:lnTo>
                      <a:pt x="176" y="285"/>
                    </a:lnTo>
                    <a:lnTo>
                      <a:pt x="159" y="281"/>
                    </a:lnTo>
                    <a:lnTo>
                      <a:pt x="143" y="276"/>
                    </a:lnTo>
                    <a:lnTo>
                      <a:pt x="129" y="267"/>
                    </a:lnTo>
                    <a:lnTo>
                      <a:pt x="115" y="259"/>
                    </a:lnTo>
                    <a:lnTo>
                      <a:pt x="101" y="250"/>
                    </a:lnTo>
                    <a:lnTo>
                      <a:pt x="87" y="242"/>
                    </a:lnTo>
                    <a:lnTo>
                      <a:pt x="73" y="233"/>
                    </a:lnTo>
                    <a:lnTo>
                      <a:pt x="59" y="224"/>
                    </a:lnTo>
                    <a:lnTo>
                      <a:pt x="27" y="204"/>
                    </a:lnTo>
                    <a:lnTo>
                      <a:pt x="13" y="195"/>
                    </a:lnTo>
                    <a:lnTo>
                      <a:pt x="0" y="186"/>
                    </a:lnTo>
                    <a:lnTo>
                      <a:pt x="3" y="170"/>
                    </a:lnTo>
                    <a:lnTo>
                      <a:pt x="8" y="153"/>
                    </a:lnTo>
                    <a:lnTo>
                      <a:pt x="16" y="139"/>
                    </a:lnTo>
                    <a:lnTo>
                      <a:pt x="25" y="126"/>
                    </a:lnTo>
                    <a:lnTo>
                      <a:pt x="33" y="112"/>
                    </a:lnTo>
                    <a:lnTo>
                      <a:pt x="41" y="98"/>
                    </a:lnTo>
                    <a:lnTo>
                      <a:pt x="51" y="83"/>
                    </a:lnTo>
                    <a:lnTo>
                      <a:pt x="59" y="69"/>
                    </a:lnTo>
                    <a:lnTo>
                      <a:pt x="68" y="56"/>
                    </a:lnTo>
                    <a:lnTo>
                      <a:pt x="77" y="42"/>
                    </a:lnTo>
                    <a:lnTo>
                      <a:pt x="85" y="29"/>
                    </a:lnTo>
                    <a:lnTo>
                      <a:pt x="94" y="14"/>
                    </a:lnTo>
                    <a:lnTo>
                      <a:pt x="103" y="0"/>
                    </a:lnTo>
                    <a:lnTo>
                      <a:pt x="117" y="9"/>
                    </a:lnTo>
                    <a:lnTo>
                      <a:pt x="130" y="18"/>
                    </a:lnTo>
                    <a:lnTo>
                      <a:pt x="144" y="27"/>
                    </a:lnTo>
                    <a:lnTo>
                      <a:pt x="161" y="31"/>
                    </a:lnTo>
                    <a:lnTo>
                      <a:pt x="175" y="40"/>
                    </a:lnTo>
                    <a:lnTo>
                      <a:pt x="188" y="48"/>
                    </a:lnTo>
                    <a:lnTo>
                      <a:pt x="203" y="57"/>
                    </a:lnTo>
                    <a:lnTo>
                      <a:pt x="217" y="65"/>
                    </a:lnTo>
                    <a:lnTo>
                      <a:pt x="231" y="74"/>
                    </a:lnTo>
                    <a:lnTo>
                      <a:pt x="244" y="83"/>
                    </a:lnTo>
                    <a:lnTo>
                      <a:pt x="258" y="92"/>
                    </a:lnTo>
                    <a:lnTo>
                      <a:pt x="272" y="100"/>
                    </a:lnTo>
                    <a:lnTo>
                      <a:pt x="295" y="126"/>
                    </a:lnTo>
                    <a:lnTo>
                      <a:pt x="295" y="12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1" name="Oval 273"/>
              <p:cNvSpPr/>
              <p:nvPr/>
            </p:nvSpPr>
            <p:spPr>
              <a:xfrm rot="12720000">
                <a:off x="746280" y="2116440"/>
                <a:ext cx="2934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42" name="Freeform 275"/>
            <p:cNvSpPr/>
            <p:nvPr/>
          </p:nvSpPr>
          <p:spPr>
            <a:xfrm>
              <a:off x="228600" y="2170080"/>
              <a:ext cx="277560" cy="51876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75" h="327">
                  <a:moveTo>
                    <a:pt x="92" y="326"/>
                  </a:moveTo>
                  <a:lnTo>
                    <a:pt x="75" y="308"/>
                  </a:lnTo>
                  <a:lnTo>
                    <a:pt x="64" y="295"/>
                  </a:lnTo>
                  <a:lnTo>
                    <a:pt x="52" y="283"/>
                  </a:lnTo>
                  <a:lnTo>
                    <a:pt x="38" y="264"/>
                  </a:lnTo>
                  <a:lnTo>
                    <a:pt x="29" y="247"/>
                  </a:lnTo>
                  <a:lnTo>
                    <a:pt x="20" y="230"/>
                  </a:lnTo>
                  <a:lnTo>
                    <a:pt x="11" y="213"/>
                  </a:lnTo>
                  <a:lnTo>
                    <a:pt x="9" y="196"/>
                  </a:lnTo>
                  <a:lnTo>
                    <a:pt x="4" y="176"/>
                  </a:lnTo>
                  <a:lnTo>
                    <a:pt x="1" y="158"/>
                  </a:lnTo>
                  <a:lnTo>
                    <a:pt x="5" y="143"/>
                  </a:lnTo>
                  <a:lnTo>
                    <a:pt x="2" y="125"/>
                  </a:lnTo>
                  <a:lnTo>
                    <a:pt x="0" y="108"/>
                  </a:lnTo>
                  <a:lnTo>
                    <a:pt x="3" y="93"/>
                  </a:lnTo>
                  <a:lnTo>
                    <a:pt x="8" y="77"/>
                  </a:lnTo>
                  <a:lnTo>
                    <a:pt x="9" y="63"/>
                  </a:lnTo>
                  <a:lnTo>
                    <a:pt x="16" y="51"/>
                  </a:lnTo>
                  <a:lnTo>
                    <a:pt x="25" y="39"/>
                  </a:lnTo>
                  <a:lnTo>
                    <a:pt x="33" y="27"/>
                  </a:lnTo>
                  <a:lnTo>
                    <a:pt x="39" y="15"/>
                  </a:lnTo>
                  <a:lnTo>
                    <a:pt x="47" y="3"/>
                  </a:lnTo>
                  <a:lnTo>
                    <a:pt x="68" y="0"/>
                  </a:lnTo>
                  <a:lnTo>
                    <a:pt x="82" y="9"/>
                  </a:lnTo>
                  <a:lnTo>
                    <a:pt x="96" y="17"/>
                  </a:lnTo>
                  <a:lnTo>
                    <a:pt x="109" y="26"/>
                  </a:lnTo>
                  <a:lnTo>
                    <a:pt x="123" y="34"/>
                  </a:lnTo>
                  <a:lnTo>
                    <a:pt x="137" y="42"/>
                  </a:lnTo>
                  <a:lnTo>
                    <a:pt x="151" y="52"/>
                  </a:lnTo>
                  <a:lnTo>
                    <a:pt x="166" y="60"/>
                  </a:lnTo>
                  <a:lnTo>
                    <a:pt x="174" y="76"/>
                  </a:lnTo>
                  <a:lnTo>
                    <a:pt x="172" y="92"/>
                  </a:lnTo>
                  <a:lnTo>
                    <a:pt x="168" y="107"/>
                  </a:lnTo>
                  <a:lnTo>
                    <a:pt x="169" y="124"/>
                  </a:lnTo>
                  <a:lnTo>
                    <a:pt x="167" y="139"/>
                  </a:lnTo>
                  <a:lnTo>
                    <a:pt x="168" y="156"/>
                  </a:lnTo>
                  <a:lnTo>
                    <a:pt x="171" y="174"/>
                  </a:lnTo>
                  <a:lnTo>
                    <a:pt x="173" y="192"/>
                  </a:lnTo>
                  <a:lnTo>
                    <a:pt x="170" y="207"/>
                  </a:lnTo>
                  <a:lnTo>
                    <a:pt x="167" y="222"/>
                  </a:lnTo>
                  <a:lnTo>
                    <a:pt x="164" y="237"/>
                  </a:lnTo>
                  <a:lnTo>
                    <a:pt x="157" y="249"/>
                  </a:lnTo>
                  <a:lnTo>
                    <a:pt x="149" y="261"/>
                  </a:lnTo>
                  <a:lnTo>
                    <a:pt x="142" y="272"/>
                  </a:lnTo>
                  <a:lnTo>
                    <a:pt x="135" y="284"/>
                  </a:lnTo>
                  <a:lnTo>
                    <a:pt x="127" y="296"/>
                  </a:lnTo>
                  <a:lnTo>
                    <a:pt x="119" y="310"/>
                  </a:lnTo>
                  <a:lnTo>
                    <a:pt x="92" y="326"/>
                  </a:lnTo>
                  <a:lnTo>
                    <a:pt x="92" y="326"/>
                  </a:lnTo>
                </a:path>
              </a:pathLst>
            </a:custGeom>
            <a:pattFill prst="openDmnd">
              <a:fgClr>
                <a:srgbClr val="0066cc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3" name="Freeform 276"/>
            <p:cNvSpPr/>
            <p:nvPr/>
          </p:nvSpPr>
          <p:spPr>
            <a:xfrm>
              <a:off x="274680" y="1952640"/>
              <a:ext cx="493200" cy="3283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11" h="207">
                  <a:moveTo>
                    <a:pt x="310" y="23"/>
                  </a:moveTo>
                  <a:lnTo>
                    <a:pt x="285" y="15"/>
                  </a:lnTo>
                  <a:lnTo>
                    <a:pt x="270" y="10"/>
                  </a:lnTo>
                  <a:lnTo>
                    <a:pt x="253" y="5"/>
                  </a:lnTo>
                  <a:lnTo>
                    <a:pt x="231" y="2"/>
                  </a:lnTo>
                  <a:lnTo>
                    <a:pt x="211" y="0"/>
                  </a:lnTo>
                  <a:lnTo>
                    <a:pt x="193" y="1"/>
                  </a:lnTo>
                  <a:lnTo>
                    <a:pt x="174" y="0"/>
                  </a:lnTo>
                  <a:lnTo>
                    <a:pt x="157" y="6"/>
                  </a:lnTo>
                  <a:lnTo>
                    <a:pt x="136" y="9"/>
                  </a:lnTo>
                  <a:lnTo>
                    <a:pt x="118" y="16"/>
                  </a:lnTo>
                  <a:lnTo>
                    <a:pt x="106" y="25"/>
                  </a:lnTo>
                  <a:lnTo>
                    <a:pt x="90" y="31"/>
                  </a:lnTo>
                  <a:lnTo>
                    <a:pt x="74" y="37"/>
                  </a:lnTo>
                  <a:lnTo>
                    <a:pt x="62" y="47"/>
                  </a:lnTo>
                  <a:lnTo>
                    <a:pt x="50" y="56"/>
                  </a:lnTo>
                  <a:lnTo>
                    <a:pt x="38" y="64"/>
                  </a:lnTo>
                  <a:lnTo>
                    <a:pt x="30" y="76"/>
                  </a:lnTo>
                  <a:lnTo>
                    <a:pt x="22" y="89"/>
                  </a:lnTo>
                  <a:lnTo>
                    <a:pt x="14" y="100"/>
                  </a:lnTo>
                  <a:lnTo>
                    <a:pt x="6" y="112"/>
                  </a:lnTo>
                  <a:lnTo>
                    <a:pt x="0" y="124"/>
                  </a:lnTo>
                  <a:lnTo>
                    <a:pt x="5" y="145"/>
                  </a:lnTo>
                  <a:lnTo>
                    <a:pt x="20" y="153"/>
                  </a:lnTo>
                  <a:lnTo>
                    <a:pt x="35" y="162"/>
                  </a:lnTo>
                  <a:lnTo>
                    <a:pt x="48" y="171"/>
                  </a:lnTo>
                  <a:lnTo>
                    <a:pt x="62" y="179"/>
                  </a:lnTo>
                  <a:lnTo>
                    <a:pt x="75" y="187"/>
                  </a:lnTo>
                  <a:lnTo>
                    <a:pt x="89" y="196"/>
                  </a:lnTo>
                  <a:lnTo>
                    <a:pt x="103" y="205"/>
                  </a:lnTo>
                  <a:lnTo>
                    <a:pt x="122" y="206"/>
                  </a:lnTo>
                  <a:lnTo>
                    <a:pt x="134" y="197"/>
                  </a:lnTo>
                  <a:lnTo>
                    <a:pt x="146" y="188"/>
                  </a:lnTo>
                  <a:lnTo>
                    <a:pt x="163" y="182"/>
                  </a:lnTo>
                  <a:lnTo>
                    <a:pt x="174" y="172"/>
                  </a:lnTo>
                  <a:lnTo>
                    <a:pt x="191" y="166"/>
                  </a:lnTo>
                  <a:lnTo>
                    <a:pt x="208" y="160"/>
                  </a:lnTo>
                  <a:lnTo>
                    <a:pt x="225" y="154"/>
                  </a:lnTo>
                  <a:lnTo>
                    <a:pt x="237" y="144"/>
                  </a:lnTo>
                  <a:lnTo>
                    <a:pt x="250" y="135"/>
                  </a:lnTo>
                  <a:lnTo>
                    <a:pt x="261" y="126"/>
                  </a:lnTo>
                  <a:lnTo>
                    <a:pt x="270" y="114"/>
                  </a:lnTo>
                  <a:lnTo>
                    <a:pt x="276" y="102"/>
                  </a:lnTo>
                  <a:lnTo>
                    <a:pt x="283" y="91"/>
                  </a:lnTo>
                  <a:lnTo>
                    <a:pt x="290" y="79"/>
                  </a:lnTo>
                  <a:lnTo>
                    <a:pt x="298" y="67"/>
                  </a:lnTo>
                  <a:lnTo>
                    <a:pt x="305" y="54"/>
                  </a:lnTo>
                  <a:lnTo>
                    <a:pt x="310" y="23"/>
                  </a:lnTo>
                  <a:lnTo>
                    <a:pt x="310" y="23"/>
                  </a:lnTo>
                </a:path>
              </a:pathLst>
            </a:custGeom>
            <a:pattFill prst="openDmnd">
              <a:fgClr>
                <a:srgbClr val="0066cc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4" name="Oval 277"/>
            <p:cNvSpPr/>
            <p:nvPr/>
          </p:nvSpPr>
          <p:spPr>
            <a:xfrm rot="12720000">
              <a:off x="314640" y="2313360"/>
              <a:ext cx="14076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5" name="Oval 278"/>
            <p:cNvSpPr/>
            <p:nvPr/>
          </p:nvSpPr>
          <p:spPr>
            <a:xfrm rot="14760000">
              <a:off x="450720" y="2021040"/>
              <a:ext cx="99720" cy="14256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6" name="Freeform 279"/>
            <p:cNvSpPr/>
            <p:nvPr/>
          </p:nvSpPr>
          <p:spPr>
            <a:xfrm>
              <a:off x="168120" y="1793880"/>
              <a:ext cx="1136160" cy="1242720"/>
            </a:xfrm>
            <a:custGeom>
              <a:avLst/>
              <a:gdLst>
                <a:gd name="textAreaLeft" fmla="*/ 0 w 1136160"/>
                <a:gd name="textAreaRight" fmla="*/ 1136520 w 1136160"/>
                <a:gd name="textAreaTop" fmla="*/ 0 h 1242720"/>
                <a:gd name="textAreaBottom" fmla="*/ 1243080 h 1242720"/>
              </a:gdLst>
              <a:ahLst/>
              <a:rect l="textAreaLeft" t="textAreaTop" r="textAreaRight" b="textAreaBottom"/>
              <a:pathLst>
                <a:path w="716" h="783">
                  <a:moveTo>
                    <a:pt x="390" y="782"/>
                  </a:moveTo>
                  <a:lnTo>
                    <a:pt x="379" y="756"/>
                  </a:lnTo>
                  <a:lnTo>
                    <a:pt x="368" y="743"/>
                  </a:lnTo>
                  <a:lnTo>
                    <a:pt x="356" y="730"/>
                  </a:lnTo>
                  <a:lnTo>
                    <a:pt x="343" y="721"/>
                  </a:lnTo>
                  <a:lnTo>
                    <a:pt x="332" y="707"/>
                  </a:lnTo>
                  <a:lnTo>
                    <a:pt x="318" y="698"/>
                  </a:lnTo>
                  <a:lnTo>
                    <a:pt x="304" y="690"/>
                  </a:lnTo>
                  <a:lnTo>
                    <a:pt x="291" y="681"/>
                  </a:lnTo>
                  <a:lnTo>
                    <a:pt x="277" y="673"/>
                  </a:lnTo>
                  <a:lnTo>
                    <a:pt x="264" y="664"/>
                  </a:lnTo>
                  <a:lnTo>
                    <a:pt x="249" y="655"/>
                  </a:lnTo>
                  <a:lnTo>
                    <a:pt x="234" y="647"/>
                  </a:lnTo>
                  <a:lnTo>
                    <a:pt x="221" y="638"/>
                  </a:lnTo>
                  <a:lnTo>
                    <a:pt x="207" y="629"/>
                  </a:lnTo>
                  <a:lnTo>
                    <a:pt x="194" y="621"/>
                  </a:lnTo>
                  <a:lnTo>
                    <a:pt x="180" y="611"/>
                  </a:lnTo>
                  <a:lnTo>
                    <a:pt x="164" y="596"/>
                  </a:lnTo>
                  <a:lnTo>
                    <a:pt x="153" y="582"/>
                  </a:lnTo>
                  <a:lnTo>
                    <a:pt x="139" y="574"/>
                  </a:lnTo>
                  <a:lnTo>
                    <a:pt x="127" y="560"/>
                  </a:lnTo>
                  <a:lnTo>
                    <a:pt x="117" y="547"/>
                  </a:lnTo>
                  <a:lnTo>
                    <a:pt x="109" y="529"/>
                  </a:lnTo>
                  <a:lnTo>
                    <a:pt x="98" y="517"/>
                  </a:lnTo>
                  <a:lnTo>
                    <a:pt x="87" y="503"/>
                  </a:lnTo>
                  <a:lnTo>
                    <a:pt x="80" y="486"/>
                  </a:lnTo>
                  <a:lnTo>
                    <a:pt x="68" y="471"/>
                  </a:lnTo>
                  <a:lnTo>
                    <a:pt x="53" y="456"/>
                  </a:lnTo>
                  <a:lnTo>
                    <a:pt x="40" y="435"/>
                  </a:lnTo>
                  <a:lnTo>
                    <a:pt x="40" y="415"/>
                  </a:lnTo>
                  <a:lnTo>
                    <a:pt x="34" y="392"/>
                  </a:lnTo>
                  <a:lnTo>
                    <a:pt x="38" y="376"/>
                  </a:lnTo>
                  <a:lnTo>
                    <a:pt x="30" y="357"/>
                  </a:lnTo>
                  <a:lnTo>
                    <a:pt x="34" y="341"/>
                  </a:lnTo>
                  <a:lnTo>
                    <a:pt x="33" y="321"/>
                  </a:lnTo>
                  <a:lnTo>
                    <a:pt x="33" y="302"/>
                  </a:lnTo>
                  <a:lnTo>
                    <a:pt x="42" y="288"/>
                  </a:lnTo>
                  <a:lnTo>
                    <a:pt x="45" y="271"/>
                  </a:lnTo>
                  <a:lnTo>
                    <a:pt x="50" y="254"/>
                  </a:lnTo>
                  <a:lnTo>
                    <a:pt x="53" y="237"/>
                  </a:lnTo>
                  <a:lnTo>
                    <a:pt x="62" y="224"/>
                  </a:lnTo>
                  <a:lnTo>
                    <a:pt x="71" y="210"/>
                  </a:lnTo>
                  <a:lnTo>
                    <a:pt x="79" y="196"/>
                  </a:lnTo>
                  <a:lnTo>
                    <a:pt x="88" y="182"/>
                  </a:lnTo>
                  <a:lnTo>
                    <a:pt x="97" y="168"/>
                  </a:lnTo>
                  <a:lnTo>
                    <a:pt x="106" y="155"/>
                  </a:lnTo>
                  <a:lnTo>
                    <a:pt x="114" y="140"/>
                  </a:lnTo>
                  <a:lnTo>
                    <a:pt x="122" y="127"/>
                  </a:lnTo>
                  <a:lnTo>
                    <a:pt x="141" y="117"/>
                  </a:lnTo>
                  <a:lnTo>
                    <a:pt x="158" y="110"/>
                  </a:lnTo>
                  <a:lnTo>
                    <a:pt x="177" y="102"/>
                  </a:lnTo>
                  <a:lnTo>
                    <a:pt x="199" y="97"/>
                  </a:lnTo>
                  <a:lnTo>
                    <a:pt x="217" y="89"/>
                  </a:lnTo>
                  <a:lnTo>
                    <a:pt x="237" y="89"/>
                  </a:lnTo>
                  <a:lnTo>
                    <a:pt x="257" y="88"/>
                  </a:lnTo>
                  <a:lnTo>
                    <a:pt x="276" y="87"/>
                  </a:lnTo>
                  <a:lnTo>
                    <a:pt x="292" y="92"/>
                  </a:lnTo>
                  <a:lnTo>
                    <a:pt x="310" y="96"/>
                  </a:lnTo>
                  <a:lnTo>
                    <a:pt x="326" y="100"/>
                  </a:lnTo>
                  <a:lnTo>
                    <a:pt x="341" y="108"/>
                  </a:lnTo>
                  <a:lnTo>
                    <a:pt x="354" y="116"/>
                  </a:lnTo>
                  <a:lnTo>
                    <a:pt x="368" y="126"/>
                  </a:lnTo>
                  <a:lnTo>
                    <a:pt x="381" y="133"/>
                  </a:lnTo>
                  <a:lnTo>
                    <a:pt x="395" y="144"/>
                  </a:lnTo>
                  <a:lnTo>
                    <a:pt x="410" y="151"/>
                  </a:lnTo>
                  <a:lnTo>
                    <a:pt x="423" y="159"/>
                  </a:lnTo>
                  <a:lnTo>
                    <a:pt x="438" y="169"/>
                  </a:lnTo>
                  <a:lnTo>
                    <a:pt x="451" y="177"/>
                  </a:lnTo>
                  <a:lnTo>
                    <a:pt x="465" y="186"/>
                  </a:lnTo>
                  <a:lnTo>
                    <a:pt x="492" y="203"/>
                  </a:lnTo>
                  <a:lnTo>
                    <a:pt x="511" y="215"/>
                  </a:lnTo>
                  <a:lnTo>
                    <a:pt x="526" y="224"/>
                  </a:lnTo>
                  <a:lnTo>
                    <a:pt x="539" y="232"/>
                  </a:lnTo>
                  <a:lnTo>
                    <a:pt x="553" y="241"/>
                  </a:lnTo>
                  <a:lnTo>
                    <a:pt x="567" y="249"/>
                  </a:lnTo>
                  <a:lnTo>
                    <a:pt x="581" y="258"/>
                  </a:lnTo>
                  <a:lnTo>
                    <a:pt x="594" y="267"/>
                  </a:lnTo>
                  <a:lnTo>
                    <a:pt x="608" y="276"/>
                  </a:lnTo>
                  <a:lnTo>
                    <a:pt x="623" y="284"/>
                  </a:lnTo>
                  <a:lnTo>
                    <a:pt x="636" y="293"/>
                  </a:lnTo>
                  <a:lnTo>
                    <a:pt x="653" y="297"/>
                  </a:lnTo>
                  <a:lnTo>
                    <a:pt x="670" y="301"/>
                  </a:lnTo>
                  <a:lnTo>
                    <a:pt x="684" y="310"/>
                  </a:lnTo>
                  <a:lnTo>
                    <a:pt x="697" y="318"/>
                  </a:lnTo>
                  <a:lnTo>
                    <a:pt x="715" y="310"/>
                  </a:lnTo>
                  <a:lnTo>
                    <a:pt x="707" y="293"/>
                  </a:lnTo>
                  <a:lnTo>
                    <a:pt x="688" y="281"/>
                  </a:lnTo>
                  <a:lnTo>
                    <a:pt x="671" y="270"/>
                  </a:lnTo>
                  <a:lnTo>
                    <a:pt x="657" y="261"/>
                  </a:lnTo>
                  <a:lnTo>
                    <a:pt x="643" y="252"/>
                  </a:lnTo>
                  <a:lnTo>
                    <a:pt x="629" y="243"/>
                  </a:lnTo>
                  <a:lnTo>
                    <a:pt x="614" y="235"/>
                  </a:lnTo>
                  <a:lnTo>
                    <a:pt x="601" y="226"/>
                  </a:lnTo>
                  <a:lnTo>
                    <a:pt x="587" y="218"/>
                  </a:lnTo>
                  <a:lnTo>
                    <a:pt x="576" y="204"/>
                  </a:lnTo>
                  <a:lnTo>
                    <a:pt x="562" y="196"/>
                  </a:lnTo>
                  <a:lnTo>
                    <a:pt x="549" y="186"/>
                  </a:lnTo>
                  <a:lnTo>
                    <a:pt x="535" y="178"/>
                  </a:lnTo>
                  <a:lnTo>
                    <a:pt x="520" y="169"/>
                  </a:lnTo>
                  <a:lnTo>
                    <a:pt x="507" y="161"/>
                  </a:lnTo>
                  <a:lnTo>
                    <a:pt x="495" y="146"/>
                  </a:lnTo>
                  <a:lnTo>
                    <a:pt x="484" y="135"/>
                  </a:lnTo>
                  <a:lnTo>
                    <a:pt x="471" y="125"/>
                  </a:lnTo>
                  <a:lnTo>
                    <a:pt x="460" y="112"/>
                  </a:lnTo>
                  <a:lnTo>
                    <a:pt x="449" y="100"/>
                  </a:lnTo>
                  <a:lnTo>
                    <a:pt x="436" y="78"/>
                  </a:lnTo>
                  <a:lnTo>
                    <a:pt x="425" y="64"/>
                  </a:lnTo>
                  <a:lnTo>
                    <a:pt x="414" y="52"/>
                  </a:lnTo>
                  <a:lnTo>
                    <a:pt x="400" y="43"/>
                  </a:lnTo>
                  <a:lnTo>
                    <a:pt x="386" y="34"/>
                  </a:lnTo>
                  <a:lnTo>
                    <a:pt x="373" y="26"/>
                  </a:lnTo>
                  <a:lnTo>
                    <a:pt x="359" y="17"/>
                  </a:lnTo>
                  <a:lnTo>
                    <a:pt x="345" y="9"/>
                  </a:lnTo>
                  <a:lnTo>
                    <a:pt x="328" y="5"/>
                  </a:lnTo>
                  <a:lnTo>
                    <a:pt x="311" y="0"/>
                  </a:lnTo>
                  <a:lnTo>
                    <a:pt x="292" y="1"/>
                  </a:lnTo>
                  <a:lnTo>
                    <a:pt x="271" y="1"/>
                  </a:lnTo>
                  <a:lnTo>
                    <a:pt x="254" y="9"/>
                  </a:lnTo>
                  <a:lnTo>
                    <a:pt x="237" y="18"/>
                  </a:lnTo>
                  <a:lnTo>
                    <a:pt x="223" y="29"/>
                  </a:lnTo>
                  <a:lnTo>
                    <a:pt x="206" y="36"/>
                  </a:lnTo>
                  <a:lnTo>
                    <a:pt x="191" y="48"/>
                  </a:lnTo>
                  <a:lnTo>
                    <a:pt x="178" y="58"/>
                  </a:lnTo>
                  <a:lnTo>
                    <a:pt x="160" y="67"/>
                  </a:lnTo>
                  <a:lnTo>
                    <a:pt x="147" y="77"/>
                  </a:lnTo>
                  <a:lnTo>
                    <a:pt x="134" y="89"/>
                  </a:lnTo>
                  <a:lnTo>
                    <a:pt x="120" y="100"/>
                  </a:lnTo>
                  <a:lnTo>
                    <a:pt x="111" y="113"/>
                  </a:lnTo>
                  <a:lnTo>
                    <a:pt x="99" y="124"/>
                  </a:lnTo>
                  <a:lnTo>
                    <a:pt x="89" y="138"/>
                  </a:lnTo>
                  <a:lnTo>
                    <a:pt x="81" y="151"/>
                  </a:lnTo>
                  <a:lnTo>
                    <a:pt x="72" y="165"/>
                  </a:lnTo>
                  <a:lnTo>
                    <a:pt x="63" y="179"/>
                  </a:lnTo>
                  <a:lnTo>
                    <a:pt x="55" y="193"/>
                  </a:lnTo>
                  <a:lnTo>
                    <a:pt x="47" y="207"/>
                  </a:lnTo>
                  <a:lnTo>
                    <a:pt x="38" y="221"/>
                  </a:lnTo>
                  <a:lnTo>
                    <a:pt x="29" y="235"/>
                  </a:lnTo>
                  <a:lnTo>
                    <a:pt x="25" y="251"/>
                  </a:lnTo>
                  <a:lnTo>
                    <a:pt x="16" y="266"/>
                  </a:lnTo>
                  <a:lnTo>
                    <a:pt x="13" y="283"/>
                  </a:lnTo>
                  <a:lnTo>
                    <a:pt x="4" y="296"/>
                  </a:lnTo>
                  <a:lnTo>
                    <a:pt x="0" y="313"/>
                  </a:lnTo>
                  <a:lnTo>
                    <a:pt x="0" y="332"/>
                  </a:lnTo>
                  <a:lnTo>
                    <a:pt x="2" y="353"/>
                  </a:lnTo>
                  <a:lnTo>
                    <a:pt x="1" y="372"/>
                  </a:lnTo>
                  <a:lnTo>
                    <a:pt x="2" y="392"/>
                  </a:lnTo>
                  <a:lnTo>
                    <a:pt x="2" y="411"/>
                  </a:lnTo>
                  <a:lnTo>
                    <a:pt x="2" y="431"/>
                  </a:lnTo>
                  <a:lnTo>
                    <a:pt x="11" y="450"/>
                  </a:lnTo>
                  <a:lnTo>
                    <a:pt x="19" y="467"/>
                  </a:lnTo>
                  <a:lnTo>
                    <a:pt x="27" y="485"/>
                  </a:lnTo>
                  <a:lnTo>
                    <a:pt x="35" y="502"/>
                  </a:lnTo>
                  <a:lnTo>
                    <a:pt x="44" y="521"/>
                  </a:lnTo>
                  <a:lnTo>
                    <a:pt x="52" y="538"/>
                  </a:lnTo>
                  <a:lnTo>
                    <a:pt x="63" y="552"/>
                  </a:lnTo>
                  <a:lnTo>
                    <a:pt x="73" y="565"/>
                  </a:lnTo>
                  <a:lnTo>
                    <a:pt x="89" y="574"/>
                  </a:lnTo>
                  <a:lnTo>
                    <a:pt x="102" y="583"/>
                  </a:lnTo>
                  <a:lnTo>
                    <a:pt x="112" y="595"/>
                  </a:lnTo>
                  <a:lnTo>
                    <a:pt x="131" y="607"/>
                  </a:lnTo>
                  <a:lnTo>
                    <a:pt x="149" y="619"/>
                  </a:lnTo>
                  <a:lnTo>
                    <a:pt x="164" y="628"/>
                  </a:lnTo>
                  <a:lnTo>
                    <a:pt x="177" y="637"/>
                  </a:lnTo>
                  <a:lnTo>
                    <a:pt x="192" y="645"/>
                  </a:lnTo>
                  <a:lnTo>
                    <a:pt x="205" y="653"/>
                  </a:lnTo>
                  <a:lnTo>
                    <a:pt x="216" y="666"/>
                  </a:lnTo>
                  <a:lnTo>
                    <a:pt x="230" y="676"/>
                  </a:lnTo>
                  <a:lnTo>
                    <a:pt x="244" y="685"/>
                  </a:lnTo>
                  <a:lnTo>
                    <a:pt x="257" y="693"/>
                  </a:lnTo>
                  <a:lnTo>
                    <a:pt x="271" y="702"/>
                  </a:lnTo>
                  <a:lnTo>
                    <a:pt x="282" y="715"/>
                  </a:lnTo>
                  <a:lnTo>
                    <a:pt x="296" y="724"/>
                  </a:lnTo>
                  <a:lnTo>
                    <a:pt x="310" y="733"/>
                  </a:lnTo>
                  <a:lnTo>
                    <a:pt x="321" y="746"/>
                  </a:lnTo>
                  <a:lnTo>
                    <a:pt x="335" y="754"/>
                  </a:lnTo>
                  <a:lnTo>
                    <a:pt x="348" y="763"/>
                  </a:lnTo>
                  <a:lnTo>
                    <a:pt x="363" y="771"/>
                  </a:lnTo>
                  <a:lnTo>
                    <a:pt x="390" y="782"/>
                  </a:lnTo>
                  <a:lnTo>
                    <a:pt x="390" y="782"/>
                  </a:lnTo>
                </a:path>
              </a:pathLst>
            </a:custGeom>
            <a:solidFill>
              <a:schemeClr val="accent1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7" name="Oval 280"/>
            <p:cNvSpPr/>
            <p:nvPr/>
          </p:nvSpPr>
          <p:spPr>
            <a:xfrm rot="12120000">
              <a:off x="544680" y="1855800"/>
              <a:ext cx="256680" cy="6156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8" name="Freeform 281"/>
            <p:cNvSpPr/>
            <p:nvPr/>
          </p:nvSpPr>
          <p:spPr>
            <a:xfrm>
              <a:off x="115920" y="1744560"/>
              <a:ext cx="2468160" cy="2087280"/>
            </a:xfrm>
            <a:custGeom>
              <a:avLst/>
              <a:gdLst>
                <a:gd name="textAreaLeft" fmla="*/ 0 w 2468160"/>
                <a:gd name="textAreaRight" fmla="*/ 2468520 w 2468160"/>
                <a:gd name="textAreaTop" fmla="*/ 0 h 2087280"/>
                <a:gd name="textAreaBottom" fmla="*/ 2087640 h 2087280"/>
              </a:gdLst>
              <a:ahLst/>
              <a:rect l="textAreaLeft" t="textAreaTop" r="textAreaRight" b="textAreaBottom"/>
              <a:pathLst>
                <a:path w="1555" h="1315">
                  <a:moveTo>
                    <a:pt x="1270" y="1314"/>
                  </a:moveTo>
                  <a:lnTo>
                    <a:pt x="1244" y="1301"/>
                  </a:lnTo>
                  <a:lnTo>
                    <a:pt x="1229" y="1291"/>
                  </a:lnTo>
                  <a:lnTo>
                    <a:pt x="1192" y="1270"/>
                  </a:lnTo>
                  <a:lnTo>
                    <a:pt x="1178" y="1261"/>
                  </a:lnTo>
                  <a:lnTo>
                    <a:pt x="1165" y="1252"/>
                  </a:lnTo>
                  <a:lnTo>
                    <a:pt x="1151" y="1243"/>
                  </a:lnTo>
                  <a:lnTo>
                    <a:pt x="1137" y="1234"/>
                  </a:lnTo>
                  <a:lnTo>
                    <a:pt x="1109" y="1217"/>
                  </a:lnTo>
                  <a:lnTo>
                    <a:pt x="1081" y="1201"/>
                  </a:lnTo>
                  <a:lnTo>
                    <a:pt x="1068" y="1191"/>
                  </a:lnTo>
                  <a:lnTo>
                    <a:pt x="1054" y="1182"/>
                  </a:lnTo>
                  <a:lnTo>
                    <a:pt x="1040" y="1173"/>
                  </a:lnTo>
                  <a:lnTo>
                    <a:pt x="1021" y="1163"/>
                  </a:lnTo>
                  <a:lnTo>
                    <a:pt x="1008" y="1153"/>
                  </a:lnTo>
                  <a:lnTo>
                    <a:pt x="988" y="1141"/>
                  </a:lnTo>
                  <a:lnTo>
                    <a:pt x="972" y="1137"/>
                  </a:lnTo>
                  <a:lnTo>
                    <a:pt x="958" y="1129"/>
                  </a:lnTo>
                  <a:lnTo>
                    <a:pt x="937" y="1123"/>
                  </a:lnTo>
                  <a:lnTo>
                    <a:pt x="923" y="1113"/>
                  </a:lnTo>
                  <a:lnTo>
                    <a:pt x="905" y="1102"/>
                  </a:lnTo>
                  <a:lnTo>
                    <a:pt x="885" y="1091"/>
                  </a:lnTo>
                  <a:lnTo>
                    <a:pt x="867" y="1079"/>
                  </a:lnTo>
                  <a:lnTo>
                    <a:pt x="849" y="1068"/>
                  </a:lnTo>
                  <a:lnTo>
                    <a:pt x="831" y="1056"/>
                  </a:lnTo>
                  <a:lnTo>
                    <a:pt x="812" y="1043"/>
                  </a:lnTo>
                  <a:lnTo>
                    <a:pt x="793" y="1032"/>
                  </a:lnTo>
                  <a:lnTo>
                    <a:pt x="775" y="1022"/>
                  </a:lnTo>
                  <a:lnTo>
                    <a:pt x="755" y="1009"/>
                  </a:lnTo>
                  <a:lnTo>
                    <a:pt x="719" y="986"/>
                  </a:lnTo>
                  <a:lnTo>
                    <a:pt x="705" y="978"/>
                  </a:lnTo>
                  <a:lnTo>
                    <a:pt x="691" y="969"/>
                  </a:lnTo>
                  <a:lnTo>
                    <a:pt x="678" y="961"/>
                  </a:lnTo>
                  <a:lnTo>
                    <a:pt x="635" y="927"/>
                  </a:lnTo>
                  <a:lnTo>
                    <a:pt x="620" y="919"/>
                  </a:lnTo>
                  <a:lnTo>
                    <a:pt x="602" y="906"/>
                  </a:lnTo>
                  <a:lnTo>
                    <a:pt x="588" y="897"/>
                  </a:lnTo>
                  <a:lnTo>
                    <a:pt x="573" y="889"/>
                  </a:lnTo>
                  <a:lnTo>
                    <a:pt x="555" y="878"/>
                  </a:lnTo>
                  <a:lnTo>
                    <a:pt x="542" y="869"/>
                  </a:lnTo>
                  <a:lnTo>
                    <a:pt x="505" y="845"/>
                  </a:lnTo>
                  <a:lnTo>
                    <a:pt x="476" y="829"/>
                  </a:lnTo>
                  <a:lnTo>
                    <a:pt x="458" y="817"/>
                  </a:lnTo>
                  <a:lnTo>
                    <a:pt x="441" y="813"/>
                  </a:lnTo>
                  <a:lnTo>
                    <a:pt x="414" y="815"/>
                  </a:lnTo>
                  <a:lnTo>
                    <a:pt x="395" y="815"/>
                  </a:lnTo>
                  <a:lnTo>
                    <a:pt x="378" y="811"/>
                  </a:lnTo>
                  <a:lnTo>
                    <a:pt x="357" y="805"/>
                  </a:lnTo>
                  <a:lnTo>
                    <a:pt x="338" y="792"/>
                  </a:lnTo>
                  <a:lnTo>
                    <a:pt x="324" y="784"/>
                  </a:lnTo>
                  <a:lnTo>
                    <a:pt x="311" y="775"/>
                  </a:lnTo>
                  <a:lnTo>
                    <a:pt x="297" y="767"/>
                  </a:lnTo>
                  <a:lnTo>
                    <a:pt x="278" y="756"/>
                  </a:lnTo>
                  <a:lnTo>
                    <a:pt x="264" y="747"/>
                  </a:lnTo>
                  <a:lnTo>
                    <a:pt x="245" y="735"/>
                  </a:lnTo>
                  <a:lnTo>
                    <a:pt x="218" y="717"/>
                  </a:lnTo>
                  <a:lnTo>
                    <a:pt x="183" y="689"/>
                  </a:lnTo>
                  <a:lnTo>
                    <a:pt x="169" y="681"/>
                  </a:lnTo>
                  <a:lnTo>
                    <a:pt x="155" y="673"/>
                  </a:lnTo>
                  <a:lnTo>
                    <a:pt x="142" y="664"/>
                  </a:lnTo>
                  <a:lnTo>
                    <a:pt x="126" y="647"/>
                  </a:lnTo>
                  <a:lnTo>
                    <a:pt x="107" y="636"/>
                  </a:lnTo>
                  <a:lnTo>
                    <a:pt x="92" y="620"/>
                  </a:lnTo>
                  <a:lnTo>
                    <a:pt x="80" y="607"/>
                  </a:lnTo>
                  <a:lnTo>
                    <a:pt x="70" y="594"/>
                  </a:lnTo>
                  <a:lnTo>
                    <a:pt x="61" y="575"/>
                  </a:lnTo>
                  <a:lnTo>
                    <a:pt x="53" y="558"/>
                  </a:lnTo>
                  <a:lnTo>
                    <a:pt x="43" y="544"/>
                  </a:lnTo>
                  <a:lnTo>
                    <a:pt x="35" y="526"/>
                  </a:lnTo>
                  <a:lnTo>
                    <a:pt x="35" y="506"/>
                  </a:lnTo>
                  <a:lnTo>
                    <a:pt x="23" y="493"/>
                  </a:lnTo>
                  <a:lnTo>
                    <a:pt x="22" y="474"/>
                  </a:lnTo>
                  <a:lnTo>
                    <a:pt x="16" y="456"/>
                  </a:lnTo>
                  <a:lnTo>
                    <a:pt x="14" y="436"/>
                  </a:lnTo>
                  <a:lnTo>
                    <a:pt x="6" y="418"/>
                  </a:lnTo>
                  <a:lnTo>
                    <a:pt x="0" y="396"/>
                  </a:lnTo>
                  <a:lnTo>
                    <a:pt x="5" y="379"/>
                  </a:lnTo>
                  <a:lnTo>
                    <a:pt x="4" y="359"/>
                  </a:lnTo>
                  <a:lnTo>
                    <a:pt x="13" y="345"/>
                  </a:lnTo>
                  <a:lnTo>
                    <a:pt x="17" y="329"/>
                  </a:lnTo>
                  <a:lnTo>
                    <a:pt x="21" y="312"/>
                  </a:lnTo>
                  <a:lnTo>
                    <a:pt x="21" y="293"/>
                  </a:lnTo>
                  <a:lnTo>
                    <a:pt x="29" y="278"/>
                  </a:lnTo>
                  <a:lnTo>
                    <a:pt x="33" y="261"/>
                  </a:lnTo>
                  <a:lnTo>
                    <a:pt x="41" y="247"/>
                  </a:lnTo>
                  <a:lnTo>
                    <a:pt x="51" y="234"/>
                  </a:lnTo>
                  <a:lnTo>
                    <a:pt x="59" y="220"/>
                  </a:lnTo>
                  <a:lnTo>
                    <a:pt x="68" y="207"/>
                  </a:lnTo>
                  <a:lnTo>
                    <a:pt x="77" y="192"/>
                  </a:lnTo>
                  <a:lnTo>
                    <a:pt x="85" y="177"/>
                  </a:lnTo>
                  <a:lnTo>
                    <a:pt x="94" y="164"/>
                  </a:lnTo>
                  <a:lnTo>
                    <a:pt x="102" y="150"/>
                  </a:lnTo>
                  <a:lnTo>
                    <a:pt x="110" y="137"/>
                  </a:lnTo>
                  <a:lnTo>
                    <a:pt x="125" y="125"/>
                  </a:lnTo>
                  <a:lnTo>
                    <a:pt x="142" y="117"/>
                  </a:lnTo>
                  <a:lnTo>
                    <a:pt x="156" y="106"/>
                  </a:lnTo>
                  <a:lnTo>
                    <a:pt x="169" y="96"/>
                  </a:lnTo>
                  <a:lnTo>
                    <a:pt x="181" y="84"/>
                  </a:lnTo>
                  <a:lnTo>
                    <a:pt x="195" y="74"/>
                  </a:lnTo>
                  <a:lnTo>
                    <a:pt x="209" y="61"/>
                  </a:lnTo>
                  <a:lnTo>
                    <a:pt x="222" y="51"/>
                  </a:lnTo>
                  <a:lnTo>
                    <a:pt x="235" y="40"/>
                  </a:lnTo>
                  <a:lnTo>
                    <a:pt x="248" y="29"/>
                  </a:lnTo>
                  <a:lnTo>
                    <a:pt x="266" y="21"/>
                  </a:lnTo>
                  <a:lnTo>
                    <a:pt x="285" y="13"/>
                  </a:lnTo>
                  <a:lnTo>
                    <a:pt x="302" y="5"/>
                  </a:lnTo>
                  <a:lnTo>
                    <a:pt x="324" y="0"/>
                  </a:lnTo>
                  <a:lnTo>
                    <a:pt x="342" y="5"/>
                  </a:lnTo>
                  <a:lnTo>
                    <a:pt x="359" y="9"/>
                  </a:lnTo>
                  <a:lnTo>
                    <a:pt x="375" y="13"/>
                  </a:lnTo>
                  <a:lnTo>
                    <a:pt x="389" y="21"/>
                  </a:lnTo>
                  <a:lnTo>
                    <a:pt x="402" y="30"/>
                  </a:lnTo>
                  <a:lnTo>
                    <a:pt x="418" y="39"/>
                  </a:lnTo>
                  <a:lnTo>
                    <a:pt x="431" y="46"/>
                  </a:lnTo>
                  <a:lnTo>
                    <a:pt x="445" y="56"/>
                  </a:lnTo>
                  <a:lnTo>
                    <a:pt x="459" y="64"/>
                  </a:lnTo>
                  <a:lnTo>
                    <a:pt x="470" y="78"/>
                  </a:lnTo>
                  <a:lnTo>
                    <a:pt x="477" y="95"/>
                  </a:lnTo>
                  <a:lnTo>
                    <a:pt x="489" y="109"/>
                  </a:lnTo>
                  <a:lnTo>
                    <a:pt x="500" y="122"/>
                  </a:lnTo>
                  <a:lnTo>
                    <a:pt x="518" y="133"/>
                  </a:lnTo>
                  <a:lnTo>
                    <a:pt x="530" y="146"/>
                  </a:lnTo>
                  <a:lnTo>
                    <a:pt x="540" y="161"/>
                  </a:lnTo>
                  <a:lnTo>
                    <a:pt x="555" y="169"/>
                  </a:lnTo>
                  <a:lnTo>
                    <a:pt x="568" y="178"/>
                  </a:lnTo>
                  <a:lnTo>
                    <a:pt x="582" y="186"/>
                  </a:lnTo>
                  <a:lnTo>
                    <a:pt x="596" y="194"/>
                  </a:lnTo>
                  <a:lnTo>
                    <a:pt x="609" y="204"/>
                  </a:lnTo>
                  <a:lnTo>
                    <a:pt x="623" y="212"/>
                  </a:lnTo>
                  <a:lnTo>
                    <a:pt x="638" y="221"/>
                  </a:lnTo>
                  <a:lnTo>
                    <a:pt x="649" y="234"/>
                  </a:lnTo>
                  <a:lnTo>
                    <a:pt x="662" y="242"/>
                  </a:lnTo>
                  <a:lnTo>
                    <a:pt x="673" y="255"/>
                  </a:lnTo>
                  <a:lnTo>
                    <a:pt x="689" y="272"/>
                  </a:lnTo>
                  <a:lnTo>
                    <a:pt x="700" y="286"/>
                  </a:lnTo>
                  <a:lnTo>
                    <a:pt x="718" y="297"/>
                  </a:lnTo>
                  <a:lnTo>
                    <a:pt x="729" y="311"/>
                  </a:lnTo>
                  <a:lnTo>
                    <a:pt x="743" y="320"/>
                  </a:lnTo>
                  <a:lnTo>
                    <a:pt x="757" y="329"/>
                  </a:lnTo>
                  <a:lnTo>
                    <a:pt x="772" y="337"/>
                  </a:lnTo>
                  <a:lnTo>
                    <a:pt x="802" y="368"/>
                  </a:lnTo>
                  <a:lnTo>
                    <a:pt x="813" y="382"/>
                  </a:lnTo>
                  <a:lnTo>
                    <a:pt x="824" y="396"/>
                  </a:lnTo>
                  <a:lnTo>
                    <a:pt x="838" y="405"/>
                  </a:lnTo>
                  <a:lnTo>
                    <a:pt x="852" y="413"/>
                  </a:lnTo>
                  <a:lnTo>
                    <a:pt x="866" y="422"/>
                  </a:lnTo>
                  <a:lnTo>
                    <a:pt x="880" y="430"/>
                  </a:lnTo>
                  <a:lnTo>
                    <a:pt x="893" y="440"/>
                  </a:lnTo>
                  <a:lnTo>
                    <a:pt x="908" y="447"/>
                  </a:lnTo>
                  <a:lnTo>
                    <a:pt x="927" y="460"/>
                  </a:lnTo>
                  <a:lnTo>
                    <a:pt x="940" y="468"/>
                  </a:lnTo>
                  <a:lnTo>
                    <a:pt x="959" y="480"/>
                  </a:lnTo>
                  <a:lnTo>
                    <a:pt x="972" y="489"/>
                  </a:lnTo>
                  <a:lnTo>
                    <a:pt x="992" y="500"/>
                  </a:lnTo>
                  <a:lnTo>
                    <a:pt x="1005" y="508"/>
                  </a:lnTo>
                  <a:lnTo>
                    <a:pt x="1022" y="513"/>
                  </a:lnTo>
                  <a:lnTo>
                    <a:pt x="1036" y="521"/>
                  </a:lnTo>
                  <a:lnTo>
                    <a:pt x="1077" y="547"/>
                  </a:lnTo>
                  <a:lnTo>
                    <a:pt x="1115" y="571"/>
                  </a:lnTo>
                  <a:lnTo>
                    <a:pt x="1128" y="579"/>
                  </a:lnTo>
                  <a:lnTo>
                    <a:pt x="1165" y="602"/>
                  </a:lnTo>
                  <a:lnTo>
                    <a:pt x="1179" y="611"/>
                  </a:lnTo>
                  <a:lnTo>
                    <a:pt x="1193" y="620"/>
                  </a:lnTo>
                  <a:lnTo>
                    <a:pt x="1207" y="628"/>
                  </a:lnTo>
                  <a:lnTo>
                    <a:pt x="1225" y="640"/>
                  </a:lnTo>
                  <a:lnTo>
                    <a:pt x="1239" y="649"/>
                  </a:lnTo>
                  <a:lnTo>
                    <a:pt x="1258" y="660"/>
                  </a:lnTo>
                  <a:lnTo>
                    <a:pt x="1272" y="669"/>
                  </a:lnTo>
                  <a:lnTo>
                    <a:pt x="1285" y="678"/>
                  </a:lnTo>
                  <a:lnTo>
                    <a:pt x="1305" y="690"/>
                  </a:lnTo>
                  <a:lnTo>
                    <a:pt x="1318" y="697"/>
                  </a:lnTo>
                  <a:lnTo>
                    <a:pt x="1332" y="706"/>
                  </a:lnTo>
                  <a:lnTo>
                    <a:pt x="1364" y="727"/>
                  </a:lnTo>
                  <a:lnTo>
                    <a:pt x="1382" y="738"/>
                  </a:lnTo>
                  <a:lnTo>
                    <a:pt x="1416" y="758"/>
                  </a:lnTo>
                  <a:lnTo>
                    <a:pt x="1429" y="767"/>
                  </a:lnTo>
                  <a:lnTo>
                    <a:pt x="1443" y="775"/>
                  </a:lnTo>
                  <a:lnTo>
                    <a:pt x="1457" y="785"/>
                  </a:lnTo>
                  <a:lnTo>
                    <a:pt x="1470" y="793"/>
                  </a:lnTo>
                  <a:lnTo>
                    <a:pt x="1485" y="802"/>
                  </a:lnTo>
                  <a:lnTo>
                    <a:pt x="1498" y="811"/>
                  </a:lnTo>
                  <a:lnTo>
                    <a:pt x="1513" y="819"/>
                  </a:lnTo>
                  <a:lnTo>
                    <a:pt x="1526" y="828"/>
                  </a:lnTo>
                  <a:lnTo>
                    <a:pt x="1540" y="836"/>
                  </a:lnTo>
                  <a:lnTo>
                    <a:pt x="1554" y="845"/>
                  </a:lnTo>
                  <a:lnTo>
                    <a:pt x="1542" y="835"/>
                  </a:lnTo>
                </a:path>
              </a:pathLst>
            </a:custGeom>
            <a:noFill/>
            <a:ln cap="rnd"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9" name="Rectangle 283"/>
          <p:cNvSpPr/>
          <p:nvPr/>
        </p:nvSpPr>
        <p:spPr>
          <a:xfrm>
            <a:off x="1295280" y="1143000"/>
            <a:ext cx="2437920" cy="640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MIXED MUCOUS 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Arc 284"/>
          <p:cNvSpPr/>
          <p:nvPr/>
        </p:nvSpPr>
        <p:spPr>
          <a:xfrm>
            <a:off x="1905120" y="2209680"/>
            <a:ext cx="456840" cy="304560"/>
          </a:xfrm>
          <a:custGeom>
            <a:avLst/>
            <a:gdLst>
              <a:gd name="textAreaLeft" fmla="*/ 0 w 456840"/>
              <a:gd name="textAreaRight" fmla="*/ 457200 w 456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70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1" name="Rectangle 285"/>
          <p:cNvSpPr/>
          <p:nvPr/>
        </p:nvSpPr>
        <p:spPr>
          <a:xfrm>
            <a:off x="0" y="3733920"/>
            <a:ext cx="1904760" cy="70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chemeClr val="hlink"/>
                </a:solidFill>
                <a:latin typeface="Calibri"/>
              </a:rPr>
              <a:t>SEROUS </a:t>
            </a:r>
            <a:r>
              <a:rPr b="1" lang="ru-RU" sz="2000" spc="-1" strike="noStrike">
                <a:solidFill>
                  <a:srgbClr val="558ed5"/>
                </a:solidFill>
                <a:latin typeface="Calibri"/>
              </a:rPr>
              <a:t>demil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Line 286"/>
          <p:cNvSpPr/>
          <p:nvPr/>
        </p:nvSpPr>
        <p:spPr>
          <a:xfrm flipV="1">
            <a:off x="380880" y="2590560"/>
            <a:ext cx="360" cy="1067040"/>
          </a:xfrm>
          <a:prstGeom prst="line">
            <a:avLst/>
          </a:prstGeom>
          <a:ln w="25400">
            <a:solidFill>
              <a:srgbClr val="4bacc6">
                <a:lumMod val="75000"/>
              </a:srgbClr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3" name="Group 324"/>
          <p:cNvGrpSpPr/>
          <p:nvPr/>
        </p:nvGrpSpPr>
        <p:grpSpPr>
          <a:xfrm>
            <a:off x="4925880" y="5576760"/>
            <a:ext cx="2563560" cy="1122120"/>
            <a:chOff x="4925880" y="5576760"/>
            <a:chExt cx="2563560" cy="1122120"/>
          </a:xfrm>
        </p:grpSpPr>
        <p:sp>
          <p:nvSpPr>
            <p:cNvPr id="2854" name="Freeform 287"/>
            <p:cNvSpPr/>
            <p:nvPr/>
          </p:nvSpPr>
          <p:spPr>
            <a:xfrm>
              <a:off x="5276880" y="5621400"/>
              <a:ext cx="388440" cy="36144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245" h="228">
                  <a:moveTo>
                    <a:pt x="14" y="10"/>
                  </a:moveTo>
                  <a:lnTo>
                    <a:pt x="13" y="31"/>
                  </a:lnTo>
                  <a:lnTo>
                    <a:pt x="11" y="64"/>
                  </a:lnTo>
                  <a:lnTo>
                    <a:pt x="9" y="108"/>
                  </a:lnTo>
                  <a:lnTo>
                    <a:pt x="2" y="124"/>
                  </a:lnTo>
                  <a:lnTo>
                    <a:pt x="1" y="141"/>
                  </a:lnTo>
                  <a:lnTo>
                    <a:pt x="0" y="161"/>
                  </a:lnTo>
                  <a:lnTo>
                    <a:pt x="0" y="178"/>
                  </a:lnTo>
                  <a:lnTo>
                    <a:pt x="4" y="195"/>
                  </a:lnTo>
                  <a:lnTo>
                    <a:pt x="20" y="206"/>
                  </a:lnTo>
                  <a:lnTo>
                    <a:pt x="37" y="213"/>
                  </a:lnTo>
                  <a:lnTo>
                    <a:pt x="52" y="220"/>
                  </a:lnTo>
                  <a:lnTo>
                    <a:pt x="67" y="220"/>
                  </a:lnTo>
                  <a:lnTo>
                    <a:pt x="85" y="222"/>
                  </a:lnTo>
                  <a:lnTo>
                    <a:pt x="102" y="221"/>
                  </a:lnTo>
                  <a:lnTo>
                    <a:pt x="117" y="222"/>
                  </a:lnTo>
                  <a:lnTo>
                    <a:pt x="134" y="224"/>
                  </a:lnTo>
                  <a:lnTo>
                    <a:pt x="149" y="225"/>
                  </a:lnTo>
                  <a:lnTo>
                    <a:pt x="188" y="226"/>
                  </a:lnTo>
                  <a:lnTo>
                    <a:pt x="205" y="227"/>
                  </a:lnTo>
                  <a:lnTo>
                    <a:pt x="221" y="227"/>
                  </a:lnTo>
                  <a:lnTo>
                    <a:pt x="227" y="211"/>
                  </a:lnTo>
                  <a:lnTo>
                    <a:pt x="234" y="195"/>
                  </a:lnTo>
                  <a:lnTo>
                    <a:pt x="234" y="180"/>
                  </a:lnTo>
                  <a:lnTo>
                    <a:pt x="236" y="163"/>
                  </a:lnTo>
                  <a:lnTo>
                    <a:pt x="236" y="148"/>
                  </a:lnTo>
                  <a:lnTo>
                    <a:pt x="237" y="132"/>
                  </a:lnTo>
                  <a:lnTo>
                    <a:pt x="238" y="114"/>
                  </a:lnTo>
                  <a:lnTo>
                    <a:pt x="239" y="99"/>
                  </a:lnTo>
                  <a:lnTo>
                    <a:pt x="238" y="81"/>
                  </a:lnTo>
                  <a:lnTo>
                    <a:pt x="241" y="66"/>
                  </a:lnTo>
                  <a:lnTo>
                    <a:pt x="242" y="49"/>
                  </a:lnTo>
                  <a:lnTo>
                    <a:pt x="243" y="32"/>
                  </a:lnTo>
                  <a:lnTo>
                    <a:pt x="244" y="17"/>
                  </a:lnTo>
                  <a:lnTo>
                    <a:pt x="226" y="14"/>
                  </a:lnTo>
                  <a:lnTo>
                    <a:pt x="211" y="14"/>
                  </a:lnTo>
                  <a:lnTo>
                    <a:pt x="194" y="15"/>
                  </a:lnTo>
                  <a:lnTo>
                    <a:pt x="178" y="7"/>
                  </a:lnTo>
                  <a:lnTo>
                    <a:pt x="162" y="7"/>
                  </a:lnTo>
                  <a:lnTo>
                    <a:pt x="146" y="6"/>
                  </a:lnTo>
                  <a:lnTo>
                    <a:pt x="129" y="5"/>
                  </a:lnTo>
                  <a:lnTo>
                    <a:pt x="113" y="3"/>
                  </a:lnTo>
                  <a:lnTo>
                    <a:pt x="97" y="3"/>
                  </a:lnTo>
                  <a:lnTo>
                    <a:pt x="81" y="2"/>
                  </a:lnTo>
                  <a:lnTo>
                    <a:pt x="63" y="0"/>
                  </a:lnTo>
                  <a:lnTo>
                    <a:pt x="46" y="0"/>
                  </a:lnTo>
                  <a:lnTo>
                    <a:pt x="14" y="10"/>
                  </a:lnTo>
                  <a:lnTo>
                    <a:pt x="14" y="10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5" name="Oval 288"/>
            <p:cNvSpPr/>
            <p:nvPr/>
          </p:nvSpPr>
          <p:spPr>
            <a:xfrm rot="180000">
              <a:off x="5340240" y="5646600"/>
              <a:ext cx="293400" cy="68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6" name="Freeform 289"/>
            <p:cNvSpPr/>
            <p:nvPr/>
          </p:nvSpPr>
          <p:spPr>
            <a:xfrm>
              <a:off x="5618160" y="5640480"/>
              <a:ext cx="387000" cy="36000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244" h="227">
                  <a:moveTo>
                    <a:pt x="14" y="7"/>
                  </a:moveTo>
                  <a:lnTo>
                    <a:pt x="13" y="31"/>
                  </a:lnTo>
                  <a:lnTo>
                    <a:pt x="12" y="63"/>
                  </a:lnTo>
                  <a:lnTo>
                    <a:pt x="8" y="107"/>
                  </a:lnTo>
                  <a:lnTo>
                    <a:pt x="2" y="123"/>
                  </a:lnTo>
                  <a:lnTo>
                    <a:pt x="1" y="139"/>
                  </a:lnTo>
                  <a:lnTo>
                    <a:pt x="0" y="161"/>
                  </a:lnTo>
                  <a:lnTo>
                    <a:pt x="0" y="177"/>
                  </a:lnTo>
                  <a:lnTo>
                    <a:pt x="6" y="194"/>
                  </a:lnTo>
                  <a:lnTo>
                    <a:pt x="20" y="206"/>
                  </a:lnTo>
                  <a:lnTo>
                    <a:pt x="36" y="212"/>
                  </a:lnTo>
                  <a:lnTo>
                    <a:pt x="53" y="218"/>
                  </a:lnTo>
                  <a:lnTo>
                    <a:pt x="70" y="219"/>
                  </a:lnTo>
                  <a:lnTo>
                    <a:pt x="84" y="219"/>
                  </a:lnTo>
                  <a:lnTo>
                    <a:pt x="101" y="221"/>
                  </a:lnTo>
                  <a:lnTo>
                    <a:pt x="118" y="222"/>
                  </a:lnTo>
                  <a:lnTo>
                    <a:pt x="133" y="222"/>
                  </a:lnTo>
                  <a:lnTo>
                    <a:pt x="150" y="223"/>
                  </a:lnTo>
                  <a:lnTo>
                    <a:pt x="189" y="226"/>
                  </a:lnTo>
                  <a:lnTo>
                    <a:pt x="205" y="226"/>
                  </a:lnTo>
                  <a:lnTo>
                    <a:pt x="222" y="226"/>
                  </a:lnTo>
                  <a:lnTo>
                    <a:pt x="226" y="211"/>
                  </a:lnTo>
                  <a:lnTo>
                    <a:pt x="233" y="195"/>
                  </a:lnTo>
                  <a:lnTo>
                    <a:pt x="235" y="178"/>
                  </a:lnTo>
                  <a:lnTo>
                    <a:pt x="236" y="163"/>
                  </a:lnTo>
                  <a:lnTo>
                    <a:pt x="236" y="147"/>
                  </a:lnTo>
                  <a:lnTo>
                    <a:pt x="238" y="129"/>
                  </a:lnTo>
                  <a:lnTo>
                    <a:pt x="238" y="114"/>
                  </a:lnTo>
                  <a:lnTo>
                    <a:pt x="238" y="97"/>
                  </a:lnTo>
                  <a:lnTo>
                    <a:pt x="240" y="81"/>
                  </a:lnTo>
                  <a:lnTo>
                    <a:pt x="240" y="65"/>
                  </a:lnTo>
                  <a:lnTo>
                    <a:pt x="242" y="48"/>
                  </a:lnTo>
                  <a:lnTo>
                    <a:pt x="243" y="31"/>
                  </a:lnTo>
                  <a:lnTo>
                    <a:pt x="243" y="15"/>
                  </a:lnTo>
                  <a:lnTo>
                    <a:pt x="227" y="15"/>
                  </a:lnTo>
                  <a:lnTo>
                    <a:pt x="211" y="13"/>
                  </a:lnTo>
                  <a:lnTo>
                    <a:pt x="194" y="13"/>
                  </a:lnTo>
                  <a:lnTo>
                    <a:pt x="178" y="7"/>
                  </a:lnTo>
                  <a:lnTo>
                    <a:pt x="162" y="6"/>
                  </a:lnTo>
                  <a:lnTo>
                    <a:pt x="146" y="5"/>
                  </a:lnTo>
                  <a:lnTo>
                    <a:pt x="129" y="3"/>
                  </a:lnTo>
                  <a:lnTo>
                    <a:pt x="112" y="3"/>
                  </a:lnTo>
                  <a:lnTo>
                    <a:pt x="96" y="3"/>
                  </a:lnTo>
                  <a:lnTo>
                    <a:pt x="80" y="2"/>
                  </a:lnTo>
                  <a:lnTo>
                    <a:pt x="65" y="1"/>
                  </a:lnTo>
                  <a:lnTo>
                    <a:pt x="48" y="0"/>
                  </a:lnTo>
                  <a:lnTo>
                    <a:pt x="14" y="7"/>
                  </a:lnTo>
                  <a:lnTo>
                    <a:pt x="14" y="7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7" name="Oval 290"/>
            <p:cNvSpPr/>
            <p:nvPr/>
          </p:nvSpPr>
          <p:spPr>
            <a:xfrm rot="180000">
              <a:off x="5682960" y="5667120"/>
              <a:ext cx="294840" cy="662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8" name="Freeform 291"/>
            <p:cNvSpPr/>
            <p:nvPr/>
          </p:nvSpPr>
          <p:spPr>
            <a:xfrm>
              <a:off x="5961240" y="5657760"/>
              <a:ext cx="390240" cy="36324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246" h="229">
                  <a:moveTo>
                    <a:pt x="14" y="8"/>
                  </a:moveTo>
                  <a:lnTo>
                    <a:pt x="13" y="30"/>
                  </a:lnTo>
                  <a:lnTo>
                    <a:pt x="11" y="64"/>
                  </a:lnTo>
                  <a:lnTo>
                    <a:pt x="9" y="106"/>
                  </a:lnTo>
                  <a:lnTo>
                    <a:pt x="3" y="124"/>
                  </a:lnTo>
                  <a:lnTo>
                    <a:pt x="1" y="140"/>
                  </a:lnTo>
                  <a:lnTo>
                    <a:pt x="1" y="161"/>
                  </a:lnTo>
                  <a:lnTo>
                    <a:pt x="0" y="179"/>
                  </a:lnTo>
                  <a:lnTo>
                    <a:pt x="4" y="194"/>
                  </a:lnTo>
                  <a:lnTo>
                    <a:pt x="21" y="206"/>
                  </a:lnTo>
                  <a:lnTo>
                    <a:pt x="35" y="212"/>
                  </a:lnTo>
                  <a:lnTo>
                    <a:pt x="52" y="218"/>
                  </a:lnTo>
                  <a:lnTo>
                    <a:pt x="68" y="219"/>
                  </a:lnTo>
                  <a:lnTo>
                    <a:pt x="85" y="222"/>
                  </a:lnTo>
                  <a:lnTo>
                    <a:pt x="100" y="222"/>
                  </a:lnTo>
                  <a:lnTo>
                    <a:pt x="119" y="222"/>
                  </a:lnTo>
                  <a:lnTo>
                    <a:pt x="135" y="224"/>
                  </a:lnTo>
                  <a:lnTo>
                    <a:pt x="151" y="223"/>
                  </a:lnTo>
                  <a:lnTo>
                    <a:pt x="189" y="225"/>
                  </a:lnTo>
                  <a:lnTo>
                    <a:pt x="207" y="227"/>
                  </a:lnTo>
                  <a:lnTo>
                    <a:pt x="222" y="228"/>
                  </a:lnTo>
                  <a:lnTo>
                    <a:pt x="228" y="212"/>
                  </a:lnTo>
                  <a:lnTo>
                    <a:pt x="235" y="196"/>
                  </a:lnTo>
                  <a:lnTo>
                    <a:pt x="235" y="179"/>
                  </a:lnTo>
                  <a:lnTo>
                    <a:pt x="235" y="162"/>
                  </a:lnTo>
                  <a:lnTo>
                    <a:pt x="237" y="146"/>
                  </a:lnTo>
                  <a:lnTo>
                    <a:pt x="237" y="130"/>
                  </a:lnTo>
                  <a:lnTo>
                    <a:pt x="238" y="113"/>
                  </a:lnTo>
                  <a:lnTo>
                    <a:pt x="240" y="97"/>
                  </a:lnTo>
                  <a:lnTo>
                    <a:pt x="241" y="80"/>
                  </a:lnTo>
                  <a:lnTo>
                    <a:pt x="242" y="64"/>
                  </a:lnTo>
                  <a:lnTo>
                    <a:pt x="241" y="48"/>
                  </a:lnTo>
                  <a:lnTo>
                    <a:pt x="243" y="31"/>
                  </a:lnTo>
                  <a:lnTo>
                    <a:pt x="245" y="15"/>
                  </a:lnTo>
                  <a:lnTo>
                    <a:pt x="226" y="16"/>
                  </a:lnTo>
                  <a:lnTo>
                    <a:pt x="211" y="14"/>
                  </a:lnTo>
                  <a:lnTo>
                    <a:pt x="194" y="14"/>
                  </a:lnTo>
                  <a:lnTo>
                    <a:pt x="177" y="6"/>
                  </a:lnTo>
                  <a:lnTo>
                    <a:pt x="161" y="6"/>
                  </a:lnTo>
                  <a:lnTo>
                    <a:pt x="145" y="4"/>
                  </a:lnTo>
                  <a:lnTo>
                    <a:pt x="129" y="4"/>
                  </a:lnTo>
                  <a:lnTo>
                    <a:pt x="112" y="2"/>
                  </a:lnTo>
                  <a:lnTo>
                    <a:pt x="96" y="2"/>
                  </a:lnTo>
                  <a:lnTo>
                    <a:pt x="79" y="2"/>
                  </a:lnTo>
                  <a:lnTo>
                    <a:pt x="64" y="1"/>
                  </a:lnTo>
                  <a:lnTo>
                    <a:pt x="47" y="0"/>
                  </a:lnTo>
                  <a:lnTo>
                    <a:pt x="14" y="8"/>
                  </a:lnTo>
                  <a:lnTo>
                    <a:pt x="14" y="8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9" name="Oval 292"/>
            <p:cNvSpPr/>
            <p:nvPr/>
          </p:nvSpPr>
          <p:spPr>
            <a:xfrm rot="180000">
              <a:off x="6022800" y="5680080"/>
              <a:ext cx="296640" cy="6948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0" name="Freeform 293"/>
            <p:cNvSpPr/>
            <p:nvPr/>
          </p:nvSpPr>
          <p:spPr>
            <a:xfrm>
              <a:off x="6302520" y="5676840"/>
              <a:ext cx="390240" cy="36324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246" h="229">
                  <a:moveTo>
                    <a:pt x="15" y="8"/>
                  </a:moveTo>
                  <a:lnTo>
                    <a:pt x="14" y="30"/>
                  </a:lnTo>
                  <a:lnTo>
                    <a:pt x="11" y="63"/>
                  </a:lnTo>
                  <a:lnTo>
                    <a:pt x="10" y="107"/>
                  </a:lnTo>
                  <a:lnTo>
                    <a:pt x="3" y="123"/>
                  </a:lnTo>
                  <a:lnTo>
                    <a:pt x="3" y="139"/>
                  </a:lnTo>
                  <a:lnTo>
                    <a:pt x="1" y="161"/>
                  </a:lnTo>
                  <a:lnTo>
                    <a:pt x="0" y="177"/>
                  </a:lnTo>
                  <a:lnTo>
                    <a:pt x="4" y="194"/>
                  </a:lnTo>
                  <a:lnTo>
                    <a:pt x="22" y="206"/>
                  </a:lnTo>
                  <a:lnTo>
                    <a:pt x="37" y="212"/>
                  </a:lnTo>
                  <a:lnTo>
                    <a:pt x="53" y="218"/>
                  </a:lnTo>
                  <a:lnTo>
                    <a:pt x="69" y="219"/>
                  </a:lnTo>
                  <a:lnTo>
                    <a:pt x="86" y="219"/>
                  </a:lnTo>
                  <a:lnTo>
                    <a:pt x="102" y="221"/>
                  </a:lnTo>
                  <a:lnTo>
                    <a:pt x="119" y="221"/>
                  </a:lnTo>
                  <a:lnTo>
                    <a:pt x="135" y="221"/>
                  </a:lnTo>
                  <a:lnTo>
                    <a:pt x="152" y="224"/>
                  </a:lnTo>
                  <a:lnTo>
                    <a:pt x="190" y="226"/>
                  </a:lnTo>
                  <a:lnTo>
                    <a:pt x="205" y="225"/>
                  </a:lnTo>
                  <a:lnTo>
                    <a:pt x="223" y="228"/>
                  </a:lnTo>
                  <a:lnTo>
                    <a:pt x="229" y="212"/>
                  </a:lnTo>
                  <a:lnTo>
                    <a:pt x="235" y="195"/>
                  </a:lnTo>
                  <a:lnTo>
                    <a:pt x="236" y="178"/>
                  </a:lnTo>
                  <a:lnTo>
                    <a:pt x="238" y="162"/>
                  </a:lnTo>
                  <a:lnTo>
                    <a:pt x="238" y="146"/>
                  </a:lnTo>
                  <a:lnTo>
                    <a:pt x="238" y="130"/>
                  </a:lnTo>
                  <a:lnTo>
                    <a:pt x="239" y="112"/>
                  </a:lnTo>
                  <a:lnTo>
                    <a:pt x="240" y="97"/>
                  </a:lnTo>
                  <a:lnTo>
                    <a:pt x="240" y="81"/>
                  </a:lnTo>
                  <a:lnTo>
                    <a:pt x="242" y="64"/>
                  </a:lnTo>
                  <a:lnTo>
                    <a:pt x="243" y="49"/>
                  </a:lnTo>
                  <a:lnTo>
                    <a:pt x="243" y="32"/>
                  </a:lnTo>
                  <a:lnTo>
                    <a:pt x="245" y="15"/>
                  </a:lnTo>
                  <a:lnTo>
                    <a:pt x="228" y="15"/>
                  </a:lnTo>
                  <a:lnTo>
                    <a:pt x="213" y="14"/>
                  </a:lnTo>
                  <a:lnTo>
                    <a:pt x="195" y="13"/>
                  </a:lnTo>
                  <a:lnTo>
                    <a:pt x="179" y="6"/>
                  </a:lnTo>
                  <a:lnTo>
                    <a:pt x="162" y="5"/>
                  </a:lnTo>
                  <a:lnTo>
                    <a:pt x="145" y="6"/>
                  </a:lnTo>
                  <a:lnTo>
                    <a:pt x="130" y="4"/>
                  </a:lnTo>
                  <a:lnTo>
                    <a:pt x="113" y="4"/>
                  </a:lnTo>
                  <a:lnTo>
                    <a:pt x="97" y="3"/>
                  </a:lnTo>
                  <a:lnTo>
                    <a:pt x="81" y="1"/>
                  </a:lnTo>
                  <a:lnTo>
                    <a:pt x="64" y="0"/>
                  </a:lnTo>
                  <a:lnTo>
                    <a:pt x="48" y="0"/>
                  </a:lnTo>
                  <a:lnTo>
                    <a:pt x="15" y="8"/>
                  </a:lnTo>
                  <a:lnTo>
                    <a:pt x="15" y="8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1" name="Oval 294"/>
            <p:cNvSpPr/>
            <p:nvPr/>
          </p:nvSpPr>
          <p:spPr>
            <a:xfrm rot="180000">
              <a:off x="6367320" y="5700600"/>
              <a:ext cx="293400" cy="680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2" name="Freeform 295"/>
            <p:cNvSpPr/>
            <p:nvPr/>
          </p:nvSpPr>
          <p:spPr>
            <a:xfrm>
              <a:off x="4932360" y="5605560"/>
              <a:ext cx="388440" cy="36000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245" h="227">
                  <a:moveTo>
                    <a:pt x="15" y="6"/>
                  </a:moveTo>
                  <a:lnTo>
                    <a:pt x="14" y="29"/>
                  </a:lnTo>
                  <a:lnTo>
                    <a:pt x="12" y="63"/>
                  </a:lnTo>
                  <a:lnTo>
                    <a:pt x="9" y="105"/>
                  </a:lnTo>
                  <a:lnTo>
                    <a:pt x="3" y="122"/>
                  </a:lnTo>
                  <a:lnTo>
                    <a:pt x="3" y="139"/>
                  </a:lnTo>
                  <a:lnTo>
                    <a:pt x="2" y="161"/>
                  </a:lnTo>
                  <a:lnTo>
                    <a:pt x="0" y="177"/>
                  </a:lnTo>
                  <a:lnTo>
                    <a:pt x="5" y="193"/>
                  </a:lnTo>
                  <a:lnTo>
                    <a:pt x="22" y="205"/>
                  </a:lnTo>
                  <a:lnTo>
                    <a:pt x="36" y="212"/>
                  </a:lnTo>
                  <a:lnTo>
                    <a:pt x="53" y="217"/>
                  </a:lnTo>
                  <a:lnTo>
                    <a:pt x="70" y="218"/>
                  </a:lnTo>
                  <a:lnTo>
                    <a:pt x="86" y="218"/>
                  </a:lnTo>
                  <a:lnTo>
                    <a:pt x="102" y="219"/>
                  </a:lnTo>
                  <a:lnTo>
                    <a:pt x="120" y="222"/>
                  </a:lnTo>
                  <a:lnTo>
                    <a:pt x="136" y="221"/>
                  </a:lnTo>
                  <a:lnTo>
                    <a:pt x="151" y="223"/>
                  </a:lnTo>
                  <a:lnTo>
                    <a:pt x="191" y="224"/>
                  </a:lnTo>
                  <a:lnTo>
                    <a:pt x="207" y="225"/>
                  </a:lnTo>
                  <a:lnTo>
                    <a:pt x="223" y="226"/>
                  </a:lnTo>
                  <a:lnTo>
                    <a:pt x="229" y="211"/>
                  </a:lnTo>
                  <a:lnTo>
                    <a:pt x="236" y="194"/>
                  </a:lnTo>
                  <a:lnTo>
                    <a:pt x="236" y="178"/>
                  </a:lnTo>
                  <a:lnTo>
                    <a:pt x="237" y="161"/>
                  </a:lnTo>
                  <a:lnTo>
                    <a:pt x="238" y="146"/>
                  </a:lnTo>
                  <a:lnTo>
                    <a:pt x="238" y="128"/>
                  </a:lnTo>
                  <a:lnTo>
                    <a:pt x="239" y="113"/>
                  </a:lnTo>
                  <a:lnTo>
                    <a:pt x="240" y="96"/>
                  </a:lnTo>
                  <a:lnTo>
                    <a:pt x="242" y="81"/>
                  </a:lnTo>
                  <a:lnTo>
                    <a:pt x="243" y="64"/>
                  </a:lnTo>
                  <a:lnTo>
                    <a:pt x="243" y="47"/>
                  </a:lnTo>
                  <a:lnTo>
                    <a:pt x="243" y="31"/>
                  </a:lnTo>
                  <a:lnTo>
                    <a:pt x="244" y="14"/>
                  </a:lnTo>
                  <a:lnTo>
                    <a:pt x="228" y="14"/>
                  </a:lnTo>
                  <a:lnTo>
                    <a:pt x="212" y="13"/>
                  </a:lnTo>
                  <a:lnTo>
                    <a:pt x="195" y="12"/>
                  </a:lnTo>
                  <a:lnTo>
                    <a:pt x="179" y="6"/>
                  </a:lnTo>
                  <a:lnTo>
                    <a:pt x="162" y="5"/>
                  </a:lnTo>
                  <a:lnTo>
                    <a:pt x="146" y="4"/>
                  </a:lnTo>
                  <a:lnTo>
                    <a:pt x="130" y="3"/>
                  </a:lnTo>
                  <a:lnTo>
                    <a:pt x="114" y="2"/>
                  </a:lnTo>
                  <a:lnTo>
                    <a:pt x="97" y="1"/>
                  </a:lnTo>
                  <a:lnTo>
                    <a:pt x="81" y="0"/>
                  </a:lnTo>
                  <a:lnTo>
                    <a:pt x="64" y="1"/>
                  </a:lnTo>
                  <a:lnTo>
                    <a:pt x="47" y="0"/>
                  </a:lnTo>
                  <a:lnTo>
                    <a:pt x="15" y="6"/>
                  </a:lnTo>
                  <a:lnTo>
                    <a:pt x="15" y="6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3" name="Oval 296"/>
            <p:cNvSpPr/>
            <p:nvPr/>
          </p:nvSpPr>
          <p:spPr>
            <a:xfrm rot="180000">
              <a:off x="4995720" y="5627520"/>
              <a:ext cx="294840" cy="6624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4" name="Freeform 297"/>
            <p:cNvSpPr/>
            <p:nvPr/>
          </p:nvSpPr>
          <p:spPr>
            <a:xfrm>
              <a:off x="6647040" y="5692680"/>
              <a:ext cx="387000" cy="36324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244" h="229">
                  <a:moveTo>
                    <a:pt x="14" y="9"/>
                  </a:moveTo>
                  <a:lnTo>
                    <a:pt x="12" y="32"/>
                  </a:lnTo>
                  <a:lnTo>
                    <a:pt x="10" y="64"/>
                  </a:lnTo>
                  <a:lnTo>
                    <a:pt x="8" y="108"/>
                  </a:lnTo>
                  <a:lnTo>
                    <a:pt x="3" y="125"/>
                  </a:lnTo>
                  <a:lnTo>
                    <a:pt x="1" y="140"/>
                  </a:lnTo>
                  <a:lnTo>
                    <a:pt x="0" y="161"/>
                  </a:lnTo>
                  <a:lnTo>
                    <a:pt x="0" y="178"/>
                  </a:lnTo>
                  <a:lnTo>
                    <a:pt x="4" y="195"/>
                  </a:lnTo>
                  <a:lnTo>
                    <a:pt x="19" y="207"/>
                  </a:lnTo>
                  <a:lnTo>
                    <a:pt x="36" y="212"/>
                  </a:lnTo>
                  <a:lnTo>
                    <a:pt x="52" y="219"/>
                  </a:lnTo>
                  <a:lnTo>
                    <a:pt x="68" y="219"/>
                  </a:lnTo>
                  <a:lnTo>
                    <a:pt x="84" y="221"/>
                  </a:lnTo>
                  <a:lnTo>
                    <a:pt x="100" y="222"/>
                  </a:lnTo>
                  <a:lnTo>
                    <a:pt x="116" y="222"/>
                  </a:lnTo>
                  <a:lnTo>
                    <a:pt x="133" y="223"/>
                  </a:lnTo>
                  <a:lnTo>
                    <a:pt x="149" y="224"/>
                  </a:lnTo>
                  <a:lnTo>
                    <a:pt x="188" y="226"/>
                  </a:lnTo>
                  <a:lnTo>
                    <a:pt x="204" y="228"/>
                  </a:lnTo>
                  <a:lnTo>
                    <a:pt x="221" y="228"/>
                  </a:lnTo>
                  <a:lnTo>
                    <a:pt x="226" y="212"/>
                  </a:lnTo>
                  <a:lnTo>
                    <a:pt x="233" y="196"/>
                  </a:lnTo>
                  <a:lnTo>
                    <a:pt x="234" y="180"/>
                  </a:lnTo>
                  <a:lnTo>
                    <a:pt x="236" y="163"/>
                  </a:lnTo>
                  <a:lnTo>
                    <a:pt x="236" y="147"/>
                  </a:lnTo>
                  <a:lnTo>
                    <a:pt x="237" y="131"/>
                  </a:lnTo>
                  <a:lnTo>
                    <a:pt x="238" y="114"/>
                  </a:lnTo>
                  <a:lnTo>
                    <a:pt x="238" y="98"/>
                  </a:lnTo>
                  <a:lnTo>
                    <a:pt x="240" y="82"/>
                  </a:lnTo>
                  <a:lnTo>
                    <a:pt x="239" y="65"/>
                  </a:lnTo>
                  <a:lnTo>
                    <a:pt x="242" y="49"/>
                  </a:lnTo>
                  <a:lnTo>
                    <a:pt x="243" y="32"/>
                  </a:lnTo>
                  <a:lnTo>
                    <a:pt x="243" y="18"/>
                  </a:lnTo>
                  <a:lnTo>
                    <a:pt x="226" y="16"/>
                  </a:lnTo>
                  <a:lnTo>
                    <a:pt x="211" y="15"/>
                  </a:lnTo>
                  <a:lnTo>
                    <a:pt x="194" y="14"/>
                  </a:lnTo>
                  <a:lnTo>
                    <a:pt x="178" y="8"/>
                  </a:lnTo>
                  <a:lnTo>
                    <a:pt x="162" y="7"/>
                  </a:lnTo>
                  <a:lnTo>
                    <a:pt x="146" y="5"/>
                  </a:lnTo>
                  <a:lnTo>
                    <a:pt x="129" y="5"/>
                  </a:lnTo>
                  <a:lnTo>
                    <a:pt x="111" y="5"/>
                  </a:lnTo>
                  <a:lnTo>
                    <a:pt x="96" y="3"/>
                  </a:lnTo>
                  <a:lnTo>
                    <a:pt x="79" y="3"/>
                  </a:lnTo>
                  <a:lnTo>
                    <a:pt x="63" y="1"/>
                  </a:lnTo>
                  <a:lnTo>
                    <a:pt x="47" y="0"/>
                  </a:lnTo>
                  <a:lnTo>
                    <a:pt x="14" y="9"/>
                  </a:lnTo>
                  <a:lnTo>
                    <a:pt x="14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5" name="Oval 298"/>
            <p:cNvSpPr/>
            <p:nvPr/>
          </p:nvSpPr>
          <p:spPr>
            <a:xfrm rot="180000">
              <a:off x="6711840" y="5719680"/>
              <a:ext cx="293400" cy="709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66" name="Group 301"/>
            <p:cNvGrpSpPr/>
            <p:nvPr/>
          </p:nvGrpSpPr>
          <p:grpSpPr>
            <a:xfrm>
              <a:off x="5295960" y="6081840"/>
              <a:ext cx="380520" cy="356760"/>
              <a:chOff x="5295960" y="6081840"/>
              <a:chExt cx="380520" cy="356760"/>
            </a:xfrm>
          </p:grpSpPr>
          <p:sp>
            <p:nvSpPr>
              <p:cNvPr id="2867" name="Freeform 299"/>
              <p:cNvSpPr/>
              <p:nvPr/>
            </p:nvSpPr>
            <p:spPr>
              <a:xfrm>
                <a:off x="5295960" y="6081840"/>
                <a:ext cx="380520" cy="35676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40" h="225">
                    <a:moveTo>
                      <a:pt x="0" y="205"/>
                    </a:moveTo>
                    <a:lnTo>
                      <a:pt x="1" y="182"/>
                    </a:lnTo>
                    <a:lnTo>
                      <a:pt x="4" y="149"/>
                    </a:lnTo>
                    <a:lnTo>
                      <a:pt x="5" y="106"/>
                    </a:lnTo>
                    <a:lnTo>
                      <a:pt x="0" y="89"/>
                    </a:lnTo>
                    <a:lnTo>
                      <a:pt x="1" y="73"/>
                    </a:lnTo>
                    <a:lnTo>
                      <a:pt x="3" y="52"/>
                    </a:lnTo>
                    <a:lnTo>
                      <a:pt x="3" y="34"/>
                    </a:lnTo>
                    <a:lnTo>
                      <a:pt x="11" y="19"/>
                    </a:lnTo>
                    <a:lnTo>
                      <a:pt x="26" y="9"/>
                    </a:lnTo>
                    <a:lnTo>
                      <a:pt x="43" y="5"/>
                    </a:lnTo>
                    <a:lnTo>
                      <a:pt x="60" y="0"/>
                    </a:lnTo>
                    <a:lnTo>
                      <a:pt x="76" y="2"/>
                    </a:lnTo>
                    <a:lnTo>
                      <a:pt x="93" y="2"/>
                    </a:lnTo>
                    <a:lnTo>
                      <a:pt x="109" y="2"/>
                    </a:lnTo>
                    <a:lnTo>
                      <a:pt x="126" y="3"/>
                    </a:lnTo>
                    <a:lnTo>
                      <a:pt x="143" y="5"/>
                    </a:lnTo>
                    <a:lnTo>
                      <a:pt x="159" y="6"/>
                    </a:lnTo>
                    <a:lnTo>
                      <a:pt x="197" y="6"/>
                    </a:lnTo>
                    <a:lnTo>
                      <a:pt x="214" y="7"/>
                    </a:lnTo>
                    <a:lnTo>
                      <a:pt x="230" y="8"/>
                    </a:lnTo>
                    <a:lnTo>
                      <a:pt x="235" y="25"/>
                    </a:lnTo>
                    <a:lnTo>
                      <a:pt x="239" y="42"/>
                    </a:lnTo>
                    <a:lnTo>
                      <a:pt x="238" y="59"/>
                    </a:lnTo>
                    <a:lnTo>
                      <a:pt x="237" y="76"/>
                    </a:lnTo>
                    <a:lnTo>
                      <a:pt x="236" y="91"/>
                    </a:lnTo>
                    <a:lnTo>
                      <a:pt x="235" y="107"/>
                    </a:lnTo>
                    <a:lnTo>
                      <a:pt x="234" y="123"/>
                    </a:lnTo>
                    <a:lnTo>
                      <a:pt x="234" y="141"/>
                    </a:lnTo>
                    <a:lnTo>
                      <a:pt x="233" y="156"/>
                    </a:lnTo>
                    <a:lnTo>
                      <a:pt x="232" y="173"/>
                    </a:lnTo>
                    <a:lnTo>
                      <a:pt x="231" y="189"/>
                    </a:lnTo>
                    <a:lnTo>
                      <a:pt x="229" y="205"/>
                    </a:lnTo>
                    <a:lnTo>
                      <a:pt x="229" y="221"/>
                    </a:lnTo>
                    <a:lnTo>
                      <a:pt x="213" y="221"/>
                    </a:lnTo>
                    <a:lnTo>
                      <a:pt x="197" y="219"/>
                    </a:lnTo>
                    <a:lnTo>
                      <a:pt x="181" y="219"/>
                    </a:lnTo>
                    <a:lnTo>
                      <a:pt x="164" y="224"/>
                    </a:lnTo>
                    <a:lnTo>
                      <a:pt x="148" y="223"/>
                    </a:lnTo>
                    <a:lnTo>
                      <a:pt x="130" y="222"/>
                    </a:lnTo>
                    <a:lnTo>
                      <a:pt x="114" y="221"/>
                    </a:lnTo>
                    <a:lnTo>
                      <a:pt x="98" y="220"/>
                    </a:lnTo>
                    <a:lnTo>
                      <a:pt x="81" y="220"/>
                    </a:lnTo>
                    <a:lnTo>
                      <a:pt x="65" y="218"/>
                    </a:lnTo>
                    <a:lnTo>
                      <a:pt x="49" y="218"/>
                    </a:lnTo>
                    <a:lnTo>
                      <a:pt x="33" y="216"/>
                    </a:lnTo>
                    <a:lnTo>
                      <a:pt x="0" y="205"/>
                    </a:lnTo>
                    <a:lnTo>
                      <a:pt x="0" y="20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8" name="Oval 300"/>
              <p:cNvSpPr/>
              <p:nvPr/>
            </p:nvSpPr>
            <p:spPr>
              <a:xfrm rot="180000">
                <a:off x="5341680" y="6345000"/>
                <a:ext cx="294840" cy="680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69" name="Group 304"/>
            <p:cNvGrpSpPr/>
            <p:nvPr/>
          </p:nvGrpSpPr>
          <p:grpSpPr>
            <a:xfrm>
              <a:off x="5637240" y="6100920"/>
              <a:ext cx="380520" cy="355320"/>
              <a:chOff x="5637240" y="6100920"/>
              <a:chExt cx="380520" cy="355320"/>
            </a:xfrm>
          </p:grpSpPr>
          <p:sp>
            <p:nvSpPr>
              <p:cNvPr id="2870" name="Freeform 302"/>
              <p:cNvSpPr/>
              <p:nvPr/>
            </p:nvSpPr>
            <p:spPr>
              <a:xfrm>
                <a:off x="5637240" y="6100920"/>
                <a:ext cx="380520" cy="35532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40" h="224">
                    <a:moveTo>
                      <a:pt x="0" y="205"/>
                    </a:moveTo>
                    <a:lnTo>
                      <a:pt x="3" y="182"/>
                    </a:lnTo>
                    <a:lnTo>
                      <a:pt x="4" y="149"/>
                    </a:lnTo>
                    <a:lnTo>
                      <a:pt x="7" y="104"/>
                    </a:lnTo>
                    <a:lnTo>
                      <a:pt x="2" y="89"/>
                    </a:lnTo>
                    <a:lnTo>
                      <a:pt x="3" y="74"/>
                    </a:lnTo>
                    <a:lnTo>
                      <a:pt x="4" y="51"/>
                    </a:lnTo>
                    <a:lnTo>
                      <a:pt x="4" y="34"/>
                    </a:lnTo>
                    <a:lnTo>
                      <a:pt x="11" y="18"/>
                    </a:lnTo>
                    <a:lnTo>
                      <a:pt x="28" y="9"/>
                    </a:lnTo>
                    <a:lnTo>
                      <a:pt x="44" y="4"/>
                    </a:lnTo>
                    <a:lnTo>
                      <a:pt x="61" y="0"/>
                    </a:lnTo>
                    <a:lnTo>
                      <a:pt x="78" y="0"/>
                    </a:lnTo>
                    <a:lnTo>
                      <a:pt x="94" y="2"/>
                    </a:lnTo>
                    <a:lnTo>
                      <a:pt x="110" y="1"/>
                    </a:lnTo>
                    <a:lnTo>
                      <a:pt x="127" y="2"/>
                    </a:lnTo>
                    <a:lnTo>
                      <a:pt x="143" y="4"/>
                    </a:lnTo>
                    <a:lnTo>
                      <a:pt x="159" y="4"/>
                    </a:lnTo>
                    <a:lnTo>
                      <a:pt x="197" y="7"/>
                    </a:lnTo>
                    <a:lnTo>
                      <a:pt x="215" y="8"/>
                    </a:lnTo>
                    <a:lnTo>
                      <a:pt x="230" y="9"/>
                    </a:lnTo>
                    <a:lnTo>
                      <a:pt x="235" y="25"/>
                    </a:lnTo>
                    <a:lnTo>
                      <a:pt x="239" y="41"/>
                    </a:lnTo>
                    <a:lnTo>
                      <a:pt x="238" y="58"/>
                    </a:lnTo>
                    <a:lnTo>
                      <a:pt x="238" y="73"/>
                    </a:lnTo>
                    <a:lnTo>
                      <a:pt x="237" y="91"/>
                    </a:lnTo>
                    <a:lnTo>
                      <a:pt x="236" y="106"/>
                    </a:lnTo>
                    <a:lnTo>
                      <a:pt x="235" y="123"/>
                    </a:lnTo>
                    <a:lnTo>
                      <a:pt x="234" y="140"/>
                    </a:lnTo>
                    <a:lnTo>
                      <a:pt x="233" y="155"/>
                    </a:lnTo>
                    <a:lnTo>
                      <a:pt x="232" y="173"/>
                    </a:lnTo>
                    <a:lnTo>
                      <a:pt x="231" y="188"/>
                    </a:lnTo>
                    <a:lnTo>
                      <a:pt x="231" y="205"/>
                    </a:lnTo>
                    <a:lnTo>
                      <a:pt x="230" y="221"/>
                    </a:lnTo>
                    <a:lnTo>
                      <a:pt x="213" y="220"/>
                    </a:lnTo>
                    <a:lnTo>
                      <a:pt x="197" y="218"/>
                    </a:lnTo>
                    <a:lnTo>
                      <a:pt x="181" y="218"/>
                    </a:lnTo>
                    <a:lnTo>
                      <a:pt x="163" y="223"/>
                    </a:lnTo>
                    <a:lnTo>
                      <a:pt x="147" y="222"/>
                    </a:lnTo>
                    <a:lnTo>
                      <a:pt x="132" y="221"/>
                    </a:lnTo>
                    <a:lnTo>
                      <a:pt x="115" y="220"/>
                    </a:lnTo>
                    <a:lnTo>
                      <a:pt x="98" y="219"/>
                    </a:lnTo>
                    <a:lnTo>
                      <a:pt x="82" y="219"/>
                    </a:lnTo>
                    <a:lnTo>
                      <a:pt x="66" y="219"/>
                    </a:lnTo>
                    <a:lnTo>
                      <a:pt x="49" y="217"/>
                    </a:lnTo>
                    <a:lnTo>
                      <a:pt x="32" y="216"/>
                    </a:lnTo>
                    <a:lnTo>
                      <a:pt x="0" y="205"/>
                    </a:lnTo>
                    <a:lnTo>
                      <a:pt x="0" y="20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1" name="Oval 303"/>
              <p:cNvSpPr/>
              <p:nvPr/>
            </p:nvSpPr>
            <p:spPr>
              <a:xfrm rot="180000">
                <a:off x="5682960" y="6362640"/>
                <a:ext cx="29664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72" name="Group 307"/>
            <p:cNvGrpSpPr/>
            <p:nvPr/>
          </p:nvGrpSpPr>
          <p:grpSpPr>
            <a:xfrm>
              <a:off x="5981760" y="6116760"/>
              <a:ext cx="379080" cy="358560"/>
              <a:chOff x="5981760" y="6116760"/>
              <a:chExt cx="379080" cy="358560"/>
            </a:xfrm>
          </p:grpSpPr>
          <p:sp>
            <p:nvSpPr>
              <p:cNvPr id="2873" name="Freeform 305"/>
              <p:cNvSpPr/>
              <p:nvPr/>
            </p:nvSpPr>
            <p:spPr>
              <a:xfrm>
                <a:off x="5981760" y="6116760"/>
                <a:ext cx="379080" cy="3585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39" h="226">
                    <a:moveTo>
                      <a:pt x="0" y="206"/>
                    </a:moveTo>
                    <a:lnTo>
                      <a:pt x="1" y="183"/>
                    </a:lnTo>
                    <a:lnTo>
                      <a:pt x="2" y="151"/>
                    </a:lnTo>
                    <a:lnTo>
                      <a:pt x="6" y="107"/>
                    </a:lnTo>
                    <a:lnTo>
                      <a:pt x="1" y="90"/>
                    </a:lnTo>
                    <a:lnTo>
                      <a:pt x="1" y="74"/>
                    </a:lnTo>
                    <a:lnTo>
                      <a:pt x="2" y="54"/>
                    </a:lnTo>
                    <a:lnTo>
                      <a:pt x="4" y="36"/>
                    </a:lnTo>
                    <a:lnTo>
                      <a:pt x="9" y="19"/>
                    </a:lnTo>
                    <a:lnTo>
                      <a:pt x="26" y="9"/>
                    </a:lnTo>
                    <a:lnTo>
                      <a:pt x="42" y="4"/>
                    </a:lnTo>
                    <a:lnTo>
                      <a:pt x="59" y="0"/>
                    </a:lnTo>
                    <a:lnTo>
                      <a:pt x="76" y="1"/>
                    </a:lnTo>
                    <a:lnTo>
                      <a:pt x="92" y="2"/>
                    </a:lnTo>
                    <a:lnTo>
                      <a:pt x="109" y="3"/>
                    </a:lnTo>
                    <a:lnTo>
                      <a:pt x="126" y="5"/>
                    </a:lnTo>
                    <a:lnTo>
                      <a:pt x="141" y="5"/>
                    </a:lnTo>
                    <a:lnTo>
                      <a:pt x="158" y="6"/>
                    </a:lnTo>
                    <a:lnTo>
                      <a:pt x="196" y="9"/>
                    </a:lnTo>
                    <a:lnTo>
                      <a:pt x="212" y="8"/>
                    </a:lnTo>
                    <a:lnTo>
                      <a:pt x="229" y="9"/>
                    </a:lnTo>
                    <a:lnTo>
                      <a:pt x="233" y="26"/>
                    </a:lnTo>
                    <a:lnTo>
                      <a:pt x="238" y="43"/>
                    </a:lnTo>
                    <a:lnTo>
                      <a:pt x="237" y="60"/>
                    </a:lnTo>
                    <a:lnTo>
                      <a:pt x="236" y="76"/>
                    </a:lnTo>
                    <a:lnTo>
                      <a:pt x="234" y="91"/>
                    </a:lnTo>
                    <a:lnTo>
                      <a:pt x="234" y="108"/>
                    </a:lnTo>
                    <a:lnTo>
                      <a:pt x="234" y="124"/>
                    </a:lnTo>
                    <a:lnTo>
                      <a:pt x="232" y="141"/>
                    </a:lnTo>
                    <a:lnTo>
                      <a:pt x="231" y="158"/>
                    </a:lnTo>
                    <a:lnTo>
                      <a:pt x="232" y="173"/>
                    </a:lnTo>
                    <a:lnTo>
                      <a:pt x="230" y="190"/>
                    </a:lnTo>
                    <a:lnTo>
                      <a:pt x="229" y="207"/>
                    </a:lnTo>
                    <a:lnTo>
                      <a:pt x="229" y="222"/>
                    </a:lnTo>
                    <a:lnTo>
                      <a:pt x="212" y="222"/>
                    </a:lnTo>
                    <a:lnTo>
                      <a:pt x="196" y="222"/>
                    </a:lnTo>
                    <a:lnTo>
                      <a:pt x="179" y="220"/>
                    </a:lnTo>
                    <a:lnTo>
                      <a:pt x="161" y="225"/>
                    </a:lnTo>
                    <a:lnTo>
                      <a:pt x="146" y="224"/>
                    </a:lnTo>
                    <a:lnTo>
                      <a:pt x="130" y="223"/>
                    </a:lnTo>
                    <a:lnTo>
                      <a:pt x="115" y="221"/>
                    </a:lnTo>
                    <a:lnTo>
                      <a:pt x="97" y="222"/>
                    </a:lnTo>
                    <a:lnTo>
                      <a:pt x="80" y="220"/>
                    </a:lnTo>
                    <a:lnTo>
                      <a:pt x="64" y="219"/>
                    </a:lnTo>
                    <a:lnTo>
                      <a:pt x="48" y="219"/>
                    </a:lnTo>
                    <a:lnTo>
                      <a:pt x="31" y="218"/>
                    </a:lnTo>
                    <a:lnTo>
                      <a:pt x="0" y="206"/>
                    </a:lnTo>
                    <a:lnTo>
                      <a:pt x="0" y="206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4" name="Oval 306"/>
              <p:cNvSpPr/>
              <p:nvPr/>
            </p:nvSpPr>
            <p:spPr>
              <a:xfrm rot="180000">
                <a:off x="6026040" y="6378480"/>
                <a:ext cx="293400" cy="694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75" name="Group 310"/>
            <p:cNvGrpSpPr/>
            <p:nvPr/>
          </p:nvGrpSpPr>
          <p:grpSpPr>
            <a:xfrm>
              <a:off x="6323040" y="6135840"/>
              <a:ext cx="380520" cy="356760"/>
              <a:chOff x="6323040" y="6135840"/>
              <a:chExt cx="380520" cy="356760"/>
            </a:xfrm>
          </p:grpSpPr>
          <p:sp>
            <p:nvSpPr>
              <p:cNvPr id="2876" name="Freeform 308"/>
              <p:cNvSpPr/>
              <p:nvPr/>
            </p:nvSpPr>
            <p:spPr>
              <a:xfrm>
                <a:off x="6323040" y="6135840"/>
                <a:ext cx="380520" cy="35676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40" h="225">
                    <a:moveTo>
                      <a:pt x="1" y="205"/>
                    </a:moveTo>
                    <a:lnTo>
                      <a:pt x="2" y="182"/>
                    </a:lnTo>
                    <a:lnTo>
                      <a:pt x="3" y="150"/>
                    </a:lnTo>
                    <a:lnTo>
                      <a:pt x="6" y="106"/>
                    </a:lnTo>
                    <a:lnTo>
                      <a:pt x="0" y="89"/>
                    </a:lnTo>
                    <a:lnTo>
                      <a:pt x="2" y="73"/>
                    </a:lnTo>
                    <a:lnTo>
                      <a:pt x="1" y="51"/>
                    </a:lnTo>
                    <a:lnTo>
                      <a:pt x="3" y="36"/>
                    </a:lnTo>
                    <a:lnTo>
                      <a:pt x="11" y="18"/>
                    </a:lnTo>
                    <a:lnTo>
                      <a:pt x="28" y="9"/>
                    </a:lnTo>
                    <a:lnTo>
                      <a:pt x="43" y="5"/>
                    </a:lnTo>
                    <a:lnTo>
                      <a:pt x="60" y="0"/>
                    </a:lnTo>
                    <a:lnTo>
                      <a:pt x="77" y="1"/>
                    </a:lnTo>
                    <a:lnTo>
                      <a:pt x="92" y="3"/>
                    </a:lnTo>
                    <a:lnTo>
                      <a:pt x="110" y="3"/>
                    </a:lnTo>
                    <a:lnTo>
                      <a:pt x="125" y="3"/>
                    </a:lnTo>
                    <a:lnTo>
                      <a:pt x="142" y="4"/>
                    </a:lnTo>
                    <a:lnTo>
                      <a:pt x="158" y="5"/>
                    </a:lnTo>
                    <a:lnTo>
                      <a:pt x="196" y="6"/>
                    </a:lnTo>
                    <a:lnTo>
                      <a:pt x="213" y="9"/>
                    </a:lnTo>
                    <a:lnTo>
                      <a:pt x="228" y="9"/>
                    </a:lnTo>
                    <a:lnTo>
                      <a:pt x="233" y="24"/>
                    </a:lnTo>
                    <a:lnTo>
                      <a:pt x="239" y="42"/>
                    </a:lnTo>
                    <a:lnTo>
                      <a:pt x="238" y="59"/>
                    </a:lnTo>
                    <a:lnTo>
                      <a:pt x="237" y="76"/>
                    </a:lnTo>
                    <a:lnTo>
                      <a:pt x="236" y="91"/>
                    </a:lnTo>
                    <a:lnTo>
                      <a:pt x="235" y="107"/>
                    </a:lnTo>
                    <a:lnTo>
                      <a:pt x="234" y="124"/>
                    </a:lnTo>
                    <a:lnTo>
                      <a:pt x="234" y="140"/>
                    </a:lnTo>
                    <a:lnTo>
                      <a:pt x="232" y="157"/>
                    </a:lnTo>
                    <a:lnTo>
                      <a:pt x="231" y="173"/>
                    </a:lnTo>
                    <a:lnTo>
                      <a:pt x="231" y="189"/>
                    </a:lnTo>
                    <a:lnTo>
                      <a:pt x="229" y="207"/>
                    </a:lnTo>
                    <a:lnTo>
                      <a:pt x="229" y="221"/>
                    </a:lnTo>
                    <a:lnTo>
                      <a:pt x="212" y="222"/>
                    </a:lnTo>
                    <a:lnTo>
                      <a:pt x="197" y="220"/>
                    </a:lnTo>
                    <a:lnTo>
                      <a:pt x="179" y="219"/>
                    </a:lnTo>
                    <a:lnTo>
                      <a:pt x="164" y="224"/>
                    </a:lnTo>
                    <a:lnTo>
                      <a:pt x="147" y="223"/>
                    </a:lnTo>
                    <a:lnTo>
                      <a:pt x="131" y="221"/>
                    </a:lnTo>
                    <a:lnTo>
                      <a:pt x="115" y="221"/>
                    </a:lnTo>
                    <a:lnTo>
                      <a:pt x="98" y="220"/>
                    </a:lnTo>
                    <a:lnTo>
                      <a:pt x="81" y="219"/>
                    </a:lnTo>
                    <a:lnTo>
                      <a:pt x="66" y="218"/>
                    </a:lnTo>
                    <a:lnTo>
                      <a:pt x="50" y="217"/>
                    </a:lnTo>
                    <a:lnTo>
                      <a:pt x="32" y="217"/>
                    </a:lnTo>
                    <a:lnTo>
                      <a:pt x="1" y="205"/>
                    </a:lnTo>
                    <a:lnTo>
                      <a:pt x="1" y="20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7" name="Oval 309"/>
              <p:cNvSpPr/>
              <p:nvPr/>
            </p:nvSpPr>
            <p:spPr>
              <a:xfrm rot="180000">
                <a:off x="6372000" y="6396120"/>
                <a:ext cx="293400" cy="694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78" name="Group 313"/>
            <p:cNvGrpSpPr/>
            <p:nvPr/>
          </p:nvGrpSpPr>
          <p:grpSpPr>
            <a:xfrm>
              <a:off x="4954680" y="6064200"/>
              <a:ext cx="380520" cy="355320"/>
              <a:chOff x="4954680" y="6064200"/>
              <a:chExt cx="380520" cy="355320"/>
            </a:xfrm>
          </p:grpSpPr>
          <p:sp>
            <p:nvSpPr>
              <p:cNvPr id="2879" name="Freeform 311"/>
              <p:cNvSpPr/>
              <p:nvPr/>
            </p:nvSpPr>
            <p:spPr>
              <a:xfrm>
                <a:off x="4954680" y="6064200"/>
                <a:ext cx="380520" cy="35532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40" h="224">
                    <a:moveTo>
                      <a:pt x="0" y="205"/>
                    </a:moveTo>
                    <a:lnTo>
                      <a:pt x="2" y="183"/>
                    </a:lnTo>
                    <a:lnTo>
                      <a:pt x="3" y="149"/>
                    </a:lnTo>
                    <a:lnTo>
                      <a:pt x="5" y="106"/>
                    </a:lnTo>
                    <a:lnTo>
                      <a:pt x="0" y="90"/>
                    </a:lnTo>
                    <a:lnTo>
                      <a:pt x="0" y="74"/>
                    </a:lnTo>
                    <a:lnTo>
                      <a:pt x="3" y="52"/>
                    </a:lnTo>
                    <a:lnTo>
                      <a:pt x="4" y="35"/>
                    </a:lnTo>
                    <a:lnTo>
                      <a:pt x="10" y="19"/>
                    </a:lnTo>
                    <a:lnTo>
                      <a:pt x="27" y="9"/>
                    </a:lnTo>
                    <a:lnTo>
                      <a:pt x="42" y="5"/>
                    </a:lnTo>
                    <a:lnTo>
                      <a:pt x="59" y="0"/>
                    </a:lnTo>
                    <a:lnTo>
                      <a:pt x="76" y="0"/>
                    </a:lnTo>
                    <a:lnTo>
                      <a:pt x="92" y="1"/>
                    </a:lnTo>
                    <a:lnTo>
                      <a:pt x="109" y="2"/>
                    </a:lnTo>
                    <a:lnTo>
                      <a:pt x="125" y="3"/>
                    </a:lnTo>
                    <a:lnTo>
                      <a:pt x="140" y="4"/>
                    </a:lnTo>
                    <a:lnTo>
                      <a:pt x="157" y="4"/>
                    </a:lnTo>
                    <a:lnTo>
                      <a:pt x="196" y="6"/>
                    </a:lnTo>
                    <a:lnTo>
                      <a:pt x="213" y="8"/>
                    </a:lnTo>
                    <a:lnTo>
                      <a:pt x="229" y="8"/>
                    </a:lnTo>
                    <a:lnTo>
                      <a:pt x="233" y="26"/>
                    </a:lnTo>
                    <a:lnTo>
                      <a:pt x="239" y="41"/>
                    </a:lnTo>
                    <a:lnTo>
                      <a:pt x="238" y="57"/>
                    </a:lnTo>
                    <a:lnTo>
                      <a:pt x="236" y="75"/>
                    </a:lnTo>
                    <a:lnTo>
                      <a:pt x="235" y="91"/>
                    </a:lnTo>
                    <a:lnTo>
                      <a:pt x="234" y="107"/>
                    </a:lnTo>
                    <a:lnTo>
                      <a:pt x="233" y="123"/>
                    </a:lnTo>
                    <a:lnTo>
                      <a:pt x="234" y="140"/>
                    </a:lnTo>
                    <a:lnTo>
                      <a:pt x="233" y="156"/>
                    </a:lnTo>
                    <a:lnTo>
                      <a:pt x="231" y="173"/>
                    </a:lnTo>
                    <a:lnTo>
                      <a:pt x="230" y="190"/>
                    </a:lnTo>
                    <a:lnTo>
                      <a:pt x="229" y="206"/>
                    </a:lnTo>
                    <a:lnTo>
                      <a:pt x="229" y="221"/>
                    </a:lnTo>
                    <a:lnTo>
                      <a:pt x="212" y="220"/>
                    </a:lnTo>
                    <a:lnTo>
                      <a:pt x="195" y="220"/>
                    </a:lnTo>
                    <a:lnTo>
                      <a:pt x="180" y="219"/>
                    </a:lnTo>
                    <a:lnTo>
                      <a:pt x="162" y="223"/>
                    </a:lnTo>
                    <a:lnTo>
                      <a:pt x="146" y="223"/>
                    </a:lnTo>
                    <a:lnTo>
                      <a:pt x="130" y="223"/>
                    </a:lnTo>
                    <a:lnTo>
                      <a:pt x="114" y="221"/>
                    </a:lnTo>
                    <a:lnTo>
                      <a:pt x="97" y="219"/>
                    </a:lnTo>
                    <a:lnTo>
                      <a:pt x="81" y="220"/>
                    </a:lnTo>
                    <a:lnTo>
                      <a:pt x="65" y="219"/>
                    </a:lnTo>
                    <a:lnTo>
                      <a:pt x="48" y="218"/>
                    </a:lnTo>
                    <a:lnTo>
                      <a:pt x="32" y="217"/>
                    </a:lnTo>
                    <a:lnTo>
                      <a:pt x="0" y="205"/>
                    </a:lnTo>
                    <a:lnTo>
                      <a:pt x="0" y="20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0" name="Oval 312"/>
              <p:cNvSpPr/>
              <p:nvPr/>
            </p:nvSpPr>
            <p:spPr>
              <a:xfrm rot="180000">
                <a:off x="5000400" y="6324480"/>
                <a:ext cx="293400" cy="6948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81" name="Group 316"/>
            <p:cNvGrpSpPr/>
            <p:nvPr/>
          </p:nvGrpSpPr>
          <p:grpSpPr>
            <a:xfrm>
              <a:off x="6665760" y="6153120"/>
              <a:ext cx="379080" cy="355320"/>
              <a:chOff x="6665760" y="6153120"/>
              <a:chExt cx="379080" cy="355320"/>
            </a:xfrm>
          </p:grpSpPr>
          <p:sp>
            <p:nvSpPr>
              <p:cNvPr id="2882" name="Freeform 314"/>
              <p:cNvSpPr/>
              <p:nvPr/>
            </p:nvSpPr>
            <p:spPr>
              <a:xfrm>
                <a:off x="6665760" y="6153120"/>
                <a:ext cx="379080" cy="35532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9" h="224">
                    <a:moveTo>
                      <a:pt x="0" y="205"/>
                    </a:moveTo>
                    <a:lnTo>
                      <a:pt x="2" y="182"/>
                    </a:lnTo>
                    <a:lnTo>
                      <a:pt x="3" y="149"/>
                    </a:lnTo>
                    <a:lnTo>
                      <a:pt x="5" y="106"/>
                    </a:lnTo>
                    <a:lnTo>
                      <a:pt x="1" y="89"/>
                    </a:lnTo>
                    <a:lnTo>
                      <a:pt x="1" y="74"/>
                    </a:lnTo>
                    <a:lnTo>
                      <a:pt x="3" y="52"/>
                    </a:lnTo>
                    <a:lnTo>
                      <a:pt x="3" y="35"/>
                    </a:lnTo>
                    <a:lnTo>
                      <a:pt x="11" y="19"/>
                    </a:lnTo>
                    <a:lnTo>
                      <a:pt x="27" y="9"/>
                    </a:lnTo>
                    <a:lnTo>
                      <a:pt x="44" y="4"/>
                    </a:lnTo>
                    <a:lnTo>
                      <a:pt x="60" y="0"/>
                    </a:lnTo>
                    <a:lnTo>
                      <a:pt x="76" y="2"/>
                    </a:lnTo>
                    <a:lnTo>
                      <a:pt x="92" y="2"/>
                    </a:lnTo>
                    <a:lnTo>
                      <a:pt x="109" y="3"/>
                    </a:lnTo>
                    <a:lnTo>
                      <a:pt x="126" y="3"/>
                    </a:lnTo>
                    <a:lnTo>
                      <a:pt x="142" y="4"/>
                    </a:lnTo>
                    <a:lnTo>
                      <a:pt x="159" y="5"/>
                    </a:lnTo>
                    <a:lnTo>
                      <a:pt x="196" y="8"/>
                    </a:lnTo>
                    <a:lnTo>
                      <a:pt x="212" y="9"/>
                    </a:lnTo>
                    <a:lnTo>
                      <a:pt x="228" y="10"/>
                    </a:lnTo>
                    <a:lnTo>
                      <a:pt x="234" y="26"/>
                    </a:lnTo>
                    <a:lnTo>
                      <a:pt x="237" y="43"/>
                    </a:lnTo>
                    <a:lnTo>
                      <a:pt x="238" y="59"/>
                    </a:lnTo>
                    <a:lnTo>
                      <a:pt x="236" y="74"/>
                    </a:lnTo>
                    <a:lnTo>
                      <a:pt x="236" y="90"/>
                    </a:lnTo>
                    <a:lnTo>
                      <a:pt x="236" y="107"/>
                    </a:lnTo>
                    <a:lnTo>
                      <a:pt x="233" y="125"/>
                    </a:lnTo>
                    <a:lnTo>
                      <a:pt x="233" y="141"/>
                    </a:lnTo>
                    <a:lnTo>
                      <a:pt x="233" y="156"/>
                    </a:lnTo>
                    <a:lnTo>
                      <a:pt x="231" y="173"/>
                    </a:lnTo>
                    <a:lnTo>
                      <a:pt x="231" y="188"/>
                    </a:lnTo>
                    <a:lnTo>
                      <a:pt x="230" y="206"/>
                    </a:lnTo>
                    <a:lnTo>
                      <a:pt x="229" y="222"/>
                    </a:lnTo>
                    <a:lnTo>
                      <a:pt x="213" y="221"/>
                    </a:lnTo>
                    <a:lnTo>
                      <a:pt x="197" y="220"/>
                    </a:lnTo>
                    <a:lnTo>
                      <a:pt x="180" y="218"/>
                    </a:lnTo>
                    <a:lnTo>
                      <a:pt x="163" y="223"/>
                    </a:lnTo>
                    <a:lnTo>
                      <a:pt x="146" y="222"/>
                    </a:lnTo>
                    <a:lnTo>
                      <a:pt x="131" y="222"/>
                    </a:lnTo>
                    <a:lnTo>
                      <a:pt x="114" y="221"/>
                    </a:lnTo>
                    <a:lnTo>
                      <a:pt x="98" y="221"/>
                    </a:lnTo>
                    <a:lnTo>
                      <a:pt x="81" y="220"/>
                    </a:lnTo>
                    <a:lnTo>
                      <a:pt x="65" y="218"/>
                    </a:lnTo>
                    <a:lnTo>
                      <a:pt x="49" y="217"/>
                    </a:lnTo>
                    <a:lnTo>
                      <a:pt x="33" y="217"/>
                    </a:lnTo>
                    <a:lnTo>
                      <a:pt x="0" y="205"/>
                    </a:lnTo>
                    <a:lnTo>
                      <a:pt x="0" y="205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3" name="Oval 315"/>
              <p:cNvSpPr/>
              <p:nvPr/>
            </p:nvSpPr>
            <p:spPr>
              <a:xfrm rot="180000">
                <a:off x="6710040" y="6414840"/>
                <a:ext cx="2934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84" name="Freeform 317"/>
            <p:cNvSpPr/>
            <p:nvPr/>
          </p:nvSpPr>
          <p:spPr>
            <a:xfrm>
              <a:off x="7018200" y="5726160"/>
              <a:ext cx="350640" cy="4363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221" h="275">
                  <a:moveTo>
                    <a:pt x="20" y="0"/>
                  </a:moveTo>
                  <a:lnTo>
                    <a:pt x="44" y="8"/>
                  </a:lnTo>
                  <a:lnTo>
                    <a:pt x="60" y="14"/>
                  </a:lnTo>
                  <a:lnTo>
                    <a:pt x="76" y="18"/>
                  </a:lnTo>
                  <a:lnTo>
                    <a:pt x="98" y="29"/>
                  </a:lnTo>
                  <a:lnTo>
                    <a:pt x="113" y="39"/>
                  </a:lnTo>
                  <a:lnTo>
                    <a:pt x="129" y="49"/>
                  </a:lnTo>
                  <a:lnTo>
                    <a:pt x="146" y="60"/>
                  </a:lnTo>
                  <a:lnTo>
                    <a:pt x="156" y="73"/>
                  </a:lnTo>
                  <a:lnTo>
                    <a:pt x="170" y="89"/>
                  </a:lnTo>
                  <a:lnTo>
                    <a:pt x="181" y="104"/>
                  </a:lnTo>
                  <a:lnTo>
                    <a:pt x="185" y="118"/>
                  </a:lnTo>
                  <a:lnTo>
                    <a:pt x="197" y="133"/>
                  </a:lnTo>
                  <a:lnTo>
                    <a:pt x="206" y="146"/>
                  </a:lnTo>
                  <a:lnTo>
                    <a:pt x="211" y="161"/>
                  </a:lnTo>
                  <a:lnTo>
                    <a:pt x="214" y="177"/>
                  </a:lnTo>
                  <a:lnTo>
                    <a:pt x="220" y="190"/>
                  </a:lnTo>
                  <a:lnTo>
                    <a:pt x="220" y="204"/>
                  </a:lnTo>
                  <a:lnTo>
                    <a:pt x="218" y="219"/>
                  </a:lnTo>
                  <a:lnTo>
                    <a:pt x="217" y="233"/>
                  </a:lnTo>
                  <a:lnTo>
                    <a:pt x="217" y="247"/>
                  </a:lnTo>
                  <a:lnTo>
                    <a:pt x="216" y="261"/>
                  </a:lnTo>
                  <a:lnTo>
                    <a:pt x="199" y="274"/>
                  </a:lnTo>
                  <a:lnTo>
                    <a:pt x="182" y="273"/>
                  </a:lnTo>
                  <a:lnTo>
                    <a:pt x="166" y="272"/>
                  </a:lnTo>
                  <a:lnTo>
                    <a:pt x="150" y="271"/>
                  </a:lnTo>
                  <a:lnTo>
                    <a:pt x="134" y="271"/>
                  </a:lnTo>
                  <a:lnTo>
                    <a:pt x="118" y="270"/>
                  </a:lnTo>
                  <a:lnTo>
                    <a:pt x="101" y="268"/>
                  </a:lnTo>
                  <a:lnTo>
                    <a:pt x="84" y="269"/>
                  </a:lnTo>
                  <a:lnTo>
                    <a:pt x="69" y="259"/>
                  </a:lnTo>
                  <a:lnTo>
                    <a:pt x="64" y="244"/>
                  </a:lnTo>
                  <a:lnTo>
                    <a:pt x="60" y="229"/>
                  </a:lnTo>
                  <a:lnTo>
                    <a:pt x="51" y="215"/>
                  </a:lnTo>
                  <a:lnTo>
                    <a:pt x="45" y="200"/>
                  </a:lnTo>
                  <a:lnTo>
                    <a:pt x="36" y="186"/>
                  </a:lnTo>
                  <a:lnTo>
                    <a:pt x="25" y="171"/>
                  </a:lnTo>
                  <a:lnTo>
                    <a:pt x="14" y="157"/>
                  </a:lnTo>
                  <a:lnTo>
                    <a:pt x="10" y="142"/>
                  </a:lnTo>
                  <a:lnTo>
                    <a:pt x="5" y="128"/>
                  </a:lnTo>
                  <a:lnTo>
                    <a:pt x="1" y="113"/>
                  </a:lnTo>
                  <a:lnTo>
                    <a:pt x="0" y="100"/>
                  </a:lnTo>
                  <a:lnTo>
                    <a:pt x="2" y="85"/>
                  </a:lnTo>
                  <a:lnTo>
                    <a:pt x="3" y="72"/>
                  </a:lnTo>
                  <a:lnTo>
                    <a:pt x="3" y="58"/>
                  </a:lnTo>
                  <a:lnTo>
                    <a:pt x="4" y="44"/>
                  </a:lnTo>
                  <a:lnTo>
                    <a:pt x="4" y="28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pattFill prst="openDmnd">
              <a:fgClr>
                <a:srgbClr val="0066cc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5" name="Freeform 318"/>
            <p:cNvSpPr/>
            <p:nvPr/>
          </p:nvSpPr>
          <p:spPr>
            <a:xfrm>
              <a:off x="7027920" y="6114960"/>
              <a:ext cx="372600" cy="41400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w="235" h="261">
                  <a:moveTo>
                    <a:pt x="12" y="260"/>
                  </a:moveTo>
                  <a:lnTo>
                    <a:pt x="37" y="255"/>
                  </a:lnTo>
                  <a:lnTo>
                    <a:pt x="53" y="252"/>
                  </a:lnTo>
                  <a:lnTo>
                    <a:pt x="70" y="248"/>
                  </a:lnTo>
                  <a:lnTo>
                    <a:pt x="91" y="240"/>
                  </a:lnTo>
                  <a:lnTo>
                    <a:pt x="109" y="233"/>
                  </a:lnTo>
                  <a:lnTo>
                    <a:pt x="124" y="222"/>
                  </a:lnTo>
                  <a:lnTo>
                    <a:pt x="142" y="214"/>
                  </a:lnTo>
                  <a:lnTo>
                    <a:pt x="153" y="201"/>
                  </a:lnTo>
                  <a:lnTo>
                    <a:pt x="171" y="188"/>
                  </a:lnTo>
                  <a:lnTo>
                    <a:pt x="183" y="173"/>
                  </a:lnTo>
                  <a:lnTo>
                    <a:pt x="189" y="160"/>
                  </a:lnTo>
                  <a:lnTo>
                    <a:pt x="200" y="146"/>
                  </a:lnTo>
                  <a:lnTo>
                    <a:pt x="211" y="133"/>
                  </a:lnTo>
                  <a:lnTo>
                    <a:pt x="217" y="119"/>
                  </a:lnTo>
                  <a:lnTo>
                    <a:pt x="222" y="105"/>
                  </a:lnTo>
                  <a:lnTo>
                    <a:pt x="229" y="92"/>
                  </a:lnTo>
                  <a:lnTo>
                    <a:pt x="231" y="78"/>
                  </a:lnTo>
                  <a:lnTo>
                    <a:pt x="232" y="63"/>
                  </a:lnTo>
                  <a:lnTo>
                    <a:pt x="233" y="49"/>
                  </a:lnTo>
                  <a:lnTo>
                    <a:pt x="234" y="35"/>
                  </a:lnTo>
                  <a:lnTo>
                    <a:pt x="234" y="21"/>
                  </a:lnTo>
                  <a:lnTo>
                    <a:pt x="220" y="5"/>
                  </a:lnTo>
                  <a:lnTo>
                    <a:pt x="202" y="6"/>
                  </a:lnTo>
                  <a:lnTo>
                    <a:pt x="184" y="5"/>
                  </a:lnTo>
                  <a:lnTo>
                    <a:pt x="169" y="4"/>
                  </a:lnTo>
                  <a:lnTo>
                    <a:pt x="152" y="3"/>
                  </a:lnTo>
                  <a:lnTo>
                    <a:pt x="137" y="2"/>
                  </a:lnTo>
                  <a:lnTo>
                    <a:pt x="121" y="1"/>
                  </a:lnTo>
                  <a:lnTo>
                    <a:pt x="104" y="0"/>
                  </a:lnTo>
                  <a:lnTo>
                    <a:pt x="87" y="9"/>
                  </a:lnTo>
                  <a:lnTo>
                    <a:pt x="81" y="23"/>
                  </a:lnTo>
                  <a:lnTo>
                    <a:pt x="75" y="36"/>
                  </a:lnTo>
                  <a:lnTo>
                    <a:pt x="63" y="50"/>
                  </a:lnTo>
                  <a:lnTo>
                    <a:pt x="58" y="64"/>
                  </a:lnTo>
                  <a:lnTo>
                    <a:pt x="46" y="78"/>
                  </a:lnTo>
                  <a:lnTo>
                    <a:pt x="35" y="90"/>
                  </a:lnTo>
                  <a:lnTo>
                    <a:pt x="22" y="104"/>
                  </a:lnTo>
                  <a:lnTo>
                    <a:pt x="16" y="118"/>
                  </a:lnTo>
                  <a:lnTo>
                    <a:pt x="9" y="133"/>
                  </a:lnTo>
                  <a:lnTo>
                    <a:pt x="5" y="146"/>
                  </a:lnTo>
                  <a:lnTo>
                    <a:pt x="2" y="161"/>
                  </a:lnTo>
                  <a:lnTo>
                    <a:pt x="3" y="174"/>
                  </a:lnTo>
                  <a:lnTo>
                    <a:pt x="2" y="187"/>
                  </a:lnTo>
                  <a:lnTo>
                    <a:pt x="2" y="201"/>
                  </a:lnTo>
                  <a:lnTo>
                    <a:pt x="0" y="216"/>
                  </a:lnTo>
                  <a:lnTo>
                    <a:pt x="1" y="230"/>
                  </a:lnTo>
                  <a:lnTo>
                    <a:pt x="12" y="260"/>
                  </a:lnTo>
                  <a:lnTo>
                    <a:pt x="12" y="260"/>
                  </a:lnTo>
                </a:path>
              </a:pathLst>
            </a:custGeom>
            <a:pattFill prst="openDmnd">
              <a:fgClr>
                <a:srgbClr val="0066cc"/>
              </a:fgClr>
              <a:bgClr>
                <a:srgbClr val="ffffff"/>
              </a:bgClr>
            </a:patt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6" name="Oval 319"/>
            <p:cNvSpPr/>
            <p:nvPr/>
          </p:nvSpPr>
          <p:spPr>
            <a:xfrm rot="180000">
              <a:off x="7118280" y="5927400"/>
              <a:ext cx="140760" cy="139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7" name="Oval 320"/>
            <p:cNvSpPr/>
            <p:nvPr/>
          </p:nvSpPr>
          <p:spPr>
            <a:xfrm rot="2220000">
              <a:off x="7176960" y="6233760"/>
              <a:ext cx="99720" cy="14580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8" name="Freeform 321"/>
            <p:cNvSpPr/>
            <p:nvPr/>
          </p:nvSpPr>
          <p:spPr>
            <a:xfrm>
              <a:off x="6432480" y="5616720"/>
              <a:ext cx="1010880" cy="104724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1047240"/>
                <a:gd name="textAreaBottom" fmla="*/ 1047600 h 1047240"/>
              </a:gdLst>
              <a:ahLst/>
              <a:rect l="textAreaLeft" t="textAreaTop" r="textAreaRight" b="textAreaBottom"/>
              <a:pathLst>
                <a:path w="637" h="660">
                  <a:moveTo>
                    <a:pt x="56" y="4"/>
                  </a:moveTo>
                  <a:lnTo>
                    <a:pt x="78" y="21"/>
                  </a:lnTo>
                  <a:lnTo>
                    <a:pt x="93" y="27"/>
                  </a:lnTo>
                  <a:lnTo>
                    <a:pt x="111" y="33"/>
                  </a:lnTo>
                  <a:lnTo>
                    <a:pt x="127" y="34"/>
                  </a:lnTo>
                  <a:lnTo>
                    <a:pt x="143" y="41"/>
                  </a:lnTo>
                  <a:lnTo>
                    <a:pt x="159" y="42"/>
                  </a:lnTo>
                  <a:lnTo>
                    <a:pt x="175" y="43"/>
                  </a:lnTo>
                  <a:lnTo>
                    <a:pt x="191" y="44"/>
                  </a:lnTo>
                  <a:lnTo>
                    <a:pt x="207" y="44"/>
                  </a:lnTo>
                  <a:lnTo>
                    <a:pt x="223" y="46"/>
                  </a:lnTo>
                  <a:lnTo>
                    <a:pt x="240" y="47"/>
                  </a:lnTo>
                  <a:lnTo>
                    <a:pt x="257" y="46"/>
                  </a:lnTo>
                  <a:lnTo>
                    <a:pt x="273" y="48"/>
                  </a:lnTo>
                  <a:lnTo>
                    <a:pt x="290" y="49"/>
                  </a:lnTo>
                  <a:lnTo>
                    <a:pt x="305" y="50"/>
                  </a:lnTo>
                  <a:lnTo>
                    <a:pt x="322" y="52"/>
                  </a:lnTo>
                  <a:lnTo>
                    <a:pt x="344" y="57"/>
                  </a:lnTo>
                  <a:lnTo>
                    <a:pt x="360" y="64"/>
                  </a:lnTo>
                  <a:lnTo>
                    <a:pt x="376" y="64"/>
                  </a:lnTo>
                  <a:lnTo>
                    <a:pt x="393" y="71"/>
                  </a:lnTo>
                  <a:lnTo>
                    <a:pt x="409" y="77"/>
                  </a:lnTo>
                  <a:lnTo>
                    <a:pt x="424" y="89"/>
                  </a:lnTo>
                  <a:lnTo>
                    <a:pt x="440" y="94"/>
                  </a:lnTo>
                  <a:lnTo>
                    <a:pt x="456" y="101"/>
                  </a:lnTo>
                  <a:lnTo>
                    <a:pt x="470" y="113"/>
                  </a:lnTo>
                  <a:lnTo>
                    <a:pt x="488" y="120"/>
                  </a:lnTo>
                  <a:lnTo>
                    <a:pt x="509" y="125"/>
                  </a:lnTo>
                  <a:lnTo>
                    <a:pt x="530" y="138"/>
                  </a:lnTo>
                  <a:lnTo>
                    <a:pt x="540" y="155"/>
                  </a:lnTo>
                  <a:lnTo>
                    <a:pt x="556" y="173"/>
                  </a:lnTo>
                  <a:lnTo>
                    <a:pt x="560" y="188"/>
                  </a:lnTo>
                  <a:lnTo>
                    <a:pt x="577" y="201"/>
                  </a:lnTo>
                  <a:lnTo>
                    <a:pt x="581" y="217"/>
                  </a:lnTo>
                  <a:lnTo>
                    <a:pt x="591" y="234"/>
                  </a:lnTo>
                  <a:lnTo>
                    <a:pt x="601" y="251"/>
                  </a:lnTo>
                  <a:lnTo>
                    <a:pt x="600" y="268"/>
                  </a:lnTo>
                  <a:lnTo>
                    <a:pt x="605" y="283"/>
                  </a:lnTo>
                  <a:lnTo>
                    <a:pt x="609" y="301"/>
                  </a:lnTo>
                  <a:lnTo>
                    <a:pt x="615" y="318"/>
                  </a:lnTo>
                  <a:lnTo>
                    <a:pt x="613" y="333"/>
                  </a:lnTo>
                  <a:lnTo>
                    <a:pt x="612" y="350"/>
                  </a:lnTo>
                  <a:lnTo>
                    <a:pt x="612" y="366"/>
                  </a:lnTo>
                  <a:lnTo>
                    <a:pt x="611" y="383"/>
                  </a:lnTo>
                  <a:lnTo>
                    <a:pt x="610" y="399"/>
                  </a:lnTo>
                  <a:lnTo>
                    <a:pt x="608" y="415"/>
                  </a:lnTo>
                  <a:lnTo>
                    <a:pt x="608" y="432"/>
                  </a:lnTo>
                  <a:lnTo>
                    <a:pt x="607" y="447"/>
                  </a:lnTo>
                  <a:lnTo>
                    <a:pt x="596" y="465"/>
                  </a:lnTo>
                  <a:lnTo>
                    <a:pt x="584" y="479"/>
                  </a:lnTo>
                  <a:lnTo>
                    <a:pt x="572" y="496"/>
                  </a:lnTo>
                  <a:lnTo>
                    <a:pt x="555" y="511"/>
                  </a:lnTo>
                  <a:lnTo>
                    <a:pt x="543" y="527"/>
                  </a:lnTo>
                  <a:lnTo>
                    <a:pt x="526" y="536"/>
                  </a:lnTo>
                  <a:lnTo>
                    <a:pt x="508" y="546"/>
                  </a:lnTo>
                  <a:lnTo>
                    <a:pt x="492" y="557"/>
                  </a:lnTo>
                  <a:lnTo>
                    <a:pt x="476" y="560"/>
                  </a:lnTo>
                  <a:lnTo>
                    <a:pt x="459" y="566"/>
                  </a:lnTo>
                  <a:lnTo>
                    <a:pt x="442" y="570"/>
                  </a:lnTo>
                  <a:lnTo>
                    <a:pt x="425" y="569"/>
                  </a:lnTo>
                  <a:lnTo>
                    <a:pt x="410" y="569"/>
                  </a:lnTo>
                  <a:lnTo>
                    <a:pt x="393" y="568"/>
                  </a:lnTo>
                  <a:lnTo>
                    <a:pt x="378" y="567"/>
                  </a:lnTo>
                  <a:lnTo>
                    <a:pt x="361" y="565"/>
                  </a:lnTo>
                  <a:lnTo>
                    <a:pt x="344" y="566"/>
                  </a:lnTo>
                  <a:lnTo>
                    <a:pt x="329" y="565"/>
                  </a:lnTo>
                  <a:lnTo>
                    <a:pt x="311" y="564"/>
                  </a:lnTo>
                  <a:lnTo>
                    <a:pt x="296" y="563"/>
                  </a:lnTo>
                  <a:lnTo>
                    <a:pt x="279" y="562"/>
                  </a:lnTo>
                  <a:lnTo>
                    <a:pt x="247" y="560"/>
                  </a:lnTo>
                  <a:lnTo>
                    <a:pt x="225" y="559"/>
                  </a:lnTo>
                  <a:lnTo>
                    <a:pt x="208" y="558"/>
                  </a:lnTo>
                  <a:lnTo>
                    <a:pt x="192" y="557"/>
                  </a:lnTo>
                  <a:lnTo>
                    <a:pt x="176" y="556"/>
                  </a:lnTo>
                  <a:lnTo>
                    <a:pt x="159" y="556"/>
                  </a:lnTo>
                  <a:lnTo>
                    <a:pt x="142" y="555"/>
                  </a:lnTo>
                  <a:lnTo>
                    <a:pt x="127" y="553"/>
                  </a:lnTo>
                  <a:lnTo>
                    <a:pt x="111" y="552"/>
                  </a:lnTo>
                  <a:lnTo>
                    <a:pt x="93" y="553"/>
                  </a:lnTo>
                  <a:lnTo>
                    <a:pt x="77" y="551"/>
                  </a:lnTo>
                  <a:lnTo>
                    <a:pt x="61" y="556"/>
                  </a:lnTo>
                  <a:lnTo>
                    <a:pt x="44" y="560"/>
                  </a:lnTo>
                  <a:lnTo>
                    <a:pt x="27" y="559"/>
                  </a:lnTo>
                  <a:lnTo>
                    <a:pt x="12" y="559"/>
                  </a:lnTo>
                  <a:lnTo>
                    <a:pt x="0" y="575"/>
                  </a:lnTo>
                  <a:lnTo>
                    <a:pt x="16" y="586"/>
                  </a:lnTo>
                  <a:lnTo>
                    <a:pt x="38" y="586"/>
                  </a:lnTo>
                  <a:lnTo>
                    <a:pt x="58" y="588"/>
                  </a:lnTo>
                  <a:lnTo>
                    <a:pt x="75" y="589"/>
                  </a:lnTo>
                  <a:lnTo>
                    <a:pt x="92" y="590"/>
                  </a:lnTo>
                  <a:lnTo>
                    <a:pt x="108" y="591"/>
                  </a:lnTo>
                  <a:lnTo>
                    <a:pt x="125" y="591"/>
                  </a:lnTo>
                  <a:lnTo>
                    <a:pt x="141" y="593"/>
                  </a:lnTo>
                  <a:lnTo>
                    <a:pt x="157" y="593"/>
                  </a:lnTo>
                  <a:lnTo>
                    <a:pt x="173" y="600"/>
                  </a:lnTo>
                  <a:lnTo>
                    <a:pt x="189" y="600"/>
                  </a:lnTo>
                  <a:lnTo>
                    <a:pt x="205" y="602"/>
                  </a:lnTo>
                  <a:lnTo>
                    <a:pt x="221" y="603"/>
                  </a:lnTo>
                  <a:lnTo>
                    <a:pt x="239" y="603"/>
                  </a:lnTo>
                  <a:lnTo>
                    <a:pt x="254" y="604"/>
                  </a:lnTo>
                  <a:lnTo>
                    <a:pt x="273" y="611"/>
                  </a:lnTo>
                  <a:lnTo>
                    <a:pt x="287" y="615"/>
                  </a:lnTo>
                  <a:lnTo>
                    <a:pt x="303" y="618"/>
                  </a:lnTo>
                  <a:lnTo>
                    <a:pt x="319" y="624"/>
                  </a:lnTo>
                  <a:lnTo>
                    <a:pt x="335" y="629"/>
                  </a:lnTo>
                  <a:lnTo>
                    <a:pt x="357" y="642"/>
                  </a:lnTo>
                  <a:lnTo>
                    <a:pt x="373" y="649"/>
                  </a:lnTo>
                  <a:lnTo>
                    <a:pt x="388" y="654"/>
                  </a:lnTo>
                  <a:lnTo>
                    <a:pt x="405" y="655"/>
                  </a:lnTo>
                  <a:lnTo>
                    <a:pt x="422" y="657"/>
                  </a:lnTo>
                  <a:lnTo>
                    <a:pt x="437" y="657"/>
                  </a:lnTo>
                  <a:lnTo>
                    <a:pt x="453" y="658"/>
                  </a:lnTo>
                  <a:lnTo>
                    <a:pt x="469" y="659"/>
                  </a:lnTo>
                  <a:lnTo>
                    <a:pt x="487" y="654"/>
                  </a:lnTo>
                  <a:lnTo>
                    <a:pt x="504" y="650"/>
                  </a:lnTo>
                  <a:lnTo>
                    <a:pt x="520" y="640"/>
                  </a:lnTo>
                  <a:lnTo>
                    <a:pt x="538" y="630"/>
                  </a:lnTo>
                  <a:lnTo>
                    <a:pt x="549" y="614"/>
                  </a:lnTo>
                  <a:lnTo>
                    <a:pt x="560" y="598"/>
                  </a:lnTo>
                  <a:lnTo>
                    <a:pt x="566" y="582"/>
                  </a:lnTo>
                  <a:lnTo>
                    <a:pt x="578" y="567"/>
                  </a:lnTo>
                  <a:lnTo>
                    <a:pt x="585" y="550"/>
                  </a:lnTo>
                  <a:lnTo>
                    <a:pt x="592" y="535"/>
                  </a:lnTo>
                  <a:lnTo>
                    <a:pt x="603" y="518"/>
                  </a:lnTo>
                  <a:lnTo>
                    <a:pt x="610" y="503"/>
                  </a:lnTo>
                  <a:lnTo>
                    <a:pt x="615" y="486"/>
                  </a:lnTo>
                  <a:lnTo>
                    <a:pt x="622" y="470"/>
                  </a:lnTo>
                  <a:lnTo>
                    <a:pt x="624" y="454"/>
                  </a:lnTo>
                  <a:lnTo>
                    <a:pt x="629" y="438"/>
                  </a:lnTo>
                  <a:lnTo>
                    <a:pt x="631" y="422"/>
                  </a:lnTo>
                  <a:lnTo>
                    <a:pt x="632" y="407"/>
                  </a:lnTo>
                  <a:lnTo>
                    <a:pt x="633" y="390"/>
                  </a:lnTo>
                  <a:lnTo>
                    <a:pt x="634" y="373"/>
                  </a:lnTo>
                  <a:lnTo>
                    <a:pt x="634" y="356"/>
                  </a:lnTo>
                  <a:lnTo>
                    <a:pt x="634" y="340"/>
                  </a:lnTo>
                  <a:lnTo>
                    <a:pt x="635" y="324"/>
                  </a:lnTo>
                  <a:lnTo>
                    <a:pt x="636" y="307"/>
                  </a:lnTo>
                  <a:lnTo>
                    <a:pt x="632" y="292"/>
                  </a:lnTo>
                  <a:lnTo>
                    <a:pt x="633" y="274"/>
                  </a:lnTo>
                  <a:lnTo>
                    <a:pt x="627" y="258"/>
                  </a:lnTo>
                  <a:lnTo>
                    <a:pt x="629" y="242"/>
                  </a:lnTo>
                  <a:lnTo>
                    <a:pt x="624" y="225"/>
                  </a:lnTo>
                  <a:lnTo>
                    <a:pt x="615" y="209"/>
                  </a:lnTo>
                  <a:lnTo>
                    <a:pt x="603" y="191"/>
                  </a:lnTo>
                  <a:lnTo>
                    <a:pt x="594" y="174"/>
                  </a:lnTo>
                  <a:lnTo>
                    <a:pt x="584" y="157"/>
                  </a:lnTo>
                  <a:lnTo>
                    <a:pt x="575" y="141"/>
                  </a:lnTo>
                  <a:lnTo>
                    <a:pt x="565" y="123"/>
                  </a:lnTo>
                  <a:lnTo>
                    <a:pt x="548" y="111"/>
                  </a:lnTo>
                  <a:lnTo>
                    <a:pt x="533" y="100"/>
                  </a:lnTo>
                  <a:lnTo>
                    <a:pt x="517" y="88"/>
                  </a:lnTo>
                  <a:lnTo>
                    <a:pt x="501" y="77"/>
                  </a:lnTo>
                  <a:lnTo>
                    <a:pt x="485" y="65"/>
                  </a:lnTo>
                  <a:lnTo>
                    <a:pt x="470" y="53"/>
                  </a:lnTo>
                  <a:lnTo>
                    <a:pt x="453" y="47"/>
                  </a:lnTo>
                  <a:lnTo>
                    <a:pt x="438" y="40"/>
                  </a:lnTo>
                  <a:lnTo>
                    <a:pt x="419" y="40"/>
                  </a:lnTo>
                  <a:lnTo>
                    <a:pt x="404" y="38"/>
                  </a:lnTo>
                  <a:lnTo>
                    <a:pt x="390" y="33"/>
                  </a:lnTo>
                  <a:lnTo>
                    <a:pt x="367" y="31"/>
                  </a:lnTo>
                  <a:lnTo>
                    <a:pt x="345" y="30"/>
                  </a:lnTo>
                  <a:lnTo>
                    <a:pt x="328" y="29"/>
                  </a:lnTo>
                  <a:lnTo>
                    <a:pt x="312" y="28"/>
                  </a:lnTo>
                  <a:lnTo>
                    <a:pt x="295" y="28"/>
                  </a:lnTo>
                  <a:lnTo>
                    <a:pt x="280" y="27"/>
                  </a:lnTo>
                  <a:lnTo>
                    <a:pt x="264" y="21"/>
                  </a:lnTo>
                  <a:lnTo>
                    <a:pt x="247" y="19"/>
                  </a:lnTo>
                  <a:lnTo>
                    <a:pt x="231" y="18"/>
                  </a:lnTo>
                  <a:lnTo>
                    <a:pt x="215" y="18"/>
                  </a:lnTo>
                  <a:lnTo>
                    <a:pt x="198" y="17"/>
                  </a:lnTo>
                  <a:lnTo>
                    <a:pt x="182" y="10"/>
                  </a:lnTo>
                  <a:lnTo>
                    <a:pt x="166" y="9"/>
                  </a:lnTo>
                  <a:lnTo>
                    <a:pt x="149" y="8"/>
                  </a:lnTo>
                  <a:lnTo>
                    <a:pt x="134" y="2"/>
                  </a:lnTo>
                  <a:lnTo>
                    <a:pt x="118" y="2"/>
                  </a:lnTo>
                  <a:lnTo>
                    <a:pt x="102" y="0"/>
                  </a:lnTo>
                  <a:lnTo>
                    <a:pt x="85" y="1"/>
                  </a:lnTo>
                  <a:lnTo>
                    <a:pt x="56" y="4"/>
                  </a:lnTo>
                  <a:lnTo>
                    <a:pt x="56" y="4"/>
                  </a:lnTo>
                </a:path>
              </a:pathLst>
            </a:custGeom>
            <a:solidFill>
              <a:schemeClr val="accent1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9" name="Oval 322"/>
            <p:cNvSpPr/>
            <p:nvPr/>
          </p:nvSpPr>
          <p:spPr>
            <a:xfrm rot="21180000">
              <a:off x="7048080" y="6540120"/>
              <a:ext cx="258480" cy="6156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0" name="Freeform 323"/>
            <p:cNvSpPr/>
            <p:nvPr/>
          </p:nvSpPr>
          <p:spPr>
            <a:xfrm>
              <a:off x="4925880" y="5576760"/>
              <a:ext cx="2563560" cy="1122120"/>
            </a:xfrm>
            <a:custGeom>
              <a:avLst/>
              <a:gdLst>
                <a:gd name="textAreaLeft" fmla="*/ 0 w 2563560"/>
                <a:gd name="textAreaRight" fmla="*/ 2563920 w 2563560"/>
                <a:gd name="textAreaTop" fmla="*/ 0 h 1122120"/>
                <a:gd name="textAreaBottom" fmla="*/ 1122480 h 1122120"/>
              </a:gdLst>
              <a:ahLst/>
              <a:rect l="textAreaLeft" t="textAreaTop" r="textAreaRight" b="textAreaBottom"/>
              <a:pathLst>
                <a:path w="1615" h="707">
                  <a:moveTo>
                    <a:pt x="21" y="1"/>
                  </a:moveTo>
                  <a:lnTo>
                    <a:pt x="50" y="0"/>
                  </a:lnTo>
                  <a:lnTo>
                    <a:pt x="68" y="2"/>
                  </a:lnTo>
                  <a:lnTo>
                    <a:pt x="111" y="2"/>
                  </a:lnTo>
                  <a:lnTo>
                    <a:pt x="128" y="3"/>
                  </a:lnTo>
                  <a:lnTo>
                    <a:pt x="143" y="5"/>
                  </a:lnTo>
                  <a:lnTo>
                    <a:pt x="160" y="6"/>
                  </a:lnTo>
                  <a:lnTo>
                    <a:pt x="177" y="7"/>
                  </a:lnTo>
                  <a:lnTo>
                    <a:pt x="209" y="8"/>
                  </a:lnTo>
                  <a:lnTo>
                    <a:pt x="241" y="9"/>
                  </a:lnTo>
                  <a:lnTo>
                    <a:pt x="258" y="11"/>
                  </a:lnTo>
                  <a:lnTo>
                    <a:pt x="274" y="12"/>
                  </a:lnTo>
                  <a:lnTo>
                    <a:pt x="291" y="13"/>
                  </a:lnTo>
                  <a:lnTo>
                    <a:pt x="312" y="13"/>
                  </a:lnTo>
                  <a:lnTo>
                    <a:pt x="329" y="16"/>
                  </a:lnTo>
                  <a:lnTo>
                    <a:pt x="352" y="16"/>
                  </a:lnTo>
                  <a:lnTo>
                    <a:pt x="367" y="12"/>
                  </a:lnTo>
                  <a:lnTo>
                    <a:pt x="383" y="12"/>
                  </a:lnTo>
                  <a:lnTo>
                    <a:pt x="405" y="7"/>
                  </a:lnTo>
                  <a:lnTo>
                    <a:pt x="422" y="9"/>
                  </a:lnTo>
                  <a:lnTo>
                    <a:pt x="443" y="10"/>
                  </a:lnTo>
                  <a:lnTo>
                    <a:pt x="466" y="10"/>
                  </a:lnTo>
                  <a:lnTo>
                    <a:pt x="487" y="11"/>
                  </a:lnTo>
                  <a:lnTo>
                    <a:pt x="508" y="13"/>
                  </a:lnTo>
                  <a:lnTo>
                    <a:pt x="530" y="14"/>
                  </a:lnTo>
                  <a:lnTo>
                    <a:pt x="553" y="16"/>
                  </a:lnTo>
                  <a:lnTo>
                    <a:pt x="575" y="17"/>
                  </a:lnTo>
                  <a:lnTo>
                    <a:pt x="595" y="17"/>
                  </a:lnTo>
                  <a:lnTo>
                    <a:pt x="619" y="18"/>
                  </a:lnTo>
                  <a:lnTo>
                    <a:pt x="662" y="22"/>
                  </a:lnTo>
                  <a:lnTo>
                    <a:pt x="678" y="21"/>
                  </a:lnTo>
                  <a:lnTo>
                    <a:pt x="694" y="22"/>
                  </a:lnTo>
                  <a:lnTo>
                    <a:pt x="710" y="23"/>
                  </a:lnTo>
                  <a:lnTo>
                    <a:pt x="764" y="32"/>
                  </a:lnTo>
                  <a:lnTo>
                    <a:pt x="781" y="32"/>
                  </a:lnTo>
                  <a:lnTo>
                    <a:pt x="803" y="35"/>
                  </a:lnTo>
                  <a:lnTo>
                    <a:pt x="820" y="36"/>
                  </a:lnTo>
                  <a:lnTo>
                    <a:pt x="837" y="35"/>
                  </a:lnTo>
                  <a:lnTo>
                    <a:pt x="858" y="36"/>
                  </a:lnTo>
                  <a:lnTo>
                    <a:pt x="874" y="37"/>
                  </a:lnTo>
                  <a:lnTo>
                    <a:pt x="918" y="41"/>
                  </a:lnTo>
                  <a:lnTo>
                    <a:pt x="950" y="41"/>
                  </a:lnTo>
                  <a:lnTo>
                    <a:pt x="972" y="42"/>
                  </a:lnTo>
                  <a:lnTo>
                    <a:pt x="989" y="37"/>
                  </a:lnTo>
                  <a:lnTo>
                    <a:pt x="1012" y="23"/>
                  </a:lnTo>
                  <a:lnTo>
                    <a:pt x="1028" y="14"/>
                  </a:lnTo>
                  <a:lnTo>
                    <a:pt x="1045" y="9"/>
                  </a:lnTo>
                  <a:lnTo>
                    <a:pt x="1067" y="4"/>
                  </a:lnTo>
                  <a:lnTo>
                    <a:pt x="1089" y="6"/>
                  </a:lnTo>
                  <a:lnTo>
                    <a:pt x="1105" y="6"/>
                  </a:lnTo>
                  <a:lnTo>
                    <a:pt x="1121" y="8"/>
                  </a:lnTo>
                  <a:lnTo>
                    <a:pt x="1137" y="8"/>
                  </a:lnTo>
                  <a:lnTo>
                    <a:pt x="1160" y="9"/>
                  </a:lnTo>
                  <a:lnTo>
                    <a:pt x="1176" y="10"/>
                  </a:lnTo>
                  <a:lnTo>
                    <a:pt x="1199" y="11"/>
                  </a:lnTo>
                  <a:lnTo>
                    <a:pt x="1231" y="14"/>
                  </a:lnTo>
                  <a:lnTo>
                    <a:pt x="1275" y="21"/>
                  </a:lnTo>
                  <a:lnTo>
                    <a:pt x="1291" y="21"/>
                  </a:lnTo>
                  <a:lnTo>
                    <a:pt x="1307" y="21"/>
                  </a:lnTo>
                  <a:lnTo>
                    <a:pt x="1323" y="23"/>
                  </a:lnTo>
                  <a:lnTo>
                    <a:pt x="1345" y="30"/>
                  </a:lnTo>
                  <a:lnTo>
                    <a:pt x="1367" y="30"/>
                  </a:lnTo>
                  <a:lnTo>
                    <a:pt x="1388" y="37"/>
                  </a:lnTo>
                  <a:lnTo>
                    <a:pt x="1404" y="43"/>
                  </a:lnTo>
                  <a:lnTo>
                    <a:pt x="1420" y="49"/>
                  </a:lnTo>
                  <a:lnTo>
                    <a:pt x="1436" y="62"/>
                  </a:lnTo>
                  <a:lnTo>
                    <a:pt x="1452" y="73"/>
                  </a:lnTo>
                  <a:lnTo>
                    <a:pt x="1467" y="80"/>
                  </a:lnTo>
                  <a:lnTo>
                    <a:pt x="1483" y="92"/>
                  </a:lnTo>
                  <a:lnTo>
                    <a:pt x="1493" y="109"/>
                  </a:lnTo>
                  <a:lnTo>
                    <a:pt x="1509" y="115"/>
                  </a:lnTo>
                  <a:lnTo>
                    <a:pt x="1519" y="131"/>
                  </a:lnTo>
                  <a:lnTo>
                    <a:pt x="1534" y="144"/>
                  </a:lnTo>
                  <a:lnTo>
                    <a:pt x="1545" y="160"/>
                  </a:lnTo>
                  <a:lnTo>
                    <a:pt x="1561" y="172"/>
                  </a:lnTo>
                  <a:lnTo>
                    <a:pt x="1577" y="188"/>
                  </a:lnTo>
                  <a:lnTo>
                    <a:pt x="1581" y="206"/>
                  </a:lnTo>
                  <a:lnTo>
                    <a:pt x="1592" y="223"/>
                  </a:lnTo>
                  <a:lnTo>
                    <a:pt x="1590" y="239"/>
                  </a:lnTo>
                  <a:lnTo>
                    <a:pt x="1595" y="256"/>
                  </a:lnTo>
                  <a:lnTo>
                    <a:pt x="1599" y="272"/>
                  </a:lnTo>
                  <a:lnTo>
                    <a:pt x="1609" y="289"/>
                  </a:lnTo>
                  <a:lnTo>
                    <a:pt x="1609" y="306"/>
                  </a:lnTo>
                  <a:lnTo>
                    <a:pt x="1614" y="323"/>
                  </a:lnTo>
                  <a:lnTo>
                    <a:pt x="1613" y="339"/>
                  </a:lnTo>
                  <a:lnTo>
                    <a:pt x="1611" y="356"/>
                  </a:lnTo>
                  <a:lnTo>
                    <a:pt x="1611" y="372"/>
                  </a:lnTo>
                  <a:lnTo>
                    <a:pt x="1609" y="387"/>
                  </a:lnTo>
                  <a:lnTo>
                    <a:pt x="1609" y="405"/>
                  </a:lnTo>
                  <a:lnTo>
                    <a:pt x="1609" y="422"/>
                  </a:lnTo>
                  <a:lnTo>
                    <a:pt x="1607" y="437"/>
                  </a:lnTo>
                  <a:lnTo>
                    <a:pt x="1607" y="453"/>
                  </a:lnTo>
                  <a:lnTo>
                    <a:pt x="1606" y="469"/>
                  </a:lnTo>
                  <a:lnTo>
                    <a:pt x="1599" y="486"/>
                  </a:lnTo>
                  <a:lnTo>
                    <a:pt x="1588" y="502"/>
                  </a:lnTo>
                  <a:lnTo>
                    <a:pt x="1581" y="518"/>
                  </a:lnTo>
                  <a:lnTo>
                    <a:pt x="1575" y="533"/>
                  </a:lnTo>
                  <a:lnTo>
                    <a:pt x="1570" y="549"/>
                  </a:lnTo>
                  <a:lnTo>
                    <a:pt x="1563" y="565"/>
                  </a:lnTo>
                  <a:lnTo>
                    <a:pt x="1557" y="583"/>
                  </a:lnTo>
                  <a:lnTo>
                    <a:pt x="1550" y="598"/>
                  </a:lnTo>
                  <a:lnTo>
                    <a:pt x="1544" y="614"/>
                  </a:lnTo>
                  <a:lnTo>
                    <a:pt x="1538" y="630"/>
                  </a:lnTo>
                  <a:lnTo>
                    <a:pt x="1526" y="645"/>
                  </a:lnTo>
                  <a:lnTo>
                    <a:pt x="1514" y="662"/>
                  </a:lnTo>
                  <a:lnTo>
                    <a:pt x="1502" y="677"/>
                  </a:lnTo>
                  <a:lnTo>
                    <a:pt x="1486" y="692"/>
                  </a:lnTo>
                  <a:lnTo>
                    <a:pt x="1467" y="697"/>
                  </a:lnTo>
                  <a:lnTo>
                    <a:pt x="1450" y="702"/>
                  </a:lnTo>
                  <a:lnTo>
                    <a:pt x="1435" y="706"/>
                  </a:lnTo>
                  <a:lnTo>
                    <a:pt x="1419" y="705"/>
                  </a:lnTo>
                  <a:lnTo>
                    <a:pt x="1403" y="704"/>
                  </a:lnTo>
                  <a:lnTo>
                    <a:pt x="1385" y="704"/>
                  </a:lnTo>
                  <a:lnTo>
                    <a:pt x="1369" y="704"/>
                  </a:lnTo>
                  <a:lnTo>
                    <a:pt x="1353" y="702"/>
                  </a:lnTo>
                  <a:lnTo>
                    <a:pt x="1336" y="702"/>
                  </a:lnTo>
                  <a:lnTo>
                    <a:pt x="1320" y="695"/>
                  </a:lnTo>
                  <a:lnTo>
                    <a:pt x="1306" y="683"/>
                  </a:lnTo>
                  <a:lnTo>
                    <a:pt x="1288" y="677"/>
                  </a:lnTo>
                  <a:lnTo>
                    <a:pt x="1273" y="671"/>
                  </a:lnTo>
                  <a:lnTo>
                    <a:pt x="1252" y="670"/>
                  </a:lnTo>
                  <a:lnTo>
                    <a:pt x="1234" y="664"/>
                  </a:lnTo>
                  <a:lnTo>
                    <a:pt x="1218" y="656"/>
                  </a:lnTo>
                  <a:lnTo>
                    <a:pt x="1201" y="656"/>
                  </a:lnTo>
                  <a:lnTo>
                    <a:pt x="1186" y="655"/>
                  </a:lnTo>
                  <a:lnTo>
                    <a:pt x="1170" y="654"/>
                  </a:lnTo>
                  <a:lnTo>
                    <a:pt x="1154" y="654"/>
                  </a:lnTo>
                  <a:lnTo>
                    <a:pt x="1137" y="652"/>
                  </a:lnTo>
                  <a:lnTo>
                    <a:pt x="1121" y="651"/>
                  </a:lnTo>
                  <a:lnTo>
                    <a:pt x="1104" y="651"/>
                  </a:lnTo>
                  <a:lnTo>
                    <a:pt x="1088" y="645"/>
                  </a:lnTo>
                  <a:lnTo>
                    <a:pt x="1073" y="644"/>
                  </a:lnTo>
                  <a:lnTo>
                    <a:pt x="1056" y="638"/>
                  </a:lnTo>
                  <a:lnTo>
                    <a:pt x="1034" y="631"/>
                  </a:lnTo>
                  <a:lnTo>
                    <a:pt x="1018" y="624"/>
                  </a:lnTo>
                  <a:lnTo>
                    <a:pt x="996" y="624"/>
                  </a:lnTo>
                  <a:lnTo>
                    <a:pt x="980" y="617"/>
                  </a:lnTo>
                  <a:lnTo>
                    <a:pt x="964" y="616"/>
                  </a:lnTo>
                  <a:lnTo>
                    <a:pt x="947" y="615"/>
                  </a:lnTo>
                  <a:lnTo>
                    <a:pt x="930" y="615"/>
                  </a:lnTo>
                  <a:lnTo>
                    <a:pt x="889" y="601"/>
                  </a:lnTo>
                  <a:lnTo>
                    <a:pt x="873" y="595"/>
                  </a:lnTo>
                  <a:lnTo>
                    <a:pt x="856" y="588"/>
                  </a:lnTo>
                  <a:lnTo>
                    <a:pt x="840" y="587"/>
                  </a:lnTo>
                  <a:lnTo>
                    <a:pt x="824" y="586"/>
                  </a:lnTo>
                  <a:lnTo>
                    <a:pt x="807" y="585"/>
                  </a:lnTo>
                  <a:lnTo>
                    <a:pt x="791" y="585"/>
                  </a:lnTo>
                  <a:lnTo>
                    <a:pt x="775" y="583"/>
                  </a:lnTo>
                  <a:lnTo>
                    <a:pt x="757" y="584"/>
                  </a:lnTo>
                  <a:lnTo>
                    <a:pt x="735" y="582"/>
                  </a:lnTo>
                  <a:lnTo>
                    <a:pt x="720" y="582"/>
                  </a:lnTo>
                  <a:lnTo>
                    <a:pt x="698" y="580"/>
                  </a:lnTo>
                  <a:lnTo>
                    <a:pt x="682" y="579"/>
                  </a:lnTo>
                  <a:lnTo>
                    <a:pt x="659" y="578"/>
                  </a:lnTo>
                  <a:lnTo>
                    <a:pt x="643" y="578"/>
                  </a:lnTo>
                  <a:lnTo>
                    <a:pt x="626" y="581"/>
                  </a:lnTo>
                  <a:lnTo>
                    <a:pt x="610" y="581"/>
                  </a:lnTo>
                  <a:lnTo>
                    <a:pt x="562" y="578"/>
                  </a:lnTo>
                  <a:lnTo>
                    <a:pt x="517" y="576"/>
                  </a:lnTo>
                  <a:lnTo>
                    <a:pt x="502" y="575"/>
                  </a:lnTo>
                  <a:lnTo>
                    <a:pt x="458" y="574"/>
                  </a:lnTo>
                  <a:lnTo>
                    <a:pt x="442" y="572"/>
                  </a:lnTo>
                  <a:lnTo>
                    <a:pt x="425" y="571"/>
                  </a:lnTo>
                  <a:lnTo>
                    <a:pt x="409" y="571"/>
                  </a:lnTo>
                  <a:lnTo>
                    <a:pt x="388" y="569"/>
                  </a:lnTo>
                  <a:lnTo>
                    <a:pt x="371" y="568"/>
                  </a:lnTo>
                  <a:lnTo>
                    <a:pt x="349" y="567"/>
                  </a:lnTo>
                  <a:lnTo>
                    <a:pt x="332" y="566"/>
                  </a:lnTo>
                  <a:lnTo>
                    <a:pt x="317" y="565"/>
                  </a:lnTo>
                  <a:lnTo>
                    <a:pt x="292" y="564"/>
                  </a:lnTo>
                  <a:lnTo>
                    <a:pt x="278" y="565"/>
                  </a:lnTo>
                  <a:lnTo>
                    <a:pt x="261" y="564"/>
                  </a:lnTo>
                  <a:lnTo>
                    <a:pt x="223" y="560"/>
                  </a:lnTo>
                  <a:lnTo>
                    <a:pt x="202" y="559"/>
                  </a:lnTo>
                  <a:lnTo>
                    <a:pt x="163" y="559"/>
                  </a:lnTo>
                  <a:lnTo>
                    <a:pt x="147" y="557"/>
                  </a:lnTo>
                  <a:lnTo>
                    <a:pt x="131" y="557"/>
                  </a:lnTo>
                  <a:lnTo>
                    <a:pt x="114" y="555"/>
                  </a:lnTo>
                  <a:lnTo>
                    <a:pt x="98" y="554"/>
                  </a:lnTo>
                  <a:lnTo>
                    <a:pt x="81" y="554"/>
                  </a:lnTo>
                  <a:lnTo>
                    <a:pt x="65" y="552"/>
                  </a:lnTo>
                  <a:lnTo>
                    <a:pt x="48" y="553"/>
                  </a:lnTo>
                  <a:lnTo>
                    <a:pt x="33" y="551"/>
                  </a:lnTo>
                  <a:lnTo>
                    <a:pt x="17" y="551"/>
                  </a:lnTo>
                  <a:lnTo>
                    <a:pt x="0" y="550"/>
                  </a:lnTo>
                  <a:lnTo>
                    <a:pt x="15" y="553"/>
                  </a:lnTo>
                </a:path>
              </a:pathLst>
            </a:custGeom>
            <a:noFill/>
            <a:ln cap="rnd"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1" name="Group 364"/>
          <p:cNvGrpSpPr/>
          <p:nvPr/>
        </p:nvGrpSpPr>
        <p:grpSpPr>
          <a:xfrm>
            <a:off x="4487760" y="2054160"/>
            <a:ext cx="2509560" cy="1177560"/>
            <a:chOff x="4487760" y="2054160"/>
            <a:chExt cx="2509560" cy="1177560"/>
          </a:xfrm>
        </p:grpSpPr>
        <p:sp>
          <p:nvSpPr>
            <p:cNvPr id="2892" name="Freeform 325"/>
            <p:cNvSpPr/>
            <p:nvPr/>
          </p:nvSpPr>
          <p:spPr>
            <a:xfrm>
              <a:off x="4821120" y="2336760"/>
              <a:ext cx="383760" cy="36144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242" h="228">
                  <a:moveTo>
                    <a:pt x="0" y="35"/>
                  </a:moveTo>
                  <a:lnTo>
                    <a:pt x="3" y="57"/>
                  </a:lnTo>
                  <a:lnTo>
                    <a:pt x="8" y="88"/>
                  </a:lnTo>
                  <a:lnTo>
                    <a:pt x="13" y="130"/>
                  </a:lnTo>
                  <a:lnTo>
                    <a:pt x="10" y="146"/>
                  </a:lnTo>
                  <a:lnTo>
                    <a:pt x="13" y="162"/>
                  </a:lnTo>
                  <a:lnTo>
                    <a:pt x="15" y="182"/>
                  </a:lnTo>
                  <a:lnTo>
                    <a:pt x="18" y="198"/>
                  </a:lnTo>
                  <a:lnTo>
                    <a:pt x="25" y="213"/>
                  </a:lnTo>
                  <a:lnTo>
                    <a:pt x="42" y="221"/>
                  </a:lnTo>
                  <a:lnTo>
                    <a:pt x="58" y="224"/>
                  </a:lnTo>
                  <a:lnTo>
                    <a:pt x="75" y="227"/>
                  </a:lnTo>
                  <a:lnTo>
                    <a:pt x="90" y="225"/>
                  </a:lnTo>
                  <a:lnTo>
                    <a:pt x="105" y="223"/>
                  </a:lnTo>
                  <a:lnTo>
                    <a:pt x="121" y="221"/>
                  </a:lnTo>
                  <a:lnTo>
                    <a:pt x="137" y="218"/>
                  </a:lnTo>
                  <a:lnTo>
                    <a:pt x="152" y="216"/>
                  </a:lnTo>
                  <a:lnTo>
                    <a:pt x="168" y="214"/>
                  </a:lnTo>
                  <a:lnTo>
                    <a:pt x="204" y="209"/>
                  </a:lnTo>
                  <a:lnTo>
                    <a:pt x="220" y="207"/>
                  </a:lnTo>
                  <a:lnTo>
                    <a:pt x="235" y="204"/>
                  </a:lnTo>
                  <a:lnTo>
                    <a:pt x="238" y="188"/>
                  </a:lnTo>
                  <a:lnTo>
                    <a:pt x="241" y="172"/>
                  </a:lnTo>
                  <a:lnTo>
                    <a:pt x="239" y="156"/>
                  </a:lnTo>
                  <a:lnTo>
                    <a:pt x="237" y="141"/>
                  </a:lnTo>
                  <a:lnTo>
                    <a:pt x="235" y="125"/>
                  </a:lnTo>
                  <a:lnTo>
                    <a:pt x="232" y="110"/>
                  </a:lnTo>
                  <a:lnTo>
                    <a:pt x="230" y="94"/>
                  </a:lnTo>
                  <a:lnTo>
                    <a:pt x="228" y="78"/>
                  </a:lnTo>
                  <a:lnTo>
                    <a:pt x="226" y="63"/>
                  </a:lnTo>
                  <a:lnTo>
                    <a:pt x="224" y="47"/>
                  </a:lnTo>
                  <a:lnTo>
                    <a:pt x="221" y="31"/>
                  </a:lnTo>
                  <a:lnTo>
                    <a:pt x="219" y="16"/>
                  </a:lnTo>
                  <a:lnTo>
                    <a:pt x="217" y="0"/>
                  </a:lnTo>
                  <a:lnTo>
                    <a:pt x="201" y="3"/>
                  </a:lnTo>
                  <a:lnTo>
                    <a:pt x="186" y="5"/>
                  </a:lnTo>
                  <a:lnTo>
                    <a:pt x="171" y="7"/>
                  </a:lnTo>
                  <a:lnTo>
                    <a:pt x="154" y="4"/>
                  </a:lnTo>
                  <a:lnTo>
                    <a:pt x="138" y="6"/>
                  </a:lnTo>
                  <a:lnTo>
                    <a:pt x="123" y="8"/>
                  </a:lnTo>
                  <a:lnTo>
                    <a:pt x="108" y="10"/>
                  </a:lnTo>
                  <a:lnTo>
                    <a:pt x="92" y="13"/>
                  </a:lnTo>
                  <a:lnTo>
                    <a:pt x="76" y="15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0" y="21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3" name="Oval 326"/>
            <p:cNvSpPr/>
            <p:nvPr/>
          </p:nvSpPr>
          <p:spPr>
            <a:xfrm rot="21120000">
              <a:off x="4866840" y="2373120"/>
              <a:ext cx="2808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4" name="Freeform 327"/>
            <p:cNvSpPr/>
            <p:nvPr/>
          </p:nvSpPr>
          <p:spPr>
            <a:xfrm>
              <a:off x="5146560" y="2292480"/>
              <a:ext cx="383760" cy="36000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242" h="227">
                  <a:moveTo>
                    <a:pt x="0" y="34"/>
                  </a:moveTo>
                  <a:lnTo>
                    <a:pt x="3" y="56"/>
                  </a:lnTo>
                  <a:lnTo>
                    <a:pt x="8" y="87"/>
                  </a:lnTo>
                  <a:lnTo>
                    <a:pt x="13" y="129"/>
                  </a:lnTo>
                  <a:lnTo>
                    <a:pt x="10" y="145"/>
                  </a:lnTo>
                  <a:lnTo>
                    <a:pt x="13" y="161"/>
                  </a:lnTo>
                  <a:lnTo>
                    <a:pt x="15" y="182"/>
                  </a:lnTo>
                  <a:lnTo>
                    <a:pt x="18" y="197"/>
                  </a:lnTo>
                  <a:lnTo>
                    <a:pt x="25" y="212"/>
                  </a:lnTo>
                  <a:lnTo>
                    <a:pt x="42" y="221"/>
                  </a:lnTo>
                  <a:lnTo>
                    <a:pt x="58" y="223"/>
                  </a:lnTo>
                  <a:lnTo>
                    <a:pt x="75" y="226"/>
                  </a:lnTo>
                  <a:lnTo>
                    <a:pt x="90" y="224"/>
                  </a:lnTo>
                  <a:lnTo>
                    <a:pt x="105" y="222"/>
                  </a:lnTo>
                  <a:lnTo>
                    <a:pt x="121" y="220"/>
                  </a:lnTo>
                  <a:lnTo>
                    <a:pt x="137" y="217"/>
                  </a:lnTo>
                  <a:lnTo>
                    <a:pt x="152" y="215"/>
                  </a:lnTo>
                  <a:lnTo>
                    <a:pt x="168" y="213"/>
                  </a:lnTo>
                  <a:lnTo>
                    <a:pt x="204" y="208"/>
                  </a:lnTo>
                  <a:lnTo>
                    <a:pt x="220" y="206"/>
                  </a:lnTo>
                  <a:lnTo>
                    <a:pt x="235" y="204"/>
                  </a:lnTo>
                  <a:lnTo>
                    <a:pt x="238" y="188"/>
                  </a:lnTo>
                  <a:lnTo>
                    <a:pt x="241" y="171"/>
                  </a:lnTo>
                  <a:lnTo>
                    <a:pt x="239" y="155"/>
                  </a:lnTo>
                  <a:lnTo>
                    <a:pt x="237" y="140"/>
                  </a:lnTo>
                  <a:lnTo>
                    <a:pt x="235" y="124"/>
                  </a:lnTo>
                  <a:lnTo>
                    <a:pt x="232" y="109"/>
                  </a:lnTo>
                  <a:lnTo>
                    <a:pt x="230" y="93"/>
                  </a:lnTo>
                  <a:lnTo>
                    <a:pt x="228" y="77"/>
                  </a:lnTo>
                  <a:lnTo>
                    <a:pt x="226" y="62"/>
                  </a:lnTo>
                  <a:lnTo>
                    <a:pt x="224" y="46"/>
                  </a:lnTo>
                  <a:lnTo>
                    <a:pt x="221" y="31"/>
                  </a:lnTo>
                  <a:lnTo>
                    <a:pt x="219" y="15"/>
                  </a:lnTo>
                  <a:lnTo>
                    <a:pt x="217" y="0"/>
                  </a:lnTo>
                  <a:lnTo>
                    <a:pt x="201" y="2"/>
                  </a:lnTo>
                  <a:lnTo>
                    <a:pt x="186" y="4"/>
                  </a:lnTo>
                  <a:lnTo>
                    <a:pt x="170" y="6"/>
                  </a:lnTo>
                  <a:lnTo>
                    <a:pt x="154" y="3"/>
                  </a:lnTo>
                  <a:lnTo>
                    <a:pt x="138" y="5"/>
                  </a:lnTo>
                  <a:lnTo>
                    <a:pt x="123" y="7"/>
                  </a:lnTo>
                  <a:lnTo>
                    <a:pt x="108" y="10"/>
                  </a:lnTo>
                  <a:lnTo>
                    <a:pt x="92" y="12"/>
                  </a:lnTo>
                  <a:lnTo>
                    <a:pt x="76" y="14"/>
                  </a:lnTo>
                  <a:lnTo>
                    <a:pt x="61" y="16"/>
                  </a:lnTo>
                  <a:lnTo>
                    <a:pt x="45" y="18"/>
                  </a:lnTo>
                  <a:lnTo>
                    <a:pt x="30" y="20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5" name="Oval 328"/>
            <p:cNvSpPr/>
            <p:nvPr/>
          </p:nvSpPr>
          <p:spPr>
            <a:xfrm rot="21120000">
              <a:off x="5192640" y="2328480"/>
              <a:ext cx="280800" cy="583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6" name="Freeform 329"/>
            <p:cNvSpPr/>
            <p:nvPr/>
          </p:nvSpPr>
          <p:spPr>
            <a:xfrm>
              <a:off x="5472000" y="2246400"/>
              <a:ext cx="383760" cy="36000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242" h="227">
                  <a:moveTo>
                    <a:pt x="0" y="35"/>
                  </a:moveTo>
                  <a:lnTo>
                    <a:pt x="3" y="56"/>
                  </a:lnTo>
                  <a:lnTo>
                    <a:pt x="7" y="88"/>
                  </a:lnTo>
                  <a:lnTo>
                    <a:pt x="13" y="129"/>
                  </a:lnTo>
                  <a:lnTo>
                    <a:pt x="10" y="145"/>
                  </a:lnTo>
                  <a:lnTo>
                    <a:pt x="13" y="161"/>
                  </a:lnTo>
                  <a:lnTo>
                    <a:pt x="15" y="182"/>
                  </a:lnTo>
                  <a:lnTo>
                    <a:pt x="18" y="197"/>
                  </a:lnTo>
                  <a:lnTo>
                    <a:pt x="25" y="212"/>
                  </a:lnTo>
                  <a:lnTo>
                    <a:pt x="42" y="221"/>
                  </a:lnTo>
                  <a:lnTo>
                    <a:pt x="58" y="223"/>
                  </a:lnTo>
                  <a:lnTo>
                    <a:pt x="74" y="226"/>
                  </a:lnTo>
                  <a:lnTo>
                    <a:pt x="90" y="224"/>
                  </a:lnTo>
                  <a:lnTo>
                    <a:pt x="105" y="222"/>
                  </a:lnTo>
                  <a:lnTo>
                    <a:pt x="121" y="220"/>
                  </a:lnTo>
                  <a:lnTo>
                    <a:pt x="137" y="218"/>
                  </a:lnTo>
                  <a:lnTo>
                    <a:pt x="152" y="215"/>
                  </a:lnTo>
                  <a:lnTo>
                    <a:pt x="168" y="213"/>
                  </a:lnTo>
                  <a:lnTo>
                    <a:pt x="204" y="208"/>
                  </a:lnTo>
                  <a:lnTo>
                    <a:pt x="220" y="206"/>
                  </a:lnTo>
                  <a:lnTo>
                    <a:pt x="235" y="204"/>
                  </a:lnTo>
                  <a:lnTo>
                    <a:pt x="238" y="188"/>
                  </a:lnTo>
                  <a:lnTo>
                    <a:pt x="241" y="171"/>
                  </a:lnTo>
                  <a:lnTo>
                    <a:pt x="239" y="156"/>
                  </a:lnTo>
                  <a:lnTo>
                    <a:pt x="237" y="140"/>
                  </a:lnTo>
                  <a:lnTo>
                    <a:pt x="235" y="125"/>
                  </a:lnTo>
                  <a:lnTo>
                    <a:pt x="232" y="109"/>
                  </a:lnTo>
                  <a:lnTo>
                    <a:pt x="230" y="93"/>
                  </a:lnTo>
                  <a:lnTo>
                    <a:pt x="228" y="77"/>
                  </a:lnTo>
                  <a:lnTo>
                    <a:pt x="226" y="62"/>
                  </a:lnTo>
                  <a:lnTo>
                    <a:pt x="224" y="46"/>
                  </a:lnTo>
                  <a:lnTo>
                    <a:pt x="221" y="31"/>
                  </a:lnTo>
                  <a:lnTo>
                    <a:pt x="219" y="15"/>
                  </a:lnTo>
                  <a:lnTo>
                    <a:pt x="217" y="0"/>
                  </a:lnTo>
                  <a:lnTo>
                    <a:pt x="201" y="2"/>
                  </a:lnTo>
                  <a:lnTo>
                    <a:pt x="186" y="4"/>
                  </a:lnTo>
                  <a:lnTo>
                    <a:pt x="170" y="6"/>
                  </a:lnTo>
                  <a:lnTo>
                    <a:pt x="154" y="3"/>
                  </a:lnTo>
                  <a:lnTo>
                    <a:pt x="138" y="5"/>
                  </a:lnTo>
                  <a:lnTo>
                    <a:pt x="123" y="8"/>
                  </a:lnTo>
                  <a:lnTo>
                    <a:pt x="108" y="10"/>
                  </a:lnTo>
                  <a:lnTo>
                    <a:pt x="92" y="12"/>
                  </a:lnTo>
                  <a:lnTo>
                    <a:pt x="76" y="14"/>
                  </a:lnTo>
                  <a:lnTo>
                    <a:pt x="61" y="16"/>
                  </a:lnTo>
                  <a:lnTo>
                    <a:pt x="45" y="18"/>
                  </a:lnTo>
                  <a:lnTo>
                    <a:pt x="30" y="21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7" name="Oval 330"/>
            <p:cNvSpPr/>
            <p:nvPr/>
          </p:nvSpPr>
          <p:spPr>
            <a:xfrm rot="21120000">
              <a:off x="5517720" y="2282400"/>
              <a:ext cx="2808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8" name="Freeform 331"/>
            <p:cNvSpPr/>
            <p:nvPr/>
          </p:nvSpPr>
          <p:spPr>
            <a:xfrm>
              <a:off x="5799240" y="2200320"/>
              <a:ext cx="385560" cy="36144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243" h="228">
                  <a:moveTo>
                    <a:pt x="0" y="35"/>
                  </a:moveTo>
                  <a:lnTo>
                    <a:pt x="3" y="56"/>
                  </a:lnTo>
                  <a:lnTo>
                    <a:pt x="7" y="88"/>
                  </a:lnTo>
                  <a:lnTo>
                    <a:pt x="13" y="129"/>
                  </a:lnTo>
                  <a:lnTo>
                    <a:pt x="10" y="146"/>
                  </a:lnTo>
                  <a:lnTo>
                    <a:pt x="12" y="161"/>
                  </a:lnTo>
                  <a:lnTo>
                    <a:pt x="15" y="182"/>
                  </a:lnTo>
                  <a:lnTo>
                    <a:pt x="17" y="198"/>
                  </a:lnTo>
                  <a:lnTo>
                    <a:pt x="25" y="213"/>
                  </a:lnTo>
                  <a:lnTo>
                    <a:pt x="42" y="221"/>
                  </a:lnTo>
                  <a:lnTo>
                    <a:pt x="58" y="223"/>
                  </a:lnTo>
                  <a:lnTo>
                    <a:pt x="74" y="227"/>
                  </a:lnTo>
                  <a:lnTo>
                    <a:pt x="90" y="224"/>
                  </a:lnTo>
                  <a:lnTo>
                    <a:pt x="105" y="222"/>
                  </a:lnTo>
                  <a:lnTo>
                    <a:pt x="121" y="220"/>
                  </a:lnTo>
                  <a:lnTo>
                    <a:pt x="137" y="218"/>
                  </a:lnTo>
                  <a:lnTo>
                    <a:pt x="152" y="216"/>
                  </a:lnTo>
                  <a:lnTo>
                    <a:pt x="168" y="213"/>
                  </a:lnTo>
                  <a:lnTo>
                    <a:pt x="204" y="208"/>
                  </a:lnTo>
                  <a:lnTo>
                    <a:pt x="220" y="206"/>
                  </a:lnTo>
                  <a:lnTo>
                    <a:pt x="235" y="204"/>
                  </a:lnTo>
                  <a:lnTo>
                    <a:pt x="239" y="188"/>
                  </a:lnTo>
                  <a:lnTo>
                    <a:pt x="242" y="171"/>
                  </a:lnTo>
                  <a:lnTo>
                    <a:pt x="239" y="156"/>
                  </a:lnTo>
                  <a:lnTo>
                    <a:pt x="237" y="140"/>
                  </a:lnTo>
                  <a:lnTo>
                    <a:pt x="235" y="125"/>
                  </a:lnTo>
                  <a:lnTo>
                    <a:pt x="233" y="109"/>
                  </a:lnTo>
                  <a:lnTo>
                    <a:pt x="231" y="93"/>
                  </a:lnTo>
                  <a:lnTo>
                    <a:pt x="228" y="77"/>
                  </a:lnTo>
                  <a:lnTo>
                    <a:pt x="226" y="62"/>
                  </a:lnTo>
                  <a:lnTo>
                    <a:pt x="224" y="46"/>
                  </a:lnTo>
                  <a:lnTo>
                    <a:pt x="222" y="31"/>
                  </a:lnTo>
                  <a:lnTo>
                    <a:pt x="220" y="15"/>
                  </a:lnTo>
                  <a:lnTo>
                    <a:pt x="217" y="0"/>
                  </a:lnTo>
                  <a:lnTo>
                    <a:pt x="202" y="2"/>
                  </a:lnTo>
                  <a:lnTo>
                    <a:pt x="186" y="4"/>
                  </a:lnTo>
                  <a:lnTo>
                    <a:pt x="171" y="6"/>
                  </a:lnTo>
                  <a:lnTo>
                    <a:pt x="154" y="3"/>
                  </a:lnTo>
                  <a:lnTo>
                    <a:pt x="139" y="5"/>
                  </a:lnTo>
                  <a:lnTo>
                    <a:pt x="123" y="8"/>
                  </a:lnTo>
                  <a:lnTo>
                    <a:pt x="107" y="10"/>
                  </a:lnTo>
                  <a:lnTo>
                    <a:pt x="92" y="12"/>
                  </a:lnTo>
                  <a:lnTo>
                    <a:pt x="76" y="14"/>
                  </a:lnTo>
                  <a:lnTo>
                    <a:pt x="61" y="16"/>
                  </a:lnTo>
                  <a:lnTo>
                    <a:pt x="45" y="19"/>
                  </a:lnTo>
                  <a:lnTo>
                    <a:pt x="29" y="21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9" name="Oval 332"/>
            <p:cNvSpPr/>
            <p:nvPr/>
          </p:nvSpPr>
          <p:spPr>
            <a:xfrm rot="21120000">
              <a:off x="5844960" y="223668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0" name="Freeform 333"/>
            <p:cNvSpPr/>
            <p:nvPr/>
          </p:nvSpPr>
          <p:spPr>
            <a:xfrm>
              <a:off x="4494240" y="2382840"/>
              <a:ext cx="383760" cy="36144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242" h="228">
                  <a:moveTo>
                    <a:pt x="0" y="35"/>
                  </a:moveTo>
                  <a:lnTo>
                    <a:pt x="3" y="57"/>
                  </a:lnTo>
                  <a:lnTo>
                    <a:pt x="8" y="88"/>
                  </a:lnTo>
                  <a:lnTo>
                    <a:pt x="13" y="130"/>
                  </a:lnTo>
                  <a:lnTo>
                    <a:pt x="10" y="146"/>
                  </a:lnTo>
                  <a:lnTo>
                    <a:pt x="13" y="162"/>
                  </a:lnTo>
                  <a:lnTo>
                    <a:pt x="15" y="182"/>
                  </a:lnTo>
                  <a:lnTo>
                    <a:pt x="18" y="198"/>
                  </a:lnTo>
                  <a:lnTo>
                    <a:pt x="25" y="213"/>
                  </a:lnTo>
                  <a:lnTo>
                    <a:pt x="42" y="221"/>
                  </a:lnTo>
                  <a:lnTo>
                    <a:pt x="58" y="224"/>
                  </a:lnTo>
                  <a:lnTo>
                    <a:pt x="75" y="227"/>
                  </a:lnTo>
                  <a:lnTo>
                    <a:pt x="90" y="225"/>
                  </a:lnTo>
                  <a:lnTo>
                    <a:pt x="105" y="223"/>
                  </a:lnTo>
                  <a:lnTo>
                    <a:pt x="121" y="220"/>
                  </a:lnTo>
                  <a:lnTo>
                    <a:pt x="137" y="218"/>
                  </a:lnTo>
                  <a:lnTo>
                    <a:pt x="152" y="216"/>
                  </a:lnTo>
                  <a:lnTo>
                    <a:pt x="168" y="214"/>
                  </a:lnTo>
                  <a:lnTo>
                    <a:pt x="204" y="209"/>
                  </a:lnTo>
                  <a:lnTo>
                    <a:pt x="220" y="207"/>
                  </a:lnTo>
                  <a:lnTo>
                    <a:pt x="235" y="204"/>
                  </a:lnTo>
                  <a:lnTo>
                    <a:pt x="238" y="188"/>
                  </a:lnTo>
                  <a:lnTo>
                    <a:pt x="241" y="172"/>
                  </a:lnTo>
                  <a:lnTo>
                    <a:pt x="239" y="156"/>
                  </a:lnTo>
                  <a:lnTo>
                    <a:pt x="237" y="140"/>
                  </a:lnTo>
                  <a:lnTo>
                    <a:pt x="235" y="125"/>
                  </a:lnTo>
                  <a:lnTo>
                    <a:pt x="232" y="109"/>
                  </a:lnTo>
                  <a:lnTo>
                    <a:pt x="230" y="94"/>
                  </a:lnTo>
                  <a:lnTo>
                    <a:pt x="228" y="78"/>
                  </a:lnTo>
                  <a:lnTo>
                    <a:pt x="226" y="63"/>
                  </a:lnTo>
                  <a:lnTo>
                    <a:pt x="224" y="47"/>
                  </a:lnTo>
                  <a:lnTo>
                    <a:pt x="221" y="31"/>
                  </a:lnTo>
                  <a:lnTo>
                    <a:pt x="219" y="16"/>
                  </a:lnTo>
                  <a:lnTo>
                    <a:pt x="217" y="0"/>
                  </a:lnTo>
                  <a:lnTo>
                    <a:pt x="201" y="2"/>
                  </a:lnTo>
                  <a:lnTo>
                    <a:pt x="186" y="5"/>
                  </a:lnTo>
                  <a:lnTo>
                    <a:pt x="171" y="7"/>
                  </a:lnTo>
                  <a:lnTo>
                    <a:pt x="154" y="4"/>
                  </a:lnTo>
                  <a:lnTo>
                    <a:pt x="138" y="6"/>
                  </a:lnTo>
                  <a:lnTo>
                    <a:pt x="123" y="8"/>
                  </a:lnTo>
                  <a:lnTo>
                    <a:pt x="108" y="10"/>
                  </a:lnTo>
                  <a:lnTo>
                    <a:pt x="92" y="13"/>
                  </a:lnTo>
                  <a:lnTo>
                    <a:pt x="76" y="15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0" y="21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1" name="Oval 334"/>
            <p:cNvSpPr/>
            <p:nvPr/>
          </p:nvSpPr>
          <p:spPr>
            <a:xfrm rot="21120000">
              <a:off x="4539960" y="2419200"/>
              <a:ext cx="2808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2" name="Freeform 335"/>
            <p:cNvSpPr/>
            <p:nvPr/>
          </p:nvSpPr>
          <p:spPr>
            <a:xfrm>
              <a:off x="6124680" y="2154240"/>
              <a:ext cx="383760" cy="36144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242" h="228">
                  <a:moveTo>
                    <a:pt x="0" y="35"/>
                  </a:moveTo>
                  <a:lnTo>
                    <a:pt x="3" y="56"/>
                  </a:lnTo>
                  <a:lnTo>
                    <a:pt x="7" y="88"/>
                  </a:lnTo>
                  <a:lnTo>
                    <a:pt x="13" y="129"/>
                  </a:lnTo>
                  <a:lnTo>
                    <a:pt x="10" y="146"/>
                  </a:lnTo>
                  <a:lnTo>
                    <a:pt x="12" y="161"/>
                  </a:lnTo>
                  <a:lnTo>
                    <a:pt x="15" y="182"/>
                  </a:lnTo>
                  <a:lnTo>
                    <a:pt x="18" y="198"/>
                  </a:lnTo>
                  <a:lnTo>
                    <a:pt x="25" y="213"/>
                  </a:lnTo>
                  <a:lnTo>
                    <a:pt x="42" y="221"/>
                  </a:lnTo>
                  <a:lnTo>
                    <a:pt x="58" y="224"/>
                  </a:lnTo>
                  <a:lnTo>
                    <a:pt x="74" y="227"/>
                  </a:lnTo>
                  <a:lnTo>
                    <a:pt x="90" y="224"/>
                  </a:lnTo>
                  <a:lnTo>
                    <a:pt x="105" y="222"/>
                  </a:lnTo>
                  <a:lnTo>
                    <a:pt x="121" y="220"/>
                  </a:lnTo>
                  <a:lnTo>
                    <a:pt x="137" y="218"/>
                  </a:lnTo>
                  <a:lnTo>
                    <a:pt x="152" y="216"/>
                  </a:lnTo>
                  <a:lnTo>
                    <a:pt x="168" y="214"/>
                  </a:lnTo>
                  <a:lnTo>
                    <a:pt x="204" y="208"/>
                  </a:lnTo>
                  <a:lnTo>
                    <a:pt x="220" y="206"/>
                  </a:lnTo>
                  <a:lnTo>
                    <a:pt x="235" y="204"/>
                  </a:lnTo>
                  <a:lnTo>
                    <a:pt x="238" y="188"/>
                  </a:lnTo>
                  <a:lnTo>
                    <a:pt x="241" y="172"/>
                  </a:lnTo>
                  <a:lnTo>
                    <a:pt x="239" y="156"/>
                  </a:lnTo>
                  <a:lnTo>
                    <a:pt x="237" y="140"/>
                  </a:lnTo>
                  <a:lnTo>
                    <a:pt x="235" y="125"/>
                  </a:lnTo>
                  <a:lnTo>
                    <a:pt x="232" y="109"/>
                  </a:lnTo>
                  <a:lnTo>
                    <a:pt x="230" y="93"/>
                  </a:lnTo>
                  <a:lnTo>
                    <a:pt x="228" y="78"/>
                  </a:lnTo>
                  <a:lnTo>
                    <a:pt x="226" y="62"/>
                  </a:lnTo>
                  <a:lnTo>
                    <a:pt x="224" y="47"/>
                  </a:lnTo>
                  <a:lnTo>
                    <a:pt x="221" y="31"/>
                  </a:lnTo>
                  <a:lnTo>
                    <a:pt x="219" y="15"/>
                  </a:lnTo>
                  <a:lnTo>
                    <a:pt x="217" y="0"/>
                  </a:lnTo>
                  <a:lnTo>
                    <a:pt x="201" y="2"/>
                  </a:lnTo>
                  <a:lnTo>
                    <a:pt x="186" y="4"/>
                  </a:lnTo>
                  <a:lnTo>
                    <a:pt x="170" y="6"/>
                  </a:lnTo>
                  <a:lnTo>
                    <a:pt x="154" y="3"/>
                  </a:lnTo>
                  <a:lnTo>
                    <a:pt x="138" y="6"/>
                  </a:lnTo>
                  <a:lnTo>
                    <a:pt x="123" y="8"/>
                  </a:lnTo>
                  <a:lnTo>
                    <a:pt x="107" y="10"/>
                  </a:lnTo>
                  <a:lnTo>
                    <a:pt x="92" y="12"/>
                  </a:lnTo>
                  <a:lnTo>
                    <a:pt x="76" y="14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0" y="21"/>
                  </a:lnTo>
                  <a:lnTo>
                    <a:pt x="0" y="35"/>
                  </a:lnTo>
                  <a:lnTo>
                    <a:pt x="0" y="35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3" name="Oval 336"/>
            <p:cNvSpPr/>
            <p:nvPr/>
          </p:nvSpPr>
          <p:spPr>
            <a:xfrm rot="21120000">
              <a:off x="6170400" y="219060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04" name="Group 339"/>
            <p:cNvGrpSpPr/>
            <p:nvPr/>
          </p:nvGrpSpPr>
          <p:grpSpPr>
            <a:xfrm>
              <a:off x="4915080" y="2760840"/>
              <a:ext cx="391680" cy="371160"/>
              <a:chOff x="4915080" y="2760840"/>
              <a:chExt cx="391680" cy="371160"/>
            </a:xfrm>
          </p:grpSpPr>
          <p:sp>
            <p:nvSpPr>
              <p:cNvPr id="2905" name="Freeform 337"/>
              <p:cNvSpPr/>
              <p:nvPr/>
            </p:nvSpPr>
            <p:spPr>
              <a:xfrm>
                <a:off x="4915080" y="2760840"/>
                <a:ext cx="391680" cy="3711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247" h="234">
                    <a:moveTo>
                      <a:pt x="28" y="227"/>
                    </a:moveTo>
                    <a:lnTo>
                      <a:pt x="25" y="206"/>
                    </a:lnTo>
                    <a:lnTo>
                      <a:pt x="20" y="174"/>
                    </a:lnTo>
                    <a:lnTo>
                      <a:pt x="15" y="133"/>
                    </a:lnTo>
                    <a:lnTo>
                      <a:pt x="7" y="118"/>
                    </a:lnTo>
                    <a:lnTo>
                      <a:pt x="5" y="102"/>
                    </a:lnTo>
                    <a:lnTo>
                      <a:pt x="2" y="82"/>
                    </a:lnTo>
                    <a:lnTo>
                      <a:pt x="0" y="66"/>
                    </a:lnTo>
                    <a:lnTo>
                      <a:pt x="3" y="49"/>
                    </a:lnTo>
                    <a:lnTo>
                      <a:pt x="17" y="37"/>
                    </a:lnTo>
                    <a:lnTo>
                      <a:pt x="32" y="30"/>
                    </a:lnTo>
                    <a:lnTo>
                      <a:pt x="46" y="22"/>
                    </a:lnTo>
                    <a:lnTo>
                      <a:pt x="62" y="20"/>
                    </a:lnTo>
                    <a:lnTo>
                      <a:pt x="77" y="18"/>
                    </a:lnTo>
                    <a:lnTo>
                      <a:pt x="93" y="16"/>
                    </a:lnTo>
                    <a:lnTo>
                      <a:pt x="109" y="14"/>
                    </a:lnTo>
                    <a:lnTo>
                      <a:pt x="124" y="11"/>
                    </a:lnTo>
                    <a:lnTo>
                      <a:pt x="140" y="9"/>
                    </a:lnTo>
                    <a:lnTo>
                      <a:pt x="176" y="4"/>
                    </a:lnTo>
                    <a:lnTo>
                      <a:pt x="192" y="2"/>
                    </a:lnTo>
                    <a:lnTo>
                      <a:pt x="207" y="0"/>
                    </a:lnTo>
                    <a:lnTo>
                      <a:pt x="214" y="14"/>
                    </a:lnTo>
                    <a:lnTo>
                      <a:pt x="222" y="29"/>
                    </a:lnTo>
                    <a:lnTo>
                      <a:pt x="224" y="45"/>
                    </a:lnTo>
                    <a:lnTo>
                      <a:pt x="226" y="61"/>
                    </a:lnTo>
                    <a:lnTo>
                      <a:pt x="228" y="76"/>
                    </a:lnTo>
                    <a:lnTo>
                      <a:pt x="231" y="92"/>
                    </a:lnTo>
                    <a:lnTo>
                      <a:pt x="233" y="108"/>
                    </a:lnTo>
                    <a:lnTo>
                      <a:pt x="235" y="123"/>
                    </a:lnTo>
                    <a:lnTo>
                      <a:pt x="237" y="139"/>
                    </a:lnTo>
                    <a:lnTo>
                      <a:pt x="239" y="154"/>
                    </a:lnTo>
                    <a:lnTo>
                      <a:pt x="242" y="170"/>
                    </a:lnTo>
                    <a:lnTo>
                      <a:pt x="244" y="186"/>
                    </a:lnTo>
                    <a:lnTo>
                      <a:pt x="246" y="201"/>
                    </a:lnTo>
                    <a:lnTo>
                      <a:pt x="230" y="203"/>
                    </a:lnTo>
                    <a:lnTo>
                      <a:pt x="215" y="205"/>
                    </a:lnTo>
                    <a:lnTo>
                      <a:pt x="199" y="208"/>
                    </a:lnTo>
                    <a:lnTo>
                      <a:pt x="185" y="215"/>
                    </a:lnTo>
                    <a:lnTo>
                      <a:pt x="169" y="217"/>
                    </a:lnTo>
                    <a:lnTo>
                      <a:pt x="154" y="219"/>
                    </a:lnTo>
                    <a:lnTo>
                      <a:pt x="138" y="222"/>
                    </a:lnTo>
                    <a:lnTo>
                      <a:pt x="122" y="224"/>
                    </a:lnTo>
                    <a:lnTo>
                      <a:pt x="107" y="226"/>
                    </a:lnTo>
                    <a:lnTo>
                      <a:pt x="91" y="228"/>
                    </a:lnTo>
                    <a:lnTo>
                      <a:pt x="76" y="230"/>
                    </a:lnTo>
                    <a:lnTo>
                      <a:pt x="60" y="233"/>
                    </a:lnTo>
                    <a:lnTo>
                      <a:pt x="28" y="227"/>
                    </a:lnTo>
                    <a:lnTo>
                      <a:pt x="28" y="22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6" name="Oval 338"/>
              <p:cNvSpPr/>
              <p:nvPr/>
            </p:nvSpPr>
            <p:spPr>
              <a:xfrm rot="21120000">
                <a:off x="4995720" y="3030120"/>
                <a:ext cx="2808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07" name="Group 342"/>
            <p:cNvGrpSpPr/>
            <p:nvPr/>
          </p:nvGrpSpPr>
          <p:grpSpPr>
            <a:xfrm>
              <a:off x="5241960" y="2714760"/>
              <a:ext cx="391680" cy="371160"/>
              <a:chOff x="5241960" y="2714760"/>
              <a:chExt cx="391680" cy="371160"/>
            </a:xfrm>
          </p:grpSpPr>
          <p:sp>
            <p:nvSpPr>
              <p:cNvPr id="2908" name="Freeform 340"/>
              <p:cNvSpPr/>
              <p:nvPr/>
            </p:nvSpPr>
            <p:spPr>
              <a:xfrm>
                <a:off x="5241960" y="2714760"/>
                <a:ext cx="391680" cy="3711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247" h="234">
                    <a:moveTo>
                      <a:pt x="28" y="227"/>
                    </a:moveTo>
                    <a:lnTo>
                      <a:pt x="25" y="206"/>
                    </a:lnTo>
                    <a:lnTo>
                      <a:pt x="20" y="174"/>
                    </a:lnTo>
                    <a:lnTo>
                      <a:pt x="15" y="133"/>
                    </a:lnTo>
                    <a:lnTo>
                      <a:pt x="7" y="118"/>
                    </a:lnTo>
                    <a:lnTo>
                      <a:pt x="5" y="102"/>
                    </a:lnTo>
                    <a:lnTo>
                      <a:pt x="2" y="82"/>
                    </a:lnTo>
                    <a:lnTo>
                      <a:pt x="0" y="66"/>
                    </a:lnTo>
                    <a:lnTo>
                      <a:pt x="3" y="49"/>
                    </a:lnTo>
                    <a:lnTo>
                      <a:pt x="17" y="37"/>
                    </a:lnTo>
                    <a:lnTo>
                      <a:pt x="32" y="30"/>
                    </a:lnTo>
                    <a:lnTo>
                      <a:pt x="46" y="22"/>
                    </a:lnTo>
                    <a:lnTo>
                      <a:pt x="62" y="20"/>
                    </a:lnTo>
                    <a:lnTo>
                      <a:pt x="77" y="18"/>
                    </a:lnTo>
                    <a:lnTo>
                      <a:pt x="93" y="16"/>
                    </a:lnTo>
                    <a:lnTo>
                      <a:pt x="109" y="14"/>
                    </a:lnTo>
                    <a:lnTo>
                      <a:pt x="124" y="11"/>
                    </a:lnTo>
                    <a:lnTo>
                      <a:pt x="140" y="9"/>
                    </a:lnTo>
                    <a:lnTo>
                      <a:pt x="176" y="4"/>
                    </a:lnTo>
                    <a:lnTo>
                      <a:pt x="192" y="2"/>
                    </a:lnTo>
                    <a:lnTo>
                      <a:pt x="207" y="0"/>
                    </a:lnTo>
                    <a:lnTo>
                      <a:pt x="214" y="14"/>
                    </a:lnTo>
                    <a:lnTo>
                      <a:pt x="222" y="29"/>
                    </a:lnTo>
                    <a:lnTo>
                      <a:pt x="224" y="45"/>
                    </a:lnTo>
                    <a:lnTo>
                      <a:pt x="226" y="61"/>
                    </a:lnTo>
                    <a:lnTo>
                      <a:pt x="228" y="76"/>
                    </a:lnTo>
                    <a:lnTo>
                      <a:pt x="231" y="92"/>
                    </a:lnTo>
                    <a:lnTo>
                      <a:pt x="233" y="108"/>
                    </a:lnTo>
                    <a:lnTo>
                      <a:pt x="235" y="123"/>
                    </a:lnTo>
                    <a:lnTo>
                      <a:pt x="237" y="139"/>
                    </a:lnTo>
                    <a:lnTo>
                      <a:pt x="239" y="154"/>
                    </a:lnTo>
                    <a:lnTo>
                      <a:pt x="242" y="170"/>
                    </a:lnTo>
                    <a:lnTo>
                      <a:pt x="244" y="186"/>
                    </a:lnTo>
                    <a:lnTo>
                      <a:pt x="246" y="201"/>
                    </a:lnTo>
                    <a:lnTo>
                      <a:pt x="230" y="203"/>
                    </a:lnTo>
                    <a:lnTo>
                      <a:pt x="215" y="205"/>
                    </a:lnTo>
                    <a:lnTo>
                      <a:pt x="199" y="208"/>
                    </a:lnTo>
                    <a:lnTo>
                      <a:pt x="184" y="215"/>
                    </a:lnTo>
                    <a:lnTo>
                      <a:pt x="169" y="217"/>
                    </a:lnTo>
                    <a:lnTo>
                      <a:pt x="154" y="219"/>
                    </a:lnTo>
                    <a:lnTo>
                      <a:pt x="138" y="222"/>
                    </a:lnTo>
                    <a:lnTo>
                      <a:pt x="122" y="224"/>
                    </a:lnTo>
                    <a:lnTo>
                      <a:pt x="107" y="226"/>
                    </a:lnTo>
                    <a:lnTo>
                      <a:pt x="91" y="228"/>
                    </a:lnTo>
                    <a:lnTo>
                      <a:pt x="76" y="230"/>
                    </a:lnTo>
                    <a:lnTo>
                      <a:pt x="60" y="233"/>
                    </a:lnTo>
                    <a:lnTo>
                      <a:pt x="28" y="227"/>
                    </a:lnTo>
                    <a:lnTo>
                      <a:pt x="28" y="22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9" name="Oval 341"/>
              <p:cNvSpPr/>
              <p:nvPr/>
            </p:nvSpPr>
            <p:spPr>
              <a:xfrm rot="21120000">
                <a:off x="5321160" y="2984040"/>
                <a:ext cx="2808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0" name="Group 345"/>
            <p:cNvGrpSpPr/>
            <p:nvPr/>
          </p:nvGrpSpPr>
          <p:grpSpPr>
            <a:xfrm>
              <a:off x="5567400" y="2668680"/>
              <a:ext cx="391680" cy="371160"/>
              <a:chOff x="5567400" y="2668680"/>
              <a:chExt cx="391680" cy="371160"/>
            </a:xfrm>
          </p:grpSpPr>
          <p:sp>
            <p:nvSpPr>
              <p:cNvPr id="2911" name="Freeform 343"/>
              <p:cNvSpPr/>
              <p:nvPr/>
            </p:nvSpPr>
            <p:spPr>
              <a:xfrm>
                <a:off x="5567400" y="2668680"/>
                <a:ext cx="391680" cy="3711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247" h="234">
                    <a:moveTo>
                      <a:pt x="28" y="228"/>
                    </a:moveTo>
                    <a:lnTo>
                      <a:pt x="25" y="206"/>
                    </a:lnTo>
                    <a:lnTo>
                      <a:pt x="20" y="175"/>
                    </a:lnTo>
                    <a:lnTo>
                      <a:pt x="15" y="133"/>
                    </a:lnTo>
                    <a:lnTo>
                      <a:pt x="7" y="118"/>
                    </a:lnTo>
                    <a:lnTo>
                      <a:pt x="5" y="102"/>
                    </a:lnTo>
                    <a:lnTo>
                      <a:pt x="2" y="82"/>
                    </a:lnTo>
                    <a:lnTo>
                      <a:pt x="0" y="66"/>
                    </a:lnTo>
                    <a:lnTo>
                      <a:pt x="3" y="50"/>
                    </a:lnTo>
                    <a:lnTo>
                      <a:pt x="17" y="37"/>
                    </a:lnTo>
                    <a:lnTo>
                      <a:pt x="32" y="30"/>
                    </a:lnTo>
                    <a:lnTo>
                      <a:pt x="46" y="23"/>
                    </a:lnTo>
                    <a:lnTo>
                      <a:pt x="62" y="20"/>
                    </a:lnTo>
                    <a:lnTo>
                      <a:pt x="77" y="18"/>
                    </a:lnTo>
                    <a:lnTo>
                      <a:pt x="93" y="16"/>
                    </a:lnTo>
                    <a:lnTo>
                      <a:pt x="109" y="14"/>
                    </a:lnTo>
                    <a:lnTo>
                      <a:pt x="124" y="12"/>
                    </a:lnTo>
                    <a:lnTo>
                      <a:pt x="140" y="10"/>
                    </a:lnTo>
                    <a:lnTo>
                      <a:pt x="176" y="4"/>
                    </a:lnTo>
                    <a:lnTo>
                      <a:pt x="192" y="2"/>
                    </a:lnTo>
                    <a:lnTo>
                      <a:pt x="207" y="0"/>
                    </a:lnTo>
                    <a:lnTo>
                      <a:pt x="214" y="15"/>
                    </a:lnTo>
                    <a:lnTo>
                      <a:pt x="222" y="30"/>
                    </a:lnTo>
                    <a:lnTo>
                      <a:pt x="224" y="45"/>
                    </a:lnTo>
                    <a:lnTo>
                      <a:pt x="226" y="61"/>
                    </a:lnTo>
                    <a:lnTo>
                      <a:pt x="228" y="76"/>
                    </a:lnTo>
                    <a:lnTo>
                      <a:pt x="231" y="92"/>
                    </a:lnTo>
                    <a:lnTo>
                      <a:pt x="233" y="108"/>
                    </a:lnTo>
                    <a:lnTo>
                      <a:pt x="235" y="124"/>
                    </a:lnTo>
                    <a:lnTo>
                      <a:pt x="237" y="139"/>
                    </a:lnTo>
                    <a:lnTo>
                      <a:pt x="239" y="155"/>
                    </a:lnTo>
                    <a:lnTo>
                      <a:pt x="242" y="170"/>
                    </a:lnTo>
                    <a:lnTo>
                      <a:pt x="244" y="186"/>
                    </a:lnTo>
                    <a:lnTo>
                      <a:pt x="246" y="201"/>
                    </a:lnTo>
                    <a:lnTo>
                      <a:pt x="230" y="203"/>
                    </a:lnTo>
                    <a:lnTo>
                      <a:pt x="215" y="206"/>
                    </a:lnTo>
                    <a:lnTo>
                      <a:pt x="199" y="208"/>
                    </a:lnTo>
                    <a:lnTo>
                      <a:pt x="184" y="215"/>
                    </a:lnTo>
                    <a:lnTo>
                      <a:pt x="169" y="217"/>
                    </a:lnTo>
                    <a:lnTo>
                      <a:pt x="154" y="220"/>
                    </a:lnTo>
                    <a:lnTo>
                      <a:pt x="138" y="222"/>
                    </a:lnTo>
                    <a:lnTo>
                      <a:pt x="122" y="224"/>
                    </a:lnTo>
                    <a:lnTo>
                      <a:pt x="107" y="226"/>
                    </a:lnTo>
                    <a:lnTo>
                      <a:pt x="91" y="228"/>
                    </a:lnTo>
                    <a:lnTo>
                      <a:pt x="76" y="231"/>
                    </a:lnTo>
                    <a:lnTo>
                      <a:pt x="60" y="233"/>
                    </a:lnTo>
                    <a:lnTo>
                      <a:pt x="28" y="228"/>
                    </a:lnTo>
                    <a:lnTo>
                      <a:pt x="28" y="228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2" name="Oval 344"/>
              <p:cNvSpPr/>
              <p:nvPr/>
            </p:nvSpPr>
            <p:spPr>
              <a:xfrm rot="21120000">
                <a:off x="5646600" y="2938320"/>
                <a:ext cx="282240" cy="601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3" name="Group 348"/>
            <p:cNvGrpSpPr/>
            <p:nvPr/>
          </p:nvGrpSpPr>
          <p:grpSpPr>
            <a:xfrm>
              <a:off x="5894280" y="2622600"/>
              <a:ext cx="391680" cy="371160"/>
              <a:chOff x="5894280" y="2622600"/>
              <a:chExt cx="391680" cy="371160"/>
            </a:xfrm>
          </p:grpSpPr>
          <p:sp>
            <p:nvSpPr>
              <p:cNvPr id="2914" name="Freeform 346"/>
              <p:cNvSpPr/>
              <p:nvPr/>
            </p:nvSpPr>
            <p:spPr>
              <a:xfrm>
                <a:off x="5894280" y="2622600"/>
                <a:ext cx="391680" cy="3711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247" h="234">
                    <a:moveTo>
                      <a:pt x="28" y="228"/>
                    </a:moveTo>
                    <a:lnTo>
                      <a:pt x="25" y="206"/>
                    </a:lnTo>
                    <a:lnTo>
                      <a:pt x="20" y="175"/>
                    </a:lnTo>
                    <a:lnTo>
                      <a:pt x="14" y="133"/>
                    </a:lnTo>
                    <a:lnTo>
                      <a:pt x="7" y="118"/>
                    </a:lnTo>
                    <a:lnTo>
                      <a:pt x="5" y="102"/>
                    </a:lnTo>
                    <a:lnTo>
                      <a:pt x="2" y="82"/>
                    </a:lnTo>
                    <a:lnTo>
                      <a:pt x="0" y="66"/>
                    </a:lnTo>
                    <a:lnTo>
                      <a:pt x="3" y="50"/>
                    </a:lnTo>
                    <a:lnTo>
                      <a:pt x="17" y="37"/>
                    </a:lnTo>
                    <a:lnTo>
                      <a:pt x="31" y="30"/>
                    </a:lnTo>
                    <a:lnTo>
                      <a:pt x="46" y="23"/>
                    </a:lnTo>
                    <a:lnTo>
                      <a:pt x="62" y="20"/>
                    </a:lnTo>
                    <a:lnTo>
                      <a:pt x="77" y="18"/>
                    </a:lnTo>
                    <a:lnTo>
                      <a:pt x="93" y="16"/>
                    </a:lnTo>
                    <a:lnTo>
                      <a:pt x="109" y="14"/>
                    </a:lnTo>
                    <a:lnTo>
                      <a:pt x="124" y="12"/>
                    </a:lnTo>
                    <a:lnTo>
                      <a:pt x="140" y="10"/>
                    </a:lnTo>
                    <a:lnTo>
                      <a:pt x="176" y="4"/>
                    </a:lnTo>
                    <a:lnTo>
                      <a:pt x="192" y="2"/>
                    </a:lnTo>
                    <a:lnTo>
                      <a:pt x="207" y="0"/>
                    </a:lnTo>
                    <a:lnTo>
                      <a:pt x="214" y="15"/>
                    </a:lnTo>
                    <a:lnTo>
                      <a:pt x="222" y="30"/>
                    </a:lnTo>
                    <a:lnTo>
                      <a:pt x="224" y="45"/>
                    </a:lnTo>
                    <a:lnTo>
                      <a:pt x="226" y="61"/>
                    </a:lnTo>
                    <a:lnTo>
                      <a:pt x="228" y="76"/>
                    </a:lnTo>
                    <a:lnTo>
                      <a:pt x="231" y="92"/>
                    </a:lnTo>
                    <a:lnTo>
                      <a:pt x="233" y="108"/>
                    </a:lnTo>
                    <a:lnTo>
                      <a:pt x="235" y="124"/>
                    </a:lnTo>
                    <a:lnTo>
                      <a:pt x="237" y="139"/>
                    </a:lnTo>
                    <a:lnTo>
                      <a:pt x="239" y="155"/>
                    </a:lnTo>
                    <a:lnTo>
                      <a:pt x="242" y="170"/>
                    </a:lnTo>
                    <a:lnTo>
                      <a:pt x="244" y="186"/>
                    </a:lnTo>
                    <a:lnTo>
                      <a:pt x="246" y="201"/>
                    </a:lnTo>
                    <a:lnTo>
                      <a:pt x="230" y="204"/>
                    </a:lnTo>
                    <a:lnTo>
                      <a:pt x="215" y="206"/>
                    </a:lnTo>
                    <a:lnTo>
                      <a:pt x="199" y="208"/>
                    </a:lnTo>
                    <a:lnTo>
                      <a:pt x="184" y="215"/>
                    </a:lnTo>
                    <a:lnTo>
                      <a:pt x="169" y="218"/>
                    </a:lnTo>
                    <a:lnTo>
                      <a:pt x="154" y="220"/>
                    </a:lnTo>
                    <a:lnTo>
                      <a:pt x="138" y="222"/>
                    </a:lnTo>
                    <a:lnTo>
                      <a:pt x="122" y="224"/>
                    </a:lnTo>
                    <a:lnTo>
                      <a:pt x="107" y="226"/>
                    </a:lnTo>
                    <a:lnTo>
                      <a:pt x="91" y="228"/>
                    </a:lnTo>
                    <a:lnTo>
                      <a:pt x="76" y="231"/>
                    </a:lnTo>
                    <a:lnTo>
                      <a:pt x="60" y="233"/>
                    </a:lnTo>
                    <a:lnTo>
                      <a:pt x="28" y="228"/>
                    </a:lnTo>
                    <a:lnTo>
                      <a:pt x="28" y="228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5" name="Oval 347"/>
              <p:cNvSpPr/>
              <p:nvPr/>
            </p:nvSpPr>
            <p:spPr>
              <a:xfrm rot="21120000">
                <a:off x="5973840" y="2892240"/>
                <a:ext cx="2808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6" name="Group 351"/>
            <p:cNvGrpSpPr/>
            <p:nvPr/>
          </p:nvGrpSpPr>
          <p:grpSpPr>
            <a:xfrm>
              <a:off x="4587840" y="2806560"/>
              <a:ext cx="391680" cy="369360"/>
              <a:chOff x="4587840" y="2806560"/>
              <a:chExt cx="391680" cy="369360"/>
            </a:xfrm>
          </p:grpSpPr>
          <p:sp>
            <p:nvSpPr>
              <p:cNvPr id="2917" name="Freeform 349"/>
              <p:cNvSpPr/>
              <p:nvPr/>
            </p:nvSpPr>
            <p:spPr>
              <a:xfrm>
                <a:off x="4587840" y="2806560"/>
                <a:ext cx="391680" cy="3693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369360"/>
                  <a:gd name="textAreaBottom" fmla="*/ 369720 h 369360"/>
                </a:gdLst>
                <a:ahLst/>
                <a:rect l="textAreaLeft" t="textAreaTop" r="textAreaRight" b="textAreaBottom"/>
                <a:pathLst>
                  <a:path w="247" h="233">
                    <a:moveTo>
                      <a:pt x="28" y="227"/>
                    </a:moveTo>
                    <a:lnTo>
                      <a:pt x="25" y="206"/>
                    </a:lnTo>
                    <a:lnTo>
                      <a:pt x="20" y="174"/>
                    </a:lnTo>
                    <a:lnTo>
                      <a:pt x="15" y="133"/>
                    </a:lnTo>
                    <a:lnTo>
                      <a:pt x="7" y="118"/>
                    </a:lnTo>
                    <a:lnTo>
                      <a:pt x="5" y="102"/>
                    </a:lnTo>
                    <a:lnTo>
                      <a:pt x="2" y="82"/>
                    </a:lnTo>
                    <a:lnTo>
                      <a:pt x="0" y="66"/>
                    </a:lnTo>
                    <a:lnTo>
                      <a:pt x="3" y="49"/>
                    </a:lnTo>
                    <a:lnTo>
                      <a:pt x="17" y="37"/>
                    </a:lnTo>
                    <a:lnTo>
                      <a:pt x="32" y="30"/>
                    </a:lnTo>
                    <a:lnTo>
                      <a:pt x="47" y="22"/>
                    </a:lnTo>
                    <a:lnTo>
                      <a:pt x="62" y="20"/>
                    </a:lnTo>
                    <a:lnTo>
                      <a:pt x="77" y="18"/>
                    </a:lnTo>
                    <a:lnTo>
                      <a:pt x="93" y="16"/>
                    </a:lnTo>
                    <a:lnTo>
                      <a:pt x="109" y="14"/>
                    </a:lnTo>
                    <a:lnTo>
                      <a:pt x="124" y="11"/>
                    </a:lnTo>
                    <a:lnTo>
                      <a:pt x="140" y="9"/>
                    </a:lnTo>
                    <a:lnTo>
                      <a:pt x="176" y="4"/>
                    </a:lnTo>
                    <a:lnTo>
                      <a:pt x="192" y="2"/>
                    </a:lnTo>
                    <a:lnTo>
                      <a:pt x="207" y="0"/>
                    </a:lnTo>
                    <a:lnTo>
                      <a:pt x="214" y="14"/>
                    </a:lnTo>
                    <a:lnTo>
                      <a:pt x="222" y="29"/>
                    </a:lnTo>
                    <a:lnTo>
                      <a:pt x="224" y="45"/>
                    </a:lnTo>
                    <a:lnTo>
                      <a:pt x="226" y="61"/>
                    </a:lnTo>
                    <a:lnTo>
                      <a:pt x="228" y="76"/>
                    </a:lnTo>
                    <a:lnTo>
                      <a:pt x="231" y="92"/>
                    </a:lnTo>
                    <a:lnTo>
                      <a:pt x="233" y="107"/>
                    </a:lnTo>
                    <a:lnTo>
                      <a:pt x="235" y="123"/>
                    </a:lnTo>
                    <a:lnTo>
                      <a:pt x="237" y="138"/>
                    </a:lnTo>
                    <a:lnTo>
                      <a:pt x="239" y="154"/>
                    </a:lnTo>
                    <a:lnTo>
                      <a:pt x="242" y="170"/>
                    </a:lnTo>
                    <a:lnTo>
                      <a:pt x="244" y="186"/>
                    </a:lnTo>
                    <a:lnTo>
                      <a:pt x="246" y="201"/>
                    </a:lnTo>
                    <a:lnTo>
                      <a:pt x="230" y="203"/>
                    </a:lnTo>
                    <a:lnTo>
                      <a:pt x="215" y="205"/>
                    </a:lnTo>
                    <a:lnTo>
                      <a:pt x="199" y="208"/>
                    </a:lnTo>
                    <a:lnTo>
                      <a:pt x="185" y="215"/>
                    </a:lnTo>
                    <a:lnTo>
                      <a:pt x="169" y="217"/>
                    </a:lnTo>
                    <a:lnTo>
                      <a:pt x="154" y="219"/>
                    </a:lnTo>
                    <a:lnTo>
                      <a:pt x="138" y="221"/>
                    </a:lnTo>
                    <a:lnTo>
                      <a:pt x="122" y="224"/>
                    </a:lnTo>
                    <a:lnTo>
                      <a:pt x="107" y="226"/>
                    </a:lnTo>
                    <a:lnTo>
                      <a:pt x="91" y="228"/>
                    </a:lnTo>
                    <a:lnTo>
                      <a:pt x="76" y="230"/>
                    </a:lnTo>
                    <a:lnTo>
                      <a:pt x="60" y="232"/>
                    </a:lnTo>
                    <a:lnTo>
                      <a:pt x="28" y="227"/>
                    </a:lnTo>
                    <a:lnTo>
                      <a:pt x="28" y="22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8" name="Oval 350"/>
              <p:cNvSpPr/>
              <p:nvPr/>
            </p:nvSpPr>
            <p:spPr>
              <a:xfrm rot="21120000">
                <a:off x="4670280" y="3076200"/>
                <a:ext cx="280800" cy="601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9" name="Group 354"/>
            <p:cNvGrpSpPr/>
            <p:nvPr/>
          </p:nvGrpSpPr>
          <p:grpSpPr>
            <a:xfrm>
              <a:off x="6219720" y="2576520"/>
              <a:ext cx="391680" cy="371160"/>
              <a:chOff x="6219720" y="2576520"/>
              <a:chExt cx="391680" cy="371160"/>
            </a:xfrm>
          </p:grpSpPr>
          <p:sp>
            <p:nvSpPr>
              <p:cNvPr id="2920" name="Freeform 352"/>
              <p:cNvSpPr/>
              <p:nvPr/>
            </p:nvSpPr>
            <p:spPr>
              <a:xfrm>
                <a:off x="6219720" y="2576520"/>
                <a:ext cx="391680" cy="3711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247" h="234">
                    <a:moveTo>
                      <a:pt x="28" y="228"/>
                    </a:moveTo>
                    <a:lnTo>
                      <a:pt x="25" y="206"/>
                    </a:lnTo>
                    <a:lnTo>
                      <a:pt x="20" y="175"/>
                    </a:lnTo>
                    <a:lnTo>
                      <a:pt x="14" y="133"/>
                    </a:lnTo>
                    <a:lnTo>
                      <a:pt x="7" y="118"/>
                    </a:lnTo>
                    <a:lnTo>
                      <a:pt x="5" y="103"/>
                    </a:lnTo>
                    <a:lnTo>
                      <a:pt x="2" y="82"/>
                    </a:lnTo>
                    <a:lnTo>
                      <a:pt x="0" y="66"/>
                    </a:lnTo>
                    <a:lnTo>
                      <a:pt x="3" y="50"/>
                    </a:lnTo>
                    <a:lnTo>
                      <a:pt x="17" y="37"/>
                    </a:lnTo>
                    <a:lnTo>
                      <a:pt x="31" y="30"/>
                    </a:lnTo>
                    <a:lnTo>
                      <a:pt x="46" y="23"/>
                    </a:lnTo>
                    <a:lnTo>
                      <a:pt x="62" y="21"/>
                    </a:lnTo>
                    <a:lnTo>
                      <a:pt x="77" y="19"/>
                    </a:lnTo>
                    <a:lnTo>
                      <a:pt x="93" y="16"/>
                    </a:lnTo>
                    <a:lnTo>
                      <a:pt x="109" y="14"/>
                    </a:lnTo>
                    <a:lnTo>
                      <a:pt x="124" y="12"/>
                    </a:lnTo>
                    <a:lnTo>
                      <a:pt x="140" y="10"/>
                    </a:lnTo>
                    <a:lnTo>
                      <a:pt x="176" y="5"/>
                    </a:lnTo>
                    <a:lnTo>
                      <a:pt x="192" y="2"/>
                    </a:lnTo>
                    <a:lnTo>
                      <a:pt x="207" y="0"/>
                    </a:lnTo>
                    <a:lnTo>
                      <a:pt x="214" y="15"/>
                    </a:lnTo>
                    <a:lnTo>
                      <a:pt x="222" y="30"/>
                    </a:lnTo>
                    <a:lnTo>
                      <a:pt x="224" y="46"/>
                    </a:lnTo>
                    <a:lnTo>
                      <a:pt x="226" y="61"/>
                    </a:lnTo>
                    <a:lnTo>
                      <a:pt x="228" y="77"/>
                    </a:lnTo>
                    <a:lnTo>
                      <a:pt x="231" y="92"/>
                    </a:lnTo>
                    <a:lnTo>
                      <a:pt x="233" y="108"/>
                    </a:lnTo>
                    <a:lnTo>
                      <a:pt x="235" y="124"/>
                    </a:lnTo>
                    <a:lnTo>
                      <a:pt x="237" y="139"/>
                    </a:lnTo>
                    <a:lnTo>
                      <a:pt x="239" y="155"/>
                    </a:lnTo>
                    <a:lnTo>
                      <a:pt x="242" y="171"/>
                    </a:lnTo>
                    <a:lnTo>
                      <a:pt x="244" y="186"/>
                    </a:lnTo>
                    <a:lnTo>
                      <a:pt x="246" y="202"/>
                    </a:lnTo>
                    <a:lnTo>
                      <a:pt x="230" y="204"/>
                    </a:lnTo>
                    <a:lnTo>
                      <a:pt x="215" y="206"/>
                    </a:lnTo>
                    <a:lnTo>
                      <a:pt x="199" y="208"/>
                    </a:lnTo>
                    <a:lnTo>
                      <a:pt x="184" y="216"/>
                    </a:lnTo>
                    <a:lnTo>
                      <a:pt x="169" y="218"/>
                    </a:lnTo>
                    <a:lnTo>
                      <a:pt x="154" y="220"/>
                    </a:lnTo>
                    <a:lnTo>
                      <a:pt x="138" y="222"/>
                    </a:lnTo>
                    <a:lnTo>
                      <a:pt x="122" y="224"/>
                    </a:lnTo>
                    <a:lnTo>
                      <a:pt x="107" y="226"/>
                    </a:lnTo>
                    <a:lnTo>
                      <a:pt x="91" y="229"/>
                    </a:lnTo>
                    <a:lnTo>
                      <a:pt x="76" y="231"/>
                    </a:lnTo>
                    <a:lnTo>
                      <a:pt x="60" y="233"/>
                    </a:lnTo>
                    <a:lnTo>
                      <a:pt x="28" y="228"/>
                    </a:lnTo>
                    <a:lnTo>
                      <a:pt x="28" y="228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1" name="Oval 353"/>
              <p:cNvSpPr/>
              <p:nvPr/>
            </p:nvSpPr>
            <p:spPr>
              <a:xfrm rot="21120000">
                <a:off x="6298920" y="2847600"/>
                <a:ext cx="282240" cy="5832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22" name="Freeform 355"/>
            <p:cNvSpPr/>
            <p:nvPr/>
          </p:nvSpPr>
          <p:spPr>
            <a:xfrm>
              <a:off x="5969160" y="2101680"/>
              <a:ext cx="985320" cy="941040"/>
            </a:xfrm>
            <a:custGeom>
              <a:avLst/>
              <a:gdLst>
                <a:gd name="textAreaLeft" fmla="*/ 0 w 985320"/>
                <a:gd name="textAreaRight" fmla="*/ 985680 w 985320"/>
                <a:gd name="textAreaTop" fmla="*/ 0 h 941040"/>
                <a:gd name="textAreaBottom" fmla="*/ 941400 h 941040"/>
              </a:gdLst>
              <a:ahLst/>
              <a:rect l="textAreaLeft" t="textAreaTop" r="textAreaRight" b="textAreaBottom"/>
              <a:pathLst>
                <a:path w="621" h="593">
                  <a:moveTo>
                    <a:pt x="0" y="36"/>
                  </a:moveTo>
                  <a:lnTo>
                    <a:pt x="24" y="48"/>
                  </a:lnTo>
                  <a:lnTo>
                    <a:pt x="40" y="51"/>
                  </a:lnTo>
                  <a:lnTo>
                    <a:pt x="56" y="54"/>
                  </a:lnTo>
                  <a:lnTo>
                    <a:pt x="72" y="52"/>
                  </a:lnTo>
                  <a:lnTo>
                    <a:pt x="88" y="55"/>
                  </a:lnTo>
                  <a:lnTo>
                    <a:pt x="104" y="52"/>
                  </a:lnTo>
                  <a:lnTo>
                    <a:pt x="119" y="50"/>
                  </a:lnTo>
                  <a:lnTo>
                    <a:pt x="135" y="48"/>
                  </a:lnTo>
                  <a:lnTo>
                    <a:pt x="151" y="46"/>
                  </a:lnTo>
                  <a:lnTo>
                    <a:pt x="166" y="44"/>
                  </a:lnTo>
                  <a:lnTo>
                    <a:pt x="182" y="42"/>
                  </a:lnTo>
                  <a:lnTo>
                    <a:pt x="197" y="39"/>
                  </a:lnTo>
                  <a:lnTo>
                    <a:pt x="213" y="37"/>
                  </a:lnTo>
                  <a:lnTo>
                    <a:pt x="228" y="35"/>
                  </a:lnTo>
                  <a:lnTo>
                    <a:pt x="244" y="33"/>
                  </a:lnTo>
                  <a:lnTo>
                    <a:pt x="260" y="31"/>
                  </a:lnTo>
                  <a:lnTo>
                    <a:pt x="281" y="33"/>
                  </a:lnTo>
                  <a:lnTo>
                    <a:pt x="297" y="36"/>
                  </a:lnTo>
                  <a:lnTo>
                    <a:pt x="313" y="34"/>
                  </a:lnTo>
                  <a:lnTo>
                    <a:pt x="329" y="37"/>
                  </a:lnTo>
                  <a:lnTo>
                    <a:pt x="345" y="40"/>
                  </a:lnTo>
                  <a:lnTo>
                    <a:pt x="362" y="48"/>
                  </a:lnTo>
                  <a:lnTo>
                    <a:pt x="379" y="51"/>
                  </a:lnTo>
                  <a:lnTo>
                    <a:pt x="395" y="54"/>
                  </a:lnTo>
                  <a:lnTo>
                    <a:pt x="412" y="62"/>
                  </a:lnTo>
                  <a:lnTo>
                    <a:pt x="428" y="65"/>
                  </a:lnTo>
                  <a:lnTo>
                    <a:pt x="450" y="67"/>
                  </a:lnTo>
                  <a:lnTo>
                    <a:pt x="472" y="75"/>
                  </a:lnTo>
                  <a:lnTo>
                    <a:pt x="484" y="89"/>
                  </a:lnTo>
                  <a:lnTo>
                    <a:pt x="502" y="102"/>
                  </a:lnTo>
                  <a:lnTo>
                    <a:pt x="510" y="117"/>
                  </a:lnTo>
                  <a:lnTo>
                    <a:pt x="527" y="126"/>
                  </a:lnTo>
                  <a:lnTo>
                    <a:pt x="534" y="140"/>
                  </a:lnTo>
                  <a:lnTo>
                    <a:pt x="546" y="154"/>
                  </a:lnTo>
                  <a:lnTo>
                    <a:pt x="559" y="169"/>
                  </a:lnTo>
                  <a:lnTo>
                    <a:pt x="561" y="184"/>
                  </a:lnTo>
                  <a:lnTo>
                    <a:pt x="569" y="199"/>
                  </a:lnTo>
                  <a:lnTo>
                    <a:pt x="576" y="214"/>
                  </a:lnTo>
                  <a:lnTo>
                    <a:pt x="583" y="229"/>
                  </a:lnTo>
                  <a:lnTo>
                    <a:pt x="586" y="245"/>
                  </a:lnTo>
                  <a:lnTo>
                    <a:pt x="588" y="260"/>
                  </a:lnTo>
                  <a:lnTo>
                    <a:pt x="590" y="275"/>
                  </a:lnTo>
                  <a:lnTo>
                    <a:pt x="592" y="291"/>
                  </a:lnTo>
                  <a:lnTo>
                    <a:pt x="594" y="307"/>
                  </a:lnTo>
                  <a:lnTo>
                    <a:pt x="597" y="322"/>
                  </a:lnTo>
                  <a:lnTo>
                    <a:pt x="599" y="338"/>
                  </a:lnTo>
                  <a:lnTo>
                    <a:pt x="601" y="354"/>
                  </a:lnTo>
                  <a:lnTo>
                    <a:pt x="593" y="371"/>
                  </a:lnTo>
                  <a:lnTo>
                    <a:pt x="584" y="387"/>
                  </a:lnTo>
                  <a:lnTo>
                    <a:pt x="576" y="405"/>
                  </a:lnTo>
                  <a:lnTo>
                    <a:pt x="563" y="422"/>
                  </a:lnTo>
                  <a:lnTo>
                    <a:pt x="555" y="440"/>
                  </a:lnTo>
                  <a:lnTo>
                    <a:pt x="541" y="452"/>
                  </a:lnTo>
                  <a:lnTo>
                    <a:pt x="526" y="465"/>
                  </a:lnTo>
                  <a:lnTo>
                    <a:pt x="513" y="477"/>
                  </a:lnTo>
                  <a:lnTo>
                    <a:pt x="498" y="485"/>
                  </a:lnTo>
                  <a:lnTo>
                    <a:pt x="483" y="492"/>
                  </a:lnTo>
                  <a:lnTo>
                    <a:pt x="468" y="499"/>
                  </a:lnTo>
                  <a:lnTo>
                    <a:pt x="453" y="502"/>
                  </a:lnTo>
                  <a:lnTo>
                    <a:pt x="437" y="504"/>
                  </a:lnTo>
                  <a:lnTo>
                    <a:pt x="421" y="506"/>
                  </a:lnTo>
                  <a:lnTo>
                    <a:pt x="406" y="508"/>
                  </a:lnTo>
                  <a:lnTo>
                    <a:pt x="390" y="510"/>
                  </a:lnTo>
                  <a:lnTo>
                    <a:pt x="375" y="513"/>
                  </a:lnTo>
                  <a:lnTo>
                    <a:pt x="359" y="515"/>
                  </a:lnTo>
                  <a:lnTo>
                    <a:pt x="344" y="517"/>
                  </a:lnTo>
                  <a:lnTo>
                    <a:pt x="328" y="519"/>
                  </a:lnTo>
                  <a:lnTo>
                    <a:pt x="313" y="521"/>
                  </a:lnTo>
                  <a:lnTo>
                    <a:pt x="282" y="526"/>
                  </a:lnTo>
                  <a:lnTo>
                    <a:pt x="261" y="529"/>
                  </a:lnTo>
                  <a:lnTo>
                    <a:pt x="245" y="531"/>
                  </a:lnTo>
                  <a:lnTo>
                    <a:pt x="230" y="533"/>
                  </a:lnTo>
                  <a:lnTo>
                    <a:pt x="214" y="535"/>
                  </a:lnTo>
                  <a:lnTo>
                    <a:pt x="198" y="537"/>
                  </a:lnTo>
                  <a:lnTo>
                    <a:pt x="183" y="540"/>
                  </a:lnTo>
                  <a:lnTo>
                    <a:pt x="168" y="542"/>
                  </a:lnTo>
                  <a:lnTo>
                    <a:pt x="152" y="544"/>
                  </a:lnTo>
                  <a:lnTo>
                    <a:pt x="136" y="546"/>
                  </a:lnTo>
                  <a:lnTo>
                    <a:pt x="121" y="548"/>
                  </a:lnTo>
                  <a:lnTo>
                    <a:pt x="106" y="556"/>
                  </a:lnTo>
                  <a:lnTo>
                    <a:pt x="91" y="563"/>
                  </a:lnTo>
                  <a:lnTo>
                    <a:pt x="75" y="565"/>
                  </a:lnTo>
                  <a:lnTo>
                    <a:pt x="60" y="567"/>
                  </a:lnTo>
                  <a:lnTo>
                    <a:pt x="52" y="584"/>
                  </a:lnTo>
                  <a:lnTo>
                    <a:pt x="69" y="592"/>
                  </a:lnTo>
                  <a:lnTo>
                    <a:pt x="89" y="590"/>
                  </a:lnTo>
                  <a:lnTo>
                    <a:pt x="110" y="587"/>
                  </a:lnTo>
                  <a:lnTo>
                    <a:pt x="126" y="584"/>
                  </a:lnTo>
                  <a:lnTo>
                    <a:pt x="141" y="582"/>
                  </a:lnTo>
                  <a:lnTo>
                    <a:pt x="157" y="580"/>
                  </a:lnTo>
                  <a:lnTo>
                    <a:pt x="173" y="578"/>
                  </a:lnTo>
                  <a:lnTo>
                    <a:pt x="188" y="576"/>
                  </a:lnTo>
                  <a:lnTo>
                    <a:pt x="204" y="574"/>
                  </a:lnTo>
                  <a:lnTo>
                    <a:pt x="220" y="577"/>
                  </a:lnTo>
                  <a:lnTo>
                    <a:pt x="236" y="574"/>
                  </a:lnTo>
                  <a:lnTo>
                    <a:pt x="251" y="572"/>
                  </a:lnTo>
                  <a:lnTo>
                    <a:pt x="267" y="570"/>
                  </a:lnTo>
                  <a:lnTo>
                    <a:pt x="282" y="568"/>
                  </a:lnTo>
                  <a:lnTo>
                    <a:pt x="297" y="566"/>
                  </a:lnTo>
                  <a:lnTo>
                    <a:pt x="314" y="569"/>
                  </a:lnTo>
                  <a:lnTo>
                    <a:pt x="330" y="572"/>
                  </a:lnTo>
                  <a:lnTo>
                    <a:pt x="346" y="570"/>
                  </a:lnTo>
                  <a:lnTo>
                    <a:pt x="362" y="573"/>
                  </a:lnTo>
                  <a:lnTo>
                    <a:pt x="378" y="576"/>
                  </a:lnTo>
                  <a:lnTo>
                    <a:pt x="401" y="583"/>
                  </a:lnTo>
                  <a:lnTo>
                    <a:pt x="417" y="586"/>
                  </a:lnTo>
                  <a:lnTo>
                    <a:pt x="433" y="589"/>
                  </a:lnTo>
                  <a:lnTo>
                    <a:pt x="449" y="587"/>
                  </a:lnTo>
                  <a:lnTo>
                    <a:pt x="464" y="584"/>
                  </a:lnTo>
                  <a:lnTo>
                    <a:pt x="480" y="582"/>
                  </a:lnTo>
                  <a:lnTo>
                    <a:pt x="495" y="580"/>
                  </a:lnTo>
                  <a:lnTo>
                    <a:pt x="511" y="578"/>
                  </a:lnTo>
                  <a:lnTo>
                    <a:pt x="526" y="570"/>
                  </a:lnTo>
                  <a:lnTo>
                    <a:pt x="540" y="564"/>
                  </a:lnTo>
                  <a:lnTo>
                    <a:pt x="555" y="551"/>
                  </a:lnTo>
                  <a:lnTo>
                    <a:pt x="569" y="538"/>
                  </a:lnTo>
                  <a:lnTo>
                    <a:pt x="577" y="521"/>
                  </a:lnTo>
                  <a:lnTo>
                    <a:pt x="585" y="504"/>
                  </a:lnTo>
                  <a:lnTo>
                    <a:pt x="588" y="488"/>
                  </a:lnTo>
                  <a:lnTo>
                    <a:pt x="596" y="471"/>
                  </a:lnTo>
                  <a:lnTo>
                    <a:pt x="599" y="454"/>
                  </a:lnTo>
                  <a:lnTo>
                    <a:pt x="602" y="438"/>
                  </a:lnTo>
                  <a:lnTo>
                    <a:pt x="611" y="421"/>
                  </a:lnTo>
                  <a:lnTo>
                    <a:pt x="614" y="405"/>
                  </a:lnTo>
                  <a:lnTo>
                    <a:pt x="617" y="388"/>
                  </a:lnTo>
                  <a:lnTo>
                    <a:pt x="620" y="372"/>
                  </a:lnTo>
                  <a:lnTo>
                    <a:pt x="617" y="357"/>
                  </a:lnTo>
                  <a:lnTo>
                    <a:pt x="620" y="340"/>
                  </a:lnTo>
                  <a:lnTo>
                    <a:pt x="618" y="324"/>
                  </a:lnTo>
                  <a:lnTo>
                    <a:pt x="616" y="309"/>
                  </a:lnTo>
                  <a:lnTo>
                    <a:pt x="614" y="293"/>
                  </a:lnTo>
                  <a:lnTo>
                    <a:pt x="612" y="278"/>
                  </a:lnTo>
                  <a:lnTo>
                    <a:pt x="609" y="262"/>
                  </a:lnTo>
                  <a:lnTo>
                    <a:pt x="607" y="247"/>
                  </a:lnTo>
                  <a:lnTo>
                    <a:pt x="605" y="231"/>
                  </a:lnTo>
                  <a:lnTo>
                    <a:pt x="603" y="215"/>
                  </a:lnTo>
                  <a:lnTo>
                    <a:pt x="595" y="200"/>
                  </a:lnTo>
                  <a:lnTo>
                    <a:pt x="593" y="185"/>
                  </a:lnTo>
                  <a:lnTo>
                    <a:pt x="586" y="170"/>
                  </a:lnTo>
                  <a:lnTo>
                    <a:pt x="584" y="154"/>
                  </a:lnTo>
                  <a:lnTo>
                    <a:pt x="576" y="140"/>
                  </a:lnTo>
                  <a:lnTo>
                    <a:pt x="564" y="126"/>
                  </a:lnTo>
                  <a:lnTo>
                    <a:pt x="551" y="112"/>
                  </a:lnTo>
                  <a:lnTo>
                    <a:pt x="538" y="97"/>
                  </a:lnTo>
                  <a:lnTo>
                    <a:pt x="526" y="83"/>
                  </a:lnTo>
                  <a:lnTo>
                    <a:pt x="514" y="69"/>
                  </a:lnTo>
                  <a:lnTo>
                    <a:pt x="501" y="55"/>
                  </a:lnTo>
                  <a:lnTo>
                    <a:pt x="484" y="47"/>
                  </a:lnTo>
                  <a:lnTo>
                    <a:pt x="467" y="38"/>
                  </a:lnTo>
                  <a:lnTo>
                    <a:pt x="450" y="30"/>
                  </a:lnTo>
                  <a:lnTo>
                    <a:pt x="433" y="22"/>
                  </a:lnTo>
                  <a:lnTo>
                    <a:pt x="416" y="14"/>
                  </a:lnTo>
                  <a:lnTo>
                    <a:pt x="399" y="6"/>
                  </a:lnTo>
                  <a:lnTo>
                    <a:pt x="383" y="3"/>
                  </a:lnTo>
                  <a:lnTo>
                    <a:pt x="366" y="0"/>
                  </a:lnTo>
                  <a:lnTo>
                    <a:pt x="350" y="2"/>
                  </a:lnTo>
                  <a:lnTo>
                    <a:pt x="335" y="4"/>
                  </a:lnTo>
                  <a:lnTo>
                    <a:pt x="319" y="1"/>
                  </a:lnTo>
                  <a:lnTo>
                    <a:pt x="298" y="4"/>
                  </a:lnTo>
                  <a:lnTo>
                    <a:pt x="278" y="7"/>
                  </a:lnTo>
                  <a:lnTo>
                    <a:pt x="262" y="9"/>
                  </a:lnTo>
                  <a:lnTo>
                    <a:pt x="246" y="11"/>
                  </a:lnTo>
                  <a:lnTo>
                    <a:pt x="230" y="13"/>
                  </a:lnTo>
                  <a:lnTo>
                    <a:pt x="215" y="15"/>
                  </a:lnTo>
                  <a:lnTo>
                    <a:pt x="199" y="12"/>
                  </a:lnTo>
                  <a:lnTo>
                    <a:pt x="183" y="15"/>
                  </a:lnTo>
                  <a:lnTo>
                    <a:pt x="167" y="17"/>
                  </a:lnTo>
                  <a:lnTo>
                    <a:pt x="152" y="19"/>
                  </a:lnTo>
                  <a:lnTo>
                    <a:pt x="137" y="21"/>
                  </a:lnTo>
                  <a:lnTo>
                    <a:pt x="120" y="18"/>
                  </a:lnTo>
                  <a:lnTo>
                    <a:pt x="104" y="20"/>
                  </a:lnTo>
                  <a:lnTo>
                    <a:pt x="89" y="22"/>
                  </a:lnTo>
                  <a:lnTo>
                    <a:pt x="73" y="19"/>
                  </a:lnTo>
                  <a:lnTo>
                    <a:pt x="57" y="22"/>
                  </a:lnTo>
                  <a:lnTo>
                    <a:pt x="42" y="24"/>
                  </a:lnTo>
                  <a:lnTo>
                    <a:pt x="26" y="26"/>
                  </a:ln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solidFill>
              <a:schemeClr val="accent1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Oval 356"/>
            <p:cNvSpPr/>
            <p:nvPr/>
          </p:nvSpPr>
          <p:spPr>
            <a:xfrm rot="20520000">
              <a:off x="6638760" y="2903400"/>
              <a:ext cx="245880" cy="60120"/>
            </a:xfrm>
            <a:prstGeom prst="ellipse">
              <a:avLst/>
            </a:prstGeom>
            <a:solidFill>
              <a:srgbClr val="6699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Freeform 357"/>
            <p:cNvSpPr/>
            <p:nvPr/>
          </p:nvSpPr>
          <p:spPr>
            <a:xfrm>
              <a:off x="4487760" y="2054160"/>
              <a:ext cx="2509560" cy="1177560"/>
            </a:xfrm>
            <a:custGeom>
              <a:avLst/>
              <a:gdLst>
                <a:gd name="textAreaLeft" fmla="*/ 0 w 2509560"/>
                <a:gd name="textAreaRight" fmla="*/ 2509920 w 2509560"/>
                <a:gd name="textAreaTop" fmla="*/ 0 h 1177560"/>
                <a:gd name="textAreaBottom" fmla="*/ 1177920 h 1177560"/>
              </a:gdLst>
              <a:ahLst/>
              <a:rect l="textAreaLeft" t="textAreaTop" r="textAreaRight" b="textAreaBottom"/>
              <a:pathLst>
                <a:path w="1581" h="742">
                  <a:moveTo>
                    <a:pt x="0" y="219"/>
                  </a:moveTo>
                  <a:lnTo>
                    <a:pt x="29" y="212"/>
                  </a:lnTo>
                  <a:lnTo>
                    <a:pt x="44" y="210"/>
                  </a:lnTo>
                  <a:lnTo>
                    <a:pt x="86" y="204"/>
                  </a:lnTo>
                  <a:lnTo>
                    <a:pt x="101" y="202"/>
                  </a:lnTo>
                  <a:lnTo>
                    <a:pt x="117" y="200"/>
                  </a:lnTo>
                  <a:lnTo>
                    <a:pt x="132" y="198"/>
                  </a:lnTo>
                  <a:lnTo>
                    <a:pt x="148" y="196"/>
                  </a:lnTo>
                  <a:lnTo>
                    <a:pt x="179" y="191"/>
                  </a:lnTo>
                  <a:lnTo>
                    <a:pt x="210" y="187"/>
                  </a:lnTo>
                  <a:lnTo>
                    <a:pt x="225" y="185"/>
                  </a:lnTo>
                  <a:lnTo>
                    <a:pt x="241" y="182"/>
                  </a:lnTo>
                  <a:lnTo>
                    <a:pt x="257" y="180"/>
                  </a:lnTo>
                  <a:lnTo>
                    <a:pt x="278" y="177"/>
                  </a:lnTo>
                  <a:lnTo>
                    <a:pt x="293" y="175"/>
                  </a:lnTo>
                  <a:lnTo>
                    <a:pt x="314" y="172"/>
                  </a:lnTo>
                  <a:lnTo>
                    <a:pt x="329" y="165"/>
                  </a:lnTo>
                  <a:lnTo>
                    <a:pt x="344" y="163"/>
                  </a:lnTo>
                  <a:lnTo>
                    <a:pt x="364" y="155"/>
                  </a:lnTo>
                  <a:lnTo>
                    <a:pt x="380" y="152"/>
                  </a:lnTo>
                  <a:lnTo>
                    <a:pt x="400" y="149"/>
                  </a:lnTo>
                  <a:lnTo>
                    <a:pt x="421" y="146"/>
                  </a:lnTo>
                  <a:lnTo>
                    <a:pt x="442" y="144"/>
                  </a:lnTo>
                  <a:lnTo>
                    <a:pt x="463" y="141"/>
                  </a:lnTo>
                  <a:lnTo>
                    <a:pt x="484" y="138"/>
                  </a:lnTo>
                  <a:lnTo>
                    <a:pt x="505" y="135"/>
                  </a:lnTo>
                  <a:lnTo>
                    <a:pt x="525" y="132"/>
                  </a:lnTo>
                  <a:lnTo>
                    <a:pt x="546" y="129"/>
                  </a:lnTo>
                  <a:lnTo>
                    <a:pt x="567" y="126"/>
                  </a:lnTo>
                  <a:lnTo>
                    <a:pt x="608" y="120"/>
                  </a:lnTo>
                  <a:lnTo>
                    <a:pt x="624" y="118"/>
                  </a:lnTo>
                  <a:lnTo>
                    <a:pt x="639" y="116"/>
                  </a:lnTo>
                  <a:lnTo>
                    <a:pt x="655" y="114"/>
                  </a:lnTo>
                  <a:lnTo>
                    <a:pt x="708" y="112"/>
                  </a:lnTo>
                  <a:lnTo>
                    <a:pt x="723" y="109"/>
                  </a:lnTo>
                  <a:lnTo>
                    <a:pt x="744" y="106"/>
                  </a:lnTo>
                  <a:lnTo>
                    <a:pt x="759" y="104"/>
                  </a:lnTo>
                  <a:lnTo>
                    <a:pt x="775" y="102"/>
                  </a:lnTo>
                  <a:lnTo>
                    <a:pt x="796" y="99"/>
                  </a:lnTo>
                  <a:lnTo>
                    <a:pt x="811" y="97"/>
                  </a:lnTo>
                  <a:lnTo>
                    <a:pt x="853" y="91"/>
                  </a:lnTo>
                  <a:lnTo>
                    <a:pt x="884" y="87"/>
                  </a:lnTo>
                  <a:lnTo>
                    <a:pt x="905" y="84"/>
                  </a:lnTo>
                  <a:lnTo>
                    <a:pt x="920" y="76"/>
                  </a:lnTo>
                  <a:lnTo>
                    <a:pt x="938" y="58"/>
                  </a:lnTo>
                  <a:lnTo>
                    <a:pt x="952" y="46"/>
                  </a:lnTo>
                  <a:lnTo>
                    <a:pt x="967" y="38"/>
                  </a:lnTo>
                  <a:lnTo>
                    <a:pt x="987" y="30"/>
                  </a:lnTo>
                  <a:lnTo>
                    <a:pt x="1008" y="27"/>
                  </a:lnTo>
                  <a:lnTo>
                    <a:pt x="1024" y="25"/>
                  </a:lnTo>
                  <a:lnTo>
                    <a:pt x="1039" y="23"/>
                  </a:lnTo>
                  <a:lnTo>
                    <a:pt x="1055" y="21"/>
                  </a:lnTo>
                  <a:lnTo>
                    <a:pt x="1076" y="18"/>
                  </a:lnTo>
                  <a:lnTo>
                    <a:pt x="1091" y="16"/>
                  </a:lnTo>
                  <a:lnTo>
                    <a:pt x="1112" y="13"/>
                  </a:lnTo>
                  <a:lnTo>
                    <a:pt x="1143" y="8"/>
                  </a:lnTo>
                  <a:lnTo>
                    <a:pt x="1185" y="8"/>
                  </a:lnTo>
                  <a:lnTo>
                    <a:pt x="1201" y="5"/>
                  </a:lnTo>
                  <a:lnTo>
                    <a:pt x="1216" y="3"/>
                  </a:lnTo>
                  <a:lnTo>
                    <a:pt x="1232" y="1"/>
                  </a:lnTo>
                  <a:lnTo>
                    <a:pt x="1254" y="3"/>
                  </a:lnTo>
                  <a:lnTo>
                    <a:pt x="1274" y="0"/>
                  </a:lnTo>
                  <a:lnTo>
                    <a:pt x="1296" y="3"/>
                  </a:lnTo>
                  <a:lnTo>
                    <a:pt x="1312" y="5"/>
                  </a:lnTo>
                  <a:lnTo>
                    <a:pt x="1328" y="8"/>
                  </a:lnTo>
                  <a:lnTo>
                    <a:pt x="1345" y="17"/>
                  </a:lnTo>
                  <a:lnTo>
                    <a:pt x="1362" y="25"/>
                  </a:lnTo>
                  <a:lnTo>
                    <a:pt x="1379" y="28"/>
                  </a:lnTo>
                  <a:lnTo>
                    <a:pt x="1396" y="36"/>
                  </a:lnTo>
                  <a:lnTo>
                    <a:pt x="1408" y="50"/>
                  </a:lnTo>
                  <a:lnTo>
                    <a:pt x="1425" y="53"/>
                  </a:lnTo>
                  <a:lnTo>
                    <a:pt x="1437" y="67"/>
                  </a:lnTo>
                  <a:lnTo>
                    <a:pt x="1454" y="76"/>
                  </a:lnTo>
                  <a:lnTo>
                    <a:pt x="1467" y="90"/>
                  </a:lnTo>
                  <a:lnTo>
                    <a:pt x="1484" y="98"/>
                  </a:lnTo>
                  <a:lnTo>
                    <a:pt x="1502" y="111"/>
                  </a:lnTo>
                  <a:lnTo>
                    <a:pt x="1509" y="126"/>
                  </a:lnTo>
                  <a:lnTo>
                    <a:pt x="1522" y="140"/>
                  </a:lnTo>
                  <a:lnTo>
                    <a:pt x="1524" y="156"/>
                  </a:lnTo>
                  <a:lnTo>
                    <a:pt x="1531" y="170"/>
                  </a:lnTo>
                  <a:lnTo>
                    <a:pt x="1538" y="185"/>
                  </a:lnTo>
                  <a:lnTo>
                    <a:pt x="1551" y="200"/>
                  </a:lnTo>
                  <a:lnTo>
                    <a:pt x="1553" y="215"/>
                  </a:lnTo>
                  <a:lnTo>
                    <a:pt x="1561" y="230"/>
                  </a:lnTo>
                  <a:lnTo>
                    <a:pt x="1563" y="246"/>
                  </a:lnTo>
                  <a:lnTo>
                    <a:pt x="1565" y="261"/>
                  </a:lnTo>
                  <a:lnTo>
                    <a:pt x="1567" y="276"/>
                  </a:lnTo>
                  <a:lnTo>
                    <a:pt x="1569" y="292"/>
                  </a:lnTo>
                  <a:lnTo>
                    <a:pt x="1571" y="308"/>
                  </a:lnTo>
                  <a:lnTo>
                    <a:pt x="1574" y="324"/>
                  </a:lnTo>
                  <a:lnTo>
                    <a:pt x="1576" y="339"/>
                  </a:lnTo>
                  <a:lnTo>
                    <a:pt x="1578" y="354"/>
                  </a:lnTo>
                  <a:lnTo>
                    <a:pt x="1580" y="370"/>
                  </a:lnTo>
                  <a:lnTo>
                    <a:pt x="1577" y="387"/>
                  </a:lnTo>
                  <a:lnTo>
                    <a:pt x="1569" y="403"/>
                  </a:lnTo>
                  <a:lnTo>
                    <a:pt x="1566" y="420"/>
                  </a:lnTo>
                  <a:lnTo>
                    <a:pt x="1563" y="436"/>
                  </a:lnTo>
                  <a:lnTo>
                    <a:pt x="1560" y="452"/>
                  </a:lnTo>
                  <a:lnTo>
                    <a:pt x="1557" y="468"/>
                  </a:lnTo>
                  <a:lnTo>
                    <a:pt x="1554" y="485"/>
                  </a:lnTo>
                  <a:lnTo>
                    <a:pt x="1551" y="501"/>
                  </a:lnTo>
                  <a:lnTo>
                    <a:pt x="1548" y="518"/>
                  </a:lnTo>
                  <a:lnTo>
                    <a:pt x="1545" y="534"/>
                  </a:lnTo>
                  <a:lnTo>
                    <a:pt x="1537" y="551"/>
                  </a:lnTo>
                  <a:lnTo>
                    <a:pt x="1528" y="568"/>
                  </a:lnTo>
                  <a:lnTo>
                    <a:pt x="1521" y="585"/>
                  </a:lnTo>
                  <a:lnTo>
                    <a:pt x="1507" y="602"/>
                  </a:lnTo>
                  <a:lnTo>
                    <a:pt x="1492" y="610"/>
                  </a:lnTo>
                  <a:lnTo>
                    <a:pt x="1477" y="617"/>
                  </a:lnTo>
                  <a:lnTo>
                    <a:pt x="1463" y="625"/>
                  </a:lnTo>
                  <a:lnTo>
                    <a:pt x="1447" y="627"/>
                  </a:lnTo>
                  <a:lnTo>
                    <a:pt x="1431" y="629"/>
                  </a:lnTo>
                  <a:lnTo>
                    <a:pt x="1416" y="631"/>
                  </a:lnTo>
                  <a:lnTo>
                    <a:pt x="1400" y="633"/>
                  </a:lnTo>
                  <a:lnTo>
                    <a:pt x="1385" y="636"/>
                  </a:lnTo>
                  <a:lnTo>
                    <a:pt x="1369" y="638"/>
                  </a:lnTo>
                  <a:lnTo>
                    <a:pt x="1353" y="635"/>
                  </a:lnTo>
                  <a:lnTo>
                    <a:pt x="1336" y="627"/>
                  </a:lnTo>
                  <a:lnTo>
                    <a:pt x="1319" y="624"/>
                  </a:lnTo>
                  <a:lnTo>
                    <a:pt x="1303" y="620"/>
                  </a:lnTo>
                  <a:lnTo>
                    <a:pt x="1283" y="623"/>
                  </a:lnTo>
                  <a:lnTo>
                    <a:pt x="1266" y="621"/>
                  </a:lnTo>
                  <a:lnTo>
                    <a:pt x="1250" y="618"/>
                  </a:lnTo>
                  <a:lnTo>
                    <a:pt x="1234" y="620"/>
                  </a:lnTo>
                  <a:lnTo>
                    <a:pt x="1219" y="622"/>
                  </a:lnTo>
                  <a:lnTo>
                    <a:pt x="1203" y="624"/>
                  </a:lnTo>
                  <a:lnTo>
                    <a:pt x="1187" y="627"/>
                  </a:lnTo>
                  <a:lnTo>
                    <a:pt x="1172" y="629"/>
                  </a:lnTo>
                  <a:lnTo>
                    <a:pt x="1156" y="631"/>
                  </a:lnTo>
                  <a:lnTo>
                    <a:pt x="1141" y="633"/>
                  </a:lnTo>
                  <a:lnTo>
                    <a:pt x="1124" y="630"/>
                  </a:lnTo>
                  <a:lnTo>
                    <a:pt x="1109" y="632"/>
                  </a:lnTo>
                  <a:lnTo>
                    <a:pt x="1093" y="629"/>
                  </a:lnTo>
                  <a:lnTo>
                    <a:pt x="1071" y="627"/>
                  </a:lnTo>
                  <a:lnTo>
                    <a:pt x="1055" y="624"/>
                  </a:lnTo>
                  <a:lnTo>
                    <a:pt x="1034" y="627"/>
                  </a:lnTo>
                  <a:lnTo>
                    <a:pt x="1018" y="624"/>
                  </a:lnTo>
                  <a:lnTo>
                    <a:pt x="1002" y="626"/>
                  </a:lnTo>
                  <a:lnTo>
                    <a:pt x="987" y="628"/>
                  </a:lnTo>
                  <a:lnTo>
                    <a:pt x="971" y="630"/>
                  </a:lnTo>
                  <a:lnTo>
                    <a:pt x="928" y="626"/>
                  </a:lnTo>
                  <a:lnTo>
                    <a:pt x="912" y="623"/>
                  </a:lnTo>
                  <a:lnTo>
                    <a:pt x="895" y="620"/>
                  </a:lnTo>
                  <a:lnTo>
                    <a:pt x="880" y="622"/>
                  </a:lnTo>
                  <a:lnTo>
                    <a:pt x="864" y="624"/>
                  </a:lnTo>
                  <a:lnTo>
                    <a:pt x="849" y="626"/>
                  </a:lnTo>
                  <a:lnTo>
                    <a:pt x="833" y="628"/>
                  </a:lnTo>
                  <a:lnTo>
                    <a:pt x="818" y="630"/>
                  </a:lnTo>
                  <a:lnTo>
                    <a:pt x="802" y="633"/>
                  </a:lnTo>
                  <a:lnTo>
                    <a:pt x="781" y="636"/>
                  </a:lnTo>
                  <a:lnTo>
                    <a:pt x="766" y="638"/>
                  </a:lnTo>
                  <a:lnTo>
                    <a:pt x="745" y="641"/>
                  </a:lnTo>
                  <a:lnTo>
                    <a:pt x="729" y="643"/>
                  </a:lnTo>
                  <a:lnTo>
                    <a:pt x="708" y="646"/>
                  </a:lnTo>
                  <a:lnTo>
                    <a:pt x="693" y="648"/>
                  </a:lnTo>
                  <a:lnTo>
                    <a:pt x="678" y="655"/>
                  </a:lnTo>
                  <a:lnTo>
                    <a:pt x="663" y="658"/>
                  </a:lnTo>
                  <a:lnTo>
                    <a:pt x="616" y="664"/>
                  </a:lnTo>
                  <a:lnTo>
                    <a:pt x="575" y="670"/>
                  </a:lnTo>
                  <a:lnTo>
                    <a:pt x="559" y="672"/>
                  </a:lnTo>
                  <a:lnTo>
                    <a:pt x="517" y="678"/>
                  </a:lnTo>
                  <a:lnTo>
                    <a:pt x="502" y="680"/>
                  </a:lnTo>
                  <a:lnTo>
                    <a:pt x="486" y="682"/>
                  </a:lnTo>
                  <a:lnTo>
                    <a:pt x="471" y="685"/>
                  </a:lnTo>
                  <a:lnTo>
                    <a:pt x="450" y="688"/>
                  </a:lnTo>
                  <a:lnTo>
                    <a:pt x="434" y="690"/>
                  </a:lnTo>
                  <a:lnTo>
                    <a:pt x="413" y="693"/>
                  </a:lnTo>
                  <a:lnTo>
                    <a:pt x="398" y="695"/>
                  </a:lnTo>
                  <a:lnTo>
                    <a:pt x="382" y="697"/>
                  </a:lnTo>
                  <a:lnTo>
                    <a:pt x="361" y="700"/>
                  </a:lnTo>
                  <a:lnTo>
                    <a:pt x="346" y="702"/>
                  </a:lnTo>
                  <a:lnTo>
                    <a:pt x="330" y="704"/>
                  </a:lnTo>
                  <a:lnTo>
                    <a:pt x="294" y="709"/>
                  </a:lnTo>
                  <a:lnTo>
                    <a:pt x="273" y="712"/>
                  </a:lnTo>
                  <a:lnTo>
                    <a:pt x="237" y="717"/>
                  </a:lnTo>
                  <a:lnTo>
                    <a:pt x="222" y="720"/>
                  </a:lnTo>
                  <a:lnTo>
                    <a:pt x="206" y="722"/>
                  </a:lnTo>
                  <a:lnTo>
                    <a:pt x="190" y="724"/>
                  </a:lnTo>
                  <a:lnTo>
                    <a:pt x="175" y="726"/>
                  </a:lnTo>
                  <a:lnTo>
                    <a:pt x="159" y="728"/>
                  </a:lnTo>
                  <a:lnTo>
                    <a:pt x="144" y="731"/>
                  </a:lnTo>
                  <a:lnTo>
                    <a:pt x="128" y="733"/>
                  </a:lnTo>
                  <a:lnTo>
                    <a:pt x="113" y="735"/>
                  </a:lnTo>
                  <a:lnTo>
                    <a:pt x="97" y="737"/>
                  </a:lnTo>
                  <a:lnTo>
                    <a:pt x="81" y="739"/>
                  </a:lnTo>
                  <a:lnTo>
                    <a:pt x="96" y="741"/>
                  </a:lnTo>
                </a:path>
              </a:pathLst>
            </a:custGeom>
            <a:noFill/>
            <a:ln cap="rnd"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5" name="Freeform 358"/>
            <p:cNvSpPr/>
            <p:nvPr/>
          </p:nvSpPr>
          <p:spPr>
            <a:xfrm>
              <a:off x="6478560" y="2158920"/>
              <a:ext cx="337680" cy="32832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213" h="207">
                  <a:moveTo>
                    <a:pt x="0" y="1"/>
                  </a:moveTo>
                  <a:lnTo>
                    <a:pt x="4" y="24"/>
                  </a:lnTo>
                  <a:lnTo>
                    <a:pt x="6" y="40"/>
                  </a:lnTo>
                  <a:lnTo>
                    <a:pt x="8" y="55"/>
                  </a:lnTo>
                  <a:lnTo>
                    <a:pt x="10" y="71"/>
                  </a:lnTo>
                  <a:lnTo>
                    <a:pt x="12" y="86"/>
                  </a:lnTo>
                  <a:lnTo>
                    <a:pt x="10" y="108"/>
                  </a:lnTo>
                  <a:lnTo>
                    <a:pt x="7" y="124"/>
                  </a:lnTo>
                  <a:lnTo>
                    <a:pt x="4" y="141"/>
                  </a:lnTo>
                  <a:lnTo>
                    <a:pt x="6" y="156"/>
                  </a:lnTo>
                  <a:lnTo>
                    <a:pt x="8" y="172"/>
                  </a:lnTo>
                  <a:lnTo>
                    <a:pt x="11" y="187"/>
                  </a:lnTo>
                  <a:lnTo>
                    <a:pt x="13" y="203"/>
                  </a:lnTo>
                  <a:lnTo>
                    <a:pt x="29" y="206"/>
                  </a:lnTo>
                  <a:lnTo>
                    <a:pt x="45" y="203"/>
                  </a:lnTo>
                  <a:lnTo>
                    <a:pt x="60" y="201"/>
                  </a:lnTo>
                  <a:lnTo>
                    <a:pt x="76" y="199"/>
                  </a:lnTo>
                  <a:lnTo>
                    <a:pt x="91" y="192"/>
                  </a:lnTo>
                  <a:lnTo>
                    <a:pt x="105" y="179"/>
                  </a:lnTo>
                  <a:lnTo>
                    <a:pt x="124" y="166"/>
                  </a:lnTo>
                  <a:lnTo>
                    <a:pt x="139" y="164"/>
                  </a:lnTo>
                  <a:lnTo>
                    <a:pt x="160" y="161"/>
                  </a:lnTo>
                  <a:lnTo>
                    <a:pt x="175" y="159"/>
                  </a:lnTo>
                  <a:lnTo>
                    <a:pt x="189" y="146"/>
                  </a:lnTo>
                  <a:lnTo>
                    <a:pt x="204" y="139"/>
                  </a:lnTo>
                  <a:lnTo>
                    <a:pt x="212" y="122"/>
                  </a:lnTo>
                  <a:lnTo>
                    <a:pt x="210" y="106"/>
                  </a:lnTo>
                  <a:lnTo>
                    <a:pt x="193" y="98"/>
                  </a:lnTo>
                  <a:lnTo>
                    <a:pt x="186" y="83"/>
                  </a:lnTo>
                  <a:lnTo>
                    <a:pt x="178" y="68"/>
                  </a:lnTo>
                  <a:lnTo>
                    <a:pt x="171" y="54"/>
                  </a:lnTo>
                  <a:lnTo>
                    <a:pt x="158" y="39"/>
                  </a:lnTo>
                  <a:lnTo>
                    <a:pt x="142" y="31"/>
                  </a:lnTo>
                  <a:lnTo>
                    <a:pt x="125" y="28"/>
                  </a:lnTo>
                  <a:lnTo>
                    <a:pt x="109" y="25"/>
                  </a:lnTo>
                  <a:lnTo>
                    <a:pt x="92" y="17"/>
                  </a:lnTo>
                  <a:lnTo>
                    <a:pt x="76" y="14"/>
                  </a:lnTo>
                  <a:lnTo>
                    <a:pt x="60" y="11"/>
                  </a:lnTo>
                  <a:lnTo>
                    <a:pt x="43" y="8"/>
                  </a:lnTo>
                  <a:lnTo>
                    <a:pt x="27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6" name="Freeform 359"/>
            <p:cNvSpPr/>
            <p:nvPr/>
          </p:nvSpPr>
          <p:spPr>
            <a:xfrm>
              <a:off x="6561000" y="2359080"/>
              <a:ext cx="361440" cy="35064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228" h="221">
                  <a:moveTo>
                    <a:pt x="0" y="78"/>
                  </a:moveTo>
                  <a:lnTo>
                    <a:pt x="23" y="74"/>
                  </a:lnTo>
                  <a:lnTo>
                    <a:pt x="38" y="62"/>
                  </a:lnTo>
                  <a:lnTo>
                    <a:pt x="53" y="54"/>
                  </a:lnTo>
                  <a:lnTo>
                    <a:pt x="68" y="52"/>
                  </a:lnTo>
                  <a:lnTo>
                    <a:pt x="83" y="45"/>
                  </a:lnTo>
                  <a:lnTo>
                    <a:pt x="98" y="37"/>
                  </a:lnTo>
                  <a:lnTo>
                    <a:pt x="114" y="35"/>
                  </a:lnTo>
                  <a:lnTo>
                    <a:pt x="128" y="28"/>
                  </a:lnTo>
                  <a:lnTo>
                    <a:pt x="143" y="20"/>
                  </a:lnTo>
                  <a:lnTo>
                    <a:pt x="157" y="8"/>
                  </a:lnTo>
                  <a:lnTo>
                    <a:pt x="172" y="0"/>
                  </a:lnTo>
                  <a:lnTo>
                    <a:pt x="174" y="16"/>
                  </a:lnTo>
                  <a:lnTo>
                    <a:pt x="182" y="31"/>
                  </a:lnTo>
                  <a:lnTo>
                    <a:pt x="194" y="45"/>
                  </a:lnTo>
                  <a:lnTo>
                    <a:pt x="207" y="59"/>
                  </a:lnTo>
                  <a:lnTo>
                    <a:pt x="209" y="74"/>
                  </a:lnTo>
                  <a:lnTo>
                    <a:pt x="211" y="90"/>
                  </a:lnTo>
                  <a:lnTo>
                    <a:pt x="214" y="106"/>
                  </a:lnTo>
                  <a:lnTo>
                    <a:pt x="216" y="121"/>
                  </a:lnTo>
                  <a:lnTo>
                    <a:pt x="218" y="136"/>
                  </a:lnTo>
                  <a:lnTo>
                    <a:pt x="220" y="152"/>
                  </a:lnTo>
                  <a:lnTo>
                    <a:pt x="222" y="168"/>
                  </a:lnTo>
                  <a:lnTo>
                    <a:pt x="224" y="183"/>
                  </a:lnTo>
                  <a:lnTo>
                    <a:pt x="227" y="199"/>
                  </a:lnTo>
                  <a:lnTo>
                    <a:pt x="218" y="216"/>
                  </a:lnTo>
                  <a:lnTo>
                    <a:pt x="203" y="218"/>
                  </a:lnTo>
                  <a:lnTo>
                    <a:pt x="187" y="220"/>
                  </a:lnTo>
                  <a:lnTo>
                    <a:pt x="171" y="217"/>
                  </a:lnTo>
                  <a:lnTo>
                    <a:pt x="153" y="204"/>
                  </a:lnTo>
                  <a:lnTo>
                    <a:pt x="135" y="190"/>
                  </a:lnTo>
                  <a:lnTo>
                    <a:pt x="118" y="182"/>
                  </a:lnTo>
                  <a:lnTo>
                    <a:pt x="101" y="174"/>
                  </a:lnTo>
                  <a:lnTo>
                    <a:pt x="84" y="166"/>
                  </a:lnTo>
                  <a:lnTo>
                    <a:pt x="67" y="158"/>
                  </a:lnTo>
                  <a:lnTo>
                    <a:pt x="50" y="149"/>
                  </a:lnTo>
                  <a:lnTo>
                    <a:pt x="33" y="141"/>
                  </a:lnTo>
                  <a:lnTo>
                    <a:pt x="20" y="127"/>
                  </a:lnTo>
                  <a:lnTo>
                    <a:pt x="8" y="113"/>
                  </a:lnTo>
                  <a:lnTo>
                    <a:pt x="0" y="78"/>
                  </a:lnTo>
                  <a:lnTo>
                    <a:pt x="0" y="78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Freeform 360"/>
            <p:cNvSpPr/>
            <p:nvPr/>
          </p:nvSpPr>
          <p:spPr>
            <a:xfrm>
              <a:off x="6568920" y="2573280"/>
              <a:ext cx="326520" cy="34560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06" h="218">
                  <a:moveTo>
                    <a:pt x="4" y="10"/>
                  </a:moveTo>
                  <a:lnTo>
                    <a:pt x="27" y="0"/>
                  </a:lnTo>
                  <a:lnTo>
                    <a:pt x="43" y="3"/>
                  </a:lnTo>
                  <a:lnTo>
                    <a:pt x="60" y="11"/>
                  </a:lnTo>
                  <a:lnTo>
                    <a:pt x="78" y="25"/>
                  </a:lnTo>
                  <a:lnTo>
                    <a:pt x="95" y="33"/>
                  </a:lnTo>
                  <a:lnTo>
                    <a:pt x="112" y="41"/>
                  </a:lnTo>
                  <a:lnTo>
                    <a:pt x="130" y="49"/>
                  </a:lnTo>
                  <a:lnTo>
                    <a:pt x="146" y="57"/>
                  </a:lnTo>
                  <a:lnTo>
                    <a:pt x="159" y="72"/>
                  </a:lnTo>
                  <a:lnTo>
                    <a:pt x="176" y="80"/>
                  </a:lnTo>
                  <a:lnTo>
                    <a:pt x="193" y="83"/>
                  </a:lnTo>
                  <a:lnTo>
                    <a:pt x="205" y="97"/>
                  </a:lnTo>
                  <a:lnTo>
                    <a:pt x="197" y="114"/>
                  </a:lnTo>
                  <a:lnTo>
                    <a:pt x="183" y="127"/>
                  </a:lnTo>
                  <a:lnTo>
                    <a:pt x="169" y="145"/>
                  </a:lnTo>
                  <a:lnTo>
                    <a:pt x="155" y="157"/>
                  </a:lnTo>
                  <a:lnTo>
                    <a:pt x="141" y="170"/>
                  </a:lnTo>
                  <a:lnTo>
                    <a:pt x="127" y="182"/>
                  </a:lnTo>
                  <a:lnTo>
                    <a:pt x="113" y="195"/>
                  </a:lnTo>
                  <a:lnTo>
                    <a:pt x="97" y="203"/>
                  </a:lnTo>
                  <a:lnTo>
                    <a:pt x="82" y="205"/>
                  </a:lnTo>
                  <a:lnTo>
                    <a:pt x="67" y="212"/>
                  </a:lnTo>
                  <a:lnTo>
                    <a:pt x="51" y="214"/>
                  </a:lnTo>
                  <a:lnTo>
                    <a:pt x="36" y="217"/>
                  </a:lnTo>
                  <a:lnTo>
                    <a:pt x="23" y="202"/>
                  </a:lnTo>
                  <a:lnTo>
                    <a:pt x="16" y="187"/>
                  </a:lnTo>
                  <a:lnTo>
                    <a:pt x="14" y="172"/>
                  </a:lnTo>
                  <a:lnTo>
                    <a:pt x="11" y="156"/>
                  </a:lnTo>
                  <a:lnTo>
                    <a:pt x="9" y="140"/>
                  </a:lnTo>
                  <a:lnTo>
                    <a:pt x="7" y="125"/>
                  </a:lnTo>
                  <a:lnTo>
                    <a:pt x="5" y="109"/>
                  </a:lnTo>
                  <a:lnTo>
                    <a:pt x="3" y="94"/>
                  </a:lnTo>
                  <a:lnTo>
                    <a:pt x="0" y="78"/>
                  </a:lnTo>
                  <a:lnTo>
                    <a:pt x="4" y="62"/>
                  </a:lnTo>
                  <a:lnTo>
                    <a:pt x="7" y="45"/>
                  </a:lnTo>
                  <a:lnTo>
                    <a:pt x="4" y="10"/>
                  </a:lnTo>
                  <a:lnTo>
                    <a:pt x="4" y="10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eeec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Oval 361"/>
            <p:cNvSpPr/>
            <p:nvPr/>
          </p:nvSpPr>
          <p:spPr>
            <a:xfrm rot="19380000">
              <a:off x="6622920" y="2792520"/>
              <a:ext cx="28224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Oval 362"/>
            <p:cNvSpPr/>
            <p:nvPr/>
          </p:nvSpPr>
          <p:spPr>
            <a:xfrm rot="1620000">
              <a:off x="6541920" y="2212560"/>
              <a:ext cx="28224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Oval 363"/>
            <p:cNvSpPr/>
            <p:nvPr/>
          </p:nvSpPr>
          <p:spPr>
            <a:xfrm rot="5100000">
              <a:off x="6738840" y="2552760"/>
              <a:ext cx="280800" cy="6300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31" name="Group 389"/>
          <p:cNvGrpSpPr/>
          <p:nvPr/>
        </p:nvGrpSpPr>
        <p:grpSpPr>
          <a:xfrm>
            <a:off x="3860640" y="3316320"/>
            <a:ext cx="1050840" cy="1052280"/>
            <a:chOff x="3860640" y="3316320"/>
            <a:chExt cx="1050840" cy="1052280"/>
          </a:xfrm>
        </p:grpSpPr>
        <p:sp useBgFill="1">
          <p:nvSpPr>
            <p:cNvPr id="2932" name="Oval 365"/>
            <p:cNvSpPr/>
            <p:nvPr/>
          </p:nvSpPr>
          <p:spPr>
            <a:xfrm>
              <a:off x="3860640" y="332748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3" name="Freeform 366"/>
            <p:cNvSpPr/>
            <p:nvPr/>
          </p:nvSpPr>
          <p:spPr>
            <a:xfrm>
              <a:off x="4149720" y="331632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4" name="Oval 367"/>
            <p:cNvSpPr/>
            <p:nvPr/>
          </p:nvSpPr>
          <p:spPr>
            <a:xfrm>
              <a:off x="4200480" y="333864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35" name="Group 370"/>
            <p:cNvGrpSpPr/>
            <p:nvPr/>
          </p:nvGrpSpPr>
          <p:grpSpPr>
            <a:xfrm>
              <a:off x="4367160" y="3341520"/>
              <a:ext cx="450360" cy="445680"/>
              <a:chOff x="4367160" y="3341520"/>
              <a:chExt cx="450360" cy="445680"/>
            </a:xfrm>
          </p:grpSpPr>
          <p:sp>
            <p:nvSpPr>
              <p:cNvPr id="2936" name="Freeform 368"/>
              <p:cNvSpPr/>
              <p:nvPr/>
            </p:nvSpPr>
            <p:spPr>
              <a:xfrm>
                <a:off x="4367160" y="334152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7" name="Oval 369"/>
              <p:cNvSpPr/>
              <p:nvPr/>
            </p:nvSpPr>
            <p:spPr>
              <a:xfrm rot="1860000">
                <a:off x="4511520" y="343656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38" name="Group 373"/>
            <p:cNvGrpSpPr/>
            <p:nvPr/>
          </p:nvGrpSpPr>
          <p:grpSpPr>
            <a:xfrm>
              <a:off x="4575240" y="3603600"/>
              <a:ext cx="336240" cy="360000"/>
              <a:chOff x="4575240" y="3603600"/>
              <a:chExt cx="336240" cy="360000"/>
            </a:xfrm>
          </p:grpSpPr>
          <p:sp>
            <p:nvSpPr>
              <p:cNvPr id="2939" name="Freeform 371"/>
              <p:cNvSpPr/>
              <p:nvPr/>
            </p:nvSpPr>
            <p:spPr>
              <a:xfrm>
                <a:off x="4575240" y="360360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0" name="Oval 372"/>
              <p:cNvSpPr/>
              <p:nvPr/>
            </p:nvSpPr>
            <p:spPr>
              <a:xfrm rot="5340000">
                <a:off x="4718160" y="376056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41" name="Group 376"/>
            <p:cNvGrpSpPr/>
            <p:nvPr/>
          </p:nvGrpSpPr>
          <p:grpSpPr>
            <a:xfrm>
              <a:off x="3886200" y="3614760"/>
              <a:ext cx="348840" cy="372600"/>
              <a:chOff x="3886200" y="3614760"/>
              <a:chExt cx="348840" cy="372600"/>
            </a:xfrm>
          </p:grpSpPr>
          <p:sp>
            <p:nvSpPr>
              <p:cNvPr id="2942" name="Freeform 374"/>
              <p:cNvSpPr/>
              <p:nvPr/>
            </p:nvSpPr>
            <p:spPr>
              <a:xfrm>
                <a:off x="3886200" y="361476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3" name="Oval 375"/>
              <p:cNvSpPr/>
              <p:nvPr/>
            </p:nvSpPr>
            <p:spPr>
              <a:xfrm rot="16380000">
                <a:off x="3801600" y="374976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44" name="Group 379"/>
            <p:cNvGrpSpPr/>
            <p:nvPr/>
          </p:nvGrpSpPr>
          <p:grpSpPr>
            <a:xfrm>
              <a:off x="3900600" y="3340080"/>
              <a:ext cx="453600" cy="436320"/>
              <a:chOff x="3900600" y="3340080"/>
              <a:chExt cx="453600" cy="436320"/>
            </a:xfrm>
          </p:grpSpPr>
          <p:sp>
            <p:nvSpPr>
              <p:cNvPr id="2945" name="Freeform 377"/>
              <p:cNvSpPr/>
              <p:nvPr/>
            </p:nvSpPr>
            <p:spPr>
              <a:xfrm>
                <a:off x="3900600" y="334008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6" name="Oval 378"/>
              <p:cNvSpPr/>
              <p:nvPr/>
            </p:nvSpPr>
            <p:spPr>
              <a:xfrm rot="19620000">
                <a:off x="3933720" y="343512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47" name="Group 382"/>
            <p:cNvGrpSpPr/>
            <p:nvPr/>
          </p:nvGrpSpPr>
          <p:grpSpPr>
            <a:xfrm>
              <a:off x="4248000" y="3984480"/>
              <a:ext cx="379080" cy="356760"/>
              <a:chOff x="4248000" y="3984480"/>
              <a:chExt cx="379080" cy="356760"/>
            </a:xfrm>
          </p:grpSpPr>
          <p:sp>
            <p:nvSpPr>
              <p:cNvPr id="2948" name="Freeform 380"/>
              <p:cNvSpPr/>
              <p:nvPr/>
            </p:nvSpPr>
            <p:spPr>
              <a:xfrm>
                <a:off x="4248000" y="398448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9" name="Oval 381"/>
              <p:cNvSpPr/>
              <p:nvPr/>
            </p:nvSpPr>
            <p:spPr>
              <a:xfrm rot="11100000">
                <a:off x="4277160" y="424548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0" name="Group 385"/>
            <p:cNvGrpSpPr/>
            <p:nvPr/>
          </p:nvGrpSpPr>
          <p:grpSpPr>
            <a:xfrm>
              <a:off x="3976560" y="3867120"/>
              <a:ext cx="433080" cy="452160"/>
              <a:chOff x="3976560" y="3867120"/>
              <a:chExt cx="433080" cy="452160"/>
            </a:xfrm>
          </p:grpSpPr>
          <p:sp>
            <p:nvSpPr>
              <p:cNvPr id="2951" name="Freeform 383"/>
              <p:cNvSpPr/>
              <p:nvPr/>
            </p:nvSpPr>
            <p:spPr>
              <a:xfrm>
                <a:off x="3976560" y="386712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2" name="Oval 384"/>
              <p:cNvSpPr/>
              <p:nvPr/>
            </p:nvSpPr>
            <p:spPr>
              <a:xfrm rot="14340000">
                <a:off x="3958920" y="410724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3" name="Group 388"/>
            <p:cNvGrpSpPr/>
            <p:nvPr/>
          </p:nvGrpSpPr>
          <p:grpSpPr>
            <a:xfrm>
              <a:off x="4435560" y="3795840"/>
              <a:ext cx="456840" cy="455400"/>
              <a:chOff x="4435560" y="3795840"/>
              <a:chExt cx="456840" cy="455400"/>
            </a:xfrm>
          </p:grpSpPr>
          <p:sp>
            <p:nvSpPr>
              <p:cNvPr id="2954" name="Freeform 386"/>
              <p:cNvSpPr/>
              <p:nvPr/>
            </p:nvSpPr>
            <p:spPr>
              <a:xfrm>
                <a:off x="4435560" y="379584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5" name="Oval 387"/>
              <p:cNvSpPr/>
              <p:nvPr/>
            </p:nvSpPr>
            <p:spPr>
              <a:xfrm rot="7620000">
                <a:off x="4611960" y="405792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56" name="Group 414"/>
          <p:cNvGrpSpPr/>
          <p:nvPr/>
        </p:nvGrpSpPr>
        <p:grpSpPr>
          <a:xfrm>
            <a:off x="2717640" y="2706840"/>
            <a:ext cx="1050840" cy="1051920"/>
            <a:chOff x="2717640" y="2706840"/>
            <a:chExt cx="1050840" cy="1051920"/>
          </a:xfrm>
        </p:grpSpPr>
        <p:sp useBgFill="1">
          <p:nvSpPr>
            <p:cNvPr id="2957" name="Oval 390"/>
            <p:cNvSpPr/>
            <p:nvPr/>
          </p:nvSpPr>
          <p:spPr>
            <a:xfrm>
              <a:off x="2717640" y="271764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8" name="Freeform 391"/>
            <p:cNvSpPr/>
            <p:nvPr/>
          </p:nvSpPr>
          <p:spPr>
            <a:xfrm>
              <a:off x="3006720" y="270684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9" name="Oval 392"/>
            <p:cNvSpPr/>
            <p:nvPr/>
          </p:nvSpPr>
          <p:spPr>
            <a:xfrm>
              <a:off x="3057480" y="272880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60" name="Group 395"/>
            <p:cNvGrpSpPr/>
            <p:nvPr/>
          </p:nvGrpSpPr>
          <p:grpSpPr>
            <a:xfrm>
              <a:off x="3224160" y="2732040"/>
              <a:ext cx="450360" cy="445680"/>
              <a:chOff x="3224160" y="2732040"/>
              <a:chExt cx="450360" cy="445680"/>
            </a:xfrm>
          </p:grpSpPr>
          <p:sp>
            <p:nvSpPr>
              <p:cNvPr id="2961" name="Freeform 393"/>
              <p:cNvSpPr/>
              <p:nvPr/>
            </p:nvSpPr>
            <p:spPr>
              <a:xfrm>
                <a:off x="3224160" y="273204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2" name="Oval 394"/>
              <p:cNvSpPr/>
              <p:nvPr/>
            </p:nvSpPr>
            <p:spPr>
              <a:xfrm rot="1860000">
                <a:off x="3368520" y="282708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63" name="Group 398"/>
            <p:cNvGrpSpPr/>
            <p:nvPr/>
          </p:nvGrpSpPr>
          <p:grpSpPr>
            <a:xfrm>
              <a:off x="3432240" y="2994120"/>
              <a:ext cx="336240" cy="360000"/>
              <a:chOff x="3432240" y="2994120"/>
              <a:chExt cx="336240" cy="360000"/>
            </a:xfrm>
          </p:grpSpPr>
          <p:sp>
            <p:nvSpPr>
              <p:cNvPr id="2964" name="Freeform 396"/>
              <p:cNvSpPr/>
              <p:nvPr/>
            </p:nvSpPr>
            <p:spPr>
              <a:xfrm>
                <a:off x="3432240" y="299412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5" name="Oval 397"/>
              <p:cNvSpPr/>
              <p:nvPr/>
            </p:nvSpPr>
            <p:spPr>
              <a:xfrm rot="5340000">
                <a:off x="3575160" y="315108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66" name="Group 401"/>
            <p:cNvGrpSpPr/>
            <p:nvPr/>
          </p:nvGrpSpPr>
          <p:grpSpPr>
            <a:xfrm>
              <a:off x="2743200" y="3005280"/>
              <a:ext cx="348840" cy="372600"/>
              <a:chOff x="2743200" y="3005280"/>
              <a:chExt cx="348840" cy="372600"/>
            </a:xfrm>
          </p:grpSpPr>
          <p:sp>
            <p:nvSpPr>
              <p:cNvPr id="2967" name="Freeform 399"/>
              <p:cNvSpPr/>
              <p:nvPr/>
            </p:nvSpPr>
            <p:spPr>
              <a:xfrm>
                <a:off x="2743200" y="300528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8" name="Oval 400"/>
              <p:cNvSpPr/>
              <p:nvPr/>
            </p:nvSpPr>
            <p:spPr>
              <a:xfrm rot="16380000">
                <a:off x="2658600" y="314028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69" name="Group 404"/>
            <p:cNvGrpSpPr/>
            <p:nvPr/>
          </p:nvGrpSpPr>
          <p:grpSpPr>
            <a:xfrm>
              <a:off x="2757600" y="2730600"/>
              <a:ext cx="453600" cy="436320"/>
              <a:chOff x="2757600" y="2730600"/>
              <a:chExt cx="453600" cy="436320"/>
            </a:xfrm>
          </p:grpSpPr>
          <p:sp>
            <p:nvSpPr>
              <p:cNvPr id="2970" name="Freeform 402"/>
              <p:cNvSpPr/>
              <p:nvPr/>
            </p:nvSpPr>
            <p:spPr>
              <a:xfrm>
                <a:off x="2757600" y="273060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1" name="Oval 403"/>
              <p:cNvSpPr/>
              <p:nvPr/>
            </p:nvSpPr>
            <p:spPr>
              <a:xfrm rot="19620000">
                <a:off x="2790720" y="282564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2" name="Group 407"/>
            <p:cNvGrpSpPr/>
            <p:nvPr/>
          </p:nvGrpSpPr>
          <p:grpSpPr>
            <a:xfrm>
              <a:off x="3105000" y="3375000"/>
              <a:ext cx="379080" cy="356760"/>
              <a:chOff x="3105000" y="3375000"/>
              <a:chExt cx="379080" cy="356760"/>
            </a:xfrm>
          </p:grpSpPr>
          <p:sp>
            <p:nvSpPr>
              <p:cNvPr id="2973" name="Freeform 405"/>
              <p:cNvSpPr/>
              <p:nvPr/>
            </p:nvSpPr>
            <p:spPr>
              <a:xfrm>
                <a:off x="3105000" y="337500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4" name="Oval 406"/>
              <p:cNvSpPr/>
              <p:nvPr/>
            </p:nvSpPr>
            <p:spPr>
              <a:xfrm rot="11100000">
                <a:off x="3134160" y="36360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5" name="Group 410"/>
            <p:cNvGrpSpPr/>
            <p:nvPr/>
          </p:nvGrpSpPr>
          <p:grpSpPr>
            <a:xfrm>
              <a:off x="2833560" y="3257640"/>
              <a:ext cx="433080" cy="452160"/>
              <a:chOff x="2833560" y="3257640"/>
              <a:chExt cx="433080" cy="452160"/>
            </a:xfrm>
          </p:grpSpPr>
          <p:sp>
            <p:nvSpPr>
              <p:cNvPr id="2976" name="Freeform 408"/>
              <p:cNvSpPr/>
              <p:nvPr/>
            </p:nvSpPr>
            <p:spPr>
              <a:xfrm>
                <a:off x="2833560" y="325764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7" name="Oval 409"/>
              <p:cNvSpPr/>
              <p:nvPr/>
            </p:nvSpPr>
            <p:spPr>
              <a:xfrm rot="14340000">
                <a:off x="2815920" y="349740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8" name="Group 413"/>
            <p:cNvGrpSpPr/>
            <p:nvPr/>
          </p:nvGrpSpPr>
          <p:grpSpPr>
            <a:xfrm>
              <a:off x="3292560" y="3186000"/>
              <a:ext cx="456840" cy="455400"/>
              <a:chOff x="3292560" y="3186000"/>
              <a:chExt cx="456840" cy="455400"/>
            </a:xfrm>
          </p:grpSpPr>
          <p:sp>
            <p:nvSpPr>
              <p:cNvPr id="2979" name="Freeform 411"/>
              <p:cNvSpPr/>
              <p:nvPr/>
            </p:nvSpPr>
            <p:spPr>
              <a:xfrm>
                <a:off x="3292560" y="318600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0" name="Oval 412"/>
              <p:cNvSpPr/>
              <p:nvPr/>
            </p:nvSpPr>
            <p:spPr>
              <a:xfrm rot="7620000">
                <a:off x="3468960" y="344808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81" name="Group 439"/>
          <p:cNvGrpSpPr/>
          <p:nvPr/>
        </p:nvGrpSpPr>
        <p:grpSpPr>
          <a:xfrm>
            <a:off x="4546440" y="4383000"/>
            <a:ext cx="1050840" cy="1052280"/>
            <a:chOff x="4546440" y="4383000"/>
            <a:chExt cx="1050840" cy="1052280"/>
          </a:xfrm>
        </p:grpSpPr>
        <p:sp useBgFill="1">
          <p:nvSpPr>
            <p:cNvPr id="2982" name="Oval 415"/>
            <p:cNvSpPr/>
            <p:nvPr/>
          </p:nvSpPr>
          <p:spPr>
            <a:xfrm>
              <a:off x="4546440" y="439416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3" name="Freeform 416"/>
            <p:cNvSpPr/>
            <p:nvPr/>
          </p:nvSpPr>
          <p:spPr>
            <a:xfrm>
              <a:off x="4835520" y="438300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4" name="Oval 417"/>
            <p:cNvSpPr/>
            <p:nvPr/>
          </p:nvSpPr>
          <p:spPr>
            <a:xfrm>
              <a:off x="4886280" y="440532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85" name="Group 420"/>
            <p:cNvGrpSpPr/>
            <p:nvPr/>
          </p:nvGrpSpPr>
          <p:grpSpPr>
            <a:xfrm>
              <a:off x="5052960" y="4408560"/>
              <a:ext cx="450360" cy="445680"/>
              <a:chOff x="5052960" y="4408560"/>
              <a:chExt cx="450360" cy="445680"/>
            </a:xfrm>
          </p:grpSpPr>
          <p:sp>
            <p:nvSpPr>
              <p:cNvPr id="2986" name="Freeform 418"/>
              <p:cNvSpPr/>
              <p:nvPr/>
            </p:nvSpPr>
            <p:spPr>
              <a:xfrm>
                <a:off x="5052960" y="440856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7" name="Oval 419"/>
              <p:cNvSpPr/>
              <p:nvPr/>
            </p:nvSpPr>
            <p:spPr>
              <a:xfrm rot="1860000">
                <a:off x="5197320" y="450360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88" name="Group 423"/>
            <p:cNvGrpSpPr/>
            <p:nvPr/>
          </p:nvGrpSpPr>
          <p:grpSpPr>
            <a:xfrm>
              <a:off x="5261040" y="4670280"/>
              <a:ext cx="336240" cy="360000"/>
              <a:chOff x="5261040" y="4670280"/>
              <a:chExt cx="336240" cy="360000"/>
            </a:xfrm>
          </p:grpSpPr>
          <p:sp>
            <p:nvSpPr>
              <p:cNvPr id="2989" name="Freeform 421"/>
              <p:cNvSpPr/>
              <p:nvPr/>
            </p:nvSpPr>
            <p:spPr>
              <a:xfrm>
                <a:off x="5261040" y="467028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0" name="Oval 422"/>
              <p:cNvSpPr/>
              <p:nvPr/>
            </p:nvSpPr>
            <p:spPr>
              <a:xfrm rot="5340000">
                <a:off x="5403960" y="48276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91" name="Group 426"/>
            <p:cNvGrpSpPr/>
            <p:nvPr/>
          </p:nvGrpSpPr>
          <p:grpSpPr>
            <a:xfrm>
              <a:off x="4572000" y="4681440"/>
              <a:ext cx="348840" cy="372600"/>
              <a:chOff x="4572000" y="4681440"/>
              <a:chExt cx="348840" cy="372600"/>
            </a:xfrm>
          </p:grpSpPr>
          <p:sp>
            <p:nvSpPr>
              <p:cNvPr id="2992" name="Freeform 424"/>
              <p:cNvSpPr/>
              <p:nvPr/>
            </p:nvSpPr>
            <p:spPr>
              <a:xfrm>
                <a:off x="4572000" y="468144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3" name="Oval 425"/>
              <p:cNvSpPr/>
              <p:nvPr/>
            </p:nvSpPr>
            <p:spPr>
              <a:xfrm rot="16380000">
                <a:off x="4487400" y="48168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94" name="Group 429"/>
            <p:cNvGrpSpPr/>
            <p:nvPr/>
          </p:nvGrpSpPr>
          <p:grpSpPr>
            <a:xfrm>
              <a:off x="4586400" y="4406760"/>
              <a:ext cx="453600" cy="436320"/>
              <a:chOff x="4586400" y="4406760"/>
              <a:chExt cx="453600" cy="436320"/>
            </a:xfrm>
          </p:grpSpPr>
          <p:sp>
            <p:nvSpPr>
              <p:cNvPr id="2995" name="Freeform 427"/>
              <p:cNvSpPr/>
              <p:nvPr/>
            </p:nvSpPr>
            <p:spPr>
              <a:xfrm>
                <a:off x="4586400" y="440676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6" name="Oval 428"/>
              <p:cNvSpPr/>
              <p:nvPr/>
            </p:nvSpPr>
            <p:spPr>
              <a:xfrm rot="19620000">
                <a:off x="4619520" y="450216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97" name="Group 432"/>
            <p:cNvGrpSpPr/>
            <p:nvPr/>
          </p:nvGrpSpPr>
          <p:grpSpPr>
            <a:xfrm>
              <a:off x="4933800" y="5051520"/>
              <a:ext cx="379080" cy="356760"/>
              <a:chOff x="4933800" y="5051520"/>
              <a:chExt cx="379080" cy="356760"/>
            </a:xfrm>
          </p:grpSpPr>
          <p:sp>
            <p:nvSpPr>
              <p:cNvPr id="2998" name="Freeform 430"/>
              <p:cNvSpPr/>
              <p:nvPr/>
            </p:nvSpPr>
            <p:spPr>
              <a:xfrm>
                <a:off x="4933800" y="505152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9" name="Oval 431"/>
              <p:cNvSpPr/>
              <p:nvPr/>
            </p:nvSpPr>
            <p:spPr>
              <a:xfrm rot="11100000">
                <a:off x="4962960" y="531216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00" name="Group 435"/>
            <p:cNvGrpSpPr/>
            <p:nvPr/>
          </p:nvGrpSpPr>
          <p:grpSpPr>
            <a:xfrm>
              <a:off x="4662360" y="4933800"/>
              <a:ext cx="433080" cy="452160"/>
              <a:chOff x="4662360" y="4933800"/>
              <a:chExt cx="433080" cy="452160"/>
            </a:xfrm>
          </p:grpSpPr>
          <p:sp>
            <p:nvSpPr>
              <p:cNvPr id="3001" name="Freeform 433"/>
              <p:cNvSpPr/>
              <p:nvPr/>
            </p:nvSpPr>
            <p:spPr>
              <a:xfrm>
                <a:off x="4662360" y="493380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2" name="Oval 434"/>
              <p:cNvSpPr/>
              <p:nvPr/>
            </p:nvSpPr>
            <p:spPr>
              <a:xfrm rot="14340000">
                <a:off x="4644720" y="517392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03" name="Group 438"/>
            <p:cNvGrpSpPr/>
            <p:nvPr/>
          </p:nvGrpSpPr>
          <p:grpSpPr>
            <a:xfrm>
              <a:off x="5121360" y="4862520"/>
              <a:ext cx="456840" cy="455400"/>
              <a:chOff x="5121360" y="4862520"/>
              <a:chExt cx="456840" cy="455400"/>
            </a:xfrm>
          </p:grpSpPr>
          <p:sp>
            <p:nvSpPr>
              <p:cNvPr id="3004" name="Freeform 436"/>
              <p:cNvSpPr/>
              <p:nvPr/>
            </p:nvSpPr>
            <p:spPr>
              <a:xfrm>
                <a:off x="5121360" y="486252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5" name="Oval 437"/>
              <p:cNvSpPr/>
              <p:nvPr/>
            </p:nvSpPr>
            <p:spPr>
              <a:xfrm rot="7620000">
                <a:off x="5297760" y="51246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6" name="Group 464"/>
          <p:cNvGrpSpPr/>
          <p:nvPr/>
        </p:nvGrpSpPr>
        <p:grpSpPr>
          <a:xfrm>
            <a:off x="1803240" y="3849840"/>
            <a:ext cx="1050840" cy="1051920"/>
            <a:chOff x="1803240" y="3849840"/>
            <a:chExt cx="1050840" cy="1051920"/>
          </a:xfrm>
        </p:grpSpPr>
        <p:sp useBgFill="1">
          <p:nvSpPr>
            <p:cNvPr id="3007" name="Oval 440"/>
            <p:cNvSpPr/>
            <p:nvPr/>
          </p:nvSpPr>
          <p:spPr>
            <a:xfrm>
              <a:off x="1803240" y="386064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8" name="Freeform 441"/>
            <p:cNvSpPr/>
            <p:nvPr/>
          </p:nvSpPr>
          <p:spPr>
            <a:xfrm>
              <a:off x="2092320" y="384984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9" name="Oval 442"/>
            <p:cNvSpPr/>
            <p:nvPr/>
          </p:nvSpPr>
          <p:spPr>
            <a:xfrm>
              <a:off x="2143080" y="387180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10" name="Group 445"/>
            <p:cNvGrpSpPr/>
            <p:nvPr/>
          </p:nvGrpSpPr>
          <p:grpSpPr>
            <a:xfrm>
              <a:off x="2309760" y="3875040"/>
              <a:ext cx="450360" cy="445680"/>
              <a:chOff x="2309760" y="3875040"/>
              <a:chExt cx="450360" cy="445680"/>
            </a:xfrm>
          </p:grpSpPr>
          <p:sp>
            <p:nvSpPr>
              <p:cNvPr id="3011" name="Freeform 443"/>
              <p:cNvSpPr/>
              <p:nvPr/>
            </p:nvSpPr>
            <p:spPr>
              <a:xfrm>
                <a:off x="2309760" y="387504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2" name="Oval 444"/>
              <p:cNvSpPr/>
              <p:nvPr/>
            </p:nvSpPr>
            <p:spPr>
              <a:xfrm rot="1860000">
                <a:off x="2454120" y="397008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13" name="Group 448"/>
            <p:cNvGrpSpPr/>
            <p:nvPr/>
          </p:nvGrpSpPr>
          <p:grpSpPr>
            <a:xfrm>
              <a:off x="2517840" y="4137120"/>
              <a:ext cx="336240" cy="360000"/>
              <a:chOff x="2517840" y="4137120"/>
              <a:chExt cx="336240" cy="360000"/>
            </a:xfrm>
          </p:grpSpPr>
          <p:sp>
            <p:nvSpPr>
              <p:cNvPr id="3014" name="Freeform 446"/>
              <p:cNvSpPr/>
              <p:nvPr/>
            </p:nvSpPr>
            <p:spPr>
              <a:xfrm>
                <a:off x="2517840" y="413712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5" name="Oval 447"/>
              <p:cNvSpPr/>
              <p:nvPr/>
            </p:nvSpPr>
            <p:spPr>
              <a:xfrm rot="5340000">
                <a:off x="2660760" y="429408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16" name="Group 451"/>
            <p:cNvGrpSpPr/>
            <p:nvPr/>
          </p:nvGrpSpPr>
          <p:grpSpPr>
            <a:xfrm>
              <a:off x="1828800" y="4148280"/>
              <a:ext cx="348840" cy="372600"/>
              <a:chOff x="1828800" y="4148280"/>
              <a:chExt cx="348840" cy="372600"/>
            </a:xfrm>
          </p:grpSpPr>
          <p:sp>
            <p:nvSpPr>
              <p:cNvPr id="3017" name="Freeform 449"/>
              <p:cNvSpPr/>
              <p:nvPr/>
            </p:nvSpPr>
            <p:spPr>
              <a:xfrm>
                <a:off x="1828800" y="414828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8" name="Oval 450"/>
              <p:cNvSpPr/>
              <p:nvPr/>
            </p:nvSpPr>
            <p:spPr>
              <a:xfrm rot="16380000">
                <a:off x="1744200" y="428328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19" name="Group 454"/>
            <p:cNvGrpSpPr/>
            <p:nvPr/>
          </p:nvGrpSpPr>
          <p:grpSpPr>
            <a:xfrm>
              <a:off x="1843200" y="3873600"/>
              <a:ext cx="453600" cy="436320"/>
              <a:chOff x="1843200" y="3873600"/>
              <a:chExt cx="453600" cy="436320"/>
            </a:xfrm>
          </p:grpSpPr>
          <p:sp>
            <p:nvSpPr>
              <p:cNvPr id="3020" name="Freeform 452"/>
              <p:cNvSpPr/>
              <p:nvPr/>
            </p:nvSpPr>
            <p:spPr>
              <a:xfrm>
                <a:off x="1843200" y="387360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1" name="Oval 453"/>
              <p:cNvSpPr/>
              <p:nvPr/>
            </p:nvSpPr>
            <p:spPr>
              <a:xfrm rot="19620000">
                <a:off x="1876320" y="396864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2" name="Group 457"/>
            <p:cNvGrpSpPr/>
            <p:nvPr/>
          </p:nvGrpSpPr>
          <p:grpSpPr>
            <a:xfrm>
              <a:off x="2190600" y="4518000"/>
              <a:ext cx="379080" cy="356760"/>
              <a:chOff x="2190600" y="4518000"/>
              <a:chExt cx="379080" cy="356760"/>
            </a:xfrm>
          </p:grpSpPr>
          <p:sp>
            <p:nvSpPr>
              <p:cNvPr id="3023" name="Freeform 455"/>
              <p:cNvSpPr/>
              <p:nvPr/>
            </p:nvSpPr>
            <p:spPr>
              <a:xfrm>
                <a:off x="2190600" y="451800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4" name="Oval 456"/>
              <p:cNvSpPr/>
              <p:nvPr/>
            </p:nvSpPr>
            <p:spPr>
              <a:xfrm rot="11100000">
                <a:off x="2219760" y="47790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5" name="Group 460"/>
            <p:cNvGrpSpPr/>
            <p:nvPr/>
          </p:nvGrpSpPr>
          <p:grpSpPr>
            <a:xfrm>
              <a:off x="1919160" y="4400640"/>
              <a:ext cx="433080" cy="452160"/>
              <a:chOff x="1919160" y="4400640"/>
              <a:chExt cx="433080" cy="452160"/>
            </a:xfrm>
          </p:grpSpPr>
          <p:sp>
            <p:nvSpPr>
              <p:cNvPr id="3026" name="Freeform 458"/>
              <p:cNvSpPr/>
              <p:nvPr/>
            </p:nvSpPr>
            <p:spPr>
              <a:xfrm>
                <a:off x="1919160" y="440064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7" name="Oval 459"/>
              <p:cNvSpPr/>
              <p:nvPr/>
            </p:nvSpPr>
            <p:spPr>
              <a:xfrm rot="14340000">
                <a:off x="1901520" y="464040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8" name="Group 463"/>
            <p:cNvGrpSpPr/>
            <p:nvPr/>
          </p:nvGrpSpPr>
          <p:grpSpPr>
            <a:xfrm>
              <a:off x="2378160" y="4329000"/>
              <a:ext cx="456840" cy="455400"/>
              <a:chOff x="2378160" y="4329000"/>
              <a:chExt cx="456840" cy="455400"/>
            </a:xfrm>
          </p:grpSpPr>
          <p:sp>
            <p:nvSpPr>
              <p:cNvPr id="3029" name="Freeform 461"/>
              <p:cNvSpPr/>
              <p:nvPr/>
            </p:nvSpPr>
            <p:spPr>
              <a:xfrm>
                <a:off x="2378160" y="432900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0" name="Oval 462"/>
              <p:cNvSpPr/>
              <p:nvPr/>
            </p:nvSpPr>
            <p:spPr>
              <a:xfrm rot="7620000">
                <a:off x="2554560" y="459108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31" name="Group 489"/>
          <p:cNvGrpSpPr/>
          <p:nvPr/>
        </p:nvGrpSpPr>
        <p:grpSpPr>
          <a:xfrm>
            <a:off x="5765760" y="4307040"/>
            <a:ext cx="1050480" cy="1051920"/>
            <a:chOff x="5765760" y="4307040"/>
            <a:chExt cx="1050480" cy="1051920"/>
          </a:xfrm>
        </p:grpSpPr>
        <p:sp useBgFill="1">
          <p:nvSpPr>
            <p:cNvPr id="3032" name="Oval 465"/>
            <p:cNvSpPr/>
            <p:nvPr/>
          </p:nvSpPr>
          <p:spPr>
            <a:xfrm>
              <a:off x="5765760" y="431784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3" name="Freeform 466"/>
            <p:cNvSpPr/>
            <p:nvPr/>
          </p:nvSpPr>
          <p:spPr>
            <a:xfrm>
              <a:off x="6054840" y="430704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4" name="Oval 467"/>
            <p:cNvSpPr/>
            <p:nvPr/>
          </p:nvSpPr>
          <p:spPr>
            <a:xfrm>
              <a:off x="6105600" y="432900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35" name="Group 470"/>
            <p:cNvGrpSpPr/>
            <p:nvPr/>
          </p:nvGrpSpPr>
          <p:grpSpPr>
            <a:xfrm>
              <a:off x="6272280" y="4332240"/>
              <a:ext cx="450360" cy="445680"/>
              <a:chOff x="6272280" y="4332240"/>
              <a:chExt cx="450360" cy="445680"/>
            </a:xfrm>
          </p:grpSpPr>
          <p:sp>
            <p:nvSpPr>
              <p:cNvPr id="3036" name="Freeform 468"/>
              <p:cNvSpPr/>
              <p:nvPr/>
            </p:nvSpPr>
            <p:spPr>
              <a:xfrm>
                <a:off x="6272280" y="433224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7" name="Oval 469"/>
              <p:cNvSpPr/>
              <p:nvPr/>
            </p:nvSpPr>
            <p:spPr>
              <a:xfrm rot="1860000">
                <a:off x="6416640" y="442728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38" name="Group 473"/>
            <p:cNvGrpSpPr/>
            <p:nvPr/>
          </p:nvGrpSpPr>
          <p:grpSpPr>
            <a:xfrm>
              <a:off x="6480000" y="4594320"/>
              <a:ext cx="336240" cy="360000"/>
              <a:chOff x="6480000" y="4594320"/>
              <a:chExt cx="336240" cy="360000"/>
            </a:xfrm>
          </p:grpSpPr>
          <p:sp>
            <p:nvSpPr>
              <p:cNvPr id="3039" name="Freeform 471"/>
              <p:cNvSpPr/>
              <p:nvPr/>
            </p:nvSpPr>
            <p:spPr>
              <a:xfrm>
                <a:off x="6480000" y="459432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0" name="Oval 472"/>
              <p:cNvSpPr/>
              <p:nvPr/>
            </p:nvSpPr>
            <p:spPr>
              <a:xfrm rot="5340000">
                <a:off x="6623280" y="475128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1" name="Group 476"/>
            <p:cNvGrpSpPr/>
            <p:nvPr/>
          </p:nvGrpSpPr>
          <p:grpSpPr>
            <a:xfrm>
              <a:off x="5791320" y="4605480"/>
              <a:ext cx="348840" cy="372600"/>
              <a:chOff x="5791320" y="4605480"/>
              <a:chExt cx="348840" cy="372600"/>
            </a:xfrm>
          </p:grpSpPr>
          <p:sp>
            <p:nvSpPr>
              <p:cNvPr id="3042" name="Freeform 474"/>
              <p:cNvSpPr/>
              <p:nvPr/>
            </p:nvSpPr>
            <p:spPr>
              <a:xfrm>
                <a:off x="5791320" y="460548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3" name="Oval 475"/>
              <p:cNvSpPr/>
              <p:nvPr/>
            </p:nvSpPr>
            <p:spPr>
              <a:xfrm rot="16380000">
                <a:off x="5706720" y="474048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4" name="Group 479"/>
            <p:cNvGrpSpPr/>
            <p:nvPr/>
          </p:nvGrpSpPr>
          <p:grpSpPr>
            <a:xfrm>
              <a:off x="5805360" y="4330800"/>
              <a:ext cx="453600" cy="436320"/>
              <a:chOff x="5805360" y="4330800"/>
              <a:chExt cx="453600" cy="436320"/>
            </a:xfrm>
          </p:grpSpPr>
          <p:sp>
            <p:nvSpPr>
              <p:cNvPr id="3045" name="Freeform 477"/>
              <p:cNvSpPr/>
              <p:nvPr/>
            </p:nvSpPr>
            <p:spPr>
              <a:xfrm>
                <a:off x="5805360" y="433080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6" name="Oval 478"/>
              <p:cNvSpPr/>
              <p:nvPr/>
            </p:nvSpPr>
            <p:spPr>
              <a:xfrm rot="19620000">
                <a:off x="5838840" y="442584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7" name="Group 482"/>
            <p:cNvGrpSpPr/>
            <p:nvPr/>
          </p:nvGrpSpPr>
          <p:grpSpPr>
            <a:xfrm>
              <a:off x="6153120" y="4975200"/>
              <a:ext cx="379080" cy="356760"/>
              <a:chOff x="6153120" y="4975200"/>
              <a:chExt cx="379080" cy="356760"/>
            </a:xfrm>
          </p:grpSpPr>
          <p:sp>
            <p:nvSpPr>
              <p:cNvPr id="3048" name="Freeform 480"/>
              <p:cNvSpPr/>
              <p:nvPr/>
            </p:nvSpPr>
            <p:spPr>
              <a:xfrm>
                <a:off x="6153120" y="497520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9" name="Oval 481"/>
              <p:cNvSpPr/>
              <p:nvPr/>
            </p:nvSpPr>
            <p:spPr>
              <a:xfrm rot="11100000">
                <a:off x="6181920" y="52362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50" name="Group 485"/>
            <p:cNvGrpSpPr/>
            <p:nvPr/>
          </p:nvGrpSpPr>
          <p:grpSpPr>
            <a:xfrm>
              <a:off x="5881680" y="4857840"/>
              <a:ext cx="433080" cy="452160"/>
              <a:chOff x="5881680" y="4857840"/>
              <a:chExt cx="433080" cy="452160"/>
            </a:xfrm>
          </p:grpSpPr>
          <p:sp>
            <p:nvSpPr>
              <p:cNvPr id="3051" name="Freeform 483"/>
              <p:cNvSpPr/>
              <p:nvPr/>
            </p:nvSpPr>
            <p:spPr>
              <a:xfrm>
                <a:off x="5881680" y="485784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2" name="Oval 484"/>
              <p:cNvSpPr/>
              <p:nvPr/>
            </p:nvSpPr>
            <p:spPr>
              <a:xfrm rot="14340000">
                <a:off x="5863680" y="509760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53" name="Group 488"/>
            <p:cNvGrpSpPr/>
            <p:nvPr/>
          </p:nvGrpSpPr>
          <p:grpSpPr>
            <a:xfrm>
              <a:off x="6340320" y="4786200"/>
              <a:ext cx="456840" cy="455400"/>
              <a:chOff x="6340320" y="4786200"/>
              <a:chExt cx="456840" cy="455400"/>
            </a:xfrm>
          </p:grpSpPr>
          <p:sp>
            <p:nvSpPr>
              <p:cNvPr id="3054" name="Freeform 486"/>
              <p:cNvSpPr/>
              <p:nvPr/>
            </p:nvSpPr>
            <p:spPr>
              <a:xfrm>
                <a:off x="6340320" y="478620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5" name="Oval 487"/>
              <p:cNvSpPr/>
              <p:nvPr/>
            </p:nvSpPr>
            <p:spPr>
              <a:xfrm rot="7620000">
                <a:off x="6517080" y="504828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56" name="Group 514"/>
          <p:cNvGrpSpPr/>
          <p:nvPr/>
        </p:nvGrpSpPr>
        <p:grpSpPr>
          <a:xfrm>
            <a:off x="5079960" y="3240000"/>
            <a:ext cx="1050480" cy="1052280"/>
            <a:chOff x="5079960" y="3240000"/>
            <a:chExt cx="1050480" cy="1052280"/>
          </a:xfrm>
        </p:grpSpPr>
        <p:sp useBgFill="1">
          <p:nvSpPr>
            <p:cNvPr id="3057" name="Oval 490"/>
            <p:cNvSpPr/>
            <p:nvPr/>
          </p:nvSpPr>
          <p:spPr>
            <a:xfrm>
              <a:off x="5079960" y="325116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8" name="Freeform 491"/>
            <p:cNvSpPr/>
            <p:nvPr/>
          </p:nvSpPr>
          <p:spPr>
            <a:xfrm>
              <a:off x="5369040" y="324000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9" name="Oval 492"/>
            <p:cNvSpPr/>
            <p:nvPr/>
          </p:nvSpPr>
          <p:spPr>
            <a:xfrm>
              <a:off x="5419800" y="326232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60" name="Group 495"/>
            <p:cNvGrpSpPr/>
            <p:nvPr/>
          </p:nvGrpSpPr>
          <p:grpSpPr>
            <a:xfrm>
              <a:off x="5586480" y="3265560"/>
              <a:ext cx="450360" cy="445680"/>
              <a:chOff x="5586480" y="3265560"/>
              <a:chExt cx="450360" cy="445680"/>
            </a:xfrm>
          </p:grpSpPr>
          <p:sp>
            <p:nvSpPr>
              <p:cNvPr id="3061" name="Freeform 493"/>
              <p:cNvSpPr/>
              <p:nvPr/>
            </p:nvSpPr>
            <p:spPr>
              <a:xfrm>
                <a:off x="5586480" y="326556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2" name="Oval 494"/>
              <p:cNvSpPr/>
              <p:nvPr/>
            </p:nvSpPr>
            <p:spPr>
              <a:xfrm rot="1860000">
                <a:off x="5730840" y="336060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63" name="Group 498"/>
            <p:cNvGrpSpPr/>
            <p:nvPr/>
          </p:nvGrpSpPr>
          <p:grpSpPr>
            <a:xfrm>
              <a:off x="5794200" y="3527280"/>
              <a:ext cx="336240" cy="360000"/>
              <a:chOff x="5794200" y="3527280"/>
              <a:chExt cx="336240" cy="360000"/>
            </a:xfrm>
          </p:grpSpPr>
          <p:sp>
            <p:nvSpPr>
              <p:cNvPr id="3064" name="Freeform 496"/>
              <p:cNvSpPr/>
              <p:nvPr/>
            </p:nvSpPr>
            <p:spPr>
              <a:xfrm>
                <a:off x="5794200" y="352728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5" name="Oval 497"/>
              <p:cNvSpPr/>
              <p:nvPr/>
            </p:nvSpPr>
            <p:spPr>
              <a:xfrm rot="5340000">
                <a:off x="5937480" y="36846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66" name="Group 501"/>
            <p:cNvGrpSpPr/>
            <p:nvPr/>
          </p:nvGrpSpPr>
          <p:grpSpPr>
            <a:xfrm>
              <a:off x="5105520" y="3538440"/>
              <a:ext cx="348840" cy="372600"/>
              <a:chOff x="5105520" y="3538440"/>
              <a:chExt cx="348840" cy="372600"/>
            </a:xfrm>
          </p:grpSpPr>
          <p:sp>
            <p:nvSpPr>
              <p:cNvPr id="3067" name="Freeform 499"/>
              <p:cNvSpPr/>
              <p:nvPr/>
            </p:nvSpPr>
            <p:spPr>
              <a:xfrm>
                <a:off x="5105520" y="353844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8" name="Oval 500"/>
              <p:cNvSpPr/>
              <p:nvPr/>
            </p:nvSpPr>
            <p:spPr>
              <a:xfrm rot="16380000">
                <a:off x="5020920" y="36738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69" name="Group 504"/>
            <p:cNvGrpSpPr/>
            <p:nvPr/>
          </p:nvGrpSpPr>
          <p:grpSpPr>
            <a:xfrm>
              <a:off x="5119560" y="3263760"/>
              <a:ext cx="453600" cy="436320"/>
              <a:chOff x="5119560" y="3263760"/>
              <a:chExt cx="453600" cy="436320"/>
            </a:xfrm>
          </p:grpSpPr>
          <p:sp>
            <p:nvSpPr>
              <p:cNvPr id="3070" name="Freeform 502"/>
              <p:cNvSpPr/>
              <p:nvPr/>
            </p:nvSpPr>
            <p:spPr>
              <a:xfrm>
                <a:off x="5119560" y="326376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1" name="Oval 503"/>
              <p:cNvSpPr/>
              <p:nvPr/>
            </p:nvSpPr>
            <p:spPr>
              <a:xfrm rot="19620000">
                <a:off x="5153040" y="335916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2" name="Group 507"/>
            <p:cNvGrpSpPr/>
            <p:nvPr/>
          </p:nvGrpSpPr>
          <p:grpSpPr>
            <a:xfrm>
              <a:off x="5467320" y="3908520"/>
              <a:ext cx="379080" cy="356760"/>
              <a:chOff x="5467320" y="3908520"/>
              <a:chExt cx="379080" cy="356760"/>
            </a:xfrm>
          </p:grpSpPr>
          <p:sp>
            <p:nvSpPr>
              <p:cNvPr id="3073" name="Freeform 505"/>
              <p:cNvSpPr/>
              <p:nvPr/>
            </p:nvSpPr>
            <p:spPr>
              <a:xfrm>
                <a:off x="5467320" y="390852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4" name="Oval 506"/>
              <p:cNvSpPr/>
              <p:nvPr/>
            </p:nvSpPr>
            <p:spPr>
              <a:xfrm rot="11100000">
                <a:off x="5496120" y="416916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5" name="Group 510"/>
            <p:cNvGrpSpPr/>
            <p:nvPr/>
          </p:nvGrpSpPr>
          <p:grpSpPr>
            <a:xfrm>
              <a:off x="5195880" y="3790800"/>
              <a:ext cx="433080" cy="452160"/>
              <a:chOff x="5195880" y="3790800"/>
              <a:chExt cx="433080" cy="452160"/>
            </a:xfrm>
          </p:grpSpPr>
          <p:sp>
            <p:nvSpPr>
              <p:cNvPr id="3076" name="Freeform 508"/>
              <p:cNvSpPr/>
              <p:nvPr/>
            </p:nvSpPr>
            <p:spPr>
              <a:xfrm>
                <a:off x="5195880" y="379080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7" name="Oval 509"/>
              <p:cNvSpPr/>
              <p:nvPr/>
            </p:nvSpPr>
            <p:spPr>
              <a:xfrm rot="14340000">
                <a:off x="5177880" y="403092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8" name="Group 513"/>
            <p:cNvGrpSpPr/>
            <p:nvPr/>
          </p:nvGrpSpPr>
          <p:grpSpPr>
            <a:xfrm>
              <a:off x="5654520" y="3719520"/>
              <a:ext cx="456840" cy="455400"/>
              <a:chOff x="5654520" y="3719520"/>
              <a:chExt cx="456840" cy="455400"/>
            </a:xfrm>
          </p:grpSpPr>
          <p:sp>
            <p:nvSpPr>
              <p:cNvPr id="3079" name="Freeform 511"/>
              <p:cNvSpPr/>
              <p:nvPr/>
            </p:nvSpPr>
            <p:spPr>
              <a:xfrm>
                <a:off x="5654520" y="371952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0" name="Oval 512"/>
              <p:cNvSpPr/>
              <p:nvPr/>
            </p:nvSpPr>
            <p:spPr>
              <a:xfrm rot="7620000">
                <a:off x="5831280" y="39816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81" name="Group 539"/>
          <p:cNvGrpSpPr/>
          <p:nvPr/>
        </p:nvGrpSpPr>
        <p:grpSpPr>
          <a:xfrm>
            <a:off x="6299280" y="3240000"/>
            <a:ext cx="1050480" cy="1052280"/>
            <a:chOff x="6299280" y="3240000"/>
            <a:chExt cx="1050480" cy="1052280"/>
          </a:xfrm>
        </p:grpSpPr>
        <p:sp useBgFill="1">
          <p:nvSpPr>
            <p:cNvPr id="3082" name="Oval 515"/>
            <p:cNvSpPr/>
            <p:nvPr/>
          </p:nvSpPr>
          <p:spPr>
            <a:xfrm>
              <a:off x="6299280" y="325116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3" name="Freeform 516"/>
            <p:cNvSpPr/>
            <p:nvPr/>
          </p:nvSpPr>
          <p:spPr>
            <a:xfrm>
              <a:off x="6588000" y="324000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4" name="Oval 517"/>
            <p:cNvSpPr/>
            <p:nvPr/>
          </p:nvSpPr>
          <p:spPr>
            <a:xfrm>
              <a:off x="6638760" y="326232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85" name="Group 520"/>
            <p:cNvGrpSpPr/>
            <p:nvPr/>
          </p:nvGrpSpPr>
          <p:grpSpPr>
            <a:xfrm>
              <a:off x="6805440" y="3265560"/>
              <a:ext cx="450360" cy="445680"/>
              <a:chOff x="6805440" y="3265560"/>
              <a:chExt cx="450360" cy="445680"/>
            </a:xfrm>
          </p:grpSpPr>
          <p:sp>
            <p:nvSpPr>
              <p:cNvPr id="3086" name="Freeform 518"/>
              <p:cNvSpPr/>
              <p:nvPr/>
            </p:nvSpPr>
            <p:spPr>
              <a:xfrm>
                <a:off x="6805440" y="326556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7" name="Oval 519"/>
              <p:cNvSpPr/>
              <p:nvPr/>
            </p:nvSpPr>
            <p:spPr>
              <a:xfrm rot="1860000">
                <a:off x="6949800" y="336060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88" name="Group 523"/>
            <p:cNvGrpSpPr/>
            <p:nvPr/>
          </p:nvGrpSpPr>
          <p:grpSpPr>
            <a:xfrm>
              <a:off x="7013520" y="3527280"/>
              <a:ext cx="336240" cy="360000"/>
              <a:chOff x="7013520" y="3527280"/>
              <a:chExt cx="336240" cy="360000"/>
            </a:xfrm>
          </p:grpSpPr>
          <p:sp>
            <p:nvSpPr>
              <p:cNvPr id="3089" name="Freeform 521"/>
              <p:cNvSpPr/>
              <p:nvPr/>
            </p:nvSpPr>
            <p:spPr>
              <a:xfrm>
                <a:off x="7013520" y="352728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0" name="Oval 522"/>
              <p:cNvSpPr/>
              <p:nvPr/>
            </p:nvSpPr>
            <p:spPr>
              <a:xfrm rot="5340000">
                <a:off x="7156440" y="36846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91" name="Group 526"/>
            <p:cNvGrpSpPr/>
            <p:nvPr/>
          </p:nvGrpSpPr>
          <p:grpSpPr>
            <a:xfrm>
              <a:off x="6324480" y="3538440"/>
              <a:ext cx="348840" cy="372600"/>
              <a:chOff x="6324480" y="3538440"/>
              <a:chExt cx="348840" cy="372600"/>
            </a:xfrm>
          </p:grpSpPr>
          <p:sp>
            <p:nvSpPr>
              <p:cNvPr id="3092" name="Freeform 524"/>
              <p:cNvSpPr/>
              <p:nvPr/>
            </p:nvSpPr>
            <p:spPr>
              <a:xfrm>
                <a:off x="6324480" y="353844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3" name="Oval 525"/>
              <p:cNvSpPr/>
              <p:nvPr/>
            </p:nvSpPr>
            <p:spPr>
              <a:xfrm rot="16380000">
                <a:off x="6239880" y="36738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94" name="Group 529"/>
            <p:cNvGrpSpPr/>
            <p:nvPr/>
          </p:nvGrpSpPr>
          <p:grpSpPr>
            <a:xfrm>
              <a:off x="6338880" y="3263760"/>
              <a:ext cx="453600" cy="436320"/>
              <a:chOff x="6338880" y="3263760"/>
              <a:chExt cx="453600" cy="436320"/>
            </a:xfrm>
          </p:grpSpPr>
          <p:sp>
            <p:nvSpPr>
              <p:cNvPr id="3095" name="Freeform 527"/>
              <p:cNvSpPr/>
              <p:nvPr/>
            </p:nvSpPr>
            <p:spPr>
              <a:xfrm>
                <a:off x="6338880" y="326376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6" name="Oval 528"/>
              <p:cNvSpPr/>
              <p:nvPr/>
            </p:nvSpPr>
            <p:spPr>
              <a:xfrm rot="19620000">
                <a:off x="6372000" y="335916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97" name="Group 532"/>
            <p:cNvGrpSpPr/>
            <p:nvPr/>
          </p:nvGrpSpPr>
          <p:grpSpPr>
            <a:xfrm>
              <a:off x="6686640" y="3908520"/>
              <a:ext cx="379080" cy="356760"/>
              <a:chOff x="6686640" y="3908520"/>
              <a:chExt cx="379080" cy="356760"/>
            </a:xfrm>
          </p:grpSpPr>
          <p:sp>
            <p:nvSpPr>
              <p:cNvPr id="3098" name="Freeform 530"/>
              <p:cNvSpPr/>
              <p:nvPr/>
            </p:nvSpPr>
            <p:spPr>
              <a:xfrm>
                <a:off x="6686640" y="390852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9" name="Oval 531"/>
              <p:cNvSpPr/>
              <p:nvPr/>
            </p:nvSpPr>
            <p:spPr>
              <a:xfrm rot="11100000">
                <a:off x="6715440" y="416916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00" name="Group 535"/>
            <p:cNvGrpSpPr/>
            <p:nvPr/>
          </p:nvGrpSpPr>
          <p:grpSpPr>
            <a:xfrm>
              <a:off x="6415200" y="3790800"/>
              <a:ext cx="433080" cy="452160"/>
              <a:chOff x="6415200" y="3790800"/>
              <a:chExt cx="433080" cy="452160"/>
            </a:xfrm>
          </p:grpSpPr>
          <p:sp>
            <p:nvSpPr>
              <p:cNvPr id="3101" name="Freeform 533"/>
              <p:cNvSpPr/>
              <p:nvPr/>
            </p:nvSpPr>
            <p:spPr>
              <a:xfrm>
                <a:off x="6415200" y="379080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2" name="Oval 534"/>
              <p:cNvSpPr/>
              <p:nvPr/>
            </p:nvSpPr>
            <p:spPr>
              <a:xfrm rot="14340000">
                <a:off x="6397200" y="403092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03" name="Group 538"/>
            <p:cNvGrpSpPr/>
            <p:nvPr/>
          </p:nvGrpSpPr>
          <p:grpSpPr>
            <a:xfrm>
              <a:off x="6873840" y="3719520"/>
              <a:ext cx="456840" cy="455400"/>
              <a:chOff x="6873840" y="3719520"/>
              <a:chExt cx="456840" cy="455400"/>
            </a:xfrm>
          </p:grpSpPr>
          <p:sp>
            <p:nvSpPr>
              <p:cNvPr id="3104" name="Freeform 536"/>
              <p:cNvSpPr/>
              <p:nvPr/>
            </p:nvSpPr>
            <p:spPr>
              <a:xfrm>
                <a:off x="6873840" y="371952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5" name="Oval 537"/>
              <p:cNvSpPr/>
              <p:nvPr/>
            </p:nvSpPr>
            <p:spPr>
              <a:xfrm rot="7620000">
                <a:off x="7050600" y="39816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06" name="Group 564"/>
          <p:cNvGrpSpPr/>
          <p:nvPr/>
        </p:nvGrpSpPr>
        <p:grpSpPr>
          <a:xfrm>
            <a:off x="4165560" y="1182600"/>
            <a:ext cx="1050480" cy="1052280"/>
            <a:chOff x="4165560" y="1182600"/>
            <a:chExt cx="1050480" cy="1052280"/>
          </a:xfrm>
        </p:grpSpPr>
        <p:sp useBgFill="1">
          <p:nvSpPr>
            <p:cNvPr id="3107" name="Oval 540"/>
            <p:cNvSpPr/>
            <p:nvPr/>
          </p:nvSpPr>
          <p:spPr>
            <a:xfrm>
              <a:off x="4165560" y="119376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8" name="Freeform 541"/>
            <p:cNvSpPr/>
            <p:nvPr/>
          </p:nvSpPr>
          <p:spPr>
            <a:xfrm>
              <a:off x="4454640" y="118260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9" name="Oval 542"/>
            <p:cNvSpPr/>
            <p:nvPr/>
          </p:nvSpPr>
          <p:spPr>
            <a:xfrm>
              <a:off x="4505400" y="120492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10" name="Group 545"/>
            <p:cNvGrpSpPr/>
            <p:nvPr/>
          </p:nvGrpSpPr>
          <p:grpSpPr>
            <a:xfrm>
              <a:off x="4672080" y="1208160"/>
              <a:ext cx="450360" cy="445680"/>
              <a:chOff x="4672080" y="1208160"/>
              <a:chExt cx="450360" cy="445680"/>
            </a:xfrm>
          </p:grpSpPr>
          <p:sp>
            <p:nvSpPr>
              <p:cNvPr id="3111" name="Freeform 543"/>
              <p:cNvSpPr/>
              <p:nvPr/>
            </p:nvSpPr>
            <p:spPr>
              <a:xfrm>
                <a:off x="4672080" y="120816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2" name="Oval 544"/>
              <p:cNvSpPr/>
              <p:nvPr/>
            </p:nvSpPr>
            <p:spPr>
              <a:xfrm rot="1860000">
                <a:off x="4816440" y="130320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13" name="Group 548"/>
            <p:cNvGrpSpPr/>
            <p:nvPr/>
          </p:nvGrpSpPr>
          <p:grpSpPr>
            <a:xfrm>
              <a:off x="4879800" y="1469880"/>
              <a:ext cx="336240" cy="360000"/>
              <a:chOff x="4879800" y="1469880"/>
              <a:chExt cx="336240" cy="360000"/>
            </a:xfrm>
          </p:grpSpPr>
          <p:sp>
            <p:nvSpPr>
              <p:cNvPr id="3114" name="Freeform 546"/>
              <p:cNvSpPr/>
              <p:nvPr/>
            </p:nvSpPr>
            <p:spPr>
              <a:xfrm>
                <a:off x="4879800" y="146988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5" name="Oval 547"/>
              <p:cNvSpPr/>
              <p:nvPr/>
            </p:nvSpPr>
            <p:spPr>
              <a:xfrm rot="5340000">
                <a:off x="5023080" y="16272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16" name="Group 551"/>
            <p:cNvGrpSpPr/>
            <p:nvPr/>
          </p:nvGrpSpPr>
          <p:grpSpPr>
            <a:xfrm>
              <a:off x="4191120" y="1481040"/>
              <a:ext cx="348840" cy="372600"/>
              <a:chOff x="4191120" y="1481040"/>
              <a:chExt cx="348840" cy="372600"/>
            </a:xfrm>
          </p:grpSpPr>
          <p:sp>
            <p:nvSpPr>
              <p:cNvPr id="3117" name="Freeform 549"/>
              <p:cNvSpPr/>
              <p:nvPr/>
            </p:nvSpPr>
            <p:spPr>
              <a:xfrm>
                <a:off x="4191120" y="148104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8" name="Oval 550"/>
              <p:cNvSpPr/>
              <p:nvPr/>
            </p:nvSpPr>
            <p:spPr>
              <a:xfrm rot="16380000">
                <a:off x="4106520" y="161640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19" name="Group 554"/>
            <p:cNvGrpSpPr/>
            <p:nvPr/>
          </p:nvGrpSpPr>
          <p:grpSpPr>
            <a:xfrm>
              <a:off x="4205160" y="1206360"/>
              <a:ext cx="453600" cy="436320"/>
              <a:chOff x="4205160" y="1206360"/>
              <a:chExt cx="453600" cy="436320"/>
            </a:xfrm>
          </p:grpSpPr>
          <p:sp>
            <p:nvSpPr>
              <p:cNvPr id="3120" name="Freeform 552"/>
              <p:cNvSpPr/>
              <p:nvPr/>
            </p:nvSpPr>
            <p:spPr>
              <a:xfrm>
                <a:off x="4205160" y="120636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1" name="Oval 553"/>
              <p:cNvSpPr/>
              <p:nvPr/>
            </p:nvSpPr>
            <p:spPr>
              <a:xfrm rot="19620000">
                <a:off x="4238640" y="130176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22" name="Group 557"/>
            <p:cNvGrpSpPr/>
            <p:nvPr/>
          </p:nvGrpSpPr>
          <p:grpSpPr>
            <a:xfrm>
              <a:off x="4552920" y="1851120"/>
              <a:ext cx="379080" cy="356760"/>
              <a:chOff x="4552920" y="1851120"/>
              <a:chExt cx="379080" cy="356760"/>
            </a:xfrm>
          </p:grpSpPr>
          <p:sp>
            <p:nvSpPr>
              <p:cNvPr id="3123" name="Freeform 555"/>
              <p:cNvSpPr/>
              <p:nvPr/>
            </p:nvSpPr>
            <p:spPr>
              <a:xfrm>
                <a:off x="4552920" y="185112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4" name="Oval 556"/>
              <p:cNvSpPr/>
              <p:nvPr/>
            </p:nvSpPr>
            <p:spPr>
              <a:xfrm rot="11100000">
                <a:off x="4581720" y="211176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25" name="Group 560"/>
            <p:cNvGrpSpPr/>
            <p:nvPr/>
          </p:nvGrpSpPr>
          <p:grpSpPr>
            <a:xfrm>
              <a:off x="4281480" y="1733400"/>
              <a:ext cx="433080" cy="452160"/>
              <a:chOff x="4281480" y="1733400"/>
              <a:chExt cx="433080" cy="452160"/>
            </a:xfrm>
          </p:grpSpPr>
          <p:sp>
            <p:nvSpPr>
              <p:cNvPr id="3126" name="Freeform 558"/>
              <p:cNvSpPr/>
              <p:nvPr/>
            </p:nvSpPr>
            <p:spPr>
              <a:xfrm>
                <a:off x="4281480" y="173340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7" name="Oval 559"/>
              <p:cNvSpPr/>
              <p:nvPr/>
            </p:nvSpPr>
            <p:spPr>
              <a:xfrm rot="14340000">
                <a:off x="4263480" y="197352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28" name="Group 563"/>
            <p:cNvGrpSpPr/>
            <p:nvPr/>
          </p:nvGrpSpPr>
          <p:grpSpPr>
            <a:xfrm>
              <a:off x="4740120" y="1662120"/>
              <a:ext cx="456840" cy="455400"/>
              <a:chOff x="4740120" y="1662120"/>
              <a:chExt cx="456840" cy="455400"/>
            </a:xfrm>
          </p:grpSpPr>
          <p:sp>
            <p:nvSpPr>
              <p:cNvPr id="3129" name="Freeform 561"/>
              <p:cNvSpPr/>
              <p:nvPr/>
            </p:nvSpPr>
            <p:spPr>
              <a:xfrm>
                <a:off x="4740120" y="166212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0" name="Oval 562"/>
              <p:cNvSpPr/>
              <p:nvPr/>
            </p:nvSpPr>
            <p:spPr>
              <a:xfrm rot="7620000">
                <a:off x="4916880" y="192420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31" name="Group 589"/>
          <p:cNvGrpSpPr/>
          <p:nvPr/>
        </p:nvGrpSpPr>
        <p:grpSpPr>
          <a:xfrm>
            <a:off x="3022560" y="1487520"/>
            <a:ext cx="1050480" cy="1052280"/>
            <a:chOff x="3022560" y="1487520"/>
            <a:chExt cx="1050480" cy="1052280"/>
          </a:xfrm>
        </p:grpSpPr>
        <p:sp useBgFill="1">
          <p:nvSpPr>
            <p:cNvPr id="3132" name="Oval 565"/>
            <p:cNvSpPr/>
            <p:nvPr/>
          </p:nvSpPr>
          <p:spPr>
            <a:xfrm>
              <a:off x="3022560" y="1498680"/>
              <a:ext cx="1041120" cy="1041120"/>
            </a:xfrm>
            <a:prstGeom prst="ellipse">
              <a:avLst/>
            </a:prstGeom>
            <a:ln w="101600">
              <a:solidFill>
                <a:srgbClr val="ff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Freeform 566"/>
            <p:cNvSpPr/>
            <p:nvPr/>
          </p:nvSpPr>
          <p:spPr>
            <a:xfrm>
              <a:off x="3311640" y="1487520"/>
              <a:ext cx="358560" cy="3344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6" h="211">
                  <a:moveTo>
                    <a:pt x="5" y="9"/>
                  </a:moveTo>
                  <a:lnTo>
                    <a:pt x="5" y="31"/>
                  </a:lnTo>
                  <a:lnTo>
                    <a:pt x="5" y="63"/>
                  </a:lnTo>
                  <a:lnTo>
                    <a:pt x="5" y="105"/>
                  </a:lnTo>
                  <a:lnTo>
                    <a:pt x="0" y="120"/>
                  </a:lnTo>
                  <a:lnTo>
                    <a:pt x="0" y="136"/>
                  </a:lnTo>
                  <a:lnTo>
                    <a:pt x="0" y="157"/>
                  </a:lnTo>
                  <a:lnTo>
                    <a:pt x="0" y="173"/>
                  </a:lnTo>
                  <a:lnTo>
                    <a:pt x="5" y="189"/>
                  </a:lnTo>
                  <a:lnTo>
                    <a:pt x="21" y="199"/>
                  </a:lnTo>
                  <a:lnTo>
                    <a:pt x="36" y="204"/>
                  </a:lnTo>
                  <a:lnTo>
                    <a:pt x="52" y="210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99" y="210"/>
                  </a:lnTo>
                  <a:lnTo>
                    <a:pt x="115" y="210"/>
                  </a:lnTo>
                  <a:lnTo>
                    <a:pt x="130" y="210"/>
                  </a:lnTo>
                  <a:lnTo>
                    <a:pt x="146" y="210"/>
                  </a:lnTo>
                  <a:lnTo>
                    <a:pt x="183" y="210"/>
                  </a:lnTo>
                  <a:lnTo>
                    <a:pt x="199" y="210"/>
                  </a:lnTo>
                  <a:lnTo>
                    <a:pt x="214" y="210"/>
                  </a:lnTo>
                  <a:lnTo>
                    <a:pt x="219" y="194"/>
                  </a:lnTo>
                  <a:lnTo>
                    <a:pt x="225" y="178"/>
                  </a:lnTo>
                  <a:lnTo>
                    <a:pt x="225" y="162"/>
                  </a:lnTo>
                  <a:lnTo>
                    <a:pt x="225" y="146"/>
                  </a:lnTo>
                  <a:lnTo>
                    <a:pt x="225" y="131"/>
                  </a:lnTo>
                  <a:lnTo>
                    <a:pt x="225" y="115"/>
                  </a:lnTo>
                  <a:lnTo>
                    <a:pt x="225" y="99"/>
                  </a:lnTo>
                  <a:lnTo>
                    <a:pt x="225" y="83"/>
                  </a:lnTo>
                  <a:lnTo>
                    <a:pt x="225" y="68"/>
                  </a:lnTo>
                  <a:lnTo>
                    <a:pt x="225" y="52"/>
                  </a:lnTo>
                  <a:lnTo>
                    <a:pt x="225" y="36"/>
                  </a:lnTo>
                  <a:lnTo>
                    <a:pt x="225" y="20"/>
                  </a:lnTo>
                  <a:lnTo>
                    <a:pt x="225" y="5"/>
                  </a:lnTo>
                  <a:lnTo>
                    <a:pt x="209" y="5"/>
                  </a:lnTo>
                  <a:lnTo>
                    <a:pt x="193" y="5"/>
                  </a:lnTo>
                  <a:lnTo>
                    <a:pt x="177" y="5"/>
                  </a:lnTo>
                  <a:lnTo>
                    <a:pt x="162" y="0"/>
                  </a:lnTo>
                  <a:lnTo>
                    <a:pt x="146" y="0"/>
                  </a:lnTo>
                  <a:lnTo>
                    <a:pt x="130" y="0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5" y="9"/>
                  </a:lnTo>
                  <a:lnTo>
                    <a:pt x="5" y="9"/>
                  </a:lnTo>
                </a:path>
              </a:pathLst>
            </a:custGeom>
            <a:solidFill>
              <a:srgbClr val="cbcbcb"/>
            </a:solidFill>
            <a:ln cap="rnd"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Oval 567"/>
            <p:cNvSpPr/>
            <p:nvPr/>
          </p:nvSpPr>
          <p:spPr>
            <a:xfrm>
              <a:off x="3362400" y="1509840"/>
              <a:ext cx="279000" cy="6012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35" name="Group 570"/>
            <p:cNvGrpSpPr/>
            <p:nvPr/>
          </p:nvGrpSpPr>
          <p:grpSpPr>
            <a:xfrm>
              <a:off x="3529080" y="1512720"/>
              <a:ext cx="450360" cy="445680"/>
              <a:chOff x="3529080" y="1512720"/>
              <a:chExt cx="450360" cy="445680"/>
            </a:xfrm>
          </p:grpSpPr>
          <p:sp>
            <p:nvSpPr>
              <p:cNvPr id="3136" name="Freeform 568"/>
              <p:cNvSpPr/>
              <p:nvPr/>
            </p:nvSpPr>
            <p:spPr>
              <a:xfrm>
                <a:off x="3529080" y="1512720"/>
                <a:ext cx="450360" cy="44568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284" h="281">
                    <a:moveTo>
                      <a:pt x="92" y="0"/>
                    </a:moveTo>
                    <a:lnTo>
                      <a:pt x="81" y="19"/>
                    </a:lnTo>
                    <a:lnTo>
                      <a:pt x="65" y="46"/>
                    </a:lnTo>
                    <a:lnTo>
                      <a:pt x="43" y="82"/>
                    </a:lnTo>
                    <a:lnTo>
                      <a:pt x="31" y="93"/>
                    </a:lnTo>
                    <a:lnTo>
                      <a:pt x="22" y="106"/>
                    </a:lnTo>
                    <a:lnTo>
                      <a:pt x="12" y="124"/>
                    </a:lnTo>
                    <a:lnTo>
                      <a:pt x="4" y="138"/>
                    </a:lnTo>
                    <a:lnTo>
                      <a:pt x="0" y="154"/>
                    </a:lnTo>
                    <a:lnTo>
                      <a:pt x="8" y="171"/>
                    </a:lnTo>
                    <a:lnTo>
                      <a:pt x="19" y="183"/>
                    </a:lnTo>
                    <a:lnTo>
                      <a:pt x="30" y="196"/>
                    </a:lnTo>
                    <a:lnTo>
                      <a:pt x="43" y="204"/>
                    </a:lnTo>
                    <a:lnTo>
                      <a:pt x="56" y="212"/>
                    </a:lnTo>
                    <a:lnTo>
                      <a:pt x="70" y="220"/>
                    </a:lnTo>
                    <a:lnTo>
                      <a:pt x="83" y="228"/>
                    </a:lnTo>
                    <a:lnTo>
                      <a:pt x="97" y="237"/>
                    </a:lnTo>
                    <a:lnTo>
                      <a:pt x="110" y="245"/>
                    </a:lnTo>
                    <a:lnTo>
                      <a:pt x="142" y="264"/>
                    </a:lnTo>
                    <a:lnTo>
                      <a:pt x="155" y="272"/>
                    </a:lnTo>
                    <a:lnTo>
                      <a:pt x="169" y="280"/>
                    </a:lnTo>
                    <a:lnTo>
                      <a:pt x="181" y="269"/>
                    </a:lnTo>
                    <a:lnTo>
                      <a:pt x="194" y="258"/>
                    </a:lnTo>
                    <a:lnTo>
                      <a:pt x="202" y="245"/>
                    </a:lnTo>
                    <a:lnTo>
                      <a:pt x="210" y="231"/>
                    </a:lnTo>
                    <a:lnTo>
                      <a:pt x="218" y="218"/>
                    </a:lnTo>
                    <a:lnTo>
                      <a:pt x="226" y="204"/>
                    </a:lnTo>
                    <a:lnTo>
                      <a:pt x="234" y="191"/>
                    </a:lnTo>
                    <a:lnTo>
                      <a:pt x="243" y="177"/>
                    </a:lnTo>
                    <a:lnTo>
                      <a:pt x="250" y="164"/>
                    </a:lnTo>
                    <a:lnTo>
                      <a:pt x="259" y="150"/>
                    </a:lnTo>
                    <a:lnTo>
                      <a:pt x="267" y="136"/>
                    </a:lnTo>
                    <a:lnTo>
                      <a:pt x="275" y="123"/>
                    </a:lnTo>
                    <a:lnTo>
                      <a:pt x="283" y="110"/>
                    </a:lnTo>
                    <a:lnTo>
                      <a:pt x="269" y="101"/>
                    </a:lnTo>
                    <a:lnTo>
                      <a:pt x="256" y="94"/>
                    </a:lnTo>
                    <a:lnTo>
                      <a:pt x="243" y="85"/>
                    </a:lnTo>
                    <a:lnTo>
                      <a:pt x="232" y="73"/>
                    </a:lnTo>
                    <a:lnTo>
                      <a:pt x="218" y="65"/>
                    </a:lnTo>
                    <a:lnTo>
                      <a:pt x="205" y="57"/>
                    </a:lnTo>
                    <a:lnTo>
                      <a:pt x="192" y="48"/>
                    </a:lnTo>
                    <a:lnTo>
                      <a:pt x="178" y="40"/>
                    </a:lnTo>
                    <a:lnTo>
                      <a:pt x="164" y="32"/>
                    </a:lnTo>
                    <a:lnTo>
                      <a:pt x="151" y="24"/>
                    </a:lnTo>
                    <a:lnTo>
                      <a:pt x="138" y="16"/>
                    </a:lnTo>
                    <a:lnTo>
                      <a:pt x="124" y="8"/>
                    </a:lnTo>
                    <a:lnTo>
                      <a:pt x="92" y="0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7" name="Oval 569"/>
              <p:cNvSpPr/>
              <p:nvPr/>
            </p:nvSpPr>
            <p:spPr>
              <a:xfrm rot="1860000">
                <a:off x="3673440" y="1607760"/>
                <a:ext cx="279000" cy="6156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38" name="Group 573"/>
            <p:cNvGrpSpPr/>
            <p:nvPr/>
          </p:nvGrpSpPr>
          <p:grpSpPr>
            <a:xfrm>
              <a:off x="3736800" y="1774800"/>
              <a:ext cx="336240" cy="360000"/>
              <a:chOff x="3736800" y="1774800"/>
              <a:chExt cx="336240" cy="360000"/>
            </a:xfrm>
          </p:grpSpPr>
          <p:sp>
            <p:nvSpPr>
              <p:cNvPr id="3139" name="Freeform 571"/>
              <p:cNvSpPr/>
              <p:nvPr/>
            </p:nvSpPr>
            <p:spPr>
              <a:xfrm>
                <a:off x="3736800" y="1774800"/>
                <a:ext cx="336240" cy="36000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12" h="227">
                    <a:moveTo>
                      <a:pt x="199" y="3"/>
                    </a:moveTo>
                    <a:lnTo>
                      <a:pt x="177" y="4"/>
                    </a:lnTo>
                    <a:lnTo>
                      <a:pt x="145" y="5"/>
                    </a:lnTo>
                    <a:lnTo>
                      <a:pt x="103" y="5"/>
                    </a:lnTo>
                    <a:lnTo>
                      <a:pt x="88" y="1"/>
                    </a:lnTo>
                    <a:lnTo>
                      <a:pt x="72" y="0"/>
                    </a:lnTo>
                    <a:lnTo>
                      <a:pt x="51" y="1"/>
                    </a:lnTo>
                    <a:lnTo>
                      <a:pt x="35" y="2"/>
                    </a:lnTo>
                    <a:lnTo>
                      <a:pt x="19" y="7"/>
                    </a:lnTo>
                    <a:lnTo>
                      <a:pt x="9" y="23"/>
                    </a:lnTo>
                    <a:lnTo>
                      <a:pt x="5" y="38"/>
                    </a:lnTo>
                    <a:lnTo>
                      <a:pt x="0" y="55"/>
                    </a:lnTo>
                    <a:lnTo>
                      <a:pt x="0" y="70"/>
                    </a:lnTo>
                    <a:lnTo>
                      <a:pt x="0" y="85"/>
                    </a:lnTo>
                    <a:lnTo>
                      <a:pt x="1" y="101"/>
                    </a:lnTo>
                    <a:lnTo>
                      <a:pt x="1" y="116"/>
                    </a:lnTo>
                    <a:lnTo>
                      <a:pt x="0" y="133"/>
                    </a:lnTo>
                    <a:lnTo>
                      <a:pt x="1" y="148"/>
                    </a:lnTo>
                    <a:lnTo>
                      <a:pt x="1" y="186"/>
                    </a:lnTo>
                    <a:lnTo>
                      <a:pt x="1" y="201"/>
                    </a:lnTo>
                    <a:lnTo>
                      <a:pt x="2" y="217"/>
                    </a:lnTo>
                    <a:lnTo>
                      <a:pt x="18" y="221"/>
                    </a:lnTo>
                    <a:lnTo>
                      <a:pt x="34" y="226"/>
                    </a:lnTo>
                    <a:lnTo>
                      <a:pt x="49" y="226"/>
                    </a:lnTo>
                    <a:lnTo>
                      <a:pt x="65" y="226"/>
                    </a:lnTo>
                    <a:lnTo>
                      <a:pt x="81" y="226"/>
                    </a:lnTo>
                    <a:lnTo>
                      <a:pt x="97" y="225"/>
                    </a:lnTo>
                    <a:lnTo>
                      <a:pt x="112" y="225"/>
                    </a:lnTo>
                    <a:lnTo>
                      <a:pt x="129" y="225"/>
                    </a:lnTo>
                    <a:lnTo>
                      <a:pt x="143" y="224"/>
                    </a:lnTo>
                    <a:lnTo>
                      <a:pt x="160" y="224"/>
                    </a:lnTo>
                    <a:lnTo>
                      <a:pt x="176" y="224"/>
                    </a:lnTo>
                    <a:lnTo>
                      <a:pt x="191" y="224"/>
                    </a:lnTo>
                    <a:lnTo>
                      <a:pt x="207" y="224"/>
                    </a:lnTo>
                    <a:lnTo>
                      <a:pt x="207" y="207"/>
                    </a:lnTo>
                    <a:lnTo>
                      <a:pt x="206" y="192"/>
                    </a:lnTo>
                    <a:lnTo>
                      <a:pt x="207" y="176"/>
                    </a:lnTo>
                    <a:lnTo>
                      <a:pt x="211" y="161"/>
                    </a:lnTo>
                    <a:lnTo>
                      <a:pt x="210" y="145"/>
                    </a:lnTo>
                    <a:lnTo>
                      <a:pt x="210" y="129"/>
                    </a:lnTo>
                    <a:lnTo>
                      <a:pt x="211" y="113"/>
                    </a:lnTo>
                    <a:lnTo>
                      <a:pt x="210" y="97"/>
                    </a:lnTo>
                    <a:lnTo>
                      <a:pt x="210" y="81"/>
                    </a:lnTo>
                    <a:lnTo>
                      <a:pt x="210" y="66"/>
                    </a:lnTo>
                    <a:lnTo>
                      <a:pt x="210" y="51"/>
                    </a:lnTo>
                    <a:lnTo>
                      <a:pt x="209" y="35"/>
                    </a:lnTo>
                    <a:lnTo>
                      <a:pt x="199" y="3"/>
                    </a:lnTo>
                    <a:lnTo>
                      <a:pt x="199" y="3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0" name="Oval 572"/>
              <p:cNvSpPr/>
              <p:nvPr/>
            </p:nvSpPr>
            <p:spPr>
              <a:xfrm rot="5340000">
                <a:off x="3880080" y="193176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41" name="Group 576"/>
            <p:cNvGrpSpPr/>
            <p:nvPr/>
          </p:nvGrpSpPr>
          <p:grpSpPr>
            <a:xfrm>
              <a:off x="3048120" y="1785960"/>
              <a:ext cx="348840" cy="372600"/>
              <a:chOff x="3048120" y="1785960"/>
              <a:chExt cx="348840" cy="372600"/>
            </a:xfrm>
          </p:grpSpPr>
          <p:sp>
            <p:nvSpPr>
              <p:cNvPr id="3142" name="Freeform 574"/>
              <p:cNvSpPr/>
              <p:nvPr/>
            </p:nvSpPr>
            <p:spPr>
              <a:xfrm>
                <a:off x="3048120" y="1785960"/>
                <a:ext cx="348840" cy="37260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220" h="235">
                    <a:moveTo>
                      <a:pt x="8" y="220"/>
                    </a:moveTo>
                    <a:lnTo>
                      <a:pt x="29" y="221"/>
                    </a:lnTo>
                    <a:lnTo>
                      <a:pt x="61" y="222"/>
                    </a:lnTo>
                    <a:lnTo>
                      <a:pt x="103" y="225"/>
                    </a:lnTo>
                    <a:lnTo>
                      <a:pt x="118" y="230"/>
                    </a:lnTo>
                    <a:lnTo>
                      <a:pt x="134" y="232"/>
                    </a:lnTo>
                    <a:lnTo>
                      <a:pt x="155" y="233"/>
                    </a:lnTo>
                    <a:lnTo>
                      <a:pt x="171" y="234"/>
                    </a:lnTo>
                    <a:lnTo>
                      <a:pt x="187" y="230"/>
                    </a:lnTo>
                    <a:lnTo>
                      <a:pt x="199" y="214"/>
                    </a:lnTo>
                    <a:lnTo>
                      <a:pt x="203" y="199"/>
                    </a:lnTo>
                    <a:lnTo>
                      <a:pt x="210" y="183"/>
                    </a:lnTo>
                    <a:lnTo>
                      <a:pt x="211" y="168"/>
                    </a:lnTo>
                    <a:lnTo>
                      <a:pt x="212" y="153"/>
                    </a:lnTo>
                    <a:lnTo>
                      <a:pt x="212" y="136"/>
                    </a:lnTo>
                    <a:lnTo>
                      <a:pt x="214" y="121"/>
                    </a:lnTo>
                    <a:lnTo>
                      <a:pt x="215" y="105"/>
                    </a:lnTo>
                    <a:lnTo>
                      <a:pt x="216" y="89"/>
                    </a:lnTo>
                    <a:lnTo>
                      <a:pt x="218" y="52"/>
                    </a:lnTo>
                    <a:lnTo>
                      <a:pt x="219" y="37"/>
                    </a:lnTo>
                    <a:lnTo>
                      <a:pt x="219" y="21"/>
                    </a:lnTo>
                    <a:lnTo>
                      <a:pt x="203" y="16"/>
                    </a:lnTo>
                    <a:lnTo>
                      <a:pt x="187" y="9"/>
                    </a:lnTo>
                    <a:lnTo>
                      <a:pt x="172" y="8"/>
                    </a:lnTo>
                    <a:lnTo>
                      <a:pt x="157" y="8"/>
                    </a:lnTo>
                    <a:lnTo>
                      <a:pt x="141" y="7"/>
                    </a:lnTo>
                    <a:lnTo>
                      <a:pt x="125" y="6"/>
                    </a:lnTo>
                    <a:lnTo>
                      <a:pt x="110" y="6"/>
                    </a:lnTo>
                    <a:lnTo>
                      <a:pt x="93" y="4"/>
                    </a:lnTo>
                    <a:lnTo>
                      <a:pt x="79" y="4"/>
                    </a:lnTo>
                    <a:lnTo>
                      <a:pt x="62" y="3"/>
                    </a:lnTo>
                    <a:lnTo>
                      <a:pt x="46" y="2"/>
                    </a:lnTo>
                    <a:lnTo>
                      <a:pt x="30" y="1"/>
                    </a:lnTo>
                    <a:lnTo>
                      <a:pt x="15" y="0"/>
                    </a:lnTo>
                    <a:lnTo>
                      <a:pt x="14" y="17"/>
                    </a:lnTo>
                    <a:lnTo>
                      <a:pt x="14" y="31"/>
                    </a:lnTo>
                    <a:lnTo>
                      <a:pt x="12" y="47"/>
                    </a:lnTo>
                    <a:lnTo>
                      <a:pt x="7" y="63"/>
                    </a:lnTo>
                    <a:lnTo>
                      <a:pt x="6" y="78"/>
                    </a:lnTo>
                    <a:lnTo>
                      <a:pt x="5" y="93"/>
                    </a:lnTo>
                    <a:lnTo>
                      <a:pt x="4" y="110"/>
                    </a:lnTo>
                    <a:lnTo>
                      <a:pt x="3" y="125"/>
                    </a:lnTo>
                    <a:lnTo>
                      <a:pt x="3" y="142"/>
                    </a:lnTo>
                    <a:lnTo>
                      <a:pt x="1" y="157"/>
                    </a:lnTo>
                    <a:lnTo>
                      <a:pt x="0" y="172"/>
                    </a:lnTo>
                    <a:lnTo>
                      <a:pt x="0" y="189"/>
                    </a:lnTo>
                    <a:lnTo>
                      <a:pt x="8" y="220"/>
                    </a:lnTo>
                    <a:lnTo>
                      <a:pt x="8" y="220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3" name="Oval 575"/>
              <p:cNvSpPr/>
              <p:nvPr/>
            </p:nvSpPr>
            <p:spPr>
              <a:xfrm rot="16380000">
                <a:off x="2963520" y="192096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44" name="Group 579"/>
            <p:cNvGrpSpPr/>
            <p:nvPr/>
          </p:nvGrpSpPr>
          <p:grpSpPr>
            <a:xfrm>
              <a:off x="3062160" y="1511280"/>
              <a:ext cx="453600" cy="436320"/>
              <a:chOff x="3062160" y="1511280"/>
              <a:chExt cx="453600" cy="436320"/>
            </a:xfrm>
          </p:grpSpPr>
          <p:sp>
            <p:nvSpPr>
              <p:cNvPr id="3145" name="Freeform 577"/>
              <p:cNvSpPr/>
              <p:nvPr/>
            </p:nvSpPr>
            <p:spPr>
              <a:xfrm>
                <a:off x="3062160" y="1511280"/>
                <a:ext cx="453600" cy="436320"/>
              </a:xfrm>
              <a:custGeom>
                <a:avLst/>
                <a:gdLst>
                  <a:gd name="textAreaLeft" fmla="*/ 0 w 453600"/>
                  <a:gd name="textAreaRight" fmla="*/ 453960 w 45360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86" h="275">
                    <a:moveTo>
                      <a:pt x="0" y="124"/>
                    </a:moveTo>
                    <a:lnTo>
                      <a:pt x="12" y="142"/>
                    </a:lnTo>
                    <a:lnTo>
                      <a:pt x="29" y="168"/>
                    </a:lnTo>
                    <a:lnTo>
                      <a:pt x="52" y="204"/>
                    </a:lnTo>
                    <a:lnTo>
                      <a:pt x="57" y="219"/>
                    </a:lnTo>
                    <a:lnTo>
                      <a:pt x="64" y="233"/>
                    </a:lnTo>
                    <a:lnTo>
                      <a:pt x="76" y="250"/>
                    </a:lnTo>
                    <a:lnTo>
                      <a:pt x="85" y="263"/>
                    </a:lnTo>
                    <a:lnTo>
                      <a:pt x="98" y="274"/>
                    </a:lnTo>
                    <a:lnTo>
                      <a:pt x="117" y="274"/>
                    </a:lnTo>
                    <a:lnTo>
                      <a:pt x="132" y="269"/>
                    </a:lnTo>
                    <a:lnTo>
                      <a:pt x="149" y="265"/>
                    </a:lnTo>
                    <a:lnTo>
                      <a:pt x="162" y="257"/>
                    </a:lnTo>
                    <a:lnTo>
                      <a:pt x="174" y="249"/>
                    </a:lnTo>
                    <a:lnTo>
                      <a:pt x="188" y="240"/>
                    </a:lnTo>
                    <a:lnTo>
                      <a:pt x="201" y="232"/>
                    </a:lnTo>
                    <a:lnTo>
                      <a:pt x="215" y="223"/>
                    </a:lnTo>
                    <a:lnTo>
                      <a:pt x="228" y="215"/>
                    </a:lnTo>
                    <a:lnTo>
                      <a:pt x="259" y="194"/>
                    </a:lnTo>
                    <a:lnTo>
                      <a:pt x="272" y="186"/>
                    </a:lnTo>
                    <a:lnTo>
                      <a:pt x="285" y="177"/>
                    </a:lnTo>
                    <a:lnTo>
                      <a:pt x="280" y="162"/>
                    </a:lnTo>
                    <a:lnTo>
                      <a:pt x="276" y="145"/>
                    </a:lnTo>
                    <a:lnTo>
                      <a:pt x="268" y="132"/>
                    </a:lnTo>
                    <a:lnTo>
                      <a:pt x="259" y="119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34" y="80"/>
                    </a:lnTo>
                    <a:lnTo>
                      <a:pt x="225" y="66"/>
                    </a:lnTo>
                    <a:lnTo>
                      <a:pt x="216" y="54"/>
                    </a:lnTo>
                    <a:lnTo>
                      <a:pt x="208" y="39"/>
                    </a:lnTo>
                    <a:lnTo>
                      <a:pt x="199" y="26"/>
                    </a:lnTo>
                    <a:lnTo>
                      <a:pt x="190" y="13"/>
                    </a:lnTo>
                    <a:lnTo>
                      <a:pt x="182" y="0"/>
                    </a:lnTo>
                    <a:lnTo>
                      <a:pt x="168" y="9"/>
                    </a:lnTo>
                    <a:lnTo>
                      <a:pt x="156" y="17"/>
                    </a:lnTo>
                    <a:lnTo>
                      <a:pt x="142" y="25"/>
                    </a:lnTo>
                    <a:lnTo>
                      <a:pt x="127" y="30"/>
                    </a:lnTo>
                    <a:lnTo>
                      <a:pt x="113" y="39"/>
                    </a:lnTo>
                    <a:lnTo>
                      <a:pt x="100" y="47"/>
                    </a:lnTo>
                    <a:lnTo>
                      <a:pt x="87" y="55"/>
                    </a:lnTo>
                    <a:lnTo>
                      <a:pt x="73" y="64"/>
                    </a:lnTo>
                    <a:lnTo>
                      <a:pt x="60" y="73"/>
                    </a:lnTo>
                    <a:lnTo>
                      <a:pt x="47" y="81"/>
                    </a:lnTo>
                    <a:lnTo>
                      <a:pt x="34" y="89"/>
                    </a:lnTo>
                    <a:lnTo>
                      <a:pt x="21" y="98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6" name="Oval 578"/>
              <p:cNvSpPr/>
              <p:nvPr/>
            </p:nvSpPr>
            <p:spPr>
              <a:xfrm rot="19620000">
                <a:off x="3095640" y="160632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47" name="Group 582"/>
            <p:cNvGrpSpPr/>
            <p:nvPr/>
          </p:nvGrpSpPr>
          <p:grpSpPr>
            <a:xfrm>
              <a:off x="3409920" y="2155680"/>
              <a:ext cx="379080" cy="356760"/>
              <a:chOff x="3409920" y="2155680"/>
              <a:chExt cx="379080" cy="356760"/>
            </a:xfrm>
          </p:grpSpPr>
          <p:sp>
            <p:nvSpPr>
              <p:cNvPr id="3148" name="Freeform 580"/>
              <p:cNvSpPr/>
              <p:nvPr/>
            </p:nvSpPr>
            <p:spPr>
              <a:xfrm>
                <a:off x="3409920" y="2155680"/>
                <a:ext cx="379080" cy="3567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239" h="225">
                    <a:moveTo>
                      <a:pt x="221" y="217"/>
                    </a:moveTo>
                    <a:lnTo>
                      <a:pt x="221" y="196"/>
                    </a:lnTo>
                    <a:lnTo>
                      <a:pt x="223" y="165"/>
                    </a:lnTo>
                    <a:lnTo>
                      <a:pt x="229" y="121"/>
                    </a:lnTo>
                    <a:lnTo>
                      <a:pt x="234" y="108"/>
                    </a:lnTo>
                    <a:lnTo>
                      <a:pt x="237" y="92"/>
                    </a:lnTo>
                    <a:lnTo>
                      <a:pt x="238" y="71"/>
                    </a:lnTo>
                    <a:lnTo>
                      <a:pt x="238" y="54"/>
                    </a:lnTo>
                    <a:lnTo>
                      <a:pt x="234" y="38"/>
                    </a:lnTo>
                    <a:lnTo>
                      <a:pt x="219" y="27"/>
                    </a:lnTo>
                    <a:lnTo>
                      <a:pt x="204" y="22"/>
                    </a:lnTo>
                    <a:lnTo>
                      <a:pt x="189" y="14"/>
                    </a:lnTo>
                    <a:lnTo>
                      <a:pt x="175" y="12"/>
                    </a:lnTo>
                    <a:lnTo>
                      <a:pt x="160" y="11"/>
                    </a:lnTo>
                    <a:lnTo>
                      <a:pt x="144" y="10"/>
                    </a:lnTo>
                    <a:lnTo>
                      <a:pt x="129" y="8"/>
                    </a:lnTo>
                    <a:lnTo>
                      <a:pt x="111" y="6"/>
                    </a:lnTo>
                    <a:lnTo>
                      <a:pt x="96" y="6"/>
                    </a:lnTo>
                    <a:lnTo>
                      <a:pt x="58" y="1"/>
                    </a:lnTo>
                    <a:lnTo>
                      <a:pt x="44" y="0"/>
                    </a:lnTo>
                    <a:lnTo>
                      <a:pt x="28" y="0"/>
                    </a:lnTo>
                    <a:lnTo>
                      <a:pt x="23" y="15"/>
                    </a:lnTo>
                    <a:lnTo>
                      <a:pt x="16" y="30"/>
                    </a:lnTo>
                    <a:lnTo>
                      <a:pt x="14" y="45"/>
                    </a:lnTo>
                    <a:lnTo>
                      <a:pt x="12" y="61"/>
                    </a:lnTo>
                    <a:lnTo>
                      <a:pt x="11" y="77"/>
                    </a:lnTo>
                    <a:lnTo>
                      <a:pt x="10" y="94"/>
                    </a:lnTo>
                    <a:lnTo>
                      <a:pt x="9" y="108"/>
                    </a:lnTo>
                    <a:lnTo>
                      <a:pt x="7" y="124"/>
                    </a:lnTo>
                    <a:lnTo>
                      <a:pt x="6" y="139"/>
                    </a:lnTo>
                    <a:lnTo>
                      <a:pt x="4" y="155"/>
                    </a:lnTo>
                    <a:lnTo>
                      <a:pt x="2" y="171"/>
                    </a:lnTo>
                    <a:lnTo>
                      <a:pt x="1" y="187"/>
                    </a:lnTo>
                    <a:lnTo>
                      <a:pt x="0" y="203"/>
                    </a:lnTo>
                    <a:lnTo>
                      <a:pt x="16" y="205"/>
                    </a:lnTo>
                    <a:lnTo>
                      <a:pt x="32" y="205"/>
                    </a:lnTo>
                    <a:lnTo>
                      <a:pt x="47" y="208"/>
                    </a:lnTo>
                    <a:lnTo>
                      <a:pt x="61" y="214"/>
                    </a:lnTo>
                    <a:lnTo>
                      <a:pt x="78" y="213"/>
                    </a:lnTo>
                    <a:lnTo>
                      <a:pt x="93" y="215"/>
                    </a:lnTo>
                    <a:lnTo>
                      <a:pt x="109" y="218"/>
                    </a:lnTo>
                    <a:lnTo>
                      <a:pt x="125" y="219"/>
                    </a:lnTo>
                    <a:lnTo>
                      <a:pt x="141" y="221"/>
                    </a:lnTo>
                    <a:lnTo>
                      <a:pt x="157" y="221"/>
                    </a:lnTo>
                    <a:lnTo>
                      <a:pt x="171" y="224"/>
                    </a:lnTo>
                    <a:lnTo>
                      <a:pt x="187" y="224"/>
                    </a:lnTo>
                    <a:lnTo>
                      <a:pt x="221" y="217"/>
                    </a:lnTo>
                    <a:lnTo>
                      <a:pt x="221" y="21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9" name="Oval 581"/>
              <p:cNvSpPr/>
              <p:nvPr/>
            </p:nvSpPr>
            <p:spPr>
              <a:xfrm rot="11100000">
                <a:off x="3438720" y="2416680"/>
                <a:ext cx="28224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50" name="Group 585"/>
            <p:cNvGrpSpPr/>
            <p:nvPr/>
          </p:nvGrpSpPr>
          <p:grpSpPr>
            <a:xfrm>
              <a:off x="3138480" y="2038320"/>
              <a:ext cx="433080" cy="452160"/>
              <a:chOff x="3138480" y="2038320"/>
              <a:chExt cx="433080" cy="452160"/>
            </a:xfrm>
          </p:grpSpPr>
          <p:sp>
            <p:nvSpPr>
              <p:cNvPr id="3151" name="Freeform 583"/>
              <p:cNvSpPr/>
              <p:nvPr/>
            </p:nvSpPr>
            <p:spPr>
              <a:xfrm>
                <a:off x="3138480" y="2038320"/>
                <a:ext cx="433080" cy="45216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273" h="285">
                    <a:moveTo>
                      <a:pt x="117" y="284"/>
                    </a:moveTo>
                    <a:lnTo>
                      <a:pt x="135" y="272"/>
                    </a:lnTo>
                    <a:lnTo>
                      <a:pt x="163" y="256"/>
                    </a:lnTo>
                    <a:lnTo>
                      <a:pt x="199" y="234"/>
                    </a:lnTo>
                    <a:lnTo>
                      <a:pt x="214" y="231"/>
                    </a:lnTo>
                    <a:lnTo>
                      <a:pt x="229" y="223"/>
                    </a:lnTo>
                    <a:lnTo>
                      <a:pt x="246" y="212"/>
                    </a:lnTo>
                    <a:lnTo>
                      <a:pt x="260" y="203"/>
                    </a:lnTo>
                    <a:lnTo>
                      <a:pt x="271" y="190"/>
                    </a:lnTo>
                    <a:lnTo>
                      <a:pt x="272" y="172"/>
                    </a:lnTo>
                    <a:lnTo>
                      <a:pt x="267" y="157"/>
                    </a:lnTo>
                    <a:lnTo>
                      <a:pt x="263" y="140"/>
                    </a:lnTo>
                    <a:lnTo>
                      <a:pt x="256" y="127"/>
                    </a:lnTo>
                    <a:lnTo>
                      <a:pt x="249" y="114"/>
                    </a:lnTo>
                    <a:lnTo>
                      <a:pt x="239" y="100"/>
                    </a:lnTo>
                    <a:lnTo>
                      <a:pt x="232" y="87"/>
                    </a:lnTo>
                    <a:lnTo>
                      <a:pt x="225" y="72"/>
                    </a:lnTo>
                    <a:lnTo>
                      <a:pt x="216" y="59"/>
                    </a:lnTo>
                    <a:lnTo>
                      <a:pt x="197" y="26"/>
                    </a:lnTo>
                    <a:lnTo>
                      <a:pt x="190" y="13"/>
                    </a:lnTo>
                    <a:lnTo>
                      <a:pt x="181" y="0"/>
                    </a:lnTo>
                    <a:lnTo>
                      <a:pt x="165" y="4"/>
                    </a:lnTo>
                    <a:lnTo>
                      <a:pt x="149" y="8"/>
                    </a:lnTo>
                    <a:lnTo>
                      <a:pt x="136" y="16"/>
                    </a:lnTo>
                    <a:lnTo>
                      <a:pt x="121" y="24"/>
                    </a:lnTo>
                    <a:lnTo>
                      <a:pt x="108" y="32"/>
                    </a:lnTo>
                    <a:lnTo>
                      <a:pt x="94" y="41"/>
                    </a:lnTo>
                    <a:lnTo>
                      <a:pt x="82" y="48"/>
                    </a:lnTo>
                    <a:lnTo>
                      <a:pt x="66" y="57"/>
                    </a:lnTo>
                    <a:lnTo>
                      <a:pt x="55" y="64"/>
                    </a:lnTo>
                    <a:lnTo>
                      <a:pt x="40" y="73"/>
                    </a:lnTo>
                    <a:lnTo>
                      <a:pt x="26" y="81"/>
                    </a:lnTo>
                    <a:lnTo>
                      <a:pt x="14" y="88"/>
                    </a:lnTo>
                    <a:lnTo>
                      <a:pt x="0" y="96"/>
                    </a:lnTo>
                    <a:lnTo>
                      <a:pt x="8" y="111"/>
                    </a:lnTo>
                    <a:lnTo>
                      <a:pt x="17" y="124"/>
                    </a:lnTo>
                    <a:lnTo>
                      <a:pt x="24" y="138"/>
                    </a:lnTo>
                    <a:lnTo>
                      <a:pt x="27" y="153"/>
                    </a:lnTo>
                    <a:lnTo>
                      <a:pt x="37" y="167"/>
                    </a:lnTo>
                    <a:lnTo>
                      <a:pt x="45" y="180"/>
                    </a:lnTo>
                    <a:lnTo>
                      <a:pt x="52" y="194"/>
                    </a:lnTo>
                    <a:lnTo>
                      <a:pt x="61" y="209"/>
                    </a:lnTo>
                    <a:lnTo>
                      <a:pt x="69" y="222"/>
                    </a:lnTo>
                    <a:lnTo>
                      <a:pt x="76" y="235"/>
                    </a:lnTo>
                    <a:lnTo>
                      <a:pt x="84" y="248"/>
                    </a:lnTo>
                    <a:lnTo>
                      <a:pt x="92" y="261"/>
                    </a:lnTo>
                    <a:lnTo>
                      <a:pt x="117" y="284"/>
                    </a:lnTo>
                    <a:lnTo>
                      <a:pt x="117" y="284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2" name="Oval 584"/>
              <p:cNvSpPr/>
              <p:nvPr/>
            </p:nvSpPr>
            <p:spPr>
              <a:xfrm rot="14340000">
                <a:off x="3120480" y="2278440"/>
                <a:ext cx="280800" cy="6624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53" name="Group 588"/>
            <p:cNvGrpSpPr/>
            <p:nvPr/>
          </p:nvGrpSpPr>
          <p:grpSpPr>
            <a:xfrm>
              <a:off x="3597120" y="1967040"/>
              <a:ext cx="456840" cy="455400"/>
              <a:chOff x="3597120" y="1967040"/>
              <a:chExt cx="456840" cy="455400"/>
            </a:xfrm>
          </p:grpSpPr>
          <p:sp>
            <p:nvSpPr>
              <p:cNvPr id="3154" name="Freeform 586"/>
              <p:cNvSpPr/>
              <p:nvPr/>
            </p:nvSpPr>
            <p:spPr>
              <a:xfrm>
                <a:off x="3597120" y="1967040"/>
                <a:ext cx="456840" cy="4554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88" h="287">
                    <a:moveTo>
                      <a:pt x="287" y="107"/>
                    </a:moveTo>
                    <a:lnTo>
                      <a:pt x="269" y="94"/>
                    </a:lnTo>
                    <a:lnTo>
                      <a:pt x="243" y="76"/>
                    </a:lnTo>
                    <a:lnTo>
                      <a:pt x="210" y="50"/>
                    </a:lnTo>
                    <a:lnTo>
                      <a:pt x="201" y="37"/>
                    </a:lnTo>
                    <a:lnTo>
                      <a:pt x="189" y="27"/>
                    </a:lnTo>
                    <a:lnTo>
                      <a:pt x="171" y="15"/>
                    </a:lnTo>
                    <a:lnTo>
                      <a:pt x="158" y="5"/>
                    </a:lnTo>
                    <a:lnTo>
                      <a:pt x="142" y="0"/>
                    </a:lnTo>
                    <a:lnTo>
                      <a:pt x="125" y="6"/>
                    </a:lnTo>
                    <a:lnTo>
                      <a:pt x="112" y="15"/>
                    </a:lnTo>
                    <a:lnTo>
                      <a:pt x="98" y="26"/>
                    </a:lnTo>
                    <a:lnTo>
                      <a:pt x="89" y="37"/>
                    </a:lnTo>
                    <a:lnTo>
                      <a:pt x="80" y="49"/>
                    </a:lnTo>
                    <a:lnTo>
                      <a:pt x="70" y="63"/>
                    </a:lnTo>
                    <a:lnTo>
                      <a:pt x="61" y="74"/>
                    </a:lnTo>
                    <a:lnTo>
                      <a:pt x="50" y="87"/>
                    </a:lnTo>
                    <a:lnTo>
                      <a:pt x="42" y="100"/>
                    </a:lnTo>
                    <a:lnTo>
                      <a:pt x="18" y="129"/>
                    </a:lnTo>
                    <a:lnTo>
                      <a:pt x="9" y="141"/>
                    </a:lnTo>
                    <a:lnTo>
                      <a:pt x="0" y="155"/>
                    </a:lnTo>
                    <a:lnTo>
                      <a:pt x="10" y="168"/>
                    </a:lnTo>
                    <a:lnTo>
                      <a:pt x="19" y="181"/>
                    </a:lnTo>
                    <a:lnTo>
                      <a:pt x="31" y="191"/>
                    </a:lnTo>
                    <a:lnTo>
                      <a:pt x="44" y="200"/>
                    </a:lnTo>
                    <a:lnTo>
                      <a:pt x="57" y="210"/>
                    </a:lnTo>
                    <a:lnTo>
                      <a:pt x="70" y="219"/>
                    </a:lnTo>
                    <a:lnTo>
                      <a:pt x="82" y="229"/>
                    </a:lnTo>
                    <a:lnTo>
                      <a:pt x="95" y="239"/>
                    </a:lnTo>
                    <a:lnTo>
                      <a:pt x="107" y="247"/>
                    </a:lnTo>
                    <a:lnTo>
                      <a:pt x="120" y="257"/>
                    </a:lnTo>
                    <a:lnTo>
                      <a:pt x="133" y="267"/>
                    </a:lnTo>
                    <a:lnTo>
                      <a:pt x="144" y="276"/>
                    </a:lnTo>
                    <a:lnTo>
                      <a:pt x="157" y="286"/>
                    </a:lnTo>
                    <a:lnTo>
                      <a:pt x="168" y="273"/>
                    </a:lnTo>
                    <a:lnTo>
                      <a:pt x="176" y="260"/>
                    </a:lnTo>
                    <a:lnTo>
                      <a:pt x="187" y="248"/>
                    </a:lnTo>
                    <a:lnTo>
                      <a:pt x="199" y="239"/>
                    </a:lnTo>
                    <a:lnTo>
                      <a:pt x="208" y="226"/>
                    </a:lnTo>
                    <a:lnTo>
                      <a:pt x="218" y="213"/>
                    </a:lnTo>
                    <a:lnTo>
                      <a:pt x="229" y="201"/>
                    </a:lnTo>
                    <a:lnTo>
                      <a:pt x="238" y="188"/>
                    </a:lnTo>
                    <a:lnTo>
                      <a:pt x="247" y="175"/>
                    </a:lnTo>
                    <a:lnTo>
                      <a:pt x="257" y="164"/>
                    </a:lnTo>
                    <a:lnTo>
                      <a:pt x="266" y="152"/>
                    </a:lnTo>
                    <a:lnTo>
                      <a:pt x="275" y="139"/>
                    </a:lnTo>
                    <a:lnTo>
                      <a:pt x="287" y="107"/>
                    </a:lnTo>
                    <a:lnTo>
                      <a:pt x="287" y="107"/>
                    </a:lnTo>
                  </a:path>
                </a:pathLst>
              </a:custGeom>
              <a:solidFill>
                <a:srgbClr val="cbcbcb"/>
              </a:solidFill>
              <a:ln cap="rnd"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5" name="Oval 587"/>
              <p:cNvSpPr/>
              <p:nvPr/>
            </p:nvSpPr>
            <p:spPr>
              <a:xfrm rot="7620000">
                <a:off x="3773880" y="2229120"/>
                <a:ext cx="279000" cy="63000"/>
              </a:xfrm>
              <a:prstGeom prst="ellipse">
                <a:avLst/>
              </a:prstGeom>
              <a:solidFill>
                <a:schemeClr val="accent2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56" name="Rectangle 590"/>
          <p:cNvSpPr/>
          <p:nvPr/>
        </p:nvSpPr>
        <p:spPr>
          <a:xfrm>
            <a:off x="152280" y="5105520"/>
            <a:ext cx="2437920" cy="57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MUCOU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Line 591"/>
          <p:cNvSpPr/>
          <p:nvPr/>
        </p:nvSpPr>
        <p:spPr>
          <a:xfrm flipV="1">
            <a:off x="1218960" y="4800600"/>
            <a:ext cx="685800" cy="533160"/>
          </a:xfrm>
          <a:prstGeom prst="line">
            <a:avLst/>
          </a:prstGeom>
          <a:ln w="1270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1143000" y="0"/>
            <a:ext cx="7772040" cy="129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3" descr="head to tail2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6248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228600" y="1371600"/>
            <a:ext cx="8915040" cy="942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Oropharynge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Membrane                       Amnion                                 g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"/>
          <p:cNvSpPr/>
          <p:nvPr/>
        </p:nvSpPr>
        <p:spPr>
          <a:xfrm flipH="1">
            <a:off x="4572000" y="2286000"/>
            <a:ext cx="2971800" cy="1295280"/>
          </a:xfrm>
          <a:prstGeom prst="line">
            <a:avLst/>
          </a:prstGeom>
          <a:ln w="28575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4876920"/>
            <a:ext cx="5484600" cy="516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tomatodaeum                  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Yolk s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 flipV="1">
            <a:off x="1904760" y="3809880"/>
            <a:ext cx="1295640" cy="1066680"/>
          </a:xfrm>
          <a:prstGeom prst="line">
            <a:avLst/>
          </a:prstGeom>
          <a:ln w="28575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8" name="Straight Arrow Connector 8"/>
          <p:cNvCxnSpPr/>
          <p:nvPr/>
        </p:nvCxnSpPr>
        <p:spPr>
          <a:xfrm>
            <a:off x="2057400" y="1981080"/>
            <a:ext cx="1219320" cy="16005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haryngeal apparatus ventral view E"/>
          <p:cNvPicPr/>
          <p:nvPr/>
        </p:nvPicPr>
        <p:blipFill>
          <a:blip r:embed="rId1"/>
          <a:stretch/>
        </p:blipFill>
        <p:spPr>
          <a:xfrm>
            <a:off x="0" y="-228600"/>
            <a:ext cx="8762760" cy="3657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pharyngeal apparatus ventral view F"/>
          <p:cNvPicPr/>
          <p:nvPr/>
        </p:nvPicPr>
        <p:blipFill>
          <a:blip r:embed="rId2"/>
          <a:stretch/>
        </p:blipFill>
        <p:spPr>
          <a:xfrm>
            <a:off x="0" y="3352680"/>
            <a:ext cx="8762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5905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0477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harynx wall forms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4 thickenings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–pharyngeal arch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pharyngeal apparatus arch components"/>
          <p:cNvPicPr/>
          <p:nvPr/>
        </p:nvPicPr>
        <p:blipFill>
          <a:blip r:embed="rId1"/>
          <a:stretch/>
        </p:blipFill>
        <p:spPr>
          <a:xfrm>
            <a:off x="3124080" y="0"/>
            <a:ext cx="6171840" cy="64767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5"/>
          <p:cNvSpPr/>
          <p:nvPr/>
        </p:nvSpPr>
        <p:spPr>
          <a:xfrm>
            <a:off x="6553080" y="5638680"/>
            <a:ext cx="2590560" cy="7617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Pharyn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28600" y="380880"/>
            <a:ext cx="8229240" cy="8014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chemeClr val="hlink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Each consis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of mesenchyme, outer ectoderm and inner endoder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Arches </a:t>
            </a: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mesenchy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vides the skeletal muscle and c.t.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3600" spc="-1" strike="noStrike">
                <a:solidFill>
                  <a:schemeClr val="hlink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3600" spc="-1" strike="noStrike">
                <a:solidFill>
                  <a:schemeClr val="hlink"/>
                </a:solidFill>
                <a:latin typeface="Arial"/>
              </a:rPr>
              <a:t>form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1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e, nasal cavities,                                                                       2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uth, larynx,                                                                                                     3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arynx, and neck.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0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macrophotograph of human embryo 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533520" y="152280"/>
            <a:ext cx="8305560" cy="5574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c00000"/>
                </a:solidFill>
                <a:latin typeface="Verdana"/>
                <a:ea typeface="Verdana"/>
              </a:rPr>
              <a:t>Development of oral cavity begins with the formation of </a:t>
            </a:r>
            <a:r>
              <a:rPr b="0" lang="en-US" sz="4000" spc="-1" strike="noStrike" u="sng">
                <a:solidFill>
                  <a:srgbClr val="c00000"/>
                </a:solidFill>
                <a:uFillTx/>
                <a:latin typeface="Verdana"/>
                <a:ea typeface="Verdana"/>
              </a:rPr>
              <a:t>frontal process </a:t>
            </a:r>
            <a:r>
              <a:rPr b="0" lang="en-US" sz="4000" spc="-1" strike="noStrike">
                <a:solidFill>
                  <a:srgbClr val="c00000"/>
                </a:solidFill>
                <a:latin typeface="Verdana"/>
                <a:ea typeface="Verdana"/>
              </a:rPr>
              <a:t>over the oral bay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c00000"/>
                </a:solidFill>
                <a:latin typeface="Verdana"/>
                <a:ea typeface="Verdana"/>
              </a:rPr>
              <a:t>growth of the 1-st ph. arch, which divides 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–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maxillar and mandibular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  <Words>710</Words>
  <Paragraphs>2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08:42:46Z</dcterms:created>
  <dc:creator>Ira</dc:creator>
  <dc:description/>
  <dc:language>en-US</dc:language>
  <cp:lastModifiedBy>Вячеслав Алексеевич</cp:lastModifiedBy>
  <dcterms:modified xsi:type="dcterms:W3CDTF">2012-11-27T11:10:58Z</dcterms:modified>
  <cp:revision>56</cp:revision>
  <dc:subject/>
  <dc:title>MICROMORPHOLOGY AND EMBRYOLOGY  OF THE ORAL CA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9</vt:r8>
  </property>
  <property fmtid="{D5CDD505-2E9C-101B-9397-08002B2CF9AE}" pid="3" name="PresentationFormat">
    <vt:lpwstr>Экран (4:3)</vt:lpwstr>
  </property>
  <property fmtid="{D5CDD505-2E9C-101B-9397-08002B2CF9AE}" pid="4" name="Slides">
    <vt:r8>39</vt:r8>
  </property>
</Properties>
</file>