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2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0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3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7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2532-AF60-4A29-8DB3-AFA12DBC6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4DE2-25D4-40C0-86A3-65A920BCA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96F5-783E-4FA4-A45E-235508199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63B6-BA8C-4E58-A9FC-18C6EF9D5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8537-0AEB-454D-A776-C499649D27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58B5-E689-4C56-90A5-54DBDE5E5C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4CC2-06D2-44D8-9195-DD69B0C113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3952-7C3F-4D49-8CE0-E6596887E7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E92E-6661-4449-BAAE-3F2B688DCF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3120" cy="63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60FC-789F-41B1-B4A3-A75D96F955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E80A-638E-4B6A-8CC4-0F9F31BFB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E6D8-76CB-4206-BDEF-820AFDBCA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43EA-D244-42C4-8327-3C5A6F1A7D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45D7-66E9-4A14-AC19-7E822557DC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84D6-C1A4-4D5B-805A-C797DA0A24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46BF-431D-42E1-B28C-119D248319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7360-4A7B-4DFB-9972-1063465682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474F-13B4-4D60-9634-BE16E6D36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3E4D-CA3E-4E96-B806-28FCFE0FA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02A9-4443-44C5-80DD-153F3173C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3120" cy="63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7C4B-3610-4C5C-ADF1-4D3131E9C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F217-DC31-4A59-B13A-5F1CBE272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07A6-DA00-40BA-B069-A3FCAFFC3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62B7-7321-4146-AD74-B970C30CB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F2004-8100-4D2C-A71C-7AE4ECE871D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65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37160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Для добавления текста щёлкните мыш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7F1BC-EB52-407E-A729-B1E8EEB132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50920" y="189000"/>
            <a:ext cx="86421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Kharkiv National Medical University</a:t>
            </a:r>
            <a:br>
              <a:rPr sz="2800"/>
            </a:b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Medical and bioorganic chemistry departm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cc9900"/>
                </a:solidFill>
                <a:latin typeface="Arial"/>
              </a:rPr>
              <a:t>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"/>
                <a:ea typeface="Arial"/>
              </a:rPr>
              <a:t>COLLIGATIVE PROPERTIES OF 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"/>
          <p:cNvSpPr txBox="1"/>
          <p:nvPr/>
        </p:nvSpPr>
        <p:spPr>
          <a:xfrm>
            <a:off x="250920" y="1557360"/>
            <a:ext cx="8137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ank you for your attention!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3240" y="1133640"/>
            <a:ext cx="9107280" cy="47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50920" y="360360"/>
            <a:ext cx="87138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homogeneous mixture of two or more substances, consisting of ions or molecules. The terms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solvent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 to the components of a solutio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onent 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in smaller amou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onent in greater amou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All biochemical and biological properties in living organisms proceed in the solutions. Solvent is </a:t>
            </a:r>
            <a:r>
              <a:rPr b="1" i="1" lang="en-US" sz="2900" spc="-1" strike="noStrike">
                <a:solidFill>
                  <a:srgbClr val="cc9900"/>
                </a:solidFill>
                <a:latin typeface="Times New Roman"/>
              </a:rPr>
              <a:t>water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660033"/>
                </a:solidFill>
                <a:latin typeface="Arial"/>
              </a:rPr>
              <a:t>Living organisms</a:t>
            </a:r>
            <a:r>
              <a:rPr b="1" i="1" lang="ru-RU" sz="2900" spc="-1" strike="noStrike">
                <a:solidFill>
                  <a:srgbClr val="660033"/>
                </a:solidFill>
                <a:latin typeface="Arial"/>
              </a:rPr>
              <a:t>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get food from aqueous medium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biosynthesis takes place in water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water extracts wastes from organisms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Water forms during biosyntesis called</a:t>
            </a:r>
            <a:r>
              <a:rPr b="1" i="1" lang="en-US" sz="29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9900"/>
                </a:solidFill>
                <a:latin typeface="Arial"/>
              </a:rPr>
              <a:t>metabolic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1098720"/>
            <a:ext cx="8642520" cy="33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5-50 liters of water / 70 kg of the body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ntent of water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 – 8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es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ilage (gristle) – 5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stine, lungs, heart, kidneys, brain –70-8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620640"/>
            <a:ext cx="8229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900000" y="1413000"/>
            <a:ext cx="72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260280"/>
            <a:ext cx="784872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dding a solute to a pure solvent causes cha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 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the solvent’s physical properties.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pecial group of physical properties that change when a solute is added are ca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olligative properti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colligative property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is a physical property of a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that depends only on the relative amount (concentration) of solute particles (molecules or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ions) present in a given quantity of solvent and not on their chemical id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olligative propertie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re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Lowering of the vapor pressure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the solution compared with that of the pure sol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Elevation of the boiling point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the solution compared with that of the pure sol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Depression of the freezing point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the solution compared with that of the pure sol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Osmotic pres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324000" y="260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ression of biological fluids in comparison with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900000" y="981000"/>
            <a:ext cx="7269120" cy="5616720"/>
            <a:chOff x="900000" y="981000"/>
            <a:chExt cx="7269120" cy="5616720"/>
          </a:xfrm>
        </p:grpSpPr>
        <p:sp>
          <p:nvSpPr>
            <p:cNvPr id="97" name="Line 3"/>
            <p:cNvSpPr/>
            <p:nvPr/>
          </p:nvSpPr>
          <p:spPr>
            <a:xfrm>
              <a:off x="900000" y="991800"/>
              <a:ext cx="7010640" cy="0"/>
            </a:xfrm>
            <a:prstGeom prst="line">
              <a:avLst/>
            </a:prstGeom>
            <a:ln cap="sq"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4"/>
            <p:cNvSpPr/>
            <p:nvPr/>
          </p:nvSpPr>
          <p:spPr>
            <a:xfrm>
              <a:off x="4819680" y="991800"/>
              <a:ext cx="0" cy="5602320"/>
            </a:xfrm>
            <a:prstGeom prst="line">
              <a:avLst/>
            </a:prstGeom>
            <a:ln cap="sq"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028880" y="1580760"/>
              <a:ext cx="7008480" cy="0"/>
            </a:xfrm>
            <a:prstGeom prst="line">
              <a:avLst/>
            </a:prstGeom>
            <a:ln cap="sq"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"/>
            <p:cNvSpPr/>
            <p:nvPr/>
          </p:nvSpPr>
          <p:spPr>
            <a:xfrm>
              <a:off x="1028880" y="217152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1028880" y="276156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1028880" y="335196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1028880" y="395028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1160640" y="453276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1160640" y="502488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2"/>
            <p:cNvSpPr/>
            <p:nvPr/>
          </p:nvSpPr>
          <p:spPr>
            <a:xfrm>
              <a:off x="1160640" y="551664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>
              <a:off x="1160640" y="600732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1650240" y="991800"/>
              <a:ext cx="21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Biological flu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6014520" y="981000"/>
              <a:ext cx="63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l-GR" sz="2400" spc="-1" strike="noStrike">
                  <a:solidFill>
                    <a:srgbClr val="000099"/>
                  </a:solidFill>
                  <a:latin typeface="Times New Roman"/>
                </a:rPr>
                <a:t>Δ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1897920" y="16077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Bloo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1713960" y="212544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Tissue flu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1416960" y="2723400"/>
              <a:ext cx="27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Cerebrospinal flu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1939320" y="32997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Saliv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1661400" y="386136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Gastric ju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1940400" y="4383720"/>
              <a:ext cx="10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Swea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2"/>
            <p:cNvSpPr/>
            <p:nvPr/>
          </p:nvSpPr>
          <p:spPr>
            <a:xfrm>
              <a:off x="1980000" y="487260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Urin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23"/>
            <p:cNvSpPr/>
            <p:nvPr/>
          </p:nvSpPr>
          <p:spPr>
            <a:xfrm>
              <a:off x="2099520" y="5511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Mil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1143000" y="6597720"/>
              <a:ext cx="70102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25"/>
            <p:cNvSpPr/>
            <p:nvPr/>
          </p:nvSpPr>
          <p:spPr>
            <a:xfrm>
              <a:off x="2261520" y="6077160"/>
              <a:ext cx="60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B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5860440" y="1579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5733360" y="2266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6-0.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5977800" y="27601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>
              <a:off x="5752440" y="34012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19-0.4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0"/>
            <p:cNvSpPr/>
            <p:nvPr/>
          </p:nvSpPr>
          <p:spPr>
            <a:xfrm>
              <a:off x="5769720" y="39484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49-0.6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5766840" y="449640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13-0.6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2"/>
            <p:cNvSpPr/>
            <p:nvPr/>
          </p:nvSpPr>
          <p:spPr>
            <a:xfrm>
              <a:off x="5809680" y="49456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1.12-2.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3"/>
            <p:cNvSpPr/>
            <p:nvPr/>
          </p:nvSpPr>
          <p:spPr>
            <a:xfrm>
              <a:off x="5780880" y="551196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5-0.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5803200" y="60055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4-0.6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bullioscopy and Cry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1427040" y="1901880"/>
                <a:ext cx="322740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E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olven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ΔT</m:t>
                                </m:r>
                              </m:den>
                            </m:f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5327640" y="1857240"/>
                <a:ext cx="3168720" cy="28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6300720" y="1747800"/>
            <a:ext cx="2592360" cy="22320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170160" y="1773360"/>
            <a:ext cx="2592360" cy="2232000"/>
          </a:xfrm>
          <a:prstGeom prst="rect">
            <a:avLst/>
          </a:prstGeom>
          <a:solidFill>
            <a:srgbClr val="0066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63440" y="1773360"/>
            <a:ext cx="2592360" cy="223200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4211640" y="2349360"/>
            <a:ext cx="479520" cy="1076400"/>
            <a:chOff x="4211640" y="2349360"/>
            <a:chExt cx="479520" cy="1076400"/>
          </a:xfrm>
        </p:grpSpPr>
        <p:sp>
          <p:nvSpPr>
            <p:cNvPr id="136" name="Freeform 5"/>
            <p:cNvSpPr/>
            <p:nvPr/>
          </p:nvSpPr>
          <p:spPr>
            <a:xfrm>
              <a:off x="4211640" y="2349360"/>
              <a:ext cx="479520" cy="1076400"/>
            </a:xfrm>
            <a:custGeom>
              <a:avLst/>
              <a:gdLst/>
              <a:ahLst/>
              <a:rect l="l" t="t" r="r" b="b"/>
              <a:pathLst>
                <a:path w="304" h="681">
                  <a:moveTo>
                    <a:pt x="114" y="8"/>
                  </a:moveTo>
                  <a:cubicBezTo>
                    <a:pt x="137" y="0"/>
                    <a:pt x="154" y="4"/>
                    <a:pt x="173" y="14"/>
                  </a:cubicBezTo>
                  <a:cubicBezTo>
                    <a:pt x="193" y="24"/>
                    <a:pt x="228" y="53"/>
                    <a:pt x="232" y="68"/>
                  </a:cubicBezTo>
                  <a:cubicBezTo>
                    <a:pt x="236" y="83"/>
                    <a:pt x="267" y="155"/>
                    <a:pt x="258" y="217"/>
                  </a:cubicBezTo>
                  <a:cubicBezTo>
                    <a:pt x="266" y="252"/>
                    <a:pt x="287" y="233"/>
                    <a:pt x="294" y="260"/>
                  </a:cubicBezTo>
                  <a:cubicBezTo>
                    <a:pt x="301" y="287"/>
                    <a:pt x="304" y="326"/>
                    <a:pt x="298" y="377"/>
                  </a:cubicBezTo>
                  <a:cubicBezTo>
                    <a:pt x="295" y="428"/>
                    <a:pt x="275" y="517"/>
                    <a:pt x="257" y="563"/>
                  </a:cubicBezTo>
                  <a:cubicBezTo>
                    <a:pt x="239" y="612"/>
                    <a:pt x="205" y="650"/>
                    <a:pt x="189" y="670"/>
                  </a:cubicBezTo>
                  <a:cubicBezTo>
                    <a:pt x="187" y="681"/>
                    <a:pt x="166" y="680"/>
                    <a:pt x="161" y="681"/>
                  </a:cubicBezTo>
                  <a:cubicBezTo>
                    <a:pt x="159" y="681"/>
                    <a:pt x="133" y="668"/>
                    <a:pt x="133" y="668"/>
                  </a:cubicBezTo>
                  <a:cubicBezTo>
                    <a:pt x="96" y="630"/>
                    <a:pt x="184" y="671"/>
                    <a:pt x="152" y="610"/>
                  </a:cubicBezTo>
                  <a:cubicBezTo>
                    <a:pt x="146" y="590"/>
                    <a:pt x="0" y="469"/>
                    <a:pt x="0" y="444"/>
                  </a:cubicBezTo>
                  <a:cubicBezTo>
                    <a:pt x="3" y="426"/>
                    <a:pt x="82" y="351"/>
                    <a:pt x="85" y="332"/>
                  </a:cubicBezTo>
                  <a:cubicBezTo>
                    <a:pt x="88" y="308"/>
                    <a:pt x="14" y="183"/>
                    <a:pt x="19" y="129"/>
                  </a:cubicBezTo>
                  <a:cubicBezTo>
                    <a:pt x="24" y="75"/>
                    <a:pt x="91" y="17"/>
                    <a:pt x="114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80000">
              <a:off x="4335480" y="2706840"/>
              <a:ext cx="231840" cy="44748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7"/>
          <p:cNvGrpSpPr/>
          <p:nvPr/>
        </p:nvGrpSpPr>
        <p:grpSpPr>
          <a:xfrm>
            <a:off x="684360" y="2276640"/>
            <a:ext cx="1360440" cy="1077840"/>
            <a:chOff x="684360" y="2276640"/>
            <a:chExt cx="1360440" cy="1077840"/>
          </a:xfrm>
        </p:grpSpPr>
        <p:sp>
          <p:nvSpPr>
            <p:cNvPr id="139" name="Freeform 8"/>
            <p:cNvSpPr/>
            <p:nvPr/>
          </p:nvSpPr>
          <p:spPr>
            <a:xfrm>
              <a:off x="684360" y="2276640"/>
              <a:ext cx="1360440" cy="1077840"/>
            </a:xfrm>
            <a:custGeom>
              <a:avLst/>
              <a:gdLst/>
              <a:ahLst/>
              <a:rect l="l" t="t" r="r" b="b"/>
              <a:pathLst>
                <a:path w="1040" h="816">
                  <a:moveTo>
                    <a:pt x="419" y="10"/>
                  </a:moveTo>
                  <a:cubicBezTo>
                    <a:pt x="493" y="0"/>
                    <a:pt x="548" y="5"/>
                    <a:pt x="612" y="17"/>
                  </a:cubicBezTo>
                  <a:cubicBezTo>
                    <a:pt x="676" y="29"/>
                    <a:pt x="791" y="64"/>
                    <a:pt x="804" y="81"/>
                  </a:cubicBezTo>
                  <a:cubicBezTo>
                    <a:pt x="818" y="99"/>
                    <a:pt x="1019" y="159"/>
                    <a:pt x="990" y="234"/>
                  </a:cubicBezTo>
                  <a:cubicBezTo>
                    <a:pt x="1016" y="276"/>
                    <a:pt x="1002" y="276"/>
                    <a:pt x="1007" y="312"/>
                  </a:cubicBezTo>
                  <a:cubicBezTo>
                    <a:pt x="1012" y="348"/>
                    <a:pt x="1040" y="391"/>
                    <a:pt x="1020" y="452"/>
                  </a:cubicBezTo>
                  <a:cubicBezTo>
                    <a:pt x="1012" y="513"/>
                    <a:pt x="945" y="620"/>
                    <a:pt x="887" y="675"/>
                  </a:cubicBezTo>
                  <a:cubicBezTo>
                    <a:pt x="828" y="733"/>
                    <a:pt x="716" y="779"/>
                    <a:pt x="664" y="803"/>
                  </a:cubicBezTo>
                  <a:cubicBezTo>
                    <a:pt x="657" y="816"/>
                    <a:pt x="589" y="815"/>
                    <a:pt x="572" y="816"/>
                  </a:cubicBezTo>
                  <a:cubicBezTo>
                    <a:pt x="565" y="816"/>
                    <a:pt x="480" y="800"/>
                    <a:pt x="480" y="800"/>
                  </a:cubicBezTo>
                  <a:cubicBezTo>
                    <a:pt x="361" y="755"/>
                    <a:pt x="300" y="765"/>
                    <a:pt x="196" y="691"/>
                  </a:cubicBezTo>
                  <a:cubicBezTo>
                    <a:pt x="177" y="667"/>
                    <a:pt x="46" y="562"/>
                    <a:pt x="46" y="532"/>
                  </a:cubicBezTo>
                  <a:cubicBezTo>
                    <a:pt x="56" y="511"/>
                    <a:pt x="0" y="406"/>
                    <a:pt x="9" y="384"/>
                  </a:cubicBezTo>
                  <a:cubicBezTo>
                    <a:pt x="21" y="355"/>
                    <a:pt x="41" y="217"/>
                    <a:pt x="109" y="154"/>
                  </a:cubicBezTo>
                  <a:cubicBezTo>
                    <a:pt x="177" y="92"/>
                    <a:pt x="345" y="20"/>
                    <a:pt x="41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 rot="180000">
              <a:off x="1056960" y="2542680"/>
              <a:ext cx="630360" cy="53820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Line 10"/>
          <p:cNvSpPr/>
          <p:nvPr/>
        </p:nvSpPr>
        <p:spPr>
          <a:xfrm>
            <a:off x="142920" y="1476360"/>
            <a:ext cx="1440" cy="2521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747880" y="1459080"/>
            <a:ext cx="1800" cy="252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250920" y="4005360"/>
            <a:ext cx="2512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3"/>
          <p:cNvGrpSpPr/>
          <p:nvPr/>
        </p:nvGrpSpPr>
        <p:grpSpPr>
          <a:xfrm>
            <a:off x="179280" y="3141360"/>
            <a:ext cx="862200" cy="716040"/>
            <a:chOff x="179280" y="3141360"/>
            <a:chExt cx="862200" cy="716040"/>
          </a:xfrm>
        </p:grpSpPr>
        <p:sp>
          <p:nvSpPr>
            <p:cNvPr id="145" name="Line 14"/>
            <p:cNvSpPr/>
            <p:nvPr/>
          </p:nvSpPr>
          <p:spPr>
            <a:xfrm flipV="1">
              <a:off x="388800" y="3304440"/>
              <a:ext cx="513000" cy="3902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 flipV="1">
              <a:off x="179280" y="3141360"/>
              <a:ext cx="501840" cy="360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 flipV="1">
              <a:off x="684360" y="3498840"/>
              <a:ext cx="357120" cy="3585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Group 17"/>
          <p:cNvGrpSpPr/>
          <p:nvPr/>
        </p:nvGrpSpPr>
        <p:grpSpPr>
          <a:xfrm>
            <a:off x="1714680" y="2125440"/>
            <a:ext cx="550800" cy="640800"/>
            <a:chOff x="1714680" y="2125440"/>
            <a:chExt cx="550800" cy="640800"/>
          </a:xfrm>
        </p:grpSpPr>
        <p:sp>
          <p:nvSpPr>
            <p:cNvPr id="149" name="Line 18"/>
            <p:cNvSpPr/>
            <p:nvPr/>
          </p:nvSpPr>
          <p:spPr>
            <a:xfrm flipV="1">
              <a:off x="1714680" y="2125440"/>
              <a:ext cx="527040" cy="2336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1733400" y="2523240"/>
              <a:ext cx="414360" cy="9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 flipV="1">
              <a:off x="1762200" y="2715480"/>
              <a:ext cx="503280" cy="507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3666960" y="2349360"/>
            <a:ext cx="1360800" cy="1078200"/>
            <a:chOff x="3666960" y="2349360"/>
            <a:chExt cx="1360800" cy="1078200"/>
          </a:xfrm>
        </p:grpSpPr>
        <p:sp>
          <p:nvSpPr>
            <p:cNvPr id="153" name="Freeform 22"/>
            <p:cNvSpPr/>
            <p:nvPr/>
          </p:nvSpPr>
          <p:spPr>
            <a:xfrm>
              <a:off x="3666960" y="2349360"/>
              <a:ext cx="1360800" cy="1078200"/>
            </a:xfrm>
            <a:custGeom>
              <a:avLst/>
              <a:gdLst/>
              <a:ahLst/>
              <a:rect l="l" t="t" r="r" b="b"/>
              <a:pathLst>
                <a:path w="1040" h="816">
                  <a:moveTo>
                    <a:pt x="419" y="10"/>
                  </a:moveTo>
                  <a:cubicBezTo>
                    <a:pt x="493" y="0"/>
                    <a:pt x="548" y="5"/>
                    <a:pt x="612" y="17"/>
                  </a:cubicBezTo>
                  <a:cubicBezTo>
                    <a:pt x="676" y="29"/>
                    <a:pt x="791" y="64"/>
                    <a:pt x="804" y="81"/>
                  </a:cubicBezTo>
                  <a:cubicBezTo>
                    <a:pt x="818" y="99"/>
                    <a:pt x="1019" y="159"/>
                    <a:pt x="990" y="234"/>
                  </a:cubicBezTo>
                  <a:cubicBezTo>
                    <a:pt x="1016" y="276"/>
                    <a:pt x="1002" y="276"/>
                    <a:pt x="1007" y="312"/>
                  </a:cubicBezTo>
                  <a:cubicBezTo>
                    <a:pt x="1012" y="348"/>
                    <a:pt x="1040" y="391"/>
                    <a:pt x="1020" y="452"/>
                  </a:cubicBezTo>
                  <a:cubicBezTo>
                    <a:pt x="1012" y="513"/>
                    <a:pt x="945" y="620"/>
                    <a:pt x="887" y="675"/>
                  </a:cubicBezTo>
                  <a:cubicBezTo>
                    <a:pt x="828" y="733"/>
                    <a:pt x="716" y="779"/>
                    <a:pt x="664" y="803"/>
                  </a:cubicBezTo>
                  <a:cubicBezTo>
                    <a:pt x="657" y="816"/>
                    <a:pt x="589" y="815"/>
                    <a:pt x="572" y="816"/>
                  </a:cubicBezTo>
                  <a:cubicBezTo>
                    <a:pt x="565" y="816"/>
                    <a:pt x="480" y="800"/>
                    <a:pt x="480" y="800"/>
                  </a:cubicBezTo>
                  <a:cubicBezTo>
                    <a:pt x="361" y="755"/>
                    <a:pt x="300" y="765"/>
                    <a:pt x="196" y="691"/>
                  </a:cubicBezTo>
                  <a:cubicBezTo>
                    <a:pt x="177" y="667"/>
                    <a:pt x="46" y="562"/>
                    <a:pt x="46" y="532"/>
                  </a:cubicBezTo>
                  <a:cubicBezTo>
                    <a:pt x="56" y="511"/>
                    <a:pt x="0" y="406"/>
                    <a:pt x="9" y="384"/>
                  </a:cubicBezTo>
                  <a:cubicBezTo>
                    <a:pt x="21" y="355"/>
                    <a:pt x="41" y="217"/>
                    <a:pt x="109" y="154"/>
                  </a:cubicBezTo>
                  <a:cubicBezTo>
                    <a:pt x="177" y="92"/>
                    <a:pt x="345" y="20"/>
                    <a:pt x="41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 rot="180000">
              <a:off x="4039920" y="2615760"/>
              <a:ext cx="630000" cy="53820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Line 24"/>
          <p:cNvSpPr/>
          <p:nvPr/>
        </p:nvSpPr>
        <p:spPr>
          <a:xfrm>
            <a:off x="3160800" y="1468440"/>
            <a:ext cx="1440" cy="2521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5749920" y="1450800"/>
            <a:ext cx="1440" cy="2521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 flipV="1">
            <a:off x="3165480" y="3994200"/>
            <a:ext cx="2600280" cy="144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7"/>
          <p:cNvGrpSpPr/>
          <p:nvPr/>
        </p:nvGrpSpPr>
        <p:grpSpPr>
          <a:xfrm>
            <a:off x="3534840" y="3030480"/>
            <a:ext cx="803520" cy="592200"/>
            <a:chOff x="3534840" y="3030480"/>
            <a:chExt cx="803520" cy="592200"/>
          </a:xfrm>
        </p:grpSpPr>
        <p:sp>
          <p:nvSpPr>
            <p:cNvPr id="159" name="Line 28"/>
            <p:cNvSpPr/>
            <p:nvPr/>
          </p:nvSpPr>
          <p:spPr>
            <a:xfrm flipH="1">
              <a:off x="3638880" y="3164040"/>
              <a:ext cx="574200" cy="2919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9"/>
            <p:cNvSpPr/>
            <p:nvPr/>
          </p:nvSpPr>
          <p:spPr>
            <a:xfrm flipH="1">
              <a:off x="3781800" y="3357720"/>
              <a:ext cx="556560" cy="2649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30"/>
            <p:cNvSpPr/>
            <p:nvPr/>
          </p:nvSpPr>
          <p:spPr>
            <a:xfrm flipH="1">
              <a:off x="3534840" y="3030480"/>
              <a:ext cx="415800" cy="2872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4730760" y="2835360"/>
            <a:ext cx="647640" cy="593640"/>
            <a:chOff x="4730760" y="2835360"/>
            <a:chExt cx="647640" cy="593640"/>
          </a:xfrm>
        </p:grpSpPr>
        <p:sp>
          <p:nvSpPr>
            <p:cNvPr id="163" name="Line 32"/>
            <p:cNvSpPr/>
            <p:nvPr/>
          </p:nvSpPr>
          <p:spPr>
            <a:xfrm>
              <a:off x="4840200" y="2835360"/>
              <a:ext cx="538200" cy="2109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4781520" y="2949480"/>
              <a:ext cx="414360" cy="279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4730760" y="3105000"/>
              <a:ext cx="390600" cy="324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Line 35"/>
          <p:cNvSpPr/>
          <p:nvPr/>
        </p:nvSpPr>
        <p:spPr>
          <a:xfrm>
            <a:off x="6300720" y="1413000"/>
            <a:ext cx="1800" cy="252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8893080" y="1413000"/>
            <a:ext cx="1800" cy="252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7"/>
          <p:cNvSpPr/>
          <p:nvPr/>
        </p:nvSpPr>
        <p:spPr>
          <a:xfrm flipV="1">
            <a:off x="6300720" y="3968640"/>
            <a:ext cx="2600280" cy="144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6878520" y="2421000"/>
            <a:ext cx="1241640" cy="1008000"/>
          </a:xfrm>
          <a:custGeom>
            <a:avLst/>
            <a:gdLst/>
            <a:ahLst/>
            <a:rect l="l" t="t" r="r" b="b"/>
            <a:pathLst>
              <a:path w="1008" h="1213">
                <a:moveTo>
                  <a:pt x="269" y="3"/>
                </a:moveTo>
                <a:cubicBezTo>
                  <a:pt x="250" y="6"/>
                  <a:pt x="229" y="4"/>
                  <a:pt x="211" y="13"/>
                </a:cubicBezTo>
                <a:cubicBezTo>
                  <a:pt x="179" y="29"/>
                  <a:pt x="150" y="83"/>
                  <a:pt x="125" y="109"/>
                </a:cubicBezTo>
                <a:cubicBezTo>
                  <a:pt x="108" y="160"/>
                  <a:pt x="72" y="205"/>
                  <a:pt x="48" y="253"/>
                </a:cubicBezTo>
                <a:cubicBezTo>
                  <a:pt x="20" y="308"/>
                  <a:pt x="9" y="385"/>
                  <a:pt x="0" y="445"/>
                </a:cubicBezTo>
                <a:cubicBezTo>
                  <a:pt x="3" y="576"/>
                  <a:pt x="1" y="707"/>
                  <a:pt x="9" y="838"/>
                </a:cubicBezTo>
                <a:cubicBezTo>
                  <a:pt x="15" y="930"/>
                  <a:pt x="98" y="1022"/>
                  <a:pt x="153" y="1088"/>
                </a:cubicBezTo>
                <a:cubicBezTo>
                  <a:pt x="179" y="1120"/>
                  <a:pt x="189" y="1142"/>
                  <a:pt x="230" y="1155"/>
                </a:cubicBezTo>
                <a:cubicBezTo>
                  <a:pt x="390" y="1152"/>
                  <a:pt x="587" y="1213"/>
                  <a:pt x="729" y="1117"/>
                </a:cubicBezTo>
                <a:cubicBezTo>
                  <a:pt x="790" y="1031"/>
                  <a:pt x="785" y="1046"/>
                  <a:pt x="873" y="1002"/>
                </a:cubicBezTo>
                <a:cubicBezTo>
                  <a:pt x="881" y="941"/>
                  <a:pt x="890" y="868"/>
                  <a:pt x="912" y="810"/>
                </a:cubicBezTo>
                <a:cubicBezTo>
                  <a:pt x="928" y="768"/>
                  <a:pt x="955" y="730"/>
                  <a:pt x="969" y="685"/>
                </a:cubicBezTo>
                <a:cubicBezTo>
                  <a:pt x="964" y="475"/>
                  <a:pt x="1008" y="281"/>
                  <a:pt x="893" y="109"/>
                </a:cubicBezTo>
                <a:cubicBezTo>
                  <a:pt x="864" y="65"/>
                  <a:pt x="906" y="93"/>
                  <a:pt x="864" y="51"/>
                </a:cubicBezTo>
                <a:cubicBezTo>
                  <a:pt x="846" y="33"/>
                  <a:pt x="824" y="21"/>
                  <a:pt x="806" y="3"/>
                </a:cubicBezTo>
                <a:cubicBezTo>
                  <a:pt x="787" y="9"/>
                  <a:pt x="764" y="9"/>
                  <a:pt x="749" y="22"/>
                </a:cubicBezTo>
                <a:cubicBezTo>
                  <a:pt x="739" y="31"/>
                  <a:pt x="739" y="48"/>
                  <a:pt x="739" y="61"/>
                </a:cubicBezTo>
                <a:cubicBezTo>
                  <a:pt x="739" y="135"/>
                  <a:pt x="752" y="264"/>
                  <a:pt x="797" y="330"/>
                </a:cubicBezTo>
                <a:cubicBezTo>
                  <a:pt x="785" y="465"/>
                  <a:pt x="807" y="658"/>
                  <a:pt x="729" y="771"/>
                </a:cubicBezTo>
                <a:cubicBezTo>
                  <a:pt x="723" y="789"/>
                  <a:pt x="711" y="856"/>
                  <a:pt x="701" y="867"/>
                </a:cubicBezTo>
                <a:cubicBezTo>
                  <a:pt x="694" y="874"/>
                  <a:pt x="682" y="874"/>
                  <a:pt x="672" y="877"/>
                </a:cubicBezTo>
                <a:cubicBezTo>
                  <a:pt x="627" y="922"/>
                  <a:pt x="569" y="928"/>
                  <a:pt x="509" y="944"/>
                </a:cubicBezTo>
                <a:cubicBezTo>
                  <a:pt x="450" y="929"/>
                  <a:pt x="388" y="930"/>
                  <a:pt x="336" y="896"/>
                </a:cubicBezTo>
                <a:cubicBezTo>
                  <a:pt x="312" y="803"/>
                  <a:pt x="371" y="717"/>
                  <a:pt x="413" y="637"/>
                </a:cubicBezTo>
                <a:cubicBezTo>
                  <a:pt x="407" y="582"/>
                  <a:pt x="394" y="469"/>
                  <a:pt x="365" y="416"/>
                </a:cubicBezTo>
                <a:cubicBezTo>
                  <a:pt x="334" y="359"/>
                  <a:pt x="307" y="332"/>
                  <a:pt x="288" y="272"/>
                </a:cubicBezTo>
                <a:cubicBezTo>
                  <a:pt x="278" y="0"/>
                  <a:pt x="368" y="3"/>
                  <a:pt x="269" y="3"/>
                </a:cubicBez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39"/>
          <p:cNvGrpSpPr/>
          <p:nvPr/>
        </p:nvGrpSpPr>
        <p:grpSpPr>
          <a:xfrm>
            <a:off x="6861240" y="2340000"/>
            <a:ext cx="1360440" cy="1077840"/>
            <a:chOff x="6861240" y="2340000"/>
            <a:chExt cx="1360440" cy="1077840"/>
          </a:xfrm>
        </p:grpSpPr>
        <p:sp>
          <p:nvSpPr>
            <p:cNvPr id="171" name="Freeform 40"/>
            <p:cNvSpPr/>
            <p:nvPr/>
          </p:nvSpPr>
          <p:spPr>
            <a:xfrm>
              <a:off x="6861240" y="2340000"/>
              <a:ext cx="1360440" cy="1077840"/>
            </a:xfrm>
            <a:custGeom>
              <a:avLst/>
              <a:gdLst/>
              <a:ahLst/>
              <a:rect l="l" t="t" r="r" b="b"/>
              <a:pathLst>
                <a:path w="1040" h="816">
                  <a:moveTo>
                    <a:pt x="419" y="10"/>
                  </a:moveTo>
                  <a:cubicBezTo>
                    <a:pt x="493" y="0"/>
                    <a:pt x="548" y="5"/>
                    <a:pt x="612" y="17"/>
                  </a:cubicBezTo>
                  <a:cubicBezTo>
                    <a:pt x="676" y="29"/>
                    <a:pt x="791" y="64"/>
                    <a:pt x="804" y="81"/>
                  </a:cubicBezTo>
                  <a:cubicBezTo>
                    <a:pt x="818" y="99"/>
                    <a:pt x="1019" y="159"/>
                    <a:pt x="990" y="234"/>
                  </a:cubicBezTo>
                  <a:cubicBezTo>
                    <a:pt x="1016" y="276"/>
                    <a:pt x="1002" y="276"/>
                    <a:pt x="1007" y="312"/>
                  </a:cubicBezTo>
                  <a:cubicBezTo>
                    <a:pt x="1012" y="348"/>
                    <a:pt x="1040" y="391"/>
                    <a:pt x="1020" y="452"/>
                  </a:cubicBezTo>
                  <a:cubicBezTo>
                    <a:pt x="1012" y="513"/>
                    <a:pt x="945" y="620"/>
                    <a:pt x="887" y="675"/>
                  </a:cubicBezTo>
                  <a:cubicBezTo>
                    <a:pt x="828" y="733"/>
                    <a:pt x="716" y="779"/>
                    <a:pt x="664" y="803"/>
                  </a:cubicBezTo>
                  <a:cubicBezTo>
                    <a:pt x="657" y="816"/>
                    <a:pt x="589" y="815"/>
                    <a:pt x="572" y="816"/>
                  </a:cubicBezTo>
                  <a:cubicBezTo>
                    <a:pt x="565" y="816"/>
                    <a:pt x="480" y="800"/>
                    <a:pt x="480" y="800"/>
                  </a:cubicBezTo>
                  <a:cubicBezTo>
                    <a:pt x="361" y="755"/>
                    <a:pt x="300" y="765"/>
                    <a:pt x="196" y="691"/>
                  </a:cubicBezTo>
                  <a:cubicBezTo>
                    <a:pt x="177" y="667"/>
                    <a:pt x="46" y="562"/>
                    <a:pt x="46" y="532"/>
                  </a:cubicBezTo>
                  <a:cubicBezTo>
                    <a:pt x="56" y="511"/>
                    <a:pt x="0" y="406"/>
                    <a:pt x="9" y="384"/>
                  </a:cubicBezTo>
                  <a:cubicBezTo>
                    <a:pt x="21" y="355"/>
                    <a:pt x="41" y="217"/>
                    <a:pt x="109" y="154"/>
                  </a:cubicBezTo>
                  <a:cubicBezTo>
                    <a:pt x="177" y="92"/>
                    <a:pt x="345" y="20"/>
                    <a:pt x="41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1"/>
            <p:cNvSpPr/>
            <p:nvPr/>
          </p:nvSpPr>
          <p:spPr>
            <a:xfrm rot="180000">
              <a:off x="7233840" y="2606400"/>
              <a:ext cx="630360" cy="53820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42"/>
          <p:cNvGrpSpPr/>
          <p:nvPr/>
        </p:nvGrpSpPr>
        <p:grpSpPr>
          <a:xfrm>
            <a:off x="6416640" y="3311640"/>
            <a:ext cx="800280" cy="609120"/>
            <a:chOff x="6416640" y="3311640"/>
            <a:chExt cx="800280" cy="609120"/>
          </a:xfrm>
        </p:grpSpPr>
        <p:sp>
          <p:nvSpPr>
            <p:cNvPr id="174" name="Line 43"/>
            <p:cNvSpPr/>
            <p:nvPr/>
          </p:nvSpPr>
          <p:spPr>
            <a:xfrm flipV="1">
              <a:off x="6568920" y="3451680"/>
              <a:ext cx="524160" cy="3754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44"/>
            <p:cNvSpPr/>
            <p:nvPr/>
          </p:nvSpPr>
          <p:spPr>
            <a:xfrm flipV="1">
              <a:off x="6416640" y="3311640"/>
              <a:ext cx="511200" cy="3456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45"/>
            <p:cNvSpPr/>
            <p:nvPr/>
          </p:nvSpPr>
          <p:spPr>
            <a:xfrm flipV="1">
              <a:off x="6850080" y="3572280"/>
              <a:ext cx="366840" cy="3484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Group 46"/>
          <p:cNvGrpSpPr/>
          <p:nvPr/>
        </p:nvGrpSpPr>
        <p:grpSpPr>
          <a:xfrm>
            <a:off x="8145000" y="1782720"/>
            <a:ext cx="655560" cy="592200"/>
            <a:chOff x="8145000" y="1782720"/>
            <a:chExt cx="655560" cy="592200"/>
          </a:xfrm>
        </p:grpSpPr>
        <p:sp>
          <p:nvSpPr>
            <p:cNvPr id="178" name="Line 47"/>
            <p:cNvSpPr/>
            <p:nvPr/>
          </p:nvSpPr>
          <p:spPr>
            <a:xfrm flipH="1">
              <a:off x="8354520" y="2009880"/>
              <a:ext cx="446040" cy="3650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48"/>
            <p:cNvSpPr/>
            <p:nvPr/>
          </p:nvSpPr>
          <p:spPr>
            <a:xfrm flipH="1">
              <a:off x="8280720" y="1903320"/>
              <a:ext cx="447480" cy="225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49"/>
            <p:cNvSpPr/>
            <p:nvPr/>
          </p:nvSpPr>
          <p:spPr>
            <a:xfrm flipH="1">
              <a:off x="8145000" y="1782720"/>
              <a:ext cx="472680" cy="1810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50"/>
          <p:cNvSpPr/>
          <p:nvPr/>
        </p:nvSpPr>
        <p:spPr>
          <a:xfrm>
            <a:off x="324000" y="4149720"/>
            <a:ext cx="240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sotonic solu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0.9% 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5% 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=700-800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3059280" y="4149720"/>
            <a:ext cx="27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ypertonic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gt;700-800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3448080" y="78588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las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6737400" y="7142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He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6300720" y="4149720"/>
            <a:ext cx="26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ypotonic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700-800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41440" y="76500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03941 -0.04213 E">
                                      <p:cBhvr>
                                        <p:cTn id="6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03941 4.81481E-006 E">
                                      <p:cBhvr>
                                        <p:cTn id="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7 L 0.03941 0.0419 E">
                                      <p:cBhvr>
                                        <p:cTn id="1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-0.02361 0.04213 E">
                                      <p:cBhvr>
                                        <p:cTn id="1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55556E-006 L 0.04722 -0.05255 E">
                                      <p:cBhvr>
                                        <p:cTn id="2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05503 0.06296 E">
                                      <p:cBhvr>
                                        <p:cTn id="2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324000" y="260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sotonic solution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be used for intravenous injections in order to avoid the disturbance of osmotic balance in the org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5877000"/>
            <a:ext cx="92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ypertonic solution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% NaCl) are used for washing out of w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00360" y="1628640"/>
            <a:ext cx="44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smotic Pressure of 0.9% NaC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562040" y="2013120"/>
                <a:ext cx="5664240" cy="20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=iCRT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;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10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rPr>
                            <m:lit/>
                            <m:nor/>
                          </m:rPr>
                          <m:t xml:space="preserve">772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5"/>
          <p:cNvSpPr/>
          <p:nvPr/>
        </p:nvSpPr>
        <p:spPr>
          <a:xfrm>
            <a:off x="2552400" y="386064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smotic Pressure of 5% gluco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1747800" y="4275000"/>
                <a:ext cx="584856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=CRT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ρ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;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10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rPr>
                            <m:lit/>
                            <m:nor/>
                          </m:rPr>
                          <m:t xml:space="preserve">721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87280" y="0"/>
            <a:ext cx="53276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66cc"/>
                </a:solidFill>
                <a:latin typeface="Times New Roman"/>
              </a:rPr>
              <a:t>Intravenous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ay be used to correct electrolyte imbalances, to deliver medications, for blood transfusion or as fluid replacement to correct, for example, dehyd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5616720" y="82440"/>
            <a:ext cx="3471840" cy="2222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-74520" y="2160720"/>
            <a:ext cx="561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Hypotonic solutions are routinely used in hospitals to keep patients hydrated. For example 0.45% NaCl is mostly used to give free water. Most of this water is rapidly absorbed by the body and eliminated by the renal syste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However if a patient has a severe deficit of sodium, or certain types of tissue swelling, they may receive hypertonic saline (NaCl) (3%). This can rapidly replace the sodium deficit, or even reduce cerebral edema (swelling due to excessive fluid) by acting like a sponge in the blood vessels, sucking free water out of surrounding t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5238720" y="2376360"/>
            <a:ext cx="4768920" cy="237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3"/>
          <a:stretch/>
        </p:blipFill>
        <p:spPr>
          <a:xfrm>
            <a:off x="7272360" y="4091040"/>
            <a:ext cx="18003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41:42Z</dcterms:created>
  <dc:creator>Наталья</dc:creator>
  <dc:description/>
  <cp:keywords/>
  <dc:language>en-US</dc:language>
  <cp:lastModifiedBy>Tanya</cp:lastModifiedBy>
  <dcterms:modified xsi:type="dcterms:W3CDTF">2017-11-06T19:05:11Z</dcterms:modified>
  <cp:revision>54</cp:revision>
  <dc:subject/>
  <dc:title>Слайд 1</dc:title>
</cp:coreProperties>
</file>