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219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221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20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211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213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215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217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0244-BCC5-47D6-A4FD-03970BDA4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3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6680"/>
            <a:ext cx="8223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016F5-465F-4857-90B4-580D35B47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668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412668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CBA94-91C8-4BE8-97AC-E10EE24C3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98072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98072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668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12668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12668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25150-D549-40BC-B9D2-1F5445607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956C7-7547-44CD-B733-3D56ECAD9B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312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403C6-650E-41B4-AE41-DD94A2059A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3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EC625-D266-4DA8-B700-B2671AB2FC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A6A8A-3FA0-4ED6-99F7-BCCE3671CB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AE35E-30DB-4B5F-A469-B87D7CAD2C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3120" cy="63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B0C6E-D73B-4CA3-9B69-18BE77EA4C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668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68668-621E-4793-B600-6D375F5B50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312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E860-C870-4D75-9FE7-E2CA55527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640" y="412668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9D072-393E-48AB-B43C-6D48364247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6680"/>
            <a:ext cx="8223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6F2F8-F3F2-4AD4-945B-C347EDD795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3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6680"/>
            <a:ext cx="8223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455DA-6245-4B6F-BAD3-75C4595CA1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668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640" y="412668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9BC9A-080D-425E-BBD4-05DAF54ABB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98072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198072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668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412668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126680"/>
            <a:ext cx="264744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04442-FAE1-4734-9DB0-954AD21093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3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C3020-6674-47D2-9394-49291FBFB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2C34-0FCC-434D-A741-9BE76F051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C1EF-376D-4611-A0E4-AEE117D11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3120" cy="63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447E-7328-4E64-86C5-8EA751EBB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668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20772-A837-46A6-ADDC-B6BA37B99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412668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39E0F-7517-45AA-8E88-2216C1923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980720"/>
            <a:ext cx="4012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6680"/>
            <a:ext cx="82231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179C-9FC9-46F2-A384-5AA263913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312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31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938B6-C0AF-4B77-BE28-8766057E287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659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37160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Для добавления текста щёлкните мыш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E0205-B43F-4F58-9E66-0E2E5CE9B82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250920" y="189000"/>
            <a:ext cx="86421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Kharkiv National Medical University</a:t>
            </a:r>
            <a:br>
              <a:rPr sz="2800"/>
            </a:b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Medical and bioorganic chemistry department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cc9900"/>
                </a:solidFill>
                <a:latin typeface="Arial"/>
              </a:rPr>
              <a:t>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Arial"/>
                <a:ea typeface="Arial"/>
              </a:rPr>
              <a:t>COLLIGATIVE PROPERTIES OF SOLU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1"/>
          <p:cNvSpPr txBox="1"/>
          <p:nvPr/>
        </p:nvSpPr>
        <p:spPr>
          <a:xfrm>
            <a:off x="250920" y="1557360"/>
            <a:ext cx="8137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hank you for your attention!</a:t>
            </a:r>
            <a:endParaRPr b="0" lang="en-US" sz="18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1"/>
          <a:stretch/>
        </p:blipFill>
        <p:spPr>
          <a:xfrm>
            <a:off x="3240" y="1133640"/>
            <a:ext cx="9107280" cy="47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250920" y="360360"/>
            <a:ext cx="87138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homogeneous mixture of two or more substances, consisting of ions or molecules. The terms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solute</a:t>
            </a:r>
            <a:r>
              <a:rPr b="0" i="1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solvent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 to the components of a solution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solute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component </a:t>
            </a:r>
            <a:r>
              <a:rPr b="0" i="1" lang="ru-RU" sz="2900" spc="-1" strike="noStrike">
                <a:solidFill>
                  <a:srgbClr val="000000"/>
                </a:solidFill>
                <a:latin typeface="Times New Roman"/>
              </a:rPr>
              <a:t>in smaller amount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solvent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component in greater amount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All biochemical and biological properties in living organisms proceed in the solutions. Solvent is </a:t>
            </a:r>
            <a:r>
              <a:rPr b="1" i="1" lang="en-US" sz="2900" spc="-1" strike="noStrike">
                <a:solidFill>
                  <a:srgbClr val="cc9900"/>
                </a:solidFill>
                <a:latin typeface="Times New Roman"/>
              </a:rPr>
              <a:t>water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900" spc="-1" strike="noStrike">
                <a:solidFill>
                  <a:srgbClr val="660033"/>
                </a:solidFill>
                <a:latin typeface="Arial"/>
              </a:rPr>
              <a:t>Living organisms</a:t>
            </a:r>
            <a:r>
              <a:rPr b="1" i="1" lang="ru-RU" sz="2900" spc="-1" strike="noStrike">
                <a:solidFill>
                  <a:srgbClr val="660033"/>
                </a:solidFill>
                <a:latin typeface="Arial"/>
              </a:rPr>
              <a:t>: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get food from aqueous medium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biosynthesis takes place in water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water extracts wastes from organisms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Water forms during biosyntesis called</a:t>
            </a:r>
            <a:r>
              <a:rPr b="1" i="1" lang="en-US" sz="29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9900"/>
                </a:solidFill>
                <a:latin typeface="Arial"/>
              </a:rPr>
              <a:t>metabolic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6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1098720"/>
            <a:ext cx="8642520" cy="33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5-50 liters of water / 70 kg of the body 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ntent of water 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ood – 8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es – 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tilage (gristle) – 5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stine, lungs, heart, kidneys, brain –70-8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457200" y="620640"/>
            <a:ext cx="8229600" cy="5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900000" y="1413000"/>
            <a:ext cx="72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39640" y="260280"/>
            <a:ext cx="7848720" cy="61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dding a solute to a pure solvent causes cha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 i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the solvent’s physical properties.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pecial group of physical properties that change when a solute is added are ca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olligative properti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ahoma"/>
              </a:rPr>
              <a:t>colligative property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is a physical property of a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that depends only on the relative amount (concentration) of solute particles (molecules or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ions) present in a given quantity of solvent and not on their chemical id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olligative properties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re the follow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Lowering of the vapor pressure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f the solution compared with that of the pure solv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Elevation of the boiling point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f the solution compared with that of the pure solv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Depression of the freezing point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f the solution compared with that of the pure solv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Osmotic press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324000" y="26028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pression of biological fluids in comparison with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2"/>
          <p:cNvGrpSpPr/>
          <p:nvPr/>
        </p:nvGrpSpPr>
        <p:grpSpPr>
          <a:xfrm>
            <a:off x="900000" y="981000"/>
            <a:ext cx="7269120" cy="5616720"/>
            <a:chOff x="900000" y="981000"/>
            <a:chExt cx="7269120" cy="5616720"/>
          </a:xfrm>
        </p:grpSpPr>
        <p:sp>
          <p:nvSpPr>
            <p:cNvPr id="97" name="Line 3"/>
            <p:cNvSpPr/>
            <p:nvPr/>
          </p:nvSpPr>
          <p:spPr>
            <a:xfrm>
              <a:off x="900000" y="991800"/>
              <a:ext cx="7010640" cy="0"/>
            </a:xfrm>
            <a:prstGeom prst="line">
              <a:avLst/>
            </a:prstGeom>
            <a:ln cap="sq"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4"/>
            <p:cNvSpPr/>
            <p:nvPr/>
          </p:nvSpPr>
          <p:spPr>
            <a:xfrm>
              <a:off x="4819680" y="991800"/>
              <a:ext cx="0" cy="5602320"/>
            </a:xfrm>
            <a:prstGeom prst="line">
              <a:avLst/>
            </a:prstGeom>
            <a:ln cap="sq"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5"/>
            <p:cNvSpPr/>
            <p:nvPr/>
          </p:nvSpPr>
          <p:spPr>
            <a:xfrm>
              <a:off x="1028880" y="1580760"/>
              <a:ext cx="7008480" cy="0"/>
            </a:xfrm>
            <a:prstGeom prst="line">
              <a:avLst/>
            </a:prstGeom>
            <a:ln cap="sq"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6"/>
            <p:cNvSpPr/>
            <p:nvPr/>
          </p:nvSpPr>
          <p:spPr>
            <a:xfrm>
              <a:off x="1028880" y="2171520"/>
              <a:ext cx="7008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7"/>
            <p:cNvSpPr/>
            <p:nvPr/>
          </p:nvSpPr>
          <p:spPr>
            <a:xfrm>
              <a:off x="1028880" y="2761560"/>
              <a:ext cx="7008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8"/>
            <p:cNvSpPr/>
            <p:nvPr/>
          </p:nvSpPr>
          <p:spPr>
            <a:xfrm>
              <a:off x="1028880" y="3351960"/>
              <a:ext cx="7008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9"/>
            <p:cNvSpPr/>
            <p:nvPr/>
          </p:nvSpPr>
          <p:spPr>
            <a:xfrm>
              <a:off x="1028880" y="3950280"/>
              <a:ext cx="7008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10"/>
            <p:cNvSpPr/>
            <p:nvPr/>
          </p:nvSpPr>
          <p:spPr>
            <a:xfrm>
              <a:off x="1160640" y="4532760"/>
              <a:ext cx="7008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1"/>
            <p:cNvSpPr/>
            <p:nvPr/>
          </p:nvSpPr>
          <p:spPr>
            <a:xfrm>
              <a:off x="1160640" y="5024880"/>
              <a:ext cx="7008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2"/>
            <p:cNvSpPr/>
            <p:nvPr/>
          </p:nvSpPr>
          <p:spPr>
            <a:xfrm>
              <a:off x="1160640" y="5516640"/>
              <a:ext cx="7008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3"/>
            <p:cNvSpPr/>
            <p:nvPr/>
          </p:nvSpPr>
          <p:spPr>
            <a:xfrm>
              <a:off x="1160640" y="6007320"/>
              <a:ext cx="7008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Text Box 14"/>
            <p:cNvSpPr/>
            <p:nvPr/>
          </p:nvSpPr>
          <p:spPr>
            <a:xfrm>
              <a:off x="1650240" y="991800"/>
              <a:ext cx="21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Biological flui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 Box 15"/>
            <p:cNvSpPr/>
            <p:nvPr/>
          </p:nvSpPr>
          <p:spPr>
            <a:xfrm>
              <a:off x="6014520" y="981000"/>
              <a:ext cx="633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l-GR" sz="2400" spc="-1" strike="noStrike">
                  <a:solidFill>
                    <a:srgbClr val="000099"/>
                  </a:solidFill>
                  <a:latin typeface="Times New Roman"/>
                </a:rPr>
                <a:t>Δ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Text Box 16"/>
            <p:cNvSpPr/>
            <p:nvPr/>
          </p:nvSpPr>
          <p:spPr>
            <a:xfrm>
              <a:off x="1897920" y="160776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Bloo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7"/>
            <p:cNvSpPr/>
            <p:nvPr/>
          </p:nvSpPr>
          <p:spPr>
            <a:xfrm>
              <a:off x="1713960" y="2125440"/>
              <a:ext cx="169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Tissue flui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 Box 18"/>
            <p:cNvSpPr/>
            <p:nvPr/>
          </p:nvSpPr>
          <p:spPr>
            <a:xfrm>
              <a:off x="1416960" y="2723400"/>
              <a:ext cx="273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Cerebrospinal flui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19"/>
            <p:cNvSpPr/>
            <p:nvPr/>
          </p:nvSpPr>
          <p:spPr>
            <a:xfrm>
              <a:off x="1939320" y="329976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Saliv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20"/>
            <p:cNvSpPr/>
            <p:nvPr/>
          </p:nvSpPr>
          <p:spPr>
            <a:xfrm>
              <a:off x="1661400" y="3861360"/>
              <a:ext cx="18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Gastric ju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21"/>
            <p:cNvSpPr/>
            <p:nvPr/>
          </p:nvSpPr>
          <p:spPr>
            <a:xfrm>
              <a:off x="1940400" y="4383720"/>
              <a:ext cx="10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Sweat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2"/>
            <p:cNvSpPr/>
            <p:nvPr/>
          </p:nvSpPr>
          <p:spPr>
            <a:xfrm>
              <a:off x="1980000" y="4872600"/>
              <a:ext cx="100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Times New Roman"/>
                </a:rPr>
                <a:t>Urin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23"/>
            <p:cNvSpPr/>
            <p:nvPr/>
          </p:nvSpPr>
          <p:spPr>
            <a:xfrm>
              <a:off x="2099520" y="55119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Mil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24"/>
            <p:cNvSpPr/>
            <p:nvPr/>
          </p:nvSpPr>
          <p:spPr>
            <a:xfrm>
              <a:off x="1143000" y="6597720"/>
              <a:ext cx="70102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25"/>
            <p:cNvSpPr/>
            <p:nvPr/>
          </p:nvSpPr>
          <p:spPr>
            <a:xfrm>
              <a:off x="2261520" y="6077160"/>
              <a:ext cx="60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Bi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26"/>
            <p:cNvSpPr/>
            <p:nvPr/>
          </p:nvSpPr>
          <p:spPr>
            <a:xfrm>
              <a:off x="5860440" y="157932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0.5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27"/>
            <p:cNvSpPr/>
            <p:nvPr/>
          </p:nvSpPr>
          <p:spPr>
            <a:xfrm>
              <a:off x="5733360" y="2266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0.6-0.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28"/>
            <p:cNvSpPr/>
            <p:nvPr/>
          </p:nvSpPr>
          <p:spPr>
            <a:xfrm>
              <a:off x="5977800" y="276012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0.5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29"/>
            <p:cNvSpPr/>
            <p:nvPr/>
          </p:nvSpPr>
          <p:spPr>
            <a:xfrm>
              <a:off x="5752440" y="340128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0.19-0.4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0"/>
            <p:cNvSpPr/>
            <p:nvPr/>
          </p:nvSpPr>
          <p:spPr>
            <a:xfrm>
              <a:off x="5769720" y="394848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0.49-0.6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Text Box 31"/>
            <p:cNvSpPr/>
            <p:nvPr/>
          </p:nvSpPr>
          <p:spPr>
            <a:xfrm>
              <a:off x="5766840" y="449640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0.13-0.6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32"/>
            <p:cNvSpPr/>
            <p:nvPr/>
          </p:nvSpPr>
          <p:spPr>
            <a:xfrm>
              <a:off x="5809680" y="494568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1.12-2.3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33"/>
            <p:cNvSpPr/>
            <p:nvPr/>
          </p:nvSpPr>
          <p:spPr>
            <a:xfrm>
              <a:off x="5780880" y="551196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0.55-0.5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Text Box 34"/>
            <p:cNvSpPr/>
            <p:nvPr/>
          </p:nvSpPr>
          <p:spPr>
            <a:xfrm>
              <a:off x="5803200" y="600552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Times New Roman"/>
                </a:rPr>
                <a:t>0.54-0.6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45720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bullioscopy and Cry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1427040" y="1901880"/>
                <a:ext cx="3227400" cy="27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E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lven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olven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ΔT</m:t>
                                </m:r>
                              </m:den>
                            </m:f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3"/>
              <p:cNvSpPr txBox="1"/>
              <p:nvPr/>
            </p:nvSpPr>
            <p:spPr>
              <a:xfrm>
                <a:off x="5327640" y="1857240"/>
                <a:ext cx="3168720" cy="28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K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lven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lvent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6300720" y="1747800"/>
            <a:ext cx="2592360" cy="223200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170160" y="1773360"/>
            <a:ext cx="2592360" cy="2232000"/>
          </a:xfrm>
          <a:prstGeom prst="rect">
            <a:avLst/>
          </a:prstGeom>
          <a:solidFill>
            <a:srgbClr val="0066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63440" y="1773360"/>
            <a:ext cx="2592360" cy="2232000"/>
          </a:xfrm>
          <a:prstGeom prst="rect">
            <a:avLst/>
          </a:prstGeom>
          <a:solidFill>
            <a:srgbClr val="00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4211640" y="2349360"/>
            <a:ext cx="479520" cy="1076400"/>
            <a:chOff x="4211640" y="2349360"/>
            <a:chExt cx="479520" cy="1076400"/>
          </a:xfrm>
        </p:grpSpPr>
        <p:sp>
          <p:nvSpPr>
            <p:cNvPr id="136" name="Freeform 5"/>
            <p:cNvSpPr/>
            <p:nvPr/>
          </p:nvSpPr>
          <p:spPr>
            <a:xfrm>
              <a:off x="4211640" y="2349360"/>
              <a:ext cx="479520" cy="1076400"/>
            </a:xfrm>
            <a:custGeom>
              <a:avLst/>
              <a:gdLst/>
              <a:ahLst/>
              <a:rect l="l" t="t" r="r" b="b"/>
              <a:pathLst>
                <a:path w="304" h="681">
                  <a:moveTo>
                    <a:pt x="114" y="8"/>
                  </a:moveTo>
                  <a:cubicBezTo>
                    <a:pt x="137" y="0"/>
                    <a:pt x="154" y="4"/>
                    <a:pt x="173" y="14"/>
                  </a:cubicBezTo>
                  <a:cubicBezTo>
                    <a:pt x="193" y="24"/>
                    <a:pt x="228" y="53"/>
                    <a:pt x="232" y="68"/>
                  </a:cubicBezTo>
                  <a:cubicBezTo>
                    <a:pt x="236" y="83"/>
                    <a:pt x="267" y="155"/>
                    <a:pt x="258" y="217"/>
                  </a:cubicBezTo>
                  <a:cubicBezTo>
                    <a:pt x="266" y="252"/>
                    <a:pt x="287" y="233"/>
                    <a:pt x="294" y="260"/>
                  </a:cubicBezTo>
                  <a:cubicBezTo>
                    <a:pt x="301" y="287"/>
                    <a:pt x="304" y="326"/>
                    <a:pt x="298" y="377"/>
                  </a:cubicBezTo>
                  <a:cubicBezTo>
                    <a:pt x="295" y="428"/>
                    <a:pt x="275" y="517"/>
                    <a:pt x="257" y="563"/>
                  </a:cubicBezTo>
                  <a:cubicBezTo>
                    <a:pt x="239" y="612"/>
                    <a:pt x="205" y="650"/>
                    <a:pt x="189" y="670"/>
                  </a:cubicBezTo>
                  <a:cubicBezTo>
                    <a:pt x="187" y="681"/>
                    <a:pt x="166" y="680"/>
                    <a:pt x="161" y="681"/>
                  </a:cubicBezTo>
                  <a:cubicBezTo>
                    <a:pt x="159" y="681"/>
                    <a:pt x="133" y="668"/>
                    <a:pt x="133" y="668"/>
                  </a:cubicBezTo>
                  <a:cubicBezTo>
                    <a:pt x="96" y="630"/>
                    <a:pt x="184" y="671"/>
                    <a:pt x="152" y="610"/>
                  </a:cubicBezTo>
                  <a:cubicBezTo>
                    <a:pt x="146" y="590"/>
                    <a:pt x="0" y="469"/>
                    <a:pt x="0" y="444"/>
                  </a:cubicBezTo>
                  <a:cubicBezTo>
                    <a:pt x="3" y="426"/>
                    <a:pt x="82" y="351"/>
                    <a:pt x="85" y="332"/>
                  </a:cubicBezTo>
                  <a:cubicBezTo>
                    <a:pt x="88" y="308"/>
                    <a:pt x="14" y="183"/>
                    <a:pt x="19" y="129"/>
                  </a:cubicBezTo>
                  <a:cubicBezTo>
                    <a:pt x="24" y="75"/>
                    <a:pt x="91" y="17"/>
                    <a:pt x="114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 rot="180000">
              <a:off x="4335480" y="2706840"/>
              <a:ext cx="231840" cy="447480"/>
            </a:xfrm>
            <a:custGeom>
              <a:avLst/>
              <a:gdLst/>
              <a:ahLst/>
              <a:rect l="l" t="t" r="r" b="b"/>
              <a:pathLst>
                <a:path w="672" h="886">
                  <a:moveTo>
                    <a:pt x="384" y="32"/>
                  </a:moveTo>
                  <a:cubicBezTo>
                    <a:pt x="294" y="0"/>
                    <a:pt x="347" y="10"/>
                    <a:pt x="221" y="22"/>
                  </a:cubicBezTo>
                  <a:cubicBezTo>
                    <a:pt x="211" y="25"/>
                    <a:pt x="199" y="25"/>
                    <a:pt x="192" y="32"/>
                  </a:cubicBezTo>
                  <a:cubicBezTo>
                    <a:pt x="148" y="76"/>
                    <a:pt x="116" y="175"/>
                    <a:pt x="96" y="233"/>
                  </a:cubicBezTo>
                  <a:cubicBezTo>
                    <a:pt x="86" y="300"/>
                    <a:pt x="82" y="369"/>
                    <a:pt x="68" y="435"/>
                  </a:cubicBezTo>
                  <a:cubicBezTo>
                    <a:pt x="52" y="510"/>
                    <a:pt x="61" y="402"/>
                    <a:pt x="20" y="521"/>
                  </a:cubicBezTo>
                  <a:cubicBezTo>
                    <a:pt x="6" y="562"/>
                    <a:pt x="13" y="540"/>
                    <a:pt x="0" y="588"/>
                  </a:cubicBezTo>
                  <a:cubicBezTo>
                    <a:pt x="1" y="592"/>
                    <a:pt x="9" y="661"/>
                    <a:pt x="20" y="675"/>
                  </a:cubicBezTo>
                  <a:cubicBezTo>
                    <a:pt x="34" y="693"/>
                    <a:pt x="68" y="723"/>
                    <a:pt x="68" y="723"/>
                  </a:cubicBezTo>
                  <a:cubicBezTo>
                    <a:pt x="85" y="778"/>
                    <a:pt x="140" y="813"/>
                    <a:pt x="183" y="848"/>
                  </a:cubicBezTo>
                  <a:cubicBezTo>
                    <a:pt x="192" y="855"/>
                    <a:pt x="201" y="862"/>
                    <a:pt x="212" y="867"/>
                  </a:cubicBezTo>
                  <a:cubicBezTo>
                    <a:pt x="230" y="875"/>
                    <a:pt x="269" y="886"/>
                    <a:pt x="269" y="886"/>
                  </a:cubicBezTo>
                  <a:cubicBezTo>
                    <a:pt x="352" y="883"/>
                    <a:pt x="436" y="884"/>
                    <a:pt x="519" y="876"/>
                  </a:cubicBezTo>
                  <a:cubicBezTo>
                    <a:pt x="562" y="872"/>
                    <a:pt x="566" y="831"/>
                    <a:pt x="605" y="819"/>
                  </a:cubicBezTo>
                  <a:cubicBezTo>
                    <a:pt x="616" y="787"/>
                    <a:pt x="625" y="756"/>
                    <a:pt x="634" y="723"/>
                  </a:cubicBezTo>
                  <a:cubicBezTo>
                    <a:pt x="642" y="662"/>
                    <a:pt x="646" y="623"/>
                    <a:pt x="672" y="569"/>
                  </a:cubicBezTo>
                  <a:cubicBezTo>
                    <a:pt x="666" y="482"/>
                    <a:pt x="664" y="406"/>
                    <a:pt x="624" y="329"/>
                  </a:cubicBezTo>
                  <a:cubicBezTo>
                    <a:pt x="617" y="285"/>
                    <a:pt x="608" y="194"/>
                    <a:pt x="596" y="156"/>
                  </a:cubicBezTo>
                  <a:cubicBezTo>
                    <a:pt x="593" y="147"/>
                    <a:pt x="582" y="144"/>
                    <a:pt x="576" y="137"/>
                  </a:cubicBezTo>
                  <a:cubicBezTo>
                    <a:pt x="548" y="103"/>
                    <a:pt x="572" y="108"/>
                    <a:pt x="538" y="108"/>
                  </a:cubicBezTo>
                  <a:cubicBezTo>
                    <a:pt x="520" y="120"/>
                    <a:pt x="484" y="141"/>
                    <a:pt x="480" y="166"/>
                  </a:cubicBezTo>
                  <a:cubicBezTo>
                    <a:pt x="467" y="261"/>
                    <a:pt x="538" y="333"/>
                    <a:pt x="567" y="416"/>
                  </a:cubicBezTo>
                  <a:cubicBezTo>
                    <a:pt x="585" y="547"/>
                    <a:pt x="560" y="673"/>
                    <a:pt x="528" y="800"/>
                  </a:cubicBezTo>
                  <a:cubicBezTo>
                    <a:pt x="359" y="791"/>
                    <a:pt x="188" y="829"/>
                    <a:pt x="125" y="646"/>
                  </a:cubicBezTo>
                  <a:cubicBezTo>
                    <a:pt x="128" y="537"/>
                    <a:pt x="126" y="428"/>
                    <a:pt x="135" y="320"/>
                  </a:cubicBezTo>
                  <a:cubicBezTo>
                    <a:pt x="136" y="306"/>
                    <a:pt x="147" y="293"/>
                    <a:pt x="154" y="281"/>
                  </a:cubicBezTo>
                  <a:cubicBezTo>
                    <a:pt x="241" y="134"/>
                    <a:pt x="377" y="154"/>
                    <a:pt x="538" y="147"/>
                  </a:cubicBezTo>
                  <a:cubicBezTo>
                    <a:pt x="515" y="100"/>
                    <a:pt x="492" y="66"/>
                    <a:pt x="442" y="51"/>
                  </a:cubicBezTo>
                  <a:cubicBezTo>
                    <a:pt x="435" y="46"/>
                    <a:pt x="384" y="2"/>
                    <a:pt x="384" y="3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2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Group 7"/>
          <p:cNvGrpSpPr/>
          <p:nvPr/>
        </p:nvGrpSpPr>
        <p:grpSpPr>
          <a:xfrm>
            <a:off x="684360" y="2276640"/>
            <a:ext cx="1360440" cy="1077840"/>
            <a:chOff x="684360" y="2276640"/>
            <a:chExt cx="1360440" cy="1077840"/>
          </a:xfrm>
        </p:grpSpPr>
        <p:sp>
          <p:nvSpPr>
            <p:cNvPr id="139" name="Freeform 8"/>
            <p:cNvSpPr/>
            <p:nvPr/>
          </p:nvSpPr>
          <p:spPr>
            <a:xfrm>
              <a:off x="684360" y="2276640"/>
              <a:ext cx="1360440" cy="1077840"/>
            </a:xfrm>
            <a:custGeom>
              <a:avLst/>
              <a:gdLst/>
              <a:ahLst/>
              <a:rect l="l" t="t" r="r" b="b"/>
              <a:pathLst>
                <a:path w="1040" h="816">
                  <a:moveTo>
                    <a:pt x="419" y="10"/>
                  </a:moveTo>
                  <a:cubicBezTo>
                    <a:pt x="493" y="0"/>
                    <a:pt x="548" y="5"/>
                    <a:pt x="612" y="17"/>
                  </a:cubicBezTo>
                  <a:cubicBezTo>
                    <a:pt x="676" y="29"/>
                    <a:pt x="791" y="64"/>
                    <a:pt x="804" y="81"/>
                  </a:cubicBezTo>
                  <a:cubicBezTo>
                    <a:pt x="818" y="99"/>
                    <a:pt x="1019" y="159"/>
                    <a:pt x="990" y="234"/>
                  </a:cubicBezTo>
                  <a:cubicBezTo>
                    <a:pt x="1016" y="276"/>
                    <a:pt x="1002" y="276"/>
                    <a:pt x="1007" y="312"/>
                  </a:cubicBezTo>
                  <a:cubicBezTo>
                    <a:pt x="1012" y="348"/>
                    <a:pt x="1040" y="391"/>
                    <a:pt x="1020" y="452"/>
                  </a:cubicBezTo>
                  <a:cubicBezTo>
                    <a:pt x="1012" y="513"/>
                    <a:pt x="945" y="620"/>
                    <a:pt x="887" y="675"/>
                  </a:cubicBezTo>
                  <a:cubicBezTo>
                    <a:pt x="828" y="733"/>
                    <a:pt x="716" y="779"/>
                    <a:pt x="664" y="803"/>
                  </a:cubicBezTo>
                  <a:cubicBezTo>
                    <a:pt x="657" y="816"/>
                    <a:pt x="589" y="815"/>
                    <a:pt x="572" y="816"/>
                  </a:cubicBezTo>
                  <a:cubicBezTo>
                    <a:pt x="565" y="816"/>
                    <a:pt x="480" y="800"/>
                    <a:pt x="480" y="800"/>
                  </a:cubicBezTo>
                  <a:cubicBezTo>
                    <a:pt x="361" y="755"/>
                    <a:pt x="300" y="765"/>
                    <a:pt x="196" y="691"/>
                  </a:cubicBezTo>
                  <a:cubicBezTo>
                    <a:pt x="177" y="667"/>
                    <a:pt x="46" y="562"/>
                    <a:pt x="46" y="532"/>
                  </a:cubicBezTo>
                  <a:cubicBezTo>
                    <a:pt x="56" y="511"/>
                    <a:pt x="0" y="406"/>
                    <a:pt x="9" y="384"/>
                  </a:cubicBezTo>
                  <a:cubicBezTo>
                    <a:pt x="21" y="355"/>
                    <a:pt x="41" y="217"/>
                    <a:pt x="109" y="154"/>
                  </a:cubicBezTo>
                  <a:cubicBezTo>
                    <a:pt x="177" y="92"/>
                    <a:pt x="345" y="20"/>
                    <a:pt x="419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 rot="180000">
              <a:off x="1056960" y="2542680"/>
              <a:ext cx="630360" cy="538200"/>
            </a:xfrm>
            <a:custGeom>
              <a:avLst/>
              <a:gdLst/>
              <a:ahLst/>
              <a:rect l="l" t="t" r="r" b="b"/>
              <a:pathLst>
                <a:path w="672" h="886">
                  <a:moveTo>
                    <a:pt x="384" y="32"/>
                  </a:moveTo>
                  <a:cubicBezTo>
                    <a:pt x="294" y="0"/>
                    <a:pt x="347" y="10"/>
                    <a:pt x="221" y="22"/>
                  </a:cubicBezTo>
                  <a:cubicBezTo>
                    <a:pt x="211" y="25"/>
                    <a:pt x="199" y="25"/>
                    <a:pt x="192" y="32"/>
                  </a:cubicBezTo>
                  <a:cubicBezTo>
                    <a:pt x="148" y="76"/>
                    <a:pt x="116" y="175"/>
                    <a:pt x="96" y="233"/>
                  </a:cubicBezTo>
                  <a:cubicBezTo>
                    <a:pt x="86" y="300"/>
                    <a:pt x="82" y="369"/>
                    <a:pt x="68" y="435"/>
                  </a:cubicBezTo>
                  <a:cubicBezTo>
                    <a:pt x="52" y="510"/>
                    <a:pt x="61" y="402"/>
                    <a:pt x="20" y="521"/>
                  </a:cubicBezTo>
                  <a:cubicBezTo>
                    <a:pt x="6" y="562"/>
                    <a:pt x="13" y="540"/>
                    <a:pt x="0" y="588"/>
                  </a:cubicBezTo>
                  <a:cubicBezTo>
                    <a:pt x="1" y="592"/>
                    <a:pt x="9" y="661"/>
                    <a:pt x="20" y="675"/>
                  </a:cubicBezTo>
                  <a:cubicBezTo>
                    <a:pt x="34" y="693"/>
                    <a:pt x="68" y="723"/>
                    <a:pt x="68" y="723"/>
                  </a:cubicBezTo>
                  <a:cubicBezTo>
                    <a:pt x="85" y="778"/>
                    <a:pt x="140" y="813"/>
                    <a:pt x="183" y="848"/>
                  </a:cubicBezTo>
                  <a:cubicBezTo>
                    <a:pt x="192" y="855"/>
                    <a:pt x="201" y="862"/>
                    <a:pt x="212" y="867"/>
                  </a:cubicBezTo>
                  <a:cubicBezTo>
                    <a:pt x="230" y="875"/>
                    <a:pt x="269" y="886"/>
                    <a:pt x="269" y="886"/>
                  </a:cubicBezTo>
                  <a:cubicBezTo>
                    <a:pt x="352" y="883"/>
                    <a:pt x="436" y="884"/>
                    <a:pt x="519" y="876"/>
                  </a:cubicBezTo>
                  <a:cubicBezTo>
                    <a:pt x="562" y="872"/>
                    <a:pt x="566" y="831"/>
                    <a:pt x="605" y="819"/>
                  </a:cubicBezTo>
                  <a:cubicBezTo>
                    <a:pt x="616" y="787"/>
                    <a:pt x="625" y="756"/>
                    <a:pt x="634" y="723"/>
                  </a:cubicBezTo>
                  <a:cubicBezTo>
                    <a:pt x="642" y="662"/>
                    <a:pt x="646" y="623"/>
                    <a:pt x="672" y="569"/>
                  </a:cubicBezTo>
                  <a:cubicBezTo>
                    <a:pt x="666" y="482"/>
                    <a:pt x="664" y="406"/>
                    <a:pt x="624" y="329"/>
                  </a:cubicBezTo>
                  <a:cubicBezTo>
                    <a:pt x="617" y="285"/>
                    <a:pt x="608" y="194"/>
                    <a:pt x="596" y="156"/>
                  </a:cubicBezTo>
                  <a:cubicBezTo>
                    <a:pt x="593" y="147"/>
                    <a:pt x="582" y="144"/>
                    <a:pt x="576" y="137"/>
                  </a:cubicBezTo>
                  <a:cubicBezTo>
                    <a:pt x="548" y="103"/>
                    <a:pt x="572" y="108"/>
                    <a:pt x="538" y="108"/>
                  </a:cubicBezTo>
                  <a:cubicBezTo>
                    <a:pt x="520" y="120"/>
                    <a:pt x="484" y="141"/>
                    <a:pt x="480" y="166"/>
                  </a:cubicBezTo>
                  <a:cubicBezTo>
                    <a:pt x="467" y="261"/>
                    <a:pt x="538" y="333"/>
                    <a:pt x="567" y="416"/>
                  </a:cubicBezTo>
                  <a:cubicBezTo>
                    <a:pt x="585" y="547"/>
                    <a:pt x="560" y="673"/>
                    <a:pt x="528" y="800"/>
                  </a:cubicBezTo>
                  <a:cubicBezTo>
                    <a:pt x="359" y="791"/>
                    <a:pt x="188" y="829"/>
                    <a:pt x="125" y="646"/>
                  </a:cubicBezTo>
                  <a:cubicBezTo>
                    <a:pt x="128" y="537"/>
                    <a:pt x="126" y="428"/>
                    <a:pt x="135" y="320"/>
                  </a:cubicBezTo>
                  <a:cubicBezTo>
                    <a:pt x="136" y="306"/>
                    <a:pt x="147" y="293"/>
                    <a:pt x="154" y="281"/>
                  </a:cubicBezTo>
                  <a:cubicBezTo>
                    <a:pt x="241" y="134"/>
                    <a:pt x="377" y="154"/>
                    <a:pt x="538" y="147"/>
                  </a:cubicBezTo>
                  <a:cubicBezTo>
                    <a:pt x="515" y="100"/>
                    <a:pt x="492" y="66"/>
                    <a:pt x="442" y="51"/>
                  </a:cubicBezTo>
                  <a:cubicBezTo>
                    <a:pt x="435" y="46"/>
                    <a:pt x="384" y="2"/>
                    <a:pt x="384" y="3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2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Line 10"/>
          <p:cNvSpPr/>
          <p:nvPr/>
        </p:nvSpPr>
        <p:spPr>
          <a:xfrm>
            <a:off x="142920" y="1476360"/>
            <a:ext cx="1440" cy="2521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2747880" y="1459080"/>
            <a:ext cx="1800" cy="25207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250920" y="4005360"/>
            <a:ext cx="25128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13"/>
          <p:cNvGrpSpPr/>
          <p:nvPr/>
        </p:nvGrpSpPr>
        <p:grpSpPr>
          <a:xfrm>
            <a:off x="179280" y="3141360"/>
            <a:ext cx="862200" cy="716040"/>
            <a:chOff x="179280" y="3141360"/>
            <a:chExt cx="862200" cy="716040"/>
          </a:xfrm>
        </p:grpSpPr>
        <p:sp>
          <p:nvSpPr>
            <p:cNvPr id="145" name="Line 14"/>
            <p:cNvSpPr/>
            <p:nvPr/>
          </p:nvSpPr>
          <p:spPr>
            <a:xfrm flipV="1">
              <a:off x="388800" y="3304440"/>
              <a:ext cx="513000" cy="39024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15"/>
            <p:cNvSpPr/>
            <p:nvPr/>
          </p:nvSpPr>
          <p:spPr>
            <a:xfrm flipV="1">
              <a:off x="179280" y="3141360"/>
              <a:ext cx="501840" cy="3603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16"/>
            <p:cNvSpPr/>
            <p:nvPr/>
          </p:nvSpPr>
          <p:spPr>
            <a:xfrm flipV="1">
              <a:off x="684360" y="3498840"/>
              <a:ext cx="357120" cy="3585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Group 17"/>
          <p:cNvGrpSpPr/>
          <p:nvPr/>
        </p:nvGrpSpPr>
        <p:grpSpPr>
          <a:xfrm>
            <a:off x="1714680" y="2125440"/>
            <a:ext cx="550800" cy="640800"/>
            <a:chOff x="1714680" y="2125440"/>
            <a:chExt cx="550800" cy="640800"/>
          </a:xfrm>
        </p:grpSpPr>
        <p:sp>
          <p:nvSpPr>
            <p:cNvPr id="149" name="Line 18"/>
            <p:cNvSpPr/>
            <p:nvPr/>
          </p:nvSpPr>
          <p:spPr>
            <a:xfrm flipV="1">
              <a:off x="1714680" y="2125440"/>
              <a:ext cx="527040" cy="23364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9"/>
            <p:cNvSpPr/>
            <p:nvPr/>
          </p:nvSpPr>
          <p:spPr>
            <a:xfrm>
              <a:off x="1733400" y="2523240"/>
              <a:ext cx="414360" cy="93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20"/>
            <p:cNvSpPr/>
            <p:nvPr/>
          </p:nvSpPr>
          <p:spPr>
            <a:xfrm flipV="1">
              <a:off x="1762200" y="2715480"/>
              <a:ext cx="503280" cy="507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Group 21"/>
          <p:cNvGrpSpPr/>
          <p:nvPr/>
        </p:nvGrpSpPr>
        <p:grpSpPr>
          <a:xfrm>
            <a:off x="3666960" y="2349360"/>
            <a:ext cx="1360800" cy="1078200"/>
            <a:chOff x="3666960" y="2349360"/>
            <a:chExt cx="1360800" cy="1078200"/>
          </a:xfrm>
        </p:grpSpPr>
        <p:sp>
          <p:nvSpPr>
            <p:cNvPr id="153" name="Freeform 22"/>
            <p:cNvSpPr/>
            <p:nvPr/>
          </p:nvSpPr>
          <p:spPr>
            <a:xfrm>
              <a:off x="3666960" y="2349360"/>
              <a:ext cx="1360800" cy="1078200"/>
            </a:xfrm>
            <a:custGeom>
              <a:avLst/>
              <a:gdLst/>
              <a:ahLst/>
              <a:rect l="l" t="t" r="r" b="b"/>
              <a:pathLst>
                <a:path w="1040" h="816">
                  <a:moveTo>
                    <a:pt x="419" y="10"/>
                  </a:moveTo>
                  <a:cubicBezTo>
                    <a:pt x="493" y="0"/>
                    <a:pt x="548" y="5"/>
                    <a:pt x="612" y="17"/>
                  </a:cubicBezTo>
                  <a:cubicBezTo>
                    <a:pt x="676" y="29"/>
                    <a:pt x="791" y="64"/>
                    <a:pt x="804" y="81"/>
                  </a:cubicBezTo>
                  <a:cubicBezTo>
                    <a:pt x="818" y="99"/>
                    <a:pt x="1019" y="159"/>
                    <a:pt x="990" y="234"/>
                  </a:cubicBezTo>
                  <a:cubicBezTo>
                    <a:pt x="1016" y="276"/>
                    <a:pt x="1002" y="276"/>
                    <a:pt x="1007" y="312"/>
                  </a:cubicBezTo>
                  <a:cubicBezTo>
                    <a:pt x="1012" y="348"/>
                    <a:pt x="1040" y="391"/>
                    <a:pt x="1020" y="452"/>
                  </a:cubicBezTo>
                  <a:cubicBezTo>
                    <a:pt x="1012" y="513"/>
                    <a:pt x="945" y="620"/>
                    <a:pt x="887" y="675"/>
                  </a:cubicBezTo>
                  <a:cubicBezTo>
                    <a:pt x="828" y="733"/>
                    <a:pt x="716" y="779"/>
                    <a:pt x="664" y="803"/>
                  </a:cubicBezTo>
                  <a:cubicBezTo>
                    <a:pt x="657" y="816"/>
                    <a:pt x="589" y="815"/>
                    <a:pt x="572" y="816"/>
                  </a:cubicBezTo>
                  <a:cubicBezTo>
                    <a:pt x="565" y="816"/>
                    <a:pt x="480" y="800"/>
                    <a:pt x="480" y="800"/>
                  </a:cubicBezTo>
                  <a:cubicBezTo>
                    <a:pt x="361" y="755"/>
                    <a:pt x="300" y="765"/>
                    <a:pt x="196" y="691"/>
                  </a:cubicBezTo>
                  <a:cubicBezTo>
                    <a:pt x="177" y="667"/>
                    <a:pt x="46" y="562"/>
                    <a:pt x="46" y="532"/>
                  </a:cubicBezTo>
                  <a:cubicBezTo>
                    <a:pt x="56" y="511"/>
                    <a:pt x="0" y="406"/>
                    <a:pt x="9" y="384"/>
                  </a:cubicBezTo>
                  <a:cubicBezTo>
                    <a:pt x="21" y="355"/>
                    <a:pt x="41" y="217"/>
                    <a:pt x="109" y="154"/>
                  </a:cubicBezTo>
                  <a:cubicBezTo>
                    <a:pt x="177" y="92"/>
                    <a:pt x="345" y="20"/>
                    <a:pt x="419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23"/>
            <p:cNvSpPr/>
            <p:nvPr/>
          </p:nvSpPr>
          <p:spPr>
            <a:xfrm rot="180000">
              <a:off x="4039920" y="2615760"/>
              <a:ext cx="630000" cy="538200"/>
            </a:xfrm>
            <a:custGeom>
              <a:avLst/>
              <a:gdLst/>
              <a:ahLst/>
              <a:rect l="l" t="t" r="r" b="b"/>
              <a:pathLst>
                <a:path w="672" h="886">
                  <a:moveTo>
                    <a:pt x="384" y="32"/>
                  </a:moveTo>
                  <a:cubicBezTo>
                    <a:pt x="294" y="0"/>
                    <a:pt x="347" y="10"/>
                    <a:pt x="221" y="22"/>
                  </a:cubicBezTo>
                  <a:cubicBezTo>
                    <a:pt x="211" y="25"/>
                    <a:pt x="199" y="25"/>
                    <a:pt x="192" y="32"/>
                  </a:cubicBezTo>
                  <a:cubicBezTo>
                    <a:pt x="148" y="76"/>
                    <a:pt x="116" y="175"/>
                    <a:pt x="96" y="233"/>
                  </a:cubicBezTo>
                  <a:cubicBezTo>
                    <a:pt x="86" y="300"/>
                    <a:pt x="82" y="369"/>
                    <a:pt x="68" y="435"/>
                  </a:cubicBezTo>
                  <a:cubicBezTo>
                    <a:pt x="52" y="510"/>
                    <a:pt x="61" y="402"/>
                    <a:pt x="20" y="521"/>
                  </a:cubicBezTo>
                  <a:cubicBezTo>
                    <a:pt x="6" y="562"/>
                    <a:pt x="13" y="540"/>
                    <a:pt x="0" y="588"/>
                  </a:cubicBezTo>
                  <a:cubicBezTo>
                    <a:pt x="1" y="592"/>
                    <a:pt x="9" y="661"/>
                    <a:pt x="20" y="675"/>
                  </a:cubicBezTo>
                  <a:cubicBezTo>
                    <a:pt x="34" y="693"/>
                    <a:pt x="68" y="723"/>
                    <a:pt x="68" y="723"/>
                  </a:cubicBezTo>
                  <a:cubicBezTo>
                    <a:pt x="85" y="778"/>
                    <a:pt x="140" y="813"/>
                    <a:pt x="183" y="848"/>
                  </a:cubicBezTo>
                  <a:cubicBezTo>
                    <a:pt x="192" y="855"/>
                    <a:pt x="201" y="862"/>
                    <a:pt x="212" y="867"/>
                  </a:cubicBezTo>
                  <a:cubicBezTo>
                    <a:pt x="230" y="875"/>
                    <a:pt x="269" y="886"/>
                    <a:pt x="269" y="886"/>
                  </a:cubicBezTo>
                  <a:cubicBezTo>
                    <a:pt x="352" y="883"/>
                    <a:pt x="436" y="884"/>
                    <a:pt x="519" y="876"/>
                  </a:cubicBezTo>
                  <a:cubicBezTo>
                    <a:pt x="562" y="872"/>
                    <a:pt x="566" y="831"/>
                    <a:pt x="605" y="819"/>
                  </a:cubicBezTo>
                  <a:cubicBezTo>
                    <a:pt x="616" y="787"/>
                    <a:pt x="625" y="756"/>
                    <a:pt x="634" y="723"/>
                  </a:cubicBezTo>
                  <a:cubicBezTo>
                    <a:pt x="642" y="662"/>
                    <a:pt x="646" y="623"/>
                    <a:pt x="672" y="569"/>
                  </a:cubicBezTo>
                  <a:cubicBezTo>
                    <a:pt x="666" y="482"/>
                    <a:pt x="664" y="406"/>
                    <a:pt x="624" y="329"/>
                  </a:cubicBezTo>
                  <a:cubicBezTo>
                    <a:pt x="617" y="285"/>
                    <a:pt x="608" y="194"/>
                    <a:pt x="596" y="156"/>
                  </a:cubicBezTo>
                  <a:cubicBezTo>
                    <a:pt x="593" y="147"/>
                    <a:pt x="582" y="144"/>
                    <a:pt x="576" y="137"/>
                  </a:cubicBezTo>
                  <a:cubicBezTo>
                    <a:pt x="548" y="103"/>
                    <a:pt x="572" y="108"/>
                    <a:pt x="538" y="108"/>
                  </a:cubicBezTo>
                  <a:cubicBezTo>
                    <a:pt x="520" y="120"/>
                    <a:pt x="484" y="141"/>
                    <a:pt x="480" y="166"/>
                  </a:cubicBezTo>
                  <a:cubicBezTo>
                    <a:pt x="467" y="261"/>
                    <a:pt x="538" y="333"/>
                    <a:pt x="567" y="416"/>
                  </a:cubicBezTo>
                  <a:cubicBezTo>
                    <a:pt x="585" y="547"/>
                    <a:pt x="560" y="673"/>
                    <a:pt x="528" y="800"/>
                  </a:cubicBezTo>
                  <a:cubicBezTo>
                    <a:pt x="359" y="791"/>
                    <a:pt x="188" y="829"/>
                    <a:pt x="125" y="646"/>
                  </a:cubicBezTo>
                  <a:cubicBezTo>
                    <a:pt x="128" y="537"/>
                    <a:pt x="126" y="428"/>
                    <a:pt x="135" y="320"/>
                  </a:cubicBezTo>
                  <a:cubicBezTo>
                    <a:pt x="136" y="306"/>
                    <a:pt x="147" y="293"/>
                    <a:pt x="154" y="281"/>
                  </a:cubicBezTo>
                  <a:cubicBezTo>
                    <a:pt x="241" y="134"/>
                    <a:pt x="377" y="154"/>
                    <a:pt x="538" y="147"/>
                  </a:cubicBezTo>
                  <a:cubicBezTo>
                    <a:pt x="515" y="100"/>
                    <a:pt x="492" y="66"/>
                    <a:pt x="442" y="51"/>
                  </a:cubicBezTo>
                  <a:cubicBezTo>
                    <a:pt x="435" y="46"/>
                    <a:pt x="384" y="2"/>
                    <a:pt x="384" y="3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2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Line 24"/>
          <p:cNvSpPr/>
          <p:nvPr/>
        </p:nvSpPr>
        <p:spPr>
          <a:xfrm>
            <a:off x="3160800" y="1468440"/>
            <a:ext cx="1440" cy="2521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5"/>
          <p:cNvSpPr/>
          <p:nvPr/>
        </p:nvSpPr>
        <p:spPr>
          <a:xfrm>
            <a:off x="5749920" y="1450800"/>
            <a:ext cx="1440" cy="2521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6"/>
          <p:cNvSpPr/>
          <p:nvPr/>
        </p:nvSpPr>
        <p:spPr>
          <a:xfrm flipV="1">
            <a:off x="3165480" y="3994200"/>
            <a:ext cx="2600280" cy="144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Group 27"/>
          <p:cNvGrpSpPr/>
          <p:nvPr/>
        </p:nvGrpSpPr>
        <p:grpSpPr>
          <a:xfrm>
            <a:off x="3534840" y="3030480"/>
            <a:ext cx="803520" cy="592200"/>
            <a:chOff x="3534840" y="3030480"/>
            <a:chExt cx="803520" cy="592200"/>
          </a:xfrm>
        </p:grpSpPr>
        <p:sp>
          <p:nvSpPr>
            <p:cNvPr id="159" name="Line 28"/>
            <p:cNvSpPr/>
            <p:nvPr/>
          </p:nvSpPr>
          <p:spPr>
            <a:xfrm flipH="1">
              <a:off x="3638880" y="3164040"/>
              <a:ext cx="574200" cy="2919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29"/>
            <p:cNvSpPr/>
            <p:nvPr/>
          </p:nvSpPr>
          <p:spPr>
            <a:xfrm flipH="1">
              <a:off x="3781800" y="3357720"/>
              <a:ext cx="556560" cy="2649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30"/>
            <p:cNvSpPr/>
            <p:nvPr/>
          </p:nvSpPr>
          <p:spPr>
            <a:xfrm flipH="1">
              <a:off x="3534840" y="3030480"/>
              <a:ext cx="415800" cy="28728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4730760" y="2835360"/>
            <a:ext cx="647640" cy="593640"/>
            <a:chOff x="4730760" y="2835360"/>
            <a:chExt cx="647640" cy="593640"/>
          </a:xfrm>
        </p:grpSpPr>
        <p:sp>
          <p:nvSpPr>
            <p:cNvPr id="163" name="Line 32"/>
            <p:cNvSpPr/>
            <p:nvPr/>
          </p:nvSpPr>
          <p:spPr>
            <a:xfrm>
              <a:off x="4840200" y="2835360"/>
              <a:ext cx="538200" cy="2109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33"/>
            <p:cNvSpPr/>
            <p:nvPr/>
          </p:nvSpPr>
          <p:spPr>
            <a:xfrm>
              <a:off x="4781520" y="2949480"/>
              <a:ext cx="414360" cy="2793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34"/>
            <p:cNvSpPr/>
            <p:nvPr/>
          </p:nvSpPr>
          <p:spPr>
            <a:xfrm>
              <a:off x="4730760" y="3105000"/>
              <a:ext cx="390600" cy="32400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Line 35"/>
          <p:cNvSpPr/>
          <p:nvPr/>
        </p:nvSpPr>
        <p:spPr>
          <a:xfrm>
            <a:off x="6300720" y="1413000"/>
            <a:ext cx="1800" cy="25207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6"/>
          <p:cNvSpPr/>
          <p:nvPr/>
        </p:nvSpPr>
        <p:spPr>
          <a:xfrm>
            <a:off x="8893080" y="1413000"/>
            <a:ext cx="1800" cy="25207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7"/>
          <p:cNvSpPr/>
          <p:nvPr/>
        </p:nvSpPr>
        <p:spPr>
          <a:xfrm flipV="1">
            <a:off x="6300720" y="3968640"/>
            <a:ext cx="2600280" cy="144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Freeform 38"/>
          <p:cNvSpPr/>
          <p:nvPr/>
        </p:nvSpPr>
        <p:spPr>
          <a:xfrm>
            <a:off x="6878520" y="2421000"/>
            <a:ext cx="1241640" cy="1008000"/>
          </a:xfrm>
          <a:custGeom>
            <a:avLst/>
            <a:gdLst/>
            <a:ahLst/>
            <a:rect l="l" t="t" r="r" b="b"/>
            <a:pathLst>
              <a:path w="1008" h="1213">
                <a:moveTo>
                  <a:pt x="269" y="3"/>
                </a:moveTo>
                <a:cubicBezTo>
                  <a:pt x="250" y="6"/>
                  <a:pt x="229" y="4"/>
                  <a:pt x="211" y="13"/>
                </a:cubicBezTo>
                <a:cubicBezTo>
                  <a:pt x="179" y="29"/>
                  <a:pt x="150" y="83"/>
                  <a:pt x="125" y="109"/>
                </a:cubicBezTo>
                <a:cubicBezTo>
                  <a:pt x="108" y="160"/>
                  <a:pt x="72" y="205"/>
                  <a:pt x="48" y="253"/>
                </a:cubicBezTo>
                <a:cubicBezTo>
                  <a:pt x="20" y="308"/>
                  <a:pt x="9" y="385"/>
                  <a:pt x="0" y="445"/>
                </a:cubicBezTo>
                <a:cubicBezTo>
                  <a:pt x="3" y="576"/>
                  <a:pt x="1" y="707"/>
                  <a:pt x="9" y="838"/>
                </a:cubicBezTo>
                <a:cubicBezTo>
                  <a:pt x="15" y="930"/>
                  <a:pt x="98" y="1022"/>
                  <a:pt x="153" y="1088"/>
                </a:cubicBezTo>
                <a:cubicBezTo>
                  <a:pt x="179" y="1120"/>
                  <a:pt x="189" y="1142"/>
                  <a:pt x="230" y="1155"/>
                </a:cubicBezTo>
                <a:cubicBezTo>
                  <a:pt x="390" y="1152"/>
                  <a:pt x="587" y="1213"/>
                  <a:pt x="729" y="1117"/>
                </a:cubicBezTo>
                <a:cubicBezTo>
                  <a:pt x="790" y="1031"/>
                  <a:pt x="785" y="1046"/>
                  <a:pt x="873" y="1002"/>
                </a:cubicBezTo>
                <a:cubicBezTo>
                  <a:pt x="881" y="941"/>
                  <a:pt x="890" y="868"/>
                  <a:pt x="912" y="810"/>
                </a:cubicBezTo>
                <a:cubicBezTo>
                  <a:pt x="928" y="768"/>
                  <a:pt x="955" y="730"/>
                  <a:pt x="969" y="685"/>
                </a:cubicBezTo>
                <a:cubicBezTo>
                  <a:pt x="964" y="475"/>
                  <a:pt x="1008" y="281"/>
                  <a:pt x="893" y="109"/>
                </a:cubicBezTo>
                <a:cubicBezTo>
                  <a:pt x="864" y="65"/>
                  <a:pt x="906" y="93"/>
                  <a:pt x="864" y="51"/>
                </a:cubicBezTo>
                <a:cubicBezTo>
                  <a:pt x="846" y="33"/>
                  <a:pt x="824" y="21"/>
                  <a:pt x="806" y="3"/>
                </a:cubicBezTo>
                <a:cubicBezTo>
                  <a:pt x="787" y="9"/>
                  <a:pt x="764" y="9"/>
                  <a:pt x="749" y="22"/>
                </a:cubicBezTo>
                <a:cubicBezTo>
                  <a:pt x="739" y="31"/>
                  <a:pt x="739" y="48"/>
                  <a:pt x="739" y="61"/>
                </a:cubicBezTo>
                <a:cubicBezTo>
                  <a:pt x="739" y="135"/>
                  <a:pt x="752" y="264"/>
                  <a:pt x="797" y="330"/>
                </a:cubicBezTo>
                <a:cubicBezTo>
                  <a:pt x="785" y="465"/>
                  <a:pt x="807" y="658"/>
                  <a:pt x="729" y="771"/>
                </a:cubicBezTo>
                <a:cubicBezTo>
                  <a:pt x="723" y="789"/>
                  <a:pt x="711" y="856"/>
                  <a:pt x="701" y="867"/>
                </a:cubicBezTo>
                <a:cubicBezTo>
                  <a:pt x="694" y="874"/>
                  <a:pt x="682" y="874"/>
                  <a:pt x="672" y="877"/>
                </a:cubicBezTo>
                <a:cubicBezTo>
                  <a:pt x="627" y="922"/>
                  <a:pt x="569" y="928"/>
                  <a:pt x="509" y="944"/>
                </a:cubicBezTo>
                <a:cubicBezTo>
                  <a:pt x="450" y="929"/>
                  <a:pt x="388" y="930"/>
                  <a:pt x="336" y="896"/>
                </a:cubicBezTo>
                <a:cubicBezTo>
                  <a:pt x="312" y="803"/>
                  <a:pt x="371" y="717"/>
                  <a:pt x="413" y="637"/>
                </a:cubicBezTo>
                <a:cubicBezTo>
                  <a:pt x="407" y="582"/>
                  <a:pt x="394" y="469"/>
                  <a:pt x="365" y="416"/>
                </a:cubicBezTo>
                <a:cubicBezTo>
                  <a:pt x="334" y="359"/>
                  <a:pt x="307" y="332"/>
                  <a:pt x="288" y="272"/>
                </a:cubicBezTo>
                <a:cubicBezTo>
                  <a:pt x="278" y="0"/>
                  <a:pt x="368" y="3"/>
                  <a:pt x="269" y="3"/>
                </a:cubicBez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39"/>
          <p:cNvGrpSpPr/>
          <p:nvPr/>
        </p:nvGrpSpPr>
        <p:grpSpPr>
          <a:xfrm>
            <a:off x="6861240" y="2340000"/>
            <a:ext cx="1360440" cy="1077840"/>
            <a:chOff x="6861240" y="2340000"/>
            <a:chExt cx="1360440" cy="1077840"/>
          </a:xfrm>
        </p:grpSpPr>
        <p:sp>
          <p:nvSpPr>
            <p:cNvPr id="171" name="Freeform 40"/>
            <p:cNvSpPr/>
            <p:nvPr/>
          </p:nvSpPr>
          <p:spPr>
            <a:xfrm>
              <a:off x="6861240" y="2340000"/>
              <a:ext cx="1360440" cy="1077840"/>
            </a:xfrm>
            <a:custGeom>
              <a:avLst/>
              <a:gdLst/>
              <a:ahLst/>
              <a:rect l="l" t="t" r="r" b="b"/>
              <a:pathLst>
                <a:path w="1040" h="816">
                  <a:moveTo>
                    <a:pt x="419" y="10"/>
                  </a:moveTo>
                  <a:cubicBezTo>
                    <a:pt x="493" y="0"/>
                    <a:pt x="548" y="5"/>
                    <a:pt x="612" y="17"/>
                  </a:cubicBezTo>
                  <a:cubicBezTo>
                    <a:pt x="676" y="29"/>
                    <a:pt x="791" y="64"/>
                    <a:pt x="804" y="81"/>
                  </a:cubicBezTo>
                  <a:cubicBezTo>
                    <a:pt x="818" y="99"/>
                    <a:pt x="1019" y="159"/>
                    <a:pt x="990" y="234"/>
                  </a:cubicBezTo>
                  <a:cubicBezTo>
                    <a:pt x="1016" y="276"/>
                    <a:pt x="1002" y="276"/>
                    <a:pt x="1007" y="312"/>
                  </a:cubicBezTo>
                  <a:cubicBezTo>
                    <a:pt x="1012" y="348"/>
                    <a:pt x="1040" y="391"/>
                    <a:pt x="1020" y="452"/>
                  </a:cubicBezTo>
                  <a:cubicBezTo>
                    <a:pt x="1012" y="513"/>
                    <a:pt x="945" y="620"/>
                    <a:pt x="887" y="675"/>
                  </a:cubicBezTo>
                  <a:cubicBezTo>
                    <a:pt x="828" y="733"/>
                    <a:pt x="716" y="779"/>
                    <a:pt x="664" y="803"/>
                  </a:cubicBezTo>
                  <a:cubicBezTo>
                    <a:pt x="657" y="816"/>
                    <a:pt x="589" y="815"/>
                    <a:pt x="572" y="816"/>
                  </a:cubicBezTo>
                  <a:cubicBezTo>
                    <a:pt x="565" y="816"/>
                    <a:pt x="480" y="800"/>
                    <a:pt x="480" y="800"/>
                  </a:cubicBezTo>
                  <a:cubicBezTo>
                    <a:pt x="361" y="755"/>
                    <a:pt x="300" y="765"/>
                    <a:pt x="196" y="691"/>
                  </a:cubicBezTo>
                  <a:cubicBezTo>
                    <a:pt x="177" y="667"/>
                    <a:pt x="46" y="562"/>
                    <a:pt x="46" y="532"/>
                  </a:cubicBezTo>
                  <a:cubicBezTo>
                    <a:pt x="56" y="511"/>
                    <a:pt x="0" y="406"/>
                    <a:pt x="9" y="384"/>
                  </a:cubicBezTo>
                  <a:cubicBezTo>
                    <a:pt x="21" y="355"/>
                    <a:pt x="41" y="217"/>
                    <a:pt x="109" y="154"/>
                  </a:cubicBezTo>
                  <a:cubicBezTo>
                    <a:pt x="177" y="92"/>
                    <a:pt x="345" y="20"/>
                    <a:pt x="419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41"/>
            <p:cNvSpPr/>
            <p:nvPr/>
          </p:nvSpPr>
          <p:spPr>
            <a:xfrm rot="180000">
              <a:off x="7233840" y="2606400"/>
              <a:ext cx="630360" cy="538200"/>
            </a:xfrm>
            <a:custGeom>
              <a:avLst/>
              <a:gdLst/>
              <a:ahLst/>
              <a:rect l="l" t="t" r="r" b="b"/>
              <a:pathLst>
                <a:path w="672" h="886">
                  <a:moveTo>
                    <a:pt x="384" y="32"/>
                  </a:moveTo>
                  <a:cubicBezTo>
                    <a:pt x="294" y="0"/>
                    <a:pt x="347" y="10"/>
                    <a:pt x="221" y="22"/>
                  </a:cubicBezTo>
                  <a:cubicBezTo>
                    <a:pt x="211" y="25"/>
                    <a:pt x="199" y="25"/>
                    <a:pt x="192" y="32"/>
                  </a:cubicBezTo>
                  <a:cubicBezTo>
                    <a:pt x="148" y="76"/>
                    <a:pt x="116" y="175"/>
                    <a:pt x="96" y="233"/>
                  </a:cubicBezTo>
                  <a:cubicBezTo>
                    <a:pt x="86" y="300"/>
                    <a:pt x="82" y="369"/>
                    <a:pt x="68" y="435"/>
                  </a:cubicBezTo>
                  <a:cubicBezTo>
                    <a:pt x="52" y="510"/>
                    <a:pt x="61" y="402"/>
                    <a:pt x="20" y="521"/>
                  </a:cubicBezTo>
                  <a:cubicBezTo>
                    <a:pt x="6" y="562"/>
                    <a:pt x="13" y="540"/>
                    <a:pt x="0" y="588"/>
                  </a:cubicBezTo>
                  <a:cubicBezTo>
                    <a:pt x="1" y="592"/>
                    <a:pt x="9" y="661"/>
                    <a:pt x="20" y="675"/>
                  </a:cubicBezTo>
                  <a:cubicBezTo>
                    <a:pt x="34" y="693"/>
                    <a:pt x="68" y="723"/>
                    <a:pt x="68" y="723"/>
                  </a:cubicBezTo>
                  <a:cubicBezTo>
                    <a:pt x="85" y="778"/>
                    <a:pt x="140" y="813"/>
                    <a:pt x="183" y="848"/>
                  </a:cubicBezTo>
                  <a:cubicBezTo>
                    <a:pt x="192" y="855"/>
                    <a:pt x="201" y="862"/>
                    <a:pt x="212" y="867"/>
                  </a:cubicBezTo>
                  <a:cubicBezTo>
                    <a:pt x="230" y="875"/>
                    <a:pt x="269" y="886"/>
                    <a:pt x="269" y="886"/>
                  </a:cubicBezTo>
                  <a:cubicBezTo>
                    <a:pt x="352" y="883"/>
                    <a:pt x="436" y="884"/>
                    <a:pt x="519" y="876"/>
                  </a:cubicBezTo>
                  <a:cubicBezTo>
                    <a:pt x="562" y="872"/>
                    <a:pt x="566" y="831"/>
                    <a:pt x="605" y="819"/>
                  </a:cubicBezTo>
                  <a:cubicBezTo>
                    <a:pt x="616" y="787"/>
                    <a:pt x="625" y="756"/>
                    <a:pt x="634" y="723"/>
                  </a:cubicBezTo>
                  <a:cubicBezTo>
                    <a:pt x="642" y="662"/>
                    <a:pt x="646" y="623"/>
                    <a:pt x="672" y="569"/>
                  </a:cubicBezTo>
                  <a:cubicBezTo>
                    <a:pt x="666" y="482"/>
                    <a:pt x="664" y="406"/>
                    <a:pt x="624" y="329"/>
                  </a:cubicBezTo>
                  <a:cubicBezTo>
                    <a:pt x="617" y="285"/>
                    <a:pt x="608" y="194"/>
                    <a:pt x="596" y="156"/>
                  </a:cubicBezTo>
                  <a:cubicBezTo>
                    <a:pt x="593" y="147"/>
                    <a:pt x="582" y="144"/>
                    <a:pt x="576" y="137"/>
                  </a:cubicBezTo>
                  <a:cubicBezTo>
                    <a:pt x="548" y="103"/>
                    <a:pt x="572" y="108"/>
                    <a:pt x="538" y="108"/>
                  </a:cubicBezTo>
                  <a:cubicBezTo>
                    <a:pt x="520" y="120"/>
                    <a:pt x="484" y="141"/>
                    <a:pt x="480" y="166"/>
                  </a:cubicBezTo>
                  <a:cubicBezTo>
                    <a:pt x="467" y="261"/>
                    <a:pt x="538" y="333"/>
                    <a:pt x="567" y="416"/>
                  </a:cubicBezTo>
                  <a:cubicBezTo>
                    <a:pt x="585" y="547"/>
                    <a:pt x="560" y="673"/>
                    <a:pt x="528" y="800"/>
                  </a:cubicBezTo>
                  <a:cubicBezTo>
                    <a:pt x="359" y="791"/>
                    <a:pt x="188" y="829"/>
                    <a:pt x="125" y="646"/>
                  </a:cubicBezTo>
                  <a:cubicBezTo>
                    <a:pt x="128" y="537"/>
                    <a:pt x="126" y="428"/>
                    <a:pt x="135" y="320"/>
                  </a:cubicBezTo>
                  <a:cubicBezTo>
                    <a:pt x="136" y="306"/>
                    <a:pt x="147" y="293"/>
                    <a:pt x="154" y="281"/>
                  </a:cubicBezTo>
                  <a:cubicBezTo>
                    <a:pt x="241" y="134"/>
                    <a:pt x="377" y="154"/>
                    <a:pt x="538" y="147"/>
                  </a:cubicBezTo>
                  <a:cubicBezTo>
                    <a:pt x="515" y="100"/>
                    <a:pt x="492" y="66"/>
                    <a:pt x="442" y="51"/>
                  </a:cubicBezTo>
                  <a:cubicBezTo>
                    <a:pt x="435" y="46"/>
                    <a:pt x="384" y="2"/>
                    <a:pt x="384" y="3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2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Group 42"/>
          <p:cNvGrpSpPr/>
          <p:nvPr/>
        </p:nvGrpSpPr>
        <p:grpSpPr>
          <a:xfrm>
            <a:off x="6416640" y="3311640"/>
            <a:ext cx="800280" cy="609120"/>
            <a:chOff x="6416640" y="3311640"/>
            <a:chExt cx="800280" cy="609120"/>
          </a:xfrm>
        </p:grpSpPr>
        <p:sp>
          <p:nvSpPr>
            <p:cNvPr id="174" name="Line 43"/>
            <p:cNvSpPr/>
            <p:nvPr/>
          </p:nvSpPr>
          <p:spPr>
            <a:xfrm flipV="1">
              <a:off x="6568920" y="3451680"/>
              <a:ext cx="524160" cy="37548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44"/>
            <p:cNvSpPr/>
            <p:nvPr/>
          </p:nvSpPr>
          <p:spPr>
            <a:xfrm flipV="1">
              <a:off x="6416640" y="3311640"/>
              <a:ext cx="511200" cy="34560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45"/>
            <p:cNvSpPr/>
            <p:nvPr/>
          </p:nvSpPr>
          <p:spPr>
            <a:xfrm flipV="1">
              <a:off x="6850080" y="3572280"/>
              <a:ext cx="366840" cy="34848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Group 46"/>
          <p:cNvGrpSpPr/>
          <p:nvPr/>
        </p:nvGrpSpPr>
        <p:grpSpPr>
          <a:xfrm>
            <a:off x="8145000" y="1782720"/>
            <a:ext cx="655560" cy="592200"/>
            <a:chOff x="8145000" y="1782720"/>
            <a:chExt cx="655560" cy="592200"/>
          </a:xfrm>
        </p:grpSpPr>
        <p:sp>
          <p:nvSpPr>
            <p:cNvPr id="178" name="Line 47"/>
            <p:cNvSpPr/>
            <p:nvPr/>
          </p:nvSpPr>
          <p:spPr>
            <a:xfrm flipH="1">
              <a:off x="8354520" y="2009880"/>
              <a:ext cx="446040" cy="36504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48"/>
            <p:cNvSpPr/>
            <p:nvPr/>
          </p:nvSpPr>
          <p:spPr>
            <a:xfrm flipH="1">
              <a:off x="8280720" y="1903320"/>
              <a:ext cx="447480" cy="22536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49"/>
            <p:cNvSpPr/>
            <p:nvPr/>
          </p:nvSpPr>
          <p:spPr>
            <a:xfrm flipH="1">
              <a:off x="8145000" y="1782720"/>
              <a:ext cx="472680" cy="18108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Text Box 50"/>
          <p:cNvSpPr/>
          <p:nvPr/>
        </p:nvSpPr>
        <p:spPr>
          <a:xfrm>
            <a:off x="324000" y="4149720"/>
            <a:ext cx="240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Isotonic solutio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0.9% Na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5% 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=700-800k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1"/>
          <p:cNvSpPr/>
          <p:nvPr/>
        </p:nvSpPr>
        <p:spPr>
          <a:xfrm>
            <a:off x="3059280" y="4149720"/>
            <a:ext cx="27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Hypertonic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&gt;700-800k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52"/>
          <p:cNvSpPr/>
          <p:nvPr/>
        </p:nvSpPr>
        <p:spPr>
          <a:xfrm>
            <a:off x="3448080" y="785880"/>
            <a:ext cx="19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Plasmo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53"/>
          <p:cNvSpPr/>
          <p:nvPr/>
        </p:nvSpPr>
        <p:spPr>
          <a:xfrm>
            <a:off x="6737400" y="71424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Hemo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54"/>
          <p:cNvSpPr/>
          <p:nvPr/>
        </p:nvSpPr>
        <p:spPr>
          <a:xfrm>
            <a:off x="6300720" y="4149720"/>
            <a:ext cx="26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Hypotonic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&lt;700-800k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5"/>
          <p:cNvSpPr/>
          <p:nvPr/>
        </p:nvSpPr>
        <p:spPr>
          <a:xfrm>
            <a:off x="541440" y="76500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No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0.03941 -0.04213 E">
                                      <p:cBhvr>
                                        <p:cTn id="6" dur="3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81481E-006 L 0.03941 4.81481E-006 E">
                                      <p:cBhvr>
                                        <p:cTn id="8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037E-007 L 0.03941 0.0419 E">
                                      <p:cBhvr>
                                        <p:cTn id="1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L -0.02361 0.04213 E">
                                      <p:cBhvr>
                                        <p:cTn id="14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55556E-006 L 0.04722 -0.05255 E">
                                      <p:cBhvr>
                                        <p:cTn id="21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-0.05503 0.06296 E">
                                      <p:cBhvr>
                                        <p:cTn id="23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5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324000" y="26028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sotonic solutions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uld be used for intravenous injections in order to avoid the disturbance of osmotic balance in the organ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0" y="5877000"/>
            <a:ext cx="92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ypertonic solutions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% NaCl) are used for washing out of wou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700360" y="1628640"/>
            <a:ext cx="44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smotic Pressure of 0.9% NaC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1562040" y="2013120"/>
                <a:ext cx="5664240" cy="20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=iCRT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ωd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3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;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f>
                          <m:num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10</m:t>
                        </m:r>
                        <m:r>
                          <m:rPr>
                            <m:lit/>
                            <m:nor/>
                          </m:rPr>
                          <m:t xml:space="preserve">K=</m:t>
                        </m:r>
                        <m:r>
                          <m:rPr>
                            <m:lit/>
                            <m:nor/>
                          </m:rPr>
                          <m:t xml:space="preserve">772</m:t>
                        </m:r>
                        <m:r>
                          <m:rPr>
                            <m:lit/>
                            <m:nor/>
                          </m:rPr>
                          <m:t xml:space="preserve">kP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Rectangle 5"/>
          <p:cNvSpPr/>
          <p:nvPr/>
        </p:nvSpPr>
        <p:spPr>
          <a:xfrm>
            <a:off x="2552400" y="3860640"/>
            <a:ext cx="44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smotic Pressure of 5% gluco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6"/>
              <p:cNvSpPr txBox="1"/>
              <p:nvPr/>
            </p:nvSpPr>
            <p:spPr>
              <a:xfrm>
                <a:off x="1747800" y="4275000"/>
                <a:ext cx="584856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=CRT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ωρ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;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f>
                          <m:num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10</m:t>
                        </m:r>
                        <m:r>
                          <m:rPr>
                            <m:lit/>
                            <m:nor/>
                          </m:rPr>
                          <m:t xml:space="preserve">K=</m:t>
                        </m:r>
                        <m:r>
                          <m:rPr>
                            <m:lit/>
                            <m:nor/>
                          </m:rPr>
                          <m:t xml:space="preserve">721</m:t>
                        </m:r>
                        <m:r>
                          <m:rPr>
                            <m:lit/>
                            <m:nor/>
                          </m:rPr>
                          <m:t xml:space="preserve">kP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287280" y="0"/>
            <a:ext cx="532764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66cc"/>
                </a:solidFill>
                <a:latin typeface="Times New Roman"/>
              </a:rPr>
              <a:t>Intravenous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may be used to correct electrolyte imbalances, to deliver medications, for blood transfusion or as fluid replacement to correct, for example, dehyd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5616720" y="82440"/>
            <a:ext cx="3471840" cy="22226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-74520" y="2160720"/>
            <a:ext cx="561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Hypotonic solutions are routinely used in hospitals to keep patients hydrated. For example 0.45% NaCl is mostly used to give free water. Most of this water is rapidly absorbed by the body and eliminated by the renal syste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However if a patient has a severe deficit of sodium, or certain types of tissue swelling, they may receive hypertonic saline (NaCl) (3%). This can rapidly replace the sodium deficit, or even reduce cerebral edema (swelling due to excessive fluid) by acting like a sponge in the blood vessels, sucking free water out of surrounding tiss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5238720" y="2376360"/>
            <a:ext cx="4768920" cy="237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3"/>
          <a:stretch/>
        </p:blipFill>
        <p:spPr>
          <a:xfrm>
            <a:off x="7272360" y="4091040"/>
            <a:ext cx="1800360" cy="253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1:41:42Z</dcterms:created>
  <dc:creator>Наталья</dc:creator>
  <dc:description/>
  <cp:keywords/>
  <dc:language>en-US</dc:language>
  <cp:lastModifiedBy>Tanya</cp:lastModifiedBy>
  <dcterms:modified xsi:type="dcterms:W3CDTF">2017-11-06T19:05:11Z</dcterms:modified>
  <cp:revision>54</cp:revision>
  <dc:subject/>
  <dc:title>Слайд 1</dc:title>
</cp:coreProperties>
</file>