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2A9-3CCA-48CD-97A5-ED123DF1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AC4-1ED9-457A-B3A3-5626C9F6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CF914-0FAB-4560-BE8E-E207EF1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6A091-542B-4AC0-8499-D7994BCE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0BC78-6619-4E3D-A596-2929D20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C0B5B-D432-43FF-BA58-F774D408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EC537-B205-4089-9B89-B19584F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0747B-7A33-482F-BC5F-D0D743B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D26D3-518A-46C7-A53A-5F505928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02196-5362-4614-97E4-2769A036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76978-1156-40EF-A9E3-34EEA690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DB86B-F68F-4358-A033-4673BECD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3B1-568C-4C27-AC7D-D7302183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898B2-6588-4CD0-9B65-59B5C9CE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73761-331E-4F30-B589-E576AC6D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8C72B-CDB2-4074-8AF3-76C7B125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D3D99-1200-41C9-A079-161D78AE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1B2E7-33BF-4888-889E-9993EE53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5F2BF-BFC1-4545-AF54-41666F6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7B1C8-1E3B-4400-84B2-FE9B7F8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422BD-0342-454A-8B59-8950A95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2EC9B-EC68-4308-8824-056E6EC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DA325-F2D7-4A11-93F3-B4535D44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376-0194-42A8-908E-D1AAD67E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BD99-A2F6-4928-9C23-1D4CDDF7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D14EB-D99D-4B4E-B8D5-FEDC752E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80379-8338-4A51-A6DB-B7FD3DE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DB093-0D03-41DA-8B7A-38BA9A8A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FE71E-9F54-4BF2-B942-5742DEBA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A9F6E-42F1-45EC-84C4-30603997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E84F0-E315-4FC0-8C47-7C4774F9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1DA5C-E474-495A-9728-9E72FAC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71F9A-E9FD-4B54-8FF0-5CE14BD9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BCE59-D132-4F6B-B20D-687C0EB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92F4-B378-4D50-BC59-7C7FDC96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6CC19-A337-4E02-BC18-152A7C1A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4054-CC01-48F4-AA20-99467FDA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12BAB-6102-4F3E-BE81-5DB7F3AB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380FF-6741-4C3E-8A60-934CC479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F6B79-B250-44E5-AC8C-54EEC645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ABD7A-1658-4164-A91C-958B8575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AFBA3-4FD2-4199-B796-82F08257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061E2-CE73-4056-B83D-0CA94265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33B3C-29E7-4EB6-8FFB-7FE63E3E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D36ED-DFB2-48DE-98FE-E8404A02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331-DE99-4CCE-B636-013B7D01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A5B56-D335-41A5-BF35-C76EB16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9137F-676F-4A4C-BA4A-6F102383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19F94-990C-4F3F-BE61-3698F4B4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E66E2-BFF8-4027-9986-43EE9470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17A0E-AF21-4E57-A9CB-D186FF9A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6B464-5488-4F0E-85C5-5A608BE9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33247-A43F-4466-87A8-1A157C4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4596B-87C3-4039-AB5A-4470E99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5E392-D49D-497D-A2FE-C57DA52F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DA0F3-4103-4A4C-80CD-73727202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0C47-82A4-4036-8A68-2D2805F4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8A089-A08B-4633-81C3-682B7962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8C54B-EC27-4FA6-9F9F-2A96EA8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C92E1-E479-49F4-9AAC-5EF8FD77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72985-A11B-4AD8-A174-12CBE56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E3274-CE39-4C73-B497-6FFBFE3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BBEC7-37F4-4838-AD4C-AFFB4C84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A7172-1E3F-406B-81E4-E11958A4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DC023-A058-4D18-9F8F-BA528FF2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CA497-DDD1-4D06-B707-7F9018D4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3007B-3CE2-494C-945E-902C405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7BA0-4CFD-45EE-BC41-A3E1FBB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275A2-6008-400E-8681-ED98E6E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8A6D8-8BEA-4241-BF25-A50FF345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EE644-2085-46A0-B2B7-5238301A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F7DDB-0FD7-4AE6-A014-58CF86F9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D5C31-504E-4187-8BE2-258FE083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D999F-2F29-4C27-9C80-E0D93D5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89BE6-5A87-4173-A81F-A2744487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47559-D697-46EB-AD85-0C03AB09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53734-9B56-4016-ABA3-5A31C15B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91FF5-2FA5-48B2-BC79-2AC9630E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49C8-FB9C-41E4-BDB7-5EB50C23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F645F-7D71-41C3-A2B1-9A4E558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8FE22-E2A6-44B2-A7EF-21EA4449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938BC-2D3D-422B-84D9-9702326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17795-216E-4BEA-82A0-A06519FD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0B710-12C4-430C-AD27-FD17373E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5FFBD-ABAE-43F3-B9D4-6C25349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A9831-5F81-4FAF-B8C9-33E1E07F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699B2-F93A-45C5-999C-D514495D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3B418-7171-418F-BB51-EEFA74D2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A6D24-844E-438F-87FE-0D9DB309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629-3581-4016-AD5E-6FF9372D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5E534-E650-49FD-82C7-DFFBAD37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529A-5C30-4E1E-BD5F-651A2B2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CCC-3872-43B8-A5CB-AE6A4A1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A73C-A0E8-4084-B0B7-1A03FD7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D5DE-AC2D-4959-B269-F0B5142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F81E-A76C-49C1-9712-4603E0D6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B843-62FB-425B-A413-6670BC07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5F42-505B-4873-98B6-4C7EA269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4650-B2AB-49AC-BE2F-FAA3BBA2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2F8F-8346-4DDD-A7A4-A353355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77BC-E993-438F-AC17-AE482679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0D57-09BE-4E95-9427-3B93AF9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2880-EE66-4A8C-AD6E-1B6564AF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740-D4F0-4E27-B1DC-6726C17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5DC8-E211-4C50-B5E1-873651B1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B0CF5-A359-4B69-8B04-44A66F86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6888-7EA8-48A4-9C9C-C4BF9B7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81F6-FBFA-426D-8AB8-3FE7A47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CE73-A785-41C4-8655-059D9FEE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DBBD-7A16-4DB4-8582-972C9897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DC51-46B6-4BB4-BDF4-881F3ED8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C502-978D-40CF-A35F-865B0099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26A7-3840-4ACD-86B5-FC70C89C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0ADC-32E7-4663-9EA3-E53FAB69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524-B0AC-408F-ACFC-9932F02B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A58A-E056-40BA-AFF9-39AFAB6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6E21-8906-437D-93A1-891ADB05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391C-5D41-45C1-8993-9416D86F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63D68-4FF4-446B-807D-4F8FAE15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5535-9D63-42FF-BAF5-7EF7294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E566-F16D-4CCE-A184-54C7031F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EBAE-10A7-44A8-8B58-CA2DE5E9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7FDA-EB31-4351-9BC6-37A1E987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C5C2-A304-4B23-B8F9-A2302D70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7C098-B802-4DFA-A7C5-571A3F18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95E-A557-47E4-8F84-66BAD342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66E2-5C4E-42AE-AE61-55BE732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E06A2-4089-476E-8239-8B9A18DC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9357C-0D00-4ECF-8120-FA4DFD5C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EA779-4EA3-4FAB-9561-CA3D4A9A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8FF9-91AC-4379-886D-375AE10A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86F5-F3D3-4F77-8671-68A8B44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1043-1640-4780-BFB4-AE2D967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7E37-480F-412F-84D5-BC3C9E6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A7D2C-1C3C-4D50-9FC7-E4FFEC7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BC34-3EB2-4C31-A84E-7E7A1DA0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C4F-9F08-4C81-9B94-2BAD0200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EEA29-D07F-4C0C-BACF-6F98502E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6861B-DCFD-423D-B726-BCBE44DE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24C8-0729-4B38-83F0-59B94B8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511E-8AD1-4002-A3C6-A2FF1C48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99284-4A66-4635-8780-750965E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D1D8D-8BDF-48C0-884F-DC48CE58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7A86-CF41-41A0-8580-BE335465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FB0BF-793D-4761-80C9-9FA13E3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286B-76F2-4441-BE46-F6AC88A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AB6D-F738-4AA7-9881-B793DC3B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775-72E1-493F-8D25-422A917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0DF60-AC05-4F36-91B8-B26DA4D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7A613-43AB-4A5D-8CAB-E0691D1F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76C6-B7E9-469F-9365-6C8CB866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6491-3917-417B-B93E-DA2139C5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5947F-60EB-4F49-9FFF-0F91EBF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6F35C-F7FC-4944-A7A6-D5280F77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5F5F-3CAF-4AA6-B24E-51C88FE2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1E1A7-BF17-482C-B7F4-C59D490E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AC77A-D009-4A8F-9D73-8976B6B9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29D00-E1ED-48F5-9C9F-196B9CBB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144-7BFE-45BA-AEA1-4507376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9481-1DE4-479C-9C58-3BD905B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74FD-14E4-47CA-B32A-948828E1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635C8-3B46-4489-AB47-3A6E6FF9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C0A54-33B2-4B56-8783-C3C74CA1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D909E-E211-42D9-84C2-A58A4A09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83B4-BC61-4568-BF78-A9E74DF9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23582-B52E-49B4-9A01-CA7AC98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ECE54-A7DA-4AD6-8052-25264CBE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B716-A08E-435A-9769-7A04E8C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769DC-4F2E-479F-AE8F-60EFCF04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58D-8812-4F24-AD69-06A9DC8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CD22B-EFF8-47FA-9BC4-42C398CF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1D79-DCF6-4288-B15C-BD3C7E5F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EA413-CB62-4E6E-AFA8-307E93E1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DA2D-EDD2-4A68-949E-5EAA8B62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43C2-7A6F-47B9-A564-86D11CDE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CAA2-63D8-4ED4-9BE3-42F4BEF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D206-402D-4A13-B84A-8776384C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A0D42-571D-4BB6-9F98-03629CC8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817BD-C1E5-42EB-972D-46E34114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D8184-AD60-49D6-88C8-284674AF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B9CC-A43D-4A4A-8597-0F87DE7AF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FE12-E0A0-42C9-B7FE-1B4E8B41F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60F1-A702-4FC4-B7FD-EA1CFC8D0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E74-C331-4647-93F3-7CDFFA175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7FE0-CA4F-4A74-9ACC-5258122FC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FBE4-BA6E-4BF2-8D5B-EC177E099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CD43-5BEC-40BD-96B7-C71795744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C8F1-2B6C-492B-AEB6-490B026A3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C70-4548-4923-92A2-3D6C22929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9CD6-D244-493A-A7AE-E1E2B0F61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B365-DAAA-459F-8233-E5EAC64A0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A946-A5F9-4400-AB32-BE44AD439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EDB5-1C39-4453-92D2-09DEFF090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2B3-90FA-4C72-B226-A0DF4C439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671D-3377-4912-8F5B-A5409F564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4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29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0" y="0"/>
            <a:ext cx="9144000" cy="72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арьковский национальный медицинский университет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федра медицинской и биоорганической химии</a:t>
            </a:r>
            <a:br>
              <a:rPr sz="2800"/>
            </a:br>
            <a:br>
              <a:rPr sz="2400"/>
            </a:b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урс «Медицинская химия»</a:t>
            </a:r>
            <a:br>
              <a:rPr sz="2800"/>
            </a:b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для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 V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стоматологического факуль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екция №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ротолитическое равновес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 химических и биологических систе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08000" y="55728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3" descr=""/>
          <p:cNvPicPr/>
          <p:nvPr/>
        </p:nvPicPr>
        <p:blipFill>
          <a:blip r:embed="rId2"/>
          <a:stretch/>
        </p:blipFill>
        <p:spPr>
          <a:xfrm>
            <a:off x="7380360" y="557280"/>
            <a:ext cx="14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0" y="0"/>
            <a:ext cx="9144000" cy="69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если соль образована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лабым основа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, Cu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e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овать будет катион, ионы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т в избытке, давая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ислую реак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ислая сре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гидролиз по кат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  после логарифм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олей, гидролизующихся 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по катиону и по аниону,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пределяется природ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олее сильного электроли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ый расч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соотношением констант диссоциации образующихся слабых электроли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Н = 7 + 0,5р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0,5 р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соль образована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ильн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ой и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иль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снованием, гидролизу она  не подвергается. рН раствора такой соли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равен 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денные формулы выведены с некоторыми приближениями и могут быть применены только к слабогидролизующимся со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23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1849320" cy="77004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Object 224" descr=""/>
          <p:cNvPicPr/>
          <p:nvPr/>
        </p:nvPicPr>
        <p:blipFill>
          <a:blip r:embed="rId2"/>
          <a:stretch/>
        </p:blipFill>
        <p:spPr>
          <a:xfrm>
            <a:off x="6300720" y="1844640"/>
            <a:ext cx="2556000" cy="766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6" descr=""/>
          <p:cNvPicPr/>
          <p:nvPr/>
        </p:nvPicPr>
        <p:blipFill>
          <a:blip r:embed="rId3"/>
          <a:stretch/>
        </p:blipFill>
        <p:spPr>
          <a:xfrm>
            <a:off x="2916360" y="5516640"/>
            <a:ext cx="3311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"/>
          <p:cNvSpPr/>
          <p:nvPr/>
        </p:nvSpPr>
        <p:spPr>
          <a:xfrm>
            <a:off x="395280" y="549360"/>
            <a:ext cx="8497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тоянство pH внутренней среды организма, наряду с физиологическими механизмами, поддерживается и физико-химически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уферными сист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ff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ягчать, ослаблять стол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уферны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ют растворы, обладающие свойством достаточно стойко сохранять постоянство концентрации водородных ионов при добавлении некоторого количества сильной кислоты или щелочи, а также при разбавлении и концентрир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стойко сохранять постоянное знач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1" i="1" lang="ru-RU" sz="2400" spc="-1" strike="noStrike">
                <a:solidFill>
                  <a:srgbClr val="7e0000"/>
                </a:solidFill>
                <a:latin typeface="Arial"/>
              </a:rPr>
              <a:t>буферным действ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творы, обладающие буферным действием </a:t>
            </a:r>
            <a:r>
              <a:rPr b="1" i="1" lang="ru-RU" sz="2400" spc="-1" strike="noStrike">
                <a:solidFill>
                  <a:srgbClr val="7e0000"/>
                </a:solidFill>
                <a:latin typeface="Arial"/>
              </a:rPr>
              <a:t>– буферные с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6440" y="28440"/>
            <a:ext cx="82296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уфе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395280" y="189000"/>
            <a:ext cx="8497800" cy="72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ипы буферных раство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аб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ислотны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ль, образованная этой слабой кислот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льным осн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 +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Na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етатны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ферны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карбонатный буферный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абое 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ль, образованная этим слабым основанием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сильной кисл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 +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аммиачный буферный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фолитные буферные растворы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минокислоты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6"/>
          <p:cNvSpPr/>
          <p:nvPr/>
        </p:nvSpPr>
        <p:spPr>
          <a:xfrm flipV="1">
            <a:off x="2195640" y="1484280"/>
            <a:ext cx="431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8"/>
          <p:cNvSpPr/>
          <p:nvPr/>
        </p:nvSpPr>
        <p:spPr>
          <a:xfrm>
            <a:off x="2124000" y="1916280"/>
            <a:ext cx="57636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2157480" y="3967200"/>
            <a:ext cx="431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0"/>
          <p:cNvSpPr/>
          <p:nvPr/>
        </p:nvSpPr>
        <p:spPr>
          <a:xfrm>
            <a:off x="2089080" y="4390920"/>
            <a:ext cx="57636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395280" y="0"/>
            <a:ext cx="8497800" cy="71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уферн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м буферное действие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цетатного буфера (СН</a:t>
            </a:r>
            <a:r>
              <a:rPr b="1" i="1" lang="ru-RU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ООН + СН</a:t>
            </a:r>
            <a:r>
              <a:rPr b="1" i="1" lang="ru-RU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ОО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Na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 добавлении к такому раствору сильной кислоты она взаимодействует с солью (акцептор протон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N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створе вмес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льн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бая кисло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 поэтому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меньша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значительн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роме того,  диссоциа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рисутствии одноименного ион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сильно подав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добавлении щелочи, она нейтрализуется слабой кислотой (донор протон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N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створе образуется эквивалентное количество соли, гидролиз которой подавлен присутствием кисло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ледователь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пять остается практически неизм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0" y="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90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уферные системы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ицы, в которых проявляется буферное действ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буферная ё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909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буферных систем организма наибольше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мкость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ладают буферные системы крови: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идрокарбонатная, гемоглобиновая и фосфатна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 обмене веществ в результате метаболизма ежесуточно в организме образуется количество кислот, эквивалентное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,5 л концентрирован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Тем не менее буферные системы справляются с этим и поддержи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,4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идрокарбонатная (бикарбонатная) буферная система (рН=6,0-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оит из слабой угольной кислоты и гидрокарбонат и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154" descr=""/>
          <p:cNvPicPr/>
          <p:nvPr/>
        </p:nvPicPr>
        <p:blipFill>
          <a:blip r:embed="rId1"/>
          <a:stretch/>
        </p:blipFill>
        <p:spPr>
          <a:xfrm>
            <a:off x="3095640" y="3790800"/>
            <a:ext cx="2874960" cy="866880"/>
          </a:xfrm>
          <a:prstGeom prst="rect">
            <a:avLst/>
          </a:prstGeom>
          <a:ln w="0">
            <a:noFill/>
          </a:ln>
        </p:spPr>
      </p:pic>
      <p:pic>
        <p:nvPicPr>
          <p:cNvPr id="692" name="Object 155" descr=""/>
          <p:cNvPicPr/>
          <p:nvPr/>
        </p:nvPicPr>
        <p:blipFill>
          <a:blip r:embed="rId2"/>
          <a:stretch/>
        </p:blipFill>
        <p:spPr>
          <a:xfrm>
            <a:off x="6610320" y="258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93" name="Object 156" descr=""/>
          <p:cNvPicPr/>
          <p:nvPr/>
        </p:nvPicPr>
        <p:blipFill>
          <a:blip r:embed="rId3"/>
          <a:stretch/>
        </p:blipFill>
        <p:spPr>
          <a:xfrm>
            <a:off x="2419200" y="492444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1"/>
          <p:cNvSpPr/>
          <p:nvPr/>
        </p:nvSpPr>
        <p:spPr>
          <a:xfrm>
            <a:off x="0" y="4003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50760" y="453708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0" y="4003560"/>
            <a:ext cx="914400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рови зависит от соотношения концентраций свободной растворённой в крови угольной кислоты 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гидрокарбоната нат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ject 157" descr=""/>
          <p:cNvPicPr/>
          <p:nvPr/>
        </p:nvPicPr>
        <p:blipFill>
          <a:blip r:embed="rId4"/>
          <a:stretch/>
        </p:blipFill>
        <p:spPr>
          <a:xfrm>
            <a:off x="3139920" y="5292720"/>
            <a:ext cx="3087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0" y="0"/>
            <a:ext cx="914400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Фосфатная буфер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Н=5,9-8,0 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фер состоит из двух солей дигидрофосфата нат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aH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гидрофосфата нат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PO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проявляет  свойства слабой кислоты,            - её сол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фосфатной буферной системе содержатся такие ио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добавлении к буферу сильной кислоты, она будет взаимодействовать с гидрофосфат-ионом (с соль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PO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о сильной кислоты образуется эквивалентное количество ан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й можно рассматривать как слабую кисл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к этой системе добавить избыток О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 буфером окажется другая соль – дигидрофосфат натрия (вернее, дигидрофосфат-и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ок гидроксид-ионов связывается в малодиссоциированную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Object 268" descr=""/>
          <p:cNvPicPr/>
          <p:nvPr/>
        </p:nvPicPr>
        <p:blipFill>
          <a:blip r:embed="rId1"/>
          <a:stretch/>
        </p:blipFill>
        <p:spPr>
          <a:xfrm>
            <a:off x="1200240" y="1214280"/>
            <a:ext cx="772920" cy="36684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269" descr=""/>
          <p:cNvPicPr/>
          <p:nvPr/>
        </p:nvPicPr>
        <p:blipFill>
          <a:blip r:embed="rId2"/>
          <a:stretch/>
        </p:blipFill>
        <p:spPr>
          <a:xfrm>
            <a:off x="2419200" y="492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702" name="Object 270" descr=""/>
          <p:cNvPicPr/>
          <p:nvPr/>
        </p:nvPicPr>
        <p:blipFill>
          <a:blip r:embed="rId3"/>
          <a:stretch/>
        </p:blipFill>
        <p:spPr>
          <a:xfrm>
            <a:off x="3235320" y="1887480"/>
            <a:ext cx="3281400" cy="8366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Object 271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817560" cy="36828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Object 272" descr=""/>
          <p:cNvPicPr/>
          <p:nvPr/>
        </p:nvPicPr>
        <p:blipFill>
          <a:blip r:embed="rId5"/>
          <a:stretch/>
        </p:blipFill>
        <p:spPr>
          <a:xfrm>
            <a:off x="3116160" y="3500280"/>
            <a:ext cx="2911680" cy="409680"/>
          </a:xfrm>
          <a:prstGeom prst="rect">
            <a:avLst/>
          </a:prstGeom>
          <a:ln w="0">
            <a:noFill/>
          </a:ln>
        </p:spPr>
      </p:pic>
      <p:pic>
        <p:nvPicPr>
          <p:cNvPr id="707" name="Object 273" descr=""/>
          <p:cNvPicPr/>
          <p:nvPr/>
        </p:nvPicPr>
        <p:blipFill>
          <a:blip r:embed="rId6"/>
          <a:stretch/>
        </p:blipFill>
        <p:spPr>
          <a:xfrm>
            <a:off x="8344080" y="4005360"/>
            <a:ext cx="817560" cy="3682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274" descr=""/>
          <p:cNvPicPr/>
          <p:nvPr/>
        </p:nvPicPr>
        <p:blipFill>
          <a:blip r:embed="rId7"/>
          <a:stretch/>
        </p:blipFill>
        <p:spPr>
          <a:xfrm>
            <a:off x="2633760" y="5732640"/>
            <a:ext cx="387648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0" y="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90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Белковые и аминокислотные буфер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белков содержат остатки аминокисло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ые ведут себя как амфолиты. Группы: СООН – кислота(донор Н+), 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основание (акцептор Н+), следовательно, белки противодействуют как подкислению, так и подщелачиван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: простейшая амино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створ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полярный ио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виттери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добавлении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и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добавлении осн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О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водных растворах все формы (катион, анион и биполярный ион) находятся в равновесии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90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e0000"/>
                </a:solidFill>
                <a:latin typeface="Arial"/>
              </a:rPr>
              <a:t>катион + биполярный ион – кислотный буф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0000"/>
                </a:solidFill>
                <a:latin typeface="Arial"/>
              </a:rPr>
              <a:t>анион + биполярный ион – основный буф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белков аналог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Object 78" descr=""/>
          <p:cNvPicPr/>
          <p:nvPr/>
        </p:nvPicPr>
        <p:blipFill>
          <a:blip r:embed="rId1"/>
          <a:stretch/>
        </p:blipFill>
        <p:spPr>
          <a:xfrm>
            <a:off x="6610320" y="258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711" name="Object 79" descr=""/>
          <p:cNvPicPr/>
          <p:nvPr/>
        </p:nvPicPr>
        <p:blipFill>
          <a:blip r:embed="rId2"/>
          <a:stretch/>
        </p:blipFill>
        <p:spPr>
          <a:xfrm>
            <a:off x="6610320" y="492444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10"/>
          <p:cNvGrpSpPr/>
          <p:nvPr/>
        </p:nvGrpSpPr>
        <p:grpSpPr>
          <a:xfrm>
            <a:off x="2484360" y="2781360"/>
            <a:ext cx="241200" cy="71280"/>
            <a:chOff x="2484360" y="2781360"/>
            <a:chExt cx="241200" cy="71280"/>
          </a:xfrm>
        </p:grpSpPr>
        <p:sp>
          <p:nvSpPr>
            <p:cNvPr id="714" name="Line 8"/>
            <p:cNvSpPr/>
            <p:nvPr/>
          </p:nvSpPr>
          <p:spPr>
            <a:xfrm>
              <a:off x="2509560" y="27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9"/>
            <p:cNvSpPr/>
            <p:nvPr/>
          </p:nvSpPr>
          <p:spPr>
            <a:xfrm flipH="1">
              <a:off x="2484360" y="285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6"/>
          <p:cNvSpPr/>
          <p:nvPr/>
        </p:nvSpPr>
        <p:spPr>
          <a:xfrm>
            <a:off x="2176560" y="14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WordArt 9"/>
          <p:cNvSpPr txBox="1"/>
          <p:nvPr/>
        </p:nvSpPr>
        <p:spPr>
          <a:xfrm>
            <a:off x="539640" y="256536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6640" y="836640"/>
            <a:ext cx="9117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литическая диссоциация. Степень электролитической диссоциации. Константа диссоц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ное произведение воды. 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ёт рН раст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 Сильные кислоты 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 Слабые кислоты 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3.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етаболические ацидоз и алкалоз. Дыхательные ацидоз и алкал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Буферные системы. Типы буферных раст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Буферн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Буферные системы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Буферная ём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-36360" y="0"/>
            <a:ext cx="9144000" cy="10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астворы электрол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лит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способные в растворенном или расплавленном виде проводить электрический 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водники второго род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лоты, основания,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ние электролита сопровожда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литической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социаци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ом молекулы на ионы, вследствие взаимодействия с раствор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ория электролитической диссоциации (С.Аррениус, 18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ическая теория растворов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теплового движения молекул происходит их столкновение, которое в некоторых случаях сопровождается распадом молекул на составные части, которые потом встречаются и соеди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ражает процессы, происходящие в растворах электрол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взаимодействие молекул и ионов растворённого вещества между собой и с молекулами раствор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Стрелка вниз 1"/>
          <p:cNvSpPr/>
          <p:nvPr/>
        </p:nvSpPr>
        <p:spPr>
          <a:xfrm>
            <a:off x="6172200" y="3284640"/>
            <a:ext cx="360360" cy="431640"/>
          </a:xfrm>
          <a:prstGeom prst="downArrow">
            <a:avLst>
              <a:gd name="adj1" fmla="val 50000"/>
              <a:gd name="adj2" fmla="val 4998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79280" y="115920"/>
            <a:ext cx="896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оличественной характеристикой распада молекул на ионы яв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епень электролитической диссоциации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/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ли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Arial"/>
              </a:rPr>
              <a:t>дисс.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/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,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n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C</a:t>
            </a:r>
            <a:r>
              <a:rPr b="0" lang="ru-RU" sz="1800" spc="-1" strike="noStrike" baseline="-25000">
                <a:solidFill>
                  <a:srgbClr val="003300"/>
                </a:solidFill>
                <a:latin typeface="Arial"/>
              </a:rPr>
              <a:t>дисс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число и конц. продиссоциированных молеку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C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число и конц.  молекул исходного э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-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роды растворённого вещества     - температуры раст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онцентрации раствора                         - природы раствор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лектролиты  по </a:t>
            </a:r>
            <a:r>
              <a:rPr b="1" lang="el-GR" sz="2400" spc="-1" strike="noStrike">
                <a:solidFill>
                  <a:srgbClr val="9900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Прямая со стрелкой 2"/>
          <p:cNvCxnSpPr/>
          <p:nvPr/>
        </p:nvCxnSpPr>
        <p:spPr>
          <a:xfrm flipH="1">
            <a:off x="1978920" y="2923920"/>
            <a:ext cx="1297800" cy="35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Прямая со стрелкой 4"/>
          <p:cNvCxnSpPr/>
          <p:nvPr/>
        </p:nvCxnSpPr>
        <p:spPr>
          <a:xfrm>
            <a:off x="4355640" y="2924280"/>
            <a:ext cx="1080" cy="421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5" name="Прямая со стрелкой 6"/>
          <p:cNvCxnSpPr/>
          <p:nvPr/>
        </p:nvCxnSpPr>
        <p:spPr>
          <a:xfrm>
            <a:off x="6156360" y="2923920"/>
            <a:ext cx="122472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Прямоугольник 7"/>
          <p:cNvSpPr/>
          <p:nvPr/>
        </p:nvSpPr>
        <p:spPr>
          <a:xfrm>
            <a:off x="0" y="3284640"/>
            <a:ext cx="2484360" cy="34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льные электрол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социируют в растворе практически полностью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ещества с ионной и сильно поляр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валентной связью  (все  раств. соли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Hal, H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M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HCl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Cl, HI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л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8"/>
          <p:cNvSpPr/>
          <p:nvPr/>
        </p:nvSpPr>
        <p:spPr>
          <a:xfrm>
            <a:off x="2627280" y="3292560"/>
            <a:ext cx="3024360" cy="344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ней сил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органические кислоты (муравьиная, щавелевая), некоторые минеральные кисло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H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снования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л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n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d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9"/>
          <p:cNvSpPr/>
          <p:nvPr/>
        </p:nvSpPr>
        <p:spPr>
          <a:xfrm>
            <a:off x="5796000" y="3282840"/>
            <a:ext cx="3348000" cy="345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бы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ктроли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социируют в раств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ично и обратимо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,HCN,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ти вс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. к-ты, 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малора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я и со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стоянии динамичес-кого равновес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Н</a:t>
            </a:r>
            <a:r>
              <a:rPr b="1" i="1" lang="ru-RU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– СООН </a:t>
            </a:r>
            <a:r>
              <a:rPr b="1" i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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СН</a:t>
            </a:r>
            <a:r>
              <a:rPr b="1" i="1" lang="ru-RU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ОО </a:t>
            </a:r>
            <a:r>
              <a:rPr b="1" i="1" lang="ru-RU" sz="1800" spc="-1" strike="noStrike" baseline="30000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+ Н </a:t>
            </a:r>
            <a:r>
              <a:rPr b="1" i="1" lang="ru-RU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Arial"/>
              </a:rPr>
              <a:t>дисс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=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[СН</a:t>
            </a:r>
            <a:r>
              <a:rPr b="1" lang="ru-RU" sz="18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СОО-] [Н</a:t>
            </a:r>
            <a:r>
              <a:rPr b="1" lang="ru-RU" sz="1800" spc="-1" strike="noStrike" u="sng" baseline="30000">
                <a:solidFill>
                  <a:srgbClr val="000099"/>
                </a:solidFill>
                <a:uFillTx/>
                <a:latin typeface="Arial"/>
              </a:rPr>
              <a:t>+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[СН</a:t>
            </a:r>
            <a:r>
              <a:rPr b="1" lang="ru-RU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ОН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0" y="0"/>
            <a:ext cx="9144000" cy="76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ее свойство живых организмов – поддержание кислотно-основного гомеостаза –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оянство рН биологических жидкостей в тканях и орг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начения рН некоторых биологических жид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ктивность ферментов, специфика биохимических реакций возможна  только при оптимальных значениях рН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мальн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онировании организм справляется с кислотно-основными колебаниями с помощью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иологическ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чки, печень, легк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) и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ико-химическ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уферные системы организм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еханизмов компенсаци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826920" y="1052640"/>
          <a:ext cx="7345440" cy="4457520"/>
        </p:xfrm>
        <a:graphic>
          <a:graphicData uri="http://schemas.openxmlformats.org/drawingml/2006/table">
            <a:tbl>
              <a:tblPr/>
              <a:tblGrid>
                <a:gridCol w="2560680"/>
                <a:gridCol w="2089440"/>
                <a:gridCol w="2695320"/>
              </a:tblGrid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рН в норм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колеб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чный с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-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чь печёноч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-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чь пузыр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-6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ь (плазм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5-7,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-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-7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ёзная жидк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-7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юн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5-6,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номозговая жидк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5-7,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 поджелудочной  желез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-9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 толстого кишечн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7-7,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0" y="0"/>
            <a:ext cx="9144000" cy="7114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сдвиге рН крови 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исл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орону - 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ацид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щелочну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алкал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 – 0,3 ед. – летальный исх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оррекции КОР пр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цидоза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ю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4%-ный раствор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NaHCO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утривен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и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лкалоза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ой мерой может быть введение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%-ного раствора аскорбиновой кислоты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Чтобы правильно рассчитать р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любом растворе, остановимся кратко на понятиях: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исл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мфоли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еории кислот и основа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. Аррениу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слота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одородсодержащее соединение, образующее в водном растворе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0" lang="ru-RU" sz="1800" spc="-1" strike="noStrike" baseline="30000">
                <a:solidFill>
                  <a:srgbClr val="8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чнее, ионы гидроксония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единение , образующее в водном раствор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Н</a:t>
            </a:r>
            <a:r>
              <a:rPr b="0" lang="ru-RU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ласть применения теории весьма ограничена только водными растворами и относится к основаниям, содержащим О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тонной(протолитической теории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ренстеда и Лоури, 192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та↔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социируют в растворе с образованием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</a:t>
            </a:r>
            <a:r>
              <a:rPr b="0" lang="ru-RU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оноры прото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ы присоединять протон (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кцепторы прото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ощенно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танты равнове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иссоциаци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Object 337" descr=""/>
          <p:cNvPicPr/>
          <p:nvPr/>
        </p:nvPicPr>
        <p:blipFill>
          <a:blip r:embed="rId1"/>
          <a:stretch/>
        </p:blipFill>
        <p:spPr>
          <a:xfrm>
            <a:off x="3276720" y="6005520"/>
            <a:ext cx="2590560" cy="636480"/>
          </a:xfrm>
          <a:prstGeom prst="rect">
            <a:avLst/>
          </a:prstGeom>
          <a:ln w="0">
            <a:noFill/>
          </a:ln>
        </p:spPr>
      </p:pic>
      <p:pic>
        <p:nvPicPr>
          <p:cNvPr id="636" name="Object 338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07" descr=""/>
          <p:cNvPicPr/>
          <p:nvPr/>
        </p:nvPicPr>
        <p:blipFill>
          <a:blip r:embed="rId3"/>
          <a:stretch/>
        </p:blipFill>
        <p:spPr>
          <a:xfrm>
            <a:off x="6062760" y="4819680"/>
            <a:ext cx="1306440" cy="150480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"/>
          <p:cNvSpPr/>
          <p:nvPr/>
        </p:nvSpPr>
        <p:spPr>
          <a:xfrm>
            <a:off x="5908680" y="62946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. Брёнст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09" descr=""/>
          <p:cNvPicPr/>
          <p:nvPr/>
        </p:nvPicPr>
        <p:blipFill>
          <a:blip r:embed="rId4"/>
          <a:stretch/>
        </p:blipFill>
        <p:spPr>
          <a:xfrm>
            <a:off x="7588080" y="4749840"/>
            <a:ext cx="1513080" cy="1555560"/>
          </a:xfrm>
          <a:prstGeom prst="rect">
            <a:avLst/>
          </a:prstGeom>
          <a:ln w="0">
            <a:noFill/>
          </a:ln>
        </p:spPr>
      </p:pic>
      <p:sp>
        <p:nvSpPr>
          <p:cNvPr id="640" name="TextBox 2"/>
          <p:cNvSpPr/>
          <p:nvPr/>
        </p:nvSpPr>
        <p:spPr>
          <a:xfrm>
            <a:off x="7733520" y="63705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 Ло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Object 339" descr=""/>
          <p:cNvPicPr/>
          <p:nvPr/>
        </p:nvPicPr>
        <p:blipFill>
          <a:blip r:embed="rId5"/>
          <a:stretch/>
        </p:blipFill>
        <p:spPr>
          <a:xfrm>
            <a:off x="179280" y="6119640"/>
            <a:ext cx="30956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0" y="0"/>
            <a:ext cx="91440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асчет рН раст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ильные кислоты и осн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растворе диссоциируют практически полностью, поэтому зная их концентрацию можно всегда рассчитать концентрацию ионо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1" lang="ru-RU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H</a:t>
            </a:r>
            <a:r>
              <a:rPr b="1" lang="ru-RU" sz="18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 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          0,1      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0,1            0,1       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, это правомерно только дл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бавленн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т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ль/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сильных электроли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центрированн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творов при расчетах рН и рОН следует использовать значения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активност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           ,             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                 - коэффициенты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ческий смысл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это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еальная или эффектив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ентр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Object 875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1712880" cy="5652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Object 876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1951200" cy="52848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Object 877" descr=""/>
          <p:cNvPicPr/>
          <p:nvPr/>
        </p:nvPicPr>
        <p:blipFill>
          <a:blip r:embed="rId3"/>
          <a:stretch/>
        </p:blipFill>
        <p:spPr>
          <a:xfrm>
            <a:off x="6659640" y="3429000"/>
            <a:ext cx="604800" cy="5335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Object 878" descr=""/>
          <p:cNvPicPr/>
          <p:nvPr/>
        </p:nvPicPr>
        <p:blipFill>
          <a:blip r:embed="rId4"/>
          <a:stretch/>
        </p:blipFill>
        <p:spPr>
          <a:xfrm>
            <a:off x="7812000" y="3429000"/>
            <a:ext cx="719280" cy="5317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Object 879" descr=""/>
          <p:cNvPicPr/>
          <p:nvPr/>
        </p:nvPicPr>
        <p:blipFill>
          <a:blip r:embed="rId5"/>
          <a:stretch/>
        </p:blipFill>
        <p:spPr>
          <a:xfrm>
            <a:off x="2843280" y="4076640"/>
            <a:ext cx="3612960" cy="53352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Object 880" descr=""/>
          <p:cNvPicPr/>
          <p:nvPr/>
        </p:nvPicPr>
        <p:blipFill>
          <a:blip r:embed="rId6"/>
          <a:stretch/>
        </p:blipFill>
        <p:spPr>
          <a:xfrm>
            <a:off x="2556000" y="5013360"/>
            <a:ext cx="4448160" cy="53352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1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Object 881" descr=""/>
          <p:cNvPicPr/>
          <p:nvPr/>
        </p:nvPicPr>
        <p:blipFill>
          <a:blip r:embed="rId7"/>
          <a:stretch/>
        </p:blipFill>
        <p:spPr>
          <a:xfrm>
            <a:off x="900000" y="5734080"/>
            <a:ext cx="587520" cy="52236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ject 882" descr=""/>
          <p:cNvPicPr/>
          <p:nvPr/>
        </p:nvPicPr>
        <p:blipFill>
          <a:blip r:embed="rId8"/>
          <a:stretch/>
        </p:blipFill>
        <p:spPr>
          <a:xfrm>
            <a:off x="2124000" y="5805360"/>
            <a:ext cx="68436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0" y="0"/>
            <a:ext cx="9144000" cy="72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ют взаимодействия между ионами. Общая интенсивность межионных взаимодействий характеризуется ионной силой раствор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концентрация и заряд иона в электрол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онная сила плазмы крови человека близка к 0,15 моль/л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теории Дебая – Хюккеля,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уммарная концентрация ионов в водном растворе не превышает 0,01 моль/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± = -0,5∙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еличины зарядов ионов без учета зн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ную силу раствора нужно всегда учитывать,  особенно в биологических экспериментах, т.к. эта характеристика показывает суммарный электростатический вклад всех и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лабые кислоты и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вычисления концентрации  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растворах слабых кислот и оснований используют </a:t>
            </a:r>
            <a:r>
              <a:rPr b="1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ень диссоци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Н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1                0,1∙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0,1∙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закону разведени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тваль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ди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= С ∙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Object 331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9996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Object 332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1263600" cy="72072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Object 333" descr=""/>
          <p:cNvPicPr/>
          <p:nvPr/>
        </p:nvPicPr>
        <p:blipFill>
          <a:blip r:embed="rId3"/>
          <a:stretch/>
        </p:blipFill>
        <p:spPr>
          <a:xfrm>
            <a:off x="4572000" y="6165720"/>
            <a:ext cx="860400" cy="735120"/>
          </a:xfrm>
          <a:prstGeom prst="rect">
            <a:avLst/>
          </a:prstGeom>
          <a:ln w="0">
            <a:noFill/>
          </a:ln>
        </p:spPr>
      </p:pic>
      <p:sp>
        <p:nvSpPr>
          <p:cNvPr id="667" name="TextBox 1"/>
          <p:cNvSpPr/>
          <p:nvPr/>
        </p:nvSpPr>
        <p:spPr>
          <a:xfrm>
            <a:off x="8187480" y="27241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Text Box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Object 342" descr=""/>
          <p:cNvPicPr/>
          <p:nvPr/>
        </p:nvPicPr>
        <p:blipFill>
          <a:blip r:embed="rId2"/>
          <a:stretch/>
        </p:blipFill>
        <p:spPr>
          <a:xfrm>
            <a:off x="250920" y="0"/>
            <a:ext cx="3041640" cy="21337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343" descr=""/>
          <p:cNvPicPr/>
          <p:nvPr/>
        </p:nvPicPr>
        <p:blipFill>
          <a:blip r:embed="rId3"/>
          <a:stretch/>
        </p:blipFill>
        <p:spPr>
          <a:xfrm>
            <a:off x="468360" y="5732640"/>
            <a:ext cx="1927080" cy="76968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7:31:27Z</dcterms:created>
  <dc:creator>Наталья</dc:creator>
  <dc:description/>
  <dc:language>en-US</dc:language>
  <cp:lastModifiedBy>место8</cp:lastModifiedBy>
  <cp:lastPrinted>2013-09-27T12:49:45Z</cp:lastPrinted>
  <dcterms:modified xsi:type="dcterms:W3CDTF">2017-11-03T14:13:30Z</dcterms:modified>
  <cp:revision>139</cp:revision>
  <dc:subject/>
  <dc:title>Слайд 1</dc:title>
</cp:coreProperties>
</file>