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png" ContentType="image/pn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786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78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39760" y="-360"/>
            <a:ext cx="2938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2320" y="74088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689000"/>
            <a:ext cx="5424480" cy="4442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39760" y="9377280"/>
            <a:ext cx="293868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7DD7-39D2-4AFE-9DC5-223294F964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7880" y="4689000"/>
            <a:ext cx="54244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40120" y="9377280"/>
            <a:ext cx="29386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A90-AACF-4D3D-9481-998CC11FFC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FB6-D7EB-4778-82B8-22E7E1D4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E06-0A45-442E-A655-78FE27F9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414-606B-41BB-9FC5-27A446F7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686-9039-48A1-9CD0-2C46FD8A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E7C6-A5EA-41E7-95C9-D48FF714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6377-47AB-4A65-8A6E-3B94F11F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1BEE-8B06-46EB-AEE8-F87DC11D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6F6-D8CE-4ED5-82D9-D2E082CB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F5C6-7974-460B-8C93-6CE79289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E1DF-A639-4348-B11A-18CA8E7F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9B7F-EA33-463C-AF7B-6F7D7A3E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A64-8145-4D2C-98F6-D6CAB401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0EEA-4912-44AA-9C1E-B8CCC5C6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721A-DE75-40BE-8C96-E3F0799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2A58-620A-4E32-9F74-60AAE6A8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AC4F-6C4D-4FFB-A69D-D286236B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13FC-BB0F-48CC-893A-BF154820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23A-6DCB-44FD-BC4C-D0DA9D72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228-5091-4DE2-80B4-B53AC6B8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184-D79E-423F-AFCD-90864B7B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A2F-F71F-405C-AEFB-C9973E50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57F-A1B0-4ED0-8F0F-0ADFA290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6A7-AD70-45F9-ACE1-D9D03D1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90E-12FD-49A1-89A8-40DF76EB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0E92-72E2-4C75-BB3B-A4305944155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CF63-7A1E-4752-A410-C0FB24B5BB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3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10AA-58F8-48F7-AA41-1BA5CFF3DF6E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CAE-44DA-4780-939F-A4D3F9CEA1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tolbikanet.ucoz.ua/_bd/125/12594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173-6309-46AD-9048-CDB246BCF2C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0" y="2852640"/>
            <a:ext cx="91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Фізико-хімія поверхневих явищ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  </a:t>
            </a: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Основи адсорбційної терапії. Хроматографі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1"/>
          <a:stretch/>
        </p:blipFill>
        <p:spPr>
          <a:xfrm>
            <a:off x="0" y="849240"/>
            <a:ext cx="1619280" cy="1701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"/>
          <p:cNvPicPr/>
          <p:nvPr/>
        </p:nvPicPr>
        <p:blipFill>
          <a:blip r:embed="rId2"/>
          <a:stretch/>
        </p:blipFill>
        <p:spPr>
          <a:xfrm>
            <a:off x="7596360" y="1200240"/>
            <a:ext cx="1547640" cy="1638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9"/>
          <p:cNvSpPr/>
          <p:nvPr/>
        </p:nvSpPr>
        <p:spPr>
          <a:xfrm>
            <a:off x="1006560" y="0"/>
            <a:ext cx="71294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Х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ар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ьк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івский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аціональний медичний універсі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Кафедра медичної та біоорганічної хімі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Arial"/>
                <a:ea typeface="Arial"/>
              </a:rPr>
              <a:t>«Медична хімі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3203640" y="1484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50b3d"/>
                </a:solidFill>
                <a:latin typeface="Arial"/>
                <a:ea typeface="Arial"/>
              </a:rPr>
              <a:t>Схема будови плазматичної мембр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Мембрана, отделяющая цитоплазму клетки от наружной среды или от оболочки."/>
          <p:cNvPicPr/>
          <p:nvPr/>
        </p:nvPicPr>
        <p:blipFill>
          <a:blip r:embed="rId1"/>
          <a:stretch/>
        </p:blipFill>
        <p:spPr>
          <a:xfrm>
            <a:off x="1547640" y="1916280"/>
            <a:ext cx="5977080" cy="4560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1692360" y="1989000"/>
            <a:ext cx="345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лекула протеї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692360" y="2421000"/>
            <a:ext cx="2016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148360" y="1844640"/>
            <a:ext cx="345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арбогідратний зали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77080" y="3284640"/>
            <a:ext cx="1511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теї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3276720" y="5300640"/>
            <a:ext cx="1293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іпі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124000" y="5229360"/>
            <a:ext cx="1368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4067280" y="5734080"/>
            <a:ext cx="201744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750b3d"/>
                </a:solidFill>
                <a:uFillTx/>
                <a:latin typeface="Arial"/>
                <a:ea typeface="Arial"/>
              </a:rPr>
              <a:t>Іонообмінна адсорбція – процес, в якому адсорбент і розчин обмінюються між собою в еквівалентних кількостях однойменно зарядженими йонами.</a:t>
            </a:r>
            <a:br>
              <a:rPr sz="2800"/>
            </a:br>
            <a:br>
              <a:rPr sz="200"/>
            </a:br>
            <a:r>
              <a:rPr b="1" i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Схема структури катіон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1 – матриця іоніту (каркас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2 – функціональні групи (ковалентно зв’язані з матрицею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3 – протийони (електростатично зв’язані з іоногенними груп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3492360" y="2852640"/>
            <a:ext cx="1656000" cy="165600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32360" y="3645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4788000" y="400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716360" y="3141720"/>
            <a:ext cx="216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859280" y="3357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3635280" y="4005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284720" y="436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716360" y="4221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3851280" y="4292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4427640" y="2997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635280" y="3284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3492360" y="3645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5106600" y="386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4746240" y="429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3738240" y="4365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137400" y="3645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517824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308880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3312360" y="40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3306600" y="299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3665160" y="256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4241520" y="45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7"/>
          <p:cNvSpPr/>
          <p:nvPr/>
        </p:nvSpPr>
        <p:spPr>
          <a:xfrm>
            <a:off x="49622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4314600" y="24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 flipV="1">
            <a:off x="4427640" y="2923920"/>
            <a:ext cx="20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500364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>
            <a:off x="5292720" y="407664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6454080" y="251604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6527160" y="335772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4"/>
          <p:cNvSpPr/>
          <p:nvPr/>
        </p:nvSpPr>
        <p:spPr>
          <a:xfrm>
            <a:off x="638388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5"/>
          <p:cNvSpPr/>
          <p:nvPr/>
        </p:nvSpPr>
        <p:spPr>
          <a:xfrm>
            <a:off x="385128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399564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B71E-F7A6-4150-A4C5-6471A68897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158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Основи адсорбційної терапії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62064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76"/>
              </a:spcBef>
              <a:spcAft>
                <a:spcPts val="10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4629-8D7A-472E-8457-C197B04608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709280" y="0"/>
            <a:ext cx="6398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Arial"/>
                <a:ea typeface="宋体"/>
              </a:rPr>
              <a:t>Застосування адсорбційних яви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ru-RU" sz="2800" spc="-1" strike="noStrike">
                <a:solidFill>
                  <a:srgbClr val="750b3d"/>
                </a:solidFill>
                <a:latin typeface="Arial"/>
                <a:ea typeface="宋体"/>
              </a:rPr>
              <a:t>в медицині та біолог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5070600" cy="2369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rcRect l="0" t="0" r="0" b="10171"/>
          <a:stretch/>
        </p:blipFill>
        <p:spPr>
          <a:xfrm>
            <a:off x="414360" y="1700280"/>
            <a:ext cx="2952720" cy="4321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3564000" y="768600"/>
            <a:ext cx="5329080" cy="35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йна терапія - </a:t>
            </a: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це клінічний спосіб очищення організму від токсинів і інших шкідливих речовин. Адсорбційна терапія широко застосовується в сучасній медицині як потужний спосіб детоксификації організму при отруєннях, а також для лікування цілого ряду захворювань: туберкульозу, СНІДу, бронхіальної астми, гострої ниркової і печінкової недостатності та інших видів патолог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0599-DF49-472A-A4BC-2DBB70D7F3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3203640" y="1063800"/>
            <a:ext cx="5689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Для гемо- та ентеросорбції використовуються сорбенти двох класів: неселективні, які поглинають з крові, лімфи, плазми, а також шлунково-кишкового тракту кілька речовин, і селективні, які вилучають речовини певної структури. До першої групи належать активоване вугілля, на поверхні якого збираються індоли, жирні кислоти, органічні кислоти і т</a:t>
            </a:r>
            <a:r>
              <a:rPr b="0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.д. До </a:t>
            </a:r>
            <a:r>
              <a:rPr b="1" lang="uk-UA" sz="1900" spc="-1" strike="noStrike">
                <a:solidFill>
                  <a:srgbClr val="002060"/>
                </a:solidFill>
                <a:latin typeface="Arial"/>
                <a:ea typeface="Arial"/>
              </a:rPr>
              <a:t>селективних сорбентів відносяться мікроцелюлоза та інші сорбенти, виготовлені на основі харчового волок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1640520" y="0"/>
            <a:ext cx="551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Застосування адсорбційних яв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в медицині та біолог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125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1296720" cy="1729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i?id=43520982-00"/>
          <p:cNvPicPr/>
          <p:nvPr/>
        </p:nvPicPr>
        <p:blipFill>
          <a:blip r:embed="rId3"/>
          <a:stretch/>
        </p:blipFill>
        <p:spPr>
          <a:xfrm>
            <a:off x="324000" y="4869000"/>
            <a:ext cx="2379600" cy="177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i?id=105462558-01"/>
          <p:cNvPicPr/>
          <p:nvPr/>
        </p:nvPicPr>
        <p:blipFill>
          <a:blip r:embed="rId4"/>
          <a:stretch/>
        </p:blipFill>
        <p:spPr>
          <a:xfrm>
            <a:off x="1619280" y="2708280"/>
            <a:ext cx="1511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2781360"/>
            <a:ext cx="7785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8CC6-A3A8-4500-83D1-C8457977722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853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8920" y="691920"/>
            <a:ext cx="84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ru-RU" sz="1800" spc="-1" strike="noStrike">
                <a:solidFill>
                  <a:srgbClr val="750b3d"/>
                </a:solidFill>
                <a:latin typeface="Arial"/>
                <a:ea typeface="宋体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 -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宋体"/>
              </a:rPr>
              <a:t>це метод розділення сумішей речовин або частинок, заснований на відмінності в швидкостях їх переміщення в системі рухомих однієї відносно другої фаз.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1208-BF71-4738-8A47-4D384B6C0B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3895560" cy="37591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"/>
          <p:cNvSpPr/>
          <p:nvPr/>
        </p:nvSpPr>
        <p:spPr>
          <a:xfrm>
            <a:off x="4284720" y="2060640"/>
            <a:ext cx="45720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Речовина рухомої фази безперервно вступає в контакт з новими ділянками сорбенту і частково адсорбується, а адсорбована речовина контактує зі свіжими порціями рухомої фази і частково десорбується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ия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— це процес, заснований на багаторазовому повторенні актів сорбції та десорбції речовини при переміщенні її в потоці рухомої фази вздовж нерухомого сорбенту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7000" y="404280"/>
            <a:ext cx="77853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000" y="1341360"/>
            <a:ext cx="8496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uk-UA" sz="1800" spc="-1" strike="noStrike">
                <a:solidFill>
                  <a:srgbClr val="002060"/>
                </a:solidFill>
                <a:latin typeface="Arial"/>
                <a:ea typeface="宋体"/>
              </a:rPr>
              <a:t>У живій природі існують об'єкти, аналогічні хроматографичним системам. Капіляр - природна хроматографічна колонка, в якій роль сорбенту виконують клітини ендотелію і формені елементи крові, а плазма - елю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CAE2-3018-4DA4-98EA-FE0E571A781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5" descr="кровь44.jpg"/>
          <p:cNvPicPr/>
          <p:nvPr/>
        </p:nvPicPr>
        <p:blipFill>
          <a:blip r:embed="rId1"/>
          <a:stretch/>
        </p:blipFill>
        <p:spPr>
          <a:xfrm>
            <a:off x="900000" y="3716280"/>
            <a:ext cx="3278160" cy="23749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6" descr="htmlconvd-VmeCO5_html_5f277d20.jpg"/>
          <p:cNvPicPr/>
          <p:nvPr/>
        </p:nvPicPr>
        <p:blipFill>
          <a:blip r:embed="rId2"/>
          <a:stretch/>
        </p:blipFill>
        <p:spPr>
          <a:xfrm>
            <a:off x="4716360" y="3860640"/>
            <a:ext cx="39960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8536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0b3d"/>
                </a:solidFill>
                <a:latin typeface="Arial"/>
                <a:ea typeface="宋体"/>
              </a:rPr>
              <a:t>Класифікація мето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宋体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D5E2-BB1D-4283-91CB-90BF620E0E4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Схема 1" descr=""/>
          <p:cNvPicPr/>
          <p:nvPr/>
        </p:nvPicPr>
        <p:blipFill>
          <a:blip r:embed="rId1"/>
          <a:stretch/>
        </p:blipFill>
        <p:spPr>
          <a:xfrm>
            <a:off x="208080" y="542880"/>
            <a:ext cx="8942400" cy="6205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rcRect l="7310" t="4259" r="5837" b="0"/>
          <a:stretch/>
        </p:blipFill>
        <p:spPr>
          <a:xfrm>
            <a:off x="395280" y="1052640"/>
            <a:ext cx="1978200" cy="3389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rcRect l="0" t="0" r="0" b="560"/>
          <a:stretch/>
        </p:blipFill>
        <p:spPr>
          <a:xfrm>
            <a:off x="6875640" y="1068480"/>
            <a:ext cx="1914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50b3d"/>
                </a:solidFill>
                <a:latin typeface="Monotype Corsiva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9F02-049A-443D-8BED-3B1EB17EF5C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2897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1086-69D0-4154-8848-D5AA303AD40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468360" y="836640"/>
            <a:ext cx="828036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750b3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і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я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1.1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ий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 натя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1.2.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2.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Основи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йної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терап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3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Хроматограф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3.1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Основ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и мет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3.2.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Газов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(Г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3.3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Рідинн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(Р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3.4.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Тонкошаров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хроматографія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2897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ктуальність те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6EF3-0BD3-404B-A984-EF9D42EFE2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68360" y="609480"/>
            <a:ext cx="828036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Живий організм це сукупність  </a:t>
            </a:r>
            <a:r>
              <a:rPr b="1" i="1" lang="uk-UA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гетерогенних  систем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, які складаються із однорідних за складом та будовою фаз, на </a:t>
            </a:r>
            <a:r>
              <a:rPr b="1" i="1" lang="uk-UA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поверхні поділу</a:t>
            </a: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яких відбуваються важливі біохімічні процес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(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слизові оболонки, шкіряні покрови, стінки сосудів, поверхня клітин і клітинних ядер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52.jpg"/>
          <p:cNvPicPr/>
          <p:nvPr/>
        </p:nvPicPr>
        <p:blipFill>
          <a:blip r:embed="rId1"/>
          <a:stretch/>
        </p:blipFill>
        <p:spPr>
          <a:xfrm>
            <a:off x="684360" y="3573360"/>
            <a:ext cx="2016000" cy="2489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i.jpg"/>
          <p:cNvPicPr/>
          <p:nvPr/>
        </p:nvPicPr>
        <p:blipFill>
          <a:blip r:embed="rId2"/>
          <a:stretch/>
        </p:blipFill>
        <p:spPr>
          <a:xfrm>
            <a:off x="3132000" y="3789360"/>
            <a:ext cx="3000600" cy="2048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i22.jpg"/>
          <p:cNvPicPr/>
          <p:nvPr/>
        </p:nvPicPr>
        <p:blipFill>
          <a:blip r:embed="rId3"/>
          <a:stretch/>
        </p:blipFill>
        <p:spPr>
          <a:xfrm>
            <a:off x="6372360" y="3716280"/>
            <a:ext cx="24876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E3FF-6394-42CD-8C01-73755E0975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324000" y="2565360"/>
            <a:ext cx="864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750b3d"/>
                </a:solidFill>
                <a:latin typeface="Arial"/>
                <a:ea typeface="Arial"/>
              </a:rPr>
              <a:t>Фізико-хімія поверхневих яви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8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і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явищ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C206-0495-4D07-9D9E-1FEC332AB2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395280" y="476280"/>
            <a:ext cx="828036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Процеси, що відбуваються на межі поділу фаз гетерогенних систем називаються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ими явищами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Залежно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від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агрегатного стану фаз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виділяють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два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тип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поверхні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поділу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ухома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а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нерухом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хема 8" descr=""/>
          <p:cNvPicPr/>
          <p:nvPr/>
        </p:nvPicPr>
        <p:blipFill>
          <a:blip r:embed="rId1"/>
          <a:stretch/>
        </p:blipFill>
        <p:spPr>
          <a:xfrm>
            <a:off x="49320" y="2603520"/>
            <a:ext cx="915012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7850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а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енергі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4920" y="3789000"/>
            <a:ext cx="8567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50b3d"/>
                </a:solidFill>
                <a:latin typeface="Arial"/>
                <a:ea typeface="宋体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Вільна поверхнева енергія Гіббса (G</a:t>
            </a:r>
            <a:r>
              <a:rPr b="1" i="1" lang="uk-UA" sz="2000" spc="-1" strike="noStrike" baseline="-25000">
                <a:solidFill>
                  <a:srgbClr val="750b3d"/>
                </a:solidFill>
                <a:latin typeface="Arial"/>
                <a:ea typeface="宋体"/>
              </a:rPr>
              <a:t>S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)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宋体"/>
              </a:rPr>
              <a:t>− це термодинамічна функція, яка характеризує енергію взаємодії частинок на поверхні поділу фаз з частинками кожної з контактуючих фаз. Вільна поверхнева енергія залежить від кількості частинок на поверхні поділу, тому вона прямо пропорційна площі поділу фаз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宋体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50b3d"/>
                </a:solidFill>
                <a:latin typeface="Arial"/>
                <a:ea typeface="宋体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ED8C-432A-45F8-B4C7-0631384F99F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1"/>
              <p:cNvSpPr txBox="1"/>
              <p:nvPr/>
            </p:nvSpPr>
            <p:spPr>
              <a:xfrm>
                <a:off x="3271680" y="2997360"/>
                <a:ext cx="24526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Picture 5" descr="Водяные капли"/>
          <p:cNvPicPr/>
          <p:nvPr/>
        </p:nvPicPr>
        <p:blipFill>
          <a:blip r:embed="rId1"/>
          <a:stretch/>
        </p:blipFill>
        <p:spPr>
          <a:xfrm>
            <a:off x="1835280" y="549360"/>
            <a:ext cx="56163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187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Залежність поверхневого натягу водних розчинів різних речовин від їх природи і концентрац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052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о-інактивні речовини (ПІР)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– речовини, які збільшують поверхневий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тяг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рідин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&gt; </a:t>
            </a: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ника</a:t>
            </a:r>
            <a:r>
              <a:rPr b="1" lang="en-US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о-неактивні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ечовини</a:t>
            </a: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(ПНР)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речовин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, 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які не змінюють поверхневий натяг рідин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= </a:t>
            </a:r>
            <a:r>
              <a:rPr b="1" lang="el-GR" sz="2000" spc="-1" strike="noStrike">
                <a:solidFill>
                  <a:srgbClr val="750b3d"/>
                </a:solidFill>
                <a:latin typeface="Arial"/>
                <a:ea typeface="Arial"/>
              </a:rPr>
              <a:t>σ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озчинника</a:t>
            </a:r>
            <a:r>
              <a:rPr b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22CD-B795-4357-B52F-9BDC989E4B80}" type="slidenum">
              <a:rPr b="0" lang="en-US" sz="1200" spc="-1" strike="noStrike">
                <a:solidFill>
                  <a:srgbClr val="4244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4" descr="http://www.himfak.com/images/3/img103.jpg"/>
          <p:cNvPicPr/>
          <p:nvPr/>
        </p:nvPicPr>
        <p:blipFill>
          <a:blip r:embed="rId1"/>
          <a:stretch/>
        </p:blipFill>
        <p:spPr>
          <a:xfrm>
            <a:off x="6012000" y="3716280"/>
            <a:ext cx="2752560" cy="25686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539640" y="3500280"/>
            <a:ext cx="54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Поверхнево-активні речовини (ПАР) 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– речовини, які зменшують поверхневий натяг рід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σ розчину &lt; σ розчин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7"/>
          <p:cNvSpPr/>
          <p:nvPr/>
        </p:nvSpPr>
        <p:spPr>
          <a:xfrm>
            <a:off x="250920" y="1268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я</a:t>
            </a:r>
            <a:r>
              <a:rPr b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 – процес самочинного концентрування сполук на межі розподілу фаз (між фазної поверхн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1"/>
          <p:cNvSpPr/>
          <p:nvPr/>
        </p:nvSpPr>
        <p:spPr>
          <a:xfrm>
            <a:off x="714240" y="5072040"/>
            <a:ext cx="7143840" cy="642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40"/>
          <p:cNvSpPr/>
          <p:nvPr/>
        </p:nvSpPr>
        <p:spPr>
          <a:xfrm>
            <a:off x="2571840" y="3000240"/>
            <a:ext cx="35712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41"/>
          <p:cNvSpPr/>
          <p:nvPr/>
        </p:nvSpPr>
        <p:spPr>
          <a:xfrm>
            <a:off x="2071800" y="471492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42"/>
          <p:cNvSpPr/>
          <p:nvPr/>
        </p:nvSpPr>
        <p:spPr>
          <a:xfrm>
            <a:off x="1143000" y="471492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43"/>
          <p:cNvSpPr/>
          <p:nvPr/>
        </p:nvSpPr>
        <p:spPr>
          <a:xfrm>
            <a:off x="5786280" y="471492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44"/>
          <p:cNvSpPr/>
          <p:nvPr/>
        </p:nvSpPr>
        <p:spPr>
          <a:xfrm>
            <a:off x="4643280" y="471492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45"/>
          <p:cNvSpPr/>
          <p:nvPr/>
        </p:nvSpPr>
        <p:spPr>
          <a:xfrm>
            <a:off x="3071880" y="471492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46"/>
          <p:cNvSpPr/>
          <p:nvPr/>
        </p:nvSpPr>
        <p:spPr>
          <a:xfrm>
            <a:off x="1714680" y="342900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7"/>
          <p:cNvSpPr/>
          <p:nvPr/>
        </p:nvSpPr>
        <p:spPr>
          <a:xfrm>
            <a:off x="2928960" y="3500280"/>
            <a:ext cx="35712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8"/>
          <p:cNvSpPr/>
          <p:nvPr/>
        </p:nvSpPr>
        <p:spPr>
          <a:xfrm>
            <a:off x="4071960" y="3643200"/>
            <a:ext cx="35712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9"/>
          <p:cNvSpPr/>
          <p:nvPr/>
        </p:nvSpPr>
        <p:spPr>
          <a:xfrm>
            <a:off x="5715000" y="5143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0"/>
          <p:cNvSpPr/>
          <p:nvPr/>
        </p:nvSpPr>
        <p:spPr>
          <a:xfrm>
            <a:off x="4000680" y="27525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1"/>
          <p:cNvSpPr/>
          <p:nvPr/>
        </p:nvSpPr>
        <p:spPr>
          <a:xfrm>
            <a:off x="6019920" y="3857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53"/>
          <p:cNvCxnSpPr/>
          <p:nvPr/>
        </p:nvCxnSpPr>
        <p:spPr>
          <a:xfrm flipH="1">
            <a:off x="3071520" y="3071880"/>
            <a:ext cx="9295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Прямая со стрелкой 59"/>
          <p:cNvCxnSpPr/>
          <p:nvPr/>
        </p:nvCxnSpPr>
        <p:spPr>
          <a:xfrm flipH="1">
            <a:off x="3214080" y="3070800"/>
            <a:ext cx="786600" cy="44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Прямая со стрелкой 61"/>
          <p:cNvCxnSpPr/>
          <p:nvPr/>
        </p:nvCxnSpPr>
        <p:spPr>
          <a:xfrm>
            <a:off x="4000680" y="3070800"/>
            <a:ext cx="72000" cy="58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Прямая со стрелкой 63"/>
          <p:cNvCxnSpPr/>
          <p:nvPr/>
        </p:nvCxnSpPr>
        <p:spPr>
          <a:xfrm flipH="1">
            <a:off x="5000040" y="4214880"/>
            <a:ext cx="114372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Прямая со стрелкой 65"/>
          <p:cNvCxnSpPr>
            <a:endCxn id="125" idx="0"/>
          </p:cNvCxnSpPr>
          <p:nvPr/>
        </p:nvCxnSpPr>
        <p:spPr>
          <a:xfrm flipH="1">
            <a:off x="5965920" y="4214520"/>
            <a:ext cx="1782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9" name="TextBox 66"/>
          <p:cNvSpPr/>
          <p:nvPr/>
        </p:nvSpPr>
        <p:spPr>
          <a:xfrm>
            <a:off x="428760" y="2857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сорб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8"/>
          <p:cNvSpPr/>
          <p:nvPr/>
        </p:nvSpPr>
        <p:spPr>
          <a:xfrm>
            <a:off x="7000920" y="43243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сорб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низ 70"/>
          <p:cNvSpPr/>
          <p:nvPr/>
        </p:nvSpPr>
        <p:spPr>
          <a:xfrm>
            <a:off x="928800" y="3429000"/>
            <a:ext cx="214200" cy="12142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верх 71"/>
          <p:cNvSpPr/>
          <p:nvPr/>
        </p:nvSpPr>
        <p:spPr>
          <a:xfrm>
            <a:off x="7715160" y="2857680"/>
            <a:ext cx="214560" cy="1357200"/>
          </a:xfrm>
          <a:prstGeom prst="upArrow">
            <a:avLst>
              <a:gd name="adj1" fmla="val 50000"/>
              <a:gd name="adj2" fmla="val 4993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7928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50b3d"/>
                </a:solidFill>
                <a:latin typeface="Arial"/>
                <a:ea typeface="Arial"/>
              </a:rPr>
              <a:t>Адсорб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2670840" y="214200"/>
            <a:ext cx="390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Рівняння ізотерми адсорб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37E8-857F-4F04-9077-9CAD6E49D6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108000" y="90792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50b3d"/>
                </a:solidFill>
                <a:latin typeface="Arial"/>
                <a:ea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750b3d"/>
                </a:solidFill>
                <a:latin typeface="Arial"/>
                <a:ea typeface="Arial"/>
              </a:rPr>
              <a:t>Ізотерма адсорбції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</a:t>
            </a:r>
            <a:r>
              <a:rPr b="1" i="1" lang="uk-UA" sz="2000" spc="-1" strike="noStrike">
                <a:solidFill>
                  <a:srgbClr val="002060"/>
                </a:solidFill>
                <a:latin typeface="Arial"/>
                <a:ea typeface="Arial"/>
              </a:rPr>
              <a:t>графічне зображення залежності величини адсорбції від рівноважної концентрації або рівноважного тиску при даній постійній температур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www.newreferat.com/images/referats/35437/image266.png"/>
          <p:cNvPicPr/>
          <p:nvPr/>
        </p:nvPicPr>
        <p:blipFill>
          <a:blip r:embed="rId1"/>
          <a:srcRect l="48129" t="0" r="0" b="0"/>
          <a:stretch/>
        </p:blipFill>
        <p:spPr>
          <a:xfrm>
            <a:off x="2411280" y="2492280"/>
            <a:ext cx="42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5:49:47Z</dcterms:created>
  <dc:creator>XTreme</dc:creator>
  <dc:description/>
  <dc:language>en-US</dc:language>
  <cp:lastModifiedBy>Admin</cp:lastModifiedBy>
  <cp:lastPrinted>2017-09-20T09:06:24Z</cp:lastPrinted>
  <dcterms:modified xsi:type="dcterms:W3CDTF">2017-10-31T19:58:28Z</dcterms:modified>
  <cp:revision>2045</cp:revision>
  <dc:subject/>
  <dc:title>Слайд 1</dc:title>
</cp:coreProperties>
</file>