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86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78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976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2320" y="74088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976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1CB-5A6D-4C7A-94EF-5A50CE366E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4012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4D3C-2B9A-4854-A2F4-DB0D10A0A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116-C435-45A8-9EDC-C0FA9F1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244-CE0B-4600-A600-B57E9B5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E95-5DCB-45D9-9145-C071D1B2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71A-7A91-46A8-9C64-FA5E482C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D05F-6ABE-409C-AA95-B1DE56F3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7D9-7624-4CAA-AB39-77A5D43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CC8-4EF2-470E-B3DF-D754C06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EFB-DF77-4B53-8D02-0C2B7755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1671-7AC0-46CC-80FB-24CEF0A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DEA4-7C42-42C2-BB72-A1F5813E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F8F-2CA4-4509-A641-51F2027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54C-1739-4C18-9493-74D3FF2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FA37-43EC-4C26-BEC3-CFB536E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D28-800F-46BC-9F5F-86EB05A5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AA7-7406-44C3-846B-4EA5809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1EC7-4E1D-4041-82BD-8BF4CF91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EC6-BA6A-4ECA-93F1-0C805BF4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A8C-A743-4329-BEE7-E79D347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A7B-3E62-4B61-A5A7-47F699D6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B1E-BB2B-4478-AE2F-73FE209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960-7E30-4E0E-A43A-0CC18A0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D42-CB88-456A-99D4-44EF5DE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F9F-E443-44E4-84DF-AF314C4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18F-7821-47A9-A339-0D316241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129A-7A61-41D4-ACAD-F94EA78649D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8E4-E69E-4A8C-B61E-C72C70FA81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BB77-985E-4217-B906-9EC7FBFEA60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A04-C165-4A22-8845-CCD0B0F57D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olbikanet.ucoz.ua/_bd/125/12594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E3D-2093-4651-8347-0372AA3433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0" y="285264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  </a:t>
            </a: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. Хроматографі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1"/>
          <a:stretch/>
        </p:blipFill>
        <p:spPr>
          <a:xfrm>
            <a:off x="0" y="849240"/>
            <a:ext cx="1619280" cy="170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7596360" y="1200240"/>
            <a:ext cx="1547640" cy="1638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1006560" y="0"/>
            <a:ext cx="71294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а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ьк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івски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аціональний медичний універсі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Кафедра медичної та біоорганічної хім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  <a:ea typeface="Arial"/>
              </a:rPr>
              <a:t>«Медична хімі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3203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50b3d"/>
                </a:solidFill>
                <a:latin typeface="Arial"/>
                <a:ea typeface="Arial"/>
              </a:rPr>
              <a:t>Схема будови плазматичної мембр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Мембрана, отделяющая цитоплазму клетки от наружной среды или от оболочки."/>
          <p:cNvPicPr/>
          <p:nvPr/>
        </p:nvPicPr>
        <p:blipFill>
          <a:blip r:embed="rId1"/>
          <a:stretch/>
        </p:blipFill>
        <p:spPr>
          <a:xfrm>
            <a:off x="1547640" y="1916280"/>
            <a:ext cx="5977080" cy="4560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692360" y="1989000"/>
            <a:ext cx="34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 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692360" y="2421000"/>
            <a:ext cx="2016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148360" y="1844640"/>
            <a:ext cx="345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арбогідратний зали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77080" y="3284640"/>
            <a:ext cx="1511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276720" y="5300640"/>
            <a:ext cx="1293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124000" y="522936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067280" y="5734080"/>
            <a:ext cx="20174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750b3d"/>
                </a:solidFill>
                <a:uFillTx/>
                <a:latin typeface="Arial"/>
                <a:ea typeface="Arial"/>
              </a:rPr>
              <a:t>Іонообмінна адсорбція – процес, в якому адсорбент і розчин обмінюються між собою в еквівалентних кількостях однойменно зарядженими йонами.</a:t>
            </a:r>
            <a:br>
              <a:rPr sz="2800"/>
            </a:br>
            <a:br>
              <a:rPr sz="2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Схема структури катіон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1 – матриця іоніту (каркас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2 – функціональні групи (ковалентно зв’язані з матрице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3 – протийони (електростатично зв’язані з іоногенними груп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492360" y="2852640"/>
            <a:ext cx="1656000" cy="165600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4788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716360" y="3141720"/>
            <a:ext cx="216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635280" y="4005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284720" y="43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716360" y="4221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851280" y="429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427640" y="2997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635280" y="3284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510660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74624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3738240" y="43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137400" y="3645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517824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08880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3312360" y="40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330660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366516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424152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49622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431460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 flipV="1">
            <a:off x="4427640" y="2923920"/>
            <a:ext cx="20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500364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5292720" y="407664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454080" y="251604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6527160" y="335772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638388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3851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399564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8D07-A132-43AA-B1CF-9283798E40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158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76"/>
              </a:spcBef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6EF-54C5-4E87-B096-645B35845F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9280" y="0"/>
            <a:ext cx="6398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5070600" cy="2369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0" t="0" r="0" b="10171"/>
          <a:stretch/>
        </p:blipFill>
        <p:spPr>
          <a:xfrm>
            <a:off x="414360" y="1700280"/>
            <a:ext cx="2952720" cy="4321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3564000" y="768600"/>
            <a:ext cx="53290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а терапія -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це клінічний спосіб очищення організму від токсинів і інших шкідливих речовин. Адсорбційна терапія широко застосовується в сучасній медицині як потужний спосіб детоксификації організму при отруєннях, а також для лікування цілого ряду захворювань: туберкульозу, СНІДу, бронхіальної астми, гострої ниркової і печінкової недостатності та інших видів патолог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BE1-3B35-49F6-B579-C51D021779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3203640" y="1063800"/>
            <a:ext cx="5689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Для гемо- та ентеросорбції використовуються сорбенти двох класів: неселективні, які поглинають з крові, лімфи, плазми, а також шлунково-кишкового тракту кілька речовин, і селективні, які вилучають речовини певної структури. До першої групи належать активоване вугілля, на поверхні якого збираються індоли, жирні кислоти, органічні кислоти і т</a:t>
            </a:r>
            <a:r>
              <a:rPr b="0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.д. До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селективних сорбентів відносяться мікроцелюлоза та інші сорбенти, виготовлені на основі харчового волок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640520" y="0"/>
            <a:ext cx="551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2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?id=43520982-00"/>
          <p:cNvPicPr/>
          <p:nvPr/>
        </p:nvPicPr>
        <p:blipFill>
          <a:blip r:embed="rId3"/>
          <a:stretch/>
        </p:blipFill>
        <p:spPr>
          <a:xfrm>
            <a:off x="324000" y="4869000"/>
            <a:ext cx="2379600" cy="177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i?id=105462558-01"/>
          <p:cNvPicPr/>
          <p:nvPr/>
        </p:nvPicPr>
        <p:blipFill>
          <a:blip r:embed="rId4"/>
          <a:stretch/>
        </p:blipFill>
        <p:spPr>
          <a:xfrm>
            <a:off x="1619280" y="2708280"/>
            <a:ext cx="1511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2781360"/>
            <a:ext cx="7785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0EC8-D93C-429F-8264-C33FEC5AE5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5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8920" y="691920"/>
            <a:ext cx="84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 -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це метод розділення сумішей речовин або частинок, заснований на відмінності в швидкостях їх переміщення в системі рухомих однієї відносно другої фаз.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29C-5861-4980-8B14-810C4F76BF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895560" cy="37591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"/>
          <p:cNvSpPr/>
          <p:nvPr/>
        </p:nvSpPr>
        <p:spPr>
          <a:xfrm>
            <a:off x="4284720" y="2060640"/>
            <a:ext cx="45720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а рухомої фази безперервно вступає в контакт з новими ділянками сорбенту і частково адсорбується, а адсорбована речовина контактує зі свіжими порціями рухомої фази і частково десорбується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и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— це процес, заснований на багаторазовому повторенні актів сорбції та десорбції речовини при переміщенні її в потоці рухомої фази вздовж нерухомого сорбенту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7000" y="40428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000" y="1341360"/>
            <a:ext cx="8496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宋体"/>
              </a:rPr>
              <a:t>У живій природі існують об'єкти, аналогічні хроматографичним системам. Капіляр - природна хроматографічна колонка, в якій роль сорбенту виконують клітини ендотелію і формені елементи крові, а плазма - елю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6197-BC19-4C47-92A7-47FE293616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5" descr="кровь44.jpg"/>
          <p:cNvPicPr/>
          <p:nvPr/>
        </p:nvPicPr>
        <p:blipFill>
          <a:blip r:embed="rId1"/>
          <a:stretch/>
        </p:blipFill>
        <p:spPr>
          <a:xfrm>
            <a:off x="900000" y="3716280"/>
            <a:ext cx="3278160" cy="23749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htmlconvd-VmeCO5_html_5f277d20.jpg"/>
          <p:cNvPicPr/>
          <p:nvPr/>
        </p:nvPicPr>
        <p:blipFill>
          <a:blip r:embed="rId2"/>
          <a:stretch/>
        </p:blipFill>
        <p:spPr>
          <a:xfrm>
            <a:off x="4716360" y="3860640"/>
            <a:ext cx="3996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Класифікація мето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B365-864E-490F-A24A-70473ED806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Схема 1" descr=""/>
          <p:cNvPicPr/>
          <p:nvPr/>
        </p:nvPicPr>
        <p:blipFill>
          <a:blip r:embed="rId1"/>
          <a:stretch/>
        </p:blipFill>
        <p:spPr>
          <a:xfrm>
            <a:off x="208080" y="542880"/>
            <a:ext cx="8942400" cy="6205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7310" t="4259" r="5837" b="0"/>
          <a:stretch/>
        </p:blipFill>
        <p:spPr>
          <a:xfrm>
            <a:off x="395280" y="1052640"/>
            <a:ext cx="1978200" cy="3389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rcRect l="0" t="0" r="0" b="560"/>
          <a:stretch/>
        </p:blipFill>
        <p:spPr>
          <a:xfrm>
            <a:off x="6875640" y="1068480"/>
            <a:ext cx="1914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50b3d"/>
                </a:solidFill>
                <a:latin typeface="Monotype Corsiva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773A-2646-4C2B-B029-401F8476CB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62A-F5A6-4420-AB36-B0B2D1D4D8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68360" y="836640"/>
            <a:ext cx="828036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750b3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й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 натя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ої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терап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и мет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Газ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Рідинн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Р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4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Тонкошар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ктуальність те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9211-6589-4B87-BEEC-065FB7D714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68360" y="609480"/>
            <a:ext cx="82803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Живий організм це сукупність 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гетерогенних  систем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, які складаються із однорідних за складом та будовою фаз, на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поверхні поділу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их відбуваються важливі біохімічні процес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слизові оболонки, шкіряні покрови, стінки сосудів, поверхня клітин і клітинних яде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52.jpg"/>
          <p:cNvPicPr/>
          <p:nvPr/>
        </p:nvPicPr>
        <p:blipFill>
          <a:blip r:embed="rId1"/>
          <a:stretch/>
        </p:blipFill>
        <p:spPr>
          <a:xfrm>
            <a:off x="684360" y="3573360"/>
            <a:ext cx="201600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i.jpg"/>
          <p:cNvPicPr/>
          <p:nvPr/>
        </p:nvPicPr>
        <p:blipFill>
          <a:blip r:embed="rId2"/>
          <a:stretch/>
        </p:blipFill>
        <p:spPr>
          <a:xfrm>
            <a:off x="3132000" y="3789360"/>
            <a:ext cx="300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i22.jpg"/>
          <p:cNvPicPr/>
          <p:nvPr/>
        </p:nvPicPr>
        <p:blipFill>
          <a:blip r:embed="rId3"/>
          <a:stretch/>
        </p:blipFill>
        <p:spPr>
          <a:xfrm>
            <a:off x="6372360" y="3716280"/>
            <a:ext cx="2487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D8A-7F99-4397-A4BB-C35DAC045D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24000" y="2565360"/>
            <a:ext cx="864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EE7-67C2-4064-9A32-C467AA8790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95280" y="476280"/>
            <a:ext cx="828036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роцеси, що відбуваються на межі поділу фаз гетерогенних систем називаються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ми явищам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Залежно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ід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агрегатного стану фаз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иділяют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два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тип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верхн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ділу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ухома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а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нерухом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хема 8" descr=""/>
          <p:cNvPicPr/>
          <p:nvPr/>
        </p:nvPicPr>
        <p:blipFill>
          <a:blip r:embed="rId1"/>
          <a:stretch/>
        </p:blipFill>
        <p:spPr>
          <a:xfrm>
            <a:off x="49320" y="2603520"/>
            <a:ext cx="915012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енерг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3789000"/>
            <a:ext cx="8567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Вільна поверхнева енергія Гіббса (G</a:t>
            </a:r>
            <a:r>
              <a:rPr b="1" i="1" lang="uk-UA" sz="2000" spc="-1" strike="noStrike" baseline="-25000">
                <a:solidFill>
                  <a:srgbClr val="750b3d"/>
                </a:solidFill>
                <a:latin typeface="Arial"/>
                <a:ea typeface="宋体"/>
              </a:rPr>
              <a:t>S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− це термодинамічна функція, яка характеризує енергію взаємодії частинок на поверхні поділу фаз з частинками кожної з контактуючих фаз. Вільна поверхнева енергія залежить від кількості частинок на поверхні поділу, тому вона прямо пропорційна площі поділу фаз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B4C-C5F7-4E48-B4F9-8B72D6D9DF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271680" y="2997360"/>
                <a:ext cx="24526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5" descr="Водяные капли"/>
          <p:cNvPicPr/>
          <p:nvPr/>
        </p:nvPicPr>
        <p:blipFill>
          <a:blip r:embed="rId1"/>
          <a:stretch/>
        </p:blipFill>
        <p:spPr>
          <a:xfrm>
            <a:off x="1835280" y="549360"/>
            <a:ext cx="5616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187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Залежність поверхневого натягу водних розчинів різних речовин від їх природи і концентр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інактивні речовини (ПІ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більшують поверхневий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тяг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ідин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&gt;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неактивні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ечовин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(ПНР)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, 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і не змінюють поверхневий натяг рідин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=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DE3B-A7C6-4E15-977D-A5DA52446A98}" type="slidenum">
              <a:rPr b="0" lang="en-US" sz="1200" spc="-1" strike="noStrike">
                <a:solidFill>
                  <a:srgbClr val="4244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http://www.himfak.com/images/3/img103.jpg"/>
          <p:cNvPicPr/>
          <p:nvPr/>
        </p:nvPicPr>
        <p:blipFill>
          <a:blip r:embed="rId1"/>
          <a:stretch/>
        </p:blipFill>
        <p:spPr>
          <a:xfrm>
            <a:off x="6012000" y="3716280"/>
            <a:ext cx="2752560" cy="25686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39640" y="350028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активні речовини (ПА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меншують поверхневий натяг рід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σ розчину &lt; σ розчи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7"/>
          <p:cNvSpPr/>
          <p:nvPr/>
        </p:nvSpPr>
        <p:spPr>
          <a:xfrm>
            <a:off x="250920" y="1268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– процес самочинного концентрування сполук на межі розподілу фаз (між фазної поверх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714240" y="5072040"/>
            <a:ext cx="7143840" cy="642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40"/>
          <p:cNvSpPr/>
          <p:nvPr/>
        </p:nvSpPr>
        <p:spPr>
          <a:xfrm>
            <a:off x="2571840" y="300024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1"/>
          <p:cNvSpPr/>
          <p:nvPr/>
        </p:nvSpPr>
        <p:spPr>
          <a:xfrm>
            <a:off x="20718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42"/>
          <p:cNvSpPr/>
          <p:nvPr/>
        </p:nvSpPr>
        <p:spPr>
          <a:xfrm>
            <a:off x="11430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3"/>
          <p:cNvSpPr/>
          <p:nvPr/>
        </p:nvSpPr>
        <p:spPr>
          <a:xfrm>
            <a:off x="5786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4"/>
          <p:cNvSpPr/>
          <p:nvPr/>
        </p:nvSpPr>
        <p:spPr>
          <a:xfrm>
            <a:off x="4643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45"/>
          <p:cNvSpPr/>
          <p:nvPr/>
        </p:nvSpPr>
        <p:spPr>
          <a:xfrm>
            <a:off x="307188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6"/>
          <p:cNvSpPr/>
          <p:nvPr/>
        </p:nvSpPr>
        <p:spPr>
          <a:xfrm>
            <a:off x="1714680" y="342900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7"/>
          <p:cNvSpPr/>
          <p:nvPr/>
        </p:nvSpPr>
        <p:spPr>
          <a:xfrm>
            <a:off x="2928960" y="350028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8"/>
          <p:cNvSpPr/>
          <p:nvPr/>
        </p:nvSpPr>
        <p:spPr>
          <a:xfrm>
            <a:off x="4071960" y="364320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5715000" y="5143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4000680" y="27525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6019920" y="3857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3"/>
          <p:cNvCxnSpPr/>
          <p:nvPr/>
        </p:nvCxnSpPr>
        <p:spPr>
          <a:xfrm flipH="1">
            <a:off x="3071520" y="3071880"/>
            <a:ext cx="929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59"/>
          <p:cNvCxnSpPr/>
          <p:nvPr/>
        </p:nvCxnSpPr>
        <p:spPr>
          <a:xfrm flipH="1">
            <a:off x="3214080" y="3070800"/>
            <a:ext cx="786600" cy="44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61"/>
          <p:cNvCxnSpPr/>
          <p:nvPr/>
        </p:nvCxnSpPr>
        <p:spPr>
          <a:xfrm>
            <a:off x="4000680" y="3070800"/>
            <a:ext cx="72000" cy="58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63"/>
          <p:cNvCxnSpPr/>
          <p:nvPr/>
        </p:nvCxnSpPr>
        <p:spPr>
          <a:xfrm flipH="1">
            <a:off x="5000040" y="4214880"/>
            <a:ext cx="11437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Прямая со стрелкой 65"/>
          <p:cNvCxnSpPr>
            <a:endCxn id="125" idx="0"/>
          </p:cNvCxnSpPr>
          <p:nvPr/>
        </p:nvCxnSpPr>
        <p:spPr>
          <a:xfrm flipH="1">
            <a:off x="5965920" y="4214520"/>
            <a:ext cx="1782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9" name="TextBox 66"/>
          <p:cNvSpPr/>
          <p:nvPr/>
        </p:nvSpPr>
        <p:spPr>
          <a:xfrm>
            <a:off x="428760" y="2857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8"/>
          <p:cNvSpPr/>
          <p:nvPr/>
        </p:nvSpPr>
        <p:spPr>
          <a:xfrm>
            <a:off x="7000920" y="43243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70"/>
          <p:cNvSpPr/>
          <p:nvPr/>
        </p:nvSpPr>
        <p:spPr>
          <a:xfrm>
            <a:off x="928800" y="3429000"/>
            <a:ext cx="214200" cy="1214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71"/>
          <p:cNvSpPr/>
          <p:nvPr/>
        </p:nvSpPr>
        <p:spPr>
          <a:xfrm>
            <a:off x="7715160" y="2857680"/>
            <a:ext cx="214560" cy="1357200"/>
          </a:xfrm>
          <a:prstGeom prst="upArrow">
            <a:avLst>
              <a:gd name="adj1" fmla="val 50000"/>
              <a:gd name="adj2" fmla="val 4993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79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2670840" y="214200"/>
            <a:ext cx="390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івняння ізотерми адсорб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CD4-A6D1-4D71-B55C-DDA66395B8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08000" y="90792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Ізотерма адсорбції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графічне зображення залежності величини адсорбції від рівноважної концентрації або рівноважного тиску при даній постійній температур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www.newreferat.com/images/referats/35437/image266.png"/>
          <p:cNvPicPr/>
          <p:nvPr/>
        </p:nvPicPr>
        <p:blipFill>
          <a:blip r:embed="rId1"/>
          <a:srcRect l="48129" t="0" r="0" b="0"/>
          <a:stretch/>
        </p:blipFill>
        <p:spPr>
          <a:xfrm>
            <a:off x="2411280" y="2492280"/>
            <a:ext cx="42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5:49:47Z</dcterms:created>
  <dc:creator>XTreme</dc:creator>
  <dc:description/>
  <dc:language>en-US</dc:language>
  <cp:lastModifiedBy>Admin</cp:lastModifiedBy>
  <cp:lastPrinted>2017-09-20T09:06:24Z</cp:lastPrinted>
  <dcterms:modified xsi:type="dcterms:W3CDTF">2017-10-31T19:58:28Z</dcterms:modified>
  <cp:revision>2045</cp:revision>
  <dc:subject/>
  <dc:title>Слайд 1</dc:title>
</cp:coreProperties>
</file>