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786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78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39760" y="-360"/>
            <a:ext cx="2938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2320" y="74088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2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39760" y="9377280"/>
            <a:ext cx="293868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B66D-092D-488E-9D21-D89C787C0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40120" y="9377280"/>
            <a:ext cx="2938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9EE0-2FF5-4437-80E8-ADE7C7207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B29-DFFF-437F-BE6A-B61BF249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93D-82DF-4B67-AEAD-F57EC2B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09F-73CA-4B20-AE97-4B0C153D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895-FF07-44BB-B3A7-58683F3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C3BB-E591-495C-BA63-921031D8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022-E7A5-4530-AADA-729AF00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584-5642-4D3F-A3EC-84A0A314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4C9-E092-4262-A220-2255BF6E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45E9-E834-4F7A-8A22-31B4184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95F-3BF5-4A03-9BE1-232488CA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E185-71A3-431B-945A-1E46797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E13-6E17-41A5-BDC8-E4CC1C0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5C26-755D-4D87-AF58-E30FE735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1D41-A717-455A-8902-E1638BEE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D5A1-46F7-42D9-8C32-1EAAA783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8B46-0765-4192-9E2A-18C58BF1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5BC1-8AC9-4779-9BDE-4CA7D35B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554-5843-414F-8422-0B4E078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77B-8B27-49AB-BB80-20F666EF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240-F32E-4100-A513-1633AC82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0E1-57B7-4A40-A1F2-5CBBBA41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9CC-3CB7-4485-A382-69AEDF2F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65F-3182-447C-8649-59822DB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6C9-969C-4052-9531-9C9EBDF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6C1A-649E-478C-AEA3-AB2CCF67996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1D86-927D-4DCD-8889-DA2F9572E0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3C7-59A2-4624-9725-8FC372B99EA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DF9-BB66-4C8D-80DC-7E8C8F649B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olbikanet.ucoz.ua/_bd/125/12594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4DC7-A0AA-4018-86B5-43A27B6C1E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0" y="285264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Фізико-хімія поверхневих явищ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  </a:t>
            </a: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Основи адсорбційної терапії. Хроматографі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1"/>
          <a:stretch/>
        </p:blipFill>
        <p:spPr>
          <a:xfrm>
            <a:off x="0" y="849240"/>
            <a:ext cx="1619280" cy="170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7596360" y="1200240"/>
            <a:ext cx="1547640" cy="1638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1006560" y="0"/>
            <a:ext cx="71294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ар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ьк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івский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аціональний медичний універсі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Кафедра медичної та біоорганічної хімі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  <a:ea typeface="Arial"/>
              </a:rPr>
              <a:t>«Медична хімі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3203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50b3d"/>
                </a:solidFill>
                <a:latin typeface="Arial"/>
                <a:ea typeface="Arial"/>
              </a:rPr>
              <a:t>Схема будови плазматичної мембр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Мембрана, отделяющая цитоплазму клетки от наружной среды или от оболочки."/>
          <p:cNvPicPr/>
          <p:nvPr/>
        </p:nvPicPr>
        <p:blipFill>
          <a:blip r:embed="rId1"/>
          <a:stretch/>
        </p:blipFill>
        <p:spPr>
          <a:xfrm>
            <a:off x="1547640" y="1916280"/>
            <a:ext cx="5977080" cy="4560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1692360" y="1989000"/>
            <a:ext cx="34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екула протеї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692360" y="2421000"/>
            <a:ext cx="2016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148360" y="1844640"/>
            <a:ext cx="345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арбогідратний зали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77080" y="3284640"/>
            <a:ext cx="1511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теї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276720" y="5300640"/>
            <a:ext cx="1293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124000" y="5229360"/>
            <a:ext cx="136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067280" y="5734080"/>
            <a:ext cx="20174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750b3d"/>
                </a:solidFill>
                <a:uFillTx/>
                <a:latin typeface="Arial"/>
                <a:ea typeface="Arial"/>
              </a:rPr>
              <a:t>Іонообмінна адсорбція – процес, в якому адсорбент і розчин обмінюються між собою в еквівалентних кількостях однойменно зарядженими йонами.</a:t>
            </a:r>
            <a:br>
              <a:rPr sz="2800"/>
            </a:br>
            <a:br>
              <a:rPr sz="2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Схема структури катіон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1 – матриця іоніту (каркас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2 – функціональні групи (ковалентно зв’язані з матрице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3 – протийони (електростатично зв’язані з іоногенними груп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492360" y="2852640"/>
            <a:ext cx="1656000" cy="165600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3645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4788000" y="400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716360" y="3141720"/>
            <a:ext cx="216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859280" y="3357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635280" y="4005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284720" y="43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716360" y="4221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851280" y="4292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427640" y="2997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635280" y="3284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510660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4746240" y="429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3738240" y="4365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137400" y="3645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517824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308880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3312360" y="40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330660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3665160" y="25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424152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49622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431460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 flipV="1">
            <a:off x="4427640" y="2923920"/>
            <a:ext cx="20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500364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5292720" y="407664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6454080" y="251604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6527160" y="335772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638388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3851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399564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09E-B310-4E0A-9BEA-01FCD451F2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158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Основи адсорбційної терапії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620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76"/>
              </a:spcBef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98B5-9430-43DF-A499-FE5EC07261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09280" y="0"/>
            <a:ext cx="6398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Застосування адсорбційних яви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в медицині та бі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5070600" cy="2369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0" t="0" r="0" b="10171"/>
          <a:stretch/>
        </p:blipFill>
        <p:spPr>
          <a:xfrm>
            <a:off x="414360" y="1700280"/>
            <a:ext cx="2952720" cy="4321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3564000" y="768600"/>
            <a:ext cx="53290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йна терапія - </a:t>
            </a: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це клінічний спосіб очищення організму від токсинів і інших шкідливих речовин. Адсорбційна терапія широко застосовується в сучасній медицині як потужний спосіб детоксификації організму при отруєннях, а також для лікування цілого ряду захворювань: туберкульозу, СНІДу, бронхіальної астми, гострої ниркової і печінкової недостатності та інших видів патолог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6253-ABF3-4D1B-8C6B-749F3D4EC6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3203640" y="1063800"/>
            <a:ext cx="5689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Для гемо- та ентеросорбції використовуються сорбенти двох класів: неселективні, які поглинають з крові, лімфи, плазми, а також шлунково-кишкового тракту кілька речовин, і селективні, які вилучають речовини певної структури. До першої групи належать активоване вугілля, на поверхні якого збираються індоли, жирні кислоти, органічні кислоти і т</a:t>
            </a:r>
            <a:r>
              <a:rPr b="0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.д. До </a:t>
            </a: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селективних сорбентів відносяться мікроцелюлоза та інші сорбенти, виготовлені на основі харчового волок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640520" y="0"/>
            <a:ext cx="551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Застосування адсорбційних яв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в медицині та біоло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12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296720" cy="1729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i?id=43520982-00"/>
          <p:cNvPicPr/>
          <p:nvPr/>
        </p:nvPicPr>
        <p:blipFill>
          <a:blip r:embed="rId3"/>
          <a:stretch/>
        </p:blipFill>
        <p:spPr>
          <a:xfrm>
            <a:off x="324000" y="4869000"/>
            <a:ext cx="2379600" cy="177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i?id=105462558-01"/>
          <p:cNvPicPr/>
          <p:nvPr/>
        </p:nvPicPr>
        <p:blipFill>
          <a:blip r:embed="rId4"/>
          <a:stretch/>
        </p:blipFill>
        <p:spPr>
          <a:xfrm>
            <a:off x="1619280" y="2708280"/>
            <a:ext cx="1511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2781360"/>
            <a:ext cx="7785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2A7D-0C29-4B5E-9D69-A36593318C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53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8920" y="691920"/>
            <a:ext cx="84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 -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宋体"/>
              </a:rPr>
              <a:t>це метод розділення сумішей речовин або частинок, заснований на відмінності в швидкостях їх переміщення в системі рухомих однієї відносно другої фаз.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6B4-D8C4-4C94-9BD5-90A29438B9E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3895560" cy="37591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"/>
          <p:cNvSpPr/>
          <p:nvPr/>
        </p:nvSpPr>
        <p:spPr>
          <a:xfrm>
            <a:off x="4284720" y="2060640"/>
            <a:ext cx="45720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ечовина рухомої фази безперервно вступає в контакт з новими ділянками сорбенту і частково адсорбується, а адсорбована речовина контактує зі свіжими порціями рухомої фази і частково десорбується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ия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— це процес, заснований на багаторазовому повторенні актів сорбції та десорбції речовини при переміщенні її в потоці рухомої фази вздовж нерухомого сорбенту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7000" y="404280"/>
            <a:ext cx="7785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000" y="1341360"/>
            <a:ext cx="8496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宋体"/>
              </a:rPr>
              <a:t>У живій природі існують об'єкти, аналогічні хроматографичним системам. Капіляр - природна хроматографічна колонка, в якій роль сорбенту виконують клітини ендотелію і формені елементи крові, а плазма - елю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059-22A4-4CFC-B401-769957E84A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5" descr="кровь44.jpg"/>
          <p:cNvPicPr/>
          <p:nvPr/>
        </p:nvPicPr>
        <p:blipFill>
          <a:blip r:embed="rId1"/>
          <a:stretch/>
        </p:blipFill>
        <p:spPr>
          <a:xfrm>
            <a:off x="900000" y="3716280"/>
            <a:ext cx="3278160" cy="23749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htmlconvd-VmeCO5_html_5f277d20.jpg"/>
          <p:cNvPicPr/>
          <p:nvPr/>
        </p:nvPicPr>
        <p:blipFill>
          <a:blip r:embed="rId2"/>
          <a:stretch/>
        </p:blipFill>
        <p:spPr>
          <a:xfrm>
            <a:off x="4716360" y="3860640"/>
            <a:ext cx="39960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85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Класифікація мето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DFC-A949-4B1C-8D9F-25C19E7929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Схема 1" descr=""/>
          <p:cNvPicPr/>
          <p:nvPr/>
        </p:nvPicPr>
        <p:blipFill>
          <a:blip r:embed="rId1"/>
          <a:stretch/>
        </p:blipFill>
        <p:spPr>
          <a:xfrm>
            <a:off x="208080" y="542880"/>
            <a:ext cx="8942400" cy="6205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rcRect l="7310" t="4259" r="5837" b="0"/>
          <a:stretch/>
        </p:blipFill>
        <p:spPr>
          <a:xfrm>
            <a:off x="395280" y="1052640"/>
            <a:ext cx="1978200" cy="3389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rcRect l="0" t="0" r="0" b="560"/>
          <a:stretch/>
        </p:blipFill>
        <p:spPr>
          <a:xfrm>
            <a:off x="6875640" y="1068480"/>
            <a:ext cx="1914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50b3d"/>
                </a:solidFill>
                <a:latin typeface="Monotype Corsiva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9C0A-751A-42DE-B285-BFAB1D10D1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97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E546-A0D9-40C8-ACA7-36D1A0A1A1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468360" y="836640"/>
            <a:ext cx="828036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750b3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і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я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1.1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ий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 натя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1.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Основ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йної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терап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3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3.1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Основ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и мет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3.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Газо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(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3.3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Рідинн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(Р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3.4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Тонкошаро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97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ктуальність те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C5A9-B5FF-4E67-8C15-9D774CB8B3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68360" y="609480"/>
            <a:ext cx="828036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Живий організм це сукупність  </a:t>
            </a:r>
            <a:r>
              <a:rPr b="1" i="1" lang="uk-UA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гетерогенних  систем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, які складаються із однорідних за складом та будовою фаз, на </a:t>
            </a:r>
            <a:r>
              <a:rPr b="1" i="1" lang="uk-UA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поверхні поділу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яких відбуваються важливі біохімічні процес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слизові оболонки, шкіряні покрови, стінки сосудів, поверхня клітин і клітинних ядер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52.jpg"/>
          <p:cNvPicPr/>
          <p:nvPr/>
        </p:nvPicPr>
        <p:blipFill>
          <a:blip r:embed="rId1"/>
          <a:stretch/>
        </p:blipFill>
        <p:spPr>
          <a:xfrm>
            <a:off x="684360" y="3573360"/>
            <a:ext cx="201600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i.jpg"/>
          <p:cNvPicPr/>
          <p:nvPr/>
        </p:nvPicPr>
        <p:blipFill>
          <a:blip r:embed="rId2"/>
          <a:stretch/>
        </p:blipFill>
        <p:spPr>
          <a:xfrm>
            <a:off x="3132000" y="3789360"/>
            <a:ext cx="300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i22.jpg"/>
          <p:cNvPicPr/>
          <p:nvPr/>
        </p:nvPicPr>
        <p:blipFill>
          <a:blip r:embed="rId3"/>
          <a:stretch/>
        </p:blipFill>
        <p:spPr>
          <a:xfrm>
            <a:off x="6372360" y="3716280"/>
            <a:ext cx="2487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E87-3332-46CB-8E34-ABD732D06A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24000" y="2565360"/>
            <a:ext cx="864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Фізико-хімія поверхневих яви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8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і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явищ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4369-D641-4222-9A68-26E537A4ED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95280" y="476280"/>
            <a:ext cx="828036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роцеси, що відбуваються на межі поділу фаз гетерогенних систем називаються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ими явищам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Залежно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ід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агрегатного стану фаз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иділяют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два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тип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оверхн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оділу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ухома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а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нерухом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хема 8" descr=""/>
          <p:cNvPicPr/>
          <p:nvPr/>
        </p:nvPicPr>
        <p:blipFill>
          <a:blip r:embed="rId1"/>
          <a:stretch/>
        </p:blipFill>
        <p:spPr>
          <a:xfrm>
            <a:off x="49320" y="2603520"/>
            <a:ext cx="915012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8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енерг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3789000"/>
            <a:ext cx="8567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Вільна поверхнева енергія Гіббса (G</a:t>
            </a:r>
            <a:r>
              <a:rPr b="1" i="1" lang="uk-UA" sz="2000" spc="-1" strike="noStrike" baseline="-25000">
                <a:solidFill>
                  <a:srgbClr val="750b3d"/>
                </a:solidFill>
                <a:latin typeface="Arial"/>
                <a:ea typeface="宋体"/>
              </a:rPr>
              <a:t>S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宋体"/>
              </a:rPr>
              <a:t>− це термодинамічна функція, яка характеризує енергію взаємодії частинок на поверхні поділу фаз з частинками кожної з контактуючих фаз. Вільна поверхнева енергія залежить від кількості частинок на поверхні поділу, тому вона прямо пропорційна площі поділу фаз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7E22-CD7B-46D2-B914-16EFC67D6C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271680" y="2997360"/>
                <a:ext cx="24526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Picture 5" descr="Водяные капли"/>
          <p:cNvPicPr/>
          <p:nvPr/>
        </p:nvPicPr>
        <p:blipFill>
          <a:blip r:embed="rId1"/>
          <a:stretch/>
        </p:blipFill>
        <p:spPr>
          <a:xfrm>
            <a:off x="1835280" y="549360"/>
            <a:ext cx="5616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187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Залежність поверхневого натягу водних розчинів різних речовин від їх природи і концентр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інактивні речовини (ПІР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– речовини, які збільшують поверхневий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тяг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ідин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&gt; </a:t>
            </a: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ника</a:t>
            </a:r>
            <a:r>
              <a:rPr b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неактивні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ечовин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(ПНР)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ечовин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, 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які не змінюють поверхневий натяг рідин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= </a:t>
            </a: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ника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DE0E-F0A0-4E71-9EA3-E6AAC1D8C4E1}" type="slidenum">
              <a:rPr b="0" lang="en-US" sz="1200" spc="-1" strike="noStrike">
                <a:solidFill>
                  <a:srgbClr val="4244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http://www.himfak.com/images/3/img103.jpg"/>
          <p:cNvPicPr/>
          <p:nvPr/>
        </p:nvPicPr>
        <p:blipFill>
          <a:blip r:embed="rId1"/>
          <a:stretch/>
        </p:blipFill>
        <p:spPr>
          <a:xfrm>
            <a:off x="6012000" y="3716280"/>
            <a:ext cx="2752560" cy="25686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539640" y="3500280"/>
            <a:ext cx="54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активні речовини (ПАР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– речовини, які зменшують поверхневий натяг рід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σ розчину &lt; σ розчи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7"/>
          <p:cNvSpPr/>
          <p:nvPr/>
        </p:nvSpPr>
        <p:spPr>
          <a:xfrm>
            <a:off x="250920" y="1268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– процес самочинного концентрування сполук на межі розподілу фаз (між фазної поверх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714240" y="5072040"/>
            <a:ext cx="7143840" cy="642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40"/>
          <p:cNvSpPr/>
          <p:nvPr/>
        </p:nvSpPr>
        <p:spPr>
          <a:xfrm>
            <a:off x="2571840" y="300024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1"/>
          <p:cNvSpPr/>
          <p:nvPr/>
        </p:nvSpPr>
        <p:spPr>
          <a:xfrm>
            <a:off x="207180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42"/>
          <p:cNvSpPr/>
          <p:nvPr/>
        </p:nvSpPr>
        <p:spPr>
          <a:xfrm>
            <a:off x="114300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3"/>
          <p:cNvSpPr/>
          <p:nvPr/>
        </p:nvSpPr>
        <p:spPr>
          <a:xfrm>
            <a:off x="5786280" y="471492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4"/>
          <p:cNvSpPr/>
          <p:nvPr/>
        </p:nvSpPr>
        <p:spPr>
          <a:xfrm>
            <a:off x="4643280" y="471492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45"/>
          <p:cNvSpPr/>
          <p:nvPr/>
        </p:nvSpPr>
        <p:spPr>
          <a:xfrm>
            <a:off x="307188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6"/>
          <p:cNvSpPr/>
          <p:nvPr/>
        </p:nvSpPr>
        <p:spPr>
          <a:xfrm>
            <a:off x="1714680" y="342900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7"/>
          <p:cNvSpPr/>
          <p:nvPr/>
        </p:nvSpPr>
        <p:spPr>
          <a:xfrm>
            <a:off x="2928960" y="350028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8"/>
          <p:cNvSpPr/>
          <p:nvPr/>
        </p:nvSpPr>
        <p:spPr>
          <a:xfrm>
            <a:off x="4071960" y="364320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5715000" y="5143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4000680" y="27525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6019920" y="3857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53"/>
          <p:cNvCxnSpPr/>
          <p:nvPr/>
        </p:nvCxnSpPr>
        <p:spPr>
          <a:xfrm flipH="1">
            <a:off x="3071520" y="3071880"/>
            <a:ext cx="9295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59"/>
          <p:cNvCxnSpPr/>
          <p:nvPr/>
        </p:nvCxnSpPr>
        <p:spPr>
          <a:xfrm flipH="1">
            <a:off x="3214080" y="3070800"/>
            <a:ext cx="786600" cy="44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61"/>
          <p:cNvCxnSpPr/>
          <p:nvPr/>
        </p:nvCxnSpPr>
        <p:spPr>
          <a:xfrm>
            <a:off x="4000680" y="3070800"/>
            <a:ext cx="72000" cy="58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63"/>
          <p:cNvCxnSpPr/>
          <p:nvPr/>
        </p:nvCxnSpPr>
        <p:spPr>
          <a:xfrm flipH="1">
            <a:off x="5000040" y="4214880"/>
            <a:ext cx="114372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Прямая со стрелкой 65"/>
          <p:cNvCxnSpPr>
            <a:endCxn id="125" idx="0"/>
          </p:cNvCxnSpPr>
          <p:nvPr/>
        </p:nvCxnSpPr>
        <p:spPr>
          <a:xfrm flipH="1">
            <a:off x="5965920" y="4214520"/>
            <a:ext cx="1782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9" name="TextBox 66"/>
          <p:cNvSpPr/>
          <p:nvPr/>
        </p:nvSpPr>
        <p:spPr>
          <a:xfrm>
            <a:off x="428760" y="2857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8"/>
          <p:cNvSpPr/>
          <p:nvPr/>
        </p:nvSpPr>
        <p:spPr>
          <a:xfrm>
            <a:off x="7000920" y="43243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сорб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70"/>
          <p:cNvSpPr/>
          <p:nvPr/>
        </p:nvSpPr>
        <p:spPr>
          <a:xfrm>
            <a:off x="928800" y="3429000"/>
            <a:ext cx="214200" cy="1214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71"/>
          <p:cNvSpPr/>
          <p:nvPr/>
        </p:nvSpPr>
        <p:spPr>
          <a:xfrm>
            <a:off x="7715160" y="2857680"/>
            <a:ext cx="214560" cy="1357200"/>
          </a:xfrm>
          <a:prstGeom prst="upArrow">
            <a:avLst>
              <a:gd name="adj1" fmla="val 50000"/>
              <a:gd name="adj2" fmla="val 4993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79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2670840" y="214200"/>
            <a:ext cx="390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івняння ізотерми адсорб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2168-DBD7-4E54-90A4-C3715F8A17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108000" y="90792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50b3d"/>
                </a:solidFill>
                <a:latin typeface="Arial"/>
                <a:ea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Ізотерма адсорбції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графічне зображення залежності величини адсорбції від рівноважної концентрації або рівноважного тиску при даній постійній температур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www.newreferat.com/images/referats/35437/image266.png"/>
          <p:cNvPicPr/>
          <p:nvPr/>
        </p:nvPicPr>
        <p:blipFill>
          <a:blip r:embed="rId1"/>
          <a:srcRect l="48129" t="0" r="0" b="0"/>
          <a:stretch/>
        </p:blipFill>
        <p:spPr>
          <a:xfrm>
            <a:off x="2411280" y="2492280"/>
            <a:ext cx="42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5:49:47Z</dcterms:created>
  <dc:creator>XTreme</dc:creator>
  <dc:description/>
  <dc:language>en-US</dc:language>
  <cp:lastModifiedBy>Admin</cp:lastModifiedBy>
  <cp:lastPrinted>2017-09-20T09:06:24Z</cp:lastPrinted>
  <dcterms:modified xsi:type="dcterms:W3CDTF">2017-10-31T19:58:28Z</dcterms:modified>
  <cp:revision>2045</cp:revision>
  <dc:subject/>
  <dc:title>Слайд 1</dc:title>
</cp:coreProperties>
</file>